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89C-8BF2-4F0E-8E0D-2C1ACFC0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DDA-B3BF-42F5-8220-A2289C33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9A4-B9CB-4D95-8887-A3F49914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5D8-326C-4D7D-B0CA-9AF3612E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641-DDAC-4140-9715-2073AD8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4BE-4DD6-45A5-8B75-3D8B613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B27-B626-49E5-A74B-79CA1EA3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255-C368-45DB-B265-44D70CA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790-8664-4BE2-AA42-8AE01DC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3C3-D9C0-41D1-A9F9-C521DB77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20F-8D04-482A-805F-E280A878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410-7E6A-47CB-A50D-F0FBB0A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BA8-BA72-40AC-9C52-3978416108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A848-50DA-42F8-952F-5E1DDB7E7A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55c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8b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029040" y="2419200"/>
            <a:ext cx="672444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046840" y="5159520"/>
            <a:ext cx="137880" cy="16020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692520" y="6564240"/>
            <a:ext cx="1170000" cy="12384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07040" y="6200640"/>
            <a:ext cx="372960" cy="214560"/>
          </a:xfrm>
          <a:custGeom>
            <a:avLst/>
            <a:gdLst/>
            <a:ahLst/>
            <a:rect l="l" t="t" r="r" b="b"/>
            <a:pathLst>
              <a:path w="235" h="135">
                <a:moveTo>
                  <a:pt x="60" y="0"/>
                </a:moveTo>
                <a:lnTo>
                  <a:pt x="235" y="99"/>
                </a:lnTo>
                <a:lnTo>
                  <a:pt x="225" y="135"/>
                </a:lnTo>
                <a:lnTo>
                  <a:pt x="0" y="29"/>
                </a:lnTo>
                <a:lnTo>
                  <a:pt x="60" y="0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4307040" y="6200640"/>
            <a:ext cx="372960" cy="214560"/>
          </a:xfrm>
          <a:custGeom>
            <a:avLst/>
            <a:gdLst/>
            <a:ahLst/>
            <a:rect l="l" t="t" r="r" b="b"/>
            <a:pathLst>
              <a:path w="235" h="135">
                <a:moveTo>
                  <a:pt x="60" y="0"/>
                </a:moveTo>
                <a:lnTo>
                  <a:pt x="235" y="99"/>
                </a:lnTo>
                <a:lnTo>
                  <a:pt x="225" y="135"/>
                </a:lnTo>
                <a:lnTo>
                  <a:pt x="0" y="29"/>
                </a:lnTo>
                <a:lnTo>
                  <a:pt x="6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648320" y="6261120"/>
            <a:ext cx="158760" cy="176040"/>
          </a:xfrm>
          <a:custGeom>
            <a:avLst/>
            <a:gdLst/>
            <a:ahLst/>
            <a:rect l="l" t="t" r="r" b="b"/>
            <a:pathLst>
              <a:path w="162" h="179">
                <a:moveTo>
                  <a:pt x="145" y="11"/>
                </a:moveTo>
                <a:cubicBezTo>
                  <a:pt x="162" y="21"/>
                  <a:pt x="42" y="179"/>
                  <a:pt x="26" y="168"/>
                </a:cubicBezTo>
                <a:cubicBezTo>
                  <a:pt x="9" y="158"/>
                  <a:pt x="0" y="134"/>
                  <a:pt x="41" y="83"/>
                </a:cubicBezTo>
                <a:cubicBezTo>
                  <a:pt x="82" y="32"/>
                  <a:pt x="129" y="0"/>
                  <a:pt x="145" y="11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487760" y="5272200"/>
            <a:ext cx="684360" cy="645840"/>
          </a:xfrm>
          <a:custGeom>
            <a:avLst/>
            <a:gdLst/>
            <a:ahLst/>
            <a:rect l="l" t="t" r="r" b="b"/>
            <a:pathLst>
              <a:path w="699" h="659">
                <a:moveTo>
                  <a:pt x="17" y="493"/>
                </a:moveTo>
                <a:cubicBezTo>
                  <a:pt x="0" y="410"/>
                  <a:pt x="0" y="410"/>
                  <a:pt x="0" y="410"/>
                </a:cubicBezTo>
                <a:cubicBezTo>
                  <a:pt x="583" y="490"/>
                  <a:pt x="568" y="0"/>
                  <a:pt x="568" y="0"/>
                </a:cubicBezTo>
                <a:cubicBezTo>
                  <a:pt x="699" y="22"/>
                  <a:pt x="699" y="22"/>
                  <a:pt x="699" y="22"/>
                </a:cubicBezTo>
                <a:cubicBezTo>
                  <a:pt x="624" y="659"/>
                  <a:pt x="17" y="493"/>
                  <a:pt x="17" y="49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3975120" y="6248520"/>
            <a:ext cx="208080" cy="377640"/>
          </a:xfrm>
          <a:custGeom>
            <a:avLst/>
            <a:gdLst/>
            <a:ahLst/>
            <a:rect l="l" t="t" r="r" b="b"/>
            <a:pathLst>
              <a:path w="131" h="238">
                <a:moveTo>
                  <a:pt x="63" y="21"/>
                </a:moveTo>
                <a:lnTo>
                  <a:pt x="131" y="226"/>
                </a:lnTo>
                <a:lnTo>
                  <a:pt x="89" y="238"/>
                </a:lnTo>
                <a:lnTo>
                  <a:pt x="0" y="0"/>
                </a:lnTo>
                <a:lnTo>
                  <a:pt x="63" y="21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3975120" y="6248520"/>
            <a:ext cx="208080" cy="377640"/>
          </a:xfrm>
          <a:custGeom>
            <a:avLst/>
            <a:gdLst/>
            <a:ahLst/>
            <a:rect l="l" t="t" r="r" b="b"/>
            <a:pathLst>
              <a:path w="131" h="238">
                <a:moveTo>
                  <a:pt x="63" y="21"/>
                </a:moveTo>
                <a:lnTo>
                  <a:pt x="131" y="226"/>
                </a:lnTo>
                <a:lnTo>
                  <a:pt x="89" y="238"/>
                </a:lnTo>
                <a:lnTo>
                  <a:pt x="0" y="0"/>
                </a:lnTo>
                <a:lnTo>
                  <a:pt x="63" y="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3949560" y="6189840"/>
            <a:ext cx="520920" cy="225360"/>
          </a:xfrm>
          <a:custGeom>
            <a:avLst/>
            <a:gdLst/>
            <a:ahLst/>
            <a:rect l="l" t="t" r="r" b="b"/>
            <a:pathLst>
              <a:path w="532" h="231">
                <a:moveTo>
                  <a:pt x="474" y="0"/>
                </a:moveTo>
                <a:cubicBezTo>
                  <a:pt x="0" y="85"/>
                  <a:pt x="0" y="85"/>
                  <a:pt x="0" y="85"/>
                </a:cubicBezTo>
                <a:cubicBezTo>
                  <a:pt x="15" y="110"/>
                  <a:pt x="15" y="110"/>
                  <a:pt x="15" y="110"/>
                </a:cubicBezTo>
                <a:cubicBezTo>
                  <a:pt x="15" y="110"/>
                  <a:pt x="211" y="231"/>
                  <a:pt x="532" y="25"/>
                </a:cubicBezTo>
                <a:cubicBezTo>
                  <a:pt x="474" y="0"/>
                  <a:pt x="474" y="0"/>
                  <a:pt x="474" y="0"/>
                </a:cubicBezTo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3787920" y="5673600"/>
            <a:ext cx="707760" cy="633600"/>
          </a:xfrm>
          <a:custGeom>
            <a:avLst/>
            <a:gdLst/>
            <a:ahLst/>
            <a:rect l="l" t="t" r="r" b="b"/>
            <a:pathLst>
              <a:path w="446" h="399">
                <a:moveTo>
                  <a:pt x="425" y="13"/>
                </a:moveTo>
                <a:lnTo>
                  <a:pt x="446" y="337"/>
                </a:lnTo>
                <a:lnTo>
                  <a:pt x="75" y="399"/>
                </a:lnTo>
                <a:lnTo>
                  <a:pt x="0" y="0"/>
                </a:lnTo>
                <a:lnTo>
                  <a:pt x="425" y="13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3787920" y="5673600"/>
            <a:ext cx="707760" cy="633600"/>
          </a:xfrm>
          <a:custGeom>
            <a:avLst/>
            <a:gdLst/>
            <a:ahLst/>
            <a:rect l="l" t="t" r="r" b="b"/>
            <a:pathLst>
              <a:path w="446" h="399">
                <a:moveTo>
                  <a:pt x="425" y="13"/>
                </a:moveTo>
                <a:lnTo>
                  <a:pt x="446" y="337"/>
                </a:lnTo>
                <a:lnTo>
                  <a:pt x="75" y="399"/>
                </a:lnTo>
                <a:lnTo>
                  <a:pt x="0" y="0"/>
                </a:lnTo>
                <a:lnTo>
                  <a:pt x="425" y="1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4152960" y="5808600"/>
            <a:ext cx="123840" cy="390600"/>
          </a:xfrm>
          <a:custGeom>
            <a:avLst/>
            <a:gdLst/>
            <a:ahLst/>
            <a:rect l="l" t="t" r="r" b="b"/>
            <a:pathLst>
              <a:path w="78" h="246">
                <a:moveTo>
                  <a:pt x="54" y="18"/>
                </a:moveTo>
                <a:lnTo>
                  <a:pt x="24" y="0"/>
                </a:lnTo>
                <a:lnTo>
                  <a:pt x="0" y="25"/>
                </a:lnTo>
                <a:lnTo>
                  <a:pt x="23" y="52"/>
                </a:lnTo>
                <a:lnTo>
                  <a:pt x="24" y="208"/>
                </a:lnTo>
                <a:lnTo>
                  <a:pt x="58" y="246"/>
                </a:lnTo>
                <a:lnTo>
                  <a:pt x="78" y="195"/>
                </a:lnTo>
                <a:lnTo>
                  <a:pt x="40" y="49"/>
                </a:lnTo>
                <a:lnTo>
                  <a:pt x="54" y="18"/>
                </a:ln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4211640" y="5767560"/>
            <a:ext cx="142920" cy="131760"/>
          </a:xfrm>
          <a:custGeom>
            <a:avLst/>
            <a:gdLst/>
            <a:ahLst/>
            <a:rect l="l" t="t" r="r" b="b"/>
            <a:pathLst>
              <a:path w="90" h="83">
                <a:moveTo>
                  <a:pt x="0" y="34"/>
                </a:moveTo>
                <a:lnTo>
                  <a:pt x="38" y="83"/>
                </a:lnTo>
                <a:lnTo>
                  <a:pt x="90" y="0"/>
                </a:lnTo>
                <a:lnTo>
                  <a:pt x="0" y="34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211640" y="5761080"/>
            <a:ext cx="150840" cy="141120"/>
          </a:xfrm>
          <a:custGeom>
            <a:avLst/>
            <a:gdLst/>
            <a:ahLst/>
            <a:rect l="l" t="t" r="r" b="b"/>
            <a:pathLst>
              <a:path w="154" h="145">
                <a:moveTo>
                  <a:pt x="36" y="47"/>
                </a:moveTo>
                <a:cubicBezTo>
                  <a:pt x="48" y="42"/>
                  <a:pt x="60" y="37"/>
                  <a:pt x="72" y="32"/>
                </a:cubicBezTo>
                <a:cubicBezTo>
                  <a:pt x="96" y="23"/>
                  <a:pt x="120" y="13"/>
                  <a:pt x="144" y="4"/>
                </a:cubicBezTo>
                <a:cubicBezTo>
                  <a:pt x="154" y="0"/>
                  <a:pt x="154" y="0"/>
                  <a:pt x="154" y="0"/>
                </a:cubicBezTo>
                <a:cubicBezTo>
                  <a:pt x="148" y="9"/>
                  <a:pt x="148" y="9"/>
                  <a:pt x="148" y="9"/>
                </a:cubicBezTo>
                <a:cubicBezTo>
                  <a:pt x="127" y="42"/>
                  <a:pt x="127" y="42"/>
                  <a:pt x="127" y="42"/>
                </a:cubicBezTo>
                <a:cubicBezTo>
                  <a:pt x="106" y="76"/>
                  <a:pt x="106" y="76"/>
                  <a:pt x="106" y="76"/>
                </a:cubicBezTo>
                <a:cubicBezTo>
                  <a:pt x="99" y="87"/>
                  <a:pt x="92" y="98"/>
                  <a:pt x="85" y="109"/>
                </a:cubicBezTo>
                <a:cubicBezTo>
                  <a:pt x="78" y="120"/>
                  <a:pt x="71" y="131"/>
                  <a:pt x="63" y="142"/>
                </a:cubicBezTo>
                <a:cubicBezTo>
                  <a:pt x="61" y="145"/>
                  <a:pt x="61" y="145"/>
                  <a:pt x="61" y="145"/>
                </a:cubicBezTo>
                <a:cubicBezTo>
                  <a:pt x="59" y="142"/>
                  <a:pt x="59" y="142"/>
                  <a:pt x="59" y="142"/>
                </a:cubicBezTo>
                <a:cubicBezTo>
                  <a:pt x="49" y="129"/>
                  <a:pt x="39" y="116"/>
                  <a:pt x="29" y="102"/>
                </a:cubicBezTo>
                <a:cubicBezTo>
                  <a:pt x="20" y="89"/>
                  <a:pt x="10" y="75"/>
                  <a:pt x="0" y="62"/>
                </a:cubicBezTo>
                <a:cubicBezTo>
                  <a:pt x="12" y="57"/>
                  <a:pt x="24" y="52"/>
                  <a:pt x="36" y="47"/>
                </a:cubicBezTo>
                <a:close/>
                <a:moveTo>
                  <a:pt x="32" y="100"/>
                </a:moveTo>
                <a:cubicBezTo>
                  <a:pt x="43" y="113"/>
                  <a:pt x="53" y="126"/>
                  <a:pt x="63" y="139"/>
                </a:cubicBezTo>
                <a:cubicBezTo>
                  <a:pt x="59" y="139"/>
                  <a:pt x="59" y="139"/>
                  <a:pt x="59" y="139"/>
                </a:cubicBezTo>
                <a:cubicBezTo>
                  <a:pt x="65" y="128"/>
                  <a:pt x="72" y="117"/>
                  <a:pt x="79" y="105"/>
                </a:cubicBezTo>
                <a:cubicBezTo>
                  <a:pt x="86" y="94"/>
                  <a:pt x="93" y="83"/>
                  <a:pt x="100" y="72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42" y="5"/>
                  <a:pt x="142" y="5"/>
                  <a:pt x="142" y="5"/>
                </a:cubicBezTo>
                <a:cubicBezTo>
                  <a:pt x="146" y="10"/>
                  <a:pt x="146" y="10"/>
                  <a:pt x="146" y="10"/>
                </a:cubicBezTo>
                <a:cubicBezTo>
                  <a:pt x="122" y="19"/>
                  <a:pt x="98" y="28"/>
                  <a:pt x="74" y="37"/>
                </a:cubicBezTo>
                <a:cubicBezTo>
                  <a:pt x="61" y="41"/>
                  <a:pt x="49" y="45"/>
                  <a:pt x="37" y="49"/>
                </a:cubicBezTo>
                <a:cubicBezTo>
                  <a:pt x="25" y="54"/>
                  <a:pt x="13" y="58"/>
                  <a:pt x="0" y="62"/>
                </a:cubicBezTo>
                <a:cubicBezTo>
                  <a:pt x="11" y="74"/>
                  <a:pt x="22" y="87"/>
                  <a:pt x="32" y="100"/>
                </a:cubicBez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4016520" y="5829480"/>
            <a:ext cx="150840" cy="95040"/>
          </a:xfrm>
          <a:custGeom>
            <a:avLst/>
            <a:gdLst/>
            <a:ahLst/>
            <a:rect l="l" t="t" r="r" b="b"/>
            <a:pathLst>
              <a:path w="95" h="60">
                <a:moveTo>
                  <a:pt x="95" y="2"/>
                </a:moveTo>
                <a:lnTo>
                  <a:pt x="76" y="60"/>
                </a:lnTo>
                <a:lnTo>
                  <a:pt x="0" y="0"/>
                </a:lnTo>
                <a:lnTo>
                  <a:pt x="95" y="2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4006800" y="5824440"/>
            <a:ext cx="160560" cy="104760"/>
          </a:xfrm>
          <a:custGeom>
            <a:avLst/>
            <a:gdLst/>
            <a:ahLst/>
            <a:rect l="l" t="t" r="r" b="b"/>
            <a:pathLst>
              <a:path w="165" h="107">
                <a:moveTo>
                  <a:pt x="126" y="8"/>
                </a:moveTo>
                <a:cubicBezTo>
                  <a:pt x="113" y="8"/>
                  <a:pt x="100" y="8"/>
                  <a:pt x="87" y="8"/>
                </a:cubicBezTo>
                <a:cubicBezTo>
                  <a:pt x="62" y="8"/>
                  <a:pt x="36" y="8"/>
                  <a:pt x="10" y="7"/>
                </a:cubicBezTo>
                <a:cubicBezTo>
                  <a:pt x="12" y="1"/>
                  <a:pt x="12" y="1"/>
                  <a:pt x="12" y="1"/>
                </a:cubicBezTo>
                <a:cubicBezTo>
                  <a:pt x="43" y="25"/>
                  <a:pt x="43" y="25"/>
                  <a:pt x="43" y="25"/>
                </a:cubicBezTo>
                <a:cubicBezTo>
                  <a:pt x="74" y="50"/>
                  <a:pt x="74" y="50"/>
                  <a:pt x="74" y="50"/>
                </a:cubicBezTo>
                <a:cubicBezTo>
                  <a:pt x="84" y="58"/>
                  <a:pt x="95" y="66"/>
                  <a:pt x="105" y="75"/>
                </a:cubicBezTo>
                <a:cubicBezTo>
                  <a:pt x="115" y="83"/>
                  <a:pt x="125" y="91"/>
                  <a:pt x="135" y="100"/>
                </a:cubicBezTo>
                <a:cubicBezTo>
                  <a:pt x="131" y="101"/>
                  <a:pt x="131" y="101"/>
                  <a:pt x="131" y="101"/>
                </a:cubicBezTo>
                <a:cubicBezTo>
                  <a:pt x="136" y="85"/>
                  <a:pt x="142" y="70"/>
                  <a:pt x="147" y="54"/>
                </a:cubicBezTo>
                <a:cubicBezTo>
                  <a:pt x="153" y="39"/>
                  <a:pt x="159" y="23"/>
                  <a:pt x="165" y="8"/>
                </a:cubicBezTo>
                <a:cubicBezTo>
                  <a:pt x="152" y="8"/>
                  <a:pt x="139" y="8"/>
                  <a:pt x="126" y="8"/>
                </a:cubicBezTo>
                <a:close/>
                <a:moveTo>
                  <a:pt x="151" y="55"/>
                </a:moveTo>
                <a:cubicBezTo>
                  <a:pt x="146" y="71"/>
                  <a:pt x="141" y="87"/>
                  <a:pt x="136" y="103"/>
                </a:cubicBezTo>
                <a:cubicBezTo>
                  <a:pt x="135" y="107"/>
                  <a:pt x="135" y="107"/>
                  <a:pt x="135" y="107"/>
                </a:cubicBezTo>
                <a:cubicBezTo>
                  <a:pt x="132" y="104"/>
                  <a:pt x="132" y="104"/>
                  <a:pt x="132" y="104"/>
                </a:cubicBezTo>
                <a:cubicBezTo>
                  <a:pt x="121" y="96"/>
                  <a:pt x="111" y="88"/>
                  <a:pt x="101" y="80"/>
                </a:cubicBezTo>
                <a:cubicBezTo>
                  <a:pt x="90" y="72"/>
                  <a:pt x="80" y="64"/>
                  <a:pt x="70" y="56"/>
                </a:cubicBezTo>
                <a:cubicBezTo>
                  <a:pt x="39" y="31"/>
                  <a:pt x="39" y="31"/>
                  <a:pt x="39" y="31"/>
                </a:cubicBezTo>
                <a:cubicBezTo>
                  <a:pt x="8" y="6"/>
                  <a:pt x="8" y="6"/>
                  <a:pt x="8" y="6"/>
                </a:cubicBezTo>
                <a:cubicBezTo>
                  <a:pt x="0" y="0"/>
                  <a:pt x="0" y="0"/>
                  <a:pt x="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36" y="1"/>
                  <a:pt x="62" y="2"/>
                  <a:pt x="88" y="3"/>
                </a:cubicBezTo>
                <a:cubicBezTo>
                  <a:pt x="100" y="4"/>
                  <a:pt x="113" y="4"/>
                  <a:pt x="126" y="5"/>
                </a:cubicBezTo>
                <a:cubicBezTo>
                  <a:pt x="139" y="6"/>
                  <a:pt x="152" y="7"/>
                  <a:pt x="165" y="8"/>
                </a:cubicBezTo>
                <a:cubicBezTo>
                  <a:pt x="160" y="24"/>
                  <a:pt x="155" y="40"/>
                  <a:pt x="151" y="55"/>
                </a:cubicBez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3011400" y="5276880"/>
            <a:ext cx="136440" cy="244440"/>
          </a:xfrm>
          <a:custGeom>
            <a:avLst/>
            <a:gdLst/>
            <a:ahLst/>
            <a:rect l="l" t="t" r="r" b="b"/>
            <a:pathLst>
              <a:path w="139" h="249">
                <a:moveTo>
                  <a:pt x="139" y="208"/>
                </a:moveTo>
                <a:cubicBezTo>
                  <a:pt x="139" y="208"/>
                  <a:pt x="105" y="42"/>
                  <a:pt x="98" y="136"/>
                </a:cubicBezTo>
                <a:cubicBezTo>
                  <a:pt x="98" y="136"/>
                  <a:pt x="72" y="0"/>
                  <a:pt x="70" y="90"/>
                </a:cubicBezTo>
                <a:cubicBezTo>
                  <a:pt x="70" y="90"/>
                  <a:pt x="40" y="14"/>
                  <a:pt x="53" y="94"/>
                </a:cubicBezTo>
                <a:cubicBezTo>
                  <a:pt x="53" y="94"/>
                  <a:pt x="22" y="41"/>
                  <a:pt x="36" y="99"/>
                </a:cubicBezTo>
                <a:cubicBezTo>
                  <a:pt x="36" y="99"/>
                  <a:pt x="0" y="43"/>
                  <a:pt x="31" y="126"/>
                </a:cubicBezTo>
                <a:cubicBezTo>
                  <a:pt x="31" y="126"/>
                  <a:pt x="52" y="196"/>
                  <a:pt x="72" y="249"/>
                </a:cubicBezTo>
                <a:lnTo>
                  <a:pt x="139" y="208"/>
                </a:ln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4111560" y="6573960"/>
            <a:ext cx="198360" cy="77760"/>
          </a:xfrm>
          <a:custGeom>
            <a:avLst/>
            <a:gdLst/>
            <a:ahLst/>
            <a:rect l="l" t="t" r="r" b="b"/>
            <a:pathLst>
              <a:path w="204" h="79">
                <a:moveTo>
                  <a:pt x="200" y="27"/>
                </a:moveTo>
                <a:cubicBezTo>
                  <a:pt x="204" y="46"/>
                  <a:pt x="9" y="79"/>
                  <a:pt x="5" y="60"/>
                </a:cubicBezTo>
                <a:cubicBezTo>
                  <a:pt x="0" y="41"/>
                  <a:pt x="10" y="18"/>
                  <a:pt x="74" y="9"/>
                </a:cubicBezTo>
                <a:cubicBezTo>
                  <a:pt x="139" y="0"/>
                  <a:pt x="195" y="8"/>
                  <a:pt x="200" y="27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3330720" y="4827600"/>
            <a:ext cx="349200" cy="623880"/>
          </a:xfrm>
          <a:custGeom>
            <a:avLst/>
            <a:gdLst/>
            <a:ahLst/>
            <a:rect l="l" t="t" r="r" b="b"/>
            <a:pathLst>
              <a:path w="357" h="638">
                <a:moveTo>
                  <a:pt x="357" y="0"/>
                </a:moveTo>
                <a:cubicBezTo>
                  <a:pt x="357" y="0"/>
                  <a:pt x="0" y="45"/>
                  <a:pt x="220" y="638"/>
                </a:cubicBezTo>
                <a:lnTo>
                  <a:pt x="357" y="0"/>
                </a:ln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3516480" y="4803840"/>
            <a:ext cx="360360" cy="954000"/>
          </a:xfrm>
          <a:custGeom>
            <a:avLst/>
            <a:gdLst/>
            <a:ahLst/>
            <a:rect l="l" t="t" r="r" b="b"/>
            <a:pathLst>
              <a:path w="368" h="973">
                <a:moveTo>
                  <a:pt x="272" y="912"/>
                </a:moveTo>
                <a:cubicBezTo>
                  <a:pt x="342" y="973"/>
                  <a:pt x="368" y="695"/>
                  <a:pt x="359" y="498"/>
                </a:cubicBezTo>
                <a:cubicBezTo>
                  <a:pt x="350" y="300"/>
                  <a:pt x="233" y="166"/>
                  <a:pt x="140" y="170"/>
                </a:cubicBezTo>
                <a:cubicBezTo>
                  <a:pt x="47" y="174"/>
                  <a:pt x="0" y="0"/>
                  <a:pt x="5" y="469"/>
                </a:cubicBezTo>
                <a:cubicBezTo>
                  <a:pt x="8" y="764"/>
                  <a:pt x="261" y="903"/>
                  <a:pt x="272" y="912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3508200" y="5243400"/>
            <a:ext cx="227160" cy="366840"/>
          </a:xfrm>
          <a:custGeom>
            <a:avLst/>
            <a:gdLst/>
            <a:ahLst/>
            <a:rect l="l" t="t" r="r" b="b"/>
            <a:pathLst>
              <a:path w="233" h="374">
                <a:moveTo>
                  <a:pt x="10" y="186"/>
                </a:moveTo>
                <a:cubicBezTo>
                  <a:pt x="0" y="0"/>
                  <a:pt x="158" y="30"/>
                  <a:pt x="180" y="65"/>
                </a:cubicBezTo>
                <a:cubicBezTo>
                  <a:pt x="221" y="131"/>
                  <a:pt x="233" y="374"/>
                  <a:pt x="233" y="374"/>
                </a:cubicBezTo>
                <a:cubicBezTo>
                  <a:pt x="43" y="369"/>
                  <a:pt x="10" y="186"/>
                  <a:pt x="10" y="186"/>
                </a:cubicBez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3525840" y="4745160"/>
            <a:ext cx="1216080" cy="1127160"/>
          </a:xfrm>
          <a:custGeom>
            <a:avLst/>
            <a:gdLst/>
            <a:ahLst/>
            <a:rect l="l" t="t" r="r" b="b"/>
            <a:pathLst>
              <a:path w="1241" h="1151">
                <a:moveTo>
                  <a:pt x="144" y="685"/>
                </a:moveTo>
                <a:cubicBezTo>
                  <a:pt x="155" y="949"/>
                  <a:pt x="424" y="1151"/>
                  <a:pt x="743" y="1136"/>
                </a:cubicBezTo>
                <a:cubicBezTo>
                  <a:pt x="1062" y="1122"/>
                  <a:pt x="1241" y="857"/>
                  <a:pt x="1229" y="594"/>
                </a:cubicBezTo>
                <a:cubicBezTo>
                  <a:pt x="1217" y="330"/>
                  <a:pt x="1085" y="0"/>
                  <a:pt x="532" y="3"/>
                </a:cubicBezTo>
                <a:cubicBezTo>
                  <a:pt x="0" y="6"/>
                  <a:pt x="132" y="422"/>
                  <a:pt x="144" y="685"/>
                </a:cubicBezTo>
                <a:close/>
              </a:path>
            </a:pathLst>
          </a:cu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3938760" y="5205240"/>
            <a:ext cx="277560" cy="277920"/>
          </a:xfrm>
          <a:custGeom>
            <a:avLst/>
            <a:gdLst/>
            <a:ahLst/>
            <a:rect l="l" t="t" r="r" b="b"/>
            <a:pathLst>
              <a:path w="283" h="283">
                <a:moveTo>
                  <a:pt x="69" y="243"/>
                </a:moveTo>
                <a:cubicBezTo>
                  <a:pt x="126" y="283"/>
                  <a:pt x="203" y="270"/>
                  <a:pt x="243" y="214"/>
                </a:cubicBezTo>
                <a:cubicBezTo>
                  <a:pt x="283" y="158"/>
                  <a:pt x="270" y="80"/>
                  <a:pt x="214" y="40"/>
                </a:cubicBezTo>
                <a:cubicBezTo>
                  <a:pt x="158" y="0"/>
                  <a:pt x="80" y="13"/>
                  <a:pt x="40" y="69"/>
                </a:cubicBezTo>
                <a:cubicBezTo>
                  <a:pt x="0" y="125"/>
                  <a:pt x="13" y="203"/>
                  <a:pt x="69" y="24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4011480" y="5253120"/>
            <a:ext cx="171720" cy="171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42" y="151"/>
                </a:moveTo>
                <a:cubicBezTo>
                  <a:pt x="77" y="175"/>
                  <a:pt x="125" y="167"/>
                  <a:pt x="150" y="133"/>
                </a:cubicBezTo>
                <a:cubicBezTo>
                  <a:pt x="175" y="98"/>
                  <a:pt x="167" y="50"/>
                  <a:pt x="132" y="25"/>
                </a:cubicBezTo>
                <a:cubicBezTo>
                  <a:pt x="97" y="0"/>
                  <a:pt x="49" y="8"/>
                  <a:pt x="24" y="43"/>
                </a:cubicBezTo>
                <a:cubicBezTo>
                  <a:pt x="0" y="78"/>
                  <a:pt x="8" y="126"/>
                  <a:pt x="42" y="151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4375080" y="5226120"/>
            <a:ext cx="265320" cy="26496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8" y="103"/>
                </a:moveTo>
                <a:cubicBezTo>
                  <a:pt x="0" y="168"/>
                  <a:pt x="39" y="235"/>
                  <a:pt x="103" y="253"/>
                </a:cubicBezTo>
                <a:cubicBezTo>
                  <a:pt x="168" y="271"/>
                  <a:pt x="235" y="232"/>
                  <a:pt x="253" y="168"/>
                </a:cubicBezTo>
                <a:cubicBezTo>
                  <a:pt x="271" y="103"/>
                  <a:pt x="232" y="36"/>
                  <a:pt x="168" y="18"/>
                </a:cubicBezTo>
                <a:cubicBezTo>
                  <a:pt x="103" y="0"/>
                  <a:pt x="36" y="38"/>
                  <a:pt x="18" y="103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4408560" y="5265720"/>
            <a:ext cx="168120" cy="166680"/>
          </a:xfrm>
          <a:custGeom>
            <a:avLst/>
            <a:gdLst/>
            <a:ahLst/>
            <a:rect l="l" t="t" r="r" b="b"/>
            <a:pathLst>
              <a:path w="172" h="171">
                <a:moveTo>
                  <a:pt x="11" y="65"/>
                </a:moveTo>
                <a:cubicBezTo>
                  <a:pt x="0" y="106"/>
                  <a:pt x="24" y="149"/>
                  <a:pt x="66" y="160"/>
                </a:cubicBezTo>
                <a:cubicBezTo>
                  <a:pt x="107" y="171"/>
                  <a:pt x="149" y="147"/>
                  <a:pt x="160" y="106"/>
                </a:cubicBezTo>
                <a:cubicBezTo>
                  <a:pt x="172" y="65"/>
                  <a:pt x="148" y="22"/>
                  <a:pt x="106" y="11"/>
                </a:cubicBezTo>
                <a:cubicBezTo>
                  <a:pt x="65" y="0"/>
                  <a:pt x="23" y="24"/>
                  <a:pt x="11" y="65"/>
                </a:cubicBez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3537000" y="4276800"/>
            <a:ext cx="1382760" cy="1166760"/>
          </a:xfrm>
          <a:custGeom>
            <a:avLst/>
            <a:gdLst/>
            <a:ahLst/>
            <a:rect l="l" t="t" r="r" b="b"/>
            <a:pathLst>
              <a:path w="1413" h="1191">
                <a:moveTo>
                  <a:pt x="1366" y="358"/>
                </a:moveTo>
                <a:cubicBezTo>
                  <a:pt x="1347" y="229"/>
                  <a:pt x="1280" y="144"/>
                  <a:pt x="1211" y="89"/>
                </a:cubicBezTo>
                <a:cubicBezTo>
                  <a:pt x="1152" y="42"/>
                  <a:pt x="1092" y="18"/>
                  <a:pt x="1060" y="7"/>
                </a:cubicBezTo>
                <a:cubicBezTo>
                  <a:pt x="1046" y="2"/>
                  <a:pt x="1037" y="0"/>
                  <a:pt x="1037" y="0"/>
                </a:cubicBezTo>
                <a:cubicBezTo>
                  <a:pt x="1039" y="4"/>
                  <a:pt x="1041" y="8"/>
                  <a:pt x="1043" y="12"/>
                </a:cubicBezTo>
                <a:cubicBezTo>
                  <a:pt x="1065" y="54"/>
                  <a:pt x="1081" y="91"/>
                  <a:pt x="1080" y="124"/>
                </a:cubicBezTo>
                <a:cubicBezTo>
                  <a:pt x="1074" y="317"/>
                  <a:pt x="643" y="326"/>
                  <a:pt x="573" y="333"/>
                </a:cubicBezTo>
                <a:cubicBezTo>
                  <a:pt x="227" y="366"/>
                  <a:pt x="163" y="505"/>
                  <a:pt x="147" y="561"/>
                </a:cubicBezTo>
                <a:cubicBezTo>
                  <a:pt x="93" y="566"/>
                  <a:pt x="0" y="646"/>
                  <a:pt x="17" y="738"/>
                </a:cubicBezTo>
                <a:cubicBezTo>
                  <a:pt x="11" y="757"/>
                  <a:pt x="23" y="793"/>
                  <a:pt x="37" y="840"/>
                </a:cubicBezTo>
                <a:cubicBezTo>
                  <a:pt x="85" y="993"/>
                  <a:pt x="201" y="1191"/>
                  <a:pt x="238" y="1189"/>
                </a:cubicBezTo>
                <a:cubicBezTo>
                  <a:pt x="279" y="1187"/>
                  <a:pt x="270" y="950"/>
                  <a:pt x="262" y="809"/>
                </a:cubicBezTo>
                <a:cubicBezTo>
                  <a:pt x="524" y="828"/>
                  <a:pt x="879" y="821"/>
                  <a:pt x="972" y="808"/>
                </a:cubicBezTo>
                <a:cubicBezTo>
                  <a:pt x="1187" y="778"/>
                  <a:pt x="1413" y="703"/>
                  <a:pt x="1366" y="358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>
            <a:off x="3844800" y="5592600"/>
            <a:ext cx="290520" cy="162000"/>
          </a:xfrm>
          <a:custGeom>
            <a:avLst/>
            <a:gdLst/>
            <a:ahLst/>
            <a:rect l="l" t="t" r="r" b="b"/>
            <a:pathLst>
              <a:path w="296" h="166">
                <a:moveTo>
                  <a:pt x="53" y="0"/>
                </a:move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14" y="166"/>
                  <a:pt x="142" y="158"/>
                </a:cubicBezTo>
                <a:cubicBezTo>
                  <a:pt x="65" y="150"/>
                  <a:pt x="0" y="107"/>
                  <a:pt x="53" y="0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>
            <a:off x="4097160" y="4302000"/>
            <a:ext cx="476280" cy="358920"/>
          </a:xfrm>
          <a:custGeom>
            <a:avLst/>
            <a:gdLst/>
            <a:ahLst/>
            <a:rect l="l" t="t" r="r" b="b"/>
            <a:pathLst>
              <a:path w="486" h="366">
                <a:moveTo>
                  <a:pt x="164" y="0"/>
                </a:moveTo>
                <a:cubicBezTo>
                  <a:pt x="330" y="118"/>
                  <a:pt x="215" y="224"/>
                  <a:pt x="111" y="275"/>
                </a:cubicBezTo>
                <a:cubicBezTo>
                  <a:pt x="56" y="303"/>
                  <a:pt x="0" y="307"/>
                  <a:pt x="0" y="307"/>
                </a:cubicBezTo>
                <a:cubicBezTo>
                  <a:pt x="44" y="366"/>
                  <a:pt x="44" y="366"/>
                  <a:pt x="44" y="366"/>
                </a:cubicBezTo>
                <a:cubicBezTo>
                  <a:pt x="486" y="202"/>
                  <a:pt x="486" y="202"/>
                  <a:pt x="486" y="202"/>
                </a:cubicBezTo>
                <a:cubicBezTo>
                  <a:pt x="464" y="14"/>
                  <a:pt x="164" y="0"/>
                  <a:pt x="164" y="0"/>
                </a:cubicBezTo>
                <a:close/>
              </a:path>
            </a:pathLst>
          </a:cu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>
            <a:off x="3963960" y="6213600"/>
            <a:ext cx="506520" cy="99720"/>
          </a:xfrm>
          <a:custGeom>
            <a:avLst/>
            <a:gdLst/>
            <a:ahLst/>
            <a:rect l="l" t="t" r="r" b="b"/>
            <a:pathLst>
              <a:path w="517" h="101">
                <a:moveTo>
                  <a:pt x="517" y="0"/>
                </a:moveTo>
                <a:cubicBezTo>
                  <a:pt x="0" y="85"/>
                  <a:pt x="0" y="85"/>
                  <a:pt x="0" y="85"/>
                </a:cubicBezTo>
                <a:cubicBezTo>
                  <a:pt x="0" y="85"/>
                  <a:pt x="13" y="92"/>
                  <a:pt x="18" y="94"/>
                </a:cubicBezTo>
                <a:cubicBezTo>
                  <a:pt x="22" y="96"/>
                  <a:pt x="36" y="101"/>
                  <a:pt x="36" y="101"/>
                </a:cubicBezTo>
                <a:cubicBezTo>
                  <a:pt x="517" y="0"/>
                  <a:pt x="517" y="0"/>
                  <a:pt x="517" y="0"/>
                </a:cubicBezTo>
              </a:path>
            </a:pathLst>
          </a:cu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>
            <a:off x="3051000" y="5459400"/>
            <a:ext cx="766800" cy="636480"/>
          </a:xfrm>
          <a:custGeom>
            <a:avLst/>
            <a:gdLst/>
            <a:ahLst/>
            <a:rect l="l" t="t" r="r" b="b"/>
            <a:pathLst>
              <a:path w="783" h="650">
                <a:moveTo>
                  <a:pt x="783" y="327"/>
                </a:moveTo>
                <a:cubicBezTo>
                  <a:pt x="758" y="251"/>
                  <a:pt x="758" y="251"/>
                  <a:pt x="758" y="251"/>
                </a:cubicBezTo>
                <a:cubicBezTo>
                  <a:pt x="218" y="484"/>
                  <a:pt x="120" y="0"/>
                  <a:pt x="120" y="0"/>
                </a:cubicBezTo>
                <a:cubicBezTo>
                  <a:pt x="0" y="56"/>
                  <a:pt x="0" y="56"/>
                  <a:pt x="0" y="56"/>
                </a:cubicBezTo>
                <a:cubicBezTo>
                  <a:pt x="243" y="650"/>
                  <a:pt x="783" y="327"/>
                  <a:pt x="783" y="327"/>
                </a:cubicBez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6"/>
          <p:cNvSpPr/>
          <p:nvPr/>
        </p:nvSpPr>
        <p:spPr>
          <a:xfrm>
            <a:off x="4944960" y="4540320"/>
            <a:ext cx="830520" cy="852480"/>
          </a:xfrm>
          <a:custGeom>
            <a:avLst/>
            <a:gdLst/>
            <a:ahLst/>
            <a:rect l="l" t="t" r="r" b="b"/>
            <a:pathLst>
              <a:path w="523" h="537">
                <a:moveTo>
                  <a:pt x="510" y="0"/>
                </a:moveTo>
                <a:lnTo>
                  <a:pt x="523" y="15"/>
                </a:lnTo>
                <a:lnTo>
                  <a:pt x="30" y="537"/>
                </a:lnTo>
                <a:lnTo>
                  <a:pt x="0" y="495"/>
                </a:lnTo>
                <a:lnTo>
                  <a:pt x="510" y="0"/>
                </a:lnTo>
                <a:close/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7"/>
          <p:cNvSpPr/>
          <p:nvPr/>
        </p:nvSpPr>
        <p:spPr>
          <a:xfrm>
            <a:off x="5653080" y="4606920"/>
            <a:ext cx="6048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21" y="0"/>
                </a:moveTo>
                <a:lnTo>
                  <a:pt x="38" y="13"/>
                </a:lnTo>
                <a:lnTo>
                  <a:pt x="16" y="38"/>
                </a:lnTo>
                <a:lnTo>
                  <a:pt x="0" y="20"/>
                </a:lnTo>
                <a:lnTo>
                  <a:pt x="2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5027760" y="5180040"/>
            <a:ext cx="77760" cy="8424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7702560" y="6539040"/>
            <a:ext cx="2286000" cy="27756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>
            <a:off x="8008920" y="5407200"/>
            <a:ext cx="1717560" cy="1330200"/>
          </a:xfrm>
          <a:custGeom>
            <a:avLst/>
            <a:gdLst/>
            <a:ahLst/>
            <a:rect l="l" t="t" r="r" b="b"/>
            <a:pathLst>
              <a:path w="1754" h="1358">
                <a:moveTo>
                  <a:pt x="1754" y="1266"/>
                </a:moveTo>
                <a:cubicBezTo>
                  <a:pt x="1754" y="1266"/>
                  <a:pt x="1754" y="1266"/>
                  <a:pt x="1754" y="1266"/>
                </a:cubicBezTo>
                <a:cubicBezTo>
                  <a:pt x="1662" y="0"/>
                  <a:pt x="1662" y="0"/>
                  <a:pt x="1662" y="0"/>
                </a:cubicBezTo>
                <a:cubicBezTo>
                  <a:pt x="1058" y="0"/>
                  <a:pt x="1058" y="0"/>
                  <a:pt x="1058" y="0"/>
                </a:cubicBezTo>
                <a:cubicBezTo>
                  <a:pt x="696" y="0"/>
                  <a:pt x="696" y="0"/>
                  <a:pt x="696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266"/>
                  <a:pt x="0" y="1266"/>
                  <a:pt x="0" y="1266"/>
                </a:cubicBezTo>
                <a:cubicBezTo>
                  <a:pt x="0" y="1306"/>
                  <a:pt x="392" y="1358"/>
                  <a:pt x="877" y="1358"/>
                </a:cubicBezTo>
                <a:cubicBezTo>
                  <a:pt x="1361" y="1358"/>
                  <a:pt x="1754" y="1306"/>
                  <a:pt x="1754" y="1266"/>
                </a:cubicBezTo>
                <a:cubicBezTo>
                  <a:pt x="1754" y="1266"/>
                  <a:pt x="1754" y="1266"/>
                  <a:pt x="1754" y="1266"/>
                </a:cubicBezTo>
              </a:path>
            </a:pathLst>
          </a:cu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1"/>
          <p:cNvSpPr/>
          <p:nvPr/>
        </p:nvSpPr>
        <p:spPr>
          <a:xfrm>
            <a:off x="8102520" y="5575320"/>
            <a:ext cx="1557360" cy="152280"/>
          </a:xfrm>
          <a:custGeom>
            <a:avLst/>
            <a:gdLst/>
            <a:ahLst/>
            <a:rect l="l" t="t" r="r" b="b"/>
            <a:pathLst>
              <a:path w="981" h="96">
                <a:moveTo>
                  <a:pt x="976" y="35"/>
                </a:moveTo>
                <a:lnTo>
                  <a:pt x="981" y="96"/>
                </a:lnTo>
                <a:lnTo>
                  <a:pt x="976" y="35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2"/>
          <p:cNvSpPr/>
          <p:nvPr/>
        </p:nvSpPr>
        <p:spPr>
          <a:xfrm>
            <a:off x="8102520" y="5575320"/>
            <a:ext cx="1557360" cy="152280"/>
          </a:xfrm>
          <a:custGeom>
            <a:avLst/>
            <a:gdLst/>
            <a:ahLst/>
            <a:rect l="l" t="t" r="r" b="b"/>
            <a:pathLst>
              <a:path w="981" h="96">
                <a:moveTo>
                  <a:pt x="976" y="35"/>
                </a:moveTo>
                <a:lnTo>
                  <a:pt x="981" y="96"/>
                </a:lnTo>
                <a:lnTo>
                  <a:pt x="976" y="35"/>
                </a:lnTo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3"/>
          <p:cNvSpPr/>
          <p:nvPr/>
        </p:nvSpPr>
        <p:spPr>
          <a:xfrm>
            <a:off x="8097840" y="5573880"/>
            <a:ext cx="1562040" cy="153720"/>
          </a:xfrm>
          <a:custGeom>
            <a:avLst/>
            <a:gdLst/>
            <a:ahLst/>
            <a:rect l="l" t="t" r="r" b="b"/>
            <a:pathLst>
              <a:path w="1595" h="157">
                <a:moveTo>
                  <a:pt x="1584" y="0"/>
                </a:moveTo>
                <a:cubicBezTo>
                  <a:pt x="1357" y="23"/>
                  <a:pt x="1082" y="37"/>
                  <a:pt x="786" y="37"/>
                </a:cubicBezTo>
                <a:cubicBezTo>
                  <a:pt x="497" y="37"/>
                  <a:pt x="228" y="24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0" y="82"/>
                  <a:pt x="0" y="82"/>
                  <a:pt x="0" y="82"/>
                </a:cubicBezTo>
                <a:cubicBezTo>
                  <a:pt x="1595" y="157"/>
                  <a:pt x="1595" y="157"/>
                  <a:pt x="1595" y="157"/>
                </a:cubicBezTo>
                <a:cubicBezTo>
                  <a:pt x="1588" y="59"/>
                  <a:pt x="1588" y="59"/>
                  <a:pt x="1588" y="59"/>
                </a:cubicBezTo>
                <a:cubicBezTo>
                  <a:pt x="1584" y="0"/>
                  <a:pt x="1584" y="0"/>
                  <a:pt x="1584" y="0"/>
                </a:cubicBezTo>
              </a:path>
            </a:pathLst>
          </a:cu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7496280" y="5205240"/>
            <a:ext cx="2741400" cy="405000"/>
          </a:xfrm>
          <a:prstGeom prst="ellips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1a1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6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7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60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7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7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60"/>
                </a:lnTo>
                <a:lnTo>
                  <a:pt x="40" y="4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7140600" y="403056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80" y="43"/>
                </a:lnTo>
                <a:lnTo>
                  <a:pt x="118" y="62"/>
                </a:lnTo>
                <a:lnTo>
                  <a:pt x="80" y="81"/>
                </a:lnTo>
                <a:lnTo>
                  <a:pt x="73" y="124"/>
                </a:lnTo>
                <a:lnTo>
                  <a:pt x="43" y="93"/>
                </a:lnTo>
                <a:lnTo>
                  <a:pt x="0" y="101"/>
                </a:lnTo>
                <a:lnTo>
                  <a:pt x="20" y="62"/>
                </a:lnTo>
                <a:lnTo>
                  <a:pt x="0" y="23"/>
                </a:lnTo>
                <a:lnTo>
                  <a:pt x="43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80" y="43"/>
                </a:lnTo>
                <a:lnTo>
                  <a:pt x="118" y="62"/>
                </a:lnTo>
                <a:lnTo>
                  <a:pt x="80" y="81"/>
                </a:lnTo>
                <a:lnTo>
                  <a:pt x="73" y="124"/>
                </a:lnTo>
                <a:lnTo>
                  <a:pt x="43" y="93"/>
                </a:lnTo>
                <a:lnTo>
                  <a:pt x="0" y="101"/>
                </a:lnTo>
                <a:lnTo>
                  <a:pt x="20" y="62"/>
                </a:lnTo>
                <a:lnTo>
                  <a:pt x="0" y="23"/>
                </a:lnTo>
                <a:lnTo>
                  <a:pt x="43" y="31"/>
                </a:lnTo>
                <a:lnTo>
                  <a:pt x="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81" y="39"/>
                </a:lnTo>
                <a:lnTo>
                  <a:pt x="124" y="45"/>
                </a:lnTo>
                <a:lnTo>
                  <a:pt x="93" y="75"/>
                </a:lnTo>
                <a:lnTo>
                  <a:pt x="100" y="118"/>
                </a:lnTo>
                <a:lnTo>
                  <a:pt x="62" y="98"/>
                </a:lnTo>
                <a:lnTo>
                  <a:pt x="24" y="119"/>
                </a:lnTo>
                <a:lnTo>
                  <a:pt x="31" y="76"/>
                </a:lnTo>
                <a:lnTo>
                  <a:pt x="0" y="46"/>
                </a:lnTo>
                <a:lnTo>
                  <a:pt x="42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81" y="39"/>
                </a:lnTo>
                <a:lnTo>
                  <a:pt x="124" y="45"/>
                </a:lnTo>
                <a:lnTo>
                  <a:pt x="93" y="75"/>
                </a:lnTo>
                <a:lnTo>
                  <a:pt x="100" y="118"/>
                </a:lnTo>
                <a:lnTo>
                  <a:pt x="62" y="98"/>
                </a:lnTo>
                <a:lnTo>
                  <a:pt x="24" y="119"/>
                </a:lnTo>
                <a:lnTo>
                  <a:pt x="31" y="76"/>
                </a:lnTo>
                <a:lnTo>
                  <a:pt x="0" y="46"/>
                </a:lnTo>
                <a:lnTo>
                  <a:pt x="42" y="39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7"/>
          <p:cNvSpPr/>
          <p:nvPr/>
        </p:nvSpPr>
        <p:spPr>
          <a:xfrm>
            <a:off x="9899640" y="4818240"/>
            <a:ext cx="187200" cy="19656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79" y="43"/>
                </a:lnTo>
                <a:lnTo>
                  <a:pt x="118" y="62"/>
                </a:lnTo>
                <a:lnTo>
                  <a:pt x="79" y="81"/>
                </a:lnTo>
                <a:lnTo>
                  <a:pt x="73" y="124"/>
                </a:lnTo>
                <a:lnTo>
                  <a:pt x="42" y="93"/>
                </a:lnTo>
                <a:lnTo>
                  <a:pt x="0" y="101"/>
                </a:lnTo>
                <a:lnTo>
                  <a:pt x="19" y="62"/>
                </a:lnTo>
                <a:lnTo>
                  <a:pt x="0" y="24"/>
                </a:lnTo>
                <a:lnTo>
                  <a:pt x="42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10506240" y="3932280"/>
            <a:ext cx="188640" cy="19692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0"/>
          <p:cNvSpPr/>
          <p:nvPr/>
        </p:nvSpPr>
        <p:spPr>
          <a:xfrm>
            <a:off x="8069400" y="5205240"/>
            <a:ext cx="1593720" cy="181080"/>
          </a:xfrm>
          <a:custGeom>
            <a:avLst/>
            <a:gdLst/>
            <a:ahLst/>
            <a:rect l="l" t="t" r="r" b="b"/>
            <a:pathLst>
              <a:path w="1628" h="184">
                <a:moveTo>
                  <a:pt x="815" y="0"/>
                </a:moveTo>
                <a:cubicBezTo>
                  <a:pt x="511" y="0"/>
                  <a:pt x="229" y="14"/>
                  <a:pt x="0" y="38"/>
                </a:cubicBezTo>
                <a:cubicBezTo>
                  <a:pt x="68" y="184"/>
                  <a:pt x="68" y="184"/>
                  <a:pt x="68" y="184"/>
                </a:cubicBezTo>
                <a:cubicBezTo>
                  <a:pt x="68" y="184"/>
                  <a:pt x="68" y="184"/>
                  <a:pt x="68" y="184"/>
                </a:cubicBezTo>
                <a:cubicBezTo>
                  <a:pt x="68" y="123"/>
                  <a:pt x="402" y="74"/>
                  <a:pt x="815" y="74"/>
                </a:cubicBezTo>
                <a:cubicBezTo>
                  <a:pt x="1228" y="74"/>
                  <a:pt x="1562" y="123"/>
                  <a:pt x="1562" y="184"/>
                </a:cubicBezTo>
                <a:cubicBezTo>
                  <a:pt x="1562" y="184"/>
                  <a:pt x="1562" y="184"/>
                  <a:pt x="1562" y="184"/>
                </a:cubicBezTo>
                <a:cubicBezTo>
                  <a:pt x="1628" y="38"/>
                  <a:pt x="1628" y="38"/>
                  <a:pt x="1628" y="38"/>
                </a:cubicBezTo>
                <a:cubicBezTo>
                  <a:pt x="1398" y="14"/>
                  <a:pt x="1118" y="0"/>
                  <a:pt x="815" y="0"/>
                </a:cubicBezTo>
              </a:path>
            </a:pathLst>
          </a:custGeom>
          <a:solidFill>
            <a:srgbClr val="696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1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5f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2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60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7" y="3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3"/>
          <p:cNvSpPr/>
          <p:nvPr/>
        </p:nvSpPr>
        <p:spPr>
          <a:xfrm>
            <a:off x="8001000" y="4611600"/>
            <a:ext cx="19224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60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7" y="3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6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7"/>
          <p:cNvSpPr/>
          <p:nvPr/>
        </p:nvSpPr>
        <p:spPr>
          <a:xfrm>
            <a:off x="9435960" y="429408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9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42" y="39"/>
                </a:lnTo>
                <a:lnTo>
                  <a:pt x="0" y="46"/>
                </a:lnTo>
                <a:lnTo>
                  <a:pt x="31" y="76"/>
                </a:lnTo>
                <a:lnTo>
                  <a:pt x="24" y="119"/>
                </a:lnTo>
                <a:lnTo>
                  <a:pt x="62" y="98"/>
                </a:lnTo>
                <a:lnTo>
                  <a:pt x="100" y="118"/>
                </a:lnTo>
                <a:lnTo>
                  <a:pt x="93" y="75"/>
                </a:lnTo>
                <a:lnTo>
                  <a:pt x="124" y="45"/>
                </a:lnTo>
                <a:lnTo>
                  <a:pt x="81" y="39"/>
                </a:lnTo>
                <a:lnTo>
                  <a:pt x="6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2"/>
          <p:cNvSpPr/>
          <p:nvPr/>
        </p:nvSpPr>
        <p:spPr>
          <a:xfrm>
            <a:off x="8974080" y="3441600"/>
            <a:ext cx="557280" cy="567000"/>
          </a:xfrm>
          <a:custGeom>
            <a:avLst/>
            <a:gdLst/>
            <a:ahLst/>
            <a:rect l="l" t="t" r="r" b="b"/>
            <a:pathLst>
              <a:path w="569" h="579">
                <a:moveTo>
                  <a:pt x="192" y="225"/>
                </a:moveTo>
                <a:cubicBezTo>
                  <a:pt x="191" y="234"/>
                  <a:pt x="195" y="241"/>
                  <a:pt x="201" y="249"/>
                </a:cubicBezTo>
                <a:cubicBezTo>
                  <a:pt x="208" y="256"/>
                  <a:pt x="217" y="262"/>
                  <a:pt x="228" y="268"/>
                </a:cubicBezTo>
                <a:cubicBezTo>
                  <a:pt x="239" y="273"/>
                  <a:pt x="251" y="279"/>
                  <a:pt x="265" y="283"/>
                </a:cubicBezTo>
                <a:cubicBezTo>
                  <a:pt x="279" y="288"/>
                  <a:pt x="292" y="292"/>
                  <a:pt x="305" y="295"/>
                </a:cubicBezTo>
                <a:cubicBezTo>
                  <a:pt x="318" y="299"/>
                  <a:pt x="331" y="302"/>
                  <a:pt x="342" y="304"/>
                </a:cubicBezTo>
                <a:cubicBezTo>
                  <a:pt x="353" y="306"/>
                  <a:pt x="361" y="308"/>
                  <a:pt x="367" y="310"/>
                </a:cubicBezTo>
                <a:cubicBezTo>
                  <a:pt x="381" y="313"/>
                  <a:pt x="398" y="317"/>
                  <a:pt x="420" y="323"/>
                </a:cubicBezTo>
                <a:cubicBezTo>
                  <a:pt x="441" y="328"/>
                  <a:pt x="462" y="336"/>
                  <a:pt x="483" y="345"/>
                </a:cubicBezTo>
                <a:cubicBezTo>
                  <a:pt x="504" y="353"/>
                  <a:pt x="522" y="364"/>
                  <a:pt x="536" y="377"/>
                </a:cubicBezTo>
                <a:cubicBezTo>
                  <a:pt x="551" y="389"/>
                  <a:pt x="558" y="404"/>
                  <a:pt x="557" y="421"/>
                </a:cubicBezTo>
                <a:cubicBezTo>
                  <a:pt x="555" y="438"/>
                  <a:pt x="548" y="451"/>
                  <a:pt x="533" y="463"/>
                </a:cubicBezTo>
                <a:cubicBezTo>
                  <a:pt x="518" y="474"/>
                  <a:pt x="501" y="483"/>
                  <a:pt x="482" y="489"/>
                </a:cubicBezTo>
                <a:cubicBezTo>
                  <a:pt x="462" y="496"/>
                  <a:pt x="442" y="501"/>
                  <a:pt x="422" y="504"/>
                </a:cubicBezTo>
                <a:cubicBezTo>
                  <a:pt x="402" y="507"/>
                  <a:pt x="386" y="509"/>
                  <a:pt x="374" y="509"/>
                </a:cubicBezTo>
                <a:cubicBezTo>
                  <a:pt x="373" y="512"/>
                  <a:pt x="373" y="517"/>
                  <a:pt x="373" y="524"/>
                </a:cubicBezTo>
                <a:cubicBezTo>
                  <a:pt x="374" y="530"/>
                  <a:pt x="374" y="538"/>
                  <a:pt x="374" y="545"/>
                </a:cubicBezTo>
                <a:cubicBezTo>
                  <a:pt x="375" y="553"/>
                  <a:pt x="375" y="560"/>
                  <a:pt x="376" y="566"/>
                </a:cubicBezTo>
                <a:cubicBezTo>
                  <a:pt x="377" y="573"/>
                  <a:pt x="379" y="577"/>
                  <a:pt x="381" y="579"/>
                </a:cubicBezTo>
                <a:cubicBezTo>
                  <a:pt x="218" y="568"/>
                  <a:pt x="218" y="568"/>
                  <a:pt x="218" y="568"/>
                </a:cubicBezTo>
                <a:cubicBezTo>
                  <a:pt x="220" y="565"/>
                  <a:pt x="222" y="561"/>
                  <a:pt x="224" y="555"/>
                </a:cubicBezTo>
                <a:cubicBezTo>
                  <a:pt x="226" y="549"/>
                  <a:pt x="228" y="543"/>
                  <a:pt x="230" y="535"/>
                </a:cubicBezTo>
                <a:cubicBezTo>
                  <a:pt x="231" y="528"/>
                  <a:pt x="233" y="521"/>
                  <a:pt x="235" y="515"/>
                </a:cubicBezTo>
                <a:cubicBezTo>
                  <a:pt x="236" y="508"/>
                  <a:pt x="237" y="503"/>
                  <a:pt x="238" y="500"/>
                </a:cubicBezTo>
                <a:cubicBezTo>
                  <a:pt x="186" y="492"/>
                  <a:pt x="137" y="478"/>
                  <a:pt x="88" y="459"/>
                </a:cubicBezTo>
                <a:cubicBezTo>
                  <a:pt x="84" y="458"/>
                  <a:pt x="77" y="455"/>
                  <a:pt x="69" y="451"/>
                </a:cubicBezTo>
                <a:cubicBezTo>
                  <a:pt x="61" y="447"/>
                  <a:pt x="52" y="443"/>
                  <a:pt x="43" y="439"/>
                </a:cubicBezTo>
                <a:cubicBezTo>
                  <a:pt x="34" y="435"/>
                  <a:pt x="26" y="431"/>
                  <a:pt x="18" y="427"/>
                </a:cubicBezTo>
                <a:cubicBezTo>
                  <a:pt x="10" y="424"/>
                  <a:pt x="4" y="422"/>
                  <a:pt x="0" y="422"/>
                </a:cubicBezTo>
                <a:cubicBezTo>
                  <a:pt x="2" y="422"/>
                  <a:pt x="6" y="419"/>
                  <a:pt x="14" y="413"/>
                </a:cubicBezTo>
                <a:cubicBezTo>
                  <a:pt x="22" y="407"/>
                  <a:pt x="30" y="401"/>
                  <a:pt x="39" y="395"/>
                </a:cubicBezTo>
                <a:cubicBezTo>
                  <a:pt x="47" y="389"/>
                  <a:pt x="55" y="383"/>
                  <a:pt x="63" y="377"/>
                </a:cubicBezTo>
                <a:cubicBezTo>
                  <a:pt x="70" y="371"/>
                  <a:pt x="74" y="368"/>
                  <a:pt x="75" y="366"/>
                </a:cubicBezTo>
                <a:cubicBezTo>
                  <a:pt x="106" y="389"/>
                  <a:pt x="140" y="406"/>
                  <a:pt x="177" y="419"/>
                </a:cubicBezTo>
                <a:cubicBezTo>
                  <a:pt x="215" y="431"/>
                  <a:pt x="253" y="438"/>
                  <a:pt x="290" y="441"/>
                </a:cubicBezTo>
                <a:cubicBezTo>
                  <a:pt x="294" y="441"/>
                  <a:pt x="302" y="441"/>
                  <a:pt x="315" y="442"/>
                </a:cubicBezTo>
                <a:cubicBezTo>
                  <a:pt x="327" y="442"/>
                  <a:pt x="340" y="441"/>
                  <a:pt x="354" y="440"/>
                </a:cubicBezTo>
                <a:cubicBezTo>
                  <a:pt x="367" y="438"/>
                  <a:pt x="379" y="436"/>
                  <a:pt x="390" y="433"/>
                </a:cubicBezTo>
                <a:cubicBezTo>
                  <a:pt x="401" y="430"/>
                  <a:pt x="407" y="426"/>
                  <a:pt x="407" y="419"/>
                </a:cubicBezTo>
                <a:cubicBezTo>
                  <a:pt x="408" y="410"/>
                  <a:pt x="400" y="403"/>
                  <a:pt x="383" y="397"/>
                </a:cubicBezTo>
                <a:cubicBezTo>
                  <a:pt x="366" y="390"/>
                  <a:pt x="345" y="384"/>
                  <a:pt x="319" y="377"/>
                </a:cubicBezTo>
                <a:cubicBezTo>
                  <a:pt x="294" y="370"/>
                  <a:pt x="266" y="363"/>
                  <a:pt x="236" y="355"/>
                </a:cubicBezTo>
                <a:cubicBezTo>
                  <a:pt x="206" y="347"/>
                  <a:pt x="178" y="337"/>
                  <a:pt x="153" y="326"/>
                </a:cubicBezTo>
                <a:cubicBezTo>
                  <a:pt x="128" y="315"/>
                  <a:pt x="107" y="302"/>
                  <a:pt x="91" y="287"/>
                </a:cubicBezTo>
                <a:cubicBezTo>
                  <a:pt x="75" y="271"/>
                  <a:pt x="67" y="253"/>
                  <a:pt x="69" y="232"/>
                </a:cubicBezTo>
                <a:cubicBezTo>
                  <a:pt x="71" y="206"/>
                  <a:pt x="79" y="184"/>
                  <a:pt x="94" y="165"/>
                </a:cubicBezTo>
                <a:cubicBezTo>
                  <a:pt x="108" y="147"/>
                  <a:pt x="126" y="132"/>
                  <a:pt x="147" y="120"/>
                </a:cubicBezTo>
                <a:cubicBezTo>
                  <a:pt x="168" y="107"/>
                  <a:pt x="191" y="98"/>
                  <a:pt x="216" y="91"/>
                </a:cubicBezTo>
                <a:cubicBezTo>
                  <a:pt x="240" y="84"/>
                  <a:pt x="263" y="80"/>
                  <a:pt x="285" y="77"/>
                </a:cubicBezTo>
                <a:cubicBezTo>
                  <a:pt x="285" y="74"/>
                  <a:pt x="285" y="68"/>
                  <a:pt x="285" y="60"/>
                </a:cubicBezTo>
                <a:cubicBezTo>
                  <a:pt x="285" y="52"/>
                  <a:pt x="285" y="44"/>
                  <a:pt x="285" y="36"/>
                </a:cubicBezTo>
                <a:cubicBezTo>
                  <a:pt x="284" y="28"/>
                  <a:pt x="283" y="20"/>
                  <a:pt x="281" y="13"/>
                </a:cubicBezTo>
                <a:cubicBezTo>
                  <a:pt x="279" y="6"/>
                  <a:pt x="277" y="1"/>
                  <a:pt x="273" y="0"/>
                </a:cubicBezTo>
                <a:cubicBezTo>
                  <a:pt x="435" y="13"/>
                  <a:pt x="435" y="13"/>
                  <a:pt x="435" y="13"/>
                </a:cubicBezTo>
                <a:cubicBezTo>
                  <a:pt x="432" y="14"/>
                  <a:pt x="429" y="17"/>
                  <a:pt x="426" y="23"/>
                </a:cubicBezTo>
                <a:cubicBezTo>
                  <a:pt x="423" y="29"/>
                  <a:pt x="421" y="35"/>
                  <a:pt x="418" y="42"/>
                </a:cubicBezTo>
                <a:cubicBezTo>
                  <a:pt x="416" y="49"/>
                  <a:pt x="414" y="56"/>
                  <a:pt x="413" y="63"/>
                </a:cubicBezTo>
                <a:cubicBezTo>
                  <a:pt x="411" y="70"/>
                  <a:pt x="411" y="75"/>
                  <a:pt x="410" y="77"/>
                </a:cubicBezTo>
                <a:cubicBezTo>
                  <a:pt x="431" y="80"/>
                  <a:pt x="451" y="84"/>
                  <a:pt x="471" y="89"/>
                </a:cubicBezTo>
                <a:cubicBezTo>
                  <a:pt x="491" y="95"/>
                  <a:pt x="508" y="103"/>
                  <a:pt x="523" y="113"/>
                </a:cubicBezTo>
                <a:cubicBezTo>
                  <a:pt x="538" y="123"/>
                  <a:pt x="549" y="136"/>
                  <a:pt x="558" y="152"/>
                </a:cubicBezTo>
                <a:cubicBezTo>
                  <a:pt x="566" y="169"/>
                  <a:pt x="569" y="189"/>
                  <a:pt x="568" y="213"/>
                </a:cubicBezTo>
                <a:cubicBezTo>
                  <a:pt x="567" y="226"/>
                  <a:pt x="565" y="239"/>
                  <a:pt x="562" y="251"/>
                </a:cubicBezTo>
                <a:cubicBezTo>
                  <a:pt x="559" y="264"/>
                  <a:pt x="555" y="276"/>
                  <a:pt x="551" y="288"/>
                </a:cubicBezTo>
                <a:cubicBezTo>
                  <a:pt x="429" y="279"/>
                  <a:pt x="429" y="279"/>
                  <a:pt x="429" y="279"/>
                </a:cubicBezTo>
                <a:cubicBezTo>
                  <a:pt x="433" y="270"/>
                  <a:pt x="437" y="261"/>
                  <a:pt x="440" y="252"/>
                </a:cubicBezTo>
                <a:cubicBezTo>
                  <a:pt x="443" y="242"/>
                  <a:pt x="445" y="232"/>
                  <a:pt x="446" y="222"/>
                </a:cubicBezTo>
                <a:cubicBezTo>
                  <a:pt x="448" y="197"/>
                  <a:pt x="442" y="179"/>
                  <a:pt x="427" y="168"/>
                </a:cubicBezTo>
                <a:cubicBezTo>
                  <a:pt x="413" y="158"/>
                  <a:pt x="395" y="151"/>
                  <a:pt x="371" y="150"/>
                </a:cubicBezTo>
                <a:cubicBezTo>
                  <a:pt x="359" y="149"/>
                  <a:pt x="342" y="149"/>
                  <a:pt x="322" y="150"/>
                </a:cubicBezTo>
                <a:cubicBezTo>
                  <a:pt x="302" y="152"/>
                  <a:pt x="283" y="155"/>
                  <a:pt x="264" y="160"/>
                </a:cubicBezTo>
                <a:cubicBezTo>
                  <a:pt x="246" y="165"/>
                  <a:pt x="229" y="173"/>
                  <a:pt x="215" y="184"/>
                </a:cubicBezTo>
                <a:cubicBezTo>
                  <a:pt x="201" y="194"/>
                  <a:pt x="193" y="208"/>
                  <a:pt x="192" y="2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8196120" y="3981600"/>
            <a:ext cx="646200" cy="703080"/>
          </a:xfrm>
          <a:custGeom>
            <a:avLst/>
            <a:gdLst/>
            <a:ahLst/>
            <a:rect l="l" t="t" r="r" b="b"/>
            <a:pathLst>
              <a:path w="660" h="719">
                <a:moveTo>
                  <a:pt x="169" y="322"/>
                </a:moveTo>
                <a:cubicBezTo>
                  <a:pt x="170" y="332"/>
                  <a:pt x="176" y="341"/>
                  <a:pt x="186" y="347"/>
                </a:cubicBezTo>
                <a:cubicBezTo>
                  <a:pt x="197" y="354"/>
                  <a:pt x="209" y="359"/>
                  <a:pt x="224" y="362"/>
                </a:cubicBezTo>
                <a:cubicBezTo>
                  <a:pt x="238" y="366"/>
                  <a:pt x="254" y="368"/>
                  <a:pt x="272" y="369"/>
                </a:cubicBezTo>
                <a:cubicBezTo>
                  <a:pt x="289" y="371"/>
                  <a:pt x="306" y="372"/>
                  <a:pt x="323" y="372"/>
                </a:cubicBezTo>
                <a:cubicBezTo>
                  <a:pt x="340" y="372"/>
                  <a:pt x="355" y="372"/>
                  <a:pt x="369" y="371"/>
                </a:cubicBezTo>
                <a:cubicBezTo>
                  <a:pt x="382" y="371"/>
                  <a:pt x="393" y="370"/>
                  <a:pt x="401" y="371"/>
                </a:cubicBezTo>
                <a:cubicBezTo>
                  <a:pt x="417" y="370"/>
                  <a:pt x="439" y="370"/>
                  <a:pt x="466" y="371"/>
                </a:cubicBezTo>
                <a:cubicBezTo>
                  <a:pt x="493" y="371"/>
                  <a:pt x="520" y="373"/>
                  <a:pt x="548" y="378"/>
                </a:cubicBezTo>
                <a:cubicBezTo>
                  <a:pt x="575" y="382"/>
                  <a:pt x="599" y="390"/>
                  <a:pt x="620" y="400"/>
                </a:cubicBezTo>
                <a:cubicBezTo>
                  <a:pt x="641" y="411"/>
                  <a:pt x="653" y="426"/>
                  <a:pt x="657" y="447"/>
                </a:cubicBezTo>
                <a:cubicBezTo>
                  <a:pt x="660" y="466"/>
                  <a:pt x="655" y="485"/>
                  <a:pt x="641" y="503"/>
                </a:cubicBezTo>
                <a:cubicBezTo>
                  <a:pt x="627" y="520"/>
                  <a:pt x="610" y="536"/>
                  <a:pt x="588" y="549"/>
                </a:cubicBezTo>
                <a:cubicBezTo>
                  <a:pt x="567" y="563"/>
                  <a:pt x="545" y="574"/>
                  <a:pt x="522" y="584"/>
                </a:cubicBezTo>
                <a:cubicBezTo>
                  <a:pt x="499" y="593"/>
                  <a:pt x="481" y="600"/>
                  <a:pt x="466" y="604"/>
                </a:cubicBezTo>
                <a:cubicBezTo>
                  <a:pt x="467" y="608"/>
                  <a:pt x="468" y="614"/>
                  <a:pt x="471" y="622"/>
                </a:cubicBezTo>
                <a:cubicBezTo>
                  <a:pt x="473" y="630"/>
                  <a:pt x="475" y="638"/>
                  <a:pt x="478" y="647"/>
                </a:cubicBezTo>
                <a:cubicBezTo>
                  <a:pt x="480" y="656"/>
                  <a:pt x="483" y="664"/>
                  <a:pt x="487" y="671"/>
                </a:cubicBezTo>
                <a:cubicBezTo>
                  <a:pt x="490" y="679"/>
                  <a:pt x="493" y="683"/>
                  <a:pt x="496" y="685"/>
                </a:cubicBezTo>
                <a:cubicBezTo>
                  <a:pt x="300" y="719"/>
                  <a:pt x="300" y="719"/>
                  <a:pt x="300" y="719"/>
                </a:cubicBezTo>
                <a:cubicBezTo>
                  <a:pt x="302" y="716"/>
                  <a:pt x="303" y="710"/>
                  <a:pt x="303" y="703"/>
                </a:cubicBezTo>
                <a:cubicBezTo>
                  <a:pt x="304" y="695"/>
                  <a:pt x="304" y="687"/>
                  <a:pt x="304" y="678"/>
                </a:cubicBezTo>
                <a:cubicBezTo>
                  <a:pt x="304" y="669"/>
                  <a:pt x="304" y="660"/>
                  <a:pt x="304" y="652"/>
                </a:cubicBezTo>
                <a:cubicBezTo>
                  <a:pt x="304" y="644"/>
                  <a:pt x="304" y="638"/>
                  <a:pt x="303" y="634"/>
                </a:cubicBezTo>
                <a:cubicBezTo>
                  <a:pt x="240" y="639"/>
                  <a:pt x="177" y="638"/>
                  <a:pt x="115" y="630"/>
                </a:cubicBezTo>
                <a:cubicBezTo>
                  <a:pt x="109" y="629"/>
                  <a:pt x="100" y="628"/>
                  <a:pt x="89" y="626"/>
                </a:cubicBezTo>
                <a:cubicBezTo>
                  <a:pt x="78" y="623"/>
                  <a:pt x="67" y="621"/>
                  <a:pt x="55" y="619"/>
                </a:cubicBezTo>
                <a:cubicBezTo>
                  <a:pt x="44" y="616"/>
                  <a:pt x="33" y="614"/>
                  <a:pt x="22" y="612"/>
                </a:cubicBezTo>
                <a:cubicBezTo>
                  <a:pt x="12" y="611"/>
                  <a:pt x="4" y="611"/>
                  <a:pt x="0" y="611"/>
                </a:cubicBezTo>
                <a:cubicBezTo>
                  <a:pt x="1" y="610"/>
                  <a:pt x="6" y="605"/>
                  <a:pt x="13" y="597"/>
                </a:cubicBezTo>
                <a:cubicBezTo>
                  <a:pt x="21" y="588"/>
                  <a:pt x="29" y="578"/>
                  <a:pt x="37" y="568"/>
                </a:cubicBezTo>
                <a:cubicBezTo>
                  <a:pt x="45" y="558"/>
                  <a:pt x="53" y="549"/>
                  <a:pt x="60" y="540"/>
                </a:cubicBezTo>
                <a:cubicBezTo>
                  <a:pt x="67" y="531"/>
                  <a:pt x="71" y="525"/>
                  <a:pt x="71" y="523"/>
                </a:cubicBezTo>
                <a:cubicBezTo>
                  <a:pt x="115" y="541"/>
                  <a:pt x="160" y="552"/>
                  <a:pt x="208" y="555"/>
                </a:cubicBezTo>
                <a:cubicBezTo>
                  <a:pt x="256" y="558"/>
                  <a:pt x="303" y="556"/>
                  <a:pt x="348" y="548"/>
                </a:cubicBezTo>
                <a:cubicBezTo>
                  <a:pt x="352" y="547"/>
                  <a:pt x="362" y="545"/>
                  <a:pt x="377" y="542"/>
                </a:cubicBezTo>
                <a:cubicBezTo>
                  <a:pt x="392" y="539"/>
                  <a:pt x="407" y="534"/>
                  <a:pt x="423" y="528"/>
                </a:cubicBezTo>
                <a:cubicBezTo>
                  <a:pt x="438" y="523"/>
                  <a:pt x="452" y="516"/>
                  <a:pt x="464" y="510"/>
                </a:cubicBezTo>
                <a:cubicBezTo>
                  <a:pt x="476" y="503"/>
                  <a:pt x="481" y="496"/>
                  <a:pt x="480" y="488"/>
                </a:cubicBezTo>
                <a:cubicBezTo>
                  <a:pt x="478" y="478"/>
                  <a:pt x="466" y="471"/>
                  <a:pt x="444" y="469"/>
                </a:cubicBezTo>
                <a:cubicBezTo>
                  <a:pt x="422" y="466"/>
                  <a:pt x="395" y="465"/>
                  <a:pt x="363" y="464"/>
                </a:cubicBezTo>
                <a:cubicBezTo>
                  <a:pt x="331" y="464"/>
                  <a:pt x="296" y="463"/>
                  <a:pt x="259" y="463"/>
                </a:cubicBezTo>
                <a:cubicBezTo>
                  <a:pt x="221" y="462"/>
                  <a:pt x="185" y="459"/>
                  <a:pt x="152" y="453"/>
                </a:cubicBezTo>
                <a:cubicBezTo>
                  <a:pt x="119" y="447"/>
                  <a:pt x="91" y="438"/>
                  <a:pt x="67" y="424"/>
                </a:cubicBezTo>
                <a:cubicBezTo>
                  <a:pt x="43" y="411"/>
                  <a:pt x="29" y="392"/>
                  <a:pt x="25" y="366"/>
                </a:cubicBezTo>
                <a:cubicBezTo>
                  <a:pt x="19" y="335"/>
                  <a:pt x="23" y="306"/>
                  <a:pt x="35" y="280"/>
                </a:cubicBezTo>
                <a:cubicBezTo>
                  <a:pt x="47" y="255"/>
                  <a:pt x="63" y="231"/>
                  <a:pt x="85" y="211"/>
                </a:cubicBezTo>
                <a:cubicBezTo>
                  <a:pt x="106" y="190"/>
                  <a:pt x="130" y="172"/>
                  <a:pt x="157" y="157"/>
                </a:cubicBezTo>
                <a:cubicBezTo>
                  <a:pt x="184" y="142"/>
                  <a:pt x="210" y="129"/>
                  <a:pt x="235" y="120"/>
                </a:cubicBezTo>
                <a:cubicBezTo>
                  <a:pt x="234" y="116"/>
                  <a:pt x="233" y="109"/>
                  <a:pt x="230" y="100"/>
                </a:cubicBezTo>
                <a:cubicBezTo>
                  <a:pt x="228" y="91"/>
                  <a:pt x="225" y="81"/>
                  <a:pt x="222" y="71"/>
                </a:cubicBezTo>
                <a:cubicBezTo>
                  <a:pt x="220" y="62"/>
                  <a:pt x="216" y="53"/>
                  <a:pt x="212" y="45"/>
                </a:cubicBezTo>
                <a:cubicBezTo>
                  <a:pt x="207" y="37"/>
                  <a:pt x="203" y="33"/>
                  <a:pt x="198" y="32"/>
                </a:cubicBezTo>
                <a:cubicBezTo>
                  <a:pt x="394" y="0"/>
                  <a:pt x="394" y="0"/>
                  <a:pt x="394" y="0"/>
                </a:cubicBezTo>
                <a:cubicBezTo>
                  <a:pt x="390" y="2"/>
                  <a:pt x="387" y="6"/>
                  <a:pt x="386" y="14"/>
                </a:cubicBezTo>
                <a:cubicBezTo>
                  <a:pt x="384" y="22"/>
                  <a:pt x="383" y="30"/>
                  <a:pt x="382" y="40"/>
                </a:cubicBezTo>
                <a:cubicBezTo>
                  <a:pt x="382" y="49"/>
                  <a:pt x="381" y="58"/>
                  <a:pt x="382" y="66"/>
                </a:cubicBezTo>
                <a:cubicBezTo>
                  <a:pt x="382" y="75"/>
                  <a:pt x="383" y="81"/>
                  <a:pt x="383" y="83"/>
                </a:cubicBezTo>
                <a:cubicBezTo>
                  <a:pt x="408" y="81"/>
                  <a:pt x="433" y="79"/>
                  <a:pt x="458" y="80"/>
                </a:cubicBezTo>
                <a:cubicBezTo>
                  <a:pt x="483" y="80"/>
                  <a:pt x="506" y="85"/>
                  <a:pt x="526" y="92"/>
                </a:cubicBezTo>
                <a:cubicBezTo>
                  <a:pt x="547" y="100"/>
                  <a:pt x="565" y="112"/>
                  <a:pt x="579" y="129"/>
                </a:cubicBezTo>
                <a:cubicBezTo>
                  <a:pt x="594" y="145"/>
                  <a:pt x="604" y="168"/>
                  <a:pt x="609" y="198"/>
                </a:cubicBezTo>
                <a:cubicBezTo>
                  <a:pt x="611" y="213"/>
                  <a:pt x="613" y="229"/>
                  <a:pt x="613" y="244"/>
                </a:cubicBezTo>
                <a:cubicBezTo>
                  <a:pt x="613" y="260"/>
                  <a:pt x="613" y="276"/>
                  <a:pt x="611" y="291"/>
                </a:cubicBezTo>
                <a:cubicBezTo>
                  <a:pt x="465" y="317"/>
                  <a:pt x="465" y="317"/>
                  <a:pt x="465" y="317"/>
                </a:cubicBezTo>
                <a:cubicBezTo>
                  <a:pt x="467" y="305"/>
                  <a:pt x="469" y="293"/>
                  <a:pt x="470" y="281"/>
                </a:cubicBezTo>
                <a:cubicBezTo>
                  <a:pt x="471" y="268"/>
                  <a:pt x="470" y="256"/>
                  <a:pt x="468" y="244"/>
                </a:cubicBezTo>
                <a:cubicBezTo>
                  <a:pt x="462" y="214"/>
                  <a:pt x="450" y="195"/>
                  <a:pt x="430" y="186"/>
                </a:cubicBezTo>
                <a:cubicBezTo>
                  <a:pt x="410" y="177"/>
                  <a:pt x="386" y="176"/>
                  <a:pt x="358" y="180"/>
                </a:cubicBezTo>
                <a:cubicBezTo>
                  <a:pt x="343" y="183"/>
                  <a:pt x="324" y="188"/>
                  <a:pt x="301" y="196"/>
                </a:cubicBezTo>
                <a:cubicBezTo>
                  <a:pt x="277" y="203"/>
                  <a:pt x="256" y="213"/>
                  <a:pt x="235" y="224"/>
                </a:cubicBezTo>
                <a:cubicBezTo>
                  <a:pt x="214" y="236"/>
                  <a:pt x="197" y="250"/>
                  <a:pt x="184" y="266"/>
                </a:cubicBezTo>
                <a:cubicBezTo>
                  <a:pt x="170" y="283"/>
                  <a:pt x="165" y="302"/>
                  <a:pt x="169" y="3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8889840" y="5438880"/>
            <a:ext cx="168480" cy="54000"/>
          </a:xfrm>
          <a:custGeom>
            <a:avLst/>
            <a:gdLst/>
            <a:ahLst/>
            <a:rect l="l" t="t" r="r" b="b"/>
            <a:pathLst>
              <a:path w="171" h="56">
                <a:moveTo>
                  <a:pt x="136" y="43"/>
                </a:moveTo>
                <a:cubicBezTo>
                  <a:pt x="107" y="32"/>
                  <a:pt x="81" y="18"/>
                  <a:pt x="58" y="0"/>
                </a:cubicBezTo>
                <a:cubicBezTo>
                  <a:pt x="58" y="1"/>
                  <a:pt x="54" y="4"/>
                  <a:pt x="49" y="8"/>
                </a:cubicBezTo>
                <a:cubicBezTo>
                  <a:pt x="43" y="12"/>
                  <a:pt x="36" y="17"/>
                  <a:pt x="29" y="21"/>
                </a:cubicBezTo>
                <a:cubicBezTo>
                  <a:pt x="23" y="26"/>
                  <a:pt x="16" y="30"/>
                  <a:pt x="10" y="34"/>
                </a:cubicBezTo>
                <a:cubicBezTo>
                  <a:pt x="4" y="39"/>
                  <a:pt x="1" y="41"/>
                  <a:pt x="0" y="41"/>
                </a:cubicBezTo>
                <a:cubicBezTo>
                  <a:pt x="2" y="41"/>
                  <a:pt x="7" y="43"/>
                  <a:pt x="13" y="46"/>
                </a:cubicBezTo>
                <a:cubicBezTo>
                  <a:pt x="19" y="48"/>
                  <a:pt x="25" y="52"/>
                  <a:pt x="32" y="55"/>
                </a:cubicBezTo>
                <a:cubicBezTo>
                  <a:pt x="33" y="56"/>
                  <a:pt x="34" y="56"/>
                  <a:pt x="35" y="56"/>
                </a:cubicBezTo>
                <a:cubicBezTo>
                  <a:pt x="81" y="56"/>
                  <a:pt x="127" y="55"/>
                  <a:pt x="171" y="53"/>
                </a:cubicBezTo>
                <a:cubicBezTo>
                  <a:pt x="159" y="50"/>
                  <a:pt x="148" y="47"/>
                  <a:pt x="136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8943840" y="5167440"/>
            <a:ext cx="381240" cy="315720"/>
          </a:xfrm>
          <a:custGeom>
            <a:avLst/>
            <a:gdLst/>
            <a:ahLst/>
            <a:rect l="l" t="t" r="r" b="b"/>
            <a:pathLst>
              <a:path w="388" h="323">
                <a:moveTo>
                  <a:pt x="318" y="270"/>
                </a:moveTo>
                <a:cubicBezTo>
                  <a:pt x="302" y="262"/>
                  <a:pt x="286" y="256"/>
                  <a:pt x="269" y="251"/>
                </a:cubicBezTo>
                <a:cubicBezTo>
                  <a:pt x="253" y="246"/>
                  <a:pt x="240" y="243"/>
                  <a:pt x="229" y="240"/>
                </a:cubicBezTo>
                <a:cubicBezTo>
                  <a:pt x="225" y="239"/>
                  <a:pt x="218" y="237"/>
                  <a:pt x="210" y="235"/>
                </a:cubicBezTo>
                <a:cubicBezTo>
                  <a:pt x="201" y="233"/>
                  <a:pt x="192" y="231"/>
                  <a:pt x="182" y="228"/>
                </a:cubicBezTo>
                <a:cubicBezTo>
                  <a:pt x="172" y="225"/>
                  <a:pt x="162" y="221"/>
                  <a:pt x="151" y="217"/>
                </a:cubicBezTo>
                <a:cubicBezTo>
                  <a:pt x="141" y="214"/>
                  <a:pt x="131" y="209"/>
                  <a:pt x="123" y="205"/>
                </a:cubicBezTo>
                <a:cubicBezTo>
                  <a:pt x="115" y="200"/>
                  <a:pt x="108" y="195"/>
                  <a:pt x="103" y="189"/>
                </a:cubicBezTo>
                <a:cubicBezTo>
                  <a:pt x="98" y="184"/>
                  <a:pt x="96" y="177"/>
                  <a:pt x="97" y="171"/>
                </a:cubicBezTo>
                <a:cubicBezTo>
                  <a:pt x="98" y="158"/>
                  <a:pt x="104" y="147"/>
                  <a:pt x="115" y="140"/>
                </a:cubicBezTo>
                <a:cubicBezTo>
                  <a:pt x="126" y="132"/>
                  <a:pt x="139" y="126"/>
                  <a:pt x="154" y="123"/>
                </a:cubicBezTo>
                <a:cubicBezTo>
                  <a:pt x="168" y="119"/>
                  <a:pt x="183" y="117"/>
                  <a:pt x="198" y="117"/>
                </a:cubicBezTo>
                <a:cubicBezTo>
                  <a:pt x="214" y="116"/>
                  <a:pt x="226" y="116"/>
                  <a:pt x="236" y="117"/>
                </a:cubicBezTo>
                <a:cubicBezTo>
                  <a:pt x="254" y="119"/>
                  <a:pt x="268" y="124"/>
                  <a:pt x="279" y="133"/>
                </a:cubicBezTo>
                <a:cubicBezTo>
                  <a:pt x="290" y="141"/>
                  <a:pt x="294" y="155"/>
                  <a:pt x="292" y="174"/>
                </a:cubicBezTo>
                <a:cubicBezTo>
                  <a:pt x="291" y="182"/>
                  <a:pt x="289" y="190"/>
                  <a:pt x="287" y="197"/>
                </a:cubicBezTo>
                <a:cubicBezTo>
                  <a:pt x="284" y="204"/>
                  <a:pt x="281" y="211"/>
                  <a:pt x="278" y="218"/>
                </a:cubicBezTo>
                <a:cubicBezTo>
                  <a:pt x="371" y="228"/>
                  <a:pt x="371" y="228"/>
                  <a:pt x="371" y="228"/>
                </a:cubicBezTo>
                <a:cubicBezTo>
                  <a:pt x="375" y="219"/>
                  <a:pt x="378" y="209"/>
                  <a:pt x="380" y="200"/>
                </a:cubicBezTo>
                <a:cubicBezTo>
                  <a:pt x="383" y="190"/>
                  <a:pt x="385" y="180"/>
                  <a:pt x="386" y="170"/>
                </a:cubicBezTo>
                <a:cubicBezTo>
                  <a:pt x="388" y="152"/>
                  <a:pt x="385" y="136"/>
                  <a:pt x="379" y="123"/>
                </a:cubicBezTo>
                <a:cubicBezTo>
                  <a:pt x="373" y="111"/>
                  <a:pt x="365" y="100"/>
                  <a:pt x="354" y="92"/>
                </a:cubicBezTo>
                <a:cubicBezTo>
                  <a:pt x="342" y="84"/>
                  <a:pt x="329" y="78"/>
                  <a:pt x="314" y="73"/>
                </a:cubicBezTo>
                <a:cubicBezTo>
                  <a:pt x="299" y="68"/>
                  <a:pt x="284" y="65"/>
                  <a:pt x="268" y="62"/>
                </a:cubicBezTo>
                <a:cubicBezTo>
                  <a:pt x="268" y="61"/>
                  <a:pt x="269" y="57"/>
                  <a:pt x="270" y="52"/>
                </a:cubicBezTo>
                <a:cubicBezTo>
                  <a:pt x="271" y="46"/>
                  <a:pt x="273" y="41"/>
                  <a:pt x="275" y="36"/>
                </a:cubicBezTo>
                <a:cubicBezTo>
                  <a:pt x="277" y="30"/>
                  <a:pt x="279" y="25"/>
                  <a:pt x="281" y="21"/>
                </a:cubicBezTo>
                <a:cubicBezTo>
                  <a:pt x="284" y="16"/>
                  <a:pt x="286" y="14"/>
                  <a:pt x="288" y="14"/>
                </a:cubicBezTo>
                <a:cubicBezTo>
                  <a:pt x="164" y="0"/>
                  <a:pt x="164" y="0"/>
                  <a:pt x="164" y="0"/>
                </a:cubicBezTo>
                <a:cubicBezTo>
                  <a:pt x="167" y="1"/>
                  <a:pt x="169" y="4"/>
                  <a:pt x="170" y="10"/>
                </a:cubicBezTo>
                <a:cubicBezTo>
                  <a:pt x="171" y="15"/>
                  <a:pt x="172" y="21"/>
                  <a:pt x="172" y="28"/>
                </a:cubicBezTo>
                <a:cubicBezTo>
                  <a:pt x="172" y="34"/>
                  <a:pt x="172" y="40"/>
                  <a:pt x="172" y="46"/>
                </a:cubicBezTo>
                <a:cubicBezTo>
                  <a:pt x="172" y="52"/>
                  <a:pt x="172" y="57"/>
                  <a:pt x="171" y="59"/>
                </a:cubicBezTo>
                <a:cubicBezTo>
                  <a:pt x="155" y="61"/>
                  <a:pt x="137" y="64"/>
                  <a:pt x="118" y="68"/>
                </a:cubicBezTo>
                <a:cubicBezTo>
                  <a:pt x="99" y="73"/>
                  <a:pt x="81" y="80"/>
                  <a:pt x="65" y="89"/>
                </a:cubicBezTo>
                <a:cubicBezTo>
                  <a:pt x="48" y="98"/>
                  <a:pt x="34" y="109"/>
                  <a:pt x="22" y="123"/>
                </a:cubicBezTo>
                <a:cubicBezTo>
                  <a:pt x="10" y="136"/>
                  <a:pt x="4" y="153"/>
                  <a:pt x="2" y="173"/>
                </a:cubicBezTo>
                <a:cubicBezTo>
                  <a:pt x="0" y="190"/>
                  <a:pt x="5" y="204"/>
                  <a:pt x="17" y="216"/>
                </a:cubicBezTo>
                <a:cubicBezTo>
                  <a:pt x="30" y="228"/>
                  <a:pt x="45" y="239"/>
                  <a:pt x="64" y="248"/>
                </a:cubicBezTo>
                <a:cubicBezTo>
                  <a:pt x="83" y="257"/>
                  <a:pt x="104" y="265"/>
                  <a:pt x="127" y="272"/>
                </a:cubicBezTo>
                <a:cubicBezTo>
                  <a:pt x="150" y="279"/>
                  <a:pt x="171" y="285"/>
                  <a:pt x="191" y="291"/>
                </a:cubicBezTo>
                <a:cubicBezTo>
                  <a:pt x="210" y="296"/>
                  <a:pt x="226" y="302"/>
                  <a:pt x="239" y="307"/>
                </a:cubicBezTo>
                <a:cubicBezTo>
                  <a:pt x="251" y="312"/>
                  <a:pt x="257" y="317"/>
                  <a:pt x="258" y="323"/>
                </a:cubicBezTo>
                <a:cubicBezTo>
                  <a:pt x="297" y="320"/>
                  <a:pt x="335" y="317"/>
                  <a:pt x="370" y="313"/>
                </a:cubicBezTo>
                <a:cubicBezTo>
                  <a:pt x="368" y="307"/>
                  <a:pt x="364" y="301"/>
                  <a:pt x="358" y="296"/>
                </a:cubicBezTo>
                <a:cubicBezTo>
                  <a:pt x="347" y="285"/>
                  <a:pt x="333" y="277"/>
                  <a:pt x="318" y="2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634080" y="383688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91"/>
          <p:cNvSpPr/>
          <p:nvPr/>
        </p:nvSpPr>
        <p:spPr>
          <a:xfrm>
            <a:off x="6087960" y="914400"/>
            <a:ext cx="4189680" cy="2362320"/>
          </a:xfrm>
          <a:custGeom>
            <a:avLst/>
            <a:gdLst/>
            <a:ahLst/>
            <a:rect l="l" t="t" r="r" b="b"/>
            <a:pathLst>
              <a:path w="3405731" h="1919783">
                <a:moveTo>
                  <a:pt x="2241651" y="155772"/>
                </a:moveTo>
                <a:lnTo>
                  <a:pt x="2241651" y="1753486"/>
                </a:lnTo>
                <a:lnTo>
                  <a:pt x="2736333" y="1753486"/>
                </a:lnTo>
                <a:cubicBezTo>
                  <a:pt x="2790361" y="1752083"/>
                  <a:pt x="2835443" y="1733313"/>
                  <a:pt x="2871581" y="1697177"/>
                </a:cubicBezTo>
                <a:cubicBezTo>
                  <a:pt x="2907717" y="1661040"/>
                  <a:pt x="2926487" y="1615958"/>
                  <a:pt x="2927890" y="1561929"/>
                </a:cubicBezTo>
                <a:lnTo>
                  <a:pt x="2927890" y="155772"/>
                </a:lnTo>
                <a:lnTo>
                  <a:pt x="2241651" y="155772"/>
                </a:lnTo>
                <a:close/>
                <a:moveTo>
                  <a:pt x="1761705" y="2105"/>
                </a:moveTo>
                <a:lnTo>
                  <a:pt x="3405731" y="2105"/>
                </a:lnTo>
                <a:lnTo>
                  <a:pt x="3405731" y="1521933"/>
                </a:lnTo>
                <a:cubicBezTo>
                  <a:pt x="3402923" y="1631000"/>
                  <a:pt x="3365384" y="1721779"/>
                  <a:pt x="3293111" y="1794271"/>
                </a:cubicBezTo>
                <a:cubicBezTo>
                  <a:pt x="3220839" y="1866763"/>
                  <a:pt x="3130673" y="1904390"/>
                  <a:pt x="3022616" y="1907153"/>
                </a:cubicBezTo>
                <a:lnTo>
                  <a:pt x="1761705" y="1907153"/>
                </a:lnTo>
                <a:lnTo>
                  <a:pt x="1761705" y="2105"/>
                </a:lnTo>
                <a:close/>
                <a:moveTo>
                  <a:pt x="0" y="0"/>
                </a:moveTo>
                <a:lnTo>
                  <a:pt x="1547193" y="0"/>
                </a:lnTo>
                <a:lnTo>
                  <a:pt x="1547193" y="538887"/>
                </a:lnTo>
                <a:cubicBezTo>
                  <a:pt x="1546667" y="602081"/>
                  <a:pt x="1535616" y="659355"/>
                  <a:pt x="1514039" y="710709"/>
                </a:cubicBezTo>
                <a:cubicBezTo>
                  <a:pt x="1492463" y="762063"/>
                  <a:pt x="1463519" y="807233"/>
                  <a:pt x="1427207" y="846220"/>
                </a:cubicBezTo>
                <a:lnTo>
                  <a:pt x="1547193" y="846220"/>
                </a:lnTo>
                <a:lnTo>
                  <a:pt x="1547193" y="1534563"/>
                </a:lnTo>
                <a:cubicBezTo>
                  <a:pt x="1544431" y="1642709"/>
                  <a:pt x="1506803" y="1733225"/>
                  <a:pt x="1434311" y="1806112"/>
                </a:cubicBezTo>
                <a:cubicBezTo>
                  <a:pt x="1361819" y="1878998"/>
                  <a:pt x="1271040" y="1916889"/>
                  <a:pt x="1161974" y="1919783"/>
                </a:cubicBezTo>
                <a:lnTo>
                  <a:pt x="2105" y="1919783"/>
                </a:lnTo>
                <a:lnTo>
                  <a:pt x="2105" y="1766116"/>
                </a:lnTo>
                <a:lnTo>
                  <a:pt x="877796" y="1766116"/>
                </a:lnTo>
                <a:cubicBezTo>
                  <a:pt x="931824" y="1764713"/>
                  <a:pt x="976907" y="1745943"/>
                  <a:pt x="1013043" y="1709807"/>
                </a:cubicBezTo>
                <a:cubicBezTo>
                  <a:pt x="1049180" y="1673671"/>
                  <a:pt x="1067949" y="1628588"/>
                  <a:pt x="1069353" y="1574559"/>
                </a:cubicBezTo>
                <a:lnTo>
                  <a:pt x="1069353" y="1001992"/>
                </a:lnTo>
                <a:lnTo>
                  <a:pt x="0" y="1001992"/>
                </a:lnTo>
                <a:lnTo>
                  <a:pt x="0" y="846220"/>
                </a:lnTo>
                <a:lnTo>
                  <a:pt x="802014" y="846220"/>
                </a:lnTo>
                <a:cubicBezTo>
                  <a:pt x="860318" y="845025"/>
                  <a:pt x="909306" y="830342"/>
                  <a:pt x="948976" y="802171"/>
                </a:cubicBezTo>
                <a:cubicBezTo>
                  <a:pt x="988647" y="774000"/>
                  <a:pt x="1018611" y="739514"/>
                  <a:pt x="1038869" y="698713"/>
                </a:cubicBezTo>
                <a:cubicBezTo>
                  <a:pt x="1059126" y="657912"/>
                  <a:pt x="1069288" y="617968"/>
                  <a:pt x="1069353" y="578882"/>
                </a:cubicBezTo>
                <a:lnTo>
                  <a:pt x="1069353" y="153667"/>
                </a:lnTo>
                <a:lnTo>
                  <a:pt x="0" y="153667"/>
                </a:lnTo>
                <a:lnTo>
                  <a:pt x="0" y="0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93"/>
          <p:cNvSpPr/>
          <p:nvPr/>
        </p:nvSpPr>
        <p:spPr>
          <a:xfrm>
            <a:off x="10275840" y="2201760"/>
            <a:ext cx="1081080" cy="1086120"/>
          </a:xfrm>
          <a:custGeom>
            <a:avLst/>
            <a:gdLst/>
            <a:ahLst/>
            <a:rect l="l" t="t" r="r" b="b"/>
            <a:pathLst>
              <a:path w="1150925" h="1155802">
                <a:moveTo>
                  <a:pt x="351130" y="543763"/>
                </a:moveTo>
                <a:lnTo>
                  <a:pt x="351130" y="843687"/>
                </a:lnTo>
                <a:lnTo>
                  <a:pt x="510845" y="843687"/>
                </a:lnTo>
                <a:lnTo>
                  <a:pt x="510845" y="543763"/>
                </a:lnTo>
                <a:lnTo>
                  <a:pt x="351130" y="543763"/>
                </a:lnTo>
                <a:close/>
                <a:moveTo>
                  <a:pt x="142647" y="0"/>
                </a:moveTo>
                <a:lnTo>
                  <a:pt x="403555" y="0"/>
                </a:lnTo>
                <a:lnTo>
                  <a:pt x="364541" y="136551"/>
                </a:lnTo>
                <a:lnTo>
                  <a:pt x="1125321" y="136551"/>
                </a:lnTo>
                <a:lnTo>
                  <a:pt x="1125321" y="229210"/>
                </a:lnTo>
                <a:lnTo>
                  <a:pt x="799795" y="229210"/>
                </a:lnTo>
                <a:lnTo>
                  <a:pt x="799795" y="451104"/>
                </a:lnTo>
                <a:lnTo>
                  <a:pt x="1092403" y="451104"/>
                </a:lnTo>
                <a:lnTo>
                  <a:pt x="1092403" y="543763"/>
                </a:lnTo>
                <a:lnTo>
                  <a:pt x="799795" y="543763"/>
                </a:lnTo>
                <a:lnTo>
                  <a:pt x="799795" y="843687"/>
                </a:lnTo>
                <a:lnTo>
                  <a:pt x="1150925" y="843687"/>
                </a:lnTo>
                <a:lnTo>
                  <a:pt x="1150925" y="936346"/>
                </a:lnTo>
                <a:lnTo>
                  <a:pt x="799795" y="936346"/>
                </a:lnTo>
                <a:lnTo>
                  <a:pt x="799795" y="1155802"/>
                </a:lnTo>
                <a:lnTo>
                  <a:pt x="510845" y="1155802"/>
                </a:lnTo>
                <a:lnTo>
                  <a:pt x="510845" y="936346"/>
                </a:lnTo>
                <a:lnTo>
                  <a:pt x="0" y="936346"/>
                </a:lnTo>
                <a:lnTo>
                  <a:pt x="0" y="843687"/>
                </a:lnTo>
                <a:lnTo>
                  <a:pt x="73152" y="843687"/>
                </a:lnTo>
                <a:lnTo>
                  <a:pt x="73152" y="451104"/>
                </a:lnTo>
                <a:lnTo>
                  <a:pt x="510845" y="451104"/>
                </a:lnTo>
                <a:lnTo>
                  <a:pt x="510845" y="229210"/>
                </a:lnTo>
                <a:lnTo>
                  <a:pt x="338937" y="229210"/>
                </a:lnTo>
                <a:lnTo>
                  <a:pt x="293827" y="388925"/>
                </a:lnTo>
                <a:lnTo>
                  <a:pt x="31699" y="388925"/>
                </a:lnTo>
                <a:lnTo>
                  <a:pt x="142647" y="0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71"/>
          <p:cNvSpPr/>
          <p:nvPr/>
        </p:nvSpPr>
        <p:spPr>
          <a:xfrm>
            <a:off x="3787920" y="2166840"/>
            <a:ext cx="1450800" cy="1121040"/>
          </a:xfrm>
          <a:custGeom>
            <a:avLst/>
            <a:gdLst/>
            <a:ahLst/>
            <a:rect l="l" t="t" r="r" b="b"/>
            <a:pathLst>
              <a:path w="1490174" h="1152144">
                <a:moveTo>
                  <a:pt x="1280160" y="612038"/>
                </a:moveTo>
                <a:lnTo>
                  <a:pt x="1490174" y="612038"/>
                </a:lnTo>
                <a:lnTo>
                  <a:pt x="1490174" y="856709"/>
                </a:lnTo>
                <a:lnTo>
                  <a:pt x="1458163" y="1152144"/>
                </a:lnTo>
                <a:lnTo>
                  <a:pt x="1222858" y="1152144"/>
                </a:lnTo>
                <a:lnTo>
                  <a:pt x="1280160" y="612038"/>
                </a:lnTo>
                <a:close/>
                <a:moveTo>
                  <a:pt x="215798" y="581558"/>
                </a:moveTo>
                <a:lnTo>
                  <a:pt x="505968" y="581558"/>
                </a:lnTo>
                <a:lnTo>
                  <a:pt x="441350" y="675437"/>
                </a:lnTo>
                <a:lnTo>
                  <a:pt x="1143609" y="675437"/>
                </a:lnTo>
                <a:lnTo>
                  <a:pt x="879043" y="1089965"/>
                </a:lnTo>
                <a:cubicBezTo>
                  <a:pt x="865378" y="1110589"/>
                  <a:pt x="848207" y="1125728"/>
                  <a:pt x="827532" y="1135380"/>
                </a:cubicBezTo>
                <a:cubicBezTo>
                  <a:pt x="806856" y="1145032"/>
                  <a:pt x="784199" y="1149807"/>
                  <a:pt x="759561" y="1149705"/>
                </a:cubicBezTo>
                <a:lnTo>
                  <a:pt x="67056" y="1149705"/>
                </a:lnTo>
                <a:lnTo>
                  <a:pt x="67056" y="1057046"/>
                </a:lnTo>
                <a:lnTo>
                  <a:pt x="573024" y="1057046"/>
                </a:lnTo>
                <a:cubicBezTo>
                  <a:pt x="584200" y="1056843"/>
                  <a:pt x="593547" y="1052373"/>
                  <a:pt x="601065" y="1043635"/>
                </a:cubicBezTo>
                <a:lnTo>
                  <a:pt x="766877" y="768096"/>
                </a:lnTo>
                <a:lnTo>
                  <a:pt x="377952" y="768096"/>
                </a:lnTo>
                <a:lnTo>
                  <a:pt x="337718" y="827837"/>
                </a:lnTo>
                <a:lnTo>
                  <a:pt x="443789" y="827837"/>
                </a:lnTo>
                <a:lnTo>
                  <a:pt x="553517" y="1016813"/>
                </a:lnTo>
                <a:lnTo>
                  <a:pt x="263347" y="1016813"/>
                </a:lnTo>
                <a:lnTo>
                  <a:pt x="196291" y="899769"/>
                </a:lnTo>
                <a:lnTo>
                  <a:pt x="0" y="899769"/>
                </a:lnTo>
                <a:lnTo>
                  <a:pt x="215798" y="581558"/>
                </a:lnTo>
                <a:close/>
                <a:moveTo>
                  <a:pt x="1222858" y="302361"/>
                </a:moveTo>
                <a:lnTo>
                  <a:pt x="1458163" y="302361"/>
                </a:lnTo>
                <a:lnTo>
                  <a:pt x="1490174" y="440409"/>
                </a:lnTo>
                <a:lnTo>
                  <a:pt x="1490174" y="554736"/>
                </a:lnTo>
                <a:lnTo>
                  <a:pt x="1280160" y="554736"/>
                </a:lnTo>
                <a:lnTo>
                  <a:pt x="1222858" y="302361"/>
                </a:lnTo>
                <a:close/>
                <a:moveTo>
                  <a:pt x="1222858" y="0"/>
                </a:moveTo>
                <a:lnTo>
                  <a:pt x="1458163" y="0"/>
                </a:lnTo>
                <a:lnTo>
                  <a:pt x="1490174" y="144050"/>
                </a:lnTo>
                <a:lnTo>
                  <a:pt x="1490174" y="252374"/>
                </a:lnTo>
                <a:lnTo>
                  <a:pt x="1277721" y="252374"/>
                </a:lnTo>
                <a:lnTo>
                  <a:pt x="1222858" y="0"/>
                </a:lnTo>
                <a:close/>
                <a:moveTo>
                  <a:pt x="215798" y="0"/>
                </a:moveTo>
                <a:lnTo>
                  <a:pt x="505968" y="0"/>
                </a:lnTo>
                <a:lnTo>
                  <a:pt x="441350" y="92659"/>
                </a:lnTo>
                <a:lnTo>
                  <a:pt x="1143609" y="92659"/>
                </a:lnTo>
                <a:lnTo>
                  <a:pt x="879043" y="498653"/>
                </a:lnTo>
                <a:cubicBezTo>
                  <a:pt x="865378" y="519277"/>
                  <a:pt x="848207" y="534416"/>
                  <a:pt x="827532" y="544068"/>
                </a:cubicBezTo>
                <a:cubicBezTo>
                  <a:pt x="806856" y="553720"/>
                  <a:pt x="784199" y="558495"/>
                  <a:pt x="759561" y="558393"/>
                </a:cubicBezTo>
                <a:lnTo>
                  <a:pt x="67056" y="558393"/>
                </a:lnTo>
                <a:lnTo>
                  <a:pt x="67056" y="466953"/>
                </a:lnTo>
                <a:lnTo>
                  <a:pt x="573024" y="466953"/>
                </a:lnTo>
                <a:cubicBezTo>
                  <a:pt x="584200" y="466750"/>
                  <a:pt x="593547" y="462280"/>
                  <a:pt x="601065" y="453542"/>
                </a:cubicBezTo>
                <a:lnTo>
                  <a:pt x="766877" y="182880"/>
                </a:lnTo>
                <a:lnTo>
                  <a:pt x="379171" y="182880"/>
                </a:lnTo>
                <a:lnTo>
                  <a:pt x="337718" y="241401"/>
                </a:lnTo>
                <a:lnTo>
                  <a:pt x="443789" y="241401"/>
                </a:lnTo>
                <a:lnTo>
                  <a:pt x="553517" y="426720"/>
                </a:lnTo>
                <a:lnTo>
                  <a:pt x="263347" y="426720"/>
                </a:lnTo>
                <a:lnTo>
                  <a:pt x="196291" y="312115"/>
                </a:lnTo>
                <a:lnTo>
                  <a:pt x="0" y="312115"/>
                </a:lnTo>
                <a:lnTo>
                  <a:pt x="2157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77"/>
          <p:cNvSpPr/>
          <p:nvPr/>
        </p:nvSpPr>
        <p:spPr>
          <a:xfrm>
            <a:off x="5211720" y="892080"/>
            <a:ext cx="887400" cy="1123920"/>
          </a:xfrm>
          <a:custGeom>
            <a:avLst/>
            <a:gdLst/>
            <a:ahLst/>
            <a:rect l="l" t="t" r="r" b="b"/>
            <a:pathLst>
              <a:path w="911729" h="1154582">
                <a:moveTo>
                  <a:pt x="466721" y="707136"/>
                </a:moveTo>
                <a:lnTo>
                  <a:pt x="466721" y="1060704"/>
                </a:lnTo>
                <a:lnTo>
                  <a:pt x="603272" y="1060704"/>
                </a:lnTo>
                <a:cubicBezTo>
                  <a:pt x="612593" y="1060450"/>
                  <a:pt x="620163" y="1056995"/>
                  <a:pt x="625979" y="1050340"/>
                </a:cubicBezTo>
                <a:cubicBezTo>
                  <a:pt x="631796" y="1043686"/>
                  <a:pt x="634793" y="1035354"/>
                  <a:pt x="634971" y="1025347"/>
                </a:cubicBezTo>
                <a:lnTo>
                  <a:pt x="634971" y="707136"/>
                </a:lnTo>
                <a:lnTo>
                  <a:pt x="466721" y="707136"/>
                </a:lnTo>
                <a:close/>
                <a:moveTo>
                  <a:pt x="188744" y="613257"/>
                </a:moveTo>
                <a:lnTo>
                  <a:pt x="908072" y="613257"/>
                </a:lnTo>
                <a:lnTo>
                  <a:pt x="908072" y="1036320"/>
                </a:lnTo>
                <a:cubicBezTo>
                  <a:pt x="907259" y="1069517"/>
                  <a:pt x="896692" y="1097305"/>
                  <a:pt x="876373" y="1119682"/>
                </a:cubicBezTo>
                <a:cubicBezTo>
                  <a:pt x="856052" y="1142060"/>
                  <a:pt x="830856" y="1153693"/>
                  <a:pt x="800782" y="1154582"/>
                </a:cubicBezTo>
                <a:lnTo>
                  <a:pt x="188744" y="1154582"/>
                </a:lnTo>
                <a:lnTo>
                  <a:pt x="188744" y="613257"/>
                </a:lnTo>
                <a:close/>
                <a:moveTo>
                  <a:pt x="189963" y="25603"/>
                </a:moveTo>
                <a:lnTo>
                  <a:pt x="911729" y="25603"/>
                </a:lnTo>
                <a:lnTo>
                  <a:pt x="911729" y="457200"/>
                </a:lnTo>
                <a:cubicBezTo>
                  <a:pt x="910916" y="490347"/>
                  <a:pt x="900350" y="517931"/>
                  <a:pt x="880030" y="539953"/>
                </a:cubicBezTo>
                <a:cubicBezTo>
                  <a:pt x="859710" y="561975"/>
                  <a:pt x="834514" y="573405"/>
                  <a:pt x="804440" y="574243"/>
                </a:cubicBezTo>
                <a:lnTo>
                  <a:pt x="544750" y="574243"/>
                </a:lnTo>
                <a:lnTo>
                  <a:pt x="544750" y="480364"/>
                </a:lnTo>
                <a:lnTo>
                  <a:pt x="608148" y="480364"/>
                </a:lnTo>
                <a:cubicBezTo>
                  <a:pt x="617521" y="480187"/>
                  <a:pt x="625293" y="476885"/>
                  <a:pt x="631465" y="470458"/>
                </a:cubicBezTo>
                <a:cubicBezTo>
                  <a:pt x="637638" y="464032"/>
                  <a:pt x="640838" y="455549"/>
                  <a:pt x="641067" y="445008"/>
                </a:cubicBezTo>
                <a:lnTo>
                  <a:pt x="641067" y="119481"/>
                </a:lnTo>
                <a:lnTo>
                  <a:pt x="539873" y="119481"/>
                </a:lnTo>
                <a:lnTo>
                  <a:pt x="459406" y="574243"/>
                </a:lnTo>
                <a:lnTo>
                  <a:pt x="189963" y="574243"/>
                </a:lnTo>
                <a:lnTo>
                  <a:pt x="274088" y="119481"/>
                </a:lnTo>
                <a:lnTo>
                  <a:pt x="189963" y="119481"/>
                </a:lnTo>
                <a:lnTo>
                  <a:pt x="189963" y="25603"/>
                </a:lnTo>
                <a:close/>
                <a:moveTo>
                  <a:pt x="0" y="0"/>
                </a:moveTo>
                <a:lnTo>
                  <a:pt x="94865" y="0"/>
                </a:lnTo>
                <a:lnTo>
                  <a:pt x="94865" y="226771"/>
                </a:lnTo>
                <a:lnTo>
                  <a:pt x="174113" y="226771"/>
                </a:lnTo>
                <a:lnTo>
                  <a:pt x="174113" y="320649"/>
                </a:lnTo>
                <a:lnTo>
                  <a:pt x="94865" y="320649"/>
                </a:lnTo>
                <a:lnTo>
                  <a:pt x="94865" y="662025"/>
                </a:lnTo>
                <a:lnTo>
                  <a:pt x="174113" y="643737"/>
                </a:lnTo>
                <a:lnTo>
                  <a:pt x="174113" y="736396"/>
                </a:lnTo>
                <a:lnTo>
                  <a:pt x="94865" y="754684"/>
                </a:lnTo>
                <a:lnTo>
                  <a:pt x="94865" y="1042416"/>
                </a:lnTo>
                <a:cubicBezTo>
                  <a:pt x="93824" y="1075563"/>
                  <a:pt x="80057" y="1103147"/>
                  <a:pt x="53565" y="1125169"/>
                </a:cubicBezTo>
                <a:cubicBezTo>
                  <a:pt x="40319" y="1136180"/>
                  <a:pt x="25454" y="1144543"/>
                  <a:pt x="8969" y="1150258"/>
                </a:cubicBezTo>
                <a:lnTo>
                  <a:pt x="0" y="115177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94"/>
          <p:cNvSpPr/>
          <p:nvPr/>
        </p:nvSpPr>
        <p:spPr>
          <a:xfrm>
            <a:off x="5238720" y="2189160"/>
            <a:ext cx="849240" cy="1106640"/>
          </a:xfrm>
          <a:custGeom>
            <a:avLst/>
            <a:gdLst/>
            <a:ahLst/>
            <a:rect l="l" t="t" r="r" b="b"/>
            <a:pathLst>
              <a:path w="873855" h="1136294">
                <a:moveTo>
                  <a:pt x="347160" y="697382"/>
                </a:moveTo>
                <a:lnTo>
                  <a:pt x="347160" y="1043635"/>
                </a:lnTo>
                <a:lnTo>
                  <a:pt x="569055" y="1043635"/>
                </a:lnTo>
                <a:cubicBezTo>
                  <a:pt x="579596" y="1043432"/>
                  <a:pt x="588079" y="1040181"/>
                  <a:pt x="594506" y="1033882"/>
                </a:cubicBezTo>
                <a:cubicBezTo>
                  <a:pt x="600932" y="1027582"/>
                  <a:pt x="604234" y="1019455"/>
                  <a:pt x="604411" y="1009498"/>
                </a:cubicBezTo>
                <a:lnTo>
                  <a:pt x="604411" y="697382"/>
                </a:lnTo>
                <a:lnTo>
                  <a:pt x="347160" y="697382"/>
                </a:lnTo>
                <a:close/>
                <a:moveTo>
                  <a:pt x="0" y="597408"/>
                </a:moveTo>
                <a:lnTo>
                  <a:pt x="26511" y="597408"/>
                </a:lnTo>
                <a:lnTo>
                  <a:pt x="0" y="842078"/>
                </a:lnTo>
                <a:lnTo>
                  <a:pt x="0" y="597408"/>
                </a:lnTo>
                <a:close/>
                <a:moveTo>
                  <a:pt x="0" y="425779"/>
                </a:moveTo>
                <a:lnTo>
                  <a:pt x="26511" y="540106"/>
                </a:lnTo>
                <a:lnTo>
                  <a:pt x="0" y="540106"/>
                </a:lnTo>
                <a:lnTo>
                  <a:pt x="0" y="425779"/>
                </a:lnTo>
                <a:close/>
                <a:moveTo>
                  <a:pt x="0" y="129420"/>
                </a:moveTo>
                <a:lnTo>
                  <a:pt x="24072" y="237744"/>
                </a:lnTo>
                <a:lnTo>
                  <a:pt x="0" y="237744"/>
                </a:lnTo>
                <a:lnTo>
                  <a:pt x="0" y="129420"/>
                </a:lnTo>
                <a:close/>
                <a:moveTo>
                  <a:pt x="100882" y="0"/>
                </a:moveTo>
                <a:lnTo>
                  <a:pt x="850690" y="0"/>
                </a:lnTo>
                <a:lnTo>
                  <a:pt x="850690" y="92659"/>
                </a:lnTo>
                <a:lnTo>
                  <a:pt x="603192" y="92659"/>
                </a:lnTo>
                <a:lnTo>
                  <a:pt x="603192" y="309677"/>
                </a:lnTo>
                <a:lnTo>
                  <a:pt x="873855" y="309677"/>
                </a:lnTo>
                <a:lnTo>
                  <a:pt x="873855" y="402336"/>
                </a:lnTo>
                <a:lnTo>
                  <a:pt x="603192" y="402336"/>
                </a:lnTo>
                <a:lnTo>
                  <a:pt x="603192" y="604723"/>
                </a:lnTo>
                <a:lnTo>
                  <a:pt x="853128" y="604723"/>
                </a:lnTo>
                <a:lnTo>
                  <a:pt x="853128" y="1020470"/>
                </a:lnTo>
                <a:cubicBezTo>
                  <a:pt x="852265" y="1053033"/>
                  <a:pt x="840885" y="1080262"/>
                  <a:pt x="818991" y="1102157"/>
                </a:cubicBezTo>
                <a:cubicBezTo>
                  <a:pt x="797096" y="1124052"/>
                  <a:pt x="769867" y="1135431"/>
                  <a:pt x="737304" y="1136294"/>
                </a:cubicBezTo>
                <a:lnTo>
                  <a:pt x="98443" y="1136294"/>
                </a:lnTo>
                <a:lnTo>
                  <a:pt x="98443" y="604723"/>
                </a:lnTo>
                <a:lnTo>
                  <a:pt x="337407" y="604723"/>
                </a:lnTo>
                <a:lnTo>
                  <a:pt x="337407" y="402336"/>
                </a:lnTo>
                <a:lnTo>
                  <a:pt x="78936" y="402336"/>
                </a:lnTo>
                <a:lnTo>
                  <a:pt x="78936" y="309677"/>
                </a:lnTo>
                <a:lnTo>
                  <a:pt x="337407" y="309677"/>
                </a:lnTo>
                <a:lnTo>
                  <a:pt x="337407" y="92659"/>
                </a:lnTo>
                <a:lnTo>
                  <a:pt x="100882" y="92659"/>
                </a:lnTo>
                <a:lnTo>
                  <a:pt x="10088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01"/>
          <p:cNvSpPr/>
          <p:nvPr/>
        </p:nvSpPr>
        <p:spPr>
          <a:xfrm>
            <a:off x="1168560" y="917640"/>
            <a:ext cx="2311200" cy="1122120"/>
          </a:xfrm>
          <a:custGeom>
            <a:avLst/>
            <a:gdLst/>
            <a:ahLst/>
            <a:rect l="l" t="t" r="r" b="b"/>
            <a:pathLst>
              <a:path w="2311352" h="1122596">
                <a:moveTo>
                  <a:pt x="46281" y="594525"/>
                </a:moveTo>
                <a:lnTo>
                  <a:pt x="1079877" y="594525"/>
                </a:lnTo>
                <a:lnTo>
                  <a:pt x="1079877" y="684712"/>
                </a:lnTo>
                <a:lnTo>
                  <a:pt x="702514" y="684712"/>
                </a:lnTo>
                <a:lnTo>
                  <a:pt x="702514" y="733366"/>
                </a:lnTo>
                <a:lnTo>
                  <a:pt x="1086997" y="733366"/>
                </a:lnTo>
                <a:lnTo>
                  <a:pt x="1086997" y="823553"/>
                </a:lnTo>
                <a:lnTo>
                  <a:pt x="702514" y="823553"/>
                </a:lnTo>
                <a:lnTo>
                  <a:pt x="702514" y="876954"/>
                </a:lnTo>
                <a:lnTo>
                  <a:pt x="1126158" y="876954"/>
                </a:lnTo>
                <a:lnTo>
                  <a:pt x="1126158" y="967141"/>
                </a:lnTo>
                <a:lnTo>
                  <a:pt x="702514" y="967141"/>
                </a:lnTo>
                <a:lnTo>
                  <a:pt x="702514" y="1008675"/>
                </a:lnTo>
                <a:cubicBezTo>
                  <a:pt x="701673" y="1040369"/>
                  <a:pt x="690598" y="1066872"/>
                  <a:pt x="669287" y="1088183"/>
                </a:cubicBezTo>
                <a:cubicBezTo>
                  <a:pt x="647976" y="1109494"/>
                  <a:pt x="621473" y="1120569"/>
                  <a:pt x="589780" y="1121409"/>
                </a:cubicBezTo>
                <a:lnTo>
                  <a:pt x="293110" y="1121409"/>
                </a:lnTo>
                <a:lnTo>
                  <a:pt x="293110" y="1031222"/>
                </a:lnTo>
                <a:lnTo>
                  <a:pt x="392791" y="1031222"/>
                </a:lnTo>
                <a:cubicBezTo>
                  <a:pt x="402482" y="1031024"/>
                  <a:pt x="410393" y="1027860"/>
                  <a:pt x="416525" y="1021729"/>
                </a:cubicBezTo>
                <a:cubicBezTo>
                  <a:pt x="422656" y="1015597"/>
                  <a:pt x="425820" y="1007687"/>
                  <a:pt x="426018" y="997995"/>
                </a:cubicBezTo>
                <a:lnTo>
                  <a:pt x="426018" y="967141"/>
                </a:lnTo>
                <a:lnTo>
                  <a:pt x="0" y="967141"/>
                </a:lnTo>
                <a:lnTo>
                  <a:pt x="0" y="876954"/>
                </a:lnTo>
                <a:lnTo>
                  <a:pt x="426018" y="876954"/>
                </a:lnTo>
                <a:lnTo>
                  <a:pt x="426018" y="823553"/>
                </a:lnTo>
                <a:lnTo>
                  <a:pt x="39161" y="823553"/>
                </a:lnTo>
                <a:lnTo>
                  <a:pt x="39161" y="733366"/>
                </a:lnTo>
                <a:lnTo>
                  <a:pt x="426018" y="733366"/>
                </a:lnTo>
                <a:lnTo>
                  <a:pt x="426018" y="684712"/>
                </a:lnTo>
                <a:lnTo>
                  <a:pt x="46281" y="684712"/>
                </a:lnTo>
                <a:lnTo>
                  <a:pt x="46281" y="594525"/>
                </a:lnTo>
                <a:close/>
                <a:moveTo>
                  <a:pt x="1801378" y="374990"/>
                </a:moveTo>
                <a:lnTo>
                  <a:pt x="2309275" y="374990"/>
                </a:lnTo>
                <a:lnTo>
                  <a:pt x="2309275" y="466364"/>
                </a:lnTo>
                <a:lnTo>
                  <a:pt x="2056513" y="466364"/>
                </a:lnTo>
                <a:lnTo>
                  <a:pt x="2012606" y="640806"/>
                </a:lnTo>
                <a:lnTo>
                  <a:pt x="2092114" y="640806"/>
                </a:lnTo>
                <a:cubicBezTo>
                  <a:pt x="2099431" y="641003"/>
                  <a:pt x="2106156" y="638234"/>
                  <a:pt x="2112287" y="632498"/>
                </a:cubicBezTo>
                <a:cubicBezTo>
                  <a:pt x="2115205" y="630002"/>
                  <a:pt x="2117083" y="626985"/>
                  <a:pt x="2117923" y="623450"/>
                </a:cubicBezTo>
                <a:cubicBezTo>
                  <a:pt x="2118764" y="619915"/>
                  <a:pt x="2118864" y="616602"/>
                  <a:pt x="2118220" y="613512"/>
                </a:cubicBezTo>
                <a:lnTo>
                  <a:pt x="2103980" y="526884"/>
                </a:lnTo>
                <a:lnTo>
                  <a:pt x="2290289" y="526884"/>
                </a:lnTo>
                <a:lnTo>
                  <a:pt x="2310463" y="653859"/>
                </a:lnTo>
                <a:cubicBezTo>
                  <a:pt x="2312192" y="663426"/>
                  <a:pt x="2311402" y="672772"/>
                  <a:pt x="2308089" y="681894"/>
                </a:cubicBezTo>
                <a:cubicBezTo>
                  <a:pt x="2304776" y="691017"/>
                  <a:pt x="2299238" y="699472"/>
                  <a:pt x="2291475" y="707259"/>
                </a:cubicBezTo>
                <a:cubicBezTo>
                  <a:pt x="2276049" y="722883"/>
                  <a:pt x="2255875" y="730794"/>
                  <a:pt x="2230955" y="730993"/>
                </a:cubicBezTo>
                <a:lnTo>
                  <a:pt x="2165687" y="730993"/>
                </a:lnTo>
                <a:lnTo>
                  <a:pt x="2165687" y="827114"/>
                </a:lnTo>
                <a:lnTo>
                  <a:pt x="2297408" y="827114"/>
                </a:lnTo>
                <a:lnTo>
                  <a:pt x="2297408" y="918487"/>
                </a:lnTo>
                <a:lnTo>
                  <a:pt x="2165687" y="918487"/>
                </a:lnTo>
                <a:lnTo>
                  <a:pt x="2165687" y="1027662"/>
                </a:lnTo>
                <a:lnTo>
                  <a:pt x="2309275" y="1027662"/>
                </a:lnTo>
                <a:lnTo>
                  <a:pt x="2309275" y="1117850"/>
                </a:lnTo>
                <a:lnTo>
                  <a:pt x="1801378" y="1117850"/>
                </a:lnTo>
                <a:lnTo>
                  <a:pt x="1801378" y="1027662"/>
                </a:lnTo>
                <a:lnTo>
                  <a:pt x="1959205" y="1027662"/>
                </a:lnTo>
                <a:lnTo>
                  <a:pt x="1959205" y="918487"/>
                </a:lnTo>
                <a:lnTo>
                  <a:pt x="1813244" y="918487"/>
                </a:lnTo>
                <a:lnTo>
                  <a:pt x="1813244" y="827114"/>
                </a:lnTo>
                <a:lnTo>
                  <a:pt x="1959205" y="827114"/>
                </a:lnTo>
                <a:lnTo>
                  <a:pt x="1959205" y="730993"/>
                </a:lnTo>
                <a:lnTo>
                  <a:pt x="1799004" y="730993"/>
                </a:lnTo>
                <a:lnTo>
                  <a:pt x="1865458" y="466364"/>
                </a:lnTo>
                <a:lnTo>
                  <a:pt x="1801378" y="466364"/>
                </a:lnTo>
                <a:lnTo>
                  <a:pt x="1801378" y="374990"/>
                </a:lnTo>
                <a:close/>
                <a:moveTo>
                  <a:pt x="335830" y="372616"/>
                </a:moveTo>
                <a:lnTo>
                  <a:pt x="335830" y="458057"/>
                </a:lnTo>
                <a:lnTo>
                  <a:pt x="754728" y="458057"/>
                </a:lnTo>
                <a:cubicBezTo>
                  <a:pt x="763900" y="457735"/>
                  <a:pt x="771662" y="454225"/>
                  <a:pt x="778016" y="447525"/>
                </a:cubicBezTo>
                <a:cubicBezTo>
                  <a:pt x="784370" y="440826"/>
                  <a:pt x="787683" y="432865"/>
                  <a:pt x="787954" y="423643"/>
                </a:cubicBezTo>
                <a:lnTo>
                  <a:pt x="787954" y="372616"/>
                </a:lnTo>
                <a:lnTo>
                  <a:pt x="335830" y="372616"/>
                </a:lnTo>
                <a:close/>
                <a:moveTo>
                  <a:pt x="232590" y="219535"/>
                </a:moveTo>
                <a:lnTo>
                  <a:pt x="232590" y="282429"/>
                </a:lnTo>
                <a:lnTo>
                  <a:pt x="893569" y="282429"/>
                </a:lnTo>
                <a:lnTo>
                  <a:pt x="893569" y="219535"/>
                </a:lnTo>
                <a:lnTo>
                  <a:pt x="232590" y="219535"/>
                </a:lnTo>
                <a:close/>
                <a:moveTo>
                  <a:pt x="1769337" y="100868"/>
                </a:moveTo>
                <a:lnTo>
                  <a:pt x="1769337" y="227842"/>
                </a:lnTo>
                <a:lnTo>
                  <a:pt x="2056513" y="227842"/>
                </a:lnTo>
                <a:cubicBezTo>
                  <a:pt x="2067539" y="227594"/>
                  <a:pt x="2076934" y="224233"/>
                  <a:pt x="2084697" y="217755"/>
                </a:cubicBezTo>
                <a:cubicBezTo>
                  <a:pt x="2092460" y="211278"/>
                  <a:pt x="2096514" y="203169"/>
                  <a:pt x="2096861" y="193428"/>
                </a:cubicBezTo>
                <a:lnTo>
                  <a:pt x="2096861" y="100868"/>
                </a:lnTo>
                <a:lnTo>
                  <a:pt x="1769337" y="100868"/>
                </a:lnTo>
                <a:close/>
                <a:moveTo>
                  <a:pt x="1555736" y="9493"/>
                </a:moveTo>
                <a:lnTo>
                  <a:pt x="2310463" y="9493"/>
                </a:lnTo>
                <a:lnTo>
                  <a:pt x="2310463" y="205295"/>
                </a:lnTo>
                <a:cubicBezTo>
                  <a:pt x="2309498" y="237039"/>
                  <a:pt x="2296296" y="263739"/>
                  <a:pt x="2270857" y="285395"/>
                </a:cubicBezTo>
                <a:cubicBezTo>
                  <a:pt x="2245417" y="307053"/>
                  <a:pt x="2213525" y="318326"/>
                  <a:pt x="2175181" y="319215"/>
                </a:cubicBezTo>
                <a:lnTo>
                  <a:pt x="1769337" y="319215"/>
                </a:lnTo>
                <a:lnTo>
                  <a:pt x="1769337" y="1122596"/>
                </a:lnTo>
                <a:lnTo>
                  <a:pt x="1555736" y="1122596"/>
                </a:lnTo>
                <a:lnTo>
                  <a:pt x="1555736" y="9493"/>
                </a:lnTo>
                <a:close/>
                <a:moveTo>
                  <a:pt x="1251945" y="2373"/>
                </a:moveTo>
                <a:lnTo>
                  <a:pt x="1465547" y="2373"/>
                </a:lnTo>
                <a:lnTo>
                  <a:pt x="1465547" y="221908"/>
                </a:lnTo>
                <a:lnTo>
                  <a:pt x="1529628" y="221908"/>
                </a:lnTo>
                <a:lnTo>
                  <a:pt x="1529628" y="312096"/>
                </a:lnTo>
                <a:lnTo>
                  <a:pt x="1465547" y="312096"/>
                </a:lnTo>
                <a:lnTo>
                  <a:pt x="1465547" y="639618"/>
                </a:lnTo>
                <a:lnTo>
                  <a:pt x="1529628" y="623005"/>
                </a:lnTo>
                <a:lnTo>
                  <a:pt x="1529628" y="713193"/>
                </a:lnTo>
                <a:lnTo>
                  <a:pt x="1465547" y="729806"/>
                </a:lnTo>
                <a:lnTo>
                  <a:pt x="1465547" y="1008675"/>
                </a:lnTo>
                <a:cubicBezTo>
                  <a:pt x="1464608" y="1040369"/>
                  <a:pt x="1452841" y="1066872"/>
                  <a:pt x="1430244" y="1088183"/>
                </a:cubicBezTo>
                <a:cubicBezTo>
                  <a:pt x="1407647" y="1109494"/>
                  <a:pt x="1379860" y="1120569"/>
                  <a:pt x="1346880" y="1121409"/>
                </a:cubicBezTo>
                <a:lnTo>
                  <a:pt x="1194985" y="1121409"/>
                </a:lnTo>
                <a:lnTo>
                  <a:pt x="1194985" y="1031222"/>
                </a:lnTo>
                <a:lnTo>
                  <a:pt x="1216345" y="1031222"/>
                </a:lnTo>
                <a:cubicBezTo>
                  <a:pt x="1226136" y="1031024"/>
                  <a:pt x="1234442" y="1027860"/>
                  <a:pt x="1241265" y="1021729"/>
                </a:cubicBezTo>
                <a:cubicBezTo>
                  <a:pt x="1248089" y="1015597"/>
                  <a:pt x="1251649" y="1007687"/>
                  <a:pt x="1251945" y="997995"/>
                </a:cubicBezTo>
                <a:lnTo>
                  <a:pt x="1251945" y="785580"/>
                </a:lnTo>
                <a:lnTo>
                  <a:pt x="1189052" y="802194"/>
                </a:lnTo>
                <a:lnTo>
                  <a:pt x="1189052" y="712005"/>
                </a:lnTo>
                <a:lnTo>
                  <a:pt x="1251945" y="695393"/>
                </a:lnTo>
                <a:lnTo>
                  <a:pt x="1251945" y="312096"/>
                </a:lnTo>
                <a:lnTo>
                  <a:pt x="1189052" y="312096"/>
                </a:lnTo>
                <a:lnTo>
                  <a:pt x="1189052" y="221908"/>
                </a:lnTo>
                <a:lnTo>
                  <a:pt x="1251945" y="221908"/>
                </a:lnTo>
                <a:lnTo>
                  <a:pt x="1251945" y="2373"/>
                </a:lnTo>
                <a:close/>
                <a:moveTo>
                  <a:pt x="420084" y="0"/>
                </a:moveTo>
                <a:lnTo>
                  <a:pt x="702514" y="0"/>
                </a:lnTo>
                <a:lnTo>
                  <a:pt x="702514" y="128161"/>
                </a:lnTo>
                <a:lnTo>
                  <a:pt x="784394" y="128161"/>
                </a:lnTo>
                <a:lnTo>
                  <a:pt x="819995" y="8306"/>
                </a:lnTo>
                <a:lnTo>
                  <a:pt x="1071571" y="8306"/>
                </a:lnTo>
                <a:lnTo>
                  <a:pt x="1035970" y="128161"/>
                </a:lnTo>
                <a:lnTo>
                  <a:pt x="1122598" y="128161"/>
                </a:lnTo>
                <a:lnTo>
                  <a:pt x="1122598" y="358376"/>
                </a:lnTo>
                <a:lnTo>
                  <a:pt x="1024104" y="358376"/>
                </a:lnTo>
                <a:lnTo>
                  <a:pt x="1024104" y="435510"/>
                </a:lnTo>
                <a:cubicBezTo>
                  <a:pt x="1023263" y="467205"/>
                  <a:pt x="1012187" y="493707"/>
                  <a:pt x="990876" y="515017"/>
                </a:cubicBezTo>
                <a:cubicBezTo>
                  <a:pt x="969566" y="536328"/>
                  <a:pt x="943064" y="547404"/>
                  <a:pt x="911369" y="548245"/>
                </a:cubicBezTo>
                <a:lnTo>
                  <a:pt x="99681" y="548245"/>
                </a:lnTo>
                <a:lnTo>
                  <a:pt x="99681" y="358376"/>
                </a:lnTo>
                <a:lnTo>
                  <a:pt x="1187" y="358376"/>
                </a:lnTo>
                <a:lnTo>
                  <a:pt x="1187" y="128161"/>
                </a:lnTo>
                <a:lnTo>
                  <a:pt x="86628" y="128161"/>
                </a:lnTo>
                <a:lnTo>
                  <a:pt x="52214" y="8306"/>
                </a:lnTo>
                <a:lnTo>
                  <a:pt x="303791" y="8306"/>
                </a:lnTo>
                <a:lnTo>
                  <a:pt x="338203" y="128161"/>
                </a:lnTo>
                <a:lnTo>
                  <a:pt x="420084" y="128161"/>
                </a:lnTo>
                <a:lnTo>
                  <a:pt x="4200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07"/>
          <p:cNvSpPr/>
          <p:nvPr/>
        </p:nvSpPr>
        <p:spPr>
          <a:xfrm>
            <a:off x="3519360" y="923760"/>
            <a:ext cx="1465560" cy="1092240"/>
          </a:xfrm>
          <a:custGeom>
            <a:avLst/>
            <a:gdLst/>
            <a:ahLst/>
            <a:rect l="l" t="t" r="r" b="b"/>
            <a:pathLst>
              <a:path w="1734241" h="1293626">
                <a:moveTo>
                  <a:pt x="25532" y="2837"/>
                </a:moveTo>
                <a:lnTo>
                  <a:pt x="483692" y="2837"/>
                </a:lnTo>
                <a:lnTo>
                  <a:pt x="483692" y="1190080"/>
                </a:lnTo>
                <a:lnTo>
                  <a:pt x="648232" y="1190080"/>
                </a:lnTo>
                <a:lnTo>
                  <a:pt x="648232" y="1293626"/>
                </a:lnTo>
                <a:lnTo>
                  <a:pt x="0" y="1293626"/>
                </a:lnTo>
                <a:lnTo>
                  <a:pt x="0" y="1190080"/>
                </a:lnTo>
                <a:lnTo>
                  <a:pt x="161703" y="1190080"/>
                </a:lnTo>
                <a:lnTo>
                  <a:pt x="161703" y="106383"/>
                </a:lnTo>
                <a:lnTo>
                  <a:pt x="25532" y="106383"/>
                </a:lnTo>
                <a:lnTo>
                  <a:pt x="25532" y="2837"/>
                </a:lnTo>
                <a:close/>
                <a:moveTo>
                  <a:pt x="727387" y="0"/>
                </a:moveTo>
                <a:lnTo>
                  <a:pt x="1734241" y="0"/>
                </a:lnTo>
                <a:lnTo>
                  <a:pt x="1734241" y="474752"/>
                </a:lnTo>
                <a:lnTo>
                  <a:pt x="1722764" y="538413"/>
                </a:lnTo>
                <a:cubicBezTo>
                  <a:pt x="1710795" y="569412"/>
                  <a:pt x="1693131" y="596621"/>
                  <a:pt x="1669771" y="620040"/>
                </a:cubicBezTo>
                <a:cubicBezTo>
                  <a:pt x="1623051" y="666878"/>
                  <a:pt x="1560461" y="690933"/>
                  <a:pt x="1482003" y="692204"/>
                </a:cubicBezTo>
                <a:lnTo>
                  <a:pt x="1052213" y="692204"/>
                </a:lnTo>
                <a:lnTo>
                  <a:pt x="1052213" y="1188661"/>
                </a:lnTo>
                <a:lnTo>
                  <a:pt x="1734241" y="1188661"/>
                </a:lnTo>
                <a:lnTo>
                  <a:pt x="1734241" y="1292208"/>
                </a:lnTo>
                <a:lnTo>
                  <a:pt x="727387" y="1292208"/>
                </a:lnTo>
                <a:lnTo>
                  <a:pt x="727387" y="588657"/>
                </a:lnTo>
                <a:lnTo>
                  <a:pt x="1274910" y="588657"/>
                </a:lnTo>
                <a:cubicBezTo>
                  <a:pt x="1310607" y="588155"/>
                  <a:pt x="1342759" y="574265"/>
                  <a:pt x="1371364" y="546990"/>
                </a:cubicBezTo>
                <a:cubicBezTo>
                  <a:pt x="1399969" y="519714"/>
                  <a:pt x="1415100" y="482066"/>
                  <a:pt x="1416754" y="434046"/>
                </a:cubicBezTo>
                <a:lnTo>
                  <a:pt x="1416754" y="104965"/>
                </a:lnTo>
                <a:lnTo>
                  <a:pt x="727387" y="104965"/>
                </a:lnTo>
                <a:lnTo>
                  <a:pt x="727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05"/>
          <p:cNvSpPr/>
          <p:nvPr/>
        </p:nvSpPr>
        <p:spPr>
          <a:xfrm>
            <a:off x="5037120" y="895320"/>
            <a:ext cx="264960" cy="1127160"/>
          </a:xfrm>
          <a:custGeom>
            <a:avLst/>
            <a:gdLst/>
            <a:ahLst/>
            <a:rect l="l" t="t" r="r" b="b"/>
            <a:pathLst>
              <a:path w="265152" h="1128529">
                <a:moveTo>
                  <a:pt x="72388" y="0"/>
                </a:moveTo>
                <a:lnTo>
                  <a:pt x="265152" y="0"/>
                </a:lnTo>
                <a:lnTo>
                  <a:pt x="265152" y="1103622"/>
                </a:lnTo>
                <a:lnTo>
                  <a:pt x="236798" y="1119573"/>
                </a:lnTo>
                <a:cubicBezTo>
                  <a:pt x="220753" y="1125136"/>
                  <a:pt x="203132" y="1128122"/>
                  <a:pt x="183935" y="1128529"/>
                </a:cubicBezTo>
                <a:lnTo>
                  <a:pt x="5933" y="1128529"/>
                </a:lnTo>
                <a:lnTo>
                  <a:pt x="5933" y="1037155"/>
                </a:lnTo>
                <a:lnTo>
                  <a:pt x="30853" y="1037155"/>
                </a:lnTo>
                <a:cubicBezTo>
                  <a:pt x="42449" y="1036957"/>
                  <a:pt x="52190" y="1033793"/>
                  <a:pt x="60077" y="1027662"/>
                </a:cubicBezTo>
                <a:cubicBezTo>
                  <a:pt x="67962" y="1021530"/>
                  <a:pt x="72067" y="1013620"/>
                  <a:pt x="72388" y="1003928"/>
                </a:cubicBezTo>
                <a:lnTo>
                  <a:pt x="72388" y="790326"/>
                </a:lnTo>
                <a:lnTo>
                  <a:pt x="0" y="806939"/>
                </a:lnTo>
                <a:lnTo>
                  <a:pt x="0" y="715565"/>
                </a:lnTo>
                <a:lnTo>
                  <a:pt x="72388" y="700138"/>
                </a:lnTo>
                <a:lnTo>
                  <a:pt x="72388" y="312095"/>
                </a:lnTo>
                <a:lnTo>
                  <a:pt x="0" y="312095"/>
                </a:lnTo>
                <a:lnTo>
                  <a:pt x="0" y="220721"/>
                </a:lnTo>
                <a:lnTo>
                  <a:pt x="72388" y="220721"/>
                </a:lnTo>
                <a:lnTo>
                  <a:pt x="723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8"/>
          <p:cNvSpPr/>
          <p:nvPr/>
        </p:nvSpPr>
        <p:spPr>
          <a:xfrm>
            <a:off x="8480520" y="957240"/>
            <a:ext cx="188640" cy="19692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0"/>
          <p:cNvSpPr/>
          <p:nvPr/>
        </p:nvSpPr>
        <p:spPr>
          <a:xfrm>
            <a:off x="8290080" y="203832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6"/>
          <p:cNvSpPr/>
          <p:nvPr/>
        </p:nvSpPr>
        <p:spPr>
          <a:xfrm rot="20030400">
            <a:off x="9013320" y="1206360"/>
            <a:ext cx="18756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43" y="31"/>
                </a:lnTo>
                <a:lnTo>
                  <a:pt x="0" y="23"/>
                </a:lnTo>
                <a:lnTo>
                  <a:pt x="20" y="62"/>
                </a:lnTo>
                <a:lnTo>
                  <a:pt x="0" y="101"/>
                </a:lnTo>
                <a:lnTo>
                  <a:pt x="43" y="93"/>
                </a:lnTo>
                <a:lnTo>
                  <a:pt x="73" y="124"/>
                </a:lnTo>
                <a:lnTo>
                  <a:pt x="80" y="81"/>
                </a:lnTo>
                <a:lnTo>
                  <a:pt x="118" y="62"/>
                </a:lnTo>
                <a:lnTo>
                  <a:pt x="80" y="43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7"/>
          <p:cNvSpPr/>
          <p:nvPr/>
        </p:nvSpPr>
        <p:spPr>
          <a:xfrm>
            <a:off x="7364520" y="1417680"/>
            <a:ext cx="187200" cy="196920"/>
          </a:xfrm>
          <a:custGeom>
            <a:avLst/>
            <a:gdLst/>
            <a:ahLst/>
            <a:rect l="l" t="t" r="r" b="b"/>
            <a:pathLst>
              <a:path w="118" h="124">
                <a:moveTo>
                  <a:pt x="73" y="0"/>
                </a:moveTo>
                <a:lnTo>
                  <a:pt x="79" y="43"/>
                </a:lnTo>
                <a:lnTo>
                  <a:pt x="118" y="62"/>
                </a:lnTo>
                <a:lnTo>
                  <a:pt x="79" y="81"/>
                </a:lnTo>
                <a:lnTo>
                  <a:pt x="73" y="124"/>
                </a:lnTo>
                <a:lnTo>
                  <a:pt x="42" y="93"/>
                </a:lnTo>
                <a:lnTo>
                  <a:pt x="0" y="101"/>
                </a:lnTo>
                <a:lnTo>
                  <a:pt x="19" y="62"/>
                </a:lnTo>
                <a:lnTo>
                  <a:pt x="0" y="24"/>
                </a:lnTo>
                <a:lnTo>
                  <a:pt x="42" y="31"/>
                </a:lnTo>
                <a:lnTo>
                  <a:pt x="7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8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78" y="33"/>
                </a:lnTo>
                <a:lnTo>
                  <a:pt x="121" y="29"/>
                </a:lnTo>
                <a:lnTo>
                  <a:pt x="98" y="66"/>
                </a:lnTo>
                <a:lnTo>
                  <a:pt x="116" y="105"/>
                </a:lnTo>
                <a:lnTo>
                  <a:pt x="74" y="95"/>
                </a:lnTo>
                <a:lnTo>
                  <a:pt x="42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5"/>
          <p:cNvSpPr/>
          <p:nvPr/>
        </p:nvSpPr>
        <p:spPr>
          <a:xfrm>
            <a:off x="6188040" y="305424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71" y="0"/>
                </a:moveTo>
                <a:lnTo>
                  <a:pt x="80" y="43"/>
                </a:lnTo>
                <a:lnTo>
                  <a:pt x="120" y="60"/>
                </a:lnTo>
                <a:lnTo>
                  <a:pt x="83" y="81"/>
                </a:lnTo>
                <a:lnTo>
                  <a:pt x="79" y="124"/>
                </a:lnTo>
                <a:lnTo>
                  <a:pt x="47" y="95"/>
                </a:lnTo>
                <a:lnTo>
                  <a:pt x="5" y="105"/>
                </a:lnTo>
                <a:lnTo>
                  <a:pt x="22" y="66"/>
                </a:lnTo>
                <a:lnTo>
                  <a:pt x="0" y="29"/>
                </a:lnTo>
                <a:lnTo>
                  <a:pt x="43" y="33"/>
                </a:lnTo>
                <a:lnTo>
                  <a:pt x="7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6"/>
          <p:cNvSpPr/>
          <p:nvPr/>
        </p:nvSpPr>
        <p:spPr>
          <a:xfrm>
            <a:off x="6188040" y="305424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71" y="0"/>
                </a:moveTo>
                <a:lnTo>
                  <a:pt x="80" y="43"/>
                </a:lnTo>
                <a:lnTo>
                  <a:pt x="120" y="60"/>
                </a:lnTo>
                <a:lnTo>
                  <a:pt x="83" y="81"/>
                </a:lnTo>
                <a:lnTo>
                  <a:pt x="79" y="124"/>
                </a:lnTo>
                <a:lnTo>
                  <a:pt x="47" y="95"/>
                </a:lnTo>
                <a:lnTo>
                  <a:pt x="5" y="105"/>
                </a:lnTo>
                <a:lnTo>
                  <a:pt x="22" y="66"/>
                </a:lnTo>
                <a:lnTo>
                  <a:pt x="0" y="29"/>
                </a:lnTo>
                <a:lnTo>
                  <a:pt x="43" y="33"/>
                </a:lnTo>
                <a:lnTo>
                  <a:pt x="7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59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8" y="3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5"/>
          <p:cNvSpPr/>
          <p:nvPr/>
        </p:nvSpPr>
        <p:spPr>
          <a:xfrm>
            <a:off x="6378480" y="2776680"/>
            <a:ext cx="192240" cy="19656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49" y="0"/>
                </a:moveTo>
                <a:lnTo>
                  <a:pt x="40" y="43"/>
                </a:lnTo>
                <a:lnTo>
                  <a:pt x="0" y="59"/>
                </a:lnTo>
                <a:lnTo>
                  <a:pt x="38" y="81"/>
                </a:lnTo>
                <a:lnTo>
                  <a:pt x="42" y="124"/>
                </a:lnTo>
                <a:lnTo>
                  <a:pt x="74" y="95"/>
                </a:lnTo>
                <a:lnTo>
                  <a:pt x="116" y="105"/>
                </a:lnTo>
                <a:lnTo>
                  <a:pt x="98" y="66"/>
                </a:lnTo>
                <a:lnTo>
                  <a:pt x="121" y="29"/>
                </a:lnTo>
                <a:lnTo>
                  <a:pt x="78" y="33"/>
                </a:lnTo>
                <a:lnTo>
                  <a:pt x="4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0"/>
          <p:cNvSpPr/>
          <p:nvPr/>
        </p:nvSpPr>
        <p:spPr>
          <a:xfrm>
            <a:off x="6216480" y="305424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1"/>
          <p:cNvSpPr/>
          <p:nvPr/>
        </p:nvSpPr>
        <p:spPr>
          <a:xfrm>
            <a:off x="6216480" y="3054240"/>
            <a:ext cx="16200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53" y="0"/>
                </a:moveTo>
                <a:lnTo>
                  <a:pt x="25" y="33"/>
                </a:lnTo>
                <a:lnTo>
                  <a:pt x="0" y="31"/>
                </a:lnTo>
                <a:lnTo>
                  <a:pt x="32" y="97"/>
                </a:lnTo>
                <a:lnTo>
                  <a:pt x="61" y="124"/>
                </a:lnTo>
                <a:lnTo>
                  <a:pt x="65" y="81"/>
                </a:lnTo>
                <a:lnTo>
                  <a:pt x="102" y="60"/>
                </a:lnTo>
                <a:lnTo>
                  <a:pt x="62" y="43"/>
                </a:lnTo>
                <a:lnTo>
                  <a:pt x="5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0"/>
          <p:cNvSpPr/>
          <p:nvPr/>
        </p:nvSpPr>
        <p:spPr>
          <a:xfrm>
            <a:off x="6153120" y="4030560"/>
            <a:ext cx="190440" cy="196920"/>
          </a:xfrm>
          <a:custGeom>
            <a:avLst/>
            <a:gdLst/>
            <a:ahLst/>
            <a:rect l="l" t="t" r="r" b="b"/>
            <a:pathLst>
              <a:path w="120" h="124">
                <a:moveTo>
                  <a:pt x="49" y="0"/>
                </a:moveTo>
                <a:lnTo>
                  <a:pt x="77" y="33"/>
                </a:lnTo>
                <a:lnTo>
                  <a:pt x="120" y="28"/>
                </a:lnTo>
                <a:lnTo>
                  <a:pt x="98" y="65"/>
                </a:lnTo>
                <a:lnTo>
                  <a:pt x="116" y="105"/>
                </a:lnTo>
                <a:lnTo>
                  <a:pt x="73" y="95"/>
                </a:lnTo>
                <a:lnTo>
                  <a:pt x="41" y="124"/>
                </a:lnTo>
                <a:lnTo>
                  <a:pt x="38" y="81"/>
                </a:lnTo>
                <a:lnTo>
                  <a:pt x="0" y="59"/>
                </a:lnTo>
                <a:lnTo>
                  <a:pt x="40" y="43"/>
                </a:lnTo>
                <a:lnTo>
                  <a:pt x="49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9032760" y="3181320"/>
            <a:ext cx="196920" cy="189000"/>
          </a:xfrm>
          <a:custGeom>
            <a:avLst/>
            <a:gdLst/>
            <a:ahLst/>
            <a:rect l="l" t="t" r="r" b="b"/>
            <a:pathLst>
              <a:path w="124" h="119">
                <a:moveTo>
                  <a:pt x="61" y="0"/>
                </a:moveTo>
                <a:lnTo>
                  <a:pt x="42" y="39"/>
                </a:lnTo>
                <a:lnTo>
                  <a:pt x="0" y="46"/>
                </a:lnTo>
                <a:lnTo>
                  <a:pt x="31" y="76"/>
                </a:lnTo>
                <a:lnTo>
                  <a:pt x="24" y="119"/>
                </a:lnTo>
                <a:lnTo>
                  <a:pt x="62" y="98"/>
                </a:lnTo>
                <a:lnTo>
                  <a:pt x="100" y="118"/>
                </a:lnTo>
                <a:lnTo>
                  <a:pt x="93" y="75"/>
                </a:lnTo>
                <a:lnTo>
                  <a:pt x="124" y="45"/>
                </a:lnTo>
                <a:lnTo>
                  <a:pt x="81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7610400" y="3013200"/>
            <a:ext cx="190440" cy="196560"/>
          </a:xfrm>
          <a:custGeom>
            <a:avLst/>
            <a:gdLst/>
            <a:ahLst/>
            <a:rect l="l" t="t" r="r" b="b"/>
            <a:pathLst>
              <a:path w="119" h="124">
                <a:moveTo>
                  <a:pt x="75" y="0"/>
                </a:moveTo>
                <a:lnTo>
                  <a:pt x="80" y="43"/>
                </a:lnTo>
                <a:lnTo>
                  <a:pt x="119" y="63"/>
                </a:lnTo>
                <a:lnTo>
                  <a:pt x="79" y="81"/>
                </a:lnTo>
                <a:lnTo>
                  <a:pt x="72" y="124"/>
                </a:lnTo>
                <a:lnTo>
                  <a:pt x="43" y="92"/>
                </a:lnTo>
                <a:lnTo>
                  <a:pt x="0" y="98"/>
                </a:lnTo>
                <a:lnTo>
                  <a:pt x="21" y="61"/>
                </a:lnTo>
                <a:lnTo>
                  <a:pt x="1" y="22"/>
                </a:lnTo>
                <a:lnTo>
                  <a:pt x="44" y="30"/>
                </a:lnTo>
                <a:lnTo>
                  <a:pt x="75" y="0"/>
                </a:lnTo>
                <a:close/>
              </a:path>
            </a:pathLst>
          </a:cu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medi4004.mp3" descr=""/>
          <p:cNvPicPr/>
          <p:nvPr/>
        </p:nvPicPr>
        <p:blipFill>
          <a:blip r:embed="rId1"/>
          <a:stretch/>
        </p:blipFill>
        <p:spPr>
          <a:xfrm>
            <a:off x="5791320" y="-990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2"/>
          <a:stretch/>
        </p:blipFill>
        <p:spPr>
          <a:xfrm>
            <a:off x="8686800" y="5867280"/>
            <a:ext cx="557280" cy="71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1a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47"/>
          <p:cNvSpPr/>
          <p:nvPr/>
        </p:nvSpPr>
        <p:spPr>
          <a:xfrm>
            <a:off x="7959600" y="3367080"/>
            <a:ext cx="3875040" cy="1309680"/>
          </a:xfrm>
          <a:custGeom>
            <a:avLst/>
            <a:gdLst/>
            <a:ahLst/>
            <a:rect l="l" t="t" r="r" b="b"/>
            <a:pathLst>
              <a:path w="3875261" h="1309315">
                <a:moveTo>
                  <a:pt x="1066800" y="1013296"/>
                </a:moveTo>
                <a:lnTo>
                  <a:pt x="1340048" y="1013296"/>
                </a:lnTo>
                <a:lnTo>
                  <a:pt x="1340048" y="1280852"/>
                </a:lnTo>
                <a:lnTo>
                  <a:pt x="1066800" y="1280852"/>
                </a:lnTo>
                <a:lnTo>
                  <a:pt x="1066800" y="1013296"/>
                </a:lnTo>
                <a:close/>
                <a:moveTo>
                  <a:pt x="2970125" y="592038"/>
                </a:moveTo>
                <a:lnTo>
                  <a:pt x="2970125" y="859594"/>
                </a:lnTo>
                <a:lnTo>
                  <a:pt x="3180755" y="859594"/>
                </a:lnTo>
                <a:lnTo>
                  <a:pt x="3180755" y="592038"/>
                </a:lnTo>
                <a:lnTo>
                  <a:pt x="2970125" y="592038"/>
                </a:lnTo>
                <a:close/>
                <a:moveTo>
                  <a:pt x="2030425" y="398487"/>
                </a:moveTo>
                <a:lnTo>
                  <a:pt x="1705942" y="842516"/>
                </a:lnTo>
                <a:lnTo>
                  <a:pt x="2030425" y="842516"/>
                </a:lnTo>
                <a:lnTo>
                  <a:pt x="2030425" y="398487"/>
                </a:lnTo>
                <a:close/>
                <a:moveTo>
                  <a:pt x="2975818" y="261863"/>
                </a:moveTo>
                <a:cubicBezTo>
                  <a:pt x="2930277" y="326380"/>
                  <a:pt x="2871453" y="381409"/>
                  <a:pt x="2799345" y="426950"/>
                </a:cubicBezTo>
                <a:lnTo>
                  <a:pt x="3180755" y="426950"/>
                </a:lnTo>
                <a:lnTo>
                  <a:pt x="3180755" y="261863"/>
                </a:lnTo>
                <a:lnTo>
                  <a:pt x="2975818" y="261863"/>
                </a:lnTo>
                <a:close/>
                <a:moveTo>
                  <a:pt x="478185" y="193551"/>
                </a:moveTo>
                <a:cubicBezTo>
                  <a:pt x="341561" y="189755"/>
                  <a:pt x="273249" y="347253"/>
                  <a:pt x="273249" y="666043"/>
                </a:cubicBezTo>
                <a:cubicBezTo>
                  <a:pt x="273249" y="973447"/>
                  <a:pt x="341561" y="1127149"/>
                  <a:pt x="478185" y="1127149"/>
                </a:cubicBezTo>
                <a:cubicBezTo>
                  <a:pt x="607219" y="1127149"/>
                  <a:pt x="671736" y="973447"/>
                  <a:pt x="671736" y="666043"/>
                </a:cubicBezTo>
                <a:cubicBezTo>
                  <a:pt x="675531" y="343458"/>
                  <a:pt x="611014" y="185960"/>
                  <a:pt x="478185" y="193551"/>
                </a:cubicBezTo>
                <a:close/>
                <a:moveTo>
                  <a:pt x="2041810" y="39848"/>
                </a:moveTo>
                <a:lnTo>
                  <a:pt x="2292288" y="39848"/>
                </a:lnTo>
                <a:lnTo>
                  <a:pt x="2292288" y="842516"/>
                </a:lnTo>
                <a:lnTo>
                  <a:pt x="2440297" y="842516"/>
                </a:lnTo>
                <a:lnTo>
                  <a:pt x="2440297" y="1018989"/>
                </a:lnTo>
                <a:lnTo>
                  <a:pt x="2292288" y="1018989"/>
                </a:lnTo>
                <a:lnTo>
                  <a:pt x="2292288" y="1269466"/>
                </a:lnTo>
                <a:lnTo>
                  <a:pt x="2030425" y="1269466"/>
                </a:lnTo>
                <a:lnTo>
                  <a:pt x="2030425" y="1018989"/>
                </a:lnTo>
                <a:lnTo>
                  <a:pt x="1449772" y="1018989"/>
                </a:lnTo>
                <a:lnTo>
                  <a:pt x="1449772" y="842516"/>
                </a:lnTo>
                <a:lnTo>
                  <a:pt x="2041810" y="39848"/>
                </a:lnTo>
                <a:close/>
                <a:moveTo>
                  <a:pt x="472492" y="17078"/>
                </a:moveTo>
                <a:cubicBezTo>
                  <a:pt x="787487" y="20873"/>
                  <a:pt x="946882" y="235297"/>
                  <a:pt x="950677" y="660350"/>
                </a:cubicBezTo>
                <a:cubicBezTo>
                  <a:pt x="954472" y="1085403"/>
                  <a:pt x="795077" y="1296032"/>
                  <a:pt x="472492" y="1292237"/>
                </a:cubicBezTo>
                <a:cubicBezTo>
                  <a:pt x="161293" y="1284647"/>
                  <a:pt x="3795" y="1074018"/>
                  <a:pt x="0" y="660350"/>
                </a:cubicBezTo>
                <a:cubicBezTo>
                  <a:pt x="7590" y="246682"/>
                  <a:pt x="165088" y="32258"/>
                  <a:pt x="472492" y="17078"/>
                </a:cubicBezTo>
                <a:close/>
                <a:moveTo>
                  <a:pt x="2827809" y="0"/>
                </a:moveTo>
                <a:lnTo>
                  <a:pt x="3083979" y="0"/>
                </a:lnTo>
                <a:cubicBezTo>
                  <a:pt x="3080184" y="11385"/>
                  <a:pt x="3076389" y="24668"/>
                  <a:pt x="3072594" y="39848"/>
                </a:cubicBezTo>
                <a:cubicBezTo>
                  <a:pt x="3065003" y="62619"/>
                  <a:pt x="3059311" y="79697"/>
                  <a:pt x="3055516" y="91082"/>
                </a:cubicBezTo>
                <a:lnTo>
                  <a:pt x="3829719" y="91082"/>
                </a:lnTo>
                <a:lnTo>
                  <a:pt x="3829719" y="261863"/>
                </a:lnTo>
                <a:lnTo>
                  <a:pt x="3442617" y="261863"/>
                </a:lnTo>
                <a:lnTo>
                  <a:pt x="3442617" y="426950"/>
                </a:lnTo>
                <a:lnTo>
                  <a:pt x="3795563" y="426950"/>
                </a:lnTo>
                <a:lnTo>
                  <a:pt x="3795563" y="592038"/>
                </a:lnTo>
                <a:lnTo>
                  <a:pt x="3442617" y="592038"/>
                </a:lnTo>
                <a:lnTo>
                  <a:pt x="3442617" y="859594"/>
                </a:lnTo>
                <a:lnTo>
                  <a:pt x="3875261" y="859594"/>
                </a:lnTo>
                <a:lnTo>
                  <a:pt x="3875261" y="1024681"/>
                </a:lnTo>
                <a:lnTo>
                  <a:pt x="3442617" y="1024681"/>
                </a:lnTo>
                <a:lnTo>
                  <a:pt x="3442617" y="1309315"/>
                </a:lnTo>
                <a:lnTo>
                  <a:pt x="3180755" y="1309315"/>
                </a:lnTo>
                <a:lnTo>
                  <a:pt x="3180755" y="1024681"/>
                </a:lnTo>
                <a:lnTo>
                  <a:pt x="2560253" y="1024681"/>
                </a:lnTo>
                <a:lnTo>
                  <a:pt x="2560253" y="859594"/>
                </a:lnTo>
                <a:lnTo>
                  <a:pt x="2731033" y="859594"/>
                </a:lnTo>
                <a:lnTo>
                  <a:pt x="2731033" y="461106"/>
                </a:lnTo>
                <a:cubicBezTo>
                  <a:pt x="2689287" y="483877"/>
                  <a:pt x="2639951" y="502853"/>
                  <a:pt x="2583024" y="518033"/>
                </a:cubicBezTo>
                <a:lnTo>
                  <a:pt x="2583024" y="364331"/>
                </a:lnTo>
                <a:cubicBezTo>
                  <a:pt x="2704467" y="288429"/>
                  <a:pt x="2786063" y="166985"/>
                  <a:pt x="2827809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45"/>
          <p:cNvSpPr/>
          <p:nvPr/>
        </p:nvSpPr>
        <p:spPr>
          <a:xfrm>
            <a:off x="6518160" y="1222200"/>
            <a:ext cx="5086440" cy="1587600"/>
          </a:xfrm>
          <a:custGeom>
            <a:avLst/>
            <a:gdLst/>
            <a:ahLst/>
            <a:rect l="l" t="t" r="r" b="b"/>
            <a:pathLst>
              <a:path w="5086648" h="1588293">
                <a:moveTo>
                  <a:pt x="2402979" y="1054298"/>
                </a:moveTo>
                <a:lnTo>
                  <a:pt x="2717900" y="1054298"/>
                </a:lnTo>
                <a:lnTo>
                  <a:pt x="2717900" y="1156990"/>
                </a:lnTo>
                <a:cubicBezTo>
                  <a:pt x="2685951" y="1284783"/>
                  <a:pt x="2884488" y="1373782"/>
                  <a:pt x="3313510" y="1423987"/>
                </a:cubicBezTo>
                <a:lnTo>
                  <a:pt x="3313510" y="1588293"/>
                </a:lnTo>
                <a:cubicBezTo>
                  <a:pt x="3003154" y="1579165"/>
                  <a:pt x="2754412" y="1524397"/>
                  <a:pt x="2567285" y="1423987"/>
                </a:cubicBezTo>
                <a:cubicBezTo>
                  <a:pt x="2412107" y="1524397"/>
                  <a:pt x="2149674" y="1579165"/>
                  <a:pt x="1779985" y="1588293"/>
                </a:cubicBezTo>
                <a:lnTo>
                  <a:pt x="1779985" y="1423987"/>
                </a:lnTo>
                <a:cubicBezTo>
                  <a:pt x="2227263" y="1396603"/>
                  <a:pt x="2434928" y="1307604"/>
                  <a:pt x="2402979" y="1156990"/>
                </a:cubicBezTo>
                <a:lnTo>
                  <a:pt x="2402979" y="1054298"/>
                </a:lnTo>
                <a:close/>
                <a:moveTo>
                  <a:pt x="4135041" y="917376"/>
                </a:moveTo>
                <a:lnTo>
                  <a:pt x="4463654" y="917376"/>
                </a:lnTo>
                <a:lnTo>
                  <a:pt x="4463654" y="999529"/>
                </a:lnTo>
                <a:lnTo>
                  <a:pt x="5059264" y="999529"/>
                </a:lnTo>
                <a:lnTo>
                  <a:pt x="5059264" y="1191220"/>
                </a:lnTo>
                <a:lnTo>
                  <a:pt x="4545806" y="1191220"/>
                </a:lnTo>
                <a:cubicBezTo>
                  <a:pt x="4650780" y="1296193"/>
                  <a:pt x="4831060" y="1373782"/>
                  <a:pt x="5086648" y="1423987"/>
                </a:cubicBezTo>
                <a:lnTo>
                  <a:pt x="5086648" y="1581447"/>
                </a:lnTo>
                <a:cubicBezTo>
                  <a:pt x="4703266" y="1549499"/>
                  <a:pt x="4440833" y="1465064"/>
                  <a:pt x="4299347" y="1328142"/>
                </a:cubicBezTo>
                <a:cubicBezTo>
                  <a:pt x="4157861" y="1465064"/>
                  <a:pt x="3895428" y="1549499"/>
                  <a:pt x="3512046" y="1581447"/>
                </a:cubicBezTo>
                <a:lnTo>
                  <a:pt x="3512046" y="1423987"/>
                </a:lnTo>
                <a:cubicBezTo>
                  <a:pt x="3767634" y="1373782"/>
                  <a:pt x="3947914" y="1296193"/>
                  <a:pt x="4052888" y="1191220"/>
                </a:cubicBezTo>
                <a:lnTo>
                  <a:pt x="3532584" y="1191220"/>
                </a:lnTo>
                <a:lnTo>
                  <a:pt x="3532584" y="999529"/>
                </a:lnTo>
                <a:lnTo>
                  <a:pt x="4135041" y="999529"/>
                </a:lnTo>
                <a:lnTo>
                  <a:pt x="4135041" y="917376"/>
                </a:lnTo>
                <a:close/>
                <a:moveTo>
                  <a:pt x="27385" y="842069"/>
                </a:moveTo>
                <a:lnTo>
                  <a:pt x="1560910" y="842069"/>
                </a:lnTo>
                <a:lnTo>
                  <a:pt x="1560910" y="1040606"/>
                </a:lnTo>
                <a:lnTo>
                  <a:pt x="753071" y="1040606"/>
                </a:lnTo>
                <a:cubicBezTo>
                  <a:pt x="680046" y="1150143"/>
                  <a:pt x="593329" y="1241425"/>
                  <a:pt x="492919" y="1314450"/>
                </a:cubicBezTo>
                <a:cubicBezTo>
                  <a:pt x="707430" y="1323578"/>
                  <a:pt x="910531" y="1316732"/>
                  <a:pt x="1102221" y="1293911"/>
                </a:cubicBezTo>
                <a:cubicBezTo>
                  <a:pt x="1083965" y="1239143"/>
                  <a:pt x="1061145" y="1186656"/>
                  <a:pt x="1033761" y="1136451"/>
                </a:cubicBezTo>
                <a:lnTo>
                  <a:pt x="1287066" y="1136451"/>
                </a:lnTo>
                <a:cubicBezTo>
                  <a:pt x="1373783" y="1282501"/>
                  <a:pt x="1430834" y="1423987"/>
                  <a:pt x="1458218" y="1560909"/>
                </a:cubicBezTo>
                <a:lnTo>
                  <a:pt x="1184375" y="1560909"/>
                </a:lnTo>
                <a:cubicBezTo>
                  <a:pt x="1184375" y="1551781"/>
                  <a:pt x="1182093" y="1535807"/>
                  <a:pt x="1177528" y="1512986"/>
                </a:cubicBezTo>
                <a:cubicBezTo>
                  <a:pt x="1172964" y="1494730"/>
                  <a:pt x="1168400" y="1478756"/>
                  <a:pt x="1163836" y="1465064"/>
                </a:cubicBezTo>
                <a:cubicBezTo>
                  <a:pt x="917377" y="1501576"/>
                  <a:pt x="641251" y="1519833"/>
                  <a:pt x="335459" y="1519833"/>
                </a:cubicBezTo>
                <a:lnTo>
                  <a:pt x="184845" y="1519833"/>
                </a:lnTo>
                <a:lnTo>
                  <a:pt x="184845" y="1314450"/>
                </a:lnTo>
                <a:cubicBezTo>
                  <a:pt x="285254" y="1218604"/>
                  <a:pt x="358279" y="1127323"/>
                  <a:pt x="403920" y="1040606"/>
                </a:cubicBezTo>
                <a:lnTo>
                  <a:pt x="27385" y="1040606"/>
                </a:lnTo>
                <a:lnTo>
                  <a:pt x="27385" y="842069"/>
                </a:lnTo>
                <a:close/>
                <a:moveTo>
                  <a:pt x="2129135" y="513457"/>
                </a:moveTo>
                <a:cubicBezTo>
                  <a:pt x="2124571" y="654943"/>
                  <a:pt x="2072084" y="757634"/>
                  <a:pt x="1971675" y="821531"/>
                </a:cubicBezTo>
                <a:lnTo>
                  <a:pt x="2183904" y="821531"/>
                </a:lnTo>
                <a:lnTo>
                  <a:pt x="2183904" y="513457"/>
                </a:lnTo>
                <a:lnTo>
                  <a:pt x="2129135" y="513457"/>
                </a:lnTo>
                <a:close/>
                <a:moveTo>
                  <a:pt x="794147" y="273843"/>
                </a:moveTo>
                <a:cubicBezTo>
                  <a:pt x="689174" y="369689"/>
                  <a:pt x="575072" y="449560"/>
                  <a:pt x="451843" y="513457"/>
                </a:cubicBezTo>
                <a:lnTo>
                  <a:pt x="1136452" y="513457"/>
                </a:lnTo>
                <a:cubicBezTo>
                  <a:pt x="1017786" y="449560"/>
                  <a:pt x="903685" y="369689"/>
                  <a:pt x="794147" y="273843"/>
                </a:cubicBezTo>
                <a:close/>
                <a:moveTo>
                  <a:pt x="2717900" y="253305"/>
                </a:moveTo>
                <a:cubicBezTo>
                  <a:pt x="2672258" y="298946"/>
                  <a:pt x="2606080" y="335458"/>
                  <a:pt x="2519363" y="362843"/>
                </a:cubicBezTo>
                <a:lnTo>
                  <a:pt x="2519363" y="513457"/>
                </a:lnTo>
                <a:lnTo>
                  <a:pt x="2396133" y="513457"/>
                </a:lnTo>
                <a:lnTo>
                  <a:pt x="2396133" y="629840"/>
                </a:lnTo>
                <a:cubicBezTo>
                  <a:pt x="2400697" y="629840"/>
                  <a:pt x="2407543" y="627558"/>
                  <a:pt x="2416671" y="622994"/>
                </a:cubicBezTo>
                <a:cubicBezTo>
                  <a:pt x="2466876" y="613866"/>
                  <a:pt x="2505670" y="602456"/>
                  <a:pt x="2533055" y="588764"/>
                </a:cubicBezTo>
                <a:lnTo>
                  <a:pt x="2533055" y="739378"/>
                </a:lnTo>
                <a:cubicBezTo>
                  <a:pt x="2469158" y="775890"/>
                  <a:pt x="2393851" y="803275"/>
                  <a:pt x="2307134" y="821531"/>
                </a:cubicBezTo>
                <a:lnTo>
                  <a:pt x="2560439" y="821531"/>
                </a:lnTo>
                <a:lnTo>
                  <a:pt x="2560439" y="711993"/>
                </a:lnTo>
                <a:cubicBezTo>
                  <a:pt x="2624336" y="657225"/>
                  <a:pt x="2658566" y="591046"/>
                  <a:pt x="2663131" y="513457"/>
                </a:cubicBezTo>
                <a:lnTo>
                  <a:pt x="2567285" y="513457"/>
                </a:lnTo>
                <a:lnTo>
                  <a:pt x="2567285" y="355996"/>
                </a:lnTo>
                <a:lnTo>
                  <a:pt x="2847975" y="355996"/>
                </a:lnTo>
                <a:lnTo>
                  <a:pt x="2847975" y="253305"/>
                </a:lnTo>
                <a:lnTo>
                  <a:pt x="2717900" y="253305"/>
                </a:lnTo>
                <a:close/>
                <a:moveTo>
                  <a:pt x="1978521" y="246459"/>
                </a:moveTo>
                <a:cubicBezTo>
                  <a:pt x="1932881" y="292100"/>
                  <a:pt x="1868984" y="328612"/>
                  <a:pt x="1786831" y="355996"/>
                </a:cubicBezTo>
                <a:lnTo>
                  <a:pt x="2115443" y="355996"/>
                </a:lnTo>
                <a:lnTo>
                  <a:pt x="2115443" y="246459"/>
                </a:lnTo>
                <a:lnTo>
                  <a:pt x="1978521" y="246459"/>
                </a:lnTo>
                <a:close/>
                <a:moveTo>
                  <a:pt x="3820120" y="20538"/>
                </a:moveTo>
                <a:lnTo>
                  <a:pt x="4135041" y="20538"/>
                </a:lnTo>
                <a:cubicBezTo>
                  <a:pt x="4139605" y="38794"/>
                  <a:pt x="4144168" y="61614"/>
                  <a:pt x="4148733" y="88999"/>
                </a:cubicBezTo>
                <a:cubicBezTo>
                  <a:pt x="4153298" y="102691"/>
                  <a:pt x="4155579" y="114101"/>
                  <a:pt x="4155579" y="123229"/>
                </a:cubicBezTo>
                <a:lnTo>
                  <a:pt x="4443115" y="123229"/>
                </a:lnTo>
                <a:cubicBezTo>
                  <a:pt x="4443115" y="114101"/>
                  <a:pt x="4445397" y="102691"/>
                  <a:pt x="4449961" y="88999"/>
                </a:cubicBezTo>
                <a:cubicBezTo>
                  <a:pt x="4454526" y="61614"/>
                  <a:pt x="4459089" y="38794"/>
                  <a:pt x="4463654" y="20538"/>
                </a:cubicBezTo>
                <a:lnTo>
                  <a:pt x="4778574" y="20538"/>
                </a:lnTo>
                <a:cubicBezTo>
                  <a:pt x="4774010" y="61614"/>
                  <a:pt x="4767164" y="95845"/>
                  <a:pt x="4758036" y="123229"/>
                </a:cubicBezTo>
                <a:lnTo>
                  <a:pt x="5052418" y="123229"/>
                </a:lnTo>
                <a:lnTo>
                  <a:pt x="5052418" y="314920"/>
                </a:lnTo>
                <a:lnTo>
                  <a:pt x="4449961" y="314920"/>
                </a:lnTo>
                <a:lnTo>
                  <a:pt x="4449961" y="403919"/>
                </a:lnTo>
                <a:lnTo>
                  <a:pt x="4970264" y="403919"/>
                </a:lnTo>
                <a:lnTo>
                  <a:pt x="4970264" y="595610"/>
                </a:lnTo>
                <a:lnTo>
                  <a:pt x="4449961" y="595610"/>
                </a:lnTo>
                <a:lnTo>
                  <a:pt x="4449961" y="684609"/>
                </a:lnTo>
                <a:lnTo>
                  <a:pt x="5086648" y="684609"/>
                </a:lnTo>
                <a:lnTo>
                  <a:pt x="5086648" y="883146"/>
                </a:lnTo>
                <a:lnTo>
                  <a:pt x="3512046" y="883146"/>
                </a:lnTo>
                <a:lnTo>
                  <a:pt x="3512046" y="684609"/>
                </a:lnTo>
                <a:lnTo>
                  <a:pt x="4135041" y="684609"/>
                </a:lnTo>
                <a:lnTo>
                  <a:pt x="4135041" y="595610"/>
                </a:lnTo>
                <a:lnTo>
                  <a:pt x="3642122" y="595610"/>
                </a:lnTo>
                <a:lnTo>
                  <a:pt x="3642122" y="403919"/>
                </a:lnTo>
                <a:lnTo>
                  <a:pt x="4135041" y="403919"/>
                </a:lnTo>
                <a:lnTo>
                  <a:pt x="4135041" y="314920"/>
                </a:lnTo>
                <a:lnTo>
                  <a:pt x="3546277" y="314920"/>
                </a:lnTo>
                <a:lnTo>
                  <a:pt x="3546277" y="123229"/>
                </a:lnTo>
                <a:lnTo>
                  <a:pt x="3840659" y="123229"/>
                </a:lnTo>
                <a:cubicBezTo>
                  <a:pt x="3836094" y="95845"/>
                  <a:pt x="3829248" y="61614"/>
                  <a:pt x="3820120" y="20538"/>
                </a:cubicBezTo>
                <a:close/>
                <a:moveTo>
                  <a:pt x="2115443" y="6846"/>
                </a:moveTo>
                <a:lnTo>
                  <a:pt x="2355056" y="6846"/>
                </a:lnTo>
                <a:lnTo>
                  <a:pt x="2355056" y="88999"/>
                </a:lnTo>
                <a:lnTo>
                  <a:pt x="2505670" y="88999"/>
                </a:lnTo>
                <a:lnTo>
                  <a:pt x="2505670" y="246459"/>
                </a:lnTo>
                <a:lnTo>
                  <a:pt x="2355056" y="246459"/>
                </a:lnTo>
                <a:lnTo>
                  <a:pt x="2355056" y="355996"/>
                </a:lnTo>
                <a:lnTo>
                  <a:pt x="2519363" y="355996"/>
                </a:lnTo>
                <a:lnTo>
                  <a:pt x="2519363" y="225921"/>
                </a:lnTo>
                <a:cubicBezTo>
                  <a:pt x="2574132" y="175716"/>
                  <a:pt x="2606080" y="107255"/>
                  <a:pt x="2615208" y="20538"/>
                </a:cubicBezTo>
                <a:lnTo>
                  <a:pt x="2813745" y="20538"/>
                </a:lnTo>
                <a:cubicBezTo>
                  <a:pt x="2813745" y="29666"/>
                  <a:pt x="2811463" y="43358"/>
                  <a:pt x="2806898" y="61614"/>
                </a:cubicBezTo>
                <a:cubicBezTo>
                  <a:pt x="2806898" y="75307"/>
                  <a:pt x="2804617" y="86717"/>
                  <a:pt x="2800052" y="95845"/>
                </a:cubicBezTo>
                <a:lnTo>
                  <a:pt x="2847975" y="95845"/>
                </a:lnTo>
                <a:lnTo>
                  <a:pt x="2847975" y="13692"/>
                </a:lnTo>
                <a:lnTo>
                  <a:pt x="3087588" y="13692"/>
                </a:lnTo>
                <a:lnTo>
                  <a:pt x="3087588" y="95845"/>
                </a:lnTo>
                <a:lnTo>
                  <a:pt x="3313510" y="95845"/>
                </a:lnTo>
                <a:lnTo>
                  <a:pt x="3313510" y="253305"/>
                </a:lnTo>
                <a:lnTo>
                  <a:pt x="3087588" y="253305"/>
                </a:lnTo>
                <a:lnTo>
                  <a:pt x="3087588" y="355996"/>
                </a:lnTo>
                <a:lnTo>
                  <a:pt x="3347740" y="355996"/>
                </a:lnTo>
                <a:lnTo>
                  <a:pt x="3347740" y="513457"/>
                </a:lnTo>
                <a:lnTo>
                  <a:pt x="3135511" y="513457"/>
                </a:lnTo>
                <a:lnTo>
                  <a:pt x="3135511" y="616148"/>
                </a:lnTo>
                <a:cubicBezTo>
                  <a:pt x="3135511" y="634404"/>
                  <a:pt x="3144639" y="643532"/>
                  <a:pt x="3162896" y="643532"/>
                </a:cubicBezTo>
                <a:cubicBezTo>
                  <a:pt x="3181152" y="643532"/>
                  <a:pt x="3190280" y="634404"/>
                  <a:pt x="3190280" y="616148"/>
                </a:cubicBezTo>
                <a:lnTo>
                  <a:pt x="3190280" y="575071"/>
                </a:lnTo>
                <a:lnTo>
                  <a:pt x="3340894" y="575071"/>
                </a:lnTo>
                <a:lnTo>
                  <a:pt x="3340894" y="670917"/>
                </a:lnTo>
                <a:cubicBezTo>
                  <a:pt x="3340894" y="753070"/>
                  <a:pt x="3297536" y="794146"/>
                  <a:pt x="3210818" y="794146"/>
                </a:cubicBezTo>
                <a:lnTo>
                  <a:pt x="3080742" y="794146"/>
                </a:lnTo>
                <a:cubicBezTo>
                  <a:pt x="2971205" y="798711"/>
                  <a:pt x="2918718" y="753070"/>
                  <a:pt x="2923282" y="657225"/>
                </a:cubicBezTo>
                <a:lnTo>
                  <a:pt x="2923282" y="513457"/>
                </a:lnTo>
                <a:lnTo>
                  <a:pt x="2875360" y="513457"/>
                </a:lnTo>
                <a:cubicBezTo>
                  <a:pt x="2870795" y="668635"/>
                  <a:pt x="2793206" y="771326"/>
                  <a:pt x="2642592" y="821531"/>
                </a:cubicBezTo>
                <a:lnTo>
                  <a:pt x="3203972" y="821531"/>
                </a:lnTo>
                <a:lnTo>
                  <a:pt x="3203972" y="1293911"/>
                </a:lnTo>
                <a:lnTo>
                  <a:pt x="2916436" y="1293911"/>
                </a:lnTo>
                <a:lnTo>
                  <a:pt x="2916436" y="999529"/>
                </a:lnTo>
                <a:lnTo>
                  <a:pt x="2197596" y="999529"/>
                </a:lnTo>
                <a:lnTo>
                  <a:pt x="2197596" y="1293911"/>
                </a:lnTo>
                <a:lnTo>
                  <a:pt x="1910060" y="1293911"/>
                </a:lnTo>
                <a:lnTo>
                  <a:pt x="1910060" y="862607"/>
                </a:lnTo>
                <a:cubicBezTo>
                  <a:pt x="1900932" y="867171"/>
                  <a:pt x="1882676" y="874018"/>
                  <a:pt x="1855292" y="883146"/>
                </a:cubicBezTo>
                <a:cubicBezTo>
                  <a:pt x="1823344" y="896838"/>
                  <a:pt x="1798241" y="905966"/>
                  <a:pt x="1779985" y="910530"/>
                </a:cubicBezTo>
                <a:lnTo>
                  <a:pt x="1779985" y="759916"/>
                </a:lnTo>
                <a:cubicBezTo>
                  <a:pt x="1857574" y="696019"/>
                  <a:pt x="1898650" y="613866"/>
                  <a:pt x="1903214" y="513457"/>
                </a:cubicBezTo>
                <a:lnTo>
                  <a:pt x="1773139" y="513457"/>
                </a:lnTo>
                <a:lnTo>
                  <a:pt x="1773139" y="355996"/>
                </a:lnTo>
                <a:lnTo>
                  <a:pt x="1779985" y="355996"/>
                </a:lnTo>
                <a:lnTo>
                  <a:pt x="1779985" y="225921"/>
                </a:lnTo>
                <a:cubicBezTo>
                  <a:pt x="1834753" y="175716"/>
                  <a:pt x="1866702" y="107255"/>
                  <a:pt x="1875830" y="20538"/>
                </a:cubicBezTo>
                <a:lnTo>
                  <a:pt x="2074366" y="20538"/>
                </a:lnTo>
                <a:cubicBezTo>
                  <a:pt x="2074366" y="29666"/>
                  <a:pt x="2072084" y="41076"/>
                  <a:pt x="2067520" y="54768"/>
                </a:cubicBezTo>
                <a:cubicBezTo>
                  <a:pt x="2067520" y="68461"/>
                  <a:pt x="2065238" y="79871"/>
                  <a:pt x="2060674" y="88999"/>
                </a:cubicBezTo>
                <a:lnTo>
                  <a:pt x="2115443" y="88999"/>
                </a:lnTo>
                <a:lnTo>
                  <a:pt x="2115443" y="6846"/>
                </a:lnTo>
                <a:close/>
                <a:moveTo>
                  <a:pt x="622995" y="0"/>
                </a:moveTo>
                <a:lnTo>
                  <a:pt x="965300" y="0"/>
                </a:lnTo>
                <a:cubicBezTo>
                  <a:pt x="1097657" y="223639"/>
                  <a:pt x="1305322" y="390227"/>
                  <a:pt x="1588294" y="499764"/>
                </a:cubicBezTo>
                <a:lnTo>
                  <a:pt x="1588294" y="677763"/>
                </a:lnTo>
                <a:cubicBezTo>
                  <a:pt x="1460500" y="645814"/>
                  <a:pt x="1348681" y="609302"/>
                  <a:pt x="1252836" y="568225"/>
                </a:cubicBezTo>
                <a:lnTo>
                  <a:pt x="1252836" y="711993"/>
                </a:lnTo>
                <a:lnTo>
                  <a:pt x="328613" y="711993"/>
                </a:lnTo>
                <a:lnTo>
                  <a:pt x="328613" y="568225"/>
                </a:lnTo>
                <a:cubicBezTo>
                  <a:pt x="232768" y="609302"/>
                  <a:pt x="123230" y="645814"/>
                  <a:pt x="0" y="677763"/>
                </a:cubicBezTo>
                <a:lnTo>
                  <a:pt x="0" y="499764"/>
                </a:lnTo>
                <a:cubicBezTo>
                  <a:pt x="282972" y="390227"/>
                  <a:pt x="490637" y="223639"/>
                  <a:pt x="62299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抱感恩心、喜欢赞美别人的人能把每一天都过得快乐充实，也活得更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687240" y="960480"/>
            <a:ext cx="4721400" cy="5745240"/>
            <a:chOff x="687240" y="960480"/>
            <a:chExt cx="4721400" cy="5745240"/>
          </a:xfrm>
        </p:grpSpPr>
        <p:sp>
          <p:nvSpPr>
            <p:cNvPr id="512" name="AutoShape 3"/>
            <p:cNvSpPr/>
            <p:nvPr/>
          </p:nvSpPr>
          <p:spPr>
            <a:xfrm>
              <a:off x="712800" y="990720"/>
              <a:ext cx="467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"/>
            <p:cNvSpPr/>
            <p:nvPr/>
          </p:nvSpPr>
          <p:spPr>
            <a:xfrm>
              <a:off x="2203200" y="6195960"/>
              <a:ext cx="2673360" cy="509760"/>
            </a:xfrm>
            <a:prstGeom prst="ellipse">
              <a:avLst/>
            </a:prstGeom>
            <a:solidFill>
              <a:srgbClr val="019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1623960" y="2613240"/>
              <a:ext cx="1089000" cy="571320"/>
            </a:xfrm>
            <a:custGeom>
              <a:avLst/>
              <a:gdLst/>
              <a:ahLst/>
              <a:rect l="l" t="t" r="r" b="b"/>
              <a:pathLst>
                <a:path w="686" h="360">
                  <a:moveTo>
                    <a:pt x="686" y="360"/>
                  </a:moveTo>
                  <a:lnTo>
                    <a:pt x="0" y="301"/>
                  </a:lnTo>
                  <a:lnTo>
                    <a:pt x="52" y="0"/>
                  </a:lnTo>
                  <a:lnTo>
                    <a:pt x="525" y="196"/>
                  </a:lnTo>
                  <a:lnTo>
                    <a:pt x="686" y="36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1692000" y="3413160"/>
              <a:ext cx="1241640" cy="925560"/>
            </a:xfrm>
            <a:custGeom>
              <a:avLst/>
              <a:gdLst/>
              <a:ahLst/>
              <a:rect l="l" t="t" r="r" b="b"/>
              <a:pathLst>
                <a:path w="782" h="583">
                  <a:moveTo>
                    <a:pt x="717" y="0"/>
                  </a:moveTo>
                  <a:lnTo>
                    <a:pt x="0" y="205"/>
                  </a:lnTo>
                  <a:lnTo>
                    <a:pt x="235" y="583"/>
                  </a:lnTo>
                  <a:lnTo>
                    <a:pt x="782" y="154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2251080" y="3930840"/>
              <a:ext cx="917280" cy="1780920"/>
            </a:xfrm>
            <a:custGeom>
              <a:avLst/>
              <a:gdLst/>
              <a:ahLst/>
              <a:rect l="l" t="t" r="r" b="b"/>
              <a:pathLst>
                <a:path w="578" h="1122">
                  <a:moveTo>
                    <a:pt x="416" y="0"/>
                  </a:moveTo>
                  <a:lnTo>
                    <a:pt x="0" y="974"/>
                  </a:lnTo>
                  <a:lnTo>
                    <a:pt x="386" y="1122"/>
                  </a:lnTo>
                  <a:lnTo>
                    <a:pt x="578" y="14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3587760" y="3849840"/>
              <a:ext cx="1054080" cy="1689120"/>
            </a:xfrm>
            <a:custGeom>
              <a:avLst/>
              <a:gdLst/>
              <a:ahLst/>
              <a:rect l="l" t="t" r="r" b="b"/>
              <a:pathLst>
                <a:path w="664" h="1064">
                  <a:moveTo>
                    <a:pt x="0" y="154"/>
                  </a:moveTo>
                  <a:lnTo>
                    <a:pt x="367" y="1064"/>
                  </a:lnTo>
                  <a:lnTo>
                    <a:pt x="664" y="592"/>
                  </a:lnTo>
                  <a:lnTo>
                    <a:pt x="5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498840" y="3127320"/>
              <a:ext cx="1042920" cy="1125720"/>
            </a:xfrm>
            <a:custGeom>
              <a:avLst/>
              <a:gdLst/>
              <a:ahLst/>
              <a:rect l="l" t="t" r="r" b="b"/>
              <a:pathLst>
                <a:path w="657" h="709">
                  <a:moveTo>
                    <a:pt x="0" y="137"/>
                  </a:moveTo>
                  <a:lnTo>
                    <a:pt x="620" y="709"/>
                  </a:lnTo>
                  <a:lnTo>
                    <a:pt x="657" y="245"/>
                  </a:lnTo>
                  <a:lnTo>
                    <a:pt x="53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3744720" y="2265480"/>
              <a:ext cx="1069920" cy="757080"/>
            </a:xfrm>
            <a:custGeom>
              <a:avLst/>
              <a:gdLst/>
              <a:ahLst/>
              <a:rect l="l" t="t" r="r" b="b"/>
              <a:pathLst>
                <a:path w="674" h="477">
                  <a:moveTo>
                    <a:pt x="0" y="477"/>
                  </a:moveTo>
                  <a:lnTo>
                    <a:pt x="674" y="359"/>
                  </a:lnTo>
                  <a:lnTo>
                    <a:pt x="657" y="0"/>
                  </a:lnTo>
                  <a:lnTo>
                    <a:pt x="127" y="285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047680" y="2754360"/>
              <a:ext cx="665280" cy="430200"/>
            </a:xfrm>
            <a:custGeom>
              <a:avLst/>
              <a:gdLst/>
              <a:ahLst/>
              <a:rect l="l" t="t" r="r" b="b"/>
              <a:pathLst>
                <a:path w="372" h="241">
                  <a:moveTo>
                    <a:pt x="118" y="163"/>
                  </a:moveTo>
                  <a:cubicBezTo>
                    <a:pt x="140" y="188"/>
                    <a:pt x="165" y="207"/>
                    <a:pt x="190" y="225"/>
                  </a:cubicBezTo>
                  <a:cubicBezTo>
                    <a:pt x="372" y="241"/>
                    <a:pt x="372" y="241"/>
                    <a:pt x="372" y="241"/>
                  </a:cubicBezTo>
                  <a:cubicBezTo>
                    <a:pt x="229" y="95"/>
                    <a:pt x="229" y="95"/>
                    <a:pt x="229" y="9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61"/>
                    <a:pt x="74" y="115"/>
                    <a:pt x="118" y="16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2706480" y="3413160"/>
              <a:ext cx="227160" cy="405000"/>
            </a:xfrm>
            <a:custGeom>
              <a:avLst/>
              <a:gdLst/>
              <a:ahLst/>
              <a:rect l="l" t="t" r="r" b="b"/>
              <a:pathLst>
                <a:path w="127" h="227">
                  <a:moveTo>
                    <a:pt x="9" y="81"/>
                  </a:moveTo>
                  <a:cubicBezTo>
                    <a:pt x="9" y="130"/>
                    <a:pt x="8" y="179"/>
                    <a:pt x="12" y="227"/>
                  </a:cubicBezTo>
                  <a:cubicBezTo>
                    <a:pt x="127" y="137"/>
                    <a:pt x="127" y="137"/>
                    <a:pt x="127" y="137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6" y="38"/>
                    <a:pt x="9" y="58"/>
                    <a:pt x="9" y="81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809800" y="3930840"/>
              <a:ext cx="358560" cy="792000"/>
            </a:xfrm>
            <a:custGeom>
              <a:avLst/>
              <a:gdLst/>
              <a:ahLst/>
              <a:rect l="l" t="t" r="r" b="b"/>
              <a:pathLst>
                <a:path w="201" h="443">
                  <a:moveTo>
                    <a:pt x="32" y="243"/>
                  </a:moveTo>
                  <a:cubicBezTo>
                    <a:pt x="49" y="302"/>
                    <a:pt x="66" y="368"/>
                    <a:pt x="108" y="414"/>
                  </a:cubicBezTo>
                  <a:cubicBezTo>
                    <a:pt x="117" y="425"/>
                    <a:pt x="128" y="434"/>
                    <a:pt x="139" y="443"/>
                  </a:cubicBezTo>
                  <a:cubicBezTo>
                    <a:pt x="201" y="124"/>
                    <a:pt x="201" y="124"/>
                    <a:pt x="201" y="124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11" y="170"/>
                    <a:pt x="22" y="206"/>
                    <a:pt x="32" y="24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3587760" y="3849840"/>
              <a:ext cx="288720" cy="755640"/>
            </a:xfrm>
            <a:custGeom>
              <a:avLst/>
              <a:gdLst/>
              <a:ahLst/>
              <a:rect l="l" t="t" r="r" b="b"/>
              <a:pathLst>
                <a:path w="162" h="424">
                  <a:moveTo>
                    <a:pt x="147" y="293"/>
                  </a:moveTo>
                  <a:cubicBezTo>
                    <a:pt x="137" y="261"/>
                    <a:pt x="121" y="232"/>
                    <a:pt x="118" y="198"/>
                  </a:cubicBezTo>
                  <a:cubicBezTo>
                    <a:pt x="114" y="166"/>
                    <a:pt x="116" y="133"/>
                    <a:pt x="116" y="10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16" y="424"/>
                    <a:pt x="116" y="424"/>
                    <a:pt x="116" y="424"/>
                  </a:cubicBezTo>
                  <a:cubicBezTo>
                    <a:pt x="145" y="386"/>
                    <a:pt x="162" y="341"/>
                    <a:pt x="147" y="293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3498840" y="3127320"/>
              <a:ext cx="231480" cy="3603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98" y="87"/>
                  </a:moveTo>
                  <a:cubicBezTo>
                    <a:pt x="106" y="68"/>
                    <a:pt x="117" y="50"/>
                    <a:pt x="129" y="34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86" y="202"/>
                    <a:pt x="86" y="202"/>
                    <a:pt x="86" y="202"/>
                  </a:cubicBezTo>
                  <a:cubicBezTo>
                    <a:pt x="80" y="163"/>
                    <a:pt x="82" y="126"/>
                    <a:pt x="98" y="87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3744720" y="2511360"/>
              <a:ext cx="584280" cy="511200"/>
            </a:xfrm>
            <a:custGeom>
              <a:avLst/>
              <a:gdLst/>
              <a:ahLst/>
              <a:rect l="l" t="t" r="r" b="b"/>
              <a:pathLst>
                <a:path w="328" h="286">
                  <a:moveTo>
                    <a:pt x="181" y="214"/>
                  </a:moveTo>
                  <a:cubicBezTo>
                    <a:pt x="225" y="179"/>
                    <a:pt x="273" y="140"/>
                    <a:pt x="298" y="89"/>
                  </a:cubicBezTo>
                  <a:cubicBezTo>
                    <a:pt x="311" y="60"/>
                    <a:pt x="320" y="31"/>
                    <a:pt x="328" y="0"/>
                  </a:cubicBezTo>
                  <a:cubicBezTo>
                    <a:pt x="113" y="115"/>
                    <a:pt x="113" y="115"/>
                    <a:pt x="113" y="115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14" y="266"/>
                    <a:pt x="114" y="266"/>
                    <a:pt x="114" y="266"/>
                  </a:cubicBezTo>
                  <a:cubicBezTo>
                    <a:pt x="137" y="248"/>
                    <a:pt x="160" y="231"/>
                    <a:pt x="181" y="214"/>
                  </a:cubicBezTo>
                  <a:close/>
                </a:path>
              </a:pathLst>
            </a:cu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1820880" y="1959120"/>
              <a:ext cx="244440" cy="263520"/>
            </a:xfrm>
            <a:custGeom>
              <a:avLst/>
              <a:gdLst/>
              <a:ahLst/>
              <a:rect l="l" t="t" r="r" b="b"/>
              <a:pathLst>
                <a:path w="154" h="166">
                  <a:moveTo>
                    <a:pt x="67" y="166"/>
                  </a:moveTo>
                  <a:lnTo>
                    <a:pt x="0" y="65"/>
                  </a:lnTo>
                  <a:lnTo>
                    <a:pt x="126" y="0"/>
                  </a:lnTo>
                  <a:lnTo>
                    <a:pt x="154" y="132"/>
                  </a:lnTo>
                  <a:lnTo>
                    <a:pt x="67" y="166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1774800" y="1817640"/>
              <a:ext cx="274680" cy="308160"/>
            </a:xfrm>
            <a:custGeom>
              <a:avLst/>
              <a:gdLst/>
              <a:ahLst/>
              <a:rect l="l" t="t" r="r" b="b"/>
              <a:pathLst>
                <a:path w="154" h="173">
                  <a:moveTo>
                    <a:pt x="141" y="83"/>
                  </a:moveTo>
                  <a:cubicBezTo>
                    <a:pt x="146" y="64"/>
                    <a:pt x="154" y="38"/>
                    <a:pt x="143" y="20"/>
                  </a:cubicBezTo>
                  <a:cubicBezTo>
                    <a:pt x="130" y="0"/>
                    <a:pt x="86" y="4"/>
                    <a:pt x="82" y="29"/>
                  </a:cubicBezTo>
                  <a:cubicBezTo>
                    <a:pt x="71" y="1"/>
                    <a:pt x="33" y="27"/>
                    <a:pt x="42" y="49"/>
                  </a:cubicBezTo>
                  <a:cubicBezTo>
                    <a:pt x="33" y="40"/>
                    <a:pt x="16" y="36"/>
                    <a:pt x="7" y="49"/>
                  </a:cubicBezTo>
                  <a:cubicBezTo>
                    <a:pt x="0" y="58"/>
                    <a:pt x="3" y="76"/>
                    <a:pt x="4" y="86"/>
                  </a:cubicBezTo>
                  <a:cubicBezTo>
                    <a:pt x="6" y="106"/>
                    <a:pt x="8" y="173"/>
                    <a:pt x="47" y="151"/>
                  </a:cubicBezTo>
                  <a:cubicBezTo>
                    <a:pt x="55" y="146"/>
                    <a:pt x="61" y="139"/>
                    <a:pt x="60" y="129"/>
                  </a:cubicBezTo>
                  <a:cubicBezTo>
                    <a:pt x="69" y="137"/>
                    <a:pt x="80" y="143"/>
                    <a:pt x="91" y="134"/>
                  </a:cubicBezTo>
                  <a:cubicBezTo>
                    <a:pt x="98" y="128"/>
                    <a:pt x="97" y="120"/>
                    <a:pt x="98" y="112"/>
                  </a:cubicBezTo>
                  <a:cubicBezTo>
                    <a:pt x="104" y="121"/>
                    <a:pt x="107" y="127"/>
                    <a:pt x="119" y="126"/>
                  </a:cubicBezTo>
                  <a:cubicBezTo>
                    <a:pt x="129" y="125"/>
                    <a:pt x="135" y="119"/>
                    <a:pt x="136" y="108"/>
                  </a:cubicBezTo>
                  <a:lnTo>
                    <a:pt x="141" y="8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1879560" y="1893960"/>
              <a:ext cx="160200" cy="1540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36" y="86"/>
                  </a:moveTo>
                  <a:cubicBezTo>
                    <a:pt x="26" y="80"/>
                    <a:pt x="15" y="75"/>
                    <a:pt x="10" y="64"/>
                  </a:cubicBezTo>
                  <a:cubicBezTo>
                    <a:pt x="0" y="45"/>
                    <a:pt x="8" y="23"/>
                    <a:pt x="27" y="13"/>
                  </a:cubicBezTo>
                  <a:cubicBezTo>
                    <a:pt x="46" y="4"/>
                    <a:pt x="68" y="0"/>
                    <a:pt x="89" y="2"/>
                  </a:cubicBezTo>
                  <a:cubicBezTo>
                    <a:pt x="89" y="15"/>
                    <a:pt x="85" y="29"/>
                    <a:pt x="82" y="40"/>
                  </a:cubicBezTo>
                  <a:cubicBezTo>
                    <a:pt x="77" y="65"/>
                    <a:pt x="77" y="65"/>
                    <a:pt x="77" y="65"/>
                  </a:cubicBezTo>
                  <a:cubicBezTo>
                    <a:pt x="76" y="76"/>
                    <a:pt x="70" y="82"/>
                    <a:pt x="60" y="83"/>
                  </a:cubicBezTo>
                  <a:cubicBezTo>
                    <a:pt x="48" y="84"/>
                    <a:pt x="45" y="78"/>
                    <a:pt x="39" y="69"/>
                  </a:cubicBezTo>
                  <a:cubicBezTo>
                    <a:pt x="38" y="75"/>
                    <a:pt x="39" y="81"/>
                    <a:pt x="36" y="8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1785960" y="1844640"/>
              <a:ext cx="263520" cy="27324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89"/>
                  </a:moveTo>
                  <a:cubicBezTo>
                    <a:pt x="5" y="104"/>
                    <a:pt x="15" y="129"/>
                    <a:pt x="35" y="125"/>
                  </a:cubicBezTo>
                  <a:cubicBezTo>
                    <a:pt x="50" y="123"/>
                    <a:pt x="40" y="88"/>
                    <a:pt x="38" y="80"/>
                  </a:cubicBezTo>
                  <a:cubicBezTo>
                    <a:pt x="34" y="64"/>
                    <a:pt x="28" y="48"/>
                    <a:pt x="26" y="31"/>
                  </a:cubicBezTo>
                  <a:cubicBezTo>
                    <a:pt x="26" y="30"/>
                    <a:pt x="26" y="29"/>
                    <a:pt x="26" y="27"/>
                  </a:cubicBezTo>
                  <a:cubicBezTo>
                    <a:pt x="30" y="29"/>
                    <a:pt x="33" y="31"/>
                    <a:pt x="36" y="34"/>
                  </a:cubicBezTo>
                  <a:cubicBezTo>
                    <a:pt x="34" y="29"/>
                    <a:pt x="34" y="24"/>
                    <a:pt x="36" y="20"/>
                  </a:cubicBezTo>
                  <a:cubicBezTo>
                    <a:pt x="42" y="42"/>
                    <a:pt x="50" y="64"/>
                    <a:pt x="56" y="85"/>
                  </a:cubicBezTo>
                  <a:cubicBezTo>
                    <a:pt x="58" y="95"/>
                    <a:pt x="64" y="116"/>
                    <a:pt x="78" y="113"/>
                  </a:cubicBezTo>
                  <a:cubicBezTo>
                    <a:pt x="90" y="110"/>
                    <a:pt x="84" y="87"/>
                    <a:pt x="82" y="80"/>
                  </a:cubicBezTo>
                  <a:cubicBezTo>
                    <a:pt x="79" y="67"/>
                    <a:pt x="79" y="54"/>
                    <a:pt x="76" y="41"/>
                  </a:cubicBezTo>
                  <a:cubicBezTo>
                    <a:pt x="74" y="28"/>
                    <a:pt x="71" y="17"/>
                    <a:pt x="69" y="4"/>
                  </a:cubicBezTo>
                  <a:cubicBezTo>
                    <a:pt x="71" y="6"/>
                    <a:pt x="74" y="9"/>
                    <a:pt x="76" y="14"/>
                  </a:cubicBezTo>
                  <a:cubicBezTo>
                    <a:pt x="77" y="9"/>
                    <a:pt x="79" y="5"/>
                    <a:pt x="82" y="1"/>
                  </a:cubicBezTo>
                  <a:cubicBezTo>
                    <a:pt x="86" y="17"/>
                    <a:pt x="88" y="35"/>
                    <a:pt x="100" y="45"/>
                  </a:cubicBezTo>
                  <a:cubicBezTo>
                    <a:pt x="108" y="51"/>
                    <a:pt x="121" y="50"/>
                    <a:pt x="127" y="42"/>
                  </a:cubicBezTo>
                  <a:cubicBezTo>
                    <a:pt x="137" y="30"/>
                    <a:pt x="134" y="15"/>
                    <a:pt x="132" y="0"/>
                  </a:cubicBezTo>
                  <a:cubicBezTo>
                    <a:pt x="134" y="1"/>
                    <a:pt x="136" y="3"/>
                    <a:pt x="137" y="5"/>
                  </a:cubicBezTo>
                  <a:cubicBezTo>
                    <a:pt x="148" y="23"/>
                    <a:pt x="140" y="49"/>
                    <a:pt x="135" y="68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9" y="104"/>
                    <a:pt x="123" y="110"/>
                    <a:pt x="113" y="111"/>
                  </a:cubicBezTo>
                  <a:cubicBezTo>
                    <a:pt x="101" y="112"/>
                    <a:pt x="98" y="106"/>
                    <a:pt x="92" y="97"/>
                  </a:cubicBezTo>
                  <a:cubicBezTo>
                    <a:pt x="91" y="105"/>
                    <a:pt x="92" y="113"/>
                    <a:pt x="85" y="119"/>
                  </a:cubicBezTo>
                  <a:cubicBezTo>
                    <a:pt x="74" y="128"/>
                    <a:pt x="63" y="122"/>
                    <a:pt x="54" y="114"/>
                  </a:cubicBezTo>
                  <a:cubicBezTo>
                    <a:pt x="55" y="124"/>
                    <a:pt x="49" y="131"/>
                    <a:pt x="41" y="136"/>
                  </a:cubicBezTo>
                  <a:cubicBezTo>
                    <a:pt x="11" y="153"/>
                    <a:pt x="3" y="116"/>
                    <a:pt x="0" y="8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884240" y="1905120"/>
              <a:ext cx="237960" cy="29052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134" y="146"/>
                  </a:moveTo>
                  <a:cubicBezTo>
                    <a:pt x="134" y="146"/>
                    <a:pt x="133" y="37"/>
                    <a:pt x="120" y="19"/>
                  </a:cubicBezTo>
                  <a:cubicBezTo>
                    <a:pt x="106" y="0"/>
                    <a:pt x="42" y="2"/>
                    <a:pt x="21" y="25"/>
                  </a:cubicBezTo>
                  <a:cubicBezTo>
                    <a:pt x="0" y="49"/>
                    <a:pt x="1" y="70"/>
                    <a:pt x="65" y="62"/>
                  </a:cubicBezTo>
                  <a:cubicBezTo>
                    <a:pt x="65" y="62"/>
                    <a:pt x="30" y="98"/>
                    <a:pt x="68" y="163"/>
                  </a:cubicBezTo>
                  <a:lnTo>
                    <a:pt x="134" y="14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1887480" y="1970280"/>
              <a:ext cx="147600" cy="2253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64" y="9"/>
                  </a:moveTo>
                  <a:cubicBezTo>
                    <a:pt x="83" y="11"/>
                    <a:pt x="80" y="28"/>
                    <a:pt x="74" y="42"/>
                  </a:cubicBezTo>
                  <a:cubicBezTo>
                    <a:pt x="69" y="54"/>
                    <a:pt x="66" y="65"/>
                    <a:pt x="66" y="78"/>
                  </a:cubicBezTo>
                  <a:cubicBezTo>
                    <a:pt x="65" y="94"/>
                    <a:pt x="68" y="109"/>
                    <a:pt x="73" y="124"/>
                  </a:cubicBezTo>
                  <a:cubicBezTo>
                    <a:pt x="66" y="126"/>
                    <a:pt x="66" y="126"/>
                    <a:pt x="66" y="126"/>
                  </a:cubicBezTo>
                  <a:cubicBezTo>
                    <a:pt x="28" y="61"/>
                    <a:pt x="63" y="25"/>
                    <a:pt x="63" y="25"/>
                  </a:cubicBezTo>
                  <a:cubicBezTo>
                    <a:pt x="9" y="32"/>
                    <a:pt x="0" y="18"/>
                    <a:pt x="11" y="0"/>
                  </a:cubicBezTo>
                  <a:cubicBezTo>
                    <a:pt x="19" y="14"/>
                    <a:pt x="45" y="7"/>
                    <a:pt x="64" y="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1903320" y="2151000"/>
              <a:ext cx="927000" cy="1193760"/>
            </a:xfrm>
            <a:custGeom>
              <a:avLst/>
              <a:gdLst/>
              <a:ahLst/>
              <a:rect l="l" t="t" r="r" b="b"/>
              <a:pathLst>
                <a:path w="519" h="669">
                  <a:moveTo>
                    <a:pt x="0" y="26"/>
                  </a:moveTo>
                  <a:cubicBezTo>
                    <a:pt x="0" y="26"/>
                    <a:pt x="142" y="552"/>
                    <a:pt x="501" y="669"/>
                  </a:cubicBezTo>
                  <a:cubicBezTo>
                    <a:pt x="501" y="669"/>
                    <a:pt x="501" y="669"/>
                    <a:pt x="501" y="669"/>
                  </a:cubicBezTo>
                  <a:cubicBezTo>
                    <a:pt x="519" y="549"/>
                    <a:pt x="519" y="549"/>
                    <a:pt x="519" y="549"/>
                  </a:cubicBezTo>
                  <a:cubicBezTo>
                    <a:pt x="519" y="549"/>
                    <a:pt x="214" y="454"/>
                    <a:pt x="131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1931760" y="2232000"/>
              <a:ext cx="898560" cy="1112760"/>
            </a:xfrm>
            <a:custGeom>
              <a:avLst/>
              <a:gdLst/>
              <a:ahLst/>
              <a:rect l="l" t="t" r="r" b="b"/>
              <a:pathLst>
                <a:path w="503" h="624">
                  <a:moveTo>
                    <a:pt x="461" y="485"/>
                  </a:moveTo>
                  <a:cubicBezTo>
                    <a:pt x="454" y="501"/>
                    <a:pt x="453" y="519"/>
                    <a:pt x="450" y="535"/>
                  </a:cubicBezTo>
                  <a:cubicBezTo>
                    <a:pt x="449" y="541"/>
                    <a:pt x="448" y="546"/>
                    <a:pt x="443" y="549"/>
                  </a:cubicBezTo>
                  <a:cubicBezTo>
                    <a:pt x="421" y="561"/>
                    <a:pt x="400" y="542"/>
                    <a:pt x="385" y="530"/>
                  </a:cubicBezTo>
                  <a:cubicBezTo>
                    <a:pt x="350" y="499"/>
                    <a:pt x="309" y="472"/>
                    <a:pt x="276" y="437"/>
                  </a:cubicBezTo>
                  <a:cubicBezTo>
                    <a:pt x="249" y="409"/>
                    <a:pt x="225" y="378"/>
                    <a:pt x="204" y="345"/>
                  </a:cubicBezTo>
                  <a:cubicBezTo>
                    <a:pt x="155" y="270"/>
                    <a:pt x="105" y="198"/>
                    <a:pt x="73" y="114"/>
                  </a:cubicBezTo>
                  <a:cubicBezTo>
                    <a:pt x="63" y="90"/>
                    <a:pt x="56" y="64"/>
                    <a:pt x="77" y="44"/>
                  </a:cubicBezTo>
                  <a:cubicBezTo>
                    <a:pt x="90" y="32"/>
                    <a:pt x="111" y="26"/>
                    <a:pt x="130" y="22"/>
                  </a:cubicBezTo>
                  <a:cubicBezTo>
                    <a:pt x="128" y="15"/>
                    <a:pt x="126" y="8"/>
                    <a:pt x="124" y="0"/>
                  </a:cubicBezTo>
                  <a:cubicBezTo>
                    <a:pt x="92" y="6"/>
                    <a:pt x="60" y="19"/>
                    <a:pt x="28" y="26"/>
                  </a:cubicBezTo>
                  <a:cubicBezTo>
                    <a:pt x="19" y="28"/>
                    <a:pt x="9" y="30"/>
                    <a:pt x="0" y="32"/>
                  </a:cubicBezTo>
                  <a:cubicBezTo>
                    <a:pt x="46" y="168"/>
                    <a:pt x="195" y="529"/>
                    <a:pt x="485" y="624"/>
                  </a:cubicBezTo>
                  <a:cubicBezTo>
                    <a:pt x="503" y="504"/>
                    <a:pt x="503" y="504"/>
                    <a:pt x="503" y="504"/>
                  </a:cubicBezTo>
                  <a:cubicBezTo>
                    <a:pt x="503" y="504"/>
                    <a:pt x="487" y="498"/>
                    <a:pt x="461" y="485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4235400" y="1525680"/>
              <a:ext cx="20628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100" y="131"/>
                  </a:moveTo>
                  <a:lnTo>
                    <a:pt x="130" y="22"/>
                  </a:lnTo>
                  <a:lnTo>
                    <a:pt x="0" y="0"/>
                  </a:lnTo>
                  <a:lnTo>
                    <a:pt x="13" y="126"/>
                  </a:lnTo>
                  <a:lnTo>
                    <a:pt x="100" y="131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4186080" y="1366920"/>
              <a:ext cx="303120" cy="239760"/>
            </a:xfrm>
            <a:custGeom>
              <a:avLst/>
              <a:gdLst/>
              <a:ahLst/>
              <a:rect l="l" t="t" r="r" b="b"/>
              <a:pathLst>
                <a:path w="169" h="134">
                  <a:moveTo>
                    <a:pt x="25" y="93"/>
                  </a:moveTo>
                  <a:cubicBezTo>
                    <a:pt x="15" y="78"/>
                    <a:pt x="0" y="58"/>
                    <a:pt x="5" y="38"/>
                  </a:cubicBezTo>
                  <a:cubicBezTo>
                    <a:pt x="10" y="17"/>
                    <a:pt x="51" y="7"/>
                    <a:pt x="62" y="28"/>
                  </a:cubicBezTo>
                  <a:cubicBezTo>
                    <a:pt x="64" y="0"/>
                    <a:pt x="105" y="12"/>
                    <a:pt x="103" y="35"/>
                  </a:cubicBezTo>
                  <a:cubicBezTo>
                    <a:pt x="108" y="23"/>
                    <a:pt x="122" y="15"/>
                    <a:pt x="134" y="24"/>
                  </a:cubicBezTo>
                  <a:cubicBezTo>
                    <a:pt x="143" y="30"/>
                    <a:pt x="145" y="47"/>
                    <a:pt x="147" y="56"/>
                  </a:cubicBezTo>
                  <a:cubicBezTo>
                    <a:pt x="151" y="75"/>
                    <a:pt x="169" y="134"/>
                    <a:pt x="129" y="126"/>
                  </a:cubicBezTo>
                  <a:cubicBezTo>
                    <a:pt x="120" y="124"/>
                    <a:pt x="112" y="120"/>
                    <a:pt x="110" y="111"/>
                  </a:cubicBezTo>
                  <a:cubicBezTo>
                    <a:pt x="105" y="120"/>
                    <a:pt x="97" y="129"/>
                    <a:pt x="85" y="124"/>
                  </a:cubicBezTo>
                  <a:cubicBezTo>
                    <a:pt x="76" y="121"/>
                    <a:pt x="74" y="113"/>
                    <a:pt x="72" y="106"/>
                  </a:cubicBezTo>
                  <a:cubicBezTo>
                    <a:pt x="69" y="116"/>
                    <a:pt x="68" y="122"/>
                    <a:pt x="57" y="125"/>
                  </a:cubicBezTo>
                  <a:cubicBezTo>
                    <a:pt x="48" y="127"/>
                    <a:pt x="41" y="123"/>
                    <a:pt x="37" y="115"/>
                  </a:cubicBezTo>
                  <a:lnTo>
                    <a:pt x="25" y="9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4198680" y="1459080"/>
              <a:ext cx="165240" cy="13464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72" y="70"/>
                  </a:moveTo>
                  <a:cubicBezTo>
                    <a:pt x="79" y="62"/>
                    <a:pt x="88" y="54"/>
                    <a:pt x="89" y="43"/>
                  </a:cubicBezTo>
                  <a:cubicBezTo>
                    <a:pt x="92" y="23"/>
                    <a:pt x="79" y="5"/>
                    <a:pt x="59" y="3"/>
                  </a:cubicBezTo>
                  <a:cubicBezTo>
                    <a:pt x="39" y="0"/>
                    <a:pt x="19" y="3"/>
                    <a:pt x="0" y="11"/>
                  </a:cubicBezTo>
                  <a:cubicBezTo>
                    <a:pt x="5" y="22"/>
                    <a:pt x="12" y="33"/>
                    <a:pt x="18" y="42"/>
                  </a:cubicBezTo>
                  <a:cubicBezTo>
                    <a:pt x="30" y="64"/>
                    <a:pt x="30" y="64"/>
                    <a:pt x="30" y="64"/>
                  </a:cubicBezTo>
                  <a:cubicBezTo>
                    <a:pt x="34" y="72"/>
                    <a:pt x="41" y="76"/>
                    <a:pt x="50" y="74"/>
                  </a:cubicBezTo>
                  <a:cubicBezTo>
                    <a:pt x="61" y="71"/>
                    <a:pt x="62" y="65"/>
                    <a:pt x="65" y="55"/>
                  </a:cubicBezTo>
                  <a:cubicBezTo>
                    <a:pt x="67" y="61"/>
                    <a:pt x="68" y="66"/>
                    <a:pt x="72" y="7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4186080" y="1400040"/>
              <a:ext cx="285840" cy="20484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151" y="55"/>
                  </a:moveTo>
                  <a:cubicBezTo>
                    <a:pt x="151" y="69"/>
                    <a:pt x="149" y="95"/>
                    <a:pt x="131" y="97"/>
                  </a:cubicBezTo>
                  <a:cubicBezTo>
                    <a:pt x="116" y="99"/>
                    <a:pt x="115" y="65"/>
                    <a:pt x="115" y="58"/>
                  </a:cubicBezTo>
                  <a:cubicBezTo>
                    <a:pt x="114" y="43"/>
                    <a:pt x="114" y="27"/>
                    <a:pt x="111" y="11"/>
                  </a:cubicBezTo>
                  <a:cubicBezTo>
                    <a:pt x="110" y="10"/>
                    <a:pt x="110" y="9"/>
                    <a:pt x="110" y="8"/>
                  </a:cubicBezTo>
                  <a:cubicBezTo>
                    <a:pt x="107" y="10"/>
                    <a:pt x="104" y="13"/>
                    <a:pt x="103" y="17"/>
                  </a:cubicBezTo>
                  <a:cubicBezTo>
                    <a:pt x="103" y="12"/>
                    <a:pt x="101" y="7"/>
                    <a:pt x="99" y="4"/>
                  </a:cubicBezTo>
                  <a:cubicBezTo>
                    <a:pt x="99" y="25"/>
                    <a:pt x="99" y="47"/>
                    <a:pt x="100" y="68"/>
                  </a:cubicBezTo>
                  <a:cubicBezTo>
                    <a:pt x="101" y="77"/>
                    <a:pt x="102" y="98"/>
                    <a:pt x="89" y="99"/>
                  </a:cubicBezTo>
                  <a:cubicBezTo>
                    <a:pt x="77" y="100"/>
                    <a:pt x="76" y="78"/>
                    <a:pt x="75" y="70"/>
                  </a:cubicBezTo>
                  <a:cubicBezTo>
                    <a:pt x="74" y="58"/>
                    <a:pt x="70" y="47"/>
                    <a:pt x="69" y="35"/>
                  </a:cubicBezTo>
                  <a:cubicBezTo>
                    <a:pt x="68" y="22"/>
                    <a:pt x="67" y="11"/>
                    <a:pt x="65" y="0"/>
                  </a:cubicBezTo>
                  <a:cubicBezTo>
                    <a:pt x="63" y="2"/>
                    <a:pt x="62" y="5"/>
                    <a:pt x="62" y="10"/>
                  </a:cubicBezTo>
                  <a:cubicBezTo>
                    <a:pt x="60" y="6"/>
                    <a:pt x="56" y="3"/>
                    <a:pt x="52" y="1"/>
                  </a:cubicBezTo>
                  <a:cubicBezTo>
                    <a:pt x="54" y="16"/>
                    <a:pt x="57" y="32"/>
                    <a:pt x="49" y="45"/>
                  </a:cubicBezTo>
                  <a:cubicBezTo>
                    <a:pt x="44" y="52"/>
                    <a:pt x="32" y="55"/>
                    <a:pt x="24" y="50"/>
                  </a:cubicBezTo>
                  <a:cubicBezTo>
                    <a:pt x="12" y="42"/>
                    <a:pt x="10" y="28"/>
                    <a:pt x="8" y="14"/>
                  </a:cubicBezTo>
                  <a:cubicBezTo>
                    <a:pt x="7" y="16"/>
                    <a:pt x="5" y="18"/>
                    <a:pt x="5" y="20"/>
                  </a:cubicBezTo>
                  <a:cubicBezTo>
                    <a:pt x="0" y="40"/>
                    <a:pt x="15" y="60"/>
                    <a:pt x="25" y="75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1" y="105"/>
                    <a:pt x="48" y="109"/>
                    <a:pt x="57" y="107"/>
                  </a:cubicBezTo>
                  <a:cubicBezTo>
                    <a:pt x="68" y="104"/>
                    <a:pt x="69" y="98"/>
                    <a:pt x="72" y="88"/>
                  </a:cubicBezTo>
                  <a:cubicBezTo>
                    <a:pt x="74" y="95"/>
                    <a:pt x="76" y="103"/>
                    <a:pt x="85" y="106"/>
                  </a:cubicBezTo>
                  <a:cubicBezTo>
                    <a:pt x="97" y="111"/>
                    <a:pt x="105" y="102"/>
                    <a:pt x="110" y="93"/>
                  </a:cubicBezTo>
                  <a:cubicBezTo>
                    <a:pt x="112" y="102"/>
                    <a:pt x="120" y="106"/>
                    <a:pt x="129" y="108"/>
                  </a:cubicBezTo>
                  <a:cubicBezTo>
                    <a:pt x="160" y="115"/>
                    <a:pt x="156" y="79"/>
                    <a:pt x="151" y="5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4149720" y="1463760"/>
              <a:ext cx="226800" cy="276120"/>
            </a:xfrm>
            <a:custGeom>
              <a:avLst/>
              <a:gdLst/>
              <a:ahLst/>
              <a:rect l="l" t="t" r="r" b="b"/>
              <a:pathLst>
                <a:path w="127" h="155">
                  <a:moveTo>
                    <a:pt x="31" y="155"/>
                  </a:moveTo>
                  <a:cubicBezTo>
                    <a:pt x="31" y="155"/>
                    <a:pt x="0" y="58"/>
                    <a:pt x="6" y="38"/>
                  </a:cubicBezTo>
                  <a:cubicBezTo>
                    <a:pt x="13" y="17"/>
                    <a:pt x="71" y="0"/>
                    <a:pt x="96" y="15"/>
                  </a:cubicBezTo>
                  <a:cubicBezTo>
                    <a:pt x="121" y="29"/>
                    <a:pt x="127" y="49"/>
                    <a:pt x="68" y="59"/>
                  </a:cubicBezTo>
                  <a:cubicBezTo>
                    <a:pt x="68" y="59"/>
                    <a:pt x="109" y="82"/>
                    <a:pt x="94" y="150"/>
                  </a:cubicBezTo>
                  <a:lnTo>
                    <a:pt x="31" y="155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4232160" y="1503360"/>
              <a:ext cx="133200" cy="230400"/>
            </a:xfrm>
            <a:custGeom>
              <a:avLst/>
              <a:gdLst/>
              <a:ahLst/>
              <a:rect l="l" t="t" r="r" b="b"/>
              <a:pathLst>
                <a:path w="75" h="129">
                  <a:moveTo>
                    <a:pt x="16" y="24"/>
                  </a:moveTo>
                  <a:cubicBezTo>
                    <a:pt x="0" y="31"/>
                    <a:pt x="7" y="45"/>
                    <a:pt x="17" y="56"/>
                  </a:cubicBezTo>
                  <a:cubicBezTo>
                    <a:pt x="25" y="65"/>
                    <a:pt x="31" y="74"/>
                    <a:pt x="35" y="85"/>
                  </a:cubicBezTo>
                  <a:cubicBezTo>
                    <a:pt x="39" y="100"/>
                    <a:pt x="42" y="114"/>
                    <a:pt x="41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63" y="60"/>
                    <a:pt x="22" y="37"/>
                    <a:pt x="22" y="37"/>
                  </a:cubicBezTo>
                  <a:cubicBezTo>
                    <a:pt x="71" y="28"/>
                    <a:pt x="75" y="13"/>
                    <a:pt x="60" y="0"/>
                  </a:cubicBezTo>
                  <a:cubicBezTo>
                    <a:pt x="57" y="15"/>
                    <a:pt x="32" y="17"/>
                    <a:pt x="16" y="24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3427200" y="1706760"/>
              <a:ext cx="1044720" cy="1579320"/>
            </a:xfrm>
            <a:custGeom>
              <a:avLst/>
              <a:gdLst/>
              <a:ahLst/>
              <a:rect l="l" t="t" r="r" b="b"/>
              <a:pathLst>
                <a:path w="585" h="885">
                  <a:moveTo>
                    <a:pt x="0" y="740"/>
                  </a:moveTo>
                  <a:cubicBezTo>
                    <a:pt x="0" y="740"/>
                    <a:pt x="237" y="643"/>
                    <a:pt x="336" y="389"/>
                  </a:cubicBezTo>
                  <a:cubicBezTo>
                    <a:pt x="432" y="147"/>
                    <a:pt x="427" y="0"/>
                    <a:pt x="427" y="0"/>
                  </a:cubicBezTo>
                  <a:cubicBezTo>
                    <a:pt x="548" y="0"/>
                    <a:pt x="548" y="0"/>
                    <a:pt x="548" y="0"/>
                  </a:cubicBezTo>
                  <a:cubicBezTo>
                    <a:pt x="548" y="0"/>
                    <a:pt x="585" y="522"/>
                    <a:pt x="45" y="885"/>
                  </a:cubicBezTo>
                  <a:lnTo>
                    <a:pt x="0" y="74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3427200" y="1779480"/>
              <a:ext cx="979560" cy="1506600"/>
            </a:xfrm>
            <a:custGeom>
              <a:avLst/>
              <a:gdLst/>
              <a:ahLst/>
              <a:rect l="l" t="t" r="r" b="b"/>
              <a:pathLst>
                <a:path w="548" h="844">
                  <a:moveTo>
                    <a:pt x="425" y="0"/>
                  </a:moveTo>
                  <a:cubicBezTo>
                    <a:pt x="425" y="6"/>
                    <a:pt x="424" y="12"/>
                    <a:pt x="424" y="19"/>
                  </a:cubicBezTo>
                  <a:cubicBezTo>
                    <a:pt x="444" y="21"/>
                    <a:pt x="464" y="25"/>
                    <a:pt x="483" y="31"/>
                  </a:cubicBezTo>
                  <a:cubicBezTo>
                    <a:pt x="493" y="34"/>
                    <a:pt x="507" y="38"/>
                    <a:pt x="512" y="48"/>
                  </a:cubicBezTo>
                  <a:cubicBezTo>
                    <a:pt x="529" y="78"/>
                    <a:pt x="507" y="122"/>
                    <a:pt x="494" y="150"/>
                  </a:cubicBezTo>
                  <a:cubicBezTo>
                    <a:pt x="446" y="253"/>
                    <a:pt x="403" y="362"/>
                    <a:pt x="346" y="461"/>
                  </a:cubicBezTo>
                  <a:cubicBezTo>
                    <a:pt x="317" y="510"/>
                    <a:pt x="282" y="554"/>
                    <a:pt x="248" y="600"/>
                  </a:cubicBezTo>
                  <a:cubicBezTo>
                    <a:pt x="219" y="639"/>
                    <a:pt x="189" y="680"/>
                    <a:pt x="150" y="709"/>
                  </a:cubicBezTo>
                  <a:cubicBezTo>
                    <a:pt x="134" y="721"/>
                    <a:pt x="99" y="750"/>
                    <a:pt x="81" y="724"/>
                  </a:cubicBezTo>
                  <a:cubicBezTo>
                    <a:pt x="69" y="706"/>
                    <a:pt x="62" y="687"/>
                    <a:pt x="41" y="679"/>
                  </a:cubicBezTo>
                  <a:cubicBezTo>
                    <a:pt x="16" y="693"/>
                    <a:pt x="0" y="699"/>
                    <a:pt x="0" y="699"/>
                  </a:cubicBezTo>
                  <a:cubicBezTo>
                    <a:pt x="45" y="844"/>
                    <a:pt x="45" y="844"/>
                    <a:pt x="45" y="844"/>
                  </a:cubicBezTo>
                  <a:cubicBezTo>
                    <a:pt x="489" y="546"/>
                    <a:pt x="543" y="140"/>
                    <a:pt x="548" y="5"/>
                  </a:cubicBezTo>
                  <a:cubicBezTo>
                    <a:pt x="507" y="7"/>
                    <a:pt x="466" y="7"/>
                    <a:pt x="425" y="0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687240" y="1962360"/>
              <a:ext cx="431640" cy="377640"/>
            </a:xfrm>
            <a:custGeom>
              <a:avLst/>
              <a:gdLst/>
              <a:ahLst/>
              <a:rect l="l" t="t" r="r" b="b"/>
              <a:pathLst>
                <a:path w="242" h="212">
                  <a:moveTo>
                    <a:pt x="193" y="212"/>
                  </a:moveTo>
                  <a:cubicBezTo>
                    <a:pt x="193" y="212"/>
                    <a:pt x="158" y="145"/>
                    <a:pt x="134" y="135"/>
                  </a:cubicBezTo>
                  <a:cubicBezTo>
                    <a:pt x="109" y="124"/>
                    <a:pt x="52" y="127"/>
                    <a:pt x="31" y="113"/>
                  </a:cubicBezTo>
                  <a:cubicBezTo>
                    <a:pt x="10" y="100"/>
                    <a:pt x="0" y="46"/>
                    <a:pt x="63" y="23"/>
                  </a:cubicBezTo>
                  <a:cubicBezTo>
                    <a:pt x="126" y="0"/>
                    <a:pt x="214" y="44"/>
                    <a:pt x="242" y="152"/>
                  </a:cubicBezTo>
                  <a:lnTo>
                    <a:pt x="193" y="21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704880" y="2070000"/>
              <a:ext cx="414000" cy="270000"/>
            </a:xfrm>
            <a:custGeom>
              <a:avLst/>
              <a:gdLst/>
              <a:ahLst/>
              <a:rect l="l" t="t" r="r" b="b"/>
              <a:pathLst>
                <a:path w="232" h="151">
                  <a:moveTo>
                    <a:pt x="179" y="63"/>
                  </a:moveTo>
                  <a:cubicBezTo>
                    <a:pt x="161" y="70"/>
                    <a:pt x="144" y="69"/>
                    <a:pt x="126" y="65"/>
                  </a:cubicBezTo>
                  <a:cubicBezTo>
                    <a:pt x="93" y="58"/>
                    <a:pt x="54" y="52"/>
                    <a:pt x="29" y="28"/>
                  </a:cubicBezTo>
                  <a:cubicBezTo>
                    <a:pt x="20" y="20"/>
                    <a:pt x="13" y="10"/>
                    <a:pt x="9" y="0"/>
                  </a:cubicBezTo>
                  <a:cubicBezTo>
                    <a:pt x="0" y="22"/>
                    <a:pt x="8" y="44"/>
                    <a:pt x="21" y="52"/>
                  </a:cubicBezTo>
                  <a:cubicBezTo>
                    <a:pt x="42" y="66"/>
                    <a:pt x="99" y="63"/>
                    <a:pt x="124" y="74"/>
                  </a:cubicBezTo>
                  <a:cubicBezTo>
                    <a:pt x="148" y="84"/>
                    <a:pt x="183" y="151"/>
                    <a:pt x="183" y="151"/>
                  </a:cubicBezTo>
                  <a:cubicBezTo>
                    <a:pt x="232" y="91"/>
                    <a:pt x="232" y="91"/>
                    <a:pt x="232" y="91"/>
                  </a:cubicBezTo>
                  <a:cubicBezTo>
                    <a:pt x="227" y="72"/>
                    <a:pt x="220" y="54"/>
                    <a:pt x="211" y="39"/>
                  </a:cubicBezTo>
                  <a:cubicBezTo>
                    <a:pt x="202" y="49"/>
                    <a:pt x="191" y="58"/>
                    <a:pt x="179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944280" y="1997280"/>
              <a:ext cx="685800" cy="691920"/>
            </a:xfrm>
            <a:custGeom>
              <a:avLst/>
              <a:gdLst/>
              <a:ahLst/>
              <a:rect l="l" t="t" r="r" b="b"/>
              <a:pathLst>
                <a:path w="384" h="387">
                  <a:moveTo>
                    <a:pt x="202" y="27"/>
                  </a:moveTo>
                  <a:cubicBezTo>
                    <a:pt x="202" y="27"/>
                    <a:pt x="0" y="148"/>
                    <a:pt x="11" y="191"/>
                  </a:cubicBezTo>
                  <a:cubicBezTo>
                    <a:pt x="22" y="235"/>
                    <a:pt x="103" y="364"/>
                    <a:pt x="161" y="382"/>
                  </a:cubicBezTo>
                  <a:cubicBezTo>
                    <a:pt x="180" y="387"/>
                    <a:pt x="232" y="355"/>
                    <a:pt x="274" y="319"/>
                  </a:cubicBezTo>
                  <a:cubicBezTo>
                    <a:pt x="330" y="271"/>
                    <a:pt x="384" y="217"/>
                    <a:pt x="380" y="200"/>
                  </a:cubicBezTo>
                  <a:cubicBezTo>
                    <a:pt x="374" y="180"/>
                    <a:pt x="351" y="134"/>
                    <a:pt x="314" y="159"/>
                  </a:cubicBezTo>
                  <a:cubicBezTo>
                    <a:pt x="314" y="159"/>
                    <a:pt x="335" y="138"/>
                    <a:pt x="331" y="118"/>
                  </a:cubicBezTo>
                  <a:cubicBezTo>
                    <a:pt x="325" y="96"/>
                    <a:pt x="300" y="73"/>
                    <a:pt x="266" y="85"/>
                  </a:cubicBezTo>
                  <a:cubicBezTo>
                    <a:pt x="266" y="85"/>
                    <a:pt x="285" y="63"/>
                    <a:pt x="263" y="31"/>
                  </a:cubicBezTo>
                  <a:cubicBezTo>
                    <a:pt x="241" y="0"/>
                    <a:pt x="202" y="27"/>
                    <a:pt x="202" y="2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1274760" y="2224080"/>
              <a:ext cx="285480" cy="20160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146" y="0"/>
                  </a:moveTo>
                  <a:cubicBezTo>
                    <a:pt x="146" y="1"/>
                    <a:pt x="145" y="1"/>
                    <a:pt x="145" y="2"/>
                  </a:cubicBezTo>
                  <a:cubicBezTo>
                    <a:pt x="127" y="28"/>
                    <a:pt x="95" y="44"/>
                    <a:pt x="68" y="59"/>
                  </a:cubicBezTo>
                  <a:cubicBezTo>
                    <a:pt x="55" y="66"/>
                    <a:pt x="42" y="73"/>
                    <a:pt x="29" y="81"/>
                  </a:cubicBezTo>
                  <a:cubicBezTo>
                    <a:pt x="23" y="85"/>
                    <a:pt x="16" y="89"/>
                    <a:pt x="11" y="94"/>
                  </a:cubicBezTo>
                  <a:cubicBezTo>
                    <a:pt x="0" y="106"/>
                    <a:pt x="11" y="113"/>
                    <a:pt x="23" y="106"/>
                  </a:cubicBezTo>
                  <a:cubicBezTo>
                    <a:pt x="55" y="89"/>
                    <a:pt x="87" y="72"/>
                    <a:pt x="117" y="54"/>
                  </a:cubicBezTo>
                  <a:cubicBezTo>
                    <a:pt x="126" y="49"/>
                    <a:pt x="144" y="32"/>
                    <a:pt x="160" y="26"/>
                  </a:cubicBezTo>
                  <a:cubicBezTo>
                    <a:pt x="151" y="23"/>
                    <a:pt x="141" y="24"/>
                    <a:pt x="129" y="32"/>
                  </a:cubicBezTo>
                  <a:cubicBezTo>
                    <a:pt x="129" y="32"/>
                    <a:pt x="144" y="17"/>
                    <a:pt x="146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1185840" y="2062080"/>
              <a:ext cx="272880" cy="27936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131" y="0"/>
                  </a:moveTo>
                  <a:cubicBezTo>
                    <a:pt x="131" y="1"/>
                    <a:pt x="131" y="1"/>
                    <a:pt x="131" y="2"/>
                  </a:cubicBezTo>
                  <a:cubicBezTo>
                    <a:pt x="130" y="64"/>
                    <a:pt x="51" y="94"/>
                    <a:pt x="12" y="131"/>
                  </a:cubicBezTo>
                  <a:cubicBezTo>
                    <a:pt x="7" y="134"/>
                    <a:pt x="4" y="138"/>
                    <a:pt x="0" y="143"/>
                  </a:cubicBezTo>
                  <a:cubicBezTo>
                    <a:pt x="9" y="155"/>
                    <a:pt x="17" y="157"/>
                    <a:pt x="25" y="150"/>
                  </a:cubicBezTo>
                  <a:cubicBezTo>
                    <a:pt x="31" y="145"/>
                    <a:pt x="39" y="140"/>
                    <a:pt x="45" y="134"/>
                  </a:cubicBezTo>
                  <a:cubicBezTo>
                    <a:pt x="60" y="121"/>
                    <a:pt x="74" y="108"/>
                    <a:pt x="88" y="95"/>
                  </a:cubicBezTo>
                  <a:cubicBezTo>
                    <a:pt x="108" y="75"/>
                    <a:pt x="128" y="58"/>
                    <a:pt x="153" y="46"/>
                  </a:cubicBezTo>
                  <a:cubicBezTo>
                    <a:pt x="146" y="46"/>
                    <a:pt x="139" y="46"/>
                    <a:pt x="131" y="49"/>
                  </a:cubicBezTo>
                  <a:cubicBezTo>
                    <a:pt x="131" y="49"/>
                    <a:pt x="148" y="29"/>
                    <a:pt x="131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1089000" y="2336760"/>
              <a:ext cx="541080" cy="352440"/>
            </a:xfrm>
            <a:custGeom>
              <a:avLst/>
              <a:gdLst/>
              <a:ahLst/>
              <a:rect l="l" t="t" r="r" b="b"/>
              <a:pathLst>
                <a:path w="303" h="197">
                  <a:moveTo>
                    <a:pt x="250" y="67"/>
                  </a:moveTo>
                  <a:cubicBezTo>
                    <a:pt x="207" y="106"/>
                    <a:pt x="142" y="159"/>
                    <a:pt x="79" y="154"/>
                  </a:cubicBezTo>
                  <a:cubicBezTo>
                    <a:pt x="51" y="151"/>
                    <a:pt x="24" y="140"/>
                    <a:pt x="0" y="123"/>
                  </a:cubicBezTo>
                  <a:cubicBezTo>
                    <a:pt x="26" y="156"/>
                    <a:pt x="55" y="184"/>
                    <a:pt x="80" y="192"/>
                  </a:cubicBezTo>
                  <a:cubicBezTo>
                    <a:pt x="99" y="197"/>
                    <a:pt x="151" y="165"/>
                    <a:pt x="193" y="129"/>
                  </a:cubicBezTo>
                  <a:cubicBezTo>
                    <a:pt x="249" y="81"/>
                    <a:pt x="303" y="27"/>
                    <a:pt x="299" y="10"/>
                  </a:cubicBezTo>
                  <a:cubicBezTo>
                    <a:pt x="298" y="7"/>
                    <a:pt x="296" y="3"/>
                    <a:pt x="295" y="0"/>
                  </a:cubicBezTo>
                  <a:cubicBezTo>
                    <a:pt x="288" y="25"/>
                    <a:pt x="263" y="55"/>
                    <a:pt x="250" y="6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0"/>
            <p:cNvSpPr/>
            <p:nvPr/>
          </p:nvSpPr>
          <p:spPr>
            <a:xfrm>
              <a:off x="1763640" y="3619440"/>
              <a:ext cx="355680" cy="503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47" y="282"/>
                  </a:moveTo>
                  <a:cubicBezTo>
                    <a:pt x="47" y="282"/>
                    <a:pt x="75" y="203"/>
                    <a:pt x="65" y="175"/>
                  </a:cubicBezTo>
                  <a:cubicBezTo>
                    <a:pt x="55" y="147"/>
                    <a:pt x="10" y="102"/>
                    <a:pt x="5" y="75"/>
                  </a:cubicBezTo>
                  <a:cubicBezTo>
                    <a:pt x="0" y="48"/>
                    <a:pt x="36" y="0"/>
                    <a:pt x="103" y="33"/>
                  </a:cubicBezTo>
                  <a:cubicBezTo>
                    <a:pt x="169" y="67"/>
                    <a:pt x="199" y="172"/>
                    <a:pt x="133" y="277"/>
                  </a:cubicBezTo>
                  <a:lnTo>
                    <a:pt x="47" y="282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1"/>
            <p:cNvSpPr/>
            <p:nvPr/>
          </p:nvSpPr>
          <p:spPr>
            <a:xfrm>
              <a:off x="1768320" y="3665520"/>
              <a:ext cx="281160" cy="457200"/>
            </a:xfrm>
            <a:custGeom>
              <a:avLst/>
              <a:gdLst/>
              <a:ahLst/>
              <a:rect l="l" t="t" r="r" b="b"/>
              <a:pathLst>
                <a:path w="158" h="256">
                  <a:moveTo>
                    <a:pt x="113" y="186"/>
                  </a:moveTo>
                  <a:cubicBezTo>
                    <a:pt x="94" y="177"/>
                    <a:pt x="82" y="162"/>
                    <a:pt x="71" y="144"/>
                  </a:cubicBezTo>
                  <a:cubicBezTo>
                    <a:pt x="53" y="113"/>
                    <a:pt x="28" y="76"/>
                    <a:pt x="29" y="38"/>
                  </a:cubicBezTo>
                  <a:cubicBezTo>
                    <a:pt x="29" y="24"/>
                    <a:pt x="32" y="11"/>
                    <a:pt x="36" y="0"/>
                  </a:cubicBezTo>
                  <a:cubicBezTo>
                    <a:pt x="12" y="9"/>
                    <a:pt x="0" y="33"/>
                    <a:pt x="3" y="49"/>
                  </a:cubicBezTo>
                  <a:cubicBezTo>
                    <a:pt x="8" y="76"/>
                    <a:pt x="53" y="121"/>
                    <a:pt x="63" y="149"/>
                  </a:cubicBezTo>
                  <a:cubicBezTo>
                    <a:pt x="73" y="177"/>
                    <a:pt x="45" y="256"/>
                    <a:pt x="45" y="256"/>
                  </a:cubicBezTo>
                  <a:cubicBezTo>
                    <a:pt x="131" y="251"/>
                    <a:pt x="131" y="251"/>
                    <a:pt x="131" y="251"/>
                  </a:cubicBezTo>
                  <a:cubicBezTo>
                    <a:pt x="143" y="232"/>
                    <a:pt x="152" y="213"/>
                    <a:pt x="158" y="194"/>
                  </a:cubicBezTo>
                  <a:cubicBezTo>
                    <a:pt x="142" y="194"/>
                    <a:pt x="127" y="193"/>
                    <a:pt x="113" y="18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2"/>
            <p:cNvSpPr/>
            <p:nvPr/>
          </p:nvSpPr>
          <p:spPr>
            <a:xfrm>
              <a:off x="1671480" y="3992760"/>
              <a:ext cx="714240" cy="649080"/>
            </a:xfrm>
            <a:custGeom>
              <a:avLst/>
              <a:gdLst/>
              <a:ahLst/>
              <a:rect l="l" t="t" r="r" b="b"/>
              <a:pathLst>
                <a:path w="400" h="364">
                  <a:moveTo>
                    <a:pt x="349" y="72"/>
                  </a:moveTo>
                  <a:cubicBezTo>
                    <a:pt x="349" y="72"/>
                    <a:pt x="98" y="0"/>
                    <a:pt x="71" y="41"/>
                  </a:cubicBezTo>
                  <a:cubicBezTo>
                    <a:pt x="44" y="83"/>
                    <a:pt x="0" y="247"/>
                    <a:pt x="30" y="307"/>
                  </a:cubicBezTo>
                  <a:cubicBezTo>
                    <a:pt x="39" y="326"/>
                    <a:pt x="104" y="344"/>
                    <a:pt x="166" y="351"/>
                  </a:cubicBezTo>
                  <a:cubicBezTo>
                    <a:pt x="246" y="360"/>
                    <a:pt x="332" y="364"/>
                    <a:pt x="342" y="347"/>
                  </a:cubicBezTo>
                  <a:cubicBezTo>
                    <a:pt x="354" y="328"/>
                    <a:pt x="374" y="274"/>
                    <a:pt x="326" y="263"/>
                  </a:cubicBezTo>
                  <a:cubicBezTo>
                    <a:pt x="326" y="263"/>
                    <a:pt x="359" y="265"/>
                    <a:pt x="372" y="246"/>
                  </a:cubicBezTo>
                  <a:cubicBezTo>
                    <a:pt x="385" y="225"/>
                    <a:pt x="385" y="187"/>
                    <a:pt x="350" y="169"/>
                  </a:cubicBezTo>
                  <a:cubicBezTo>
                    <a:pt x="350" y="169"/>
                    <a:pt x="382" y="167"/>
                    <a:pt x="391" y="125"/>
                  </a:cubicBezTo>
                  <a:cubicBezTo>
                    <a:pt x="400" y="84"/>
                    <a:pt x="349" y="72"/>
                    <a:pt x="349" y="7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"/>
            <p:cNvSpPr/>
            <p:nvPr/>
          </p:nvSpPr>
          <p:spPr>
            <a:xfrm>
              <a:off x="1973160" y="4373640"/>
              <a:ext cx="347760" cy="125280"/>
            </a:xfrm>
            <a:custGeom>
              <a:avLst/>
              <a:gdLst/>
              <a:ahLst/>
              <a:rect l="l" t="t" r="r" b="b"/>
              <a:pathLst>
                <a:path w="195" h="70">
                  <a:moveTo>
                    <a:pt x="195" y="39"/>
                  </a:moveTo>
                  <a:cubicBezTo>
                    <a:pt x="195" y="39"/>
                    <a:pt x="194" y="39"/>
                    <a:pt x="194" y="39"/>
                  </a:cubicBezTo>
                  <a:cubicBezTo>
                    <a:pt x="158" y="44"/>
                    <a:pt x="122" y="31"/>
                    <a:pt x="89" y="20"/>
                  </a:cubicBezTo>
                  <a:cubicBezTo>
                    <a:pt x="73" y="14"/>
                    <a:pt x="58" y="9"/>
                    <a:pt x="42" y="5"/>
                  </a:cubicBezTo>
                  <a:cubicBezTo>
                    <a:pt x="34" y="3"/>
                    <a:pt x="26" y="0"/>
                    <a:pt x="18" y="0"/>
                  </a:cubicBezTo>
                  <a:cubicBezTo>
                    <a:pt x="0" y="0"/>
                    <a:pt x="2" y="14"/>
                    <a:pt x="17" y="19"/>
                  </a:cubicBezTo>
                  <a:cubicBezTo>
                    <a:pt x="54" y="32"/>
                    <a:pt x="92" y="45"/>
                    <a:pt x="130" y="56"/>
                  </a:cubicBezTo>
                  <a:cubicBezTo>
                    <a:pt x="141" y="59"/>
                    <a:pt x="169" y="61"/>
                    <a:pt x="185" y="70"/>
                  </a:cubicBezTo>
                  <a:cubicBezTo>
                    <a:pt x="181" y="60"/>
                    <a:pt x="172" y="53"/>
                    <a:pt x="157" y="49"/>
                  </a:cubicBezTo>
                  <a:cubicBezTo>
                    <a:pt x="157" y="49"/>
                    <a:pt x="180" y="50"/>
                    <a:pt x="195" y="3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4"/>
            <p:cNvSpPr/>
            <p:nvPr/>
          </p:nvSpPr>
          <p:spPr>
            <a:xfrm>
              <a:off x="1977840" y="4226040"/>
              <a:ext cx="388800" cy="93600"/>
            </a:xfrm>
            <a:custGeom>
              <a:avLst/>
              <a:gdLst/>
              <a:ahLst/>
              <a:rect l="l" t="t" r="r" b="b"/>
              <a:pathLst>
                <a:path w="218" h="53">
                  <a:moveTo>
                    <a:pt x="218" y="0"/>
                  </a:moveTo>
                  <a:cubicBezTo>
                    <a:pt x="217" y="1"/>
                    <a:pt x="217" y="1"/>
                    <a:pt x="216" y="2"/>
                  </a:cubicBezTo>
                  <a:cubicBezTo>
                    <a:pt x="165" y="47"/>
                    <a:pt x="81" y="7"/>
                    <a:pt x="22" y="2"/>
                  </a:cubicBezTo>
                  <a:cubicBezTo>
                    <a:pt x="15" y="1"/>
                    <a:pt x="9" y="1"/>
                    <a:pt x="3" y="2"/>
                  </a:cubicBezTo>
                  <a:cubicBezTo>
                    <a:pt x="0" y="18"/>
                    <a:pt x="4" y="26"/>
                    <a:pt x="16" y="27"/>
                  </a:cubicBezTo>
                  <a:cubicBezTo>
                    <a:pt x="25" y="28"/>
                    <a:pt x="35" y="31"/>
                    <a:pt x="44" y="32"/>
                  </a:cubicBezTo>
                  <a:cubicBezTo>
                    <a:pt x="65" y="34"/>
                    <a:pt x="87" y="35"/>
                    <a:pt x="108" y="37"/>
                  </a:cubicBezTo>
                  <a:cubicBezTo>
                    <a:pt x="139" y="39"/>
                    <a:pt x="168" y="42"/>
                    <a:pt x="197" y="53"/>
                  </a:cubicBezTo>
                  <a:cubicBezTo>
                    <a:pt x="192" y="47"/>
                    <a:pt x="186" y="42"/>
                    <a:pt x="178" y="38"/>
                  </a:cubicBezTo>
                  <a:cubicBezTo>
                    <a:pt x="178" y="38"/>
                    <a:pt x="207" y="36"/>
                    <a:pt x="218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5"/>
            <p:cNvSpPr/>
            <p:nvPr/>
          </p:nvSpPr>
          <p:spPr>
            <a:xfrm>
              <a:off x="1701720" y="4330800"/>
              <a:ext cx="590400" cy="311040"/>
            </a:xfrm>
            <a:custGeom>
              <a:avLst/>
              <a:gdLst/>
              <a:ahLst/>
              <a:rect l="l" t="t" r="r" b="b"/>
              <a:pathLst>
                <a:path w="331" h="174">
                  <a:moveTo>
                    <a:pt x="242" y="161"/>
                  </a:moveTo>
                  <a:cubicBezTo>
                    <a:pt x="178" y="155"/>
                    <a:pt x="86" y="142"/>
                    <a:pt x="43" y="87"/>
                  </a:cubicBezTo>
                  <a:cubicBezTo>
                    <a:pt x="23" y="62"/>
                    <a:pt x="12" y="32"/>
                    <a:pt x="8" y="0"/>
                  </a:cubicBezTo>
                  <a:cubicBezTo>
                    <a:pt x="1" y="46"/>
                    <a:pt x="0" y="91"/>
                    <a:pt x="13" y="117"/>
                  </a:cubicBezTo>
                  <a:cubicBezTo>
                    <a:pt x="22" y="136"/>
                    <a:pt x="87" y="154"/>
                    <a:pt x="149" y="161"/>
                  </a:cubicBezTo>
                  <a:cubicBezTo>
                    <a:pt x="229" y="170"/>
                    <a:pt x="315" y="174"/>
                    <a:pt x="325" y="157"/>
                  </a:cubicBezTo>
                  <a:cubicBezTo>
                    <a:pt x="327" y="154"/>
                    <a:pt x="329" y="150"/>
                    <a:pt x="331" y="146"/>
                  </a:cubicBezTo>
                  <a:cubicBezTo>
                    <a:pt x="305" y="160"/>
                    <a:pt x="261" y="162"/>
                    <a:pt x="242" y="16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6"/>
            <p:cNvSpPr/>
            <p:nvPr/>
          </p:nvSpPr>
          <p:spPr>
            <a:xfrm>
              <a:off x="1827000" y="4924440"/>
              <a:ext cx="403200" cy="496800"/>
            </a:xfrm>
            <a:custGeom>
              <a:avLst/>
              <a:gdLst/>
              <a:ahLst/>
              <a:rect l="l" t="t" r="r" b="b"/>
              <a:pathLst>
                <a:path w="226" h="279">
                  <a:moveTo>
                    <a:pt x="0" y="233"/>
                  </a:moveTo>
                  <a:cubicBezTo>
                    <a:pt x="0" y="233"/>
                    <a:pt x="70" y="186"/>
                    <a:pt x="78" y="157"/>
                  </a:cubicBezTo>
                  <a:cubicBezTo>
                    <a:pt x="87" y="129"/>
                    <a:pt x="77" y="66"/>
                    <a:pt x="89" y="41"/>
                  </a:cubicBezTo>
                  <a:cubicBezTo>
                    <a:pt x="101" y="16"/>
                    <a:pt x="159" y="0"/>
                    <a:pt x="192" y="66"/>
                  </a:cubicBezTo>
                  <a:cubicBezTo>
                    <a:pt x="226" y="132"/>
                    <a:pt x="188" y="235"/>
                    <a:pt x="72" y="279"/>
                  </a:cubicBezTo>
                  <a:lnTo>
                    <a:pt x="0" y="23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1827000" y="4950000"/>
              <a:ext cx="257400" cy="471240"/>
            </a:xfrm>
            <a:custGeom>
              <a:avLst/>
              <a:gdLst/>
              <a:ahLst/>
              <a:rect l="l" t="t" r="r" b="b"/>
              <a:pathLst>
                <a:path w="144" h="264">
                  <a:moveTo>
                    <a:pt x="96" y="202"/>
                  </a:moveTo>
                  <a:cubicBezTo>
                    <a:pt x="86" y="184"/>
                    <a:pt x="85" y="164"/>
                    <a:pt x="87" y="144"/>
                  </a:cubicBezTo>
                  <a:cubicBezTo>
                    <a:pt x="91" y="107"/>
                    <a:pt x="93" y="63"/>
                    <a:pt x="116" y="33"/>
                  </a:cubicBezTo>
                  <a:cubicBezTo>
                    <a:pt x="125" y="22"/>
                    <a:pt x="134" y="13"/>
                    <a:pt x="144" y="7"/>
                  </a:cubicBezTo>
                  <a:cubicBezTo>
                    <a:pt x="119" y="0"/>
                    <a:pt x="96" y="11"/>
                    <a:pt x="89" y="26"/>
                  </a:cubicBezTo>
                  <a:cubicBezTo>
                    <a:pt x="77" y="51"/>
                    <a:pt x="87" y="114"/>
                    <a:pt x="78" y="142"/>
                  </a:cubicBezTo>
                  <a:cubicBezTo>
                    <a:pt x="70" y="171"/>
                    <a:pt x="0" y="218"/>
                    <a:pt x="0" y="218"/>
                  </a:cubicBezTo>
                  <a:cubicBezTo>
                    <a:pt x="72" y="264"/>
                    <a:pt x="72" y="264"/>
                    <a:pt x="72" y="264"/>
                  </a:cubicBezTo>
                  <a:cubicBezTo>
                    <a:pt x="93" y="256"/>
                    <a:pt x="112" y="246"/>
                    <a:pt x="127" y="235"/>
                  </a:cubicBezTo>
                  <a:cubicBezTo>
                    <a:pt x="115" y="225"/>
                    <a:pt x="104" y="215"/>
                    <a:pt x="96" y="2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1473120" y="5234040"/>
              <a:ext cx="774720" cy="770040"/>
            </a:xfrm>
            <a:custGeom>
              <a:avLst/>
              <a:gdLst/>
              <a:ahLst/>
              <a:rect l="l" t="t" r="r" b="b"/>
              <a:pathLst>
                <a:path w="434" h="431">
                  <a:moveTo>
                    <a:pt x="400" y="207"/>
                  </a:moveTo>
                  <a:cubicBezTo>
                    <a:pt x="400" y="207"/>
                    <a:pt x="241" y="0"/>
                    <a:pt x="194" y="17"/>
                  </a:cubicBezTo>
                  <a:cubicBezTo>
                    <a:pt x="148" y="34"/>
                    <a:pt x="15" y="140"/>
                    <a:pt x="4" y="206"/>
                  </a:cubicBezTo>
                  <a:cubicBezTo>
                    <a:pt x="0" y="227"/>
                    <a:pt x="41" y="281"/>
                    <a:pt x="87" y="323"/>
                  </a:cubicBezTo>
                  <a:cubicBezTo>
                    <a:pt x="147" y="378"/>
                    <a:pt x="214" y="431"/>
                    <a:pt x="231" y="424"/>
                  </a:cubicBezTo>
                  <a:cubicBezTo>
                    <a:pt x="252" y="415"/>
                    <a:pt x="300" y="384"/>
                    <a:pt x="269" y="347"/>
                  </a:cubicBezTo>
                  <a:cubicBezTo>
                    <a:pt x="269" y="347"/>
                    <a:pt x="294" y="368"/>
                    <a:pt x="315" y="360"/>
                  </a:cubicBezTo>
                  <a:cubicBezTo>
                    <a:pt x="339" y="351"/>
                    <a:pt x="361" y="320"/>
                    <a:pt x="343" y="285"/>
                  </a:cubicBezTo>
                  <a:cubicBezTo>
                    <a:pt x="343" y="285"/>
                    <a:pt x="370" y="302"/>
                    <a:pt x="402" y="274"/>
                  </a:cubicBezTo>
                  <a:cubicBezTo>
                    <a:pt x="434" y="246"/>
                    <a:pt x="400" y="207"/>
                    <a:pt x="400" y="20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1768320" y="5616720"/>
              <a:ext cx="249120" cy="296640"/>
            </a:xfrm>
            <a:custGeom>
              <a:avLst/>
              <a:gdLst/>
              <a:ahLst/>
              <a:rect l="l" t="t" r="r" b="b"/>
              <a:pathLst>
                <a:path w="140" h="166">
                  <a:moveTo>
                    <a:pt x="140" y="147"/>
                  </a:moveTo>
                  <a:cubicBezTo>
                    <a:pt x="140" y="147"/>
                    <a:pt x="139" y="147"/>
                    <a:pt x="138" y="146"/>
                  </a:cubicBezTo>
                  <a:cubicBezTo>
                    <a:pt x="107" y="130"/>
                    <a:pt x="86" y="97"/>
                    <a:pt x="66" y="69"/>
                  </a:cubicBezTo>
                  <a:cubicBezTo>
                    <a:pt x="56" y="55"/>
                    <a:pt x="47" y="41"/>
                    <a:pt x="37" y="29"/>
                  </a:cubicBezTo>
                  <a:cubicBezTo>
                    <a:pt x="32" y="22"/>
                    <a:pt x="26" y="16"/>
                    <a:pt x="20" y="11"/>
                  </a:cubicBezTo>
                  <a:cubicBezTo>
                    <a:pt x="5" y="0"/>
                    <a:pt x="0" y="13"/>
                    <a:pt x="8" y="25"/>
                  </a:cubicBezTo>
                  <a:cubicBezTo>
                    <a:pt x="31" y="58"/>
                    <a:pt x="53" y="91"/>
                    <a:pt x="77" y="122"/>
                  </a:cubicBezTo>
                  <a:cubicBezTo>
                    <a:pt x="84" y="132"/>
                    <a:pt x="105" y="149"/>
                    <a:pt x="113" y="166"/>
                  </a:cubicBezTo>
                  <a:cubicBezTo>
                    <a:pt x="116" y="156"/>
                    <a:pt x="114" y="145"/>
                    <a:pt x="104" y="133"/>
                  </a:cubicBezTo>
                  <a:cubicBezTo>
                    <a:pt x="104" y="133"/>
                    <a:pt x="121" y="147"/>
                    <a:pt x="140" y="14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1847880" y="5505480"/>
              <a:ext cx="336240" cy="279360"/>
            </a:xfrm>
            <a:custGeom>
              <a:avLst/>
              <a:gdLst/>
              <a:ahLst/>
              <a:rect l="l" t="t" r="r" b="b"/>
              <a:pathLst>
                <a:path w="188" h="156">
                  <a:moveTo>
                    <a:pt x="188" y="126"/>
                  </a:moveTo>
                  <a:cubicBezTo>
                    <a:pt x="187" y="126"/>
                    <a:pt x="186" y="126"/>
                    <a:pt x="186" y="126"/>
                  </a:cubicBezTo>
                  <a:cubicBezTo>
                    <a:pt x="117" y="133"/>
                    <a:pt x="73" y="50"/>
                    <a:pt x="29" y="11"/>
                  </a:cubicBezTo>
                  <a:cubicBezTo>
                    <a:pt x="24" y="7"/>
                    <a:pt x="19" y="3"/>
                    <a:pt x="14" y="0"/>
                  </a:cubicBezTo>
                  <a:cubicBezTo>
                    <a:pt x="2" y="11"/>
                    <a:pt x="0" y="20"/>
                    <a:pt x="9" y="28"/>
                  </a:cubicBezTo>
                  <a:cubicBezTo>
                    <a:pt x="16" y="35"/>
                    <a:pt x="22" y="42"/>
                    <a:pt x="29" y="49"/>
                  </a:cubicBezTo>
                  <a:cubicBezTo>
                    <a:pt x="45" y="63"/>
                    <a:pt x="61" y="77"/>
                    <a:pt x="78" y="91"/>
                  </a:cubicBezTo>
                  <a:cubicBezTo>
                    <a:pt x="102" y="111"/>
                    <a:pt x="123" y="130"/>
                    <a:pt x="140" y="156"/>
                  </a:cubicBezTo>
                  <a:cubicBezTo>
                    <a:pt x="139" y="149"/>
                    <a:pt x="137" y="141"/>
                    <a:pt x="133" y="133"/>
                  </a:cubicBezTo>
                  <a:cubicBezTo>
                    <a:pt x="133" y="133"/>
                    <a:pt x="158" y="148"/>
                    <a:pt x="188" y="12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1473120" y="5429160"/>
              <a:ext cx="431640" cy="57492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163" y="269"/>
                  </a:moveTo>
                  <a:cubicBezTo>
                    <a:pt x="114" y="226"/>
                    <a:pt x="48" y="161"/>
                    <a:pt x="45" y="91"/>
                  </a:cubicBezTo>
                  <a:cubicBezTo>
                    <a:pt x="44" y="60"/>
                    <a:pt x="54" y="29"/>
                    <a:pt x="69" y="0"/>
                  </a:cubicBezTo>
                  <a:cubicBezTo>
                    <a:pt x="36" y="33"/>
                    <a:pt x="9" y="69"/>
                    <a:pt x="4" y="97"/>
                  </a:cubicBezTo>
                  <a:cubicBezTo>
                    <a:pt x="0" y="118"/>
                    <a:pt x="41" y="172"/>
                    <a:pt x="87" y="214"/>
                  </a:cubicBezTo>
                  <a:cubicBezTo>
                    <a:pt x="147" y="269"/>
                    <a:pt x="214" y="322"/>
                    <a:pt x="231" y="315"/>
                  </a:cubicBezTo>
                  <a:cubicBezTo>
                    <a:pt x="235" y="314"/>
                    <a:pt x="238" y="312"/>
                    <a:pt x="242" y="309"/>
                  </a:cubicBezTo>
                  <a:cubicBezTo>
                    <a:pt x="213" y="306"/>
                    <a:pt x="177" y="281"/>
                    <a:pt x="163" y="26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5006880" y="5100840"/>
              <a:ext cx="401760" cy="358560"/>
            </a:xfrm>
            <a:custGeom>
              <a:avLst/>
              <a:gdLst/>
              <a:ahLst/>
              <a:rect l="l" t="t" r="r" b="b"/>
              <a:pathLst>
                <a:path w="225" h="201">
                  <a:moveTo>
                    <a:pt x="47" y="201"/>
                  </a:moveTo>
                  <a:cubicBezTo>
                    <a:pt x="47" y="201"/>
                    <a:pt x="79" y="137"/>
                    <a:pt x="102" y="127"/>
                  </a:cubicBezTo>
                  <a:cubicBezTo>
                    <a:pt x="125" y="116"/>
                    <a:pt x="178" y="118"/>
                    <a:pt x="198" y="104"/>
                  </a:cubicBezTo>
                  <a:cubicBezTo>
                    <a:pt x="218" y="91"/>
                    <a:pt x="225" y="41"/>
                    <a:pt x="165" y="20"/>
                  </a:cubicBezTo>
                  <a:cubicBezTo>
                    <a:pt x="106" y="0"/>
                    <a:pt x="24" y="44"/>
                    <a:pt x="0" y="146"/>
                  </a:cubicBezTo>
                  <a:lnTo>
                    <a:pt x="47" y="201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>
              <a:off x="5006880" y="5199120"/>
              <a:ext cx="387360" cy="260280"/>
            </a:xfrm>
            <a:custGeom>
              <a:avLst/>
              <a:gdLst/>
              <a:ahLst/>
              <a:rect l="l" t="t" r="r" b="b"/>
              <a:pathLst>
                <a:path w="217" h="146">
                  <a:moveTo>
                    <a:pt x="49" y="63"/>
                  </a:moveTo>
                  <a:cubicBezTo>
                    <a:pt x="66" y="70"/>
                    <a:pt x="82" y="68"/>
                    <a:pt x="100" y="64"/>
                  </a:cubicBezTo>
                  <a:cubicBezTo>
                    <a:pt x="130" y="57"/>
                    <a:pt x="167" y="50"/>
                    <a:pt x="189" y="27"/>
                  </a:cubicBezTo>
                  <a:cubicBezTo>
                    <a:pt x="198" y="19"/>
                    <a:pt x="204" y="10"/>
                    <a:pt x="208" y="0"/>
                  </a:cubicBezTo>
                  <a:cubicBezTo>
                    <a:pt x="217" y="21"/>
                    <a:pt x="210" y="42"/>
                    <a:pt x="198" y="49"/>
                  </a:cubicBezTo>
                  <a:cubicBezTo>
                    <a:pt x="178" y="63"/>
                    <a:pt x="125" y="61"/>
                    <a:pt x="102" y="72"/>
                  </a:cubicBezTo>
                  <a:cubicBezTo>
                    <a:pt x="79" y="82"/>
                    <a:pt x="47" y="146"/>
                    <a:pt x="47" y="146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4" y="72"/>
                    <a:pt x="10" y="56"/>
                    <a:pt x="18" y="41"/>
                  </a:cubicBezTo>
                  <a:cubicBezTo>
                    <a:pt x="28" y="50"/>
                    <a:pt x="37" y="59"/>
                    <a:pt x="49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4527360" y="5143680"/>
              <a:ext cx="642960" cy="647640"/>
            </a:xfrm>
            <a:custGeom>
              <a:avLst/>
              <a:gdLst/>
              <a:ahLst/>
              <a:rect l="l" t="t" r="r" b="b"/>
              <a:pathLst>
                <a:path w="360" h="363">
                  <a:moveTo>
                    <a:pt x="168" y="24"/>
                  </a:moveTo>
                  <a:cubicBezTo>
                    <a:pt x="168" y="24"/>
                    <a:pt x="360" y="135"/>
                    <a:pt x="351" y="176"/>
                  </a:cubicBezTo>
                  <a:cubicBezTo>
                    <a:pt x="342" y="217"/>
                    <a:pt x="268" y="340"/>
                    <a:pt x="214" y="358"/>
                  </a:cubicBezTo>
                  <a:cubicBezTo>
                    <a:pt x="196" y="363"/>
                    <a:pt x="147" y="335"/>
                    <a:pt x="106" y="301"/>
                  </a:cubicBezTo>
                  <a:cubicBezTo>
                    <a:pt x="53" y="257"/>
                    <a:pt x="0" y="207"/>
                    <a:pt x="4" y="191"/>
                  </a:cubicBezTo>
                  <a:cubicBezTo>
                    <a:pt x="9" y="172"/>
                    <a:pt x="30" y="129"/>
                    <a:pt x="65" y="151"/>
                  </a:cubicBezTo>
                  <a:cubicBezTo>
                    <a:pt x="65" y="151"/>
                    <a:pt x="45" y="132"/>
                    <a:pt x="49" y="113"/>
                  </a:cubicBezTo>
                  <a:cubicBezTo>
                    <a:pt x="53" y="92"/>
                    <a:pt x="77" y="70"/>
                    <a:pt x="108" y="81"/>
                  </a:cubicBezTo>
                  <a:cubicBezTo>
                    <a:pt x="108" y="81"/>
                    <a:pt x="91" y="60"/>
                    <a:pt x="111" y="30"/>
                  </a:cubicBezTo>
                  <a:cubicBezTo>
                    <a:pt x="130" y="0"/>
                    <a:pt x="168" y="24"/>
                    <a:pt x="168" y="2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4592520" y="5361120"/>
              <a:ext cx="271440" cy="183960"/>
            </a:xfrm>
            <a:custGeom>
              <a:avLst/>
              <a:gdLst/>
              <a:ahLst/>
              <a:rect l="l" t="t" r="r" b="b"/>
              <a:pathLst>
                <a:path w="152" h="103">
                  <a:moveTo>
                    <a:pt x="13" y="0"/>
                  </a:moveTo>
                  <a:cubicBezTo>
                    <a:pt x="13" y="0"/>
                    <a:pt x="13" y="1"/>
                    <a:pt x="13" y="1"/>
                  </a:cubicBezTo>
                  <a:cubicBezTo>
                    <a:pt x="31" y="26"/>
                    <a:pt x="61" y="40"/>
                    <a:pt x="87" y="53"/>
                  </a:cubicBezTo>
                  <a:cubicBezTo>
                    <a:pt x="100" y="60"/>
                    <a:pt x="112" y="66"/>
                    <a:pt x="124" y="73"/>
                  </a:cubicBezTo>
                  <a:cubicBezTo>
                    <a:pt x="130" y="77"/>
                    <a:pt x="136" y="80"/>
                    <a:pt x="141" y="85"/>
                  </a:cubicBezTo>
                  <a:cubicBezTo>
                    <a:pt x="152" y="96"/>
                    <a:pt x="142" y="103"/>
                    <a:pt x="130" y="97"/>
                  </a:cubicBezTo>
                  <a:cubicBezTo>
                    <a:pt x="100" y="82"/>
                    <a:pt x="70" y="66"/>
                    <a:pt x="41" y="50"/>
                  </a:cubicBezTo>
                  <a:cubicBezTo>
                    <a:pt x="32" y="45"/>
                    <a:pt x="15" y="29"/>
                    <a:pt x="0" y="25"/>
                  </a:cubicBezTo>
                  <a:cubicBezTo>
                    <a:pt x="8" y="21"/>
                    <a:pt x="18" y="22"/>
                    <a:pt x="29" y="29"/>
                  </a:cubicBezTo>
                  <a:cubicBezTo>
                    <a:pt x="29" y="29"/>
                    <a:pt x="15" y="16"/>
                    <a:pt x="13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6"/>
            <p:cNvSpPr/>
            <p:nvPr/>
          </p:nvSpPr>
          <p:spPr>
            <a:xfrm>
              <a:off x="4684680" y="5205600"/>
              <a:ext cx="260280" cy="258480"/>
            </a:xfrm>
            <a:custGeom>
              <a:avLst/>
              <a:gdLst/>
              <a:ahLst/>
              <a:rect l="l" t="t" r="r" b="b"/>
              <a:pathLst>
                <a:path w="146" h="145">
                  <a:moveTo>
                    <a:pt x="20" y="0"/>
                  </a:moveTo>
                  <a:cubicBezTo>
                    <a:pt x="20" y="0"/>
                    <a:pt x="20" y="1"/>
                    <a:pt x="20" y="1"/>
                  </a:cubicBezTo>
                  <a:cubicBezTo>
                    <a:pt x="22" y="60"/>
                    <a:pt x="97" y="87"/>
                    <a:pt x="135" y="120"/>
                  </a:cubicBezTo>
                  <a:cubicBezTo>
                    <a:pt x="139" y="123"/>
                    <a:pt x="142" y="127"/>
                    <a:pt x="146" y="131"/>
                  </a:cubicBezTo>
                  <a:cubicBezTo>
                    <a:pt x="138" y="143"/>
                    <a:pt x="131" y="145"/>
                    <a:pt x="123" y="138"/>
                  </a:cubicBezTo>
                  <a:cubicBezTo>
                    <a:pt x="116" y="134"/>
                    <a:pt x="109" y="129"/>
                    <a:pt x="103" y="124"/>
                  </a:cubicBezTo>
                  <a:cubicBezTo>
                    <a:pt x="89" y="112"/>
                    <a:pt x="76" y="100"/>
                    <a:pt x="62" y="88"/>
                  </a:cubicBezTo>
                  <a:cubicBezTo>
                    <a:pt x="43" y="70"/>
                    <a:pt x="24" y="54"/>
                    <a:pt x="0" y="43"/>
                  </a:cubicBezTo>
                  <a:cubicBezTo>
                    <a:pt x="6" y="43"/>
                    <a:pt x="13" y="43"/>
                    <a:pt x="20" y="46"/>
                  </a:cubicBezTo>
                  <a:cubicBezTo>
                    <a:pt x="20" y="46"/>
                    <a:pt x="5" y="27"/>
                    <a:pt x="2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4527360" y="5467320"/>
              <a:ext cx="514440" cy="324000"/>
            </a:xfrm>
            <a:custGeom>
              <a:avLst/>
              <a:gdLst/>
              <a:ahLst/>
              <a:rect l="l" t="t" r="r" b="b"/>
              <a:pathLst>
                <a:path w="288" h="182">
                  <a:moveTo>
                    <a:pt x="51" y="63"/>
                  </a:moveTo>
                  <a:cubicBezTo>
                    <a:pt x="92" y="99"/>
                    <a:pt x="155" y="147"/>
                    <a:pt x="214" y="141"/>
                  </a:cubicBezTo>
                  <a:cubicBezTo>
                    <a:pt x="241" y="138"/>
                    <a:pt x="266" y="127"/>
                    <a:pt x="288" y="110"/>
                  </a:cubicBezTo>
                  <a:cubicBezTo>
                    <a:pt x="264" y="142"/>
                    <a:pt x="237" y="169"/>
                    <a:pt x="214" y="177"/>
                  </a:cubicBezTo>
                  <a:cubicBezTo>
                    <a:pt x="196" y="182"/>
                    <a:pt x="147" y="154"/>
                    <a:pt x="106" y="120"/>
                  </a:cubicBezTo>
                  <a:cubicBezTo>
                    <a:pt x="53" y="76"/>
                    <a:pt x="0" y="26"/>
                    <a:pt x="4" y="10"/>
                  </a:cubicBezTo>
                  <a:cubicBezTo>
                    <a:pt x="5" y="7"/>
                    <a:pt x="6" y="4"/>
                    <a:pt x="8" y="0"/>
                  </a:cubicBezTo>
                  <a:cubicBezTo>
                    <a:pt x="14" y="24"/>
                    <a:pt x="39" y="52"/>
                    <a:pt x="51" y="6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4913280" y="2724120"/>
              <a:ext cx="385560" cy="474840"/>
            </a:xfrm>
            <a:custGeom>
              <a:avLst/>
              <a:gdLst/>
              <a:ahLst/>
              <a:rect l="l" t="t" r="r" b="b"/>
              <a:pathLst>
                <a:path w="216" h="266">
                  <a:moveTo>
                    <a:pt x="120" y="266"/>
                  </a:moveTo>
                  <a:cubicBezTo>
                    <a:pt x="120" y="266"/>
                    <a:pt x="111" y="184"/>
                    <a:pt x="126" y="160"/>
                  </a:cubicBezTo>
                  <a:cubicBezTo>
                    <a:pt x="142" y="135"/>
                    <a:pt x="195" y="103"/>
                    <a:pt x="205" y="78"/>
                  </a:cubicBezTo>
                  <a:cubicBezTo>
                    <a:pt x="216" y="53"/>
                    <a:pt x="192" y="0"/>
                    <a:pt x="121" y="17"/>
                  </a:cubicBezTo>
                  <a:cubicBezTo>
                    <a:pt x="51" y="34"/>
                    <a:pt x="0" y="128"/>
                    <a:pt x="40" y="242"/>
                  </a:cubicBezTo>
                  <a:lnTo>
                    <a:pt x="120" y="266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9"/>
            <p:cNvSpPr/>
            <p:nvPr/>
          </p:nvSpPr>
          <p:spPr>
            <a:xfrm>
              <a:off x="4962240" y="2766960"/>
              <a:ext cx="330480" cy="432000"/>
            </a:xfrm>
            <a:custGeom>
              <a:avLst/>
              <a:gdLst/>
              <a:ahLst/>
              <a:rect l="l" t="t" r="r" b="b"/>
              <a:pathLst>
                <a:path w="185" h="242">
                  <a:moveTo>
                    <a:pt x="44" y="160"/>
                  </a:moveTo>
                  <a:cubicBezTo>
                    <a:pt x="64" y="156"/>
                    <a:pt x="79" y="144"/>
                    <a:pt x="93" y="129"/>
                  </a:cubicBezTo>
                  <a:cubicBezTo>
                    <a:pt x="117" y="104"/>
                    <a:pt x="149" y="74"/>
                    <a:pt x="156" y="38"/>
                  </a:cubicBezTo>
                  <a:cubicBezTo>
                    <a:pt x="159" y="25"/>
                    <a:pt x="159" y="12"/>
                    <a:pt x="158" y="0"/>
                  </a:cubicBezTo>
                  <a:cubicBezTo>
                    <a:pt x="179" y="14"/>
                    <a:pt x="185" y="39"/>
                    <a:pt x="178" y="54"/>
                  </a:cubicBezTo>
                  <a:cubicBezTo>
                    <a:pt x="168" y="79"/>
                    <a:pt x="115" y="111"/>
                    <a:pt x="99" y="136"/>
                  </a:cubicBezTo>
                  <a:cubicBezTo>
                    <a:pt x="84" y="160"/>
                    <a:pt x="93" y="242"/>
                    <a:pt x="93" y="242"/>
                  </a:cubicBezTo>
                  <a:cubicBezTo>
                    <a:pt x="13" y="218"/>
                    <a:pt x="13" y="218"/>
                    <a:pt x="13" y="218"/>
                  </a:cubicBezTo>
                  <a:cubicBezTo>
                    <a:pt x="6" y="197"/>
                    <a:pt x="1" y="177"/>
                    <a:pt x="0" y="158"/>
                  </a:cubicBezTo>
                  <a:cubicBezTo>
                    <a:pt x="15" y="161"/>
                    <a:pt x="29" y="163"/>
                    <a:pt x="44" y="16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4582800" y="3073320"/>
              <a:ext cx="646200" cy="584280"/>
            </a:xfrm>
            <a:custGeom>
              <a:avLst/>
              <a:gdLst/>
              <a:ahLst/>
              <a:rect l="l" t="t" r="r" b="b"/>
              <a:pathLst>
                <a:path w="362" h="327">
                  <a:moveTo>
                    <a:pt x="68" y="14"/>
                  </a:moveTo>
                  <a:cubicBezTo>
                    <a:pt x="68" y="14"/>
                    <a:pt x="322" y="0"/>
                    <a:pt x="339" y="46"/>
                  </a:cubicBezTo>
                  <a:cubicBezTo>
                    <a:pt x="356" y="91"/>
                    <a:pt x="362" y="256"/>
                    <a:pt x="320" y="307"/>
                  </a:cubicBezTo>
                  <a:cubicBezTo>
                    <a:pt x="307" y="323"/>
                    <a:pt x="241" y="327"/>
                    <a:pt x="182" y="320"/>
                  </a:cubicBezTo>
                  <a:cubicBezTo>
                    <a:pt x="103" y="311"/>
                    <a:pt x="20" y="295"/>
                    <a:pt x="15" y="277"/>
                  </a:cubicBezTo>
                  <a:cubicBezTo>
                    <a:pt x="8" y="256"/>
                    <a:pt x="0" y="201"/>
                    <a:pt x="48" y="201"/>
                  </a:cubicBezTo>
                  <a:cubicBezTo>
                    <a:pt x="48" y="201"/>
                    <a:pt x="16" y="195"/>
                    <a:pt x="8" y="174"/>
                  </a:cubicBezTo>
                  <a:cubicBezTo>
                    <a:pt x="0" y="152"/>
                    <a:pt x="8" y="115"/>
                    <a:pt x="46" y="106"/>
                  </a:cubicBezTo>
                  <a:cubicBezTo>
                    <a:pt x="46" y="106"/>
                    <a:pt x="16" y="97"/>
                    <a:pt x="16" y="56"/>
                  </a:cubicBezTo>
                  <a:cubicBezTo>
                    <a:pt x="17" y="14"/>
                    <a:pt x="68" y="14"/>
                    <a:pt x="68" y="1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4608360" y="3400560"/>
              <a:ext cx="347760" cy="56880"/>
            </a:xfrm>
            <a:custGeom>
              <a:avLst/>
              <a:gdLst/>
              <a:ahLst/>
              <a:rect l="l" t="t" r="r" b="b"/>
              <a:pathLst>
                <a:path w="195" h="32">
                  <a:moveTo>
                    <a:pt x="0" y="0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34" y="13"/>
                    <a:pt x="72" y="8"/>
                    <a:pt x="105" y="5"/>
                  </a:cubicBezTo>
                  <a:cubicBezTo>
                    <a:pt x="121" y="3"/>
                    <a:pt x="137" y="1"/>
                    <a:pt x="153" y="1"/>
                  </a:cubicBezTo>
                  <a:cubicBezTo>
                    <a:pt x="161" y="0"/>
                    <a:pt x="170" y="0"/>
                    <a:pt x="177" y="2"/>
                  </a:cubicBezTo>
                  <a:cubicBezTo>
                    <a:pt x="195" y="5"/>
                    <a:pt x="189" y="18"/>
                    <a:pt x="174" y="20"/>
                  </a:cubicBezTo>
                  <a:cubicBezTo>
                    <a:pt x="136" y="24"/>
                    <a:pt x="97" y="28"/>
                    <a:pt x="58" y="30"/>
                  </a:cubicBezTo>
                  <a:cubicBezTo>
                    <a:pt x="47" y="31"/>
                    <a:pt x="20" y="27"/>
                    <a:pt x="3" y="32"/>
                  </a:cubicBezTo>
                  <a:cubicBezTo>
                    <a:pt x="9" y="23"/>
                    <a:pt x="19" y="18"/>
                    <a:pt x="34" y="18"/>
                  </a:cubicBezTo>
                  <a:cubicBezTo>
                    <a:pt x="34" y="18"/>
                    <a:pt x="12" y="14"/>
                    <a:pt x="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2"/>
            <p:cNvSpPr/>
            <p:nvPr/>
          </p:nvSpPr>
          <p:spPr>
            <a:xfrm>
              <a:off x="4611600" y="3184560"/>
              <a:ext cx="365040" cy="127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0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40" y="56"/>
                    <a:pt x="129" y="35"/>
                    <a:pt x="187" y="44"/>
                  </a:cubicBezTo>
                  <a:cubicBezTo>
                    <a:pt x="192" y="44"/>
                    <a:pt x="198" y="46"/>
                    <a:pt x="204" y="48"/>
                  </a:cubicBezTo>
                  <a:cubicBezTo>
                    <a:pt x="204" y="64"/>
                    <a:pt x="198" y="71"/>
                    <a:pt x="187" y="69"/>
                  </a:cubicBezTo>
                  <a:cubicBezTo>
                    <a:pt x="177" y="68"/>
                    <a:pt x="168" y="68"/>
                    <a:pt x="158" y="67"/>
                  </a:cubicBezTo>
                  <a:cubicBezTo>
                    <a:pt x="138" y="65"/>
                    <a:pt x="117" y="62"/>
                    <a:pt x="97" y="58"/>
                  </a:cubicBezTo>
                  <a:cubicBezTo>
                    <a:pt x="66" y="53"/>
                    <a:pt x="39" y="50"/>
                    <a:pt x="9" y="54"/>
                  </a:cubicBezTo>
                  <a:cubicBezTo>
                    <a:pt x="14" y="50"/>
                    <a:pt x="21" y="46"/>
                    <a:pt x="30" y="44"/>
                  </a:cubicBezTo>
                  <a:cubicBezTo>
                    <a:pt x="30" y="44"/>
                    <a:pt x="3" y="36"/>
                    <a:pt x="0" y="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4605120" y="3425760"/>
              <a:ext cx="603360" cy="231840"/>
            </a:xfrm>
            <a:custGeom>
              <a:avLst/>
              <a:gdLst/>
              <a:ahLst/>
              <a:rect l="l" t="t" r="r" b="b"/>
              <a:pathLst>
                <a:path w="338" h="130">
                  <a:moveTo>
                    <a:pt x="80" y="102"/>
                  </a:moveTo>
                  <a:cubicBezTo>
                    <a:pt x="143" y="111"/>
                    <a:pt x="234" y="118"/>
                    <a:pt x="286" y="75"/>
                  </a:cubicBezTo>
                  <a:cubicBezTo>
                    <a:pt x="310" y="56"/>
                    <a:pt x="327" y="29"/>
                    <a:pt x="338" y="0"/>
                  </a:cubicBezTo>
                  <a:cubicBezTo>
                    <a:pt x="335" y="45"/>
                    <a:pt x="326" y="88"/>
                    <a:pt x="308" y="110"/>
                  </a:cubicBezTo>
                  <a:cubicBezTo>
                    <a:pt x="295" y="126"/>
                    <a:pt x="229" y="130"/>
                    <a:pt x="170" y="123"/>
                  </a:cubicBezTo>
                  <a:cubicBezTo>
                    <a:pt x="91" y="114"/>
                    <a:pt x="8" y="98"/>
                    <a:pt x="3" y="80"/>
                  </a:cubicBezTo>
                  <a:cubicBezTo>
                    <a:pt x="2" y="77"/>
                    <a:pt x="0" y="73"/>
                    <a:pt x="0" y="69"/>
                  </a:cubicBezTo>
                  <a:cubicBezTo>
                    <a:pt x="21" y="88"/>
                    <a:pt x="62" y="99"/>
                    <a:pt x="80" y="1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4579920" y="960480"/>
              <a:ext cx="298440" cy="404640"/>
            </a:xfrm>
            <a:custGeom>
              <a:avLst/>
              <a:gdLst/>
              <a:ahLst/>
              <a:rect l="l" t="t" r="r" b="b"/>
              <a:pathLst>
                <a:path w="167" h="227">
                  <a:moveTo>
                    <a:pt x="167" y="198"/>
                  </a:moveTo>
                  <a:cubicBezTo>
                    <a:pt x="167" y="198"/>
                    <a:pt x="117" y="154"/>
                    <a:pt x="113" y="131"/>
                  </a:cubicBezTo>
                  <a:cubicBezTo>
                    <a:pt x="109" y="108"/>
                    <a:pt x="123" y="60"/>
                    <a:pt x="116" y="39"/>
                  </a:cubicBezTo>
                  <a:cubicBezTo>
                    <a:pt x="109" y="19"/>
                    <a:pt x="65" y="0"/>
                    <a:pt x="33" y="49"/>
                  </a:cubicBezTo>
                  <a:cubicBezTo>
                    <a:pt x="0" y="97"/>
                    <a:pt x="20" y="181"/>
                    <a:pt x="106" y="227"/>
                  </a:cubicBezTo>
                  <a:lnTo>
                    <a:pt x="167" y="19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5"/>
            <p:cNvSpPr/>
            <p:nvPr/>
          </p:nvSpPr>
          <p:spPr>
            <a:xfrm>
              <a:off x="4697280" y="988920"/>
              <a:ext cx="181080" cy="376200"/>
            </a:xfrm>
            <a:custGeom>
              <a:avLst/>
              <a:gdLst/>
              <a:ahLst/>
              <a:rect l="l" t="t" r="r" b="b"/>
              <a:pathLst>
                <a:path w="101" h="211">
                  <a:moveTo>
                    <a:pt x="27" y="160"/>
                  </a:moveTo>
                  <a:cubicBezTo>
                    <a:pt x="37" y="146"/>
                    <a:pt x="39" y="131"/>
                    <a:pt x="40" y="115"/>
                  </a:cubicBezTo>
                  <a:cubicBezTo>
                    <a:pt x="40" y="86"/>
                    <a:pt x="43" y="52"/>
                    <a:pt x="28" y="26"/>
                  </a:cubicBezTo>
                  <a:cubicBezTo>
                    <a:pt x="22" y="16"/>
                    <a:pt x="16" y="9"/>
                    <a:pt x="8" y="3"/>
                  </a:cubicBezTo>
                  <a:cubicBezTo>
                    <a:pt x="28" y="0"/>
                    <a:pt x="46" y="11"/>
                    <a:pt x="50" y="23"/>
                  </a:cubicBezTo>
                  <a:cubicBezTo>
                    <a:pt x="57" y="44"/>
                    <a:pt x="43" y="92"/>
                    <a:pt x="47" y="115"/>
                  </a:cubicBezTo>
                  <a:cubicBezTo>
                    <a:pt x="51" y="138"/>
                    <a:pt x="101" y="182"/>
                    <a:pt x="101" y="182"/>
                  </a:cubicBezTo>
                  <a:cubicBezTo>
                    <a:pt x="40" y="211"/>
                    <a:pt x="40" y="211"/>
                    <a:pt x="40" y="211"/>
                  </a:cubicBezTo>
                  <a:cubicBezTo>
                    <a:pt x="24" y="203"/>
                    <a:pt x="11" y="193"/>
                    <a:pt x="0" y="183"/>
                  </a:cubicBezTo>
                  <a:cubicBezTo>
                    <a:pt x="10" y="176"/>
                    <a:pt x="20" y="170"/>
                    <a:pt x="27" y="16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518000" y="1222560"/>
              <a:ext cx="608040" cy="608040"/>
            </a:xfrm>
            <a:custGeom>
              <a:avLst/>
              <a:gdLst/>
              <a:ahLst/>
              <a:rect l="l" t="t" r="r" b="b"/>
              <a:pathLst>
                <a:path w="341" h="340">
                  <a:moveTo>
                    <a:pt x="30" y="147"/>
                  </a:moveTo>
                  <a:cubicBezTo>
                    <a:pt x="30" y="147"/>
                    <a:pt x="174" y="0"/>
                    <a:pt x="209" y="18"/>
                  </a:cubicBezTo>
                  <a:cubicBezTo>
                    <a:pt x="243" y="36"/>
                    <a:pt x="337" y="131"/>
                    <a:pt x="340" y="184"/>
                  </a:cubicBezTo>
                  <a:cubicBezTo>
                    <a:pt x="341" y="200"/>
                    <a:pt x="303" y="238"/>
                    <a:pt x="264" y="267"/>
                  </a:cubicBezTo>
                  <a:cubicBezTo>
                    <a:pt x="212" y="304"/>
                    <a:pt x="154" y="340"/>
                    <a:pt x="141" y="332"/>
                  </a:cubicBezTo>
                  <a:cubicBezTo>
                    <a:pt x="126" y="323"/>
                    <a:pt x="91" y="295"/>
                    <a:pt x="119" y="269"/>
                  </a:cubicBezTo>
                  <a:cubicBezTo>
                    <a:pt x="119" y="269"/>
                    <a:pt x="98" y="282"/>
                    <a:pt x="82" y="274"/>
                  </a:cubicBezTo>
                  <a:cubicBezTo>
                    <a:pt x="64" y="265"/>
                    <a:pt x="50" y="239"/>
                    <a:pt x="67" y="213"/>
                  </a:cubicBezTo>
                  <a:cubicBezTo>
                    <a:pt x="67" y="213"/>
                    <a:pt x="44" y="224"/>
                    <a:pt x="22" y="199"/>
                  </a:cubicBezTo>
                  <a:cubicBezTo>
                    <a:pt x="0" y="174"/>
                    <a:pt x="30" y="147"/>
                    <a:pt x="30" y="14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4678200" y="1533600"/>
              <a:ext cx="217440" cy="21276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102"/>
                  </a:moveTo>
                  <a:cubicBezTo>
                    <a:pt x="0" y="102"/>
                    <a:pt x="1" y="102"/>
                    <a:pt x="1" y="102"/>
                  </a:cubicBezTo>
                  <a:cubicBezTo>
                    <a:pt x="27" y="92"/>
                    <a:pt x="47" y="68"/>
                    <a:pt x="65" y="48"/>
                  </a:cubicBezTo>
                  <a:cubicBezTo>
                    <a:pt x="74" y="38"/>
                    <a:pt x="82" y="28"/>
                    <a:pt x="91" y="19"/>
                  </a:cubicBezTo>
                  <a:cubicBezTo>
                    <a:pt x="96" y="15"/>
                    <a:pt x="101" y="10"/>
                    <a:pt x="106" y="7"/>
                  </a:cubicBezTo>
                  <a:cubicBezTo>
                    <a:pt x="119" y="0"/>
                    <a:pt x="122" y="11"/>
                    <a:pt x="114" y="19"/>
                  </a:cubicBezTo>
                  <a:cubicBezTo>
                    <a:pt x="93" y="43"/>
                    <a:pt x="73" y="66"/>
                    <a:pt x="51" y="89"/>
                  </a:cubicBezTo>
                  <a:cubicBezTo>
                    <a:pt x="44" y="95"/>
                    <a:pt x="26" y="107"/>
                    <a:pt x="19" y="119"/>
                  </a:cubicBezTo>
                  <a:cubicBezTo>
                    <a:pt x="18" y="111"/>
                    <a:pt x="21" y="103"/>
                    <a:pt x="29" y="95"/>
                  </a:cubicBezTo>
                  <a:cubicBezTo>
                    <a:pt x="29" y="95"/>
                    <a:pt x="14" y="104"/>
                    <a:pt x="0" y="10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8"/>
            <p:cNvSpPr/>
            <p:nvPr/>
          </p:nvSpPr>
          <p:spPr>
            <a:xfrm>
              <a:off x="4562280" y="1438200"/>
              <a:ext cx="279360" cy="19692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81"/>
                  </a:moveTo>
                  <a:cubicBezTo>
                    <a:pt x="1" y="82"/>
                    <a:pt x="1" y="82"/>
                    <a:pt x="2" y="82"/>
                  </a:cubicBezTo>
                  <a:cubicBezTo>
                    <a:pt x="55" y="93"/>
                    <a:pt x="97" y="33"/>
                    <a:pt x="135" y="7"/>
                  </a:cubicBezTo>
                  <a:cubicBezTo>
                    <a:pt x="139" y="4"/>
                    <a:pt x="143" y="2"/>
                    <a:pt x="148" y="0"/>
                  </a:cubicBezTo>
                  <a:cubicBezTo>
                    <a:pt x="156" y="9"/>
                    <a:pt x="157" y="17"/>
                    <a:pt x="149" y="22"/>
                  </a:cubicBezTo>
                  <a:cubicBezTo>
                    <a:pt x="143" y="26"/>
                    <a:pt x="137" y="32"/>
                    <a:pt x="131" y="36"/>
                  </a:cubicBezTo>
                  <a:cubicBezTo>
                    <a:pt x="118" y="46"/>
                    <a:pt x="104" y="55"/>
                    <a:pt x="89" y="64"/>
                  </a:cubicBezTo>
                  <a:cubicBezTo>
                    <a:pt x="69" y="78"/>
                    <a:pt x="50" y="91"/>
                    <a:pt x="35" y="110"/>
                  </a:cubicBezTo>
                  <a:cubicBezTo>
                    <a:pt x="36" y="104"/>
                    <a:pt x="38" y="98"/>
                    <a:pt x="42" y="92"/>
                  </a:cubicBezTo>
                  <a:cubicBezTo>
                    <a:pt x="42" y="92"/>
                    <a:pt x="21" y="102"/>
                    <a:pt x="0" y="8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9"/>
            <p:cNvSpPr/>
            <p:nvPr/>
          </p:nvSpPr>
          <p:spPr>
            <a:xfrm>
              <a:off x="4754520" y="1405080"/>
              <a:ext cx="371520" cy="425520"/>
            </a:xfrm>
            <a:custGeom>
              <a:avLst/>
              <a:gdLst/>
              <a:ahLst/>
              <a:rect l="l" t="t" r="r" b="b"/>
              <a:pathLst>
                <a:path w="208" h="238">
                  <a:moveTo>
                    <a:pt x="66" y="201"/>
                  </a:moveTo>
                  <a:cubicBezTo>
                    <a:pt x="108" y="172"/>
                    <a:pt x="166" y="127"/>
                    <a:pt x="175" y="73"/>
                  </a:cubicBezTo>
                  <a:cubicBezTo>
                    <a:pt x="178" y="49"/>
                    <a:pt x="174" y="23"/>
                    <a:pt x="165" y="0"/>
                  </a:cubicBezTo>
                  <a:cubicBezTo>
                    <a:pt x="188" y="29"/>
                    <a:pt x="205" y="59"/>
                    <a:pt x="207" y="82"/>
                  </a:cubicBezTo>
                  <a:cubicBezTo>
                    <a:pt x="208" y="98"/>
                    <a:pt x="170" y="136"/>
                    <a:pt x="131" y="165"/>
                  </a:cubicBezTo>
                  <a:cubicBezTo>
                    <a:pt x="79" y="202"/>
                    <a:pt x="21" y="238"/>
                    <a:pt x="8" y="230"/>
                  </a:cubicBezTo>
                  <a:cubicBezTo>
                    <a:pt x="6" y="229"/>
                    <a:pt x="3" y="227"/>
                    <a:pt x="0" y="225"/>
                  </a:cubicBezTo>
                  <a:cubicBezTo>
                    <a:pt x="23" y="225"/>
                    <a:pt x="54" y="209"/>
                    <a:pt x="66" y="20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0"/>
            <p:cNvSpPr/>
            <p:nvPr/>
          </p:nvSpPr>
          <p:spPr>
            <a:xfrm>
              <a:off x="2943000" y="4132440"/>
              <a:ext cx="1003320" cy="2282760"/>
            </a:xfrm>
            <a:custGeom>
              <a:avLst/>
              <a:gdLst/>
              <a:ahLst/>
              <a:rect l="l" t="t" r="r" b="b"/>
              <a:pathLst>
                <a:path w="562" h="1278">
                  <a:moveTo>
                    <a:pt x="4" y="51"/>
                  </a:moveTo>
                  <a:cubicBezTo>
                    <a:pt x="4" y="51"/>
                    <a:pt x="0" y="179"/>
                    <a:pt x="56" y="252"/>
                  </a:cubicBezTo>
                  <a:cubicBezTo>
                    <a:pt x="77" y="279"/>
                    <a:pt x="114" y="299"/>
                    <a:pt x="150" y="301"/>
                  </a:cubicBezTo>
                  <a:cubicBezTo>
                    <a:pt x="110" y="1242"/>
                    <a:pt x="110" y="1242"/>
                    <a:pt x="110" y="1242"/>
                  </a:cubicBezTo>
                  <a:cubicBezTo>
                    <a:pt x="215" y="1269"/>
                    <a:pt x="215" y="1269"/>
                    <a:pt x="215" y="1269"/>
                  </a:cubicBezTo>
                  <a:cubicBezTo>
                    <a:pt x="233" y="298"/>
                    <a:pt x="233" y="298"/>
                    <a:pt x="233" y="298"/>
                  </a:cubicBezTo>
                  <a:cubicBezTo>
                    <a:pt x="233" y="298"/>
                    <a:pt x="269" y="297"/>
                    <a:pt x="297" y="287"/>
                  </a:cubicBezTo>
                  <a:cubicBezTo>
                    <a:pt x="470" y="1278"/>
                    <a:pt x="470" y="1278"/>
                    <a:pt x="470" y="1278"/>
                  </a:cubicBezTo>
                  <a:cubicBezTo>
                    <a:pt x="535" y="1217"/>
                    <a:pt x="535" y="1217"/>
                    <a:pt x="535" y="1217"/>
                  </a:cubicBezTo>
                  <a:cubicBezTo>
                    <a:pt x="562" y="1185"/>
                    <a:pt x="562" y="1185"/>
                    <a:pt x="562" y="1185"/>
                  </a:cubicBezTo>
                  <a:cubicBezTo>
                    <a:pt x="368" y="263"/>
                    <a:pt x="368" y="263"/>
                    <a:pt x="368" y="263"/>
                  </a:cubicBezTo>
                  <a:cubicBezTo>
                    <a:pt x="368" y="263"/>
                    <a:pt x="419" y="252"/>
                    <a:pt x="442" y="200"/>
                  </a:cubicBezTo>
                  <a:cubicBezTo>
                    <a:pt x="461" y="155"/>
                    <a:pt x="456" y="87"/>
                    <a:pt x="429" y="0"/>
                  </a:cubicBezTo>
                  <a:lnTo>
                    <a:pt x="4" y="51"/>
                  </a:ln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1"/>
            <p:cNvSpPr/>
            <p:nvPr/>
          </p:nvSpPr>
          <p:spPr>
            <a:xfrm>
              <a:off x="2985840" y="4302000"/>
              <a:ext cx="960480" cy="2113200"/>
            </a:xfrm>
            <a:custGeom>
              <a:avLst/>
              <a:gdLst/>
              <a:ahLst/>
              <a:rect l="l" t="t" r="r" b="b"/>
              <a:pathLst>
                <a:path w="538" h="1183">
                  <a:moveTo>
                    <a:pt x="472" y="1039"/>
                  </a:moveTo>
                  <a:cubicBezTo>
                    <a:pt x="469" y="1043"/>
                    <a:pt x="462" y="1041"/>
                    <a:pt x="461" y="1036"/>
                  </a:cubicBezTo>
                  <a:cubicBezTo>
                    <a:pt x="446" y="951"/>
                    <a:pt x="375" y="621"/>
                    <a:pt x="365" y="537"/>
                  </a:cubicBezTo>
                  <a:cubicBezTo>
                    <a:pt x="359" y="487"/>
                    <a:pt x="350" y="438"/>
                    <a:pt x="342" y="388"/>
                  </a:cubicBezTo>
                  <a:cubicBezTo>
                    <a:pt x="336" y="349"/>
                    <a:pt x="323" y="311"/>
                    <a:pt x="318" y="272"/>
                  </a:cubicBezTo>
                  <a:cubicBezTo>
                    <a:pt x="315" y="252"/>
                    <a:pt x="310" y="230"/>
                    <a:pt x="320" y="212"/>
                  </a:cubicBezTo>
                  <a:cubicBezTo>
                    <a:pt x="325" y="202"/>
                    <a:pt x="337" y="196"/>
                    <a:pt x="349" y="192"/>
                  </a:cubicBezTo>
                  <a:cubicBezTo>
                    <a:pt x="344" y="168"/>
                    <a:pt x="344" y="168"/>
                    <a:pt x="344" y="168"/>
                  </a:cubicBezTo>
                  <a:cubicBezTo>
                    <a:pt x="344" y="168"/>
                    <a:pt x="395" y="157"/>
                    <a:pt x="418" y="105"/>
                  </a:cubicBezTo>
                  <a:cubicBezTo>
                    <a:pt x="429" y="78"/>
                    <a:pt x="432" y="43"/>
                    <a:pt x="427" y="0"/>
                  </a:cubicBezTo>
                  <a:cubicBezTo>
                    <a:pt x="412" y="35"/>
                    <a:pt x="390" y="68"/>
                    <a:pt x="368" y="96"/>
                  </a:cubicBezTo>
                  <a:cubicBezTo>
                    <a:pt x="337" y="137"/>
                    <a:pt x="296" y="151"/>
                    <a:pt x="247" y="157"/>
                  </a:cubicBezTo>
                  <a:cubicBezTo>
                    <a:pt x="190" y="165"/>
                    <a:pt x="127" y="174"/>
                    <a:pt x="72" y="148"/>
                  </a:cubicBezTo>
                  <a:cubicBezTo>
                    <a:pt x="44" y="135"/>
                    <a:pt x="21" y="115"/>
                    <a:pt x="0" y="93"/>
                  </a:cubicBezTo>
                  <a:cubicBezTo>
                    <a:pt x="7" y="116"/>
                    <a:pt x="18" y="138"/>
                    <a:pt x="32" y="157"/>
                  </a:cubicBezTo>
                  <a:cubicBezTo>
                    <a:pt x="53" y="184"/>
                    <a:pt x="90" y="204"/>
                    <a:pt x="126" y="206"/>
                  </a:cubicBezTo>
                  <a:cubicBezTo>
                    <a:pt x="126" y="221"/>
                    <a:pt x="126" y="221"/>
                    <a:pt x="126" y="221"/>
                  </a:cubicBezTo>
                  <a:cubicBezTo>
                    <a:pt x="141" y="223"/>
                    <a:pt x="156" y="225"/>
                    <a:pt x="167" y="235"/>
                  </a:cubicBezTo>
                  <a:cubicBezTo>
                    <a:pt x="182" y="248"/>
                    <a:pt x="161" y="757"/>
                    <a:pt x="155" y="794"/>
                  </a:cubicBezTo>
                  <a:cubicBezTo>
                    <a:pt x="145" y="869"/>
                    <a:pt x="158" y="947"/>
                    <a:pt x="138" y="1021"/>
                  </a:cubicBezTo>
                  <a:cubicBezTo>
                    <a:pt x="137" y="1024"/>
                    <a:pt x="133" y="1026"/>
                    <a:pt x="130" y="1025"/>
                  </a:cubicBezTo>
                  <a:cubicBezTo>
                    <a:pt x="116" y="1022"/>
                    <a:pt x="104" y="1019"/>
                    <a:pt x="91" y="1017"/>
                  </a:cubicBezTo>
                  <a:cubicBezTo>
                    <a:pt x="86" y="1147"/>
                    <a:pt x="86" y="1147"/>
                    <a:pt x="86" y="1147"/>
                  </a:cubicBezTo>
                  <a:cubicBezTo>
                    <a:pt x="191" y="1174"/>
                    <a:pt x="191" y="1174"/>
                    <a:pt x="191" y="1174"/>
                  </a:cubicBezTo>
                  <a:cubicBezTo>
                    <a:pt x="209" y="203"/>
                    <a:pt x="209" y="203"/>
                    <a:pt x="209" y="203"/>
                  </a:cubicBezTo>
                  <a:cubicBezTo>
                    <a:pt x="209" y="203"/>
                    <a:pt x="245" y="202"/>
                    <a:pt x="273" y="192"/>
                  </a:cubicBezTo>
                  <a:cubicBezTo>
                    <a:pt x="446" y="1183"/>
                    <a:pt x="446" y="1183"/>
                    <a:pt x="446" y="1183"/>
                  </a:cubicBezTo>
                  <a:cubicBezTo>
                    <a:pt x="511" y="1122"/>
                    <a:pt x="511" y="1122"/>
                    <a:pt x="511" y="1122"/>
                  </a:cubicBezTo>
                  <a:cubicBezTo>
                    <a:pt x="538" y="1090"/>
                    <a:pt x="538" y="1090"/>
                    <a:pt x="538" y="1090"/>
                  </a:cubicBezTo>
                  <a:cubicBezTo>
                    <a:pt x="521" y="1008"/>
                    <a:pt x="521" y="1008"/>
                    <a:pt x="521" y="1008"/>
                  </a:cubicBezTo>
                  <a:cubicBezTo>
                    <a:pt x="502" y="1012"/>
                    <a:pt x="485" y="1022"/>
                    <a:pt x="472" y="103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2"/>
            <p:cNvSpPr/>
            <p:nvPr/>
          </p:nvSpPr>
          <p:spPr>
            <a:xfrm>
              <a:off x="2949480" y="4097520"/>
              <a:ext cx="762120" cy="228600"/>
            </a:xfrm>
            <a:custGeom>
              <a:avLst/>
              <a:gdLst/>
              <a:ahLst/>
              <a:rect l="l" t="t" r="r" b="b"/>
              <a:pathLst>
                <a:path w="427" h="128">
                  <a:moveTo>
                    <a:pt x="0" y="61"/>
                  </a:move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66" y="77"/>
                    <a:pt x="139" y="73"/>
                  </a:cubicBezTo>
                  <a:cubicBezTo>
                    <a:pt x="167" y="71"/>
                    <a:pt x="187" y="128"/>
                    <a:pt x="218" y="125"/>
                  </a:cubicBezTo>
                  <a:cubicBezTo>
                    <a:pt x="249" y="122"/>
                    <a:pt x="251" y="62"/>
                    <a:pt x="279" y="57"/>
                  </a:cubicBezTo>
                  <a:cubicBezTo>
                    <a:pt x="330" y="49"/>
                    <a:pt x="405" y="44"/>
                    <a:pt x="427" y="29"/>
                  </a:cubicBezTo>
                  <a:cubicBezTo>
                    <a:pt x="422" y="10"/>
                    <a:pt x="422" y="10"/>
                    <a:pt x="422" y="10"/>
                  </a:cubicBezTo>
                  <a:cubicBezTo>
                    <a:pt x="422" y="10"/>
                    <a:pt x="179" y="0"/>
                    <a:pt x="0" y="61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3"/>
            <p:cNvSpPr/>
            <p:nvPr/>
          </p:nvSpPr>
          <p:spPr>
            <a:xfrm>
              <a:off x="2746080" y="6118200"/>
              <a:ext cx="644760" cy="357120"/>
            </a:xfrm>
            <a:custGeom>
              <a:avLst/>
              <a:gdLst/>
              <a:ahLst/>
              <a:rect l="l" t="t" r="r" b="b"/>
              <a:pathLst>
                <a:path w="361" h="200">
                  <a:moveTo>
                    <a:pt x="30" y="181"/>
                  </a:moveTo>
                  <a:cubicBezTo>
                    <a:pt x="30" y="181"/>
                    <a:pt x="260" y="200"/>
                    <a:pt x="335" y="182"/>
                  </a:cubicBezTo>
                  <a:cubicBezTo>
                    <a:pt x="335" y="182"/>
                    <a:pt x="361" y="34"/>
                    <a:pt x="183" y="17"/>
                  </a:cubicBezTo>
                  <a:cubicBezTo>
                    <a:pt x="6" y="0"/>
                    <a:pt x="0" y="168"/>
                    <a:pt x="30" y="181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4"/>
            <p:cNvSpPr/>
            <p:nvPr/>
          </p:nvSpPr>
          <p:spPr>
            <a:xfrm>
              <a:off x="2793960" y="6132600"/>
              <a:ext cx="507960" cy="284040"/>
            </a:xfrm>
            <a:custGeom>
              <a:avLst/>
              <a:gdLst/>
              <a:ahLst/>
              <a:rect l="l" t="t" r="r" b="b"/>
              <a:pathLst>
                <a:path w="284" h="159">
                  <a:moveTo>
                    <a:pt x="284" y="71"/>
                  </a:moveTo>
                  <a:cubicBezTo>
                    <a:pt x="263" y="41"/>
                    <a:pt x="225" y="15"/>
                    <a:pt x="156" y="9"/>
                  </a:cubicBezTo>
                  <a:cubicBezTo>
                    <a:pt x="64" y="0"/>
                    <a:pt x="18" y="41"/>
                    <a:pt x="0" y="84"/>
                  </a:cubicBezTo>
                  <a:cubicBezTo>
                    <a:pt x="45" y="155"/>
                    <a:pt x="255" y="159"/>
                    <a:pt x="284" y="71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5"/>
            <p:cNvSpPr/>
            <p:nvPr/>
          </p:nvSpPr>
          <p:spPr>
            <a:xfrm>
              <a:off x="2909880" y="6194520"/>
              <a:ext cx="85680" cy="4932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7" y="16"/>
                  </a:moveTo>
                  <a:cubicBezTo>
                    <a:pt x="46" y="22"/>
                    <a:pt x="35" y="27"/>
                    <a:pt x="23" y="26"/>
                  </a:cubicBezTo>
                  <a:cubicBezTo>
                    <a:pt x="10" y="25"/>
                    <a:pt x="0" y="18"/>
                    <a:pt x="0" y="12"/>
                  </a:cubicBezTo>
                  <a:cubicBezTo>
                    <a:pt x="1" y="5"/>
                    <a:pt x="12" y="0"/>
                    <a:pt x="25" y="1"/>
                  </a:cubicBezTo>
                  <a:cubicBezTo>
                    <a:pt x="37" y="2"/>
                    <a:pt x="48" y="9"/>
                    <a:pt x="47" y="16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6"/>
            <p:cNvSpPr/>
            <p:nvPr/>
          </p:nvSpPr>
          <p:spPr>
            <a:xfrm>
              <a:off x="3690720" y="6102360"/>
              <a:ext cx="655560" cy="376200"/>
            </a:xfrm>
            <a:custGeom>
              <a:avLst/>
              <a:gdLst/>
              <a:ahLst/>
              <a:rect l="l" t="t" r="r" b="b"/>
              <a:pathLst>
                <a:path w="367" h="211">
                  <a:moveTo>
                    <a:pt x="337" y="182"/>
                  </a:moveTo>
                  <a:cubicBezTo>
                    <a:pt x="337" y="182"/>
                    <a:pt x="108" y="211"/>
                    <a:pt x="32" y="196"/>
                  </a:cubicBezTo>
                  <a:cubicBezTo>
                    <a:pt x="32" y="196"/>
                    <a:pt x="0" y="49"/>
                    <a:pt x="177" y="24"/>
                  </a:cubicBezTo>
                  <a:cubicBezTo>
                    <a:pt x="353" y="0"/>
                    <a:pt x="367" y="168"/>
                    <a:pt x="337" y="182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7"/>
            <p:cNvSpPr/>
            <p:nvPr/>
          </p:nvSpPr>
          <p:spPr>
            <a:xfrm>
              <a:off x="3782880" y="6122880"/>
              <a:ext cx="509400" cy="298440"/>
            </a:xfrm>
            <a:custGeom>
              <a:avLst/>
              <a:gdLst/>
              <a:ahLst/>
              <a:rect l="l" t="t" r="r" b="b"/>
              <a:pathLst>
                <a:path w="285" h="167">
                  <a:moveTo>
                    <a:pt x="0" y="80"/>
                  </a:moveTo>
                  <a:cubicBezTo>
                    <a:pt x="20" y="49"/>
                    <a:pt x="57" y="22"/>
                    <a:pt x="125" y="12"/>
                  </a:cubicBezTo>
                  <a:cubicBezTo>
                    <a:pt x="216" y="0"/>
                    <a:pt x="264" y="39"/>
                    <a:pt x="285" y="81"/>
                  </a:cubicBezTo>
                  <a:cubicBezTo>
                    <a:pt x="242" y="154"/>
                    <a:pt x="33" y="167"/>
                    <a:pt x="0" y="80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8"/>
            <p:cNvSpPr/>
            <p:nvPr/>
          </p:nvSpPr>
          <p:spPr>
            <a:xfrm>
              <a:off x="4086000" y="6186600"/>
              <a:ext cx="85680" cy="4932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17"/>
                  </a:moveTo>
                  <a:cubicBezTo>
                    <a:pt x="2" y="24"/>
                    <a:pt x="13" y="28"/>
                    <a:pt x="26" y="26"/>
                  </a:cubicBezTo>
                  <a:cubicBezTo>
                    <a:pt x="39" y="25"/>
                    <a:pt x="48" y="18"/>
                    <a:pt x="47" y="11"/>
                  </a:cubicBezTo>
                  <a:cubicBezTo>
                    <a:pt x="47" y="5"/>
                    <a:pt x="36" y="0"/>
                    <a:pt x="23" y="2"/>
                  </a:cubicBezTo>
                  <a:cubicBezTo>
                    <a:pt x="10" y="4"/>
                    <a:pt x="0" y="11"/>
                    <a:pt x="1" y="1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9"/>
            <p:cNvSpPr/>
            <p:nvPr/>
          </p:nvSpPr>
          <p:spPr>
            <a:xfrm>
              <a:off x="2759040" y="3008520"/>
              <a:ext cx="992160" cy="1214280"/>
            </a:xfrm>
            <a:custGeom>
              <a:avLst/>
              <a:gdLst/>
              <a:ahLst/>
              <a:rect l="l" t="t" r="r" b="b"/>
              <a:pathLst>
                <a:path w="556" h="680">
                  <a:moveTo>
                    <a:pt x="38" y="65"/>
                  </a:moveTo>
                  <a:cubicBezTo>
                    <a:pt x="38" y="65"/>
                    <a:pt x="106" y="25"/>
                    <a:pt x="362" y="3"/>
                  </a:cubicBezTo>
                  <a:cubicBezTo>
                    <a:pt x="362" y="3"/>
                    <a:pt x="416" y="0"/>
                    <a:pt x="430" y="37"/>
                  </a:cubicBezTo>
                  <a:cubicBezTo>
                    <a:pt x="438" y="58"/>
                    <a:pt x="451" y="256"/>
                    <a:pt x="516" y="434"/>
                  </a:cubicBezTo>
                  <a:cubicBezTo>
                    <a:pt x="556" y="545"/>
                    <a:pt x="532" y="631"/>
                    <a:pt x="532" y="631"/>
                  </a:cubicBezTo>
                  <a:cubicBezTo>
                    <a:pt x="107" y="680"/>
                    <a:pt x="107" y="680"/>
                    <a:pt x="107" y="680"/>
                  </a:cubicBezTo>
                  <a:cubicBezTo>
                    <a:pt x="107" y="680"/>
                    <a:pt x="24" y="384"/>
                    <a:pt x="7" y="200"/>
                  </a:cubicBezTo>
                  <a:cubicBezTo>
                    <a:pt x="0" y="127"/>
                    <a:pt x="19" y="67"/>
                    <a:pt x="38" y="6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0"/>
            <p:cNvSpPr/>
            <p:nvPr/>
          </p:nvSpPr>
          <p:spPr>
            <a:xfrm>
              <a:off x="2793960" y="2898720"/>
              <a:ext cx="298440" cy="301680"/>
            </a:xfrm>
            <a:custGeom>
              <a:avLst/>
              <a:gdLst/>
              <a:ahLst/>
              <a:rect l="l" t="t" r="r" b="b"/>
              <a:pathLst>
                <a:path w="167" h="169">
                  <a:moveTo>
                    <a:pt x="1" y="0"/>
                  </a:moveTo>
                  <a:cubicBezTo>
                    <a:pt x="1" y="0"/>
                    <a:pt x="0" y="111"/>
                    <a:pt x="9" y="130"/>
                  </a:cubicBezTo>
                  <a:cubicBezTo>
                    <a:pt x="18" y="150"/>
                    <a:pt x="42" y="167"/>
                    <a:pt x="71" y="168"/>
                  </a:cubicBezTo>
                  <a:cubicBezTo>
                    <a:pt x="144" y="169"/>
                    <a:pt x="167" y="135"/>
                    <a:pt x="167" y="135"/>
                  </a:cubicBezTo>
                  <a:cubicBezTo>
                    <a:pt x="165" y="97"/>
                    <a:pt x="165" y="97"/>
                    <a:pt x="165" y="97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1"/>
            <p:cNvSpPr/>
            <p:nvPr/>
          </p:nvSpPr>
          <p:spPr>
            <a:xfrm>
              <a:off x="2773080" y="2854440"/>
              <a:ext cx="303480" cy="30168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" y="0"/>
                  </a:moveTo>
                  <a:cubicBezTo>
                    <a:pt x="1" y="0"/>
                    <a:pt x="0" y="111"/>
                    <a:pt x="9" y="131"/>
                  </a:cubicBezTo>
                  <a:cubicBezTo>
                    <a:pt x="18" y="150"/>
                    <a:pt x="42" y="167"/>
                    <a:pt x="71" y="168"/>
                  </a:cubicBezTo>
                  <a:cubicBezTo>
                    <a:pt x="143" y="169"/>
                    <a:pt x="164" y="159"/>
                    <a:pt x="164" y="159"/>
                  </a:cubicBezTo>
                  <a:cubicBezTo>
                    <a:pt x="170" y="84"/>
                    <a:pt x="170" y="84"/>
                    <a:pt x="170" y="84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2"/>
            <p:cNvSpPr/>
            <p:nvPr/>
          </p:nvSpPr>
          <p:spPr>
            <a:xfrm>
              <a:off x="3193920" y="2835360"/>
              <a:ext cx="284040" cy="291960"/>
            </a:xfrm>
            <a:custGeom>
              <a:avLst/>
              <a:gdLst/>
              <a:ahLst/>
              <a:rect l="l" t="t" r="r" b="b"/>
              <a:pathLst>
                <a:path w="159" h="164">
                  <a:moveTo>
                    <a:pt x="155" y="0"/>
                  </a:moveTo>
                  <a:cubicBezTo>
                    <a:pt x="155" y="0"/>
                    <a:pt x="159" y="91"/>
                    <a:pt x="154" y="101"/>
                  </a:cubicBezTo>
                  <a:cubicBezTo>
                    <a:pt x="149" y="111"/>
                    <a:pt x="139" y="143"/>
                    <a:pt x="0" y="164"/>
                  </a:cubicBezTo>
                  <a:cubicBezTo>
                    <a:pt x="11" y="51"/>
                    <a:pt x="11" y="51"/>
                    <a:pt x="11" y="51"/>
                  </a:cubicBezTo>
                  <a:lnTo>
                    <a:pt x="155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3"/>
            <p:cNvSpPr/>
            <p:nvPr/>
          </p:nvSpPr>
          <p:spPr>
            <a:xfrm>
              <a:off x="3220920" y="2798640"/>
              <a:ext cx="271440" cy="292320"/>
            </a:xfrm>
            <a:custGeom>
              <a:avLst/>
              <a:gdLst/>
              <a:ahLst/>
              <a:rect l="l" t="t" r="r" b="b"/>
              <a:pathLst>
                <a:path w="152" h="163">
                  <a:moveTo>
                    <a:pt x="148" y="0"/>
                  </a:moveTo>
                  <a:cubicBezTo>
                    <a:pt x="148" y="0"/>
                    <a:pt x="152" y="91"/>
                    <a:pt x="147" y="101"/>
                  </a:cubicBezTo>
                  <a:cubicBezTo>
                    <a:pt x="142" y="111"/>
                    <a:pt x="139" y="142"/>
                    <a:pt x="0" y="163"/>
                  </a:cubicBezTo>
                  <a:cubicBezTo>
                    <a:pt x="13" y="49"/>
                    <a:pt x="13" y="49"/>
                    <a:pt x="13" y="49"/>
                  </a:cubicBezTo>
                  <a:lnTo>
                    <a:pt x="148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4"/>
            <p:cNvSpPr/>
            <p:nvPr/>
          </p:nvSpPr>
          <p:spPr>
            <a:xfrm>
              <a:off x="2774880" y="2854440"/>
              <a:ext cx="301680" cy="268200"/>
            </a:xfrm>
            <a:custGeom>
              <a:avLst/>
              <a:gdLst/>
              <a:ahLst/>
              <a:rect l="l" t="t" r="r" b="b"/>
              <a:pathLst>
                <a:path w="169" h="150">
                  <a:moveTo>
                    <a:pt x="104" y="76"/>
                  </a:moveTo>
                  <a:cubicBezTo>
                    <a:pt x="123" y="91"/>
                    <a:pt x="132" y="113"/>
                    <a:pt x="147" y="132"/>
                  </a:cubicBezTo>
                  <a:cubicBezTo>
                    <a:pt x="152" y="139"/>
                    <a:pt x="158" y="145"/>
                    <a:pt x="164" y="150"/>
                  </a:cubicBezTo>
                  <a:cubicBezTo>
                    <a:pt x="169" y="84"/>
                    <a:pt x="169" y="84"/>
                    <a:pt x="169" y="8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27"/>
                    <a:pt x="0" y="56"/>
                  </a:cubicBezTo>
                  <a:cubicBezTo>
                    <a:pt x="36" y="51"/>
                    <a:pt x="77" y="55"/>
                    <a:pt x="104" y="76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5"/>
            <p:cNvSpPr/>
            <p:nvPr/>
          </p:nvSpPr>
          <p:spPr>
            <a:xfrm>
              <a:off x="3220920" y="2798640"/>
              <a:ext cx="268200" cy="292320"/>
            </a:xfrm>
            <a:custGeom>
              <a:avLst/>
              <a:gdLst/>
              <a:ahLst/>
              <a:rect l="l" t="t" r="r" b="b"/>
              <a:pathLst>
                <a:path w="150" h="163">
                  <a:moveTo>
                    <a:pt x="61" y="70"/>
                  </a:moveTo>
                  <a:cubicBezTo>
                    <a:pt x="88" y="54"/>
                    <a:pt x="119" y="52"/>
                    <a:pt x="150" y="49"/>
                  </a:cubicBezTo>
                  <a:cubicBezTo>
                    <a:pt x="149" y="24"/>
                    <a:pt x="148" y="0"/>
                    <a:pt x="148" y="0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1" y="163"/>
                    <a:pt x="2" y="163"/>
                    <a:pt x="4" y="163"/>
                  </a:cubicBezTo>
                  <a:cubicBezTo>
                    <a:pt x="24" y="133"/>
                    <a:pt x="27" y="91"/>
                    <a:pt x="61" y="70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6"/>
            <p:cNvSpPr/>
            <p:nvPr/>
          </p:nvSpPr>
          <p:spPr>
            <a:xfrm>
              <a:off x="3014640" y="3065400"/>
              <a:ext cx="501480" cy="1127160"/>
            </a:xfrm>
            <a:custGeom>
              <a:avLst/>
              <a:gdLst/>
              <a:ahLst/>
              <a:rect l="l" t="t" r="r" b="b"/>
              <a:pathLst>
                <a:path w="316" h="710">
                  <a:moveTo>
                    <a:pt x="28" y="12"/>
                  </a:moveTo>
                  <a:lnTo>
                    <a:pt x="0" y="535"/>
                  </a:lnTo>
                  <a:lnTo>
                    <a:pt x="127" y="710"/>
                  </a:lnTo>
                  <a:lnTo>
                    <a:pt x="253" y="695"/>
                  </a:lnTo>
                  <a:lnTo>
                    <a:pt x="316" y="524"/>
                  </a:lnTo>
                  <a:lnTo>
                    <a:pt x="124" y="0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7"/>
            <p:cNvSpPr/>
            <p:nvPr/>
          </p:nvSpPr>
          <p:spPr>
            <a:xfrm>
              <a:off x="3047760" y="3071880"/>
              <a:ext cx="433440" cy="1181160"/>
            </a:xfrm>
            <a:custGeom>
              <a:avLst/>
              <a:gdLst/>
              <a:ahLst/>
              <a:rect l="l" t="t" r="r" b="b"/>
              <a:pathLst>
                <a:path w="243" h="661">
                  <a:moveTo>
                    <a:pt x="19" y="8"/>
                  </a:moveTo>
                  <a:cubicBezTo>
                    <a:pt x="19" y="8"/>
                    <a:pt x="0" y="251"/>
                    <a:pt x="1" y="474"/>
                  </a:cubicBezTo>
                  <a:cubicBezTo>
                    <a:pt x="159" y="661"/>
                    <a:pt x="159" y="661"/>
                    <a:pt x="159" y="661"/>
                  </a:cubicBezTo>
                  <a:cubicBezTo>
                    <a:pt x="243" y="467"/>
                    <a:pt x="243" y="467"/>
                    <a:pt x="243" y="467"/>
                  </a:cubicBezTo>
                  <a:cubicBezTo>
                    <a:pt x="243" y="467"/>
                    <a:pt x="174" y="215"/>
                    <a:pt x="67" y="0"/>
                  </a:cubicBezTo>
                  <a:lnTo>
                    <a:pt x="19" y="8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8"/>
            <p:cNvSpPr/>
            <p:nvPr/>
          </p:nvSpPr>
          <p:spPr>
            <a:xfrm>
              <a:off x="3143160" y="3071880"/>
              <a:ext cx="338040" cy="1181160"/>
            </a:xfrm>
            <a:custGeom>
              <a:avLst/>
              <a:gdLst/>
              <a:ahLst/>
              <a:rect l="l" t="t" r="r" b="b"/>
              <a:pathLst>
                <a:path w="190" h="661">
                  <a:moveTo>
                    <a:pt x="14" y="0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6" y="661"/>
                    <a:pt x="106" y="661"/>
                    <a:pt x="106" y="661"/>
                  </a:cubicBezTo>
                  <a:cubicBezTo>
                    <a:pt x="190" y="467"/>
                    <a:pt x="190" y="467"/>
                    <a:pt x="190" y="467"/>
                  </a:cubicBezTo>
                  <a:cubicBezTo>
                    <a:pt x="190" y="467"/>
                    <a:pt x="121" y="215"/>
                    <a:pt x="14" y="0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89"/>
            <p:cNvSpPr/>
            <p:nvPr/>
          </p:nvSpPr>
          <p:spPr>
            <a:xfrm>
              <a:off x="3058920" y="3162240"/>
              <a:ext cx="198360" cy="29700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85" y="0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85" y="0"/>
                    <a:pt x="70" y="42"/>
                    <a:pt x="4" y="97"/>
                  </a:cubicBezTo>
                  <a:cubicBezTo>
                    <a:pt x="3" y="119"/>
                    <a:pt x="1" y="142"/>
                    <a:pt x="0" y="167"/>
                  </a:cubicBezTo>
                  <a:cubicBezTo>
                    <a:pt x="0" y="167"/>
                    <a:pt x="0" y="167"/>
                    <a:pt x="0" y="167"/>
                  </a:cubicBezTo>
                  <a:cubicBezTo>
                    <a:pt x="0" y="167"/>
                    <a:pt x="81" y="130"/>
                    <a:pt x="111" y="59"/>
                  </a:cubicBezTo>
                  <a:cubicBezTo>
                    <a:pt x="103" y="39"/>
                    <a:pt x="94" y="19"/>
                    <a:pt x="85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0"/>
            <p:cNvSpPr/>
            <p:nvPr/>
          </p:nvSpPr>
          <p:spPr>
            <a:xfrm>
              <a:off x="3049560" y="3413160"/>
              <a:ext cx="311040" cy="366840"/>
            </a:xfrm>
            <a:custGeom>
              <a:avLst/>
              <a:gdLst/>
              <a:ahLst/>
              <a:rect l="l" t="t" r="r" b="b"/>
              <a:pathLst>
                <a:path w="174" h="205">
                  <a:moveTo>
                    <a:pt x="174" y="67"/>
                  </a:moveTo>
                  <a:cubicBezTo>
                    <a:pt x="174" y="67"/>
                    <a:pt x="174" y="67"/>
                    <a:pt x="174" y="67"/>
                  </a:cubicBezTo>
                  <a:cubicBezTo>
                    <a:pt x="167" y="45"/>
                    <a:pt x="158" y="23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73" y="86"/>
                    <a:pt x="2" y="130"/>
                    <a:pt x="2" y="130"/>
                  </a:cubicBezTo>
                  <a:cubicBezTo>
                    <a:pt x="2" y="130"/>
                    <a:pt x="2" y="130"/>
                    <a:pt x="2" y="130"/>
                  </a:cubicBezTo>
                  <a:cubicBezTo>
                    <a:pt x="1" y="155"/>
                    <a:pt x="0" y="180"/>
                    <a:pt x="0" y="205"/>
                  </a:cubicBezTo>
                  <a:cubicBezTo>
                    <a:pt x="108" y="180"/>
                    <a:pt x="174" y="67"/>
                    <a:pt x="174" y="6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1"/>
            <p:cNvSpPr/>
            <p:nvPr/>
          </p:nvSpPr>
          <p:spPr>
            <a:xfrm>
              <a:off x="3135240" y="3686040"/>
              <a:ext cx="312840" cy="40824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35" y="228"/>
                  </a:moveTo>
                  <a:cubicBezTo>
                    <a:pt x="113" y="186"/>
                    <a:pt x="175" y="57"/>
                    <a:pt x="175" y="57"/>
                  </a:cubicBezTo>
                  <a:cubicBezTo>
                    <a:pt x="175" y="57"/>
                    <a:pt x="175" y="57"/>
                    <a:pt x="175" y="57"/>
                  </a:cubicBezTo>
                  <a:cubicBezTo>
                    <a:pt x="169" y="41"/>
                    <a:pt x="163" y="21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04" y="105"/>
                    <a:pt x="0" y="187"/>
                    <a:pt x="0" y="187"/>
                  </a:cubicBezTo>
                  <a:lnTo>
                    <a:pt x="35" y="228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2"/>
            <p:cNvSpPr/>
            <p:nvPr/>
          </p:nvSpPr>
          <p:spPr>
            <a:xfrm>
              <a:off x="3030480" y="2960640"/>
              <a:ext cx="209520" cy="149400"/>
            </a:xfrm>
            <a:custGeom>
              <a:avLst/>
              <a:gdLst/>
              <a:ahLst/>
              <a:rect l="l" t="t" r="r" b="b"/>
              <a:pathLst>
                <a:path w="118" h="84">
                  <a:moveTo>
                    <a:pt x="2" y="18"/>
                  </a:moveTo>
                  <a:cubicBezTo>
                    <a:pt x="0" y="30"/>
                    <a:pt x="9" y="75"/>
                    <a:pt x="27" y="81"/>
                  </a:cubicBezTo>
                  <a:cubicBezTo>
                    <a:pt x="37" y="84"/>
                    <a:pt x="56" y="81"/>
                    <a:pt x="78" y="74"/>
                  </a:cubicBezTo>
                  <a:cubicBezTo>
                    <a:pt x="118" y="61"/>
                    <a:pt x="98" y="0"/>
                    <a:pt x="98" y="0"/>
                  </a:cubicBezTo>
                  <a:lnTo>
                    <a:pt x="2" y="18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3"/>
            <p:cNvSpPr/>
            <p:nvPr/>
          </p:nvSpPr>
          <p:spPr>
            <a:xfrm>
              <a:off x="2552400" y="1525680"/>
              <a:ext cx="1046160" cy="1498680"/>
            </a:xfrm>
            <a:custGeom>
              <a:avLst/>
              <a:gdLst/>
              <a:ahLst/>
              <a:rect l="l" t="t" r="r" b="b"/>
              <a:pathLst>
                <a:path w="586" h="839">
                  <a:moveTo>
                    <a:pt x="552" y="376"/>
                  </a:moveTo>
                  <a:cubicBezTo>
                    <a:pt x="552" y="376"/>
                    <a:pt x="586" y="581"/>
                    <a:pt x="584" y="647"/>
                  </a:cubicBezTo>
                  <a:cubicBezTo>
                    <a:pt x="582" y="713"/>
                    <a:pt x="571" y="722"/>
                    <a:pt x="535" y="736"/>
                  </a:cubicBezTo>
                  <a:cubicBezTo>
                    <a:pt x="499" y="751"/>
                    <a:pt x="408" y="770"/>
                    <a:pt x="392" y="783"/>
                  </a:cubicBezTo>
                  <a:cubicBezTo>
                    <a:pt x="376" y="797"/>
                    <a:pt x="345" y="837"/>
                    <a:pt x="319" y="838"/>
                  </a:cubicBezTo>
                  <a:cubicBezTo>
                    <a:pt x="292" y="839"/>
                    <a:pt x="277" y="816"/>
                    <a:pt x="261" y="814"/>
                  </a:cubicBezTo>
                  <a:cubicBezTo>
                    <a:pt x="245" y="813"/>
                    <a:pt x="122" y="813"/>
                    <a:pt x="101" y="810"/>
                  </a:cubicBezTo>
                  <a:cubicBezTo>
                    <a:pt x="80" y="806"/>
                    <a:pt x="63" y="791"/>
                    <a:pt x="54" y="746"/>
                  </a:cubicBezTo>
                  <a:cubicBezTo>
                    <a:pt x="45" y="701"/>
                    <a:pt x="0" y="517"/>
                    <a:pt x="4" y="425"/>
                  </a:cubicBezTo>
                  <a:cubicBezTo>
                    <a:pt x="9" y="333"/>
                    <a:pt x="9" y="256"/>
                    <a:pt x="61" y="212"/>
                  </a:cubicBezTo>
                  <a:cubicBezTo>
                    <a:pt x="76" y="193"/>
                    <a:pt x="490" y="0"/>
                    <a:pt x="552" y="37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4"/>
            <p:cNvSpPr/>
            <p:nvPr/>
          </p:nvSpPr>
          <p:spPr>
            <a:xfrm>
              <a:off x="2419200" y="2390760"/>
              <a:ext cx="214200" cy="309600"/>
            </a:xfrm>
            <a:custGeom>
              <a:avLst/>
              <a:gdLst/>
              <a:ahLst/>
              <a:rect l="l" t="t" r="r" b="b"/>
              <a:pathLst>
                <a:path w="120" h="174">
                  <a:moveTo>
                    <a:pt x="120" y="159"/>
                  </a:moveTo>
                  <a:cubicBezTo>
                    <a:pt x="24" y="174"/>
                    <a:pt x="0" y="66"/>
                    <a:pt x="39" y="33"/>
                  </a:cubicBezTo>
                  <a:cubicBezTo>
                    <a:pt x="78" y="0"/>
                    <a:pt x="118" y="49"/>
                    <a:pt x="118" y="49"/>
                  </a:cubicBezTo>
                  <a:lnTo>
                    <a:pt x="120" y="15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5"/>
            <p:cNvSpPr/>
            <p:nvPr/>
          </p:nvSpPr>
          <p:spPr>
            <a:xfrm>
              <a:off x="3504960" y="2238480"/>
              <a:ext cx="230400" cy="268200"/>
            </a:xfrm>
            <a:custGeom>
              <a:avLst/>
              <a:gdLst/>
              <a:ahLst/>
              <a:rect l="l" t="t" r="r" b="b"/>
              <a:pathLst>
                <a:path w="129" h="150">
                  <a:moveTo>
                    <a:pt x="34" y="150"/>
                  </a:moveTo>
                  <a:cubicBezTo>
                    <a:pt x="34" y="150"/>
                    <a:pt x="75" y="150"/>
                    <a:pt x="102" y="114"/>
                  </a:cubicBezTo>
                  <a:cubicBezTo>
                    <a:pt x="129" y="79"/>
                    <a:pt x="110" y="0"/>
                    <a:pt x="55" y="7"/>
                  </a:cubicBezTo>
                  <a:cubicBezTo>
                    <a:pt x="0" y="14"/>
                    <a:pt x="13" y="73"/>
                    <a:pt x="13" y="73"/>
                  </a:cubicBezTo>
                  <a:lnTo>
                    <a:pt x="34" y="150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6"/>
            <p:cNvSpPr/>
            <p:nvPr/>
          </p:nvSpPr>
          <p:spPr>
            <a:xfrm>
              <a:off x="2576520" y="1482840"/>
              <a:ext cx="1011240" cy="1528560"/>
            </a:xfrm>
            <a:custGeom>
              <a:avLst/>
              <a:gdLst/>
              <a:ahLst/>
              <a:rect l="l" t="t" r="r" b="b"/>
              <a:pathLst>
                <a:path w="566" h="856">
                  <a:moveTo>
                    <a:pt x="522" y="376"/>
                  </a:moveTo>
                  <a:cubicBezTo>
                    <a:pt x="522" y="376"/>
                    <a:pt x="551" y="495"/>
                    <a:pt x="560" y="581"/>
                  </a:cubicBezTo>
                  <a:cubicBezTo>
                    <a:pt x="563" y="607"/>
                    <a:pt x="566" y="639"/>
                    <a:pt x="566" y="654"/>
                  </a:cubicBezTo>
                  <a:cubicBezTo>
                    <a:pt x="564" y="707"/>
                    <a:pt x="525" y="735"/>
                    <a:pt x="480" y="754"/>
                  </a:cubicBezTo>
                  <a:cubicBezTo>
                    <a:pt x="461" y="762"/>
                    <a:pt x="442" y="771"/>
                    <a:pt x="423" y="778"/>
                  </a:cubicBezTo>
                  <a:cubicBezTo>
                    <a:pt x="392" y="789"/>
                    <a:pt x="357" y="789"/>
                    <a:pt x="337" y="817"/>
                  </a:cubicBezTo>
                  <a:cubicBezTo>
                    <a:pt x="310" y="856"/>
                    <a:pt x="260" y="828"/>
                    <a:pt x="221" y="824"/>
                  </a:cubicBezTo>
                  <a:cubicBezTo>
                    <a:pt x="154" y="816"/>
                    <a:pt x="100" y="807"/>
                    <a:pt x="93" y="805"/>
                  </a:cubicBezTo>
                  <a:cubicBezTo>
                    <a:pt x="73" y="802"/>
                    <a:pt x="56" y="787"/>
                    <a:pt x="47" y="741"/>
                  </a:cubicBezTo>
                  <a:cubicBezTo>
                    <a:pt x="38" y="696"/>
                    <a:pt x="2" y="511"/>
                    <a:pt x="6" y="419"/>
                  </a:cubicBezTo>
                  <a:cubicBezTo>
                    <a:pt x="9" y="326"/>
                    <a:pt x="0" y="252"/>
                    <a:pt x="49" y="209"/>
                  </a:cubicBezTo>
                  <a:cubicBezTo>
                    <a:pt x="63" y="189"/>
                    <a:pt x="459" y="0"/>
                    <a:pt x="522" y="37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7"/>
            <p:cNvSpPr/>
            <p:nvPr/>
          </p:nvSpPr>
          <p:spPr>
            <a:xfrm>
              <a:off x="2608200" y="1532160"/>
              <a:ext cx="866520" cy="603000"/>
            </a:xfrm>
            <a:custGeom>
              <a:avLst/>
              <a:gdLst/>
              <a:ahLst/>
              <a:rect l="l" t="t" r="r" b="b"/>
              <a:pathLst>
                <a:path w="485" h="338">
                  <a:moveTo>
                    <a:pt x="353" y="328"/>
                  </a:moveTo>
                  <a:cubicBezTo>
                    <a:pt x="300" y="335"/>
                    <a:pt x="256" y="338"/>
                    <a:pt x="202" y="337"/>
                  </a:cubicBezTo>
                  <a:cubicBezTo>
                    <a:pt x="127" y="336"/>
                    <a:pt x="66" y="300"/>
                    <a:pt x="0" y="280"/>
                  </a:cubicBezTo>
                  <a:cubicBezTo>
                    <a:pt x="2" y="231"/>
                    <a:pt x="0" y="209"/>
                    <a:pt x="31" y="182"/>
                  </a:cubicBezTo>
                  <a:cubicBezTo>
                    <a:pt x="44" y="163"/>
                    <a:pt x="385" y="0"/>
                    <a:pt x="485" y="275"/>
                  </a:cubicBezTo>
                  <a:cubicBezTo>
                    <a:pt x="466" y="285"/>
                    <a:pt x="447" y="294"/>
                    <a:pt x="427" y="303"/>
                  </a:cubicBezTo>
                  <a:cubicBezTo>
                    <a:pt x="403" y="307"/>
                    <a:pt x="377" y="325"/>
                    <a:pt x="353" y="32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8"/>
            <p:cNvSpPr/>
            <p:nvPr/>
          </p:nvSpPr>
          <p:spPr>
            <a:xfrm>
              <a:off x="3367080" y="1816200"/>
              <a:ext cx="263520" cy="762120"/>
            </a:xfrm>
            <a:custGeom>
              <a:avLst/>
              <a:gdLst/>
              <a:ahLst/>
              <a:rect l="l" t="t" r="r" b="b"/>
              <a:pathLst>
                <a:path w="147" h="427">
                  <a:moveTo>
                    <a:pt x="107" y="0"/>
                  </a:moveTo>
                  <a:cubicBezTo>
                    <a:pt x="107" y="0"/>
                    <a:pt x="146" y="178"/>
                    <a:pt x="147" y="245"/>
                  </a:cubicBezTo>
                  <a:cubicBezTo>
                    <a:pt x="147" y="245"/>
                    <a:pt x="135" y="242"/>
                    <a:pt x="121" y="246"/>
                  </a:cubicBezTo>
                  <a:cubicBezTo>
                    <a:pt x="105" y="251"/>
                    <a:pt x="88" y="265"/>
                    <a:pt x="89" y="304"/>
                  </a:cubicBezTo>
                  <a:cubicBezTo>
                    <a:pt x="92" y="377"/>
                    <a:pt x="94" y="414"/>
                    <a:pt x="94" y="414"/>
                  </a:cubicBezTo>
                  <a:cubicBezTo>
                    <a:pt x="94" y="414"/>
                    <a:pt x="94" y="421"/>
                    <a:pt x="76" y="424"/>
                  </a:cubicBezTo>
                  <a:cubicBezTo>
                    <a:pt x="58" y="427"/>
                    <a:pt x="55" y="419"/>
                    <a:pt x="55" y="419"/>
                  </a:cubicBezTo>
                  <a:cubicBezTo>
                    <a:pt x="0" y="55"/>
                    <a:pt x="0" y="55"/>
                    <a:pt x="0" y="55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9"/>
            <p:cNvSpPr/>
            <p:nvPr/>
          </p:nvSpPr>
          <p:spPr>
            <a:xfrm>
              <a:off x="3536640" y="2198880"/>
              <a:ext cx="93960" cy="950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0" y="50"/>
                  </a:moveTo>
                  <a:cubicBezTo>
                    <a:pt x="2" y="34"/>
                    <a:pt x="6" y="19"/>
                    <a:pt x="13" y="5"/>
                  </a:cubicBezTo>
                  <a:cubicBezTo>
                    <a:pt x="25" y="3"/>
                    <a:pt x="38" y="2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2" y="11"/>
                    <a:pt x="52" y="21"/>
                    <a:pt x="52" y="30"/>
                  </a:cubicBezTo>
                  <a:cubicBezTo>
                    <a:pt x="52" y="30"/>
                    <a:pt x="40" y="27"/>
                    <a:pt x="26" y="31"/>
                  </a:cubicBezTo>
                  <a:cubicBezTo>
                    <a:pt x="16" y="34"/>
                    <a:pt x="6" y="40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3"/>
                    <a:pt x="0" y="52"/>
                    <a:pt x="0" y="51"/>
                  </a:cubicBezTo>
                  <a:cubicBezTo>
                    <a:pt x="0" y="51"/>
                    <a:pt x="0" y="50"/>
                    <a:pt x="0" y="5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0"/>
            <p:cNvSpPr/>
            <p:nvPr/>
          </p:nvSpPr>
          <p:spPr>
            <a:xfrm>
              <a:off x="3371760" y="1844640"/>
              <a:ext cx="210960" cy="20484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0" y="0"/>
                  </a:moveTo>
                  <a:cubicBezTo>
                    <a:pt x="119" y="53"/>
                    <a:pt x="119" y="53"/>
                    <a:pt x="119" y="53"/>
                  </a:cubicBezTo>
                  <a:cubicBezTo>
                    <a:pt x="119" y="53"/>
                    <a:pt x="68" y="106"/>
                    <a:pt x="9" y="115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1"/>
            <p:cNvSpPr/>
            <p:nvPr/>
          </p:nvSpPr>
          <p:spPr>
            <a:xfrm>
              <a:off x="2309760" y="1523880"/>
              <a:ext cx="1328760" cy="1198800"/>
            </a:xfrm>
            <a:custGeom>
              <a:avLst/>
              <a:gdLst/>
              <a:ahLst/>
              <a:rect l="l" t="t" r="r" b="b"/>
              <a:pathLst>
                <a:path w="744" h="671">
                  <a:moveTo>
                    <a:pt x="581" y="5"/>
                  </a:moveTo>
                  <a:cubicBezTo>
                    <a:pt x="581" y="5"/>
                    <a:pt x="576" y="85"/>
                    <a:pt x="473" y="88"/>
                  </a:cubicBezTo>
                  <a:cubicBezTo>
                    <a:pt x="371" y="90"/>
                    <a:pt x="328" y="31"/>
                    <a:pt x="247" y="48"/>
                  </a:cubicBezTo>
                  <a:cubicBezTo>
                    <a:pt x="166" y="64"/>
                    <a:pt x="117" y="126"/>
                    <a:pt x="124" y="176"/>
                  </a:cubicBezTo>
                  <a:cubicBezTo>
                    <a:pt x="124" y="176"/>
                    <a:pt x="30" y="162"/>
                    <a:pt x="12" y="249"/>
                  </a:cubicBezTo>
                  <a:cubicBezTo>
                    <a:pt x="0" y="302"/>
                    <a:pt x="43" y="381"/>
                    <a:pt x="100" y="518"/>
                  </a:cubicBezTo>
                  <a:cubicBezTo>
                    <a:pt x="100" y="518"/>
                    <a:pt x="107" y="512"/>
                    <a:pt x="114" y="509"/>
                  </a:cubicBezTo>
                  <a:cubicBezTo>
                    <a:pt x="125" y="505"/>
                    <a:pt x="141" y="504"/>
                    <a:pt x="162" y="519"/>
                  </a:cubicBezTo>
                  <a:cubicBezTo>
                    <a:pt x="185" y="535"/>
                    <a:pt x="194" y="662"/>
                    <a:pt x="194" y="662"/>
                  </a:cubicBezTo>
                  <a:cubicBezTo>
                    <a:pt x="194" y="662"/>
                    <a:pt x="199" y="671"/>
                    <a:pt x="221" y="668"/>
                  </a:cubicBezTo>
                  <a:cubicBezTo>
                    <a:pt x="243" y="664"/>
                    <a:pt x="243" y="654"/>
                    <a:pt x="243" y="654"/>
                  </a:cubicBezTo>
                  <a:cubicBezTo>
                    <a:pt x="243" y="654"/>
                    <a:pt x="222" y="508"/>
                    <a:pt x="201" y="386"/>
                  </a:cubicBezTo>
                  <a:cubicBezTo>
                    <a:pt x="192" y="336"/>
                    <a:pt x="200" y="296"/>
                    <a:pt x="206" y="280"/>
                  </a:cubicBezTo>
                  <a:cubicBezTo>
                    <a:pt x="206" y="280"/>
                    <a:pt x="376" y="367"/>
                    <a:pt x="560" y="298"/>
                  </a:cubicBezTo>
                  <a:cubicBezTo>
                    <a:pt x="743" y="229"/>
                    <a:pt x="744" y="110"/>
                    <a:pt x="743" y="24"/>
                  </a:cubicBezTo>
                  <a:cubicBezTo>
                    <a:pt x="743" y="24"/>
                    <a:pt x="717" y="55"/>
                    <a:pt x="674" y="78"/>
                  </a:cubicBezTo>
                  <a:cubicBezTo>
                    <a:pt x="674" y="78"/>
                    <a:pt x="681" y="22"/>
                    <a:pt x="644" y="0"/>
                  </a:cubicBezTo>
                  <a:cubicBezTo>
                    <a:pt x="644" y="0"/>
                    <a:pt x="643" y="40"/>
                    <a:pt x="619" y="60"/>
                  </a:cubicBezTo>
                  <a:cubicBezTo>
                    <a:pt x="619" y="60"/>
                    <a:pt x="628" y="26"/>
                    <a:pt x="581" y="5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2"/>
            <p:cNvSpPr/>
            <p:nvPr/>
          </p:nvSpPr>
          <p:spPr>
            <a:xfrm>
              <a:off x="2457360" y="2368440"/>
              <a:ext cx="163440" cy="103320"/>
            </a:xfrm>
            <a:custGeom>
              <a:avLst/>
              <a:gdLst/>
              <a:ahLst/>
              <a:rect l="l" t="t" r="r" b="b"/>
              <a:pathLst>
                <a:path w="92" h="58">
                  <a:moveTo>
                    <a:pt x="51" y="2"/>
                  </a:moveTo>
                  <a:cubicBezTo>
                    <a:pt x="74" y="27"/>
                    <a:pt x="92" y="54"/>
                    <a:pt x="89" y="58"/>
                  </a:cubicBezTo>
                  <a:cubicBezTo>
                    <a:pt x="89" y="58"/>
                    <a:pt x="89" y="58"/>
                    <a:pt x="89" y="58"/>
                  </a:cubicBezTo>
                  <a:cubicBezTo>
                    <a:pt x="86" y="52"/>
                    <a:pt x="83" y="48"/>
                    <a:pt x="80" y="46"/>
                  </a:cubicBezTo>
                  <a:cubicBezTo>
                    <a:pt x="59" y="31"/>
                    <a:pt x="43" y="32"/>
                    <a:pt x="32" y="36"/>
                  </a:cubicBezTo>
                  <a:cubicBezTo>
                    <a:pt x="25" y="39"/>
                    <a:pt x="18" y="45"/>
                    <a:pt x="18" y="45"/>
                  </a:cubicBezTo>
                  <a:cubicBezTo>
                    <a:pt x="12" y="30"/>
                    <a:pt x="6" y="16"/>
                    <a:pt x="0" y="2"/>
                  </a:cubicBezTo>
                  <a:cubicBezTo>
                    <a:pt x="17" y="0"/>
                    <a:pt x="34" y="0"/>
                    <a:pt x="51" y="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3"/>
            <p:cNvSpPr/>
            <p:nvPr/>
          </p:nvSpPr>
          <p:spPr>
            <a:xfrm>
              <a:off x="3240000" y="2136960"/>
              <a:ext cx="162000" cy="107640"/>
            </a:xfrm>
            <a:custGeom>
              <a:avLst/>
              <a:gdLst/>
              <a:ahLst/>
              <a:rect l="l" t="t" r="r" b="b"/>
              <a:pathLst>
                <a:path w="90" h="60">
                  <a:moveTo>
                    <a:pt x="0" y="42"/>
                  </a:moveTo>
                  <a:cubicBezTo>
                    <a:pt x="0" y="42"/>
                    <a:pt x="3" y="9"/>
                    <a:pt x="28" y="4"/>
                  </a:cubicBezTo>
                  <a:cubicBezTo>
                    <a:pt x="52" y="0"/>
                    <a:pt x="76" y="23"/>
                    <a:pt x="83" y="35"/>
                  </a:cubicBezTo>
                  <a:cubicBezTo>
                    <a:pt x="90" y="46"/>
                    <a:pt x="80" y="60"/>
                    <a:pt x="80" y="60"/>
                  </a:cubicBezTo>
                  <a:cubicBezTo>
                    <a:pt x="80" y="60"/>
                    <a:pt x="50" y="21"/>
                    <a:pt x="0" y="42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4"/>
            <p:cNvSpPr/>
            <p:nvPr/>
          </p:nvSpPr>
          <p:spPr>
            <a:xfrm>
              <a:off x="2717640" y="2198880"/>
              <a:ext cx="154080" cy="1317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71" y="1"/>
                  </a:moveTo>
                  <a:cubicBezTo>
                    <a:pt x="71" y="1"/>
                    <a:pt x="86" y="23"/>
                    <a:pt x="82" y="42"/>
                  </a:cubicBezTo>
                  <a:cubicBezTo>
                    <a:pt x="82" y="42"/>
                    <a:pt x="38" y="37"/>
                    <a:pt x="16" y="73"/>
                  </a:cubicBezTo>
                  <a:cubicBezTo>
                    <a:pt x="16" y="73"/>
                    <a:pt x="0" y="65"/>
                    <a:pt x="6" y="51"/>
                  </a:cubicBezTo>
                  <a:cubicBezTo>
                    <a:pt x="12" y="37"/>
                    <a:pt x="45" y="0"/>
                    <a:pt x="71" y="1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5"/>
            <p:cNvSpPr/>
            <p:nvPr/>
          </p:nvSpPr>
          <p:spPr>
            <a:xfrm>
              <a:off x="2449440" y="2546280"/>
              <a:ext cx="185760" cy="13176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90" y="74"/>
                  </a:moveTo>
                  <a:cubicBezTo>
                    <a:pt x="104" y="74"/>
                    <a:pt x="104" y="74"/>
                    <a:pt x="104" y="74"/>
                  </a:cubicBezTo>
                  <a:cubicBezTo>
                    <a:pt x="103" y="65"/>
                    <a:pt x="103" y="65"/>
                    <a:pt x="103" y="65"/>
                  </a:cubicBezTo>
                  <a:cubicBezTo>
                    <a:pt x="103" y="65"/>
                    <a:pt x="19" y="53"/>
                    <a:pt x="10" y="0"/>
                  </a:cubicBezTo>
                  <a:cubicBezTo>
                    <a:pt x="10" y="0"/>
                    <a:pt x="0" y="60"/>
                    <a:pt x="90" y="74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6"/>
            <p:cNvSpPr/>
            <p:nvPr/>
          </p:nvSpPr>
          <p:spPr>
            <a:xfrm>
              <a:off x="3538440" y="2297160"/>
              <a:ext cx="139680" cy="15228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26" y="85"/>
                  </a:moveTo>
                  <a:cubicBezTo>
                    <a:pt x="26" y="85"/>
                    <a:pt x="0" y="0"/>
                    <a:pt x="48" y="10"/>
                  </a:cubicBezTo>
                  <a:cubicBezTo>
                    <a:pt x="78" y="15"/>
                    <a:pt x="77" y="44"/>
                    <a:pt x="63" y="63"/>
                  </a:cubicBezTo>
                  <a:cubicBezTo>
                    <a:pt x="53" y="76"/>
                    <a:pt x="38" y="84"/>
                    <a:pt x="26" y="8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7"/>
            <p:cNvSpPr/>
            <p:nvPr/>
          </p:nvSpPr>
          <p:spPr>
            <a:xfrm>
              <a:off x="3576600" y="2316240"/>
              <a:ext cx="98280" cy="1317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5" y="74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55" y="0"/>
                    <a:pt x="50" y="35"/>
                  </a:cubicBezTo>
                  <a:cubicBezTo>
                    <a:pt x="45" y="70"/>
                    <a:pt x="5" y="74"/>
                    <a:pt x="5" y="74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8"/>
            <p:cNvSpPr/>
            <p:nvPr/>
          </p:nvSpPr>
          <p:spPr>
            <a:xfrm>
              <a:off x="3396960" y="2336760"/>
              <a:ext cx="41400" cy="223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8"/>
                  </a:moveTo>
                  <a:cubicBezTo>
                    <a:pt x="1" y="10"/>
                    <a:pt x="3" y="12"/>
                    <a:pt x="6" y="11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1" y="8"/>
                    <a:pt x="23" y="6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2" y="2"/>
                    <a:pt x="20" y="0"/>
                    <a:pt x="18" y="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4"/>
                    <a:pt x="0" y="6"/>
                    <a:pt x="1" y="8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9"/>
            <p:cNvSpPr/>
            <p:nvPr/>
          </p:nvSpPr>
          <p:spPr>
            <a:xfrm>
              <a:off x="2722320" y="2446560"/>
              <a:ext cx="34920" cy="172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" y="7"/>
                  </a:moveTo>
                  <a:cubicBezTo>
                    <a:pt x="1" y="8"/>
                    <a:pt x="3" y="10"/>
                    <a:pt x="4" y="9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9" y="6"/>
                    <a:pt x="19" y="5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3"/>
                    <a:pt x="0" y="5"/>
                    <a:pt x="1" y="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0"/>
            <p:cNvSpPr/>
            <p:nvPr/>
          </p:nvSpPr>
          <p:spPr>
            <a:xfrm>
              <a:off x="3073320" y="2922480"/>
              <a:ext cx="98280" cy="3996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1" y="16"/>
                  </a:moveTo>
                  <a:cubicBezTo>
                    <a:pt x="2" y="21"/>
                    <a:pt x="14" y="22"/>
                    <a:pt x="29" y="19"/>
                  </a:cubicBezTo>
                  <a:cubicBezTo>
                    <a:pt x="44" y="16"/>
                    <a:pt x="55" y="10"/>
                    <a:pt x="54" y="6"/>
                  </a:cubicBezTo>
                  <a:cubicBezTo>
                    <a:pt x="53" y="1"/>
                    <a:pt x="40" y="0"/>
                    <a:pt x="26" y="3"/>
                  </a:cubicBezTo>
                  <a:cubicBezTo>
                    <a:pt x="11" y="6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1"/>
            <p:cNvSpPr/>
            <p:nvPr/>
          </p:nvSpPr>
          <p:spPr>
            <a:xfrm>
              <a:off x="2374920" y="1901880"/>
              <a:ext cx="228600" cy="299880"/>
            </a:xfrm>
            <a:custGeom>
              <a:avLst/>
              <a:gdLst/>
              <a:ahLst/>
              <a:rect l="l" t="t" r="r" b="b"/>
              <a:pathLst>
                <a:path w="128" h="168">
                  <a:moveTo>
                    <a:pt x="128" y="78"/>
                  </a:moveTo>
                  <a:cubicBezTo>
                    <a:pt x="108" y="102"/>
                    <a:pt x="117" y="140"/>
                    <a:pt x="121" y="168"/>
                  </a:cubicBezTo>
                  <a:cubicBezTo>
                    <a:pt x="93" y="155"/>
                    <a:pt x="15" y="98"/>
                    <a:pt x="5" y="71"/>
                  </a:cubicBezTo>
                  <a:cubicBezTo>
                    <a:pt x="0" y="58"/>
                    <a:pt x="7" y="42"/>
                    <a:pt x="9" y="28"/>
                  </a:cubicBezTo>
                  <a:cubicBezTo>
                    <a:pt x="11" y="16"/>
                    <a:pt x="24" y="6"/>
                    <a:pt x="35" y="4"/>
                  </a:cubicBezTo>
                  <a:cubicBezTo>
                    <a:pt x="54" y="0"/>
                    <a:pt x="69" y="4"/>
                    <a:pt x="79" y="21"/>
                  </a:cubicBezTo>
                  <a:cubicBezTo>
                    <a:pt x="83" y="29"/>
                    <a:pt x="87" y="37"/>
                    <a:pt x="91" y="44"/>
                  </a:cubicBezTo>
                  <a:cubicBezTo>
                    <a:pt x="96" y="51"/>
                    <a:pt x="101" y="58"/>
                    <a:pt x="107" y="64"/>
                  </a:cubicBezTo>
                  <a:cubicBezTo>
                    <a:pt x="113" y="70"/>
                    <a:pt x="122" y="73"/>
                    <a:pt x="128" y="78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2"/>
            <p:cNvSpPr/>
            <p:nvPr/>
          </p:nvSpPr>
          <p:spPr>
            <a:xfrm>
              <a:off x="2535120" y="1860480"/>
              <a:ext cx="177840" cy="1494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3" y="2"/>
                  </a:moveTo>
                  <a:cubicBezTo>
                    <a:pt x="3" y="1"/>
                    <a:pt x="5" y="1"/>
                    <a:pt x="7" y="0"/>
                  </a:cubicBezTo>
                  <a:cubicBezTo>
                    <a:pt x="16" y="0"/>
                    <a:pt x="32" y="18"/>
                    <a:pt x="38" y="25"/>
                  </a:cubicBezTo>
                  <a:cubicBezTo>
                    <a:pt x="49" y="36"/>
                    <a:pt x="60" y="48"/>
                    <a:pt x="71" y="60"/>
                  </a:cubicBezTo>
                  <a:cubicBezTo>
                    <a:pt x="76" y="65"/>
                    <a:pt x="91" y="84"/>
                    <a:pt x="99" y="84"/>
                  </a:cubicBezTo>
                  <a:cubicBezTo>
                    <a:pt x="74" y="83"/>
                    <a:pt x="51" y="67"/>
                    <a:pt x="33" y="50"/>
                  </a:cubicBezTo>
                  <a:cubicBezTo>
                    <a:pt x="25" y="42"/>
                    <a:pt x="18" y="31"/>
                    <a:pt x="12" y="21"/>
                  </a:cubicBezTo>
                  <a:cubicBezTo>
                    <a:pt x="9" y="18"/>
                    <a:pt x="0" y="7"/>
                    <a:pt x="3" y="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3"/>
            <p:cNvSpPr/>
            <p:nvPr/>
          </p:nvSpPr>
          <p:spPr>
            <a:xfrm>
              <a:off x="2620800" y="1636920"/>
              <a:ext cx="312840" cy="98280"/>
            </a:xfrm>
            <a:custGeom>
              <a:avLst/>
              <a:gdLst/>
              <a:ahLst/>
              <a:rect l="l" t="t" r="r" b="b"/>
              <a:pathLst>
                <a:path w="175" h="55">
                  <a:moveTo>
                    <a:pt x="175" y="30"/>
                  </a:moveTo>
                  <a:cubicBezTo>
                    <a:pt x="145" y="21"/>
                    <a:pt x="114" y="0"/>
                    <a:pt x="81" y="4"/>
                  </a:cubicBezTo>
                  <a:cubicBezTo>
                    <a:pt x="59" y="6"/>
                    <a:pt x="42" y="12"/>
                    <a:pt x="26" y="25"/>
                  </a:cubicBezTo>
                  <a:cubicBezTo>
                    <a:pt x="17" y="32"/>
                    <a:pt x="3" y="44"/>
                    <a:pt x="0" y="55"/>
                  </a:cubicBezTo>
                  <a:cubicBezTo>
                    <a:pt x="48" y="50"/>
                    <a:pt x="94" y="26"/>
                    <a:pt x="143" y="28"/>
                  </a:cubicBezTo>
                  <a:cubicBezTo>
                    <a:pt x="153" y="29"/>
                    <a:pt x="166" y="34"/>
                    <a:pt x="175" y="30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14"/>
            <p:cNvSpPr/>
            <p:nvPr/>
          </p:nvSpPr>
          <p:spPr>
            <a:xfrm>
              <a:off x="3389040" y="1603440"/>
              <a:ext cx="117720" cy="183960"/>
            </a:xfrm>
            <a:custGeom>
              <a:avLst/>
              <a:gdLst/>
              <a:ahLst/>
              <a:rect l="l" t="t" r="r" b="b"/>
              <a:pathLst>
                <a:path w="66" h="103">
                  <a:moveTo>
                    <a:pt x="62" y="0"/>
                  </a:moveTo>
                  <a:cubicBezTo>
                    <a:pt x="66" y="14"/>
                    <a:pt x="61" y="33"/>
                    <a:pt x="56" y="46"/>
                  </a:cubicBezTo>
                  <a:cubicBezTo>
                    <a:pt x="51" y="59"/>
                    <a:pt x="43" y="70"/>
                    <a:pt x="32" y="79"/>
                  </a:cubicBezTo>
                  <a:cubicBezTo>
                    <a:pt x="23" y="87"/>
                    <a:pt x="13" y="99"/>
                    <a:pt x="0" y="103"/>
                  </a:cubicBezTo>
                  <a:cubicBezTo>
                    <a:pt x="26" y="85"/>
                    <a:pt x="41" y="63"/>
                    <a:pt x="51" y="34"/>
                  </a:cubicBezTo>
                  <a:cubicBezTo>
                    <a:pt x="54" y="23"/>
                    <a:pt x="55" y="9"/>
                    <a:pt x="62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5"/>
            <p:cNvSpPr/>
            <p:nvPr/>
          </p:nvSpPr>
          <p:spPr>
            <a:xfrm>
              <a:off x="3292200" y="1608120"/>
              <a:ext cx="103320" cy="14148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10" y="71"/>
                  </a:moveTo>
                  <a:cubicBezTo>
                    <a:pt x="22" y="60"/>
                    <a:pt x="34" y="47"/>
                    <a:pt x="40" y="34"/>
                  </a:cubicBezTo>
                  <a:cubicBezTo>
                    <a:pt x="45" y="21"/>
                    <a:pt x="49" y="11"/>
                    <a:pt x="57" y="0"/>
                  </a:cubicBezTo>
                  <a:cubicBezTo>
                    <a:pt x="58" y="13"/>
                    <a:pt x="54" y="34"/>
                    <a:pt x="48" y="45"/>
                  </a:cubicBezTo>
                  <a:cubicBezTo>
                    <a:pt x="40" y="60"/>
                    <a:pt x="17" y="73"/>
                    <a:pt x="0" y="79"/>
                  </a:cubicBezTo>
                  <a:cubicBezTo>
                    <a:pt x="0" y="79"/>
                    <a:pt x="1" y="78"/>
                    <a:pt x="1" y="78"/>
                  </a:cubicBezTo>
                  <a:cubicBezTo>
                    <a:pt x="5" y="76"/>
                    <a:pt x="8" y="74"/>
                    <a:pt x="10" y="7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6"/>
            <p:cNvSpPr/>
            <p:nvPr/>
          </p:nvSpPr>
          <p:spPr>
            <a:xfrm>
              <a:off x="2923920" y="2325600"/>
              <a:ext cx="328680" cy="370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35" y="31"/>
                  </a:moveTo>
                  <a:cubicBezTo>
                    <a:pt x="35" y="31"/>
                    <a:pt x="0" y="140"/>
                    <a:pt x="53" y="174"/>
                  </a:cubicBezTo>
                  <a:cubicBezTo>
                    <a:pt x="106" y="207"/>
                    <a:pt x="165" y="177"/>
                    <a:pt x="172" y="147"/>
                  </a:cubicBezTo>
                  <a:cubicBezTo>
                    <a:pt x="184" y="94"/>
                    <a:pt x="138" y="84"/>
                    <a:pt x="121" y="17"/>
                  </a:cubicBezTo>
                  <a:cubicBezTo>
                    <a:pt x="121" y="17"/>
                    <a:pt x="106" y="0"/>
                    <a:pt x="78" y="3"/>
                  </a:cubicBezTo>
                  <a:cubicBezTo>
                    <a:pt x="51" y="6"/>
                    <a:pt x="35" y="31"/>
                    <a:pt x="35" y="3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7"/>
            <p:cNvSpPr/>
            <p:nvPr/>
          </p:nvSpPr>
          <p:spPr>
            <a:xfrm>
              <a:off x="2936880" y="2322720"/>
              <a:ext cx="293400" cy="326880"/>
            </a:xfrm>
            <a:custGeom>
              <a:avLst/>
              <a:gdLst/>
              <a:ahLst/>
              <a:rect l="l" t="t" r="r" b="b"/>
              <a:pathLst>
                <a:path w="164" h="183">
                  <a:moveTo>
                    <a:pt x="32" y="28"/>
                  </a:moveTo>
                  <a:cubicBezTo>
                    <a:pt x="32" y="28"/>
                    <a:pt x="0" y="121"/>
                    <a:pt x="47" y="152"/>
                  </a:cubicBezTo>
                  <a:cubicBezTo>
                    <a:pt x="94" y="183"/>
                    <a:pt x="147" y="155"/>
                    <a:pt x="153" y="128"/>
                  </a:cubicBezTo>
                  <a:cubicBezTo>
                    <a:pt x="164" y="80"/>
                    <a:pt x="124" y="74"/>
                    <a:pt x="109" y="12"/>
                  </a:cubicBezTo>
                  <a:cubicBezTo>
                    <a:pt x="109" y="12"/>
                    <a:pt x="95" y="0"/>
                    <a:pt x="70" y="3"/>
                  </a:cubicBezTo>
                  <a:cubicBezTo>
                    <a:pt x="46" y="5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8"/>
            <p:cNvSpPr/>
            <p:nvPr/>
          </p:nvSpPr>
          <p:spPr>
            <a:xfrm>
              <a:off x="3090600" y="2563920"/>
              <a:ext cx="49320" cy="223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4"/>
                  </a:moveTo>
                  <a:cubicBezTo>
                    <a:pt x="28" y="8"/>
                    <a:pt x="22" y="11"/>
                    <a:pt x="15" y="12"/>
                  </a:cubicBezTo>
                  <a:cubicBezTo>
                    <a:pt x="7" y="13"/>
                    <a:pt x="1" y="11"/>
                    <a:pt x="0" y="8"/>
                  </a:cubicBezTo>
                  <a:cubicBezTo>
                    <a:pt x="0" y="5"/>
                    <a:pt x="6" y="2"/>
                    <a:pt x="13" y="1"/>
                  </a:cubicBezTo>
                  <a:cubicBezTo>
                    <a:pt x="21" y="0"/>
                    <a:pt x="27" y="1"/>
                    <a:pt x="28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9"/>
            <p:cNvSpPr/>
            <p:nvPr/>
          </p:nvSpPr>
          <p:spPr>
            <a:xfrm>
              <a:off x="2487600" y="2455920"/>
              <a:ext cx="125280" cy="16344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70" y="88"/>
                  </a:moveTo>
                  <a:cubicBezTo>
                    <a:pt x="70" y="88"/>
                    <a:pt x="70" y="0"/>
                    <a:pt x="26" y="23"/>
                  </a:cubicBezTo>
                  <a:cubicBezTo>
                    <a:pt x="0" y="36"/>
                    <a:pt x="9" y="64"/>
                    <a:pt x="28" y="78"/>
                  </a:cubicBezTo>
                  <a:cubicBezTo>
                    <a:pt x="40" y="87"/>
                    <a:pt x="58" y="91"/>
                    <a:pt x="70" y="8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0"/>
            <p:cNvSpPr/>
            <p:nvPr/>
          </p:nvSpPr>
          <p:spPr>
            <a:xfrm>
              <a:off x="2487600" y="2511360"/>
              <a:ext cx="122040" cy="1144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69" y="56"/>
                  </a:moveTo>
                  <a:cubicBezTo>
                    <a:pt x="68" y="34"/>
                    <a:pt x="68" y="34"/>
                    <a:pt x="68" y="34"/>
                  </a:cubicBezTo>
                  <a:cubicBezTo>
                    <a:pt x="68" y="34"/>
                    <a:pt x="0" y="0"/>
                    <a:pt x="15" y="32"/>
                  </a:cubicBezTo>
                  <a:cubicBezTo>
                    <a:pt x="29" y="64"/>
                    <a:pt x="69" y="56"/>
                    <a:pt x="69" y="56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1"/>
            <p:cNvSpPr/>
            <p:nvPr/>
          </p:nvSpPr>
          <p:spPr>
            <a:xfrm>
              <a:off x="2770200" y="2322720"/>
              <a:ext cx="141120" cy="1094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11" y="60"/>
                  </a:moveTo>
                  <a:cubicBezTo>
                    <a:pt x="7" y="61"/>
                    <a:pt x="4" y="59"/>
                    <a:pt x="3" y="55"/>
                  </a:cubicBezTo>
                  <a:cubicBezTo>
                    <a:pt x="1" y="46"/>
                    <a:pt x="0" y="29"/>
                    <a:pt x="8" y="16"/>
                  </a:cubicBezTo>
                  <a:cubicBezTo>
                    <a:pt x="14" y="8"/>
                    <a:pt x="23" y="3"/>
                    <a:pt x="36" y="1"/>
                  </a:cubicBezTo>
                  <a:cubicBezTo>
                    <a:pt x="47" y="0"/>
                    <a:pt x="57" y="3"/>
                    <a:pt x="64" y="10"/>
                  </a:cubicBezTo>
                  <a:cubicBezTo>
                    <a:pt x="75" y="20"/>
                    <a:pt x="78" y="35"/>
                    <a:pt x="80" y="44"/>
                  </a:cubicBezTo>
                  <a:cubicBezTo>
                    <a:pt x="80" y="48"/>
                    <a:pt x="77" y="51"/>
                    <a:pt x="73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70" y="51"/>
                    <a:pt x="68" y="49"/>
                    <a:pt x="67" y="45"/>
                  </a:cubicBezTo>
                  <a:cubicBezTo>
                    <a:pt x="66" y="38"/>
                    <a:pt x="64" y="26"/>
                    <a:pt x="56" y="19"/>
                  </a:cubicBezTo>
                  <a:cubicBezTo>
                    <a:pt x="51" y="15"/>
                    <a:pt x="45" y="13"/>
                    <a:pt x="37" y="14"/>
                  </a:cubicBezTo>
                  <a:cubicBezTo>
                    <a:pt x="28" y="14"/>
                    <a:pt x="22" y="18"/>
                    <a:pt x="18" y="23"/>
                  </a:cubicBezTo>
                  <a:cubicBezTo>
                    <a:pt x="13" y="32"/>
                    <a:pt x="14" y="45"/>
                    <a:pt x="15" y="53"/>
                  </a:cubicBezTo>
                  <a:cubicBezTo>
                    <a:pt x="16" y="56"/>
                    <a:pt x="14" y="59"/>
                    <a:pt x="11" y="60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2"/>
            <p:cNvSpPr/>
            <p:nvPr/>
          </p:nvSpPr>
          <p:spPr>
            <a:xfrm>
              <a:off x="3228840" y="2244600"/>
              <a:ext cx="142920" cy="10800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11" y="60"/>
                  </a:moveTo>
                  <a:cubicBezTo>
                    <a:pt x="8" y="61"/>
                    <a:pt x="4" y="59"/>
                    <a:pt x="3" y="55"/>
                  </a:cubicBezTo>
                  <a:cubicBezTo>
                    <a:pt x="1" y="46"/>
                    <a:pt x="0" y="29"/>
                    <a:pt x="8" y="17"/>
                  </a:cubicBezTo>
                  <a:cubicBezTo>
                    <a:pt x="14" y="8"/>
                    <a:pt x="23" y="3"/>
                    <a:pt x="36" y="1"/>
                  </a:cubicBezTo>
                  <a:cubicBezTo>
                    <a:pt x="47" y="0"/>
                    <a:pt x="57" y="3"/>
                    <a:pt x="64" y="10"/>
                  </a:cubicBezTo>
                  <a:cubicBezTo>
                    <a:pt x="75" y="20"/>
                    <a:pt x="79" y="35"/>
                    <a:pt x="80" y="44"/>
                  </a:cubicBezTo>
                  <a:cubicBezTo>
                    <a:pt x="80" y="48"/>
                    <a:pt x="77" y="51"/>
                    <a:pt x="74" y="51"/>
                  </a:cubicBezTo>
                  <a:cubicBezTo>
                    <a:pt x="73" y="51"/>
                    <a:pt x="73" y="51"/>
                    <a:pt x="73" y="51"/>
                  </a:cubicBezTo>
                  <a:cubicBezTo>
                    <a:pt x="70" y="51"/>
                    <a:pt x="68" y="49"/>
                    <a:pt x="67" y="46"/>
                  </a:cubicBezTo>
                  <a:cubicBezTo>
                    <a:pt x="67" y="39"/>
                    <a:pt x="64" y="26"/>
                    <a:pt x="56" y="19"/>
                  </a:cubicBezTo>
                  <a:cubicBezTo>
                    <a:pt x="51" y="15"/>
                    <a:pt x="45" y="13"/>
                    <a:pt x="37" y="14"/>
                  </a:cubicBezTo>
                  <a:cubicBezTo>
                    <a:pt x="28" y="15"/>
                    <a:pt x="22" y="18"/>
                    <a:pt x="19" y="23"/>
                  </a:cubicBezTo>
                  <a:cubicBezTo>
                    <a:pt x="13" y="32"/>
                    <a:pt x="14" y="45"/>
                    <a:pt x="15" y="53"/>
                  </a:cubicBezTo>
                  <a:cubicBezTo>
                    <a:pt x="16" y="56"/>
                    <a:pt x="14" y="59"/>
                    <a:pt x="11" y="60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3"/>
            <p:cNvSpPr/>
            <p:nvPr/>
          </p:nvSpPr>
          <p:spPr>
            <a:xfrm>
              <a:off x="2798640" y="2546280"/>
              <a:ext cx="665280" cy="378000"/>
            </a:xfrm>
            <a:custGeom>
              <a:avLst/>
              <a:gdLst/>
              <a:ahLst/>
              <a:rect l="l" t="t" r="r" b="b"/>
              <a:pathLst>
                <a:path w="373" h="212">
                  <a:moveTo>
                    <a:pt x="0" y="85"/>
                  </a:moveTo>
                  <a:cubicBezTo>
                    <a:pt x="0" y="85"/>
                    <a:pt x="90" y="105"/>
                    <a:pt x="182" y="85"/>
                  </a:cubicBezTo>
                  <a:cubicBezTo>
                    <a:pt x="279" y="63"/>
                    <a:pt x="334" y="0"/>
                    <a:pt x="334" y="0"/>
                  </a:cubicBezTo>
                  <a:cubicBezTo>
                    <a:pt x="334" y="0"/>
                    <a:pt x="373" y="134"/>
                    <a:pt x="236" y="173"/>
                  </a:cubicBezTo>
                  <a:cubicBezTo>
                    <a:pt x="98" y="212"/>
                    <a:pt x="12" y="162"/>
                    <a:pt x="0" y="85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24"/>
            <p:cNvSpPr/>
            <p:nvPr/>
          </p:nvSpPr>
          <p:spPr>
            <a:xfrm>
              <a:off x="2977920" y="2732040"/>
              <a:ext cx="357120" cy="152640"/>
            </a:xfrm>
            <a:custGeom>
              <a:avLst/>
              <a:gdLst/>
              <a:ahLst/>
              <a:rect l="l" t="t" r="r" b="b"/>
              <a:pathLst>
                <a:path w="200" h="86">
                  <a:moveTo>
                    <a:pt x="0" y="78"/>
                  </a:moveTo>
                  <a:cubicBezTo>
                    <a:pt x="37" y="86"/>
                    <a:pt x="82" y="84"/>
                    <a:pt x="135" y="69"/>
                  </a:cubicBezTo>
                  <a:cubicBezTo>
                    <a:pt x="164" y="61"/>
                    <a:pt x="185" y="49"/>
                    <a:pt x="200" y="34"/>
                  </a:cubicBezTo>
                  <a:cubicBezTo>
                    <a:pt x="180" y="20"/>
                    <a:pt x="129" y="0"/>
                    <a:pt x="91" y="10"/>
                  </a:cubicBezTo>
                  <a:cubicBezTo>
                    <a:pt x="40" y="22"/>
                    <a:pt x="10" y="59"/>
                    <a:pt x="0" y="78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任意多边形 249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aa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a9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酵素不足是健康第一杀手，常吃发酵食品或饮用酵素饮品，是补充酵素好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3" descr=""/>
          <p:cNvPicPr/>
          <p:nvPr/>
        </p:nvPicPr>
        <p:blipFill>
          <a:blip r:embed="rId1"/>
          <a:stretch/>
        </p:blipFill>
        <p:spPr>
          <a:xfrm>
            <a:off x="6423120" y="1425600"/>
            <a:ext cx="5578560" cy="4738680"/>
          </a:xfrm>
          <a:prstGeom prst="rect">
            <a:avLst/>
          </a:prstGeom>
          <a:ln w="0">
            <a:noFill/>
          </a:ln>
        </p:spPr>
      </p:pic>
      <p:sp>
        <p:nvSpPr>
          <p:cNvPr id="641" name="任意多边形 12"/>
          <p:cNvSpPr/>
          <p:nvPr/>
        </p:nvSpPr>
        <p:spPr>
          <a:xfrm>
            <a:off x="579600" y="1228680"/>
            <a:ext cx="5046480" cy="1581120"/>
          </a:xfrm>
          <a:custGeom>
            <a:avLst/>
            <a:gdLst/>
            <a:ahLst/>
            <a:rect l="l" t="t" r="r" b="b"/>
            <a:pathLst>
              <a:path w="5045571" h="1581447">
                <a:moveTo>
                  <a:pt x="1910060" y="1266527"/>
                </a:moveTo>
                <a:lnTo>
                  <a:pt x="1910060" y="1389757"/>
                </a:lnTo>
                <a:lnTo>
                  <a:pt x="2190750" y="1389757"/>
                </a:lnTo>
                <a:cubicBezTo>
                  <a:pt x="2245519" y="1394321"/>
                  <a:pt x="2270621" y="1366936"/>
                  <a:pt x="2266057" y="1307604"/>
                </a:cubicBezTo>
                <a:lnTo>
                  <a:pt x="2266057" y="1266527"/>
                </a:lnTo>
                <a:lnTo>
                  <a:pt x="1910060" y="1266527"/>
                </a:lnTo>
                <a:close/>
                <a:moveTo>
                  <a:pt x="4463653" y="1252835"/>
                </a:moveTo>
                <a:lnTo>
                  <a:pt x="4771727" y="1252835"/>
                </a:lnTo>
                <a:cubicBezTo>
                  <a:pt x="4831060" y="1334988"/>
                  <a:pt x="4913214" y="1389757"/>
                  <a:pt x="5018187" y="1417141"/>
                </a:cubicBezTo>
                <a:lnTo>
                  <a:pt x="5018187" y="1554063"/>
                </a:lnTo>
                <a:cubicBezTo>
                  <a:pt x="4753471" y="1526679"/>
                  <a:pt x="4568626" y="1426269"/>
                  <a:pt x="4463653" y="1252835"/>
                </a:cubicBezTo>
                <a:close/>
                <a:moveTo>
                  <a:pt x="3731121" y="1252835"/>
                </a:moveTo>
                <a:lnTo>
                  <a:pt x="4039195" y="1252835"/>
                </a:lnTo>
                <a:cubicBezTo>
                  <a:pt x="3934222" y="1426269"/>
                  <a:pt x="3749378" y="1526679"/>
                  <a:pt x="3484662" y="1554063"/>
                </a:cubicBezTo>
                <a:lnTo>
                  <a:pt x="3484662" y="1417141"/>
                </a:lnTo>
                <a:cubicBezTo>
                  <a:pt x="3589635" y="1389757"/>
                  <a:pt x="3671788" y="1334988"/>
                  <a:pt x="3731121" y="1252835"/>
                </a:cubicBezTo>
                <a:close/>
                <a:moveTo>
                  <a:pt x="759916" y="910530"/>
                </a:moveTo>
                <a:cubicBezTo>
                  <a:pt x="727968" y="937915"/>
                  <a:pt x="693738" y="960735"/>
                  <a:pt x="657225" y="978991"/>
                </a:cubicBezTo>
                <a:lnTo>
                  <a:pt x="766763" y="978991"/>
                </a:lnTo>
                <a:lnTo>
                  <a:pt x="766763" y="1191220"/>
                </a:lnTo>
                <a:cubicBezTo>
                  <a:pt x="762198" y="1255117"/>
                  <a:pt x="791865" y="1284783"/>
                  <a:pt x="855762" y="1280219"/>
                </a:cubicBezTo>
                <a:lnTo>
                  <a:pt x="1177528" y="1280219"/>
                </a:lnTo>
                <a:lnTo>
                  <a:pt x="1177528" y="1396603"/>
                </a:lnTo>
                <a:cubicBezTo>
                  <a:pt x="1232297" y="1401167"/>
                  <a:pt x="1257399" y="1369219"/>
                  <a:pt x="1252835" y="1300758"/>
                </a:cubicBezTo>
                <a:lnTo>
                  <a:pt x="1252835" y="910530"/>
                </a:lnTo>
                <a:lnTo>
                  <a:pt x="1129606" y="910530"/>
                </a:lnTo>
                <a:cubicBezTo>
                  <a:pt x="1125042" y="992683"/>
                  <a:pt x="1159272" y="1063426"/>
                  <a:pt x="1232297" y="1122759"/>
                </a:cubicBezTo>
                <a:lnTo>
                  <a:pt x="1232297" y="1259681"/>
                </a:lnTo>
                <a:cubicBezTo>
                  <a:pt x="1127323" y="1232297"/>
                  <a:pt x="1056580" y="1186656"/>
                  <a:pt x="1020068" y="1122759"/>
                </a:cubicBezTo>
                <a:cubicBezTo>
                  <a:pt x="960735" y="1200348"/>
                  <a:pt x="885428" y="1245989"/>
                  <a:pt x="794147" y="1259681"/>
                </a:cubicBezTo>
                <a:lnTo>
                  <a:pt x="794147" y="1122759"/>
                </a:lnTo>
                <a:cubicBezTo>
                  <a:pt x="867172" y="1054298"/>
                  <a:pt x="903684" y="983555"/>
                  <a:pt x="903684" y="910530"/>
                </a:cubicBezTo>
                <a:lnTo>
                  <a:pt x="759916" y="910530"/>
                </a:lnTo>
                <a:close/>
                <a:moveTo>
                  <a:pt x="2238673" y="533995"/>
                </a:moveTo>
                <a:lnTo>
                  <a:pt x="2238673" y="835223"/>
                </a:lnTo>
                <a:cubicBezTo>
                  <a:pt x="2238673" y="867172"/>
                  <a:pt x="2247801" y="887710"/>
                  <a:pt x="2266057" y="896838"/>
                </a:cubicBezTo>
                <a:lnTo>
                  <a:pt x="2266057" y="533995"/>
                </a:lnTo>
                <a:lnTo>
                  <a:pt x="2238673" y="533995"/>
                </a:lnTo>
                <a:close/>
                <a:moveTo>
                  <a:pt x="2074366" y="533995"/>
                </a:moveTo>
                <a:lnTo>
                  <a:pt x="2074366" y="794147"/>
                </a:lnTo>
                <a:cubicBezTo>
                  <a:pt x="2078930" y="917376"/>
                  <a:pt x="2024162" y="997247"/>
                  <a:pt x="1910060" y="1033760"/>
                </a:cubicBezTo>
                <a:lnTo>
                  <a:pt x="1910060" y="1102221"/>
                </a:lnTo>
                <a:lnTo>
                  <a:pt x="2266057" y="1102221"/>
                </a:lnTo>
                <a:lnTo>
                  <a:pt x="2266057" y="1013222"/>
                </a:lnTo>
                <a:lnTo>
                  <a:pt x="2252365" y="1013222"/>
                </a:lnTo>
                <a:cubicBezTo>
                  <a:pt x="2151956" y="1017786"/>
                  <a:pt x="2104033" y="967581"/>
                  <a:pt x="2108597" y="862608"/>
                </a:cubicBezTo>
                <a:lnTo>
                  <a:pt x="2108597" y="533995"/>
                </a:lnTo>
                <a:lnTo>
                  <a:pt x="2074366" y="533995"/>
                </a:lnTo>
                <a:close/>
                <a:moveTo>
                  <a:pt x="1910060" y="533995"/>
                </a:moveTo>
                <a:lnTo>
                  <a:pt x="1910060" y="910530"/>
                </a:lnTo>
                <a:cubicBezTo>
                  <a:pt x="1928316" y="887710"/>
                  <a:pt x="1937445" y="853479"/>
                  <a:pt x="1937445" y="807839"/>
                </a:cubicBezTo>
                <a:lnTo>
                  <a:pt x="1937445" y="533995"/>
                </a:lnTo>
                <a:lnTo>
                  <a:pt x="1910060" y="533995"/>
                </a:lnTo>
                <a:close/>
                <a:moveTo>
                  <a:pt x="807839" y="438150"/>
                </a:moveTo>
                <a:lnTo>
                  <a:pt x="807839" y="506611"/>
                </a:lnTo>
                <a:lnTo>
                  <a:pt x="1129606" y="506611"/>
                </a:lnTo>
                <a:cubicBezTo>
                  <a:pt x="1179810" y="506611"/>
                  <a:pt x="1207194" y="483790"/>
                  <a:pt x="1211759" y="438150"/>
                </a:cubicBezTo>
                <a:lnTo>
                  <a:pt x="807839" y="438150"/>
                </a:lnTo>
                <a:close/>
                <a:moveTo>
                  <a:pt x="2889052" y="308074"/>
                </a:moveTo>
                <a:lnTo>
                  <a:pt x="2889052" y="458688"/>
                </a:lnTo>
                <a:lnTo>
                  <a:pt x="2902744" y="458688"/>
                </a:lnTo>
                <a:cubicBezTo>
                  <a:pt x="2939256" y="413047"/>
                  <a:pt x="2971205" y="362843"/>
                  <a:pt x="2998589" y="308074"/>
                </a:cubicBezTo>
                <a:lnTo>
                  <a:pt x="2889052" y="308074"/>
                </a:lnTo>
                <a:close/>
                <a:moveTo>
                  <a:pt x="205383" y="280690"/>
                </a:moveTo>
                <a:lnTo>
                  <a:pt x="205383" y="1287065"/>
                </a:lnTo>
                <a:lnTo>
                  <a:pt x="225921" y="1287065"/>
                </a:lnTo>
                <a:cubicBezTo>
                  <a:pt x="262434" y="1291629"/>
                  <a:pt x="278408" y="1273373"/>
                  <a:pt x="273844" y="1232297"/>
                </a:cubicBezTo>
                <a:lnTo>
                  <a:pt x="273844" y="280690"/>
                </a:lnTo>
                <a:lnTo>
                  <a:pt x="205383" y="280690"/>
                </a:lnTo>
                <a:close/>
                <a:moveTo>
                  <a:pt x="2074366" y="239613"/>
                </a:moveTo>
                <a:lnTo>
                  <a:pt x="2074366" y="369689"/>
                </a:lnTo>
                <a:lnTo>
                  <a:pt x="2108597" y="369689"/>
                </a:lnTo>
                <a:lnTo>
                  <a:pt x="2108597" y="239613"/>
                </a:lnTo>
                <a:lnTo>
                  <a:pt x="2074366" y="239613"/>
                </a:lnTo>
                <a:close/>
                <a:moveTo>
                  <a:pt x="807839" y="225921"/>
                </a:moveTo>
                <a:lnTo>
                  <a:pt x="807839" y="294382"/>
                </a:lnTo>
                <a:lnTo>
                  <a:pt x="1211759" y="294382"/>
                </a:lnTo>
                <a:lnTo>
                  <a:pt x="1211759" y="225921"/>
                </a:lnTo>
                <a:lnTo>
                  <a:pt x="807839" y="225921"/>
                </a:lnTo>
                <a:close/>
                <a:moveTo>
                  <a:pt x="0" y="95845"/>
                </a:moveTo>
                <a:lnTo>
                  <a:pt x="472381" y="95845"/>
                </a:lnTo>
                <a:lnTo>
                  <a:pt x="472381" y="1252835"/>
                </a:lnTo>
                <a:cubicBezTo>
                  <a:pt x="481509" y="1394321"/>
                  <a:pt x="410766" y="1460500"/>
                  <a:pt x="260152" y="1451372"/>
                </a:cubicBezTo>
                <a:lnTo>
                  <a:pt x="0" y="1451372"/>
                </a:lnTo>
                <a:lnTo>
                  <a:pt x="0" y="95845"/>
                </a:lnTo>
                <a:close/>
                <a:moveTo>
                  <a:pt x="1704677" y="68461"/>
                </a:moveTo>
                <a:lnTo>
                  <a:pt x="2457748" y="68461"/>
                </a:lnTo>
                <a:lnTo>
                  <a:pt x="2457748" y="239613"/>
                </a:lnTo>
                <a:lnTo>
                  <a:pt x="2238673" y="239613"/>
                </a:lnTo>
                <a:lnTo>
                  <a:pt x="2238673" y="369689"/>
                </a:lnTo>
                <a:lnTo>
                  <a:pt x="2437209" y="369689"/>
                </a:lnTo>
                <a:lnTo>
                  <a:pt x="2437209" y="1321296"/>
                </a:lnTo>
                <a:cubicBezTo>
                  <a:pt x="2441773" y="1471910"/>
                  <a:pt x="2368748" y="1544935"/>
                  <a:pt x="2218134" y="1540371"/>
                </a:cubicBezTo>
                <a:lnTo>
                  <a:pt x="1738908" y="1540371"/>
                </a:lnTo>
                <a:lnTo>
                  <a:pt x="1738908" y="369689"/>
                </a:lnTo>
                <a:lnTo>
                  <a:pt x="1937445" y="369689"/>
                </a:lnTo>
                <a:lnTo>
                  <a:pt x="1937445" y="239613"/>
                </a:lnTo>
                <a:lnTo>
                  <a:pt x="1704677" y="239613"/>
                </a:lnTo>
                <a:lnTo>
                  <a:pt x="1704677" y="68461"/>
                </a:lnTo>
                <a:close/>
                <a:moveTo>
                  <a:pt x="561380" y="54768"/>
                </a:moveTo>
                <a:lnTo>
                  <a:pt x="1458218" y="54768"/>
                </a:lnTo>
                <a:lnTo>
                  <a:pt x="1458218" y="424457"/>
                </a:lnTo>
                <a:cubicBezTo>
                  <a:pt x="1467346" y="602456"/>
                  <a:pt x="1385193" y="686891"/>
                  <a:pt x="1211759" y="677763"/>
                </a:cubicBezTo>
                <a:lnTo>
                  <a:pt x="924223" y="677763"/>
                </a:lnTo>
                <a:cubicBezTo>
                  <a:pt x="919659" y="686891"/>
                  <a:pt x="912812" y="700583"/>
                  <a:pt x="903684" y="718840"/>
                </a:cubicBezTo>
                <a:cubicBezTo>
                  <a:pt x="899120" y="723404"/>
                  <a:pt x="896838" y="727968"/>
                  <a:pt x="896838" y="732532"/>
                </a:cubicBezTo>
                <a:lnTo>
                  <a:pt x="1512987" y="732532"/>
                </a:lnTo>
                <a:lnTo>
                  <a:pt x="1512987" y="1321296"/>
                </a:lnTo>
                <a:cubicBezTo>
                  <a:pt x="1517551" y="1490166"/>
                  <a:pt x="1435398" y="1572319"/>
                  <a:pt x="1266527" y="1567755"/>
                </a:cubicBezTo>
                <a:lnTo>
                  <a:pt x="1095375" y="1567755"/>
                </a:lnTo>
                <a:lnTo>
                  <a:pt x="1095375" y="1451372"/>
                </a:lnTo>
                <a:lnTo>
                  <a:pt x="739378" y="1451372"/>
                </a:lnTo>
                <a:cubicBezTo>
                  <a:pt x="597892" y="1455936"/>
                  <a:pt x="529431" y="1387475"/>
                  <a:pt x="533995" y="1245989"/>
                </a:cubicBezTo>
                <a:lnTo>
                  <a:pt x="533995" y="1033760"/>
                </a:lnTo>
                <a:cubicBezTo>
                  <a:pt x="520303" y="1042888"/>
                  <a:pt x="506611" y="1047452"/>
                  <a:pt x="492919" y="1047452"/>
                </a:cubicBezTo>
                <a:lnTo>
                  <a:pt x="492919" y="889992"/>
                </a:lnTo>
                <a:cubicBezTo>
                  <a:pt x="584200" y="816967"/>
                  <a:pt x="641251" y="746224"/>
                  <a:pt x="664071" y="677763"/>
                </a:cubicBezTo>
                <a:lnTo>
                  <a:pt x="561380" y="677763"/>
                </a:lnTo>
                <a:lnTo>
                  <a:pt x="561380" y="54768"/>
                </a:lnTo>
                <a:close/>
                <a:moveTo>
                  <a:pt x="2628900" y="6846"/>
                </a:moveTo>
                <a:lnTo>
                  <a:pt x="2889052" y="6846"/>
                </a:lnTo>
                <a:lnTo>
                  <a:pt x="2889052" y="130075"/>
                </a:lnTo>
                <a:lnTo>
                  <a:pt x="3019127" y="130075"/>
                </a:lnTo>
                <a:lnTo>
                  <a:pt x="3019127" y="287536"/>
                </a:lnTo>
                <a:cubicBezTo>
                  <a:pt x="3023692" y="273843"/>
                  <a:pt x="3032819" y="255587"/>
                  <a:pt x="3046512" y="232767"/>
                </a:cubicBezTo>
                <a:cubicBezTo>
                  <a:pt x="3069332" y="187126"/>
                  <a:pt x="3087588" y="150614"/>
                  <a:pt x="3101280" y="123229"/>
                </a:cubicBezTo>
                <a:lnTo>
                  <a:pt x="3340894" y="123229"/>
                </a:lnTo>
                <a:cubicBezTo>
                  <a:pt x="3286125" y="251023"/>
                  <a:pt x="3229074" y="362843"/>
                  <a:pt x="3169741" y="458688"/>
                </a:cubicBezTo>
                <a:lnTo>
                  <a:pt x="3292971" y="458688"/>
                </a:lnTo>
                <a:lnTo>
                  <a:pt x="3292971" y="643533"/>
                </a:lnTo>
                <a:lnTo>
                  <a:pt x="3019127" y="643533"/>
                </a:lnTo>
                <a:cubicBezTo>
                  <a:pt x="3009999" y="652661"/>
                  <a:pt x="2998589" y="664071"/>
                  <a:pt x="2984897" y="677763"/>
                </a:cubicBezTo>
                <a:cubicBezTo>
                  <a:pt x="2975769" y="691455"/>
                  <a:pt x="2955231" y="711993"/>
                  <a:pt x="2923282" y="739378"/>
                </a:cubicBezTo>
                <a:lnTo>
                  <a:pt x="3183434" y="739378"/>
                </a:lnTo>
                <a:lnTo>
                  <a:pt x="3183434" y="917376"/>
                </a:lnTo>
                <a:cubicBezTo>
                  <a:pt x="3151485" y="963017"/>
                  <a:pt x="3114973" y="1004094"/>
                  <a:pt x="3073896" y="1040606"/>
                </a:cubicBezTo>
                <a:lnTo>
                  <a:pt x="3299817" y="1040606"/>
                </a:lnTo>
                <a:lnTo>
                  <a:pt x="3299817" y="1232297"/>
                </a:lnTo>
                <a:lnTo>
                  <a:pt x="3005435" y="1232297"/>
                </a:lnTo>
                <a:lnTo>
                  <a:pt x="3005435" y="1355526"/>
                </a:lnTo>
                <a:cubicBezTo>
                  <a:pt x="3009999" y="1501576"/>
                  <a:pt x="2936974" y="1572319"/>
                  <a:pt x="2786360" y="1567755"/>
                </a:cubicBezTo>
                <a:lnTo>
                  <a:pt x="2567285" y="1567755"/>
                </a:lnTo>
                <a:lnTo>
                  <a:pt x="2567285" y="1396603"/>
                </a:lnTo>
                <a:lnTo>
                  <a:pt x="2656284" y="1396603"/>
                </a:lnTo>
                <a:cubicBezTo>
                  <a:pt x="2711053" y="1396603"/>
                  <a:pt x="2738437" y="1371501"/>
                  <a:pt x="2738437" y="1321296"/>
                </a:cubicBezTo>
                <a:lnTo>
                  <a:pt x="2738437" y="1232297"/>
                </a:lnTo>
                <a:lnTo>
                  <a:pt x="2471440" y="1232297"/>
                </a:lnTo>
                <a:lnTo>
                  <a:pt x="2471440" y="1040606"/>
                </a:lnTo>
                <a:lnTo>
                  <a:pt x="2752130" y="1040606"/>
                </a:lnTo>
                <a:cubicBezTo>
                  <a:pt x="2820591" y="1004094"/>
                  <a:pt x="2873078" y="965299"/>
                  <a:pt x="2909590" y="924222"/>
                </a:cubicBezTo>
                <a:lnTo>
                  <a:pt x="2642592" y="924222"/>
                </a:lnTo>
                <a:cubicBezTo>
                  <a:pt x="2592388" y="951607"/>
                  <a:pt x="2533055" y="978991"/>
                  <a:pt x="2464594" y="1006376"/>
                </a:cubicBezTo>
                <a:lnTo>
                  <a:pt x="2464594" y="828377"/>
                </a:lnTo>
                <a:cubicBezTo>
                  <a:pt x="2560439" y="773608"/>
                  <a:pt x="2647156" y="711993"/>
                  <a:pt x="2724745" y="643533"/>
                </a:cubicBezTo>
                <a:lnTo>
                  <a:pt x="2471440" y="643533"/>
                </a:lnTo>
                <a:lnTo>
                  <a:pt x="2471440" y="458688"/>
                </a:lnTo>
                <a:lnTo>
                  <a:pt x="2628900" y="458688"/>
                </a:lnTo>
                <a:lnTo>
                  <a:pt x="2628900" y="308074"/>
                </a:lnTo>
                <a:lnTo>
                  <a:pt x="2512516" y="308074"/>
                </a:lnTo>
                <a:lnTo>
                  <a:pt x="2512516" y="130075"/>
                </a:lnTo>
                <a:lnTo>
                  <a:pt x="2628900" y="130075"/>
                </a:lnTo>
                <a:lnTo>
                  <a:pt x="2628900" y="6846"/>
                </a:lnTo>
                <a:close/>
                <a:moveTo>
                  <a:pt x="4093964" y="0"/>
                </a:moveTo>
                <a:lnTo>
                  <a:pt x="4402038" y="0"/>
                </a:lnTo>
                <a:lnTo>
                  <a:pt x="4402038" y="68461"/>
                </a:lnTo>
                <a:lnTo>
                  <a:pt x="4990802" y="68461"/>
                </a:lnTo>
                <a:lnTo>
                  <a:pt x="4990802" y="239613"/>
                </a:lnTo>
                <a:lnTo>
                  <a:pt x="4402038" y="239613"/>
                </a:lnTo>
                <a:lnTo>
                  <a:pt x="4402038" y="301228"/>
                </a:lnTo>
                <a:lnTo>
                  <a:pt x="4936034" y="301228"/>
                </a:lnTo>
                <a:lnTo>
                  <a:pt x="4936034" y="465534"/>
                </a:lnTo>
                <a:lnTo>
                  <a:pt x="4402038" y="465534"/>
                </a:lnTo>
                <a:lnTo>
                  <a:pt x="4402038" y="527149"/>
                </a:lnTo>
                <a:lnTo>
                  <a:pt x="5045571" y="527149"/>
                </a:lnTo>
                <a:lnTo>
                  <a:pt x="5045571" y="698301"/>
                </a:lnTo>
                <a:lnTo>
                  <a:pt x="4278809" y="698301"/>
                </a:lnTo>
                <a:cubicBezTo>
                  <a:pt x="4196656" y="739378"/>
                  <a:pt x="4116784" y="771326"/>
                  <a:pt x="4039195" y="794147"/>
                </a:cubicBezTo>
                <a:cubicBezTo>
                  <a:pt x="4176117" y="794147"/>
                  <a:pt x="4281091" y="789583"/>
                  <a:pt x="4354116" y="780454"/>
                </a:cubicBezTo>
                <a:cubicBezTo>
                  <a:pt x="4376936" y="771326"/>
                  <a:pt x="4411166" y="757634"/>
                  <a:pt x="4456807" y="739378"/>
                </a:cubicBezTo>
                <a:cubicBezTo>
                  <a:pt x="4470499" y="734814"/>
                  <a:pt x="4481910" y="730250"/>
                  <a:pt x="4491038" y="725686"/>
                </a:cubicBezTo>
                <a:lnTo>
                  <a:pt x="4908649" y="725686"/>
                </a:lnTo>
                <a:cubicBezTo>
                  <a:pt x="4653062" y="876300"/>
                  <a:pt x="4397474" y="978991"/>
                  <a:pt x="4141887" y="1033760"/>
                </a:cubicBezTo>
                <a:cubicBezTo>
                  <a:pt x="4292501" y="1033760"/>
                  <a:pt x="4397474" y="1033760"/>
                  <a:pt x="4456807" y="1033760"/>
                </a:cubicBezTo>
                <a:cubicBezTo>
                  <a:pt x="4525268" y="1029196"/>
                  <a:pt x="4598293" y="1024632"/>
                  <a:pt x="4675882" y="1020068"/>
                </a:cubicBezTo>
                <a:cubicBezTo>
                  <a:pt x="4671318" y="1010940"/>
                  <a:pt x="4664472" y="997247"/>
                  <a:pt x="4655344" y="978991"/>
                </a:cubicBezTo>
                <a:cubicBezTo>
                  <a:pt x="4637087" y="951607"/>
                  <a:pt x="4623395" y="928787"/>
                  <a:pt x="4614267" y="910530"/>
                </a:cubicBezTo>
                <a:lnTo>
                  <a:pt x="4860727" y="910530"/>
                </a:lnTo>
                <a:cubicBezTo>
                  <a:pt x="4924623" y="1020068"/>
                  <a:pt x="4972546" y="1129605"/>
                  <a:pt x="5004495" y="1239143"/>
                </a:cubicBezTo>
                <a:lnTo>
                  <a:pt x="4744343" y="1239143"/>
                </a:lnTo>
                <a:cubicBezTo>
                  <a:pt x="4744343" y="1230015"/>
                  <a:pt x="4742061" y="1218604"/>
                  <a:pt x="4737497" y="1204912"/>
                </a:cubicBezTo>
                <a:cubicBezTo>
                  <a:pt x="4737497" y="1191220"/>
                  <a:pt x="4735215" y="1182092"/>
                  <a:pt x="4730651" y="1177528"/>
                </a:cubicBezTo>
                <a:cubicBezTo>
                  <a:pt x="4630241" y="1182092"/>
                  <a:pt x="4527550" y="1188938"/>
                  <a:pt x="4422577" y="1198066"/>
                </a:cubicBezTo>
                <a:lnTo>
                  <a:pt x="4422577" y="1355526"/>
                </a:lnTo>
                <a:cubicBezTo>
                  <a:pt x="4422577" y="1506140"/>
                  <a:pt x="4342705" y="1581447"/>
                  <a:pt x="4182963" y="1581447"/>
                </a:cubicBezTo>
                <a:lnTo>
                  <a:pt x="3991273" y="1581447"/>
                </a:lnTo>
                <a:lnTo>
                  <a:pt x="3991273" y="1410295"/>
                </a:lnTo>
                <a:lnTo>
                  <a:pt x="4052888" y="1410295"/>
                </a:lnTo>
                <a:cubicBezTo>
                  <a:pt x="4098528" y="1410295"/>
                  <a:pt x="4121349" y="1387475"/>
                  <a:pt x="4121349" y="1341834"/>
                </a:cubicBezTo>
                <a:lnTo>
                  <a:pt x="4121349" y="1204912"/>
                </a:lnTo>
                <a:cubicBezTo>
                  <a:pt x="3975299" y="1204912"/>
                  <a:pt x="3790454" y="1204912"/>
                  <a:pt x="3566815" y="1204912"/>
                </a:cubicBezTo>
                <a:lnTo>
                  <a:pt x="3566815" y="1033760"/>
                </a:lnTo>
                <a:cubicBezTo>
                  <a:pt x="3685480" y="1006376"/>
                  <a:pt x="3801864" y="976709"/>
                  <a:pt x="3915966" y="944761"/>
                </a:cubicBezTo>
                <a:cubicBezTo>
                  <a:pt x="3824685" y="944761"/>
                  <a:pt x="3724275" y="944761"/>
                  <a:pt x="3614737" y="944761"/>
                </a:cubicBezTo>
                <a:lnTo>
                  <a:pt x="3614737" y="787300"/>
                </a:lnTo>
                <a:cubicBezTo>
                  <a:pt x="3710583" y="759916"/>
                  <a:pt x="3797300" y="730250"/>
                  <a:pt x="3874889" y="698301"/>
                </a:cubicBezTo>
                <a:lnTo>
                  <a:pt x="3457277" y="698301"/>
                </a:lnTo>
                <a:lnTo>
                  <a:pt x="3457277" y="527149"/>
                </a:lnTo>
                <a:lnTo>
                  <a:pt x="4093964" y="527149"/>
                </a:lnTo>
                <a:lnTo>
                  <a:pt x="4093964" y="465534"/>
                </a:lnTo>
                <a:lnTo>
                  <a:pt x="3573661" y="465534"/>
                </a:lnTo>
                <a:lnTo>
                  <a:pt x="3573661" y="301228"/>
                </a:lnTo>
                <a:lnTo>
                  <a:pt x="4093964" y="301228"/>
                </a:lnTo>
                <a:lnTo>
                  <a:pt x="4093964" y="239613"/>
                </a:lnTo>
                <a:lnTo>
                  <a:pt x="3518892" y="239613"/>
                </a:lnTo>
                <a:lnTo>
                  <a:pt x="3518892" y="68461"/>
                </a:lnTo>
                <a:lnTo>
                  <a:pt x="4093964" y="68461"/>
                </a:lnTo>
                <a:lnTo>
                  <a:pt x="40939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4"/>
          <p:cNvSpPr/>
          <p:nvPr/>
        </p:nvSpPr>
        <p:spPr>
          <a:xfrm>
            <a:off x="1996920" y="3367080"/>
            <a:ext cx="3813480" cy="1309680"/>
          </a:xfrm>
          <a:custGeom>
            <a:avLst/>
            <a:gdLst/>
            <a:ahLst/>
            <a:rect l="l" t="t" r="r" b="b"/>
            <a:pathLst>
              <a:path w="3814279" h="1309315">
                <a:moveTo>
                  <a:pt x="1034393" y="1013296"/>
                </a:moveTo>
                <a:lnTo>
                  <a:pt x="1307642" y="1013296"/>
                </a:lnTo>
                <a:lnTo>
                  <a:pt x="1307642" y="1280852"/>
                </a:lnTo>
                <a:lnTo>
                  <a:pt x="1034393" y="1280852"/>
                </a:lnTo>
                <a:lnTo>
                  <a:pt x="1034393" y="1013296"/>
                </a:lnTo>
                <a:close/>
                <a:moveTo>
                  <a:pt x="2909144" y="592038"/>
                </a:moveTo>
                <a:lnTo>
                  <a:pt x="2909144" y="859594"/>
                </a:lnTo>
                <a:lnTo>
                  <a:pt x="3119773" y="859594"/>
                </a:lnTo>
                <a:lnTo>
                  <a:pt x="3119773" y="592038"/>
                </a:lnTo>
                <a:lnTo>
                  <a:pt x="2909144" y="592038"/>
                </a:lnTo>
                <a:close/>
                <a:moveTo>
                  <a:pt x="2914836" y="261863"/>
                </a:moveTo>
                <a:cubicBezTo>
                  <a:pt x="2869295" y="326380"/>
                  <a:pt x="2810471" y="381409"/>
                  <a:pt x="2738363" y="426950"/>
                </a:cubicBezTo>
                <a:lnTo>
                  <a:pt x="3119773" y="426950"/>
                </a:lnTo>
                <a:lnTo>
                  <a:pt x="3119773" y="261863"/>
                </a:lnTo>
                <a:lnTo>
                  <a:pt x="2914836" y="261863"/>
                </a:lnTo>
                <a:close/>
                <a:moveTo>
                  <a:pt x="1889857" y="199243"/>
                </a:moveTo>
                <a:cubicBezTo>
                  <a:pt x="1772208" y="206833"/>
                  <a:pt x="1709589" y="284633"/>
                  <a:pt x="1701999" y="432643"/>
                </a:cubicBezTo>
                <a:cubicBezTo>
                  <a:pt x="1705794" y="584448"/>
                  <a:pt x="1770311" y="662248"/>
                  <a:pt x="1895550" y="666043"/>
                </a:cubicBezTo>
                <a:cubicBezTo>
                  <a:pt x="2013198" y="658452"/>
                  <a:pt x="2075818" y="584448"/>
                  <a:pt x="2083408" y="444028"/>
                </a:cubicBezTo>
                <a:cubicBezTo>
                  <a:pt x="2079613" y="288429"/>
                  <a:pt x="2015096" y="206833"/>
                  <a:pt x="1889857" y="199243"/>
                </a:cubicBezTo>
                <a:close/>
                <a:moveTo>
                  <a:pt x="483878" y="22770"/>
                </a:moveTo>
                <a:cubicBezTo>
                  <a:pt x="760921" y="30361"/>
                  <a:pt x="905136" y="148009"/>
                  <a:pt x="916521" y="375716"/>
                </a:cubicBezTo>
                <a:cubicBezTo>
                  <a:pt x="927907" y="538906"/>
                  <a:pt x="834926" y="679326"/>
                  <a:pt x="637580" y="796974"/>
                </a:cubicBezTo>
                <a:cubicBezTo>
                  <a:pt x="463005" y="899442"/>
                  <a:pt x="343459" y="1003808"/>
                  <a:pt x="278942" y="1110071"/>
                </a:cubicBezTo>
                <a:lnTo>
                  <a:pt x="910829" y="1110071"/>
                </a:lnTo>
                <a:lnTo>
                  <a:pt x="910829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1" y="967755"/>
                  <a:pt x="204937" y="840618"/>
                  <a:pt x="364332" y="722969"/>
                </a:cubicBezTo>
                <a:cubicBezTo>
                  <a:pt x="561678" y="582550"/>
                  <a:pt x="654658" y="470594"/>
                  <a:pt x="643273" y="387102"/>
                </a:cubicBezTo>
                <a:cubicBezTo>
                  <a:pt x="643273" y="258068"/>
                  <a:pt x="584448" y="195448"/>
                  <a:pt x="466800" y="199243"/>
                </a:cubicBezTo>
                <a:cubicBezTo>
                  <a:pt x="345356" y="203038"/>
                  <a:pt x="275146" y="282736"/>
                  <a:pt x="256171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8" y="22770"/>
                </a:cubicBezTo>
                <a:close/>
                <a:moveTo>
                  <a:pt x="1939090" y="22615"/>
                </a:moveTo>
                <a:cubicBezTo>
                  <a:pt x="2232174" y="35290"/>
                  <a:pt x="2375158" y="249766"/>
                  <a:pt x="2368042" y="666043"/>
                </a:cubicBezTo>
                <a:cubicBezTo>
                  <a:pt x="2368042" y="1083506"/>
                  <a:pt x="2206749" y="1292237"/>
                  <a:pt x="1884164" y="1292237"/>
                </a:cubicBezTo>
                <a:cubicBezTo>
                  <a:pt x="1701999" y="1292237"/>
                  <a:pt x="1559682" y="1239105"/>
                  <a:pt x="1457214" y="1132842"/>
                </a:cubicBezTo>
                <a:lnTo>
                  <a:pt x="1457214" y="944984"/>
                </a:lnTo>
                <a:cubicBezTo>
                  <a:pt x="1555887" y="1062632"/>
                  <a:pt x="1677331" y="1123354"/>
                  <a:pt x="1821545" y="1127149"/>
                </a:cubicBezTo>
                <a:cubicBezTo>
                  <a:pt x="2011301" y="1123354"/>
                  <a:pt x="2104281" y="1001911"/>
                  <a:pt x="2100486" y="762818"/>
                </a:cubicBezTo>
                <a:cubicBezTo>
                  <a:pt x="2032174" y="815950"/>
                  <a:pt x="1954374" y="840618"/>
                  <a:pt x="1867086" y="836823"/>
                </a:cubicBezTo>
                <a:cubicBezTo>
                  <a:pt x="1586248" y="829233"/>
                  <a:pt x="1440136" y="702096"/>
                  <a:pt x="1428750" y="455414"/>
                </a:cubicBezTo>
                <a:cubicBezTo>
                  <a:pt x="1447726" y="178370"/>
                  <a:pt x="1597633" y="34156"/>
                  <a:pt x="1878471" y="22770"/>
                </a:cubicBezTo>
                <a:cubicBezTo>
                  <a:pt x="1899345" y="21822"/>
                  <a:pt x="1919551" y="21770"/>
                  <a:pt x="1939090" y="22615"/>
                </a:cubicBezTo>
                <a:close/>
                <a:moveTo>
                  <a:pt x="2766827" y="0"/>
                </a:moveTo>
                <a:lnTo>
                  <a:pt x="3022997" y="0"/>
                </a:lnTo>
                <a:cubicBezTo>
                  <a:pt x="3019202" y="11385"/>
                  <a:pt x="3015407" y="24668"/>
                  <a:pt x="3011612" y="39848"/>
                </a:cubicBezTo>
                <a:cubicBezTo>
                  <a:pt x="3004022" y="62619"/>
                  <a:pt x="2998329" y="79697"/>
                  <a:pt x="2994534" y="91082"/>
                </a:cubicBezTo>
                <a:lnTo>
                  <a:pt x="3768738" y="91082"/>
                </a:lnTo>
                <a:lnTo>
                  <a:pt x="3768738" y="261863"/>
                </a:lnTo>
                <a:lnTo>
                  <a:pt x="3381636" y="261863"/>
                </a:lnTo>
                <a:lnTo>
                  <a:pt x="3381636" y="426950"/>
                </a:lnTo>
                <a:lnTo>
                  <a:pt x="3734582" y="426950"/>
                </a:lnTo>
                <a:lnTo>
                  <a:pt x="3734582" y="592038"/>
                </a:lnTo>
                <a:lnTo>
                  <a:pt x="3381636" y="592038"/>
                </a:lnTo>
                <a:lnTo>
                  <a:pt x="3381636" y="859594"/>
                </a:lnTo>
                <a:lnTo>
                  <a:pt x="3814279" y="859594"/>
                </a:lnTo>
                <a:lnTo>
                  <a:pt x="3814279" y="1024681"/>
                </a:lnTo>
                <a:lnTo>
                  <a:pt x="3381636" y="1024681"/>
                </a:lnTo>
                <a:lnTo>
                  <a:pt x="3381636" y="1309315"/>
                </a:lnTo>
                <a:lnTo>
                  <a:pt x="3119773" y="1309315"/>
                </a:lnTo>
                <a:lnTo>
                  <a:pt x="3119773" y="1024681"/>
                </a:lnTo>
                <a:lnTo>
                  <a:pt x="2499271" y="1024681"/>
                </a:lnTo>
                <a:lnTo>
                  <a:pt x="2499271" y="859594"/>
                </a:lnTo>
                <a:lnTo>
                  <a:pt x="2670051" y="859594"/>
                </a:lnTo>
                <a:lnTo>
                  <a:pt x="2670051" y="461106"/>
                </a:lnTo>
                <a:cubicBezTo>
                  <a:pt x="2628305" y="483877"/>
                  <a:pt x="2578969" y="502853"/>
                  <a:pt x="2522042" y="518033"/>
                </a:cubicBezTo>
                <a:lnTo>
                  <a:pt x="2522042" y="364331"/>
                </a:lnTo>
                <a:cubicBezTo>
                  <a:pt x="2643486" y="288429"/>
                  <a:pt x="2725081" y="166985"/>
                  <a:pt x="276682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6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6a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549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猫或狗在身边陪你，可降低心脏病、中风发作风险，身患重症也能尽快好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476" descr=""/>
          <p:cNvPicPr/>
          <p:nvPr/>
        </p:nvPicPr>
        <p:blipFill>
          <a:blip r:embed="rId1"/>
          <a:stretch/>
        </p:blipFill>
        <p:spPr>
          <a:xfrm>
            <a:off x="361800" y="1870200"/>
            <a:ext cx="5519880" cy="4568760"/>
          </a:xfrm>
          <a:prstGeom prst="rect">
            <a:avLst/>
          </a:prstGeom>
          <a:ln w="0">
            <a:noFill/>
          </a:ln>
        </p:spPr>
      </p:pic>
      <p:sp>
        <p:nvSpPr>
          <p:cNvPr id="651" name="任意多边形 15"/>
          <p:cNvSpPr/>
          <p:nvPr/>
        </p:nvSpPr>
        <p:spPr>
          <a:xfrm>
            <a:off x="6524640" y="1235160"/>
            <a:ext cx="5059440" cy="1595520"/>
          </a:xfrm>
          <a:custGeom>
            <a:avLst/>
            <a:gdLst/>
            <a:ahLst/>
            <a:rect l="l" t="t" r="r" b="b"/>
            <a:pathLst>
              <a:path w="5059965" h="1595140">
                <a:moveTo>
                  <a:pt x="2122288" y="376535"/>
                </a:moveTo>
                <a:lnTo>
                  <a:pt x="2430363" y="376535"/>
                </a:lnTo>
                <a:lnTo>
                  <a:pt x="2430363" y="554533"/>
                </a:lnTo>
                <a:lnTo>
                  <a:pt x="2676822" y="554533"/>
                </a:lnTo>
                <a:lnTo>
                  <a:pt x="2676822" y="410765"/>
                </a:lnTo>
                <a:lnTo>
                  <a:pt x="2971204" y="410765"/>
                </a:lnTo>
                <a:lnTo>
                  <a:pt x="2971204" y="554533"/>
                </a:lnTo>
                <a:lnTo>
                  <a:pt x="3334047" y="554533"/>
                </a:lnTo>
                <a:lnTo>
                  <a:pt x="3334047" y="759916"/>
                </a:lnTo>
                <a:lnTo>
                  <a:pt x="2841128" y="759916"/>
                </a:lnTo>
                <a:lnTo>
                  <a:pt x="2841128" y="992683"/>
                </a:lnTo>
                <a:cubicBezTo>
                  <a:pt x="2918717" y="947043"/>
                  <a:pt x="2973486" y="889992"/>
                  <a:pt x="3005435" y="821531"/>
                </a:cubicBezTo>
                <a:lnTo>
                  <a:pt x="3299817" y="821531"/>
                </a:lnTo>
                <a:cubicBezTo>
                  <a:pt x="3208535" y="1013222"/>
                  <a:pt x="3055639" y="1145580"/>
                  <a:pt x="2841128" y="1218605"/>
                </a:cubicBezTo>
                <a:lnTo>
                  <a:pt x="2841128" y="1266527"/>
                </a:lnTo>
                <a:cubicBezTo>
                  <a:pt x="2836564" y="1334988"/>
                  <a:pt x="2866231" y="1366937"/>
                  <a:pt x="2930127" y="1362373"/>
                </a:cubicBezTo>
                <a:lnTo>
                  <a:pt x="2991742" y="1362373"/>
                </a:lnTo>
                <a:cubicBezTo>
                  <a:pt x="3046511" y="1366937"/>
                  <a:pt x="3071613" y="1339552"/>
                  <a:pt x="3067049" y="1280219"/>
                </a:cubicBezTo>
                <a:lnTo>
                  <a:pt x="3067049" y="1218605"/>
                </a:lnTo>
                <a:lnTo>
                  <a:pt x="3299817" y="1218605"/>
                </a:lnTo>
                <a:lnTo>
                  <a:pt x="3299817" y="1307604"/>
                </a:lnTo>
                <a:cubicBezTo>
                  <a:pt x="3304381" y="1471910"/>
                  <a:pt x="3219945" y="1551781"/>
                  <a:pt x="3046511" y="1547217"/>
                </a:cubicBezTo>
                <a:lnTo>
                  <a:pt x="2806898" y="1547217"/>
                </a:lnTo>
                <a:cubicBezTo>
                  <a:pt x="2633463" y="1551781"/>
                  <a:pt x="2549028" y="1465064"/>
                  <a:pt x="2553592" y="1287066"/>
                </a:cubicBezTo>
                <a:cubicBezTo>
                  <a:pt x="2498823" y="1296194"/>
                  <a:pt x="2439491" y="1300758"/>
                  <a:pt x="2375594" y="1300758"/>
                </a:cubicBezTo>
                <a:lnTo>
                  <a:pt x="2375594" y="1129605"/>
                </a:lnTo>
                <a:cubicBezTo>
                  <a:pt x="2439491" y="1125041"/>
                  <a:pt x="2498823" y="1115913"/>
                  <a:pt x="2553592" y="1102221"/>
                </a:cubicBezTo>
                <a:lnTo>
                  <a:pt x="2553592" y="759916"/>
                </a:lnTo>
                <a:lnTo>
                  <a:pt x="2423517" y="759916"/>
                </a:lnTo>
                <a:cubicBezTo>
                  <a:pt x="2414388" y="1161554"/>
                  <a:pt x="2199877" y="1435398"/>
                  <a:pt x="1779984" y="1581448"/>
                </a:cubicBezTo>
                <a:lnTo>
                  <a:pt x="1779984" y="1396603"/>
                </a:lnTo>
                <a:cubicBezTo>
                  <a:pt x="2003623" y="1236861"/>
                  <a:pt x="2117724" y="1024632"/>
                  <a:pt x="2122288" y="759916"/>
                </a:cubicBezTo>
                <a:lnTo>
                  <a:pt x="1793676" y="759916"/>
                </a:lnTo>
                <a:lnTo>
                  <a:pt x="1793676" y="554533"/>
                </a:lnTo>
                <a:lnTo>
                  <a:pt x="2122288" y="554533"/>
                </a:lnTo>
                <a:lnTo>
                  <a:pt x="2122288" y="376535"/>
                </a:lnTo>
                <a:close/>
                <a:moveTo>
                  <a:pt x="2375594" y="6846"/>
                </a:moveTo>
                <a:lnTo>
                  <a:pt x="2731591" y="6846"/>
                </a:lnTo>
                <a:lnTo>
                  <a:pt x="2731591" y="116383"/>
                </a:lnTo>
                <a:lnTo>
                  <a:pt x="3299817" y="116383"/>
                </a:lnTo>
                <a:lnTo>
                  <a:pt x="3299817" y="451842"/>
                </a:lnTo>
                <a:lnTo>
                  <a:pt x="3019127" y="451842"/>
                </a:lnTo>
                <a:lnTo>
                  <a:pt x="3019127" y="314920"/>
                </a:lnTo>
                <a:lnTo>
                  <a:pt x="2074366" y="314920"/>
                </a:lnTo>
                <a:lnTo>
                  <a:pt x="2074366" y="451842"/>
                </a:lnTo>
                <a:lnTo>
                  <a:pt x="1793676" y="451842"/>
                </a:lnTo>
                <a:lnTo>
                  <a:pt x="1793676" y="116383"/>
                </a:lnTo>
                <a:lnTo>
                  <a:pt x="2375594" y="116383"/>
                </a:lnTo>
                <a:lnTo>
                  <a:pt x="2375594" y="6846"/>
                </a:lnTo>
                <a:close/>
                <a:moveTo>
                  <a:pt x="314920" y="6846"/>
                </a:moveTo>
                <a:lnTo>
                  <a:pt x="629840" y="6846"/>
                </a:lnTo>
                <a:cubicBezTo>
                  <a:pt x="634404" y="25102"/>
                  <a:pt x="638968" y="47922"/>
                  <a:pt x="643532" y="75307"/>
                </a:cubicBezTo>
                <a:cubicBezTo>
                  <a:pt x="648096" y="88999"/>
                  <a:pt x="650378" y="100409"/>
                  <a:pt x="650378" y="109537"/>
                </a:cubicBezTo>
                <a:lnTo>
                  <a:pt x="951606" y="109537"/>
                </a:lnTo>
                <a:cubicBezTo>
                  <a:pt x="960735" y="82153"/>
                  <a:pt x="965299" y="47922"/>
                  <a:pt x="965299" y="6846"/>
                </a:cubicBezTo>
                <a:lnTo>
                  <a:pt x="1280219" y="6846"/>
                </a:lnTo>
                <a:cubicBezTo>
                  <a:pt x="1280219" y="47922"/>
                  <a:pt x="1273373" y="82153"/>
                  <a:pt x="1259681" y="109537"/>
                </a:cubicBezTo>
                <a:lnTo>
                  <a:pt x="1512986" y="109537"/>
                </a:lnTo>
                <a:lnTo>
                  <a:pt x="1512986" y="294382"/>
                </a:lnTo>
                <a:lnTo>
                  <a:pt x="903684" y="294382"/>
                </a:lnTo>
                <a:lnTo>
                  <a:pt x="903684" y="369689"/>
                </a:lnTo>
                <a:lnTo>
                  <a:pt x="1451371" y="369689"/>
                </a:lnTo>
                <a:lnTo>
                  <a:pt x="1451371" y="554533"/>
                </a:lnTo>
                <a:lnTo>
                  <a:pt x="896838" y="554533"/>
                </a:lnTo>
                <a:cubicBezTo>
                  <a:pt x="892274" y="581918"/>
                  <a:pt x="885428" y="607020"/>
                  <a:pt x="876300" y="629840"/>
                </a:cubicBezTo>
                <a:lnTo>
                  <a:pt x="1574601" y="629840"/>
                </a:lnTo>
                <a:lnTo>
                  <a:pt x="1574601" y="814685"/>
                </a:lnTo>
                <a:lnTo>
                  <a:pt x="1211758" y="814685"/>
                </a:lnTo>
                <a:cubicBezTo>
                  <a:pt x="1289347" y="887710"/>
                  <a:pt x="1410295" y="951607"/>
                  <a:pt x="1574601" y="1006376"/>
                </a:cubicBezTo>
                <a:lnTo>
                  <a:pt x="1574601" y="1184374"/>
                </a:lnTo>
                <a:cubicBezTo>
                  <a:pt x="1451371" y="1161554"/>
                  <a:pt x="1346398" y="1134169"/>
                  <a:pt x="1259681" y="1102221"/>
                </a:cubicBezTo>
                <a:lnTo>
                  <a:pt x="1259681" y="1574601"/>
                </a:lnTo>
                <a:lnTo>
                  <a:pt x="972145" y="1574601"/>
                </a:lnTo>
                <a:lnTo>
                  <a:pt x="972145" y="958453"/>
                </a:lnTo>
                <a:lnTo>
                  <a:pt x="1020067" y="958453"/>
                </a:lnTo>
                <a:cubicBezTo>
                  <a:pt x="965299" y="917376"/>
                  <a:pt x="917376" y="869454"/>
                  <a:pt x="876300" y="814685"/>
                </a:cubicBezTo>
                <a:lnTo>
                  <a:pt x="787300" y="814685"/>
                </a:lnTo>
                <a:cubicBezTo>
                  <a:pt x="746224" y="869454"/>
                  <a:pt x="689173" y="917376"/>
                  <a:pt x="616148" y="958453"/>
                </a:cubicBezTo>
                <a:lnTo>
                  <a:pt x="616148" y="1184374"/>
                </a:lnTo>
                <a:cubicBezTo>
                  <a:pt x="629840" y="1394321"/>
                  <a:pt x="483790" y="1531243"/>
                  <a:pt x="177998" y="1595140"/>
                </a:cubicBezTo>
                <a:lnTo>
                  <a:pt x="177998" y="1423987"/>
                </a:lnTo>
                <a:cubicBezTo>
                  <a:pt x="282971" y="1396603"/>
                  <a:pt x="333176" y="1325860"/>
                  <a:pt x="328612" y="1211758"/>
                </a:cubicBezTo>
                <a:lnTo>
                  <a:pt x="328612" y="1088529"/>
                </a:lnTo>
                <a:cubicBezTo>
                  <a:pt x="282971" y="1106785"/>
                  <a:pt x="200818" y="1131887"/>
                  <a:pt x="82153" y="1163836"/>
                </a:cubicBezTo>
                <a:cubicBezTo>
                  <a:pt x="50204" y="1172964"/>
                  <a:pt x="25102" y="1179810"/>
                  <a:pt x="6846" y="1184374"/>
                </a:cubicBezTo>
                <a:lnTo>
                  <a:pt x="6846" y="999530"/>
                </a:lnTo>
                <a:cubicBezTo>
                  <a:pt x="203100" y="935633"/>
                  <a:pt x="340022" y="874018"/>
                  <a:pt x="417611" y="814685"/>
                </a:cubicBezTo>
                <a:lnTo>
                  <a:pt x="0" y="814685"/>
                </a:lnTo>
                <a:lnTo>
                  <a:pt x="0" y="629840"/>
                </a:lnTo>
                <a:lnTo>
                  <a:pt x="554533" y="629840"/>
                </a:lnTo>
                <a:cubicBezTo>
                  <a:pt x="568225" y="607020"/>
                  <a:pt x="577353" y="581918"/>
                  <a:pt x="581917" y="554533"/>
                </a:cubicBezTo>
                <a:lnTo>
                  <a:pt x="136921" y="554533"/>
                </a:lnTo>
                <a:lnTo>
                  <a:pt x="136921" y="369689"/>
                </a:lnTo>
                <a:lnTo>
                  <a:pt x="588764" y="369689"/>
                </a:lnTo>
                <a:lnTo>
                  <a:pt x="588764" y="294382"/>
                </a:lnTo>
                <a:lnTo>
                  <a:pt x="68460" y="294382"/>
                </a:lnTo>
                <a:lnTo>
                  <a:pt x="68460" y="109537"/>
                </a:lnTo>
                <a:lnTo>
                  <a:pt x="335458" y="109537"/>
                </a:lnTo>
                <a:cubicBezTo>
                  <a:pt x="330894" y="82153"/>
                  <a:pt x="324048" y="47922"/>
                  <a:pt x="314920" y="6846"/>
                </a:cubicBezTo>
                <a:close/>
                <a:moveTo>
                  <a:pt x="3758505" y="0"/>
                </a:moveTo>
                <a:lnTo>
                  <a:pt x="4018657" y="0"/>
                </a:lnTo>
                <a:lnTo>
                  <a:pt x="4018657" y="246459"/>
                </a:lnTo>
                <a:lnTo>
                  <a:pt x="4093963" y="246459"/>
                </a:lnTo>
                <a:lnTo>
                  <a:pt x="4093963" y="417611"/>
                </a:lnTo>
                <a:cubicBezTo>
                  <a:pt x="4171552" y="340022"/>
                  <a:pt x="4217193" y="203101"/>
                  <a:pt x="4230885" y="6846"/>
                </a:cubicBezTo>
                <a:lnTo>
                  <a:pt x="4484191" y="6846"/>
                </a:lnTo>
                <a:cubicBezTo>
                  <a:pt x="4479627" y="29666"/>
                  <a:pt x="4475063" y="59333"/>
                  <a:pt x="4470499" y="95845"/>
                </a:cubicBezTo>
                <a:cubicBezTo>
                  <a:pt x="4461371" y="123229"/>
                  <a:pt x="4456807" y="141486"/>
                  <a:pt x="4456807" y="150614"/>
                </a:cubicBezTo>
                <a:lnTo>
                  <a:pt x="5059263" y="150614"/>
                </a:lnTo>
                <a:lnTo>
                  <a:pt x="5059263" y="1293912"/>
                </a:lnTo>
                <a:cubicBezTo>
                  <a:pt x="5068391" y="1467346"/>
                  <a:pt x="4988520" y="1549499"/>
                  <a:pt x="4819649" y="1540371"/>
                </a:cubicBezTo>
                <a:lnTo>
                  <a:pt x="4669035" y="1540371"/>
                </a:lnTo>
                <a:lnTo>
                  <a:pt x="4669035" y="1369219"/>
                </a:lnTo>
                <a:lnTo>
                  <a:pt x="4730650" y="1369219"/>
                </a:lnTo>
                <a:cubicBezTo>
                  <a:pt x="4789983" y="1373783"/>
                  <a:pt x="4817367" y="1341834"/>
                  <a:pt x="4812803" y="1273373"/>
                </a:cubicBezTo>
                <a:lnTo>
                  <a:pt x="4812803" y="335458"/>
                </a:lnTo>
                <a:lnTo>
                  <a:pt x="4778573" y="335458"/>
                </a:lnTo>
                <a:cubicBezTo>
                  <a:pt x="4778573" y="664071"/>
                  <a:pt x="4751189" y="912812"/>
                  <a:pt x="4696419" y="1081683"/>
                </a:cubicBezTo>
                <a:cubicBezTo>
                  <a:pt x="4650779" y="1250553"/>
                  <a:pt x="4550370" y="1414859"/>
                  <a:pt x="4395191" y="1574601"/>
                </a:cubicBezTo>
                <a:lnTo>
                  <a:pt x="4395191" y="1328142"/>
                </a:lnTo>
                <a:cubicBezTo>
                  <a:pt x="4509293" y="1099939"/>
                  <a:pt x="4568625" y="769044"/>
                  <a:pt x="4573190" y="335458"/>
                </a:cubicBezTo>
                <a:lnTo>
                  <a:pt x="4504729" y="335458"/>
                </a:lnTo>
                <a:cubicBezTo>
                  <a:pt x="4504729" y="887710"/>
                  <a:pt x="4367807" y="1300758"/>
                  <a:pt x="4093963" y="1574601"/>
                </a:cubicBezTo>
                <a:lnTo>
                  <a:pt x="4093963" y="1328142"/>
                </a:lnTo>
                <a:cubicBezTo>
                  <a:pt x="4208065" y="1095375"/>
                  <a:pt x="4269680" y="814685"/>
                  <a:pt x="4278808" y="486072"/>
                </a:cubicBezTo>
                <a:cubicBezTo>
                  <a:pt x="4214911" y="540841"/>
                  <a:pt x="4153297" y="579636"/>
                  <a:pt x="4093963" y="602456"/>
                </a:cubicBezTo>
                <a:lnTo>
                  <a:pt x="4093963" y="431304"/>
                </a:lnTo>
                <a:lnTo>
                  <a:pt x="4018657" y="431304"/>
                </a:lnTo>
                <a:lnTo>
                  <a:pt x="4018657" y="828377"/>
                </a:lnTo>
                <a:cubicBezTo>
                  <a:pt x="4055169" y="819249"/>
                  <a:pt x="4089399" y="812403"/>
                  <a:pt x="4121347" y="807839"/>
                </a:cubicBezTo>
                <a:lnTo>
                  <a:pt x="4121347" y="992683"/>
                </a:lnTo>
                <a:cubicBezTo>
                  <a:pt x="4112220" y="997248"/>
                  <a:pt x="4096245" y="1001812"/>
                  <a:pt x="4073425" y="1006376"/>
                </a:cubicBezTo>
                <a:cubicBezTo>
                  <a:pt x="4050605" y="1015504"/>
                  <a:pt x="4032349" y="1022350"/>
                  <a:pt x="4018657" y="1026914"/>
                </a:cubicBezTo>
                <a:lnTo>
                  <a:pt x="4018657" y="1581448"/>
                </a:lnTo>
                <a:lnTo>
                  <a:pt x="3758505" y="1581448"/>
                </a:lnTo>
                <a:lnTo>
                  <a:pt x="3758505" y="1088529"/>
                </a:lnTo>
                <a:cubicBezTo>
                  <a:pt x="3731120" y="1093093"/>
                  <a:pt x="3685479" y="1099939"/>
                  <a:pt x="3621583" y="1109067"/>
                </a:cubicBezTo>
                <a:cubicBezTo>
                  <a:pt x="3575942" y="1113631"/>
                  <a:pt x="3541711" y="1118195"/>
                  <a:pt x="3518891" y="1122759"/>
                </a:cubicBezTo>
                <a:lnTo>
                  <a:pt x="3518891" y="889992"/>
                </a:lnTo>
                <a:cubicBezTo>
                  <a:pt x="3605609" y="880864"/>
                  <a:pt x="3685479" y="874018"/>
                  <a:pt x="3758505" y="869454"/>
                </a:cubicBezTo>
                <a:lnTo>
                  <a:pt x="3758505" y="431304"/>
                </a:lnTo>
                <a:lnTo>
                  <a:pt x="3703736" y="431304"/>
                </a:lnTo>
                <a:cubicBezTo>
                  <a:pt x="3680916" y="559097"/>
                  <a:pt x="3612455" y="657225"/>
                  <a:pt x="3498353" y="725686"/>
                </a:cubicBezTo>
                <a:lnTo>
                  <a:pt x="3498353" y="540841"/>
                </a:lnTo>
                <a:cubicBezTo>
                  <a:pt x="3534865" y="467816"/>
                  <a:pt x="3550840" y="324048"/>
                  <a:pt x="3546276" y="109537"/>
                </a:cubicBezTo>
                <a:lnTo>
                  <a:pt x="3731120" y="109537"/>
                </a:lnTo>
                <a:cubicBezTo>
                  <a:pt x="3731120" y="159742"/>
                  <a:pt x="3731120" y="205383"/>
                  <a:pt x="3731120" y="246459"/>
                </a:cubicBezTo>
                <a:lnTo>
                  <a:pt x="3758505" y="246459"/>
                </a:lnTo>
                <a:lnTo>
                  <a:pt x="375850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21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24"/>
          <p:cNvSpPr/>
          <p:nvPr/>
        </p:nvSpPr>
        <p:spPr>
          <a:xfrm>
            <a:off x="8072280" y="3332160"/>
            <a:ext cx="3625920" cy="1309680"/>
          </a:xfrm>
          <a:custGeom>
            <a:avLst/>
            <a:gdLst/>
            <a:ahLst/>
            <a:rect l="l" t="t" r="r" b="b"/>
            <a:pathLst>
              <a:path w="3625638" h="1309315">
                <a:moveTo>
                  <a:pt x="864802" y="1013296"/>
                </a:moveTo>
                <a:lnTo>
                  <a:pt x="1138051" y="1013296"/>
                </a:lnTo>
                <a:lnTo>
                  <a:pt x="1138051" y="1280852"/>
                </a:lnTo>
                <a:lnTo>
                  <a:pt x="864802" y="1280852"/>
                </a:lnTo>
                <a:lnTo>
                  <a:pt x="864802" y="1013296"/>
                </a:lnTo>
                <a:close/>
                <a:moveTo>
                  <a:pt x="2720503" y="592038"/>
                </a:moveTo>
                <a:lnTo>
                  <a:pt x="2720503" y="859594"/>
                </a:lnTo>
                <a:lnTo>
                  <a:pt x="2931132" y="859594"/>
                </a:lnTo>
                <a:lnTo>
                  <a:pt x="2931132" y="592038"/>
                </a:lnTo>
                <a:lnTo>
                  <a:pt x="2720503" y="592038"/>
                </a:lnTo>
                <a:close/>
                <a:moveTo>
                  <a:pt x="2726196" y="261863"/>
                </a:moveTo>
                <a:cubicBezTo>
                  <a:pt x="2680654" y="326380"/>
                  <a:pt x="2621830" y="381409"/>
                  <a:pt x="2549723" y="426950"/>
                </a:cubicBezTo>
                <a:lnTo>
                  <a:pt x="2931132" y="426950"/>
                </a:lnTo>
                <a:lnTo>
                  <a:pt x="2931132" y="261863"/>
                </a:lnTo>
                <a:lnTo>
                  <a:pt x="2726196" y="261863"/>
                </a:lnTo>
                <a:close/>
                <a:moveTo>
                  <a:pt x="392794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4" y="1269466"/>
                </a:lnTo>
                <a:lnTo>
                  <a:pt x="392794" y="404180"/>
                </a:lnTo>
                <a:cubicBezTo>
                  <a:pt x="286531" y="480082"/>
                  <a:pt x="155599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4" y="39848"/>
                </a:cubicBezTo>
                <a:close/>
                <a:moveTo>
                  <a:pt x="1743037" y="22770"/>
                </a:moveTo>
                <a:cubicBezTo>
                  <a:pt x="2020081" y="30361"/>
                  <a:pt x="2164295" y="148009"/>
                  <a:pt x="2175680" y="375716"/>
                </a:cubicBezTo>
                <a:cubicBezTo>
                  <a:pt x="2187066" y="538906"/>
                  <a:pt x="2094086" y="679326"/>
                  <a:pt x="1896740" y="796974"/>
                </a:cubicBezTo>
                <a:cubicBezTo>
                  <a:pt x="1722164" y="899442"/>
                  <a:pt x="1602618" y="1003808"/>
                  <a:pt x="1538101" y="1110071"/>
                </a:cubicBezTo>
                <a:lnTo>
                  <a:pt x="2169988" y="1110071"/>
                </a:lnTo>
                <a:lnTo>
                  <a:pt x="2169988" y="1269466"/>
                </a:lnTo>
                <a:lnTo>
                  <a:pt x="1264852" y="1269466"/>
                </a:lnTo>
                <a:lnTo>
                  <a:pt x="1264852" y="1104379"/>
                </a:lnTo>
                <a:cubicBezTo>
                  <a:pt x="1344550" y="967755"/>
                  <a:pt x="1464096" y="840618"/>
                  <a:pt x="1623491" y="722969"/>
                </a:cubicBezTo>
                <a:cubicBezTo>
                  <a:pt x="1820837" y="582550"/>
                  <a:pt x="1913818" y="470594"/>
                  <a:pt x="1902432" y="387102"/>
                </a:cubicBezTo>
                <a:cubicBezTo>
                  <a:pt x="1902432" y="258068"/>
                  <a:pt x="1843608" y="195448"/>
                  <a:pt x="1725959" y="199243"/>
                </a:cubicBezTo>
                <a:cubicBezTo>
                  <a:pt x="1604515" y="203038"/>
                  <a:pt x="1534306" y="282736"/>
                  <a:pt x="1515330" y="438336"/>
                </a:cubicBezTo>
                <a:lnTo>
                  <a:pt x="1259160" y="438336"/>
                </a:lnTo>
                <a:cubicBezTo>
                  <a:pt x="1308496" y="165087"/>
                  <a:pt x="1469789" y="26565"/>
                  <a:pt x="1743037" y="22770"/>
                </a:cubicBezTo>
                <a:close/>
                <a:moveTo>
                  <a:pt x="2578186" y="0"/>
                </a:moveTo>
                <a:lnTo>
                  <a:pt x="2834356" y="0"/>
                </a:lnTo>
                <a:cubicBezTo>
                  <a:pt x="2830562" y="11385"/>
                  <a:pt x="2826766" y="24668"/>
                  <a:pt x="2822971" y="39848"/>
                </a:cubicBezTo>
                <a:cubicBezTo>
                  <a:pt x="2815381" y="62619"/>
                  <a:pt x="2809688" y="79697"/>
                  <a:pt x="2805893" y="91082"/>
                </a:cubicBezTo>
                <a:lnTo>
                  <a:pt x="3580097" y="91082"/>
                </a:lnTo>
                <a:lnTo>
                  <a:pt x="3580097" y="261863"/>
                </a:lnTo>
                <a:lnTo>
                  <a:pt x="3192995" y="261863"/>
                </a:lnTo>
                <a:lnTo>
                  <a:pt x="3192995" y="426950"/>
                </a:lnTo>
                <a:lnTo>
                  <a:pt x="3545941" y="426950"/>
                </a:lnTo>
                <a:lnTo>
                  <a:pt x="3545941" y="592038"/>
                </a:lnTo>
                <a:lnTo>
                  <a:pt x="3192995" y="592038"/>
                </a:lnTo>
                <a:lnTo>
                  <a:pt x="3192995" y="859594"/>
                </a:lnTo>
                <a:lnTo>
                  <a:pt x="3625638" y="859594"/>
                </a:lnTo>
                <a:lnTo>
                  <a:pt x="3625638" y="1024681"/>
                </a:lnTo>
                <a:lnTo>
                  <a:pt x="3192995" y="1024681"/>
                </a:lnTo>
                <a:lnTo>
                  <a:pt x="3192995" y="1309315"/>
                </a:lnTo>
                <a:lnTo>
                  <a:pt x="2931132" y="1309315"/>
                </a:lnTo>
                <a:lnTo>
                  <a:pt x="2931132" y="1024681"/>
                </a:lnTo>
                <a:lnTo>
                  <a:pt x="2310630" y="1024681"/>
                </a:lnTo>
                <a:lnTo>
                  <a:pt x="2310630" y="859594"/>
                </a:lnTo>
                <a:lnTo>
                  <a:pt x="2481411" y="859594"/>
                </a:lnTo>
                <a:lnTo>
                  <a:pt x="2481411" y="461106"/>
                </a:lnTo>
                <a:cubicBezTo>
                  <a:pt x="2439664" y="483877"/>
                  <a:pt x="2390328" y="502853"/>
                  <a:pt x="2333401" y="518033"/>
                </a:cubicBezTo>
                <a:lnTo>
                  <a:pt x="2333401" y="364331"/>
                </a:lnTo>
                <a:cubicBezTo>
                  <a:pt x="2454845" y="288429"/>
                  <a:pt x="2536440" y="166985"/>
                  <a:pt x="257818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8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07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实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让你少加班、多挣钱，身体健康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3"/>
          <p:cNvSpPr/>
          <p:nvPr/>
        </p:nvSpPr>
        <p:spPr>
          <a:xfrm>
            <a:off x="538200" y="1235160"/>
            <a:ext cx="5079960" cy="1574640"/>
          </a:xfrm>
          <a:custGeom>
            <a:avLst/>
            <a:gdLst/>
            <a:ahLst/>
            <a:rect l="l" t="t" r="r" b="b"/>
            <a:pathLst>
              <a:path w="5079802" h="1574601">
                <a:moveTo>
                  <a:pt x="4600576" y="1006376"/>
                </a:moveTo>
                <a:lnTo>
                  <a:pt x="4600576" y="1115913"/>
                </a:lnTo>
                <a:lnTo>
                  <a:pt x="4648498" y="1115913"/>
                </a:lnTo>
                <a:cubicBezTo>
                  <a:pt x="4698703" y="1115913"/>
                  <a:pt x="4723805" y="1088529"/>
                  <a:pt x="4723805" y="1033760"/>
                </a:cubicBezTo>
                <a:lnTo>
                  <a:pt x="4723805" y="1006376"/>
                </a:lnTo>
                <a:lnTo>
                  <a:pt x="4600576" y="1006376"/>
                </a:lnTo>
                <a:close/>
                <a:moveTo>
                  <a:pt x="4217194" y="1006376"/>
                </a:moveTo>
                <a:lnTo>
                  <a:pt x="4217194" y="1115913"/>
                </a:lnTo>
                <a:lnTo>
                  <a:pt x="4340424" y="1115913"/>
                </a:lnTo>
                <a:lnTo>
                  <a:pt x="4340424" y="1006376"/>
                </a:lnTo>
                <a:lnTo>
                  <a:pt x="4217194" y="1006376"/>
                </a:lnTo>
                <a:close/>
                <a:moveTo>
                  <a:pt x="1930599" y="862608"/>
                </a:moveTo>
                <a:lnTo>
                  <a:pt x="2183904" y="862608"/>
                </a:lnTo>
                <a:cubicBezTo>
                  <a:pt x="2165648" y="1104503"/>
                  <a:pt x="2117725" y="1332706"/>
                  <a:pt x="2040136" y="1547217"/>
                </a:cubicBezTo>
                <a:lnTo>
                  <a:pt x="1745754" y="1547217"/>
                </a:lnTo>
                <a:cubicBezTo>
                  <a:pt x="1846164" y="1319014"/>
                  <a:pt x="1907778" y="1090811"/>
                  <a:pt x="1930599" y="862608"/>
                </a:cubicBezTo>
                <a:close/>
                <a:moveTo>
                  <a:pt x="4600576" y="739378"/>
                </a:moveTo>
                <a:lnTo>
                  <a:pt x="4600576" y="842069"/>
                </a:lnTo>
                <a:lnTo>
                  <a:pt x="4723805" y="842069"/>
                </a:lnTo>
                <a:lnTo>
                  <a:pt x="4723805" y="739378"/>
                </a:lnTo>
                <a:lnTo>
                  <a:pt x="4600576" y="739378"/>
                </a:lnTo>
                <a:close/>
                <a:moveTo>
                  <a:pt x="4217194" y="739378"/>
                </a:moveTo>
                <a:lnTo>
                  <a:pt x="4217194" y="842069"/>
                </a:lnTo>
                <a:lnTo>
                  <a:pt x="4340424" y="842069"/>
                </a:lnTo>
                <a:lnTo>
                  <a:pt x="4340424" y="739378"/>
                </a:lnTo>
                <a:lnTo>
                  <a:pt x="4217194" y="739378"/>
                </a:lnTo>
                <a:close/>
                <a:moveTo>
                  <a:pt x="1814215" y="444996"/>
                </a:moveTo>
                <a:lnTo>
                  <a:pt x="2074367" y="444996"/>
                </a:lnTo>
                <a:cubicBezTo>
                  <a:pt x="2124572" y="545405"/>
                  <a:pt x="2161084" y="657225"/>
                  <a:pt x="2183904" y="780454"/>
                </a:cubicBezTo>
                <a:lnTo>
                  <a:pt x="1910061" y="780454"/>
                </a:lnTo>
                <a:cubicBezTo>
                  <a:pt x="1891805" y="661789"/>
                  <a:pt x="1859856" y="549969"/>
                  <a:pt x="1814215" y="444996"/>
                </a:cubicBezTo>
                <a:close/>
                <a:moveTo>
                  <a:pt x="4470500" y="273844"/>
                </a:moveTo>
                <a:cubicBezTo>
                  <a:pt x="4402039" y="406201"/>
                  <a:pt x="4294783" y="506611"/>
                  <a:pt x="4148733" y="575072"/>
                </a:cubicBezTo>
                <a:lnTo>
                  <a:pt x="4340424" y="575072"/>
                </a:lnTo>
                <a:lnTo>
                  <a:pt x="4340424" y="458688"/>
                </a:lnTo>
                <a:lnTo>
                  <a:pt x="4600576" y="458688"/>
                </a:lnTo>
                <a:lnTo>
                  <a:pt x="4600576" y="575072"/>
                </a:lnTo>
                <a:lnTo>
                  <a:pt x="4819651" y="575072"/>
                </a:lnTo>
                <a:cubicBezTo>
                  <a:pt x="4682729" y="515739"/>
                  <a:pt x="4580037" y="415330"/>
                  <a:pt x="4511576" y="273844"/>
                </a:cubicBezTo>
                <a:lnTo>
                  <a:pt x="4470500" y="273844"/>
                </a:lnTo>
                <a:close/>
                <a:moveTo>
                  <a:pt x="1793677" y="34230"/>
                </a:moveTo>
                <a:lnTo>
                  <a:pt x="2053829" y="34230"/>
                </a:lnTo>
                <a:cubicBezTo>
                  <a:pt x="2104033" y="139204"/>
                  <a:pt x="2140546" y="251023"/>
                  <a:pt x="2163366" y="369689"/>
                </a:cubicBezTo>
                <a:lnTo>
                  <a:pt x="1896369" y="369689"/>
                </a:lnTo>
                <a:cubicBezTo>
                  <a:pt x="1873548" y="251023"/>
                  <a:pt x="1839318" y="139204"/>
                  <a:pt x="1793677" y="34230"/>
                </a:cubicBezTo>
                <a:close/>
                <a:moveTo>
                  <a:pt x="266998" y="20538"/>
                </a:moveTo>
                <a:lnTo>
                  <a:pt x="581918" y="20538"/>
                </a:lnTo>
                <a:cubicBezTo>
                  <a:pt x="586482" y="88999"/>
                  <a:pt x="597893" y="143768"/>
                  <a:pt x="616149" y="184844"/>
                </a:cubicBezTo>
                <a:lnTo>
                  <a:pt x="958454" y="184844"/>
                </a:lnTo>
                <a:cubicBezTo>
                  <a:pt x="976710" y="148332"/>
                  <a:pt x="988120" y="93563"/>
                  <a:pt x="992684" y="20538"/>
                </a:cubicBezTo>
                <a:lnTo>
                  <a:pt x="1307604" y="20538"/>
                </a:lnTo>
                <a:cubicBezTo>
                  <a:pt x="1298476" y="79871"/>
                  <a:pt x="1287066" y="134640"/>
                  <a:pt x="1273374" y="184844"/>
                </a:cubicBezTo>
                <a:lnTo>
                  <a:pt x="1485603" y="184844"/>
                </a:lnTo>
                <a:lnTo>
                  <a:pt x="1485603" y="383381"/>
                </a:lnTo>
                <a:lnTo>
                  <a:pt x="958454" y="383381"/>
                </a:lnTo>
                <a:lnTo>
                  <a:pt x="958454" y="705147"/>
                </a:lnTo>
                <a:lnTo>
                  <a:pt x="1560910" y="705147"/>
                </a:lnTo>
                <a:lnTo>
                  <a:pt x="1560910" y="910530"/>
                </a:lnTo>
                <a:lnTo>
                  <a:pt x="985838" y="910530"/>
                </a:lnTo>
                <a:cubicBezTo>
                  <a:pt x="1049735" y="1120477"/>
                  <a:pt x="1245990" y="1280219"/>
                  <a:pt x="1574602" y="1389757"/>
                </a:cubicBezTo>
                <a:lnTo>
                  <a:pt x="1574602" y="1574601"/>
                </a:lnTo>
                <a:cubicBezTo>
                  <a:pt x="1195785" y="1487884"/>
                  <a:pt x="937915" y="1350962"/>
                  <a:pt x="800993" y="1163836"/>
                </a:cubicBezTo>
                <a:cubicBezTo>
                  <a:pt x="654943" y="1350962"/>
                  <a:pt x="387946" y="1487884"/>
                  <a:pt x="0" y="1574601"/>
                </a:cubicBezTo>
                <a:lnTo>
                  <a:pt x="0" y="1389757"/>
                </a:lnTo>
                <a:cubicBezTo>
                  <a:pt x="355997" y="1271091"/>
                  <a:pt x="556816" y="1111349"/>
                  <a:pt x="602457" y="910530"/>
                </a:cubicBezTo>
                <a:lnTo>
                  <a:pt x="13693" y="910530"/>
                </a:lnTo>
                <a:lnTo>
                  <a:pt x="13693" y="705147"/>
                </a:lnTo>
                <a:lnTo>
                  <a:pt x="622995" y="705147"/>
                </a:lnTo>
                <a:lnTo>
                  <a:pt x="622995" y="383381"/>
                </a:lnTo>
                <a:lnTo>
                  <a:pt x="89000" y="383381"/>
                </a:lnTo>
                <a:lnTo>
                  <a:pt x="89000" y="184844"/>
                </a:lnTo>
                <a:lnTo>
                  <a:pt x="301229" y="184844"/>
                </a:lnTo>
                <a:cubicBezTo>
                  <a:pt x="287536" y="134640"/>
                  <a:pt x="276126" y="79871"/>
                  <a:pt x="266998" y="20538"/>
                </a:cubicBezTo>
                <a:close/>
                <a:moveTo>
                  <a:pt x="3724275" y="13692"/>
                </a:moveTo>
                <a:lnTo>
                  <a:pt x="4004965" y="13692"/>
                </a:lnTo>
                <a:cubicBezTo>
                  <a:pt x="3973017" y="141486"/>
                  <a:pt x="3934223" y="246459"/>
                  <a:pt x="3888582" y="328612"/>
                </a:cubicBezTo>
                <a:lnTo>
                  <a:pt x="3888582" y="1574601"/>
                </a:lnTo>
                <a:lnTo>
                  <a:pt x="3621584" y="1574601"/>
                </a:lnTo>
                <a:lnTo>
                  <a:pt x="3621584" y="581918"/>
                </a:lnTo>
                <a:cubicBezTo>
                  <a:pt x="3612456" y="586482"/>
                  <a:pt x="3594200" y="593328"/>
                  <a:pt x="3566815" y="602456"/>
                </a:cubicBezTo>
                <a:cubicBezTo>
                  <a:pt x="3534867" y="616148"/>
                  <a:pt x="3509765" y="625276"/>
                  <a:pt x="3491508" y="629840"/>
                </a:cubicBezTo>
                <a:lnTo>
                  <a:pt x="3491508" y="444996"/>
                </a:lnTo>
                <a:cubicBezTo>
                  <a:pt x="3610174" y="362843"/>
                  <a:pt x="3687763" y="219075"/>
                  <a:pt x="3724275" y="13692"/>
                </a:cubicBezTo>
                <a:close/>
                <a:moveTo>
                  <a:pt x="2594670" y="6846"/>
                </a:moveTo>
                <a:lnTo>
                  <a:pt x="2909590" y="6846"/>
                </a:lnTo>
                <a:lnTo>
                  <a:pt x="2909590" y="177998"/>
                </a:lnTo>
                <a:lnTo>
                  <a:pt x="3299818" y="177998"/>
                </a:lnTo>
                <a:lnTo>
                  <a:pt x="3299818" y="376535"/>
                </a:lnTo>
                <a:lnTo>
                  <a:pt x="2909590" y="376535"/>
                </a:lnTo>
                <a:lnTo>
                  <a:pt x="2909590" y="725686"/>
                </a:lnTo>
                <a:lnTo>
                  <a:pt x="3265587" y="725686"/>
                </a:lnTo>
                <a:lnTo>
                  <a:pt x="3265587" y="924223"/>
                </a:lnTo>
                <a:lnTo>
                  <a:pt x="2909590" y="924223"/>
                </a:lnTo>
                <a:lnTo>
                  <a:pt x="2909590" y="1334988"/>
                </a:lnTo>
                <a:lnTo>
                  <a:pt x="3334048" y="1334988"/>
                </a:lnTo>
                <a:lnTo>
                  <a:pt x="3334048" y="1519833"/>
                </a:lnTo>
                <a:lnTo>
                  <a:pt x="2163366" y="1519833"/>
                </a:lnTo>
                <a:lnTo>
                  <a:pt x="2163366" y="1334988"/>
                </a:lnTo>
                <a:lnTo>
                  <a:pt x="2594670" y="1334988"/>
                </a:lnTo>
                <a:lnTo>
                  <a:pt x="2594670" y="924223"/>
                </a:lnTo>
                <a:lnTo>
                  <a:pt x="2245519" y="924223"/>
                </a:lnTo>
                <a:lnTo>
                  <a:pt x="2245519" y="725686"/>
                </a:lnTo>
                <a:lnTo>
                  <a:pt x="2594670" y="725686"/>
                </a:lnTo>
                <a:lnTo>
                  <a:pt x="2594670" y="376535"/>
                </a:lnTo>
                <a:lnTo>
                  <a:pt x="2218135" y="376535"/>
                </a:lnTo>
                <a:lnTo>
                  <a:pt x="2218135" y="177998"/>
                </a:lnTo>
                <a:lnTo>
                  <a:pt x="2594670" y="177998"/>
                </a:lnTo>
                <a:lnTo>
                  <a:pt x="2594670" y="6846"/>
                </a:lnTo>
                <a:close/>
                <a:moveTo>
                  <a:pt x="4306193" y="0"/>
                </a:moveTo>
                <a:lnTo>
                  <a:pt x="4586883" y="0"/>
                </a:lnTo>
                <a:cubicBezTo>
                  <a:pt x="4582319" y="9128"/>
                  <a:pt x="4577755" y="22820"/>
                  <a:pt x="4573191" y="41076"/>
                </a:cubicBezTo>
                <a:cubicBezTo>
                  <a:pt x="4564063" y="63897"/>
                  <a:pt x="4557217" y="79871"/>
                  <a:pt x="4552653" y="88999"/>
                </a:cubicBezTo>
                <a:lnTo>
                  <a:pt x="5038726" y="88999"/>
                </a:lnTo>
                <a:lnTo>
                  <a:pt x="5038726" y="273844"/>
                </a:lnTo>
                <a:lnTo>
                  <a:pt x="4778574" y="273844"/>
                </a:lnTo>
                <a:cubicBezTo>
                  <a:pt x="4851599" y="378817"/>
                  <a:pt x="4952008" y="456406"/>
                  <a:pt x="5079802" y="506611"/>
                </a:cubicBezTo>
                <a:lnTo>
                  <a:pt x="5079802" y="670917"/>
                </a:lnTo>
                <a:cubicBezTo>
                  <a:pt x="5038726" y="661789"/>
                  <a:pt x="4997649" y="650379"/>
                  <a:pt x="4956572" y="636687"/>
                </a:cubicBezTo>
                <a:lnTo>
                  <a:pt x="4956572" y="1061144"/>
                </a:lnTo>
                <a:cubicBezTo>
                  <a:pt x="4961137" y="1211758"/>
                  <a:pt x="4890393" y="1284783"/>
                  <a:pt x="4744343" y="1280219"/>
                </a:cubicBezTo>
                <a:lnTo>
                  <a:pt x="4600576" y="1280219"/>
                </a:lnTo>
                <a:lnTo>
                  <a:pt x="4600576" y="1314450"/>
                </a:lnTo>
                <a:cubicBezTo>
                  <a:pt x="4596011" y="1360090"/>
                  <a:pt x="4616550" y="1380629"/>
                  <a:pt x="4662190" y="1376065"/>
                </a:cubicBezTo>
                <a:lnTo>
                  <a:pt x="4805958" y="1376065"/>
                </a:lnTo>
                <a:cubicBezTo>
                  <a:pt x="4851599" y="1376065"/>
                  <a:pt x="4874419" y="1357808"/>
                  <a:pt x="4874419" y="1321296"/>
                </a:cubicBezTo>
                <a:lnTo>
                  <a:pt x="4874419" y="1280219"/>
                </a:lnTo>
                <a:lnTo>
                  <a:pt x="5079802" y="1280219"/>
                </a:lnTo>
                <a:lnTo>
                  <a:pt x="5079802" y="1348680"/>
                </a:lnTo>
                <a:cubicBezTo>
                  <a:pt x="5079802" y="1485602"/>
                  <a:pt x="5015905" y="1551781"/>
                  <a:pt x="4888111" y="1547217"/>
                </a:cubicBezTo>
                <a:lnTo>
                  <a:pt x="4559499" y="1547217"/>
                </a:lnTo>
                <a:cubicBezTo>
                  <a:pt x="4408885" y="1551781"/>
                  <a:pt x="4335860" y="1478756"/>
                  <a:pt x="4340424" y="1328142"/>
                </a:cubicBezTo>
                <a:lnTo>
                  <a:pt x="4340424" y="1280219"/>
                </a:lnTo>
                <a:lnTo>
                  <a:pt x="3984427" y="1280219"/>
                </a:lnTo>
                <a:lnTo>
                  <a:pt x="3984427" y="650379"/>
                </a:lnTo>
                <a:cubicBezTo>
                  <a:pt x="3966171" y="654943"/>
                  <a:pt x="3943351" y="661789"/>
                  <a:pt x="3915966" y="670917"/>
                </a:cubicBezTo>
                <a:lnTo>
                  <a:pt x="3915966" y="506611"/>
                </a:lnTo>
                <a:cubicBezTo>
                  <a:pt x="4043760" y="429022"/>
                  <a:pt x="4135041" y="351433"/>
                  <a:pt x="4189810" y="273844"/>
                </a:cubicBezTo>
                <a:lnTo>
                  <a:pt x="3984427" y="273844"/>
                </a:lnTo>
                <a:lnTo>
                  <a:pt x="3984427" y="88999"/>
                </a:lnTo>
                <a:lnTo>
                  <a:pt x="4278809" y="88999"/>
                </a:lnTo>
                <a:cubicBezTo>
                  <a:pt x="4278809" y="79871"/>
                  <a:pt x="4283373" y="68461"/>
                  <a:pt x="4292501" y="54769"/>
                </a:cubicBezTo>
                <a:cubicBezTo>
                  <a:pt x="4297066" y="31948"/>
                  <a:pt x="4301629" y="13692"/>
                  <a:pt x="430619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7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21"/>
          <p:cNvSpPr/>
          <p:nvPr/>
        </p:nvSpPr>
        <p:spPr>
          <a:xfrm>
            <a:off x="1881360" y="3321000"/>
            <a:ext cx="3663720" cy="1308240"/>
          </a:xfrm>
          <a:custGeom>
            <a:avLst/>
            <a:gdLst/>
            <a:ahLst/>
            <a:rect l="l" t="t" r="r" b="b"/>
            <a:pathLst>
              <a:path w="3663739" h="1309315">
                <a:moveTo>
                  <a:pt x="864803" y="1013296"/>
                </a:moveTo>
                <a:lnTo>
                  <a:pt x="1138052" y="1013296"/>
                </a:lnTo>
                <a:lnTo>
                  <a:pt x="1138052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1731653" y="745740"/>
                </a:moveTo>
                <a:cubicBezTo>
                  <a:pt x="1602619" y="779896"/>
                  <a:pt x="1538102" y="848208"/>
                  <a:pt x="1538102" y="950677"/>
                </a:cubicBezTo>
                <a:cubicBezTo>
                  <a:pt x="1545692" y="1064530"/>
                  <a:pt x="1612106" y="1125252"/>
                  <a:pt x="1737345" y="1132842"/>
                </a:cubicBezTo>
                <a:cubicBezTo>
                  <a:pt x="1866379" y="1129047"/>
                  <a:pt x="1932794" y="1070223"/>
                  <a:pt x="1936589" y="956369"/>
                </a:cubicBezTo>
                <a:cubicBezTo>
                  <a:pt x="1936589" y="846311"/>
                  <a:pt x="1868277" y="776101"/>
                  <a:pt x="1731653" y="745740"/>
                </a:cubicBezTo>
                <a:close/>
                <a:moveTo>
                  <a:pt x="2758604" y="592038"/>
                </a:moveTo>
                <a:lnTo>
                  <a:pt x="2758604" y="859594"/>
                </a:lnTo>
                <a:lnTo>
                  <a:pt x="2969233" y="859594"/>
                </a:lnTo>
                <a:lnTo>
                  <a:pt x="2969233" y="592038"/>
                </a:lnTo>
                <a:lnTo>
                  <a:pt x="2758604" y="592038"/>
                </a:lnTo>
                <a:close/>
                <a:moveTo>
                  <a:pt x="2764296" y="261863"/>
                </a:moveTo>
                <a:cubicBezTo>
                  <a:pt x="2718755" y="326380"/>
                  <a:pt x="2659931" y="381409"/>
                  <a:pt x="2587823" y="426950"/>
                </a:cubicBezTo>
                <a:lnTo>
                  <a:pt x="2969233" y="426950"/>
                </a:lnTo>
                <a:lnTo>
                  <a:pt x="2969233" y="261863"/>
                </a:lnTo>
                <a:lnTo>
                  <a:pt x="2764296" y="261863"/>
                </a:lnTo>
                <a:close/>
                <a:moveTo>
                  <a:pt x="1743038" y="199243"/>
                </a:moveTo>
                <a:cubicBezTo>
                  <a:pt x="1632980" y="206833"/>
                  <a:pt x="1574155" y="258068"/>
                  <a:pt x="1566565" y="352945"/>
                </a:cubicBezTo>
                <a:cubicBezTo>
                  <a:pt x="1562770" y="444028"/>
                  <a:pt x="1621594" y="504750"/>
                  <a:pt x="1743038" y="535111"/>
                </a:cubicBezTo>
                <a:cubicBezTo>
                  <a:pt x="1856891" y="504750"/>
                  <a:pt x="1915716" y="445926"/>
                  <a:pt x="1919511" y="358638"/>
                </a:cubicBezTo>
                <a:cubicBezTo>
                  <a:pt x="1915716" y="256170"/>
                  <a:pt x="1856891" y="203038"/>
                  <a:pt x="1743038" y="199243"/>
                </a:cubicBezTo>
                <a:close/>
                <a:moveTo>
                  <a:pt x="392795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5" y="1269466"/>
                </a:lnTo>
                <a:lnTo>
                  <a:pt x="392795" y="404180"/>
                </a:lnTo>
                <a:cubicBezTo>
                  <a:pt x="286531" y="480082"/>
                  <a:pt x="155600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5" y="39848"/>
                </a:cubicBezTo>
                <a:close/>
                <a:moveTo>
                  <a:pt x="1743038" y="22770"/>
                </a:moveTo>
                <a:cubicBezTo>
                  <a:pt x="2020081" y="34156"/>
                  <a:pt x="2169989" y="144214"/>
                  <a:pt x="2192759" y="352945"/>
                </a:cubicBezTo>
                <a:cubicBezTo>
                  <a:pt x="2192759" y="493365"/>
                  <a:pt x="2103574" y="588243"/>
                  <a:pt x="1925203" y="637579"/>
                </a:cubicBezTo>
                <a:cubicBezTo>
                  <a:pt x="2118754" y="679326"/>
                  <a:pt x="2215530" y="779896"/>
                  <a:pt x="2215530" y="939291"/>
                </a:cubicBezTo>
                <a:cubicBezTo>
                  <a:pt x="2211735" y="1174588"/>
                  <a:pt x="2050442" y="1294135"/>
                  <a:pt x="1731653" y="1297930"/>
                </a:cubicBezTo>
                <a:cubicBezTo>
                  <a:pt x="1424248" y="1290340"/>
                  <a:pt x="1266751" y="1174588"/>
                  <a:pt x="1259160" y="950677"/>
                </a:cubicBezTo>
                <a:cubicBezTo>
                  <a:pt x="1266751" y="791282"/>
                  <a:pt x="1357834" y="686916"/>
                  <a:pt x="1532409" y="637579"/>
                </a:cubicBezTo>
                <a:cubicBezTo>
                  <a:pt x="1373014" y="595833"/>
                  <a:pt x="1293317" y="500955"/>
                  <a:pt x="1293317" y="352945"/>
                </a:cubicBezTo>
                <a:cubicBezTo>
                  <a:pt x="1316087" y="144214"/>
                  <a:pt x="1465994" y="34156"/>
                  <a:pt x="1743038" y="22770"/>
                </a:cubicBezTo>
                <a:close/>
                <a:moveTo>
                  <a:pt x="2616287" y="0"/>
                </a:moveTo>
                <a:lnTo>
                  <a:pt x="2872457" y="0"/>
                </a:lnTo>
                <a:cubicBezTo>
                  <a:pt x="2868662" y="11385"/>
                  <a:pt x="2864867" y="24668"/>
                  <a:pt x="2861072" y="39848"/>
                </a:cubicBezTo>
                <a:cubicBezTo>
                  <a:pt x="2853482" y="62619"/>
                  <a:pt x="2847789" y="79697"/>
                  <a:pt x="2843994" y="91082"/>
                </a:cubicBezTo>
                <a:lnTo>
                  <a:pt x="3618198" y="91082"/>
                </a:lnTo>
                <a:lnTo>
                  <a:pt x="3618198" y="261863"/>
                </a:lnTo>
                <a:lnTo>
                  <a:pt x="3231096" y="261863"/>
                </a:lnTo>
                <a:lnTo>
                  <a:pt x="3231096" y="426950"/>
                </a:lnTo>
                <a:lnTo>
                  <a:pt x="3584042" y="426950"/>
                </a:lnTo>
                <a:lnTo>
                  <a:pt x="3584042" y="592038"/>
                </a:lnTo>
                <a:lnTo>
                  <a:pt x="3231096" y="592038"/>
                </a:lnTo>
                <a:lnTo>
                  <a:pt x="3231096" y="859594"/>
                </a:lnTo>
                <a:lnTo>
                  <a:pt x="3663739" y="859594"/>
                </a:lnTo>
                <a:lnTo>
                  <a:pt x="3663739" y="1024681"/>
                </a:lnTo>
                <a:lnTo>
                  <a:pt x="3231096" y="1024681"/>
                </a:lnTo>
                <a:lnTo>
                  <a:pt x="3231096" y="1309315"/>
                </a:lnTo>
                <a:lnTo>
                  <a:pt x="2969233" y="1309315"/>
                </a:lnTo>
                <a:lnTo>
                  <a:pt x="2969233" y="1024681"/>
                </a:lnTo>
                <a:lnTo>
                  <a:pt x="2348731" y="1024681"/>
                </a:lnTo>
                <a:lnTo>
                  <a:pt x="2348731" y="859594"/>
                </a:lnTo>
                <a:lnTo>
                  <a:pt x="2519511" y="859594"/>
                </a:lnTo>
                <a:lnTo>
                  <a:pt x="2519511" y="461106"/>
                </a:lnTo>
                <a:cubicBezTo>
                  <a:pt x="2477765" y="483877"/>
                  <a:pt x="2428429" y="502853"/>
                  <a:pt x="2371502" y="518033"/>
                </a:cubicBezTo>
                <a:lnTo>
                  <a:pt x="2371502" y="364331"/>
                </a:lnTo>
                <a:cubicBezTo>
                  <a:pt x="2492946" y="288429"/>
                  <a:pt x="2574541" y="166985"/>
                  <a:pt x="26162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4"/>
          <p:cNvGrpSpPr/>
          <p:nvPr/>
        </p:nvGrpSpPr>
        <p:grpSpPr>
          <a:xfrm>
            <a:off x="9400680" y="1981080"/>
            <a:ext cx="2772360" cy="4748400"/>
            <a:chOff x="9400680" y="1981080"/>
            <a:chExt cx="2772360" cy="4748400"/>
          </a:xfrm>
        </p:grpSpPr>
        <p:grpSp>
          <p:nvGrpSpPr>
            <p:cNvPr id="664" name="组合 14"/>
            <p:cNvGrpSpPr/>
            <p:nvPr/>
          </p:nvGrpSpPr>
          <p:grpSpPr>
            <a:xfrm>
              <a:off x="9934200" y="1981080"/>
              <a:ext cx="2238840" cy="4748400"/>
              <a:chOff x="9934200" y="1981080"/>
              <a:chExt cx="2238840" cy="4748400"/>
            </a:xfrm>
          </p:grpSpPr>
          <p:sp>
            <p:nvSpPr>
              <p:cNvPr id="665" name="Oval 426"/>
              <p:cNvSpPr/>
              <p:nvPr/>
            </p:nvSpPr>
            <p:spPr>
              <a:xfrm>
                <a:off x="10095840" y="6287400"/>
                <a:ext cx="2022480" cy="442080"/>
              </a:xfrm>
              <a:prstGeom prst="ellipse">
                <a:avLst/>
              </a:prstGeom>
              <a:solidFill>
                <a:srgbClr val="00b0f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424"/>
              <p:cNvSpPr/>
              <p:nvPr/>
            </p:nvSpPr>
            <p:spPr>
              <a:xfrm>
                <a:off x="9934200" y="1981080"/>
                <a:ext cx="2238840" cy="47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27"/>
              <p:cNvSpPr/>
              <p:nvPr/>
            </p:nvSpPr>
            <p:spPr>
              <a:xfrm>
                <a:off x="10419840" y="4772520"/>
                <a:ext cx="1322280" cy="1781280"/>
              </a:xfrm>
              <a:custGeom>
                <a:avLst/>
                <a:gdLst/>
                <a:ahLst/>
                <a:rect l="l" t="t" r="r" b="b"/>
                <a:pathLst>
                  <a:path w="335" h="394">
                    <a:moveTo>
                      <a:pt x="143" y="102"/>
                    </a:moveTo>
                    <a:cubicBezTo>
                      <a:pt x="122" y="153"/>
                      <a:pt x="131" y="362"/>
                      <a:pt x="131" y="362"/>
                    </a:cubicBezTo>
                    <a:cubicBezTo>
                      <a:pt x="0" y="362"/>
                      <a:pt x="0" y="362"/>
                      <a:pt x="0" y="362"/>
                    </a:cubicBezTo>
                    <a:cubicBezTo>
                      <a:pt x="79" y="296"/>
                      <a:pt x="107" y="337"/>
                      <a:pt x="107" y="337"/>
                    </a:cubicBezTo>
                    <a:cubicBezTo>
                      <a:pt x="107" y="337"/>
                      <a:pt x="127" y="318"/>
                      <a:pt x="94" y="233"/>
                    </a:cubicBezTo>
                    <a:cubicBezTo>
                      <a:pt x="62" y="149"/>
                      <a:pt x="45" y="59"/>
                      <a:pt x="45" y="59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273" y="0"/>
                      <a:pt x="273" y="0"/>
                      <a:pt x="273" y="0"/>
                    </a:cubicBezTo>
                    <a:cubicBezTo>
                      <a:pt x="277" y="51"/>
                      <a:pt x="277" y="51"/>
                      <a:pt x="277" y="51"/>
                    </a:cubicBezTo>
                    <a:cubicBezTo>
                      <a:pt x="277" y="51"/>
                      <a:pt x="269" y="115"/>
                      <a:pt x="243" y="188"/>
                    </a:cubicBezTo>
                    <a:cubicBezTo>
                      <a:pt x="227" y="235"/>
                      <a:pt x="221" y="294"/>
                      <a:pt x="231" y="340"/>
                    </a:cubicBezTo>
                    <a:cubicBezTo>
                      <a:pt x="231" y="340"/>
                      <a:pt x="273" y="325"/>
                      <a:pt x="299" y="331"/>
                    </a:cubicBezTo>
                    <a:cubicBezTo>
                      <a:pt x="316" y="335"/>
                      <a:pt x="331" y="356"/>
                      <a:pt x="335" y="388"/>
                    </a:cubicBezTo>
                    <a:cubicBezTo>
                      <a:pt x="335" y="388"/>
                      <a:pt x="328" y="394"/>
                      <a:pt x="313" y="394"/>
                    </a:cubicBezTo>
                    <a:cubicBezTo>
                      <a:pt x="286" y="394"/>
                      <a:pt x="272" y="362"/>
                      <a:pt x="212" y="360"/>
                    </a:cubicBezTo>
                    <a:cubicBezTo>
                      <a:pt x="212" y="360"/>
                      <a:pt x="228" y="269"/>
                      <a:pt x="184" y="102"/>
                    </a:cubicBezTo>
                    <a:lnTo>
                      <a:pt x="143" y="102"/>
                    </a:lnTo>
                    <a:close/>
                  </a:path>
                </a:pathLst>
              </a:custGeom>
              <a:solidFill>
                <a:srgbClr val="9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28"/>
              <p:cNvSpPr/>
              <p:nvPr/>
            </p:nvSpPr>
            <p:spPr>
              <a:xfrm>
                <a:off x="10604520" y="4772520"/>
                <a:ext cx="462240" cy="271080"/>
              </a:xfrm>
              <a:custGeom>
                <a:avLst/>
                <a:gdLst/>
                <a:ahLst/>
                <a:rect l="l" t="t" r="r" b="b"/>
                <a:pathLst>
                  <a:path w="278" h="142">
                    <a:moveTo>
                      <a:pt x="278" y="61"/>
                    </a:moveTo>
                    <a:lnTo>
                      <a:pt x="247" y="142"/>
                    </a:lnTo>
                    <a:lnTo>
                      <a:pt x="0" y="0"/>
                    </a:lnTo>
                    <a:lnTo>
                      <a:pt x="278" y="6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29"/>
              <p:cNvSpPr/>
              <p:nvPr/>
            </p:nvSpPr>
            <p:spPr>
              <a:xfrm>
                <a:off x="11066760" y="4772520"/>
                <a:ext cx="430560" cy="271080"/>
              </a:xfrm>
              <a:custGeom>
                <a:avLst/>
                <a:gdLst/>
                <a:ahLst/>
                <a:rect l="l" t="t" r="r" b="b"/>
                <a:pathLst>
                  <a:path w="259" h="142">
                    <a:moveTo>
                      <a:pt x="259" y="0"/>
                    </a:moveTo>
                    <a:lnTo>
                      <a:pt x="38" y="142"/>
                    </a:lnTo>
                    <a:lnTo>
                      <a:pt x="0" y="61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31"/>
              <p:cNvSpPr/>
              <p:nvPr/>
            </p:nvSpPr>
            <p:spPr>
              <a:xfrm>
                <a:off x="10537920" y="3424320"/>
                <a:ext cx="959760" cy="1500480"/>
              </a:xfrm>
              <a:custGeom>
                <a:avLst/>
                <a:gdLst/>
                <a:ahLst/>
                <a:rect l="l" t="t" r="r" b="b"/>
                <a:pathLst>
                  <a:path w="243" h="332">
                    <a:moveTo>
                      <a:pt x="243" y="298"/>
                    </a:moveTo>
                    <a:cubicBezTo>
                      <a:pt x="240" y="43"/>
                      <a:pt x="240" y="43"/>
                      <a:pt x="240" y="43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17" y="298"/>
                      <a:pt x="17" y="298"/>
                      <a:pt x="17" y="298"/>
                    </a:cubicBezTo>
                    <a:cubicBezTo>
                      <a:pt x="17" y="298"/>
                      <a:pt x="74" y="332"/>
                      <a:pt x="127" y="332"/>
                    </a:cubicBezTo>
                    <a:cubicBezTo>
                      <a:pt x="180" y="332"/>
                      <a:pt x="243" y="298"/>
                      <a:pt x="243" y="298"/>
                    </a:cubicBezTo>
                    <a:close/>
                  </a:path>
                </a:pathLst>
              </a:custGeom>
              <a:solidFill>
                <a:srgbClr val="94c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32"/>
              <p:cNvSpPr/>
              <p:nvPr/>
            </p:nvSpPr>
            <p:spPr>
              <a:xfrm>
                <a:off x="10830600" y="3346200"/>
                <a:ext cx="221040" cy="221400"/>
              </a:xfrm>
              <a:custGeom>
                <a:avLst/>
                <a:gdLst/>
                <a:ahLst/>
                <a:rect l="l" t="t" r="r" b="b"/>
                <a:pathLst>
                  <a:path w="56" h="49">
                    <a:moveTo>
                      <a:pt x="12" y="0"/>
                    </a:moveTo>
                    <a:cubicBezTo>
                      <a:pt x="0" y="28"/>
                      <a:pt x="13" y="37"/>
                      <a:pt x="13" y="37"/>
                    </a:cubicBezTo>
                    <a:cubicBezTo>
                      <a:pt x="13" y="37"/>
                      <a:pt x="26" y="49"/>
                      <a:pt x="56" y="37"/>
                    </a:cubicBezTo>
                    <a:cubicBezTo>
                      <a:pt x="56" y="37"/>
                      <a:pt x="43" y="28"/>
                      <a:pt x="55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3"/>
              <p:cNvSpPr/>
              <p:nvPr/>
            </p:nvSpPr>
            <p:spPr>
              <a:xfrm>
                <a:off x="10825560" y="3401640"/>
                <a:ext cx="131400" cy="221400"/>
              </a:xfrm>
              <a:custGeom>
                <a:avLst/>
                <a:gdLst/>
                <a:ahLst/>
                <a:rect l="l" t="t" r="r" b="b"/>
                <a:pathLst>
                  <a:path w="79" h="116">
                    <a:moveTo>
                      <a:pt x="79" y="9"/>
                    </a:moveTo>
                    <a:lnTo>
                      <a:pt x="19" y="116"/>
                    </a:lnTo>
                    <a:lnTo>
                      <a:pt x="0" y="0"/>
                    </a:lnTo>
                    <a:lnTo>
                      <a:pt x="79" y="9"/>
                    </a:ln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4"/>
              <p:cNvSpPr/>
              <p:nvPr/>
            </p:nvSpPr>
            <p:spPr>
              <a:xfrm>
                <a:off x="10963800" y="3395880"/>
                <a:ext cx="126360" cy="22320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17"/>
                    </a:moveTo>
                    <a:lnTo>
                      <a:pt x="69" y="117"/>
                    </a:lnTo>
                    <a:lnTo>
                      <a:pt x="7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38"/>
              <p:cNvSpPr/>
              <p:nvPr/>
            </p:nvSpPr>
            <p:spPr>
              <a:xfrm>
                <a:off x="10360080" y="5011200"/>
                <a:ext cx="28080" cy="324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3"/>
                    </a:moveTo>
                    <a:cubicBezTo>
                      <a:pt x="0" y="5"/>
                      <a:pt x="2" y="7"/>
                      <a:pt x="3" y="7"/>
                    </a:cubicBezTo>
                    <a:cubicBezTo>
                      <a:pt x="5" y="7"/>
                      <a:pt x="7" y="5"/>
                      <a:pt x="7" y="3"/>
                    </a:cubicBezTo>
                    <a:cubicBezTo>
                      <a:pt x="7" y="1"/>
                      <a:pt x="5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  <a:moveTo>
                      <a:pt x="3" y="5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41"/>
              <p:cNvSpPr/>
              <p:nvPr/>
            </p:nvSpPr>
            <p:spPr>
              <a:xfrm>
                <a:off x="11738880" y="5060880"/>
                <a:ext cx="26280" cy="324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3" y="0"/>
                    </a:moveTo>
                    <a:cubicBezTo>
                      <a:pt x="2" y="0"/>
                      <a:pt x="0" y="1"/>
                      <a:pt x="0" y="3"/>
                    </a:cubicBezTo>
                    <a:cubicBezTo>
                      <a:pt x="0" y="5"/>
                      <a:pt x="2" y="7"/>
                      <a:pt x="3" y="7"/>
                    </a:cubicBezTo>
                    <a:cubicBezTo>
                      <a:pt x="5" y="7"/>
                      <a:pt x="7" y="5"/>
                      <a:pt x="7" y="3"/>
                    </a:cubicBezTo>
                    <a:cubicBezTo>
                      <a:pt x="7" y="1"/>
                      <a:pt x="5" y="0"/>
                      <a:pt x="3" y="0"/>
                    </a:cubicBezTo>
                    <a:close/>
                    <a:moveTo>
                      <a:pt x="3" y="6"/>
                    </a:moveTo>
                    <a:cubicBezTo>
                      <a:pt x="3" y="6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4" y="6"/>
                      <a:pt x="3" y="6"/>
                    </a:cubicBezTo>
                    <a:close/>
                    <a:moveTo>
                      <a:pt x="3" y="2"/>
                    </a:move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442"/>
              <p:cNvSpPr/>
              <p:nvPr/>
            </p:nvSpPr>
            <p:spPr>
              <a:xfrm>
                <a:off x="10443240" y="2093400"/>
                <a:ext cx="1114560" cy="1344240"/>
              </a:xfrm>
              <a:prstGeom prst="ellipse">
                <a:avLst/>
              </a:prstGeom>
              <a:solidFill>
                <a:srgbClr val="f8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3"/>
              <p:cNvSpPr/>
              <p:nvPr/>
            </p:nvSpPr>
            <p:spPr>
              <a:xfrm>
                <a:off x="10443240" y="2093400"/>
                <a:ext cx="577080" cy="1344240"/>
              </a:xfrm>
              <a:custGeom>
                <a:avLst/>
                <a:gdLst/>
                <a:ahLst/>
                <a:rect l="l" t="t" r="r" b="b"/>
                <a:pathLst>
                  <a:path w="146" h="297">
                    <a:moveTo>
                      <a:pt x="10" y="149"/>
                    </a:moveTo>
                    <a:cubicBezTo>
                      <a:pt x="10" y="69"/>
                      <a:pt x="70" y="3"/>
                      <a:pt x="146" y="1"/>
                    </a:cubicBezTo>
                    <a:cubicBezTo>
                      <a:pt x="144" y="1"/>
                      <a:pt x="142" y="0"/>
                      <a:pt x="141" y="0"/>
                    </a:cubicBezTo>
                    <a:cubicBezTo>
                      <a:pt x="63" y="0"/>
                      <a:pt x="0" y="67"/>
                      <a:pt x="0" y="149"/>
                    </a:cubicBezTo>
                    <a:cubicBezTo>
                      <a:pt x="0" y="230"/>
                      <a:pt x="63" y="297"/>
                      <a:pt x="141" y="297"/>
                    </a:cubicBezTo>
                    <a:cubicBezTo>
                      <a:pt x="142" y="297"/>
                      <a:pt x="144" y="297"/>
                      <a:pt x="146" y="296"/>
                    </a:cubicBezTo>
                    <a:cubicBezTo>
                      <a:pt x="70" y="294"/>
                      <a:pt x="10" y="229"/>
                      <a:pt x="10" y="149"/>
                    </a:cubicBezTo>
                    <a:close/>
                  </a:path>
                </a:pathLst>
              </a:custGeom>
              <a:solidFill>
                <a:srgbClr val="eeb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444"/>
              <p:cNvSpPr/>
              <p:nvPr/>
            </p:nvSpPr>
            <p:spPr>
              <a:xfrm>
                <a:off x="11000520" y="3057840"/>
                <a:ext cx="1440" cy="1800"/>
              </a:xfrm>
              <a:prstGeom prst="rect">
                <a:avLst/>
              </a:prstGeom>
              <a:solidFill>
                <a:srgbClr val="f4a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45"/>
              <p:cNvSpPr/>
              <p:nvPr/>
            </p:nvSpPr>
            <p:spPr>
              <a:xfrm>
                <a:off x="11115000" y="2568960"/>
                <a:ext cx="276120" cy="108720"/>
              </a:xfrm>
              <a:custGeom>
                <a:avLst/>
                <a:gdLst/>
                <a:ahLst/>
                <a:rect l="l" t="t" r="r" b="b"/>
                <a:pathLst>
                  <a:path w="70" h="24">
                    <a:moveTo>
                      <a:pt x="0" y="24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22"/>
                      <a:pt x="1" y="22"/>
                      <a:pt x="2" y="21"/>
                    </a:cubicBezTo>
                    <a:cubicBezTo>
                      <a:pt x="3" y="19"/>
                      <a:pt x="5" y="16"/>
                      <a:pt x="8" y="14"/>
                    </a:cubicBezTo>
                    <a:cubicBezTo>
                      <a:pt x="11" y="11"/>
                      <a:pt x="15" y="8"/>
                      <a:pt x="19" y="6"/>
                    </a:cubicBezTo>
                    <a:cubicBezTo>
                      <a:pt x="23" y="4"/>
                      <a:pt x="28" y="2"/>
                      <a:pt x="34" y="1"/>
                    </a:cubicBezTo>
                    <a:cubicBezTo>
                      <a:pt x="39" y="1"/>
                      <a:pt x="44" y="0"/>
                      <a:pt x="49" y="1"/>
                    </a:cubicBezTo>
                    <a:cubicBezTo>
                      <a:pt x="52" y="1"/>
                      <a:pt x="54" y="1"/>
                      <a:pt x="57" y="3"/>
                    </a:cubicBezTo>
                    <a:cubicBezTo>
                      <a:pt x="59" y="4"/>
                      <a:pt x="60" y="6"/>
                      <a:pt x="62" y="7"/>
                    </a:cubicBezTo>
                    <a:cubicBezTo>
                      <a:pt x="64" y="10"/>
                      <a:pt x="66" y="12"/>
                      <a:pt x="68" y="14"/>
                    </a:cubicBezTo>
                    <a:cubicBezTo>
                      <a:pt x="69" y="15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69" y="16"/>
                      <a:pt x="67" y="15"/>
                    </a:cubicBezTo>
                    <a:cubicBezTo>
                      <a:pt x="65" y="14"/>
                      <a:pt x="62" y="12"/>
                      <a:pt x="59" y="10"/>
                    </a:cubicBezTo>
                    <a:cubicBezTo>
                      <a:pt x="58" y="9"/>
                      <a:pt x="56" y="8"/>
                      <a:pt x="55" y="7"/>
                    </a:cubicBezTo>
                    <a:cubicBezTo>
                      <a:pt x="53" y="7"/>
                      <a:pt x="51" y="7"/>
                      <a:pt x="49" y="6"/>
                    </a:cubicBezTo>
                    <a:cubicBezTo>
                      <a:pt x="44" y="6"/>
                      <a:pt x="40" y="7"/>
                      <a:pt x="35" y="9"/>
                    </a:cubicBezTo>
                    <a:cubicBezTo>
                      <a:pt x="31" y="10"/>
                      <a:pt x="27" y="12"/>
                      <a:pt x="22" y="14"/>
                    </a:cubicBezTo>
                    <a:cubicBezTo>
                      <a:pt x="18" y="15"/>
                      <a:pt x="15" y="17"/>
                      <a:pt x="11" y="19"/>
                    </a:cubicBezTo>
                    <a:cubicBezTo>
                      <a:pt x="8" y="20"/>
                      <a:pt x="5" y="22"/>
                      <a:pt x="3" y="23"/>
                    </a:cubicBezTo>
                    <a:cubicBezTo>
                      <a:pt x="2" y="23"/>
                      <a:pt x="2" y="24"/>
                      <a:pt x="1" y="24"/>
                    </a:cubicBezTo>
                    <a:cubicBezTo>
                      <a:pt x="1" y="24"/>
                      <a:pt x="0" y="24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446"/>
              <p:cNvSpPr/>
              <p:nvPr/>
            </p:nvSpPr>
            <p:spPr>
              <a:xfrm>
                <a:off x="11161800" y="2694960"/>
                <a:ext cx="169560" cy="194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47"/>
              <p:cNvSpPr/>
              <p:nvPr/>
            </p:nvSpPr>
            <p:spPr>
              <a:xfrm>
                <a:off x="1116180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448"/>
              <p:cNvSpPr/>
              <p:nvPr/>
            </p:nvSpPr>
            <p:spPr>
              <a:xfrm>
                <a:off x="1124496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49"/>
              <p:cNvSpPr/>
              <p:nvPr/>
            </p:nvSpPr>
            <p:spPr>
              <a:xfrm>
                <a:off x="10621080" y="2568960"/>
                <a:ext cx="280800" cy="1087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71" y="24"/>
                    </a:moveTo>
                    <a:cubicBezTo>
                      <a:pt x="71" y="24"/>
                      <a:pt x="71" y="24"/>
                      <a:pt x="70" y="24"/>
                    </a:cubicBezTo>
                    <a:cubicBezTo>
                      <a:pt x="70" y="24"/>
                      <a:pt x="70" y="24"/>
                      <a:pt x="69" y="24"/>
                    </a:cubicBezTo>
                    <a:cubicBezTo>
                      <a:pt x="69" y="24"/>
                      <a:pt x="68" y="23"/>
                      <a:pt x="67" y="23"/>
                    </a:cubicBezTo>
                    <a:cubicBezTo>
                      <a:pt x="65" y="22"/>
                      <a:pt x="62" y="20"/>
                      <a:pt x="59" y="19"/>
                    </a:cubicBezTo>
                    <a:cubicBezTo>
                      <a:pt x="56" y="17"/>
                      <a:pt x="52" y="15"/>
                      <a:pt x="48" y="14"/>
                    </a:cubicBezTo>
                    <a:cubicBezTo>
                      <a:pt x="44" y="12"/>
                      <a:pt x="40" y="10"/>
                      <a:pt x="35" y="9"/>
                    </a:cubicBezTo>
                    <a:cubicBezTo>
                      <a:pt x="31" y="7"/>
                      <a:pt x="26" y="6"/>
                      <a:pt x="22" y="6"/>
                    </a:cubicBezTo>
                    <a:cubicBezTo>
                      <a:pt x="20" y="7"/>
                      <a:pt x="17" y="7"/>
                      <a:pt x="16" y="7"/>
                    </a:cubicBezTo>
                    <a:cubicBezTo>
                      <a:pt x="14" y="8"/>
                      <a:pt x="13" y="9"/>
                      <a:pt x="11" y="10"/>
                    </a:cubicBezTo>
                    <a:cubicBezTo>
                      <a:pt x="9" y="12"/>
                      <a:pt x="6" y="14"/>
                      <a:pt x="4" y="15"/>
                    </a:cubicBezTo>
                    <a:cubicBezTo>
                      <a:pt x="2" y="16"/>
                      <a:pt x="1" y="16"/>
                      <a:pt x="1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1" y="15"/>
                      <a:pt x="3" y="14"/>
                    </a:cubicBezTo>
                    <a:cubicBezTo>
                      <a:pt x="5" y="12"/>
                      <a:pt x="7" y="10"/>
                      <a:pt x="9" y="7"/>
                    </a:cubicBezTo>
                    <a:cubicBezTo>
                      <a:pt x="10" y="6"/>
                      <a:pt x="12" y="4"/>
                      <a:pt x="14" y="3"/>
                    </a:cubicBezTo>
                    <a:cubicBezTo>
                      <a:pt x="17" y="1"/>
                      <a:pt x="19" y="1"/>
                      <a:pt x="21" y="1"/>
                    </a:cubicBezTo>
                    <a:cubicBezTo>
                      <a:pt x="26" y="0"/>
                      <a:pt x="32" y="1"/>
                      <a:pt x="37" y="1"/>
                    </a:cubicBezTo>
                    <a:cubicBezTo>
                      <a:pt x="42" y="2"/>
                      <a:pt x="47" y="4"/>
                      <a:pt x="52" y="6"/>
                    </a:cubicBezTo>
                    <a:cubicBezTo>
                      <a:pt x="56" y="8"/>
                      <a:pt x="60" y="11"/>
                      <a:pt x="63" y="14"/>
                    </a:cubicBezTo>
                    <a:cubicBezTo>
                      <a:pt x="66" y="16"/>
                      <a:pt x="68" y="19"/>
                      <a:pt x="69" y="21"/>
                    </a:cubicBezTo>
                    <a:cubicBezTo>
                      <a:pt x="70" y="22"/>
                      <a:pt x="70" y="22"/>
                      <a:pt x="70" y="23"/>
                    </a:cubicBezTo>
                    <a:cubicBezTo>
                      <a:pt x="70" y="23"/>
                      <a:pt x="71" y="23"/>
                      <a:pt x="70" y="23"/>
                    </a:cubicBezTo>
                    <a:cubicBezTo>
                      <a:pt x="70" y="24"/>
                      <a:pt x="70" y="24"/>
                      <a:pt x="70" y="24"/>
                    </a:cubicBezTo>
                    <a:lnTo>
                      <a:pt x="7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450"/>
              <p:cNvSpPr/>
              <p:nvPr/>
            </p:nvSpPr>
            <p:spPr>
              <a:xfrm>
                <a:off x="10664280" y="2694960"/>
                <a:ext cx="1695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51"/>
              <p:cNvSpPr/>
              <p:nvPr/>
            </p:nvSpPr>
            <p:spPr>
              <a:xfrm>
                <a:off x="1067616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452"/>
              <p:cNvSpPr/>
              <p:nvPr/>
            </p:nvSpPr>
            <p:spPr>
              <a:xfrm>
                <a:off x="1077084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3"/>
              <p:cNvSpPr/>
              <p:nvPr/>
            </p:nvSpPr>
            <p:spPr>
              <a:xfrm>
                <a:off x="10908720" y="3153240"/>
                <a:ext cx="177840" cy="5724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0" y="0"/>
                    </a:moveTo>
                    <a:cubicBezTo>
                      <a:pt x="0" y="0"/>
                      <a:pt x="1" y="0"/>
                      <a:pt x="2" y="1"/>
                    </a:cubicBezTo>
                    <a:cubicBezTo>
                      <a:pt x="2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6" y="3"/>
                    </a:cubicBezTo>
                    <a:cubicBezTo>
                      <a:pt x="7" y="4"/>
                      <a:pt x="8" y="4"/>
                      <a:pt x="10" y="5"/>
                    </a:cubicBezTo>
                    <a:cubicBezTo>
                      <a:pt x="11" y="5"/>
                      <a:pt x="12" y="5"/>
                      <a:pt x="13" y="6"/>
                    </a:cubicBezTo>
                    <a:cubicBezTo>
                      <a:pt x="15" y="6"/>
                      <a:pt x="16" y="6"/>
                      <a:pt x="17" y="7"/>
                    </a:cubicBezTo>
                    <a:cubicBezTo>
                      <a:pt x="19" y="7"/>
                      <a:pt x="20" y="7"/>
                      <a:pt x="22" y="8"/>
                    </a:cubicBezTo>
                    <a:cubicBezTo>
                      <a:pt x="23" y="8"/>
                      <a:pt x="25" y="8"/>
                      <a:pt x="26" y="8"/>
                    </a:cubicBezTo>
                    <a:cubicBezTo>
                      <a:pt x="27" y="9"/>
                      <a:pt x="29" y="9"/>
                      <a:pt x="30" y="9"/>
                    </a:cubicBezTo>
                    <a:cubicBezTo>
                      <a:pt x="31" y="9"/>
                      <a:pt x="33" y="10"/>
                      <a:pt x="34" y="10"/>
                    </a:cubicBezTo>
                    <a:cubicBezTo>
                      <a:pt x="35" y="10"/>
                      <a:pt x="37" y="10"/>
                      <a:pt x="38" y="10"/>
                    </a:cubicBezTo>
                    <a:cubicBezTo>
                      <a:pt x="42" y="11"/>
                      <a:pt x="45" y="12"/>
                      <a:pt x="45" y="12"/>
                    </a:cubicBezTo>
                    <a:cubicBezTo>
                      <a:pt x="45" y="12"/>
                      <a:pt x="42" y="12"/>
                      <a:pt x="38" y="13"/>
                    </a:cubicBezTo>
                    <a:cubicBezTo>
                      <a:pt x="35" y="13"/>
                      <a:pt x="33" y="13"/>
                      <a:pt x="30" y="13"/>
                    </a:cubicBezTo>
                    <a:cubicBezTo>
                      <a:pt x="28" y="13"/>
                      <a:pt x="27" y="13"/>
                      <a:pt x="25" y="12"/>
                    </a:cubicBezTo>
                    <a:cubicBezTo>
                      <a:pt x="24" y="12"/>
                      <a:pt x="22" y="12"/>
                      <a:pt x="21" y="12"/>
                    </a:cubicBezTo>
                    <a:cubicBezTo>
                      <a:pt x="18" y="11"/>
                      <a:pt x="15" y="10"/>
                      <a:pt x="12" y="9"/>
                    </a:cubicBezTo>
                    <a:cubicBezTo>
                      <a:pt x="11" y="9"/>
                      <a:pt x="10" y="8"/>
                      <a:pt x="8" y="7"/>
                    </a:cubicBezTo>
                    <a:cubicBezTo>
                      <a:pt x="7" y="7"/>
                      <a:pt x="6" y="6"/>
                      <a:pt x="5" y="5"/>
                    </a:cubicBezTo>
                    <a:cubicBezTo>
                      <a:pt x="4" y="5"/>
                      <a:pt x="3" y="4"/>
                      <a:pt x="3" y="3"/>
                    </a:cubicBezTo>
                    <a:cubicBezTo>
                      <a:pt x="2" y="3"/>
                      <a:pt x="1" y="2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18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4"/>
              <p:cNvSpPr/>
              <p:nvPr/>
            </p:nvSpPr>
            <p:spPr>
              <a:xfrm flipH="1">
                <a:off x="10446840" y="2042280"/>
                <a:ext cx="1097640" cy="692640"/>
              </a:xfrm>
              <a:custGeom>
                <a:avLst/>
                <a:gdLst/>
                <a:ahLst/>
                <a:rect l="l" t="t" r="r" b="b"/>
                <a:pathLst>
                  <a:path w="10162" h="10000">
                    <a:moveTo>
                      <a:pt x="4302" y="3"/>
                    </a:moveTo>
                    <a:cubicBezTo>
                      <a:pt x="2280" y="-30"/>
                      <a:pt x="1528" y="281"/>
                      <a:pt x="658" y="711"/>
                    </a:cubicBezTo>
                    <a:cubicBezTo>
                      <a:pt x="496" y="2134"/>
                      <a:pt x="177" y="4398"/>
                      <a:pt x="70" y="5945"/>
                    </a:cubicBezTo>
                    <a:cubicBezTo>
                      <a:pt x="88" y="8113"/>
                      <a:pt x="-47" y="8033"/>
                      <a:pt x="19" y="8181"/>
                    </a:cubicBezTo>
                    <a:cubicBezTo>
                      <a:pt x="85" y="8329"/>
                      <a:pt x="310" y="7366"/>
                      <a:pt x="464" y="6835"/>
                    </a:cubicBezTo>
                    <a:cubicBezTo>
                      <a:pt x="618" y="6304"/>
                      <a:pt x="596" y="5517"/>
                      <a:pt x="946" y="4992"/>
                    </a:cubicBezTo>
                    <a:cubicBezTo>
                      <a:pt x="1296" y="4467"/>
                      <a:pt x="4033" y="4333"/>
                      <a:pt x="5335" y="4343"/>
                    </a:cubicBezTo>
                    <a:cubicBezTo>
                      <a:pt x="6635" y="4354"/>
                      <a:pt x="8225" y="4437"/>
                      <a:pt x="8744" y="5058"/>
                    </a:cubicBezTo>
                    <a:cubicBezTo>
                      <a:pt x="9274" y="5693"/>
                      <a:pt x="9205" y="6012"/>
                      <a:pt x="9439" y="6836"/>
                    </a:cubicBezTo>
                    <a:cubicBezTo>
                      <a:pt x="9673" y="7660"/>
                      <a:pt x="9913" y="8945"/>
                      <a:pt x="10151" y="10000"/>
                    </a:cubicBezTo>
                    <a:cubicBezTo>
                      <a:pt x="10200" y="7759"/>
                      <a:pt x="10085" y="6060"/>
                      <a:pt x="10019" y="1736"/>
                    </a:cubicBezTo>
                    <a:cubicBezTo>
                      <a:pt x="8797" y="639"/>
                      <a:pt x="8838" y="464"/>
                      <a:pt x="4302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7"/>
              <p:cNvSpPr/>
              <p:nvPr/>
            </p:nvSpPr>
            <p:spPr>
              <a:xfrm>
                <a:off x="10597680" y="4984560"/>
                <a:ext cx="272520" cy="1170360"/>
              </a:xfrm>
              <a:custGeom>
                <a:avLst/>
                <a:gdLst/>
                <a:ahLst/>
                <a:rect l="l" t="t" r="r" b="b"/>
                <a:pathLst>
                  <a:path w="69" h="259">
                    <a:moveTo>
                      <a:pt x="68" y="259"/>
                    </a:moveTo>
                    <a:cubicBezTo>
                      <a:pt x="69" y="244"/>
                      <a:pt x="66" y="217"/>
                      <a:pt x="49" y="173"/>
                    </a:cubicBezTo>
                    <a:cubicBezTo>
                      <a:pt x="19" y="96"/>
                      <a:pt x="3" y="13"/>
                      <a:pt x="1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7" y="102"/>
                      <a:pt x="49" y="186"/>
                    </a:cubicBezTo>
                    <a:cubicBezTo>
                      <a:pt x="62" y="220"/>
                      <a:pt x="67" y="243"/>
                      <a:pt x="68" y="259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58"/>
              <p:cNvSpPr/>
              <p:nvPr/>
            </p:nvSpPr>
            <p:spPr>
              <a:xfrm>
                <a:off x="11311560" y="4965480"/>
                <a:ext cx="201240" cy="1086120"/>
              </a:xfrm>
              <a:custGeom>
                <a:avLst/>
                <a:gdLst/>
                <a:ahLst/>
                <a:rect l="l" t="t" r="r" b="b"/>
                <a:pathLst>
                  <a:path w="51" h="240">
                    <a:moveTo>
                      <a:pt x="0" y="240"/>
                    </a:moveTo>
                    <a:cubicBezTo>
                      <a:pt x="1" y="208"/>
                      <a:pt x="7" y="174"/>
                      <a:pt x="17" y="145"/>
                    </a:cubicBezTo>
                    <a:cubicBezTo>
                      <a:pt x="43" y="72"/>
                      <a:pt x="51" y="8"/>
                      <a:pt x="51" y="8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8" y="16"/>
                      <a:pt x="39" y="71"/>
                      <a:pt x="17" y="132"/>
                    </a:cubicBezTo>
                    <a:cubicBezTo>
                      <a:pt x="6" y="165"/>
                      <a:pt x="0" y="204"/>
                      <a:pt x="0" y="240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59"/>
              <p:cNvSpPr/>
              <p:nvPr/>
            </p:nvSpPr>
            <p:spPr>
              <a:xfrm>
                <a:off x="11256480" y="6342120"/>
                <a:ext cx="485640" cy="211680"/>
              </a:xfrm>
              <a:custGeom>
                <a:avLst/>
                <a:gdLst/>
                <a:ahLst/>
                <a:rect l="l" t="t" r="r" b="b"/>
                <a:pathLst>
                  <a:path w="123" h="47">
                    <a:moveTo>
                      <a:pt x="101" y="34"/>
                    </a:moveTo>
                    <a:cubicBezTo>
                      <a:pt x="74" y="34"/>
                      <a:pt x="60" y="3"/>
                      <a:pt x="2" y="0"/>
                    </a:cubicBezTo>
                    <a:cubicBezTo>
                      <a:pt x="1" y="8"/>
                      <a:pt x="0" y="13"/>
                      <a:pt x="0" y="13"/>
                    </a:cubicBezTo>
                    <a:cubicBezTo>
                      <a:pt x="60" y="15"/>
                      <a:pt x="74" y="47"/>
                      <a:pt x="101" y="47"/>
                    </a:cubicBezTo>
                    <a:cubicBezTo>
                      <a:pt x="116" y="47"/>
                      <a:pt x="123" y="41"/>
                      <a:pt x="123" y="41"/>
                    </a:cubicBezTo>
                    <a:cubicBezTo>
                      <a:pt x="122" y="37"/>
                      <a:pt x="121" y="34"/>
                      <a:pt x="121" y="30"/>
                    </a:cubicBezTo>
                    <a:cubicBezTo>
                      <a:pt x="118" y="32"/>
                      <a:pt x="111" y="34"/>
                      <a:pt x="101" y="34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60"/>
              <p:cNvSpPr/>
              <p:nvPr/>
            </p:nvSpPr>
            <p:spPr>
              <a:xfrm>
                <a:off x="10419840" y="6349680"/>
                <a:ext cx="517320" cy="5904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17" y="0"/>
                    </a:moveTo>
                    <a:cubicBezTo>
                      <a:pt x="12" y="4"/>
                      <a:pt x="6" y="8"/>
                      <a:pt x="0" y="13"/>
                    </a:cubicBezTo>
                    <a:cubicBezTo>
                      <a:pt x="131" y="13"/>
                      <a:pt x="131" y="13"/>
                      <a:pt x="131" y="13"/>
                    </a:cubicBezTo>
                    <a:cubicBezTo>
                      <a:pt x="131" y="13"/>
                      <a:pt x="131" y="9"/>
                      <a:pt x="130" y="0"/>
                    </a:cubicBez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61"/>
              <p:cNvSpPr/>
              <p:nvPr/>
            </p:nvSpPr>
            <p:spPr>
              <a:xfrm>
                <a:off x="10928880" y="5173560"/>
                <a:ext cx="339120" cy="99072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55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2" y="28"/>
                      <a:pt x="0" y="106"/>
                      <a:pt x="0" y="169"/>
                    </a:cubicBezTo>
                    <a:cubicBezTo>
                      <a:pt x="0" y="109"/>
                      <a:pt x="3" y="39"/>
                      <a:pt x="14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79" y="106"/>
                      <a:pt x="85" y="176"/>
                      <a:pt x="86" y="219"/>
                    </a:cubicBezTo>
                    <a:cubicBezTo>
                      <a:pt x="86" y="177"/>
                      <a:pt x="82" y="103"/>
                      <a:pt x="55" y="0"/>
                    </a:cubicBez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等腰三角形 1275"/>
              <p:cNvSpPr/>
              <p:nvPr/>
            </p:nvSpPr>
            <p:spPr>
              <a:xfrm rot="10800000">
                <a:off x="10986120" y="2334240"/>
                <a:ext cx="63000" cy="65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组合 12"/>
            <p:cNvGrpSpPr/>
            <p:nvPr/>
          </p:nvGrpSpPr>
          <p:grpSpPr>
            <a:xfrm>
              <a:off x="11412720" y="3644640"/>
              <a:ext cx="485640" cy="1472040"/>
              <a:chOff x="11412720" y="3644640"/>
              <a:chExt cx="485640" cy="1472040"/>
            </a:xfrm>
          </p:grpSpPr>
          <p:sp>
            <p:nvSpPr>
              <p:cNvPr id="696" name="Freeform 6"/>
              <p:cNvSpPr/>
              <p:nvPr/>
            </p:nvSpPr>
            <p:spPr>
              <a:xfrm>
                <a:off x="11412720" y="4849560"/>
                <a:ext cx="158040" cy="267120"/>
              </a:xfrm>
              <a:custGeom>
                <a:avLst/>
                <a:gdLst/>
                <a:ahLst/>
                <a:rect l="l" t="t" r="r" b="b"/>
                <a:pathLst>
                  <a:path w="157" h="231">
                    <a:moveTo>
                      <a:pt x="91" y="0"/>
                    </a:moveTo>
                    <a:lnTo>
                      <a:pt x="133" y="55"/>
                    </a:lnTo>
                    <a:lnTo>
                      <a:pt x="157" y="136"/>
                    </a:lnTo>
                    <a:lnTo>
                      <a:pt x="38" y="231"/>
                    </a:lnTo>
                    <a:lnTo>
                      <a:pt x="0" y="91"/>
                    </a:lnTo>
                    <a:lnTo>
                      <a:pt x="88" y="69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4a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任意多边形 855"/>
              <p:cNvSpPr/>
              <p:nvPr/>
            </p:nvSpPr>
            <p:spPr>
              <a:xfrm>
                <a:off x="11484000" y="3644640"/>
                <a:ext cx="414360" cy="1362960"/>
              </a:xfrm>
              <a:custGeom>
                <a:avLst/>
                <a:gdLst/>
                <a:ahLst/>
                <a:rect l="l" t="t" r="r" b="b"/>
                <a:pathLst>
                  <a:path w="652201" h="1869118">
                    <a:moveTo>
                      <a:pt x="0" y="0"/>
                    </a:moveTo>
                    <a:lnTo>
                      <a:pt x="244214" y="270123"/>
                    </a:lnTo>
                    <a:lnTo>
                      <a:pt x="652201" y="1281360"/>
                    </a:lnTo>
                    <a:lnTo>
                      <a:pt x="127617" y="1869118"/>
                    </a:lnTo>
                    <a:lnTo>
                      <a:pt x="93267" y="1744277"/>
                    </a:lnTo>
                    <a:lnTo>
                      <a:pt x="455351" y="1265485"/>
                    </a:lnTo>
                    <a:lnTo>
                      <a:pt x="10497" y="680641"/>
                    </a:lnTo>
                    <a:cubicBezTo>
                      <a:pt x="10497" y="483061"/>
                      <a:pt x="0" y="197580"/>
                      <a:pt x="0" y="0"/>
                    </a:cubicBezTo>
                    <a:close/>
                  </a:path>
                </a:pathLst>
              </a:custGeom>
              <a:solidFill>
                <a:srgbClr val="d1c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组合 54"/>
            <p:cNvGrpSpPr/>
            <p:nvPr/>
          </p:nvGrpSpPr>
          <p:grpSpPr>
            <a:xfrm>
              <a:off x="9400680" y="3355920"/>
              <a:ext cx="1946520" cy="820800"/>
              <a:chOff x="9400680" y="3355920"/>
              <a:chExt cx="1946520" cy="820800"/>
            </a:xfrm>
          </p:grpSpPr>
          <p:grpSp>
            <p:nvGrpSpPr>
              <p:cNvPr id="699" name="组合 55"/>
              <p:cNvGrpSpPr/>
              <p:nvPr/>
            </p:nvGrpSpPr>
            <p:grpSpPr>
              <a:xfrm>
                <a:off x="9400680" y="3627720"/>
                <a:ext cx="1161360" cy="549000"/>
                <a:chOff x="9400680" y="3627720"/>
                <a:chExt cx="1161360" cy="549000"/>
              </a:xfrm>
            </p:grpSpPr>
            <p:sp>
              <p:nvSpPr>
                <p:cNvPr id="700" name="Freeform 435"/>
                <p:cNvSpPr/>
                <p:nvPr/>
              </p:nvSpPr>
              <p:spPr>
                <a:xfrm rot="5400000">
                  <a:off x="9905760" y="3520440"/>
                  <a:ext cx="549000" cy="763200"/>
                </a:xfrm>
                <a:custGeom>
                  <a:avLst/>
                  <a:gdLst/>
                  <a:ahLst/>
                  <a:rect l="l" t="t" r="r" b="b"/>
                  <a:pathLst>
                    <a:path w="10000" h="9907">
                      <a:moveTo>
                        <a:pt x="0" y="251"/>
                      </a:moveTo>
                      <a:lnTo>
                        <a:pt x="6572" y="0"/>
                      </a:lnTo>
                      <a:lnTo>
                        <a:pt x="10000" y="4614"/>
                      </a:lnTo>
                      <a:cubicBezTo>
                        <a:pt x="9628" y="5632"/>
                        <a:pt x="7336" y="9234"/>
                        <a:pt x="6508" y="9907"/>
                      </a:cubicBezTo>
                      <a:cubicBezTo>
                        <a:pt x="6136" y="9845"/>
                        <a:pt x="5549" y="9371"/>
                        <a:pt x="4904" y="8703"/>
                      </a:cubicBezTo>
                      <a:cubicBezTo>
                        <a:pt x="5414" y="7968"/>
                        <a:pt x="6846" y="6277"/>
                        <a:pt x="8153" y="4826"/>
                      </a:cubicBezTo>
                      <a:cubicBezTo>
                        <a:pt x="5385" y="3157"/>
                        <a:pt x="2768" y="1920"/>
                        <a:pt x="0" y="251"/>
                      </a:cubicBezTo>
                      <a:close/>
                    </a:path>
                  </a:pathLst>
                </a:custGeom>
                <a:solidFill>
                  <a:srgbClr val="d1c8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440"/>
                <p:cNvSpPr/>
                <p:nvPr/>
              </p:nvSpPr>
              <p:spPr>
                <a:xfrm flipH="1" rot="7194000">
                  <a:off x="9725400" y="3894840"/>
                  <a:ext cx="212400" cy="118080"/>
                </a:xfrm>
                <a:custGeom>
                  <a:avLst/>
                  <a:gdLst/>
                  <a:ahLst/>
                  <a:rect l="l" t="t" r="r" b="b"/>
                  <a:pathLst>
                    <a:path w="111" h="71">
                      <a:moveTo>
                        <a:pt x="19" y="71"/>
                      </a:moveTo>
                      <a:lnTo>
                        <a:pt x="0" y="0"/>
                      </a:lnTo>
                      <a:lnTo>
                        <a:pt x="78" y="9"/>
                      </a:lnTo>
                      <a:lnTo>
                        <a:pt x="76" y="35"/>
                      </a:lnTo>
                      <a:lnTo>
                        <a:pt x="85" y="9"/>
                      </a:lnTo>
                      <a:lnTo>
                        <a:pt x="111" y="9"/>
                      </a:lnTo>
                      <a:lnTo>
                        <a:pt x="87" y="71"/>
                      </a:lnTo>
                      <a:lnTo>
                        <a:pt x="19" y="71"/>
                      </a:lnTo>
                      <a:close/>
                    </a:path>
                  </a:pathLst>
                </a:custGeom>
                <a:solidFill>
                  <a:srgbClr val="dc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51"/>
                <p:cNvSpPr/>
                <p:nvPr/>
              </p:nvSpPr>
              <p:spPr>
                <a:xfrm flipH="1">
                  <a:off x="9400680" y="3660120"/>
                  <a:ext cx="433440" cy="355680"/>
                </a:xfrm>
                <a:custGeom>
                  <a:avLst/>
                  <a:gdLst/>
                  <a:ahLst/>
                  <a:rect l="l" t="t" r="r" b="b"/>
                  <a:pathLst>
                    <a:path w="96" h="68">
                      <a:moveTo>
                        <a:pt x="0" y="46"/>
                      </a:moveTo>
                      <a:cubicBezTo>
                        <a:pt x="0" y="46"/>
                        <a:pt x="2" y="26"/>
                        <a:pt x="16" y="19"/>
                      </a:cubicBezTo>
                      <a:cubicBezTo>
                        <a:pt x="29" y="12"/>
                        <a:pt x="49" y="0"/>
                        <a:pt x="53" y="3"/>
                      </a:cubicBezTo>
                      <a:cubicBezTo>
                        <a:pt x="57" y="6"/>
                        <a:pt x="32" y="21"/>
                        <a:pt x="32" y="21"/>
                      </a:cubicBezTo>
                      <a:cubicBezTo>
                        <a:pt x="32" y="21"/>
                        <a:pt x="81" y="10"/>
                        <a:pt x="82" y="15"/>
                      </a:cubicBezTo>
                      <a:cubicBezTo>
                        <a:pt x="83" y="20"/>
                        <a:pt x="69" y="22"/>
                        <a:pt x="69" y="22"/>
                      </a:cubicBezTo>
                      <a:cubicBezTo>
                        <a:pt x="69" y="22"/>
                        <a:pt x="91" y="23"/>
                        <a:pt x="92" y="26"/>
                      </a:cubicBezTo>
                      <a:cubicBezTo>
                        <a:pt x="93" y="30"/>
                        <a:pt x="80" y="32"/>
                        <a:pt x="80" y="32"/>
                      </a:cubicBezTo>
                      <a:cubicBezTo>
                        <a:pt x="80" y="32"/>
                        <a:pt x="93" y="28"/>
                        <a:pt x="95" y="33"/>
                      </a:cubicBezTo>
                      <a:cubicBezTo>
                        <a:pt x="96" y="38"/>
                        <a:pt x="74" y="42"/>
                        <a:pt x="74" y="42"/>
                      </a:cubicBezTo>
                      <a:cubicBezTo>
                        <a:pt x="74" y="42"/>
                        <a:pt x="82" y="44"/>
                        <a:pt x="81" y="48"/>
                      </a:cubicBezTo>
                      <a:cubicBezTo>
                        <a:pt x="80" y="53"/>
                        <a:pt x="31" y="54"/>
                        <a:pt x="22" y="61"/>
                      </a:cubicBezTo>
                      <a:cubicBezTo>
                        <a:pt x="13" y="67"/>
                        <a:pt x="10" y="68"/>
                        <a:pt x="0" y="46"/>
                      </a:cubicBezTo>
                      <a:close/>
                    </a:path>
                  </a:pathLst>
                </a:custGeom>
                <a:solidFill>
                  <a:srgbClr val="f9c5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Freeform 435"/>
              <p:cNvSpPr/>
              <p:nvPr/>
            </p:nvSpPr>
            <p:spPr>
              <a:xfrm rot="5400000">
                <a:off x="10680120" y="3246120"/>
                <a:ext cx="557280" cy="776880"/>
              </a:xfrm>
              <a:custGeom>
                <a:avLst/>
                <a:gdLst/>
                <a:ahLst/>
                <a:rect l="l" t="t" r="r" b="b"/>
                <a:pathLst>
                  <a:path w="10000" h="10051">
                    <a:moveTo>
                      <a:pt x="0" y="0"/>
                    </a:moveTo>
                    <a:cubicBezTo>
                      <a:pt x="417" y="30"/>
                      <a:pt x="3699" y="142"/>
                      <a:pt x="4563" y="88"/>
                    </a:cubicBezTo>
                    <a:lnTo>
                      <a:pt x="10000" y="4778"/>
                    </a:lnTo>
                    <a:cubicBezTo>
                      <a:pt x="9633" y="5792"/>
                      <a:pt x="7375" y="9380"/>
                      <a:pt x="6559" y="10051"/>
                    </a:cubicBezTo>
                    <a:cubicBezTo>
                      <a:pt x="6193" y="9989"/>
                      <a:pt x="5614" y="9517"/>
                      <a:pt x="4979" y="8851"/>
                    </a:cubicBezTo>
                    <a:cubicBezTo>
                      <a:pt x="5481" y="8119"/>
                      <a:pt x="6892" y="6434"/>
                      <a:pt x="8180" y="4989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ed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eb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的保护和加强神经系统的运动可以使你延迟衰老和痴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4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8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04920" y="942840"/>
            <a:ext cx="5432040" cy="5386320"/>
            <a:chOff x="304920" y="942840"/>
            <a:chExt cx="5432040" cy="5386320"/>
          </a:xfrm>
        </p:grpSpPr>
        <p:sp>
          <p:nvSpPr>
            <p:cNvPr id="138" name="AutoShape 3"/>
            <p:cNvSpPr/>
            <p:nvPr/>
          </p:nvSpPr>
          <p:spPr>
            <a:xfrm>
              <a:off x="377280" y="958320"/>
              <a:ext cx="5287320" cy="53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1431000" y="5547960"/>
              <a:ext cx="3396240" cy="781200"/>
            </a:xfrm>
            <a:custGeom>
              <a:avLst/>
              <a:gdLst/>
              <a:ahLst/>
              <a:rect l="l" t="t" r="r" b="b"/>
              <a:pathLst>
                <a:path w="235" h="53">
                  <a:moveTo>
                    <a:pt x="120" y="23"/>
                  </a:moveTo>
                  <a:cubicBezTo>
                    <a:pt x="115" y="25"/>
                    <a:pt x="111" y="26"/>
                    <a:pt x="111" y="26"/>
                  </a:cubicBezTo>
                  <a:cubicBezTo>
                    <a:pt x="107" y="27"/>
                    <a:pt x="104" y="28"/>
                    <a:pt x="101" y="29"/>
                  </a:cubicBezTo>
                  <a:cubicBezTo>
                    <a:pt x="104" y="28"/>
                    <a:pt x="107" y="27"/>
                    <a:pt x="111" y="26"/>
                  </a:cubicBezTo>
                  <a:cubicBezTo>
                    <a:pt x="111" y="26"/>
                    <a:pt x="115" y="25"/>
                    <a:pt x="120" y="23"/>
                  </a:cubicBezTo>
                  <a:cubicBezTo>
                    <a:pt x="120" y="23"/>
                    <a:pt x="120" y="23"/>
                    <a:pt x="120" y="23"/>
                  </a:cubicBezTo>
                  <a:moveTo>
                    <a:pt x="90" y="9"/>
                  </a:moveTo>
                  <a:cubicBezTo>
                    <a:pt x="90" y="9"/>
                    <a:pt x="90" y="9"/>
                    <a:pt x="90" y="9"/>
                  </a:cubicBezTo>
                  <a:cubicBezTo>
                    <a:pt x="88" y="9"/>
                    <a:pt x="87" y="10"/>
                    <a:pt x="84" y="10"/>
                  </a:cubicBezTo>
                  <a:cubicBezTo>
                    <a:pt x="84" y="10"/>
                    <a:pt x="84" y="10"/>
                    <a:pt x="84" y="10"/>
                  </a:cubicBezTo>
                  <a:cubicBezTo>
                    <a:pt x="87" y="10"/>
                    <a:pt x="88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89" y="10"/>
                    <a:pt x="89" y="10"/>
                    <a:pt x="89" y="10"/>
                  </a:cubicBezTo>
                  <a:cubicBezTo>
                    <a:pt x="89" y="10"/>
                    <a:pt x="88" y="10"/>
                    <a:pt x="88" y="10"/>
                  </a:cubicBezTo>
                  <a:cubicBezTo>
                    <a:pt x="89" y="10"/>
                    <a:pt x="90" y="10"/>
                    <a:pt x="92" y="10"/>
                  </a:cubicBezTo>
                  <a:cubicBezTo>
                    <a:pt x="91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cubicBezTo>
                    <a:pt x="90" y="9"/>
                    <a:pt x="90" y="9"/>
                    <a:pt x="90" y="9"/>
                  </a:cubicBezTo>
                  <a:moveTo>
                    <a:pt x="197" y="3"/>
                  </a:moveTo>
                  <a:cubicBezTo>
                    <a:pt x="199" y="9"/>
                    <a:pt x="200" y="17"/>
                    <a:pt x="196" y="22"/>
                  </a:cubicBezTo>
                  <a:cubicBezTo>
                    <a:pt x="191" y="28"/>
                    <a:pt x="182" y="35"/>
                    <a:pt x="165" y="35"/>
                  </a:cubicBezTo>
                  <a:cubicBezTo>
                    <a:pt x="155" y="35"/>
                    <a:pt x="143" y="32"/>
                    <a:pt x="127" y="26"/>
                  </a:cubicBezTo>
                  <a:cubicBezTo>
                    <a:pt x="123" y="28"/>
                    <a:pt x="119" y="29"/>
                    <a:pt x="118" y="30"/>
                  </a:cubicBezTo>
                  <a:cubicBezTo>
                    <a:pt x="99" y="35"/>
                    <a:pt x="84" y="37"/>
                    <a:pt x="73" y="37"/>
                  </a:cubicBezTo>
                  <a:cubicBezTo>
                    <a:pt x="60" y="37"/>
                    <a:pt x="51" y="35"/>
                    <a:pt x="45" y="31"/>
                  </a:cubicBezTo>
                  <a:cubicBezTo>
                    <a:pt x="38" y="29"/>
                    <a:pt x="34" y="25"/>
                    <a:pt x="31" y="22"/>
                  </a:cubicBezTo>
                  <a:cubicBezTo>
                    <a:pt x="27" y="18"/>
                    <a:pt x="27" y="11"/>
                    <a:pt x="29" y="5"/>
                  </a:cubicBezTo>
                  <a:cubicBezTo>
                    <a:pt x="11" y="10"/>
                    <a:pt x="0" y="17"/>
                    <a:pt x="0" y="24"/>
                  </a:cubicBezTo>
                  <a:cubicBezTo>
                    <a:pt x="0" y="40"/>
                    <a:pt x="53" y="53"/>
                    <a:pt x="118" y="53"/>
                  </a:cubicBezTo>
                  <a:cubicBezTo>
                    <a:pt x="183" y="53"/>
                    <a:pt x="235" y="40"/>
                    <a:pt x="235" y="24"/>
                  </a:cubicBezTo>
                  <a:cubicBezTo>
                    <a:pt x="235" y="16"/>
                    <a:pt x="221" y="8"/>
                    <a:pt x="197" y="3"/>
                  </a:cubicBezTo>
                  <a:moveTo>
                    <a:pt x="113" y="0"/>
                  </a:moveTo>
                  <a:cubicBezTo>
                    <a:pt x="111" y="0"/>
                    <a:pt x="111" y="0"/>
                    <a:pt x="111" y="0"/>
                  </a:cubicBezTo>
                  <a:cubicBezTo>
                    <a:pt x="112" y="1"/>
                    <a:pt x="113" y="1"/>
                    <a:pt x="114" y="1"/>
                  </a:cubicBezTo>
                  <a:cubicBezTo>
                    <a:pt x="115" y="2"/>
                    <a:pt x="117" y="2"/>
                    <a:pt x="118" y="3"/>
                  </a:cubicBezTo>
                  <a:cubicBezTo>
                    <a:pt x="121" y="2"/>
                    <a:pt x="123" y="1"/>
                    <a:pt x="124" y="1"/>
                  </a:cubicBezTo>
                  <a:cubicBezTo>
                    <a:pt x="113" y="0"/>
                    <a:pt x="113" y="0"/>
                    <a:pt x="113" y="0"/>
                  </a:cubicBezTo>
                </a:path>
              </a:pathLst>
            </a:custGeom>
            <a:solidFill>
              <a:srgbClr val="57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193920" y="5355360"/>
              <a:ext cx="707760" cy="5317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" y="14"/>
                  </a:moveTo>
                  <a:cubicBezTo>
                    <a:pt x="3" y="15"/>
                    <a:pt x="10" y="19"/>
                    <a:pt x="15" y="25"/>
                  </a:cubicBezTo>
                  <a:cubicBezTo>
                    <a:pt x="21" y="27"/>
                    <a:pt x="40" y="35"/>
                    <a:pt x="40" y="35"/>
                  </a:cubicBezTo>
                  <a:cubicBezTo>
                    <a:pt x="40" y="35"/>
                    <a:pt x="44" y="36"/>
                    <a:pt x="47" y="34"/>
                  </a:cubicBezTo>
                  <a:cubicBezTo>
                    <a:pt x="49" y="33"/>
                    <a:pt x="49" y="30"/>
                    <a:pt x="49" y="30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3" y="0"/>
                    <a:pt x="12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2"/>
                    <a:pt x="0" y="13"/>
                    <a:pt x="2" y="14"/>
                  </a:cubicBezTo>
                </a:path>
              </a:pathLst>
            </a:custGeom>
            <a:solidFill>
              <a:srgbClr val="0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2716560" y="5236560"/>
              <a:ext cx="1619280" cy="98964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6" y="22"/>
                  </a:moveTo>
                  <a:cubicBezTo>
                    <a:pt x="9" y="19"/>
                    <a:pt x="13" y="18"/>
                    <a:pt x="14" y="19"/>
                  </a:cubicBezTo>
                  <a:cubicBezTo>
                    <a:pt x="14" y="19"/>
                    <a:pt x="31" y="24"/>
                    <a:pt x="35" y="26"/>
                  </a:cubicBezTo>
                  <a:cubicBezTo>
                    <a:pt x="40" y="27"/>
                    <a:pt x="45" y="29"/>
                    <a:pt x="49" y="30"/>
                  </a:cubicBezTo>
                  <a:cubicBezTo>
                    <a:pt x="52" y="31"/>
                    <a:pt x="55" y="31"/>
                    <a:pt x="57" y="31"/>
                  </a:cubicBezTo>
                  <a:cubicBezTo>
                    <a:pt x="64" y="31"/>
                    <a:pt x="70" y="25"/>
                    <a:pt x="52" y="22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60" y="0"/>
                    <a:pt x="97" y="4"/>
                    <a:pt x="107" y="20"/>
                  </a:cubicBezTo>
                  <a:cubicBezTo>
                    <a:pt x="110" y="25"/>
                    <a:pt x="112" y="37"/>
                    <a:pt x="107" y="43"/>
                  </a:cubicBezTo>
                  <a:cubicBezTo>
                    <a:pt x="98" y="53"/>
                    <a:pt x="78" y="67"/>
                    <a:pt x="27" y="41"/>
                  </a:cubicBezTo>
                  <a:cubicBezTo>
                    <a:pt x="26" y="41"/>
                    <a:pt x="2" y="31"/>
                    <a:pt x="1" y="30"/>
                  </a:cubicBezTo>
                  <a:cubicBezTo>
                    <a:pt x="1" y="30"/>
                    <a:pt x="0" y="27"/>
                    <a:pt x="6" y="22"/>
                  </a:cubicBezTo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064320" y="5236560"/>
              <a:ext cx="1184760" cy="26676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3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68" y="6"/>
                    <a:pt x="82" y="18"/>
                  </a:cubicBezTo>
                  <a:cubicBezTo>
                    <a:pt x="70" y="4"/>
                    <a:pt x="36" y="0"/>
                    <a:pt x="36" y="0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2081520" y="5887080"/>
              <a:ext cx="1184760" cy="206640"/>
            </a:xfrm>
            <a:custGeom>
              <a:avLst/>
              <a:gdLst/>
              <a:ahLst/>
              <a:rect l="l" t="t" r="r" b="b"/>
              <a:pathLst>
                <a:path w="82" h="14">
                  <a:moveTo>
                    <a:pt x="75" y="0"/>
                  </a:moveTo>
                  <a:cubicBezTo>
                    <a:pt x="70" y="2"/>
                    <a:pt x="66" y="3"/>
                    <a:pt x="66" y="3"/>
                  </a:cubicBezTo>
                  <a:cubicBezTo>
                    <a:pt x="62" y="4"/>
                    <a:pt x="59" y="5"/>
                    <a:pt x="56" y="6"/>
                  </a:cubicBezTo>
                  <a:cubicBezTo>
                    <a:pt x="41" y="9"/>
                    <a:pt x="30" y="11"/>
                    <a:pt x="20" y="11"/>
                  </a:cubicBezTo>
                  <a:cubicBezTo>
                    <a:pt x="12" y="11"/>
                    <a:pt x="5" y="10"/>
                    <a:pt x="0" y="8"/>
                  </a:cubicBezTo>
                  <a:cubicBezTo>
                    <a:pt x="6" y="12"/>
                    <a:pt x="15" y="14"/>
                    <a:pt x="28" y="14"/>
                  </a:cubicBezTo>
                  <a:cubicBezTo>
                    <a:pt x="39" y="14"/>
                    <a:pt x="54" y="12"/>
                    <a:pt x="73" y="7"/>
                  </a:cubicBezTo>
                  <a:cubicBezTo>
                    <a:pt x="74" y="6"/>
                    <a:pt x="78" y="5"/>
                    <a:pt x="82" y="3"/>
                  </a:cubicBezTo>
                  <a:cubicBezTo>
                    <a:pt x="80" y="2"/>
                    <a:pt x="78" y="1"/>
                    <a:pt x="75" y="0"/>
                  </a:cubicBezTo>
                </a:path>
              </a:pathLst>
            </a:cu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64760" y="5724720"/>
              <a:ext cx="361440" cy="2066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17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3" y="4"/>
                    <a:pt x="6" y="8"/>
                    <a:pt x="0" y="11"/>
                  </a:cubicBezTo>
                  <a:cubicBezTo>
                    <a:pt x="3" y="12"/>
                    <a:pt x="5" y="13"/>
                    <a:pt x="7" y="14"/>
                  </a:cubicBezTo>
                  <a:cubicBezTo>
                    <a:pt x="13" y="11"/>
                    <a:pt x="20" y="8"/>
                    <a:pt x="24" y="4"/>
                  </a:cubicBezTo>
                  <a:cubicBezTo>
                    <a:pt x="24" y="4"/>
                    <a:pt x="24" y="3"/>
                    <a:pt x="25" y="3"/>
                  </a:cubicBezTo>
                  <a:cubicBezTo>
                    <a:pt x="21" y="2"/>
                    <a:pt x="19" y="1"/>
                    <a:pt x="17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1806480" y="5236560"/>
              <a:ext cx="1603440" cy="9014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06" y="25"/>
                  </a:moveTo>
                  <a:cubicBezTo>
                    <a:pt x="101" y="21"/>
                    <a:pt x="99" y="22"/>
                    <a:pt x="98" y="21"/>
                  </a:cubicBezTo>
                  <a:cubicBezTo>
                    <a:pt x="98" y="21"/>
                    <a:pt x="68" y="33"/>
                    <a:pt x="55" y="31"/>
                  </a:cubicBezTo>
                  <a:cubicBezTo>
                    <a:pt x="48" y="30"/>
                    <a:pt x="41" y="25"/>
                    <a:pt x="60" y="22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8" y="21"/>
                    <a:pt x="88" y="21"/>
                    <a:pt x="88" y="21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15" y="4"/>
                    <a:pt x="5" y="20"/>
                  </a:cubicBezTo>
                  <a:cubicBezTo>
                    <a:pt x="2" y="25"/>
                    <a:pt x="0" y="37"/>
                    <a:pt x="5" y="43"/>
                  </a:cubicBezTo>
                  <a:cubicBezTo>
                    <a:pt x="14" y="53"/>
                    <a:pt x="35" y="61"/>
                    <a:pt x="85" y="47"/>
                  </a:cubicBezTo>
                  <a:cubicBezTo>
                    <a:pt x="86" y="47"/>
                    <a:pt x="104" y="40"/>
                    <a:pt x="111" y="33"/>
                  </a:cubicBezTo>
                  <a:cubicBezTo>
                    <a:pt x="111" y="33"/>
                    <a:pt x="110" y="28"/>
                    <a:pt x="106" y="25"/>
                  </a:cubicBezTo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2529720" y="5547960"/>
              <a:ext cx="837360" cy="22068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5" y="10"/>
                  </a:moveTo>
                  <a:cubicBezTo>
                    <a:pt x="3" y="10"/>
                    <a:pt x="1" y="9"/>
                    <a:pt x="0" y="9"/>
                  </a:cubicBezTo>
                  <a:cubicBezTo>
                    <a:pt x="0" y="10"/>
                    <a:pt x="4" y="12"/>
                    <a:pt x="7" y="12"/>
                  </a:cubicBezTo>
                  <a:cubicBezTo>
                    <a:pt x="21" y="15"/>
                    <a:pt x="50" y="3"/>
                    <a:pt x="50" y="3"/>
                  </a:cubicBezTo>
                  <a:cubicBezTo>
                    <a:pt x="51" y="3"/>
                    <a:pt x="54" y="3"/>
                    <a:pt x="58" y="6"/>
                  </a:cubicBezTo>
                  <a:cubicBezTo>
                    <a:pt x="58" y="5"/>
                    <a:pt x="57" y="5"/>
                    <a:pt x="56" y="4"/>
                  </a:cubicBezTo>
                  <a:cubicBezTo>
                    <a:pt x="51" y="0"/>
                    <a:pt x="49" y="1"/>
                    <a:pt x="48" y="0"/>
                  </a:cubicBezTo>
                  <a:cubicBezTo>
                    <a:pt x="48" y="0"/>
                    <a:pt x="18" y="12"/>
                    <a:pt x="5" y="10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2716560" y="5503680"/>
              <a:ext cx="420120" cy="19080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9" y="7"/>
                  </a:moveTo>
                  <a:cubicBezTo>
                    <a:pt x="12" y="4"/>
                    <a:pt x="15" y="3"/>
                    <a:pt x="17" y="4"/>
                  </a:cubicBezTo>
                  <a:cubicBezTo>
                    <a:pt x="17" y="4"/>
                    <a:pt x="21" y="5"/>
                    <a:pt x="26" y="7"/>
                  </a:cubicBezTo>
                  <a:cubicBezTo>
                    <a:pt x="27" y="6"/>
                    <a:pt x="28" y="6"/>
                    <a:pt x="29" y="6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1" y="3"/>
                    <a:pt x="14" y="1"/>
                    <a:pt x="14" y="1"/>
                  </a:cubicBezTo>
                  <a:cubicBezTo>
                    <a:pt x="13" y="0"/>
                    <a:pt x="9" y="1"/>
                    <a:pt x="6" y="4"/>
                  </a:cubicBezTo>
                  <a:cubicBezTo>
                    <a:pt x="0" y="9"/>
                    <a:pt x="1" y="12"/>
                    <a:pt x="1" y="12"/>
                  </a:cubicBezTo>
                  <a:cubicBezTo>
                    <a:pt x="1" y="12"/>
                    <a:pt x="2" y="12"/>
                    <a:pt x="2" y="13"/>
                  </a:cubicBezTo>
                  <a:cubicBezTo>
                    <a:pt x="3" y="13"/>
                    <a:pt x="4" y="12"/>
                    <a:pt x="4" y="12"/>
                  </a:cubicBezTo>
                  <a:cubicBezTo>
                    <a:pt x="5" y="11"/>
                    <a:pt x="6" y="9"/>
                    <a:pt x="9" y="7"/>
                  </a:cubicBezTo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3064320" y="5547960"/>
              <a:ext cx="1332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2225160" y="5311080"/>
              <a:ext cx="736560" cy="48744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49" y="15"/>
                  </a:moveTo>
                  <a:cubicBezTo>
                    <a:pt x="47" y="16"/>
                    <a:pt x="40" y="18"/>
                    <a:pt x="35" y="25"/>
                  </a:cubicBezTo>
                  <a:cubicBezTo>
                    <a:pt x="28" y="26"/>
                    <a:pt x="9" y="32"/>
                    <a:pt x="9" y="32"/>
                  </a:cubicBezTo>
                  <a:cubicBezTo>
                    <a:pt x="9" y="32"/>
                    <a:pt x="4" y="33"/>
                    <a:pt x="2" y="31"/>
                  </a:cubicBezTo>
                  <a:cubicBezTo>
                    <a:pt x="0" y="30"/>
                    <a:pt x="1" y="27"/>
                    <a:pt x="1" y="27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1"/>
                    <a:pt x="38" y="0"/>
                    <a:pt x="39" y="0"/>
                  </a:cubicBezTo>
                  <a:cubicBezTo>
                    <a:pt x="40" y="1"/>
                    <a:pt x="41" y="2"/>
                    <a:pt x="41" y="2"/>
                  </a:cubicBezTo>
                  <a:cubicBezTo>
                    <a:pt x="41" y="2"/>
                    <a:pt x="51" y="14"/>
                    <a:pt x="49" y="15"/>
                  </a:cubicBezTo>
                </a:path>
              </a:pathLst>
            </a:cu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806480" y="5236560"/>
              <a:ext cx="1271520" cy="66456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8" y="22"/>
                  </a:moveTo>
                  <a:cubicBezTo>
                    <a:pt x="17" y="6"/>
                    <a:pt x="55" y="3"/>
                    <a:pt x="55" y="3"/>
                  </a:cubicBezTo>
                  <a:cubicBezTo>
                    <a:pt x="88" y="3"/>
                    <a:pt x="88" y="3"/>
                    <a:pt x="88" y="3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15" y="4"/>
                    <a:pt x="5" y="20"/>
                  </a:cubicBezTo>
                  <a:cubicBezTo>
                    <a:pt x="2" y="25"/>
                    <a:pt x="0" y="37"/>
                    <a:pt x="5" y="43"/>
                  </a:cubicBezTo>
                  <a:cubicBezTo>
                    <a:pt x="6" y="44"/>
                    <a:pt x="6" y="44"/>
                    <a:pt x="7" y="45"/>
                  </a:cubicBezTo>
                  <a:cubicBezTo>
                    <a:pt x="2" y="39"/>
                    <a:pt x="4" y="28"/>
                    <a:pt x="8" y="22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04000" y="2344680"/>
              <a:ext cx="1632960" cy="137304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9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5" y="90"/>
                    <a:pt x="56" y="93"/>
                    <a:pt x="83" y="74"/>
                  </a:cubicBezTo>
                  <a:cubicBezTo>
                    <a:pt x="110" y="55"/>
                    <a:pt x="113" y="21"/>
                    <a:pt x="98" y="0"/>
                  </a:cubicBezTo>
                  <a:close/>
                </a:path>
              </a:pathLst>
            </a:cu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017600" y="2211840"/>
              <a:ext cx="1589760" cy="1254960"/>
            </a:xfrm>
            <a:custGeom>
              <a:avLst/>
              <a:gdLst/>
              <a:ahLst/>
              <a:rect l="l" t="t" r="r" b="b"/>
              <a:pathLst>
                <a:path w="110" h="85">
                  <a:moveTo>
                    <a:pt x="104" y="9"/>
                  </a:moveTo>
                  <a:cubicBezTo>
                    <a:pt x="110" y="17"/>
                    <a:pt x="92" y="38"/>
                    <a:pt x="65" y="57"/>
                  </a:cubicBezTo>
                  <a:cubicBezTo>
                    <a:pt x="38" y="77"/>
                    <a:pt x="11" y="85"/>
                    <a:pt x="6" y="77"/>
                  </a:cubicBezTo>
                  <a:cubicBezTo>
                    <a:pt x="0" y="69"/>
                    <a:pt x="18" y="48"/>
                    <a:pt x="45" y="29"/>
                  </a:cubicBezTo>
                  <a:cubicBezTo>
                    <a:pt x="72" y="9"/>
                    <a:pt x="98" y="0"/>
                    <a:pt x="104" y="9"/>
                  </a:cubicBezTo>
                  <a:close/>
                </a:path>
              </a:pathLst>
            </a:cu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161240" y="2315880"/>
              <a:ext cx="1287000" cy="100260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6" y="5"/>
                  </a:moveTo>
                  <a:cubicBezTo>
                    <a:pt x="89" y="10"/>
                    <a:pt x="74" y="27"/>
                    <a:pt x="51" y="43"/>
                  </a:cubicBezTo>
                  <a:cubicBezTo>
                    <a:pt x="28" y="59"/>
                    <a:pt x="7" y="68"/>
                    <a:pt x="4" y="63"/>
                  </a:cubicBezTo>
                  <a:cubicBezTo>
                    <a:pt x="0" y="58"/>
                    <a:pt x="16" y="41"/>
                    <a:pt x="38" y="25"/>
                  </a:cubicBezTo>
                  <a:cubicBezTo>
                    <a:pt x="61" y="9"/>
                    <a:pt x="82" y="0"/>
                    <a:pt x="86" y="5"/>
                  </a:cubicBezTo>
                  <a:close/>
                </a:path>
              </a:pathLst>
            </a:cu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2645280" y="5680440"/>
              <a:ext cx="86400" cy="140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6" y="0"/>
                  </a:moveTo>
                  <a:cubicBezTo>
                    <a:pt x="4" y="0"/>
                    <a:pt x="3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1"/>
                    <a:pt x="5" y="1"/>
                    <a:pt x="5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2225160" y="5724720"/>
              <a:ext cx="390960" cy="1321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25" y="0"/>
                  </a:moveTo>
                  <a:cubicBezTo>
                    <a:pt x="22" y="0"/>
                    <a:pt x="19" y="1"/>
                    <a:pt x="16" y="2"/>
                  </a:cubicBezTo>
                  <a:cubicBezTo>
                    <a:pt x="12" y="3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8" y="4"/>
                    <a:pt x="7" y="4"/>
                  </a:cubicBezTo>
                  <a:cubicBezTo>
                    <a:pt x="5" y="4"/>
                    <a:pt x="3" y="4"/>
                    <a:pt x="2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7"/>
                    <a:pt x="2" y="8"/>
                  </a:cubicBezTo>
                  <a:cubicBezTo>
                    <a:pt x="3" y="8"/>
                    <a:pt x="5" y="9"/>
                    <a:pt x="6" y="9"/>
                  </a:cubicBezTo>
                  <a:cubicBezTo>
                    <a:pt x="8" y="9"/>
                    <a:pt x="10" y="8"/>
                    <a:pt x="10" y="8"/>
                  </a:cubicBezTo>
                  <a:cubicBezTo>
                    <a:pt x="10" y="8"/>
                    <a:pt x="20" y="4"/>
                    <a:pt x="27" y="0"/>
                  </a:cubicBezTo>
                  <a:cubicBezTo>
                    <a:pt x="26" y="0"/>
                    <a:pt x="26" y="0"/>
                    <a:pt x="25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2586960" y="5694480"/>
              <a:ext cx="115920" cy="298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0"/>
                  </a:moveTo>
                  <a:cubicBezTo>
                    <a:pt x="7" y="0"/>
                    <a:pt x="6" y="0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4" y="1"/>
                    <a:pt x="6" y="1"/>
                    <a:pt x="8" y="0"/>
                  </a:cubicBezTo>
                </a:path>
              </a:pathLst>
            </a:custGeom>
            <a:solidFill>
              <a:srgbClr val="35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2254680" y="5754600"/>
              <a:ext cx="201960" cy="280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7" y="2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moveTo>
                    <a:pt x="7" y="2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3" y="2"/>
                    <a:pt x="5" y="2"/>
                  </a:cubicBezTo>
                  <a:cubicBezTo>
                    <a:pt x="6" y="2"/>
                    <a:pt x="7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  <a:cubicBezTo>
                    <a:pt x="3" y="2"/>
                    <a:pt x="1" y="2"/>
                    <a:pt x="0" y="1"/>
                  </a:cubicBezTo>
                  <a:moveTo>
                    <a:pt x="14" y="0"/>
                  </a:moveTo>
                  <a:cubicBezTo>
                    <a:pt x="10" y="1"/>
                    <a:pt x="7" y="2"/>
                    <a:pt x="7" y="2"/>
                  </a:cubicBezTo>
                  <a:cubicBezTo>
                    <a:pt x="7" y="2"/>
                    <a:pt x="10" y="1"/>
                    <a:pt x="14" y="0"/>
                  </a:cubicBezTo>
                </a:path>
              </a:pathLst>
            </a:cu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3193920" y="5355360"/>
              <a:ext cx="707760" cy="5317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2" y="14"/>
                  </a:moveTo>
                  <a:cubicBezTo>
                    <a:pt x="3" y="15"/>
                    <a:pt x="10" y="19"/>
                    <a:pt x="15" y="25"/>
                  </a:cubicBezTo>
                  <a:cubicBezTo>
                    <a:pt x="21" y="27"/>
                    <a:pt x="40" y="35"/>
                    <a:pt x="40" y="35"/>
                  </a:cubicBezTo>
                  <a:cubicBezTo>
                    <a:pt x="40" y="35"/>
                    <a:pt x="44" y="36"/>
                    <a:pt x="47" y="34"/>
                  </a:cubicBezTo>
                  <a:cubicBezTo>
                    <a:pt x="49" y="33"/>
                    <a:pt x="49" y="30"/>
                    <a:pt x="49" y="30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"/>
                    <a:pt x="13" y="0"/>
                    <a:pt x="12" y="1"/>
                  </a:cubicBezTo>
                  <a:cubicBezTo>
                    <a:pt x="11" y="1"/>
                    <a:pt x="10" y="2"/>
                    <a:pt x="10" y="2"/>
                  </a:cubicBezTo>
                  <a:cubicBezTo>
                    <a:pt x="10" y="2"/>
                    <a:pt x="0" y="13"/>
                    <a:pt x="2" y="14"/>
                  </a:cubicBezTo>
                </a:path>
              </a:pathLst>
            </a:cu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3410280" y="5370840"/>
              <a:ext cx="564120" cy="50040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34" y="30"/>
                    <a:pt x="34" y="30"/>
                  </a:cubicBezTo>
                  <a:cubicBezTo>
                    <a:pt x="34" y="31"/>
                    <a:pt x="34" y="32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1" y="34"/>
                    <a:pt x="31" y="34"/>
                    <a:pt x="30" y="34"/>
                  </a:cubicBezTo>
                  <a:cubicBezTo>
                    <a:pt x="31" y="34"/>
                    <a:pt x="32" y="34"/>
                    <a:pt x="33" y="34"/>
                  </a:cubicBezTo>
                  <a:cubicBezTo>
                    <a:pt x="35" y="34"/>
                    <a:pt x="36" y="34"/>
                    <a:pt x="37" y="33"/>
                  </a:cubicBezTo>
                  <a:cubicBezTo>
                    <a:pt x="39" y="32"/>
                    <a:pt x="39" y="30"/>
                    <a:pt x="39" y="30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3" y="0"/>
                    <a:pt x="3" y="0"/>
                  </a:cubicBezTo>
                </a:path>
              </a:pathLst>
            </a:cu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44440" y="5812920"/>
              <a:ext cx="57240" cy="58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4"/>
                    <a:pt x="2" y="3"/>
                  </a:cubicBezTo>
                  <a:moveTo>
                    <a:pt x="4" y="0"/>
                  </a:moveTo>
                  <a:cubicBezTo>
                    <a:pt x="4" y="1"/>
                    <a:pt x="4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1401840" y="4750560"/>
              <a:ext cx="1084320" cy="92952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62" y="0"/>
                  </a:moveTo>
                  <a:cubicBezTo>
                    <a:pt x="62" y="0"/>
                    <a:pt x="45" y="27"/>
                    <a:pt x="35" y="31"/>
                  </a:cubicBezTo>
                  <a:cubicBezTo>
                    <a:pt x="35" y="31"/>
                    <a:pt x="31" y="18"/>
                    <a:pt x="21" y="18"/>
                  </a:cubicBezTo>
                  <a:cubicBezTo>
                    <a:pt x="15" y="18"/>
                    <a:pt x="9" y="23"/>
                    <a:pt x="14" y="26"/>
                  </a:cubicBezTo>
                  <a:cubicBezTo>
                    <a:pt x="18" y="26"/>
                    <a:pt x="17" y="23"/>
                    <a:pt x="22" y="24"/>
                  </a:cubicBezTo>
                  <a:cubicBezTo>
                    <a:pt x="26" y="25"/>
                    <a:pt x="26" y="30"/>
                    <a:pt x="25" y="32"/>
                  </a:cubicBezTo>
                  <a:cubicBezTo>
                    <a:pt x="25" y="34"/>
                    <a:pt x="23" y="37"/>
                    <a:pt x="19" y="37"/>
                  </a:cubicBezTo>
                  <a:cubicBezTo>
                    <a:pt x="16" y="36"/>
                    <a:pt x="15" y="28"/>
                    <a:pt x="12" y="27"/>
                  </a:cubicBezTo>
                  <a:cubicBezTo>
                    <a:pt x="7" y="25"/>
                    <a:pt x="4" y="42"/>
                    <a:pt x="20" y="41"/>
                  </a:cubicBezTo>
                  <a:cubicBezTo>
                    <a:pt x="20" y="47"/>
                    <a:pt x="12" y="50"/>
                    <a:pt x="6" y="49"/>
                  </a:cubicBezTo>
                  <a:cubicBezTo>
                    <a:pt x="0" y="48"/>
                    <a:pt x="1" y="57"/>
                    <a:pt x="10" y="55"/>
                  </a:cubicBezTo>
                  <a:cubicBezTo>
                    <a:pt x="18" y="53"/>
                    <a:pt x="20" y="50"/>
                    <a:pt x="23" y="45"/>
                  </a:cubicBezTo>
                  <a:cubicBezTo>
                    <a:pt x="24" y="54"/>
                    <a:pt x="13" y="55"/>
                    <a:pt x="11" y="57"/>
                  </a:cubicBezTo>
                  <a:cubicBezTo>
                    <a:pt x="10" y="58"/>
                    <a:pt x="9" y="63"/>
                    <a:pt x="17" y="60"/>
                  </a:cubicBezTo>
                  <a:cubicBezTo>
                    <a:pt x="24" y="57"/>
                    <a:pt x="27" y="48"/>
                    <a:pt x="27" y="46"/>
                  </a:cubicBezTo>
                  <a:cubicBezTo>
                    <a:pt x="29" y="50"/>
                    <a:pt x="22" y="56"/>
                    <a:pt x="22" y="59"/>
                  </a:cubicBezTo>
                  <a:cubicBezTo>
                    <a:pt x="22" y="61"/>
                    <a:pt x="24" y="62"/>
                    <a:pt x="27" y="61"/>
                  </a:cubicBezTo>
                  <a:cubicBezTo>
                    <a:pt x="28" y="60"/>
                    <a:pt x="29" y="52"/>
                    <a:pt x="31" y="46"/>
                  </a:cubicBezTo>
                  <a:cubicBezTo>
                    <a:pt x="35" y="43"/>
                    <a:pt x="36" y="41"/>
                    <a:pt x="38" y="38"/>
                  </a:cubicBezTo>
                  <a:cubicBezTo>
                    <a:pt x="38" y="38"/>
                    <a:pt x="62" y="30"/>
                    <a:pt x="75" y="14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3655800" y="4750560"/>
              <a:ext cx="1098720" cy="92952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14" y="0"/>
                  </a:moveTo>
                  <a:cubicBezTo>
                    <a:pt x="14" y="0"/>
                    <a:pt x="30" y="27"/>
                    <a:pt x="40" y="31"/>
                  </a:cubicBezTo>
                  <a:cubicBezTo>
                    <a:pt x="40" y="31"/>
                    <a:pt x="44" y="18"/>
                    <a:pt x="54" y="18"/>
                  </a:cubicBezTo>
                  <a:cubicBezTo>
                    <a:pt x="60" y="18"/>
                    <a:pt x="67" y="23"/>
                    <a:pt x="61" y="26"/>
                  </a:cubicBezTo>
                  <a:cubicBezTo>
                    <a:pt x="57" y="26"/>
                    <a:pt x="58" y="23"/>
                    <a:pt x="53" y="24"/>
                  </a:cubicBezTo>
                  <a:cubicBezTo>
                    <a:pt x="50" y="25"/>
                    <a:pt x="49" y="30"/>
                    <a:pt x="50" y="32"/>
                  </a:cubicBezTo>
                  <a:cubicBezTo>
                    <a:pt x="50" y="34"/>
                    <a:pt x="52" y="37"/>
                    <a:pt x="56" y="37"/>
                  </a:cubicBezTo>
                  <a:cubicBezTo>
                    <a:pt x="60" y="36"/>
                    <a:pt x="60" y="28"/>
                    <a:pt x="63" y="27"/>
                  </a:cubicBezTo>
                  <a:cubicBezTo>
                    <a:pt x="69" y="25"/>
                    <a:pt x="71" y="42"/>
                    <a:pt x="55" y="41"/>
                  </a:cubicBezTo>
                  <a:cubicBezTo>
                    <a:pt x="55" y="47"/>
                    <a:pt x="63" y="50"/>
                    <a:pt x="69" y="49"/>
                  </a:cubicBezTo>
                  <a:cubicBezTo>
                    <a:pt x="76" y="48"/>
                    <a:pt x="75" y="57"/>
                    <a:pt x="65" y="55"/>
                  </a:cubicBezTo>
                  <a:cubicBezTo>
                    <a:pt x="58" y="53"/>
                    <a:pt x="55" y="50"/>
                    <a:pt x="52" y="45"/>
                  </a:cubicBezTo>
                  <a:cubicBezTo>
                    <a:pt x="51" y="54"/>
                    <a:pt x="62" y="55"/>
                    <a:pt x="64" y="57"/>
                  </a:cubicBezTo>
                  <a:cubicBezTo>
                    <a:pt x="66" y="58"/>
                    <a:pt x="66" y="63"/>
                    <a:pt x="59" y="60"/>
                  </a:cubicBezTo>
                  <a:cubicBezTo>
                    <a:pt x="51" y="57"/>
                    <a:pt x="48" y="48"/>
                    <a:pt x="48" y="46"/>
                  </a:cubicBezTo>
                  <a:cubicBezTo>
                    <a:pt x="46" y="50"/>
                    <a:pt x="53" y="56"/>
                    <a:pt x="53" y="59"/>
                  </a:cubicBezTo>
                  <a:cubicBezTo>
                    <a:pt x="53" y="61"/>
                    <a:pt x="51" y="62"/>
                    <a:pt x="48" y="61"/>
                  </a:cubicBezTo>
                  <a:cubicBezTo>
                    <a:pt x="47" y="60"/>
                    <a:pt x="46" y="52"/>
                    <a:pt x="44" y="46"/>
                  </a:cubicBezTo>
                  <a:cubicBezTo>
                    <a:pt x="40" y="43"/>
                    <a:pt x="39" y="41"/>
                    <a:pt x="37" y="38"/>
                  </a:cubicBezTo>
                  <a:cubicBezTo>
                    <a:pt x="37" y="38"/>
                    <a:pt x="13" y="30"/>
                    <a:pt x="0" y="14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2211120" y="4262760"/>
              <a:ext cx="1719360" cy="1077840"/>
            </a:xfrm>
            <a:custGeom>
              <a:avLst/>
              <a:gdLst/>
              <a:ahLst/>
              <a:rect l="l" t="t" r="r" b="b"/>
              <a:pathLst>
                <a:path w="119" h="73">
                  <a:moveTo>
                    <a:pt x="95" y="5"/>
                  </a:moveTo>
                  <a:cubicBezTo>
                    <a:pt x="90" y="1"/>
                    <a:pt x="73" y="0"/>
                    <a:pt x="60" y="1"/>
                  </a:cubicBezTo>
                  <a:cubicBezTo>
                    <a:pt x="46" y="0"/>
                    <a:pt x="29" y="2"/>
                    <a:pt x="24" y="5"/>
                  </a:cubicBezTo>
                  <a:cubicBezTo>
                    <a:pt x="11" y="12"/>
                    <a:pt x="0" y="35"/>
                    <a:pt x="0" y="35"/>
                  </a:cubicBezTo>
                  <a:cubicBezTo>
                    <a:pt x="0" y="35"/>
                    <a:pt x="2" y="42"/>
                    <a:pt x="6" y="46"/>
                  </a:cubicBezTo>
                  <a:cubicBezTo>
                    <a:pt x="11" y="50"/>
                    <a:pt x="19" y="52"/>
                    <a:pt x="19" y="52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66"/>
                    <a:pt x="38" y="73"/>
                    <a:pt x="60" y="73"/>
                  </a:cubicBezTo>
                  <a:cubicBezTo>
                    <a:pt x="81" y="73"/>
                    <a:pt x="95" y="66"/>
                    <a:pt x="95" y="66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101" y="52"/>
                    <a:pt x="101" y="52"/>
                    <a:pt x="101" y="52"/>
                  </a:cubicBezTo>
                  <a:cubicBezTo>
                    <a:pt x="101" y="52"/>
                    <a:pt x="107" y="50"/>
                    <a:pt x="112" y="46"/>
                  </a:cubicBezTo>
                  <a:cubicBezTo>
                    <a:pt x="116" y="42"/>
                    <a:pt x="119" y="35"/>
                    <a:pt x="119" y="35"/>
                  </a:cubicBezTo>
                  <a:cubicBezTo>
                    <a:pt x="119" y="35"/>
                    <a:pt x="105" y="12"/>
                    <a:pt x="9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962080" y="4469400"/>
              <a:ext cx="217800" cy="722880"/>
            </a:xfrm>
            <a:custGeom>
              <a:avLst/>
              <a:gdLst/>
              <a:ahLst/>
              <a:rect l="l" t="t" r="r" b="b"/>
              <a:pathLst>
                <a:path w="141" h="458">
                  <a:moveTo>
                    <a:pt x="141" y="66"/>
                  </a:moveTo>
                  <a:lnTo>
                    <a:pt x="75" y="0"/>
                  </a:lnTo>
                  <a:lnTo>
                    <a:pt x="0" y="66"/>
                  </a:lnTo>
                  <a:lnTo>
                    <a:pt x="56" y="131"/>
                  </a:lnTo>
                  <a:lnTo>
                    <a:pt x="0" y="374"/>
                  </a:lnTo>
                  <a:lnTo>
                    <a:pt x="75" y="458"/>
                  </a:lnTo>
                  <a:lnTo>
                    <a:pt x="141" y="374"/>
                  </a:lnTo>
                  <a:lnTo>
                    <a:pt x="85" y="131"/>
                  </a:lnTo>
                  <a:lnTo>
                    <a:pt x="141" y="66"/>
                  </a:lnTo>
                  <a:close/>
                </a:path>
              </a:pathLst>
            </a:custGeom>
            <a:solidFill>
              <a:srgbClr val="e72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2024280" y="3348360"/>
              <a:ext cx="2108880" cy="1092600"/>
            </a:xfrm>
            <a:custGeom>
              <a:avLst/>
              <a:gdLst/>
              <a:ahLst/>
              <a:rect l="l" t="t" r="r" b="b"/>
              <a:pathLst>
                <a:path w="146" h="74">
                  <a:moveTo>
                    <a:pt x="0" y="0"/>
                  </a:moveTo>
                  <a:cubicBezTo>
                    <a:pt x="0" y="48"/>
                    <a:pt x="34" y="74"/>
                    <a:pt x="75" y="74"/>
                  </a:cubicBezTo>
                  <a:cubicBezTo>
                    <a:pt x="115" y="74"/>
                    <a:pt x="146" y="41"/>
                    <a:pt x="14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2"/>
            <p:cNvSpPr/>
            <p:nvPr/>
          </p:nvSpPr>
          <p:spPr>
            <a:xfrm>
              <a:off x="2024280" y="3053520"/>
              <a:ext cx="2108880" cy="634320"/>
            </a:xfrm>
            <a:prstGeom prst="ellips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3"/>
            <p:cNvSpPr/>
            <p:nvPr/>
          </p:nvSpPr>
          <p:spPr>
            <a:xfrm>
              <a:off x="2240640" y="3111840"/>
              <a:ext cx="1676520" cy="427680"/>
            </a:xfrm>
            <a:prstGeom prst="ellips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2457000" y="3864600"/>
              <a:ext cx="419040" cy="148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4" y="10"/>
                  </a:moveTo>
                  <a:cubicBezTo>
                    <a:pt x="6" y="10"/>
                    <a:pt x="1" y="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8" y="6"/>
                    <a:pt x="14" y="6"/>
                  </a:cubicBezTo>
                  <a:cubicBezTo>
                    <a:pt x="21" y="6"/>
                    <a:pt x="25" y="1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ubicBezTo>
                    <a:pt x="29" y="2"/>
                    <a:pt x="29" y="3"/>
                    <a:pt x="28" y="4"/>
                  </a:cubicBezTo>
                  <a:cubicBezTo>
                    <a:pt x="28" y="4"/>
                    <a:pt x="23" y="10"/>
                    <a:pt x="1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3207960" y="3864600"/>
              <a:ext cx="419760" cy="1483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4" y="10"/>
                  </a:moveTo>
                  <a:cubicBezTo>
                    <a:pt x="6" y="10"/>
                    <a:pt x="1" y="4"/>
                    <a:pt x="0" y="4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3" y="0"/>
                    <a:pt x="3" y="1"/>
                  </a:cubicBezTo>
                  <a:cubicBezTo>
                    <a:pt x="3" y="1"/>
                    <a:pt x="8" y="6"/>
                    <a:pt x="14" y="6"/>
                  </a:cubicBezTo>
                  <a:cubicBezTo>
                    <a:pt x="21" y="6"/>
                    <a:pt x="26" y="1"/>
                    <a:pt x="26" y="1"/>
                  </a:cubicBezTo>
                  <a:cubicBezTo>
                    <a:pt x="26" y="0"/>
                    <a:pt x="28" y="0"/>
                    <a:pt x="28" y="1"/>
                  </a:cubicBezTo>
                  <a:cubicBezTo>
                    <a:pt x="29" y="2"/>
                    <a:pt x="29" y="3"/>
                    <a:pt x="28" y="4"/>
                  </a:cubicBezTo>
                  <a:cubicBezTo>
                    <a:pt x="28" y="4"/>
                    <a:pt x="23" y="10"/>
                    <a:pt x="1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2862000" y="4160160"/>
              <a:ext cx="418680" cy="14796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15" y="10"/>
                  </a:moveTo>
                  <a:cubicBezTo>
                    <a:pt x="6" y="10"/>
                    <a:pt x="1" y="4"/>
                    <a:pt x="1" y="3"/>
                  </a:cubicBezTo>
                  <a:cubicBezTo>
                    <a:pt x="0" y="3"/>
                    <a:pt x="0" y="1"/>
                    <a:pt x="1" y="1"/>
                  </a:cubicBezTo>
                  <a:cubicBezTo>
                    <a:pt x="2" y="0"/>
                    <a:pt x="3" y="0"/>
                    <a:pt x="4" y="1"/>
                  </a:cubicBezTo>
                  <a:cubicBezTo>
                    <a:pt x="4" y="1"/>
                    <a:pt x="8" y="6"/>
                    <a:pt x="15" y="6"/>
                  </a:cubicBezTo>
                  <a:cubicBezTo>
                    <a:pt x="21" y="6"/>
                    <a:pt x="26" y="1"/>
                    <a:pt x="26" y="1"/>
                  </a:cubicBezTo>
                  <a:cubicBezTo>
                    <a:pt x="26" y="0"/>
                    <a:pt x="28" y="0"/>
                    <a:pt x="28" y="1"/>
                  </a:cubicBezTo>
                  <a:cubicBezTo>
                    <a:pt x="29" y="1"/>
                    <a:pt x="29" y="3"/>
                    <a:pt x="29" y="3"/>
                  </a:cubicBezTo>
                  <a:cubicBezTo>
                    <a:pt x="28" y="4"/>
                    <a:pt x="23" y="10"/>
                    <a:pt x="15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304920" y="1858320"/>
              <a:ext cx="591480" cy="5018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30" y="0"/>
                  </a:moveTo>
                  <a:cubicBezTo>
                    <a:pt x="30" y="0"/>
                    <a:pt x="0" y="7"/>
                    <a:pt x="21" y="30"/>
                  </a:cubicBezTo>
                  <a:cubicBezTo>
                    <a:pt x="21" y="30"/>
                    <a:pt x="29" y="34"/>
                    <a:pt x="24" y="20"/>
                  </a:cubicBezTo>
                  <a:cubicBezTo>
                    <a:pt x="24" y="20"/>
                    <a:pt x="28" y="24"/>
                    <a:pt x="30" y="25"/>
                  </a:cubicBezTo>
                  <a:cubicBezTo>
                    <a:pt x="30" y="25"/>
                    <a:pt x="37" y="27"/>
                    <a:pt x="30" y="16"/>
                  </a:cubicBezTo>
                  <a:cubicBezTo>
                    <a:pt x="30" y="16"/>
                    <a:pt x="36" y="23"/>
                    <a:pt x="38" y="20"/>
                  </a:cubicBezTo>
                  <a:cubicBezTo>
                    <a:pt x="38" y="20"/>
                    <a:pt x="41" y="16"/>
                    <a:pt x="34" y="7"/>
                  </a:cubicBezTo>
                  <a:cubicBezTo>
                    <a:pt x="35" y="4"/>
                    <a:pt x="35" y="4"/>
                    <a:pt x="35" y="4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1098720" y="942840"/>
              <a:ext cx="477360" cy="5461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" y="30"/>
                  </a:moveTo>
                  <a:cubicBezTo>
                    <a:pt x="1" y="30"/>
                    <a:pt x="0" y="0"/>
                    <a:pt x="27" y="14"/>
                  </a:cubicBezTo>
                  <a:cubicBezTo>
                    <a:pt x="27" y="14"/>
                    <a:pt x="33" y="20"/>
                    <a:pt x="18" y="19"/>
                  </a:cubicBezTo>
                  <a:cubicBezTo>
                    <a:pt x="18" y="19"/>
                    <a:pt x="24" y="21"/>
                    <a:pt x="25" y="23"/>
                  </a:cubicBezTo>
                  <a:cubicBezTo>
                    <a:pt x="26" y="24"/>
                    <a:pt x="29" y="30"/>
                    <a:pt x="16" y="26"/>
                  </a:cubicBezTo>
                  <a:cubicBezTo>
                    <a:pt x="16" y="26"/>
                    <a:pt x="24" y="30"/>
                    <a:pt x="22" y="33"/>
                  </a:cubicBezTo>
                  <a:cubicBezTo>
                    <a:pt x="22" y="33"/>
                    <a:pt x="20" y="37"/>
                    <a:pt x="9" y="32"/>
                  </a:cubicBezTo>
                  <a:cubicBezTo>
                    <a:pt x="6" y="34"/>
                    <a:pt x="6" y="34"/>
                    <a:pt x="6" y="34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93280" y="1281960"/>
              <a:ext cx="750600" cy="70884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46" y="28"/>
                  </a:moveTo>
                  <a:cubicBezTo>
                    <a:pt x="47" y="21"/>
                    <a:pt x="45" y="12"/>
                    <a:pt x="38" y="7"/>
                  </a:cubicBezTo>
                  <a:cubicBezTo>
                    <a:pt x="28" y="0"/>
                    <a:pt x="15" y="1"/>
                    <a:pt x="7" y="11"/>
                  </a:cubicBezTo>
                  <a:cubicBezTo>
                    <a:pt x="0" y="20"/>
                    <a:pt x="2" y="34"/>
                    <a:pt x="11" y="41"/>
                  </a:cubicBezTo>
                  <a:cubicBezTo>
                    <a:pt x="18" y="46"/>
                    <a:pt x="27" y="47"/>
                    <a:pt x="34" y="43"/>
                  </a:cubicBezTo>
                  <a:cubicBezTo>
                    <a:pt x="37" y="46"/>
                    <a:pt x="37" y="46"/>
                    <a:pt x="37" y="46"/>
                  </a:cubicBezTo>
                  <a:cubicBezTo>
                    <a:pt x="40" y="48"/>
                    <a:pt x="43" y="47"/>
                    <a:pt x="45" y="45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2" y="36"/>
                    <a:pt x="51" y="33"/>
                    <a:pt x="49" y="31"/>
                  </a:cubicBezTo>
                  <a:lnTo>
                    <a:pt x="46" y="28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1112760" y="1710000"/>
              <a:ext cx="333720" cy="3693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2" y="6"/>
                  </a:moveTo>
                  <a:cubicBezTo>
                    <a:pt x="21" y="5"/>
                    <a:pt x="19" y="6"/>
                    <a:pt x="18" y="7"/>
                  </a:cubicBezTo>
                  <a:cubicBezTo>
                    <a:pt x="19" y="6"/>
                    <a:pt x="19" y="4"/>
                    <a:pt x="18" y="3"/>
                  </a:cubicBezTo>
                  <a:cubicBezTo>
                    <a:pt x="17" y="3"/>
                    <a:pt x="16" y="3"/>
                    <a:pt x="15" y="5"/>
                  </a:cubicBezTo>
                  <a:cubicBezTo>
                    <a:pt x="16" y="3"/>
                    <a:pt x="16" y="1"/>
                    <a:pt x="15" y="1"/>
                  </a:cubicBezTo>
                  <a:cubicBezTo>
                    <a:pt x="14" y="0"/>
                    <a:pt x="12" y="1"/>
                    <a:pt x="11" y="2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3" y="19"/>
                    <a:pt x="4" y="18"/>
                  </a:cubicBezTo>
                  <a:cubicBezTo>
                    <a:pt x="3" y="19"/>
                    <a:pt x="3" y="21"/>
                    <a:pt x="4" y="22"/>
                  </a:cubicBezTo>
                  <a:cubicBezTo>
                    <a:pt x="5" y="23"/>
                    <a:pt x="7" y="22"/>
                    <a:pt x="8" y="21"/>
                  </a:cubicBezTo>
                  <a:cubicBezTo>
                    <a:pt x="7" y="22"/>
                    <a:pt x="7" y="24"/>
                    <a:pt x="8" y="24"/>
                  </a:cubicBezTo>
                  <a:cubicBezTo>
                    <a:pt x="8" y="25"/>
                    <a:pt x="10" y="25"/>
                    <a:pt x="11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4" y="23"/>
                    <a:pt x="17" y="22"/>
                    <a:pt x="19" y="19"/>
                  </a:cubicBezTo>
                  <a:cubicBezTo>
                    <a:pt x="22" y="16"/>
                    <a:pt x="22" y="13"/>
                    <a:pt x="20" y="11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3" y="9"/>
                    <a:pt x="23" y="7"/>
                    <a:pt x="22" y="6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48560" y="2093760"/>
              <a:ext cx="129600" cy="2221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4"/>
                    <a:pt x="2" y="6"/>
                    <a:pt x="3" y="8"/>
                  </a:cubicBezTo>
                  <a:cubicBezTo>
                    <a:pt x="4" y="9"/>
                    <a:pt x="4" y="10"/>
                    <a:pt x="5" y="11"/>
                  </a:cubicBezTo>
                  <a:cubicBezTo>
                    <a:pt x="5" y="11"/>
                    <a:pt x="6" y="12"/>
                    <a:pt x="6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4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8" y="15"/>
                    <a:pt x="6" y="14"/>
                  </a:cubicBezTo>
                  <a:cubicBezTo>
                    <a:pt x="6" y="13"/>
                    <a:pt x="6" y="13"/>
                    <a:pt x="5" y="13"/>
                  </a:cubicBezTo>
                  <a:cubicBezTo>
                    <a:pt x="5" y="13"/>
                    <a:pt x="4" y="12"/>
                    <a:pt x="4" y="12"/>
                  </a:cubicBezTo>
                  <a:cubicBezTo>
                    <a:pt x="3" y="11"/>
                    <a:pt x="2" y="10"/>
                    <a:pt x="2" y="9"/>
                  </a:cubicBezTo>
                  <a:cubicBezTo>
                    <a:pt x="1" y="8"/>
                    <a:pt x="1" y="7"/>
                    <a:pt x="0" y="6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391320" y="2153520"/>
              <a:ext cx="100080" cy="1623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7"/>
                    <a:pt x="4" y="8"/>
                    <a:pt x="4" y="8"/>
                  </a:cubicBezTo>
                  <a:cubicBezTo>
                    <a:pt x="5" y="9"/>
                    <a:pt x="5" y="9"/>
                    <a:pt x="6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5" y="11"/>
                  </a:cubicBezTo>
                  <a:cubicBezTo>
                    <a:pt x="5" y="10"/>
                    <a:pt x="4" y="10"/>
                    <a:pt x="3" y="9"/>
                  </a:cubicBezTo>
                  <a:cubicBezTo>
                    <a:pt x="3" y="9"/>
                    <a:pt x="2" y="8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1171440" y="1016640"/>
              <a:ext cx="259200" cy="583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2"/>
                  </a:moveTo>
                  <a:cubicBezTo>
                    <a:pt x="18" y="2"/>
                    <a:pt x="17" y="1"/>
                    <a:pt x="15" y="1"/>
                  </a:cubicBezTo>
                  <a:cubicBezTo>
                    <a:pt x="14" y="1"/>
                    <a:pt x="11" y="1"/>
                    <a:pt x="9" y="1"/>
                  </a:cubicBezTo>
                  <a:cubicBezTo>
                    <a:pt x="8" y="1"/>
                    <a:pt x="7" y="1"/>
                    <a:pt x="6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2"/>
                    <a:pt x="3" y="2"/>
                    <a:pt x="3" y="3"/>
                  </a:cubicBezTo>
                  <a:cubicBezTo>
                    <a:pt x="2" y="3"/>
                    <a:pt x="2" y="3"/>
                    <a:pt x="1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1" y="4"/>
                    <a:pt x="1" y="3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5" y="1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0" y="0"/>
                    <a:pt x="11" y="0"/>
                    <a:pt x="12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7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1200600" y="942840"/>
              <a:ext cx="186840" cy="439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3" y="2"/>
                  </a:moveTo>
                  <a:cubicBezTo>
                    <a:pt x="13" y="2"/>
                    <a:pt x="12" y="2"/>
                    <a:pt x="11" y="2"/>
                  </a:cubicBezTo>
                  <a:cubicBezTo>
                    <a:pt x="10" y="1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2"/>
                    <a:pt x="7" y="1"/>
                    <a:pt x="7" y="2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7" y="0"/>
                    <a:pt x="8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10" y="0"/>
                    <a:pt x="11" y="0"/>
                    <a:pt x="11" y="1"/>
                  </a:cubicBezTo>
                  <a:cubicBezTo>
                    <a:pt x="13" y="1"/>
                    <a:pt x="13" y="2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1358280" y="2109600"/>
              <a:ext cx="331920" cy="3236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cubicBezTo>
                    <a:pt x="23" y="22"/>
                    <a:pt x="21" y="21"/>
                    <a:pt x="19" y="19"/>
                  </a:cubicBezTo>
                  <a:cubicBezTo>
                    <a:pt x="16" y="17"/>
                    <a:pt x="13" y="15"/>
                    <a:pt x="11" y="12"/>
                  </a:cubicBezTo>
                  <a:cubicBezTo>
                    <a:pt x="8" y="9"/>
                    <a:pt x="5" y="6"/>
                    <a:pt x="3" y="4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2" y="2"/>
                    <a:pt x="4" y="3"/>
                  </a:cubicBezTo>
                  <a:cubicBezTo>
                    <a:pt x="6" y="5"/>
                    <a:pt x="9" y="8"/>
                    <a:pt x="12" y="11"/>
                  </a:cubicBezTo>
                  <a:cubicBezTo>
                    <a:pt x="15" y="13"/>
                    <a:pt x="18" y="16"/>
                    <a:pt x="19" y="18"/>
                  </a:cubicBezTo>
                  <a:cubicBezTo>
                    <a:pt x="21" y="21"/>
                    <a:pt x="23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1417320" y="2049120"/>
              <a:ext cx="447840" cy="3992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1" y="27"/>
                  </a:moveTo>
                  <a:cubicBezTo>
                    <a:pt x="31" y="27"/>
                    <a:pt x="28" y="26"/>
                    <a:pt x="25" y="23"/>
                  </a:cubicBezTo>
                  <a:cubicBezTo>
                    <a:pt x="22" y="21"/>
                    <a:pt x="18" y="18"/>
                    <a:pt x="15" y="14"/>
                  </a:cubicBezTo>
                  <a:cubicBezTo>
                    <a:pt x="11" y="11"/>
                    <a:pt x="7" y="7"/>
                    <a:pt x="4" y="4"/>
                  </a:cubicBezTo>
                  <a:cubicBezTo>
                    <a:pt x="2" y="2"/>
                    <a:pt x="0" y="0"/>
                    <a:pt x="0" y="0"/>
                  </a:cubicBezTo>
                  <a:cubicBezTo>
                    <a:pt x="0" y="0"/>
                    <a:pt x="2" y="1"/>
                    <a:pt x="5" y="4"/>
                  </a:cubicBezTo>
                  <a:cubicBezTo>
                    <a:pt x="8" y="6"/>
                    <a:pt x="12" y="9"/>
                    <a:pt x="16" y="13"/>
                  </a:cubicBezTo>
                  <a:cubicBezTo>
                    <a:pt x="20" y="16"/>
                    <a:pt x="23" y="20"/>
                    <a:pt x="26" y="23"/>
                  </a:cubicBezTo>
                  <a:cubicBezTo>
                    <a:pt x="29" y="25"/>
                    <a:pt x="31" y="27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1460160" y="1976760"/>
              <a:ext cx="331920" cy="27936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9"/>
                  </a:moveTo>
                  <a:cubicBezTo>
                    <a:pt x="23" y="19"/>
                    <a:pt x="22" y="18"/>
                    <a:pt x="19" y="16"/>
                  </a:cubicBezTo>
                  <a:cubicBezTo>
                    <a:pt x="17" y="15"/>
                    <a:pt x="14" y="12"/>
                    <a:pt x="11" y="10"/>
                  </a:cubicBezTo>
                  <a:cubicBezTo>
                    <a:pt x="8" y="8"/>
                    <a:pt x="5" y="5"/>
                    <a:pt x="3" y="3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1" y="1"/>
                    <a:pt x="4" y="2"/>
                  </a:cubicBezTo>
                  <a:cubicBezTo>
                    <a:pt x="6" y="4"/>
                    <a:pt x="9" y="6"/>
                    <a:pt x="12" y="8"/>
                  </a:cubicBezTo>
                  <a:cubicBezTo>
                    <a:pt x="15" y="11"/>
                    <a:pt x="18" y="13"/>
                    <a:pt x="20" y="15"/>
                  </a:cubicBezTo>
                  <a:cubicBezTo>
                    <a:pt x="22" y="17"/>
                    <a:pt x="23" y="19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1749240" y="1149480"/>
              <a:ext cx="288360" cy="413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10"/>
                  </a:moveTo>
                  <a:cubicBezTo>
                    <a:pt x="19" y="10"/>
                    <a:pt x="0" y="0"/>
                    <a:pt x="0" y="22"/>
                  </a:cubicBezTo>
                  <a:cubicBezTo>
                    <a:pt x="0" y="22"/>
                    <a:pt x="3" y="28"/>
                    <a:pt x="6" y="18"/>
                  </a:cubicBezTo>
                  <a:cubicBezTo>
                    <a:pt x="6" y="18"/>
                    <a:pt x="7" y="22"/>
                    <a:pt x="7" y="24"/>
                  </a:cubicBezTo>
                  <a:cubicBezTo>
                    <a:pt x="7" y="24"/>
                    <a:pt x="10" y="28"/>
                    <a:pt x="12" y="19"/>
                  </a:cubicBezTo>
                  <a:cubicBezTo>
                    <a:pt x="12" y="19"/>
                    <a:pt x="12" y="25"/>
                    <a:pt x="14" y="25"/>
                  </a:cubicBezTo>
                  <a:cubicBezTo>
                    <a:pt x="14" y="25"/>
                    <a:pt x="18" y="24"/>
                    <a:pt x="18" y="16"/>
                  </a:cubicBezTo>
                  <a:cubicBezTo>
                    <a:pt x="20" y="15"/>
                    <a:pt x="20" y="15"/>
                    <a:pt x="20" y="15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2427840" y="972720"/>
              <a:ext cx="317880" cy="4417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7"/>
                  </a:moveTo>
                  <a:cubicBezTo>
                    <a:pt x="0" y="17"/>
                    <a:pt x="14" y="0"/>
                    <a:pt x="22" y="20"/>
                  </a:cubicBezTo>
                  <a:cubicBezTo>
                    <a:pt x="22" y="20"/>
                    <a:pt x="22" y="26"/>
                    <a:pt x="15" y="19"/>
                  </a:cubicBezTo>
                  <a:cubicBezTo>
                    <a:pt x="15" y="19"/>
                    <a:pt x="17" y="22"/>
                    <a:pt x="17" y="24"/>
                  </a:cubicBezTo>
                  <a:cubicBezTo>
                    <a:pt x="17" y="25"/>
                    <a:pt x="16" y="30"/>
                    <a:pt x="11" y="21"/>
                  </a:cubicBezTo>
                  <a:cubicBezTo>
                    <a:pt x="11" y="21"/>
                    <a:pt x="13" y="27"/>
                    <a:pt x="11" y="28"/>
                  </a:cubicBezTo>
                  <a:cubicBezTo>
                    <a:pt x="11" y="28"/>
                    <a:pt x="8" y="29"/>
                    <a:pt x="4" y="21"/>
                  </a:cubicBezTo>
                  <a:cubicBezTo>
                    <a:pt x="1" y="21"/>
                    <a:pt x="1" y="21"/>
                    <a:pt x="1" y="21"/>
                  </a:cubicBez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1995120" y="1031040"/>
              <a:ext cx="475560" cy="56196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6" y="29"/>
                  </a:moveTo>
                  <a:cubicBezTo>
                    <a:pt x="30" y="25"/>
                    <a:pt x="33" y="19"/>
                    <a:pt x="32" y="13"/>
                  </a:cubicBezTo>
                  <a:cubicBezTo>
                    <a:pt x="30" y="5"/>
                    <a:pt x="22" y="0"/>
                    <a:pt x="13" y="2"/>
                  </a:cubicBezTo>
                  <a:cubicBezTo>
                    <a:pt x="5" y="3"/>
                    <a:pt x="0" y="12"/>
                    <a:pt x="1" y="20"/>
                  </a:cubicBezTo>
                  <a:cubicBezTo>
                    <a:pt x="3" y="26"/>
                    <a:pt x="7" y="30"/>
                    <a:pt x="13" y="32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4" y="36"/>
                    <a:pt x="16" y="38"/>
                    <a:pt x="18" y="37"/>
                  </a:cubicBezTo>
                  <a:cubicBezTo>
                    <a:pt x="24" y="36"/>
                    <a:pt x="24" y="36"/>
                    <a:pt x="24" y="36"/>
                  </a:cubicBezTo>
                  <a:cubicBezTo>
                    <a:pt x="26" y="36"/>
                    <a:pt x="27" y="34"/>
                    <a:pt x="27" y="31"/>
                  </a:cubicBezTo>
                  <a:lnTo>
                    <a:pt x="26" y="29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2168280" y="1474560"/>
              <a:ext cx="259560" cy="2066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7" y="8"/>
                  </a:moveTo>
                  <a:cubicBezTo>
                    <a:pt x="17" y="7"/>
                    <a:pt x="16" y="7"/>
                    <a:pt x="15" y="7"/>
                  </a:cubicBezTo>
                  <a:cubicBezTo>
                    <a:pt x="16" y="7"/>
                    <a:pt x="17" y="6"/>
                    <a:pt x="17" y="5"/>
                  </a:cubicBezTo>
                  <a:cubicBezTo>
                    <a:pt x="17" y="4"/>
                    <a:pt x="15" y="3"/>
                    <a:pt x="14" y="4"/>
                  </a:cubicBezTo>
                  <a:cubicBezTo>
                    <a:pt x="15" y="3"/>
                    <a:pt x="16" y="3"/>
                    <a:pt x="16" y="2"/>
                  </a:cubicBezTo>
                  <a:cubicBezTo>
                    <a:pt x="16" y="1"/>
                    <a:pt x="15" y="0"/>
                    <a:pt x="14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2" y="12"/>
                    <a:pt x="3" y="13"/>
                    <a:pt x="4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4"/>
                    <a:pt x="8" y="14"/>
                    <a:pt x="10" y="14"/>
                  </a:cubicBezTo>
                  <a:cubicBezTo>
                    <a:pt x="13" y="13"/>
                    <a:pt x="15" y="12"/>
                    <a:pt x="14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10"/>
                    <a:pt x="18" y="9"/>
                    <a:pt x="17" y="8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1706040" y="1281960"/>
              <a:ext cx="57240" cy="19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0"/>
                  </a:moveTo>
                  <a:cubicBezTo>
                    <a:pt x="4" y="0"/>
                    <a:pt x="3" y="1"/>
                    <a:pt x="3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1" y="7"/>
                    <a:pt x="1" y="8"/>
                    <a:pt x="1" y="9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1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1662840" y="1297800"/>
              <a:ext cx="42840" cy="1465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cubicBezTo>
                    <a:pt x="3" y="0"/>
                    <a:pt x="3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0"/>
                    <a:pt x="1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>
              <a:off x="2616120" y="1074960"/>
              <a:ext cx="143640" cy="1040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cubicBezTo>
                    <a:pt x="10" y="7"/>
                    <a:pt x="10" y="7"/>
                    <a:pt x="9" y="6"/>
                  </a:cubicBezTo>
                  <a:cubicBezTo>
                    <a:pt x="8" y="5"/>
                    <a:pt x="7" y="4"/>
                    <a:pt x="5" y="3"/>
                  </a:cubicBezTo>
                  <a:cubicBezTo>
                    <a:pt x="5" y="2"/>
                    <a:pt x="4" y="2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7" y="2"/>
                    <a:pt x="7" y="3"/>
                    <a:pt x="8" y="4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10" y="6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2659320" y="1046880"/>
              <a:ext cx="115920" cy="723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cubicBezTo>
                    <a:pt x="8" y="5"/>
                    <a:pt x="7" y="5"/>
                    <a:pt x="7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4" y="1"/>
                    <a:pt x="5" y="1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4"/>
                  </a:cubicBezTo>
                  <a:cubicBezTo>
                    <a:pt x="8" y="5"/>
                    <a:pt x="8" y="5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>
              <a:off x="2270160" y="1725480"/>
              <a:ext cx="56880" cy="25092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17"/>
                  </a:moveTo>
                  <a:cubicBezTo>
                    <a:pt x="4" y="17"/>
                    <a:pt x="3" y="16"/>
                    <a:pt x="3" y="14"/>
                  </a:cubicBezTo>
                  <a:cubicBezTo>
                    <a:pt x="2" y="13"/>
                    <a:pt x="2" y="11"/>
                    <a:pt x="1" y="9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1" y="3"/>
                  </a:cubicBezTo>
                  <a:cubicBezTo>
                    <a:pt x="1" y="4"/>
                    <a:pt x="2" y="6"/>
                    <a:pt x="2" y="8"/>
                  </a:cubicBezTo>
                  <a:cubicBezTo>
                    <a:pt x="3" y="10"/>
                    <a:pt x="3" y="13"/>
                    <a:pt x="3" y="14"/>
                  </a:cubicBezTo>
                  <a:cubicBezTo>
                    <a:pt x="3" y="16"/>
                    <a:pt x="4" y="17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>
              <a:off x="2327040" y="1710000"/>
              <a:ext cx="86400" cy="3549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24"/>
                  </a:moveTo>
                  <a:cubicBezTo>
                    <a:pt x="6" y="24"/>
                    <a:pt x="5" y="23"/>
                    <a:pt x="5" y="21"/>
                  </a:cubicBezTo>
                  <a:cubicBezTo>
                    <a:pt x="4" y="18"/>
                    <a:pt x="3" y="15"/>
                    <a:pt x="2" y="12"/>
                  </a:cubicBezTo>
                  <a:cubicBezTo>
                    <a:pt x="2" y="9"/>
                    <a:pt x="1" y="6"/>
                    <a:pt x="1" y="4"/>
                  </a:cubicBezTo>
                  <a:cubicBezTo>
                    <a:pt x="0" y="2"/>
                    <a:pt x="0" y="0"/>
                    <a:pt x="0" y="0"/>
                  </a:cubicBezTo>
                  <a:cubicBezTo>
                    <a:pt x="0" y="0"/>
                    <a:pt x="1" y="2"/>
                    <a:pt x="1" y="4"/>
                  </a:cubicBezTo>
                  <a:cubicBezTo>
                    <a:pt x="2" y="6"/>
                    <a:pt x="3" y="9"/>
                    <a:pt x="4" y="12"/>
                  </a:cubicBezTo>
                  <a:cubicBezTo>
                    <a:pt x="4" y="15"/>
                    <a:pt x="5" y="18"/>
                    <a:pt x="5" y="20"/>
                  </a:cubicBezTo>
                  <a:cubicBezTo>
                    <a:pt x="6" y="23"/>
                    <a:pt x="6" y="24"/>
                    <a:pt x="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>
              <a:off x="2399760" y="1681560"/>
              <a:ext cx="56880" cy="25092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4" y="17"/>
                  </a:moveTo>
                  <a:cubicBezTo>
                    <a:pt x="4" y="17"/>
                    <a:pt x="4" y="16"/>
                    <a:pt x="3" y="15"/>
                  </a:cubicBezTo>
                  <a:cubicBezTo>
                    <a:pt x="3" y="13"/>
                    <a:pt x="2" y="11"/>
                    <a:pt x="1" y="9"/>
                  </a:cubicBezTo>
                  <a:cubicBezTo>
                    <a:pt x="1" y="7"/>
                    <a:pt x="0" y="4"/>
                    <a:pt x="0" y="3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1" y="3"/>
                  </a:cubicBezTo>
                  <a:cubicBezTo>
                    <a:pt x="1" y="4"/>
                    <a:pt x="2" y="6"/>
                    <a:pt x="3" y="8"/>
                  </a:cubicBezTo>
                  <a:cubicBezTo>
                    <a:pt x="3" y="11"/>
                    <a:pt x="4" y="13"/>
                    <a:pt x="4" y="15"/>
                  </a:cubicBezTo>
                  <a:cubicBezTo>
                    <a:pt x="4" y="16"/>
                    <a:pt x="4" y="17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>
              <a:off x="1619280" y="2521440"/>
              <a:ext cx="519120" cy="5018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0" y="3"/>
                  </a:moveTo>
                  <a:cubicBezTo>
                    <a:pt x="30" y="3"/>
                    <a:pt x="0" y="0"/>
                    <a:pt x="12" y="28"/>
                  </a:cubicBezTo>
                  <a:cubicBezTo>
                    <a:pt x="12" y="28"/>
                    <a:pt x="18" y="34"/>
                    <a:pt x="18" y="20"/>
                  </a:cubicBezTo>
                  <a:cubicBezTo>
                    <a:pt x="18" y="20"/>
                    <a:pt x="20" y="26"/>
                    <a:pt x="22" y="27"/>
                  </a:cubicBezTo>
                  <a:cubicBezTo>
                    <a:pt x="22" y="27"/>
                    <a:pt x="28" y="31"/>
                    <a:pt x="25" y="18"/>
                  </a:cubicBezTo>
                  <a:cubicBezTo>
                    <a:pt x="25" y="18"/>
                    <a:pt x="28" y="26"/>
                    <a:pt x="32" y="25"/>
                  </a:cubicBezTo>
                  <a:cubicBezTo>
                    <a:pt x="32" y="25"/>
                    <a:pt x="36" y="23"/>
                    <a:pt x="32" y="11"/>
                  </a:cubicBezTo>
                  <a:cubicBezTo>
                    <a:pt x="34" y="9"/>
                    <a:pt x="34" y="9"/>
                    <a:pt x="34" y="9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>
              <a:off x="2572920" y="1828440"/>
              <a:ext cx="475560" cy="62028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9"/>
                  </a:moveTo>
                  <a:cubicBezTo>
                    <a:pt x="0" y="29"/>
                    <a:pt x="9" y="0"/>
                    <a:pt x="30" y="22"/>
                  </a:cubicBezTo>
                  <a:cubicBezTo>
                    <a:pt x="30" y="22"/>
                    <a:pt x="33" y="31"/>
                    <a:pt x="20" y="24"/>
                  </a:cubicBezTo>
                  <a:cubicBezTo>
                    <a:pt x="20" y="24"/>
                    <a:pt x="24" y="29"/>
                    <a:pt x="25" y="31"/>
                  </a:cubicBezTo>
                  <a:cubicBezTo>
                    <a:pt x="25" y="32"/>
                    <a:pt x="26" y="39"/>
                    <a:pt x="15" y="30"/>
                  </a:cubicBezTo>
                  <a:cubicBezTo>
                    <a:pt x="15" y="30"/>
                    <a:pt x="22" y="37"/>
                    <a:pt x="19" y="39"/>
                  </a:cubicBezTo>
                  <a:cubicBezTo>
                    <a:pt x="19" y="39"/>
                    <a:pt x="15" y="42"/>
                    <a:pt x="6" y="34"/>
                  </a:cubicBezTo>
                  <a:cubicBezTo>
                    <a:pt x="3" y="35"/>
                    <a:pt x="3" y="35"/>
                    <a:pt x="3" y="35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>
              <a:off x="1965600" y="2064960"/>
              <a:ext cx="693720" cy="78120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4" y="36"/>
                  </a:moveTo>
                  <a:cubicBezTo>
                    <a:pt x="48" y="30"/>
                    <a:pt x="48" y="21"/>
                    <a:pt x="43" y="13"/>
                  </a:cubicBezTo>
                  <a:cubicBezTo>
                    <a:pt x="37" y="3"/>
                    <a:pt x="23" y="0"/>
                    <a:pt x="13" y="7"/>
                  </a:cubicBezTo>
                  <a:cubicBezTo>
                    <a:pt x="3" y="13"/>
                    <a:pt x="0" y="27"/>
                    <a:pt x="7" y="37"/>
                  </a:cubicBezTo>
                  <a:cubicBezTo>
                    <a:pt x="11" y="44"/>
                    <a:pt x="20" y="48"/>
                    <a:pt x="28" y="47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1" y="52"/>
                    <a:pt x="35" y="53"/>
                    <a:pt x="37" y="52"/>
                  </a:cubicBezTo>
                  <a:cubicBezTo>
                    <a:pt x="44" y="47"/>
                    <a:pt x="44" y="47"/>
                    <a:pt x="44" y="47"/>
                  </a:cubicBezTo>
                  <a:cubicBezTo>
                    <a:pt x="46" y="46"/>
                    <a:pt x="47" y="42"/>
                    <a:pt x="46" y="40"/>
                  </a:cubicBezTo>
                  <a:lnTo>
                    <a:pt x="44" y="36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>
              <a:off x="2370600" y="2625840"/>
              <a:ext cx="361080" cy="3247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9"/>
                  </a:moveTo>
                  <a:cubicBezTo>
                    <a:pt x="24" y="8"/>
                    <a:pt x="22" y="8"/>
                    <a:pt x="21" y="9"/>
                  </a:cubicBezTo>
                  <a:cubicBezTo>
                    <a:pt x="22" y="8"/>
                    <a:pt x="23" y="6"/>
                    <a:pt x="22" y="5"/>
                  </a:cubicBezTo>
                  <a:cubicBezTo>
                    <a:pt x="22" y="4"/>
                    <a:pt x="20" y="4"/>
                    <a:pt x="18" y="5"/>
                  </a:cubicBezTo>
                  <a:cubicBezTo>
                    <a:pt x="20" y="4"/>
                    <a:pt x="21" y="2"/>
                    <a:pt x="20" y="1"/>
                  </a:cubicBezTo>
                  <a:cubicBezTo>
                    <a:pt x="19" y="0"/>
                    <a:pt x="17" y="0"/>
                    <a:pt x="16" y="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3"/>
                    <a:pt x="0" y="14"/>
                  </a:cubicBezTo>
                  <a:cubicBezTo>
                    <a:pt x="1" y="15"/>
                    <a:pt x="3" y="15"/>
                    <a:pt x="4" y="14"/>
                  </a:cubicBezTo>
                  <a:cubicBezTo>
                    <a:pt x="3" y="15"/>
                    <a:pt x="2" y="16"/>
                    <a:pt x="3" y="18"/>
                  </a:cubicBezTo>
                  <a:cubicBezTo>
                    <a:pt x="3" y="19"/>
                    <a:pt x="5" y="19"/>
                    <a:pt x="7" y="18"/>
                  </a:cubicBezTo>
                  <a:cubicBezTo>
                    <a:pt x="5" y="19"/>
                    <a:pt x="4" y="20"/>
                    <a:pt x="5" y="21"/>
                  </a:cubicBezTo>
                  <a:cubicBezTo>
                    <a:pt x="6" y="22"/>
                    <a:pt x="7" y="22"/>
                    <a:pt x="9" y="21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11" y="22"/>
                    <a:pt x="15" y="22"/>
                    <a:pt x="18" y="20"/>
                  </a:cubicBezTo>
                  <a:cubicBezTo>
                    <a:pt x="21" y="18"/>
                    <a:pt x="23" y="15"/>
                    <a:pt x="22" y="13"/>
                  </a:cubicBezTo>
                  <a:cubicBezTo>
                    <a:pt x="23" y="12"/>
                    <a:pt x="23" y="12"/>
                    <a:pt x="23" y="12"/>
                  </a:cubicBezTo>
                  <a:cubicBezTo>
                    <a:pt x="25" y="11"/>
                    <a:pt x="25" y="10"/>
                    <a:pt x="25" y="9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>
              <a:off x="1690560" y="2684160"/>
              <a:ext cx="72720" cy="25092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1" y="0"/>
                  </a:moveTo>
                  <a:cubicBezTo>
                    <a:pt x="1" y="0"/>
                    <a:pt x="1" y="1"/>
                    <a:pt x="1" y="3"/>
                  </a:cubicBezTo>
                  <a:cubicBezTo>
                    <a:pt x="1" y="5"/>
                    <a:pt x="1" y="7"/>
                    <a:pt x="1" y="9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2" y="13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6"/>
                    <a:pt x="4" y="16"/>
                    <a:pt x="4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4" y="17"/>
                    <a:pt x="3" y="16"/>
                  </a:cubicBezTo>
                  <a:cubicBezTo>
                    <a:pt x="2" y="15"/>
                    <a:pt x="2" y="15"/>
                    <a:pt x="2" y="14"/>
                  </a:cubicBezTo>
                  <a:cubicBezTo>
                    <a:pt x="1" y="14"/>
                    <a:pt x="1" y="13"/>
                    <a:pt x="1" y="13"/>
                  </a:cubicBezTo>
                  <a:cubicBezTo>
                    <a:pt x="0" y="12"/>
                    <a:pt x="0" y="11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>
              <a:off x="1619280" y="2728080"/>
              <a:ext cx="57240" cy="1926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2" y="4"/>
                    <a:pt x="2" y="5"/>
                  </a:cubicBezTo>
                  <a:cubicBezTo>
                    <a:pt x="2" y="5"/>
                    <a:pt x="2" y="5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4" y="13"/>
                    <a:pt x="3" y="13"/>
                    <a:pt x="2" y="12"/>
                  </a:cubicBezTo>
                  <a:cubicBezTo>
                    <a:pt x="2" y="11"/>
                    <a:pt x="2" y="10"/>
                    <a:pt x="1" y="10"/>
                  </a:cubicBezTo>
                  <a:cubicBezTo>
                    <a:pt x="1" y="9"/>
                    <a:pt x="1" y="8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>
              <a:off x="2732040" y="1960920"/>
              <a:ext cx="245880" cy="738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7" y="5"/>
                  </a:moveTo>
                  <a:cubicBezTo>
                    <a:pt x="17" y="5"/>
                    <a:pt x="16" y="5"/>
                    <a:pt x="15" y="4"/>
                  </a:cubicBezTo>
                  <a:cubicBezTo>
                    <a:pt x="13" y="3"/>
                    <a:pt x="11" y="2"/>
                    <a:pt x="9" y="2"/>
                  </a:cubicBezTo>
                  <a:cubicBezTo>
                    <a:pt x="8" y="2"/>
                    <a:pt x="7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0"/>
                    <a:pt x="5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11" y="1"/>
                    <a:pt x="12" y="1"/>
                    <a:pt x="13" y="2"/>
                  </a:cubicBezTo>
                  <a:cubicBezTo>
                    <a:pt x="14" y="2"/>
                    <a:pt x="15" y="3"/>
                    <a:pt x="15" y="3"/>
                  </a:cubicBezTo>
                  <a:cubicBezTo>
                    <a:pt x="17" y="4"/>
                    <a:pt x="17" y="5"/>
                    <a:pt x="1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>
              <a:off x="2789280" y="1902600"/>
              <a:ext cx="172440" cy="583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cubicBezTo>
                    <a:pt x="12" y="4"/>
                    <a:pt x="12" y="3"/>
                    <a:pt x="10" y="3"/>
                  </a:cubicBezTo>
                  <a:cubicBezTo>
                    <a:pt x="10" y="3"/>
                    <a:pt x="9" y="2"/>
                    <a:pt x="8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7" y="2"/>
                    <a:pt x="7" y="2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2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7" y="0"/>
                    <a:pt x="8" y="0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10" y="1"/>
                    <a:pt x="10" y="2"/>
                    <a:pt x="11" y="2"/>
                  </a:cubicBezTo>
                  <a:cubicBezTo>
                    <a:pt x="12" y="3"/>
                    <a:pt x="12" y="4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>
              <a:off x="2572920" y="2995200"/>
              <a:ext cx="202320" cy="3391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23"/>
                  </a:moveTo>
                  <a:cubicBezTo>
                    <a:pt x="14" y="23"/>
                    <a:pt x="12" y="22"/>
                    <a:pt x="11" y="20"/>
                  </a:cubicBezTo>
                  <a:cubicBezTo>
                    <a:pt x="9" y="18"/>
                    <a:pt x="8" y="15"/>
                    <a:pt x="6" y="12"/>
                  </a:cubicBezTo>
                  <a:cubicBezTo>
                    <a:pt x="4" y="9"/>
                    <a:pt x="3" y="6"/>
                    <a:pt x="1" y="4"/>
                  </a:cubicBezTo>
                  <a:cubicBezTo>
                    <a:pt x="0" y="2"/>
                    <a:pt x="0" y="0"/>
                    <a:pt x="0" y="0"/>
                  </a:cubicBezTo>
                  <a:cubicBezTo>
                    <a:pt x="0" y="0"/>
                    <a:pt x="1" y="1"/>
                    <a:pt x="2" y="3"/>
                  </a:cubicBezTo>
                  <a:cubicBezTo>
                    <a:pt x="4" y="5"/>
                    <a:pt x="6" y="8"/>
                    <a:pt x="8" y="11"/>
                  </a:cubicBezTo>
                  <a:cubicBezTo>
                    <a:pt x="9" y="14"/>
                    <a:pt x="11" y="17"/>
                    <a:pt x="12" y="19"/>
                  </a:cubicBezTo>
                  <a:cubicBezTo>
                    <a:pt x="13" y="22"/>
                    <a:pt x="14" y="23"/>
                    <a:pt x="1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2645280" y="2950920"/>
              <a:ext cx="273600" cy="442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9" y="30"/>
                    <a:pt x="18" y="28"/>
                    <a:pt x="16" y="25"/>
                  </a:cubicBezTo>
                  <a:cubicBezTo>
                    <a:pt x="14" y="23"/>
                    <a:pt x="11" y="19"/>
                    <a:pt x="9" y="16"/>
                  </a:cubicBezTo>
                  <a:cubicBezTo>
                    <a:pt x="6" y="12"/>
                    <a:pt x="4" y="8"/>
                    <a:pt x="2" y="5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1" y="2"/>
                    <a:pt x="3" y="5"/>
                  </a:cubicBezTo>
                  <a:cubicBezTo>
                    <a:pt x="5" y="7"/>
                    <a:pt x="8" y="11"/>
                    <a:pt x="10" y="14"/>
                  </a:cubicBezTo>
                  <a:cubicBezTo>
                    <a:pt x="13" y="18"/>
                    <a:pt x="15" y="22"/>
                    <a:pt x="17" y="25"/>
                  </a:cubicBezTo>
                  <a:cubicBezTo>
                    <a:pt x="18" y="28"/>
                    <a:pt x="19" y="30"/>
                    <a:pt x="19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>
              <a:off x="2702880" y="2920680"/>
              <a:ext cx="216000" cy="30960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21"/>
                  </a:moveTo>
                  <a:cubicBezTo>
                    <a:pt x="15" y="21"/>
                    <a:pt x="14" y="19"/>
                    <a:pt x="13" y="18"/>
                  </a:cubicBezTo>
                  <a:cubicBezTo>
                    <a:pt x="11" y="16"/>
                    <a:pt x="9" y="13"/>
                    <a:pt x="7" y="11"/>
                  </a:cubicBezTo>
                  <a:cubicBezTo>
                    <a:pt x="5" y="8"/>
                    <a:pt x="4" y="5"/>
                    <a:pt x="2" y="3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2" y="1"/>
                    <a:pt x="3" y="2"/>
                  </a:cubicBezTo>
                  <a:cubicBezTo>
                    <a:pt x="5" y="4"/>
                    <a:pt x="7" y="7"/>
                    <a:pt x="9" y="9"/>
                  </a:cubicBezTo>
                  <a:cubicBezTo>
                    <a:pt x="11" y="12"/>
                    <a:pt x="12" y="15"/>
                    <a:pt x="14" y="17"/>
                  </a:cubicBezTo>
                  <a:cubicBezTo>
                    <a:pt x="15" y="19"/>
                    <a:pt x="15" y="21"/>
                    <a:pt x="1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>
              <a:off x="3887640" y="2079360"/>
              <a:ext cx="750600" cy="63468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3" y="0"/>
                  </a:moveTo>
                  <a:cubicBezTo>
                    <a:pt x="13" y="0"/>
                    <a:pt x="52" y="6"/>
                    <a:pt x="28" y="37"/>
                  </a:cubicBezTo>
                  <a:cubicBezTo>
                    <a:pt x="28" y="37"/>
                    <a:pt x="18" y="43"/>
                    <a:pt x="23" y="24"/>
                  </a:cubicBezTo>
                  <a:cubicBezTo>
                    <a:pt x="23" y="24"/>
                    <a:pt x="18" y="31"/>
                    <a:pt x="16" y="32"/>
                  </a:cubicBezTo>
                  <a:cubicBezTo>
                    <a:pt x="15" y="32"/>
                    <a:pt x="7" y="35"/>
                    <a:pt x="15" y="20"/>
                  </a:cubicBezTo>
                  <a:cubicBezTo>
                    <a:pt x="15" y="20"/>
                    <a:pt x="8" y="29"/>
                    <a:pt x="4" y="26"/>
                  </a:cubicBezTo>
                  <a:cubicBezTo>
                    <a:pt x="4" y="26"/>
                    <a:pt x="0" y="22"/>
                    <a:pt x="9" y="9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>
              <a:off x="3034800" y="958320"/>
              <a:ext cx="636480" cy="67860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0" y="39"/>
                  </a:moveTo>
                  <a:cubicBezTo>
                    <a:pt x="40" y="39"/>
                    <a:pt x="44" y="0"/>
                    <a:pt x="8" y="15"/>
                  </a:cubicBezTo>
                  <a:cubicBezTo>
                    <a:pt x="8" y="15"/>
                    <a:pt x="0" y="23"/>
                    <a:pt x="19" y="23"/>
                  </a:cubicBezTo>
                  <a:cubicBezTo>
                    <a:pt x="19" y="23"/>
                    <a:pt x="11" y="26"/>
                    <a:pt x="10" y="28"/>
                  </a:cubicBezTo>
                  <a:cubicBezTo>
                    <a:pt x="9" y="28"/>
                    <a:pt x="4" y="36"/>
                    <a:pt x="21" y="32"/>
                  </a:cubicBezTo>
                  <a:cubicBezTo>
                    <a:pt x="21" y="32"/>
                    <a:pt x="10" y="36"/>
                    <a:pt x="12" y="41"/>
                  </a:cubicBezTo>
                  <a:cubicBezTo>
                    <a:pt x="12" y="41"/>
                    <a:pt x="15" y="46"/>
                    <a:pt x="29" y="41"/>
                  </a:cubicBezTo>
                  <a:cubicBezTo>
                    <a:pt x="32" y="44"/>
                    <a:pt x="32" y="44"/>
                    <a:pt x="32" y="44"/>
                  </a:cubicBezTo>
                  <a:lnTo>
                    <a:pt x="40" y="39"/>
                  </a:lnTo>
                  <a:close/>
                </a:path>
              </a:pathLst>
            </a:cu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>
              <a:off x="3093480" y="1459080"/>
              <a:ext cx="1299240" cy="101808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69" y="10"/>
                  </a:moveTo>
                  <a:cubicBezTo>
                    <a:pt x="69" y="10"/>
                    <a:pt x="60" y="0"/>
                    <a:pt x="48" y="6"/>
                  </a:cubicBezTo>
                  <a:cubicBezTo>
                    <a:pt x="48" y="6"/>
                    <a:pt x="33" y="0"/>
                    <a:pt x="29" y="10"/>
                  </a:cubicBezTo>
                  <a:cubicBezTo>
                    <a:pt x="29" y="10"/>
                    <a:pt x="0" y="27"/>
                    <a:pt x="18" y="38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40"/>
                    <a:pt x="17" y="46"/>
                    <a:pt x="22" y="48"/>
                  </a:cubicBezTo>
                  <a:cubicBezTo>
                    <a:pt x="24" y="50"/>
                    <a:pt x="25" y="52"/>
                    <a:pt x="25" y="52"/>
                  </a:cubicBezTo>
                  <a:cubicBezTo>
                    <a:pt x="20" y="69"/>
                    <a:pt x="29" y="64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31" y="64"/>
                    <a:pt x="34" y="52"/>
                    <a:pt x="34" y="52"/>
                  </a:cubicBezTo>
                  <a:cubicBezTo>
                    <a:pt x="38" y="51"/>
                    <a:pt x="41" y="48"/>
                    <a:pt x="42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2" y="45"/>
                    <a:pt x="48" y="55"/>
                    <a:pt x="62" y="47"/>
                  </a:cubicBezTo>
                  <a:cubicBezTo>
                    <a:pt x="75" y="38"/>
                    <a:pt x="90" y="30"/>
                    <a:pt x="69" y="10"/>
                  </a:cubicBezTo>
                  <a:close/>
                </a:path>
              </a:pathLst>
            </a:custGeom>
            <a:solidFill>
              <a:srgbClr val="ec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>
              <a:off x="3237120" y="1488960"/>
              <a:ext cx="1025640" cy="9439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69" y="18"/>
                  </a:moveTo>
                  <a:cubicBezTo>
                    <a:pt x="69" y="18"/>
                    <a:pt x="69" y="18"/>
                    <a:pt x="69" y="18"/>
                  </a:cubicBezTo>
                  <a:cubicBezTo>
                    <a:pt x="67" y="15"/>
                    <a:pt x="64" y="11"/>
                    <a:pt x="60" y="7"/>
                  </a:cubicBezTo>
                  <a:cubicBezTo>
                    <a:pt x="60" y="7"/>
                    <a:pt x="54" y="0"/>
                    <a:pt x="45" y="0"/>
                  </a:cubicBezTo>
                  <a:cubicBezTo>
                    <a:pt x="43" y="0"/>
                    <a:pt x="40" y="1"/>
                    <a:pt x="38" y="2"/>
                  </a:cubicBezTo>
                  <a:cubicBezTo>
                    <a:pt x="36" y="1"/>
                    <a:pt x="32" y="0"/>
                    <a:pt x="29" y="0"/>
                  </a:cubicBezTo>
                  <a:cubicBezTo>
                    <a:pt x="23" y="0"/>
                    <a:pt x="20" y="2"/>
                    <a:pt x="18" y="6"/>
                  </a:cubicBezTo>
                  <a:cubicBezTo>
                    <a:pt x="15" y="8"/>
                    <a:pt x="1" y="18"/>
                    <a:pt x="0" y="27"/>
                  </a:cubicBezTo>
                  <a:cubicBezTo>
                    <a:pt x="0" y="31"/>
                    <a:pt x="2" y="34"/>
                    <a:pt x="6" y="37"/>
                  </a:cubicBezTo>
                  <a:cubicBezTo>
                    <a:pt x="6" y="39"/>
                    <a:pt x="6" y="42"/>
                    <a:pt x="8" y="45"/>
                  </a:cubicBezTo>
                  <a:cubicBezTo>
                    <a:pt x="9" y="46"/>
                    <a:pt x="10" y="46"/>
                    <a:pt x="11" y="47"/>
                  </a:cubicBezTo>
                  <a:cubicBezTo>
                    <a:pt x="12" y="48"/>
                    <a:pt x="13" y="49"/>
                    <a:pt x="13" y="50"/>
                  </a:cubicBezTo>
                  <a:cubicBezTo>
                    <a:pt x="12" y="57"/>
                    <a:pt x="12" y="61"/>
                    <a:pt x="13" y="63"/>
                  </a:cubicBezTo>
                  <a:cubicBezTo>
                    <a:pt x="14" y="64"/>
                    <a:pt x="15" y="64"/>
                    <a:pt x="17" y="64"/>
                  </a:cubicBezTo>
                  <a:cubicBezTo>
                    <a:pt x="18" y="64"/>
                    <a:pt x="19" y="64"/>
                    <a:pt x="19" y="64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0" y="63"/>
                    <a:pt x="22" y="63"/>
                    <a:pt x="26" y="52"/>
                  </a:cubicBezTo>
                  <a:cubicBezTo>
                    <a:pt x="29" y="50"/>
                    <a:pt x="31" y="48"/>
                    <a:pt x="32" y="46"/>
                  </a:cubicBezTo>
                  <a:cubicBezTo>
                    <a:pt x="34" y="48"/>
                    <a:pt x="37" y="50"/>
                    <a:pt x="42" y="50"/>
                  </a:cubicBezTo>
                  <a:cubicBezTo>
                    <a:pt x="45" y="50"/>
                    <a:pt x="49" y="49"/>
                    <a:pt x="53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63" y="40"/>
                    <a:pt x="70" y="35"/>
                    <a:pt x="71" y="27"/>
                  </a:cubicBezTo>
                  <a:cubicBezTo>
                    <a:pt x="71" y="24"/>
                    <a:pt x="71" y="21"/>
                    <a:pt x="69" y="18"/>
                  </a:cubicBezTo>
                  <a:close/>
                  <a:moveTo>
                    <a:pt x="24" y="49"/>
                  </a:moveTo>
                  <a:cubicBezTo>
                    <a:pt x="23" y="49"/>
                    <a:pt x="23" y="49"/>
                    <a:pt x="23" y="50"/>
                  </a:cubicBezTo>
                  <a:cubicBezTo>
                    <a:pt x="21" y="54"/>
                    <a:pt x="19" y="59"/>
                    <a:pt x="18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18" y="61"/>
                    <a:pt x="17" y="61"/>
                    <a:pt x="17" y="61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5" y="58"/>
                    <a:pt x="17" y="50"/>
                  </a:cubicBezTo>
                  <a:cubicBezTo>
                    <a:pt x="17" y="50"/>
                    <a:pt x="17" y="49"/>
                    <a:pt x="17" y="4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9" y="48"/>
                    <a:pt x="23" y="47"/>
                    <a:pt x="27" y="45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28" y="46"/>
                    <a:pt x="26" y="48"/>
                    <a:pt x="24" y="49"/>
                  </a:cubicBezTo>
                  <a:close/>
                  <a:moveTo>
                    <a:pt x="53" y="42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1" y="43"/>
                    <a:pt x="51" y="43"/>
                    <a:pt x="51" y="43"/>
                  </a:cubicBezTo>
                  <a:cubicBezTo>
                    <a:pt x="51" y="43"/>
                    <a:pt x="46" y="36"/>
                    <a:pt x="49" y="32"/>
                  </a:cubicBezTo>
                  <a:cubicBezTo>
                    <a:pt x="50" y="32"/>
                    <a:pt x="50" y="32"/>
                    <a:pt x="50" y="31"/>
                  </a:cubicBezTo>
                  <a:cubicBezTo>
                    <a:pt x="52" y="31"/>
                    <a:pt x="54" y="30"/>
                    <a:pt x="58" y="29"/>
                  </a:cubicBezTo>
                  <a:cubicBezTo>
                    <a:pt x="59" y="29"/>
                    <a:pt x="59" y="28"/>
                    <a:pt x="59" y="27"/>
                  </a:cubicBezTo>
                  <a:cubicBezTo>
                    <a:pt x="58" y="26"/>
                    <a:pt x="57" y="26"/>
                    <a:pt x="56" y="26"/>
                  </a:cubicBezTo>
                  <a:cubicBezTo>
                    <a:pt x="46" y="30"/>
                    <a:pt x="44" y="27"/>
                    <a:pt x="44" y="27"/>
                  </a:cubicBezTo>
                  <a:cubicBezTo>
                    <a:pt x="43" y="26"/>
                    <a:pt x="42" y="26"/>
                    <a:pt x="41" y="26"/>
                  </a:cubicBezTo>
                  <a:cubicBezTo>
                    <a:pt x="41" y="26"/>
                    <a:pt x="40" y="27"/>
                    <a:pt x="41" y="28"/>
                  </a:cubicBezTo>
                  <a:cubicBezTo>
                    <a:pt x="41" y="28"/>
                    <a:pt x="42" y="31"/>
                    <a:pt x="46" y="31"/>
                  </a:cubicBezTo>
                  <a:cubicBezTo>
                    <a:pt x="43" y="37"/>
                    <a:pt x="47" y="43"/>
                    <a:pt x="48" y="45"/>
                  </a:cubicBezTo>
                  <a:cubicBezTo>
                    <a:pt x="46" y="46"/>
                    <a:pt x="44" y="46"/>
                    <a:pt x="42" y="46"/>
                  </a:cubicBezTo>
                  <a:cubicBezTo>
                    <a:pt x="36" y="46"/>
                    <a:pt x="34" y="42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1" y="39"/>
                    <a:pt x="32" y="38"/>
                  </a:cubicBezTo>
                  <a:cubicBezTo>
                    <a:pt x="35" y="37"/>
                    <a:pt x="39" y="38"/>
                    <a:pt x="39" y="38"/>
                  </a:cubicBezTo>
                  <a:cubicBezTo>
                    <a:pt x="40" y="39"/>
                    <a:pt x="41" y="38"/>
                    <a:pt x="42" y="37"/>
                  </a:cubicBezTo>
                  <a:cubicBezTo>
                    <a:pt x="42" y="37"/>
                    <a:pt x="42" y="36"/>
                    <a:pt x="41" y="35"/>
                  </a:cubicBezTo>
                  <a:cubicBezTo>
                    <a:pt x="41" y="35"/>
                    <a:pt x="38" y="34"/>
                    <a:pt x="34" y="34"/>
                  </a:cubicBezTo>
                  <a:cubicBezTo>
                    <a:pt x="34" y="33"/>
                    <a:pt x="33" y="31"/>
                    <a:pt x="34" y="29"/>
                  </a:cubicBezTo>
                  <a:cubicBezTo>
                    <a:pt x="34" y="25"/>
                    <a:pt x="36" y="23"/>
                    <a:pt x="40" y="23"/>
                  </a:cubicBezTo>
                  <a:cubicBezTo>
                    <a:pt x="41" y="23"/>
                    <a:pt x="42" y="22"/>
                    <a:pt x="42" y="21"/>
                  </a:cubicBezTo>
                  <a:cubicBezTo>
                    <a:pt x="41" y="20"/>
                    <a:pt x="41" y="20"/>
                    <a:pt x="40" y="20"/>
                  </a:cubicBezTo>
                  <a:cubicBezTo>
                    <a:pt x="34" y="20"/>
                    <a:pt x="31" y="23"/>
                    <a:pt x="30" y="28"/>
                  </a:cubicBezTo>
                  <a:cubicBezTo>
                    <a:pt x="30" y="31"/>
                    <a:pt x="30" y="34"/>
                    <a:pt x="31" y="3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28" y="37"/>
                    <a:pt x="26" y="39"/>
                    <a:pt x="25" y="42"/>
                  </a:cubicBezTo>
                  <a:cubicBezTo>
                    <a:pt x="18" y="45"/>
                    <a:pt x="13" y="45"/>
                    <a:pt x="11" y="43"/>
                  </a:cubicBezTo>
                  <a:cubicBezTo>
                    <a:pt x="9" y="41"/>
                    <a:pt x="9" y="38"/>
                    <a:pt x="9" y="37"/>
                  </a:cubicBezTo>
                  <a:cubicBezTo>
                    <a:pt x="11" y="36"/>
                    <a:pt x="15" y="33"/>
                    <a:pt x="22" y="32"/>
                  </a:cubicBezTo>
                  <a:cubicBezTo>
                    <a:pt x="23" y="32"/>
                    <a:pt x="23" y="32"/>
                    <a:pt x="23" y="31"/>
                  </a:cubicBezTo>
                  <a:cubicBezTo>
                    <a:pt x="24" y="31"/>
                    <a:pt x="24" y="30"/>
                    <a:pt x="23" y="30"/>
                  </a:cubicBezTo>
                  <a:cubicBezTo>
                    <a:pt x="23" y="30"/>
                    <a:pt x="23" y="27"/>
                    <a:pt x="24" y="24"/>
                  </a:cubicBezTo>
                  <a:cubicBezTo>
                    <a:pt x="25" y="23"/>
                    <a:pt x="26" y="21"/>
                    <a:pt x="29" y="21"/>
                  </a:cubicBezTo>
                  <a:cubicBezTo>
                    <a:pt x="29" y="21"/>
                    <a:pt x="30" y="20"/>
                    <a:pt x="30" y="19"/>
                  </a:cubicBezTo>
                  <a:cubicBezTo>
                    <a:pt x="30" y="19"/>
                    <a:pt x="30" y="15"/>
                    <a:pt x="28" y="13"/>
                  </a:cubicBezTo>
                  <a:cubicBezTo>
                    <a:pt x="26" y="12"/>
                    <a:pt x="24" y="11"/>
                    <a:pt x="21" y="11"/>
                  </a:cubicBezTo>
                  <a:cubicBezTo>
                    <a:pt x="20" y="12"/>
                    <a:pt x="19" y="12"/>
                    <a:pt x="19" y="13"/>
                  </a:cubicBezTo>
                  <a:cubicBezTo>
                    <a:pt x="20" y="14"/>
                    <a:pt x="20" y="15"/>
                    <a:pt x="21" y="15"/>
                  </a:cubicBezTo>
                  <a:cubicBezTo>
                    <a:pt x="23" y="15"/>
                    <a:pt x="24" y="15"/>
                    <a:pt x="25" y="16"/>
                  </a:cubicBezTo>
                  <a:cubicBezTo>
                    <a:pt x="26" y="16"/>
                    <a:pt x="26" y="17"/>
                    <a:pt x="26" y="18"/>
                  </a:cubicBezTo>
                  <a:cubicBezTo>
                    <a:pt x="25" y="19"/>
                    <a:pt x="23" y="19"/>
                    <a:pt x="22" y="21"/>
                  </a:cubicBezTo>
                  <a:cubicBezTo>
                    <a:pt x="22" y="20"/>
                    <a:pt x="22" y="20"/>
                    <a:pt x="21" y="20"/>
                  </a:cubicBezTo>
                  <a:cubicBezTo>
                    <a:pt x="17" y="19"/>
                    <a:pt x="9" y="22"/>
                    <a:pt x="8" y="23"/>
                  </a:cubicBezTo>
                  <a:cubicBezTo>
                    <a:pt x="7" y="23"/>
                    <a:pt x="7" y="24"/>
                    <a:pt x="8" y="25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4"/>
                    <a:pt x="18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0" y="25"/>
                    <a:pt x="20" y="28"/>
                    <a:pt x="20" y="29"/>
                  </a:cubicBezTo>
                  <a:cubicBezTo>
                    <a:pt x="14" y="30"/>
                    <a:pt x="10" y="33"/>
                    <a:pt x="8" y="34"/>
                  </a:cubicBezTo>
                  <a:cubicBezTo>
                    <a:pt x="5" y="32"/>
                    <a:pt x="4" y="30"/>
                    <a:pt x="4" y="27"/>
                  </a:cubicBezTo>
                  <a:cubicBezTo>
                    <a:pt x="4" y="20"/>
                    <a:pt x="16" y="12"/>
                    <a:pt x="20" y="9"/>
                  </a:cubicBezTo>
                  <a:cubicBezTo>
                    <a:pt x="21" y="9"/>
                    <a:pt x="21" y="8"/>
                    <a:pt x="21" y="8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6" y="8"/>
                    <a:pt x="35" y="10"/>
                    <a:pt x="37" y="16"/>
                  </a:cubicBezTo>
                  <a:cubicBezTo>
                    <a:pt x="37" y="16"/>
                    <a:pt x="38" y="17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40" y="16"/>
                    <a:pt x="41" y="15"/>
                    <a:pt x="40" y="14"/>
                  </a:cubicBezTo>
                  <a:cubicBezTo>
                    <a:pt x="38" y="8"/>
                    <a:pt x="30" y="5"/>
                    <a:pt x="25" y="4"/>
                  </a:cubicBezTo>
                  <a:cubicBezTo>
                    <a:pt x="26" y="4"/>
                    <a:pt x="27" y="4"/>
                    <a:pt x="29" y="4"/>
                  </a:cubicBezTo>
                  <a:cubicBezTo>
                    <a:pt x="33" y="4"/>
                    <a:pt x="37" y="5"/>
                    <a:pt x="37" y="5"/>
                  </a:cubicBezTo>
                  <a:cubicBezTo>
                    <a:pt x="37" y="5"/>
                    <a:pt x="38" y="5"/>
                    <a:pt x="38" y="5"/>
                  </a:cubicBezTo>
                  <a:cubicBezTo>
                    <a:pt x="41" y="4"/>
                    <a:pt x="43" y="4"/>
                    <a:pt x="45" y="4"/>
                  </a:cubicBezTo>
                  <a:cubicBezTo>
                    <a:pt x="48" y="4"/>
                    <a:pt x="50" y="4"/>
                    <a:pt x="52" y="5"/>
                  </a:cubicBezTo>
                  <a:cubicBezTo>
                    <a:pt x="49" y="6"/>
                    <a:pt x="46" y="7"/>
                    <a:pt x="45" y="9"/>
                  </a:cubicBezTo>
                  <a:cubicBezTo>
                    <a:pt x="44" y="10"/>
                    <a:pt x="43" y="12"/>
                    <a:pt x="44" y="14"/>
                  </a:cubicBezTo>
                  <a:cubicBezTo>
                    <a:pt x="44" y="14"/>
                    <a:pt x="45" y="15"/>
                    <a:pt x="45" y="15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7" y="15"/>
                    <a:pt x="47" y="14"/>
                    <a:pt x="47" y="13"/>
                  </a:cubicBezTo>
                  <a:cubicBezTo>
                    <a:pt x="47" y="12"/>
                    <a:pt x="47" y="11"/>
                    <a:pt x="47" y="11"/>
                  </a:cubicBezTo>
                  <a:cubicBezTo>
                    <a:pt x="49" y="9"/>
                    <a:pt x="53" y="8"/>
                    <a:pt x="56" y="8"/>
                  </a:cubicBezTo>
                  <a:cubicBezTo>
                    <a:pt x="57" y="9"/>
                    <a:pt x="57" y="10"/>
                    <a:pt x="57" y="10"/>
                  </a:cubicBezTo>
                  <a:cubicBezTo>
                    <a:pt x="59" y="12"/>
                    <a:pt x="61" y="13"/>
                    <a:pt x="63" y="15"/>
                  </a:cubicBezTo>
                  <a:cubicBezTo>
                    <a:pt x="58" y="15"/>
                    <a:pt x="53" y="17"/>
                    <a:pt x="52" y="18"/>
                  </a:cubicBezTo>
                  <a:cubicBezTo>
                    <a:pt x="50" y="17"/>
                    <a:pt x="49" y="16"/>
                    <a:pt x="48" y="16"/>
                  </a:cubicBezTo>
                  <a:cubicBezTo>
                    <a:pt x="47" y="16"/>
                    <a:pt x="47" y="17"/>
                    <a:pt x="46" y="18"/>
                  </a:cubicBezTo>
                  <a:cubicBezTo>
                    <a:pt x="46" y="19"/>
                    <a:pt x="47" y="20"/>
                    <a:pt x="48" y="20"/>
                  </a:cubicBezTo>
                  <a:cubicBezTo>
                    <a:pt x="48" y="20"/>
                    <a:pt x="50" y="20"/>
                    <a:pt x="50" y="21"/>
                  </a:cubicBezTo>
                  <a:cubicBezTo>
                    <a:pt x="50" y="21"/>
                    <a:pt x="51" y="22"/>
                    <a:pt x="51" y="22"/>
                  </a:cubicBezTo>
                  <a:cubicBezTo>
                    <a:pt x="50" y="23"/>
                    <a:pt x="51" y="24"/>
                    <a:pt x="52" y="24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3" y="24"/>
                    <a:pt x="54" y="24"/>
                    <a:pt x="54" y="23"/>
                  </a:cubicBezTo>
                  <a:cubicBezTo>
                    <a:pt x="54" y="22"/>
                    <a:pt x="54" y="21"/>
                    <a:pt x="54" y="20"/>
                  </a:cubicBezTo>
                  <a:cubicBezTo>
                    <a:pt x="56" y="19"/>
                    <a:pt x="62" y="17"/>
                    <a:pt x="66" y="20"/>
                  </a:cubicBezTo>
                  <a:cubicBezTo>
                    <a:pt x="67" y="22"/>
                    <a:pt x="68" y="25"/>
                    <a:pt x="68" y="27"/>
                  </a:cubicBezTo>
                  <a:cubicBezTo>
                    <a:pt x="67" y="33"/>
                    <a:pt x="60" y="37"/>
                    <a:pt x="53" y="42"/>
                  </a:cubicBez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>
              <a:off x="3179880" y="1046880"/>
              <a:ext cx="331920" cy="7236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3" y="4"/>
                  </a:moveTo>
                  <a:cubicBezTo>
                    <a:pt x="23" y="4"/>
                    <a:pt x="21" y="4"/>
                    <a:pt x="19" y="3"/>
                  </a:cubicBezTo>
                  <a:cubicBezTo>
                    <a:pt x="17" y="3"/>
                    <a:pt x="14" y="2"/>
                    <a:pt x="11" y="2"/>
                  </a:cubicBezTo>
                  <a:cubicBezTo>
                    <a:pt x="11" y="2"/>
                    <a:pt x="10" y="2"/>
                    <a:pt x="9" y="2"/>
                  </a:cubicBezTo>
                  <a:cubicBezTo>
                    <a:pt x="9" y="2"/>
                    <a:pt x="8" y="2"/>
                    <a:pt x="7" y="2"/>
                  </a:cubicBezTo>
                  <a:cubicBezTo>
                    <a:pt x="7" y="3"/>
                    <a:pt x="6" y="3"/>
                    <a:pt x="5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3"/>
                    <a:pt x="3" y="2"/>
                  </a:cubicBezTo>
                  <a:cubicBezTo>
                    <a:pt x="4" y="2"/>
                    <a:pt x="4" y="2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0"/>
                    <a:pt x="10" y="0"/>
                    <a:pt x="11" y="0"/>
                  </a:cubicBezTo>
                  <a:cubicBezTo>
                    <a:pt x="13" y="0"/>
                    <a:pt x="14" y="1"/>
                    <a:pt x="16" y="1"/>
                  </a:cubicBezTo>
                  <a:cubicBezTo>
                    <a:pt x="17" y="1"/>
                    <a:pt x="18" y="2"/>
                    <a:pt x="19" y="2"/>
                  </a:cubicBezTo>
                  <a:cubicBezTo>
                    <a:pt x="22" y="3"/>
                    <a:pt x="23" y="4"/>
                    <a:pt x="2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>
              <a:off x="3223440" y="972720"/>
              <a:ext cx="245520" cy="4392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16" y="2"/>
                    <a:pt x="15" y="2"/>
                    <a:pt x="14" y="2"/>
                  </a:cubicBezTo>
                  <a:cubicBezTo>
                    <a:pt x="13" y="2"/>
                    <a:pt x="12" y="2"/>
                    <a:pt x="12" y="2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7" y="2"/>
                    <a:pt x="6" y="2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1" y="2"/>
                    <a:pt x="3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6" y="2"/>
                    <a:pt x="17" y="3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>
              <a:off x="4422600" y="2197800"/>
              <a:ext cx="86400" cy="3236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4" y="22"/>
                  </a:moveTo>
                  <a:cubicBezTo>
                    <a:pt x="4" y="22"/>
                    <a:pt x="4" y="21"/>
                    <a:pt x="4" y="18"/>
                  </a:cubicBezTo>
                  <a:cubicBezTo>
                    <a:pt x="5" y="16"/>
                    <a:pt x="4" y="13"/>
                    <a:pt x="4" y="10"/>
                  </a:cubicBezTo>
                  <a:cubicBezTo>
                    <a:pt x="4" y="10"/>
                    <a:pt x="4" y="9"/>
                    <a:pt x="4" y="8"/>
                  </a:cubicBezTo>
                  <a:cubicBezTo>
                    <a:pt x="4" y="8"/>
                    <a:pt x="3" y="7"/>
                    <a:pt x="3" y="6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3" y="2"/>
                  </a:cubicBezTo>
                  <a:cubicBezTo>
                    <a:pt x="3" y="3"/>
                    <a:pt x="3" y="3"/>
                    <a:pt x="4" y="4"/>
                  </a:cubicBezTo>
                  <a:cubicBezTo>
                    <a:pt x="4" y="5"/>
                    <a:pt x="5" y="5"/>
                    <a:pt x="5" y="6"/>
                  </a:cubicBezTo>
                  <a:cubicBezTo>
                    <a:pt x="5" y="7"/>
                    <a:pt x="6" y="9"/>
                    <a:pt x="6" y="10"/>
                  </a:cubicBezTo>
                  <a:cubicBezTo>
                    <a:pt x="6" y="12"/>
                    <a:pt x="6" y="13"/>
                    <a:pt x="6" y="15"/>
                  </a:cubicBezTo>
                  <a:cubicBezTo>
                    <a:pt x="6" y="16"/>
                    <a:pt x="6" y="17"/>
                    <a:pt x="6" y="18"/>
                  </a:cubicBezTo>
                  <a:cubicBezTo>
                    <a:pt x="5" y="21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>
              <a:off x="4522680" y="2226240"/>
              <a:ext cx="72720" cy="236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3" y="15"/>
                    <a:pt x="3" y="14"/>
                    <a:pt x="3" y="13"/>
                  </a:cubicBezTo>
                  <a:cubicBezTo>
                    <a:pt x="3" y="12"/>
                    <a:pt x="3" y="12"/>
                    <a:pt x="3" y="11"/>
                  </a:cubicBezTo>
                  <a:cubicBezTo>
                    <a:pt x="3" y="10"/>
                    <a:pt x="3" y="10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4"/>
                    <a:pt x="2" y="3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  <a:cubicBezTo>
                    <a:pt x="0" y="0"/>
                    <a:pt x="1" y="1"/>
                    <a:pt x="2" y="2"/>
                  </a:cubicBezTo>
                  <a:cubicBezTo>
                    <a:pt x="3" y="2"/>
                    <a:pt x="3" y="3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5" y="7"/>
                    <a:pt x="5" y="7"/>
                  </a:cubicBezTo>
                  <a:cubicBezTo>
                    <a:pt x="5" y="8"/>
                    <a:pt x="5" y="8"/>
                    <a:pt x="5" y="9"/>
                  </a:cubicBezTo>
                  <a:cubicBezTo>
                    <a:pt x="5" y="10"/>
                    <a:pt x="5" y="10"/>
                    <a:pt x="5" y="11"/>
                  </a:cubicBezTo>
                  <a:cubicBezTo>
                    <a:pt x="5" y="12"/>
                    <a:pt x="4" y="13"/>
                    <a:pt x="4" y="13"/>
                  </a:cubicBezTo>
                  <a:cubicBezTo>
                    <a:pt x="4" y="15"/>
                    <a:pt x="3" y="16"/>
                    <a:pt x="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>
              <a:off x="3266640" y="2611440"/>
              <a:ext cx="129960" cy="41184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cubicBezTo>
                    <a:pt x="0" y="28"/>
                    <a:pt x="0" y="27"/>
                    <a:pt x="1" y="24"/>
                  </a:cubicBezTo>
                  <a:cubicBezTo>
                    <a:pt x="1" y="21"/>
                    <a:pt x="2" y="18"/>
                    <a:pt x="3" y="14"/>
                  </a:cubicBezTo>
                  <a:cubicBezTo>
                    <a:pt x="4" y="10"/>
                    <a:pt x="6" y="7"/>
                    <a:pt x="7" y="4"/>
                  </a:cubicBezTo>
                  <a:cubicBezTo>
                    <a:pt x="8" y="2"/>
                    <a:pt x="9" y="0"/>
                    <a:pt x="9" y="0"/>
                  </a:cubicBezTo>
                  <a:cubicBezTo>
                    <a:pt x="9" y="0"/>
                    <a:pt x="8" y="2"/>
                    <a:pt x="8" y="5"/>
                  </a:cubicBezTo>
                  <a:cubicBezTo>
                    <a:pt x="7" y="7"/>
                    <a:pt x="6" y="11"/>
                    <a:pt x="5" y="15"/>
                  </a:cubicBezTo>
                  <a:cubicBezTo>
                    <a:pt x="4" y="18"/>
                    <a:pt x="3" y="22"/>
                    <a:pt x="2" y="24"/>
                  </a:cubicBezTo>
                  <a:cubicBezTo>
                    <a:pt x="1" y="27"/>
                    <a:pt x="0" y="28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>
              <a:off x="3309840" y="2477160"/>
              <a:ext cx="245520" cy="75312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1"/>
                  </a:moveTo>
                  <a:cubicBezTo>
                    <a:pt x="0" y="51"/>
                    <a:pt x="1" y="47"/>
                    <a:pt x="2" y="43"/>
                  </a:cubicBezTo>
                  <a:cubicBezTo>
                    <a:pt x="4" y="38"/>
                    <a:pt x="5" y="31"/>
                    <a:pt x="8" y="25"/>
                  </a:cubicBezTo>
                  <a:cubicBezTo>
                    <a:pt x="10" y="19"/>
                    <a:pt x="12" y="12"/>
                    <a:pt x="14" y="8"/>
                  </a:cubicBezTo>
                  <a:cubicBezTo>
                    <a:pt x="16" y="3"/>
                    <a:pt x="17" y="0"/>
                    <a:pt x="17" y="0"/>
                  </a:cubicBezTo>
                  <a:cubicBezTo>
                    <a:pt x="17" y="0"/>
                    <a:pt x="16" y="3"/>
                    <a:pt x="15" y="8"/>
                  </a:cubicBezTo>
                  <a:cubicBezTo>
                    <a:pt x="14" y="13"/>
                    <a:pt x="12" y="19"/>
                    <a:pt x="10" y="26"/>
                  </a:cubicBezTo>
                  <a:cubicBezTo>
                    <a:pt x="7" y="32"/>
                    <a:pt x="5" y="38"/>
                    <a:pt x="3" y="43"/>
                  </a:cubicBezTo>
                  <a:cubicBezTo>
                    <a:pt x="1" y="48"/>
                    <a:pt x="0" y="51"/>
                    <a:pt x="0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>
              <a:off x="3468960" y="2565360"/>
              <a:ext cx="186480" cy="60588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0" y="41"/>
                  </a:moveTo>
                  <a:cubicBezTo>
                    <a:pt x="0" y="41"/>
                    <a:pt x="0" y="39"/>
                    <a:pt x="1" y="35"/>
                  </a:cubicBezTo>
                  <a:cubicBezTo>
                    <a:pt x="2" y="31"/>
                    <a:pt x="4" y="26"/>
                    <a:pt x="5" y="20"/>
                  </a:cubicBezTo>
                  <a:cubicBezTo>
                    <a:pt x="7" y="15"/>
                    <a:pt x="9" y="10"/>
                    <a:pt x="10" y="6"/>
                  </a:cubicBezTo>
                  <a:cubicBezTo>
                    <a:pt x="12" y="3"/>
                    <a:pt x="13" y="0"/>
                    <a:pt x="13" y="0"/>
                  </a:cubicBezTo>
                  <a:cubicBezTo>
                    <a:pt x="13" y="0"/>
                    <a:pt x="12" y="3"/>
                    <a:pt x="11" y="7"/>
                  </a:cubicBezTo>
                  <a:cubicBezTo>
                    <a:pt x="10" y="11"/>
                    <a:pt x="9" y="16"/>
                    <a:pt x="7" y="21"/>
                  </a:cubicBezTo>
                  <a:cubicBezTo>
                    <a:pt x="6" y="26"/>
                    <a:pt x="4" y="31"/>
                    <a:pt x="2" y="35"/>
                  </a:cubicBezTo>
                  <a:cubicBezTo>
                    <a:pt x="1" y="39"/>
                    <a:pt x="0" y="41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>
              <a:off x="4566240" y="972720"/>
              <a:ext cx="347400" cy="4276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4" y="21"/>
                  </a:moveTo>
                  <a:cubicBezTo>
                    <a:pt x="24" y="21"/>
                    <a:pt x="18" y="0"/>
                    <a:pt x="3" y="16"/>
                  </a:cubicBezTo>
                  <a:cubicBezTo>
                    <a:pt x="3" y="16"/>
                    <a:pt x="0" y="22"/>
                    <a:pt x="10" y="17"/>
                  </a:cubicBezTo>
                  <a:cubicBezTo>
                    <a:pt x="10" y="17"/>
                    <a:pt x="7" y="21"/>
                    <a:pt x="6" y="22"/>
                  </a:cubicBezTo>
                  <a:cubicBezTo>
                    <a:pt x="6" y="22"/>
                    <a:pt x="5" y="27"/>
                    <a:pt x="13" y="21"/>
                  </a:cubicBezTo>
                  <a:cubicBezTo>
                    <a:pt x="13" y="21"/>
                    <a:pt x="9" y="26"/>
                    <a:pt x="11" y="27"/>
                  </a:cubicBezTo>
                  <a:cubicBezTo>
                    <a:pt x="11" y="27"/>
                    <a:pt x="13" y="29"/>
                    <a:pt x="19" y="24"/>
                  </a:cubicBezTo>
                  <a:cubicBezTo>
                    <a:pt x="21" y="25"/>
                    <a:pt x="21" y="25"/>
                    <a:pt x="21" y="25"/>
                  </a:cubicBezTo>
                  <a:lnTo>
                    <a:pt x="2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>
              <a:off x="5202720" y="1488960"/>
              <a:ext cx="361080" cy="353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4" y="2"/>
                  </a:moveTo>
                  <a:cubicBezTo>
                    <a:pt x="4" y="2"/>
                    <a:pt x="25" y="0"/>
                    <a:pt x="17" y="19"/>
                  </a:cubicBezTo>
                  <a:cubicBezTo>
                    <a:pt x="17" y="19"/>
                    <a:pt x="12" y="24"/>
                    <a:pt x="12" y="14"/>
                  </a:cubicBezTo>
                  <a:cubicBezTo>
                    <a:pt x="12" y="14"/>
                    <a:pt x="11" y="18"/>
                    <a:pt x="10" y="19"/>
                  </a:cubicBezTo>
                  <a:cubicBezTo>
                    <a:pt x="9" y="19"/>
                    <a:pt x="5" y="22"/>
                    <a:pt x="7" y="12"/>
                  </a:cubicBezTo>
                  <a:cubicBezTo>
                    <a:pt x="7" y="12"/>
                    <a:pt x="5" y="18"/>
                    <a:pt x="3" y="17"/>
                  </a:cubicBezTo>
                  <a:cubicBezTo>
                    <a:pt x="3" y="17"/>
                    <a:pt x="0" y="16"/>
                    <a:pt x="3" y="8"/>
                  </a:cubicBezTo>
                  <a:cubicBezTo>
                    <a:pt x="1" y="6"/>
                    <a:pt x="1" y="6"/>
                    <a:pt x="1" y="6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>
              <a:off x="4841280" y="1163520"/>
              <a:ext cx="477000" cy="531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4" y="32"/>
                  </a:moveTo>
                  <a:cubicBezTo>
                    <a:pt x="20" y="33"/>
                    <a:pt x="26" y="30"/>
                    <a:pt x="29" y="25"/>
                  </a:cubicBezTo>
                  <a:cubicBezTo>
                    <a:pt x="33" y="18"/>
                    <a:pt x="32" y="9"/>
                    <a:pt x="25" y="4"/>
                  </a:cubicBezTo>
                  <a:cubicBezTo>
                    <a:pt x="17" y="0"/>
                    <a:pt x="8" y="2"/>
                    <a:pt x="3" y="9"/>
                  </a:cubicBezTo>
                  <a:cubicBezTo>
                    <a:pt x="0" y="14"/>
                    <a:pt x="0" y="20"/>
                    <a:pt x="3" y="25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0" y="29"/>
                    <a:pt x="1" y="31"/>
                    <a:pt x="3" y="32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9" y="36"/>
                    <a:pt x="12" y="36"/>
                    <a:pt x="13" y="34"/>
                  </a:cubicBezTo>
                  <a:lnTo>
                    <a:pt x="14" y="32"/>
                  </a:lnTo>
                  <a:close/>
                </a:path>
              </a:pathLst>
            </a:cu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>
              <a:off x="4784040" y="1547280"/>
              <a:ext cx="259200" cy="2224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4" y="15"/>
                  </a:moveTo>
                  <a:cubicBezTo>
                    <a:pt x="15" y="14"/>
                    <a:pt x="14" y="13"/>
                    <a:pt x="13" y="12"/>
                  </a:cubicBezTo>
                  <a:cubicBezTo>
                    <a:pt x="14" y="13"/>
                    <a:pt x="16" y="13"/>
                    <a:pt x="16" y="12"/>
                  </a:cubicBezTo>
                  <a:cubicBezTo>
                    <a:pt x="16" y="11"/>
                    <a:pt x="16" y="10"/>
                    <a:pt x="15" y="10"/>
                  </a:cubicBezTo>
                  <a:cubicBezTo>
                    <a:pt x="16" y="10"/>
                    <a:pt x="17" y="10"/>
                    <a:pt x="18" y="10"/>
                  </a:cubicBezTo>
                  <a:cubicBezTo>
                    <a:pt x="18" y="9"/>
                    <a:pt x="18" y="8"/>
                    <a:pt x="17" y="7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1"/>
                    <a:pt x="4" y="2"/>
                    <a:pt x="5" y="3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2" y="4"/>
                    <a:pt x="2" y="5"/>
                    <a:pt x="3" y="6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10"/>
                    <a:pt x="3" y="12"/>
                    <a:pt x="5" y="14"/>
                  </a:cubicBezTo>
                  <a:cubicBezTo>
                    <a:pt x="7" y="15"/>
                    <a:pt x="10" y="15"/>
                    <a:pt x="11" y="14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3" y="15"/>
                    <a:pt x="14" y="15"/>
                    <a:pt x="14" y="15"/>
                  </a:cubicBezTo>
                  <a:close/>
                </a:path>
              </a:pathLst>
            </a:cu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>
              <a:off x="4595760" y="1074960"/>
              <a:ext cx="144720" cy="1184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10" y="0"/>
                    <a:pt x="9" y="1"/>
                    <a:pt x="8" y="1"/>
                  </a:cubicBezTo>
                  <a:cubicBezTo>
                    <a:pt x="7" y="2"/>
                    <a:pt x="6" y="2"/>
                    <a:pt x="4" y="3"/>
                  </a:cubicBezTo>
                  <a:cubicBezTo>
                    <a:pt x="4" y="4"/>
                    <a:pt x="3" y="4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7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3" y="3"/>
                    <a:pt x="4" y="2"/>
                  </a:cubicBezTo>
                  <a:cubicBezTo>
                    <a:pt x="4" y="2"/>
                    <a:pt x="5" y="1"/>
                    <a:pt x="6" y="1"/>
                  </a:cubicBezTo>
                  <a:cubicBezTo>
                    <a:pt x="7" y="1"/>
                    <a:pt x="7" y="1"/>
                    <a:pt x="8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>
              <a:off x="4581720" y="1046880"/>
              <a:ext cx="114120" cy="88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cubicBezTo>
                    <a:pt x="8" y="0"/>
                    <a:pt x="7" y="1"/>
                    <a:pt x="6" y="1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4"/>
                    <a:pt x="1" y="4"/>
                    <a:pt x="1" y="5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0"/>
                    <a:pt x="6" y="0"/>
                  </a:cubicBezTo>
                  <a:cubicBezTo>
                    <a:pt x="7" y="0"/>
                    <a:pt x="8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>
              <a:off x="5475960" y="1547280"/>
              <a:ext cx="43200" cy="1782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2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2" y="9"/>
                    <a:pt x="2" y="7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7"/>
                    <a:pt x="3" y="8"/>
                  </a:cubicBezTo>
                  <a:cubicBezTo>
                    <a:pt x="3" y="9"/>
                    <a:pt x="3" y="10"/>
                    <a:pt x="3" y="10"/>
                  </a:cubicBezTo>
                  <a:cubicBezTo>
                    <a:pt x="3" y="11"/>
                    <a:pt x="2" y="12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>
              <a:off x="5535000" y="1563120"/>
              <a:ext cx="28800" cy="13212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1" y="9"/>
                  </a:moveTo>
                  <a:cubicBezTo>
                    <a:pt x="1" y="9"/>
                    <a:pt x="1" y="8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1" y="2"/>
                    <a:pt x="1" y="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ubicBezTo>
                    <a:pt x="1" y="1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>
              <a:off x="4581720" y="1770120"/>
              <a:ext cx="158760" cy="2206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15"/>
                  </a:moveTo>
                  <a:cubicBezTo>
                    <a:pt x="0" y="15"/>
                    <a:pt x="0" y="14"/>
                    <a:pt x="1" y="12"/>
                  </a:cubicBezTo>
                  <a:cubicBezTo>
                    <a:pt x="2" y="11"/>
                    <a:pt x="3" y="9"/>
                    <a:pt x="5" y="7"/>
                  </a:cubicBezTo>
                  <a:cubicBezTo>
                    <a:pt x="6" y="5"/>
                    <a:pt x="7" y="4"/>
                    <a:pt x="9" y="2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0" y="1"/>
                    <a:pt x="9" y="3"/>
                  </a:cubicBezTo>
                  <a:cubicBezTo>
                    <a:pt x="8" y="4"/>
                    <a:pt x="7" y="6"/>
                    <a:pt x="6" y="8"/>
                  </a:cubicBezTo>
                  <a:cubicBezTo>
                    <a:pt x="4" y="10"/>
                    <a:pt x="3" y="11"/>
                    <a:pt x="2" y="13"/>
                  </a:cubicBezTo>
                  <a:cubicBezTo>
                    <a:pt x="0" y="14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>
              <a:off x="4538160" y="1770120"/>
              <a:ext cx="288720" cy="3834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6"/>
                  </a:moveTo>
                  <a:cubicBezTo>
                    <a:pt x="0" y="26"/>
                    <a:pt x="1" y="25"/>
                    <a:pt x="3" y="22"/>
                  </a:cubicBezTo>
                  <a:cubicBezTo>
                    <a:pt x="5" y="19"/>
                    <a:pt x="7" y="16"/>
                    <a:pt x="10" y="13"/>
                  </a:cubicBezTo>
                  <a:cubicBezTo>
                    <a:pt x="12" y="10"/>
                    <a:pt x="15" y="7"/>
                    <a:pt x="17" y="4"/>
                  </a:cubicBezTo>
                  <a:cubicBezTo>
                    <a:pt x="19" y="2"/>
                    <a:pt x="20" y="0"/>
                    <a:pt x="20" y="0"/>
                  </a:cubicBezTo>
                  <a:cubicBezTo>
                    <a:pt x="20" y="0"/>
                    <a:pt x="19" y="2"/>
                    <a:pt x="17" y="5"/>
                  </a:cubicBezTo>
                  <a:cubicBezTo>
                    <a:pt x="16" y="7"/>
                    <a:pt x="13" y="10"/>
                    <a:pt x="11" y="14"/>
                  </a:cubicBezTo>
                  <a:cubicBezTo>
                    <a:pt x="8" y="17"/>
                    <a:pt x="6" y="20"/>
                    <a:pt x="4" y="22"/>
                  </a:cubicBezTo>
                  <a:cubicBezTo>
                    <a:pt x="2" y="25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>
              <a:off x="4740480" y="1828440"/>
              <a:ext cx="143640" cy="220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cubicBezTo>
                    <a:pt x="0" y="15"/>
                    <a:pt x="0" y="14"/>
                    <a:pt x="1" y="12"/>
                  </a:cubicBezTo>
                  <a:cubicBezTo>
                    <a:pt x="2" y="11"/>
                    <a:pt x="3" y="9"/>
                    <a:pt x="5" y="7"/>
                  </a:cubicBezTo>
                  <a:cubicBezTo>
                    <a:pt x="6" y="5"/>
                    <a:pt x="7" y="3"/>
                    <a:pt x="8" y="2"/>
                  </a:cubicBezTo>
                  <a:cubicBezTo>
                    <a:pt x="10" y="1"/>
                    <a:pt x="10" y="0"/>
                    <a:pt x="10" y="0"/>
                  </a:cubicBezTo>
                  <a:cubicBezTo>
                    <a:pt x="10" y="0"/>
                    <a:pt x="10" y="1"/>
                    <a:pt x="9" y="3"/>
                  </a:cubicBezTo>
                  <a:cubicBezTo>
                    <a:pt x="8" y="4"/>
                    <a:pt x="7" y="6"/>
                    <a:pt x="6" y="8"/>
                  </a:cubicBezTo>
                  <a:cubicBezTo>
                    <a:pt x="4" y="9"/>
                    <a:pt x="3" y="11"/>
                    <a:pt x="2" y="12"/>
                  </a:cubicBezTo>
                  <a:cubicBezTo>
                    <a:pt x="0" y="14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107"/>
          <p:cNvSpPr/>
          <p:nvPr/>
        </p:nvSpPr>
        <p:spPr>
          <a:xfrm>
            <a:off x="6545160" y="1228680"/>
            <a:ext cx="5059440" cy="1595520"/>
          </a:xfrm>
          <a:custGeom>
            <a:avLst/>
            <a:gdLst/>
            <a:ahLst/>
            <a:rect l="l" t="t" r="r" b="b"/>
            <a:pathLst>
              <a:path w="5059263" h="1595140">
                <a:moveTo>
                  <a:pt x="705147" y="951607"/>
                </a:moveTo>
                <a:cubicBezTo>
                  <a:pt x="650379" y="988119"/>
                  <a:pt x="593328" y="1017786"/>
                  <a:pt x="533995" y="1040606"/>
                </a:cubicBezTo>
                <a:cubicBezTo>
                  <a:pt x="616148" y="1049734"/>
                  <a:pt x="711993" y="1070272"/>
                  <a:pt x="821531" y="1102221"/>
                </a:cubicBezTo>
                <a:lnTo>
                  <a:pt x="821531" y="1184374"/>
                </a:lnTo>
                <a:cubicBezTo>
                  <a:pt x="944761" y="1102221"/>
                  <a:pt x="1040606" y="1024632"/>
                  <a:pt x="1109067" y="951607"/>
                </a:cubicBezTo>
                <a:lnTo>
                  <a:pt x="705147" y="951607"/>
                </a:lnTo>
                <a:close/>
                <a:moveTo>
                  <a:pt x="3765351" y="643533"/>
                </a:moveTo>
                <a:lnTo>
                  <a:pt x="3765351" y="896838"/>
                </a:lnTo>
                <a:lnTo>
                  <a:pt x="3847504" y="896838"/>
                </a:lnTo>
                <a:lnTo>
                  <a:pt x="3847504" y="643533"/>
                </a:lnTo>
                <a:lnTo>
                  <a:pt x="3765351" y="643533"/>
                </a:lnTo>
                <a:close/>
                <a:moveTo>
                  <a:pt x="4805957" y="609302"/>
                </a:moveTo>
                <a:cubicBezTo>
                  <a:pt x="4774009" y="723404"/>
                  <a:pt x="4732932" y="826095"/>
                  <a:pt x="4682727" y="917376"/>
                </a:cubicBezTo>
                <a:cubicBezTo>
                  <a:pt x="4696420" y="940197"/>
                  <a:pt x="4719240" y="978991"/>
                  <a:pt x="4751189" y="1033760"/>
                </a:cubicBezTo>
                <a:cubicBezTo>
                  <a:pt x="4760317" y="1056580"/>
                  <a:pt x="4769445" y="1074837"/>
                  <a:pt x="4778573" y="1088529"/>
                </a:cubicBezTo>
                <a:lnTo>
                  <a:pt x="4778573" y="1348459"/>
                </a:lnTo>
                <a:lnTo>
                  <a:pt x="4778447" y="1348540"/>
                </a:lnTo>
                <a:lnTo>
                  <a:pt x="4711395" y="1274229"/>
                </a:lnTo>
                <a:cubicBezTo>
                  <a:pt x="4648925" y="1204056"/>
                  <a:pt x="4600575" y="1146720"/>
                  <a:pt x="4566344" y="1102221"/>
                </a:cubicBezTo>
                <a:cubicBezTo>
                  <a:pt x="4520703" y="1170682"/>
                  <a:pt x="4449961" y="1252835"/>
                  <a:pt x="4354115" y="1348680"/>
                </a:cubicBezTo>
                <a:lnTo>
                  <a:pt x="4354115" y="1088529"/>
                </a:lnTo>
                <a:cubicBezTo>
                  <a:pt x="4372371" y="1065708"/>
                  <a:pt x="4395191" y="1029196"/>
                  <a:pt x="4422576" y="978991"/>
                </a:cubicBezTo>
                <a:cubicBezTo>
                  <a:pt x="4436269" y="956171"/>
                  <a:pt x="4447679" y="937915"/>
                  <a:pt x="4456807" y="924222"/>
                </a:cubicBezTo>
                <a:cubicBezTo>
                  <a:pt x="4424858" y="869454"/>
                  <a:pt x="4383781" y="775890"/>
                  <a:pt x="4333577" y="643533"/>
                </a:cubicBezTo>
                <a:cubicBezTo>
                  <a:pt x="4329013" y="629840"/>
                  <a:pt x="4326731" y="620712"/>
                  <a:pt x="4326731" y="616148"/>
                </a:cubicBezTo>
                <a:lnTo>
                  <a:pt x="4326731" y="1362372"/>
                </a:lnTo>
                <a:lnTo>
                  <a:pt x="4723804" y="1362372"/>
                </a:lnTo>
                <a:cubicBezTo>
                  <a:pt x="4738637" y="1363513"/>
                  <a:pt x="4751474" y="1362372"/>
                  <a:pt x="4762313" y="1358949"/>
                </a:cubicBezTo>
                <a:lnTo>
                  <a:pt x="4778447" y="1348540"/>
                </a:lnTo>
                <a:lnTo>
                  <a:pt x="4778573" y="1348680"/>
                </a:lnTo>
                <a:lnTo>
                  <a:pt x="4778573" y="1348459"/>
                </a:lnTo>
                <a:lnTo>
                  <a:pt x="4788842" y="1341834"/>
                </a:lnTo>
                <a:cubicBezTo>
                  <a:pt x="4802534" y="1325860"/>
                  <a:pt x="4808239" y="1300758"/>
                  <a:pt x="4805957" y="1266527"/>
                </a:cubicBezTo>
                <a:lnTo>
                  <a:pt x="4805957" y="609302"/>
                </a:lnTo>
                <a:close/>
                <a:moveTo>
                  <a:pt x="4265116" y="369689"/>
                </a:moveTo>
                <a:lnTo>
                  <a:pt x="4484191" y="369689"/>
                </a:lnTo>
                <a:cubicBezTo>
                  <a:pt x="4511575" y="479226"/>
                  <a:pt x="4541241" y="577354"/>
                  <a:pt x="4573190" y="664071"/>
                </a:cubicBezTo>
                <a:cubicBezTo>
                  <a:pt x="4600575" y="581918"/>
                  <a:pt x="4627959" y="483790"/>
                  <a:pt x="4655343" y="369689"/>
                </a:cubicBezTo>
                <a:lnTo>
                  <a:pt x="4867572" y="369689"/>
                </a:lnTo>
                <a:cubicBezTo>
                  <a:pt x="4863008" y="383381"/>
                  <a:pt x="4858445" y="401637"/>
                  <a:pt x="4853880" y="424457"/>
                </a:cubicBezTo>
                <a:cubicBezTo>
                  <a:pt x="4849316" y="438150"/>
                  <a:pt x="4847034" y="447278"/>
                  <a:pt x="4847034" y="451842"/>
                </a:cubicBezTo>
                <a:lnTo>
                  <a:pt x="5025033" y="451842"/>
                </a:lnTo>
                <a:lnTo>
                  <a:pt x="5025033" y="1307604"/>
                </a:lnTo>
                <a:cubicBezTo>
                  <a:pt x="5034161" y="1471910"/>
                  <a:pt x="4956571" y="1549499"/>
                  <a:pt x="4792265" y="1540371"/>
                </a:cubicBezTo>
                <a:lnTo>
                  <a:pt x="4107656" y="1540371"/>
                </a:lnTo>
                <a:lnTo>
                  <a:pt x="4107656" y="451842"/>
                </a:lnTo>
                <a:lnTo>
                  <a:pt x="4285654" y="451842"/>
                </a:lnTo>
                <a:cubicBezTo>
                  <a:pt x="4281090" y="424457"/>
                  <a:pt x="4274244" y="397073"/>
                  <a:pt x="4265116" y="369689"/>
                </a:cubicBezTo>
                <a:close/>
                <a:moveTo>
                  <a:pt x="575072" y="287536"/>
                </a:moveTo>
                <a:cubicBezTo>
                  <a:pt x="533995" y="314920"/>
                  <a:pt x="486072" y="340022"/>
                  <a:pt x="431304" y="362843"/>
                </a:cubicBezTo>
                <a:cubicBezTo>
                  <a:pt x="531713" y="367407"/>
                  <a:pt x="636686" y="387945"/>
                  <a:pt x="746224" y="424457"/>
                </a:cubicBezTo>
                <a:lnTo>
                  <a:pt x="746224" y="479226"/>
                </a:lnTo>
                <a:cubicBezTo>
                  <a:pt x="855761" y="429022"/>
                  <a:pt x="956171" y="365125"/>
                  <a:pt x="1047452" y="287536"/>
                </a:cubicBezTo>
                <a:lnTo>
                  <a:pt x="575072" y="287536"/>
                </a:lnTo>
                <a:close/>
                <a:moveTo>
                  <a:pt x="3765351" y="239613"/>
                </a:moveTo>
                <a:lnTo>
                  <a:pt x="3765351" y="472380"/>
                </a:lnTo>
                <a:lnTo>
                  <a:pt x="3847504" y="472380"/>
                </a:lnTo>
                <a:lnTo>
                  <a:pt x="3847504" y="239613"/>
                </a:lnTo>
                <a:lnTo>
                  <a:pt x="3765351" y="239613"/>
                </a:lnTo>
                <a:close/>
                <a:moveTo>
                  <a:pt x="1800522" y="95845"/>
                </a:moveTo>
                <a:lnTo>
                  <a:pt x="2444055" y="95845"/>
                </a:lnTo>
                <a:lnTo>
                  <a:pt x="2444055" y="287536"/>
                </a:lnTo>
                <a:lnTo>
                  <a:pt x="1800522" y="287536"/>
                </a:lnTo>
                <a:lnTo>
                  <a:pt x="1800522" y="95845"/>
                </a:lnTo>
                <a:close/>
                <a:moveTo>
                  <a:pt x="3546276" y="68461"/>
                </a:moveTo>
                <a:lnTo>
                  <a:pt x="4052887" y="68461"/>
                </a:lnTo>
                <a:lnTo>
                  <a:pt x="4052887" y="1369219"/>
                </a:lnTo>
                <a:cubicBezTo>
                  <a:pt x="4057451" y="1501576"/>
                  <a:pt x="3995837" y="1565473"/>
                  <a:pt x="3868043" y="1560909"/>
                </a:cubicBezTo>
                <a:lnTo>
                  <a:pt x="3744813" y="1560909"/>
                </a:lnTo>
                <a:lnTo>
                  <a:pt x="3744813" y="1396603"/>
                </a:lnTo>
                <a:lnTo>
                  <a:pt x="3785889" y="1396603"/>
                </a:lnTo>
                <a:cubicBezTo>
                  <a:pt x="3826966" y="1396603"/>
                  <a:pt x="3847504" y="1376065"/>
                  <a:pt x="3847504" y="1334988"/>
                </a:cubicBezTo>
                <a:lnTo>
                  <a:pt x="3847504" y="1067990"/>
                </a:lnTo>
                <a:lnTo>
                  <a:pt x="3758505" y="1067990"/>
                </a:lnTo>
                <a:cubicBezTo>
                  <a:pt x="3763069" y="1300758"/>
                  <a:pt x="3664941" y="1474192"/>
                  <a:pt x="3464123" y="1588294"/>
                </a:cubicBezTo>
                <a:lnTo>
                  <a:pt x="3464123" y="1410295"/>
                </a:lnTo>
                <a:cubicBezTo>
                  <a:pt x="3523456" y="1319014"/>
                  <a:pt x="3550841" y="1195784"/>
                  <a:pt x="3546276" y="1040606"/>
                </a:cubicBezTo>
                <a:lnTo>
                  <a:pt x="3546276" y="68461"/>
                </a:lnTo>
                <a:close/>
                <a:moveTo>
                  <a:pt x="4422576" y="13692"/>
                </a:moveTo>
                <a:lnTo>
                  <a:pt x="4730651" y="13692"/>
                </a:lnTo>
                <a:lnTo>
                  <a:pt x="4730651" y="130075"/>
                </a:lnTo>
                <a:lnTo>
                  <a:pt x="5059263" y="130075"/>
                </a:lnTo>
                <a:lnTo>
                  <a:pt x="5059263" y="321766"/>
                </a:lnTo>
                <a:lnTo>
                  <a:pt x="4087117" y="321766"/>
                </a:lnTo>
                <a:lnTo>
                  <a:pt x="4087117" y="130075"/>
                </a:lnTo>
                <a:lnTo>
                  <a:pt x="4422576" y="130075"/>
                </a:lnTo>
                <a:lnTo>
                  <a:pt x="4422576" y="13692"/>
                </a:lnTo>
                <a:close/>
                <a:moveTo>
                  <a:pt x="479226" y="13692"/>
                </a:moveTo>
                <a:lnTo>
                  <a:pt x="814685" y="13692"/>
                </a:lnTo>
                <a:cubicBezTo>
                  <a:pt x="800993" y="41076"/>
                  <a:pt x="785019" y="66179"/>
                  <a:pt x="766762" y="88999"/>
                </a:cubicBezTo>
                <a:lnTo>
                  <a:pt x="1437680" y="88999"/>
                </a:lnTo>
                <a:lnTo>
                  <a:pt x="1437680" y="280690"/>
                </a:lnTo>
                <a:cubicBezTo>
                  <a:pt x="1268809" y="467816"/>
                  <a:pt x="1065708" y="604738"/>
                  <a:pt x="828377" y="691455"/>
                </a:cubicBezTo>
                <a:lnTo>
                  <a:pt x="972145" y="691455"/>
                </a:lnTo>
                <a:cubicBezTo>
                  <a:pt x="967581" y="696019"/>
                  <a:pt x="958453" y="707429"/>
                  <a:pt x="944761" y="725686"/>
                </a:cubicBezTo>
                <a:cubicBezTo>
                  <a:pt x="935633" y="739378"/>
                  <a:pt x="926504" y="750788"/>
                  <a:pt x="917376" y="759916"/>
                </a:cubicBezTo>
                <a:lnTo>
                  <a:pt x="1512987" y="759916"/>
                </a:lnTo>
                <a:lnTo>
                  <a:pt x="1512987" y="951607"/>
                </a:lnTo>
                <a:cubicBezTo>
                  <a:pt x="1216322" y="1325860"/>
                  <a:pt x="711993" y="1538089"/>
                  <a:pt x="0" y="1588294"/>
                </a:cubicBezTo>
                <a:lnTo>
                  <a:pt x="0" y="1417141"/>
                </a:lnTo>
                <a:cubicBezTo>
                  <a:pt x="260151" y="1385193"/>
                  <a:pt x="465534" y="1339552"/>
                  <a:pt x="616148" y="1280219"/>
                </a:cubicBezTo>
                <a:cubicBezTo>
                  <a:pt x="547687" y="1252835"/>
                  <a:pt x="454124" y="1232297"/>
                  <a:pt x="335458" y="1218604"/>
                </a:cubicBezTo>
                <a:lnTo>
                  <a:pt x="335458" y="1109067"/>
                </a:lnTo>
                <a:cubicBezTo>
                  <a:pt x="262433" y="1127323"/>
                  <a:pt x="182562" y="1141015"/>
                  <a:pt x="95845" y="1150144"/>
                </a:cubicBezTo>
                <a:lnTo>
                  <a:pt x="95845" y="985837"/>
                </a:lnTo>
                <a:cubicBezTo>
                  <a:pt x="287536" y="940197"/>
                  <a:pt x="440432" y="867172"/>
                  <a:pt x="554533" y="766762"/>
                </a:cubicBezTo>
                <a:cubicBezTo>
                  <a:pt x="399355" y="798711"/>
                  <a:pt x="216793" y="826095"/>
                  <a:pt x="6846" y="848915"/>
                </a:cubicBezTo>
                <a:lnTo>
                  <a:pt x="6846" y="664071"/>
                </a:lnTo>
                <a:cubicBezTo>
                  <a:pt x="134640" y="650379"/>
                  <a:pt x="287536" y="622994"/>
                  <a:pt x="465534" y="581918"/>
                </a:cubicBezTo>
                <a:cubicBezTo>
                  <a:pt x="392509" y="559097"/>
                  <a:pt x="324048" y="545405"/>
                  <a:pt x="260151" y="540841"/>
                </a:cubicBezTo>
                <a:lnTo>
                  <a:pt x="260151" y="424457"/>
                </a:lnTo>
                <a:cubicBezTo>
                  <a:pt x="251023" y="424457"/>
                  <a:pt x="235049" y="426739"/>
                  <a:pt x="212229" y="431304"/>
                </a:cubicBezTo>
                <a:cubicBezTo>
                  <a:pt x="175716" y="440432"/>
                  <a:pt x="114101" y="454124"/>
                  <a:pt x="27384" y="472380"/>
                </a:cubicBezTo>
                <a:lnTo>
                  <a:pt x="27384" y="301228"/>
                </a:lnTo>
                <a:cubicBezTo>
                  <a:pt x="228203" y="251023"/>
                  <a:pt x="378817" y="155178"/>
                  <a:pt x="479226" y="13692"/>
                </a:cubicBezTo>
                <a:close/>
                <a:moveTo>
                  <a:pt x="2615207" y="0"/>
                </a:moveTo>
                <a:lnTo>
                  <a:pt x="2889051" y="0"/>
                </a:lnTo>
                <a:lnTo>
                  <a:pt x="2889051" y="150614"/>
                </a:lnTo>
                <a:lnTo>
                  <a:pt x="2889051" y="212229"/>
                </a:lnTo>
                <a:lnTo>
                  <a:pt x="3286125" y="212229"/>
                </a:lnTo>
                <a:lnTo>
                  <a:pt x="3286125" y="1300758"/>
                </a:lnTo>
                <a:cubicBezTo>
                  <a:pt x="3290689" y="1474192"/>
                  <a:pt x="3208536" y="1558627"/>
                  <a:pt x="3039665" y="1554063"/>
                </a:cubicBezTo>
                <a:lnTo>
                  <a:pt x="2841129" y="1554063"/>
                </a:lnTo>
                <a:lnTo>
                  <a:pt x="2841129" y="1376065"/>
                </a:lnTo>
                <a:lnTo>
                  <a:pt x="2943820" y="1376065"/>
                </a:lnTo>
                <a:cubicBezTo>
                  <a:pt x="2989461" y="1376065"/>
                  <a:pt x="3012281" y="1350962"/>
                  <a:pt x="3012281" y="1300758"/>
                </a:cubicBezTo>
                <a:lnTo>
                  <a:pt x="3012281" y="403919"/>
                </a:lnTo>
                <a:lnTo>
                  <a:pt x="2882205" y="403919"/>
                </a:lnTo>
                <a:cubicBezTo>
                  <a:pt x="2877641" y="741660"/>
                  <a:pt x="2845693" y="988119"/>
                  <a:pt x="2786360" y="1143297"/>
                </a:cubicBezTo>
                <a:cubicBezTo>
                  <a:pt x="2736155" y="1298475"/>
                  <a:pt x="2626618" y="1449090"/>
                  <a:pt x="2457747" y="1595140"/>
                </a:cubicBezTo>
                <a:lnTo>
                  <a:pt x="2457747" y="1417141"/>
                </a:lnTo>
                <a:lnTo>
                  <a:pt x="2279749" y="1417141"/>
                </a:lnTo>
                <a:cubicBezTo>
                  <a:pt x="2275185" y="1403449"/>
                  <a:pt x="2272903" y="1385193"/>
                  <a:pt x="2272903" y="1362372"/>
                </a:cubicBezTo>
                <a:cubicBezTo>
                  <a:pt x="2126853" y="1385193"/>
                  <a:pt x="1946573" y="1396603"/>
                  <a:pt x="1732062" y="1396603"/>
                </a:cubicBezTo>
                <a:lnTo>
                  <a:pt x="1732062" y="1184374"/>
                </a:lnTo>
                <a:cubicBezTo>
                  <a:pt x="1823343" y="1020068"/>
                  <a:pt x="1882675" y="858043"/>
                  <a:pt x="1910060" y="698301"/>
                </a:cubicBezTo>
                <a:lnTo>
                  <a:pt x="1718369" y="698301"/>
                </a:lnTo>
                <a:lnTo>
                  <a:pt x="1718369" y="506611"/>
                </a:lnTo>
                <a:lnTo>
                  <a:pt x="2491978" y="506611"/>
                </a:lnTo>
                <a:lnTo>
                  <a:pt x="2491978" y="698301"/>
                </a:lnTo>
                <a:lnTo>
                  <a:pt x="2197596" y="698301"/>
                </a:lnTo>
                <a:cubicBezTo>
                  <a:pt x="2151955" y="894556"/>
                  <a:pt x="2078930" y="1056580"/>
                  <a:pt x="1978521" y="1184374"/>
                </a:cubicBezTo>
                <a:cubicBezTo>
                  <a:pt x="2074366" y="1184374"/>
                  <a:pt x="2161083" y="1179810"/>
                  <a:pt x="2238672" y="1170682"/>
                </a:cubicBezTo>
                <a:cubicBezTo>
                  <a:pt x="2229544" y="1125041"/>
                  <a:pt x="2211288" y="1049734"/>
                  <a:pt x="2183903" y="944761"/>
                </a:cubicBezTo>
                <a:cubicBezTo>
                  <a:pt x="2174775" y="908248"/>
                  <a:pt x="2167929" y="880864"/>
                  <a:pt x="2163365" y="862608"/>
                </a:cubicBezTo>
                <a:lnTo>
                  <a:pt x="2375594" y="862608"/>
                </a:lnTo>
                <a:cubicBezTo>
                  <a:pt x="2421235" y="990401"/>
                  <a:pt x="2460029" y="1129605"/>
                  <a:pt x="2491978" y="1280219"/>
                </a:cubicBezTo>
                <a:cubicBezTo>
                  <a:pt x="2574131" y="1125041"/>
                  <a:pt x="2615207" y="832941"/>
                  <a:pt x="2615207" y="403919"/>
                </a:cubicBezTo>
                <a:lnTo>
                  <a:pt x="2505670" y="403919"/>
                </a:lnTo>
                <a:lnTo>
                  <a:pt x="2505670" y="212229"/>
                </a:lnTo>
                <a:lnTo>
                  <a:pt x="2615207" y="212229"/>
                </a:lnTo>
                <a:lnTo>
                  <a:pt x="26152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9"/>
          <p:cNvSpPr/>
          <p:nvPr/>
        </p:nvSpPr>
        <p:spPr>
          <a:xfrm>
            <a:off x="8075520" y="3367080"/>
            <a:ext cx="3625920" cy="1309680"/>
          </a:xfrm>
          <a:custGeom>
            <a:avLst/>
            <a:gdLst/>
            <a:ahLst/>
            <a:rect l="l" t="t" r="r" b="b"/>
            <a:pathLst>
              <a:path w="3625639" h="1309315">
                <a:moveTo>
                  <a:pt x="864803" y="1013296"/>
                </a:moveTo>
                <a:lnTo>
                  <a:pt x="1138051" y="1013296"/>
                </a:lnTo>
                <a:lnTo>
                  <a:pt x="1138051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2720503" y="592038"/>
                </a:moveTo>
                <a:lnTo>
                  <a:pt x="2720503" y="859594"/>
                </a:lnTo>
                <a:lnTo>
                  <a:pt x="2931132" y="859594"/>
                </a:lnTo>
                <a:lnTo>
                  <a:pt x="2931132" y="592038"/>
                </a:lnTo>
                <a:lnTo>
                  <a:pt x="2720503" y="592038"/>
                </a:lnTo>
                <a:close/>
                <a:moveTo>
                  <a:pt x="2726196" y="261863"/>
                </a:moveTo>
                <a:cubicBezTo>
                  <a:pt x="2680654" y="326380"/>
                  <a:pt x="2621830" y="381409"/>
                  <a:pt x="2549723" y="426950"/>
                </a:cubicBezTo>
                <a:lnTo>
                  <a:pt x="2931132" y="426950"/>
                </a:lnTo>
                <a:lnTo>
                  <a:pt x="2931132" y="261863"/>
                </a:lnTo>
                <a:lnTo>
                  <a:pt x="2726196" y="261863"/>
                </a:lnTo>
                <a:close/>
                <a:moveTo>
                  <a:pt x="392794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4" y="1269466"/>
                </a:lnTo>
                <a:lnTo>
                  <a:pt x="392794" y="404180"/>
                </a:lnTo>
                <a:cubicBezTo>
                  <a:pt x="286531" y="480082"/>
                  <a:pt x="155599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4" y="39848"/>
                </a:cubicBezTo>
                <a:close/>
                <a:moveTo>
                  <a:pt x="1743037" y="22770"/>
                </a:moveTo>
                <a:cubicBezTo>
                  <a:pt x="2020081" y="30361"/>
                  <a:pt x="2164295" y="148009"/>
                  <a:pt x="2175681" y="375716"/>
                </a:cubicBezTo>
                <a:cubicBezTo>
                  <a:pt x="2187066" y="538906"/>
                  <a:pt x="2094085" y="679326"/>
                  <a:pt x="1896739" y="796974"/>
                </a:cubicBezTo>
                <a:cubicBezTo>
                  <a:pt x="1722164" y="899442"/>
                  <a:pt x="1602618" y="1003808"/>
                  <a:pt x="1538101" y="1110071"/>
                </a:cubicBezTo>
                <a:lnTo>
                  <a:pt x="2169988" y="1110071"/>
                </a:lnTo>
                <a:lnTo>
                  <a:pt x="2169988" y="1269466"/>
                </a:lnTo>
                <a:lnTo>
                  <a:pt x="1264853" y="1269466"/>
                </a:lnTo>
                <a:lnTo>
                  <a:pt x="1264853" y="1104379"/>
                </a:lnTo>
                <a:cubicBezTo>
                  <a:pt x="1344550" y="967755"/>
                  <a:pt x="1464096" y="840618"/>
                  <a:pt x="1623491" y="722969"/>
                </a:cubicBezTo>
                <a:cubicBezTo>
                  <a:pt x="1820837" y="582550"/>
                  <a:pt x="1913817" y="470594"/>
                  <a:pt x="1902432" y="387102"/>
                </a:cubicBezTo>
                <a:cubicBezTo>
                  <a:pt x="1902432" y="258068"/>
                  <a:pt x="1843608" y="195448"/>
                  <a:pt x="1725959" y="199243"/>
                </a:cubicBezTo>
                <a:cubicBezTo>
                  <a:pt x="1604515" y="203038"/>
                  <a:pt x="1534306" y="282736"/>
                  <a:pt x="1515330" y="438336"/>
                </a:cubicBezTo>
                <a:lnTo>
                  <a:pt x="1259160" y="438336"/>
                </a:lnTo>
                <a:cubicBezTo>
                  <a:pt x="1308496" y="165087"/>
                  <a:pt x="1469789" y="26565"/>
                  <a:pt x="1743037" y="22770"/>
                </a:cubicBezTo>
                <a:close/>
                <a:moveTo>
                  <a:pt x="2578186" y="0"/>
                </a:moveTo>
                <a:lnTo>
                  <a:pt x="2834357" y="0"/>
                </a:lnTo>
                <a:cubicBezTo>
                  <a:pt x="2830561" y="11385"/>
                  <a:pt x="2826766" y="24668"/>
                  <a:pt x="2822971" y="39848"/>
                </a:cubicBezTo>
                <a:cubicBezTo>
                  <a:pt x="2815381" y="62619"/>
                  <a:pt x="2809688" y="79697"/>
                  <a:pt x="2805893" y="91082"/>
                </a:cubicBezTo>
                <a:lnTo>
                  <a:pt x="3580097" y="91082"/>
                </a:lnTo>
                <a:lnTo>
                  <a:pt x="3580097" y="261863"/>
                </a:lnTo>
                <a:lnTo>
                  <a:pt x="3192995" y="261863"/>
                </a:lnTo>
                <a:lnTo>
                  <a:pt x="3192995" y="426950"/>
                </a:lnTo>
                <a:lnTo>
                  <a:pt x="3545941" y="426950"/>
                </a:lnTo>
                <a:lnTo>
                  <a:pt x="3545941" y="592038"/>
                </a:lnTo>
                <a:lnTo>
                  <a:pt x="3192995" y="592038"/>
                </a:lnTo>
                <a:lnTo>
                  <a:pt x="3192995" y="859594"/>
                </a:lnTo>
                <a:lnTo>
                  <a:pt x="3625639" y="859594"/>
                </a:lnTo>
                <a:lnTo>
                  <a:pt x="3625639" y="1024681"/>
                </a:lnTo>
                <a:lnTo>
                  <a:pt x="3192995" y="1024681"/>
                </a:lnTo>
                <a:lnTo>
                  <a:pt x="3192995" y="1309315"/>
                </a:lnTo>
                <a:lnTo>
                  <a:pt x="2931132" y="1309315"/>
                </a:lnTo>
                <a:lnTo>
                  <a:pt x="2931132" y="1024681"/>
                </a:lnTo>
                <a:lnTo>
                  <a:pt x="2310631" y="1024681"/>
                </a:lnTo>
                <a:lnTo>
                  <a:pt x="2310631" y="859594"/>
                </a:lnTo>
                <a:lnTo>
                  <a:pt x="2481411" y="859594"/>
                </a:lnTo>
                <a:lnTo>
                  <a:pt x="2481411" y="461106"/>
                </a:lnTo>
                <a:cubicBezTo>
                  <a:pt x="2439664" y="483877"/>
                  <a:pt x="2390328" y="502853"/>
                  <a:pt x="2333401" y="518033"/>
                </a:cubicBezTo>
                <a:lnTo>
                  <a:pt x="2333401" y="364331"/>
                </a:lnTo>
                <a:cubicBezTo>
                  <a:pt x="2454845" y="288429"/>
                  <a:pt x="2536440" y="166985"/>
                  <a:pt x="257818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2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90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80c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笑可以使人产生保护性荷尔蒙，重大疾病时被治愈或好转的可能形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8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 flipH="1">
            <a:off x="6176880" y="1368360"/>
            <a:ext cx="5919840" cy="455148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15"/>
          <p:cNvSpPr/>
          <p:nvPr/>
        </p:nvSpPr>
        <p:spPr>
          <a:xfrm>
            <a:off x="558720" y="1235160"/>
            <a:ext cx="5059440" cy="1581120"/>
          </a:xfrm>
          <a:custGeom>
            <a:avLst/>
            <a:gdLst/>
            <a:ahLst/>
            <a:rect l="l" t="t" r="r" b="b"/>
            <a:pathLst>
              <a:path w="5059263" h="1581448">
                <a:moveTo>
                  <a:pt x="479226" y="629840"/>
                </a:moveTo>
                <a:lnTo>
                  <a:pt x="479226" y="746224"/>
                </a:lnTo>
                <a:lnTo>
                  <a:pt x="992683" y="746224"/>
                </a:lnTo>
                <a:cubicBezTo>
                  <a:pt x="1047452" y="746224"/>
                  <a:pt x="1072554" y="723404"/>
                  <a:pt x="1067990" y="677763"/>
                </a:cubicBezTo>
                <a:lnTo>
                  <a:pt x="1067990" y="629840"/>
                </a:lnTo>
                <a:lnTo>
                  <a:pt x="479226" y="629840"/>
                </a:lnTo>
                <a:close/>
                <a:moveTo>
                  <a:pt x="4942879" y="486072"/>
                </a:moveTo>
                <a:lnTo>
                  <a:pt x="4942879" y="684609"/>
                </a:lnTo>
                <a:cubicBezTo>
                  <a:pt x="4819650" y="711994"/>
                  <a:pt x="4696420" y="725686"/>
                  <a:pt x="4573190" y="725686"/>
                </a:cubicBezTo>
                <a:lnTo>
                  <a:pt x="4436269" y="725686"/>
                </a:lnTo>
                <a:lnTo>
                  <a:pt x="4436269" y="889992"/>
                </a:lnTo>
                <a:lnTo>
                  <a:pt x="5045571" y="889992"/>
                </a:lnTo>
                <a:lnTo>
                  <a:pt x="5045571" y="1088529"/>
                </a:lnTo>
                <a:lnTo>
                  <a:pt x="4470499" y="1088529"/>
                </a:lnTo>
                <a:cubicBezTo>
                  <a:pt x="4534396" y="1225451"/>
                  <a:pt x="4730651" y="1332706"/>
                  <a:pt x="5059263" y="1410295"/>
                </a:cubicBezTo>
                <a:lnTo>
                  <a:pt x="5059263" y="1574601"/>
                </a:lnTo>
                <a:cubicBezTo>
                  <a:pt x="4707830" y="1538089"/>
                  <a:pt x="4445396" y="1439962"/>
                  <a:pt x="4271962" y="1280219"/>
                </a:cubicBezTo>
                <a:cubicBezTo>
                  <a:pt x="4121348" y="1449090"/>
                  <a:pt x="3858915" y="1547217"/>
                  <a:pt x="3484661" y="1574601"/>
                </a:cubicBezTo>
                <a:lnTo>
                  <a:pt x="3484661" y="1410295"/>
                </a:lnTo>
                <a:cubicBezTo>
                  <a:pt x="3817838" y="1341834"/>
                  <a:pt x="4014093" y="1234579"/>
                  <a:pt x="4073426" y="1088529"/>
                </a:cubicBezTo>
                <a:lnTo>
                  <a:pt x="3498354" y="1088529"/>
                </a:lnTo>
                <a:lnTo>
                  <a:pt x="3498354" y="889992"/>
                </a:lnTo>
                <a:lnTo>
                  <a:pt x="4107656" y="889992"/>
                </a:lnTo>
                <a:lnTo>
                  <a:pt x="4107656" y="725686"/>
                </a:lnTo>
                <a:lnTo>
                  <a:pt x="3607891" y="725686"/>
                </a:lnTo>
                <a:lnTo>
                  <a:pt x="3607891" y="527149"/>
                </a:lnTo>
                <a:lnTo>
                  <a:pt x="4545806" y="527149"/>
                </a:lnTo>
                <a:cubicBezTo>
                  <a:pt x="4659908" y="527149"/>
                  <a:pt x="4792265" y="513457"/>
                  <a:pt x="4942879" y="486072"/>
                </a:cubicBezTo>
                <a:close/>
                <a:moveTo>
                  <a:pt x="2669976" y="465534"/>
                </a:moveTo>
                <a:lnTo>
                  <a:pt x="2971204" y="465534"/>
                </a:lnTo>
                <a:lnTo>
                  <a:pt x="2971204" y="561379"/>
                </a:lnTo>
                <a:cubicBezTo>
                  <a:pt x="2957512" y="899120"/>
                  <a:pt x="3069332" y="1168400"/>
                  <a:pt x="3306663" y="1369219"/>
                </a:cubicBezTo>
                <a:lnTo>
                  <a:pt x="3306663" y="1567755"/>
                </a:lnTo>
                <a:cubicBezTo>
                  <a:pt x="3073896" y="1462782"/>
                  <a:pt x="2914154" y="1323578"/>
                  <a:pt x="2827436" y="1150144"/>
                </a:cubicBezTo>
                <a:cubicBezTo>
                  <a:pt x="2749848" y="1328142"/>
                  <a:pt x="2594669" y="1471910"/>
                  <a:pt x="2361902" y="1581448"/>
                </a:cubicBezTo>
                <a:lnTo>
                  <a:pt x="2361902" y="1376065"/>
                </a:lnTo>
                <a:cubicBezTo>
                  <a:pt x="2485132" y="1257399"/>
                  <a:pt x="2567285" y="1143298"/>
                  <a:pt x="2608361" y="1033760"/>
                </a:cubicBezTo>
                <a:cubicBezTo>
                  <a:pt x="2649438" y="924223"/>
                  <a:pt x="2669976" y="766762"/>
                  <a:pt x="2669976" y="561379"/>
                </a:cubicBezTo>
                <a:lnTo>
                  <a:pt x="2669976" y="465534"/>
                </a:lnTo>
                <a:close/>
                <a:moveTo>
                  <a:pt x="205382" y="465534"/>
                </a:moveTo>
                <a:lnTo>
                  <a:pt x="1334988" y="465534"/>
                </a:lnTo>
                <a:lnTo>
                  <a:pt x="1334988" y="684609"/>
                </a:lnTo>
                <a:cubicBezTo>
                  <a:pt x="1339552" y="844351"/>
                  <a:pt x="1264245" y="921941"/>
                  <a:pt x="1109067" y="917376"/>
                </a:cubicBezTo>
                <a:lnTo>
                  <a:pt x="917376" y="917376"/>
                </a:lnTo>
                <a:lnTo>
                  <a:pt x="917376" y="992683"/>
                </a:lnTo>
                <a:lnTo>
                  <a:pt x="1458218" y="992683"/>
                </a:lnTo>
                <a:lnTo>
                  <a:pt x="1458218" y="1273373"/>
                </a:lnTo>
                <a:cubicBezTo>
                  <a:pt x="1462782" y="1428552"/>
                  <a:pt x="1389757" y="1503858"/>
                  <a:pt x="1239143" y="1499294"/>
                </a:cubicBezTo>
                <a:lnTo>
                  <a:pt x="1061144" y="1499294"/>
                </a:lnTo>
                <a:lnTo>
                  <a:pt x="1061144" y="1341834"/>
                </a:lnTo>
                <a:lnTo>
                  <a:pt x="1129605" y="1341834"/>
                </a:lnTo>
                <a:cubicBezTo>
                  <a:pt x="1170682" y="1341834"/>
                  <a:pt x="1188938" y="1321296"/>
                  <a:pt x="1184374" y="1280219"/>
                </a:cubicBezTo>
                <a:lnTo>
                  <a:pt x="1184374" y="1177528"/>
                </a:lnTo>
                <a:lnTo>
                  <a:pt x="917376" y="1177528"/>
                </a:lnTo>
                <a:lnTo>
                  <a:pt x="917376" y="1581448"/>
                </a:lnTo>
                <a:lnTo>
                  <a:pt x="616148" y="1581448"/>
                </a:lnTo>
                <a:lnTo>
                  <a:pt x="616148" y="1177528"/>
                </a:lnTo>
                <a:lnTo>
                  <a:pt x="349150" y="1177528"/>
                </a:lnTo>
                <a:lnTo>
                  <a:pt x="349150" y="1485602"/>
                </a:lnTo>
                <a:lnTo>
                  <a:pt x="82153" y="1485602"/>
                </a:lnTo>
                <a:lnTo>
                  <a:pt x="82153" y="992683"/>
                </a:lnTo>
                <a:lnTo>
                  <a:pt x="616148" y="992683"/>
                </a:lnTo>
                <a:lnTo>
                  <a:pt x="616148" y="917376"/>
                </a:lnTo>
                <a:lnTo>
                  <a:pt x="205382" y="917376"/>
                </a:lnTo>
                <a:lnTo>
                  <a:pt x="205382" y="465534"/>
                </a:lnTo>
                <a:close/>
                <a:moveTo>
                  <a:pt x="1738907" y="130076"/>
                </a:moveTo>
                <a:lnTo>
                  <a:pt x="2341364" y="130076"/>
                </a:lnTo>
                <a:lnTo>
                  <a:pt x="2341364" y="321766"/>
                </a:lnTo>
                <a:cubicBezTo>
                  <a:pt x="2323108" y="682327"/>
                  <a:pt x="2261493" y="953889"/>
                  <a:pt x="2156519" y="1136451"/>
                </a:cubicBezTo>
                <a:cubicBezTo>
                  <a:pt x="2197596" y="1209476"/>
                  <a:pt x="2252365" y="1284783"/>
                  <a:pt x="2320825" y="1362373"/>
                </a:cubicBezTo>
                <a:lnTo>
                  <a:pt x="2320825" y="1574601"/>
                </a:lnTo>
                <a:cubicBezTo>
                  <a:pt x="2197596" y="1487884"/>
                  <a:pt x="2099468" y="1403449"/>
                  <a:pt x="2026443" y="1321296"/>
                </a:cubicBezTo>
                <a:cubicBezTo>
                  <a:pt x="1948854" y="1403449"/>
                  <a:pt x="1848445" y="1487884"/>
                  <a:pt x="1725215" y="1574601"/>
                </a:cubicBezTo>
                <a:lnTo>
                  <a:pt x="1725215" y="1362373"/>
                </a:lnTo>
                <a:cubicBezTo>
                  <a:pt x="1798240" y="1280219"/>
                  <a:pt x="1857573" y="1202630"/>
                  <a:pt x="1903214" y="1129605"/>
                </a:cubicBezTo>
                <a:cubicBezTo>
                  <a:pt x="1816497" y="947043"/>
                  <a:pt x="1764010" y="702865"/>
                  <a:pt x="1745754" y="397073"/>
                </a:cubicBezTo>
                <a:lnTo>
                  <a:pt x="1985367" y="397073"/>
                </a:lnTo>
                <a:cubicBezTo>
                  <a:pt x="1994495" y="552251"/>
                  <a:pt x="2010469" y="686891"/>
                  <a:pt x="2033290" y="800993"/>
                </a:cubicBezTo>
                <a:cubicBezTo>
                  <a:pt x="2065238" y="654943"/>
                  <a:pt x="2083494" y="495201"/>
                  <a:pt x="2088058" y="321766"/>
                </a:cubicBezTo>
                <a:lnTo>
                  <a:pt x="1738907" y="321766"/>
                </a:lnTo>
                <a:lnTo>
                  <a:pt x="1738907" y="130076"/>
                </a:lnTo>
                <a:close/>
                <a:moveTo>
                  <a:pt x="2498824" y="6846"/>
                </a:moveTo>
                <a:lnTo>
                  <a:pt x="2779514" y="6846"/>
                </a:lnTo>
                <a:cubicBezTo>
                  <a:pt x="2774949" y="57050"/>
                  <a:pt x="2768103" y="100409"/>
                  <a:pt x="2758975" y="136922"/>
                </a:cubicBezTo>
                <a:lnTo>
                  <a:pt x="3292971" y="136922"/>
                </a:lnTo>
                <a:lnTo>
                  <a:pt x="3292971" y="575072"/>
                </a:lnTo>
                <a:lnTo>
                  <a:pt x="3039665" y="575072"/>
                </a:lnTo>
                <a:lnTo>
                  <a:pt x="3039665" y="335458"/>
                </a:lnTo>
                <a:lnTo>
                  <a:pt x="2704207" y="335458"/>
                </a:lnTo>
                <a:cubicBezTo>
                  <a:pt x="2649438" y="486072"/>
                  <a:pt x="2533054" y="602456"/>
                  <a:pt x="2355056" y="684609"/>
                </a:cubicBezTo>
                <a:lnTo>
                  <a:pt x="2355056" y="486072"/>
                </a:lnTo>
                <a:cubicBezTo>
                  <a:pt x="2437209" y="381099"/>
                  <a:pt x="2485132" y="221357"/>
                  <a:pt x="2498824" y="6846"/>
                </a:cubicBezTo>
                <a:close/>
                <a:moveTo>
                  <a:pt x="4388346" y="0"/>
                </a:moveTo>
                <a:lnTo>
                  <a:pt x="4641651" y="0"/>
                </a:lnTo>
                <a:cubicBezTo>
                  <a:pt x="4641651" y="27384"/>
                  <a:pt x="4637087" y="52487"/>
                  <a:pt x="4627959" y="75307"/>
                </a:cubicBezTo>
                <a:lnTo>
                  <a:pt x="5045571" y="75307"/>
                </a:lnTo>
                <a:lnTo>
                  <a:pt x="5045571" y="253305"/>
                </a:lnTo>
                <a:lnTo>
                  <a:pt x="4867572" y="253305"/>
                </a:lnTo>
                <a:cubicBezTo>
                  <a:pt x="4876700" y="285254"/>
                  <a:pt x="4888111" y="337740"/>
                  <a:pt x="4901803" y="410765"/>
                </a:cubicBezTo>
                <a:cubicBezTo>
                  <a:pt x="4906367" y="429022"/>
                  <a:pt x="4908649" y="444996"/>
                  <a:pt x="4908649" y="458688"/>
                </a:cubicBezTo>
                <a:lnTo>
                  <a:pt x="4682728" y="458688"/>
                </a:lnTo>
                <a:cubicBezTo>
                  <a:pt x="4678164" y="444996"/>
                  <a:pt x="4673600" y="422176"/>
                  <a:pt x="4669036" y="390227"/>
                </a:cubicBezTo>
                <a:cubicBezTo>
                  <a:pt x="4659908" y="330894"/>
                  <a:pt x="4650779" y="285254"/>
                  <a:pt x="4641651" y="253305"/>
                </a:cubicBezTo>
                <a:lnTo>
                  <a:pt x="4580037" y="253305"/>
                </a:lnTo>
                <a:cubicBezTo>
                  <a:pt x="4525268" y="371971"/>
                  <a:pt x="4415730" y="444996"/>
                  <a:pt x="4251424" y="472380"/>
                </a:cubicBezTo>
                <a:lnTo>
                  <a:pt x="4251424" y="328612"/>
                </a:lnTo>
                <a:cubicBezTo>
                  <a:pt x="4333577" y="287536"/>
                  <a:pt x="4379218" y="177998"/>
                  <a:pt x="4388346" y="0"/>
                </a:cubicBezTo>
                <a:close/>
                <a:moveTo>
                  <a:pt x="3635275" y="0"/>
                </a:moveTo>
                <a:lnTo>
                  <a:pt x="3888581" y="0"/>
                </a:lnTo>
                <a:cubicBezTo>
                  <a:pt x="3888581" y="13692"/>
                  <a:pt x="3886299" y="29666"/>
                  <a:pt x="3881735" y="47922"/>
                </a:cubicBezTo>
                <a:cubicBezTo>
                  <a:pt x="3881735" y="61615"/>
                  <a:pt x="3881735" y="73025"/>
                  <a:pt x="3881735" y="82153"/>
                </a:cubicBezTo>
                <a:lnTo>
                  <a:pt x="4265116" y="82153"/>
                </a:lnTo>
                <a:lnTo>
                  <a:pt x="4265116" y="253305"/>
                </a:lnTo>
                <a:lnTo>
                  <a:pt x="4093964" y="253305"/>
                </a:lnTo>
                <a:cubicBezTo>
                  <a:pt x="4093964" y="262433"/>
                  <a:pt x="4096246" y="273844"/>
                  <a:pt x="4100810" y="287536"/>
                </a:cubicBezTo>
                <a:cubicBezTo>
                  <a:pt x="4123630" y="355997"/>
                  <a:pt x="4139605" y="413047"/>
                  <a:pt x="4148733" y="458688"/>
                </a:cubicBezTo>
                <a:lnTo>
                  <a:pt x="3902273" y="458688"/>
                </a:lnTo>
                <a:cubicBezTo>
                  <a:pt x="3897709" y="390227"/>
                  <a:pt x="3884017" y="321766"/>
                  <a:pt x="3861197" y="253305"/>
                </a:cubicBezTo>
                <a:lnTo>
                  <a:pt x="3826966" y="253305"/>
                </a:lnTo>
                <a:cubicBezTo>
                  <a:pt x="3772197" y="376535"/>
                  <a:pt x="3655814" y="454124"/>
                  <a:pt x="3477815" y="486072"/>
                </a:cubicBezTo>
                <a:lnTo>
                  <a:pt x="3477815" y="349151"/>
                </a:lnTo>
                <a:cubicBezTo>
                  <a:pt x="3578225" y="289818"/>
                  <a:pt x="3630711" y="173434"/>
                  <a:pt x="3635275" y="0"/>
                </a:cubicBezTo>
                <a:close/>
                <a:moveTo>
                  <a:pt x="616148" y="0"/>
                </a:moveTo>
                <a:lnTo>
                  <a:pt x="924222" y="0"/>
                </a:lnTo>
                <a:lnTo>
                  <a:pt x="924222" y="171152"/>
                </a:lnTo>
                <a:lnTo>
                  <a:pt x="1067990" y="171152"/>
                </a:lnTo>
                <a:cubicBezTo>
                  <a:pt x="1081683" y="130076"/>
                  <a:pt x="1090811" y="84435"/>
                  <a:pt x="1095375" y="34230"/>
                </a:cubicBezTo>
                <a:lnTo>
                  <a:pt x="1376065" y="34230"/>
                </a:lnTo>
                <a:cubicBezTo>
                  <a:pt x="1366937" y="84435"/>
                  <a:pt x="1355526" y="130076"/>
                  <a:pt x="1341834" y="171152"/>
                </a:cubicBezTo>
                <a:lnTo>
                  <a:pt x="1533525" y="171152"/>
                </a:lnTo>
                <a:lnTo>
                  <a:pt x="1533525" y="444996"/>
                </a:lnTo>
                <a:lnTo>
                  <a:pt x="1252835" y="444996"/>
                </a:lnTo>
                <a:lnTo>
                  <a:pt x="1252835" y="355997"/>
                </a:lnTo>
                <a:lnTo>
                  <a:pt x="280690" y="355997"/>
                </a:lnTo>
                <a:lnTo>
                  <a:pt x="280690" y="444996"/>
                </a:lnTo>
                <a:lnTo>
                  <a:pt x="0" y="444996"/>
                </a:lnTo>
                <a:lnTo>
                  <a:pt x="0" y="171152"/>
                </a:lnTo>
                <a:lnTo>
                  <a:pt x="191690" y="171152"/>
                </a:lnTo>
                <a:cubicBezTo>
                  <a:pt x="177998" y="130076"/>
                  <a:pt x="166588" y="84435"/>
                  <a:pt x="157460" y="34230"/>
                </a:cubicBezTo>
                <a:lnTo>
                  <a:pt x="438150" y="34230"/>
                </a:lnTo>
                <a:cubicBezTo>
                  <a:pt x="442714" y="84435"/>
                  <a:pt x="451842" y="130076"/>
                  <a:pt x="465534" y="171152"/>
                </a:cubicBezTo>
                <a:lnTo>
                  <a:pt x="616148" y="171152"/>
                </a:lnTo>
                <a:lnTo>
                  <a:pt x="616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2104920" y="3367080"/>
            <a:ext cx="3629160" cy="1309680"/>
          </a:xfrm>
          <a:custGeom>
            <a:avLst/>
            <a:gdLst/>
            <a:ahLst/>
            <a:rect l="l" t="t" r="r" b="b"/>
            <a:pathLst>
              <a:path w="3629583" h="1309315">
                <a:moveTo>
                  <a:pt x="1049722" y="1013296"/>
                </a:moveTo>
                <a:lnTo>
                  <a:pt x="1322970" y="1013296"/>
                </a:lnTo>
                <a:lnTo>
                  <a:pt x="1322970" y="1280852"/>
                </a:lnTo>
                <a:lnTo>
                  <a:pt x="1049722" y="1280852"/>
                </a:lnTo>
                <a:lnTo>
                  <a:pt x="1049722" y="1013296"/>
                </a:lnTo>
                <a:close/>
                <a:moveTo>
                  <a:pt x="2724448" y="592038"/>
                </a:moveTo>
                <a:lnTo>
                  <a:pt x="2724448" y="859594"/>
                </a:lnTo>
                <a:lnTo>
                  <a:pt x="2935077" y="859594"/>
                </a:lnTo>
                <a:lnTo>
                  <a:pt x="2935077" y="592038"/>
                </a:lnTo>
                <a:lnTo>
                  <a:pt x="2724448" y="592038"/>
                </a:lnTo>
                <a:close/>
                <a:moveTo>
                  <a:pt x="2730140" y="261863"/>
                </a:moveTo>
                <a:cubicBezTo>
                  <a:pt x="2684599" y="326380"/>
                  <a:pt x="2625775" y="381409"/>
                  <a:pt x="2553667" y="426950"/>
                </a:cubicBezTo>
                <a:lnTo>
                  <a:pt x="2935077" y="426950"/>
                </a:lnTo>
                <a:lnTo>
                  <a:pt x="2935077" y="261863"/>
                </a:lnTo>
                <a:lnTo>
                  <a:pt x="2730140" y="261863"/>
                </a:lnTo>
                <a:close/>
                <a:moveTo>
                  <a:pt x="1825489" y="39848"/>
                </a:moveTo>
                <a:lnTo>
                  <a:pt x="2098737" y="39848"/>
                </a:lnTo>
                <a:lnTo>
                  <a:pt x="2098737" y="1269466"/>
                </a:lnTo>
                <a:lnTo>
                  <a:pt x="1825489" y="1269466"/>
                </a:lnTo>
                <a:lnTo>
                  <a:pt x="1825489" y="404180"/>
                </a:lnTo>
                <a:cubicBezTo>
                  <a:pt x="1719225" y="480082"/>
                  <a:pt x="1588294" y="529418"/>
                  <a:pt x="1432694" y="552189"/>
                </a:cubicBezTo>
                <a:lnTo>
                  <a:pt x="1432694" y="398487"/>
                </a:lnTo>
                <a:cubicBezTo>
                  <a:pt x="1622450" y="318789"/>
                  <a:pt x="1753381" y="199243"/>
                  <a:pt x="1825489" y="39848"/>
                </a:cubicBezTo>
                <a:close/>
                <a:moveTo>
                  <a:pt x="461107" y="22770"/>
                </a:moveTo>
                <a:cubicBezTo>
                  <a:pt x="741946" y="30361"/>
                  <a:pt x="886160" y="136624"/>
                  <a:pt x="893750" y="341560"/>
                </a:cubicBezTo>
                <a:cubicBezTo>
                  <a:pt x="897545" y="497160"/>
                  <a:pt x="812155" y="593935"/>
                  <a:pt x="637580" y="631887"/>
                </a:cubicBezTo>
                <a:cubicBezTo>
                  <a:pt x="823541" y="666043"/>
                  <a:pt x="920316" y="764716"/>
                  <a:pt x="927906" y="927906"/>
                </a:cubicBezTo>
                <a:cubicBezTo>
                  <a:pt x="927906" y="1170793"/>
                  <a:pt x="776102" y="1292237"/>
                  <a:pt x="472492" y="1292237"/>
                </a:cubicBezTo>
                <a:cubicBezTo>
                  <a:pt x="286531" y="1296032"/>
                  <a:pt x="138522" y="1241003"/>
                  <a:pt x="28463" y="1127149"/>
                </a:cubicBezTo>
                <a:lnTo>
                  <a:pt x="28463" y="927906"/>
                </a:lnTo>
                <a:cubicBezTo>
                  <a:pt x="138522" y="1056940"/>
                  <a:pt x="265658" y="1121457"/>
                  <a:pt x="409873" y="1121457"/>
                </a:cubicBezTo>
                <a:cubicBezTo>
                  <a:pt x="565473" y="1117662"/>
                  <a:pt x="645170" y="1053145"/>
                  <a:pt x="648965" y="927906"/>
                </a:cubicBezTo>
                <a:cubicBezTo>
                  <a:pt x="648965" y="810257"/>
                  <a:pt x="559780" y="751433"/>
                  <a:pt x="381409" y="751433"/>
                </a:cubicBezTo>
                <a:lnTo>
                  <a:pt x="267556" y="751433"/>
                </a:lnTo>
                <a:lnTo>
                  <a:pt x="267556" y="540804"/>
                </a:lnTo>
                <a:lnTo>
                  <a:pt x="375717" y="540804"/>
                </a:lnTo>
                <a:cubicBezTo>
                  <a:pt x="542702" y="540804"/>
                  <a:pt x="626194" y="481980"/>
                  <a:pt x="626194" y="364331"/>
                </a:cubicBezTo>
                <a:cubicBezTo>
                  <a:pt x="622399" y="258068"/>
                  <a:pt x="565473" y="203038"/>
                  <a:pt x="455414" y="199243"/>
                </a:cubicBezTo>
                <a:cubicBezTo>
                  <a:pt x="337766" y="203038"/>
                  <a:pt x="271351" y="263760"/>
                  <a:pt x="256171" y="381409"/>
                </a:cubicBezTo>
                <a:lnTo>
                  <a:pt x="0" y="381409"/>
                </a:lnTo>
                <a:cubicBezTo>
                  <a:pt x="49337" y="146112"/>
                  <a:pt x="203039" y="26565"/>
                  <a:pt x="461107" y="22770"/>
                </a:cubicBezTo>
                <a:close/>
                <a:moveTo>
                  <a:pt x="2582131" y="0"/>
                </a:moveTo>
                <a:lnTo>
                  <a:pt x="2838301" y="0"/>
                </a:lnTo>
                <a:cubicBezTo>
                  <a:pt x="2834506" y="11385"/>
                  <a:pt x="2830711" y="24668"/>
                  <a:pt x="2826916" y="39848"/>
                </a:cubicBezTo>
                <a:cubicBezTo>
                  <a:pt x="2819326" y="62619"/>
                  <a:pt x="2813633" y="79697"/>
                  <a:pt x="2809838" y="91082"/>
                </a:cubicBezTo>
                <a:lnTo>
                  <a:pt x="3584042" y="91082"/>
                </a:lnTo>
                <a:lnTo>
                  <a:pt x="3584042" y="261863"/>
                </a:lnTo>
                <a:lnTo>
                  <a:pt x="3196940" y="261863"/>
                </a:lnTo>
                <a:lnTo>
                  <a:pt x="3196940" y="426950"/>
                </a:lnTo>
                <a:lnTo>
                  <a:pt x="3549886" y="426950"/>
                </a:lnTo>
                <a:lnTo>
                  <a:pt x="3549886" y="592038"/>
                </a:lnTo>
                <a:lnTo>
                  <a:pt x="3196940" y="592038"/>
                </a:lnTo>
                <a:lnTo>
                  <a:pt x="3196940" y="859594"/>
                </a:lnTo>
                <a:lnTo>
                  <a:pt x="3629583" y="859594"/>
                </a:lnTo>
                <a:lnTo>
                  <a:pt x="3629583" y="1024681"/>
                </a:lnTo>
                <a:lnTo>
                  <a:pt x="3196940" y="1024681"/>
                </a:lnTo>
                <a:lnTo>
                  <a:pt x="3196940" y="1309315"/>
                </a:lnTo>
                <a:lnTo>
                  <a:pt x="2935077" y="1309315"/>
                </a:lnTo>
                <a:lnTo>
                  <a:pt x="2935077" y="1024681"/>
                </a:lnTo>
                <a:lnTo>
                  <a:pt x="2314575" y="1024681"/>
                </a:lnTo>
                <a:lnTo>
                  <a:pt x="2314575" y="859594"/>
                </a:lnTo>
                <a:lnTo>
                  <a:pt x="2485355" y="859594"/>
                </a:lnTo>
                <a:lnTo>
                  <a:pt x="2485355" y="461106"/>
                </a:lnTo>
                <a:cubicBezTo>
                  <a:pt x="2443609" y="483877"/>
                  <a:pt x="2394273" y="502853"/>
                  <a:pt x="2337346" y="518033"/>
                </a:cubicBezTo>
                <a:lnTo>
                  <a:pt x="2337346" y="364331"/>
                </a:lnTo>
                <a:cubicBezTo>
                  <a:pt x="2458790" y="288429"/>
                  <a:pt x="2540385" y="166985"/>
                  <a:pt x="25821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22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c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6134040" cy="6134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43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2"/>
          <a:stretch/>
        </p:blipFill>
        <p:spPr>
          <a:xfrm>
            <a:off x="1084320" y="1700280"/>
            <a:ext cx="2627280" cy="5133960"/>
          </a:xfrm>
          <a:prstGeom prst="rect">
            <a:avLst/>
          </a:prstGeom>
          <a:ln w="0">
            <a:noFill/>
          </a:ln>
        </p:spPr>
      </p:pic>
      <p:sp>
        <p:nvSpPr>
          <p:cNvPr id="243" name="矩形 18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连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每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海边日光，可以治好一半以上的抑郁症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1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2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5"/>
          <p:cNvSpPr/>
          <p:nvPr/>
        </p:nvSpPr>
        <p:spPr>
          <a:xfrm>
            <a:off x="6518160" y="1235160"/>
            <a:ext cx="5086440" cy="1574640"/>
          </a:xfrm>
          <a:custGeom>
            <a:avLst/>
            <a:gdLst/>
            <a:ahLst/>
            <a:rect l="l" t="t" r="r" b="b"/>
            <a:pathLst>
              <a:path w="5086648" h="1574601">
                <a:moveTo>
                  <a:pt x="2485132" y="965299"/>
                </a:moveTo>
                <a:lnTo>
                  <a:pt x="2485132" y="1102221"/>
                </a:lnTo>
                <a:cubicBezTo>
                  <a:pt x="2485132" y="1152426"/>
                  <a:pt x="2510234" y="1177528"/>
                  <a:pt x="2560439" y="1177528"/>
                </a:cubicBezTo>
                <a:lnTo>
                  <a:pt x="2642592" y="1177528"/>
                </a:lnTo>
                <a:cubicBezTo>
                  <a:pt x="2638028" y="1145580"/>
                  <a:pt x="2624336" y="1097657"/>
                  <a:pt x="2601516" y="1033760"/>
                </a:cubicBezTo>
                <a:cubicBezTo>
                  <a:pt x="2596952" y="1020068"/>
                  <a:pt x="2594670" y="1010940"/>
                  <a:pt x="2594670" y="1006376"/>
                </a:cubicBezTo>
                <a:lnTo>
                  <a:pt x="2834283" y="1006376"/>
                </a:lnTo>
                <a:cubicBezTo>
                  <a:pt x="2861667" y="1065709"/>
                  <a:pt x="2879924" y="1122759"/>
                  <a:pt x="2889052" y="1177528"/>
                </a:cubicBezTo>
                <a:lnTo>
                  <a:pt x="2984897" y="1177528"/>
                </a:lnTo>
                <a:lnTo>
                  <a:pt x="2984897" y="965299"/>
                </a:lnTo>
                <a:lnTo>
                  <a:pt x="2485132" y="965299"/>
                </a:lnTo>
                <a:close/>
                <a:moveTo>
                  <a:pt x="1896368" y="855762"/>
                </a:moveTo>
                <a:lnTo>
                  <a:pt x="2142828" y="855762"/>
                </a:lnTo>
                <a:cubicBezTo>
                  <a:pt x="2129135" y="1147862"/>
                  <a:pt x="2088059" y="1378347"/>
                  <a:pt x="2019598" y="1547217"/>
                </a:cubicBezTo>
                <a:lnTo>
                  <a:pt x="1745754" y="1547217"/>
                </a:lnTo>
                <a:cubicBezTo>
                  <a:pt x="1827907" y="1341834"/>
                  <a:pt x="1878112" y="1111349"/>
                  <a:pt x="1896368" y="855762"/>
                </a:cubicBezTo>
                <a:close/>
                <a:moveTo>
                  <a:pt x="2485132" y="554533"/>
                </a:moveTo>
                <a:lnTo>
                  <a:pt x="2485132" y="780454"/>
                </a:lnTo>
                <a:lnTo>
                  <a:pt x="2642592" y="780454"/>
                </a:lnTo>
                <a:cubicBezTo>
                  <a:pt x="2628900" y="721122"/>
                  <a:pt x="2612926" y="661789"/>
                  <a:pt x="2594670" y="602456"/>
                </a:cubicBezTo>
                <a:lnTo>
                  <a:pt x="2827437" y="602456"/>
                </a:lnTo>
                <a:cubicBezTo>
                  <a:pt x="2854821" y="657225"/>
                  <a:pt x="2875360" y="716558"/>
                  <a:pt x="2889052" y="780454"/>
                </a:cubicBezTo>
                <a:lnTo>
                  <a:pt x="2984897" y="780454"/>
                </a:lnTo>
                <a:lnTo>
                  <a:pt x="2984897" y="554533"/>
                </a:lnTo>
                <a:lnTo>
                  <a:pt x="2485132" y="554533"/>
                </a:lnTo>
                <a:close/>
                <a:moveTo>
                  <a:pt x="3505200" y="492919"/>
                </a:moveTo>
                <a:lnTo>
                  <a:pt x="3943350" y="492919"/>
                </a:lnTo>
                <a:lnTo>
                  <a:pt x="3943350" y="1143298"/>
                </a:lnTo>
                <a:cubicBezTo>
                  <a:pt x="3947914" y="1280219"/>
                  <a:pt x="4016376" y="1350962"/>
                  <a:pt x="4148733" y="1355526"/>
                </a:cubicBezTo>
                <a:lnTo>
                  <a:pt x="5086648" y="1355526"/>
                </a:lnTo>
                <a:lnTo>
                  <a:pt x="5086648" y="1547217"/>
                </a:lnTo>
                <a:lnTo>
                  <a:pt x="4114502" y="1547217"/>
                </a:lnTo>
                <a:cubicBezTo>
                  <a:pt x="3991273" y="1547217"/>
                  <a:pt x="3899992" y="1510704"/>
                  <a:pt x="3840659" y="1437680"/>
                </a:cubicBezTo>
                <a:cubicBezTo>
                  <a:pt x="3776762" y="1510704"/>
                  <a:pt x="3671788" y="1556345"/>
                  <a:pt x="3525738" y="1574601"/>
                </a:cubicBezTo>
                <a:lnTo>
                  <a:pt x="3525738" y="1410295"/>
                </a:lnTo>
                <a:cubicBezTo>
                  <a:pt x="3612456" y="1382911"/>
                  <a:pt x="3653532" y="1323578"/>
                  <a:pt x="3648968" y="1232297"/>
                </a:cubicBezTo>
                <a:lnTo>
                  <a:pt x="3648968" y="684609"/>
                </a:lnTo>
                <a:lnTo>
                  <a:pt x="3505200" y="684609"/>
                </a:lnTo>
                <a:lnTo>
                  <a:pt x="3505200" y="492919"/>
                </a:lnTo>
                <a:close/>
                <a:moveTo>
                  <a:pt x="1793677" y="444996"/>
                </a:moveTo>
                <a:lnTo>
                  <a:pt x="2033290" y="444996"/>
                </a:lnTo>
                <a:cubicBezTo>
                  <a:pt x="2083495" y="549969"/>
                  <a:pt x="2117725" y="661789"/>
                  <a:pt x="2135982" y="780454"/>
                </a:cubicBezTo>
                <a:lnTo>
                  <a:pt x="1882676" y="780454"/>
                </a:lnTo>
                <a:cubicBezTo>
                  <a:pt x="1864420" y="684609"/>
                  <a:pt x="1834753" y="572790"/>
                  <a:pt x="1793677" y="444996"/>
                </a:cubicBezTo>
                <a:close/>
                <a:moveTo>
                  <a:pt x="3587353" y="34230"/>
                </a:moveTo>
                <a:lnTo>
                  <a:pt x="3847505" y="34230"/>
                </a:lnTo>
                <a:cubicBezTo>
                  <a:pt x="3902274" y="139204"/>
                  <a:pt x="3941068" y="253305"/>
                  <a:pt x="3963888" y="376535"/>
                </a:cubicBezTo>
                <a:lnTo>
                  <a:pt x="3690045" y="376535"/>
                </a:lnTo>
                <a:cubicBezTo>
                  <a:pt x="3671788" y="266997"/>
                  <a:pt x="3637558" y="152896"/>
                  <a:pt x="3587353" y="34230"/>
                </a:cubicBezTo>
                <a:close/>
                <a:moveTo>
                  <a:pt x="1773139" y="34230"/>
                </a:moveTo>
                <a:lnTo>
                  <a:pt x="2019598" y="34230"/>
                </a:lnTo>
                <a:cubicBezTo>
                  <a:pt x="2060674" y="111819"/>
                  <a:pt x="2094905" y="223639"/>
                  <a:pt x="2122289" y="369689"/>
                </a:cubicBezTo>
                <a:lnTo>
                  <a:pt x="1862138" y="369689"/>
                </a:lnTo>
                <a:cubicBezTo>
                  <a:pt x="1839317" y="241895"/>
                  <a:pt x="1809651" y="130076"/>
                  <a:pt x="1773139" y="34230"/>
                </a:cubicBezTo>
                <a:close/>
                <a:moveTo>
                  <a:pt x="4230886" y="6846"/>
                </a:moveTo>
                <a:lnTo>
                  <a:pt x="4538960" y="6846"/>
                </a:lnTo>
                <a:lnTo>
                  <a:pt x="4538960" y="212229"/>
                </a:lnTo>
                <a:lnTo>
                  <a:pt x="5031879" y="212229"/>
                </a:lnTo>
                <a:lnTo>
                  <a:pt x="5031879" y="985837"/>
                </a:lnTo>
                <a:cubicBezTo>
                  <a:pt x="5041007" y="1177528"/>
                  <a:pt x="4952008" y="1268809"/>
                  <a:pt x="4764882" y="1259681"/>
                </a:cubicBezTo>
                <a:lnTo>
                  <a:pt x="4532114" y="1259681"/>
                </a:lnTo>
                <a:lnTo>
                  <a:pt x="4532114" y="1061144"/>
                </a:lnTo>
                <a:lnTo>
                  <a:pt x="4648498" y="1061144"/>
                </a:lnTo>
                <a:cubicBezTo>
                  <a:pt x="4707831" y="1065709"/>
                  <a:pt x="4735215" y="1036042"/>
                  <a:pt x="4730651" y="972145"/>
                </a:cubicBezTo>
                <a:lnTo>
                  <a:pt x="4730651" y="417611"/>
                </a:lnTo>
                <a:lnTo>
                  <a:pt x="4532114" y="417611"/>
                </a:lnTo>
                <a:cubicBezTo>
                  <a:pt x="4527550" y="819249"/>
                  <a:pt x="4356398" y="1113631"/>
                  <a:pt x="4018657" y="1300758"/>
                </a:cubicBezTo>
                <a:lnTo>
                  <a:pt x="4018657" y="1074837"/>
                </a:lnTo>
                <a:cubicBezTo>
                  <a:pt x="4155579" y="947043"/>
                  <a:pt x="4226322" y="727968"/>
                  <a:pt x="4230886" y="417611"/>
                </a:cubicBezTo>
                <a:lnTo>
                  <a:pt x="4018657" y="417611"/>
                </a:lnTo>
                <a:lnTo>
                  <a:pt x="4018657" y="212229"/>
                </a:lnTo>
                <a:lnTo>
                  <a:pt x="4230886" y="212229"/>
                </a:lnTo>
                <a:lnTo>
                  <a:pt x="4230886" y="6846"/>
                </a:lnTo>
                <a:close/>
                <a:moveTo>
                  <a:pt x="2375595" y="0"/>
                </a:moveTo>
                <a:lnTo>
                  <a:pt x="2669977" y="0"/>
                </a:lnTo>
                <a:cubicBezTo>
                  <a:pt x="2656284" y="41076"/>
                  <a:pt x="2642592" y="77589"/>
                  <a:pt x="2628900" y="109537"/>
                </a:cubicBezTo>
                <a:lnTo>
                  <a:pt x="3313510" y="109537"/>
                </a:lnTo>
                <a:lnTo>
                  <a:pt x="3313510" y="280690"/>
                </a:lnTo>
                <a:lnTo>
                  <a:pt x="2491978" y="280690"/>
                </a:lnTo>
                <a:cubicBezTo>
                  <a:pt x="2446338" y="321766"/>
                  <a:pt x="2384723" y="351433"/>
                  <a:pt x="2307134" y="369689"/>
                </a:cubicBezTo>
                <a:lnTo>
                  <a:pt x="3245048" y="369689"/>
                </a:lnTo>
                <a:lnTo>
                  <a:pt x="3245048" y="780454"/>
                </a:lnTo>
                <a:lnTo>
                  <a:pt x="3347740" y="780454"/>
                </a:lnTo>
                <a:lnTo>
                  <a:pt x="3347740" y="965299"/>
                </a:lnTo>
                <a:lnTo>
                  <a:pt x="3245048" y="965299"/>
                </a:lnTo>
                <a:lnTo>
                  <a:pt x="3245048" y="1177528"/>
                </a:lnTo>
                <a:lnTo>
                  <a:pt x="3334048" y="1177528"/>
                </a:lnTo>
                <a:lnTo>
                  <a:pt x="3334048" y="1362373"/>
                </a:lnTo>
                <a:lnTo>
                  <a:pt x="3245048" y="1362373"/>
                </a:lnTo>
                <a:cubicBezTo>
                  <a:pt x="3245048" y="1503858"/>
                  <a:pt x="3169742" y="1574601"/>
                  <a:pt x="3019128" y="1574601"/>
                </a:cubicBezTo>
                <a:lnTo>
                  <a:pt x="2765822" y="1574601"/>
                </a:lnTo>
                <a:lnTo>
                  <a:pt x="2765822" y="1410295"/>
                </a:lnTo>
                <a:lnTo>
                  <a:pt x="2909590" y="1410295"/>
                </a:lnTo>
                <a:cubicBezTo>
                  <a:pt x="2950666" y="1410295"/>
                  <a:pt x="2975769" y="1394321"/>
                  <a:pt x="2984897" y="1362373"/>
                </a:cubicBezTo>
                <a:lnTo>
                  <a:pt x="2437210" y="1362373"/>
                </a:lnTo>
                <a:cubicBezTo>
                  <a:pt x="2291160" y="1362373"/>
                  <a:pt x="2218134" y="1291629"/>
                  <a:pt x="2218134" y="1150144"/>
                </a:cubicBezTo>
                <a:lnTo>
                  <a:pt x="2218134" y="965299"/>
                </a:lnTo>
                <a:lnTo>
                  <a:pt x="2149674" y="965299"/>
                </a:lnTo>
                <a:lnTo>
                  <a:pt x="2149674" y="780454"/>
                </a:lnTo>
                <a:lnTo>
                  <a:pt x="2218134" y="780454"/>
                </a:lnTo>
                <a:lnTo>
                  <a:pt x="2218134" y="397073"/>
                </a:lnTo>
                <a:cubicBezTo>
                  <a:pt x="2213570" y="397073"/>
                  <a:pt x="2202160" y="397073"/>
                  <a:pt x="2183904" y="397073"/>
                </a:cubicBezTo>
                <a:cubicBezTo>
                  <a:pt x="2165648" y="401637"/>
                  <a:pt x="2151956" y="403919"/>
                  <a:pt x="2142828" y="403919"/>
                </a:cubicBezTo>
                <a:lnTo>
                  <a:pt x="2142828" y="260151"/>
                </a:lnTo>
                <a:cubicBezTo>
                  <a:pt x="2261493" y="219075"/>
                  <a:pt x="2339082" y="132358"/>
                  <a:pt x="2375595" y="0"/>
                </a:cubicBezTo>
                <a:close/>
                <a:moveTo>
                  <a:pt x="636687" y="0"/>
                </a:moveTo>
                <a:lnTo>
                  <a:pt x="951607" y="0"/>
                </a:lnTo>
                <a:lnTo>
                  <a:pt x="951607" y="184844"/>
                </a:lnTo>
                <a:lnTo>
                  <a:pt x="1499295" y="184844"/>
                </a:lnTo>
                <a:lnTo>
                  <a:pt x="1499295" y="390227"/>
                </a:lnTo>
                <a:lnTo>
                  <a:pt x="951607" y="390227"/>
                </a:lnTo>
                <a:lnTo>
                  <a:pt x="951607" y="691455"/>
                </a:lnTo>
                <a:lnTo>
                  <a:pt x="1581448" y="691455"/>
                </a:lnTo>
                <a:lnTo>
                  <a:pt x="1581448" y="889992"/>
                </a:lnTo>
                <a:lnTo>
                  <a:pt x="800993" y="889992"/>
                </a:lnTo>
                <a:cubicBezTo>
                  <a:pt x="718840" y="1040606"/>
                  <a:pt x="604739" y="1172964"/>
                  <a:pt x="458689" y="1287066"/>
                </a:cubicBezTo>
                <a:cubicBezTo>
                  <a:pt x="718840" y="1287066"/>
                  <a:pt x="960735" y="1277937"/>
                  <a:pt x="1184375" y="1259681"/>
                </a:cubicBezTo>
                <a:cubicBezTo>
                  <a:pt x="1156990" y="1191220"/>
                  <a:pt x="1127324" y="1125041"/>
                  <a:pt x="1095375" y="1061144"/>
                </a:cubicBezTo>
                <a:lnTo>
                  <a:pt x="1362373" y="1061144"/>
                </a:lnTo>
                <a:cubicBezTo>
                  <a:pt x="1444526" y="1211758"/>
                  <a:pt x="1512987" y="1373783"/>
                  <a:pt x="1567756" y="1547217"/>
                </a:cubicBezTo>
                <a:lnTo>
                  <a:pt x="1273374" y="1547217"/>
                </a:lnTo>
                <a:cubicBezTo>
                  <a:pt x="1268810" y="1533525"/>
                  <a:pt x="1264246" y="1512987"/>
                  <a:pt x="1259682" y="1485602"/>
                </a:cubicBezTo>
                <a:cubicBezTo>
                  <a:pt x="1250554" y="1462782"/>
                  <a:pt x="1245989" y="1446808"/>
                  <a:pt x="1245989" y="1437680"/>
                </a:cubicBezTo>
                <a:cubicBezTo>
                  <a:pt x="1095375" y="1460500"/>
                  <a:pt x="949325" y="1476474"/>
                  <a:pt x="807839" y="1485602"/>
                </a:cubicBezTo>
                <a:cubicBezTo>
                  <a:pt x="675482" y="1494730"/>
                  <a:pt x="502047" y="1499294"/>
                  <a:pt x="287536" y="1499294"/>
                </a:cubicBezTo>
                <a:lnTo>
                  <a:pt x="143768" y="1499294"/>
                </a:lnTo>
                <a:lnTo>
                  <a:pt x="143768" y="1287066"/>
                </a:lnTo>
                <a:cubicBezTo>
                  <a:pt x="285254" y="1150144"/>
                  <a:pt x="383382" y="1017786"/>
                  <a:pt x="438150" y="889992"/>
                </a:cubicBezTo>
                <a:lnTo>
                  <a:pt x="0" y="889992"/>
                </a:lnTo>
                <a:lnTo>
                  <a:pt x="0" y="691455"/>
                </a:lnTo>
                <a:lnTo>
                  <a:pt x="636687" y="691455"/>
                </a:lnTo>
                <a:lnTo>
                  <a:pt x="636687" y="390227"/>
                </a:lnTo>
                <a:lnTo>
                  <a:pt x="95846" y="390227"/>
                </a:lnTo>
                <a:lnTo>
                  <a:pt x="95846" y="184844"/>
                </a:lnTo>
                <a:lnTo>
                  <a:pt x="636687" y="184844"/>
                </a:lnTo>
                <a:lnTo>
                  <a:pt x="6366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7"/>
          <p:cNvSpPr/>
          <p:nvPr/>
        </p:nvSpPr>
        <p:spPr>
          <a:xfrm>
            <a:off x="7969320" y="3367080"/>
            <a:ext cx="3846600" cy="1309680"/>
          </a:xfrm>
          <a:custGeom>
            <a:avLst/>
            <a:gdLst/>
            <a:ahLst/>
            <a:rect l="l" t="t" r="r" b="b"/>
            <a:pathLst>
              <a:path w="3846686" h="1309315">
                <a:moveTo>
                  <a:pt x="1066800" y="1013296"/>
                </a:moveTo>
                <a:lnTo>
                  <a:pt x="1340048" y="1013296"/>
                </a:lnTo>
                <a:lnTo>
                  <a:pt x="1340048" y="1280852"/>
                </a:lnTo>
                <a:lnTo>
                  <a:pt x="1066800" y="1280852"/>
                </a:lnTo>
                <a:lnTo>
                  <a:pt x="1066800" y="1013296"/>
                </a:lnTo>
                <a:close/>
                <a:moveTo>
                  <a:pt x="2941550" y="592038"/>
                </a:moveTo>
                <a:lnTo>
                  <a:pt x="2941550" y="859594"/>
                </a:lnTo>
                <a:lnTo>
                  <a:pt x="3152179" y="859594"/>
                </a:lnTo>
                <a:lnTo>
                  <a:pt x="3152179" y="592038"/>
                </a:lnTo>
                <a:lnTo>
                  <a:pt x="2941550" y="592038"/>
                </a:lnTo>
                <a:close/>
                <a:moveTo>
                  <a:pt x="2947243" y="261863"/>
                </a:moveTo>
                <a:cubicBezTo>
                  <a:pt x="2901701" y="326380"/>
                  <a:pt x="2842877" y="381409"/>
                  <a:pt x="2770770" y="426950"/>
                </a:cubicBezTo>
                <a:lnTo>
                  <a:pt x="3152179" y="426950"/>
                </a:lnTo>
                <a:lnTo>
                  <a:pt x="3152179" y="261863"/>
                </a:lnTo>
                <a:lnTo>
                  <a:pt x="2947243" y="261863"/>
                </a:lnTo>
                <a:close/>
                <a:moveTo>
                  <a:pt x="1922264" y="199243"/>
                </a:moveTo>
                <a:cubicBezTo>
                  <a:pt x="1804615" y="206833"/>
                  <a:pt x="1741995" y="284633"/>
                  <a:pt x="1734406" y="432643"/>
                </a:cubicBezTo>
                <a:cubicBezTo>
                  <a:pt x="1738200" y="584448"/>
                  <a:pt x="1802718" y="662248"/>
                  <a:pt x="1927956" y="666043"/>
                </a:cubicBezTo>
                <a:cubicBezTo>
                  <a:pt x="2045605" y="658452"/>
                  <a:pt x="2108224" y="584448"/>
                  <a:pt x="2115815" y="444028"/>
                </a:cubicBezTo>
                <a:cubicBezTo>
                  <a:pt x="2112019" y="288429"/>
                  <a:pt x="2047502" y="206833"/>
                  <a:pt x="1922264" y="199243"/>
                </a:cubicBezTo>
                <a:close/>
                <a:moveTo>
                  <a:pt x="478184" y="193551"/>
                </a:moveTo>
                <a:cubicBezTo>
                  <a:pt x="341560" y="189755"/>
                  <a:pt x="273248" y="347253"/>
                  <a:pt x="273248" y="666043"/>
                </a:cubicBezTo>
                <a:cubicBezTo>
                  <a:pt x="273248" y="973447"/>
                  <a:pt x="341560" y="1127149"/>
                  <a:pt x="478184" y="1127149"/>
                </a:cubicBezTo>
                <a:cubicBezTo>
                  <a:pt x="607218" y="1127149"/>
                  <a:pt x="671735" y="973447"/>
                  <a:pt x="671735" y="666043"/>
                </a:cubicBezTo>
                <a:cubicBezTo>
                  <a:pt x="675530" y="343458"/>
                  <a:pt x="611013" y="185960"/>
                  <a:pt x="478184" y="193551"/>
                </a:cubicBezTo>
                <a:close/>
                <a:moveTo>
                  <a:pt x="1971496" y="22615"/>
                </a:moveTo>
                <a:cubicBezTo>
                  <a:pt x="2264580" y="35290"/>
                  <a:pt x="2407564" y="249766"/>
                  <a:pt x="2400448" y="666043"/>
                </a:cubicBezTo>
                <a:cubicBezTo>
                  <a:pt x="2400448" y="1083506"/>
                  <a:pt x="2239156" y="1292237"/>
                  <a:pt x="1916571" y="1292237"/>
                </a:cubicBezTo>
                <a:cubicBezTo>
                  <a:pt x="1734406" y="1292237"/>
                  <a:pt x="1592088" y="1239105"/>
                  <a:pt x="1489620" y="1132842"/>
                </a:cubicBezTo>
                <a:lnTo>
                  <a:pt x="1489620" y="944984"/>
                </a:lnTo>
                <a:cubicBezTo>
                  <a:pt x="1588293" y="1062632"/>
                  <a:pt x="1709737" y="1123354"/>
                  <a:pt x="1853952" y="1127149"/>
                </a:cubicBezTo>
                <a:cubicBezTo>
                  <a:pt x="2043707" y="1123354"/>
                  <a:pt x="2136688" y="1001911"/>
                  <a:pt x="2132893" y="762818"/>
                </a:cubicBezTo>
                <a:cubicBezTo>
                  <a:pt x="2064580" y="815950"/>
                  <a:pt x="1986780" y="840618"/>
                  <a:pt x="1899493" y="836823"/>
                </a:cubicBezTo>
                <a:cubicBezTo>
                  <a:pt x="1618654" y="829233"/>
                  <a:pt x="1472542" y="702096"/>
                  <a:pt x="1461157" y="455414"/>
                </a:cubicBezTo>
                <a:cubicBezTo>
                  <a:pt x="1480132" y="178370"/>
                  <a:pt x="1630040" y="34156"/>
                  <a:pt x="1910878" y="22770"/>
                </a:cubicBezTo>
                <a:cubicBezTo>
                  <a:pt x="1931752" y="21822"/>
                  <a:pt x="1951958" y="21770"/>
                  <a:pt x="1971496" y="22615"/>
                </a:cubicBezTo>
                <a:close/>
                <a:moveTo>
                  <a:pt x="472492" y="17078"/>
                </a:moveTo>
                <a:cubicBezTo>
                  <a:pt x="787486" y="20873"/>
                  <a:pt x="946881" y="235297"/>
                  <a:pt x="950676" y="660350"/>
                </a:cubicBezTo>
                <a:cubicBezTo>
                  <a:pt x="954472" y="1085403"/>
                  <a:pt x="795076" y="1296032"/>
                  <a:pt x="472492" y="1292237"/>
                </a:cubicBezTo>
                <a:cubicBezTo>
                  <a:pt x="161292" y="1284647"/>
                  <a:pt x="3795" y="1074018"/>
                  <a:pt x="0" y="660350"/>
                </a:cubicBezTo>
                <a:cubicBezTo>
                  <a:pt x="7590" y="246682"/>
                  <a:pt x="165087" y="32258"/>
                  <a:pt x="472492" y="17078"/>
                </a:cubicBezTo>
                <a:close/>
                <a:moveTo>
                  <a:pt x="2799233" y="0"/>
                </a:moveTo>
                <a:lnTo>
                  <a:pt x="3055404" y="0"/>
                </a:lnTo>
                <a:cubicBezTo>
                  <a:pt x="3051608" y="11385"/>
                  <a:pt x="3047813" y="24668"/>
                  <a:pt x="3044018" y="39848"/>
                </a:cubicBezTo>
                <a:cubicBezTo>
                  <a:pt x="3036428" y="62619"/>
                  <a:pt x="3030735" y="79697"/>
                  <a:pt x="3026940" y="91082"/>
                </a:cubicBezTo>
                <a:lnTo>
                  <a:pt x="3801144" y="91082"/>
                </a:lnTo>
                <a:lnTo>
                  <a:pt x="3801144" y="261863"/>
                </a:lnTo>
                <a:lnTo>
                  <a:pt x="3414042" y="261863"/>
                </a:lnTo>
                <a:lnTo>
                  <a:pt x="3414042" y="426950"/>
                </a:lnTo>
                <a:lnTo>
                  <a:pt x="3766988" y="426950"/>
                </a:lnTo>
                <a:lnTo>
                  <a:pt x="3766988" y="592038"/>
                </a:lnTo>
                <a:lnTo>
                  <a:pt x="3414042" y="592038"/>
                </a:lnTo>
                <a:lnTo>
                  <a:pt x="3414042" y="859594"/>
                </a:lnTo>
                <a:lnTo>
                  <a:pt x="3846686" y="859594"/>
                </a:lnTo>
                <a:lnTo>
                  <a:pt x="3846686" y="1024681"/>
                </a:lnTo>
                <a:lnTo>
                  <a:pt x="3414042" y="1024681"/>
                </a:lnTo>
                <a:lnTo>
                  <a:pt x="3414042" y="1309315"/>
                </a:lnTo>
                <a:lnTo>
                  <a:pt x="3152179" y="1309315"/>
                </a:lnTo>
                <a:lnTo>
                  <a:pt x="3152179" y="1024681"/>
                </a:lnTo>
                <a:lnTo>
                  <a:pt x="2531678" y="1024681"/>
                </a:lnTo>
                <a:lnTo>
                  <a:pt x="2531678" y="859594"/>
                </a:lnTo>
                <a:lnTo>
                  <a:pt x="2702458" y="859594"/>
                </a:lnTo>
                <a:lnTo>
                  <a:pt x="2702458" y="461106"/>
                </a:lnTo>
                <a:cubicBezTo>
                  <a:pt x="2660711" y="483877"/>
                  <a:pt x="2611375" y="502853"/>
                  <a:pt x="2554448" y="518033"/>
                </a:cubicBezTo>
                <a:lnTo>
                  <a:pt x="2554448" y="364331"/>
                </a:lnTo>
                <a:cubicBezTo>
                  <a:pt x="2675892" y="288429"/>
                  <a:pt x="2757487" y="166985"/>
                  <a:pt x="27992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4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8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牙病历史的男人患上胰腺癌的机率比普通人要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0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1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1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2"/>
          <p:cNvGrpSpPr/>
          <p:nvPr/>
        </p:nvGrpSpPr>
        <p:grpSpPr>
          <a:xfrm>
            <a:off x="5734080" y="1447920"/>
            <a:ext cx="6458040" cy="4114800"/>
            <a:chOff x="5734080" y="1447920"/>
            <a:chExt cx="6458040" cy="4114800"/>
          </a:xfrm>
        </p:grpSpPr>
        <p:sp>
          <p:nvSpPr>
            <p:cNvPr id="257" name="AutoShape 91"/>
            <p:cNvSpPr/>
            <p:nvPr/>
          </p:nvSpPr>
          <p:spPr>
            <a:xfrm>
              <a:off x="5734080" y="1447920"/>
              <a:ext cx="64580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3"/>
            <p:cNvSpPr/>
            <p:nvPr/>
          </p:nvSpPr>
          <p:spPr>
            <a:xfrm>
              <a:off x="6505560" y="4638960"/>
              <a:ext cx="2359080" cy="304560"/>
            </a:xfrm>
            <a:custGeom>
              <a:avLst/>
              <a:gdLst/>
              <a:ahLst/>
              <a:rect l="l" t="t" r="r" b="b"/>
              <a:pathLst>
                <a:path w="3223" h="415">
                  <a:moveTo>
                    <a:pt x="3115" y="131"/>
                  </a:moveTo>
                  <a:cubicBezTo>
                    <a:pt x="3101" y="195"/>
                    <a:pt x="3074" y="254"/>
                    <a:pt x="3035" y="304"/>
                  </a:cubicBezTo>
                  <a:cubicBezTo>
                    <a:pt x="3155" y="275"/>
                    <a:pt x="3223" y="242"/>
                    <a:pt x="3223" y="206"/>
                  </a:cubicBezTo>
                  <a:cubicBezTo>
                    <a:pt x="3223" y="180"/>
                    <a:pt x="3185" y="154"/>
                    <a:pt x="3115" y="131"/>
                  </a:cubicBezTo>
                  <a:moveTo>
                    <a:pt x="1341" y="0"/>
                  </a:moveTo>
                  <a:cubicBezTo>
                    <a:pt x="580" y="17"/>
                    <a:pt x="0" y="103"/>
                    <a:pt x="0" y="206"/>
                  </a:cubicBezTo>
                  <a:cubicBezTo>
                    <a:pt x="0" y="320"/>
                    <a:pt x="693" y="412"/>
                    <a:pt x="1558" y="415"/>
                  </a:cubicBezTo>
                  <a:cubicBezTo>
                    <a:pt x="1419" y="335"/>
                    <a:pt x="1331" y="185"/>
                    <a:pt x="1340" y="15"/>
                  </a:cubicBezTo>
                  <a:cubicBezTo>
                    <a:pt x="1341" y="0"/>
                    <a:pt x="1341" y="0"/>
                    <a:pt x="1341" y="0"/>
                  </a:cubicBezTo>
                </a:path>
              </a:pathLst>
            </a:cu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9455040" y="4929480"/>
              <a:ext cx="2360880" cy="306360"/>
            </a:xfrm>
            <a:prstGeom prst="ellips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5"/>
            <p:cNvSpPr/>
            <p:nvPr/>
          </p:nvSpPr>
          <p:spPr>
            <a:xfrm>
              <a:off x="8943840" y="2239920"/>
              <a:ext cx="3248280" cy="2841840"/>
            </a:xfrm>
            <a:custGeom>
              <a:avLst/>
              <a:gdLst/>
              <a:ahLst/>
              <a:rect l="l" t="t" r="r" b="b"/>
              <a:pathLst>
                <a:path w="4437" h="3882">
                  <a:moveTo>
                    <a:pt x="4437" y="1029"/>
                  </a:moveTo>
                  <a:cubicBezTo>
                    <a:pt x="4437" y="904"/>
                    <a:pt x="4336" y="803"/>
                    <a:pt x="4211" y="803"/>
                  </a:cubicBezTo>
                  <a:cubicBezTo>
                    <a:pt x="4086" y="803"/>
                    <a:pt x="3984" y="904"/>
                    <a:pt x="3984" y="1029"/>
                  </a:cubicBezTo>
                  <a:cubicBezTo>
                    <a:pt x="3984" y="1075"/>
                    <a:pt x="3998" y="1118"/>
                    <a:pt x="4022" y="1153"/>
                  </a:cubicBezTo>
                  <a:cubicBezTo>
                    <a:pt x="3959" y="1193"/>
                    <a:pt x="3880" y="1234"/>
                    <a:pt x="3792" y="1257"/>
                  </a:cubicBezTo>
                  <a:cubicBezTo>
                    <a:pt x="3808" y="1086"/>
                    <a:pt x="3817" y="911"/>
                    <a:pt x="3817" y="841"/>
                  </a:cubicBezTo>
                  <a:cubicBezTo>
                    <a:pt x="3817" y="376"/>
                    <a:pt x="3449" y="0"/>
                    <a:pt x="2995" y="0"/>
                  </a:cubicBezTo>
                  <a:cubicBezTo>
                    <a:pt x="2780" y="0"/>
                    <a:pt x="2584" y="84"/>
                    <a:pt x="2438" y="223"/>
                  </a:cubicBezTo>
                  <a:cubicBezTo>
                    <a:pt x="2291" y="84"/>
                    <a:pt x="2095" y="0"/>
                    <a:pt x="1880" y="0"/>
                  </a:cubicBezTo>
                  <a:cubicBezTo>
                    <a:pt x="1427" y="0"/>
                    <a:pt x="1059" y="376"/>
                    <a:pt x="1059" y="841"/>
                  </a:cubicBezTo>
                  <a:cubicBezTo>
                    <a:pt x="1059" y="880"/>
                    <a:pt x="1061" y="962"/>
                    <a:pt x="1067" y="1058"/>
                  </a:cubicBezTo>
                  <a:cubicBezTo>
                    <a:pt x="948" y="990"/>
                    <a:pt x="816" y="933"/>
                    <a:pt x="694" y="918"/>
                  </a:cubicBezTo>
                  <a:cubicBezTo>
                    <a:pt x="676" y="840"/>
                    <a:pt x="617" y="775"/>
                    <a:pt x="534" y="752"/>
                  </a:cubicBezTo>
                  <a:cubicBezTo>
                    <a:pt x="476" y="736"/>
                    <a:pt x="416" y="744"/>
                    <a:pt x="366" y="771"/>
                  </a:cubicBezTo>
                  <a:cubicBezTo>
                    <a:pt x="64" y="692"/>
                    <a:pt x="64" y="692"/>
                    <a:pt x="64" y="692"/>
                  </a:cubicBezTo>
                  <a:cubicBezTo>
                    <a:pt x="39" y="685"/>
                    <a:pt x="13" y="700"/>
                    <a:pt x="6" y="725"/>
                  </a:cubicBezTo>
                  <a:cubicBezTo>
                    <a:pt x="0" y="750"/>
                    <a:pt x="15" y="776"/>
                    <a:pt x="40" y="783"/>
                  </a:cubicBezTo>
                  <a:cubicBezTo>
                    <a:pt x="284" y="846"/>
                    <a:pt x="284" y="846"/>
                    <a:pt x="284" y="846"/>
                  </a:cubicBezTo>
                  <a:cubicBezTo>
                    <a:pt x="272" y="865"/>
                    <a:pt x="262" y="886"/>
                    <a:pt x="256" y="909"/>
                  </a:cubicBezTo>
                  <a:cubicBezTo>
                    <a:pt x="223" y="1030"/>
                    <a:pt x="293" y="1154"/>
                    <a:pt x="413" y="1188"/>
                  </a:cubicBezTo>
                  <a:cubicBezTo>
                    <a:pt x="489" y="1209"/>
                    <a:pt x="567" y="1188"/>
                    <a:pt x="622" y="1140"/>
                  </a:cubicBezTo>
                  <a:cubicBezTo>
                    <a:pt x="772" y="1184"/>
                    <a:pt x="1044" y="1299"/>
                    <a:pt x="1117" y="1575"/>
                  </a:cubicBezTo>
                  <a:cubicBezTo>
                    <a:pt x="1120" y="1573"/>
                    <a:pt x="1120" y="1573"/>
                    <a:pt x="1120" y="1573"/>
                  </a:cubicBezTo>
                  <a:cubicBezTo>
                    <a:pt x="1123" y="1586"/>
                    <a:pt x="1127" y="1596"/>
                    <a:pt x="1130" y="1604"/>
                  </a:cubicBezTo>
                  <a:cubicBezTo>
                    <a:pt x="1130" y="1684"/>
                    <a:pt x="1160" y="1866"/>
                    <a:pt x="1207" y="2094"/>
                  </a:cubicBezTo>
                  <a:cubicBezTo>
                    <a:pt x="1348" y="2780"/>
                    <a:pt x="1647" y="3882"/>
                    <a:pt x="1773" y="3882"/>
                  </a:cubicBezTo>
                  <a:cubicBezTo>
                    <a:pt x="1891" y="3882"/>
                    <a:pt x="2171" y="3211"/>
                    <a:pt x="2324" y="2707"/>
                  </a:cubicBezTo>
                  <a:cubicBezTo>
                    <a:pt x="2345" y="2636"/>
                    <a:pt x="2364" y="2569"/>
                    <a:pt x="2380" y="2507"/>
                  </a:cubicBezTo>
                  <a:cubicBezTo>
                    <a:pt x="2386" y="2483"/>
                    <a:pt x="2391" y="2460"/>
                    <a:pt x="2396" y="2439"/>
                  </a:cubicBezTo>
                  <a:cubicBezTo>
                    <a:pt x="2409" y="2435"/>
                    <a:pt x="2423" y="2433"/>
                    <a:pt x="2438" y="2433"/>
                  </a:cubicBezTo>
                  <a:cubicBezTo>
                    <a:pt x="2445" y="2433"/>
                    <a:pt x="2452" y="2434"/>
                    <a:pt x="2459" y="2435"/>
                  </a:cubicBezTo>
                  <a:cubicBezTo>
                    <a:pt x="2464" y="2459"/>
                    <a:pt x="2471" y="2485"/>
                    <a:pt x="2477" y="2511"/>
                  </a:cubicBezTo>
                  <a:cubicBezTo>
                    <a:pt x="2494" y="2576"/>
                    <a:pt x="2514" y="2647"/>
                    <a:pt x="2536" y="2721"/>
                  </a:cubicBezTo>
                  <a:cubicBezTo>
                    <a:pt x="2690" y="3223"/>
                    <a:pt x="2966" y="3882"/>
                    <a:pt x="3083" y="3882"/>
                  </a:cubicBezTo>
                  <a:cubicBezTo>
                    <a:pt x="3244" y="3882"/>
                    <a:pt x="3688" y="2077"/>
                    <a:pt x="3724" y="1650"/>
                  </a:cubicBezTo>
                  <a:cubicBezTo>
                    <a:pt x="3733" y="1632"/>
                    <a:pt x="3741" y="1604"/>
                    <a:pt x="3749" y="1569"/>
                  </a:cubicBezTo>
                  <a:cubicBezTo>
                    <a:pt x="3936" y="1502"/>
                    <a:pt x="4159" y="1395"/>
                    <a:pt x="4273" y="1246"/>
                  </a:cubicBezTo>
                  <a:cubicBezTo>
                    <a:pt x="4368" y="1219"/>
                    <a:pt x="4437" y="1132"/>
                    <a:pt x="4437" y="1029"/>
                  </a:cubicBez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6"/>
            <p:cNvSpPr/>
            <p:nvPr/>
          </p:nvSpPr>
          <p:spPr>
            <a:xfrm>
              <a:off x="7288200" y="5245200"/>
              <a:ext cx="2359080" cy="306360"/>
            </a:xfrm>
            <a:custGeom>
              <a:avLst/>
              <a:gdLst/>
              <a:ahLst/>
              <a:rect l="l" t="t" r="r" b="b"/>
              <a:pathLst>
                <a:path w="3223" h="418">
                  <a:moveTo>
                    <a:pt x="1612" y="0"/>
                  </a:moveTo>
                  <a:cubicBezTo>
                    <a:pt x="722" y="0"/>
                    <a:pt x="0" y="94"/>
                    <a:pt x="0" y="209"/>
                  </a:cubicBezTo>
                  <a:cubicBezTo>
                    <a:pt x="0" y="325"/>
                    <a:pt x="722" y="418"/>
                    <a:pt x="1612" y="418"/>
                  </a:cubicBezTo>
                  <a:cubicBezTo>
                    <a:pt x="2502" y="418"/>
                    <a:pt x="3223" y="325"/>
                    <a:pt x="3223" y="209"/>
                  </a:cubicBezTo>
                  <a:cubicBezTo>
                    <a:pt x="3223" y="121"/>
                    <a:pt x="2805" y="46"/>
                    <a:pt x="2213" y="15"/>
                  </a:cubicBezTo>
                  <a:cubicBezTo>
                    <a:pt x="2126" y="61"/>
                    <a:pt x="2044" y="83"/>
                    <a:pt x="1967" y="83"/>
                  </a:cubicBezTo>
                  <a:cubicBezTo>
                    <a:pt x="1911" y="83"/>
                    <a:pt x="1858" y="71"/>
                    <a:pt x="1808" y="47"/>
                  </a:cubicBezTo>
                  <a:cubicBezTo>
                    <a:pt x="1783" y="34"/>
                    <a:pt x="1760" y="19"/>
                    <a:pt x="1737" y="1"/>
                  </a:cubicBezTo>
                  <a:cubicBezTo>
                    <a:pt x="1696" y="0"/>
                    <a:pt x="1654" y="0"/>
                    <a:pt x="1612" y="0"/>
                  </a:cubicBezTo>
                </a:path>
              </a:pathLst>
            </a:cu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7"/>
            <p:cNvSpPr/>
            <p:nvPr/>
          </p:nvSpPr>
          <p:spPr>
            <a:xfrm>
              <a:off x="6330960" y="2984760"/>
              <a:ext cx="458640" cy="191880"/>
            </a:xfrm>
            <a:custGeom>
              <a:avLst/>
              <a:gdLst/>
              <a:ahLst/>
              <a:rect l="l" t="t" r="r" b="b"/>
              <a:pathLst>
                <a:path w="625" h="262">
                  <a:moveTo>
                    <a:pt x="286" y="262"/>
                  </a:moveTo>
                  <a:cubicBezTo>
                    <a:pt x="281" y="262"/>
                    <a:pt x="276" y="262"/>
                    <a:pt x="271" y="262"/>
                  </a:cubicBezTo>
                  <a:cubicBezTo>
                    <a:pt x="176" y="257"/>
                    <a:pt x="93" y="211"/>
                    <a:pt x="23" y="125"/>
                  </a:cubicBezTo>
                  <a:cubicBezTo>
                    <a:pt x="0" y="96"/>
                    <a:pt x="5" y="55"/>
                    <a:pt x="33" y="32"/>
                  </a:cubicBezTo>
                  <a:cubicBezTo>
                    <a:pt x="61" y="9"/>
                    <a:pt x="103" y="13"/>
                    <a:pt x="126" y="42"/>
                  </a:cubicBezTo>
                  <a:cubicBezTo>
                    <a:pt x="172" y="98"/>
                    <a:pt x="221" y="127"/>
                    <a:pt x="277" y="130"/>
                  </a:cubicBezTo>
                  <a:cubicBezTo>
                    <a:pt x="394" y="136"/>
                    <a:pt x="505" y="27"/>
                    <a:pt x="506" y="26"/>
                  </a:cubicBezTo>
                  <a:cubicBezTo>
                    <a:pt x="532" y="0"/>
                    <a:pt x="573" y="0"/>
                    <a:pt x="599" y="26"/>
                  </a:cubicBezTo>
                  <a:cubicBezTo>
                    <a:pt x="625" y="51"/>
                    <a:pt x="625" y="93"/>
                    <a:pt x="600" y="119"/>
                  </a:cubicBezTo>
                  <a:cubicBezTo>
                    <a:pt x="594" y="125"/>
                    <a:pt x="456" y="262"/>
                    <a:pt x="286" y="262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8"/>
            <p:cNvSpPr/>
            <p:nvPr/>
          </p:nvSpPr>
          <p:spPr>
            <a:xfrm>
              <a:off x="7307280" y="4065840"/>
              <a:ext cx="573120" cy="601560"/>
            </a:xfrm>
            <a:custGeom>
              <a:avLst/>
              <a:gdLst/>
              <a:ahLst/>
              <a:rect l="l" t="t" r="r" b="b"/>
              <a:pathLst>
                <a:path w="782" h="822">
                  <a:moveTo>
                    <a:pt x="442" y="822"/>
                  </a:moveTo>
                  <a:cubicBezTo>
                    <a:pt x="395" y="822"/>
                    <a:pt x="350" y="811"/>
                    <a:pt x="308" y="791"/>
                  </a:cubicBezTo>
                  <a:cubicBezTo>
                    <a:pt x="187" y="731"/>
                    <a:pt x="98" y="589"/>
                    <a:pt x="45" y="369"/>
                  </a:cubicBezTo>
                  <a:cubicBezTo>
                    <a:pt x="7" y="214"/>
                    <a:pt x="1" y="75"/>
                    <a:pt x="1" y="70"/>
                  </a:cubicBezTo>
                  <a:cubicBezTo>
                    <a:pt x="0" y="33"/>
                    <a:pt x="28" y="2"/>
                    <a:pt x="64" y="1"/>
                  </a:cubicBezTo>
                  <a:cubicBezTo>
                    <a:pt x="101" y="0"/>
                    <a:pt x="132" y="28"/>
                    <a:pt x="133" y="64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39" y="204"/>
                    <a:pt x="192" y="587"/>
                    <a:pt x="366" y="672"/>
                  </a:cubicBezTo>
                  <a:cubicBezTo>
                    <a:pt x="443" y="710"/>
                    <a:pt x="545" y="685"/>
                    <a:pt x="668" y="597"/>
                  </a:cubicBezTo>
                  <a:cubicBezTo>
                    <a:pt x="698" y="576"/>
                    <a:pt x="739" y="583"/>
                    <a:pt x="760" y="613"/>
                  </a:cubicBezTo>
                  <a:cubicBezTo>
                    <a:pt x="782" y="643"/>
                    <a:pt x="774" y="684"/>
                    <a:pt x="745" y="705"/>
                  </a:cubicBezTo>
                  <a:cubicBezTo>
                    <a:pt x="635" y="783"/>
                    <a:pt x="534" y="822"/>
                    <a:pt x="442" y="822"/>
                  </a:cubicBezTo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9"/>
            <p:cNvSpPr/>
            <p:nvPr/>
          </p:nvSpPr>
          <p:spPr>
            <a:xfrm>
              <a:off x="6873840" y="4145040"/>
              <a:ext cx="290520" cy="727200"/>
            </a:xfrm>
            <a:custGeom>
              <a:avLst/>
              <a:gdLst/>
              <a:ahLst/>
              <a:rect l="l" t="t" r="r" b="b"/>
              <a:pathLst>
                <a:path w="398" h="993">
                  <a:moveTo>
                    <a:pt x="324" y="993"/>
                  </a:moveTo>
                  <a:cubicBezTo>
                    <a:pt x="317" y="993"/>
                    <a:pt x="310" y="992"/>
                    <a:pt x="302" y="989"/>
                  </a:cubicBezTo>
                  <a:cubicBezTo>
                    <a:pt x="164" y="942"/>
                    <a:pt x="2" y="810"/>
                    <a:pt x="13" y="446"/>
                  </a:cubicBezTo>
                  <a:cubicBezTo>
                    <a:pt x="20" y="243"/>
                    <a:pt x="78" y="62"/>
                    <a:pt x="81" y="54"/>
                  </a:cubicBezTo>
                  <a:cubicBezTo>
                    <a:pt x="92" y="19"/>
                    <a:pt x="129" y="0"/>
                    <a:pt x="164" y="12"/>
                  </a:cubicBezTo>
                  <a:cubicBezTo>
                    <a:pt x="198" y="23"/>
                    <a:pt x="217" y="60"/>
                    <a:pt x="206" y="95"/>
                  </a:cubicBezTo>
                  <a:cubicBezTo>
                    <a:pt x="204" y="101"/>
                    <a:pt x="0" y="747"/>
                    <a:pt x="345" y="864"/>
                  </a:cubicBezTo>
                  <a:cubicBezTo>
                    <a:pt x="380" y="876"/>
                    <a:pt x="398" y="914"/>
                    <a:pt x="386" y="948"/>
                  </a:cubicBezTo>
                  <a:cubicBezTo>
                    <a:pt x="377" y="976"/>
                    <a:pt x="351" y="993"/>
                    <a:pt x="324" y="993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6915240" y="4789440"/>
              <a:ext cx="24120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1"/>
            <p:cNvSpPr/>
            <p:nvPr/>
          </p:nvSpPr>
          <p:spPr>
            <a:xfrm>
              <a:off x="7775640" y="4481640"/>
              <a:ext cx="190440" cy="222120"/>
            </a:xfrm>
            <a:custGeom>
              <a:avLst/>
              <a:gdLst/>
              <a:ahLst/>
              <a:rect l="l" t="t" r="r" b="b"/>
              <a:pathLst>
                <a:path w="260" h="304">
                  <a:moveTo>
                    <a:pt x="231" y="282"/>
                  </a:moveTo>
                  <a:cubicBezTo>
                    <a:pt x="260" y="260"/>
                    <a:pt x="237" y="184"/>
                    <a:pt x="181" y="112"/>
                  </a:cubicBezTo>
                  <a:cubicBezTo>
                    <a:pt x="125" y="40"/>
                    <a:pt x="57" y="0"/>
                    <a:pt x="29" y="22"/>
                  </a:cubicBezTo>
                  <a:cubicBezTo>
                    <a:pt x="0" y="44"/>
                    <a:pt x="23" y="120"/>
                    <a:pt x="79" y="192"/>
                  </a:cubicBezTo>
                  <a:cubicBezTo>
                    <a:pt x="135" y="263"/>
                    <a:pt x="203" y="304"/>
                    <a:pt x="231" y="2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2"/>
            <p:cNvSpPr/>
            <p:nvPr/>
          </p:nvSpPr>
          <p:spPr>
            <a:xfrm>
              <a:off x="6573960" y="2387880"/>
              <a:ext cx="1119240" cy="2011320"/>
            </a:xfrm>
            <a:custGeom>
              <a:avLst/>
              <a:gdLst/>
              <a:ahLst/>
              <a:rect l="l" t="t" r="r" b="b"/>
              <a:pathLst>
                <a:path w="1529" h="2747">
                  <a:moveTo>
                    <a:pt x="1517" y="2357"/>
                  </a:moveTo>
                  <a:cubicBezTo>
                    <a:pt x="1529" y="2570"/>
                    <a:pt x="1359" y="2747"/>
                    <a:pt x="1138" y="2747"/>
                  </a:cubicBezTo>
                  <a:cubicBezTo>
                    <a:pt x="390" y="2747"/>
                    <a:pt x="390" y="2747"/>
                    <a:pt x="390" y="2747"/>
                  </a:cubicBezTo>
                  <a:cubicBezTo>
                    <a:pt x="169" y="2747"/>
                    <a:pt x="0" y="2570"/>
                    <a:pt x="11" y="2357"/>
                  </a:cubicBezTo>
                  <a:cubicBezTo>
                    <a:pt x="128" y="264"/>
                    <a:pt x="128" y="264"/>
                    <a:pt x="128" y="264"/>
                  </a:cubicBezTo>
                  <a:cubicBezTo>
                    <a:pt x="136" y="116"/>
                    <a:pt x="287" y="0"/>
                    <a:pt x="464" y="0"/>
                  </a:cubicBezTo>
                  <a:cubicBezTo>
                    <a:pt x="1064" y="0"/>
                    <a:pt x="1064" y="0"/>
                    <a:pt x="1064" y="0"/>
                  </a:cubicBezTo>
                  <a:cubicBezTo>
                    <a:pt x="1242" y="0"/>
                    <a:pt x="1392" y="116"/>
                    <a:pt x="1400" y="264"/>
                  </a:cubicBezTo>
                  <a:cubicBezTo>
                    <a:pt x="1517" y="2357"/>
                    <a:pt x="1517" y="2357"/>
                    <a:pt x="1517" y="23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3"/>
            <p:cNvSpPr/>
            <p:nvPr/>
          </p:nvSpPr>
          <p:spPr>
            <a:xfrm>
              <a:off x="6864480" y="1936800"/>
              <a:ext cx="569880" cy="668520"/>
            </a:xfrm>
            <a:custGeom>
              <a:avLst/>
              <a:gdLst/>
              <a:ahLst/>
              <a:rect l="l" t="t" r="r" b="b"/>
              <a:pathLst>
                <a:path w="780" h="913">
                  <a:moveTo>
                    <a:pt x="780" y="659"/>
                  </a:moveTo>
                  <a:cubicBezTo>
                    <a:pt x="780" y="799"/>
                    <a:pt x="605" y="913"/>
                    <a:pt x="390" y="913"/>
                  </a:cubicBezTo>
                  <a:cubicBezTo>
                    <a:pt x="174" y="913"/>
                    <a:pt x="0" y="799"/>
                    <a:pt x="0" y="659"/>
                  </a:cubicBezTo>
                  <a:cubicBezTo>
                    <a:pt x="0" y="253"/>
                    <a:pt x="0" y="253"/>
                    <a:pt x="0" y="253"/>
                  </a:cubicBezTo>
                  <a:cubicBezTo>
                    <a:pt x="0" y="113"/>
                    <a:pt x="174" y="0"/>
                    <a:pt x="390" y="0"/>
                  </a:cubicBezTo>
                  <a:cubicBezTo>
                    <a:pt x="605" y="0"/>
                    <a:pt x="780" y="113"/>
                    <a:pt x="780" y="253"/>
                  </a:cubicBezTo>
                  <a:cubicBezTo>
                    <a:pt x="780" y="659"/>
                    <a:pt x="780" y="659"/>
                    <a:pt x="780" y="6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4"/>
            <p:cNvSpPr/>
            <p:nvPr/>
          </p:nvSpPr>
          <p:spPr>
            <a:xfrm>
              <a:off x="6608880" y="2800440"/>
              <a:ext cx="1049400" cy="843120"/>
            </a:xfrm>
            <a:custGeom>
              <a:avLst/>
              <a:gdLst/>
              <a:ahLst/>
              <a:rect l="l" t="t" r="r" b="b"/>
              <a:pathLst>
                <a:path w="661" h="531">
                  <a:moveTo>
                    <a:pt x="632" y="0"/>
                  </a:moveTo>
                  <a:lnTo>
                    <a:pt x="29" y="0"/>
                  </a:lnTo>
                  <a:lnTo>
                    <a:pt x="0" y="531"/>
                  </a:lnTo>
                  <a:lnTo>
                    <a:pt x="661" y="5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5"/>
            <p:cNvSpPr/>
            <p:nvPr/>
          </p:nvSpPr>
          <p:spPr>
            <a:xfrm>
              <a:off x="6608880" y="2800440"/>
              <a:ext cx="1049400" cy="843120"/>
            </a:xfrm>
            <a:custGeom>
              <a:avLst/>
              <a:gdLst/>
              <a:ahLst/>
              <a:rect l="l" t="t" r="r" b="b"/>
              <a:pathLst>
                <a:path w="661" h="531">
                  <a:moveTo>
                    <a:pt x="632" y="0"/>
                  </a:moveTo>
                  <a:lnTo>
                    <a:pt x="29" y="0"/>
                  </a:lnTo>
                  <a:lnTo>
                    <a:pt x="0" y="531"/>
                  </a:lnTo>
                  <a:lnTo>
                    <a:pt x="661" y="531"/>
                  </a:lnTo>
                  <a:lnTo>
                    <a:pt x="6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6"/>
            <p:cNvSpPr/>
            <p:nvPr/>
          </p:nvSpPr>
          <p:spPr>
            <a:xfrm>
              <a:off x="6080040" y="2513160"/>
              <a:ext cx="854280" cy="1413000"/>
            </a:xfrm>
            <a:custGeom>
              <a:avLst/>
              <a:gdLst/>
              <a:ahLst/>
              <a:rect l="l" t="t" r="r" b="b"/>
              <a:pathLst>
                <a:path w="1167" h="1929">
                  <a:moveTo>
                    <a:pt x="1159" y="1888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113" y="1916"/>
                    <a:pt x="1113" y="1916"/>
                    <a:pt x="1113" y="1916"/>
                  </a:cubicBezTo>
                  <a:cubicBezTo>
                    <a:pt x="1118" y="1924"/>
                    <a:pt x="1127" y="1929"/>
                    <a:pt x="1136" y="1929"/>
                  </a:cubicBezTo>
                  <a:cubicBezTo>
                    <a:pt x="1141" y="1929"/>
                    <a:pt x="1145" y="1928"/>
                    <a:pt x="1150" y="1925"/>
                  </a:cubicBezTo>
                  <a:cubicBezTo>
                    <a:pt x="1162" y="1918"/>
                    <a:pt x="1167" y="1901"/>
                    <a:pt x="1159" y="1888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7"/>
            <p:cNvSpPr/>
            <p:nvPr/>
          </p:nvSpPr>
          <p:spPr>
            <a:xfrm>
              <a:off x="5818320" y="2048040"/>
              <a:ext cx="303120" cy="488880"/>
            </a:xfrm>
            <a:custGeom>
              <a:avLst/>
              <a:gdLst/>
              <a:ahLst/>
              <a:rect l="l" t="t" r="r" b="b"/>
              <a:pathLst>
                <a:path w="191" h="308">
                  <a:moveTo>
                    <a:pt x="191" y="290"/>
                  </a:moveTo>
                  <a:lnTo>
                    <a:pt x="93" y="101"/>
                  </a:lnTo>
                  <a:lnTo>
                    <a:pt x="0" y="0"/>
                  </a:lnTo>
                  <a:lnTo>
                    <a:pt x="42" y="131"/>
                  </a:lnTo>
                  <a:lnTo>
                    <a:pt x="160" y="308"/>
                  </a:lnTo>
                  <a:lnTo>
                    <a:pt x="165" y="306"/>
                  </a:lnTo>
                  <a:lnTo>
                    <a:pt x="186" y="293"/>
                  </a:lnTo>
                  <a:lnTo>
                    <a:pt x="191" y="29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6993000" y="1720800"/>
              <a:ext cx="487440" cy="463680"/>
            </a:xfrm>
            <a:custGeom>
              <a:avLst/>
              <a:gdLst/>
              <a:ahLst/>
              <a:rect l="l" t="t" r="r" b="b"/>
              <a:pathLst>
                <a:path w="666" h="633">
                  <a:moveTo>
                    <a:pt x="138" y="633"/>
                  </a:moveTo>
                  <a:cubicBezTo>
                    <a:pt x="137" y="633"/>
                    <a:pt x="135" y="633"/>
                    <a:pt x="133" y="632"/>
                  </a:cubicBezTo>
                  <a:cubicBezTo>
                    <a:pt x="59" y="630"/>
                    <a:pt x="0" y="567"/>
                    <a:pt x="3" y="492"/>
                  </a:cubicBezTo>
                  <a:cubicBezTo>
                    <a:pt x="4" y="469"/>
                    <a:pt x="16" y="265"/>
                    <a:pt x="169" y="126"/>
                  </a:cubicBezTo>
                  <a:cubicBezTo>
                    <a:pt x="262" y="41"/>
                    <a:pt x="389" y="0"/>
                    <a:pt x="535" y="8"/>
                  </a:cubicBezTo>
                  <a:cubicBezTo>
                    <a:pt x="609" y="12"/>
                    <a:pt x="666" y="75"/>
                    <a:pt x="662" y="150"/>
                  </a:cubicBezTo>
                  <a:cubicBezTo>
                    <a:pt x="658" y="224"/>
                    <a:pt x="595" y="282"/>
                    <a:pt x="520" y="278"/>
                  </a:cubicBezTo>
                  <a:cubicBezTo>
                    <a:pt x="446" y="274"/>
                    <a:pt x="391" y="289"/>
                    <a:pt x="351" y="326"/>
                  </a:cubicBezTo>
                  <a:cubicBezTo>
                    <a:pt x="282" y="389"/>
                    <a:pt x="273" y="501"/>
                    <a:pt x="273" y="503"/>
                  </a:cubicBezTo>
                  <a:cubicBezTo>
                    <a:pt x="271" y="575"/>
                    <a:pt x="211" y="633"/>
                    <a:pt x="138" y="633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"/>
            <p:cNvSpPr/>
            <p:nvPr/>
          </p:nvSpPr>
          <p:spPr>
            <a:xfrm>
              <a:off x="6907320" y="2121120"/>
              <a:ext cx="98280" cy="222120"/>
            </a:xfrm>
            <a:custGeom>
              <a:avLst/>
              <a:gdLst/>
              <a:ahLst/>
              <a:rect l="l" t="t" r="r" b="b"/>
              <a:pathLst>
                <a:path w="134" h="303">
                  <a:moveTo>
                    <a:pt x="134" y="150"/>
                  </a:moveTo>
                  <a:cubicBezTo>
                    <a:pt x="134" y="233"/>
                    <a:pt x="105" y="301"/>
                    <a:pt x="68" y="302"/>
                  </a:cubicBezTo>
                  <a:cubicBezTo>
                    <a:pt x="31" y="303"/>
                    <a:pt x="1" y="236"/>
                    <a:pt x="1" y="153"/>
                  </a:cubicBezTo>
                  <a:cubicBezTo>
                    <a:pt x="0" y="70"/>
                    <a:pt x="30" y="2"/>
                    <a:pt x="67" y="1"/>
                  </a:cubicBezTo>
                  <a:cubicBezTo>
                    <a:pt x="103" y="0"/>
                    <a:pt x="134" y="66"/>
                    <a:pt x="134" y="150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0"/>
            <p:cNvSpPr/>
            <p:nvPr/>
          </p:nvSpPr>
          <p:spPr>
            <a:xfrm>
              <a:off x="5867280" y="17859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5" y="24"/>
                  </a:moveTo>
                  <a:lnTo>
                    <a:pt x="0" y="37"/>
                  </a:lnTo>
                  <a:lnTo>
                    <a:pt x="24" y="50"/>
                  </a:lnTo>
                  <a:lnTo>
                    <a:pt x="37" y="75"/>
                  </a:lnTo>
                  <a:lnTo>
                    <a:pt x="51" y="51"/>
                  </a:lnTo>
                  <a:lnTo>
                    <a:pt x="75" y="38"/>
                  </a:lnTo>
                  <a:lnTo>
                    <a:pt x="51" y="24"/>
                  </a:lnTo>
                  <a:lnTo>
                    <a:pt x="38" y="0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1"/>
            <p:cNvSpPr/>
            <p:nvPr/>
          </p:nvSpPr>
          <p:spPr>
            <a:xfrm>
              <a:off x="7434360" y="2122560"/>
              <a:ext cx="66600" cy="2273400"/>
            </a:xfrm>
            <a:custGeom>
              <a:avLst/>
              <a:gdLst/>
              <a:ahLst/>
              <a:rect l="l" t="t" r="r" b="b"/>
              <a:pathLst>
                <a:path w="90" h="3104">
                  <a:moveTo>
                    <a:pt x="90" y="3087"/>
                  </a:moveTo>
                  <a:cubicBezTo>
                    <a:pt x="72" y="3093"/>
                    <a:pt x="52" y="3098"/>
                    <a:pt x="32" y="3102"/>
                  </a:cubicBezTo>
                  <a:cubicBezTo>
                    <a:pt x="32" y="3103"/>
                    <a:pt x="33" y="3104"/>
                    <a:pt x="33" y="3104"/>
                  </a:cubicBezTo>
                  <a:cubicBezTo>
                    <a:pt x="53" y="3101"/>
                    <a:pt x="72" y="3096"/>
                    <a:pt x="90" y="3090"/>
                  </a:cubicBezTo>
                  <a:cubicBezTo>
                    <a:pt x="90" y="3087"/>
                    <a:pt x="90" y="3087"/>
                    <a:pt x="90" y="3087"/>
                  </a:cubicBezTo>
                  <a:moveTo>
                    <a:pt x="0" y="0"/>
                  </a:moveTo>
                  <a:cubicBezTo>
                    <a:pt x="0" y="377"/>
                    <a:pt x="0" y="377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2"/>
            <p:cNvSpPr/>
            <p:nvPr/>
          </p:nvSpPr>
          <p:spPr>
            <a:xfrm>
              <a:off x="7443720" y="4394160"/>
              <a:ext cx="158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0" y="0"/>
                  </a:moveTo>
                  <a:cubicBezTo>
                    <a:pt x="13" y="1"/>
                    <a:pt x="7" y="2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7" y="5"/>
                    <a:pt x="14" y="4"/>
                    <a:pt x="21" y="2"/>
                  </a:cubicBezTo>
                  <a:cubicBezTo>
                    <a:pt x="21" y="2"/>
                    <a:pt x="20" y="1"/>
                    <a:pt x="20" y="0"/>
                  </a:cubicBezTo>
                </a:path>
              </a:pathLst>
            </a:cu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"/>
            <p:cNvSpPr/>
            <p:nvPr/>
          </p:nvSpPr>
          <p:spPr>
            <a:xfrm>
              <a:off x="7304040" y="2398680"/>
              <a:ext cx="304920" cy="1998720"/>
            </a:xfrm>
            <a:custGeom>
              <a:avLst/>
              <a:gdLst/>
              <a:ahLst/>
              <a:rect l="l" t="t" r="r" b="b"/>
              <a:pathLst>
                <a:path w="416" h="2728">
                  <a:moveTo>
                    <a:pt x="324" y="1699"/>
                  </a:moveTo>
                  <a:cubicBezTo>
                    <a:pt x="161" y="1699"/>
                    <a:pt x="161" y="1699"/>
                    <a:pt x="161" y="1699"/>
                  </a:cubicBezTo>
                  <a:cubicBezTo>
                    <a:pt x="175" y="2136"/>
                    <a:pt x="186" y="2557"/>
                    <a:pt x="190" y="2728"/>
                  </a:cubicBezTo>
                  <a:cubicBezTo>
                    <a:pt x="197" y="2727"/>
                    <a:pt x="203" y="2726"/>
                    <a:pt x="210" y="2725"/>
                  </a:cubicBezTo>
                  <a:cubicBezTo>
                    <a:pt x="230" y="2721"/>
                    <a:pt x="250" y="2716"/>
                    <a:pt x="268" y="2710"/>
                  </a:cubicBezTo>
                  <a:cubicBezTo>
                    <a:pt x="290" y="2313"/>
                    <a:pt x="290" y="2313"/>
                    <a:pt x="290" y="2313"/>
                  </a:cubicBezTo>
                  <a:cubicBezTo>
                    <a:pt x="324" y="1699"/>
                    <a:pt x="324" y="1699"/>
                    <a:pt x="324" y="1699"/>
                  </a:cubicBezTo>
                  <a:moveTo>
                    <a:pt x="178" y="0"/>
                  </a:moveTo>
                  <a:cubicBezTo>
                    <a:pt x="178" y="27"/>
                    <a:pt x="178" y="27"/>
                    <a:pt x="178" y="27"/>
                  </a:cubicBezTo>
                  <a:cubicBezTo>
                    <a:pt x="178" y="117"/>
                    <a:pt x="107" y="195"/>
                    <a:pt x="0" y="240"/>
                  </a:cubicBezTo>
                  <a:cubicBezTo>
                    <a:pt x="0" y="241"/>
                    <a:pt x="1" y="242"/>
                    <a:pt x="2" y="242"/>
                  </a:cubicBezTo>
                  <a:cubicBezTo>
                    <a:pt x="50" y="300"/>
                    <a:pt x="90" y="362"/>
                    <a:pt x="101" y="420"/>
                  </a:cubicBezTo>
                  <a:cubicBezTo>
                    <a:pt x="105" y="439"/>
                    <a:pt x="110" y="484"/>
                    <a:pt x="114" y="548"/>
                  </a:cubicBezTo>
                  <a:cubicBezTo>
                    <a:pt x="393" y="548"/>
                    <a:pt x="393" y="548"/>
                    <a:pt x="393" y="548"/>
                  </a:cubicBezTo>
                  <a:cubicBezTo>
                    <a:pt x="398" y="527"/>
                    <a:pt x="406" y="506"/>
                    <a:pt x="416" y="486"/>
                  </a:cubicBezTo>
                  <a:cubicBezTo>
                    <a:pt x="402" y="251"/>
                    <a:pt x="402" y="251"/>
                    <a:pt x="402" y="251"/>
                  </a:cubicBezTo>
                  <a:cubicBezTo>
                    <a:pt x="396" y="136"/>
                    <a:pt x="303" y="39"/>
                    <a:pt x="178" y="3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4"/>
            <p:cNvSpPr/>
            <p:nvPr/>
          </p:nvSpPr>
          <p:spPr>
            <a:xfrm>
              <a:off x="7137360" y="1952640"/>
              <a:ext cx="297000" cy="622440"/>
            </a:xfrm>
            <a:custGeom>
              <a:avLst/>
              <a:gdLst/>
              <a:ahLst/>
              <a:rect l="l" t="t" r="r" b="b"/>
              <a:pathLst>
                <a:path w="406" h="850">
                  <a:moveTo>
                    <a:pt x="164" y="0"/>
                  </a:moveTo>
                  <a:cubicBezTo>
                    <a:pt x="160" y="3"/>
                    <a:pt x="157" y="6"/>
                    <a:pt x="153" y="10"/>
                  </a:cubicBezTo>
                  <a:cubicBezTo>
                    <a:pt x="84" y="73"/>
                    <a:pt x="75" y="185"/>
                    <a:pt x="75" y="187"/>
                  </a:cubicBezTo>
                  <a:cubicBezTo>
                    <a:pt x="73" y="238"/>
                    <a:pt x="43" y="282"/>
                    <a:pt x="0" y="303"/>
                  </a:cubicBezTo>
                  <a:cubicBezTo>
                    <a:pt x="0" y="640"/>
                    <a:pt x="0" y="640"/>
                    <a:pt x="0" y="640"/>
                  </a:cubicBezTo>
                  <a:cubicBezTo>
                    <a:pt x="0" y="640"/>
                    <a:pt x="130" y="735"/>
                    <a:pt x="228" y="850"/>
                  </a:cubicBezTo>
                  <a:cubicBezTo>
                    <a:pt x="335" y="805"/>
                    <a:pt x="406" y="727"/>
                    <a:pt x="406" y="637"/>
                  </a:cubicBezTo>
                  <a:cubicBezTo>
                    <a:pt x="406" y="610"/>
                    <a:pt x="406" y="610"/>
                    <a:pt x="406" y="610"/>
                  </a:cubicBezTo>
                  <a:cubicBezTo>
                    <a:pt x="406" y="233"/>
                    <a:pt x="406" y="233"/>
                    <a:pt x="406" y="233"/>
                  </a:cubicBezTo>
                  <a:cubicBezTo>
                    <a:pt x="405" y="164"/>
                    <a:pt x="362" y="101"/>
                    <a:pt x="292" y="55"/>
                  </a:cubicBezTo>
                  <a:cubicBezTo>
                    <a:pt x="256" y="32"/>
                    <a:pt x="212" y="13"/>
                    <a:pt x="164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5"/>
            <p:cNvSpPr/>
            <p:nvPr/>
          </p:nvSpPr>
          <p:spPr>
            <a:xfrm>
              <a:off x="7388280" y="2800440"/>
              <a:ext cx="204840" cy="843120"/>
            </a:xfrm>
            <a:custGeom>
              <a:avLst/>
              <a:gdLst/>
              <a:ahLst/>
              <a:rect l="l" t="t" r="r" b="b"/>
              <a:pathLst>
                <a:path w="279" h="1151">
                  <a:moveTo>
                    <a:pt x="27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" y="227"/>
                    <a:pt x="33" y="698"/>
                    <a:pt x="47" y="1151"/>
                  </a:cubicBezTo>
                  <a:cubicBezTo>
                    <a:pt x="210" y="1151"/>
                    <a:pt x="210" y="1151"/>
                    <a:pt x="210" y="1151"/>
                  </a:cubicBezTo>
                  <a:cubicBezTo>
                    <a:pt x="250" y="403"/>
                    <a:pt x="250" y="403"/>
                    <a:pt x="250" y="403"/>
                  </a:cubicBezTo>
                  <a:cubicBezTo>
                    <a:pt x="252" y="403"/>
                    <a:pt x="252" y="403"/>
                    <a:pt x="252" y="403"/>
                  </a:cubicBezTo>
                  <a:cubicBezTo>
                    <a:pt x="272" y="47"/>
                    <a:pt x="272" y="47"/>
                    <a:pt x="272" y="47"/>
                  </a:cubicBezTo>
                  <a:cubicBezTo>
                    <a:pt x="273" y="31"/>
                    <a:pt x="275" y="15"/>
                    <a:pt x="279" y="0"/>
                  </a:cubicBezTo>
                </a:path>
              </a:pathLst>
            </a:cu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6"/>
            <p:cNvSpPr/>
            <p:nvPr/>
          </p:nvSpPr>
          <p:spPr>
            <a:xfrm>
              <a:off x="7137360" y="1938600"/>
              <a:ext cx="120600" cy="236520"/>
            </a:xfrm>
            <a:custGeom>
              <a:avLst/>
              <a:gdLst/>
              <a:ahLst/>
              <a:rect l="l" t="t" r="r" b="b"/>
              <a:pathLst>
                <a:path w="164" h="322">
                  <a:moveTo>
                    <a:pt x="16" y="0"/>
                  </a:moveTo>
                  <a:cubicBezTo>
                    <a:pt x="10" y="0"/>
                    <a:pt x="5" y="0"/>
                    <a:pt x="0" y="0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43" y="301"/>
                    <a:pt x="73" y="257"/>
                    <a:pt x="75" y="206"/>
                  </a:cubicBezTo>
                  <a:cubicBezTo>
                    <a:pt x="75" y="204"/>
                    <a:pt x="84" y="92"/>
                    <a:pt x="153" y="29"/>
                  </a:cubicBezTo>
                  <a:cubicBezTo>
                    <a:pt x="157" y="25"/>
                    <a:pt x="160" y="22"/>
                    <a:pt x="164" y="19"/>
                  </a:cubicBezTo>
                  <a:cubicBezTo>
                    <a:pt x="118" y="7"/>
                    <a:pt x="68" y="0"/>
                    <a:pt x="16" y="0"/>
                  </a:cubicBezTo>
                </a:path>
              </a:pathLst>
            </a:cu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7"/>
            <p:cNvSpPr/>
            <p:nvPr/>
          </p:nvSpPr>
          <p:spPr>
            <a:xfrm>
              <a:off x="7188120" y="2121120"/>
              <a:ext cx="96840" cy="222120"/>
            </a:xfrm>
            <a:custGeom>
              <a:avLst/>
              <a:gdLst/>
              <a:ahLst/>
              <a:rect l="l" t="t" r="r" b="b"/>
              <a:pathLst>
                <a:path w="134" h="303">
                  <a:moveTo>
                    <a:pt x="134" y="150"/>
                  </a:moveTo>
                  <a:cubicBezTo>
                    <a:pt x="134" y="233"/>
                    <a:pt x="104" y="301"/>
                    <a:pt x="68" y="302"/>
                  </a:cubicBezTo>
                  <a:cubicBezTo>
                    <a:pt x="31" y="303"/>
                    <a:pt x="1" y="236"/>
                    <a:pt x="0" y="153"/>
                  </a:cubicBezTo>
                  <a:cubicBezTo>
                    <a:pt x="0" y="70"/>
                    <a:pt x="29" y="2"/>
                    <a:pt x="66" y="1"/>
                  </a:cubicBezTo>
                  <a:cubicBezTo>
                    <a:pt x="103" y="0"/>
                    <a:pt x="133" y="66"/>
                    <a:pt x="134" y="150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"/>
            <p:cNvSpPr/>
            <p:nvPr/>
          </p:nvSpPr>
          <p:spPr>
            <a:xfrm>
              <a:off x="5734080" y="228132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5" y="52"/>
                  </a:moveTo>
                  <a:lnTo>
                    <a:pt x="38" y="77"/>
                  </a:lnTo>
                  <a:lnTo>
                    <a:pt x="52" y="52"/>
                  </a:lnTo>
                  <a:lnTo>
                    <a:pt x="77" y="39"/>
                  </a:lnTo>
                  <a:lnTo>
                    <a:pt x="52" y="25"/>
                  </a:lnTo>
                  <a:lnTo>
                    <a:pt x="39" y="0"/>
                  </a:lnTo>
                  <a:lnTo>
                    <a:pt x="25" y="24"/>
                  </a:lnTo>
                  <a:lnTo>
                    <a:pt x="0" y="38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9"/>
            <p:cNvSpPr/>
            <p:nvPr/>
          </p:nvSpPr>
          <p:spPr>
            <a:xfrm>
              <a:off x="6583320" y="3087720"/>
              <a:ext cx="836640" cy="470160"/>
            </a:xfrm>
            <a:custGeom>
              <a:avLst/>
              <a:gdLst/>
              <a:ahLst/>
              <a:rect l="l" t="t" r="r" b="b"/>
              <a:pathLst>
                <a:path w="1142" h="641">
                  <a:moveTo>
                    <a:pt x="552" y="641"/>
                  </a:moveTo>
                  <a:cubicBezTo>
                    <a:pt x="410" y="641"/>
                    <a:pt x="243" y="609"/>
                    <a:pt x="53" y="545"/>
                  </a:cubicBezTo>
                  <a:cubicBezTo>
                    <a:pt x="19" y="533"/>
                    <a:pt x="0" y="495"/>
                    <a:pt x="12" y="461"/>
                  </a:cubicBezTo>
                  <a:cubicBezTo>
                    <a:pt x="24" y="426"/>
                    <a:pt x="61" y="408"/>
                    <a:pt x="96" y="420"/>
                  </a:cubicBezTo>
                  <a:cubicBezTo>
                    <a:pt x="288" y="485"/>
                    <a:pt x="454" y="515"/>
                    <a:pt x="588" y="508"/>
                  </a:cubicBezTo>
                  <a:cubicBezTo>
                    <a:pt x="694" y="503"/>
                    <a:pt x="781" y="475"/>
                    <a:pt x="845" y="425"/>
                  </a:cubicBezTo>
                  <a:cubicBezTo>
                    <a:pt x="1004" y="303"/>
                    <a:pt x="990" y="76"/>
                    <a:pt x="990" y="74"/>
                  </a:cubicBezTo>
                  <a:cubicBezTo>
                    <a:pt x="987" y="38"/>
                    <a:pt x="1015" y="6"/>
                    <a:pt x="1051" y="3"/>
                  </a:cubicBezTo>
                  <a:cubicBezTo>
                    <a:pt x="1087" y="0"/>
                    <a:pt x="1119" y="28"/>
                    <a:pt x="1122" y="64"/>
                  </a:cubicBezTo>
                  <a:cubicBezTo>
                    <a:pt x="1123" y="76"/>
                    <a:pt x="1142" y="362"/>
                    <a:pt x="927" y="529"/>
                  </a:cubicBezTo>
                  <a:cubicBezTo>
                    <a:pt x="831" y="604"/>
                    <a:pt x="705" y="641"/>
                    <a:pt x="552" y="641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0"/>
            <p:cNvSpPr/>
            <p:nvPr/>
          </p:nvSpPr>
          <p:spPr>
            <a:xfrm>
              <a:off x="7189920" y="3313080"/>
              <a:ext cx="541080" cy="228600"/>
            </a:xfrm>
            <a:custGeom>
              <a:avLst/>
              <a:gdLst/>
              <a:ahLst/>
              <a:rect l="l" t="t" r="r" b="b"/>
              <a:pathLst>
                <a:path w="740" h="311">
                  <a:moveTo>
                    <a:pt x="339" y="311"/>
                  </a:moveTo>
                  <a:cubicBezTo>
                    <a:pt x="333" y="311"/>
                    <a:pt x="327" y="310"/>
                    <a:pt x="321" y="310"/>
                  </a:cubicBezTo>
                  <a:cubicBezTo>
                    <a:pt x="209" y="305"/>
                    <a:pt x="110" y="250"/>
                    <a:pt x="27" y="148"/>
                  </a:cubicBezTo>
                  <a:cubicBezTo>
                    <a:pt x="0" y="114"/>
                    <a:pt x="5" y="65"/>
                    <a:pt x="39" y="38"/>
                  </a:cubicBezTo>
                  <a:cubicBezTo>
                    <a:pt x="72" y="10"/>
                    <a:pt x="121" y="16"/>
                    <a:pt x="149" y="49"/>
                  </a:cubicBezTo>
                  <a:cubicBezTo>
                    <a:pt x="203" y="116"/>
                    <a:pt x="262" y="151"/>
                    <a:pt x="328" y="154"/>
                  </a:cubicBezTo>
                  <a:cubicBezTo>
                    <a:pt x="467" y="161"/>
                    <a:pt x="597" y="32"/>
                    <a:pt x="598" y="31"/>
                  </a:cubicBezTo>
                  <a:cubicBezTo>
                    <a:pt x="629" y="0"/>
                    <a:pt x="678" y="0"/>
                    <a:pt x="709" y="30"/>
                  </a:cubicBezTo>
                  <a:cubicBezTo>
                    <a:pt x="740" y="60"/>
                    <a:pt x="740" y="110"/>
                    <a:pt x="710" y="141"/>
                  </a:cubicBezTo>
                  <a:cubicBezTo>
                    <a:pt x="703" y="148"/>
                    <a:pt x="540" y="311"/>
                    <a:pt x="339" y="311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1"/>
            <p:cNvSpPr/>
            <p:nvPr/>
          </p:nvSpPr>
          <p:spPr>
            <a:xfrm>
              <a:off x="10175760" y="1447920"/>
              <a:ext cx="552600" cy="55260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13" y="112"/>
                  </a:moveTo>
                  <a:lnTo>
                    <a:pt x="0" y="173"/>
                  </a:lnTo>
                  <a:lnTo>
                    <a:pt x="112" y="235"/>
                  </a:lnTo>
                  <a:lnTo>
                    <a:pt x="172" y="348"/>
                  </a:lnTo>
                  <a:lnTo>
                    <a:pt x="235" y="236"/>
                  </a:lnTo>
                  <a:lnTo>
                    <a:pt x="348" y="175"/>
                  </a:lnTo>
                  <a:lnTo>
                    <a:pt x="235" y="113"/>
                  </a:lnTo>
                  <a:lnTo>
                    <a:pt x="175" y="0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2"/>
            <p:cNvSpPr/>
            <p:nvPr/>
          </p:nvSpPr>
          <p:spPr>
            <a:xfrm>
              <a:off x="9504360" y="209412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43" y="43"/>
                  </a:moveTo>
                  <a:lnTo>
                    <a:pt x="0" y="66"/>
                  </a:lnTo>
                  <a:lnTo>
                    <a:pt x="42" y="89"/>
                  </a:lnTo>
                  <a:lnTo>
                    <a:pt x="65" y="133"/>
                  </a:lnTo>
                  <a:lnTo>
                    <a:pt x="89" y="90"/>
                  </a:lnTo>
                  <a:lnTo>
                    <a:pt x="132" y="67"/>
                  </a:lnTo>
                  <a:lnTo>
                    <a:pt x="89" y="43"/>
                  </a:lnTo>
                  <a:lnTo>
                    <a:pt x="66" y="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3"/>
            <p:cNvSpPr/>
            <p:nvPr/>
          </p:nvSpPr>
          <p:spPr>
            <a:xfrm>
              <a:off x="8166240" y="4364280"/>
              <a:ext cx="1035000" cy="698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367" y="94"/>
                  </a:moveTo>
                  <a:cubicBezTo>
                    <a:pt x="47" y="94"/>
                    <a:pt x="47" y="94"/>
                    <a:pt x="47" y="94"/>
                  </a:cubicBezTo>
                  <a:cubicBezTo>
                    <a:pt x="21" y="94"/>
                    <a:pt x="0" y="73"/>
                    <a:pt x="0" y="47"/>
                  </a:cubicBezTo>
                  <a:cubicBezTo>
                    <a:pt x="0" y="21"/>
                    <a:pt x="21" y="0"/>
                    <a:pt x="47" y="0"/>
                  </a:cubicBezTo>
                  <a:cubicBezTo>
                    <a:pt x="1367" y="0"/>
                    <a:pt x="1367" y="0"/>
                    <a:pt x="1367" y="0"/>
                  </a:cubicBezTo>
                  <a:cubicBezTo>
                    <a:pt x="1393" y="0"/>
                    <a:pt x="1414" y="21"/>
                    <a:pt x="1414" y="47"/>
                  </a:cubicBezTo>
                  <a:cubicBezTo>
                    <a:pt x="1414" y="73"/>
                    <a:pt x="1393" y="94"/>
                    <a:pt x="1367" y="94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8345520" y="4592880"/>
              <a:ext cx="676440" cy="712800"/>
            </a:xfrm>
            <a:custGeom>
              <a:avLst/>
              <a:gdLst/>
              <a:ahLst/>
              <a:rect l="l" t="t" r="r" b="b"/>
              <a:pathLst>
                <a:path w="925" h="973">
                  <a:moveTo>
                    <a:pt x="523" y="973"/>
                  </a:moveTo>
                  <a:cubicBezTo>
                    <a:pt x="467" y="973"/>
                    <a:pt x="414" y="961"/>
                    <a:pt x="364" y="937"/>
                  </a:cubicBezTo>
                  <a:cubicBezTo>
                    <a:pt x="221" y="866"/>
                    <a:pt x="116" y="698"/>
                    <a:pt x="53" y="437"/>
                  </a:cubicBezTo>
                  <a:cubicBezTo>
                    <a:pt x="9" y="253"/>
                    <a:pt x="2" y="90"/>
                    <a:pt x="1" y="83"/>
                  </a:cubicBezTo>
                  <a:cubicBezTo>
                    <a:pt x="0" y="40"/>
                    <a:pt x="33" y="3"/>
                    <a:pt x="76" y="2"/>
                  </a:cubicBezTo>
                  <a:cubicBezTo>
                    <a:pt x="119" y="0"/>
                    <a:pt x="156" y="33"/>
                    <a:pt x="158" y="77"/>
                  </a:cubicBezTo>
                  <a:cubicBezTo>
                    <a:pt x="158" y="79"/>
                    <a:pt x="165" y="234"/>
                    <a:pt x="206" y="403"/>
                  </a:cubicBezTo>
                  <a:cubicBezTo>
                    <a:pt x="257" y="612"/>
                    <a:pt x="335" y="748"/>
                    <a:pt x="434" y="796"/>
                  </a:cubicBezTo>
                  <a:cubicBezTo>
                    <a:pt x="525" y="841"/>
                    <a:pt x="645" y="811"/>
                    <a:pt x="791" y="708"/>
                  </a:cubicBezTo>
                  <a:cubicBezTo>
                    <a:pt x="827" y="683"/>
                    <a:pt x="875" y="691"/>
                    <a:pt x="900" y="726"/>
                  </a:cubicBezTo>
                  <a:cubicBezTo>
                    <a:pt x="925" y="762"/>
                    <a:pt x="917" y="810"/>
                    <a:pt x="882" y="835"/>
                  </a:cubicBezTo>
                  <a:cubicBezTo>
                    <a:pt x="752" y="927"/>
                    <a:pt x="632" y="973"/>
                    <a:pt x="523" y="973"/>
                  </a:cubicBezTo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5"/>
            <p:cNvSpPr/>
            <p:nvPr/>
          </p:nvSpPr>
          <p:spPr>
            <a:xfrm>
              <a:off x="7832880" y="4687920"/>
              <a:ext cx="342720" cy="860400"/>
            </a:xfrm>
            <a:custGeom>
              <a:avLst/>
              <a:gdLst/>
              <a:ahLst/>
              <a:rect l="l" t="t" r="r" b="b"/>
              <a:pathLst>
                <a:path w="469" h="1175">
                  <a:moveTo>
                    <a:pt x="381" y="1175"/>
                  </a:moveTo>
                  <a:cubicBezTo>
                    <a:pt x="373" y="1175"/>
                    <a:pt x="364" y="1174"/>
                    <a:pt x="356" y="1171"/>
                  </a:cubicBezTo>
                  <a:cubicBezTo>
                    <a:pt x="192" y="1115"/>
                    <a:pt x="0" y="958"/>
                    <a:pt x="14" y="528"/>
                  </a:cubicBezTo>
                  <a:cubicBezTo>
                    <a:pt x="21" y="288"/>
                    <a:pt x="90" y="73"/>
                    <a:pt x="93" y="64"/>
                  </a:cubicBezTo>
                  <a:cubicBezTo>
                    <a:pt x="107" y="23"/>
                    <a:pt x="151" y="0"/>
                    <a:pt x="192" y="13"/>
                  </a:cubicBezTo>
                  <a:cubicBezTo>
                    <a:pt x="233" y="27"/>
                    <a:pt x="255" y="71"/>
                    <a:pt x="242" y="112"/>
                  </a:cubicBezTo>
                  <a:cubicBezTo>
                    <a:pt x="241" y="114"/>
                    <a:pt x="176" y="317"/>
                    <a:pt x="170" y="535"/>
                  </a:cubicBezTo>
                  <a:cubicBezTo>
                    <a:pt x="166" y="658"/>
                    <a:pt x="181" y="760"/>
                    <a:pt x="215" y="840"/>
                  </a:cubicBezTo>
                  <a:cubicBezTo>
                    <a:pt x="254" y="933"/>
                    <a:pt x="316" y="992"/>
                    <a:pt x="406" y="1023"/>
                  </a:cubicBezTo>
                  <a:cubicBezTo>
                    <a:pt x="447" y="1037"/>
                    <a:pt x="469" y="1081"/>
                    <a:pt x="455" y="1122"/>
                  </a:cubicBezTo>
                  <a:cubicBezTo>
                    <a:pt x="444" y="1155"/>
                    <a:pt x="414" y="1175"/>
                    <a:pt x="381" y="1175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7880400" y="5451480"/>
              <a:ext cx="285840" cy="1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7"/>
            <p:cNvSpPr/>
            <p:nvPr/>
          </p:nvSpPr>
          <p:spPr>
            <a:xfrm>
              <a:off x="8899560" y="5085000"/>
              <a:ext cx="225360" cy="263520"/>
            </a:xfrm>
            <a:custGeom>
              <a:avLst/>
              <a:gdLst/>
              <a:ahLst/>
              <a:rect l="l" t="t" r="r" b="b"/>
              <a:pathLst>
                <a:path w="307" h="360">
                  <a:moveTo>
                    <a:pt x="274" y="334"/>
                  </a:moveTo>
                  <a:cubicBezTo>
                    <a:pt x="307" y="307"/>
                    <a:pt x="280" y="217"/>
                    <a:pt x="214" y="132"/>
                  </a:cubicBezTo>
                  <a:cubicBezTo>
                    <a:pt x="148" y="47"/>
                    <a:pt x="67" y="0"/>
                    <a:pt x="34" y="26"/>
                  </a:cubicBezTo>
                  <a:cubicBezTo>
                    <a:pt x="0" y="52"/>
                    <a:pt x="27" y="142"/>
                    <a:pt x="93" y="227"/>
                  </a:cubicBezTo>
                  <a:cubicBezTo>
                    <a:pt x="159" y="312"/>
                    <a:pt x="240" y="360"/>
                    <a:pt x="274" y="3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8"/>
            <p:cNvSpPr/>
            <p:nvPr/>
          </p:nvSpPr>
          <p:spPr>
            <a:xfrm>
              <a:off x="10198080" y="2735280"/>
              <a:ext cx="206280" cy="417600"/>
            </a:xfrm>
            <a:custGeom>
              <a:avLst/>
              <a:gdLst/>
              <a:ahLst/>
              <a:rect l="l" t="t" r="r" b="b"/>
              <a:pathLst>
                <a:path w="281" h="571">
                  <a:moveTo>
                    <a:pt x="262" y="268"/>
                  </a:moveTo>
                  <a:cubicBezTo>
                    <a:pt x="281" y="420"/>
                    <a:pt x="241" y="552"/>
                    <a:pt x="174" y="561"/>
                  </a:cubicBezTo>
                  <a:cubicBezTo>
                    <a:pt x="107" y="571"/>
                    <a:pt x="37" y="455"/>
                    <a:pt x="18" y="303"/>
                  </a:cubicBezTo>
                  <a:cubicBezTo>
                    <a:pt x="0" y="151"/>
                    <a:pt x="39" y="19"/>
                    <a:pt x="106" y="10"/>
                  </a:cubicBezTo>
                  <a:cubicBezTo>
                    <a:pt x="173" y="0"/>
                    <a:pt x="243" y="116"/>
                    <a:pt x="262" y="268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9"/>
            <p:cNvSpPr/>
            <p:nvPr/>
          </p:nvSpPr>
          <p:spPr>
            <a:xfrm>
              <a:off x="11112480" y="2740320"/>
              <a:ext cx="182520" cy="409320"/>
            </a:xfrm>
            <a:custGeom>
              <a:avLst/>
              <a:gdLst/>
              <a:ahLst/>
              <a:rect l="l" t="t" r="r" b="b"/>
              <a:pathLst>
                <a:path w="248" h="559">
                  <a:moveTo>
                    <a:pt x="247" y="276"/>
                  </a:moveTo>
                  <a:cubicBezTo>
                    <a:pt x="248" y="430"/>
                    <a:pt x="194" y="556"/>
                    <a:pt x="127" y="557"/>
                  </a:cubicBezTo>
                  <a:cubicBezTo>
                    <a:pt x="59" y="559"/>
                    <a:pt x="3" y="437"/>
                    <a:pt x="1" y="283"/>
                  </a:cubicBezTo>
                  <a:cubicBezTo>
                    <a:pt x="0" y="130"/>
                    <a:pt x="54" y="4"/>
                    <a:pt x="122" y="2"/>
                  </a:cubicBezTo>
                  <a:cubicBezTo>
                    <a:pt x="190" y="0"/>
                    <a:pt x="246" y="123"/>
                    <a:pt x="247" y="276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0"/>
            <p:cNvSpPr/>
            <p:nvPr/>
          </p:nvSpPr>
          <p:spPr>
            <a:xfrm>
              <a:off x="10193400" y="3240360"/>
              <a:ext cx="1009440" cy="317520"/>
            </a:xfrm>
            <a:custGeom>
              <a:avLst/>
              <a:gdLst/>
              <a:ahLst/>
              <a:rect l="l" t="t" r="r" b="b"/>
              <a:pathLst>
                <a:path w="1380" h="435">
                  <a:moveTo>
                    <a:pt x="1305" y="368"/>
                  </a:moveTo>
                  <a:cubicBezTo>
                    <a:pt x="1366" y="279"/>
                    <a:pt x="1380" y="197"/>
                    <a:pt x="1380" y="197"/>
                  </a:cubicBezTo>
                  <a:cubicBezTo>
                    <a:pt x="1222" y="0"/>
                    <a:pt x="182" y="197"/>
                    <a:pt x="182" y="197"/>
                  </a:cubicBezTo>
                  <a:cubicBezTo>
                    <a:pt x="0" y="201"/>
                    <a:pt x="113" y="385"/>
                    <a:pt x="147" y="435"/>
                  </a:cubicBezTo>
                  <a:cubicBezTo>
                    <a:pt x="331" y="367"/>
                    <a:pt x="869" y="200"/>
                    <a:pt x="1305" y="368"/>
                  </a:cubicBezTo>
                  <a:close/>
                </a:path>
              </a:pathLst>
            </a:custGeom>
            <a:solidFill>
              <a:srgbClr val="004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1"/>
            <p:cNvSpPr/>
            <p:nvPr/>
          </p:nvSpPr>
          <p:spPr>
            <a:xfrm>
              <a:off x="10301400" y="3386160"/>
              <a:ext cx="847800" cy="349200"/>
            </a:xfrm>
            <a:custGeom>
              <a:avLst/>
              <a:gdLst/>
              <a:ahLst/>
              <a:rect l="l" t="t" r="r" b="b"/>
              <a:pathLst>
                <a:path w="1158" h="476">
                  <a:moveTo>
                    <a:pt x="698" y="394"/>
                  </a:moveTo>
                  <a:cubicBezTo>
                    <a:pt x="951" y="387"/>
                    <a:pt x="1087" y="272"/>
                    <a:pt x="1158" y="168"/>
                  </a:cubicBezTo>
                  <a:cubicBezTo>
                    <a:pt x="722" y="0"/>
                    <a:pt x="184" y="167"/>
                    <a:pt x="0" y="235"/>
                  </a:cubicBezTo>
                  <a:cubicBezTo>
                    <a:pt x="5" y="243"/>
                    <a:pt x="9" y="248"/>
                    <a:pt x="9" y="248"/>
                  </a:cubicBezTo>
                  <a:cubicBezTo>
                    <a:pt x="224" y="476"/>
                    <a:pt x="698" y="394"/>
                    <a:pt x="698" y="394"/>
                  </a:cubicBezTo>
                  <a:close/>
                </a:path>
              </a:pathLst>
            </a:custGeom>
            <a:solidFill>
              <a:srgbClr val="f4b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2"/>
            <p:cNvSpPr/>
            <p:nvPr/>
          </p:nvSpPr>
          <p:spPr>
            <a:xfrm>
              <a:off x="7475400" y="2605320"/>
              <a:ext cx="1327320" cy="2382840"/>
            </a:xfrm>
            <a:custGeom>
              <a:avLst/>
              <a:gdLst/>
              <a:ahLst/>
              <a:rect l="l" t="t" r="r" b="b"/>
              <a:pathLst>
                <a:path w="1811" h="3253">
                  <a:moveTo>
                    <a:pt x="1797" y="2792"/>
                  </a:moveTo>
                  <a:cubicBezTo>
                    <a:pt x="1811" y="3043"/>
                    <a:pt x="1610" y="3253"/>
                    <a:pt x="1348" y="3253"/>
                  </a:cubicBezTo>
                  <a:cubicBezTo>
                    <a:pt x="463" y="3253"/>
                    <a:pt x="463" y="3253"/>
                    <a:pt x="463" y="3253"/>
                  </a:cubicBezTo>
                  <a:cubicBezTo>
                    <a:pt x="201" y="3253"/>
                    <a:pt x="0" y="3043"/>
                    <a:pt x="14" y="2792"/>
                  </a:cubicBezTo>
                  <a:cubicBezTo>
                    <a:pt x="152" y="313"/>
                    <a:pt x="152" y="313"/>
                    <a:pt x="152" y="313"/>
                  </a:cubicBezTo>
                  <a:cubicBezTo>
                    <a:pt x="162" y="138"/>
                    <a:pt x="340" y="0"/>
                    <a:pt x="550" y="0"/>
                  </a:cubicBezTo>
                  <a:cubicBezTo>
                    <a:pt x="1261" y="0"/>
                    <a:pt x="1261" y="0"/>
                    <a:pt x="1261" y="0"/>
                  </a:cubicBezTo>
                  <a:cubicBezTo>
                    <a:pt x="1471" y="0"/>
                    <a:pt x="1649" y="138"/>
                    <a:pt x="1659" y="313"/>
                  </a:cubicBezTo>
                  <a:cubicBezTo>
                    <a:pt x="1797" y="2792"/>
                    <a:pt x="1797" y="2792"/>
                    <a:pt x="1797" y="279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3"/>
            <p:cNvSpPr/>
            <p:nvPr/>
          </p:nvSpPr>
          <p:spPr>
            <a:xfrm>
              <a:off x="7819920" y="2073240"/>
              <a:ext cx="676440" cy="790560"/>
            </a:xfrm>
            <a:custGeom>
              <a:avLst/>
              <a:gdLst/>
              <a:ahLst/>
              <a:rect l="l" t="t" r="r" b="b"/>
              <a:pathLst>
                <a:path w="924" h="1080">
                  <a:moveTo>
                    <a:pt x="924" y="780"/>
                  </a:moveTo>
                  <a:cubicBezTo>
                    <a:pt x="924" y="946"/>
                    <a:pt x="717" y="1080"/>
                    <a:pt x="462" y="1080"/>
                  </a:cubicBezTo>
                  <a:cubicBezTo>
                    <a:pt x="207" y="1080"/>
                    <a:pt x="0" y="946"/>
                    <a:pt x="0" y="78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134"/>
                    <a:pt x="207" y="0"/>
                    <a:pt x="462" y="0"/>
                  </a:cubicBezTo>
                  <a:cubicBezTo>
                    <a:pt x="717" y="0"/>
                    <a:pt x="924" y="134"/>
                    <a:pt x="924" y="299"/>
                  </a:cubicBezTo>
                  <a:cubicBezTo>
                    <a:pt x="924" y="780"/>
                    <a:pt x="924" y="780"/>
                    <a:pt x="924" y="78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4"/>
            <p:cNvSpPr/>
            <p:nvPr/>
          </p:nvSpPr>
          <p:spPr>
            <a:xfrm>
              <a:off x="7516800" y="3095640"/>
              <a:ext cx="1243080" cy="998640"/>
            </a:xfrm>
            <a:custGeom>
              <a:avLst/>
              <a:gdLst/>
              <a:ahLst/>
              <a:rect l="l" t="t" r="r" b="b"/>
              <a:pathLst>
                <a:path w="783" h="629">
                  <a:moveTo>
                    <a:pt x="749" y="0"/>
                  </a:moveTo>
                  <a:lnTo>
                    <a:pt x="34" y="0"/>
                  </a:lnTo>
                  <a:lnTo>
                    <a:pt x="0" y="629"/>
                  </a:lnTo>
                  <a:lnTo>
                    <a:pt x="783" y="629"/>
                  </a:lnTo>
                  <a:lnTo>
                    <a:pt x="749" y="0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5"/>
            <p:cNvSpPr/>
            <p:nvPr/>
          </p:nvSpPr>
          <p:spPr>
            <a:xfrm>
              <a:off x="7516800" y="3095640"/>
              <a:ext cx="1243080" cy="998640"/>
            </a:xfrm>
            <a:custGeom>
              <a:avLst/>
              <a:gdLst/>
              <a:ahLst/>
              <a:rect l="l" t="t" r="r" b="b"/>
              <a:pathLst>
                <a:path w="783" h="629">
                  <a:moveTo>
                    <a:pt x="749" y="0"/>
                  </a:moveTo>
                  <a:lnTo>
                    <a:pt x="34" y="0"/>
                  </a:lnTo>
                  <a:lnTo>
                    <a:pt x="0" y="629"/>
                  </a:lnTo>
                  <a:lnTo>
                    <a:pt x="783" y="629"/>
                  </a:lnTo>
                  <a:lnTo>
                    <a:pt x="7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6"/>
            <p:cNvSpPr/>
            <p:nvPr/>
          </p:nvSpPr>
          <p:spPr>
            <a:xfrm>
              <a:off x="6891480" y="2754360"/>
              <a:ext cx="1012680" cy="1673280"/>
            </a:xfrm>
            <a:custGeom>
              <a:avLst/>
              <a:gdLst/>
              <a:ahLst/>
              <a:rect l="l" t="t" r="r" b="b"/>
              <a:pathLst>
                <a:path w="1382" h="2284">
                  <a:moveTo>
                    <a:pt x="1373" y="2236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318" y="2269"/>
                    <a:pt x="1318" y="2269"/>
                    <a:pt x="1318" y="2269"/>
                  </a:cubicBezTo>
                  <a:cubicBezTo>
                    <a:pt x="1324" y="2279"/>
                    <a:pt x="1335" y="2284"/>
                    <a:pt x="1346" y="2284"/>
                  </a:cubicBezTo>
                  <a:cubicBezTo>
                    <a:pt x="1351" y="2284"/>
                    <a:pt x="1357" y="2283"/>
                    <a:pt x="1362" y="2280"/>
                  </a:cubicBezTo>
                  <a:cubicBezTo>
                    <a:pt x="1377" y="2271"/>
                    <a:pt x="1382" y="2251"/>
                    <a:pt x="1373" y="2236"/>
                  </a:cubicBezTo>
                  <a:close/>
                </a:path>
              </a:pathLst>
            </a:cu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7"/>
            <p:cNvSpPr/>
            <p:nvPr/>
          </p:nvSpPr>
          <p:spPr>
            <a:xfrm>
              <a:off x="6580080" y="2205000"/>
              <a:ext cx="362160" cy="579600"/>
            </a:xfrm>
            <a:custGeom>
              <a:avLst/>
              <a:gdLst/>
              <a:ahLst/>
              <a:rect l="l" t="t" r="r" b="b"/>
              <a:pathLst>
                <a:path w="228" h="365">
                  <a:moveTo>
                    <a:pt x="228" y="343"/>
                  </a:moveTo>
                  <a:lnTo>
                    <a:pt x="111" y="119"/>
                  </a:lnTo>
                  <a:lnTo>
                    <a:pt x="0" y="0"/>
                  </a:lnTo>
                  <a:lnTo>
                    <a:pt x="51" y="155"/>
                  </a:lnTo>
                  <a:lnTo>
                    <a:pt x="190" y="365"/>
                  </a:lnTo>
                  <a:lnTo>
                    <a:pt x="196" y="361"/>
                  </a:lnTo>
                  <a:lnTo>
                    <a:pt x="222" y="346"/>
                  </a:lnTo>
                  <a:lnTo>
                    <a:pt x="228" y="343"/>
                  </a:ln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8"/>
            <p:cNvSpPr/>
            <p:nvPr/>
          </p:nvSpPr>
          <p:spPr>
            <a:xfrm>
              <a:off x="7975800" y="1817640"/>
              <a:ext cx="574560" cy="436680"/>
            </a:xfrm>
            <a:custGeom>
              <a:avLst/>
              <a:gdLst/>
              <a:ahLst/>
              <a:rect l="l" t="t" r="r" b="b"/>
              <a:pathLst>
                <a:path w="785" h="597">
                  <a:moveTo>
                    <a:pt x="319" y="597"/>
                  </a:moveTo>
                  <a:cubicBezTo>
                    <a:pt x="319" y="595"/>
                    <a:pt x="319" y="595"/>
                    <a:pt x="319" y="595"/>
                  </a:cubicBezTo>
                  <a:cubicBezTo>
                    <a:pt x="0" y="583"/>
                    <a:pt x="0" y="583"/>
                    <a:pt x="0" y="583"/>
                  </a:cubicBezTo>
                  <a:cubicBezTo>
                    <a:pt x="1" y="556"/>
                    <a:pt x="15" y="314"/>
                    <a:pt x="196" y="149"/>
                  </a:cubicBezTo>
                  <a:cubicBezTo>
                    <a:pt x="306" y="49"/>
                    <a:pt x="456" y="0"/>
                    <a:pt x="629" y="10"/>
                  </a:cubicBezTo>
                  <a:cubicBezTo>
                    <a:pt x="717" y="14"/>
                    <a:pt x="785" y="90"/>
                    <a:pt x="780" y="178"/>
                  </a:cubicBezTo>
                  <a:cubicBezTo>
                    <a:pt x="775" y="266"/>
                    <a:pt x="700" y="334"/>
                    <a:pt x="612" y="329"/>
                  </a:cubicBezTo>
                  <a:cubicBezTo>
                    <a:pt x="457" y="321"/>
                    <a:pt x="398" y="389"/>
                    <a:pt x="367" y="441"/>
                  </a:cubicBezTo>
                  <a:cubicBezTo>
                    <a:pt x="324" y="514"/>
                    <a:pt x="319" y="596"/>
                    <a:pt x="319" y="597"/>
                  </a:cubicBezTo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9"/>
            <p:cNvSpPr/>
            <p:nvPr/>
          </p:nvSpPr>
          <p:spPr>
            <a:xfrm>
              <a:off x="7870680" y="2291040"/>
              <a:ext cx="115920" cy="261720"/>
            </a:xfrm>
            <a:custGeom>
              <a:avLst/>
              <a:gdLst/>
              <a:ahLst/>
              <a:rect l="l" t="t" r="r" b="b"/>
              <a:pathLst>
                <a:path w="158" h="358">
                  <a:moveTo>
                    <a:pt x="158" y="177"/>
                  </a:moveTo>
                  <a:cubicBezTo>
                    <a:pt x="158" y="275"/>
                    <a:pt x="123" y="356"/>
                    <a:pt x="80" y="357"/>
                  </a:cubicBezTo>
                  <a:cubicBezTo>
                    <a:pt x="36" y="358"/>
                    <a:pt x="1" y="279"/>
                    <a:pt x="0" y="181"/>
                  </a:cubicBezTo>
                  <a:cubicBezTo>
                    <a:pt x="0" y="82"/>
                    <a:pt x="35" y="2"/>
                    <a:pt x="78" y="1"/>
                  </a:cubicBezTo>
                  <a:cubicBezTo>
                    <a:pt x="122" y="0"/>
                    <a:pt x="158" y="79"/>
                    <a:pt x="158" y="177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0"/>
            <p:cNvSpPr/>
            <p:nvPr/>
          </p:nvSpPr>
          <p:spPr>
            <a:xfrm>
              <a:off x="6640560" y="189396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9" y="29"/>
                  </a:moveTo>
                  <a:lnTo>
                    <a:pt x="0" y="44"/>
                  </a:lnTo>
                  <a:lnTo>
                    <a:pt x="29" y="60"/>
                  </a:lnTo>
                  <a:lnTo>
                    <a:pt x="44" y="89"/>
                  </a:lnTo>
                  <a:lnTo>
                    <a:pt x="60" y="60"/>
                  </a:lnTo>
                  <a:lnTo>
                    <a:pt x="89" y="45"/>
                  </a:lnTo>
                  <a:lnTo>
                    <a:pt x="60" y="29"/>
                  </a:lnTo>
                  <a:lnTo>
                    <a:pt x="45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1"/>
            <p:cNvSpPr/>
            <p:nvPr/>
          </p:nvSpPr>
          <p:spPr>
            <a:xfrm>
              <a:off x="8496360" y="2292480"/>
              <a:ext cx="297000" cy="2692440"/>
            </a:xfrm>
            <a:custGeom>
              <a:avLst/>
              <a:gdLst/>
              <a:ahLst/>
              <a:rect l="l" t="t" r="r" b="b"/>
              <a:pathLst>
                <a:path w="405" h="3676">
                  <a:moveTo>
                    <a:pt x="316" y="3508"/>
                  </a:moveTo>
                  <a:cubicBezTo>
                    <a:pt x="315" y="3509"/>
                    <a:pt x="314" y="3509"/>
                    <a:pt x="313" y="3509"/>
                  </a:cubicBezTo>
                  <a:cubicBezTo>
                    <a:pt x="247" y="3593"/>
                    <a:pt x="151" y="3653"/>
                    <a:pt x="38" y="3673"/>
                  </a:cubicBezTo>
                  <a:cubicBezTo>
                    <a:pt x="38" y="3674"/>
                    <a:pt x="39" y="3675"/>
                    <a:pt x="39" y="3676"/>
                  </a:cubicBezTo>
                  <a:cubicBezTo>
                    <a:pt x="153" y="3656"/>
                    <a:pt x="251" y="3594"/>
                    <a:pt x="316" y="3508"/>
                  </a:cubicBezTo>
                  <a:moveTo>
                    <a:pt x="404" y="3245"/>
                  </a:moveTo>
                  <a:cubicBezTo>
                    <a:pt x="404" y="3276"/>
                    <a:pt x="401" y="3306"/>
                    <a:pt x="395" y="3335"/>
                  </a:cubicBezTo>
                  <a:cubicBezTo>
                    <a:pt x="395" y="3335"/>
                    <a:pt x="395" y="3335"/>
                    <a:pt x="396" y="3335"/>
                  </a:cubicBezTo>
                  <a:cubicBezTo>
                    <a:pt x="402" y="3306"/>
                    <a:pt x="405" y="3276"/>
                    <a:pt x="404" y="3245"/>
                  </a:cubicBezTo>
                  <a:moveTo>
                    <a:pt x="0" y="0"/>
                  </a:moveTo>
                  <a:cubicBezTo>
                    <a:pt x="0" y="446"/>
                    <a:pt x="0" y="446"/>
                    <a:pt x="0" y="446"/>
                  </a:cubicBezTo>
                  <a:cubicBezTo>
                    <a:pt x="0" y="446"/>
                    <a:pt x="0" y="446"/>
                    <a:pt x="0" y="44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2"/>
            <p:cNvSpPr/>
            <p:nvPr/>
          </p:nvSpPr>
          <p:spPr>
            <a:xfrm>
              <a:off x="8724960" y="4735800"/>
              <a:ext cx="60120" cy="126720"/>
            </a:xfrm>
            <a:custGeom>
              <a:avLst/>
              <a:gdLst/>
              <a:ahLst/>
              <a:rect l="l" t="t" r="r" b="b"/>
              <a:pathLst>
                <a:path w="83" h="174">
                  <a:moveTo>
                    <a:pt x="82" y="0"/>
                  </a:moveTo>
                  <a:cubicBezTo>
                    <a:pt x="68" y="64"/>
                    <a:pt x="40" y="124"/>
                    <a:pt x="0" y="174"/>
                  </a:cubicBezTo>
                  <a:cubicBezTo>
                    <a:pt x="1" y="174"/>
                    <a:pt x="2" y="174"/>
                    <a:pt x="3" y="173"/>
                  </a:cubicBezTo>
                  <a:cubicBezTo>
                    <a:pt x="42" y="123"/>
                    <a:pt x="69" y="64"/>
                    <a:pt x="83" y="0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bc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3"/>
            <p:cNvSpPr/>
            <p:nvPr/>
          </p:nvSpPr>
          <p:spPr>
            <a:xfrm>
              <a:off x="8505720" y="4983120"/>
              <a:ext cx="19080" cy="504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cubicBezTo>
                    <a:pt x="16" y="1"/>
                    <a:pt x="8" y="2"/>
                    <a:pt x="0" y="3"/>
                  </a:cubicBezTo>
                  <a:cubicBezTo>
                    <a:pt x="0" y="4"/>
                    <a:pt x="0" y="6"/>
                    <a:pt x="0" y="7"/>
                  </a:cubicBezTo>
                  <a:cubicBezTo>
                    <a:pt x="9" y="6"/>
                    <a:pt x="17" y="4"/>
                    <a:pt x="25" y="3"/>
                  </a:cubicBezTo>
                  <a:cubicBezTo>
                    <a:pt x="25" y="2"/>
                    <a:pt x="24" y="1"/>
                    <a:pt x="24" y="0"/>
                  </a:cubicBezTo>
                </a:path>
              </a:pathLst>
            </a:cu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4"/>
            <p:cNvSpPr/>
            <p:nvPr/>
          </p:nvSpPr>
          <p:spPr>
            <a:xfrm>
              <a:off x="8340840" y="2619360"/>
              <a:ext cx="450720" cy="2365560"/>
            </a:xfrm>
            <a:custGeom>
              <a:avLst/>
              <a:gdLst/>
              <a:ahLst/>
              <a:rect l="l" t="t" r="r" b="b"/>
              <a:pathLst>
                <a:path w="615" h="3230">
                  <a:moveTo>
                    <a:pt x="572" y="2013"/>
                  </a:moveTo>
                  <a:cubicBezTo>
                    <a:pt x="191" y="2013"/>
                    <a:pt x="191" y="2013"/>
                    <a:pt x="191" y="2013"/>
                  </a:cubicBezTo>
                  <a:cubicBezTo>
                    <a:pt x="207" y="2530"/>
                    <a:pt x="220" y="3029"/>
                    <a:pt x="225" y="3230"/>
                  </a:cubicBezTo>
                  <a:cubicBezTo>
                    <a:pt x="233" y="3229"/>
                    <a:pt x="241" y="3228"/>
                    <a:pt x="249" y="3227"/>
                  </a:cubicBezTo>
                  <a:cubicBezTo>
                    <a:pt x="362" y="3207"/>
                    <a:pt x="458" y="3147"/>
                    <a:pt x="524" y="3063"/>
                  </a:cubicBezTo>
                  <a:cubicBezTo>
                    <a:pt x="564" y="3013"/>
                    <a:pt x="592" y="2953"/>
                    <a:pt x="606" y="2889"/>
                  </a:cubicBezTo>
                  <a:cubicBezTo>
                    <a:pt x="612" y="2860"/>
                    <a:pt x="615" y="2830"/>
                    <a:pt x="615" y="2799"/>
                  </a:cubicBezTo>
                  <a:cubicBezTo>
                    <a:pt x="615" y="2791"/>
                    <a:pt x="615" y="2784"/>
                    <a:pt x="615" y="2776"/>
                  </a:cubicBezTo>
                  <a:cubicBezTo>
                    <a:pt x="572" y="2013"/>
                    <a:pt x="572" y="2013"/>
                    <a:pt x="572" y="2013"/>
                  </a:cubicBezTo>
                  <a:moveTo>
                    <a:pt x="211" y="0"/>
                  </a:moveTo>
                  <a:cubicBezTo>
                    <a:pt x="211" y="33"/>
                    <a:pt x="211" y="33"/>
                    <a:pt x="211" y="33"/>
                  </a:cubicBezTo>
                  <a:cubicBezTo>
                    <a:pt x="211" y="139"/>
                    <a:pt x="127" y="232"/>
                    <a:pt x="0" y="285"/>
                  </a:cubicBezTo>
                  <a:cubicBezTo>
                    <a:pt x="1" y="286"/>
                    <a:pt x="1" y="287"/>
                    <a:pt x="2" y="288"/>
                  </a:cubicBezTo>
                  <a:cubicBezTo>
                    <a:pt x="59" y="355"/>
                    <a:pt x="106" y="429"/>
                    <a:pt x="120" y="498"/>
                  </a:cubicBezTo>
                  <a:cubicBezTo>
                    <a:pt x="125" y="521"/>
                    <a:pt x="130" y="574"/>
                    <a:pt x="135" y="650"/>
                  </a:cubicBezTo>
                  <a:cubicBezTo>
                    <a:pt x="496" y="650"/>
                    <a:pt x="496" y="650"/>
                    <a:pt x="496" y="650"/>
                  </a:cubicBezTo>
                  <a:cubicBezTo>
                    <a:pt x="477" y="298"/>
                    <a:pt x="477" y="298"/>
                    <a:pt x="477" y="298"/>
                  </a:cubicBezTo>
                  <a:cubicBezTo>
                    <a:pt x="469" y="161"/>
                    <a:pt x="359" y="47"/>
                    <a:pt x="211" y="4"/>
                  </a:cubicBezTo>
                  <a:cubicBezTo>
                    <a:pt x="211" y="0"/>
                    <a:pt x="211" y="0"/>
                    <a:pt x="211" y="0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45"/>
            <p:cNvSpPr/>
            <p:nvPr/>
          </p:nvSpPr>
          <p:spPr>
            <a:xfrm>
              <a:off x="8143920" y="2092320"/>
              <a:ext cx="352440" cy="736560"/>
            </a:xfrm>
            <a:custGeom>
              <a:avLst/>
              <a:gdLst/>
              <a:ahLst/>
              <a:rect l="l" t="t" r="r" b="b"/>
              <a:pathLst>
                <a:path w="481" h="1006">
                  <a:moveTo>
                    <a:pt x="195" y="0"/>
                  </a:moveTo>
                  <a:cubicBezTo>
                    <a:pt x="168" y="20"/>
                    <a:pt x="150" y="44"/>
                    <a:pt x="137" y="66"/>
                  </a:cubicBezTo>
                  <a:cubicBezTo>
                    <a:pt x="94" y="139"/>
                    <a:pt x="89" y="221"/>
                    <a:pt x="89" y="222"/>
                  </a:cubicBezTo>
                  <a:cubicBezTo>
                    <a:pt x="89" y="220"/>
                    <a:pt x="89" y="220"/>
                    <a:pt x="89" y="220"/>
                  </a:cubicBezTo>
                  <a:cubicBezTo>
                    <a:pt x="0" y="217"/>
                    <a:pt x="0" y="217"/>
                    <a:pt x="0" y="217"/>
                  </a:cubicBezTo>
                  <a:cubicBezTo>
                    <a:pt x="0" y="757"/>
                    <a:pt x="0" y="757"/>
                    <a:pt x="0" y="757"/>
                  </a:cubicBezTo>
                  <a:cubicBezTo>
                    <a:pt x="0" y="757"/>
                    <a:pt x="154" y="869"/>
                    <a:pt x="270" y="1006"/>
                  </a:cubicBezTo>
                  <a:cubicBezTo>
                    <a:pt x="397" y="953"/>
                    <a:pt x="481" y="860"/>
                    <a:pt x="481" y="754"/>
                  </a:cubicBezTo>
                  <a:cubicBezTo>
                    <a:pt x="481" y="721"/>
                    <a:pt x="481" y="721"/>
                    <a:pt x="481" y="721"/>
                  </a:cubicBezTo>
                  <a:cubicBezTo>
                    <a:pt x="481" y="275"/>
                    <a:pt x="481" y="275"/>
                    <a:pt x="481" y="275"/>
                  </a:cubicBezTo>
                  <a:cubicBezTo>
                    <a:pt x="480" y="193"/>
                    <a:pt x="429" y="119"/>
                    <a:pt x="346" y="65"/>
                  </a:cubicBezTo>
                  <a:cubicBezTo>
                    <a:pt x="303" y="37"/>
                    <a:pt x="252" y="15"/>
                    <a:pt x="195" y="0"/>
                  </a:cubicBezTo>
                </a:path>
              </a:pathLst>
            </a:cu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46"/>
            <p:cNvSpPr/>
            <p:nvPr/>
          </p:nvSpPr>
          <p:spPr>
            <a:xfrm>
              <a:off x="8440920" y="3095640"/>
              <a:ext cx="318960" cy="998640"/>
            </a:xfrm>
            <a:custGeom>
              <a:avLst/>
              <a:gdLst/>
              <a:ahLst/>
              <a:rect l="l" t="t" r="r" b="b"/>
              <a:pathLst>
                <a:path w="437" h="1363">
                  <a:moveTo>
                    <a:pt x="3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269"/>
                    <a:pt x="39" y="826"/>
                    <a:pt x="56" y="1363"/>
                  </a:cubicBezTo>
                  <a:cubicBezTo>
                    <a:pt x="437" y="1363"/>
                    <a:pt x="437" y="1363"/>
                    <a:pt x="437" y="1363"/>
                  </a:cubicBezTo>
                  <a:cubicBezTo>
                    <a:pt x="361" y="0"/>
                    <a:pt x="361" y="0"/>
                    <a:pt x="361" y="0"/>
                  </a:cubicBezTo>
                </a:path>
              </a:pathLst>
            </a:cu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7"/>
            <p:cNvSpPr/>
            <p:nvPr/>
          </p:nvSpPr>
          <p:spPr>
            <a:xfrm>
              <a:off x="8143920" y="2075040"/>
              <a:ext cx="142920" cy="17928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9" y="0"/>
                  </a:moveTo>
                  <a:cubicBezTo>
                    <a:pt x="13" y="0"/>
                    <a:pt x="6" y="0"/>
                    <a:pt x="0" y="0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89" y="243"/>
                    <a:pt x="89" y="243"/>
                    <a:pt x="89" y="243"/>
                  </a:cubicBezTo>
                  <a:cubicBezTo>
                    <a:pt x="89" y="245"/>
                    <a:pt x="89" y="245"/>
                    <a:pt x="89" y="245"/>
                  </a:cubicBezTo>
                  <a:cubicBezTo>
                    <a:pt x="89" y="244"/>
                    <a:pt x="94" y="162"/>
                    <a:pt x="137" y="89"/>
                  </a:cubicBezTo>
                  <a:cubicBezTo>
                    <a:pt x="150" y="67"/>
                    <a:pt x="168" y="43"/>
                    <a:pt x="195" y="23"/>
                  </a:cubicBezTo>
                  <a:cubicBezTo>
                    <a:pt x="140" y="8"/>
                    <a:pt x="81" y="0"/>
                    <a:pt x="19" y="0"/>
                  </a:cubicBezTo>
                </a:path>
              </a:pathLst>
            </a:cu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8"/>
            <p:cNvSpPr/>
            <p:nvPr/>
          </p:nvSpPr>
          <p:spPr>
            <a:xfrm>
              <a:off x="8202600" y="2291040"/>
              <a:ext cx="115920" cy="261720"/>
            </a:xfrm>
            <a:custGeom>
              <a:avLst/>
              <a:gdLst/>
              <a:ahLst/>
              <a:rect l="l" t="t" r="r" b="b"/>
              <a:pathLst>
                <a:path w="158" h="358">
                  <a:moveTo>
                    <a:pt x="158" y="177"/>
                  </a:moveTo>
                  <a:cubicBezTo>
                    <a:pt x="158" y="275"/>
                    <a:pt x="123" y="356"/>
                    <a:pt x="80" y="357"/>
                  </a:cubicBezTo>
                  <a:cubicBezTo>
                    <a:pt x="36" y="358"/>
                    <a:pt x="0" y="279"/>
                    <a:pt x="0" y="181"/>
                  </a:cubicBezTo>
                  <a:cubicBezTo>
                    <a:pt x="0" y="82"/>
                    <a:pt x="35" y="2"/>
                    <a:pt x="78" y="1"/>
                  </a:cubicBezTo>
                  <a:cubicBezTo>
                    <a:pt x="122" y="0"/>
                    <a:pt x="157" y="79"/>
                    <a:pt x="158" y="177"/>
                  </a:cubicBezTo>
                  <a:close/>
                </a:path>
              </a:pathLst>
            </a:cu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9"/>
            <p:cNvSpPr/>
            <p:nvPr/>
          </p:nvSpPr>
          <p:spPr>
            <a:xfrm>
              <a:off x="6481800" y="247968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9" y="62"/>
                  </a:moveTo>
                  <a:lnTo>
                    <a:pt x="46" y="91"/>
                  </a:lnTo>
                  <a:lnTo>
                    <a:pt x="62" y="62"/>
                  </a:lnTo>
                  <a:lnTo>
                    <a:pt x="91" y="46"/>
                  </a:lnTo>
                  <a:lnTo>
                    <a:pt x="62" y="30"/>
                  </a:lnTo>
                  <a:lnTo>
                    <a:pt x="46" y="0"/>
                  </a:lnTo>
                  <a:lnTo>
                    <a:pt x="30" y="30"/>
                  </a:lnTo>
                  <a:lnTo>
                    <a:pt x="0" y="45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0"/>
            <p:cNvSpPr/>
            <p:nvPr/>
          </p:nvSpPr>
          <p:spPr>
            <a:xfrm>
              <a:off x="7488360" y="3435480"/>
              <a:ext cx="988920" cy="557280"/>
            </a:xfrm>
            <a:custGeom>
              <a:avLst/>
              <a:gdLst/>
              <a:ahLst/>
              <a:rect l="l" t="t" r="r" b="b"/>
              <a:pathLst>
                <a:path w="1351" h="759">
                  <a:moveTo>
                    <a:pt x="652" y="759"/>
                  </a:moveTo>
                  <a:cubicBezTo>
                    <a:pt x="484" y="759"/>
                    <a:pt x="287" y="721"/>
                    <a:pt x="62" y="645"/>
                  </a:cubicBezTo>
                  <a:cubicBezTo>
                    <a:pt x="21" y="631"/>
                    <a:pt x="0" y="586"/>
                    <a:pt x="13" y="545"/>
                  </a:cubicBezTo>
                  <a:cubicBezTo>
                    <a:pt x="27" y="505"/>
                    <a:pt x="72" y="483"/>
                    <a:pt x="113" y="497"/>
                  </a:cubicBezTo>
                  <a:cubicBezTo>
                    <a:pt x="340" y="574"/>
                    <a:pt x="537" y="609"/>
                    <a:pt x="695" y="602"/>
                  </a:cubicBezTo>
                  <a:cubicBezTo>
                    <a:pt x="821" y="596"/>
                    <a:pt x="923" y="563"/>
                    <a:pt x="1000" y="504"/>
                  </a:cubicBezTo>
                  <a:cubicBezTo>
                    <a:pt x="1188" y="358"/>
                    <a:pt x="1172" y="90"/>
                    <a:pt x="1171" y="87"/>
                  </a:cubicBezTo>
                  <a:cubicBezTo>
                    <a:pt x="1168" y="44"/>
                    <a:pt x="1200" y="7"/>
                    <a:pt x="1243" y="4"/>
                  </a:cubicBezTo>
                  <a:cubicBezTo>
                    <a:pt x="1286" y="0"/>
                    <a:pt x="1324" y="33"/>
                    <a:pt x="1327" y="76"/>
                  </a:cubicBezTo>
                  <a:cubicBezTo>
                    <a:pt x="1328" y="90"/>
                    <a:pt x="1351" y="428"/>
                    <a:pt x="1097" y="626"/>
                  </a:cubicBezTo>
                  <a:cubicBezTo>
                    <a:pt x="983" y="715"/>
                    <a:pt x="834" y="759"/>
                    <a:pt x="652" y="759"/>
                  </a:cubicBezTo>
                  <a:close/>
                </a:path>
              </a:pathLst>
            </a:cu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1"/>
            <p:cNvSpPr/>
            <p:nvPr/>
          </p:nvSpPr>
          <p:spPr>
            <a:xfrm>
              <a:off x="8499600" y="4240440"/>
              <a:ext cx="995400" cy="29880"/>
            </a:xfrm>
            <a:custGeom>
              <a:avLst/>
              <a:gdLst/>
              <a:ahLst/>
              <a:rect l="l" t="t" r="r" b="b"/>
              <a:pathLst>
                <a:path w="1360" h="40">
                  <a:moveTo>
                    <a:pt x="1340" y="40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1340" y="0"/>
                    <a:pt x="1340" y="0"/>
                    <a:pt x="1340" y="0"/>
                  </a:cubicBezTo>
                  <a:cubicBezTo>
                    <a:pt x="1351" y="0"/>
                    <a:pt x="1360" y="9"/>
                    <a:pt x="1360" y="20"/>
                  </a:cubicBezTo>
                  <a:cubicBezTo>
                    <a:pt x="1360" y="31"/>
                    <a:pt x="1351" y="40"/>
                    <a:pt x="1340" y="40"/>
                  </a:cubicBezTo>
                  <a:close/>
                </a:path>
              </a:pathLst>
            </a:cu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任意多边形 72"/>
          <p:cNvSpPr/>
          <p:nvPr/>
        </p:nvSpPr>
        <p:spPr>
          <a:xfrm>
            <a:off x="531720" y="1243080"/>
            <a:ext cx="5094360" cy="1581120"/>
          </a:xfrm>
          <a:custGeom>
            <a:avLst/>
            <a:gdLst/>
            <a:ahLst/>
            <a:rect l="l" t="t" r="r" b="b"/>
            <a:pathLst>
              <a:path w="5093494" h="1581448">
                <a:moveTo>
                  <a:pt x="2060675" y="397073"/>
                </a:moveTo>
                <a:lnTo>
                  <a:pt x="2060675" y="718840"/>
                </a:lnTo>
                <a:cubicBezTo>
                  <a:pt x="2060675" y="860326"/>
                  <a:pt x="2081213" y="969863"/>
                  <a:pt x="2122289" y="1047452"/>
                </a:cubicBezTo>
                <a:cubicBezTo>
                  <a:pt x="2163366" y="956171"/>
                  <a:pt x="2183904" y="846633"/>
                  <a:pt x="2183904" y="718840"/>
                </a:cubicBezTo>
                <a:lnTo>
                  <a:pt x="2183904" y="397073"/>
                </a:lnTo>
                <a:lnTo>
                  <a:pt x="2060675" y="397073"/>
                </a:lnTo>
                <a:close/>
                <a:moveTo>
                  <a:pt x="910531" y="301228"/>
                </a:moveTo>
                <a:lnTo>
                  <a:pt x="910531" y="711994"/>
                </a:lnTo>
                <a:lnTo>
                  <a:pt x="1177529" y="711994"/>
                </a:lnTo>
                <a:cubicBezTo>
                  <a:pt x="1241425" y="716558"/>
                  <a:pt x="1271092" y="684609"/>
                  <a:pt x="1266528" y="616148"/>
                </a:cubicBezTo>
                <a:lnTo>
                  <a:pt x="1266528" y="301228"/>
                </a:lnTo>
                <a:lnTo>
                  <a:pt x="910531" y="301228"/>
                </a:lnTo>
                <a:close/>
                <a:moveTo>
                  <a:pt x="3566815" y="54769"/>
                </a:moveTo>
                <a:lnTo>
                  <a:pt x="5066110" y="54769"/>
                </a:lnTo>
                <a:lnTo>
                  <a:pt x="5066110" y="253305"/>
                </a:lnTo>
                <a:lnTo>
                  <a:pt x="4758036" y="253305"/>
                </a:lnTo>
                <a:lnTo>
                  <a:pt x="4758036" y="636687"/>
                </a:lnTo>
                <a:lnTo>
                  <a:pt x="5093494" y="636687"/>
                </a:lnTo>
                <a:lnTo>
                  <a:pt x="5093494" y="835223"/>
                </a:lnTo>
                <a:lnTo>
                  <a:pt x="4758036" y="835223"/>
                </a:lnTo>
                <a:lnTo>
                  <a:pt x="4758036" y="1307604"/>
                </a:lnTo>
                <a:cubicBezTo>
                  <a:pt x="4762600" y="1481038"/>
                  <a:pt x="4673601" y="1565473"/>
                  <a:pt x="4491038" y="1560909"/>
                </a:cubicBezTo>
                <a:lnTo>
                  <a:pt x="4237732" y="1560909"/>
                </a:lnTo>
                <a:lnTo>
                  <a:pt x="4237732" y="1376065"/>
                </a:lnTo>
                <a:lnTo>
                  <a:pt x="4367808" y="1376065"/>
                </a:lnTo>
                <a:cubicBezTo>
                  <a:pt x="4422577" y="1376065"/>
                  <a:pt x="4449961" y="1348680"/>
                  <a:pt x="4449961" y="1293912"/>
                </a:cubicBezTo>
                <a:lnTo>
                  <a:pt x="4449961" y="835223"/>
                </a:lnTo>
                <a:lnTo>
                  <a:pt x="4443115" y="835223"/>
                </a:lnTo>
                <a:cubicBezTo>
                  <a:pt x="4278809" y="1141016"/>
                  <a:pt x="3968453" y="1364655"/>
                  <a:pt x="3512046" y="1506141"/>
                </a:cubicBezTo>
                <a:lnTo>
                  <a:pt x="3512046" y="1328142"/>
                </a:lnTo>
                <a:cubicBezTo>
                  <a:pt x="3804147" y="1186656"/>
                  <a:pt x="4002683" y="1022350"/>
                  <a:pt x="4107657" y="835223"/>
                </a:cubicBezTo>
                <a:lnTo>
                  <a:pt x="3607892" y="835223"/>
                </a:lnTo>
                <a:lnTo>
                  <a:pt x="3607892" y="622994"/>
                </a:lnTo>
                <a:cubicBezTo>
                  <a:pt x="3653533" y="527149"/>
                  <a:pt x="3683199" y="426740"/>
                  <a:pt x="3696891" y="321766"/>
                </a:cubicBezTo>
                <a:lnTo>
                  <a:pt x="3998119" y="321766"/>
                </a:lnTo>
                <a:cubicBezTo>
                  <a:pt x="3979863" y="435868"/>
                  <a:pt x="3941069" y="540841"/>
                  <a:pt x="3881736" y="636687"/>
                </a:cubicBezTo>
                <a:lnTo>
                  <a:pt x="4449961" y="636687"/>
                </a:lnTo>
                <a:lnTo>
                  <a:pt x="4449961" y="253305"/>
                </a:lnTo>
                <a:lnTo>
                  <a:pt x="3566815" y="253305"/>
                </a:lnTo>
                <a:lnTo>
                  <a:pt x="3566815" y="54769"/>
                </a:lnTo>
                <a:close/>
                <a:moveTo>
                  <a:pt x="2519363" y="54769"/>
                </a:moveTo>
                <a:lnTo>
                  <a:pt x="3327202" y="54769"/>
                </a:lnTo>
                <a:lnTo>
                  <a:pt x="3327202" y="253305"/>
                </a:lnTo>
                <a:cubicBezTo>
                  <a:pt x="3267869" y="367407"/>
                  <a:pt x="3185716" y="463252"/>
                  <a:pt x="3080742" y="540841"/>
                </a:cubicBezTo>
                <a:lnTo>
                  <a:pt x="3080742" y="664071"/>
                </a:lnTo>
                <a:lnTo>
                  <a:pt x="3354586" y="664071"/>
                </a:lnTo>
                <a:lnTo>
                  <a:pt x="3354586" y="862608"/>
                </a:lnTo>
                <a:lnTo>
                  <a:pt x="3080742" y="862608"/>
                </a:lnTo>
                <a:lnTo>
                  <a:pt x="3080742" y="1287066"/>
                </a:lnTo>
                <a:cubicBezTo>
                  <a:pt x="3094435" y="1474192"/>
                  <a:pt x="2998589" y="1563191"/>
                  <a:pt x="2793207" y="1554063"/>
                </a:cubicBezTo>
                <a:lnTo>
                  <a:pt x="2594670" y="1554063"/>
                </a:lnTo>
                <a:lnTo>
                  <a:pt x="2594670" y="1376065"/>
                </a:lnTo>
                <a:lnTo>
                  <a:pt x="2676823" y="1376065"/>
                </a:lnTo>
                <a:cubicBezTo>
                  <a:pt x="2749848" y="1380629"/>
                  <a:pt x="2784079" y="1348680"/>
                  <a:pt x="2779514" y="1280220"/>
                </a:cubicBezTo>
                <a:lnTo>
                  <a:pt x="2779514" y="862608"/>
                </a:lnTo>
                <a:lnTo>
                  <a:pt x="2471440" y="862608"/>
                </a:lnTo>
                <a:lnTo>
                  <a:pt x="2471440" y="664071"/>
                </a:lnTo>
                <a:lnTo>
                  <a:pt x="2779514" y="664071"/>
                </a:lnTo>
                <a:lnTo>
                  <a:pt x="2779514" y="492919"/>
                </a:lnTo>
                <a:cubicBezTo>
                  <a:pt x="2852540" y="438150"/>
                  <a:pt x="2921001" y="358279"/>
                  <a:pt x="2984897" y="253305"/>
                </a:cubicBezTo>
                <a:lnTo>
                  <a:pt x="2519363" y="253305"/>
                </a:lnTo>
                <a:lnTo>
                  <a:pt x="2519363" y="54769"/>
                </a:lnTo>
                <a:close/>
                <a:moveTo>
                  <a:pt x="1821061" y="0"/>
                </a:moveTo>
                <a:lnTo>
                  <a:pt x="2060675" y="0"/>
                </a:lnTo>
                <a:lnTo>
                  <a:pt x="2060675" y="205383"/>
                </a:lnTo>
                <a:lnTo>
                  <a:pt x="2183904" y="205383"/>
                </a:lnTo>
                <a:lnTo>
                  <a:pt x="2183904" y="0"/>
                </a:lnTo>
                <a:lnTo>
                  <a:pt x="2423517" y="0"/>
                </a:lnTo>
                <a:lnTo>
                  <a:pt x="2423517" y="205383"/>
                </a:lnTo>
                <a:lnTo>
                  <a:pt x="2491978" y="205383"/>
                </a:lnTo>
                <a:lnTo>
                  <a:pt x="2491978" y="397073"/>
                </a:lnTo>
                <a:lnTo>
                  <a:pt x="2423517" y="397073"/>
                </a:lnTo>
                <a:lnTo>
                  <a:pt x="2423517" y="711994"/>
                </a:lnTo>
                <a:cubicBezTo>
                  <a:pt x="2423517" y="926505"/>
                  <a:pt x="2373313" y="1102221"/>
                  <a:pt x="2272903" y="1239143"/>
                </a:cubicBezTo>
                <a:cubicBezTo>
                  <a:pt x="2327672" y="1289348"/>
                  <a:pt x="2396133" y="1334988"/>
                  <a:pt x="2478286" y="1376065"/>
                </a:cubicBezTo>
                <a:lnTo>
                  <a:pt x="2478286" y="1567755"/>
                </a:lnTo>
                <a:cubicBezTo>
                  <a:pt x="2332236" y="1508423"/>
                  <a:pt x="2211289" y="1449090"/>
                  <a:pt x="2115443" y="1389757"/>
                </a:cubicBezTo>
                <a:cubicBezTo>
                  <a:pt x="2019598" y="1449090"/>
                  <a:pt x="1900932" y="1506141"/>
                  <a:pt x="1759446" y="1560909"/>
                </a:cubicBezTo>
                <a:lnTo>
                  <a:pt x="1759446" y="1376065"/>
                </a:lnTo>
                <a:cubicBezTo>
                  <a:pt x="1841600" y="1334988"/>
                  <a:pt x="1910061" y="1289348"/>
                  <a:pt x="1964829" y="1239143"/>
                </a:cubicBezTo>
                <a:cubicBezTo>
                  <a:pt x="1868984" y="1111349"/>
                  <a:pt x="1821061" y="935633"/>
                  <a:pt x="1821061" y="711994"/>
                </a:cubicBezTo>
                <a:lnTo>
                  <a:pt x="1821061" y="397073"/>
                </a:lnTo>
                <a:lnTo>
                  <a:pt x="1738908" y="397073"/>
                </a:lnTo>
                <a:lnTo>
                  <a:pt x="1738908" y="205383"/>
                </a:lnTo>
                <a:lnTo>
                  <a:pt x="1821061" y="205383"/>
                </a:lnTo>
                <a:lnTo>
                  <a:pt x="1821061" y="0"/>
                </a:lnTo>
                <a:close/>
                <a:moveTo>
                  <a:pt x="944761" y="0"/>
                </a:moveTo>
                <a:lnTo>
                  <a:pt x="1239143" y="0"/>
                </a:lnTo>
                <a:lnTo>
                  <a:pt x="1239143" y="109537"/>
                </a:lnTo>
                <a:lnTo>
                  <a:pt x="1540371" y="109537"/>
                </a:lnTo>
                <a:lnTo>
                  <a:pt x="1540371" y="643533"/>
                </a:lnTo>
                <a:cubicBezTo>
                  <a:pt x="1544936" y="821531"/>
                  <a:pt x="1460500" y="908248"/>
                  <a:pt x="1287066" y="903684"/>
                </a:cubicBezTo>
                <a:lnTo>
                  <a:pt x="910531" y="903684"/>
                </a:lnTo>
                <a:lnTo>
                  <a:pt x="910531" y="1102221"/>
                </a:lnTo>
                <a:cubicBezTo>
                  <a:pt x="919659" y="1334988"/>
                  <a:pt x="794147" y="1494730"/>
                  <a:pt x="533996" y="1581448"/>
                </a:cubicBezTo>
                <a:lnTo>
                  <a:pt x="533996" y="1403449"/>
                </a:lnTo>
                <a:cubicBezTo>
                  <a:pt x="593329" y="1353244"/>
                  <a:pt x="620713" y="1277937"/>
                  <a:pt x="616149" y="1177528"/>
                </a:cubicBezTo>
                <a:lnTo>
                  <a:pt x="616149" y="109537"/>
                </a:lnTo>
                <a:lnTo>
                  <a:pt x="944761" y="109537"/>
                </a:lnTo>
                <a:lnTo>
                  <a:pt x="944761" y="0"/>
                </a:lnTo>
                <a:close/>
                <a:moveTo>
                  <a:pt x="164307" y="0"/>
                </a:moveTo>
                <a:lnTo>
                  <a:pt x="424458" y="0"/>
                </a:lnTo>
                <a:lnTo>
                  <a:pt x="424458" y="184844"/>
                </a:lnTo>
                <a:lnTo>
                  <a:pt x="561380" y="184844"/>
                </a:lnTo>
                <a:lnTo>
                  <a:pt x="561380" y="376535"/>
                </a:lnTo>
                <a:lnTo>
                  <a:pt x="424458" y="376535"/>
                </a:lnTo>
                <a:lnTo>
                  <a:pt x="424458" y="664071"/>
                </a:lnTo>
                <a:cubicBezTo>
                  <a:pt x="447279" y="659507"/>
                  <a:pt x="479227" y="650379"/>
                  <a:pt x="520304" y="636687"/>
                </a:cubicBezTo>
                <a:cubicBezTo>
                  <a:pt x="533996" y="632123"/>
                  <a:pt x="545406" y="629841"/>
                  <a:pt x="554534" y="629841"/>
                </a:cubicBezTo>
                <a:lnTo>
                  <a:pt x="554534" y="821531"/>
                </a:lnTo>
                <a:cubicBezTo>
                  <a:pt x="513457" y="844351"/>
                  <a:pt x="470099" y="862608"/>
                  <a:pt x="424458" y="876300"/>
                </a:cubicBezTo>
                <a:lnTo>
                  <a:pt x="424458" y="1341834"/>
                </a:lnTo>
                <a:cubicBezTo>
                  <a:pt x="429022" y="1483320"/>
                  <a:pt x="353715" y="1551781"/>
                  <a:pt x="198537" y="1547217"/>
                </a:cubicBezTo>
                <a:lnTo>
                  <a:pt x="41077" y="1547217"/>
                </a:lnTo>
                <a:lnTo>
                  <a:pt x="41077" y="1376065"/>
                </a:lnTo>
                <a:lnTo>
                  <a:pt x="116384" y="1376065"/>
                </a:lnTo>
                <a:cubicBezTo>
                  <a:pt x="152896" y="1380629"/>
                  <a:pt x="168871" y="1362373"/>
                  <a:pt x="164307" y="1321296"/>
                </a:cubicBezTo>
                <a:lnTo>
                  <a:pt x="164307" y="951607"/>
                </a:lnTo>
                <a:cubicBezTo>
                  <a:pt x="104974" y="969863"/>
                  <a:pt x="50205" y="981273"/>
                  <a:pt x="0" y="985837"/>
                </a:cubicBezTo>
                <a:lnTo>
                  <a:pt x="0" y="746224"/>
                </a:lnTo>
                <a:cubicBezTo>
                  <a:pt x="54769" y="737096"/>
                  <a:pt x="109538" y="730250"/>
                  <a:pt x="164307" y="725686"/>
                </a:cubicBezTo>
                <a:lnTo>
                  <a:pt x="164307" y="376535"/>
                </a:lnTo>
                <a:lnTo>
                  <a:pt x="13692" y="376535"/>
                </a:lnTo>
                <a:lnTo>
                  <a:pt x="13692" y="184844"/>
                </a:lnTo>
                <a:lnTo>
                  <a:pt x="164307" y="184844"/>
                </a:lnTo>
                <a:lnTo>
                  <a:pt x="164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74"/>
          <p:cNvSpPr/>
          <p:nvPr/>
        </p:nvSpPr>
        <p:spPr>
          <a:xfrm>
            <a:off x="2070000" y="3367080"/>
            <a:ext cx="3664080" cy="1309680"/>
          </a:xfrm>
          <a:custGeom>
            <a:avLst/>
            <a:gdLst/>
            <a:ahLst/>
            <a:rect l="l" t="t" r="r" b="b"/>
            <a:pathLst>
              <a:path w="3663739" h="1309315">
                <a:moveTo>
                  <a:pt x="864803" y="1013296"/>
                </a:moveTo>
                <a:lnTo>
                  <a:pt x="1138052" y="1013296"/>
                </a:lnTo>
                <a:lnTo>
                  <a:pt x="1138052" y="1280852"/>
                </a:lnTo>
                <a:lnTo>
                  <a:pt x="864803" y="1280852"/>
                </a:lnTo>
                <a:lnTo>
                  <a:pt x="864803" y="1013296"/>
                </a:lnTo>
                <a:close/>
                <a:moveTo>
                  <a:pt x="1731652" y="745740"/>
                </a:moveTo>
                <a:cubicBezTo>
                  <a:pt x="1602618" y="779896"/>
                  <a:pt x="1538101" y="848208"/>
                  <a:pt x="1538101" y="950677"/>
                </a:cubicBezTo>
                <a:cubicBezTo>
                  <a:pt x="1545692" y="1064530"/>
                  <a:pt x="1612106" y="1125252"/>
                  <a:pt x="1737345" y="1132842"/>
                </a:cubicBezTo>
                <a:cubicBezTo>
                  <a:pt x="1866379" y="1129047"/>
                  <a:pt x="1932793" y="1070223"/>
                  <a:pt x="1936589" y="956369"/>
                </a:cubicBezTo>
                <a:cubicBezTo>
                  <a:pt x="1936589" y="846311"/>
                  <a:pt x="1868277" y="776101"/>
                  <a:pt x="1731652" y="745740"/>
                </a:cubicBezTo>
                <a:close/>
                <a:moveTo>
                  <a:pt x="2758604" y="592038"/>
                </a:moveTo>
                <a:lnTo>
                  <a:pt x="2758604" y="859594"/>
                </a:lnTo>
                <a:lnTo>
                  <a:pt x="2969233" y="859594"/>
                </a:lnTo>
                <a:lnTo>
                  <a:pt x="2969233" y="592038"/>
                </a:lnTo>
                <a:lnTo>
                  <a:pt x="2758604" y="592038"/>
                </a:lnTo>
                <a:close/>
                <a:moveTo>
                  <a:pt x="2764296" y="261863"/>
                </a:moveTo>
                <a:cubicBezTo>
                  <a:pt x="2718755" y="326380"/>
                  <a:pt x="2659931" y="381409"/>
                  <a:pt x="2587823" y="426950"/>
                </a:cubicBezTo>
                <a:lnTo>
                  <a:pt x="2969233" y="426950"/>
                </a:lnTo>
                <a:lnTo>
                  <a:pt x="2969233" y="261863"/>
                </a:lnTo>
                <a:lnTo>
                  <a:pt x="2764296" y="261863"/>
                </a:lnTo>
                <a:close/>
                <a:moveTo>
                  <a:pt x="1743038" y="199243"/>
                </a:moveTo>
                <a:cubicBezTo>
                  <a:pt x="1632979" y="206833"/>
                  <a:pt x="1574155" y="258068"/>
                  <a:pt x="1566565" y="352945"/>
                </a:cubicBezTo>
                <a:cubicBezTo>
                  <a:pt x="1562770" y="444028"/>
                  <a:pt x="1621594" y="504750"/>
                  <a:pt x="1743038" y="535111"/>
                </a:cubicBezTo>
                <a:cubicBezTo>
                  <a:pt x="1856891" y="504750"/>
                  <a:pt x="1915716" y="445926"/>
                  <a:pt x="1919511" y="358638"/>
                </a:cubicBezTo>
                <a:cubicBezTo>
                  <a:pt x="1915716" y="256170"/>
                  <a:pt x="1856891" y="203038"/>
                  <a:pt x="1743038" y="199243"/>
                </a:cubicBezTo>
                <a:close/>
                <a:moveTo>
                  <a:pt x="392795" y="39848"/>
                </a:moveTo>
                <a:lnTo>
                  <a:pt x="666043" y="39848"/>
                </a:lnTo>
                <a:lnTo>
                  <a:pt x="666043" y="1269466"/>
                </a:lnTo>
                <a:lnTo>
                  <a:pt x="392795" y="1269466"/>
                </a:lnTo>
                <a:lnTo>
                  <a:pt x="392795" y="404180"/>
                </a:lnTo>
                <a:cubicBezTo>
                  <a:pt x="286531" y="480082"/>
                  <a:pt x="155600" y="529418"/>
                  <a:pt x="0" y="552189"/>
                </a:cubicBezTo>
                <a:lnTo>
                  <a:pt x="0" y="398487"/>
                </a:lnTo>
                <a:cubicBezTo>
                  <a:pt x="189756" y="318789"/>
                  <a:pt x="320687" y="199243"/>
                  <a:pt x="392795" y="39848"/>
                </a:cubicBezTo>
                <a:close/>
                <a:moveTo>
                  <a:pt x="1743038" y="22770"/>
                </a:moveTo>
                <a:cubicBezTo>
                  <a:pt x="2020081" y="34156"/>
                  <a:pt x="2169989" y="144214"/>
                  <a:pt x="2192759" y="352945"/>
                </a:cubicBezTo>
                <a:cubicBezTo>
                  <a:pt x="2192759" y="493365"/>
                  <a:pt x="2103574" y="588243"/>
                  <a:pt x="1925203" y="637579"/>
                </a:cubicBezTo>
                <a:cubicBezTo>
                  <a:pt x="2118754" y="679326"/>
                  <a:pt x="2215530" y="779896"/>
                  <a:pt x="2215530" y="939291"/>
                </a:cubicBezTo>
                <a:cubicBezTo>
                  <a:pt x="2211735" y="1174588"/>
                  <a:pt x="2050442" y="1294135"/>
                  <a:pt x="1731652" y="1297930"/>
                </a:cubicBezTo>
                <a:cubicBezTo>
                  <a:pt x="1424248" y="1290340"/>
                  <a:pt x="1266751" y="1174588"/>
                  <a:pt x="1259160" y="950677"/>
                </a:cubicBezTo>
                <a:cubicBezTo>
                  <a:pt x="1266751" y="791282"/>
                  <a:pt x="1357833" y="686916"/>
                  <a:pt x="1532409" y="637579"/>
                </a:cubicBezTo>
                <a:cubicBezTo>
                  <a:pt x="1373014" y="595833"/>
                  <a:pt x="1293316" y="500955"/>
                  <a:pt x="1293316" y="352945"/>
                </a:cubicBezTo>
                <a:cubicBezTo>
                  <a:pt x="1316087" y="144214"/>
                  <a:pt x="1465994" y="34156"/>
                  <a:pt x="1743038" y="22770"/>
                </a:cubicBezTo>
                <a:close/>
                <a:moveTo>
                  <a:pt x="2616287" y="0"/>
                </a:moveTo>
                <a:lnTo>
                  <a:pt x="2872457" y="0"/>
                </a:lnTo>
                <a:cubicBezTo>
                  <a:pt x="2868662" y="11385"/>
                  <a:pt x="2864867" y="24668"/>
                  <a:pt x="2861072" y="39848"/>
                </a:cubicBezTo>
                <a:cubicBezTo>
                  <a:pt x="2853482" y="62619"/>
                  <a:pt x="2847789" y="79697"/>
                  <a:pt x="2843994" y="91082"/>
                </a:cubicBezTo>
                <a:lnTo>
                  <a:pt x="3618198" y="91082"/>
                </a:lnTo>
                <a:lnTo>
                  <a:pt x="3618198" y="261863"/>
                </a:lnTo>
                <a:lnTo>
                  <a:pt x="3231096" y="261863"/>
                </a:lnTo>
                <a:lnTo>
                  <a:pt x="3231096" y="426950"/>
                </a:lnTo>
                <a:lnTo>
                  <a:pt x="3584042" y="426950"/>
                </a:lnTo>
                <a:lnTo>
                  <a:pt x="3584042" y="592038"/>
                </a:lnTo>
                <a:lnTo>
                  <a:pt x="3231096" y="592038"/>
                </a:lnTo>
                <a:lnTo>
                  <a:pt x="3231096" y="859594"/>
                </a:lnTo>
                <a:lnTo>
                  <a:pt x="3663739" y="859594"/>
                </a:lnTo>
                <a:lnTo>
                  <a:pt x="3663739" y="1024681"/>
                </a:lnTo>
                <a:lnTo>
                  <a:pt x="3231096" y="1024681"/>
                </a:lnTo>
                <a:lnTo>
                  <a:pt x="3231096" y="1309315"/>
                </a:lnTo>
                <a:lnTo>
                  <a:pt x="2969233" y="1309315"/>
                </a:lnTo>
                <a:lnTo>
                  <a:pt x="2969233" y="1024681"/>
                </a:lnTo>
                <a:lnTo>
                  <a:pt x="2348731" y="1024681"/>
                </a:lnTo>
                <a:lnTo>
                  <a:pt x="2348731" y="859594"/>
                </a:lnTo>
                <a:lnTo>
                  <a:pt x="2519511" y="859594"/>
                </a:lnTo>
                <a:lnTo>
                  <a:pt x="2519511" y="461106"/>
                </a:lnTo>
                <a:cubicBezTo>
                  <a:pt x="2477765" y="483877"/>
                  <a:pt x="2428429" y="502853"/>
                  <a:pt x="2371502" y="518033"/>
                </a:cubicBezTo>
                <a:lnTo>
                  <a:pt x="2371502" y="364331"/>
                </a:lnTo>
                <a:cubicBezTo>
                  <a:pt x="2492946" y="288429"/>
                  <a:pt x="2574541" y="166985"/>
                  <a:pt x="261628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76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FCC6-FABD-4A72-B299-95BE236DE4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269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1b8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3" descr=""/>
          <p:cNvPicPr/>
          <p:nvPr/>
        </p:nvPicPr>
        <p:blipFill>
          <a:blip r:embed="rId1"/>
          <a:stretch/>
        </p:blipFill>
        <p:spPr>
          <a:xfrm>
            <a:off x="1092240" y="482760"/>
            <a:ext cx="4449600" cy="6019560"/>
          </a:xfrm>
          <a:prstGeom prst="rect">
            <a:avLst/>
          </a:prstGeom>
          <a:ln w="0">
            <a:noFill/>
          </a:ln>
        </p:spPr>
      </p:pic>
      <p:sp>
        <p:nvSpPr>
          <p:cNvPr id="324" name="矩形 14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牛奶有非常多的功效，比如提供能量，使肌肤更有活力，减少疼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19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0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15"/>
          <p:cNvSpPr/>
          <p:nvPr/>
        </p:nvSpPr>
        <p:spPr>
          <a:xfrm>
            <a:off x="6545160" y="1243080"/>
            <a:ext cx="5031000" cy="1581120"/>
          </a:xfrm>
          <a:custGeom>
            <a:avLst/>
            <a:gdLst/>
            <a:ahLst/>
            <a:rect l="l" t="t" r="r" b="b"/>
            <a:pathLst>
              <a:path w="5032050" h="1581448">
                <a:moveTo>
                  <a:pt x="705147" y="937915"/>
                </a:moveTo>
                <a:cubicBezTo>
                  <a:pt x="650379" y="974427"/>
                  <a:pt x="593328" y="1004094"/>
                  <a:pt x="533995" y="1026914"/>
                </a:cubicBezTo>
                <a:cubicBezTo>
                  <a:pt x="616148" y="1036042"/>
                  <a:pt x="711994" y="1056580"/>
                  <a:pt x="821531" y="1088529"/>
                </a:cubicBezTo>
                <a:lnTo>
                  <a:pt x="821531" y="1170682"/>
                </a:lnTo>
                <a:cubicBezTo>
                  <a:pt x="944761" y="1088529"/>
                  <a:pt x="1040606" y="1010940"/>
                  <a:pt x="1109067" y="937915"/>
                </a:cubicBezTo>
                <a:lnTo>
                  <a:pt x="705147" y="937915"/>
                </a:lnTo>
                <a:close/>
                <a:moveTo>
                  <a:pt x="2533054" y="896838"/>
                </a:moveTo>
                <a:cubicBezTo>
                  <a:pt x="2501106" y="924223"/>
                  <a:pt x="2466875" y="947043"/>
                  <a:pt x="2430363" y="965299"/>
                </a:cubicBezTo>
                <a:lnTo>
                  <a:pt x="2539900" y="965299"/>
                </a:lnTo>
                <a:lnTo>
                  <a:pt x="2539900" y="1177528"/>
                </a:lnTo>
                <a:cubicBezTo>
                  <a:pt x="2535336" y="1241425"/>
                  <a:pt x="2565003" y="1271091"/>
                  <a:pt x="2628899" y="1266527"/>
                </a:cubicBezTo>
                <a:lnTo>
                  <a:pt x="2950666" y="1266527"/>
                </a:lnTo>
                <a:lnTo>
                  <a:pt x="2950666" y="1382911"/>
                </a:lnTo>
                <a:cubicBezTo>
                  <a:pt x="3005435" y="1387475"/>
                  <a:pt x="3030537" y="1355527"/>
                  <a:pt x="3025973" y="1287066"/>
                </a:cubicBezTo>
                <a:lnTo>
                  <a:pt x="3025973" y="896838"/>
                </a:lnTo>
                <a:lnTo>
                  <a:pt x="2902743" y="896838"/>
                </a:lnTo>
                <a:cubicBezTo>
                  <a:pt x="2898179" y="978991"/>
                  <a:pt x="2932409" y="1049734"/>
                  <a:pt x="3005435" y="1109067"/>
                </a:cubicBezTo>
                <a:lnTo>
                  <a:pt x="3005435" y="1245989"/>
                </a:lnTo>
                <a:cubicBezTo>
                  <a:pt x="2900461" y="1218605"/>
                  <a:pt x="2829718" y="1172964"/>
                  <a:pt x="2793206" y="1109067"/>
                </a:cubicBezTo>
                <a:cubicBezTo>
                  <a:pt x="2733873" y="1186656"/>
                  <a:pt x="2658566" y="1232297"/>
                  <a:pt x="2567285" y="1245989"/>
                </a:cubicBezTo>
                <a:lnTo>
                  <a:pt x="2567285" y="1109067"/>
                </a:lnTo>
                <a:cubicBezTo>
                  <a:pt x="2640310" y="1040606"/>
                  <a:pt x="2676822" y="969863"/>
                  <a:pt x="2676822" y="896838"/>
                </a:cubicBezTo>
                <a:lnTo>
                  <a:pt x="2533054" y="896838"/>
                </a:lnTo>
                <a:close/>
                <a:moveTo>
                  <a:pt x="2580977" y="424458"/>
                </a:moveTo>
                <a:lnTo>
                  <a:pt x="2580977" y="492919"/>
                </a:lnTo>
                <a:lnTo>
                  <a:pt x="2902743" y="492919"/>
                </a:lnTo>
                <a:cubicBezTo>
                  <a:pt x="2952948" y="492919"/>
                  <a:pt x="2980332" y="470098"/>
                  <a:pt x="2984897" y="424458"/>
                </a:cubicBezTo>
                <a:lnTo>
                  <a:pt x="2580977" y="424458"/>
                </a:lnTo>
                <a:close/>
                <a:moveTo>
                  <a:pt x="3772197" y="376535"/>
                </a:moveTo>
                <a:lnTo>
                  <a:pt x="3772197" y="718840"/>
                </a:lnTo>
                <a:cubicBezTo>
                  <a:pt x="3772197" y="864890"/>
                  <a:pt x="3785889" y="972145"/>
                  <a:pt x="3813274" y="1040606"/>
                </a:cubicBezTo>
                <a:cubicBezTo>
                  <a:pt x="3840658" y="972145"/>
                  <a:pt x="3854351" y="864890"/>
                  <a:pt x="3854351" y="718840"/>
                </a:cubicBezTo>
                <a:lnTo>
                  <a:pt x="3854351" y="376535"/>
                </a:lnTo>
                <a:lnTo>
                  <a:pt x="3772197" y="376535"/>
                </a:lnTo>
                <a:close/>
                <a:moveTo>
                  <a:pt x="575072" y="273844"/>
                </a:moveTo>
                <a:cubicBezTo>
                  <a:pt x="533995" y="301228"/>
                  <a:pt x="486072" y="326330"/>
                  <a:pt x="431304" y="349151"/>
                </a:cubicBezTo>
                <a:cubicBezTo>
                  <a:pt x="531713" y="353715"/>
                  <a:pt x="636686" y="374253"/>
                  <a:pt x="746224" y="410765"/>
                </a:cubicBezTo>
                <a:lnTo>
                  <a:pt x="746224" y="465534"/>
                </a:lnTo>
                <a:cubicBezTo>
                  <a:pt x="855761" y="415330"/>
                  <a:pt x="956171" y="351433"/>
                  <a:pt x="1047452" y="273844"/>
                </a:cubicBezTo>
                <a:lnTo>
                  <a:pt x="575072" y="273844"/>
                </a:lnTo>
                <a:close/>
                <a:moveTo>
                  <a:pt x="1978521" y="266998"/>
                </a:moveTo>
                <a:lnTo>
                  <a:pt x="1978521" y="1273373"/>
                </a:lnTo>
                <a:lnTo>
                  <a:pt x="1999059" y="1273373"/>
                </a:lnTo>
                <a:cubicBezTo>
                  <a:pt x="2035571" y="1277937"/>
                  <a:pt x="2051545" y="1259681"/>
                  <a:pt x="2046981" y="1218605"/>
                </a:cubicBezTo>
                <a:lnTo>
                  <a:pt x="2046981" y="266998"/>
                </a:lnTo>
                <a:lnTo>
                  <a:pt x="1978521" y="266998"/>
                </a:lnTo>
                <a:close/>
                <a:moveTo>
                  <a:pt x="2580977" y="212229"/>
                </a:moveTo>
                <a:lnTo>
                  <a:pt x="2580977" y="280690"/>
                </a:lnTo>
                <a:lnTo>
                  <a:pt x="2984897" y="280690"/>
                </a:lnTo>
                <a:lnTo>
                  <a:pt x="2984897" y="212229"/>
                </a:lnTo>
                <a:lnTo>
                  <a:pt x="2580977" y="212229"/>
                </a:lnTo>
                <a:close/>
                <a:moveTo>
                  <a:pt x="1773138" y="82153"/>
                </a:moveTo>
                <a:lnTo>
                  <a:pt x="2245518" y="82153"/>
                </a:lnTo>
                <a:lnTo>
                  <a:pt x="2245518" y="1239143"/>
                </a:lnTo>
                <a:cubicBezTo>
                  <a:pt x="2254647" y="1380629"/>
                  <a:pt x="2183903" y="1446808"/>
                  <a:pt x="2033289" y="1437680"/>
                </a:cubicBezTo>
                <a:lnTo>
                  <a:pt x="1773138" y="1437680"/>
                </a:lnTo>
                <a:lnTo>
                  <a:pt x="1773138" y="82153"/>
                </a:lnTo>
                <a:close/>
                <a:moveTo>
                  <a:pt x="4148733" y="68461"/>
                </a:moveTo>
                <a:lnTo>
                  <a:pt x="4949725" y="68461"/>
                </a:lnTo>
                <a:lnTo>
                  <a:pt x="4949725" y="266998"/>
                </a:lnTo>
                <a:cubicBezTo>
                  <a:pt x="4908649" y="381099"/>
                  <a:pt x="4858445" y="474662"/>
                  <a:pt x="4799111" y="547687"/>
                </a:cubicBezTo>
                <a:lnTo>
                  <a:pt x="5031879" y="547687"/>
                </a:lnTo>
                <a:lnTo>
                  <a:pt x="5031879" y="1300758"/>
                </a:lnTo>
                <a:cubicBezTo>
                  <a:pt x="5036443" y="1465064"/>
                  <a:pt x="4949725" y="1544935"/>
                  <a:pt x="4771727" y="1540371"/>
                </a:cubicBezTo>
                <a:lnTo>
                  <a:pt x="4545806" y="1540371"/>
                </a:lnTo>
                <a:lnTo>
                  <a:pt x="4545806" y="1362373"/>
                </a:lnTo>
                <a:lnTo>
                  <a:pt x="4648497" y="1362373"/>
                </a:lnTo>
                <a:cubicBezTo>
                  <a:pt x="4721523" y="1366937"/>
                  <a:pt x="4755753" y="1330424"/>
                  <a:pt x="4751189" y="1252835"/>
                </a:cubicBezTo>
                <a:lnTo>
                  <a:pt x="4751189" y="746224"/>
                </a:lnTo>
                <a:lnTo>
                  <a:pt x="4532113" y="746224"/>
                </a:lnTo>
                <a:lnTo>
                  <a:pt x="4532113" y="547687"/>
                </a:lnTo>
                <a:cubicBezTo>
                  <a:pt x="4586883" y="460970"/>
                  <a:pt x="4625677" y="367407"/>
                  <a:pt x="4648497" y="266998"/>
                </a:cubicBezTo>
                <a:lnTo>
                  <a:pt x="4477345" y="266998"/>
                </a:lnTo>
                <a:cubicBezTo>
                  <a:pt x="4481909" y="650379"/>
                  <a:pt x="4459089" y="928787"/>
                  <a:pt x="4408884" y="1102221"/>
                </a:cubicBezTo>
                <a:cubicBezTo>
                  <a:pt x="4367807" y="1275655"/>
                  <a:pt x="4269680" y="1435398"/>
                  <a:pt x="4114502" y="1581448"/>
                </a:cubicBezTo>
                <a:lnTo>
                  <a:pt x="4114502" y="1328142"/>
                </a:lnTo>
                <a:cubicBezTo>
                  <a:pt x="4164707" y="1204912"/>
                  <a:pt x="4194373" y="1070273"/>
                  <a:pt x="4203501" y="924223"/>
                </a:cubicBezTo>
                <a:cubicBezTo>
                  <a:pt x="4221757" y="787301"/>
                  <a:pt x="4226321" y="568226"/>
                  <a:pt x="4217193" y="266998"/>
                </a:cubicBezTo>
                <a:lnTo>
                  <a:pt x="4148733" y="266998"/>
                </a:lnTo>
                <a:lnTo>
                  <a:pt x="4148733" y="68461"/>
                </a:lnTo>
                <a:close/>
                <a:moveTo>
                  <a:pt x="2334517" y="41076"/>
                </a:moveTo>
                <a:lnTo>
                  <a:pt x="3231356" y="41076"/>
                </a:lnTo>
                <a:lnTo>
                  <a:pt x="3231356" y="410765"/>
                </a:lnTo>
                <a:cubicBezTo>
                  <a:pt x="3240484" y="588764"/>
                  <a:pt x="3158331" y="673199"/>
                  <a:pt x="2984897" y="664071"/>
                </a:cubicBezTo>
                <a:lnTo>
                  <a:pt x="2697361" y="664071"/>
                </a:lnTo>
                <a:cubicBezTo>
                  <a:pt x="2692796" y="673199"/>
                  <a:pt x="2685950" y="686891"/>
                  <a:pt x="2676822" y="705148"/>
                </a:cubicBezTo>
                <a:cubicBezTo>
                  <a:pt x="2672258" y="709712"/>
                  <a:pt x="2669976" y="714276"/>
                  <a:pt x="2669976" y="718840"/>
                </a:cubicBezTo>
                <a:lnTo>
                  <a:pt x="3286125" y="718840"/>
                </a:lnTo>
                <a:lnTo>
                  <a:pt x="3286125" y="1307604"/>
                </a:lnTo>
                <a:cubicBezTo>
                  <a:pt x="3290689" y="1476474"/>
                  <a:pt x="3208536" y="1558627"/>
                  <a:pt x="3039665" y="1554063"/>
                </a:cubicBezTo>
                <a:lnTo>
                  <a:pt x="2868513" y="1554063"/>
                </a:lnTo>
                <a:lnTo>
                  <a:pt x="2868513" y="1437680"/>
                </a:lnTo>
                <a:lnTo>
                  <a:pt x="2512516" y="1437680"/>
                </a:lnTo>
                <a:cubicBezTo>
                  <a:pt x="2371030" y="1442244"/>
                  <a:pt x="2302569" y="1373783"/>
                  <a:pt x="2307133" y="1232297"/>
                </a:cubicBezTo>
                <a:lnTo>
                  <a:pt x="2307133" y="1020068"/>
                </a:lnTo>
                <a:cubicBezTo>
                  <a:pt x="2293441" y="1029196"/>
                  <a:pt x="2279749" y="1033760"/>
                  <a:pt x="2266057" y="1033760"/>
                </a:cubicBezTo>
                <a:lnTo>
                  <a:pt x="2266057" y="876300"/>
                </a:lnTo>
                <a:cubicBezTo>
                  <a:pt x="2357338" y="803275"/>
                  <a:pt x="2414389" y="732532"/>
                  <a:pt x="2437209" y="664071"/>
                </a:cubicBezTo>
                <a:lnTo>
                  <a:pt x="2334517" y="664071"/>
                </a:lnTo>
                <a:lnTo>
                  <a:pt x="2334517" y="41076"/>
                </a:lnTo>
                <a:close/>
                <a:moveTo>
                  <a:pt x="3539430" y="0"/>
                </a:moveTo>
                <a:lnTo>
                  <a:pt x="3772197" y="0"/>
                </a:lnTo>
                <a:lnTo>
                  <a:pt x="3772197" y="184844"/>
                </a:lnTo>
                <a:lnTo>
                  <a:pt x="3854351" y="184844"/>
                </a:lnTo>
                <a:lnTo>
                  <a:pt x="3854351" y="0"/>
                </a:lnTo>
                <a:lnTo>
                  <a:pt x="4087117" y="0"/>
                </a:lnTo>
                <a:lnTo>
                  <a:pt x="4087117" y="184844"/>
                </a:lnTo>
                <a:lnTo>
                  <a:pt x="4135040" y="184844"/>
                </a:lnTo>
                <a:lnTo>
                  <a:pt x="4135040" y="376535"/>
                </a:lnTo>
                <a:lnTo>
                  <a:pt x="4087117" y="376535"/>
                </a:lnTo>
                <a:lnTo>
                  <a:pt x="4087117" y="711994"/>
                </a:lnTo>
                <a:cubicBezTo>
                  <a:pt x="4091682" y="944761"/>
                  <a:pt x="4041477" y="1125041"/>
                  <a:pt x="3936503" y="1252835"/>
                </a:cubicBezTo>
                <a:cubicBezTo>
                  <a:pt x="3977580" y="1293912"/>
                  <a:pt x="4025503" y="1337270"/>
                  <a:pt x="4080271" y="1382911"/>
                </a:cubicBezTo>
                <a:lnTo>
                  <a:pt x="4080271" y="1560909"/>
                </a:lnTo>
                <a:cubicBezTo>
                  <a:pt x="3970734" y="1492448"/>
                  <a:pt x="3879453" y="1433116"/>
                  <a:pt x="3806427" y="1382911"/>
                </a:cubicBezTo>
                <a:cubicBezTo>
                  <a:pt x="3706018" y="1451372"/>
                  <a:pt x="3605609" y="1510705"/>
                  <a:pt x="3505199" y="1560909"/>
                </a:cubicBezTo>
                <a:lnTo>
                  <a:pt x="3505199" y="1382911"/>
                </a:lnTo>
                <a:cubicBezTo>
                  <a:pt x="3578225" y="1332706"/>
                  <a:pt x="3635275" y="1287066"/>
                  <a:pt x="3676352" y="1245989"/>
                </a:cubicBezTo>
                <a:cubicBezTo>
                  <a:pt x="3580507" y="1122759"/>
                  <a:pt x="3534866" y="949325"/>
                  <a:pt x="3539430" y="725686"/>
                </a:cubicBezTo>
                <a:lnTo>
                  <a:pt x="3539430" y="376535"/>
                </a:lnTo>
                <a:lnTo>
                  <a:pt x="3477815" y="376535"/>
                </a:lnTo>
                <a:lnTo>
                  <a:pt x="3477815" y="184844"/>
                </a:lnTo>
                <a:lnTo>
                  <a:pt x="3539430" y="184844"/>
                </a:lnTo>
                <a:lnTo>
                  <a:pt x="3539430" y="0"/>
                </a:lnTo>
                <a:close/>
                <a:moveTo>
                  <a:pt x="479226" y="0"/>
                </a:moveTo>
                <a:lnTo>
                  <a:pt x="814685" y="0"/>
                </a:lnTo>
                <a:cubicBezTo>
                  <a:pt x="800993" y="27384"/>
                  <a:pt x="785019" y="52487"/>
                  <a:pt x="766762" y="75307"/>
                </a:cubicBezTo>
                <a:lnTo>
                  <a:pt x="1437679" y="75307"/>
                </a:lnTo>
                <a:lnTo>
                  <a:pt x="1437679" y="266998"/>
                </a:lnTo>
                <a:cubicBezTo>
                  <a:pt x="1268809" y="454124"/>
                  <a:pt x="1065708" y="591046"/>
                  <a:pt x="828377" y="677763"/>
                </a:cubicBezTo>
                <a:lnTo>
                  <a:pt x="972145" y="677763"/>
                </a:lnTo>
                <a:cubicBezTo>
                  <a:pt x="967581" y="682327"/>
                  <a:pt x="958453" y="693737"/>
                  <a:pt x="944761" y="711994"/>
                </a:cubicBezTo>
                <a:cubicBezTo>
                  <a:pt x="935633" y="725686"/>
                  <a:pt x="926504" y="737096"/>
                  <a:pt x="917376" y="746224"/>
                </a:cubicBezTo>
                <a:lnTo>
                  <a:pt x="1512987" y="746224"/>
                </a:lnTo>
                <a:lnTo>
                  <a:pt x="1512987" y="937915"/>
                </a:lnTo>
                <a:cubicBezTo>
                  <a:pt x="1216322" y="1312168"/>
                  <a:pt x="711994" y="1524397"/>
                  <a:pt x="0" y="1574602"/>
                </a:cubicBezTo>
                <a:lnTo>
                  <a:pt x="0" y="1403449"/>
                </a:lnTo>
                <a:cubicBezTo>
                  <a:pt x="260151" y="1371501"/>
                  <a:pt x="465534" y="1325860"/>
                  <a:pt x="616148" y="1266527"/>
                </a:cubicBezTo>
                <a:cubicBezTo>
                  <a:pt x="547687" y="1239143"/>
                  <a:pt x="454124" y="1218605"/>
                  <a:pt x="335458" y="1204912"/>
                </a:cubicBezTo>
                <a:lnTo>
                  <a:pt x="335458" y="1095375"/>
                </a:lnTo>
                <a:cubicBezTo>
                  <a:pt x="262433" y="1113631"/>
                  <a:pt x="182562" y="1127323"/>
                  <a:pt x="95845" y="1136452"/>
                </a:cubicBezTo>
                <a:lnTo>
                  <a:pt x="95845" y="972145"/>
                </a:lnTo>
                <a:cubicBezTo>
                  <a:pt x="287536" y="926505"/>
                  <a:pt x="440432" y="853480"/>
                  <a:pt x="554533" y="753070"/>
                </a:cubicBezTo>
                <a:cubicBezTo>
                  <a:pt x="399355" y="785019"/>
                  <a:pt x="216793" y="812403"/>
                  <a:pt x="6846" y="835223"/>
                </a:cubicBezTo>
                <a:lnTo>
                  <a:pt x="6846" y="650379"/>
                </a:lnTo>
                <a:cubicBezTo>
                  <a:pt x="134640" y="636687"/>
                  <a:pt x="287536" y="609302"/>
                  <a:pt x="465534" y="568226"/>
                </a:cubicBezTo>
                <a:cubicBezTo>
                  <a:pt x="392509" y="545405"/>
                  <a:pt x="324048" y="531713"/>
                  <a:pt x="260151" y="527149"/>
                </a:cubicBezTo>
                <a:lnTo>
                  <a:pt x="260151" y="410765"/>
                </a:lnTo>
                <a:cubicBezTo>
                  <a:pt x="251023" y="410765"/>
                  <a:pt x="235049" y="413047"/>
                  <a:pt x="212229" y="417612"/>
                </a:cubicBezTo>
                <a:cubicBezTo>
                  <a:pt x="175716" y="426740"/>
                  <a:pt x="114101" y="440432"/>
                  <a:pt x="27384" y="458688"/>
                </a:cubicBezTo>
                <a:lnTo>
                  <a:pt x="27384" y="287536"/>
                </a:lnTo>
                <a:cubicBezTo>
                  <a:pt x="228203" y="237331"/>
                  <a:pt x="378817" y="141486"/>
                  <a:pt x="4792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17"/>
          <p:cNvSpPr/>
          <p:nvPr/>
        </p:nvSpPr>
        <p:spPr>
          <a:xfrm>
            <a:off x="8086680" y="3367080"/>
            <a:ext cx="3614760" cy="1309680"/>
          </a:xfrm>
          <a:custGeom>
            <a:avLst/>
            <a:gdLst/>
            <a:ahLst/>
            <a:rect l="l" t="t" r="r" b="b"/>
            <a:pathLst>
              <a:path w="3614254" h="1309315">
                <a:moveTo>
                  <a:pt x="1034392" y="1013296"/>
                </a:moveTo>
                <a:lnTo>
                  <a:pt x="1307641" y="1013296"/>
                </a:lnTo>
                <a:lnTo>
                  <a:pt x="1307641" y="1280852"/>
                </a:lnTo>
                <a:lnTo>
                  <a:pt x="1034392" y="1280852"/>
                </a:lnTo>
                <a:lnTo>
                  <a:pt x="1034392" y="1013296"/>
                </a:lnTo>
                <a:close/>
                <a:moveTo>
                  <a:pt x="2709118" y="592038"/>
                </a:moveTo>
                <a:lnTo>
                  <a:pt x="2709118" y="859594"/>
                </a:lnTo>
                <a:lnTo>
                  <a:pt x="2919747" y="859594"/>
                </a:lnTo>
                <a:lnTo>
                  <a:pt x="2919747" y="592038"/>
                </a:lnTo>
                <a:lnTo>
                  <a:pt x="2709118" y="592038"/>
                </a:lnTo>
                <a:close/>
                <a:moveTo>
                  <a:pt x="2714811" y="261863"/>
                </a:moveTo>
                <a:cubicBezTo>
                  <a:pt x="2669269" y="326380"/>
                  <a:pt x="2610445" y="381409"/>
                  <a:pt x="2538338" y="426950"/>
                </a:cubicBezTo>
                <a:lnTo>
                  <a:pt x="2919747" y="426950"/>
                </a:lnTo>
                <a:lnTo>
                  <a:pt x="2919747" y="261863"/>
                </a:lnTo>
                <a:lnTo>
                  <a:pt x="2714811" y="261863"/>
                </a:lnTo>
                <a:close/>
                <a:moveTo>
                  <a:pt x="1810159" y="39848"/>
                </a:moveTo>
                <a:lnTo>
                  <a:pt x="2083408" y="39848"/>
                </a:lnTo>
                <a:lnTo>
                  <a:pt x="2083408" y="1269466"/>
                </a:lnTo>
                <a:lnTo>
                  <a:pt x="1810159" y="1269466"/>
                </a:lnTo>
                <a:lnTo>
                  <a:pt x="1810159" y="404180"/>
                </a:lnTo>
                <a:cubicBezTo>
                  <a:pt x="1703896" y="480082"/>
                  <a:pt x="1572964" y="529418"/>
                  <a:pt x="1417364" y="552189"/>
                </a:cubicBezTo>
                <a:lnTo>
                  <a:pt x="1417364" y="398487"/>
                </a:lnTo>
                <a:cubicBezTo>
                  <a:pt x="1607120" y="318789"/>
                  <a:pt x="1738052" y="199243"/>
                  <a:pt x="1810159" y="39848"/>
                </a:cubicBezTo>
                <a:close/>
                <a:moveTo>
                  <a:pt x="483877" y="22770"/>
                </a:moveTo>
                <a:cubicBezTo>
                  <a:pt x="760921" y="30361"/>
                  <a:pt x="905135" y="148009"/>
                  <a:pt x="916521" y="375716"/>
                </a:cubicBezTo>
                <a:cubicBezTo>
                  <a:pt x="927906" y="538906"/>
                  <a:pt x="834926" y="679326"/>
                  <a:pt x="637580" y="796974"/>
                </a:cubicBezTo>
                <a:cubicBezTo>
                  <a:pt x="463004" y="899442"/>
                  <a:pt x="343458" y="1003808"/>
                  <a:pt x="278941" y="1110071"/>
                </a:cubicBezTo>
                <a:lnTo>
                  <a:pt x="910828" y="1110071"/>
                </a:lnTo>
                <a:lnTo>
                  <a:pt x="910828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0" y="967755"/>
                  <a:pt x="204936" y="840618"/>
                  <a:pt x="364331" y="722969"/>
                </a:cubicBezTo>
                <a:cubicBezTo>
                  <a:pt x="561677" y="582550"/>
                  <a:pt x="654658" y="470594"/>
                  <a:pt x="643272" y="387102"/>
                </a:cubicBezTo>
                <a:cubicBezTo>
                  <a:pt x="643272" y="258068"/>
                  <a:pt x="584448" y="195448"/>
                  <a:pt x="466799" y="199243"/>
                </a:cubicBezTo>
                <a:cubicBezTo>
                  <a:pt x="345356" y="203038"/>
                  <a:pt x="275146" y="282736"/>
                  <a:pt x="256170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7" y="22770"/>
                </a:cubicBezTo>
                <a:close/>
                <a:moveTo>
                  <a:pt x="2566801" y="0"/>
                </a:moveTo>
                <a:lnTo>
                  <a:pt x="2822972" y="0"/>
                </a:lnTo>
                <a:cubicBezTo>
                  <a:pt x="2819176" y="11385"/>
                  <a:pt x="2815381" y="24668"/>
                  <a:pt x="2811586" y="39848"/>
                </a:cubicBezTo>
                <a:cubicBezTo>
                  <a:pt x="2803996" y="62619"/>
                  <a:pt x="2798303" y="79697"/>
                  <a:pt x="2794508" y="91082"/>
                </a:cubicBezTo>
                <a:lnTo>
                  <a:pt x="3568712" y="91082"/>
                </a:lnTo>
                <a:lnTo>
                  <a:pt x="3568712" y="261863"/>
                </a:lnTo>
                <a:lnTo>
                  <a:pt x="3181610" y="261863"/>
                </a:lnTo>
                <a:lnTo>
                  <a:pt x="3181610" y="426950"/>
                </a:lnTo>
                <a:lnTo>
                  <a:pt x="3534556" y="426950"/>
                </a:lnTo>
                <a:lnTo>
                  <a:pt x="3534556" y="592038"/>
                </a:lnTo>
                <a:lnTo>
                  <a:pt x="3181610" y="592038"/>
                </a:lnTo>
                <a:lnTo>
                  <a:pt x="3181610" y="859594"/>
                </a:lnTo>
                <a:lnTo>
                  <a:pt x="3614254" y="859594"/>
                </a:lnTo>
                <a:lnTo>
                  <a:pt x="3614254" y="1024681"/>
                </a:lnTo>
                <a:lnTo>
                  <a:pt x="3181610" y="1024681"/>
                </a:lnTo>
                <a:lnTo>
                  <a:pt x="3181610" y="1309315"/>
                </a:lnTo>
                <a:lnTo>
                  <a:pt x="2919747" y="1309315"/>
                </a:lnTo>
                <a:lnTo>
                  <a:pt x="2919747" y="1024681"/>
                </a:lnTo>
                <a:lnTo>
                  <a:pt x="2299246" y="1024681"/>
                </a:lnTo>
                <a:lnTo>
                  <a:pt x="2299246" y="859594"/>
                </a:lnTo>
                <a:lnTo>
                  <a:pt x="2470026" y="859594"/>
                </a:lnTo>
                <a:lnTo>
                  <a:pt x="2470026" y="461106"/>
                </a:lnTo>
                <a:cubicBezTo>
                  <a:pt x="2428279" y="483877"/>
                  <a:pt x="2378943" y="502853"/>
                  <a:pt x="2322016" y="518033"/>
                </a:cubicBezTo>
                <a:lnTo>
                  <a:pt x="2322016" y="364331"/>
                </a:lnTo>
                <a:cubicBezTo>
                  <a:pt x="2443460" y="288429"/>
                  <a:pt x="2525055" y="166985"/>
                  <a:pt x="25668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23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93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61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7"/>
          <p:cNvSpPr/>
          <p:nvPr/>
        </p:nvSpPr>
        <p:spPr>
          <a:xfrm>
            <a:off x="2028960" y="3367080"/>
            <a:ext cx="3781440" cy="1309680"/>
          </a:xfrm>
          <a:custGeom>
            <a:avLst/>
            <a:gdLst/>
            <a:ahLst/>
            <a:rect l="l" t="t" r="r" b="b"/>
            <a:pathLst>
              <a:path w="3781983" h="1309315">
                <a:moveTo>
                  <a:pt x="1049722" y="1013296"/>
                </a:moveTo>
                <a:lnTo>
                  <a:pt x="1322970" y="1013296"/>
                </a:lnTo>
                <a:lnTo>
                  <a:pt x="1322970" y="1280852"/>
                </a:lnTo>
                <a:lnTo>
                  <a:pt x="1049722" y="1280852"/>
                </a:lnTo>
                <a:lnTo>
                  <a:pt x="1049722" y="1013296"/>
                </a:lnTo>
                <a:close/>
                <a:moveTo>
                  <a:pt x="2876847" y="592038"/>
                </a:moveTo>
                <a:lnTo>
                  <a:pt x="2876847" y="859594"/>
                </a:lnTo>
                <a:lnTo>
                  <a:pt x="3087476" y="859594"/>
                </a:lnTo>
                <a:lnTo>
                  <a:pt x="3087476" y="592038"/>
                </a:lnTo>
                <a:lnTo>
                  <a:pt x="2876847" y="592038"/>
                </a:lnTo>
                <a:close/>
                <a:moveTo>
                  <a:pt x="2882540" y="261863"/>
                </a:moveTo>
                <a:cubicBezTo>
                  <a:pt x="2836998" y="326380"/>
                  <a:pt x="2778174" y="381409"/>
                  <a:pt x="2706067" y="426950"/>
                </a:cubicBezTo>
                <a:lnTo>
                  <a:pt x="3087476" y="426950"/>
                </a:lnTo>
                <a:lnTo>
                  <a:pt x="3087476" y="261863"/>
                </a:lnTo>
                <a:lnTo>
                  <a:pt x="2882540" y="261863"/>
                </a:lnTo>
                <a:close/>
                <a:moveTo>
                  <a:pt x="1438386" y="56926"/>
                </a:moveTo>
                <a:lnTo>
                  <a:pt x="2343522" y="56926"/>
                </a:lnTo>
                <a:lnTo>
                  <a:pt x="2343522" y="233399"/>
                </a:lnTo>
                <a:cubicBezTo>
                  <a:pt x="2081659" y="593935"/>
                  <a:pt x="1939342" y="939291"/>
                  <a:pt x="1916571" y="1269466"/>
                </a:cubicBezTo>
                <a:lnTo>
                  <a:pt x="1643323" y="1269466"/>
                </a:lnTo>
                <a:cubicBezTo>
                  <a:pt x="1677479" y="924111"/>
                  <a:pt x="1819796" y="578755"/>
                  <a:pt x="2070273" y="233399"/>
                </a:cubicBezTo>
                <a:lnTo>
                  <a:pt x="1438386" y="233399"/>
                </a:lnTo>
                <a:lnTo>
                  <a:pt x="1438386" y="56926"/>
                </a:lnTo>
                <a:close/>
                <a:moveTo>
                  <a:pt x="461106" y="22770"/>
                </a:moveTo>
                <a:cubicBezTo>
                  <a:pt x="741945" y="30361"/>
                  <a:pt x="886160" y="136624"/>
                  <a:pt x="893750" y="341560"/>
                </a:cubicBezTo>
                <a:cubicBezTo>
                  <a:pt x="897545" y="497160"/>
                  <a:pt x="812155" y="593935"/>
                  <a:pt x="637579" y="631887"/>
                </a:cubicBezTo>
                <a:cubicBezTo>
                  <a:pt x="823540" y="666043"/>
                  <a:pt x="920316" y="764716"/>
                  <a:pt x="927906" y="927906"/>
                </a:cubicBezTo>
                <a:cubicBezTo>
                  <a:pt x="927906" y="1170793"/>
                  <a:pt x="776101" y="1292237"/>
                  <a:pt x="472492" y="1292237"/>
                </a:cubicBezTo>
                <a:cubicBezTo>
                  <a:pt x="286531" y="1296032"/>
                  <a:pt x="138521" y="1241003"/>
                  <a:pt x="28463" y="1127149"/>
                </a:cubicBezTo>
                <a:lnTo>
                  <a:pt x="28463" y="927906"/>
                </a:lnTo>
                <a:cubicBezTo>
                  <a:pt x="138521" y="1056940"/>
                  <a:pt x="265658" y="1121457"/>
                  <a:pt x="409872" y="1121457"/>
                </a:cubicBezTo>
                <a:cubicBezTo>
                  <a:pt x="565472" y="1117662"/>
                  <a:pt x="645170" y="1053145"/>
                  <a:pt x="648965" y="927906"/>
                </a:cubicBezTo>
                <a:cubicBezTo>
                  <a:pt x="648965" y="810257"/>
                  <a:pt x="559779" y="751433"/>
                  <a:pt x="381409" y="751433"/>
                </a:cubicBezTo>
                <a:lnTo>
                  <a:pt x="267555" y="751433"/>
                </a:lnTo>
                <a:lnTo>
                  <a:pt x="267555" y="540804"/>
                </a:lnTo>
                <a:lnTo>
                  <a:pt x="375716" y="540804"/>
                </a:lnTo>
                <a:cubicBezTo>
                  <a:pt x="542701" y="540804"/>
                  <a:pt x="626194" y="481980"/>
                  <a:pt x="626194" y="364331"/>
                </a:cubicBezTo>
                <a:cubicBezTo>
                  <a:pt x="622399" y="258068"/>
                  <a:pt x="565472" y="203038"/>
                  <a:pt x="455414" y="199243"/>
                </a:cubicBezTo>
                <a:cubicBezTo>
                  <a:pt x="337765" y="203038"/>
                  <a:pt x="271351" y="263760"/>
                  <a:pt x="256170" y="381409"/>
                </a:cubicBezTo>
                <a:lnTo>
                  <a:pt x="0" y="381409"/>
                </a:lnTo>
                <a:cubicBezTo>
                  <a:pt x="49336" y="146112"/>
                  <a:pt x="203038" y="26565"/>
                  <a:pt x="461106" y="22770"/>
                </a:cubicBezTo>
                <a:close/>
                <a:moveTo>
                  <a:pt x="2734530" y="0"/>
                </a:moveTo>
                <a:lnTo>
                  <a:pt x="2990701" y="0"/>
                </a:lnTo>
                <a:cubicBezTo>
                  <a:pt x="2986906" y="11385"/>
                  <a:pt x="2983110" y="24668"/>
                  <a:pt x="2979315" y="39848"/>
                </a:cubicBezTo>
                <a:cubicBezTo>
                  <a:pt x="2971725" y="62619"/>
                  <a:pt x="2966032" y="79697"/>
                  <a:pt x="2962237" y="91082"/>
                </a:cubicBezTo>
                <a:lnTo>
                  <a:pt x="3736441" y="91082"/>
                </a:lnTo>
                <a:lnTo>
                  <a:pt x="3736441" y="261863"/>
                </a:lnTo>
                <a:lnTo>
                  <a:pt x="3349339" y="261863"/>
                </a:lnTo>
                <a:lnTo>
                  <a:pt x="3349339" y="426950"/>
                </a:lnTo>
                <a:lnTo>
                  <a:pt x="3702285" y="426950"/>
                </a:lnTo>
                <a:lnTo>
                  <a:pt x="3702285" y="592038"/>
                </a:lnTo>
                <a:lnTo>
                  <a:pt x="3349339" y="592038"/>
                </a:lnTo>
                <a:lnTo>
                  <a:pt x="3349339" y="859594"/>
                </a:lnTo>
                <a:lnTo>
                  <a:pt x="3781983" y="859594"/>
                </a:lnTo>
                <a:lnTo>
                  <a:pt x="3781983" y="1024681"/>
                </a:lnTo>
                <a:lnTo>
                  <a:pt x="3349339" y="1024681"/>
                </a:lnTo>
                <a:lnTo>
                  <a:pt x="3349339" y="1309315"/>
                </a:lnTo>
                <a:lnTo>
                  <a:pt x="3087476" y="1309315"/>
                </a:lnTo>
                <a:lnTo>
                  <a:pt x="3087476" y="1024681"/>
                </a:lnTo>
                <a:lnTo>
                  <a:pt x="2466975" y="1024681"/>
                </a:lnTo>
                <a:lnTo>
                  <a:pt x="2466975" y="859594"/>
                </a:lnTo>
                <a:lnTo>
                  <a:pt x="2637755" y="859594"/>
                </a:lnTo>
                <a:lnTo>
                  <a:pt x="2637755" y="461106"/>
                </a:lnTo>
                <a:cubicBezTo>
                  <a:pt x="2596008" y="483877"/>
                  <a:pt x="2546672" y="502853"/>
                  <a:pt x="2489745" y="518033"/>
                </a:cubicBezTo>
                <a:lnTo>
                  <a:pt x="2489745" y="364331"/>
                </a:lnTo>
                <a:cubicBezTo>
                  <a:pt x="2611189" y="288429"/>
                  <a:pt x="2692784" y="166985"/>
                  <a:pt x="2734530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2"/>
          <p:cNvSpPr/>
          <p:nvPr/>
        </p:nvSpPr>
        <p:spPr>
          <a:xfrm>
            <a:off x="525600" y="1228680"/>
            <a:ext cx="5086080" cy="1595520"/>
          </a:xfrm>
          <a:custGeom>
            <a:avLst/>
            <a:gdLst/>
            <a:ahLst/>
            <a:rect l="l" t="t" r="r" b="b"/>
            <a:pathLst>
              <a:path w="5086648" h="1595140">
                <a:moveTo>
                  <a:pt x="4066580" y="800993"/>
                </a:moveTo>
                <a:lnTo>
                  <a:pt x="4285655" y="800993"/>
                </a:lnTo>
                <a:cubicBezTo>
                  <a:pt x="4331296" y="951607"/>
                  <a:pt x="4363244" y="1102221"/>
                  <a:pt x="4381500" y="1252835"/>
                </a:cubicBezTo>
                <a:lnTo>
                  <a:pt x="4141887" y="1252835"/>
                </a:lnTo>
                <a:cubicBezTo>
                  <a:pt x="4132759" y="1111349"/>
                  <a:pt x="4107657" y="960735"/>
                  <a:pt x="4066580" y="800993"/>
                </a:cubicBezTo>
                <a:close/>
                <a:moveTo>
                  <a:pt x="4771728" y="780454"/>
                </a:moveTo>
                <a:lnTo>
                  <a:pt x="5025033" y="780454"/>
                </a:lnTo>
                <a:cubicBezTo>
                  <a:pt x="4997649" y="972145"/>
                  <a:pt x="4940598" y="1161554"/>
                  <a:pt x="4853881" y="1348680"/>
                </a:cubicBezTo>
                <a:lnTo>
                  <a:pt x="5059264" y="1348680"/>
                </a:lnTo>
                <a:lnTo>
                  <a:pt x="5059264" y="1526679"/>
                </a:lnTo>
                <a:lnTo>
                  <a:pt x="4025503" y="1526679"/>
                </a:lnTo>
                <a:lnTo>
                  <a:pt x="4025503" y="1348680"/>
                </a:lnTo>
                <a:lnTo>
                  <a:pt x="4627960" y="1348680"/>
                </a:lnTo>
                <a:cubicBezTo>
                  <a:pt x="4632524" y="1339552"/>
                  <a:pt x="4637088" y="1325860"/>
                  <a:pt x="4641652" y="1307604"/>
                </a:cubicBezTo>
                <a:cubicBezTo>
                  <a:pt x="4650780" y="1280219"/>
                  <a:pt x="4657626" y="1261963"/>
                  <a:pt x="4662190" y="1252835"/>
                </a:cubicBezTo>
                <a:lnTo>
                  <a:pt x="4456807" y="1252835"/>
                </a:lnTo>
                <a:cubicBezTo>
                  <a:pt x="4447679" y="1106785"/>
                  <a:pt x="4424859" y="956171"/>
                  <a:pt x="4388346" y="800993"/>
                </a:cubicBezTo>
                <a:lnTo>
                  <a:pt x="4600575" y="800993"/>
                </a:lnTo>
                <a:cubicBezTo>
                  <a:pt x="4641652" y="933351"/>
                  <a:pt x="4669036" y="1061144"/>
                  <a:pt x="4682728" y="1184374"/>
                </a:cubicBezTo>
                <a:cubicBezTo>
                  <a:pt x="4728369" y="1033760"/>
                  <a:pt x="4758035" y="899120"/>
                  <a:pt x="4771728" y="780454"/>
                </a:cubicBezTo>
                <a:close/>
                <a:moveTo>
                  <a:pt x="595610" y="670917"/>
                </a:moveTo>
                <a:lnTo>
                  <a:pt x="595610" y="746224"/>
                </a:lnTo>
                <a:lnTo>
                  <a:pt x="629841" y="746224"/>
                </a:lnTo>
                <a:cubicBezTo>
                  <a:pt x="675482" y="750788"/>
                  <a:pt x="696020" y="732532"/>
                  <a:pt x="691456" y="691455"/>
                </a:cubicBezTo>
                <a:lnTo>
                  <a:pt x="691456" y="670917"/>
                </a:lnTo>
                <a:lnTo>
                  <a:pt x="595610" y="670917"/>
                </a:lnTo>
                <a:close/>
                <a:moveTo>
                  <a:pt x="266998" y="670917"/>
                </a:moveTo>
                <a:lnTo>
                  <a:pt x="266998" y="746224"/>
                </a:lnTo>
                <a:lnTo>
                  <a:pt x="362843" y="746224"/>
                </a:lnTo>
                <a:lnTo>
                  <a:pt x="362843" y="670917"/>
                </a:lnTo>
                <a:lnTo>
                  <a:pt x="266998" y="670917"/>
                </a:lnTo>
                <a:close/>
                <a:moveTo>
                  <a:pt x="2902744" y="417611"/>
                </a:moveTo>
                <a:lnTo>
                  <a:pt x="2902744" y="1109067"/>
                </a:lnTo>
                <a:lnTo>
                  <a:pt x="3060204" y="1109067"/>
                </a:lnTo>
                <a:cubicBezTo>
                  <a:pt x="2978051" y="967581"/>
                  <a:pt x="2939256" y="737096"/>
                  <a:pt x="2943821" y="417611"/>
                </a:cubicBezTo>
                <a:lnTo>
                  <a:pt x="2902744" y="417611"/>
                </a:lnTo>
                <a:close/>
                <a:moveTo>
                  <a:pt x="2587824" y="417611"/>
                </a:moveTo>
                <a:cubicBezTo>
                  <a:pt x="2583259" y="723404"/>
                  <a:pt x="2542183" y="953889"/>
                  <a:pt x="2464594" y="1109067"/>
                </a:cubicBezTo>
                <a:lnTo>
                  <a:pt x="2622054" y="1109067"/>
                </a:lnTo>
                <a:lnTo>
                  <a:pt x="2622054" y="417611"/>
                </a:lnTo>
                <a:lnTo>
                  <a:pt x="2587824" y="417611"/>
                </a:lnTo>
                <a:close/>
                <a:moveTo>
                  <a:pt x="4552653" y="301228"/>
                </a:moveTo>
                <a:cubicBezTo>
                  <a:pt x="4475064" y="383381"/>
                  <a:pt x="4381500" y="454124"/>
                  <a:pt x="4271963" y="513457"/>
                </a:cubicBezTo>
                <a:lnTo>
                  <a:pt x="4833343" y="513457"/>
                </a:lnTo>
                <a:cubicBezTo>
                  <a:pt x="4728369" y="454124"/>
                  <a:pt x="4634806" y="383381"/>
                  <a:pt x="4552653" y="301228"/>
                </a:cubicBezTo>
                <a:close/>
                <a:moveTo>
                  <a:pt x="814685" y="260151"/>
                </a:moveTo>
                <a:lnTo>
                  <a:pt x="814685" y="273843"/>
                </a:lnTo>
                <a:cubicBezTo>
                  <a:pt x="823813" y="415329"/>
                  <a:pt x="755353" y="481508"/>
                  <a:pt x="609303" y="472380"/>
                </a:cubicBezTo>
                <a:lnTo>
                  <a:pt x="595610" y="472380"/>
                </a:lnTo>
                <a:lnTo>
                  <a:pt x="595610" y="520303"/>
                </a:lnTo>
                <a:lnTo>
                  <a:pt x="903685" y="520303"/>
                </a:lnTo>
                <a:lnTo>
                  <a:pt x="903685" y="711993"/>
                </a:lnTo>
                <a:cubicBezTo>
                  <a:pt x="908249" y="839787"/>
                  <a:pt x="842070" y="901402"/>
                  <a:pt x="705148" y="896838"/>
                </a:cubicBezTo>
                <a:lnTo>
                  <a:pt x="595610" y="896838"/>
                </a:lnTo>
                <a:lnTo>
                  <a:pt x="595610" y="944761"/>
                </a:lnTo>
                <a:lnTo>
                  <a:pt x="903685" y="944761"/>
                </a:lnTo>
                <a:lnTo>
                  <a:pt x="903685" y="1102221"/>
                </a:lnTo>
                <a:lnTo>
                  <a:pt x="595610" y="1102221"/>
                </a:lnTo>
                <a:lnTo>
                  <a:pt x="595610" y="1163836"/>
                </a:lnTo>
                <a:lnTo>
                  <a:pt x="883146" y="1163836"/>
                </a:lnTo>
                <a:lnTo>
                  <a:pt x="883146" y="1300758"/>
                </a:lnTo>
                <a:lnTo>
                  <a:pt x="595610" y="1300758"/>
                </a:lnTo>
                <a:lnTo>
                  <a:pt x="595610" y="1355526"/>
                </a:lnTo>
                <a:cubicBezTo>
                  <a:pt x="691456" y="1355526"/>
                  <a:pt x="789583" y="1348680"/>
                  <a:pt x="889993" y="1334988"/>
                </a:cubicBezTo>
                <a:cubicBezTo>
                  <a:pt x="931069" y="1234579"/>
                  <a:pt x="958453" y="1129605"/>
                  <a:pt x="972146" y="1020068"/>
                </a:cubicBezTo>
                <a:cubicBezTo>
                  <a:pt x="985838" y="924222"/>
                  <a:pt x="992684" y="759916"/>
                  <a:pt x="992684" y="527149"/>
                </a:cubicBezTo>
                <a:lnTo>
                  <a:pt x="992684" y="417611"/>
                </a:lnTo>
                <a:lnTo>
                  <a:pt x="910531" y="417611"/>
                </a:lnTo>
                <a:lnTo>
                  <a:pt x="910531" y="260151"/>
                </a:lnTo>
                <a:lnTo>
                  <a:pt x="814685" y="260151"/>
                </a:lnTo>
                <a:close/>
                <a:moveTo>
                  <a:pt x="383382" y="260151"/>
                </a:moveTo>
                <a:lnTo>
                  <a:pt x="383382" y="321766"/>
                </a:lnTo>
                <a:lnTo>
                  <a:pt x="506611" y="321766"/>
                </a:lnTo>
                <a:cubicBezTo>
                  <a:pt x="556816" y="326330"/>
                  <a:pt x="579636" y="305792"/>
                  <a:pt x="575072" y="260151"/>
                </a:cubicBezTo>
                <a:lnTo>
                  <a:pt x="383382" y="260151"/>
                </a:lnTo>
                <a:close/>
                <a:moveTo>
                  <a:pt x="2622054" y="13692"/>
                </a:moveTo>
                <a:lnTo>
                  <a:pt x="2902744" y="13692"/>
                </a:lnTo>
                <a:lnTo>
                  <a:pt x="2902744" y="225921"/>
                </a:lnTo>
                <a:lnTo>
                  <a:pt x="3286125" y="225921"/>
                </a:lnTo>
                <a:lnTo>
                  <a:pt x="3286125" y="417611"/>
                </a:lnTo>
                <a:lnTo>
                  <a:pt x="3176588" y="417611"/>
                </a:lnTo>
                <a:cubicBezTo>
                  <a:pt x="3167460" y="746224"/>
                  <a:pt x="3215382" y="1010940"/>
                  <a:pt x="3320356" y="1211758"/>
                </a:cubicBezTo>
                <a:lnTo>
                  <a:pt x="3320356" y="1430833"/>
                </a:lnTo>
                <a:cubicBezTo>
                  <a:pt x="3219946" y="1339552"/>
                  <a:pt x="3142357" y="1250553"/>
                  <a:pt x="3087588" y="1163836"/>
                </a:cubicBezTo>
                <a:lnTo>
                  <a:pt x="3087588" y="1287065"/>
                </a:lnTo>
                <a:lnTo>
                  <a:pt x="2902744" y="1287065"/>
                </a:lnTo>
                <a:lnTo>
                  <a:pt x="2902744" y="1581447"/>
                </a:lnTo>
                <a:lnTo>
                  <a:pt x="2622054" y="1581447"/>
                </a:lnTo>
                <a:lnTo>
                  <a:pt x="2622054" y="1287065"/>
                </a:lnTo>
                <a:lnTo>
                  <a:pt x="2430363" y="1287065"/>
                </a:lnTo>
                <a:lnTo>
                  <a:pt x="2430363" y="1170682"/>
                </a:lnTo>
                <a:cubicBezTo>
                  <a:pt x="2375595" y="1266527"/>
                  <a:pt x="2302570" y="1353244"/>
                  <a:pt x="2211288" y="1430833"/>
                </a:cubicBezTo>
                <a:lnTo>
                  <a:pt x="2211288" y="1211758"/>
                </a:lnTo>
                <a:cubicBezTo>
                  <a:pt x="2311698" y="1010940"/>
                  <a:pt x="2357339" y="746224"/>
                  <a:pt x="2348210" y="417611"/>
                </a:cubicBezTo>
                <a:lnTo>
                  <a:pt x="2252365" y="417611"/>
                </a:lnTo>
                <a:lnTo>
                  <a:pt x="2252365" y="225921"/>
                </a:lnTo>
                <a:lnTo>
                  <a:pt x="2622054" y="225921"/>
                </a:lnTo>
                <a:lnTo>
                  <a:pt x="2622054" y="13692"/>
                </a:lnTo>
                <a:close/>
                <a:moveTo>
                  <a:pt x="2019598" y="13692"/>
                </a:moveTo>
                <a:lnTo>
                  <a:pt x="2307134" y="13692"/>
                </a:lnTo>
                <a:cubicBezTo>
                  <a:pt x="2266057" y="187126"/>
                  <a:pt x="2220417" y="319484"/>
                  <a:pt x="2170212" y="410765"/>
                </a:cubicBezTo>
                <a:lnTo>
                  <a:pt x="2170212" y="1581447"/>
                </a:lnTo>
                <a:lnTo>
                  <a:pt x="1896368" y="1581447"/>
                </a:lnTo>
                <a:lnTo>
                  <a:pt x="1896368" y="657225"/>
                </a:lnTo>
                <a:cubicBezTo>
                  <a:pt x="1878112" y="661789"/>
                  <a:pt x="1846163" y="670917"/>
                  <a:pt x="1800523" y="684609"/>
                </a:cubicBezTo>
                <a:cubicBezTo>
                  <a:pt x="1777702" y="689173"/>
                  <a:pt x="1761729" y="693737"/>
                  <a:pt x="1752600" y="698301"/>
                </a:cubicBezTo>
                <a:lnTo>
                  <a:pt x="1752600" y="527149"/>
                </a:lnTo>
                <a:cubicBezTo>
                  <a:pt x="1880394" y="444996"/>
                  <a:pt x="1969393" y="273843"/>
                  <a:pt x="2019598" y="13692"/>
                </a:cubicBezTo>
                <a:close/>
                <a:moveTo>
                  <a:pt x="4395193" y="6846"/>
                </a:moveTo>
                <a:lnTo>
                  <a:pt x="4703267" y="6846"/>
                </a:lnTo>
                <a:cubicBezTo>
                  <a:pt x="4789984" y="203100"/>
                  <a:pt x="4917777" y="351432"/>
                  <a:pt x="5086648" y="451842"/>
                </a:cubicBezTo>
                <a:lnTo>
                  <a:pt x="5086648" y="629840"/>
                </a:lnTo>
                <a:cubicBezTo>
                  <a:pt x="5027315" y="611584"/>
                  <a:pt x="4972546" y="588764"/>
                  <a:pt x="4922342" y="561379"/>
                </a:cubicBezTo>
                <a:lnTo>
                  <a:pt x="4922342" y="711993"/>
                </a:lnTo>
                <a:lnTo>
                  <a:pt x="4176118" y="711993"/>
                </a:lnTo>
                <a:lnTo>
                  <a:pt x="4176118" y="568225"/>
                </a:lnTo>
                <a:cubicBezTo>
                  <a:pt x="4125913" y="586482"/>
                  <a:pt x="4073426" y="607020"/>
                  <a:pt x="4018657" y="629840"/>
                </a:cubicBezTo>
                <a:lnTo>
                  <a:pt x="4018657" y="451842"/>
                </a:lnTo>
                <a:lnTo>
                  <a:pt x="4058372" y="424457"/>
                </a:lnTo>
                <a:lnTo>
                  <a:pt x="4059734" y="424457"/>
                </a:lnTo>
                <a:lnTo>
                  <a:pt x="4059734" y="423518"/>
                </a:lnTo>
                <a:lnTo>
                  <a:pt x="4137180" y="370117"/>
                </a:lnTo>
                <a:cubicBezTo>
                  <a:pt x="4247574" y="278550"/>
                  <a:pt x="4333578" y="157460"/>
                  <a:pt x="4395193" y="6846"/>
                </a:cubicBezTo>
                <a:close/>
                <a:moveTo>
                  <a:pt x="3669506" y="6846"/>
                </a:moveTo>
                <a:lnTo>
                  <a:pt x="3929658" y="6846"/>
                </a:lnTo>
                <a:lnTo>
                  <a:pt x="3929658" y="232767"/>
                </a:lnTo>
                <a:lnTo>
                  <a:pt x="4059734" y="232767"/>
                </a:lnTo>
                <a:lnTo>
                  <a:pt x="4059734" y="423518"/>
                </a:lnTo>
                <a:lnTo>
                  <a:pt x="4058372" y="424457"/>
                </a:lnTo>
                <a:lnTo>
                  <a:pt x="3943350" y="424457"/>
                </a:lnTo>
                <a:cubicBezTo>
                  <a:pt x="3952478" y="538559"/>
                  <a:pt x="3986709" y="659507"/>
                  <a:pt x="4046042" y="787300"/>
                </a:cubicBezTo>
                <a:lnTo>
                  <a:pt x="4046042" y="1047452"/>
                </a:lnTo>
                <a:cubicBezTo>
                  <a:pt x="4023222" y="1020068"/>
                  <a:pt x="3993555" y="981273"/>
                  <a:pt x="3957043" y="931069"/>
                </a:cubicBezTo>
                <a:cubicBezTo>
                  <a:pt x="3943350" y="912812"/>
                  <a:pt x="3934222" y="899120"/>
                  <a:pt x="3929658" y="889992"/>
                </a:cubicBezTo>
                <a:lnTo>
                  <a:pt x="3929658" y="1581447"/>
                </a:lnTo>
                <a:lnTo>
                  <a:pt x="3669506" y="1581447"/>
                </a:lnTo>
                <a:lnTo>
                  <a:pt x="3669506" y="999529"/>
                </a:lnTo>
                <a:cubicBezTo>
                  <a:pt x="3628430" y="1090811"/>
                  <a:pt x="3580507" y="1177528"/>
                  <a:pt x="3525738" y="1259681"/>
                </a:cubicBezTo>
                <a:lnTo>
                  <a:pt x="3525738" y="965299"/>
                </a:lnTo>
                <a:cubicBezTo>
                  <a:pt x="3589635" y="791865"/>
                  <a:pt x="3635276" y="611584"/>
                  <a:pt x="3662660" y="424457"/>
                </a:cubicBezTo>
                <a:lnTo>
                  <a:pt x="3525738" y="424457"/>
                </a:lnTo>
                <a:lnTo>
                  <a:pt x="3525738" y="232767"/>
                </a:lnTo>
                <a:lnTo>
                  <a:pt x="3669506" y="232767"/>
                </a:lnTo>
                <a:lnTo>
                  <a:pt x="3669506" y="6846"/>
                </a:lnTo>
                <a:close/>
                <a:moveTo>
                  <a:pt x="150614" y="0"/>
                </a:moveTo>
                <a:lnTo>
                  <a:pt x="383382" y="0"/>
                </a:lnTo>
                <a:lnTo>
                  <a:pt x="383382" y="75307"/>
                </a:lnTo>
                <a:lnTo>
                  <a:pt x="575072" y="75307"/>
                </a:lnTo>
                <a:lnTo>
                  <a:pt x="575072" y="0"/>
                </a:lnTo>
                <a:lnTo>
                  <a:pt x="814685" y="0"/>
                </a:lnTo>
                <a:lnTo>
                  <a:pt x="814685" y="75307"/>
                </a:lnTo>
                <a:lnTo>
                  <a:pt x="931069" y="75307"/>
                </a:lnTo>
                <a:lnTo>
                  <a:pt x="931069" y="225921"/>
                </a:lnTo>
                <a:lnTo>
                  <a:pt x="992684" y="225921"/>
                </a:lnTo>
                <a:lnTo>
                  <a:pt x="992684" y="0"/>
                </a:lnTo>
                <a:lnTo>
                  <a:pt x="1245989" y="0"/>
                </a:lnTo>
                <a:lnTo>
                  <a:pt x="1245989" y="225921"/>
                </a:lnTo>
                <a:lnTo>
                  <a:pt x="1554064" y="225921"/>
                </a:lnTo>
                <a:lnTo>
                  <a:pt x="1554064" y="1334988"/>
                </a:lnTo>
                <a:cubicBezTo>
                  <a:pt x="1558628" y="1494730"/>
                  <a:pt x="1485603" y="1570037"/>
                  <a:pt x="1334988" y="1560909"/>
                </a:cubicBezTo>
                <a:lnTo>
                  <a:pt x="1170682" y="1560909"/>
                </a:lnTo>
                <a:lnTo>
                  <a:pt x="1170682" y="1389757"/>
                </a:lnTo>
                <a:lnTo>
                  <a:pt x="1225451" y="1389757"/>
                </a:lnTo>
                <a:cubicBezTo>
                  <a:pt x="1280220" y="1394321"/>
                  <a:pt x="1305322" y="1369219"/>
                  <a:pt x="1300758" y="1314450"/>
                </a:cubicBezTo>
                <a:lnTo>
                  <a:pt x="1300758" y="417611"/>
                </a:lnTo>
                <a:lnTo>
                  <a:pt x="1245989" y="417611"/>
                </a:lnTo>
                <a:cubicBezTo>
                  <a:pt x="1245989" y="759916"/>
                  <a:pt x="1223169" y="1006376"/>
                  <a:pt x="1177529" y="1156990"/>
                </a:cubicBezTo>
                <a:cubicBezTo>
                  <a:pt x="1131888" y="1312168"/>
                  <a:pt x="1033760" y="1458218"/>
                  <a:pt x="883146" y="1595140"/>
                </a:cubicBezTo>
                <a:lnTo>
                  <a:pt x="883146" y="1478756"/>
                </a:lnTo>
                <a:cubicBezTo>
                  <a:pt x="709712" y="1501576"/>
                  <a:pt x="563662" y="1515269"/>
                  <a:pt x="444996" y="1519833"/>
                </a:cubicBezTo>
                <a:cubicBezTo>
                  <a:pt x="326331" y="1528961"/>
                  <a:pt x="177999" y="1533525"/>
                  <a:pt x="0" y="1533525"/>
                </a:cubicBezTo>
                <a:lnTo>
                  <a:pt x="0" y="1369219"/>
                </a:lnTo>
                <a:cubicBezTo>
                  <a:pt x="132358" y="1369219"/>
                  <a:pt x="253306" y="1366936"/>
                  <a:pt x="362843" y="1362372"/>
                </a:cubicBezTo>
                <a:lnTo>
                  <a:pt x="362843" y="1300758"/>
                </a:lnTo>
                <a:lnTo>
                  <a:pt x="61615" y="1300758"/>
                </a:lnTo>
                <a:lnTo>
                  <a:pt x="61615" y="1163836"/>
                </a:lnTo>
                <a:lnTo>
                  <a:pt x="362843" y="1163836"/>
                </a:lnTo>
                <a:lnTo>
                  <a:pt x="362843" y="1102221"/>
                </a:lnTo>
                <a:lnTo>
                  <a:pt x="41077" y="1102221"/>
                </a:lnTo>
                <a:lnTo>
                  <a:pt x="41077" y="944761"/>
                </a:lnTo>
                <a:lnTo>
                  <a:pt x="362843" y="944761"/>
                </a:lnTo>
                <a:lnTo>
                  <a:pt x="362843" y="896838"/>
                </a:lnTo>
                <a:lnTo>
                  <a:pt x="54769" y="896838"/>
                </a:lnTo>
                <a:lnTo>
                  <a:pt x="54769" y="520303"/>
                </a:lnTo>
                <a:lnTo>
                  <a:pt x="362843" y="520303"/>
                </a:lnTo>
                <a:lnTo>
                  <a:pt x="362843" y="472380"/>
                </a:lnTo>
                <a:lnTo>
                  <a:pt x="150614" y="472380"/>
                </a:lnTo>
                <a:lnTo>
                  <a:pt x="150614" y="260151"/>
                </a:lnTo>
                <a:lnTo>
                  <a:pt x="6846" y="260151"/>
                </a:lnTo>
                <a:lnTo>
                  <a:pt x="6846" y="75307"/>
                </a:lnTo>
                <a:lnTo>
                  <a:pt x="150614" y="75307"/>
                </a:lnTo>
                <a:lnTo>
                  <a:pt x="1506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6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主动寻求高质量医疗保健和慢性病护理，把很多疾病扼杀在摇篮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2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22" descr=""/>
          <p:cNvPicPr/>
          <p:nvPr/>
        </p:nvPicPr>
        <p:blipFill>
          <a:blip r:embed="rId1"/>
          <a:stretch/>
        </p:blipFill>
        <p:spPr>
          <a:xfrm>
            <a:off x="6188040" y="1177920"/>
            <a:ext cx="5546880" cy="5699160"/>
          </a:xfrm>
          <a:prstGeom prst="rect">
            <a:avLst/>
          </a:prstGeom>
          <a:ln w="0">
            <a:noFill/>
          </a:ln>
        </p:spPr>
      </p:pic>
      <p:sp>
        <p:nvSpPr>
          <p:cNvPr id="340" name="任意多边形 24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afc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a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31"/>
          <p:cNvSpPr/>
          <p:nvPr/>
        </p:nvSpPr>
        <p:spPr>
          <a:xfrm>
            <a:off x="7972560" y="3367080"/>
            <a:ext cx="3833640" cy="1309680"/>
          </a:xfrm>
          <a:custGeom>
            <a:avLst/>
            <a:gdLst/>
            <a:ahLst/>
            <a:rect l="l" t="t" r="r" b="b"/>
            <a:pathLst>
              <a:path w="3833328" h="1309315">
                <a:moveTo>
                  <a:pt x="1034392" y="1013296"/>
                </a:moveTo>
                <a:lnTo>
                  <a:pt x="1307641" y="1013296"/>
                </a:lnTo>
                <a:lnTo>
                  <a:pt x="1307641" y="1280852"/>
                </a:lnTo>
                <a:lnTo>
                  <a:pt x="1034392" y="1280852"/>
                </a:lnTo>
                <a:lnTo>
                  <a:pt x="1034392" y="1013296"/>
                </a:lnTo>
                <a:close/>
                <a:moveTo>
                  <a:pt x="1901242" y="745740"/>
                </a:moveTo>
                <a:cubicBezTo>
                  <a:pt x="1772208" y="779896"/>
                  <a:pt x="1707691" y="848208"/>
                  <a:pt x="1707691" y="950677"/>
                </a:cubicBezTo>
                <a:cubicBezTo>
                  <a:pt x="1715281" y="1064530"/>
                  <a:pt x="1781696" y="1125252"/>
                  <a:pt x="1906934" y="1132842"/>
                </a:cubicBezTo>
                <a:cubicBezTo>
                  <a:pt x="2035968" y="1129047"/>
                  <a:pt x="2102383" y="1070223"/>
                  <a:pt x="2106178" y="956369"/>
                </a:cubicBezTo>
                <a:cubicBezTo>
                  <a:pt x="2106178" y="846311"/>
                  <a:pt x="2037866" y="776101"/>
                  <a:pt x="1901242" y="745740"/>
                </a:cubicBezTo>
                <a:close/>
                <a:moveTo>
                  <a:pt x="2928193" y="592038"/>
                </a:moveTo>
                <a:lnTo>
                  <a:pt x="2928193" y="859594"/>
                </a:lnTo>
                <a:lnTo>
                  <a:pt x="3138822" y="859594"/>
                </a:lnTo>
                <a:lnTo>
                  <a:pt x="3138822" y="592038"/>
                </a:lnTo>
                <a:lnTo>
                  <a:pt x="2928193" y="592038"/>
                </a:lnTo>
                <a:close/>
                <a:moveTo>
                  <a:pt x="2933886" y="261863"/>
                </a:moveTo>
                <a:cubicBezTo>
                  <a:pt x="2888344" y="326380"/>
                  <a:pt x="2829520" y="381409"/>
                  <a:pt x="2757413" y="426950"/>
                </a:cubicBezTo>
                <a:lnTo>
                  <a:pt x="3138822" y="426950"/>
                </a:lnTo>
                <a:lnTo>
                  <a:pt x="3138822" y="261863"/>
                </a:lnTo>
                <a:lnTo>
                  <a:pt x="2933886" y="261863"/>
                </a:lnTo>
                <a:close/>
                <a:moveTo>
                  <a:pt x="1912627" y="199243"/>
                </a:moveTo>
                <a:cubicBezTo>
                  <a:pt x="1802569" y="206833"/>
                  <a:pt x="1743744" y="258068"/>
                  <a:pt x="1736154" y="352945"/>
                </a:cubicBezTo>
                <a:cubicBezTo>
                  <a:pt x="1732359" y="444028"/>
                  <a:pt x="1791183" y="504750"/>
                  <a:pt x="1912627" y="535111"/>
                </a:cubicBezTo>
                <a:cubicBezTo>
                  <a:pt x="2026480" y="504750"/>
                  <a:pt x="2085305" y="445926"/>
                  <a:pt x="2089100" y="358638"/>
                </a:cubicBezTo>
                <a:cubicBezTo>
                  <a:pt x="2085305" y="256170"/>
                  <a:pt x="2026480" y="203038"/>
                  <a:pt x="1912627" y="199243"/>
                </a:cubicBezTo>
                <a:close/>
                <a:moveTo>
                  <a:pt x="1912627" y="22770"/>
                </a:moveTo>
                <a:cubicBezTo>
                  <a:pt x="2189671" y="34156"/>
                  <a:pt x="2339578" y="144214"/>
                  <a:pt x="2362348" y="352945"/>
                </a:cubicBezTo>
                <a:cubicBezTo>
                  <a:pt x="2362348" y="493365"/>
                  <a:pt x="2273163" y="588243"/>
                  <a:pt x="2094793" y="637579"/>
                </a:cubicBezTo>
                <a:cubicBezTo>
                  <a:pt x="2288344" y="679326"/>
                  <a:pt x="2385119" y="779896"/>
                  <a:pt x="2385119" y="939291"/>
                </a:cubicBezTo>
                <a:cubicBezTo>
                  <a:pt x="2381324" y="1174588"/>
                  <a:pt x="2220032" y="1294135"/>
                  <a:pt x="1901242" y="1297930"/>
                </a:cubicBezTo>
                <a:cubicBezTo>
                  <a:pt x="1593837" y="1290340"/>
                  <a:pt x="1436340" y="1174588"/>
                  <a:pt x="1428750" y="950677"/>
                </a:cubicBezTo>
                <a:cubicBezTo>
                  <a:pt x="1436340" y="791282"/>
                  <a:pt x="1527423" y="686916"/>
                  <a:pt x="1701998" y="637579"/>
                </a:cubicBezTo>
                <a:cubicBezTo>
                  <a:pt x="1542603" y="595833"/>
                  <a:pt x="1462906" y="500955"/>
                  <a:pt x="1462906" y="352945"/>
                </a:cubicBezTo>
                <a:cubicBezTo>
                  <a:pt x="1485676" y="144214"/>
                  <a:pt x="1635584" y="34156"/>
                  <a:pt x="1912627" y="22770"/>
                </a:cubicBezTo>
                <a:close/>
                <a:moveTo>
                  <a:pt x="483877" y="22770"/>
                </a:moveTo>
                <a:cubicBezTo>
                  <a:pt x="760921" y="30361"/>
                  <a:pt x="905135" y="148009"/>
                  <a:pt x="916521" y="375716"/>
                </a:cubicBezTo>
                <a:cubicBezTo>
                  <a:pt x="927906" y="538906"/>
                  <a:pt x="834926" y="679326"/>
                  <a:pt x="637580" y="796974"/>
                </a:cubicBezTo>
                <a:cubicBezTo>
                  <a:pt x="463004" y="899442"/>
                  <a:pt x="343458" y="1003808"/>
                  <a:pt x="278941" y="1110071"/>
                </a:cubicBezTo>
                <a:lnTo>
                  <a:pt x="910828" y="1110071"/>
                </a:lnTo>
                <a:lnTo>
                  <a:pt x="910828" y="1269466"/>
                </a:lnTo>
                <a:lnTo>
                  <a:pt x="5693" y="1269466"/>
                </a:lnTo>
                <a:lnTo>
                  <a:pt x="5693" y="1104379"/>
                </a:lnTo>
                <a:cubicBezTo>
                  <a:pt x="85390" y="967755"/>
                  <a:pt x="204936" y="840618"/>
                  <a:pt x="364331" y="722969"/>
                </a:cubicBezTo>
                <a:cubicBezTo>
                  <a:pt x="561677" y="582550"/>
                  <a:pt x="654658" y="470594"/>
                  <a:pt x="643272" y="387102"/>
                </a:cubicBezTo>
                <a:cubicBezTo>
                  <a:pt x="643272" y="258068"/>
                  <a:pt x="584448" y="195448"/>
                  <a:pt x="466799" y="199243"/>
                </a:cubicBezTo>
                <a:cubicBezTo>
                  <a:pt x="345356" y="203038"/>
                  <a:pt x="275146" y="282736"/>
                  <a:pt x="256170" y="438336"/>
                </a:cubicBezTo>
                <a:lnTo>
                  <a:pt x="0" y="438336"/>
                </a:lnTo>
                <a:cubicBezTo>
                  <a:pt x="49337" y="165087"/>
                  <a:pt x="210629" y="26565"/>
                  <a:pt x="483877" y="22770"/>
                </a:cubicBezTo>
                <a:close/>
                <a:moveTo>
                  <a:pt x="2785876" y="0"/>
                </a:moveTo>
                <a:lnTo>
                  <a:pt x="3042046" y="0"/>
                </a:lnTo>
                <a:cubicBezTo>
                  <a:pt x="3038252" y="11385"/>
                  <a:pt x="3034456" y="24668"/>
                  <a:pt x="3030661" y="39848"/>
                </a:cubicBezTo>
                <a:cubicBezTo>
                  <a:pt x="3023071" y="62619"/>
                  <a:pt x="3017378" y="79697"/>
                  <a:pt x="3013583" y="91082"/>
                </a:cubicBezTo>
                <a:lnTo>
                  <a:pt x="3787787" y="91082"/>
                </a:lnTo>
                <a:lnTo>
                  <a:pt x="3787787" y="261863"/>
                </a:lnTo>
                <a:lnTo>
                  <a:pt x="3400685" y="261863"/>
                </a:lnTo>
                <a:lnTo>
                  <a:pt x="3400685" y="426950"/>
                </a:lnTo>
                <a:lnTo>
                  <a:pt x="3753631" y="426950"/>
                </a:lnTo>
                <a:lnTo>
                  <a:pt x="3753631" y="592038"/>
                </a:lnTo>
                <a:lnTo>
                  <a:pt x="3400685" y="592038"/>
                </a:lnTo>
                <a:lnTo>
                  <a:pt x="3400685" y="859594"/>
                </a:lnTo>
                <a:lnTo>
                  <a:pt x="3833328" y="859594"/>
                </a:lnTo>
                <a:lnTo>
                  <a:pt x="3833328" y="1024681"/>
                </a:lnTo>
                <a:lnTo>
                  <a:pt x="3400685" y="1024681"/>
                </a:lnTo>
                <a:lnTo>
                  <a:pt x="3400685" y="1309315"/>
                </a:lnTo>
                <a:lnTo>
                  <a:pt x="3138822" y="1309315"/>
                </a:lnTo>
                <a:lnTo>
                  <a:pt x="3138822" y="1024681"/>
                </a:lnTo>
                <a:lnTo>
                  <a:pt x="2518320" y="1024681"/>
                </a:lnTo>
                <a:lnTo>
                  <a:pt x="2518320" y="859594"/>
                </a:lnTo>
                <a:lnTo>
                  <a:pt x="2689101" y="859594"/>
                </a:lnTo>
                <a:lnTo>
                  <a:pt x="2689101" y="461106"/>
                </a:lnTo>
                <a:cubicBezTo>
                  <a:pt x="2647354" y="483877"/>
                  <a:pt x="2598018" y="502853"/>
                  <a:pt x="2541091" y="518033"/>
                </a:cubicBezTo>
                <a:lnTo>
                  <a:pt x="2541091" y="364331"/>
                </a:lnTo>
                <a:cubicBezTo>
                  <a:pt x="2662535" y="288429"/>
                  <a:pt x="2744130" y="166985"/>
                  <a:pt x="2785876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29"/>
          <p:cNvSpPr/>
          <p:nvPr/>
        </p:nvSpPr>
        <p:spPr>
          <a:xfrm>
            <a:off x="6518160" y="1235160"/>
            <a:ext cx="5045040" cy="1581120"/>
          </a:xfrm>
          <a:custGeom>
            <a:avLst/>
            <a:gdLst/>
            <a:ahLst/>
            <a:rect l="l" t="t" r="r" b="b"/>
            <a:pathLst>
              <a:path w="5045757" h="1581448">
                <a:moveTo>
                  <a:pt x="4319886" y="1020068"/>
                </a:moveTo>
                <a:lnTo>
                  <a:pt x="4319886" y="1355526"/>
                </a:lnTo>
                <a:lnTo>
                  <a:pt x="4682728" y="1355526"/>
                </a:lnTo>
                <a:cubicBezTo>
                  <a:pt x="4742062" y="1360090"/>
                  <a:pt x="4769446" y="1328142"/>
                  <a:pt x="4764882" y="1259681"/>
                </a:cubicBezTo>
                <a:lnTo>
                  <a:pt x="4764882" y="1020068"/>
                </a:lnTo>
                <a:lnTo>
                  <a:pt x="4319886" y="1020068"/>
                </a:lnTo>
                <a:close/>
                <a:moveTo>
                  <a:pt x="4039196" y="821531"/>
                </a:moveTo>
                <a:lnTo>
                  <a:pt x="5045572" y="821531"/>
                </a:lnTo>
                <a:lnTo>
                  <a:pt x="5045572" y="1273373"/>
                </a:lnTo>
                <a:cubicBezTo>
                  <a:pt x="5050136" y="1446808"/>
                  <a:pt x="4970264" y="1533525"/>
                  <a:pt x="4805958" y="1533525"/>
                </a:cubicBezTo>
                <a:lnTo>
                  <a:pt x="4039196" y="1533525"/>
                </a:lnTo>
                <a:lnTo>
                  <a:pt x="4039196" y="821531"/>
                </a:lnTo>
                <a:close/>
                <a:moveTo>
                  <a:pt x="4360962" y="287536"/>
                </a:moveTo>
                <a:lnTo>
                  <a:pt x="4360962" y="527149"/>
                </a:lnTo>
                <a:lnTo>
                  <a:pt x="4641652" y="527149"/>
                </a:lnTo>
                <a:cubicBezTo>
                  <a:pt x="4700985" y="531713"/>
                  <a:pt x="4728369" y="502047"/>
                  <a:pt x="4723805" y="438150"/>
                </a:cubicBezTo>
                <a:lnTo>
                  <a:pt x="4723805" y="287536"/>
                </a:lnTo>
                <a:lnTo>
                  <a:pt x="4360962" y="287536"/>
                </a:lnTo>
                <a:close/>
                <a:moveTo>
                  <a:pt x="3046512" y="150614"/>
                </a:moveTo>
                <a:lnTo>
                  <a:pt x="3299817" y="150614"/>
                </a:lnTo>
                <a:cubicBezTo>
                  <a:pt x="3286125" y="251023"/>
                  <a:pt x="3251895" y="369689"/>
                  <a:pt x="3197126" y="506611"/>
                </a:cubicBezTo>
                <a:lnTo>
                  <a:pt x="2971205" y="506611"/>
                </a:lnTo>
                <a:cubicBezTo>
                  <a:pt x="3003154" y="397073"/>
                  <a:pt x="3028256" y="278408"/>
                  <a:pt x="3046512" y="150614"/>
                </a:cubicBezTo>
                <a:close/>
                <a:moveTo>
                  <a:pt x="2266057" y="143768"/>
                </a:moveTo>
                <a:lnTo>
                  <a:pt x="2519363" y="143768"/>
                </a:lnTo>
                <a:cubicBezTo>
                  <a:pt x="2528491" y="248741"/>
                  <a:pt x="2553593" y="367407"/>
                  <a:pt x="2594670" y="499765"/>
                </a:cubicBezTo>
                <a:lnTo>
                  <a:pt x="2361902" y="499765"/>
                </a:lnTo>
                <a:cubicBezTo>
                  <a:pt x="2316262" y="399355"/>
                  <a:pt x="2284313" y="280690"/>
                  <a:pt x="2266057" y="143768"/>
                </a:cubicBezTo>
                <a:close/>
                <a:moveTo>
                  <a:pt x="4093964" y="95845"/>
                </a:moveTo>
                <a:lnTo>
                  <a:pt x="4997648" y="95845"/>
                </a:lnTo>
                <a:lnTo>
                  <a:pt x="4997648" y="465534"/>
                </a:lnTo>
                <a:cubicBezTo>
                  <a:pt x="4997648" y="638969"/>
                  <a:pt x="4915496" y="725686"/>
                  <a:pt x="4751189" y="725686"/>
                </a:cubicBezTo>
                <a:lnTo>
                  <a:pt x="4093964" y="725686"/>
                </a:lnTo>
                <a:lnTo>
                  <a:pt x="4093964" y="95845"/>
                </a:lnTo>
                <a:close/>
                <a:moveTo>
                  <a:pt x="1129606" y="34230"/>
                </a:moveTo>
                <a:lnTo>
                  <a:pt x="1376065" y="34230"/>
                </a:lnTo>
                <a:cubicBezTo>
                  <a:pt x="1412578" y="98127"/>
                  <a:pt x="1444526" y="187126"/>
                  <a:pt x="1471911" y="301228"/>
                </a:cubicBezTo>
                <a:lnTo>
                  <a:pt x="1204913" y="301228"/>
                </a:lnTo>
                <a:cubicBezTo>
                  <a:pt x="1191221" y="205383"/>
                  <a:pt x="1166118" y="116383"/>
                  <a:pt x="1129606" y="34230"/>
                </a:cubicBezTo>
                <a:close/>
                <a:moveTo>
                  <a:pt x="3779044" y="6846"/>
                </a:moveTo>
                <a:lnTo>
                  <a:pt x="4073426" y="6846"/>
                </a:lnTo>
                <a:cubicBezTo>
                  <a:pt x="4032350" y="162024"/>
                  <a:pt x="3984426" y="285254"/>
                  <a:pt x="3929658" y="376535"/>
                </a:cubicBezTo>
                <a:lnTo>
                  <a:pt x="3929658" y="1581448"/>
                </a:lnTo>
                <a:lnTo>
                  <a:pt x="3635276" y="1581448"/>
                </a:lnTo>
                <a:lnTo>
                  <a:pt x="3635276" y="629840"/>
                </a:lnTo>
                <a:cubicBezTo>
                  <a:pt x="3630712" y="629840"/>
                  <a:pt x="3619302" y="634404"/>
                  <a:pt x="3601046" y="643533"/>
                </a:cubicBezTo>
                <a:cubicBezTo>
                  <a:pt x="3559969" y="657225"/>
                  <a:pt x="3525738" y="666353"/>
                  <a:pt x="3498354" y="670917"/>
                </a:cubicBezTo>
                <a:lnTo>
                  <a:pt x="3498354" y="499765"/>
                </a:lnTo>
                <a:cubicBezTo>
                  <a:pt x="3630712" y="422176"/>
                  <a:pt x="3724275" y="257869"/>
                  <a:pt x="3779044" y="6846"/>
                </a:cubicBezTo>
                <a:close/>
                <a:moveTo>
                  <a:pt x="2005906" y="6846"/>
                </a:moveTo>
                <a:lnTo>
                  <a:pt x="2286596" y="6846"/>
                </a:lnTo>
                <a:cubicBezTo>
                  <a:pt x="2259211" y="143768"/>
                  <a:pt x="2224981" y="257869"/>
                  <a:pt x="2183904" y="349151"/>
                </a:cubicBezTo>
                <a:lnTo>
                  <a:pt x="2183904" y="1574601"/>
                </a:lnTo>
                <a:lnTo>
                  <a:pt x="1903214" y="1574601"/>
                </a:lnTo>
                <a:lnTo>
                  <a:pt x="1903214" y="636687"/>
                </a:lnTo>
                <a:cubicBezTo>
                  <a:pt x="1853010" y="659507"/>
                  <a:pt x="1800523" y="677763"/>
                  <a:pt x="1745754" y="691455"/>
                </a:cubicBezTo>
                <a:lnTo>
                  <a:pt x="1745754" y="520303"/>
                </a:lnTo>
                <a:cubicBezTo>
                  <a:pt x="1878112" y="429022"/>
                  <a:pt x="1964829" y="257869"/>
                  <a:pt x="2005906" y="6846"/>
                </a:cubicBezTo>
                <a:close/>
                <a:moveTo>
                  <a:pt x="1067991" y="6846"/>
                </a:moveTo>
                <a:cubicBezTo>
                  <a:pt x="1067991" y="116383"/>
                  <a:pt x="1067991" y="225921"/>
                  <a:pt x="1067991" y="335458"/>
                </a:cubicBezTo>
                <a:lnTo>
                  <a:pt x="1567756" y="335458"/>
                </a:lnTo>
                <a:lnTo>
                  <a:pt x="1567756" y="527149"/>
                </a:lnTo>
                <a:lnTo>
                  <a:pt x="1074837" y="527149"/>
                </a:lnTo>
                <a:cubicBezTo>
                  <a:pt x="1083965" y="664071"/>
                  <a:pt x="1095375" y="794147"/>
                  <a:pt x="1109068" y="917376"/>
                </a:cubicBezTo>
                <a:cubicBezTo>
                  <a:pt x="1168400" y="839787"/>
                  <a:pt x="1225451" y="743942"/>
                  <a:pt x="1280220" y="629840"/>
                </a:cubicBezTo>
                <a:lnTo>
                  <a:pt x="1560910" y="629840"/>
                </a:lnTo>
                <a:cubicBezTo>
                  <a:pt x="1469629" y="876300"/>
                  <a:pt x="1337271" y="1061144"/>
                  <a:pt x="1163836" y="1184374"/>
                </a:cubicBezTo>
                <a:cubicBezTo>
                  <a:pt x="1200349" y="1316732"/>
                  <a:pt x="1255118" y="1382911"/>
                  <a:pt x="1328143" y="1382911"/>
                </a:cubicBezTo>
                <a:cubicBezTo>
                  <a:pt x="1382911" y="1382911"/>
                  <a:pt x="1408014" y="1350962"/>
                  <a:pt x="1403450" y="1287066"/>
                </a:cubicBezTo>
                <a:lnTo>
                  <a:pt x="1608833" y="1287066"/>
                </a:lnTo>
                <a:cubicBezTo>
                  <a:pt x="1608833" y="1478756"/>
                  <a:pt x="1519833" y="1574601"/>
                  <a:pt x="1341835" y="1574601"/>
                </a:cubicBezTo>
                <a:cubicBezTo>
                  <a:pt x="1163836" y="1574601"/>
                  <a:pt x="1031479" y="1487884"/>
                  <a:pt x="944761" y="1314450"/>
                </a:cubicBezTo>
                <a:cubicBezTo>
                  <a:pt x="839788" y="1364655"/>
                  <a:pt x="718840" y="1405731"/>
                  <a:pt x="581918" y="1437680"/>
                </a:cubicBezTo>
                <a:lnTo>
                  <a:pt x="581918" y="1252835"/>
                </a:lnTo>
                <a:cubicBezTo>
                  <a:pt x="691456" y="1211758"/>
                  <a:pt x="787301" y="1166118"/>
                  <a:pt x="869454" y="1115913"/>
                </a:cubicBezTo>
                <a:cubicBezTo>
                  <a:pt x="869454" y="1102221"/>
                  <a:pt x="864890" y="1081683"/>
                  <a:pt x="855762" y="1054298"/>
                </a:cubicBezTo>
                <a:cubicBezTo>
                  <a:pt x="851198" y="1026914"/>
                  <a:pt x="846634" y="1006376"/>
                  <a:pt x="842070" y="992683"/>
                </a:cubicBezTo>
                <a:cubicBezTo>
                  <a:pt x="819250" y="860326"/>
                  <a:pt x="800993" y="705147"/>
                  <a:pt x="787301" y="527149"/>
                </a:cubicBezTo>
                <a:lnTo>
                  <a:pt x="650379" y="527149"/>
                </a:lnTo>
                <a:lnTo>
                  <a:pt x="650379" y="335458"/>
                </a:lnTo>
                <a:lnTo>
                  <a:pt x="780455" y="335458"/>
                </a:lnTo>
                <a:cubicBezTo>
                  <a:pt x="780455" y="303510"/>
                  <a:pt x="780455" y="251023"/>
                  <a:pt x="780455" y="177998"/>
                </a:cubicBezTo>
                <a:cubicBezTo>
                  <a:pt x="775891" y="104973"/>
                  <a:pt x="773609" y="50204"/>
                  <a:pt x="773609" y="13692"/>
                </a:cubicBezTo>
                <a:lnTo>
                  <a:pt x="1067991" y="6846"/>
                </a:lnTo>
                <a:close/>
                <a:moveTo>
                  <a:pt x="2628900" y="0"/>
                </a:moveTo>
                <a:lnTo>
                  <a:pt x="2930128" y="0"/>
                </a:lnTo>
                <a:lnTo>
                  <a:pt x="2930128" y="602456"/>
                </a:lnTo>
                <a:lnTo>
                  <a:pt x="3306664" y="602456"/>
                </a:lnTo>
                <a:lnTo>
                  <a:pt x="3306664" y="800993"/>
                </a:lnTo>
                <a:lnTo>
                  <a:pt x="2930128" y="800993"/>
                </a:lnTo>
                <a:lnTo>
                  <a:pt x="2930128" y="999530"/>
                </a:lnTo>
                <a:lnTo>
                  <a:pt x="3347740" y="999530"/>
                </a:lnTo>
                <a:lnTo>
                  <a:pt x="3347740" y="1198066"/>
                </a:lnTo>
                <a:lnTo>
                  <a:pt x="2930128" y="1198066"/>
                </a:lnTo>
                <a:lnTo>
                  <a:pt x="2930128" y="1574601"/>
                </a:lnTo>
                <a:lnTo>
                  <a:pt x="2628900" y="1574601"/>
                </a:lnTo>
                <a:lnTo>
                  <a:pt x="2628900" y="1198066"/>
                </a:lnTo>
                <a:lnTo>
                  <a:pt x="2218134" y="1198066"/>
                </a:lnTo>
                <a:lnTo>
                  <a:pt x="2218134" y="999530"/>
                </a:lnTo>
                <a:lnTo>
                  <a:pt x="2628900" y="999530"/>
                </a:lnTo>
                <a:lnTo>
                  <a:pt x="2628900" y="800993"/>
                </a:lnTo>
                <a:lnTo>
                  <a:pt x="2259211" y="800993"/>
                </a:lnTo>
                <a:lnTo>
                  <a:pt x="2259211" y="602456"/>
                </a:lnTo>
                <a:lnTo>
                  <a:pt x="2628900" y="602456"/>
                </a:lnTo>
                <a:lnTo>
                  <a:pt x="2628900" y="0"/>
                </a:lnTo>
                <a:close/>
                <a:moveTo>
                  <a:pt x="184845" y="0"/>
                </a:moveTo>
                <a:lnTo>
                  <a:pt x="479227" y="0"/>
                </a:lnTo>
                <a:lnTo>
                  <a:pt x="479227" y="212229"/>
                </a:lnTo>
                <a:lnTo>
                  <a:pt x="622995" y="212229"/>
                </a:lnTo>
                <a:lnTo>
                  <a:pt x="622995" y="403919"/>
                </a:lnTo>
                <a:lnTo>
                  <a:pt x="479227" y="403919"/>
                </a:lnTo>
                <a:lnTo>
                  <a:pt x="479227" y="698301"/>
                </a:lnTo>
                <a:cubicBezTo>
                  <a:pt x="524868" y="684609"/>
                  <a:pt x="577354" y="670917"/>
                  <a:pt x="636687" y="657225"/>
                </a:cubicBezTo>
                <a:lnTo>
                  <a:pt x="636687" y="848915"/>
                </a:lnTo>
                <a:cubicBezTo>
                  <a:pt x="581918" y="867172"/>
                  <a:pt x="529432" y="887710"/>
                  <a:pt x="479227" y="910530"/>
                </a:cubicBezTo>
                <a:lnTo>
                  <a:pt x="479227" y="1362373"/>
                </a:lnTo>
                <a:cubicBezTo>
                  <a:pt x="483791" y="1503858"/>
                  <a:pt x="406202" y="1572319"/>
                  <a:pt x="246460" y="1567755"/>
                </a:cubicBezTo>
                <a:lnTo>
                  <a:pt x="61615" y="1567755"/>
                </a:lnTo>
                <a:lnTo>
                  <a:pt x="61615" y="1389757"/>
                </a:lnTo>
                <a:lnTo>
                  <a:pt x="136922" y="1389757"/>
                </a:lnTo>
                <a:cubicBezTo>
                  <a:pt x="173435" y="1394321"/>
                  <a:pt x="189409" y="1373783"/>
                  <a:pt x="184845" y="1328142"/>
                </a:cubicBezTo>
                <a:lnTo>
                  <a:pt x="184845" y="978991"/>
                </a:lnTo>
                <a:cubicBezTo>
                  <a:pt x="130076" y="992683"/>
                  <a:pt x="68461" y="1001812"/>
                  <a:pt x="0" y="1006376"/>
                </a:cubicBezTo>
                <a:lnTo>
                  <a:pt x="0" y="766762"/>
                </a:lnTo>
                <a:cubicBezTo>
                  <a:pt x="13693" y="766762"/>
                  <a:pt x="34231" y="764480"/>
                  <a:pt x="61615" y="759916"/>
                </a:cubicBezTo>
                <a:cubicBezTo>
                  <a:pt x="116384" y="759916"/>
                  <a:pt x="157461" y="755352"/>
                  <a:pt x="184845" y="746224"/>
                </a:cubicBezTo>
                <a:lnTo>
                  <a:pt x="184845" y="403919"/>
                </a:lnTo>
                <a:lnTo>
                  <a:pt x="13693" y="403919"/>
                </a:lnTo>
                <a:lnTo>
                  <a:pt x="13693" y="212229"/>
                </a:lnTo>
                <a:lnTo>
                  <a:pt x="184845" y="212229"/>
                </a:lnTo>
                <a:lnTo>
                  <a:pt x="18484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好伴侣会提高生活质量和生命质量，离婚会加速白细胞的老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0" y="306360"/>
            <a:ext cx="6095520" cy="6389280"/>
            <a:chOff x="0" y="306360"/>
            <a:chExt cx="6095520" cy="6389280"/>
          </a:xfrm>
        </p:grpSpPr>
        <p:sp>
          <p:nvSpPr>
            <p:cNvPr id="350" name="AutoShape 3"/>
            <p:cNvSpPr/>
            <p:nvPr/>
          </p:nvSpPr>
          <p:spPr>
            <a:xfrm>
              <a:off x="1080" y="307440"/>
              <a:ext cx="609444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"/>
            <p:cNvSpPr/>
            <p:nvPr/>
          </p:nvSpPr>
          <p:spPr>
            <a:xfrm>
              <a:off x="209160" y="447120"/>
              <a:ext cx="5884920" cy="6000840"/>
            </a:xfrm>
            <a:custGeom>
              <a:avLst/>
              <a:gdLst/>
              <a:ahLst/>
              <a:rect l="l" t="t" r="r" b="b"/>
              <a:pathLst>
                <a:path w="3708" h="3781">
                  <a:moveTo>
                    <a:pt x="3688" y="683"/>
                  </a:moveTo>
                  <a:lnTo>
                    <a:pt x="1020" y="0"/>
                  </a:lnTo>
                  <a:lnTo>
                    <a:pt x="0" y="1131"/>
                  </a:lnTo>
                  <a:lnTo>
                    <a:pt x="3708" y="3781"/>
                  </a:lnTo>
                  <a:lnTo>
                    <a:pt x="3688" y="683"/>
                  </a:lnTo>
                  <a:close/>
                </a:path>
              </a:pathLst>
            </a:cu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"/>
            <p:cNvSpPr/>
            <p:nvPr/>
          </p:nvSpPr>
          <p:spPr>
            <a:xfrm>
              <a:off x="3488040" y="4497840"/>
              <a:ext cx="151920" cy="7092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5"/>
                  </a:moveTo>
                  <a:lnTo>
                    <a:pt x="66" y="0"/>
                  </a:lnTo>
                  <a:lnTo>
                    <a:pt x="96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"/>
            <p:cNvSpPr/>
            <p:nvPr/>
          </p:nvSpPr>
          <p:spPr>
            <a:xfrm>
              <a:off x="3319920" y="4486680"/>
              <a:ext cx="29880" cy="6480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cubicBezTo>
                    <a:pt x="10" y="1"/>
                    <a:pt x="0" y="10"/>
                    <a:pt x="0" y="22"/>
                  </a:cubicBezTo>
                  <a:cubicBezTo>
                    <a:pt x="0" y="34"/>
                    <a:pt x="10" y="44"/>
                    <a:pt x="22" y="45"/>
                  </a:cubicBezTo>
                  <a:lnTo>
                    <a:pt x="22" y="0"/>
                  </a:lnTo>
                  <a:close/>
                </a:path>
              </a:pathLst>
            </a:custGeom>
            <a:solidFill>
              <a:srgbClr val="009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"/>
            <p:cNvSpPr/>
            <p:nvPr/>
          </p:nvSpPr>
          <p:spPr>
            <a:xfrm>
              <a:off x="3350160" y="4486680"/>
              <a:ext cx="31320" cy="6480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cubicBezTo>
                    <a:pt x="13" y="1"/>
                    <a:pt x="22" y="10"/>
                    <a:pt x="22" y="22"/>
                  </a:cubicBezTo>
                  <a:cubicBezTo>
                    <a:pt x="22" y="34"/>
                    <a:pt x="13" y="44"/>
                    <a:pt x="0" y="4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"/>
            <p:cNvSpPr/>
            <p:nvPr/>
          </p:nvSpPr>
          <p:spPr>
            <a:xfrm>
              <a:off x="3326040" y="4494600"/>
              <a:ext cx="23760" cy="48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5"/>
                  </a:cubicBezTo>
                  <a:lnTo>
                    <a:pt x="17" y="0"/>
                  </a:lnTo>
                  <a:close/>
                </a:path>
              </a:pathLst>
            </a:custGeom>
            <a:solidFill>
              <a:srgbClr val="007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3350160" y="4494600"/>
              <a:ext cx="24840" cy="489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cubicBezTo>
                    <a:pt x="10" y="0"/>
                    <a:pt x="17" y="8"/>
                    <a:pt x="17" y="17"/>
                  </a:cubicBezTo>
                  <a:cubicBezTo>
                    <a:pt x="17" y="27"/>
                    <a:pt x="10" y="34"/>
                    <a:pt x="0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1"/>
            <p:cNvSpPr/>
            <p:nvPr/>
          </p:nvSpPr>
          <p:spPr>
            <a:xfrm>
              <a:off x="3335760" y="4513680"/>
              <a:ext cx="5760" cy="7560"/>
            </a:xfrm>
            <a:prstGeom prst="ellipse">
              <a:avLst/>
            </a:prstGeom>
            <a:solidFill>
              <a:srgbClr val="005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2"/>
            <p:cNvSpPr/>
            <p:nvPr/>
          </p:nvSpPr>
          <p:spPr>
            <a:xfrm>
              <a:off x="3359520" y="4513680"/>
              <a:ext cx="6120" cy="7560"/>
            </a:xfrm>
            <a:prstGeom prst="ellipse">
              <a:avLst/>
            </a:prstGeom>
            <a:solidFill>
              <a:srgbClr val="00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"/>
            <p:cNvSpPr/>
            <p:nvPr/>
          </p:nvSpPr>
          <p:spPr>
            <a:xfrm>
              <a:off x="4212000" y="5326200"/>
              <a:ext cx="267840" cy="1261440"/>
            </a:xfrm>
            <a:custGeom>
              <a:avLst/>
              <a:gdLst/>
              <a:ahLst/>
              <a:rect l="l" t="t" r="r" b="b"/>
              <a:pathLst>
                <a:path w="189" h="890">
                  <a:moveTo>
                    <a:pt x="0" y="12"/>
                  </a:moveTo>
                  <a:cubicBezTo>
                    <a:pt x="0" y="12"/>
                    <a:pt x="171" y="764"/>
                    <a:pt x="152" y="890"/>
                  </a:cubicBezTo>
                  <a:cubicBezTo>
                    <a:pt x="189" y="887"/>
                    <a:pt x="189" y="887"/>
                    <a:pt x="189" y="887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4"/>
            <p:cNvSpPr/>
            <p:nvPr/>
          </p:nvSpPr>
          <p:spPr>
            <a:xfrm>
              <a:off x="4451760" y="5310000"/>
              <a:ext cx="240840" cy="52380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110" y="363"/>
                  </a:moveTo>
                  <a:cubicBezTo>
                    <a:pt x="139" y="170"/>
                    <a:pt x="170" y="0"/>
                    <a:pt x="17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370"/>
                    <a:pt x="8" y="370"/>
                    <a:pt x="8" y="370"/>
                  </a:cubicBezTo>
                  <a:lnTo>
                    <a:pt x="110" y="36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"/>
            <p:cNvSpPr/>
            <p:nvPr/>
          </p:nvSpPr>
          <p:spPr>
            <a:xfrm>
              <a:off x="4018320" y="6548400"/>
              <a:ext cx="463320" cy="14580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0" y="0"/>
                  </a:moveTo>
                  <a:lnTo>
                    <a:pt x="0" y="92"/>
                  </a:lnTo>
                  <a:lnTo>
                    <a:pt x="292" y="72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6"/>
            <p:cNvSpPr/>
            <p:nvPr/>
          </p:nvSpPr>
          <p:spPr>
            <a:xfrm>
              <a:off x="4447080" y="5564160"/>
              <a:ext cx="764640" cy="385560"/>
            </a:xfrm>
            <a:custGeom>
              <a:avLst/>
              <a:gdLst/>
              <a:ahLst/>
              <a:rect l="l" t="t" r="r" b="b"/>
              <a:pathLst>
                <a:path w="539" h="272">
                  <a:moveTo>
                    <a:pt x="67" y="272"/>
                  </a:moveTo>
                  <a:cubicBezTo>
                    <a:pt x="539" y="32"/>
                    <a:pt x="539" y="32"/>
                    <a:pt x="539" y="32"/>
                  </a:cubicBezTo>
                  <a:cubicBezTo>
                    <a:pt x="538" y="0"/>
                    <a:pt x="538" y="0"/>
                    <a:pt x="538" y="0"/>
                  </a:cubicBezTo>
                  <a:cubicBezTo>
                    <a:pt x="10" y="155"/>
                    <a:pt x="10" y="155"/>
                    <a:pt x="10" y="155"/>
                  </a:cubicBezTo>
                  <a:cubicBezTo>
                    <a:pt x="10" y="155"/>
                    <a:pt x="0" y="272"/>
                    <a:pt x="67" y="272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"/>
            <p:cNvSpPr/>
            <p:nvPr/>
          </p:nvSpPr>
          <p:spPr>
            <a:xfrm>
              <a:off x="5175360" y="5553000"/>
              <a:ext cx="191520" cy="28692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8"/>
                  </a:moveTo>
                  <a:lnTo>
                    <a:pt x="121" y="181"/>
                  </a:lnTo>
                  <a:lnTo>
                    <a:pt x="11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"/>
            <p:cNvSpPr/>
            <p:nvPr/>
          </p:nvSpPr>
          <p:spPr>
            <a:xfrm>
              <a:off x="3312000" y="4088160"/>
              <a:ext cx="1118880" cy="563040"/>
            </a:xfrm>
            <a:custGeom>
              <a:avLst/>
              <a:gdLst/>
              <a:ahLst/>
              <a:rect l="l" t="t" r="r" b="b"/>
              <a:pathLst>
                <a:path w="788" h="397">
                  <a:moveTo>
                    <a:pt x="748" y="3"/>
                  </a:moveTo>
                  <a:cubicBezTo>
                    <a:pt x="748" y="3"/>
                    <a:pt x="741" y="134"/>
                    <a:pt x="640" y="125"/>
                  </a:cubicBezTo>
                  <a:cubicBezTo>
                    <a:pt x="640" y="125"/>
                    <a:pt x="499" y="115"/>
                    <a:pt x="437" y="153"/>
                  </a:cubicBezTo>
                  <a:cubicBezTo>
                    <a:pt x="412" y="168"/>
                    <a:pt x="89" y="298"/>
                    <a:pt x="0" y="330"/>
                  </a:cubicBezTo>
                  <a:cubicBezTo>
                    <a:pt x="113" y="397"/>
                    <a:pt x="113" y="397"/>
                    <a:pt x="113" y="397"/>
                  </a:cubicBezTo>
                  <a:cubicBezTo>
                    <a:pt x="391" y="266"/>
                    <a:pt x="391" y="266"/>
                    <a:pt x="391" y="266"/>
                  </a:cubicBezTo>
                  <a:cubicBezTo>
                    <a:pt x="497" y="230"/>
                    <a:pt x="497" y="230"/>
                    <a:pt x="497" y="230"/>
                  </a:cubicBezTo>
                  <a:cubicBezTo>
                    <a:pt x="788" y="231"/>
                    <a:pt x="788" y="231"/>
                    <a:pt x="788" y="231"/>
                  </a:cubicBezTo>
                  <a:cubicBezTo>
                    <a:pt x="783" y="0"/>
                    <a:pt x="783" y="0"/>
                    <a:pt x="783" y="0"/>
                  </a:cubicBezTo>
                  <a:lnTo>
                    <a:pt x="748" y="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"/>
            <p:cNvSpPr/>
            <p:nvPr/>
          </p:nvSpPr>
          <p:spPr>
            <a:xfrm>
              <a:off x="3983400" y="4356360"/>
              <a:ext cx="447480" cy="88560"/>
            </a:xfrm>
            <a:custGeom>
              <a:avLst/>
              <a:gdLst/>
              <a:ahLst/>
              <a:rect l="l" t="t" r="r" b="b"/>
              <a:pathLst>
                <a:path w="315" h="63">
                  <a:moveTo>
                    <a:pt x="315" y="43"/>
                  </a:moveTo>
                  <a:cubicBezTo>
                    <a:pt x="314" y="2"/>
                    <a:pt x="314" y="2"/>
                    <a:pt x="314" y="2"/>
                  </a:cubicBezTo>
                  <a:cubicBezTo>
                    <a:pt x="314" y="2"/>
                    <a:pt x="235" y="0"/>
                    <a:pt x="83" y="8"/>
                  </a:cubicBezTo>
                  <a:cubicBezTo>
                    <a:pt x="0" y="13"/>
                    <a:pt x="0" y="40"/>
                    <a:pt x="18" y="63"/>
                  </a:cubicBezTo>
                  <a:lnTo>
                    <a:pt x="315" y="43"/>
                  </a:lnTo>
                  <a:close/>
                </a:path>
              </a:pathLst>
            </a:cu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>
              <a:off x="4422960" y="4084920"/>
              <a:ext cx="666720" cy="344160"/>
            </a:xfrm>
            <a:custGeom>
              <a:avLst/>
              <a:gdLst/>
              <a:ahLst/>
              <a:rect l="l" t="t" r="r" b="b"/>
              <a:pathLst>
                <a:path w="470" h="242">
                  <a:moveTo>
                    <a:pt x="350" y="242"/>
                  </a:moveTo>
                  <a:cubicBezTo>
                    <a:pt x="470" y="194"/>
                    <a:pt x="470" y="194"/>
                    <a:pt x="470" y="194"/>
                  </a:cubicBezTo>
                  <a:cubicBezTo>
                    <a:pt x="416" y="146"/>
                    <a:pt x="416" y="146"/>
                    <a:pt x="416" y="146"/>
                  </a:cubicBezTo>
                  <a:cubicBezTo>
                    <a:pt x="367" y="101"/>
                    <a:pt x="377" y="120"/>
                    <a:pt x="352" y="108"/>
                  </a:cubicBezTo>
                  <a:cubicBezTo>
                    <a:pt x="289" y="78"/>
                    <a:pt x="149" y="107"/>
                    <a:pt x="149" y="107"/>
                  </a:cubicBezTo>
                  <a:cubicBezTo>
                    <a:pt x="48" y="130"/>
                    <a:pt x="35" y="0"/>
                    <a:pt x="35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296" y="192"/>
                    <a:pt x="296" y="192"/>
                    <a:pt x="296" y="192"/>
                  </a:cubicBezTo>
                  <a:lnTo>
                    <a:pt x="350" y="242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1"/>
            <p:cNvSpPr/>
            <p:nvPr/>
          </p:nvSpPr>
          <p:spPr>
            <a:xfrm>
              <a:off x="4429440" y="4315320"/>
              <a:ext cx="447480" cy="101160"/>
            </a:xfrm>
            <a:custGeom>
              <a:avLst/>
              <a:gdLst/>
              <a:ahLst/>
              <a:rect l="l" t="t" r="r" b="b"/>
              <a:pathLst>
                <a:path w="316" h="72">
                  <a:moveTo>
                    <a:pt x="299" y="52"/>
                  </a:moveTo>
                  <a:cubicBezTo>
                    <a:pt x="316" y="26"/>
                    <a:pt x="315" y="0"/>
                    <a:pt x="232" y="6"/>
                  </a:cubicBezTo>
                  <a:cubicBezTo>
                    <a:pt x="80" y="18"/>
                    <a:pt x="0" y="31"/>
                    <a:pt x="0" y="31"/>
                  </a:cubicBezTo>
                  <a:cubicBezTo>
                    <a:pt x="1" y="72"/>
                    <a:pt x="1" y="72"/>
                    <a:pt x="1" y="72"/>
                  </a:cubicBezTo>
                  <a:lnTo>
                    <a:pt x="299" y="52"/>
                  </a:lnTo>
                  <a:close/>
                </a:path>
              </a:pathLst>
            </a:cu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2"/>
            <p:cNvSpPr/>
            <p:nvPr/>
          </p:nvSpPr>
          <p:spPr>
            <a:xfrm>
              <a:off x="4807080" y="4361040"/>
              <a:ext cx="532800" cy="60948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71" y="43"/>
                  </a:moveTo>
                  <a:lnTo>
                    <a:pt x="213" y="177"/>
                  </a:lnTo>
                  <a:lnTo>
                    <a:pt x="0" y="363"/>
                  </a:lnTo>
                  <a:lnTo>
                    <a:pt x="52" y="384"/>
                  </a:lnTo>
                  <a:lnTo>
                    <a:pt x="336" y="172"/>
                  </a:lnTo>
                  <a:lnTo>
                    <a:pt x="178" y="0"/>
                  </a:lnTo>
                  <a:lnTo>
                    <a:pt x="71" y="4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4003920" y="4402440"/>
              <a:ext cx="450720" cy="1090440"/>
            </a:xfrm>
            <a:custGeom>
              <a:avLst/>
              <a:gdLst/>
              <a:ahLst/>
              <a:rect l="l" t="t" r="r" b="b"/>
              <a:pathLst>
                <a:path w="317" h="769">
                  <a:moveTo>
                    <a:pt x="82" y="0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233" y="352"/>
                    <a:pt x="165" y="416"/>
                  </a:cubicBezTo>
                  <a:cubicBezTo>
                    <a:pt x="97" y="480"/>
                    <a:pt x="0" y="635"/>
                    <a:pt x="149" y="769"/>
                  </a:cubicBezTo>
                  <a:cubicBezTo>
                    <a:pt x="317" y="757"/>
                    <a:pt x="317" y="757"/>
                    <a:pt x="317" y="757"/>
                  </a:cubicBezTo>
                  <a:cubicBezTo>
                    <a:pt x="300" y="5"/>
                    <a:pt x="300" y="5"/>
                    <a:pt x="300" y="5"/>
                  </a:cubicBezTo>
                  <a:lnTo>
                    <a:pt x="82" y="0"/>
                  </a:lnTo>
                  <a:close/>
                </a:path>
              </a:pathLst>
            </a:cu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"/>
            <p:cNvSpPr/>
            <p:nvPr/>
          </p:nvSpPr>
          <p:spPr>
            <a:xfrm>
              <a:off x="4431240" y="4359600"/>
              <a:ext cx="466200" cy="1115640"/>
            </a:xfrm>
            <a:custGeom>
              <a:avLst/>
              <a:gdLst/>
              <a:ahLst/>
              <a:rect l="l" t="t" r="r" b="b"/>
              <a:pathLst>
                <a:path w="329" h="787">
                  <a:moveTo>
                    <a:pt x="218" y="0"/>
                  </a:moveTo>
                  <a:cubicBezTo>
                    <a:pt x="299" y="24"/>
                    <a:pt x="299" y="24"/>
                    <a:pt x="299" y="24"/>
                  </a:cubicBezTo>
                  <a:cubicBezTo>
                    <a:pt x="299" y="24"/>
                    <a:pt x="83" y="371"/>
                    <a:pt x="154" y="426"/>
                  </a:cubicBezTo>
                  <a:cubicBezTo>
                    <a:pt x="224" y="481"/>
                    <a:pt x="329" y="622"/>
                    <a:pt x="186" y="776"/>
                  </a:cubicBezTo>
                  <a:cubicBezTo>
                    <a:pt x="17" y="787"/>
                    <a:pt x="17" y="787"/>
                    <a:pt x="17" y="787"/>
                  </a:cubicBezTo>
                  <a:cubicBezTo>
                    <a:pt x="0" y="35"/>
                    <a:pt x="0" y="35"/>
                    <a:pt x="0" y="35"/>
                  </a:cubicBezTo>
                  <a:lnTo>
                    <a:pt x="218" y="0"/>
                  </a:lnTo>
                  <a:close/>
                </a:path>
              </a:pathLst>
            </a:cu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"/>
            <p:cNvSpPr/>
            <p:nvPr/>
          </p:nvSpPr>
          <p:spPr>
            <a:xfrm>
              <a:off x="4668840" y="4867560"/>
              <a:ext cx="604440" cy="272880"/>
            </a:xfrm>
            <a:custGeom>
              <a:avLst/>
              <a:gdLst/>
              <a:ahLst/>
              <a:rect l="l" t="t" r="r" b="b"/>
              <a:pathLst>
                <a:path w="427" h="193">
                  <a:moveTo>
                    <a:pt x="168" y="3"/>
                  </a:moveTo>
                  <a:cubicBezTo>
                    <a:pt x="168" y="3"/>
                    <a:pt x="0" y="71"/>
                    <a:pt x="71" y="106"/>
                  </a:cubicBezTo>
                  <a:cubicBezTo>
                    <a:pt x="142" y="141"/>
                    <a:pt x="427" y="193"/>
                    <a:pt x="284" y="121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5"/>
                    <a:pt x="211" y="36"/>
                    <a:pt x="199" y="20"/>
                  </a:cubicBezTo>
                  <a:cubicBezTo>
                    <a:pt x="188" y="3"/>
                    <a:pt x="175" y="0"/>
                    <a:pt x="168" y="3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6"/>
            <p:cNvSpPr/>
            <p:nvPr/>
          </p:nvSpPr>
          <p:spPr>
            <a:xfrm>
              <a:off x="3754800" y="2759760"/>
              <a:ext cx="1238040" cy="1710720"/>
            </a:xfrm>
            <a:custGeom>
              <a:avLst/>
              <a:gdLst/>
              <a:ahLst/>
              <a:rect l="l" t="t" r="r" b="b"/>
              <a:pathLst>
                <a:path w="873" h="1206">
                  <a:moveTo>
                    <a:pt x="744" y="473"/>
                  </a:moveTo>
                  <a:cubicBezTo>
                    <a:pt x="873" y="242"/>
                    <a:pt x="873" y="242"/>
                    <a:pt x="873" y="242"/>
                  </a:cubicBezTo>
                  <a:cubicBezTo>
                    <a:pt x="873" y="242"/>
                    <a:pt x="567" y="0"/>
                    <a:pt x="442" y="218"/>
                  </a:cubicBezTo>
                  <a:cubicBezTo>
                    <a:pt x="317" y="437"/>
                    <a:pt x="259" y="893"/>
                    <a:pt x="201" y="938"/>
                  </a:cubicBezTo>
                  <a:cubicBezTo>
                    <a:pt x="201" y="938"/>
                    <a:pt x="99" y="1048"/>
                    <a:pt x="0" y="978"/>
                  </a:cubicBezTo>
                  <a:cubicBezTo>
                    <a:pt x="0" y="978"/>
                    <a:pt x="168" y="1206"/>
                    <a:pt x="410" y="923"/>
                  </a:cubicBezTo>
                  <a:cubicBezTo>
                    <a:pt x="651" y="640"/>
                    <a:pt x="744" y="473"/>
                    <a:pt x="744" y="473"/>
                  </a:cubicBezTo>
                  <a:close/>
                </a:path>
              </a:pathLst>
            </a:cu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7"/>
            <p:cNvSpPr/>
            <p:nvPr/>
          </p:nvSpPr>
          <p:spPr>
            <a:xfrm>
              <a:off x="4356360" y="3104280"/>
              <a:ext cx="1152360" cy="1598040"/>
            </a:xfrm>
            <a:custGeom>
              <a:avLst/>
              <a:gdLst/>
              <a:ahLst/>
              <a:rect l="l" t="t" r="r" b="b"/>
              <a:pathLst>
                <a:path w="812" h="1127">
                  <a:moveTo>
                    <a:pt x="320" y="231"/>
                  </a:moveTo>
                  <a:cubicBezTo>
                    <a:pt x="449" y="0"/>
                    <a:pt x="449" y="0"/>
                    <a:pt x="449" y="0"/>
                  </a:cubicBezTo>
                  <a:cubicBezTo>
                    <a:pt x="449" y="0"/>
                    <a:pt x="812" y="129"/>
                    <a:pt x="692" y="351"/>
                  </a:cubicBezTo>
                  <a:cubicBezTo>
                    <a:pt x="572" y="573"/>
                    <a:pt x="216" y="864"/>
                    <a:pt x="209" y="936"/>
                  </a:cubicBezTo>
                  <a:cubicBezTo>
                    <a:pt x="209" y="936"/>
                    <a:pt x="168" y="1081"/>
                    <a:pt x="280" y="1127"/>
                  </a:cubicBezTo>
                  <a:cubicBezTo>
                    <a:pt x="280" y="1127"/>
                    <a:pt x="0" y="1106"/>
                    <a:pt x="114" y="752"/>
                  </a:cubicBezTo>
                  <a:cubicBezTo>
                    <a:pt x="227" y="398"/>
                    <a:pt x="320" y="231"/>
                    <a:pt x="320" y="231"/>
                  </a:cubicBezTo>
                  <a:close/>
                </a:path>
              </a:pathLst>
            </a:cu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4496040" y="3592800"/>
              <a:ext cx="657000" cy="65844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464" y="22"/>
                  </a:moveTo>
                  <a:cubicBezTo>
                    <a:pt x="362" y="15"/>
                    <a:pt x="249" y="0"/>
                    <a:pt x="155" y="54"/>
                  </a:cubicBezTo>
                  <a:cubicBezTo>
                    <a:pt x="150" y="58"/>
                    <a:pt x="145" y="61"/>
                    <a:pt x="140" y="65"/>
                  </a:cubicBezTo>
                  <a:cubicBezTo>
                    <a:pt x="105" y="148"/>
                    <a:pt x="62" y="262"/>
                    <a:pt x="16" y="407"/>
                  </a:cubicBezTo>
                  <a:cubicBezTo>
                    <a:pt x="9" y="427"/>
                    <a:pt x="4" y="446"/>
                    <a:pt x="0" y="464"/>
                  </a:cubicBezTo>
                  <a:cubicBezTo>
                    <a:pt x="7" y="457"/>
                    <a:pt x="16" y="451"/>
                    <a:pt x="22" y="447"/>
                  </a:cubicBezTo>
                  <a:cubicBezTo>
                    <a:pt x="223" y="390"/>
                    <a:pt x="438" y="234"/>
                    <a:pt x="464" y="22"/>
                  </a:cubicBezTo>
                  <a:close/>
                </a:path>
              </a:pathLst>
            </a:custGeom>
            <a:solidFill>
              <a:srgbClr val="dd9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9"/>
            <p:cNvSpPr/>
            <p:nvPr/>
          </p:nvSpPr>
          <p:spPr>
            <a:xfrm>
              <a:off x="4202640" y="3240720"/>
              <a:ext cx="453600" cy="890280"/>
            </a:xfrm>
            <a:custGeom>
              <a:avLst/>
              <a:gdLst/>
              <a:ahLst/>
              <a:rect l="l" t="t" r="r" b="b"/>
              <a:pathLst>
                <a:path w="320" h="627">
                  <a:moveTo>
                    <a:pt x="185" y="0"/>
                  </a:moveTo>
                  <a:cubicBezTo>
                    <a:pt x="245" y="83"/>
                    <a:pt x="317" y="171"/>
                    <a:pt x="320" y="279"/>
                  </a:cubicBezTo>
                  <a:cubicBezTo>
                    <a:pt x="320" y="285"/>
                    <a:pt x="320" y="292"/>
                    <a:pt x="320" y="298"/>
                  </a:cubicBezTo>
                  <a:cubicBezTo>
                    <a:pt x="267" y="371"/>
                    <a:pt x="193" y="468"/>
                    <a:pt x="95" y="584"/>
                  </a:cubicBezTo>
                  <a:cubicBezTo>
                    <a:pt x="81" y="600"/>
                    <a:pt x="68" y="614"/>
                    <a:pt x="54" y="627"/>
                  </a:cubicBezTo>
                  <a:cubicBezTo>
                    <a:pt x="57" y="617"/>
                    <a:pt x="57" y="607"/>
                    <a:pt x="57" y="600"/>
                  </a:cubicBezTo>
                  <a:cubicBezTo>
                    <a:pt x="0" y="398"/>
                    <a:pt x="18" y="134"/>
                    <a:pt x="185" y="0"/>
                  </a:cubicBezTo>
                  <a:close/>
                </a:path>
              </a:pathLst>
            </a:custGeom>
            <a:solidFill>
              <a:srgbClr val="e5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0"/>
            <p:cNvSpPr/>
            <p:nvPr/>
          </p:nvSpPr>
          <p:spPr>
            <a:xfrm>
              <a:off x="4108680" y="3239280"/>
              <a:ext cx="714240" cy="918720"/>
            </a:xfrm>
            <a:custGeom>
              <a:avLst/>
              <a:gdLst/>
              <a:ahLst/>
              <a:rect l="l" t="t" r="r" b="b"/>
              <a:pathLst>
                <a:path w="504" h="648">
                  <a:moveTo>
                    <a:pt x="247" y="0"/>
                  </a:moveTo>
                  <a:cubicBezTo>
                    <a:pt x="247" y="0"/>
                    <a:pt x="0" y="442"/>
                    <a:pt x="210" y="648"/>
                  </a:cubicBezTo>
                  <a:cubicBezTo>
                    <a:pt x="504" y="120"/>
                    <a:pt x="504" y="120"/>
                    <a:pt x="504" y="120"/>
                  </a:cubicBezTo>
                  <a:lnTo>
                    <a:pt x="247" y="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"/>
            <p:cNvSpPr/>
            <p:nvPr/>
          </p:nvSpPr>
          <p:spPr>
            <a:xfrm>
              <a:off x="4405680" y="3409200"/>
              <a:ext cx="753840" cy="847080"/>
            </a:xfrm>
            <a:custGeom>
              <a:avLst/>
              <a:gdLst/>
              <a:ahLst/>
              <a:rect l="l" t="t" r="r" b="b"/>
              <a:pathLst>
                <a:path w="531" h="597">
                  <a:moveTo>
                    <a:pt x="531" y="155"/>
                  </a:moveTo>
                  <a:cubicBezTo>
                    <a:pt x="531" y="155"/>
                    <a:pt x="286" y="597"/>
                    <a:pt x="0" y="528"/>
                  </a:cubicBezTo>
                  <a:cubicBezTo>
                    <a:pt x="294" y="0"/>
                    <a:pt x="294" y="0"/>
                    <a:pt x="294" y="0"/>
                  </a:cubicBezTo>
                  <a:lnTo>
                    <a:pt x="531" y="155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>
              <a:off x="4351680" y="3765960"/>
              <a:ext cx="163080" cy="29484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116" y="137"/>
                  </a:moveTo>
                  <a:cubicBezTo>
                    <a:pt x="86" y="119"/>
                    <a:pt x="28" y="77"/>
                    <a:pt x="0" y="0"/>
                  </a:cubicBezTo>
                  <a:cubicBezTo>
                    <a:pt x="0" y="0"/>
                    <a:pt x="10" y="166"/>
                    <a:pt x="77" y="208"/>
                  </a:cubicBezTo>
                  <a:lnTo>
                    <a:pt x="116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3"/>
            <p:cNvSpPr/>
            <p:nvPr/>
          </p:nvSpPr>
          <p:spPr>
            <a:xfrm>
              <a:off x="4459680" y="3961080"/>
              <a:ext cx="307440" cy="149040"/>
            </a:xfrm>
            <a:custGeom>
              <a:avLst/>
              <a:gdLst/>
              <a:ahLst/>
              <a:rect l="l" t="t" r="r" b="b"/>
              <a:pathLst>
                <a:path w="217" h="106">
                  <a:moveTo>
                    <a:pt x="39" y="0"/>
                  </a:moveTo>
                  <a:cubicBezTo>
                    <a:pt x="71" y="17"/>
                    <a:pt x="137" y="43"/>
                    <a:pt x="217" y="27"/>
                  </a:cubicBezTo>
                  <a:cubicBezTo>
                    <a:pt x="217" y="27"/>
                    <a:pt x="71" y="106"/>
                    <a:pt x="0" y="71"/>
                  </a:cubicBezTo>
                  <a:lnTo>
                    <a:pt x="39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4"/>
            <p:cNvSpPr/>
            <p:nvPr/>
          </p:nvSpPr>
          <p:spPr>
            <a:xfrm>
              <a:off x="4442040" y="3391560"/>
              <a:ext cx="231480" cy="20916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0" y="11"/>
                  </a:moveTo>
                  <a:cubicBezTo>
                    <a:pt x="0" y="11"/>
                    <a:pt x="14" y="147"/>
                    <a:pt x="164" y="142"/>
                  </a:cubicBezTo>
                  <a:cubicBezTo>
                    <a:pt x="164" y="142"/>
                    <a:pt x="153" y="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5"/>
            <p:cNvSpPr/>
            <p:nvPr/>
          </p:nvSpPr>
          <p:spPr>
            <a:xfrm>
              <a:off x="4480200" y="3423240"/>
              <a:ext cx="80640" cy="7920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0" y="40"/>
                  </a:moveTo>
                  <a:cubicBezTo>
                    <a:pt x="43" y="52"/>
                    <a:pt x="28" y="56"/>
                    <a:pt x="16" y="49"/>
                  </a:cubicBezTo>
                  <a:cubicBezTo>
                    <a:pt x="4" y="43"/>
                    <a:pt x="0" y="28"/>
                    <a:pt x="7" y="16"/>
                  </a:cubicBezTo>
                  <a:cubicBezTo>
                    <a:pt x="13" y="4"/>
                    <a:pt x="28" y="0"/>
                    <a:pt x="40" y="6"/>
                  </a:cubicBezTo>
                  <a:cubicBezTo>
                    <a:pt x="52" y="13"/>
                    <a:pt x="57" y="28"/>
                    <a:pt x="50" y="40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4738680" y="3535560"/>
              <a:ext cx="280800" cy="27900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199" y="136"/>
                  </a:moveTo>
                  <a:cubicBezTo>
                    <a:pt x="199" y="136"/>
                    <a:pt x="76" y="196"/>
                    <a:pt x="0" y="65"/>
                  </a:cubicBezTo>
                  <a:cubicBezTo>
                    <a:pt x="0" y="65"/>
                    <a:pt x="127" y="0"/>
                    <a:pt x="199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7"/>
            <p:cNvSpPr/>
            <p:nvPr/>
          </p:nvSpPr>
          <p:spPr>
            <a:xfrm>
              <a:off x="4822920" y="3613320"/>
              <a:ext cx="80640" cy="80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7" y="16"/>
                  </a:moveTo>
                  <a:cubicBezTo>
                    <a:pt x="0" y="28"/>
                    <a:pt x="5" y="43"/>
                    <a:pt x="16" y="50"/>
                  </a:cubicBezTo>
                  <a:cubicBezTo>
                    <a:pt x="28" y="57"/>
                    <a:pt x="43" y="52"/>
                    <a:pt x="50" y="41"/>
                  </a:cubicBezTo>
                  <a:cubicBezTo>
                    <a:pt x="57" y="29"/>
                    <a:pt x="52" y="14"/>
                    <a:pt x="40" y="7"/>
                  </a:cubicBezTo>
                  <a:cubicBezTo>
                    <a:pt x="29" y="0"/>
                    <a:pt x="13" y="5"/>
                    <a:pt x="7" y="16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8"/>
            <p:cNvSpPr/>
            <p:nvPr/>
          </p:nvSpPr>
          <p:spPr>
            <a:xfrm>
              <a:off x="4511880" y="3802320"/>
              <a:ext cx="60120" cy="7416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0"/>
                  </a:moveTo>
                  <a:cubicBezTo>
                    <a:pt x="0" y="0"/>
                    <a:pt x="7" y="36"/>
                    <a:pt x="36" y="52"/>
                  </a:cubicBezTo>
                  <a:cubicBezTo>
                    <a:pt x="43" y="40"/>
                    <a:pt x="43" y="40"/>
                    <a:pt x="43" y="40"/>
                  </a:cubicBezTo>
                  <a:cubicBezTo>
                    <a:pt x="43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563000" y="3859560"/>
              <a:ext cx="90000" cy="392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64" y="15"/>
                  </a:moveTo>
                  <a:cubicBezTo>
                    <a:pt x="64" y="15"/>
                    <a:pt x="30" y="28"/>
                    <a:pt x="0" y="1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2" y="23"/>
                    <a:pt x="64" y="15"/>
                  </a:cubicBezTo>
                  <a:close/>
                </a:path>
              </a:pathLst>
            </a:cu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0"/>
            <p:cNvSpPr/>
            <p:nvPr/>
          </p:nvSpPr>
          <p:spPr>
            <a:xfrm>
              <a:off x="4418280" y="3239280"/>
              <a:ext cx="404640" cy="221760"/>
            </a:xfrm>
            <a:custGeom>
              <a:avLst/>
              <a:gdLst/>
              <a:ahLst/>
              <a:rect l="l" t="t" r="r" b="b"/>
              <a:pathLst>
                <a:path w="285" h="157">
                  <a:moveTo>
                    <a:pt x="28" y="0"/>
                  </a:moveTo>
                  <a:cubicBezTo>
                    <a:pt x="28" y="0"/>
                    <a:pt x="17" y="22"/>
                    <a:pt x="0" y="57"/>
                  </a:cubicBezTo>
                  <a:cubicBezTo>
                    <a:pt x="100" y="60"/>
                    <a:pt x="183" y="106"/>
                    <a:pt x="264" y="157"/>
                  </a:cubicBezTo>
                  <a:cubicBezTo>
                    <a:pt x="285" y="120"/>
                    <a:pt x="285" y="120"/>
                    <a:pt x="285" y="12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1"/>
            <p:cNvSpPr/>
            <p:nvPr/>
          </p:nvSpPr>
          <p:spPr>
            <a:xfrm>
              <a:off x="4792680" y="3409200"/>
              <a:ext cx="366480" cy="286920"/>
            </a:xfrm>
            <a:custGeom>
              <a:avLst/>
              <a:gdLst/>
              <a:ahLst/>
              <a:rect l="l" t="t" r="r" b="b"/>
              <a:pathLst>
                <a:path w="258" h="203">
                  <a:moveTo>
                    <a:pt x="163" y="136"/>
                  </a:moveTo>
                  <a:cubicBezTo>
                    <a:pt x="187" y="149"/>
                    <a:pt x="209" y="179"/>
                    <a:pt x="228" y="203"/>
                  </a:cubicBezTo>
                  <a:cubicBezTo>
                    <a:pt x="247" y="174"/>
                    <a:pt x="258" y="155"/>
                    <a:pt x="258" y="15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4" y="71"/>
                    <a:pt x="107" y="107"/>
                    <a:pt x="163" y="136"/>
                  </a:cubicBezTo>
                  <a:close/>
                </a:path>
              </a:pathLst>
            </a:custGeom>
            <a:solidFill>
              <a:srgbClr val="deb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4283280" y="2559600"/>
              <a:ext cx="803160" cy="834840"/>
            </a:xfrm>
            <a:custGeom>
              <a:avLst/>
              <a:gdLst/>
              <a:ahLst/>
              <a:rect l="l" t="t" r="r" b="b"/>
              <a:pathLst>
                <a:path w="567" h="588">
                  <a:moveTo>
                    <a:pt x="567" y="262"/>
                  </a:moveTo>
                  <a:cubicBezTo>
                    <a:pt x="567" y="262"/>
                    <a:pt x="273" y="0"/>
                    <a:pt x="102" y="301"/>
                  </a:cubicBezTo>
                  <a:cubicBezTo>
                    <a:pt x="67" y="364"/>
                    <a:pt x="33" y="439"/>
                    <a:pt x="0" y="520"/>
                  </a:cubicBezTo>
                  <a:cubicBezTo>
                    <a:pt x="6" y="528"/>
                    <a:pt x="15" y="531"/>
                    <a:pt x="24" y="524"/>
                  </a:cubicBezTo>
                  <a:cubicBezTo>
                    <a:pt x="179" y="431"/>
                    <a:pt x="285" y="521"/>
                    <a:pt x="386" y="588"/>
                  </a:cubicBezTo>
                  <a:cubicBezTo>
                    <a:pt x="389" y="584"/>
                    <a:pt x="390" y="581"/>
                    <a:pt x="390" y="581"/>
                  </a:cubicBezTo>
                  <a:lnTo>
                    <a:pt x="567" y="262"/>
                  </a:lnTo>
                  <a:close/>
                </a:path>
              </a:pathLst>
            </a:cu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3"/>
            <p:cNvSpPr/>
            <p:nvPr/>
          </p:nvSpPr>
          <p:spPr>
            <a:xfrm>
              <a:off x="4830840" y="2932920"/>
              <a:ext cx="785520" cy="871200"/>
            </a:xfrm>
            <a:custGeom>
              <a:avLst/>
              <a:gdLst/>
              <a:ahLst/>
              <a:rect l="l" t="t" r="r" b="b"/>
              <a:pathLst>
                <a:path w="554" h="615">
                  <a:moveTo>
                    <a:pt x="181" y="0"/>
                  </a:moveTo>
                  <a:cubicBezTo>
                    <a:pt x="181" y="0"/>
                    <a:pt x="554" y="109"/>
                    <a:pt x="389" y="413"/>
                  </a:cubicBezTo>
                  <a:cubicBezTo>
                    <a:pt x="354" y="476"/>
                    <a:pt x="308" y="545"/>
                    <a:pt x="257" y="615"/>
                  </a:cubicBezTo>
                  <a:cubicBezTo>
                    <a:pt x="247" y="615"/>
                    <a:pt x="240" y="609"/>
                    <a:pt x="241" y="597"/>
                  </a:cubicBezTo>
                  <a:cubicBezTo>
                    <a:pt x="240" y="417"/>
                    <a:pt x="109" y="376"/>
                    <a:pt x="0" y="326"/>
                  </a:cubicBezTo>
                  <a:cubicBezTo>
                    <a:pt x="3" y="322"/>
                    <a:pt x="4" y="319"/>
                    <a:pt x="4" y="319"/>
                  </a:cubicBezTo>
                  <a:lnTo>
                    <a:pt x="181" y="0"/>
                  </a:lnTo>
                  <a:close/>
                </a:path>
              </a:pathLst>
            </a:cu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3532680" y="6429240"/>
              <a:ext cx="96480" cy="15372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0" y="77"/>
                  </a:moveTo>
                  <a:cubicBezTo>
                    <a:pt x="0" y="94"/>
                    <a:pt x="14" y="108"/>
                    <a:pt x="31" y="108"/>
                  </a:cubicBezTo>
                  <a:cubicBezTo>
                    <a:pt x="38" y="108"/>
                    <a:pt x="38" y="108"/>
                    <a:pt x="38" y="108"/>
                  </a:cubicBezTo>
                  <a:cubicBezTo>
                    <a:pt x="55" y="108"/>
                    <a:pt x="68" y="94"/>
                    <a:pt x="68" y="77"/>
                  </a:cubicBezTo>
                  <a:cubicBezTo>
                    <a:pt x="68" y="31"/>
                    <a:pt x="68" y="31"/>
                    <a:pt x="68" y="31"/>
                  </a:cubicBezTo>
                  <a:cubicBezTo>
                    <a:pt x="68" y="14"/>
                    <a:pt x="55" y="0"/>
                    <a:pt x="38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14" y="0"/>
                    <a:pt x="0" y="14"/>
                    <a:pt x="0" y="31"/>
                  </a:cubicBezTo>
                  <a:lnTo>
                    <a:pt x="0" y="77"/>
                  </a:lnTo>
                  <a:close/>
                </a:path>
              </a:pathLst>
            </a:custGeom>
            <a:solidFill>
              <a:srgbClr val="e0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3495960" y="6502320"/>
              <a:ext cx="604440" cy="139320"/>
            </a:xfrm>
            <a:custGeom>
              <a:avLst/>
              <a:gdLst/>
              <a:ahLst/>
              <a:rect l="l" t="t" r="r" b="b"/>
              <a:pathLst>
                <a:path w="427" h="99">
                  <a:moveTo>
                    <a:pt x="14" y="34"/>
                  </a:moveTo>
                  <a:cubicBezTo>
                    <a:pt x="60" y="51"/>
                    <a:pt x="130" y="50"/>
                    <a:pt x="152" y="0"/>
                  </a:cubicBezTo>
                  <a:cubicBezTo>
                    <a:pt x="350" y="43"/>
                    <a:pt x="350" y="43"/>
                    <a:pt x="350" y="43"/>
                  </a:cubicBezTo>
                  <a:cubicBezTo>
                    <a:pt x="427" y="99"/>
                    <a:pt x="427" y="99"/>
                    <a:pt x="427" y="99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10" y="63"/>
                    <a:pt x="17" y="53"/>
                    <a:pt x="14" y="34"/>
                  </a:cubicBezTo>
                  <a:close/>
                </a:path>
              </a:pathLst>
            </a:custGeom>
            <a:solidFill>
              <a:srgbClr val="9e6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3494520" y="6496200"/>
              <a:ext cx="215640" cy="99360"/>
            </a:xfrm>
            <a:custGeom>
              <a:avLst/>
              <a:gdLst/>
              <a:ahLst/>
              <a:rect l="l" t="t" r="r" b="b"/>
              <a:pathLst>
                <a:path w="153" h="71">
                  <a:moveTo>
                    <a:pt x="120" y="15"/>
                  </a:moveTo>
                  <a:cubicBezTo>
                    <a:pt x="127" y="12"/>
                    <a:pt x="132" y="7"/>
                    <a:pt x="135" y="0"/>
                  </a:cubicBezTo>
                  <a:cubicBezTo>
                    <a:pt x="153" y="4"/>
                    <a:pt x="153" y="4"/>
                    <a:pt x="153" y="4"/>
                  </a:cubicBezTo>
                  <a:cubicBezTo>
                    <a:pt x="131" y="54"/>
                    <a:pt x="61" y="55"/>
                    <a:pt x="15" y="38"/>
                  </a:cubicBezTo>
                  <a:cubicBezTo>
                    <a:pt x="18" y="57"/>
                    <a:pt x="11" y="67"/>
                    <a:pt x="1" y="7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36" y="35"/>
                    <a:pt x="80" y="34"/>
                    <a:pt x="120" y="15"/>
                  </a:cubicBezTo>
                  <a:close/>
                </a:path>
              </a:pathLst>
            </a:custGeom>
            <a:solidFill>
              <a:srgbClr val="805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7"/>
            <p:cNvSpPr/>
            <p:nvPr/>
          </p:nvSpPr>
          <p:spPr>
            <a:xfrm>
              <a:off x="3475440" y="6630840"/>
              <a:ext cx="636120" cy="457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0" y="16"/>
                  </a:moveTo>
                  <a:cubicBezTo>
                    <a:pt x="0" y="25"/>
                    <a:pt x="8" y="32"/>
                    <a:pt x="17" y="32"/>
                  </a:cubicBezTo>
                  <a:cubicBezTo>
                    <a:pt x="431" y="32"/>
                    <a:pt x="431" y="32"/>
                    <a:pt x="431" y="32"/>
                  </a:cubicBezTo>
                  <a:cubicBezTo>
                    <a:pt x="441" y="32"/>
                    <a:pt x="448" y="25"/>
                    <a:pt x="448" y="16"/>
                  </a:cubicBezTo>
                  <a:cubicBezTo>
                    <a:pt x="448" y="16"/>
                    <a:pt x="448" y="16"/>
                    <a:pt x="448" y="16"/>
                  </a:cubicBezTo>
                  <a:cubicBezTo>
                    <a:pt x="448" y="7"/>
                    <a:pt x="441" y="0"/>
                    <a:pt x="431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8"/>
            <p:cNvSpPr/>
            <p:nvPr/>
          </p:nvSpPr>
          <p:spPr>
            <a:xfrm>
              <a:off x="3080160" y="6429240"/>
              <a:ext cx="94680" cy="153720"/>
            </a:xfrm>
            <a:custGeom>
              <a:avLst/>
              <a:gdLst/>
              <a:ahLst/>
              <a:rect l="l" t="t" r="r" b="b"/>
              <a:pathLst>
                <a:path w="68" h="108">
                  <a:moveTo>
                    <a:pt x="68" y="77"/>
                  </a:moveTo>
                  <a:cubicBezTo>
                    <a:pt x="68" y="94"/>
                    <a:pt x="54" y="108"/>
                    <a:pt x="37" y="108"/>
                  </a:cubicBezTo>
                  <a:cubicBezTo>
                    <a:pt x="31" y="108"/>
                    <a:pt x="31" y="108"/>
                    <a:pt x="31" y="108"/>
                  </a:cubicBezTo>
                  <a:cubicBezTo>
                    <a:pt x="14" y="108"/>
                    <a:pt x="0" y="94"/>
                    <a:pt x="0" y="7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14"/>
                    <a:pt x="14" y="0"/>
                    <a:pt x="31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4" y="0"/>
                    <a:pt x="68" y="14"/>
                    <a:pt x="68" y="31"/>
                  </a:cubicBezTo>
                  <a:lnTo>
                    <a:pt x="68" y="77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9"/>
            <p:cNvSpPr/>
            <p:nvPr/>
          </p:nvSpPr>
          <p:spPr>
            <a:xfrm>
              <a:off x="2607480" y="6502320"/>
              <a:ext cx="605880" cy="139320"/>
            </a:xfrm>
            <a:custGeom>
              <a:avLst/>
              <a:gdLst/>
              <a:ahLst/>
              <a:rect l="l" t="t" r="r" b="b"/>
              <a:pathLst>
                <a:path w="427" h="99">
                  <a:moveTo>
                    <a:pt x="413" y="34"/>
                  </a:moveTo>
                  <a:cubicBezTo>
                    <a:pt x="367" y="51"/>
                    <a:pt x="297" y="50"/>
                    <a:pt x="276" y="0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427" y="99"/>
                    <a:pt x="427" y="99"/>
                    <a:pt x="427" y="99"/>
                  </a:cubicBezTo>
                  <a:cubicBezTo>
                    <a:pt x="427" y="67"/>
                    <a:pt x="427" y="67"/>
                    <a:pt x="427" y="67"/>
                  </a:cubicBezTo>
                  <a:cubicBezTo>
                    <a:pt x="417" y="63"/>
                    <a:pt x="410" y="53"/>
                    <a:pt x="413" y="34"/>
                  </a:cubicBezTo>
                  <a:close/>
                </a:path>
              </a:pathLst>
            </a:cu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0"/>
            <p:cNvSpPr/>
            <p:nvPr/>
          </p:nvSpPr>
          <p:spPr>
            <a:xfrm>
              <a:off x="2999520" y="6496200"/>
              <a:ext cx="215640" cy="99360"/>
            </a:xfrm>
            <a:custGeom>
              <a:avLst/>
              <a:gdLst/>
              <a:ahLst/>
              <a:rect l="l" t="t" r="r" b="b"/>
              <a:pathLst>
                <a:path w="152" h="71">
                  <a:moveTo>
                    <a:pt x="32" y="15"/>
                  </a:moveTo>
                  <a:cubicBezTo>
                    <a:pt x="25" y="12"/>
                    <a:pt x="20" y="7"/>
                    <a:pt x="17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1" y="54"/>
                    <a:pt x="91" y="55"/>
                    <a:pt x="137" y="38"/>
                  </a:cubicBezTo>
                  <a:cubicBezTo>
                    <a:pt x="134" y="57"/>
                    <a:pt x="141" y="67"/>
                    <a:pt x="151" y="71"/>
                  </a:cubicBezTo>
                  <a:cubicBezTo>
                    <a:pt x="152" y="14"/>
                    <a:pt x="152" y="14"/>
                    <a:pt x="152" y="14"/>
                  </a:cubicBezTo>
                  <a:cubicBezTo>
                    <a:pt x="116" y="35"/>
                    <a:pt x="72" y="34"/>
                    <a:pt x="32" y="15"/>
                  </a:cubicBezTo>
                  <a:close/>
                </a:path>
              </a:pathLst>
            </a:custGeom>
            <a:solidFill>
              <a:srgbClr val="956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1"/>
            <p:cNvSpPr/>
            <p:nvPr/>
          </p:nvSpPr>
          <p:spPr>
            <a:xfrm>
              <a:off x="2597760" y="6630840"/>
              <a:ext cx="634680" cy="45720"/>
            </a:xfrm>
            <a:custGeom>
              <a:avLst/>
              <a:gdLst/>
              <a:ahLst/>
              <a:rect l="l" t="t" r="r" b="b"/>
              <a:pathLst>
                <a:path w="448" h="32">
                  <a:moveTo>
                    <a:pt x="448" y="16"/>
                  </a:moveTo>
                  <a:cubicBezTo>
                    <a:pt x="448" y="25"/>
                    <a:pt x="440" y="32"/>
                    <a:pt x="431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8" y="32"/>
                    <a:pt x="0" y="25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8" y="0"/>
                    <a:pt x="17" y="0"/>
                  </a:cubicBezTo>
                  <a:cubicBezTo>
                    <a:pt x="431" y="0"/>
                    <a:pt x="431" y="0"/>
                    <a:pt x="431" y="0"/>
                  </a:cubicBezTo>
                  <a:cubicBezTo>
                    <a:pt x="440" y="0"/>
                    <a:pt x="448" y="7"/>
                    <a:pt x="448" y="1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2"/>
            <p:cNvSpPr/>
            <p:nvPr/>
          </p:nvSpPr>
          <p:spPr>
            <a:xfrm>
              <a:off x="315360" y="306360"/>
              <a:ext cx="1512720" cy="2251800"/>
            </a:xfrm>
            <a:custGeom>
              <a:avLst/>
              <a:gdLst/>
              <a:ahLst/>
              <a:rect l="l" t="t" r="r" b="b"/>
              <a:pathLst>
                <a:path w="953" h="1419">
                  <a:moveTo>
                    <a:pt x="641" y="1384"/>
                  </a:moveTo>
                  <a:lnTo>
                    <a:pt x="550" y="1419"/>
                  </a:lnTo>
                  <a:lnTo>
                    <a:pt x="14" y="1221"/>
                  </a:lnTo>
                  <a:lnTo>
                    <a:pt x="0" y="34"/>
                  </a:lnTo>
                  <a:lnTo>
                    <a:pt x="92" y="0"/>
                  </a:lnTo>
                  <a:lnTo>
                    <a:pt x="953" y="89"/>
                  </a:lnTo>
                  <a:lnTo>
                    <a:pt x="641" y="138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3"/>
            <p:cNvSpPr/>
            <p:nvPr/>
          </p:nvSpPr>
          <p:spPr>
            <a:xfrm>
              <a:off x="191520" y="360000"/>
              <a:ext cx="1491840" cy="2197800"/>
            </a:xfrm>
            <a:custGeom>
              <a:avLst/>
              <a:gdLst/>
              <a:ahLst/>
              <a:rect l="l" t="t" r="r" b="b"/>
              <a:pathLst>
                <a:path w="940" h="1385">
                  <a:moveTo>
                    <a:pt x="628" y="1385"/>
                  </a:moveTo>
                  <a:lnTo>
                    <a:pt x="0" y="1222"/>
                  </a:lnTo>
                  <a:lnTo>
                    <a:pt x="78" y="0"/>
                  </a:lnTo>
                  <a:lnTo>
                    <a:pt x="940" y="89"/>
                  </a:lnTo>
                  <a:lnTo>
                    <a:pt x="772" y="787"/>
                  </a:lnTo>
                  <a:lnTo>
                    <a:pt x="628" y="138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4"/>
            <p:cNvSpPr/>
            <p:nvPr/>
          </p:nvSpPr>
          <p:spPr>
            <a:xfrm>
              <a:off x="0" y="1048680"/>
              <a:ext cx="2693160" cy="3152160"/>
            </a:xfrm>
            <a:custGeom>
              <a:avLst/>
              <a:gdLst/>
              <a:ahLst/>
              <a:rect l="l" t="t" r="r" b="b"/>
              <a:pathLst>
                <a:path w="1697" h="1986">
                  <a:moveTo>
                    <a:pt x="0" y="863"/>
                  </a:moveTo>
                  <a:lnTo>
                    <a:pt x="124" y="0"/>
                  </a:lnTo>
                  <a:lnTo>
                    <a:pt x="726" y="123"/>
                  </a:lnTo>
                  <a:lnTo>
                    <a:pt x="562" y="902"/>
                  </a:lnTo>
                  <a:lnTo>
                    <a:pt x="1697" y="1883"/>
                  </a:lnTo>
                  <a:lnTo>
                    <a:pt x="1631" y="1986"/>
                  </a:lnTo>
                  <a:lnTo>
                    <a:pt x="0" y="863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5"/>
            <p:cNvSpPr/>
            <p:nvPr/>
          </p:nvSpPr>
          <p:spPr>
            <a:xfrm>
              <a:off x="2485080" y="4008600"/>
              <a:ext cx="865080" cy="1380960"/>
            </a:xfrm>
            <a:custGeom>
              <a:avLst/>
              <a:gdLst/>
              <a:ahLst/>
              <a:rect l="l" t="t" r="r" b="b"/>
              <a:pathLst>
                <a:path w="545" h="870">
                  <a:moveTo>
                    <a:pt x="545" y="146"/>
                  </a:moveTo>
                  <a:lnTo>
                    <a:pt x="545" y="870"/>
                  </a:lnTo>
                  <a:lnTo>
                    <a:pt x="292" y="870"/>
                  </a:lnTo>
                  <a:lnTo>
                    <a:pt x="292" y="308"/>
                  </a:lnTo>
                  <a:lnTo>
                    <a:pt x="0" y="140"/>
                  </a:lnTo>
                  <a:lnTo>
                    <a:pt x="143" y="0"/>
                  </a:lnTo>
                  <a:lnTo>
                    <a:pt x="334" y="124"/>
                  </a:lnTo>
                  <a:lnTo>
                    <a:pt x="545" y="146"/>
                  </a:lnTo>
                  <a:close/>
                </a:path>
              </a:pathLst>
            </a:cu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6"/>
            <p:cNvSpPr/>
            <p:nvPr/>
          </p:nvSpPr>
          <p:spPr>
            <a:xfrm>
              <a:off x="3350160" y="4204080"/>
              <a:ext cx="718560" cy="1185480"/>
            </a:xfrm>
            <a:custGeom>
              <a:avLst/>
              <a:gdLst/>
              <a:ahLst/>
              <a:rect l="l" t="t" r="r" b="b"/>
              <a:pathLst>
                <a:path w="453" h="747">
                  <a:moveTo>
                    <a:pt x="453" y="133"/>
                  </a:moveTo>
                  <a:lnTo>
                    <a:pt x="230" y="0"/>
                  </a:lnTo>
                  <a:lnTo>
                    <a:pt x="0" y="23"/>
                  </a:lnTo>
                  <a:lnTo>
                    <a:pt x="0" y="747"/>
                  </a:lnTo>
                  <a:lnTo>
                    <a:pt x="255" y="747"/>
                  </a:lnTo>
                  <a:lnTo>
                    <a:pt x="255" y="185"/>
                  </a:lnTo>
                  <a:lnTo>
                    <a:pt x="453" y="357"/>
                  </a:lnTo>
                  <a:lnTo>
                    <a:pt x="453" y="133"/>
                  </a:lnTo>
                  <a:close/>
                </a:path>
              </a:pathLst>
            </a:custGeom>
            <a:solidFill>
              <a:srgbClr val="9e7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7"/>
            <p:cNvSpPr/>
            <p:nvPr/>
          </p:nvSpPr>
          <p:spPr>
            <a:xfrm>
              <a:off x="3754800" y="4443840"/>
              <a:ext cx="780840" cy="1153800"/>
            </a:xfrm>
            <a:custGeom>
              <a:avLst/>
              <a:gdLst/>
              <a:ahLst/>
              <a:rect l="l" t="t" r="r" b="b"/>
              <a:pathLst>
                <a:path w="492" h="727">
                  <a:moveTo>
                    <a:pt x="133" y="510"/>
                  </a:moveTo>
                  <a:lnTo>
                    <a:pt x="492" y="249"/>
                  </a:lnTo>
                  <a:lnTo>
                    <a:pt x="198" y="0"/>
                  </a:lnTo>
                  <a:lnTo>
                    <a:pt x="198" y="190"/>
                  </a:lnTo>
                  <a:lnTo>
                    <a:pt x="284" y="253"/>
                  </a:lnTo>
                  <a:lnTo>
                    <a:pt x="0" y="489"/>
                  </a:lnTo>
                  <a:lnTo>
                    <a:pt x="122" y="727"/>
                  </a:lnTo>
                  <a:lnTo>
                    <a:pt x="216" y="720"/>
                  </a:lnTo>
                  <a:lnTo>
                    <a:pt x="133" y="51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8"/>
            <p:cNvSpPr/>
            <p:nvPr/>
          </p:nvSpPr>
          <p:spPr>
            <a:xfrm>
              <a:off x="4069080" y="4443840"/>
              <a:ext cx="47160" cy="310680"/>
            </a:xfrm>
            <a:custGeom>
              <a:avLst/>
              <a:gdLst/>
              <a:ahLst/>
              <a:rect l="l" t="t" r="r" b="b"/>
              <a:pathLst>
                <a:path w="30" h="196">
                  <a:moveTo>
                    <a:pt x="10" y="196"/>
                  </a:moveTo>
                  <a:lnTo>
                    <a:pt x="30" y="26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10" y="196"/>
                  </a:lnTo>
                  <a:close/>
                </a:path>
              </a:pathLst>
            </a:cu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9"/>
            <p:cNvSpPr/>
            <p:nvPr/>
          </p:nvSpPr>
          <p:spPr>
            <a:xfrm>
              <a:off x="3039120" y="5389560"/>
              <a:ext cx="311040" cy="1101240"/>
            </a:xfrm>
            <a:custGeom>
              <a:avLst/>
              <a:gdLst/>
              <a:ahLst/>
              <a:rect l="l" t="t" r="r" b="b"/>
              <a:pathLst>
                <a:path w="196" h="694">
                  <a:moveTo>
                    <a:pt x="0" y="0"/>
                  </a:moveTo>
                  <a:lnTo>
                    <a:pt x="0" y="694"/>
                  </a:lnTo>
                  <a:lnTo>
                    <a:pt x="111" y="694"/>
                  </a:lnTo>
                  <a:lnTo>
                    <a:pt x="111" y="198"/>
                  </a:lnTo>
                  <a:lnTo>
                    <a:pt x="196" y="163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0"/>
            <p:cNvSpPr/>
            <p:nvPr/>
          </p:nvSpPr>
          <p:spPr>
            <a:xfrm>
              <a:off x="3350160" y="5389560"/>
              <a:ext cx="312120" cy="1101240"/>
            </a:xfrm>
            <a:custGeom>
              <a:avLst/>
              <a:gdLst/>
              <a:ahLst/>
              <a:rect l="l" t="t" r="r" b="b"/>
              <a:pathLst>
                <a:path w="197" h="694">
                  <a:moveTo>
                    <a:pt x="197" y="0"/>
                  </a:moveTo>
                  <a:lnTo>
                    <a:pt x="197" y="694"/>
                  </a:lnTo>
                  <a:lnTo>
                    <a:pt x="87" y="694"/>
                  </a:lnTo>
                  <a:lnTo>
                    <a:pt x="87" y="198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be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1"/>
            <p:cNvSpPr/>
            <p:nvPr/>
          </p:nvSpPr>
          <p:spPr>
            <a:xfrm>
              <a:off x="3039120" y="5389560"/>
              <a:ext cx="311040" cy="37800"/>
            </a:xfrm>
            <a:custGeom>
              <a:avLst/>
              <a:gdLst/>
              <a:ahLst/>
              <a:rect l="l" t="t" r="r" b="b"/>
              <a:pathLst>
                <a:path w="196" h="24">
                  <a:moveTo>
                    <a:pt x="196" y="1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2"/>
                  </a:lnTo>
                  <a:close/>
                </a:path>
              </a:pathLst>
            </a:custGeom>
            <a:solidFill>
              <a:srgbClr val="289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2"/>
            <p:cNvSpPr/>
            <p:nvPr/>
          </p:nvSpPr>
          <p:spPr>
            <a:xfrm>
              <a:off x="3350160" y="5389560"/>
              <a:ext cx="312120" cy="37800"/>
            </a:xfrm>
            <a:custGeom>
              <a:avLst/>
              <a:gdLst/>
              <a:ahLst/>
              <a:rect l="l" t="t" r="r" b="b"/>
              <a:pathLst>
                <a:path w="197" h="24">
                  <a:moveTo>
                    <a:pt x="197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197" y="24"/>
                  </a:lnTo>
                  <a:close/>
                </a:path>
              </a:pathLst>
            </a:cu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3"/>
            <p:cNvSpPr/>
            <p:nvPr/>
          </p:nvSpPr>
          <p:spPr>
            <a:xfrm>
              <a:off x="442440" y="504360"/>
              <a:ext cx="425160" cy="225000"/>
            </a:xfrm>
            <a:custGeom>
              <a:avLst/>
              <a:gdLst/>
              <a:ahLst/>
              <a:rect l="l" t="t" r="r" b="b"/>
              <a:pathLst>
                <a:path w="300" h="159">
                  <a:moveTo>
                    <a:pt x="21" y="0"/>
                  </a:moveTo>
                  <a:cubicBezTo>
                    <a:pt x="21" y="0"/>
                    <a:pt x="0" y="115"/>
                    <a:pt x="5" y="123"/>
                  </a:cubicBezTo>
                  <a:cubicBezTo>
                    <a:pt x="11" y="131"/>
                    <a:pt x="277" y="159"/>
                    <a:pt x="277" y="159"/>
                  </a:cubicBezTo>
                  <a:cubicBezTo>
                    <a:pt x="300" y="28"/>
                    <a:pt x="300" y="28"/>
                    <a:pt x="300" y="28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4"/>
            <p:cNvSpPr/>
            <p:nvPr/>
          </p:nvSpPr>
          <p:spPr>
            <a:xfrm>
              <a:off x="515520" y="524880"/>
              <a:ext cx="128160" cy="164880"/>
            </a:xfrm>
            <a:custGeom>
              <a:avLst/>
              <a:gdLst/>
              <a:ahLst/>
              <a:rect l="l" t="t" r="r" b="b"/>
              <a:pathLst>
                <a:path w="90" h="117">
                  <a:moveTo>
                    <a:pt x="85" y="65"/>
                  </a:moveTo>
                  <a:cubicBezTo>
                    <a:pt x="80" y="95"/>
                    <a:pt x="58" y="117"/>
                    <a:pt x="36" y="113"/>
                  </a:cubicBezTo>
                  <a:cubicBezTo>
                    <a:pt x="14" y="110"/>
                    <a:pt x="0" y="82"/>
                    <a:pt x="5" y="52"/>
                  </a:cubicBezTo>
                  <a:cubicBezTo>
                    <a:pt x="10" y="22"/>
                    <a:pt x="32" y="0"/>
                    <a:pt x="54" y="4"/>
                  </a:cubicBezTo>
                  <a:cubicBezTo>
                    <a:pt x="76" y="7"/>
                    <a:pt x="90" y="35"/>
                    <a:pt x="8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5"/>
            <p:cNvSpPr/>
            <p:nvPr/>
          </p:nvSpPr>
          <p:spPr>
            <a:xfrm>
              <a:off x="536040" y="540720"/>
              <a:ext cx="90000" cy="115560"/>
            </a:xfrm>
            <a:custGeom>
              <a:avLst/>
              <a:gdLst/>
              <a:ahLst/>
              <a:rect l="l" t="t" r="r" b="b"/>
              <a:pathLst>
                <a:path w="64" h="82">
                  <a:moveTo>
                    <a:pt x="60" y="46"/>
                  </a:moveTo>
                  <a:cubicBezTo>
                    <a:pt x="57" y="67"/>
                    <a:pt x="41" y="82"/>
                    <a:pt x="26" y="80"/>
                  </a:cubicBezTo>
                  <a:cubicBezTo>
                    <a:pt x="10" y="77"/>
                    <a:pt x="0" y="58"/>
                    <a:pt x="4" y="37"/>
                  </a:cubicBezTo>
                  <a:cubicBezTo>
                    <a:pt x="7" y="15"/>
                    <a:pt x="23" y="0"/>
                    <a:pt x="39" y="3"/>
                  </a:cubicBezTo>
                  <a:cubicBezTo>
                    <a:pt x="54" y="5"/>
                    <a:pt x="64" y="25"/>
                    <a:pt x="60" y="4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6"/>
            <p:cNvSpPr/>
            <p:nvPr/>
          </p:nvSpPr>
          <p:spPr>
            <a:xfrm>
              <a:off x="891720" y="2480400"/>
              <a:ext cx="1796400" cy="1602720"/>
            </a:xfrm>
            <a:custGeom>
              <a:avLst/>
              <a:gdLst/>
              <a:ahLst/>
              <a:rect l="l" t="t" r="r" b="b"/>
              <a:pathLst>
                <a:path w="1132" h="1010">
                  <a:moveTo>
                    <a:pt x="0" y="0"/>
                  </a:moveTo>
                  <a:lnTo>
                    <a:pt x="0" y="49"/>
                  </a:lnTo>
                  <a:lnTo>
                    <a:pt x="1100" y="1010"/>
                  </a:lnTo>
                  <a:lnTo>
                    <a:pt x="1132" y="9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d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"/>
            <p:cNvSpPr/>
            <p:nvPr/>
          </p:nvSpPr>
          <p:spPr>
            <a:xfrm>
              <a:off x="245520" y="1086840"/>
              <a:ext cx="176040" cy="969840"/>
            </a:xfrm>
            <a:custGeom>
              <a:avLst/>
              <a:gdLst/>
              <a:ahLst/>
              <a:rect l="l" t="t" r="r" b="b"/>
              <a:pathLst>
                <a:path w="111" h="611">
                  <a:moveTo>
                    <a:pt x="82" y="0"/>
                  </a:moveTo>
                  <a:lnTo>
                    <a:pt x="0" y="611"/>
                  </a:lnTo>
                  <a:lnTo>
                    <a:pt x="111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8"/>
            <p:cNvSpPr/>
            <p:nvPr/>
          </p:nvSpPr>
          <p:spPr>
            <a:xfrm>
              <a:off x="489960" y="1132920"/>
              <a:ext cx="168120" cy="923760"/>
            </a:xfrm>
            <a:custGeom>
              <a:avLst/>
              <a:gdLst/>
              <a:ahLst/>
              <a:rect l="l" t="t" r="r" b="b"/>
              <a:pathLst>
                <a:path w="106" h="582">
                  <a:moveTo>
                    <a:pt x="78" y="0"/>
                  </a:moveTo>
                  <a:lnTo>
                    <a:pt x="0" y="582"/>
                  </a:lnTo>
                  <a:lnTo>
                    <a:pt x="106" y="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9"/>
            <p:cNvSpPr/>
            <p:nvPr/>
          </p:nvSpPr>
          <p:spPr>
            <a:xfrm>
              <a:off x="720360" y="1183680"/>
              <a:ext cx="174240" cy="901440"/>
            </a:xfrm>
            <a:custGeom>
              <a:avLst/>
              <a:gdLst/>
              <a:ahLst/>
              <a:rect l="l" t="t" r="r" b="b"/>
              <a:pathLst>
                <a:path w="110" h="568">
                  <a:moveTo>
                    <a:pt x="82" y="0"/>
                  </a:moveTo>
                  <a:lnTo>
                    <a:pt x="0" y="568"/>
                  </a:lnTo>
                  <a:lnTo>
                    <a:pt x="110" y="5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0"/>
            <p:cNvSpPr/>
            <p:nvPr/>
          </p:nvSpPr>
          <p:spPr>
            <a:xfrm>
              <a:off x="167760" y="1048680"/>
              <a:ext cx="174240" cy="23616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18" y="0"/>
                  </a:moveTo>
                  <a:lnTo>
                    <a:pt x="0" y="132"/>
                  </a:lnTo>
                  <a:lnTo>
                    <a:pt x="93" y="149"/>
                  </a:lnTo>
                  <a:lnTo>
                    <a:pt x="1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1"/>
            <p:cNvSpPr/>
            <p:nvPr/>
          </p:nvSpPr>
          <p:spPr>
            <a:xfrm>
              <a:off x="389880" y="1098000"/>
              <a:ext cx="174240" cy="232920"/>
            </a:xfrm>
            <a:custGeom>
              <a:avLst/>
              <a:gdLst/>
              <a:ahLst/>
              <a:rect l="l" t="t" r="r" b="b"/>
              <a:pathLst>
                <a:path w="110" h="147">
                  <a:moveTo>
                    <a:pt x="19" y="0"/>
                  </a:moveTo>
                  <a:lnTo>
                    <a:pt x="0" y="130"/>
                  </a:lnTo>
                  <a:lnTo>
                    <a:pt x="93" y="147"/>
                  </a:lnTo>
                  <a:lnTo>
                    <a:pt x="1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2"/>
            <p:cNvSpPr/>
            <p:nvPr/>
          </p:nvSpPr>
          <p:spPr>
            <a:xfrm>
              <a:off x="632880" y="1144080"/>
              <a:ext cx="176040" cy="23616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19" y="0"/>
                  </a:moveTo>
                  <a:lnTo>
                    <a:pt x="0" y="131"/>
                  </a:lnTo>
                  <a:lnTo>
                    <a:pt x="93" y="149"/>
                  </a:lnTo>
                  <a:lnTo>
                    <a:pt x="111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3"/>
            <p:cNvSpPr/>
            <p:nvPr/>
          </p:nvSpPr>
          <p:spPr>
            <a:xfrm>
              <a:off x="867960" y="1196280"/>
              <a:ext cx="175680" cy="234720"/>
            </a:xfrm>
            <a:custGeom>
              <a:avLst/>
              <a:gdLst/>
              <a:ahLst/>
              <a:rect l="l" t="t" r="r" b="b"/>
              <a:pathLst>
                <a:path w="111" h="148">
                  <a:moveTo>
                    <a:pt x="19" y="0"/>
                  </a:moveTo>
                  <a:lnTo>
                    <a:pt x="0" y="131"/>
                  </a:lnTo>
                  <a:lnTo>
                    <a:pt x="93" y="148"/>
                  </a:lnTo>
                  <a:lnTo>
                    <a:pt x="111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4"/>
            <p:cNvSpPr/>
            <p:nvPr/>
          </p:nvSpPr>
          <p:spPr>
            <a:xfrm>
              <a:off x="891720" y="1244160"/>
              <a:ext cx="496440" cy="1314000"/>
            </a:xfrm>
            <a:custGeom>
              <a:avLst/>
              <a:gdLst/>
              <a:ahLst/>
              <a:rect l="l" t="t" r="r" b="b"/>
              <a:pathLst>
                <a:path w="313" h="828">
                  <a:moveTo>
                    <a:pt x="164" y="0"/>
                  </a:moveTo>
                  <a:lnTo>
                    <a:pt x="0" y="779"/>
                  </a:lnTo>
                  <a:lnTo>
                    <a:pt x="187" y="828"/>
                  </a:lnTo>
                  <a:lnTo>
                    <a:pt x="313" y="30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5"/>
            <p:cNvSpPr/>
            <p:nvPr/>
          </p:nvSpPr>
          <p:spPr>
            <a:xfrm>
              <a:off x="2485080" y="4231080"/>
              <a:ext cx="491760" cy="788400"/>
            </a:xfrm>
            <a:custGeom>
              <a:avLst/>
              <a:gdLst/>
              <a:ahLst/>
              <a:rect l="l" t="t" r="r" b="b"/>
              <a:pathLst>
                <a:path w="310" h="497">
                  <a:moveTo>
                    <a:pt x="310" y="144"/>
                  </a:moveTo>
                  <a:lnTo>
                    <a:pt x="0" y="0"/>
                  </a:lnTo>
                  <a:lnTo>
                    <a:pt x="292" y="168"/>
                  </a:lnTo>
                  <a:lnTo>
                    <a:pt x="292" y="497"/>
                  </a:lnTo>
                  <a:lnTo>
                    <a:pt x="310" y="144"/>
                  </a:lnTo>
                  <a:close/>
                </a:path>
              </a:pathLst>
            </a:custGeom>
            <a:solidFill>
              <a:srgbClr val="99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6"/>
            <p:cNvSpPr/>
            <p:nvPr/>
          </p:nvSpPr>
          <p:spPr>
            <a:xfrm>
              <a:off x="3737160" y="4443840"/>
              <a:ext cx="176040" cy="383760"/>
            </a:xfrm>
            <a:custGeom>
              <a:avLst/>
              <a:gdLst/>
              <a:ahLst/>
              <a:rect l="l" t="t" r="r" b="b"/>
              <a:pathLst>
                <a:path w="111" h="242">
                  <a:moveTo>
                    <a:pt x="0" y="0"/>
                  </a:moveTo>
                  <a:lnTo>
                    <a:pt x="11" y="242"/>
                  </a:lnTo>
                  <a:lnTo>
                    <a:pt x="11" y="34"/>
                  </a:lnTo>
                  <a:lnTo>
                    <a:pt x="111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7"/>
            <p:cNvSpPr/>
            <p:nvPr/>
          </p:nvSpPr>
          <p:spPr>
            <a:xfrm>
              <a:off x="3039120" y="5464080"/>
              <a:ext cx="176040" cy="21240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111" y="0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8"/>
            <p:cNvSpPr/>
            <p:nvPr/>
          </p:nvSpPr>
          <p:spPr>
            <a:xfrm>
              <a:off x="3026520" y="5450040"/>
              <a:ext cx="198000" cy="29520"/>
            </a:xfrm>
            <a:custGeom>
              <a:avLst/>
              <a:gdLst/>
              <a:ahLst/>
              <a:rect l="l" t="t" r="r" b="b"/>
              <a:pathLst>
                <a:path w="140" h="21">
                  <a:moveTo>
                    <a:pt x="140" y="10"/>
                  </a:moveTo>
                  <a:cubicBezTo>
                    <a:pt x="140" y="16"/>
                    <a:pt x="135" y="21"/>
                    <a:pt x="13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4" y="21"/>
                    <a:pt x="0" y="1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5" y="0"/>
                    <a:pt x="140" y="5"/>
                    <a:pt x="140" y="1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9"/>
            <p:cNvSpPr/>
            <p:nvPr/>
          </p:nvSpPr>
          <p:spPr>
            <a:xfrm>
              <a:off x="3486600" y="5464080"/>
              <a:ext cx="175680" cy="21240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0" y="0"/>
                  </a:moveTo>
                  <a:lnTo>
                    <a:pt x="111" y="134"/>
                  </a:lnTo>
                  <a:lnTo>
                    <a:pt x="1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0"/>
            <p:cNvSpPr/>
            <p:nvPr/>
          </p:nvSpPr>
          <p:spPr>
            <a:xfrm>
              <a:off x="3478680" y="5450040"/>
              <a:ext cx="198000" cy="29520"/>
            </a:xfrm>
            <a:custGeom>
              <a:avLst/>
              <a:gdLst/>
              <a:ahLst/>
              <a:rect l="l" t="t" r="r" b="b"/>
              <a:pathLst>
                <a:path w="140" h="21">
                  <a:moveTo>
                    <a:pt x="0" y="10"/>
                  </a:moveTo>
                  <a:cubicBezTo>
                    <a:pt x="0" y="16"/>
                    <a:pt x="4" y="21"/>
                    <a:pt x="10" y="21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35" y="21"/>
                    <a:pt x="140" y="16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0" y="5"/>
                    <a:pt x="135" y="0"/>
                    <a:pt x="12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5"/>
                    <a:pt x="0" y="10"/>
                  </a:cubicBez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1"/>
            <p:cNvSpPr/>
            <p:nvPr/>
          </p:nvSpPr>
          <p:spPr>
            <a:xfrm>
              <a:off x="3039120" y="6448320"/>
              <a:ext cx="176040" cy="42480"/>
            </a:xfrm>
            <a:prstGeom prst="rect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2"/>
            <p:cNvSpPr/>
            <p:nvPr/>
          </p:nvSpPr>
          <p:spPr>
            <a:xfrm>
              <a:off x="3486600" y="6448320"/>
              <a:ext cx="175680" cy="42480"/>
            </a:xfrm>
            <a:prstGeom prst="rect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3"/>
            <p:cNvSpPr/>
            <p:nvPr/>
          </p:nvSpPr>
          <p:spPr>
            <a:xfrm>
              <a:off x="3934080" y="4910400"/>
              <a:ext cx="502920" cy="342720"/>
            </a:xfrm>
            <a:custGeom>
              <a:avLst/>
              <a:gdLst/>
              <a:ahLst/>
              <a:rect l="l" t="t" r="r" b="b"/>
              <a:pathLst>
                <a:path w="317" h="216">
                  <a:moveTo>
                    <a:pt x="20" y="216"/>
                  </a:moveTo>
                  <a:lnTo>
                    <a:pt x="0" y="203"/>
                  </a:lnTo>
                  <a:lnTo>
                    <a:pt x="317" y="0"/>
                  </a:lnTo>
                  <a:lnTo>
                    <a:pt x="20" y="216"/>
                  </a:lnTo>
                  <a:close/>
                </a:path>
              </a:pathLst>
            </a:cu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4"/>
            <p:cNvSpPr/>
            <p:nvPr/>
          </p:nvSpPr>
          <p:spPr>
            <a:xfrm>
              <a:off x="3465720" y="4584960"/>
              <a:ext cx="187200" cy="22032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0"/>
                  </a:moveTo>
                  <a:lnTo>
                    <a:pt x="0" y="115"/>
                  </a:lnTo>
                  <a:lnTo>
                    <a:pt x="59" y="139"/>
                  </a:lnTo>
                  <a:lnTo>
                    <a:pt x="118" y="120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5"/>
            <p:cNvSpPr/>
            <p:nvPr/>
          </p:nvSpPr>
          <p:spPr>
            <a:xfrm>
              <a:off x="3456360" y="4569120"/>
              <a:ext cx="204480" cy="31320"/>
            </a:xfrm>
            <a:prstGeom prst="rect">
              <a:avLst/>
            </a:prstGeom>
            <a:solidFill>
              <a:srgbClr val="705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6"/>
            <p:cNvSpPr/>
            <p:nvPr/>
          </p:nvSpPr>
          <p:spPr>
            <a:xfrm>
              <a:off x="3129480" y="4137480"/>
              <a:ext cx="209160" cy="18828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143" y="47"/>
                  </a:moveTo>
                  <a:cubicBezTo>
                    <a:pt x="143" y="47"/>
                    <a:pt x="21" y="0"/>
                    <a:pt x="16" y="23"/>
                  </a:cubicBezTo>
                  <a:cubicBezTo>
                    <a:pt x="10" y="47"/>
                    <a:pt x="0" y="133"/>
                    <a:pt x="51" y="124"/>
                  </a:cubicBezTo>
                  <a:cubicBezTo>
                    <a:pt x="101" y="114"/>
                    <a:pt x="148" y="88"/>
                    <a:pt x="148" y="88"/>
                  </a:cubicBezTo>
                  <a:lnTo>
                    <a:pt x="143" y="47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7"/>
            <p:cNvSpPr/>
            <p:nvPr/>
          </p:nvSpPr>
          <p:spPr>
            <a:xfrm>
              <a:off x="3296160" y="4191480"/>
              <a:ext cx="58320" cy="9468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42" y="0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19" y="0"/>
                    <a:pt x="0" y="15"/>
                    <a:pt x="0" y="33"/>
                  </a:cubicBezTo>
                  <a:cubicBezTo>
                    <a:pt x="0" y="52"/>
                    <a:pt x="19" y="67"/>
                    <a:pt x="42" y="67"/>
                  </a:cubicBezTo>
                  <a:cubicBezTo>
                    <a:pt x="42" y="67"/>
                    <a:pt x="42" y="67"/>
                    <a:pt x="42" y="67"/>
                  </a:cubicBezTo>
                  <a:lnTo>
                    <a:pt x="42" y="0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8"/>
            <p:cNvSpPr/>
            <p:nvPr/>
          </p:nvSpPr>
          <p:spPr>
            <a:xfrm>
              <a:off x="3370680" y="4137480"/>
              <a:ext cx="209160" cy="188280"/>
            </a:xfrm>
            <a:custGeom>
              <a:avLst/>
              <a:gdLst/>
              <a:ahLst/>
              <a:rect l="l" t="t" r="r" b="b"/>
              <a:pathLst>
                <a:path w="148" h="133">
                  <a:moveTo>
                    <a:pt x="5" y="47"/>
                  </a:moveTo>
                  <a:cubicBezTo>
                    <a:pt x="5" y="47"/>
                    <a:pt x="127" y="0"/>
                    <a:pt x="133" y="23"/>
                  </a:cubicBezTo>
                  <a:cubicBezTo>
                    <a:pt x="138" y="47"/>
                    <a:pt x="148" y="133"/>
                    <a:pt x="98" y="124"/>
                  </a:cubicBezTo>
                  <a:cubicBezTo>
                    <a:pt x="47" y="114"/>
                    <a:pt x="0" y="88"/>
                    <a:pt x="0" y="88"/>
                  </a:cubicBezTo>
                  <a:lnTo>
                    <a:pt x="5" y="47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9"/>
            <p:cNvSpPr/>
            <p:nvPr/>
          </p:nvSpPr>
          <p:spPr>
            <a:xfrm>
              <a:off x="3354840" y="4191480"/>
              <a:ext cx="59760" cy="9468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42" y="15"/>
                    <a:pt x="42" y="33"/>
                  </a:cubicBezTo>
                  <a:cubicBezTo>
                    <a:pt x="42" y="52"/>
                    <a:pt x="23" y="67"/>
                    <a:pt x="0" y="67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0"/>
            <p:cNvSpPr/>
            <p:nvPr/>
          </p:nvSpPr>
          <p:spPr>
            <a:xfrm>
              <a:off x="3229200" y="3895920"/>
              <a:ext cx="125280" cy="323640"/>
            </a:xfrm>
            <a:custGeom>
              <a:avLst/>
              <a:gdLst/>
              <a:ahLst/>
              <a:rect l="l" t="t" r="r" b="b"/>
              <a:pathLst>
                <a:path w="79" h="204">
                  <a:moveTo>
                    <a:pt x="79" y="18"/>
                  </a:moveTo>
                  <a:lnTo>
                    <a:pt x="79" y="204"/>
                  </a:lnTo>
                  <a:lnTo>
                    <a:pt x="0" y="204"/>
                  </a:lnTo>
                  <a:lnTo>
                    <a:pt x="22" y="0"/>
                  </a:lnTo>
                  <a:lnTo>
                    <a:pt x="79" y="18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1"/>
            <p:cNvSpPr/>
            <p:nvPr/>
          </p:nvSpPr>
          <p:spPr>
            <a:xfrm>
              <a:off x="3354840" y="3895920"/>
              <a:ext cx="124920" cy="323640"/>
            </a:xfrm>
            <a:custGeom>
              <a:avLst/>
              <a:gdLst/>
              <a:ahLst/>
              <a:rect l="l" t="t" r="r" b="b"/>
              <a:pathLst>
                <a:path w="79" h="204">
                  <a:moveTo>
                    <a:pt x="0" y="18"/>
                  </a:moveTo>
                  <a:lnTo>
                    <a:pt x="0" y="204"/>
                  </a:lnTo>
                  <a:lnTo>
                    <a:pt x="79" y="204"/>
                  </a:lnTo>
                  <a:lnTo>
                    <a:pt x="5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b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2"/>
            <p:cNvSpPr/>
            <p:nvPr/>
          </p:nvSpPr>
          <p:spPr>
            <a:xfrm>
              <a:off x="2669400" y="2890080"/>
              <a:ext cx="893160" cy="1118520"/>
            </a:xfrm>
            <a:custGeom>
              <a:avLst/>
              <a:gdLst/>
              <a:ahLst/>
              <a:rect l="l" t="t" r="r" b="b"/>
              <a:pathLst>
                <a:path w="629" h="789">
                  <a:moveTo>
                    <a:pt x="372" y="789"/>
                  </a:moveTo>
                  <a:cubicBezTo>
                    <a:pt x="372" y="789"/>
                    <a:pt x="0" y="622"/>
                    <a:pt x="267" y="0"/>
                  </a:cubicBezTo>
                  <a:cubicBezTo>
                    <a:pt x="629" y="145"/>
                    <a:pt x="629" y="145"/>
                    <a:pt x="629" y="145"/>
                  </a:cubicBezTo>
                  <a:lnTo>
                    <a:pt x="372" y="789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3"/>
            <p:cNvSpPr/>
            <p:nvPr/>
          </p:nvSpPr>
          <p:spPr>
            <a:xfrm>
              <a:off x="3197520" y="3094560"/>
              <a:ext cx="877680" cy="1106280"/>
            </a:xfrm>
            <a:custGeom>
              <a:avLst/>
              <a:gdLst/>
              <a:ahLst/>
              <a:rect l="l" t="t" r="r" b="b"/>
              <a:pathLst>
                <a:path w="619" h="779">
                  <a:moveTo>
                    <a:pt x="0" y="644"/>
                  </a:moveTo>
                  <a:cubicBezTo>
                    <a:pt x="0" y="644"/>
                    <a:pt x="383" y="779"/>
                    <a:pt x="619" y="144"/>
                  </a:cubicBezTo>
                  <a:cubicBezTo>
                    <a:pt x="257" y="0"/>
                    <a:pt x="257" y="0"/>
                    <a:pt x="257" y="0"/>
                  </a:cubicBezTo>
                  <a:lnTo>
                    <a:pt x="0" y="644"/>
                  </a:lnTo>
                  <a:close/>
                </a:path>
              </a:pathLst>
            </a:cu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4"/>
            <p:cNvSpPr/>
            <p:nvPr/>
          </p:nvSpPr>
          <p:spPr>
            <a:xfrm>
              <a:off x="2942280" y="2973960"/>
              <a:ext cx="572760" cy="469800"/>
            </a:xfrm>
            <a:custGeom>
              <a:avLst/>
              <a:gdLst/>
              <a:ahLst/>
              <a:rect l="l" t="t" r="r" b="b"/>
              <a:pathLst>
                <a:path w="404" h="331">
                  <a:moveTo>
                    <a:pt x="404" y="174"/>
                  </a:moveTo>
                  <a:cubicBezTo>
                    <a:pt x="399" y="172"/>
                    <a:pt x="384" y="166"/>
                    <a:pt x="352" y="139"/>
                  </a:cubicBezTo>
                  <a:cubicBezTo>
                    <a:pt x="352" y="139"/>
                    <a:pt x="237" y="39"/>
                    <a:pt x="68" y="5"/>
                  </a:cubicBezTo>
                  <a:cubicBezTo>
                    <a:pt x="68" y="5"/>
                    <a:pt x="68" y="5"/>
                    <a:pt x="68" y="5"/>
                  </a:cubicBezTo>
                  <a:cubicBezTo>
                    <a:pt x="68" y="5"/>
                    <a:pt x="67" y="5"/>
                    <a:pt x="67" y="5"/>
                  </a:cubicBezTo>
                  <a:cubicBezTo>
                    <a:pt x="63" y="4"/>
                    <a:pt x="59" y="3"/>
                    <a:pt x="55" y="2"/>
                  </a:cubicBezTo>
                  <a:cubicBezTo>
                    <a:pt x="54" y="2"/>
                    <a:pt x="53" y="2"/>
                    <a:pt x="53" y="2"/>
                  </a:cubicBezTo>
                  <a:cubicBezTo>
                    <a:pt x="48" y="1"/>
                    <a:pt x="44" y="1"/>
                    <a:pt x="40" y="0"/>
                  </a:cubicBezTo>
                  <a:cubicBezTo>
                    <a:pt x="27" y="52"/>
                    <a:pt x="27" y="52"/>
                    <a:pt x="27" y="52"/>
                  </a:cubicBezTo>
                  <a:cubicBezTo>
                    <a:pt x="27" y="52"/>
                    <a:pt x="46" y="61"/>
                    <a:pt x="40" y="96"/>
                  </a:cubicBezTo>
                  <a:cubicBezTo>
                    <a:pt x="34" y="131"/>
                    <a:pt x="0" y="236"/>
                    <a:pt x="84" y="277"/>
                  </a:cubicBezTo>
                  <a:cubicBezTo>
                    <a:pt x="85" y="277"/>
                    <a:pt x="86" y="278"/>
                    <a:pt x="87" y="278"/>
                  </a:cubicBezTo>
                  <a:cubicBezTo>
                    <a:pt x="90" y="281"/>
                    <a:pt x="93" y="283"/>
                    <a:pt x="97" y="284"/>
                  </a:cubicBezTo>
                  <a:cubicBezTo>
                    <a:pt x="176" y="323"/>
                    <a:pt x="214" y="331"/>
                    <a:pt x="265" y="310"/>
                  </a:cubicBezTo>
                  <a:cubicBezTo>
                    <a:pt x="265" y="310"/>
                    <a:pt x="312" y="292"/>
                    <a:pt x="354" y="233"/>
                  </a:cubicBezTo>
                  <a:cubicBezTo>
                    <a:pt x="354" y="233"/>
                    <a:pt x="366" y="217"/>
                    <a:pt x="385" y="221"/>
                  </a:cubicBezTo>
                  <a:lnTo>
                    <a:pt x="404" y="174"/>
                  </a:lnTo>
                  <a:close/>
                  <a:moveTo>
                    <a:pt x="305" y="220"/>
                  </a:moveTo>
                  <a:cubicBezTo>
                    <a:pt x="304" y="223"/>
                    <a:pt x="302" y="225"/>
                    <a:pt x="300" y="228"/>
                  </a:cubicBezTo>
                  <a:cubicBezTo>
                    <a:pt x="300" y="228"/>
                    <a:pt x="300" y="228"/>
                    <a:pt x="300" y="229"/>
                  </a:cubicBezTo>
                  <a:cubicBezTo>
                    <a:pt x="299" y="229"/>
                    <a:pt x="299" y="230"/>
                    <a:pt x="298" y="231"/>
                  </a:cubicBezTo>
                  <a:cubicBezTo>
                    <a:pt x="298" y="231"/>
                    <a:pt x="297" y="232"/>
                    <a:pt x="297" y="232"/>
                  </a:cubicBezTo>
                  <a:cubicBezTo>
                    <a:pt x="297" y="233"/>
                    <a:pt x="296" y="233"/>
                    <a:pt x="296" y="234"/>
                  </a:cubicBezTo>
                  <a:cubicBezTo>
                    <a:pt x="294" y="236"/>
                    <a:pt x="293" y="238"/>
                    <a:pt x="291" y="240"/>
                  </a:cubicBezTo>
                  <a:cubicBezTo>
                    <a:pt x="291" y="240"/>
                    <a:pt x="291" y="240"/>
                    <a:pt x="291" y="240"/>
                  </a:cubicBezTo>
                  <a:cubicBezTo>
                    <a:pt x="289" y="243"/>
                    <a:pt x="287" y="245"/>
                    <a:pt x="286" y="247"/>
                  </a:cubicBezTo>
                  <a:cubicBezTo>
                    <a:pt x="269" y="268"/>
                    <a:pt x="224" y="293"/>
                    <a:pt x="185" y="283"/>
                  </a:cubicBezTo>
                  <a:cubicBezTo>
                    <a:pt x="157" y="276"/>
                    <a:pt x="128" y="265"/>
                    <a:pt x="103" y="250"/>
                  </a:cubicBezTo>
                  <a:cubicBezTo>
                    <a:pt x="100" y="247"/>
                    <a:pt x="96" y="244"/>
                    <a:pt x="93" y="241"/>
                  </a:cubicBezTo>
                  <a:cubicBezTo>
                    <a:pt x="67" y="217"/>
                    <a:pt x="73" y="180"/>
                    <a:pt x="86" y="133"/>
                  </a:cubicBezTo>
                  <a:cubicBezTo>
                    <a:pt x="86" y="133"/>
                    <a:pt x="98" y="74"/>
                    <a:pt x="131" y="73"/>
                  </a:cubicBezTo>
                  <a:cubicBezTo>
                    <a:pt x="131" y="73"/>
                    <a:pt x="168" y="73"/>
                    <a:pt x="216" y="95"/>
                  </a:cubicBezTo>
                  <a:cubicBezTo>
                    <a:pt x="265" y="116"/>
                    <a:pt x="309" y="141"/>
                    <a:pt x="324" y="166"/>
                  </a:cubicBezTo>
                  <a:cubicBezTo>
                    <a:pt x="325" y="168"/>
                    <a:pt x="326" y="170"/>
                    <a:pt x="327" y="173"/>
                  </a:cubicBezTo>
                  <a:cubicBezTo>
                    <a:pt x="325" y="188"/>
                    <a:pt x="316" y="205"/>
                    <a:pt x="305" y="220"/>
                  </a:cubicBezTo>
                  <a:close/>
                </a:path>
              </a:pathLst>
            </a:custGeom>
            <a:solidFill>
              <a:srgbClr val="5fb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5"/>
            <p:cNvSpPr/>
            <p:nvPr/>
          </p:nvSpPr>
          <p:spPr>
            <a:xfrm>
              <a:off x="3484800" y="3220200"/>
              <a:ext cx="571320" cy="460080"/>
            </a:xfrm>
            <a:custGeom>
              <a:avLst/>
              <a:gdLst/>
              <a:ahLst/>
              <a:rect l="l" t="t" r="r" b="b"/>
              <a:pathLst>
                <a:path w="402" h="324">
                  <a:moveTo>
                    <a:pt x="0" y="48"/>
                  </a:moveTo>
                  <a:cubicBezTo>
                    <a:pt x="16" y="57"/>
                    <a:pt x="14" y="77"/>
                    <a:pt x="14" y="77"/>
                  </a:cubicBezTo>
                  <a:cubicBezTo>
                    <a:pt x="4" y="149"/>
                    <a:pt x="26" y="195"/>
                    <a:pt x="26" y="195"/>
                  </a:cubicBezTo>
                  <a:cubicBezTo>
                    <a:pt x="48" y="245"/>
                    <a:pt x="81" y="265"/>
                    <a:pt x="165" y="292"/>
                  </a:cubicBezTo>
                  <a:cubicBezTo>
                    <a:pt x="169" y="293"/>
                    <a:pt x="173" y="294"/>
                    <a:pt x="176" y="295"/>
                  </a:cubicBezTo>
                  <a:cubicBezTo>
                    <a:pt x="178" y="295"/>
                    <a:pt x="179" y="295"/>
                    <a:pt x="180" y="296"/>
                  </a:cubicBezTo>
                  <a:cubicBezTo>
                    <a:pt x="268" y="324"/>
                    <a:pt x="317" y="224"/>
                    <a:pt x="336" y="195"/>
                  </a:cubicBezTo>
                  <a:cubicBezTo>
                    <a:pt x="355" y="165"/>
                    <a:pt x="376" y="171"/>
                    <a:pt x="376" y="171"/>
                  </a:cubicBezTo>
                  <a:cubicBezTo>
                    <a:pt x="402" y="125"/>
                    <a:pt x="402" y="125"/>
                    <a:pt x="402" y="125"/>
                  </a:cubicBezTo>
                  <a:cubicBezTo>
                    <a:pt x="399" y="123"/>
                    <a:pt x="395" y="120"/>
                    <a:pt x="392" y="118"/>
                  </a:cubicBezTo>
                  <a:cubicBezTo>
                    <a:pt x="391" y="117"/>
                    <a:pt x="390" y="117"/>
                    <a:pt x="390" y="117"/>
                  </a:cubicBezTo>
                  <a:cubicBezTo>
                    <a:pt x="386" y="114"/>
                    <a:pt x="383" y="112"/>
                    <a:pt x="379" y="110"/>
                  </a:cubicBezTo>
                  <a:cubicBezTo>
                    <a:pt x="379" y="110"/>
                    <a:pt x="379" y="110"/>
                    <a:pt x="379" y="109"/>
                  </a:cubicBezTo>
                  <a:cubicBezTo>
                    <a:pt x="379" y="109"/>
                    <a:pt x="379" y="109"/>
                    <a:pt x="379" y="109"/>
                  </a:cubicBezTo>
                  <a:cubicBezTo>
                    <a:pt x="233" y="18"/>
                    <a:pt x="80" y="11"/>
                    <a:pt x="80" y="11"/>
                  </a:cubicBezTo>
                  <a:cubicBezTo>
                    <a:pt x="39" y="8"/>
                    <a:pt x="23" y="2"/>
                    <a:pt x="19" y="0"/>
                  </a:cubicBezTo>
                  <a:lnTo>
                    <a:pt x="0" y="48"/>
                  </a:lnTo>
                  <a:close/>
                  <a:moveTo>
                    <a:pt x="75" y="52"/>
                  </a:moveTo>
                  <a:cubicBezTo>
                    <a:pt x="77" y="51"/>
                    <a:pt x="79" y="50"/>
                    <a:pt x="82" y="49"/>
                  </a:cubicBezTo>
                  <a:cubicBezTo>
                    <a:pt x="110" y="42"/>
                    <a:pt x="160" y="54"/>
                    <a:pt x="209" y="72"/>
                  </a:cubicBezTo>
                  <a:cubicBezTo>
                    <a:pt x="259" y="90"/>
                    <a:pt x="286" y="115"/>
                    <a:pt x="286" y="115"/>
                  </a:cubicBezTo>
                  <a:cubicBezTo>
                    <a:pt x="309" y="139"/>
                    <a:pt x="278" y="190"/>
                    <a:pt x="278" y="190"/>
                  </a:cubicBezTo>
                  <a:cubicBezTo>
                    <a:pt x="255" y="233"/>
                    <a:pt x="233" y="263"/>
                    <a:pt x="198" y="263"/>
                  </a:cubicBezTo>
                  <a:cubicBezTo>
                    <a:pt x="193" y="263"/>
                    <a:pt x="189" y="263"/>
                    <a:pt x="184" y="262"/>
                  </a:cubicBezTo>
                  <a:cubicBezTo>
                    <a:pt x="156" y="257"/>
                    <a:pt x="128" y="244"/>
                    <a:pt x="102" y="230"/>
                  </a:cubicBezTo>
                  <a:cubicBezTo>
                    <a:pt x="67" y="210"/>
                    <a:pt x="51" y="161"/>
                    <a:pt x="54" y="134"/>
                  </a:cubicBezTo>
                  <a:cubicBezTo>
                    <a:pt x="54" y="132"/>
                    <a:pt x="54" y="129"/>
                    <a:pt x="55" y="126"/>
                  </a:cubicBezTo>
                  <a:cubicBezTo>
                    <a:pt x="55" y="126"/>
                    <a:pt x="55" y="126"/>
                    <a:pt x="55" y="126"/>
                  </a:cubicBezTo>
                  <a:cubicBezTo>
                    <a:pt x="55" y="123"/>
                    <a:pt x="55" y="121"/>
                    <a:pt x="56" y="118"/>
                  </a:cubicBezTo>
                  <a:cubicBezTo>
                    <a:pt x="56" y="117"/>
                    <a:pt x="56" y="117"/>
                    <a:pt x="56" y="116"/>
                  </a:cubicBezTo>
                  <a:cubicBezTo>
                    <a:pt x="56" y="115"/>
                    <a:pt x="56" y="115"/>
                    <a:pt x="56" y="114"/>
                  </a:cubicBezTo>
                  <a:cubicBezTo>
                    <a:pt x="56" y="113"/>
                    <a:pt x="56" y="112"/>
                    <a:pt x="56" y="112"/>
                  </a:cubicBezTo>
                  <a:cubicBezTo>
                    <a:pt x="56" y="111"/>
                    <a:pt x="57" y="111"/>
                    <a:pt x="57" y="110"/>
                  </a:cubicBezTo>
                  <a:cubicBezTo>
                    <a:pt x="57" y="107"/>
                    <a:pt x="57" y="105"/>
                    <a:pt x="58" y="102"/>
                  </a:cubicBezTo>
                  <a:cubicBezTo>
                    <a:pt x="61" y="84"/>
                    <a:pt x="66" y="64"/>
                    <a:pt x="75" y="52"/>
                  </a:cubicBezTo>
                  <a:close/>
                </a:path>
              </a:pathLst>
            </a:custGeom>
            <a:solidFill>
              <a:srgbClr val="009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113280" y="3096360"/>
              <a:ext cx="242640" cy="24264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71" y="137"/>
                  </a:moveTo>
                  <a:cubicBezTo>
                    <a:pt x="171" y="137"/>
                    <a:pt x="48" y="171"/>
                    <a:pt x="0" y="38"/>
                  </a:cubicBezTo>
                  <a:cubicBezTo>
                    <a:pt x="0" y="38"/>
                    <a:pt x="128" y="0"/>
                    <a:pt x="171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7"/>
            <p:cNvSpPr/>
            <p:nvPr/>
          </p:nvSpPr>
          <p:spPr>
            <a:xfrm>
              <a:off x="3156480" y="3147120"/>
              <a:ext cx="72360" cy="7272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8" y="12"/>
                  </a:moveTo>
                  <a:cubicBezTo>
                    <a:pt x="0" y="22"/>
                    <a:pt x="1" y="36"/>
                    <a:pt x="11" y="44"/>
                  </a:cubicBezTo>
                  <a:cubicBezTo>
                    <a:pt x="21" y="52"/>
                    <a:pt x="36" y="51"/>
                    <a:pt x="44" y="41"/>
                  </a:cubicBezTo>
                  <a:cubicBezTo>
                    <a:pt x="52" y="31"/>
                    <a:pt x="50" y="17"/>
                    <a:pt x="40" y="9"/>
                  </a:cubicBezTo>
                  <a:cubicBezTo>
                    <a:pt x="31" y="0"/>
                    <a:pt x="16" y="2"/>
                    <a:pt x="8" y="12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8"/>
            <p:cNvSpPr/>
            <p:nvPr/>
          </p:nvSpPr>
          <p:spPr>
            <a:xfrm>
              <a:off x="3580200" y="3270960"/>
              <a:ext cx="271080" cy="253800"/>
            </a:xfrm>
            <a:custGeom>
              <a:avLst/>
              <a:gdLst/>
              <a:ahLst/>
              <a:rect l="l" t="t" r="r" b="b"/>
              <a:pathLst>
                <a:path w="191" h="179">
                  <a:moveTo>
                    <a:pt x="0" y="70"/>
                  </a:moveTo>
                  <a:cubicBezTo>
                    <a:pt x="0" y="70"/>
                    <a:pt x="65" y="179"/>
                    <a:pt x="191" y="116"/>
                  </a:cubicBezTo>
                  <a:cubicBezTo>
                    <a:pt x="191" y="116"/>
                    <a:pt x="125" y="0"/>
                    <a:pt x="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9"/>
            <p:cNvSpPr/>
            <p:nvPr/>
          </p:nvSpPr>
          <p:spPr>
            <a:xfrm>
              <a:off x="3646800" y="3345480"/>
              <a:ext cx="68040" cy="680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7" y="26"/>
                  </a:moveTo>
                  <a:cubicBezTo>
                    <a:pt x="46" y="38"/>
                    <a:pt x="35" y="48"/>
                    <a:pt x="22" y="47"/>
                  </a:cubicBezTo>
                  <a:cubicBezTo>
                    <a:pt x="10" y="46"/>
                    <a:pt x="0" y="35"/>
                    <a:pt x="1" y="22"/>
                  </a:cubicBezTo>
                  <a:cubicBezTo>
                    <a:pt x="2" y="10"/>
                    <a:pt x="13" y="0"/>
                    <a:pt x="26" y="1"/>
                  </a:cubicBezTo>
                  <a:cubicBezTo>
                    <a:pt x="38" y="2"/>
                    <a:pt x="48" y="13"/>
                    <a:pt x="47" y="26"/>
                  </a:cubicBezTo>
                  <a:close/>
                </a:path>
              </a:pathLst>
            </a:cu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0"/>
            <p:cNvSpPr/>
            <p:nvPr/>
          </p:nvSpPr>
          <p:spPr>
            <a:xfrm>
              <a:off x="3248280" y="3561120"/>
              <a:ext cx="120240" cy="5688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0" y="0"/>
                  </a:moveTo>
                  <a:lnTo>
                    <a:pt x="76" y="10"/>
                  </a:lnTo>
                  <a:lnTo>
                    <a:pt x="65" y="36"/>
                  </a:lnTo>
                  <a:lnTo>
                    <a:pt x="5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1"/>
            <p:cNvSpPr/>
            <p:nvPr/>
          </p:nvSpPr>
          <p:spPr>
            <a:xfrm>
              <a:off x="3351600" y="3576960"/>
              <a:ext cx="117000" cy="72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4" y="46"/>
                  </a:moveTo>
                  <a:lnTo>
                    <a:pt x="11" y="0"/>
                  </a:lnTo>
                  <a:lnTo>
                    <a:pt x="0" y="26"/>
                  </a:lnTo>
                  <a:lnTo>
                    <a:pt x="22" y="24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2"/>
            <p:cNvSpPr/>
            <p:nvPr/>
          </p:nvSpPr>
          <p:spPr>
            <a:xfrm>
              <a:off x="3094560" y="3662640"/>
              <a:ext cx="218520" cy="203040"/>
            </a:xfrm>
            <a:custGeom>
              <a:avLst/>
              <a:gdLst/>
              <a:ahLst/>
              <a:rect l="l" t="t" r="r" b="b"/>
              <a:pathLst>
                <a:path w="155" h="143">
                  <a:moveTo>
                    <a:pt x="0" y="0"/>
                  </a:moveTo>
                  <a:cubicBezTo>
                    <a:pt x="0" y="0"/>
                    <a:pt x="6" y="100"/>
                    <a:pt x="113" y="143"/>
                  </a:cubicBezTo>
                  <a:cubicBezTo>
                    <a:pt x="155" y="37"/>
                    <a:pt x="155" y="37"/>
                    <a:pt x="155" y="3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3"/>
            <p:cNvSpPr/>
            <p:nvPr/>
          </p:nvSpPr>
          <p:spPr>
            <a:xfrm>
              <a:off x="3254760" y="3715200"/>
              <a:ext cx="255240" cy="210600"/>
            </a:xfrm>
            <a:custGeom>
              <a:avLst/>
              <a:gdLst/>
              <a:ahLst/>
              <a:rect l="l" t="t" r="r" b="b"/>
              <a:pathLst>
                <a:path w="180" h="149">
                  <a:moveTo>
                    <a:pt x="180" y="80"/>
                  </a:moveTo>
                  <a:cubicBezTo>
                    <a:pt x="180" y="80"/>
                    <a:pt x="107" y="149"/>
                    <a:pt x="0" y="106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180" y="8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4"/>
            <p:cNvSpPr/>
            <p:nvPr/>
          </p:nvSpPr>
          <p:spPr>
            <a:xfrm>
              <a:off x="2988360" y="3543480"/>
              <a:ext cx="344160" cy="199800"/>
            </a:xfrm>
            <a:custGeom>
              <a:avLst/>
              <a:gdLst/>
              <a:ahLst/>
              <a:rect l="l" t="t" r="r" b="b"/>
              <a:pathLst>
                <a:path w="243" h="141">
                  <a:moveTo>
                    <a:pt x="210" y="49"/>
                  </a:moveTo>
                  <a:cubicBezTo>
                    <a:pt x="190" y="39"/>
                    <a:pt x="170" y="42"/>
                    <a:pt x="150" y="49"/>
                  </a:cubicBezTo>
                  <a:cubicBezTo>
                    <a:pt x="122" y="59"/>
                    <a:pt x="83" y="40"/>
                    <a:pt x="57" y="29"/>
                  </a:cubicBezTo>
                  <a:cubicBezTo>
                    <a:pt x="38" y="20"/>
                    <a:pt x="1" y="0"/>
                    <a:pt x="1" y="0"/>
                  </a:cubicBezTo>
                  <a:cubicBezTo>
                    <a:pt x="0" y="0"/>
                    <a:pt x="17" y="29"/>
                    <a:pt x="27" y="41"/>
                  </a:cubicBezTo>
                  <a:cubicBezTo>
                    <a:pt x="42" y="61"/>
                    <a:pt x="60" y="82"/>
                    <a:pt x="82" y="96"/>
                  </a:cubicBezTo>
                  <a:cubicBezTo>
                    <a:pt x="114" y="117"/>
                    <a:pt x="149" y="133"/>
                    <a:pt x="187" y="139"/>
                  </a:cubicBezTo>
                  <a:cubicBezTo>
                    <a:pt x="199" y="141"/>
                    <a:pt x="213" y="141"/>
                    <a:pt x="224" y="136"/>
                  </a:cubicBezTo>
                  <a:cubicBezTo>
                    <a:pt x="225" y="134"/>
                    <a:pt x="225" y="134"/>
                    <a:pt x="225" y="134"/>
                  </a:cubicBezTo>
                  <a:cubicBezTo>
                    <a:pt x="242" y="91"/>
                    <a:pt x="242" y="91"/>
                    <a:pt x="242" y="91"/>
                  </a:cubicBezTo>
                  <a:cubicBezTo>
                    <a:pt x="243" y="89"/>
                    <a:pt x="243" y="89"/>
                    <a:pt x="243" y="89"/>
                  </a:cubicBezTo>
                  <a:cubicBezTo>
                    <a:pt x="239" y="72"/>
                    <a:pt x="226" y="57"/>
                    <a:pt x="210" y="49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5"/>
            <p:cNvSpPr/>
            <p:nvPr/>
          </p:nvSpPr>
          <p:spPr>
            <a:xfrm>
              <a:off x="3305520" y="3653280"/>
              <a:ext cx="363240" cy="188280"/>
            </a:xfrm>
            <a:custGeom>
              <a:avLst/>
              <a:gdLst/>
              <a:ahLst/>
              <a:rect l="l" t="t" r="r" b="b"/>
              <a:pathLst>
                <a:path w="256" h="133">
                  <a:moveTo>
                    <a:pt x="71" y="5"/>
                  </a:moveTo>
                  <a:cubicBezTo>
                    <a:pt x="92" y="12"/>
                    <a:pt x="105" y="28"/>
                    <a:pt x="114" y="47"/>
                  </a:cubicBezTo>
                  <a:cubicBezTo>
                    <a:pt x="128" y="74"/>
                    <a:pt x="169" y="87"/>
                    <a:pt x="195" y="96"/>
                  </a:cubicBezTo>
                  <a:cubicBezTo>
                    <a:pt x="215" y="103"/>
                    <a:pt x="256" y="115"/>
                    <a:pt x="256" y="115"/>
                  </a:cubicBezTo>
                  <a:cubicBezTo>
                    <a:pt x="256" y="116"/>
                    <a:pt x="224" y="124"/>
                    <a:pt x="209" y="126"/>
                  </a:cubicBezTo>
                  <a:cubicBezTo>
                    <a:pt x="184" y="130"/>
                    <a:pt x="157" y="133"/>
                    <a:pt x="131" y="128"/>
                  </a:cubicBezTo>
                  <a:cubicBezTo>
                    <a:pt x="94" y="121"/>
                    <a:pt x="57" y="109"/>
                    <a:pt x="25" y="87"/>
                  </a:cubicBezTo>
                  <a:cubicBezTo>
                    <a:pt x="15" y="80"/>
                    <a:pt x="5" y="70"/>
                    <a:pt x="0" y="59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34" y="3"/>
                    <a:pt x="53" y="0"/>
                    <a:pt x="71" y="5"/>
                  </a:cubicBez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6"/>
            <p:cNvSpPr/>
            <p:nvPr/>
          </p:nvSpPr>
          <p:spPr>
            <a:xfrm>
              <a:off x="3069000" y="2169360"/>
              <a:ext cx="693360" cy="961560"/>
            </a:xfrm>
            <a:custGeom>
              <a:avLst/>
              <a:gdLst/>
              <a:ahLst/>
              <a:rect l="l" t="t" r="r" b="b"/>
              <a:pathLst>
                <a:path w="489" h="678">
                  <a:moveTo>
                    <a:pt x="489" y="300"/>
                  </a:moveTo>
                  <a:cubicBezTo>
                    <a:pt x="338" y="678"/>
                    <a:pt x="338" y="678"/>
                    <a:pt x="338" y="678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1"/>
                    <a:pt x="132" y="0"/>
                    <a:pt x="489" y="300"/>
                  </a:cubicBezTo>
                  <a:close/>
                </a:path>
              </a:pathLst>
            </a:custGeom>
            <a:solidFill>
              <a:srgbClr val="88b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7"/>
            <p:cNvSpPr/>
            <p:nvPr/>
          </p:nvSpPr>
          <p:spPr>
            <a:xfrm>
              <a:off x="2942280" y="2796120"/>
              <a:ext cx="650520" cy="334800"/>
            </a:xfrm>
            <a:custGeom>
              <a:avLst/>
              <a:gdLst/>
              <a:ahLst/>
              <a:rect l="l" t="t" r="r" b="b"/>
              <a:pathLst>
                <a:path w="459" h="236">
                  <a:moveTo>
                    <a:pt x="459" y="156"/>
                  </a:moveTo>
                  <a:cubicBezTo>
                    <a:pt x="219" y="60"/>
                    <a:pt x="17" y="0"/>
                    <a:pt x="8" y="22"/>
                  </a:cubicBezTo>
                  <a:cubicBezTo>
                    <a:pt x="0" y="44"/>
                    <a:pt x="187" y="140"/>
                    <a:pt x="427" y="236"/>
                  </a:cubicBezTo>
                  <a:lnTo>
                    <a:pt x="459" y="15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8"/>
            <p:cNvSpPr/>
            <p:nvPr/>
          </p:nvSpPr>
          <p:spPr>
            <a:xfrm>
              <a:off x="3548520" y="2594520"/>
              <a:ext cx="874080" cy="653760"/>
            </a:xfrm>
            <a:custGeom>
              <a:avLst/>
              <a:gdLst/>
              <a:ahLst/>
              <a:rect l="l" t="t" r="r" b="b"/>
              <a:pathLst>
                <a:path w="617" h="461">
                  <a:moveTo>
                    <a:pt x="151" y="0"/>
                  </a:moveTo>
                  <a:cubicBezTo>
                    <a:pt x="0" y="378"/>
                    <a:pt x="0" y="378"/>
                    <a:pt x="0" y="378"/>
                  </a:cubicBezTo>
                  <a:cubicBezTo>
                    <a:pt x="387" y="461"/>
                    <a:pt x="387" y="461"/>
                    <a:pt x="387" y="461"/>
                  </a:cubicBezTo>
                  <a:cubicBezTo>
                    <a:pt x="387" y="461"/>
                    <a:pt x="617" y="29"/>
                    <a:pt x="151" y="0"/>
                  </a:cubicBezTo>
                  <a:close/>
                </a:path>
              </a:pathLst>
            </a:custGeom>
            <a:solidFill>
              <a:srgbClr val="6ca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9"/>
            <p:cNvSpPr/>
            <p:nvPr/>
          </p:nvSpPr>
          <p:spPr>
            <a:xfrm>
              <a:off x="3548520" y="3016800"/>
              <a:ext cx="650520" cy="334800"/>
            </a:xfrm>
            <a:custGeom>
              <a:avLst/>
              <a:gdLst/>
              <a:ahLst/>
              <a:rect l="l" t="t" r="r" b="b"/>
              <a:pathLst>
                <a:path w="459" h="236">
                  <a:moveTo>
                    <a:pt x="32" y="0"/>
                  </a:moveTo>
                  <a:cubicBezTo>
                    <a:pt x="272" y="96"/>
                    <a:pt x="459" y="191"/>
                    <a:pt x="450" y="213"/>
                  </a:cubicBezTo>
                  <a:cubicBezTo>
                    <a:pt x="441" y="236"/>
                    <a:pt x="240" y="176"/>
                    <a:pt x="0" y="80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74a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0"/>
            <p:cNvSpPr/>
            <p:nvPr/>
          </p:nvSpPr>
          <p:spPr>
            <a:xfrm>
              <a:off x="3110400" y="4099320"/>
              <a:ext cx="226440" cy="205920"/>
            </a:xfrm>
            <a:custGeom>
              <a:avLst/>
              <a:gdLst/>
              <a:ahLst/>
              <a:rect l="l" t="t" r="r" b="b"/>
              <a:pathLst>
                <a:path w="160" h="145">
                  <a:moveTo>
                    <a:pt x="154" y="51"/>
                  </a:moveTo>
                  <a:cubicBezTo>
                    <a:pt x="154" y="51"/>
                    <a:pt x="23" y="0"/>
                    <a:pt x="17" y="26"/>
                  </a:cubicBezTo>
                  <a:cubicBezTo>
                    <a:pt x="10" y="52"/>
                    <a:pt x="0" y="145"/>
                    <a:pt x="55" y="135"/>
                  </a:cubicBezTo>
                  <a:cubicBezTo>
                    <a:pt x="110" y="124"/>
                    <a:pt x="160" y="96"/>
                    <a:pt x="160" y="96"/>
                  </a:cubicBezTo>
                  <a:lnTo>
                    <a:pt x="154" y="51"/>
                  </a:lnTo>
                  <a:close/>
                </a:path>
              </a:pathLst>
            </a:custGeom>
            <a:solidFill>
              <a:srgbClr val="980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1"/>
            <p:cNvSpPr/>
            <p:nvPr/>
          </p:nvSpPr>
          <p:spPr>
            <a:xfrm>
              <a:off x="3291120" y="4159440"/>
              <a:ext cx="63360" cy="1015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16"/>
                    <a:pt x="0" y="36"/>
                  </a:cubicBezTo>
                  <a:cubicBezTo>
                    <a:pt x="0" y="56"/>
                    <a:pt x="20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lnTo>
                    <a:pt x="45" y="0"/>
                  </a:lnTo>
                  <a:close/>
                </a:path>
              </a:pathLst>
            </a:custGeom>
            <a:solidFill>
              <a:srgbClr val="ac0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2"/>
            <p:cNvSpPr/>
            <p:nvPr/>
          </p:nvSpPr>
          <p:spPr>
            <a:xfrm>
              <a:off x="3372120" y="4099320"/>
              <a:ext cx="228240" cy="20592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6" y="51"/>
                  </a:moveTo>
                  <a:cubicBezTo>
                    <a:pt x="6" y="51"/>
                    <a:pt x="137" y="0"/>
                    <a:pt x="144" y="26"/>
                  </a:cubicBezTo>
                  <a:cubicBezTo>
                    <a:pt x="150" y="52"/>
                    <a:pt x="161" y="145"/>
                    <a:pt x="106" y="135"/>
                  </a:cubicBezTo>
                  <a:cubicBezTo>
                    <a:pt x="50" y="124"/>
                    <a:pt x="0" y="96"/>
                    <a:pt x="0" y="96"/>
                  </a:cubicBezTo>
                  <a:lnTo>
                    <a:pt x="6" y="51"/>
                  </a:lnTo>
                  <a:close/>
                </a:path>
              </a:pathLst>
            </a:custGeom>
            <a:solidFill>
              <a:srgbClr val="721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3"/>
            <p:cNvSpPr/>
            <p:nvPr/>
          </p:nvSpPr>
          <p:spPr>
            <a:xfrm>
              <a:off x="3354840" y="4159440"/>
              <a:ext cx="63000" cy="10152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5" y="0"/>
                    <a:pt x="45" y="16"/>
                    <a:pt x="45" y="36"/>
                  </a:cubicBezTo>
                  <a:cubicBezTo>
                    <a:pt x="45" y="56"/>
                    <a:pt x="25" y="72"/>
                    <a:pt x="0" y="72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81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任意多边形 133"/>
          <p:cNvSpPr/>
          <p:nvPr/>
        </p:nvSpPr>
        <p:spPr>
          <a:xfrm>
            <a:off x="645012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dc6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60"/>
          <p:cNvSpPr/>
          <p:nvPr/>
        </p:nvSpPr>
        <p:spPr>
          <a:xfrm>
            <a:off x="2082960" y="3367080"/>
            <a:ext cx="3651120" cy="1309680"/>
          </a:xfrm>
          <a:custGeom>
            <a:avLst/>
            <a:gdLst/>
            <a:ahLst/>
            <a:rect l="l" t="t" r="r" b="b"/>
            <a:pathLst>
              <a:path w="3652354" h="1309315">
                <a:moveTo>
                  <a:pt x="1072493" y="1013296"/>
                </a:moveTo>
                <a:lnTo>
                  <a:pt x="1345741" y="1013296"/>
                </a:lnTo>
                <a:lnTo>
                  <a:pt x="1345741" y="1280852"/>
                </a:lnTo>
                <a:lnTo>
                  <a:pt x="1072493" y="1280852"/>
                </a:lnTo>
                <a:lnTo>
                  <a:pt x="1072493" y="1013296"/>
                </a:lnTo>
                <a:close/>
                <a:moveTo>
                  <a:pt x="472493" y="745740"/>
                </a:moveTo>
                <a:cubicBezTo>
                  <a:pt x="343459" y="779896"/>
                  <a:pt x="278942" y="848208"/>
                  <a:pt x="278942" y="950677"/>
                </a:cubicBezTo>
                <a:cubicBezTo>
                  <a:pt x="286532" y="1064530"/>
                  <a:pt x="352946" y="1125252"/>
                  <a:pt x="478185" y="1132842"/>
                </a:cubicBezTo>
                <a:cubicBezTo>
                  <a:pt x="607219" y="1129047"/>
                  <a:pt x="673634" y="1070223"/>
                  <a:pt x="677429" y="956369"/>
                </a:cubicBezTo>
                <a:cubicBezTo>
                  <a:pt x="677429" y="846311"/>
                  <a:pt x="609117" y="776101"/>
                  <a:pt x="472493" y="745740"/>
                </a:cubicBezTo>
                <a:close/>
                <a:moveTo>
                  <a:pt x="2747219" y="592038"/>
                </a:moveTo>
                <a:lnTo>
                  <a:pt x="2747219" y="859594"/>
                </a:lnTo>
                <a:lnTo>
                  <a:pt x="2957848" y="859594"/>
                </a:lnTo>
                <a:lnTo>
                  <a:pt x="2957848" y="592038"/>
                </a:lnTo>
                <a:lnTo>
                  <a:pt x="2747219" y="592038"/>
                </a:lnTo>
                <a:close/>
                <a:moveTo>
                  <a:pt x="2752911" y="261863"/>
                </a:moveTo>
                <a:cubicBezTo>
                  <a:pt x="2707370" y="326380"/>
                  <a:pt x="2648546" y="381409"/>
                  <a:pt x="2576438" y="426950"/>
                </a:cubicBezTo>
                <a:lnTo>
                  <a:pt x="2957848" y="426950"/>
                </a:lnTo>
                <a:lnTo>
                  <a:pt x="2957848" y="261863"/>
                </a:lnTo>
                <a:lnTo>
                  <a:pt x="2752911" y="261863"/>
                </a:lnTo>
                <a:close/>
                <a:moveTo>
                  <a:pt x="483878" y="199243"/>
                </a:moveTo>
                <a:cubicBezTo>
                  <a:pt x="373819" y="206833"/>
                  <a:pt x="314995" y="258068"/>
                  <a:pt x="307405" y="352945"/>
                </a:cubicBezTo>
                <a:cubicBezTo>
                  <a:pt x="303610" y="444028"/>
                  <a:pt x="362434" y="504750"/>
                  <a:pt x="483878" y="535111"/>
                </a:cubicBezTo>
                <a:cubicBezTo>
                  <a:pt x="597731" y="504750"/>
                  <a:pt x="656556" y="445926"/>
                  <a:pt x="660351" y="358638"/>
                </a:cubicBezTo>
                <a:cubicBezTo>
                  <a:pt x="656556" y="256170"/>
                  <a:pt x="597731" y="203038"/>
                  <a:pt x="483878" y="199243"/>
                </a:cubicBezTo>
                <a:close/>
                <a:moveTo>
                  <a:pt x="1848260" y="39848"/>
                </a:moveTo>
                <a:lnTo>
                  <a:pt x="2121508" y="39848"/>
                </a:lnTo>
                <a:lnTo>
                  <a:pt x="2121508" y="1269466"/>
                </a:lnTo>
                <a:lnTo>
                  <a:pt x="1848260" y="1269466"/>
                </a:lnTo>
                <a:lnTo>
                  <a:pt x="1848260" y="404180"/>
                </a:lnTo>
                <a:cubicBezTo>
                  <a:pt x="1741996" y="480082"/>
                  <a:pt x="1611065" y="529418"/>
                  <a:pt x="1455465" y="552189"/>
                </a:cubicBezTo>
                <a:lnTo>
                  <a:pt x="1455465" y="398487"/>
                </a:lnTo>
                <a:cubicBezTo>
                  <a:pt x="1645221" y="318789"/>
                  <a:pt x="1776152" y="199243"/>
                  <a:pt x="1848260" y="39848"/>
                </a:cubicBezTo>
                <a:close/>
                <a:moveTo>
                  <a:pt x="483878" y="22770"/>
                </a:moveTo>
                <a:cubicBezTo>
                  <a:pt x="760921" y="34156"/>
                  <a:pt x="910829" y="144214"/>
                  <a:pt x="933599" y="352945"/>
                </a:cubicBezTo>
                <a:cubicBezTo>
                  <a:pt x="933599" y="493365"/>
                  <a:pt x="844414" y="588243"/>
                  <a:pt x="666044" y="637579"/>
                </a:cubicBezTo>
                <a:cubicBezTo>
                  <a:pt x="859594" y="679326"/>
                  <a:pt x="956370" y="779896"/>
                  <a:pt x="956370" y="939291"/>
                </a:cubicBezTo>
                <a:cubicBezTo>
                  <a:pt x="952575" y="1174588"/>
                  <a:pt x="791282" y="1294135"/>
                  <a:pt x="472493" y="1297930"/>
                </a:cubicBezTo>
                <a:cubicBezTo>
                  <a:pt x="165088" y="1290340"/>
                  <a:pt x="7591" y="1174588"/>
                  <a:pt x="0" y="950677"/>
                </a:cubicBezTo>
                <a:cubicBezTo>
                  <a:pt x="7591" y="791282"/>
                  <a:pt x="98673" y="686916"/>
                  <a:pt x="273249" y="637579"/>
                </a:cubicBezTo>
                <a:cubicBezTo>
                  <a:pt x="113854" y="595833"/>
                  <a:pt x="34157" y="500955"/>
                  <a:pt x="34157" y="352945"/>
                </a:cubicBezTo>
                <a:cubicBezTo>
                  <a:pt x="56927" y="144214"/>
                  <a:pt x="206834" y="34156"/>
                  <a:pt x="483878" y="22770"/>
                </a:cubicBezTo>
                <a:close/>
                <a:moveTo>
                  <a:pt x="2604902" y="0"/>
                </a:moveTo>
                <a:lnTo>
                  <a:pt x="2861072" y="0"/>
                </a:lnTo>
                <a:cubicBezTo>
                  <a:pt x="2857277" y="11385"/>
                  <a:pt x="2853482" y="24668"/>
                  <a:pt x="2849687" y="39848"/>
                </a:cubicBezTo>
                <a:cubicBezTo>
                  <a:pt x="2842097" y="62619"/>
                  <a:pt x="2836404" y="79697"/>
                  <a:pt x="2832609" y="91082"/>
                </a:cubicBezTo>
                <a:lnTo>
                  <a:pt x="3606813" y="91082"/>
                </a:lnTo>
                <a:lnTo>
                  <a:pt x="3606813" y="261863"/>
                </a:lnTo>
                <a:lnTo>
                  <a:pt x="3219711" y="261863"/>
                </a:lnTo>
                <a:lnTo>
                  <a:pt x="3219711" y="426950"/>
                </a:lnTo>
                <a:lnTo>
                  <a:pt x="3572657" y="426950"/>
                </a:lnTo>
                <a:lnTo>
                  <a:pt x="3572657" y="592038"/>
                </a:lnTo>
                <a:lnTo>
                  <a:pt x="3219711" y="592038"/>
                </a:lnTo>
                <a:lnTo>
                  <a:pt x="3219711" y="859594"/>
                </a:lnTo>
                <a:lnTo>
                  <a:pt x="3652354" y="859594"/>
                </a:lnTo>
                <a:lnTo>
                  <a:pt x="3652354" y="1024681"/>
                </a:lnTo>
                <a:lnTo>
                  <a:pt x="3219711" y="1024681"/>
                </a:lnTo>
                <a:lnTo>
                  <a:pt x="3219711" y="1309315"/>
                </a:lnTo>
                <a:lnTo>
                  <a:pt x="2957848" y="1309315"/>
                </a:lnTo>
                <a:lnTo>
                  <a:pt x="2957848" y="1024681"/>
                </a:lnTo>
                <a:lnTo>
                  <a:pt x="2337346" y="1024681"/>
                </a:lnTo>
                <a:lnTo>
                  <a:pt x="2337346" y="859594"/>
                </a:lnTo>
                <a:lnTo>
                  <a:pt x="2508126" y="859594"/>
                </a:lnTo>
                <a:lnTo>
                  <a:pt x="2508126" y="461106"/>
                </a:lnTo>
                <a:cubicBezTo>
                  <a:pt x="2466380" y="483877"/>
                  <a:pt x="2417044" y="502853"/>
                  <a:pt x="2360117" y="518033"/>
                </a:cubicBezTo>
                <a:lnTo>
                  <a:pt x="2360117" y="364331"/>
                </a:lnTo>
                <a:cubicBezTo>
                  <a:pt x="2481561" y="288429"/>
                  <a:pt x="2563156" y="166985"/>
                  <a:pt x="2604902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相对较低血压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15/75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通常比血压相对较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40/90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多活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3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4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5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6094440" y="955800"/>
            <a:ext cx="5320800" cy="5925600"/>
            <a:chOff x="6094440" y="955800"/>
            <a:chExt cx="5320800" cy="5925600"/>
          </a:xfrm>
        </p:grpSpPr>
        <p:sp>
          <p:nvSpPr>
            <p:cNvPr id="469" name="Freeform 5"/>
            <p:cNvSpPr/>
            <p:nvPr/>
          </p:nvSpPr>
          <p:spPr>
            <a:xfrm>
              <a:off x="7657920" y="2079000"/>
              <a:ext cx="1567440" cy="1573560"/>
            </a:xfrm>
            <a:custGeom>
              <a:avLst/>
              <a:gdLst/>
              <a:ahLst/>
              <a:rect l="l" t="t" r="r" b="b"/>
              <a:pathLst>
                <a:path w="462" h="464">
                  <a:moveTo>
                    <a:pt x="155" y="273"/>
                  </a:moveTo>
                  <a:cubicBezTo>
                    <a:pt x="155" y="262"/>
                    <a:pt x="156" y="251"/>
                    <a:pt x="157" y="241"/>
                  </a:cubicBezTo>
                  <a:cubicBezTo>
                    <a:pt x="152" y="215"/>
                    <a:pt x="158" y="199"/>
                    <a:pt x="167" y="188"/>
                  </a:cubicBezTo>
                  <a:cubicBezTo>
                    <a:pt x="172" y="171"/>
                    <a:pt x="179" y="155"/>
                    <a:pt x="187" y="141"/>
                  </a:cubicBezTo>
                  <a:cubicBezTo>
                    <a:pt x="186" y="135"/>
                    <a:pt x="187" y="129"/>
                    <a:pt x="188" y="124"/>
                  </a:cubicBezTo>
                  <a:cubicBezTo>
                    <a:pt x="199" y="121"/>
                    <a:pt x="199" y="121"/>
                    <a:pt x="199" y="121"/>
                  </a:cubicBezTo>
                  <a:cubicBezTo>
                    <a:pt x="198" y="123"/>
                    <a:pt x="198" y="126"/>
                    <a:pt x="198" y="128"/>
                  </a:cubicBezTo>
                  <a:cubicBezTo>
                    <a:pt x="198" y="153"/>
                    <a:pt x="222" y="174"/>
                    <a:pt x="251" y="174"/>
                  </a:cubicBezTo>
                  <a:cubicBezTo>
                    <a:pt x="392" y="175"/>
                    <a:pt x="392" y="175"/>
                    <a:pt x="392" y="175"/>
                  </a:cubicBezTo>
                  <a:cubicBezTo>
                    <a:pt x="392" y="176"/>
                    <a:pt x="392" y="178"/>
                    <a:pt x="392" y="180"/>
                  </a:cubicBezTo>
                  <a:cubicBezTo>
                    <a:pt x="218" y="179"/>
                    <a:pt x="218" y="179"/>
                    <a:pt x="218" y="179"/>
                  </a:cubicBezTo>
                  <a:cubicBezTo>
                    <a:pt x="190" y="179"/>
                    <a:pt x="166" y="199"/>
                    <a:pt x="166" y="225"/>
                  </a:cubicBezTo>
                  <a:cubicBezTo>
                    <a:pt x="166" y="250"/>
                    <a:pt x="189" y="271"/>
                    <a:pt x="218" y="271"/>
                  </a:cubicBezTo>
                  <a:cubicBezTo>
                    <a:pt x="384" y="271"/>
                    <a:pt x="384" y="271"/>
                    <a:pt x="384" y="271"/>
                  </a:cubicBezTo>
                  <a:cubicBezTo>
                    <a:pt x="383" y="273"/>
                    <a:pt x="383" y="274"/>
                    <a:pt x="383" y="276"/>
                  </a:cubicBezTo>
                  <a:cubicBezTo>
                    <a:pt x="253" y="275"/>
                    <a:pt x="253" y="275"/>
                    <a:pt x="253" y="275"/>
                  </a:cubicBezTo>
                  <a:cubicBezTo>
                    <a:pt x="222" y="275"/>
                    <a:pt x="196" y="296"/>
                    <a:pt x="196" y="321"/>
                  </a:cubicBezTo>
                  <a:cubicBezTo>
                    <a:pt x="196" y="346"/>
                    <a:pt x="222" y="367"/>
                    <a:pt x="253" y="367"/>
                  </a:cubicBezTo>
                  <a:cubicBezTo>
                    <a:pt x="375" y="368"/>
                    <a:pt x="375" y="368"/>
                    <a:pt x="375" y="368"/>
                  </a:cubicBezTo>
                  <a:cubicBezTo>
                    <a:pt x="375" y="370"/>
                    <a:pt x="374" y="373"/>
                    <a:pt x="374" y="375"/>
                  </a:cubicBezTo>
                  <a:cubicBezTo>
                    <a:pt x="368" y="373"/>
                    <a:pt x="361" y="372"/>
                    <a:pt x="354" y="372"/>
                  </a:cubicBezTo>
                  <a:cubicBezTo>
                    <a:pt x="283" y="372"/>
                    <a:pt x="283" y="372"/>
                    <a:pt x="283" y="372"/>
                  </a:cubicBezTo>
                  <a:cubicBezTo>
                    <a:pt x="252" y="372"/>
                    <a:pt x="226" y="392"/>
                    <a:pt x="226" y="418"/>
                  </a:cubicBezTo>
                  <a:cubicBezTo>
                    <a:pt x="226" y="432"/>
                    <a:pt x="235" y="445"/>
                    <a:pt x="248" y="454"/>
                  </a:cubicBezTo>
                  <a:cubicBezTo>
                    <a:pt x="258" y="460"/>
                    <a:pt x="270" y="464"/>
                    <a:pt x="283" y="464"/>
                  </a:cubicBezTo>
                  <a:cubicBezTo>
                    <a:pt x="314" y="464"/>
                    <a:pt x="314" y="464"/>
                    <a:pt x="314" y="464"/>
                  </a:cubicBezTo>
                  <a:cubicBezTo>
                    <a:pt x="354" y="464"/>
                    <a:pt x="354" y="464"/>
                    <a:pt x="354" y="464"/>
                  </a:cubicBezTo>
                  <a:cubicBezTo>
                    <a:pt x="385" y="464"/>
                    <a:pt x="411" y="443"/>
                    <a:pt x="411" y="418"/>
                  </a:cubicBezTo>
                  <a:cubicBezTo>
                    <a:pt x="411" y="399"/>
                    <a:pt x="396" y="382"/>
                    <a:pt x="375" y="375"/>
                  </a:cubicBezTo>
                  <a:cubicBezTo>
                    <a:pt x="376" y="368"/>
                    <a:pt x="376" y="368"/>
                    <a:pt x="376" y="368"/>
                  </a:cubicBezTo>
                  <a:cubicBezTo>
                    <a:pt x="385" y="368"/>
                    <a:pt x="385" y="368"/>
                    <a:pt x="385" y="368"/>
                  </a:cubicBezTo>
                  <a:cubicBezTo>
                    <a:pt x="416" y="368"/>
                    <a:pt x="442" y="347"/>
                    <a:pt x="442" y="322"/>
                  </a:cubicBezTo>
                  <a:cubicBezTo>
                    <a:pt x="442" y="297"/>
                    <a:pt x="418" y="277"/>
                    <a:pt x="388" y="276"/>
                  </a:cubicBezTo>
                  <a:cubicBezTo>
                    <a:pt x="388" y="271"/>
                    <a:pt x="388" y="271"/>
                    <a:pt x="388" y="271"/>
                  </a:cubicBezTo>
                  <a:cubicBezTo>
                    <a:pt x="403" y="271"/>
                    <a:pt x="403" y="271"/>
                    <a:pt x="403" y="271"/>
                  </a:cubicBezTo>
                  <a:cubicBezTo>
                    <a:pt x="431" y="271"/>
                    <a:pt x="455" y="251"/>
                    <a:pt x="455" y="226"/>
                  </a:cubicBezTo>
                  <a:cubicBezTo>
                    <a:pt x="455" y="200"/>
                    <a:pt x="432" y="180"/>
                    <a:pt x="403" y="180"/>
                  </a:cubicBezTo>
                  <a:cubicBezTo>
                    <a:pt x="400" y="180"/>
                    <a:pt x="400" y="180"/>
                    <a:pt x="400" y="180"/>
                  </a:cubicBezTo>
                  <a:cubicBezTo>
                    <a:pt x="400" y="175"/>
                    <a:pt x="400" y="175"/>
                    <a:pt x="400" y="175"/>
                  </a:cubicBezTo>
                  <a:cubicBezTo>
                    <a:pt x="409" y="175"/>
                    <a:pt x="409" y="175"/>
                    <a:pt x="409" y="175"/>
                  </a:cubicBezTo>
                  <a:cubicBezTo>
                    <a:pt x="438" y="175"/>
                    <a:pt x="462" y="154"/>
                    <a:pt x="462" y="129"/>
                  </a:cubicBezTo>
                  <a:cubicBezTo>
                    <a:pt x="462" y="104"/>
                    <a:pt x="439" y="83"/>
                    <a:pt x="409" y="83"/>
                  </a:cubicBezTo>
                  <a:cubicBezTo>
                    <a:pt x="323" y="83"/>
                    <a:pt x="323" y="83"/>
                    <a:pt x="323" y="83"/>
                  </a:cubicBezTo>
                  <a:cubicBezTo>
                    <a:pt x="321" y="92"/>
                    <a:pt x="316" y="98"/>
                    <a:pt x="308" y="100"/>
                  </a:cubicBezTo>
                  <a:cubicBezTo>
                    <a:pt x="265" y="110"/>
                    <a:pt x="265" y="110"/>
                    <a:pt x="265" y="110"/>
                  </a:cubicBezTo>
                  <a:cubicBezTo>
                    <a:pt x="267" y="115"/>
                    <a:pt x="269" y="121"/>
                    <a:pt x="269" y="128"/>
                  </a:cubicBezTo>
                  <a:cubicBezTo>
                    <a:pt x="269" y="147"/>
                    <a:pt x="258" y="163"/>
                    <a:pt x="245" y="163"/>
                  </a:cubicBezTo>
                  <a:cubicBezTo>
                    <a:pt x="232" y="163"/>
                    <a:pt x="222" y="147"/>
                    <a:pt x="222" y="128"/>
                  </a:cubicBezTo>
                  <a:cubicBezTo>
                    <a:pt x="222" y="125"/>
                    <a:pt x="222" y="122"/>
                    <a:pt x="222" y="119"/>
                  </a:cubicBezTo>
                  <a:cubicBezTo>
                    <a:pt x="219" y="120"/>
                    <a:pt x="219" y="120"/>
                    <a:pt x="219" y="120"/>
                  </a:cubicBezTo>
                  <a:cubicBezTo>
                    <a:pt x="216" y="121"/>
                    <a:pt x="212" y="120"/>
                    <a:pt x="208" y="119"/>
                  </a:cubicBezTo>
                  <a:cubicBezTo>
                    <a:pt x="294" y="97"/>
                    <a:pt x="294" y="97"/>
                    <a:pt x="294" y="97"/>
                  </a:cubicBezTo>
                  <a:cubicBezTo>
                    <a:pt x="311" y="93"/>
                    <a:pt x="322" y="78"/>
                    <a:pt x="324" y="60"/>
                  </a:cubicBezTo>
                  <a:cubicBezTo>
                    <a:pt x="325" y="54"/>
                    <a:pt x="325" y="48"/>
                    <a:pt x="323" y="41"/>
                  </a:cubicBezTo>
                  <a:cubicBezTo>
                    <a:pt x="316" y="16"/>
                    <a:pt x="291" y="0"/>
                    <a:pt x="268" y="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08" y="47"/>
                    <a:pt x="96" y="70"/>
                    <a:pt x="100" y="93"/>
                  </a:cubicBezTo>
                  <a:cubicBezTo>
                    <a:pt x="100" y="93"/>
                    <a:pt x="100" y="93"/>
                    <a:pt x="100" y="93"/>
                  </a:cubicBezTo>
                  <a:cubicBezTo>
                    <a:pt x="71" y="101"/>
                    <a:pt x="46" y="128"/>
                    <a:pt x="45" y="160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423"/>
                    <a:pt x="0" y="423"/>
                    <a:pt x="0" y="423"/>
                  </a:cubicBezTo>
                  <a:cubicBezTo>
                    <a:pt x="47" y="423"/>
                    <a:pt x="47" y="423"/>
                    <a:pt x="47" y="423"/>
                  </a:cubicBezTo>
                  <a:cubicBezTo>
                    <a:pt x="56" y="445"/>
                    <a:pt x="76" y="460"/>
                    <a:pt x="99" y="459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9" y="444"/>
                    <a:pt x="219" y="444"/>
                    <a:pt x="219" y="444"/>
                  </a:cubicBezTo>
                  <a:cubicBezTo>
                    <a:pt x="181" y="414"/>
                    <a:pt x="155" y="348"/>
                    <a:pt x="155" y="273"/>
                  </a:cubicBezTo>
                  <a:close/>
                  <a:moveTo>
                    <a:pt x="207" y="259"/>
                  </a:moveTo>
                  <a:cubicBezTo>
                    <a:pt x="194" y="259"/>
                    <a:pt x="183" y="244"/>
                    <a:pt x="183" y="225"/>
                  </a:cubicBezTo>
                  <a:cubicBezTo>
                    <a:pt x="183" y="206"/>
                    <a:pt x="194" y="190"/>
                    <a:pt x="207" y="190"/>
                  </a:cubicBezTo>
                  <a:cubicBezTo>
                    <a:pt x="220" y="190"/>
                    <a:pt x="231" y="206"/>
                    <a:pt x="231" y="225"/>
                  </a:cubicBezTo>
                  <a:cubicBezTo>
                    <a:pt x="231" y="244"/>
                    <a:pt x="220" y="259"/>
                    <a:pt x="207" y="259"/>
                  </a:cubicBezTo>
                  <a:close/>
                  <a:moveTo>
                    <a:pt x="230" y="358"/>
                  </a:moveTo>
                  <a:cubicBezTo>
                    <a:pt x="217" y="358"/>
                    <a:pt x="206" y="342"/>
                    <a:pt x="206" y="323"/>
                  </a:cubicBezTo>
                  <a:cubicBezTo>
                    <a:pt x="206" y="304"/>
                    <a:pt x="217" y="289"/>
                    <a:pt x="230" y="289"/>
                  </a:cubicBezTo>
                  <a:cubicBezTo>
                    <a:pt x="243" y="289"/>
                    <a:pt x="253" y="305"/>
                    <a:pt x="253" y="324"/>
                  </a:cubicBezTo>
                  <a:cubicBezTo>
                    <a:pt x="253" y="343"/>
                    <a:pt x="243" y="358"/>
                    <a:pt x="230" y="358"/>
                  </a:cubicBezTo>
                  <a:close/>
                  <a:moveTo>
                    <a:pt x="240" y="415"/>
                  </a:moveTo>
                  <a:cubicBezTo>
                    <a:pt x="240" y="398"/>
                    <a:pt x="249" y="383"/>
                    <a:pt x="259" y="383"/>
                  </a:cubicBezTo>
                  <a:cubicBezTo>
                    <a:pt x="270" y="383"/>
                    <a:pt x="278" y="398"/>
                    <a:pt x="278" y="415"/>
                  </a:cubicBezTo>
                  <a:cubicBezTo>
                    <a:pt x="278" y="433"/>
                    <a:pt x="269" y="448"/>
                    <a:pt x="259" y="448"/>
                  </a:cubicBezTo>
                  <a:cubicBezTo>
                    <a:pt x="249" y="448"/>
                    <a:pt x="240" y="433"/>
                    <a:pt x="240" y="415"/>
                  </a:cubicBezTo>
                  <a:close/>
                  <a:moveTo>
                    <a:pt x="291" y="86"/>
                  </a:moveTo>
                  <a:cubicBezTo>
                    <a:pt x="278" y="87"/>
                    <a:pt x="267" y="73"/>
                    <a:pt x="265" y="54"/>
                  </a:cubicBezTo>
                  <a:cubicBezTo>
                    <a:pt x="263" y="35"/>
                    <a:pt x="272" y="18"/>
                    <a:pt x="285" y="17"/>
                  </a:cubicBezTo>
                  <a:cubicBezTo>
                    <a:pt x="298" y="16"/>
                    <a:pt x="310" y="31"/>
                    <a:pt x="312" y="50"/>
                  </a:cubicBezTo>
                  <a:cubicBezTo>
                    <a:pt x="314" y="68"/>
                    <a:pt x="304" y="85"/>
                    <a:pt x="291" y="86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"/>
            <p:cNvSpPr/>
            <p:nvPr/>
          </p:nvSpPr>
          <p:spPr>
            <a:xfrm>
              <a:off x="9546840" y="2062080"/>
              <a:ext cx="1652040" cy="2496600"/>
            </a:xfrm>
            <a:custGeom>
              <a:avLst/>
              <a:gdLst/>
              <a:ahLst/>
              <a:rect l="l" t="t" r="r" b="b"/>
              <a:pathLst>
                <a:path w="487" h="736">
                  <a:moveTo>
                    <a:pt x="259" y="174"/>
                  </a:moveTo>
                  <a:cubicBezTo>
                    <a:pt x="251" y="148"/>
                    <a:pt x="252" y="121"/>
                    <a:pt x="263" y="102"/>
                  </a:cubicBezTo>
                  <a:cubicBezTo>
                    <a:pt x="246" y="85"/>
                    <a:pt x="235" y="55"/>
                    <a:pt x="235" y="55"/>
                  </a:cubicBezTo>
                  <a:cubicBezTo>
                    <a:pt x="220" y="80"/>
                    <a:pt x="183" y="83"/>
                    <a:pt x="157" y="75"/>
                  </a:cubicBezTo>
                  <a:cubicBezTo>
                    <a:pt x="145" y="71"/>
                    <a:pt x="131" y="65"/>
                    <a:pt x="123" y="54"/>
                  </a:cubicBezTo>
                  <a:cubicBezTo>
                    <a:pt x="121" y="51"/>
                    <a:pt x="103" y="16"/>
                    <a:pt x="108" y="14"/>
                  </a:cubicBezTo>
                  <a:cubicBezTo>
                    <a:pt x="89" y="24"/>
                    <a:pt x="77" y="46"/>
                    <a:pt x="38" y="39"/>
                  </a:cubicBezTo>
                  <a:cubicBezTo>
                    <a:pt x="17" y="35"/>
                    <a:pt x="10" y="19"/>
                    <a:pt x="8" y="0"/>
                  </a:cubicBezTo>
                  <a:cubicBezTo>
                    <a:pt x="1" y="192"/>
                    <a:pt x="1" y="192"/>
                    <a:pt x="1" y="192"/>
                  </a:cubicBezTo>
                  <a:cubicBezTo>
                    <a:pt x="0" y="223"/>
                    <a:pt x="20" y="250"/>
                    <a:pt x="50" y="260"/>
                  </a:cubicBezTo>
                  <a:cubicBezTo>
                    <a:pt x="50" y="416"/>
                    <a:pt x="50" y="416"/>
                    <a:pt x="50" y="416"/>
                  </a:cubicBezTo>
                  <a:cubicBezTo>
                    <a:pt x="54" y="415"/>
                    <a:pt x="58" y="415"/>
                    <a:pt x="62" y="415"/>
                  </a:cubicBezTo>
                  <a:cubicBezTo>
                    <a:pt x="230" y="412"/>
                    <a:pt x="291" y="585"/>
                    <a:pt x="294" y="736"/>
                  </a:cubicBezTo>
                  <a:cubicBezTo>
                    <a:pt x="306" y="736"/>
                    <a:pt x="306" y="736"/>
                    <a:pt x="306" y="736"/>
                  </a:cubicBezTo>
                  <a:cubicBezTo>
                    <a:pt x="399" y="736"/>
                    <a:pt x="399" y="736"/>
                    <a:pt x="399" y="736"/>
                  </a:cubicBezTo>
                  <a:cubicBezTo>
                    <a:pt x="397" y="263"/>
                    <a:pt x="397" y="263"/>
                    <a:pt x="397" y="263"/>
                  </a:cubicBezTo>
                  <a:cubicBezTo>
                    <a:pt x="439" y="261"/>
                    <a:pt x="475" y="229"/>
                    <a:pt x="485" y="191"/>
                  </a:cubicBezTo>
                  <a:cubicBezTo>
                    <a:pt x="487" y="142"/>
                    <a:pt x="487" y="142"/>
                    <a:pt x="487" y="142"/>
                  </a:cubicBezTo>
                  <a:cubicBezTo>
                    <a:pt x="339" y="213"/>
                    <a:pt x="339" y="213"/>
                    <a:pt x="339" y="213"/>
                  </a:cubicBezTo>
                  <a:cubicBezTo>
                    <a:pt x="342" y="212"/>
                    <a:pt x="273" y="223"/>
                    <a:pt x="259" y="174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"/>
            <p:cNvSpPr/>
            <p:nvPr/>
          </p:nvSpPr>
          <p:spPr>
            <a:xfrm>
              <a:off x="9730080" y="6335640"/>
              <a:ext cx="1180800" cy="545760"/>
            </a:xfrm>
            <a:custGeom>
              <a:avLst/>
              <a:gdLst/>
              <a:ahLst/>
              <a:rect l="l" t="t" r="r" b="b"/>
              <a:pathLst>
                <a:path w="824" h="381">
                  <a:moveTo>
                    <a:pt x="0" y="0"/>
                  </a:moveTo>
                  <a:lnTo>
                    <a:pt x="0" y="381"/>
                  </a:lnTo>
                  <a:lnTo>
                    <a:pt x="824" y="378"/>
                  </a:lnTo>
                  <a:lnTo>
                    <a:pt x="821" y="0"/>
                  </a:lnTo>
                  <a:lnTo>
                    <a:pt x="5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8"/>
            <p:cNvSpPr/>
            <p:nvPr/>
          </p:nvSpPr>
          <p:spPr>
            <a:xfrm>
              <a:off x="9720360" y="4079880"/>
              <a:ext cx="315000" cy="47844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45" y="32"/>
                  </a:moveTo>
                  <a:cubicBezTo>
                    <a:pt x="32" y="19"/>
                    <a:pt x="17" y="8"/>
                    <a:pt x="0" y="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93" y="141"/>
                    <a:pt x="93" y="141"/>
                    <a:pt x="93" y="141"/>
                  </a:cubicBezTo>
                  <a:cubicBezTo>
                    <a:pt x="86" y="100"/>
                    <a:pt x="72" y="61"/>
                    <a:pt x="45" y="32"/>
                  </a:cubicBezTo>
                  <a:close/>
                </a:path>
              </a:pathLst>
            </a:cu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"/>
            <p:cNvSpPr/>
            <p:nvPr/>
          </p:nvSpPr>
          <p:spPr>
            <a:xfrm>
              <a:off x="9717480" y="3673080"/>
              <a:ext cx="627480" cy="885600"/>
            </a:xfrm>
            <a:custGeom>
              <a:avLst/>
              <a:gdLst/>
              <a:ahLst/>
              <a:rect l="l" t="t" r="r" b="b"/>
              <a:pathLst>
                <a:path w="185" h="261">
                  <a:moveTo>
                    <a:pt x="89" y="116"/>
                  </a:moveTo>
                  <a:cubicBezTo>
                    <a:pt x="124" y="157"/>
                    <a:pt x="142" y="208"/>
                    <a:pt x="151" y="261"/>
                  </a:cubicBezTo>
                  <a:cubicBezTo>
                    <a:pt x="185" y="261"/>
                    <a:pt x="185" y="261"/>
                    <a:pt x="185" y="261"/>
                  </a:cubicBezTo>
                  <a:cubicBezTo>
                    <a:pt x="184" y="197"/>
                    <a:pt x="172" y="132"/>
                    <a:pt x="141" y="79"/>
                  </a:cubicBezTo>
                  <a:cubicBezTo>
                    <a:pt x="123" y="47"/>
                    <a:pt x="96" y="19"/>
                    <a:pt x="61" y="8"/>
                  </a:cubicBezTo>
                  <a:cubicBezTo>
                    <a:pt x="42" y="3"/>
                    <a:pt x="20" y="0"/>
                    <a:pt x="0" y="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35" y="70"/>
                    <a:pt x="66" y="88"/>
                    <a:pt x="89" y="116"/>
                  </a:cubicBezTo>
                  <a:close/>
                </a:path>
              </a:pathLst>
            </a:cu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8702640" y="4045320"/>
              <a:ext cx="704880" cy="2330280"/>
            </a:xfrm>
            <a:custGeom>
              <a:avLst/>
              <a:gdLst/>
              <a:ahLst/>
              <a:rect l="l" t="t" r="r" b="b"/>
              <a:pathLst>
                <a:path w="208" h="687">
                  <a:moveTo>
                    <a:pt x="144" y="20"/>
                  </a:moveTo>
                  <a:cubicBezTo>
                    <a:pt x="132" y="93"/>
                    <a:pt x="134" y="172"/>
                    <a:pt x="134" y="229"/>
                  </a:cubicBezTo>
                  <a:cubicBezTo>
                    <a:pt x="134" y="268"/>
                    <a:pt x="135" y="308"/>
                    <a:pt x="134" y="347"/>
                  </a:cubicBezTo>
                  <a:cubicBezTo>
                    <a:pt x="133" y="383"/>
                    <a:pt x="127" y="420"/>
                    <a:pt x="124" y="458"/>
                  </a:cubicBezTo>
                  <a:cubicBezTo>
                    <a:pt x="121" y="497"/>
                    <a:pt x="117" y="540"/>
                    <a:pt x="99" y="576"/>
                  </a:cubicBezTo>
                  <a:cubicBezTo>
                    <a:pt x="88" y="597"/>
                    <a:pt x="66" y="612"/>
                    <a:pt x="44" y="611"/>
                  </a:cubicBezTo>
                  <a:cubicBezTo>
                    <a:pt x="43" y="613"/>
                    <a:pt x="42" y="615"/>
                    <a:pt x="41" y="617"/>
                  </a:cubicBezTo>
                  <a:cubicBezTo>
                    <a:pt x="30" y="636"/>
                    <a:pt x="16" y="651"/>
                    <a:pt x="0" y="662"/>
                  </a:cubicBezTo>
                  <a:cubicBezTo>
                    <a:pt x="55" y="687"/>
                    <a:pt x="125" y="662"/>
                    <a:pt x="155" y="599"/>
                  </a:cubicBezTo>
                  <a:cubicBezTo>
                    <a:pt x="174" y="558"/>
                    <a:pt x="179" y="512"/>
                    <a:pt x="184" y="468"/>
                  </a:cubicBezTo>
                  <a:cubicBezTo>
                    <a:pt x="187" y="431"/>
                    <a:pt x="192" y="393"/>
                    <a:pt x="194" y="355"/>
                  </a:cubicBezTo>
                  <a:cubicBezTo>
                    <a:pt x="198" y="272"/>
                    <a:pt x="192" y="189"/>
                    <a:pt x="196" y="106"/>
                  </a:cubicBezTo>
                  <a:cubicBezTo>
                    <a:pt x="198" y="75"/>
                    <a:pt x="200" y="36"/>
                    <a:pt x="208" y="0"/>
                  </a:cubicBezTo>
                  <a:cubicBezTo>
                    <a:pt x="186" y="2"/>
                    <a:pt x="163" y="8"/>
                    <a:pt x="145" y="19"/>
                  </a:cubicBezTo>
                  <a:cubicBezTo>
                    <a:pt x="145" y="19"/>
                    <a:pt x="144" y="19"/>
                    <a:pt x="144" y="2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"/>
            <p:cNvSpPr/>
            <p:nvPr/>
          </p:nvSpPr>
          <p:spPr>
            <a:xfrm>
              <a:off x="8183520" y="2896200"/>
              <a:ext cx="538560" cy="3263040"/>
            </a:xfrm>
            <a:custGeom>
              <a:avLst/>
              <a:gdLst/>
              <a:ahLst/>
              <a:rect l="l" t="t" r="r" b="b"/>
              <a:pathLst>
                <a:path w="159" h="962">
                  <a:moveTo>
                    <a:pt x="60" y="586"/>
                  </a:moveTo>
                  <a:cubicBezTo>
                    <a:pt x="58" y="611"/>
                    <a:pt x="57" y="636"/>
                    <a:pt x="56" y="661"/>
                  </a:cubicBezTo>
                  <a:cubicBezTo>
                    <a:pt x="54" y="719"/>
                    <a:pt x="55" y="776"/>
                    <a:pt x="63" y="833"/>
                  </a:cubicBezTo>
                  <a:cubicBezTo>
                    <a:pt x="69" y="876"/>
                    <a:pt x="80" y="922"/>
                    <a:pt x="104" y="959"/>
                  </a:cubicBezTo>
                  <a:cubicBezTo>
                    <a:pt x="105" y="960"/>
                    <a:pt x="106" y="961"/>
                    <a:pt x="106" y="962"/>
                  </a:cubicBezTo>
                  <a:cubicBezTo>
                    <a:pt x="124" y="954"/>
                    <a:pt x="140" y="939"/>
                    <a:pt x="149" y="918"/>
                  </a:cubicBezTo>
                  <a:cubicBezTo>
                    <a:pt x="136" y="896"/>
                    <a:pt x="130" y="865"/>
                    <a:pt x="126" y="843"/>
                  </a:cubicBezTo>
                  <a:cubicBezTo>
                    <a:pt x="116" y="792"/>
                    <a:pt x="115" y="740"/>
                    <a:pt x="116" y="687"/>
                  </a:cubicBezTo>
                  <a:cubicBezTo>
                    <a:pt x="118" y="549"/>
                    <a:pt x="138" y="411"/>
                    <a:pt x="143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59" y="223"/>
                    <a:pt x="159" y="223"/>
                    <a:pt x="159" y="223"/>
                  </a:cubicBezTo>
                  <a:cubicBezTo>
                    <a:pt x="128" y="223"/>
                    <a:pt x="128" y="223"/>
                    <a:pt x="128" y="223"/>
                  </a:cubicBezTo>
                  <a:cubicBezTo>
                    <a:pt x="115" y="223"/>
                    <a:pt x="103" y="219"/>
                    <a:pt x="93" y="213"/>
                  </a:cubicBezTo>
                  <a:cubicBezTo>
                    <a:pt x="77" y="212"/>
                    <a:pt x="63" y="207"/>
                    <a:pt x="60" y="190"/>
                  </a:cubicBezTo>
                  <a:cubicBezTo>
                    <a:pt x="55" y="160"/>
                    <a:pt x="71" y="151"/>
                    <a:pt x="79" y="138"/>
                  </a:cubicBezTo>
                  <a:cubicBezTo>
                    <a:pt x="77" y="141"/>
                    <a:pt x="50" y="128"/>
                    <a:pt x="48" y="126"/>
                  </a:cubicBezTo>
                  <a:cubicBezTo>
                    <a:pt x="40" y="120"/>
                    <a:pt x="36" y="109"/>
                    <a:pt x="32" y="100"/>
                  </a:cubicBezTo>
                  <a:cubicBezTo>
                    <a:pt x="26" y="81"/>
                    <a:pt x="29" y="52"/>
                    <a:pt x="48" y="41"/>
                  </a:cubicBezTo>
                  <a:cubicBezTo>
                    <a:pt x="47" y="41"/>
                    <a:pt x="7" y="26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10"/>
                    <a:pt x="0" y="21"/>
                    <a:pt x="0" y="32"/>
                  </a:cubicBezTo>
                  <a:cubicBezTo>
                    <a:pt x="0" y="107"/>
                    <a:pt x="26" y="173"/>
                    <a:pt x="64" y="203"/>
                  </a:cubicBezTo>
                  <a:cubicBezTo>
                    <a:pt x="64" y="214"/>
                    <a:pt x="64" y="214"/>
                    <a:pt x="64" y="214"/>
                  </a:cubicBezTo>
                  <a:cubicBezTo>
                    <a:pt x="64" y="272"/>
                    <a:pt x="64" y="272"/>
                    <a:pt x="64" y="272"/>
                  </a:cubicBezTo>
                  <a:cubicBezTo>
                    <a:pt x="83" y="272"/>
                    <a:pt x="83" y="272"/>
                    <a:pt x="83" y="272"/>
                  </a:cubicBezTo>
                  <a:cubicBezTo>
                    <a:pt x="79" y="360"/>
                    <a:pt x="71" y="447"/>
                    <a:pt x="64" y="535"/>
                  </a:cubicBezTo>
                  <a:cubicBezTo>
                    <a:pt x="64" y="540"/>
                    <a:pt x="64" y="545"/>
                    <a:pt x="64" y="550"/>
                  </a:cubicBezTo>
                  <a:cubicBezTo>
                    <a:pt x="64" y="562"/>
                    <a:pt x="63" y="574"/>
                    <a:pt x="60" y="58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"/>
            <p:cNvSpPr/>
            <p:nvPr/>
          </p:nvSpPr>
          <p:spPr>
            <a:xfrm>
              <a:off x="9531000" y="955800"/>
              <a:ext cx="1707840" cy="1411560"/>
            </a:xfrm>
            <a:custGeom>
              <a:avLst/>
              <a:gdLst/>
              <a:ahLst/>
              <a:rect l="l" t="t" r="r" b="b"/>
              <a:pathLst>
                <a:path w="504" h="416">
                  <a:moveTo>
                    <a:pt x="61" y="350"/>
                  </a:moveTo>
                  <a:cubicBezTo>
                    <a:pt x="94" y="350"/>
                    <a:pt x="121" y="316"/>
                    <a:pt x="121" y="275"/>
                  </a:cubicBezTo>
                  <a:cubicBezTo>
                    <a:pt x="121" y="181"/>
                    <a:pt x="121" y="181"/>
                    <a:pt x="121" y="181"/>
                  </a:cubicBezTo>
                  <a:cubicBezTo>
                    <a:pt x="121" y="171"/>
                    <a:pt x="119" y="163"/>
                    <a:pt x="117" y="155"/>
                  </a:cubicBezTo>
                  <a:cubicBezTo>
                    <a:pt x="120" y="154"/>
                    <a:pt x="124" y="154"/>
                    <a:pt x="127" y="154"/>
                  </a:cubicBezTo>
                  <a:cubicBezTo>
                    <a:pt x="128" y="315"/>
                    <a:pt x="128" y="315"/>
                    <a:pt x="128" y="315"/>
                  </a:cubicBezTo>
                  <a:cubicBezTo>
                    <a:pt x="128" y="356"/>
                    <a:pt x="155" y="390"/>
                    <a:pt x="188" y="390"/>
                  </a:cubicBezTo>
                  <a:cubicBezTo>
                    <a:pt x="222" y="390"/>
                    <a:pt x="249" y="356"/>
                    <a:pt x="249" y="315"/>
                  </a:cubicBezTo>
                  <a:cubicBezTo>
                    <a:pt x="248" y="143"/>
                    <a:pt x="248" y="143"/>
                    <a:pt x="248" y="143"/>
                  </a:cubicBezTo>
                  <a:cubicBezTo>
                    <a:pt x="250" y="142"/>
                    <a:pt x="252" y="142"/>
                    <a:pt x="254" y="142"/>
                  </a:cubicBezTo>
                  <a:cubicBezTo>
                    <a:pt x="255" y="361"/>
                    <a:pt x="255" y="361"/>
                    <a:pt x="255" y="361"/>
                  </a:cubicBezTo>
                  <a:cubicBezTo>
                    <a:pt x="255" y="383"/>
                    <a:pt x="265" y="403"/>
                    <a:pt x="280" y="416"/>
                  </a:cubicBezTo>
                  <a:cubicBezTo>
                    <a:pt x="282" y="414"/>
                    <a:pt x="285" y="412"/>
                    <a:pt x="287" y="411"/>
                  </a:cubicBezTo>
                  <a:cubicBezTo>
                    <a:pt x="300" y="405"/>
                    <a:pt x="300" y="405"/>
                    <a:pt x="300" y="405"/>
                  </a:cubicBezTo>
                  <a:cubicBezTo>
                    <a:pt x="283" y="400"/>
                    <a:pt x="270" y="389"/>
                    <a:pt x="270" y="375"/>
                  </a:cubicBezTo>
                  <a:cubicBezTo>
                    <a:pt x="270" y="358"/>
                    <a:pt x="291" y="344"/>
                    <a:pt x="316" y="344"/>
                  </a:cubicBezTo>
                  <a:cubicBezTo>
                    <a:pt x="341" y="344"/>
                    <a:pt x="361" y="358"/>
                    <a:pt x="362" y="375"/>
                  </a:cubicBezTo>
                  <a:cubicBezTo>
                    <a:pt x="376" y="368"/>
                    <a:pt x="376" y="368"/>
                    <a:pt x="376" y="368"/>
                  </a:cubicBezTo>
                  <a:cubicBezTo>
                    <a:pt x="376" y="366"/>
                    <a:pt x="376" y="363"/>
                    <a:pt x="376" y="361"/>
                  </a:cubicBezTo>
                  <a:cubicBezTo>
                    <a:pt x="375" y="131"/>
                    <a:pt x="375" y="131"/>
                    <a:pt x="375" y="131"/>
                  </a:cubicBezTo>
                  <a:cubicBezTo>
                    <a:pt x="378" y="131"/>
                    <a:pt x="380" y="131"/>
                    <a:pt x="382" y="131"/>
                  </a:cubicBezTo>
                  <a:cubicBezTo>
                    <a:pt x="383" y="298"/>
                    <a:pt x="383" y="298"/>
                    <a:pt x="383" y="298"/>
                  </a:cubicBezTo>
                  <a:cubicBezTo>
                    <a:pt x="383" y="320"/>
                    <a:pt x="391" y="341"/>
                    <a:pt x="404" y="355"/>
                  </a:cubicBezTo>
                  <a:cubicBezTo>
                    <a:pt x="434" y="341"/>
                    <a:pt x="434" y="341"/>
                    <a:pt x="434" y="341"/>
                  </a:cubicBezTo>
                  <a:cubicBezTo>
                    <a:pt x="413" y="337"/>
                    <a:pt x="398" y="325"/>
                    <a:pt x="398" y="310"/>
                  </a:cubicBezTo>
                  <a:cubicBezTo>
                    <a:pt x="398" y="293"/>
                    <a:pt x="418" y="279"/>
                    <a:pt x="443" y="279"/>
                  </a:cubicBezTo>
                  <a:cubicBezTo>
                    <a:pt x="469" y="279"/>
                    <a:pt x="489" y="293"/>
                    <a:pt x="489" y="310"/>
                  </a:cubicBezTo>
                  <a:cubicBezTo>
                    <a:pt x="489" y="315"/>
                    <a:pt x="487" y="320"/>
                    <a:pt x="484" y="324"/>
                  </a:cubicBezTo>
                  <a:cubicBezTo>
                    <a:pt x="489" y="324"/>
                    <a:pt x="494" y="326"/>
                    <a:pt x="499" y="327"/>
                  </a:cubicBezTo>
                  <a:cubicBezTo>
                    <a:pt x="502" y="318"/>
                    <a:pt x="504" y="308"/>
                    <a:pt x="504" y="297"/>
                  </a:cubicBezTo>
                  <a:cubicBezTo>
                    <a:pt x="503" y="75"/>
                    <a:pt x="503" y="75"/>
                    <a:pt x="503" y="75"/>
                  </a:cubicBezTo>
                  <a:cubicBezTo>
                    <a:pt x="503" y="34"/>
                    <a:pt x="475" y="0"/>
                    <a:pt x="442" y="0"/>
                  </a:cubicBezTo>
                  <a:cubicBezTo>
                    <a:pt x="409" y="0"/>
                    <a:pt x="382" y="34"/>
                    <a:pt x="382" y="75"/>
                  </a:cubicBezTo>
                  <a:cubicBezTo>
                    <a:pt x="382" y="120"/>
                    <a:pt x="382" y="120"/>
                    <a:pt x="382" y="120"/>
                  </a:cubicBezTo>
                  <a:cubicBezTo>
                    <a:pt x="375" y="121"/>
                    <a:pt x="375" y="121"/>
                    <a:pt x="375" y="121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75" y="79"/>
                    <a:pt x="348" y="48"/>
                    <a:pt x="315" y="48"/>
                  </a:cubicBezTo>
                  <a:cubicBezTo>
                    <a:pt x="281" y="48"/>
                    <a:pt x="254" y="79"/>
                    <a:pt x="254" y="117"/>
                  </a:cubicBezTo>
                  <a:cubicBezTo>
                    <a:pt x="254" y="136"/>
                    <a:pt x="254" y="136"/>
                    <a:pt x="254" y="136"/>
                  </a:cubicBezTo>
                  <a:cubicBezTo>
                    <a:pt x="248" y="137"/>
                    <a:pt x="248" y="137"/>
                    <a:pt x="248" y="137"/>
                  </a:cubicBezTo>
                  <a:cubicBezTo>
                    <a:pt x="246" y="97"/>
                    <a:pt x="220" y="65"/>
                    <a:pt x="187" y="65"/>
                  </a:cubicBezTo>
                  <a:cubicBezTo>
                    <a:pt x="154" y="65"/>
                    <a:pt x="127" y="99"/>
                    <a:pt x="127" y="140"/>
                  </a:cubicBezTo>
                  <a:cubicBezTo>
                    <a:pt x="127" y="152"/>
                    <a:pt x="127" y="152"/>
                    <a:pt x="127" y="152"/>
                  </a:cubicBezTo>
                  <a:cubicBezTo>
                    <a:pt x="117" y="153"/>
                    <a:pt x="117" y="153"/>
                    <a:pt x="117" y="153"/>
                  </a:cubicBezTo>
                  <a:cubicBezTo>
                    <a:pt x="108" y="126"/>
                    <a:pt x="86" y="106"/>
                    <a:pt x="60" y="106"/>
                  </a:cubicBezTo>
                  <a:cubicBezTo>
                    <a:pt x="27" y="106"/>
                    <a:pt x="0" y="140"/>
                    <a:pt x="0" y="181"/>
                  </a:cubicBezTo>
                  <a:cubicBezTo>
                    <a:pt x="0" y="275"/>
                    <a:pt x="0" y="275"/>
                    <a:pt x="0" y="275"/>
                  </a:cubicBezTo>
                  <a:cubicBezTo>
                    <a:pt x="0" y="292"/>
                    <a:pt x="5" y="308"/>
                    <a:pt x="13" y="321"/>
                  </a:cubicBezTo>
                  <a:cubicBezTo>
                    <a:pt x="24" y="339"/>
                    <a:pt x="41" y="350"/>
                    <a:pt x="61" y="350"/>
                  </a:cubicBezTo>
                  <a:close/>
                  <a:moveTo>
                    <a:pt x="185" y="376"/>
                  </a:moveTo>
                  <a:cubicBezTo>
                    <a:pt x="160" y="376"/>
                    <a:pt x="140" y="362"/>
                    <a:pt x="140" y="345"/>
                  </a:cubicBezTo>
                  <a:cubicBezTo>
                    <a:pt x="140" y="328"/>
                    <a:pt x="160" y="314"/>
                    <a:pt x="185" y="314"/>
                  </a:cubicBezTo>
                  <a:cubicBezTo>
                    <a:pt x="210" y="314"/>
                    <a:pt x="231" y="328"/>
                    <a:pt x="231" y="345"/>
                  </a:cubicBezTo>
                  <a:cubicBezTo>
                    <a:pt x="231" y="362"/>
                    <a:pt x="210" y="376"/>
                    <a:pt x="185" y="376"/>
                  </a:cubicBezTo>
                  <a:close/>
                  <a:moveTo>
                    <a:pt x="64" y="331"/>
                  </a:moveTo>
                  <a:cubicBezTo>
                    <a:pt x="40" y="331"/>
                    <a:pt x="21" y="320"/>
                    <a:pt x="21" y="307"/>
                  </a:cubicBezTo>
                  <a:cubicBezTo>
                    <a:pt x="21" y="293"/>
                    <a:pt x="40" y="282"/>
                    <a:pt x="64" y="282"/>
                  </a:cubicBezTo>
                  <a:cubicBezTo>
                    <a:pt x="87" y="282"/>
                    <a:pt x="107" y="293"/>
                    <a:pt x="107" y="306"/>
                  </a:cubicBezTo>
                  <a:cubicBezTo>
                    <a:pt x="107" y="320"/>
                    <a:pt x="87" y="331"/>
                    <a:pt x="64" y="331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"/>
            <p:cNvSpPr/>
            <p:nvPr/>
          </p:nvSpPr>
          <p:spPr>
            <a:xfrm>
              <a:off x="10446480" y="2122200"/>
              <a:ext cx="310680" cy="20736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46" y="0"/>
                  </a:moveTo>
                  <a:cubicBezTo>
                    <a:pt x="21" y="0"/>
                    <a:pt x="0" y="14"/>
                    <a:pt x="0" y="31"/>
                  </a:cubicBezTo>
                  <a:cubicBezTo>
                    <a:pt x="0" y="45"/>
                    <a:pt x="13" y="56"/>
                    <a:pt x="30" y="6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1" y="14"/>
                    <a:pt x="71" y="0"/>
                    <a:pt x="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4"/>
            <p:cNvSpPr/>
            <p:nvPr/>
          </p:nvSpPr>
          <p:spPr>
            <a:xfrm>
              <a:off x="10881000" y="1902960"/>
              <a:ext cx="308160" cy="20916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45" y="0"/>
                  </a:moveTo>
                  <a:cubicBezTo>
                    <a:pt x="20" y="0"/>
                    <a:pt x="0" y="14"/>
                    <a:pt x="0" y="31"/>
                  </a:cubicBezTo>
                  <a:cubicBezTo>
                    <a:pt x="0" y="46"/>
                    <a:pt x="15" y="58"/>
                    <a:pt x="36" y="62"/>
                  </a:cubicBezTo>
                  <a:cubicBezTo>
                    <a:pt x="61" y="49"/>
                    <a:pt x="61" y="49"/>
                    <a:pt x="61" y="49"/>
                  </a:cubicBezTo>
                  <a:cubicBezTo>
                    <a:pt x="69" y="45"/>
                    <a:pt x="78" y="44"/>
                    <a:pt x="86" y="45"/>
                  </a:cubicBezTo>
                  <a:cubicBezTo>
                    <a:pt x="89" y="41"/>
                    <a:pt x="91" y="36"/>
                    <a:pt x="91" y="31"/>
                  </a:cubicBezTo>
                  <a:cubicBezTo>
                    <a:pt x="91" y="14"/>
                    <a:pt x="71" y="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5"/>
            <p:cNvSpPr/>
            <p:nvPr/>
          </p:nvSpPr>
          <p:spPr>
            <a:xfrm>
              <a:off x="10005120" y="2020320"/>
              <a:ext cx="307800" cy="2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6"/>
            <p:cNvSpPr/>
            <p:nvPr/>
          </p:nvSpPr>
          <p:spPr>
            <a:xfrm>
              <a:off x="9601200" y="1913040"/>
              <a:ext cx="291960" cy="16596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43" y="0"/>
                  </a:moveTo>
                  <a:cubicBezTo>
                    <a:pt x="19" y="0"/>
                    <a:pt x="0" y="11"/>
                    <a:pt x="0" y="25"/>
                  </a:cubicBezTo>
                  <a:cubicBezTo>
                    <a:pt x="0" y="38"/>
                    <a:pt x="19" y="49"/>
                    <a:pt x="43" y="49"/>
                  </a:cubicBezTo>
                  <a:cubicBezTo>
                    <a:pt x="66" y="49"/>
                    <a:pt x="86" y="38"/>
                    <a:pt x="86" y="24"/>
                  </a:cubicBezTo>
                  <a:cubicBezTo>
                    <a:pt x="86" y="11"/>
                    <a:pt x="66" y="0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7"/>
            <p:cNvSpPr/>
            <p:nvPr/>
          </p:nvSpPr>
          <p:spPr>
            <a:xfrm>
              <a:off x="9573840" y="1400040"/>
              <a:ext cx="1784160" cy="1418760"/>
            </a:xfrm>
            <a:custGeom>
              <a:avLst/>
              <a:gdLst/>
              <a:ahLst/>
              <a:rect l="l" t="t" r="r" b="b"/>
              <a:pathLst>
                <a:path w="526" h="418">
                  <a:moveTo>
                    <a:pt x="505" y="318"/>
                  </a:moveTo>
                  <a:cubicBezTo>
                    <a:pt x="333" y="394"/>
                    <a:pt x="333" y="394"/>
                    <a:pt x="333" y="394"/>
                  </a:cubicBezTo>
                  <a:cubicBezTo>
                    <a:pt x="304" y="407"/>
                    <a:pt x="270" y="391"/>
                    <a:pt x="257" y="360"/>
                  </a:cubicBezTo>
                  <a:cubicBezTo>
                    <a:pt x="244" y="328"/>
                    <a:pt x="257" y="292"/>
                    <a:pt x="285" y="279"/>
                  </a:cubicBezTo>
                  <a:cubicBezTo>
                    <a:pt x="458" y="203"/>
                    <a:pt x="458" y="203"/>
                    <a:pt x="458" y="203"/>
                  </a:cubicBezTo>
                  <a:cubicBezTo>
                    <a:pt x="470" y="197"/>
                    <a:pt x="483" y="197"/>
                    <a:pt x="494" y="201"/>
                  </a:cubicBezTo>
                  <a:cubicBezTo>
                    <a:pt x="492" y="199"/>
                    <a:pt x="489" y="198"/>
                    <a:pt x="486" y="196"/>
                  </a:cubicBezTo>
                  <a:cubicBezTo>
                    <a:pt x="481" y="195"/>
                    <a:pt x="476" y="193"/>
                    <a:pt x="471" y="193"/>
                  </a:cubicBezTo>
                  <a:cubicBezTo>
                    <a:pt x="463" y="192"/>
                    <a:pt x="454" y="193"/>
                    <a:pt x="446" y="197"/>
                  </a:cubicBezTo>
                  <a:cubicBezTo>
                    <a:pt x="421" y="210"/>
                    <a:pt x="421" y="210"/>
                    <a:pt x="421" y="210"/>
                  </a:cubicBezTo>
                  <a:cubicBezTo>
                    <a:pt x="391" y="224"/>
                    <a:pt x="391" y="224"/>
                    <a:pt x="391" y="224"/>
                  </a:cubicBezTo>
                  <a:cubicBezTo>
                    <a:pt x="378" y="210"/>
                    <a:pt x="370" y="189"/>
                    <a:pt x="370" y="167"/>
                  </a:cubicBezTo>
                  <a:cubicBezTo>
                    <a:pt x="369" y="0"/>
                    <a:pt x="369" y="0"/>
                    <a:pt x="369" y="0"/>
                  </a:cubicBezTo>
                  <a:cubicBezTo>
                    <a:pt x="367" y="0"/>
                    <a:pt x="365" y="0"/>
                    <a:pt x="362" y="0"/>
                  </a:cubicBezTo>
                  <a:cubicBezTo>
                    <a:pt x="363" y="230"/>
                    <a:pt x="363" y="230"/>
                    <a:pt x="363" y="230"/>
                  </a:cubicBezTo>
                  <a:cubicBezTo>
                    <a:pt x="363" y="232"/>
                    <a:pt x="363" y="235"/>
                    <a:pt x="363" y="237"/>
                  </a:cubicBezTo>
                  <a:cubicBezTo>
                    <a:pt x="349" y="244"/>
                    <a:pt x="349" y="244"/>
                    <a:pt x="349" y="244"/>
                  </a:cubicBezTo>
                  <a:cubicBezTo>
                    <a:pt x="287" y="274"/>
                    <a:pt x="287" y="274"/>
                    <a:pt x="287" y="274"/>
                  </a:cubicBezTo>
                  <a:cubicBezTo>
                    <a:pt x="274" y="280"/>
                    <a:pt x="274" y="280"/>
                    <a:pt x="274" y="280"/>
                  </a:cubicBezTo>
                  <a:cubicBezTo>
                    <a:pt x="272" y="281"/>
                    <a:pt x="269" y="283"/>
                    <a:pt x="267" y="285"/>
                  </a:cubicBezTo>
                  <a:cubicBezTo>
                    <a:pt x="252" y="272"/>
                    <a:pt x="242" y="252"/>
                    <a:pt x="242" y="230"/>
                  </a:cubicBezTo>
                  <a:cubicBezTo>
                    <a:pt x="241" y="11"/>
                    <a:pt x="241" y="11"/>
                    <a:pt x="241" y="11"/>
                  </a:cubicBezTo>
                  <a:cubicBezTo>
                    <a:pt x="239" y="11"/>
                    <a:pt x="237" y="11"/>
                    <a:pt x="235" y="12"/>
                  </a:cubicBezTo>
                  <a:cubicBezTo>
                    <a:pt x="236" y="184"/>
                    <a:pt x="236" y="184"/>
                    <a:pt x="236" y="184"/>
                  </a:cubicBezTo>
                  <a:cubicBezTo>
                    <a:pt x="236" y="225"/>
                    <a:pt x="209" y="259"/>
                    <a:pt x="175" y="259"/>
                  </a:cubicBezTo>
                  <a:cubicBezTo>
                    <a:pt x="142" y="259"/>
                    <a:pt x="115" y="225"/>
                    <a:pt x="115" y="18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111" y="23"/>
                    <a:pt x="107" y="23"/>
                    <a:pt x="104" y="24"/>
                  </a:cubicBezTo>
                  <a:cubicBezTo>
                    <a:pt x="106" y="32"/>
                    <a:pt x="108" y="40"/>
                    <a:pt x="108" y="50"/>
                  </a:cubicBezTo>
                  <a:cubicBezTo>
                    <a:pt x="108" y="144"/>
                    <a:pt x="108" y="144"/>
                    <a:pt x="108" y="144"/>
                  </a:cubicBezTo>
                  <a:cubicBezTo>
                    <a:pt x="108" y="185"/>
                    <a:pt x="81" y="219"/>
                    <a:pt x="48" y="219"/>
                  </a:cubicBezTo>
                  <a:cubicBezTo>
                    <a:pt x="28" y="219"/>
                    <a:pt x="11" y="208"/>
                    <a:pt x="0" y="190"/>
                  </a:cubicBezTo>
                  <a:cubicBezTo>
                    <a:pt x="0" y="192"/>
                    <a:pt x="0" y="193"/>
                    <a:pt x="0" y="195"/>
                  </a:cubicBezTo>
                  <a:cubicBezTo>
                    <a:pt x="2" y="214"/>
                    <a:pt x="9" y="230"/>
                    <a:pt x="30" y="234"/>
                  </a:cubicBezTo>
                  <a:cubicBezTo>
                    <a:pt x="69" y="241"/>
                    <a:pt x="81" y="219"/>
                    <a:pt x="100" y="209"/>
                  </a:cubicBezTo>
                  <a:cubicBezTo>
                    <a:pt x="95" y="211"/>
                    <a:pt x="113" y="246"/>
                    <a:pt x="115" y="249"/>
                  </a:cubicBezTo>
                  <a:cubicBezTo>
                    <a:pt x="123" y="260"/>
                    <a:pt x="137" y="266"/>
                    <a:pt x="149" y="270"/>
                  </a:cubicBezTo>
                  <a:cubicBezTo>
                    <a:pt x="175" y="278"/>
                    <a:pt x="212" y="275"/>
                    <a:pt x="227" y="250"/>
                  </a:cubicBezTo>
                  <a:cubicBezTo>
                    <a:pt x="227" y="250"/>
                    <a:pt x="238" y="280"/>
                    <a:pt x="255" y="297"/>
                  </a:cubicBezTo>
                  <a:cubicBezTo>
                    <a:pt x="244" y="316"/>
                    <a:pt x="243" y="343"/>
                    <a:pt x="251" y="369"/>
                  </a:cubicBezTo>
                  <a:cubicBezTo>
                    <a:pt x="265" y="418"/>
                    <a:pt x="334" y="407"/>
                    <a:pt x="331" y="408"/>
                  </a:cubicBezTo>
                  <a:cubicBezTo>
                    <a:pt x="479" y="337"/>
                    <a:pt x="479" y="337"/>
                    <a:pt x="479" y="337"/>
                  </a:cubicBezTo>
                  <a:cubicBezTo>
                    <a:pt x="502" y="326"/>
                    <a:pt x="502" y="326"/>
                    <a:pt x="502" y="326"/>
                  </a:cubicBezTo>
                  <a:cubicBezTo>
                    <a:pt x="513" y="321"/>
                    <a:pt x="520" y="312"/>
                    <a:pt x="526" y="302"/>
                  </a:cubicBezTo>
                  <a:cubicBezTo>
                    <a:pt x="520" y="309"/>
                    <a:pt x="513" y="314"/>
                    <a:pt x="505" y="318"/>
                  </a:cubicBezTo>
                  <a:close/>
                </a:path>
              </a:pathLst>
            </a:cu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10402560" y="2068920"/>
              <a:ext cx="1012680" cy="712080"/>
            </a:xfrm>
            <a:custGeom>
              <a:avLst/>
              <a:gdLst/>
              <a:ahLst/>
              <a:rect l="l" t="t" r="r" b="b"/>
              <a:pathLst>
                <a:path w="299" h="210">
                  <a:moveTo>
                    <a:pt x="214" y="6"/>
                  </a:moveTo>
                  <a:cubicBezTo>
                    <a:pt x="41" y="82"/>
                    <a:pt x="41" y="82"/>
                    <a:pt x="41" y="82"/>
                  </a:cubicBezTo>
                  <a:cubicBezTo>
                    <a:pt x="13" y="95"/>
                    <a:pt x="0" y="131"/>
                    <a:pt x="13" y="163"/>
                  </a:cubicBezTo>
                  <a:cubicBezTo>
                    <a:pt x="26" y="194"/>
                    <a:pt x="60" y="210"/>
                    <a:pt x="89" y="197"/>
                  </a:cubicBezTo>
                  <a:cubicBezTo>
                    <a:pt x="261" y="121"/>
                    <a:pt x="261" y="121"/>
                    <a:pt x="261" y="121"/>
                  </a:cubicBezTo>
                  <a:cubicBezTo>
                    <a:pt x="269" y="117"/>
                    <a:pt x="276" y="112"/>
                    <a:pt x="282" y="105"/>
                  </a:cubicBezTo>
                  <a:cubicBezTo>
                    <a:pt x="295" y="88"/>
                    <a:pt x="299" y="63"/>
                    <a:pt x="289" y="40"/>
                  </a:cubicBezTo>
                  <a:cubicBezTo>
                    <a:pt x="282" y="22"/>
                    <a:pt x="267" y="9"/>
                    <a:pt x="250" y="4"/>
                  </a:cubicBezTo>
                  <a:cubicBezTo>
                    <a:pt x="239" y="0"/>
                    <a:pt x="226" y="0"/>
                    <a:pt x="214" y="6"/>
                  </a:cubicBezTo>
                  <a:close/>
                  <a:moveTo>
                    <a:pt x="83" y="184"/>
                  </a:moveTo>
                  <a:cubicBezTo>
                    <a:pt x="68" y="193"/>
                    <a:pt x="45" y="184"/>
                    <a:pt x="32" y="163"/>
                  </a:cubicBezTo>
                  <a:cubicBezTo>
                    <a:pt x="18" y="142"/>
                    <a:pt x="18" y="117"/>
                    <a:pt x="33" y="107"/>
                  </a:cubicBezTo>
                  <a:cubicBezTo>
                    <a:pt x="47" y="98"/>
                    <a:pt x="70" y="108"/>
                    <a:pt x="84" y="128"/>
                  </a:cubicBezTo>
                  <a:cubicBezTo>
                    <a:pt x="98" y="149"/>
                    <a:pt x="97" y="174"/>
                    <a:pt x="83" y="184"/>
                  </a:cubicBezTo>
                  <a:close/>
                </a:path>
              </a:pathLst>
            </a:cu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10462680" y="2401560"/>
              <a:ext cx="272160" cy="32076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15" y="9"/>
                  </a:moveTo>
                  <a:cubicBezTo>
                    <a:pt x="0" y="19"/>
                    <a:pt x="0" y="44"/>
                    <a:pt x="14" y="65"/>
                  </a:cubicBezTo>
                  <a:cubicBezTo>
                    <a:pt x="27" y="86"/>
                    <a:pt x="50" y="95"/>
                    <a:pt x="65" y="86"/>
                  </a:cubicBezTo>
                  <a:cubicBezTo>
                    <a:pt x="79" y="76"/>
                    <a:pt x="80" y="51"/>
                    <a:pt x="66" y="30"/>
                  </a:cubicBezTo>
                  <a:cubicBezTo>
                    <a:pt x="52" y="10"/>
                    <a:pt x="29" y="0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0"/>
            <p:cNvSpPr/>
            <p:nvPr/>
          </p:nvSpPr>
          <p:spPr>
            <a:xfrm>
              <a:off x="8225280" y="2556720"/>
              <a:ext cx="219240" cy="16020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44" y="26"/>
                  </a:moveTo>
                  <a:cubicBezTo>
                    <a:pt x="65" y="19"/>
                    <a:pt x="23" y="27"/>
                    <a:pt x="20" y="3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12" y="14"/>
                    <a:pt x="5" y="30"/>
                    <a:pt x="0" y="47"/>
                  </a:cubicBezTo>
                  <a:cubicBezTo>
                    <a:pt x="13" y="32"/>
                    <a:pt x="34" y="29"/>
                    <a:pt x="44" y="2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1"/>
            <p:cNvSpPr/>
            <p:nvPr/>
          </p:nvSpPr>
          <p:spPr>
            <a:xfrm>
              <a:off x="8173800" y="2489040"/>
              <a:ext cx="813600" cy="1129320"/>
            </a:xfrm>
            <a:custGeom>
              <a:avLst/>
              <a:gdLst/>
              <a:ahLst/>
              <a:rect l="l" t="t" r="r" b="b"/>
              <a:pathLst>
                <a:path w="240" h="333">
                  <a:moveTo>
                    <a:pt x="74" y="297"/>
                  </a:moveTo>
                  <a:cubicBezTo>
                    <a:pt x="74" y="271"/>
                    <a:pt x="100" y="251"/>
                    <a:pt x="131" y="251"/>
                  </a:cubicBezTo>
                  <a:cubicBezTo>
                    <a:pt x="202" y="251"/>
                    <a:pt x="202" y="251"/>
                    <a:pt x="202" y="251"/>
                  </a:cubicBezTo>
                  <a:cubicBezTo>
                    <a:pt x="209" y="251"/>
                    <a:pt x="216" y="252"/>
                    <a:pt x="222" y="254"/>
                  </a:cubicBezTo>
                  <a:cubicBezTo>
                    <a:pt x="222" y="252"/>
                    <a:pt x="223" y="249"/>
                    <a:pt x="223" y="247"/>
                  </a:cubicBezTo>
                  <a:cubicBezTo>
                    <a:pt x="101" y="246"/>
                    <a:pt x="101" y="246"/>
                    <a:pt x="101" y="246"/>
                  </a:cubicBezTo>
                  <a:cubicBezTo>
                    <a:pt x="70" y="246"/>
                    <a:pt x="44" y="225"/>
                    <a:pt x="44" y="200"/>
                  </a:cubicBezTo>
                  <a:cubicBezTo>
                    <a:pt x="44" y="175"/>
                    <a:pt x="70" y="154"/>
                    <a:pt x="101" y="154"/>
                  </a:cubicBezTo>
                  <a:cubicBezTo>
                    <a:pt x="231" y="155"/>
                    <a:pt x="231" y="155"/>
                    <a:pt x="231" y="155"/>
                  </a:cubicBezTo>
                  <a:cubicBezTo>
                    <a:pt x="231" y="153"/>
                    <a:pt x="231" y="152"/>
                    <a:pt x="232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37" y="150"/>
                    <a:pt x="14" y="129"/>
                    <a:pt x="14" y="104"/>
                  </a:cubicBezTo>
                  <a:cubicBezTo>
                    <a:pt x="14" y="78"/>
                    <a:pt x="38" y="58"/>
                    <a:pt x="66" y="58"/>
                  </a:cubicBezTo>
                  <a:cubicBezTo>
                    <a:pt x="240" y="59"/>
                    <a:pt x="240" y="59"/>
                    <a:pt x="240" y="59"/>
                  </a:cubicBezTo>
                  <a:cubicBezTo>
                    <a:pt x="240" y="57"/>
                    <a:pt x="240" y="55"/>
                    <a:pt x="240" y="54"/>
                  </a:cubicBezTo>
                  <a:cubicBezTo>
                    <a:pt x="99" y="53"/>
                    <a:pt x="99" y="53"/>
                    <a:pt x="99" y="53"/>
                  </a:cubicBezTo>
                  <a:cubicBezTo>
                    <a:pt x="70" y="53"/>
                    <a:pt x="46" y="32"/>
                    <a:pt x="46" y="7"/>
                  </a:cubicBezTo>
                  <a:cubicBezTo>
                    <a:pt x="46" y="5"/>
                    <a:pt x="46" y="2"/>
                    <a:pt x="47" y="0"/>
                  </a:cubicBezTo>
                  <a:cubicBezTo>
                    <a:pt x="36" y="3"/>
                    <a:pt x="36" y="3"/>
                    <a:pt x="36" y="3"/>
                  </a:cubicBezTo>
                  <a:cubicBezTo>
                    <a:pt x="35" y="8"/>
                    <a:pt x="34" y="14"/>
                    <a:pt x="35" y="20"/>
                  </a:cubicBezTo>
                  <a:cubicBezTo>
                    <a:pt x="35" y="21"/>
                    <a:pt x="35" y="22"/>
                    <a:pt x="35" y="23"/>
                  </a:cubicBezTo>
                  <a:cubicBezTo>
                    <a:pt x="38" y="47"/>
                    <a:pt x="80" y="39"/>
                    <a:pt x="59" y="46"/>
                  </a:cubicBezTo>
                  <a:cubicBezTo>
                    <a:pt x="49" y="49"/>
                    <a:pt x="28" y="52"/>
                    <a:pt x="15" y="67"/>
                  </a:cubicBezTo>
                  <a:cubicBezTo>
                    <a:pt x="6" y="78"/>
                    <a:pt x="0" y="94"/>
                    <a:pt x="5" y="120"/>
                  </a:cubicBezTo>
                  <a:cubicBezTo>
                    <a:pt x="5" y="121"/>
                    <a:pt x="5" y="122"/>
                    <a:pt x="5" y="123"/>
                  </a:cubicBezTo>
                  <a:cubicBezTo>
                    <a:pt x="10" y="146"/>
                    <a:pt x="50" y="161"/>
                    <a:pt x="51" y="161"/>
                  </a:cubicBezTo>
                  <a:cubicBezTo>
                    <a:pt x="32" y="172"/>
                    <a:pt x="29" y="201"/>
                    <a:pt x="35" y="220"/>
                  </a:cubicBezTo>
                  <a:cubicBezTo>
                    <a:pt x="39" y="229"/>
                    <a:pt x="43" y="240"/>
                    <a:pt x="51" y="246"/>
                  </a:cubicBezTo>
                  <a:cubicBezTo>
                    <a:pt x="53" y="248"/>
                    <a:pt x="80" y="261"/>
                    <a:pt x="82" y="258"/>
                  </a:cubicBezTo>
                  <a:cubicBezTo>
                    <a:pt x="74" y="271"/>
                    <a:pt x="58" y="280"/>
                    <a:pt x="63" y="310"/>
                  </a:cubicBezTo>
                  <a:cubicBezTo>
                    <a:pt x="66" y="327"/>
                    <a:pt x="80" y="332"/>
                    <a:pt x="96" y="333"/>
                  </a:cubicBezTo>
                  <a:cubicBezTo>
                    <a:pt x="83" y="324"/>
                    <a:pt x="74" y="311"/>
                    <a:pt x="74" y="297"/>
                  </a:cubicBezTo>
                  <a:close/>
                </a:path>
              </a:pathLst>
            </a:cu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2"/>
            <p:cNvSpPr/>
            <p:nvPr/>
          </p:nvSpPr>
          <p:spPr>
            <a:xfrm>
              <a:off x="8278200" y="2722680"/>
              <a:ext cx="16344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3"/>
            <p:cNvSpPr/>
            <p:nvPr/>
          </p:nvSpPr>
          <p:spPr>
            <a:xfrm>
              <a:off x="8411760" y="2451960"/>
              <a:ext cx="158760" cy="17892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0" y="18"/>
                  </a:moveTo>
                  <a:cubicBezTo>
                    <a:pt x="0" y="37"/>
                    <a:pt x="10" y="53"/>
                    <a:pt x="23" y="53"/>
                  </a:cubicBezTo>
                  <a:cubicBezTo>
                    <a:pt x="36" y="53"/>
                    <a:pt x="47" y="37"/>
                    <a:pt x="47" y="18"/>
                  </a:cubicBezTo>
                  <a:cubicBezTo>
                    <a:pt x="47" y="11"/>
                    <a:pt x="45" y="5"/>
                    <a:pt x="43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2"/>
                    <a:pt x="0" y="15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4"/>
            <p:cNvSpPr/>
            <p:nvPr/>
          </p:nvSpPr>
          <p:spPr>
            <a:xfrm>
              <a:off x="8357400" y="3059280"/>
              <a:ext cx="158760" cy="23364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24" y="0"/>
                  </a:moveTo>
                  <a:cubicBezTo>
                    <a:pt x="11" y="0"/>
                    <a:pt x="0" y="15"/>
                    <a:pt x="0" y="34"/>
                  </a:cubicBezTo>
                  <a:cubicBezTo>
                    <a:pt x="0" y="53"/>
                    <a:pt x="11" y="69"/>
                    <a:pt x="24" y="69"/>
                  </a:cubicBezTo>
                  <a:cubicBezTo>
                    <a:pt x="37" y="69"/>
                    <a:pt x="47" y="54"/>
                    <a:pt x="47" y="35"/>
                  </a:cubicBezTo>
                  <a:cubicBezTo>
                    <a:pt x="47" y="16"/>
                    <a:pt x="37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5"/>
            <p:cNvSpPr/>
            <p:nvPr/>
          </p:nvSpPr>
          <p:spPr>
            <a:xfrm>
              <a:off x="8471880" y="3377520"/>
              <a:ext cx="128880" cy="22068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19" y="65"/>
                  </a:moveTo>
                  <a:cubicBezTo>
                    <a:pt x="29" y="65"/>
                    <a:pt x="38" y="50"/>
                    <a:pt x="38" y="32"/>
                  </a:cubicBezTo>
                  <a:cubicBezTo>
                    <a:pt x="38" y="15"/>
                    <a:pt x="30" y="0"/>
                    <a:pt x="19" y="0"/>
                  </a:cubicBezTo>
                  <a:cubicBezTo>
                    <a:pt x="9" y="0"/>
                    <a:pt x="0" y="15"/>
                    <a:pt x="0" y="32"/>
                  </a:cubicBezTo>
                  <a:cubicBezTo>
                    <a:pt x="0" y="50"/>
                    <a:pt x="9" y="65"/>
                    <a:pt x="19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"/>
            <p:cNvSpPr/>
            <p:nvPr/>
          </p:nvSpPr>
          <p:spPr>
            <a:xfrm>
              <a:off x="7451280" y="2550600"/>
              <a:ext cx="213480" cy="1032840"/>
            </a:xfrm>
            <a:custGeom>
              <a:avLst/>
              <a:gdLst/>
              <a:ahLst/>
              <a:rect l="l" t="t" r="r" b="b"/>
              <a:pathLst>
                <a:path w="149" h="721">
                  <a:moveTo>
                    <a:pt x="149" y="0"/>
                  </a:moveTo>
                  <a:lnTo>
                    <a:pt x="0" y="0"/>
                  </a:lnTo>
                  <a:lnTo>
                    <a:pt x="0" y="721"/>
                  </a:lnTo>
                  <a:lnTo>
                    <a:pt x="144" y="721"/>
                  </a:lnTo>
                  <a:lnTo>
                    <a:pt x="144" y="672"/>
                  </a:lnTo>
                  <a:lnTo>
                    <a:pt x="149" y="49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8364240" y="2282760"/>
              <a:ext cx="399600" cy="206280"/>
            </a:xfrm>
            <a:custGeom>
              <a:avLst/>
              <a:gdLst/>
              <a:ahLst/>
              <a:rect l="l" t="t" r="r" b="b"/>
              <a:pathLst>
                <a:path w="118" h="61">
                  <a:moveTo>
                    <a:pt x="86" y="37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4" y="60"/>
                    <a:pt x="8" y="61"/>
                    <a:pt x="11" y="60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100" y="40"/>
                    <a:pt x="100" y="40"/>
                    <a:pt x="100" y="40"/>
                  </a:cubicBezTo>
                  <a:cubicBezTo>
                    <a:pt x="108" y="38"/>
                    <a:pt x="113" y="32"/>
                    <a:pt x="115" y="23"/>
                  </a:cubicBezTo>
                  <a:cubicBezTo>
                    <a:pt x="117" y="16"/>
                    <a:pt x="118" y="9"/>
                    <a:pt x="116" y="0"/>
                  </a:cubicBezTo>
                  <a:cubicBezTo>
                    <a:pt x="114" y="18"/>
                    <a:pt x="103" y="33"/>
                    <a:pt x="86" y="37"/>
                  </a:cubicBezTo>
                  <a:close/>
                </a:path>
              </a:pathLst>
            </a:custGeom>
            <a:solidFill>
              <a:srgbClr val="c8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8"/>
            <p:cNvSpPr/>
            <p:nvPr/>
          </p:nvSpPr>
          <p:spPr>
            <a:xfrm>
              <a:off x="8550720" y="2133720"/>
              <a:ext cx="171720" cy="2404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49" y="34"/>
                  </a:moveTo>
                  <a:cubicBezTo>
                    <a:pt x="47" y="15"/>
                    <a:pt x="35" y="0"/>
                    <a:pt x="22" y="1"/>
                  </a:cubicBezTo>
                  <a:cubicBezTo>
                    <a:pt x="9" y="2"/>
                    <a:pt x="0" y="19"/>
                    <a:pt x="2" y="38"/>
                  </a:cubicBezTo>
                  <a:cubicBezTo>
                    <a:pt x="4" y="57"/>
                    <a:pt x="15" y="71"/>
                    <a:pt x="28" y="70"/>
                  </a:cubicBezTo>
                  <a:cubicBezTo>
                    <a:pt x="41" y="69"/>
                    <a:pt x="51" y="52"/>
                    <a:pt x="4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9"/>
            <p:cNvSpPr/>
            <p:nvPr/>
          </p:nvSpPr>
          <p:spPr>
            <a:xfrm>
              <a:off x="6094440" y="2516400"/>
              <a:ext cx="1356840" cy="1099080"/>
            </a:xfrm>
            <a:custGeom>
              <a:avLst/>
              <a:gdLst/>
              <a:ahLst/>
              <a:rect l="l" t="t" r="r" b="b"/>
              <a:pathLst>
                <a:path w="400" h="324">
                  <a:moveTo>
                    <a:pt x="400" y="10"/>
                  </a:moveTo>
                  <a:cubicBezTo>
                    <a:pt x="400" y="0"/>
                    <a:pt x="400" y="0"/>
                    <a:pt x="4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4"/>
                    <a:pt x="0" y="324"/>
                    <a:pt x="0" y="324"/>
                  </a:cubicBezTo>
                  <a:cubicBezTo>
                    <a:pt x="400" y="324"/>
                    <a:pt x="400" y="324"/>
                    <a:pt x="400" y="324"/>
                  </a:cubicBezTo>
                  <a:cubicBezTo>
                    <a:pt x="400" y="315"/>
                    <a:pt x="400" y="315"/>
                    <a:pt x="400" y="315"/>
                  </a:cubicBezTo>
                  <a:lnTo>
                    <a:pt x="400" y="10"/>
                  </a:lnTo>
                  <a:close/>
                  <a:moveTo>
                    <a:pt x="297" y="292"/>
                  </a:moveTo>
                  <a:cubicBezTo>
                    <a:pt x="291" y="280"/>
                    <a:pt x="296" y="264"/>
                    <a:pt x="308" y="258"/>
                  </a:cubicBezTo>
                  <a:cubicBezTo>
                    <a:pt x="321" y="251"/>
                    <a:pt x="336" y="256"/>
                    <a:pt x="343" y="268"/>
                  </a:cubicBezTo>
                  <a:cubicBezTo>
                    <a:pt x="349" y="281"/>
                    <a:pt x="345" y="297"/>
                    <a:pt x="332" y="303"/>
                  </a:cubicBezTo>
                  <a:cubicBezTo>
                    <a:pt x="319" y="310"/>
                    <a:pt x="304" y="305"/>
                    <a:pt x="297" y="292"/>
                  </a:cubicBezTo>
                  <a:close/>
                </a:path>
              </a:pathLst>
            </a:custGeom>
            <a:solidFill>
              <a:srgbClr val="38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0"/>
            <p:cNvSpPr/>
            <p:nvPr/>
          </p:nvSpPr>
          <p:spPr>
            <a:xfrm>
              <a:off x="7081560" y="3367800"/>
              <a:ext cx="196200" cy="20052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41" y="52"/>
                  </a:moveTo>
                  <a:cubicBezTo>
                    <a:pt x="54" y="46"/>
                    <a:pt x="58" y="30"/>
                    <a:pt x="52" y="17"/>
                  </a:cubicBezTo>
                  <a:cubicBezTo>
                    <a:pt x="45" y="5"/>
                    <a:pt x="30" y="0"/>
                    <a:pt x="17" y="7"/>
                  </a:cubicBezTo>
                  <a:cubicBezTo>
                    <a:pt x="5" y="13"/>
                    <a:pt x="0" y="29"/>
                    <a:pt x="6" y="41"/>
                  </a:cubicBezTo>
                  <a:cubicBezTo>
                    <a:pt x="13" y="54"/>
                    <a:pt x="28" y="59"/>
                    <a:pt x="41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1"/>
            <p:cNvSpPr/>
            <p:nvPr/>
          </p:nvSpPr>
          <p:spPr>
            <a:xfrm>
              <a:off x="7411320" y="3846240"/>
              <a:ext cx="2817360" cy="2563560"/>
            </a:xfrm>
            <a:custGeom>
              <a:avLst/>
              <a:gdLst/>
              <a:ahLst/>
              <a:rect l="l" t="t" r="r" b="b"/>
              <a:pathLst>
                <a:path w="831" h="756">
                  <a:moveTo>
                    <a:pt x="726" y="101"/>
                  </a:moveTo>
                  <a:cubicBezTo>
                    <a:pt x="753" y="130"/>
                    <a:pt x="767" y="169"/>
                    <a:pt x="774" y="210"/>
                  </a:cubicBezTo>
                  <a:cubicBezTo>
                    <a:pt x="831" y="210"/>
                    <a:pt x="831" y="210"/>
                    <a:pt x="831" y="210"/>
                  </a:cubicBezTo>
                  <a:cubicBezTo>
                    <a:pt x="822" y="157"/>
                    <a:pt x="804" y="106"/>
                    <a:pt x="769" y="65"/>
                  </a:cubicBezTo>
                  <a:cubicBezTo>
                    <a:pt x="746" y="37"/>
                    <a:pt x="715" y="19"/>
                    <a:pt x="681" y="10"/>
                  </a:cubicBezTo>
                  <a:cubicBezTo>
                    <a:pt x="658" y="3"/>
                    <a:pt x="635" y="0"/>
                    <a:pt x="611" y="1"/>
                  </a:cubicBezTo>
                  <a:cubicBezTo>
                    <a:pt x="587" y="1"/>
                    <a:pt x="564" y="5"/>
                    <a:pt x="542" y="11"/>
                  </a:cubicBezTo>
                  <a:cubicBezTo>
                    <a:pt x="535" y="13"/>
                    <a:pt x="528" y="15"/>
                    <a:pt x="522" y="18"/>
                  </a:cubicBezTo>
                  <a:cubicBezTo>
                    <a:pt x="435" y="50"/>
                    <a:pt x="413" y="141"/>
                    <a:pt x="406" y="225"/>
                  </a:cubicBezTo>
                  <a:cubicBezTo>
                    <a:pt x="400" y="302"/>
                    <a:pt x="400" y="380"/>
                    <a:pt x="400" y="457"/>
                  </a:cubicBezTo>
                  <a:cubicBezTo>
                    <a:pt x="401" y="516"/>
                    <a:pt x="403" y="583"/>
                    <a:pt x="378" y="638"/>
                  </a:cubicBezTo>
                  <a:cubicBezTo>
                    <a:pt x="378" y="638"/>
                    <a:pt x="377" y="638"/>
                    <a:pt x="377" y="638"/>
                  </a:cubicBezTo>
                  <a:cubicBezTo>
                    <a:pt x="368" y="659"/>
                    <a:pt x="352" y="674"/>
                    <a:pt x="334" y="682"/>
                  </a:cubicBezTo>
                  <a:cubicBezTo>
                    <a:pt x="308" y="695"/>
                    <a:pt x="275" y="694"/>
                    <a:pt x="244" y="680"/>
                  </a:cubicBezTo>
                  <a:cubicBezTo>
                    <a:pt x="188" y="655"/>
                    <a:pt x="176" y="587"/>
                    <a:pt x="172" y="533"/>
                  </a:cubicBezTo>
                  <a:cubicBezTo>
                    <a:pt x="171" y="516"/>
                    <a:pt x="170" y="498"/>
                    <a:pt x="170" y="481"/>
                  </a:cubicBezTo>
                  <a:cubicBezTo>
                    <a:pt x="193" y="481"/>
                    <a:pt x="193" y="481"/>
                    <a:pt x="193" y="481"/>
                  </a:cubicBezTo>
                  <a:cubicBezTo>
                    <a:pt x="193" y="408"/>
                    <a:pt x="193" y="408"/>
                    <a:pt x="193" y="408"/>
                  </a:cubicBezTo>
                  <a:cubicBezTo>
                    <a:pt x="240" y="392"/>
                    <a:pt x="276" y="354"/>
                    <a:pt x="288" y="306"/>
                  </a:cubicBezTo>
                  <a:cubicBezTo>
                    <a:pt x="291" y="294"/>
                    <a:pt x="292" y="282"/>
                    <a:pt x="292" y="270"/>
                  </a:cubicBezTo>
                  <a:cubicBezTo>
                    <a:pt x="292" y="265"/>
                    <a:pt x="292" y="260"/>
                    <a:pt x="292" y="255"/>
                  </a:cubicBezTo>
                  <a:cubicBezTo>
                    <a:pt x="284" y="181"/>
                    <a:pt x="222" y="123"/>
                    <a:pt x="146" y="123"/>
                  </a:cubicBezTo>
                  <a:cubicBezTo>
                    <a:pt x="65" y="123"/>
                    <a:pt x="0" y="189"/>
                    <a:pt x="0" y="270"/>
                  </a:cubicBezTo>
                  <a:cubicBezTo>
                    <a:pt x="0" y="334"/>
                    <a:pt x="41" y="388"/>
                    <a:pt x="99" y="408"/>
                  </a:cubicBezTo>
                  <a:cubicBezTo>
                    <a:pt x="99" y="481"/>
                    <a:pt x="99" y="481"/>
                    <a:pt x="99" y="481"/>
                  </a:cubicBezTo>
                  <a:cubicBezTo>
                    <a:pt x="114" y="481"/>
                    <a:pt x="114" y="481"/>
                    <a:pt x="114" y="481"/>
                  </a:cubicBezTo>
                  <a:cubicBezTo>
                    <a:pt x="112" y="586"/>
                    <a:pt x="127" y="693"/>
                    <a:pt x="230" y="735"/>
                  </a:cubicBezTo>
                  <a:cubicBezTo>
                    <a:pt x="281" y="756"/>
                    <a:pt x="338" y="751"/>
                    <a:pt x="381" y="721"/>
                  </a:cubicBezTo>
                  <a:cubicBezTo>
                    <a:pt x="397" y="710"/>
                    <a:pt x="411" y="695"/>
                    <a:pt x="422" y="676"/>
                  </a:cubicBezTo>
                  <a:cubicBezTo>
                    <a:pt x="423" y="674"/>
                    <a:pt x="424" y="672"/>
                    <a:pt x="425" y="670"/>
                  </a:cubicBezTo>
                  <a:cubicBezTo>
                    <a:pt x="458" y="608"/>
                    <a:pt x="457" y="530"/>
                    <a:pt x="457" y="462"/>
                  </a:cubicBezTo>
                  <a:cubicBezTo>
                    <a:pt x="457" y="395"/>
                    <a:pt x="458" y="329"/>
                    <a:pt x="461" y="262"/>
                  </a:cubicBezTo>
                  <a:cubicBezTo>
                    <a:pt x="463" y="200"/>
                    <a:pt x="466" y="116"/>
                    <a:pt x="525" y="79"/>
                  </a:cubicBezTo>
                  <a:cubicBezTo>
                    <a:pt x="525" y="78"/>
                    <a:pt x="526" y="78"/>
                    <a:pt x="526" y="78"/>
                  </a:cubicBezTo>
                  <a:cubicBezTo>
                    <a:pt x="544" y="67"/>
                    <a:pt x="567" y="61"/>
                    <a:pt x="589" y="59"/>
                  </a:cubicBezTo>
                  <a:cubicBezTo>
                    <a:pt x="608" y="57"/>
                    <a:pt x="627" y="58"/>
                    <a:pt x="644" y="60"/>
                  </a:cubicBezTo>
                  <a:cubicBezTo>
                    <a:pt x="657" y="61"/>
                    <a:pt x="669" y="64"/>
                    <a:pt x="681" y="69"/>
                  </a:cubicBezTo>
                  <a:cubicBezTo>
                    <a:pt x="698" y="77"/>
                    <a:pt x="713" y="88"/>
                    <a:pt x="726" y="101"/>
                  </a:cubicBezTo>
                  <a:close/>
                  <a:moveTo>
                    <a:pt x="30" y="270"/>
                  </a:moveTo>
                  <a:cubicBezTo>
                    <a:pt x="30" y="222"/>
                    <a:pt x="59" y="181"/>
                    <a:pt x="100" y="163"/>
                  </a:cubicBezTo>
                  <a:cubicBezTo>
                    <a:pt x="99" y="161"/>
                    <a:pt x="99" y="161"/>
                    <a:pt x="99" y="161"/>
                  </a:cubicBezTo>
                  <a:cubicBezTo>
                    <a:pt x="113" y="155"/>
                    <a:pt x="129" y="151"/>
                    <a:pt x="146" y="151"/>
                  </a:cubicBezTo>
                  <a:cubicBezTo>
                    <a:pt x="210" y="151"/>
                    <a:pt x="263" y="203"/>
                    <a:pt x="263" y="268"/>
                  </a:cubicBezTo>
                  <a:cubicBezTo>
                    <a:pt x="263" y="268"/>
                    <a:pt x="263" y="268"/>
                    <a:pt x="263" y="268"/>
                  </a:cubicBezTo>
                  <a:cubicBezTo>
                    <a:pt x="263" y="269"/>
                    <a:pt x="263" y="269"/>
                    <a:pt x="263" y="270"/>
                  </a:cubicBezTo>
                  <a:cubicBezTo>
                    <a:pt x="263" y="334"/>
                    <a:pt x="210" y="386"/>
                    <a:pt x="146" y="386"/>
                  </a:cubicBezTo>
                  <a:cubicBezTo>
                    <a:pt x="82" y="386"/>
                    <a:pt x="30" y="334"/>
                    <a:pt x="30" y="27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"/>
            <p:cNvSpPr/>
            <p:nvPr/>
          </p:nvSpPr>
          <p:spPr>
            <a:xfrm>
              <a:off x="7513200" y="4398120"/>
              <a:ext cx="789120" cy="756360"/>
            </a:xfrm>
            <a:custGeom>
              <a:avLst/>
              <a:gdLst/>
              <a:ahLst/>
              <a:rect l="l" t="t" r="r" b="b"/>
              <a:pathLst>
                <a:path w="233" h="223">
                  <a:moveTo>
                    <a:pt x="116" y="223"/>
                  </a:moveTo>
                  <a:cubicBezTo>
                    <a:pt x="180" y="223"/>
                    <a:pt x="233" y="171"/>
                    <a:pt x="233" y="107"/>
                  </a:cubicBezTo>
                  <a:cubicBezTo>
                    <a:pt x="233" y="106"/>
                    <a:pt x="233" y="106"/>
                    <a:pt x="233" y="105"/>
                  </a:cubicBezTo>
                  <a:cubicBezTo>
                    <a:pt x="232" y="134"/>
                    <a:pt x="222" y="161"/>
                    <a:pt x="204" y="181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29" y="18"/>
                    <a:pt x="0" y="59"/>
                    <a:pt x="0" y="107"/>
                  </a:cubicBezTo>
                  <a:cubicBezTo>
                    <a:pt x="0" y="171"/>
                    <a:pt x="52" y="223"/>
                    <a:pt x="116" y="223"/>
                  </a:cubicBezTo>
                  <a:close/>
                  <a:moveTo>
                    <a:pt x="43" y="31"/>
                  </a:moveTo>
                  <a:cubicBezTo>
                    <a:pt x="45" y="29"/>
                    <a:pt x="48" y="29"/>
                    <a:pt x="50" y="31"/>
                  </a:cubicBezTo>
                  <a:cubicBezTo>
                    <a:pt x="110" y="91"/>
                    <a:pt x="110" y="91"/>
                    <a:pt x="110" y="91"/>
                  </a:cubicBezTo>
                  <a:cubicBezTo>
                    <a:pt x="112" y="90"/>
                    <a:pt x="114" y="90"/>
                    <a:pt x="116" y="90"/>
                  </a:cubicBezTo>
                  <a:cubicBezTo>
                    <a:pt x="125" y="90"/>
                    <a:pt x="133" y="97"/>
                    <a:pt x="133" y="107"/>
                  </a:cubicBezTo>
                  <a:cubicBezTo>
                    <a:pt x="133" y="109"/>
                    <a:pt x="132" y="111"/>
                    <a:pt x="132" y="113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1" y="133"/>
                    <a:pt x="151" y="136"/>
                    <a:pt x="149" y="138"/>
                  </a:cubicBezTo>
                  <a:cubicBezTo>
                    <a:pt x="148" y="138"/>
                    <a:pt x="147" y="139"/>
                    <a:pt x="146" y="139"/>
                  </a:cubicBezTo>
                  <a:cubicBezTo>
                    <a:pt x="145" y="139"/>
                    <a:pt x="143" y="138"/>
                    <a:pt x="142" y="138"/>
                  </a:cubicBezTo>
                  <a:cubicBezTo>
                    <a:pt x="125" y="121"/>
                    <a:pt x="125" y="121"/>
                    <a:pt x="125" y="121"/>
                  </a:cubicBezTo>
                  <a:cubicBezTo>
                    <a:pt x="123" y="122"/>
                    <a:pt x="120" y="123"/>
                    <a:pt x="116" y="123"/>
                  </a:cubicBezTo>
                  <a:cubicBezTo>
                    <a:pt x="107" y="123"/>
                    <a:pt x="99" y="116"/>
                    <a:pt x="99" y="107"/>
                  </a:cubicBezTo>
                  <a:cubicBezTo>
                    <a:pt x="99" y="103"/>
                    <a:pt x="100" y="100"/>
                    <a:pt x="102" y="97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1" y="36"/>
                    <a:pt x="41" y="33"/>
                    <a:pt x="43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3"/>
            <p:cNvSpPr/>
            <p:nvPr/>
          </p:nvSpPr>
          <p:spPr>
            <a:xfrm>
              <a:off x="7651800" y="4496760"/>
              <a:ext cx="372600" cy="372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8" y="78"/>
                  </a:moveTo>
                  <a:cubicBezTo>
                    <a:pt x="58" y="87"/>
                    <a:pt x="66" y="94"/>
                    <a:pt x="75" y="94"/>
                  </a:cubicBezTo>
                  <a:cubicBezTo>
                    <a:pt x="79" y="94"/>
                    <a:pt x="82" y="93"/>
                    <a:pt x="84" y="92"/>
                  </a:cubicBezTo>
                  <a:cubicBezTo>
                    <a:pt x="101" y="109"/>
                    <a:pt x="101" y="109"/>
                    <a:pt x="101" y="109"/>
                  </a:cubicBezTo>
                  <a:cubicBezTo>
                    <a:pt x="102" y="109"/>
                    <a:pt x="104" y="110"/>
                    <a:pt x="105" y="110"/>
                  </a:cubicBezTo>
                  <a:cubicBezTo>
                    <a:pt x="106" y="110"/>
                    <a:pt x="107" y="109"/>
                    <a:pt x="108" y="109"/>
                  </a:cubicBezTo>
                  <a:cubicBezTo>
                    <a:pt x="110" y="107"/>
                    <a:pt x="110" y="104"/>
                    <a:pt x="108" y="102"/>
                  </a:cubicBezTo>
                  <a:cubicBezTo>
                    <a:pt x="91" y="84"/>
                    <a:pt x="91" y="84"/>
                    <a:pt x="91" y="84"/>
                  </a:cubicBezTo>
                  <a:cubicBezTo>
                    <a:pt x="91" y="82"/>
                    <a:pt x="92" y="80"/>
                    <a:pt x="92" y="78"/>
                  </a:cubicBezTo>
                  <a:cubicBezTo>
                    <a:pt x="92" y="68"/>
                    <a:pt x="84" y="61"/>
                    <a:pt x="75" y="61"/>
                  </a:cubicBezTo>
                  <a:cubicBezTo>
                    <a:pt x="73" y="61"/>
                    <a:pt x="71" y="61"/>
                    <a:pt x="69" y="6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7" y="0"/>
                    <a:pt x="4" y="0"/>
                    <a:pt x="2" y="2"/>
                  </a:cubicBezTo>
                  <a:cubicBezTo>
                    <a:pt x="0" y="4"/>
                    <a:pt x="0" y="7"/>
                    <a:pt x="2" y="9"/>
                  </a:cubicBezTo>
                  <a:cubicBezTo>
                    <a:pt x="61" y="68"/>
                    <a:pt x="61" y="68"/>
                    <a:pt x="61" y="68"/>
                  </a:cubicBezTo>
                  <a:cubicBezTo>
                    <a:pt x="59" y="71"/>
                    <a:pt x="58" y="74"/>
                    <a:pt x="58" y="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4"/>
            <p:cNvSpPr/>
            <p:nvPr/>
          </p:nvSpPr>
          <p:spPr>
            <a:xfrm>
              <a:off x="7746480" y="4358160"/>
              <a:ext cx="555840" cy="654840"/>
            </a:xfrm>
            <a:custGeom>
              <a:avLst/>
              <a:gdLst/>
              <a:ahLst/>
              <a:rect l="l" t="t" r="r" b="b"/>
              <a:pathLst>
                <a:path w="164" h="193">
                  <a:moveTo>
                    <a:pt x="164" y="117"/>
                  </a:moveTo>
                  <a:cubicBezTo>
                    <a:pt x="164" y="117"/>
                    <a:pt x="164" y="117"/>
                    <a:pt x="164" y="117"/>
                  </a:cubicBezTo>
                  <a:cubicBezTo>
                    <a:pt x="164" y="52"/>
                    <a:pt x="111" y="0"/>
                    <a:pt x="47" y="0"/>
                  </a:cubicBezTo>
                  <a:cubicBezTo>
                    <a:pt x="30" y="0"/>
                    <a:pt x="14" y="4"/>
                    <a:pt x="0" y="10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35" y="193"/>
                    <a:pt x="135" y="193"/>
                    <a:pt x="135" y="193"/>
                  </a:cubicBezTo>
                  <a:cubicBezTo>
                    <a:pt x="153" y="173"/>
                    <a:pt x="163" y="146"/>
                    <a:pt x="164" y="117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5"/>
            <p:cNvSpPr/>
            <p:nvPr/>
          </p:nvSpPr>
          <p:spPr>
            <a:xfrm>
              <a:off x="10585800" y="4601520"/>
              <a:ext cx="178920" cy="168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6"/>
            <p:cNvSpPr/>
            <p:nvPr/>
          </p:nvSpPr>
          <p:spPr>
            <a:xfrm>
              <a:off x="9248760" y="3459240"/>
              <a:ext cx="1798200" cy="2876040"/>
            </a:xfrm>
            <a:custGeom>
              <a:avLst/>
              <a:gdLst/>
              <a:ahLst/>
              <a:rect l="l" t="t" r="r" b="b"/>
              <a:pathLst>
                <a:path w="530" h="848">
                  <a:moveTo>
                    <a:pt x="382" y="324"/>
                  </a:moveTo>
                  <a:cubicBezTo>
                    <a:pt x="379" y="173"/>
                    <a:pt x="318" y="0"/>
                    <a:pt x="150" y="3"/>
                  </a:cubicBezTo>
                  <a:cubicBezTo>
                    <a:pt x="146" y="3"/>
                    <a:pt x="142" y="3"/>
                    <a:pt x="138" y="4"/>
                  </a:cubicBezTo>
                  <a:cubicBezTo>
                    <a:pt x="63" y="10"/>
                    <a:pt x="22" y="60"/>
                    <a:pt x="0" y="125"/>
                  </a:cubicBezTo>
                  <a:cubicBezTo>
                    <a:pt x="22" y="119"/>
                    <a:pt x="45" y="115"/>
                    <a:pt x="69" y="115"/>
                  </a:cubicBezTo>
                  <a:cubicBezTo>
                    <a:pt x="77" y="102"/>
                    <a:pt x="86" y="90"/>
                    <a:pt x="98" y="81"/>
                  </a:cubicBezTo>
                  <a:cubicBezTo>
                    <a:pt x="110" y="73"/>
                    <a:pt x="124" y="68"/>
                    <a:pt x="138" y="66"/>
                  </a:cubicBezTo>
                  <a:cubicBezTo>
                    <a:pt x="158" y="63"/>
                    <a:pt x="180" y="66"/>
                    <a:pt x="199" y="71"/>
                  </a:cubicBezTo>
                  <a:cubicBezTo>
                    <a:pt x="234" y="82"/>
                    <a:pt x="261" y="110"/>
                    <a:pt x="279" y="142"/>
                  </a:cubicBezTo>
                  <a:cubicBezTo>
                    <a:pt x="310" y="195"/>
                    <a:pt x="322" y="260"/>
                    <a:pt x="323" y="324"/>
                  </a:cubicBezTo>
                  <a:cubicBezTo>
                    <a:pt x="289" y="324"/>
                    <a:pt x="289" y="324"/>
                    <a:pt x="289" y="324"/>
                  </a:cubicBezTo>
                  <a:cubicBezTo>
                    <a:pt x="232" y="324"/>
                    <a:pt x="232" y="324"/>
                    <a:pt x="232" y="324"/>
                  </a:cubicBezTo>
                  <a:cubicBezTo>
                    <a:pt x="140" y="324"/>
                    <a:pt x="140" y="324"/>
                    <a:pt x="140" y="324"/>
                  </a:cubicBezTo>
                  <a:cubicBezTo>
                    <a:pt x="103" y="324"/>
                    <a:pt x="103" y="324"/>
                    <a:pt x="103" y="324"/>
                  </a:cubicBezTo>
                  <a:cubicBezTo>
                    <a:pt x="103" y="848"/>
                    <a:pt x="103" y="848"/>
                    <a:pt x="103" y="848"/>
                  </a:cubicBezTo>
                  <a:cubicBezTo>
                    <a:pt x="142" y="848"/>
                    <a:pt x="142" y="848"/>
                    <a:pt x="142" y="848"/>
                  </a:cubicBezTo>
                  <a:cubicBezTo>
                    <a:pt x="394" y="848"/>
                    <a:pt x="394" y="848"/>
                    <a:pt x="394" y="848"/>
                  </a:cubicBezTo>
                  <a:cubicBezTo>
                    <a:pt x="489" y="848"/>
                    <a:pt x="489" y="848"/>
                    <a:pt x="489" y="848"/>
                  </a:cubicBezTo>
                  <a:cubicBezTo>
                    <a:pt x="530" y="848"/>
                    <a:pt x="530" y="848"/>
                    <a:pt x="530" y="848"/>
                  </a:cubicBezTo>
                  <a:cubicBezTo>
                    <a:pt x="530" y="324"/>
                    <a:pt x="530" y="324"/>
                    <a:pt x="530" y="324"/>
                  </a:cubicBezTo>
                  <a:cubicBezTo>
                    <a:pt x="487" y="324"/>
                    <a:pt x="487" y="324"/>
                    <a:pt x="487" y="324"/>
                  </a:cubicBezTo>
                  <a:cubicBezTo>
                    <a:pt x="394" y="324"/>
                    <a:pt x="394" y="324"/>
                    <a:pt x="394" y="324"/>
                  </a:cubicBezTo>
                  <a:lnTo>
                    <a:pt x="382" y="324"/>
                  </a:lnTo>
                  <a:close/>
                  <a:moveTo>
                    <a:pt x="447" y="337"/>
                  </a:moveTo>
                  <a:cubicBezTo>
                    <a:pt x="447" y="835"/>
                    <a:pt x="447" y="835"/>
                    <a:pt x="447" y="835"/>
                  </a:cubicBezTo>
                  <a:cubicBezTo>
                    <a:pt x="394" y="835"/>
                    <a:pt x="394" y="835"/>
                    <a:pt x="394" y="835"/>
                  </a:cubicBezTo>
                  <a:cubicBezTo>
                    <a:pt x="394" y="337"/>
                    <a:pt x="394" y="337"/>
                    <a:pt x="394" y="337"/>
                  </a:cubicBezTo>
                  <a:lnTo>
                    <a:pt x="447" y="337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任意多边形 58"/>
          <p:cNvSpPr/>
          <p:nvPr/>
        </p:nvSpPr>
        <p:spPr>
          <a:xfrm>
            <a:off x="531720" y="1235160"/>
            <a:ext cx="5086440" cy="1595520"/>
          </a:xfrm>
          <a:custGeom>
            <a:avLst/>
            <a:gdLst/>
            <a:ahLst/>
            <a:rect l="l" t="t" r="r" b="b"/>
            <a:pathLst>
              <a:path w="5086648" h="1595140">
                <a:moveTo>
                  <a:pt x="1061145" y="1081683"/>
                </a:moveTo>
                <a:lnTo>
                  <a:pt x="1259682" y="1081683"/>
                </a:lnTo>
                <a:cubicBezTo>
                  <a:pt x="1287066" y="1145580"/>
                  <a:pt x="1307604" y="1211758"/>
                  <a:pt x="1321296" y="1280219"/>
                </a:cubicBezTo>
                <a:lnTo>
                  <a:pt x="1109068" y="1280219"/>
                </a:lnTo>
                <a:cubicBezTo>
                  <a:pt x="1104503" y="1248271"/>
                  <a:pt x="1093093" y="1198066"/>
                  <a:pt x="1074837" y="1129605"/>
                </a:cubicBezTo>
                <a:cubicBezTo>
                  <a:pt x="1070273" y="1106785"/>
                  <a:pt x="1065709" y="1090811"/>
                  <a:pt x="1061145" y="1081683"/>
                </a:cubicBezTo>
                <a:close/>
                <a:moveTo>
                  <a:pt x="759917" y="1081683"/>
                </a:moveTo>
                <a:lnTo>
                  <a:pt x="999530" y="1081683"/>
                </a:lnTo>
                <a:lnTo>
                  <a:pt x="999530" y="1328142"/>
                </a:lnTo>
                <a:cubicBezTo>
                  <a:pt x="994966" y="1373783"/>
                  <a:pt x="1017786" y="1394321"/>
                  <a:pt x="1067991" y="1389757"/>
                </a:cubicBezTo>
                <a:lnTo>
                  <a:pt x="1143298" y="1389757"/>
                </a:lnTo>
                <a:cubicBezTo>
                  <a:pt x="1188939" y="1394321"/>
                  <a:pt x="1209477" y="1373783"/>
                  <a:pt x="1204913" y="1328142"/>
                </a:cubicBezTo>
                <a:lnTo>
                  <a:pt x="1204913" y="1307604"/>
                </a:lnTo>
                <a:lnTo>
                  <a:pt x="1396604" y="1307604"/>
                </a:lnTo>
                <a:cubicBezTo>
                  <a:pt x="1387475" y="1230015"/>
                  <a:pt x="1371501" y="1154708"/>
                  <a:pt x="1348681" y="1081683"/>
                </a:cubicBezTo>
                <a:lnTo>
                  <a:pt x="1540371" y="1081683"/>
                </a:lnTo>
                <a:cubicBezTo>
                  <a:pt x="1590576" y="1259681"/>
                  <a:pt x="1620243" y="1403449"/>
                  <a:pt x="1629371" y="1512987"/>
                </a:cubicBezTo>
                <a:lnTo>
                  <a:pt x="1423988" y="1512987"/>
                </a:lnTo>
                <a:cubicBezTo>
                  <a:pt x="1419424" y="1444526"/>
                  <a:pt x="1412578" y="1380629"/>
                  <a:pt x="1403450" y="1321296"/>
                </a:cubicBezTo>
                <a:lnTo>
                  <a:pt x="1403450" y="1389757"/>
                </a:lnTo>
                <a:cubicBezTo>
                  <a:pt x="1408014" y="1508423"/>
                  <a:pt x="1341835" y="1565473"/>
                  <a:pt x="1204913" y="1560909"/>
                </a:cubicBezTo>
                <a:lnTo>
                  <a:pt x="951607" y="1560909"/>
                </a:lnTo>
                <a:cubicBezTo>
                  <a:pt x="814686" y="1570037"/>
                  <a:pt x="750789" y="1510704"/>
                  <a:pt x="759917" y="1382911"/>
                </a:cubicBezTo>
                <a:lnTo>
                  <a:pt x="759917" y="1081683"/>
                </a:lnTo>
                <a:close/>
                <a:moveTo>
                  <a:pt x="561380" y="1081683"/>
                </a:moveTo>
                <a:lnTo>
                  <a:pt x="739378" y="1081683"/>
                </a:lnTo>
                <a:cubicBezTo>
                  <a:pt x="734814" y="1241425"/>
                  <a:pt x="716558" y="1385193"/>
                  <a:pt x="684610" y="1512987"/>
                </a:cubicBezTo>
                <a:lnTo>
                  <a:pt x="479227" y="1512987"/>
                </a:lnTo>
                <a:cubicBezTo>
                  <a:pt x="524868" y="1376065"/>
                  <a:pt x="552252" y="1232297"/>
                  <a:pt x="561380" y="1081683"/>
                </a:cubicBezTo>
                <a:close/>
                <a:moveTo>
                  <a:pt x="4696421" y="917376"/>
                </a:moveTo>
                <a:lnTo>
                  <a:pt x="4929188" y="917376"/>
                </a:lnTo>
                <a:cubicBezTo>
                  <a:pt x="4970264" y="1008658"/>
                  <a:pt x="5002213" y="1118195"/>
                  <a:pt x="5025033" y="1245989"/>
                </a:cubicBezTo>
                <a:lnTo>
                  <a:pt x="4771728" y="1245989"/>
                </a:lnTo>
                <a:cubicBezTo>
                  <a:pt x="4758036" y="1136451"/>
                  <a:pt x="4732933" y="1026914"/>
                  <a:pt x="4696421" y="917376"/>
                </a:cubicBezTo>
                <a:close/>
                <a:moveTo>
                  <a:pt x="2854821" y="376535"/>
                </a:moveTo>
                <a:lnTo>
                  <a:pt x="2854821" y="1307604"/>
                </a:lnTo>
                <a:lnTo>
                  <a:pt x="2957513" y="1307604"/>
                </a:lnTo>
                <a:lnTo>
                  <a:pt x="2957513" y="376535"/>
                </a:lnTo>
                <a:lnTo>
                  <a:pt x="2854821" y="376535"/>
                </a:lnTo>
                <a:close/>
                <a:moveTo>
                  <a:pt x="2498825" y="376535"/>
                </a:moveTo>
                <a:lnTo>
                  <a:pt x="2498825" y="1307604"/>
                </a:lnTo>
                <a:lnTo>
                  <a:pt x="2594670" y="1307604"/>
                </a:lnTo>
                <a:lnTo>
                  <a:pt x="2594670" y="376535"/>
                </a:lnTo>
                <a:lnTo>
                  <a:pt x="2498825" y="376535"/>
                </a:lnTo>
                <a:close/>
                <a:moveTo>
                  <a:pt x="2142828" y="376535"/>
                </a:moveTo>
                <a:lnTo>
                  <a:pt x="2142828" y="1307604"/>
                </a:lnTo>
                <a:lnTo>
                  <a:pt x="2238673" y="1307604"/>
                </a:lnTo>
                <a:lnTo>
                  <a:pt x="2238673" y="376535"/>
                </a:lnTo>
                <a:lnTo>
                  <a:pt x="2142828" y="376535"/>
                </a:lnTo>
                <a:close/>
                <a:moveTo>
                  <a:pt x="4326732" y="362843"/>
                </a:moveTo>
                <a:lnTo>
                  <a:pt x="4627960" y="362843"/>
                </a:lnTo>
                <a:lnTo>
                  <a:pt x="4627960" y="629840"/>
                </a:lnTo>
                <a:lnTo>
                  <a:pt x="5038725" y="629840"/>
                </a:lnTo>
                <a:lnTo>
                  <a:pt x="5038725" y="835223"/>
                </a:lnTo>
                <a:lnTo>
                  <a:pt x="4627960" y="835223"/>
                </a:lnTo>
                <a:lnTo>
                  <a:pt x="4627960" y="1321296"/>
                </a:lnTo>
                <a:lnTo>
                  <a:pt x="5086648" y="1321296"/>
                </a:lnTo>
                <a:lnTo>
                  <a:pt x="5086648" y="1506141"/>
                </a:lnTo>
                <a:lnTo>
                  <a:pt x="3902274" y="1506141"/>
                </a:lnTo>
                <a:lnTo>
                  <a:pt x="3902274" y="1321296"/>
                </a:lnTo>
                <a:lnTo>
                  <a:pt x="4326732" y="1321296"/>
                </a:lnTo>
                <a:lnTo>
                  <a:pt x="4326732" y="835223"/>
                </a:lnTo>
                <a:lnTo>
                  <a:pt x="3977581" y="835223"/>
                </a:lnTo>
                <a:lnTo>
                  <a:pt x="3977581" y="629840"/>
                </a:lnTo>
                <a:lnTo>
                  <a:pt x="4326732" y="629840"/>
                </a:lnTo>
                <a:lnTo>
                  <a:pt x="4326732" y="362843"/>
                </a:lnTo>
                <a:close/>
                <a:moveTo>
                  <a:pt x="910531" y="246459"/>
                </a:moveTo>
                <a:cubicBezTo>
                  <a:pt x="874018" y="287536"/>
                  <a:pt x="821532" y="324048"/>
                  <a:pt x="753071" y="355997"/>
                </a:cubicBezTo>
                <a:lnTo>
                  <a:pt x="1088529" y="355997"/>
                </a:lnTo>
                <a:cubicBezTo>
                  <a:pt x="1115914" y="324048"/>
                  <a:pt x="1141016" y="287536"/>
                  <a:pt x="1163836" y="246459"/>
                </a:cubicBezTo>
                <a:lnTo>
                  <a:pt x="910531" y="246459"/>
                </a:lnTo>
                <a:close/>
                <a:moveTo>
                  <a:pt x="3614738" y="82153"/>
                </a:moveTo>
                <a:lnTo>
                  <a:pt x="5086648" y="82153"/>
                </a:lnTo>
                <a:lnTo>
                  <a:pt x="5086648" y="294382"/>
                </a:lnTo>
                <a:lnTo>
                  <a:pt x="3929658" y="294382"/>
                </a:lnTo>
                <a:lnTo>
                  <a:pt x="3929658" y="725686"/>
                </a:lnTo>
                <a:cubicBezTo>
                  <a:pt x="3947915" y="1177528"/>
                  <a:pt x="3808710" y="1467346"/>
                  <a:pt x="3512046" y="1595140"/>
                </a:cubicBezTo>
                <a:lnTo>
                  <a:pt x="3512046" y="1396603"/>
                </a:lnTo>
                <a:cubicBezTo>
                  <a:pt x="3585072" y="1309886"/>
                  <a:pt x="3619302" y="1131887"/>
                  <a:pt x="3614738" y="862608"/>
                </a:cubicBezTo>
                <a:lnTo>
                  <a:pt x="3614738" y="82153"/>
                </a:lnTo>
                <a:close/>
                <a:moveTo>
                  <a:pt x="568226" y="20538"/>
                </a:moveTo>
                <a:lnTo>
                  <a:pt x="568226" y="219075"/>
                </a:lnTo>
                <a:cubicBezTo>
                  <a:pt x="522586" y="232767"/>
                  <a:pt x="474663" y="241895"/>
                  <a:pt x="424458" y="246459"/>
                </a:cubicBezTo>
                <a:lnTo>
                  <a:pt x="424458" y="410765"/>
                </a:lnTo>
                <a:lnTo>
                  <a:pt x="561380" y="410765"/>
                </a:lnTo>
                <a:lnTo>
                  <a:pt x="561380" y="595610"/>
                </a:lnTo>
                <a:lnTo>
                  <a:pt x="424458" y="595610"/>
                </a:lnTo>
                <a:lnTo>
                  <a:pt x="424458" y="602456"/>
                </a:lnTo>
                <a:cubicBezTo>
                  <a:pt x="456407" y="725686"/>
                  <a:pt x="497483" y="819249"/>
                  <a:pt x="547688" y="883146"/>
                </a:cubicBezTo>
                <a:lnTo>
                  <a:pt x="547688" y="1143298"/>
                </a:lnTo>
                <a:cubicBezTo>
                  <a:pt x="502047" y="1088529"/>
                  <a:pt x="460971" y="1033760"/>
                  <a:pt x="424458" y="978991"/>
                </a:cubicBezTo>
                <a:lnTo>
                  <a:pt x="424458" y="1567755"/>
                </a:lnTo>
                <a:lnTo>
                  <a:pt x="171153" y="1567755"/>
                </a:lnTo>
                <a:lnTo>
                  <a:pt x="171153" y="1074837"/>
                </a:lnTo>
                <a:cubicBezTo>
                  <a:pt x="125512" y="1161554"/>
                  <a:pt x="68461" y="1241425"/>
                  <a:pt x="0" y="1314450"/>
                </a:cubicBezTo>
                <a:lnTo>
                  <a:pt x="0" y="1047452"/>
                </a:lnTo>
                <a:cubicBezTo>
                  <a:pt x="68461" y="910530"/>
                  <a:pt x="120948" y="759916"/>
                  <a:pt x="157460" y="595610"/>
                </a:cubicBezTo>
                <a:lnTo>
                  <a:pt x="6846" y="595610"/>
                </a:lnTo>
                <a:lnTo>
                  <a:pt x="6846" y="410765"/>
                </a:lnTo>
                <a:lnTo>
                  <a:pt x="171153" y="410765"/>
                </a:lnTo>
                <a:lnTo>
                  <a:pt x="171153" y="246459"/>
                </a:lnTo>
                <a:lnTo>
                  <a:pt x="27385" y="246459"/>
                </a:lnTo>
                <a:lnTo>
                  <a:pt x="27385" y="61615"/>
                </a:lnTo>
                <a:lnTo>
                  <a:pt x="335459" y="61615"/>
                </a:lnTo>
                <a:cubicBezTo>
                  <a:pt x="417612" y="61615"/>
                  <a:pt x="495201" y="47922"/>
                  <a:pt x="568226" y="20538"/>
                </a:cubicBezTo>
                <a:close/>
                <a:moveTo>
                  <a:pt x="2313980" y="6846"/>
                </a:moveTo>
                <a:lnTo>
                  <a:pt x="2656285" y="6846"/>
                </a:lnTo>
                <a:cubicBezTo>
                  <a:pt x="2642592" y="75307"/>
                  <a:pt x="2626618" y="130076"/>
                  <a:pt x="2608362" y="171152"/>
                </a:cubicBezTo>
                <a:lnTo>
                  <a:pt x="3224510" y="171152"/>
                </a:lnTo>
                <a:lnTo>
                  <a:pt x="3224510" y="1307604"/>
                </a:lnTo>
                <a:lnTo>
                  <a:pt x="3334048" y="1307604"/>
                </a:lnTo>
                <a:lnTo>
                  <a:pt x="3334048" y="1492448"/>
                </a:lnTo>
                <a:lnTo>
                  <a:pt x="1766292" y="1492448"/>
                </a:lnTo>
                <a:lnTo>
                  <a:pt x="1766292" y="1307604"/>
                </a:lnTo>
                <a:lnTo>
                  <a:pt x="1868984" y="1307604"/>
                </a:lnTo>
                <a:lnTo>
                  <a:pt x="1868984" y="171152"/>
                </a:lnTo>
                <a:lnTo>
                  <a:pt x="2272903" y="171152"/>
                </a:lnTo>
                <a:cubicBezTo>
                  <a:pt x="2282032" y="143768"/>
                  <a:pt x="2293442" y="100409"/>
                  <a:pt x="2307134" y="41076"/>
                </a:cubicBezTo>
                <a:cubicBezTo>
                  <a:pt x="2311698" y="27384"/>
                  <a:pt x="2313980" y="15974"/>
                  <a:pt x="2313980" y="6846"/>
                </a:cubicBezTo>
                <a:close/>
                <a:moveTo>
                  <a:pt x="787301" y="0"/>
                </a:moveTo>
                <a:lnTo>
                  <a:pt x="1040607" y="0"/>
                </a:lnTo>
                <a:cubicBezTo>
                  <a:pt x="1036042" y="27384"/>
                  <a:pt x="1029196" y="50204"/>
                  <a:pt x="1020068" y="68461"/>
                </a:cubicBezTo>
                <a:lnTo>
                  <a:pt x="1444526" y="68461"/>
                </a:lnTo>
                <a:lnTo>
                  <a:pt x="1444526" y="246459"/>
                </a:lnTo>
                <a:cubicBezTo>
                  <a:pt x="1426270" y="287536"/>
                  <a:pt x="1403450" y="324048"/>
                  <a:pt x="1376065" y="355997"/>
                </a:cubicBezTo>
                <a:lnTo>
                  <a:pt x="1519833" y="355997"/>
                </a:lnTo>
                <a:lnTo>
                  <a:pt x="1519833" y="794147"/>
                </a:lnTo>
                <a:cubicBezTo>
                  <a:pt x="1528961" y="967581"/>
                  <a:pt x="1442244" y="1049734"/>
                  <a:pt x="1259682" y="1040606"/>
                </a:cubicBezTo>
                <a:lnTo>
                  <a:pt x="602457" y="1040606"/>
                </a:lnTo>
                <a:lnTo>
                  <a:pt x="602457" y="862608"/>
                </a:lnTo>
                <a:lnTo>
                  <a:pt x="1170683" y="862608"/>
                </a:lnTo>
                <a:cubicBezTo>
                  <a:pt x="1234579" y="867172"/>
                  <a:pt x="1264246" y="839787"/>
                  <a:pt x="1259682" y="780454"/>
                </a:cubicBezTo>
                <a:lnTo>
                  <a:pt x="629841" y="780454"/>
                </a:lnTo>
                <a:lnTo>
                  <a:pt x="629841" y="616148"/>
                </a:lnTo>
                <a:lnTo>
                  <a:pt x="1259682" y="616148"/>
                </a:lnTo>
                <a:lnTo>
                  <a:pt x="1259682" y="540841"/>
                </a:lnTo>
                <a:lnTo>
                  <a:pt x="616149" y="540841"/>
                </a:lnTo>
                <a:lnTo>
                  <a:pt x="616149" y="417611"/>
                </a:lnTo>
                <a:cubicBezTo>
                  <a:pt x="611585" y="417611"/>
                  <a:pt x="604739" y="419893"/>
                  <a:pt x="595610" y="424458"/>
                </a:cubicBezTo>
                <a:cubicBezTo>
                  <a:pt x="591046" y="424458"/>
                  <a:pt x="586482" y="426740"/>
                  <a:pt x="581918" y="431304"/>
                </a:cubicBezTo>
                <a:lnTo>
                  <a:pt x="581918" y="280690"/>
                </a:lnTo>
                <a:cubicBezTo>
                  <a:pt x="677764" y="221357"/>
                  <a:pt x="746225" y="127794"/>
                  <a:pt x="78730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62"/>
          <p:cNvSpPr/>
          <p:nvPr/>
        </p:nvSpPr>
        <p:spPr>
          <a:xfrm>
            <a:off x="463680" y="3359160"/>
            <a:ext cx="1249200" cy="1241280"/>
          </a:xfrm>
          <a:custGeom>
            <a:avLst/>
            <a:gdLst/>
            <a:ahLst/>
            <a:rect l="l" t="t" r="r" b="b"/>
            <a:pathLst>
              <a:path w="1249859" h="1241636">
                <a:moveTo>
                  <a:pt x="468697" y="0"/>
                </a:moveTo>
                <a:lnTo>
                  <a:pt x="789384" y="0"/>
                </a:lnTo>
                <a:lnTo>
                  <a:pt x="789384" y="485142"/>
                </a:lnTo>
                <a:lnTo>
                  <a:pt x="1249859" y="485142"/>
                </a:lnTo>
                <a:lnTo>
                  <a:pt x="1249859" y="731825"/>
                </a:lnTo>
                <a:lnTo>
                  <a:pt x="789384" y="731825"/>
                </a:lnTo>
                <a:lnTo>
                  <a:pt x="789384" y="1241636"/>
                </a:lnTo>
                <a:lnTo>
                  <a:pt x="468697" y="1241636"/>
                </a:lnTo>
                <a:lnTo>
                  <a:pt x="468697" y="731825"/>
                </a:lnTo>
                <a:lnTo>
                  <a:pt x="0" y="731825"/>
                </a:lnTo>
                <a:lnTo>
                  <a:pt x="0" y="485142"/>
                </a:lnTo>
                <a:lnTo>
                  <a:pt x="468697" y="485142"/>
                </a:lnTo>
                <a:lnTo>
                  <a:pt x="4686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Administrator</cp:lastModifiedBy>
  <dcterms:modified xsi:type="dcterms:W3CDTF">2016-08-02T06:33:3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