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F8EAF-27C4-405A-BDC1-2F78439D2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C2EC-D592-4879-B4F3-CA2940CE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5C67-5AA6-4A51-BE9F-1DCA0F563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2C955-5735-4618-98D7-A3B1E3660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88B5-2C1C-4309-BC12-D873136E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9454-E01E-4F3B-9D90-924FDB88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AFA9-07B0-405C-8C51-50541620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9F38E-0E1D-49C5-88D7-61F39A47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95C0-8C2D-4E90-AE68-E1B554C7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F9A1-4543-4A93-B760-CBB62855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AFFF-836A-4E74-AA48-7B565329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22887-12B2-4450-9A64-35213749B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2481E-2DBB-4416-BAF0-FEF11E6702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60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52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2"/>
          <p:cNvSpPr/>
          <p:nvPr/>
        </p:nvSpPr>
        <p:spPr>
          <a:xfrm>
            <a:off x="1415880" y="2436840"/>
            <a:ext cx="1077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cp:lastModifiedBy>
  <dcterms:modified xsi:type="dcterms:W3CDTF">2016-03-21T00:18:39Z</dcterms:modified>
  <cp:revision>64</cp:revision>
  <dc:subject>12sc.taobao.com</dc:subject>
  <dc:title>PowerPoint 演示文稿</dc:title>
</cp:coreProperties>
</file>