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E42-3ADA-4A7A-963C-56AD252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6A9-DF9F-4593-A026-E42295D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004-F0DA-426B-8AB1-207D32E2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BD2-ADF0-4D82-8728-26CF8CFA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D4F-1FE4-49D2-A5BB-DFAD41D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13-B10D-4A8E-85C6-E697CD2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171-B421-47F5-BF1D-0476DFB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6D7-AC07-4102-A3F7-42CDC7F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AA6-4F7A-4579-963F-5E79909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C59-07EE-4254-A6FE-DA6922CE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3D6-23B5-4E5B-BBE4-07C4336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D37-6663-41C9-AC93-D00B341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AE5-FF1D-4287-A32D-6F978813F5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4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101"/>
          <p:cNvSpPr/>
          <p:nvPr/>
        </p:nvSpPr>
        <p:spPr>
          <a:xfrm>
            <a:off x="6324480" y="480384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02"/>
          <p:cNvSpPr/>
          <p:nvPr/>
        </p:nvSpPr>
        <p:spPr>
          <a:xfrm>
            <a:off x="7081920" y="5078520"/>
            <a:ext cx="207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03"/>
          <p:cNvSpPr/>
          <p:nvPr/>
        </p:nvSpPr>
        <p:spPr>
          <a:xfrm>
            <a:off x="8982000" y="2122560"/>
            <a:ext cx="162000" cy="149220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4951440" y="1906560"/>
            <a:ext cx="384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4241880" y="366084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952880" y="2906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电商创业策划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43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Curved Down Arrow 576"/>
          <p:cNvSpPr/>
          <p:nvPr/>
        </p:nvSpPr>
        <p:spPr>
          <a:xfrm>
            <a:off x="5214960" y="2076480"/>
            <a:ext cx="1465200" cy="458640"/>
          </a:xfrm>
          <a:custGeom>
            <a:avLst/>
            <a:gdLst>
              <a:gd name="textAreaLeft" fmla="*/ 323280 w 1465200"/>
              <a:gd name="textAreaRight" fmla="*/ 1084680 w 146520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2" hR="21600" stAng="10800000" swAng="5400000"/>
                <a:lnTo>
                  <a:pt x="11222" y="0"/>
                </a:lnTo>
                <a:arcTo wR="9532" hR="21600" stAng="-5400000" swAng="3580107"/>
                <a:lnTo>
                  <a:pt x="21297" y="16200"/>
                </a:lnTo>
                <a:lnTo>
                  <a:pt x="19909" y="21600"/>
                </a:lnTo>
                <a:lnTo>
                  <a:pt x="17915" y="16200"/>
                </a:lnTo>
                <a:lnTo>
                  <a:pt x="18761" y="16200"/>
                </a:lnTo>
                <a:arcTo wR="9532" hR="21600" stAng="-1819893" swAng="-3445158"/>
                <a:lnTo>
                  <a:pt x="10377" y="85"/>
                </a:lnTo>
                <a:arcTo wR="9532" hR="21600" stAng="-5534948" swAng="-5265052"/>
                <a:close/>
              </a:path>
              <a:path fill="darkenLess" w="21600" h="21600">
                <a:moveTo>
                  <a:pt x="0" y="21600"/>
                </a:moveTo>
                <a:arcTo wR="9532" hR="21600" stAng="10800000" swAng="5400000"/>
                <a:lnTo>
                  <a:pt x="9532" y="0"/>
                </a:lnTo>
                <a:arcTo wR="9532" hR="21600" stAng="-5400000" swAng="134948"/>
                <a:lnTo>
                  <a:pt x="10377" y="85"/>
                </a:lnTo>
                <a:arcTo wR="9532" hR="21600" stAng="-5534948" swAng="-5265052"/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Curved Down Arrow 594"/>
          <p:cNvSpPr/>
          <p:nvPr/>
        </p:nvSpPr>
        <p:spPr>
          <a:xfrm flipV="1" rot="21118800">
            <a:off x="2889000" y="3792240"/>
            <a:ext cx="1150920" cy="379440"/>
          </a:xfrm>
          <a:custGeom>
            <a:avLst/>
            <a:gdLst>
              <a:gd name="textAreaLeft" fmla="*/ 252000 w 1150920"/>
              <a:gd name="textAreaRight" fmla="*/ 851400 w 11509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5" hR="21600" stAng="10800000" swAng="5400000"/>
                <a:lnTo>
                  <a:pt x="11245" y="0"/>
                </a:lnTo>
                <a:arcTo wR="9465" hR="21600" stAng="-5400000" swAng="3569519"/>
                <a:lnTo>
                  <a:pt x="21299" y="16200"/>
                </a:lnTo>
                <a:lnTo>
                  <a:pt x="19820" y="21600"/>
                </a:lnTo>
                <a:lnTo>
                  <a:pt x="17739" y="16200"/>
                </a:lnTo>
                <a:lnTo>
                  <a:pt x="18629" y="16200"/>
                </a:lnTo>
                <a:arcTo wR="9465" hR="21600" stAng="-1830481" swAng="-3427322"/>
                <a:lnTo>
                  <a:pt x="10355" y="96"/>
                </a:lnTo>
                <a:arcTo wR="9465" hR="21600" stAng="-5542197" swAng="-5257803"/>
                <a:close/>
              </a:path>
              <a:path fill="darkenLess" w="21600" h="21600">
                <a:moveTo>
                  <a:pt x="0" y="21600"/>
                </a:moveTo>
                <a:arcTo wR="9465" hR="21600" stAng="10800000" swAng="5400000"/>
                <a:lnTo>
                  <a:pt x="9465" y="0"/>
                </a:lnTo>
                <a:arcTo wR="9465" hR="21600" stAng="-5400000" swAng="142197"/>
                <a:lnTo>
                  <a:pt x="10355" y="96"/>
                </a:lnTo>
                <a:arcTo wR="9465" hR="21600" stAng="-5542197" swAng="-5257803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9"/>
          <p:cNvSpPr/>
          <p:nvPr/>
        </p:nvSpPr>
        <p:spPr>
          <a:xfrm rot="1800000">
            <a:off x="1515600" y="3689280"/>
            <a:ext cx="567000" cy="790560"/>
          </a:xfrm>
          <a:custGeom>
            <a:avLst/>
            <a:gdLst/>
            <a:ahLst/>
            <a:rect l="l" t="t" r="r" b="b"/>
            <a:pathLst>
              <a:path w="2087" h="2910">
                <a:moveTo>
                  <a:pt x="1044" y="0"/>
                </a:moveTo>
                <a:lnTo>
                  <a:pt x="400" y="0"/>
                </a:lnTo>
                <a:lnTo>
                  <a:pt x="349" y="71"/>
                </a:lnTo>
                <a:lnTo>
                  <a:pt x="300" y="144"/>
                </a:lnTo>
                <a:lnTo>
                  <a:pt x="275" y="180"/>
                </a:lnTo>
                <a:lnTo>
                  <a:pt x="253" y="217"/>
                </a:lnTo>
                <a:lnTo>
                  <a:pt x="229" y="254"/>
                </a:lnTo>
                <a:lnTo>
                  <a:pt x="206" y="292"/>
                </a:lnTo>
                <a:lnTo>
                  <a:pt x="185" y="329"/>
                </a:lnTo>
                <a:lnTo>
                  <a:pt x="164" y="367"/>
                </a:lnTo>
                <a:lnTo>
                  <a:pt x="144" y="406"/>
                </a:lnTo>
                <a:lnTo>
                  <a:pt x="124" y="445"/>
                </a:lnTo>
                <a:lnTo>
                  <a:pt x="107" y="485"/>
                </a:lnTo>
                <a:lnTo>
                  <a:pt x="90" y="524"/>
                </a:lnTo>
                <a:lnTo>
                  <a:pt x="74" y="564"/>
                </a:lnTo>
                <a:lnTo>
                  <a:pt x="60" y="605"/>
                </a:lnTo>
                <a:lnTo>
                  <a:pt x="47" y="646"/>
                </a:lnTo>
                <a:lnTo>
                  <a:pt x="36" y="688"/>
                </a:lnTo>
                <a:lnTo>
                  <a:pt x="25" y="730"/>
                </a:lnTo>
                <a:lnTo>
                  <a:pt x="18" y="773"/>
                </a:lnTo>
                <a:lnTo>
                  <a:pt x="11" y="816"/>
                </a:lnTo>
                <a:lnTo>
                  <a:pt x="6" y="860"/>
                </a:lnTo>
                <a:lnTo>
                  <a:pt x="2" y="905"/>
                </a:lnTo>
                <a:lnTo>
                  <a:pt x="0" y="950"/>
                </a:lnTo>
                <a:lnTo>
                  <a:pt x="2" y="995"/>
                </a:lnTo>
                <a:lnTo>
                  <a:pt x="4" y="1041"/>
                </a:lnTo>
                <a:lnTo>
                  <a:pt x="10" y="1088"/>
                </a:lnTo>
                <a:lnTo>
                  <a:pt x="16" y="1136"/>
                </a:lnTo>
                <a:lnTo>
                  <a:pt x="25" y="1185"/>
                </a:lnTo>
                <a:lnTo>
                  <a:pt x="37" y="1234"/>
                </a:lnTo>
                <a:lnTo>
                  <a:pt x="52" y="1284"/>
                </a:lnTo>
                <a:lnTo>
                  <a:pt x="68" y="1334"/>
                </a:lnTo>
                <a:lnTo>
                  <a:pt x="255" y="1127"/>
                </a:lnTo>
                <a:lnTo>
                  <a:pt x="250" y="1168"/>
                </a:lnTo>
                <a:lnTo>
                  <a:pt x="246" y="1209"/>
                </a:lnTo>
                <a:lnTo>
                  <a:pt x="245" y="1251"/>
                </a:lnTo>
                <a:lnTo>
                  <a:pt x="245" y="1294"/>
                </a:lnTo>
                <a:lnTo>
                  <a:pt x="247" y="1338"/>
                </a:lnTo>
                <a:lnTo>
                  <a:pt x="250" y="1383"/>
                </a:lnTo>
                <a:lnTo>
                  <a:pt x="255" y="1429"/>
                </a:lnTo>
                <a:lnTo>
                  <a:pt x="262" y="1475"/>
                </a:lnTo>
                <a:lnTo>
                  <a:pt x="271" y="1523"/>
                </a:lnTo>
                <a:lnTo>
                  <a:pt x="282" y="1572"/>
                </a:lnTo>
                <a:lnTo>
                  <a:pt x="294" y="1622"/>
                </a:lnTo>
                <a:lnTo>
                  <a:pt x="308" y="1672"/>
                </a:lnTo>
                <a:lnTo>
                  <a:pt x="325" y="1724"/>
                </a:lnTo>
                <a:lnTo>
                  <a:pt x="344" y="1776"/>
                </a:lnTo>
                <a:lnTo>
                  <a:pt x="363" y="1829"/>
                </a:lnTo>
                <a:lnTo>
                  <a:pt x="386" y="1883"/>
                </a:lnTo>
                <a:lnTo>
                  <a:pt x="410" y="1939"/>
                </a:lnTo>
                <a:lnTo>
                  <a:pt x="436" y="1996"/>
                </a:lnTo>
                <a:lnTo>
                  <a:pt x="465" y="2054"/>
                </a:lnTo>
                <a:lnTo>
                  <a:pt x="496" y="2113"/>
                </a:lnTo>
                <a:lnTo>
                  <a:pt x="529" y="2173"/>
                </a:lnTo>
                <a:lnTo>
                  <a:pt x="564" y="2233"/>
                </a:lnTo>
                <a:lnTo>
                  <a:pt x="601" y="2295"/>
                </a:lnTo>
                <a:lnTo>
                  <a:pt x="641" y="2359"/>
                </a:lnTo>
                <a:lnTo>
                  <a:pt x="683" y="2424"/>
                </a:lnTo>
                <a:lnTo>
                  <a:pt x="727" y="2490"/>
                </a:lnTo>
                <a:lnTo>
                  <a:pt x="774" y="2557"/>
                </a:lnTo>
                <a:lnTo>
                  <a:pt x="823" y="2624"/>
                </a:lnTo>
                <a:lnTo>
                  <a:pt x="875" y="2694"/>
                </a:lnTo>
                <a:lnTo>
                  <a:pt x="929" y="2764"/>
                </a:lnTo>
                <a:lnTo>
                  <a:pt x="985" y="2837"/>
                </a:lnTo>
                <a:lnTo>
                  <a:pt x="1044" y="2910"/>
                </a:lnTo>
                <a:lnTo>
                  <a:pt x="1103" y="2837"/>
                </a:lnTo>
                <a:lnTo>
                  <a:pt x="1160" y="2764"/>
                </a:lnTo>
                <a:lnTo>
                  <a:pt x="1214" y="2694"/>
                </a:lnTo>
                <a:lnTo>
                  <a:pt x="1265" y="2624"/>
                </a:lnTo>
                <a:lnTo>
                  <a:pt x="1314" y="2557"/>
                </a:lnTo>
                <a:lnTo>
                  <a:pt x="1360" y="2490"/>
                </a:lnTo>
                <a:lnTo>
                  <a:pt x="1405" y="2424"/>
                </a:lnTo>
                <a:lnTo>
                  <a:pt x="1448" y="2359"/>
                </a:lnTo>
                <a:lnTo>
                  <a:pt x="1487" y="2295"/>
                </a:lnTo>
                <a:lnTo>
                  <a:pt x="1524" y="2233"/>
                </a:lnTo>
                <a:lnTo>
                  <a:pt x="1560" y="2173"/>
                </a:lnTo>
                <a:lnTo>
                  <a:pt x="1593" y="2113"/>
                </a:lnTo>
                <a:lnTo>
                  <a:pt x="1623" y="2054"/>
                </a:lnTo>
                <a:lnTo>
                  <a:pt x="1652" y="1996"/>
                </a:lnTo>
                <a:lnTo>
                  <a:pt x="1679" y="1939"/>
                </a:lnTo>
                <a:lnTo>
                  <a:pt x="1702" y="1883"/>
                </a:lnTo>
                <a:lnTo>
                  <a:pt x="1725" y="1829"/>
                </a:lnTo>
                <a:lnTo>
                  <a:pt x="1745" y="1776"/>
                </a:lnTo>
                <a:lnTo>
                  <a:pt x="1763" y="1724"/>
                </a:lnTo>
                <a:lnTo>
                  <a:pt x="1779" y="1672"/>
                </a:lnTo>
                <a:lnTo>
                  <a:pt x="1794" y="1622"/>
                </a:lnTo>
                <a:lnTo>
                  <a:pt x="1807" y="1572"/>
                </a:lnTo>
                <a:lnTo>
                  <a:pt x="1817" y="1523"/>
                </a:lnTo>
                <a:lnTo>
                  <a:pt x="1825" y="1475"/>
                </a:lnTo>
                <a:lnTo>
                  <a:pt x="1833" y="1429"/>
                </a:lnTo>
                <a:lnTo>
                  <a:pt x="1838" y="1383"/>
                </a:lnTo>
                <a:lnTo>
                  <a:pt x="1841" y="1338"/>
                </a:lnTo>
                <a:lnTo>
                  <a:pt x="1842" y="1294"/>
                </a:lnTo>
                <a:lnTo>
                  <a:pt x="1842" y="1251"/>
                </a:lnTo>
                <a:lnTo>
                  <a:pt x="1841" y="1209"/>
                </a:lnTo>
                <a:lnTo>
                  <a:pt x="1838" y="1168"/>
                </a:lnTo>
                <a:lnTo>
                  <a:pt x="1833" y="1127"/>
                </a:lnTo>
                <a:lnTo>
                  <a:pt x="2019" y="1334"/>
                </a:lnTo>
                <a:lnTo>
                  <a:pt x="2037" y="1284"/>
                </a:lnTo>
                <a:lnTo>
                  <a:pt x="2051" y="1234"/>
                </a:lnTo>
                <a:lnTo>
                  <a:pt x="2063" y="1185"/>
                </a:lnTo>
                <a:lnTo>
                  <a:pt x="2072" y="1136"/>
                </a:lnTo>
                <a:lnTo>
                  <a:pt x="2079" y="1088"/>
                </a:lnTo>
                <a:lnTo>
                  <a:pt x="2084" y="1041"/>
                </a:lnTo>
                <a:lnTo>
                  <a:pt x="2087" y="995"/>
                </a:lnTo>
                <a:lnTo>
                  <a:pt x="2087" y="950"/>
                </a:lnTo>
                <a:lnTo>
                  <a:pt x="2085" y="905"/>
                </a:lnTo>
                <a:lnTo>
                  <a:pt x="2083" y="860"/>
                </a:lnTo>
                <a:lnTo>
                  <a:pt x="2078" y="816"/>
                </a:lnTo>
                <a:lnTo>
                  <a:pt x="2071" y="773"/>
                </a:lnTo>
                <a:lnTo>
                  <a:pt x="2063" y="730"/>
                </a:lnTo>
                <a:lnTo>
                  <a:pt x="2052" y="688"/>
                </a:lnTo>
                <a:lnTo>
                  <a:pt x="2041" y="646"/>
                </a:lnTo>
                <a:lnTo>
                  <a:pt x="2029" y="605"/>
                </a:lnTo>
                <a:lnTo>
                  <a:pt x="2014" y="564"/>
                </a:lnTo>
                <a:lnTo>
                  <a:pt x="1998" y="524"/>
                </a:lnTo>
                <a:lnTo>
                  <a:pt x="1981" y="485"/>
                </a:lnTo>
                <a:lnTo>
                  <a:pt x="1964" y="445"/>
                </a:lnTo>
                <a:lnTo>
                  <a:pt x="1944" y="406"/>
                </a:lnTo>
                <a:lnTo>
                  <a:pt x="1924" y="367"/>
                </a:lnTo>
                <a:lnTo>
                  <a:pt x="1903" y="329"/>
                </a:lnTo>
                <a:lnTo>
                  <a:pt x="1882" y="292"/>
                </a:lnTo>
                <a:lnTo>
                  <a:pt x="1860" y="254"/>
                </a:lnTo>
                <a:lnTo>
                  <a:pt x="1836" y="217"/>
                </a:lnTo>
                <a:lnTo>
                  <a:pt x="1812" y="180"/>
                </a:lnTo>
                <a:lnTo>
                  <a:pt x="1788" y="144"/>
                </a:lnTo>
                <a:lnTo>
                  <a:pt x="1738" y="71"/>
                </a:lnTo>
                <a:lnTo>
                  <a:pt x="1688" y="0"/>
                </a:lnTo>
                <a:lnTo>
                  <a:pt x="1044" y="0"/>
                </a:lnTo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10"/>
          <p:cNvSpPr/>
          <p:nvPr/>
        </p:nvSpPr>
        <p:spPr>
          <a:xfrm rot="1800000">
            <a:off x="1665360" y="3706920"/>
            <a:ext cx="392040" cy="542880"/>
          </a:xfrm>
          <a:custGeom>
            <a:avLst/>
            <a:gdLst/>
            <a:ahLst/>
            <a:rect l="l" t="t" r="r" b="b"/>
            <a:pathLst>
              <a:path w="1446" h="1996">
                <a:moveTo>
                  <a:pt x="723" y="0"/>
                </a:moveTo>
                <a:lnTo>
                  <a:pt x="278" y="0"/>
                </a:lnTo>
                <a:lnTo>
                  <a:pt x="242" y="50"/>
                </a:lnTo>
                <a:lnTo>
                  <a:pt x="208" y="103"/>
                </a:lnTo>
                <a:lnTo>
                  <a:pt x="190" y="131"/>
                </a:lnTo>
                <a:lnTo>
                  <a:pt x="175" y="159"/>
                </a:lnTo>
                <a:lnTo>
                  <a:pt x="159" y="188"/>
                </a:lnTo>
                <a:lnTo>
                  <a:pt x="143" y="217"/>
                </a:lnTo>
                <a:lnTo>
                  <a:pt x="127" y="247"/>
                </a:lnTo>
                <a:lnTo>
                  <a:pt x="112" y="277"/>
                </a:lnTo>
                <a:lnTo>
                  <a:pt x="99" y="308"/>
                </a:lnTo>
                <a:lnTo>
                  <a:pt x="86" y="339"/>
                </a:lnTo>
                <a:lnTo>
                  <a:pt x="74" y="371"/>
                </a:lnTo>
                <a:lnTo>
                  <a:pt x="62" y="403"/>
                </a:lnTo>
                <a:lnTo>
                  <a:pt x="52" y="436"/>
                </a:lnTo>
                <a:lnTo>
                  <a:pt x="41" y="469"/>
                </a:lnTo>
                <a:lnTo>
                  <a:pt x="32" y="502"/>
                </a:lnTo>
                <a:lnTo>
                  <a:pt x="24" y="536"/>
                </a:lnTo>
                <a:lnTo>
                  <a:pt x="17" y="569"/>
                </a:lnTo>
                <a:lnTo>
                  <a:pt x="12" y="604"/>
                </a:lnTo>
                <a:lnTo>
                  <a:pt x="7" y="638"/>
                </a:lnTo>
                <a:lnTo>
                  <a:pt x="3" y="674"/>
                </a:lnTo>
                <a:lnTo>
                  <a:pt x="2" y="708"/>
                </a:lnTo>
                <a:lnTo>
                  <a:pt x="0" y="742"/>
                </a:lnTo>
                <a:lnTo>
                  <a:pt x="0" y="778"/>
                </a:lnTo>
                <a:lnTo>
                  <a:pt x="3" y="812"/>
                </a:lnTo>
                <a:lnTo>
                  <a:pt x="6" y="848"/>
                </a:lnTo>
                <a:lnTo>
                  <a:pt x="11" y="882"/>
                </a:lnTo>
                <a:lnTo>
                  <a:pt x="17" y="918"/>
                </a:lnTo>
                <a:lnTo>
                  <a:pt x="25" y="954"/>
                </a:lnTo>
                <a:lnTo>
                  <a:pt x="36" y="988"/>
                </a:lnTo>
                <a:lnTo>
                  <a:pt x="46" y="1024"/>
                </a:lnTo>
                <a:lnTo>
                  <a:pt x="176" y="773"/>
                </a:lnTo>
                <a:lnTo>
                  <a:pt x="173" y="800"/>
                </a:lnTo>
                <a:lnTo>
                  <a:pt x="171" y="829"/>
                </a:lnTo>
                <a:lnTo>
                  <a:pt x="169" y="859"/>
                </a:lnTo>
                <a:lnTo>
                  <a:pt x="169" y="888"/>
                </a:lnTo>
                <a:lnTo>
                  <a:pt x="171" y="918"/>
                </a:lnTo>
                <a:lnTo>
                  <a:pt x="173" y="948"/>
                </a:lnTo>
                <a:lnTo>
                  <a:pt x="177" y="980"/>
                </a:lnTo>
                <a:lnTo>
                  <a:pt x="181" y="1012"/>
                </a:lnTo>
                <a:lnTo>
                  <a:pt x="188" y="1045"/>
                </a:lnTo>
                <a:lnTo>
                  <a:pt x="194" y="1078"/>
                </a:lnTo>
                <a:lnTo>
                  <a:pt x="204" y="1112"/>
                </a:lnTo>
                <a:lnTo>
                  <a:pt x="213" y="1146"/>
                </a:lnTo>
                <a:lnTo>
                  <a:pt x="225" y="1182"/>
                </a:lnTo>
                <a:lnTo>
                  <a:pt x="238" y="1218"/>
                </a:lnTo>
                <a:lnTo>
                  <a:pt x="251" y="1255"/>
                </a:lnTo>
                <a:lnTo>
                  <a:pt x="267" y="1292"/>
                </a:lnTo>
                <a:lnTo>
                  <a:pt x="284" y="1330"/>
                </a:lnTo>
                <a:lnTo>
                  <a:pt x="303" y="1368"/>
                </a:lnTo>
                <a:lnTo>
                  <a:pt x="322" y="1408"/>
                </a:lnTo>
                <a:lnTo>
                  <a:pt x="344" y="1449"/>
                </a:lnTo>
                <a:lnTo>
                  <a:pt x="366" y="1490"/>
                </a:lnTo>
                <a:lnTo>
                  <a:pt x="390" y="1532"/>
                </a:lnTo>
                <a:lnTo>
                  <a:pt x="416" y="1574"/>
                </a:lnTo>
                <a:lnTo>
                  <a:pt x="444" y="1618"/>
                </a:lnTo>
                <a:lnTo>
                  <a:pt x="473" y="1662"/>
                </a:lnTo>
                <a:lnTo>
                  <a:pt x="503" y="1706"/>
                </a:lnTo>
                <a:lnTo>
                  <a:pt x="536" y="1753"/>
                </a:lnTo>
                <a:lnTo>
                  <a:pt x="569" y="1799"/>
                </a:lnTo>
                <a:lnTo>
                  <a:pt x="605" y="1848"/>
                </a:lnTo>
                <a:lnTo>
                  <a:pt x="643" y="1895"/>
                </a:lnTo>
                <a:lnTo>
                  <a:pt x="682" y="1945"/>
                </a:lnTo>
                <a:lnTo>
                  <a:pt x="723" y="1996"/>
                </a:lnTo>
                <a:lnTo>
                  <a:pt x="763" y="1945"/>
                </a:lnTo>
                <a:lnTo>
                  <a:pt x="803" y="1895"/>
                </a:lnTo>
                <a:lnTo>
                  <a:pt x="840" y="1848"/>
                </a:lnTo>
                <a:lnTo>
                  <a:pt x="876" y="1799"/>
                </a:lnTo>
                <a:lnTo>
                  <a:pt x="910" y="1753"/>
                </a:lnTo>
                <a:lnTo>
                  <a:pt x="943" y="1706"/>
                </a:lnTo>
                <a:lnTo>
                  <a:pt x="973" y="1662"/>
                </a:lnTo>
                <a:lnTo>
                  <a:pt x="1003" y="1618"/>
                </a:lnTo>
                <a:lnTo>
                  <a:pt x="1030" y="1574"/>
                </a:lnTo>
                <a:lnTo>
                  <a:pt x="1055" y="1532"/>
                </a:lnTo>
                <a:lnTo>
                  <a:pt x="1080" y="1490"/>
                </a:lnTo>
                <a:lnTo>
                  <a:pt x="1103" y="1449"/>
                </a:lnTo>
                <a:lnTo>
                  <a:pt x="1124" y="1408"/>
                </a:lnTo>
                <a:lnTo>
                  <a:pt x="1144" y="1368"/>
                </a:lnTo>
                <a:lnTo>
                  <a:pt x="1162" y="1330"/>
                </a:lnTo>
                <a:lnTo>
                  <a:pt x="1179" y="1292"/>
                </a:lnTo>
                <a:lnTo>
                  <a:pt x="1195" y="1255"/>
                </a:lnTo>
                <a:lnTo>
                  <a:pt x="1208" y="1218"/>
                </a:lnTo>
                <a:lnTo>
                  <a:pt x="1222" y="1182"/>
                </a:lnTo>
                <a:lnTo>
                  <a:pt x="1232" y="1146"/>
                </a:lnTo>
                <a:lnTo>
                  <a:pt x="1243" y="1112"/>
                </a:lnTo>
                <a:lnTo>
                  <a:pt x="1251" y="1078"/>
                </a:lnTo>
                <a:lnTo>
                  <a:pt x="1259" y="1045"/>
                </a:lnTo>
                <a:lnTo>
                  <a:pt x="1265" y="1012"/>
                </a:lnTo>
                <a:lnTo>
                  <a:pt x="1269" y="980"/>
                </a:lnTo>
                <a:lnTo>
                  <a:pt x="1273" y="948"/>
                </a:lnTo>
                <a:lnTo>
                  <a:pt x="1276" y="918"/>
                </a:lnTo>
                <a:lnTo>
                  <a:pt x="1277" y="888"/>
                </a:lnTo>
                <a:lnTo>
                  <a:pt x="1277" y="859"/>
                </a:lnTo>
                <a:lnTo>
                  <a:pt x="1276" y="829"/>
                </a:lnTo>
                <a:lnTo>
                  <a:pt x="1273" y="800"/>
                </a:lnTo>
                <a:lnTo>
                  <a:pt x="1271" y="773"/>
                </a:lnTo>
                <a:lnTo>
                  <a:pt x="1399" y="1024"/>
                </a:lnTo>
                <a:lnTo>
                  <a:pt x="1411" y="988"/>
                </a:lnTo>
                <a:lnTo>
                  <a:pt x="1421" y="954"/>
                </a:lnTo>
                <a:lnTo>
                  <a:pt x="1429" y="918"/>
                </a:lnTo>
                <a:lnTo>
                  <a:pt x="1436" y="882"/>
                </a:lnTo>
                <a:lnTo>
                  <a:pt x="1440" y="848"/>
                </a:lnTo>
                <a:lnTo>
                  <a:pt x="1444" y="812"/>
                </a:lnTo>
                <a:lnTo>
                  <a:pt x="1445" y="778"/>
                </a:lnTo>
                <a:lnTo>
                  <a:pt x="1446" y="742"/>
                </a:lnTo>
                <a:lnTo>
                  <a:pt x="1445" y="708"/>
                </a:lnTo>
                <a:lnTo>
                  <a:pt x="1442" y="674"/>
                </a:lnTo>
                <a:lnTo>
                  <a:pt x="1440" y="638"/>
                </a:lnTo>
                <a:lnTo>
                  <a:pt x="1434" y="604"/>
                </a:lnTo>
                <a:lnTo>
                  <a:pt x="1429" y="569"/>
                </a:lnTo>
                <a:lnTo>
                  <a:pt x="1422" y="536"/>
                </a:lnTo>
                <a:lnTo>
                  <a:pt x="1414" y="502"/>
                </a:lnTo>
                <a:lnTo>
                  <a:pt x="1405" y="469"/>
                </a:lnTo>
                <a:lnTo>
                  <a:pt x="1395" y="436"/>
                </a:lnTo>
                <a:lnTo>
                  <a:pt x="1384" y="403"/>
                </a:lnTo>
                <a:lnTo>
                  <a:pt x="1372" y="371"/>
                </a:lnTo>
                <a:lnTo>
                  <a:pt x="1360" y="339"/>
                </a:lnTo>
                <a:lnTo>
                  <a:pt x="1347" y="308"/>
                </a:lnTo>
                <a:lnTo>
                  <a:pt x="1333" y="277"/>
                </a:lnTo>
                <a:lnTo>
                  <a:pt x="1318" y="247"/>
                </a:lnTo>
                <a:lnTo>
                  <a:pt x="1304" y="217"/>
                </a:lnTo>
                <a:lnTo>
                  <a:pt x="1272" y="159"/>
                </a:lnTo>
                <a:lnTo>
                  <a:pt x="1239" y="103"/>
                </a:lnTo>
                <a:lnTo>
                  <a:pt x="1205" y="50"/>
                </a:lnTo>
                <a:lnTo>
                  <a:pt x="1169" y="0"/>
                </a:lnTo>
                <a:lnTo>
                  <a:pt x="723" y="0"/>
                </a:ln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24"/>
          <p:cNvSpPr/>
          <p:nvPr/>
        </p:nvSpPr>
        <p:spPr>
          <a:xfrm rot="1800000">
            <a:off x="1781280" y="3760920"/>
            <a:ext cx="282600" cy="790560"/>
          </a:xfrm>
          <a:custGeom>
            <a:avLst/>
            <a:gdLst/>
            <a:ahLst/>
            <a:rect l="l" t="t" r="r" b="b"/>
            <a:pathLst>
              <a:path w="1042" h="2910">
                <a:moveTo>
                  <a:pt x="0" y="2910"/>
                </a:moveTo>
                <a:lnTo>
                  <a:pt x="58" y="2837"/>
                </a:lnTo>
                <a:lnTo>
                  <a:pt x="115" y="2764"/>
                </a:lnTo>
                <a:lnTo>
                  <a:pt x="169" y="2694"/>
                </a:lnTo>
                <a:lnTo>
                  <a:pt x="220" y="2624"/>
                </a:lnTo>
                <a:lnTo>
                  <a:pt x="269" y="2556"/>
                </a:lnTo>
                <a:lnTo>
                  <a:pt x="317" y="2490"/>
                </a:lnTo>
                <a:lnTo>
                  <a:pt x="360" y="2424"/>
                </a:lnTo>
                <a:lnTo>
                  <a:pt x="403" y="2359"/>
                </a:lnTo>
                <a:lnTo>
                  <a:pt x="442" y="2295"/>
                </a:lnTo>
                <a:lnTo>
                  <a:pt x="479" y="2233"/>
                </a:lnTo>
                <a:lnTo>
                  <a:pt x="515" y="2173"/>
                </a:lnTo>
                <a:lnTo>
                  <a:pt x="548" y="2112"/>
                </a:lnTo>
                <a:lnTo>
                  <a:pt x="578" y="2054"/>
                </a:lnTo>
                <a:lnTo>
                  <a:pt x="607" y="1996"/>
                </a:lnTo>
                <a:lnTo>
                  <a:pt x="634" y="1939"/>
                </a:lnTo>
                <a:lnTo>
                  <a:pt x="657" y="1883"/>
                </a:lnTo>
                <a:lnTo>
                  <a:pt x="680" y="1829"/>
                </a:lnTo>
                <a:lnTo>
                  <a:pt x="700" y="1776"/>
                </a:lnTo>
                <a:lnTo>
                  <a:pt x="718" y="1724"/>
                </a:lnTo>
                <a:lnTo>
                  <a:pt x="734" y="1672"/>
                </a:lnTo>
                <a:lnTo>
                  <a:pt x="749" y="1622"/>
                </a:lnTo>
                <a:lnTo>
                  <a:pt x="762" y="1572"/>
                </a:lnTo>
                <a:lnTo>
                  <a:pt x="772" y="1523"/>
                </a:lnTo>
                <a:lnTo>
                  <a:pt x="780" y="1475"/>
                </a:lnTo>
                <a:lnTo>
                  <a:pt x="788" y="1429"/>
                </a:lnTo>
                <a:lnTo>
                  <a:pt x="793" y="1383"/>
                </a:lnTo>
                <a:lnTo>
                  <a:pt x="796" y="1338"/>
                </a:lnTo>
                <a:lnTo>
                  <a:pt x="797" y="1294"/>
                </a:lnTo>
                <a:lnTo>
                  <a:pt x="797" y="1251"/>
                </a:lnTo>
                <a:lnTo>
                  <a:pt x="796" y="1209"/>
                </a:lnTo>
                <a:lnTo>
                  <a:pt x="793" y="1168"/>
                </a:lnTo>
                <a:lnTo>
                  <a:pt x="788" y="1127"/>
                </a:lnTo>
                <a:lnTo>
                  <a:pt x="974" y="1334"/>
                </a:lnTo>
                <a:lnTo>
                  <a:pt x="992" y="1284"/>
                </a:lnTo>
                <a:lnTo>
                  <a:pt x="1006" y="1234"/>
                </a:lnTo>
                <a:lnTo>
                  <a:pt x="1018" y="1185"/>
                </a:lnTo>
                <a:lnTo>
                  <a:pt x="1027" y="1136"/>
                </a:lnTo>
                <a:lnTo>
                  <a:pt x="1034" y="1088"/>
                </a:lnTo>
                <a:lnTo>
                  <a:pt x="1039" y="1041"/>
                </a:lnTo>
                <a:lnTo>
                  <a:pt x="1042" y="995"/>
                </a:lnTo>
                <a:lnTo>
                  <a:pt x="1042" y="950"/>
                </a:lnTo>
                <a:lnTo>
                  <a:pt x="1040" y="905"/>
                </a:lnTo>
                <a:lnTo>
                  <a:pt x="1038" y="860"/>
                </a:lnTo>
                <a:lnTo>
                  <a:pt x="1033" y="816"/>
                </a:lnTo>
                <a:lnTo>
                  <a:pt x="1026" y="773"/>
                </a:lnTo>
                <a:lnTo>
                  <a:pt x="1018" y="730"/>
                </a:lnTo>
                <a:lnTo>
                  <a:pt x="1007" y="688"/>
                </a:lnTo>
                <a:lnTo>
                  <a:pt x="996" y="646"/>
                </a:lnTo>
                <a:lnTo>
                  <a:pt x="984" y="605"/>
                </a:lnTo>
                <a:lnTo>
                  <a:pt x="969" y="564"/>
                </a:lnTo>
                <a:lnTo>
                  <a:pt x="953" y="524"/>
                </a:lnTo>
                <a:lnTo>
                  <a:pt x="936" y="485"/>
                </a:lnTo>
                <a:lnTo>
                  <a:pt x="919" y="445"/>
                </a:lnTo>
                <a:lnTo>
                  <a:pt x="899" y="406"/>
                </a:lnTo>
                <a:lnTo>
                  <a:pt x="879" y="367"/>
                </a:lnTo>
                <a:lnTo>
                  <a:pt x="858" y="329"/>
                </a:lnTo>
                <a:lnTo>
                  <a:pt x="837" y="292"/>
                </a:lnTo>
                <a:lnTo>
                  <a:pt x="815" y="254"/>
                </a:lnTo>
                <a:lnTo>
                  <a:pt x="791" y="217"/>
                </a:lnTo>
                <a:lnTo>
                  <a:pt x="767" y="180"/>
                </a:lnTo>
                <a:lnTo>
                  <a:pt x="743" y="144"/>
                </a:lnTo>
                <a:lnTo>
                  <a:pt x="693" y="71"/>
                </a:lnTo>
                <a:lnTo>
                  <a:pt x="643" y="0"/>
                </a:lnTo>
                <a:lnTo>
                  <a:pt x="21" y="0"/>
                </a:lnTo>
                <a:lnTo>
                  <a:pt x="0" y="2910"/>
                </a:lnTo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5"/>
          <p:cNvSpPr/>
          <p:nvPr/>
        </p:nvSpPr>
        <p:spPr>
          <a:xfrm rot="1800000">
            <a:off x="1848960" y="3755880"/>
            <a:ext cx="195480" cy="541440"/>
          </a:xfrm>
          <a:custGeom>
            <a:avLst/>
            <a:gdLst/>
            <a:ahLst/>
            <a:rect l="l" t="t" r="r" b="b"/>
            <a:pathLst>
              <a:path w="722" h="1994">
                <a:moveTo>
                  <a:pt x="0" y="1994"/>
                </a:moveTo>
                <a:lnTo>
                  <a:pt x="41" y="1944"/>
                </a:lnTo>
                <a:lnTo>
                  <a:pt x="79" y="1895"/>
                </a:lnTo>
                <a:lnTo>
                  <a:pt x="117" y="1846"/>
                </a:lnTo>
                <a:lnTo>
                  <a:pt x="153" y="1799"/>
                </a:lnTo>
                <a:lnTo>
                  <a:pt x="186" y="1753"/>
                </a:lnTo>
                <a:lnTo>
                  <a:pt x="219" y="1706"/>
                </a:lnTo>
                <a:lnTo>
                  <a:pt x="249" y="1662"/>
                </a:lnTo>
                <a:lnTo>
                  <a:pt x="279" y="1618"/>
                </a:lnTo>
                <a:lnTo>
                  <a:pt x="306" y="1574"/>
                </a:lnTo>
                <a:lnTo>
                  <a:pt x="333" y="1531"/>
                </a:lnTo>
                <a:lnTo>
                  <a:pt x="356" y="1490"/>
                </a:lnTo>
                <a:lnTo>
                  <a:pt x="379" y="1449"/>
                </a:lnTo>
                <a:lnTo>
                  <a:pt x="400" y="1408"/>
                </a:lnTo>
                <a:lnTo>
                  <a:pt x="420" y="1368"/>
                </a:lnTo>
                <a:lnTo>
                  <a:pt x="438" y="1330"/>
                </a:lnTo>
                <a:lnTo>
                  <a:pt x="455" y="1292"/>
                </a:lnTo>
                <a:lnTo>
                  <a:pt x="471" y="1255"/>
                </a:lnTo>
                <a:lnTo>
                  <a:pt x="484" y="1218"/>
                </a:lnTo>
                <a:lnTo>
                  <a:pt x="498" y="1182"/>
                </a:lnTo>
                <a:lnTo>
                  <a:pt x="508" y="1146"/>
                </a:lnTo>
                <a:lnTo>
                  <a:pt x="519" y="1112"/>
                </a:lnTo>
                <a:lnTo>
                  <a:pt x="527" y="1078"/>
                </a:lnTo>
                <a:lnTo>
                  <a:pt x="535" y="1045"/>
                </a:lnTo>
                <a:lnTo>
                  <a:pt x="541" y="1012"/>
                </a:lnTo>
                <a:lnTo>
                  <a:pt x="545" y="980"/>
                </a:lnTo>
                <a:lnTo>
                  <a:pt x="549" y="948"/>
                </a:lnTo>
                <a:lnTo>
                  <a:pt x="552" y="918"/>
                </a:lnTo>
                <a:lnTo>
                  <a:pt x="553" y="888"/>
                </a:lnTo>
                <a:lnTo>
                  <a:pt x="553" y="859"/>
                </a:lnTo>
                <a:lnTo>
                  <a:pt x="552" y="829"/>
                </a:lnTo>
                <a:lnTo>
                  <a:pt x="549" y="800"/>
                </a:lnTo>
                <a:lnTo>
                  <a:pt x="547" y="773"/>
                </a:lnTo>
                <a:lnTo>
                  <a:pt x="675" y="1024"/>
                </a:lnTo>
                <a:lnTo>
                  <a:pt x="687" y="988"/>
                </a:lnTo>
                <a:lnTo>
                  <a:pt x="697" y="954"/>
                </a:lnTo>
                <a:lnTo>
                  <a:pt x="705" y="918"/>
                </a:lnTo>
                <a:lnTo>
                  <a:pt x="712" y="882"/>
                </a:lnTo>
                <a:lnTo>
                  <a:pt x="716" y="848"/>
                </a:lnTo>
                <a:lnTo>
                  <a:pt x="720" y="812"/>
                </a:lnTo>
                <a:lnTo>
                  <a:pt x="721" y="778"/>
                </a:lnTo>
                <a:lnTo>
                  <a:pt x="722" y="742"/>
                </a:lnTo>
                <a:lnTo>
                  <a:pt x="721" y="708"/>
                </a:lnTo>
                <a:lnTo>
                  <a:pt x="718" y="674"/>
                </a:lnTo>
                <a:lnTo>
                  <a:pt x="716" y="638"/>
                </a:lnTo>
                <a:lnTo>
                  <a:pt x="710" y="604"/>
                </a:lnTo>
                <a:lnTo>
                  <a:pt x="705" y="569"/>
                </a:lnTo>
                <a:lnTo>
                  <a:pt x="698" y="536"/>
                </a:lnTo>
                <a:lnTo>
                  <a:pt x="690" y="502"/>
                </a:lnTo>
                <a:lnTo>
                  <a:pt x="681" y="469"/>
                </a:lnTo>
                <a:lnTo>
                  <a:pt x="671" y="436"/>
                </a:lnTo>
                <a:lnTo>
                  <a:pt x="660" y="403"/>
                </a:lnTo>
                <a:lnTo>
                  <a:pt x="648" y="371"/>
                </a:lnTo>
                <a:lnTo>
                  <a:pt x="636" y="339"/>
                </a:lnTo>
                <a:lnTo>
                  <a:pt x="623" y="308"/>
                </a:lnTo>
                <a:lnTo>
                  <a:pt x="609" y="277"/>
                </a:lnTo>
                <a:lnTo>
                  <a:pt x="594" y="247"/>
                </a:lnTo>
                <a:lnTo>
                  <a:pt x="580" y="217"/>
                </a:lnTo>
                <a:lnTo>
                  <a:pt x="548" y="159"/>
                </a:lnTo>
                <a:lnTo>
                  <a:pt x="515" y="103"/>
                </a:lnTo>
                <a:lnTo>
                  <a:pt x="481" y="50"/>
                </a:lnTo>
                <a:lnTo>
                  <a:pt x="445" y="0"/>
                </a:lnTo>
                <a:lnTo>
                  <a:pt x="21" y="0"/>
                </a:lnTo>
                <a:lnTo>
                  <a:pt x="0" y="1994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0"/>
          <p:cNvSpPr/>
          <p:nvPr/>
        </p:nvSpPr>
        <p:spPr>
          <a:xfrm rot="1800000">
            <a:off x="2285640" y="2744640"/>
            <a:ext cx="349200" cy="1108080"/>
          </a:xfrm>
          <a:custGeom>
            <a:avLst/>
            <a:gdLst/>
            <a:ahLst/>
            <a:rect l="l" t="t" r="r" b="b"/>
            <a:pathLst>
              <a:path w="5096" h="16159">
                <a:moveTo>
                  <a:pt x="0" y="0"/>
                </a:moveTo>
                <a:lnTo>
                  <a:pt x="282" y="238"/>
                </a:lnTo>
                <a:lnTo>
                  <a:pt x="559" y="490"/>
                </a:lnTo>
                <a:lnTo>
                  <a:pt x="831" y="758"/>
                </a:lnTo>
                <a:lnTo>
                  <a:pt x="1096" y="1040"/>
                </a:lnTo>
                <a:lnTo>
                  <a:pt x="1354" y="1337"/>
                </a:lnTo>
                <a:lnTo>
                  <a:pt x="1605" y="1650"/>
                </a:lnTo>
                <a:lnTo>
                  <a:pt x="1850" y="1978"/>
                </a:lnTo>
                <a:lnTo>
                  <a:pt x="2086" y="2320"/>
                </a:lnTo>
                <a:lnTo>
                  <a:pt x="2315" y="2677"/>
                </a:lnTo>
                <a:lnTo>
                  <a:pt x="2538" y="3050"/>
                </a:lnTo>
                <a:lnTo>
                  <a:pt x="2752" y="3437"/>
                </a:lnTo>
                <a:lnTo>
                  <a:pt x="2959" y="3839"/>
                </a:lnTo>
                <a:lnTo>
                  <a:pt x="3157" y="4257"/>
                </a:lnTo>
                <a:lnTo>
                  <a:pt x="3347" y="4690"/>
                </a:lnTo>
                <a:lnTo>
                  <a:pt x="3528" y="5137"/>
                </a:lnTo>
                <a:lnTo>
                  <a:pt x="3700" y="5598"/>
                </a:lnTo>
                <a:lnTo>
                  <a:pt x="3863" y="6075"/>
                </a:lnTo>
                <a:lnTo>
                  <a:pt x="4017" y="6567"/>
                </a:lnTo>
                <a:lnTo>
                  <a:pt x="4162" y="7074"/>
                </a:lnTo>
                <a:lnTo>
                  <a:pt x="4297" y="7596"/>
                </a:lnTo>
                <a:lnTo>
                  <a:pt x="4422" y="8132"/>
                </a:lnTo>
                <a:lnTo>
                  <a:pt x="4538" y="8684"/>
                </a:lnTo>
                <a:lnTo>
                  <a:pt x="4643" y="9251"/>
                </a:lnTo>
                <a:lnTo>
                  <a:pt x="4738" y="9832"/>
                </a:lnTo>
                <a:lnTo>
                  <a:pt x="4821" y="10428"/>
                </a:lnTo>
                <a:lnTo>
                  <a:pt x="4895" y="11040"/>
                </a:lnTo>
                <a:lnTo>
                  <a:pt x="4957" y="11665"/>
                </a:lnTo>
                <a:lnTo>
                  <a:pt x="5008" y="12306"/>
                </a:lnTo>
                <a:lnTo>
                  <a:pt x="5048" y="12961"/>
                </a:lnTo>
                <a:lnTo>
                  <a:pt x="5076" y="13632"/>
                </a:lnTo>
                <a:lnTo>
                  <a:pt x="5092" y="14318"/>
                </a:lnTo>
                <a:lnTo>
                  <a:pt x="5096" y="15019"/>
                </a:lnTo>
                <a:lnTo>
                  <a:pt x="5083" y="15116"/>
                </a:lnTo>
                <a:lnTo>
                  <a:pt x="5044" y="15207"/>
                </a:lnTo>
                <a:lnTo>
                  <a:pt x="4980" y="15293"/>
                </a:lnTo>
                <a:lnTo>
                  <a:pt x="4894" y="15375"/>
                </a:lnTo>
                <a:lnTo>
                  <a:pt x="4788" y="15451"/>
                </a:lnTo>
                <a:lnTo>
                  <a:pt x="4662" y="15523"/>
                </a:lnTo>
                <a:lnTo>
                  <a:pt x="4519" y="15588"/>
                </a:lnTo>
                <a:lnTo>
                  <a:pt x="4359" y="15650"/>
                </a:lnTo>
                <a:lnTo>
                  <a:pt x="4186" y="15707"/>
                </a:lnTo>
                <a:lnTo>
                  <a:pt x="4000" y="15759"/>
                </a:lnTo>
                <a:lnTo>
                  <a:pt x="3802" y="15809"/>
                </a:lnTo>
                <a:lnTo>
                  <a:pt x="3596" y="15853"/>
                </a:lnTo>
                <a:lnTo>
                  <a:pt x="3381" y="15895"/>
                </a:lnTo>
                <a:lnTo>
                  <a:pt x="3161" y="15931"/>
                </a:lnTo>
                <a:lnTo>
                  <a:pt x="2937" y="15965"/>
                </a:lnTo>
                <a:lnTo>
                  <a:pt x="2709" y="15995"/>
                </a:lnTo>
                <a:lnTo>
                  <a:pt x="2480" y="16022"/>
                </a:lnTo>
                <a:lnTo>
                  <a:pt x="2251" y="16047"/>
                </a:lnTo>
                <a:lnTo>
                  <a:pt x="2024" y="16068"/>
                </a:lnTo>
                <a:lnTo>
                  <a:pt x="1800" y="16087"/>
                </a:lnTo>
                <a:lnTo>
                  <a:pt x="1583" y="16102"/>
                </a:lnTo>
                <a:lnTo>
                  <a:pt x="1371" y="16116"/>
                </a:lnTo>
                <a:lnTo>
                  <a:pt x="1169" y="16128"/>
                </a:lnTo>
                <a:lnTo>
                  <a:pt x="977" y="16137"/>
                </a:lnTo>
                <a:lnTo>
                  <a:pt x="796" y="16145"/>
                </a:lnTo>
                <a:lnTo>
                  <a:pt x="630" y="16150"/>
                </a:lnTo>
                <a:lnTo>
                  <a:pt x="478" y="16155"/>
                </a:lnTo>
                <a:lnTo>
                  <a:pt x="341" y="16157"/>
                </a:lnTo>
                <a:lnTo>
                  <a:pt x="224" y="16159"/>
                </a:lnTo>
                <a:lnTo>
                  <a:pt x="127" y="16159"/>
                </a:lnTo>
                <a:lnTo>
                  <a:pt x="52" y="16159"/>
                </a:lnTo>
                <a:lnTo>
                  <a:pt x="0" y="16158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1"/>
          <p:cNvSpPr/>
          <p:nvPr/>
        </p:nvSpPr>
        <p:spPr>
          <a:xfrm rot="1800000">
            <a:off x="1983960" y="2570040"/>
            <a:ext cx="349200" cy="1108080"/>
          </a:xfrm>
          <a:custGeom>
            <a:avLst/>
            <a:gdLst/>
            <a:ahLst/>
            <a:rect l="l" t="t" r="r" b="b"/>
            <a:pathLst>
              <a:path w="5098" h="16159">
                <a:moveTo>
                  <a:pt x="5098" y="0"/>
                </a:moveTo>
                <a:lnTo>
                  <a:pt x="4814" y="238"/>
                </a:lnTo>
                <a:lnTo>
                  <a:pt x="4537" y="490"/>
                </a:lnTo>
                <a:lnTo>
                  <a:pt x="4265" y="758"/>
                </a:lnTo>
                <a:lnTo>
                  <a:pt x="4000" y="1040"/>
                </a:lnTo>
                <a:lnTo>
                  <a:pt x="3742" y="1337"/>
                </a:lnTo>
                <a:lnTo>
                  <a:pt x="3491" y="1650"/>
                </a:lnTo>
                <a:lnTo>
                  <a:pt x="3246" y="1978"/>
                </a:lnTo>
                <a:lnTo>
                  <a:pt x="3010" y="2320"/>
                </a:lnTo>
                <a:lnTo>
                  <a:pt x="2781" y="2677"/>
                </a:lnTo>
                <a:lnTo>
                  <a:pt x="2558" y="3050"/>
                </a:lnTo>
                <a:lnTo>
                  <a:pt x="2344" y="3437"/>
                </a:lnTo>
                <a:lnTo>
                  <a:pt x="2137" y="3839"/>
                </a:lnTo>
                <a:lnTo>
                  <a:pt x="1939" y="4257"/>
                </a:lnTo>
                <a:lnTo>
                  <a:pt x="1749" y="4690"/>
                </a:lnTo>
                <a:lnTo>
                  <a:pt x="1568" y="5137"/>
                </a:lnTo>
                <a:lnTo>
                  <a:pt x="1396" y="5598"/>
                </a:lnTo>
                <a:lnTo>
                  <a:pt x="1233" y="6075"/>
                </a:lnTo>
                <a:lnTo>
                  <a:pt x="1079" y="6567"/>
                </a:lnTo>
                <a:lnTo>
                  <a:pt x="934" y="7074"/>
                </a:lnTo>
                <a:lnTo>
                  <a:pt x="799" y="7596"/>
                </a:lnTo>
                <a:lnTo>
                  <a:pt x="674" y="8132"/>
                </a:lnTo>
                <a:lnTo>
                  <a:pt x="558" y="8684"/>
                </a:lnTo>
                <a:lnTo>
                  <a:pt x="453" y="9251"/>
                </a:lnTo>
                <a:lnTo>
                  <a:pt x="358" y="9832"/>
                </a:lnTo>
                <a:lnTo>
                  <a:pt x="275" y="10428"/>
                </a:lnTo>
                <a:lnTo>
                  <a:pt x="201" y="11040"/>
                </a:lnTo>
                <a:lnTo>
                  <a:pt x="139" y="11665"/>
                </a:lnTo>
                <a:lnTo>
                  <a:pt x="88" y="12306"/>
                </a:lnTo>
                <a:lnTo>
                  <a:pt x="48" y="12961"/>
                </a:lnTo>
                <a:lnTo>
                  <a:pt x="20" y="13632"/>
                </a:lnTo>
                <a:lnTo>
                  <a:pt x="4" y="14318"/>
                </a:lnTo>
                <a:lnTo>
                  <a:pt x="0" y="15019"/>
                </a:lnTo>
                <a:lnTo>
                  <a:pt x="13" y="15116"/>
                </a:lnTo>
                <a:lnTo>
                  <a:pt x="52" y="15207"/>
                </a:lnTo>
                <a:lnTo>
                  <a:pt x="116" y="15293"/>
                </a:lnTo>
                <a:lnTo>
                  <a:pt x="202" y="15375"/>
                </a:lnTo>
                <a:lnTo>
                  <a:pt x="308" y="15451"/>
                </a:lnTo>
                <a:lnTo>
                  <a:pt x="434" y="15523"/>
                </a:lnTo>
                <a:lnTo>
                  <a:pt x="577" y="15588"/>
                </a:lnTo>
                <a:lnTo>
                  <a:pt x="737" y="15650"/>
                </a:lnTo>
                <a:lnTo>
                  <a:pt x="910" y="15707"/>
                </a:lnTo>
                <a:lnTo>
                  <a:pt x="1096" y="15759"/>
                </a:lnTo>
                <a:lnTo>
                  <a:pt x="1294" y="15809"/>
                </a:lnTo>
                <a:lnTo>
                  <a:pt x="1500" y="15853"/>
                </a:lnTo>
                <a:lnTo>
                  <a:pt x="1715" y="15895"/>
                </a:lnTo>
                <a:lnTo>
                  <a:pt x="1935" y="15931"/>
                </a:lnTo>
                <a:lnTo>
                  <a:pt x="2159" y="15965"/>
                </a:lnTo>
                <a:lnTo>
                  <a:pt x="2387" y="15995"/>
                </a:lnTo>
                <a:lnTo>
                  <a:pt x="2616" y="16022"/>
                </a:lnTo>
                <a:lnTo>
                  <a:pt x="2845" y="16047"/>
                </a:lnTo>
                <a:lnTo>
                  <a:pt x="3072" y="16068"/>
                </a:lnTo>
                <a:lnTo>
                  <a:pt x="3296" y="16087"/>
                </a:lnTo>
                <a:lnTo>
                  <a:pt x="3513" y="16102"/>
                </a:lnTo>
                <a:lnTo>
                  <a:pt x="3725" y="16116"/>
                </a:lnTo>
                <a:lnTo>
                  <a:pt x="3927" y="16128"/>
                </a:lnTo>
                <a:lnTo>
                  <a:pt x="4119" y="16137"/>
                </a:lnTo>
                <a:lnTo>
                  <a:pt x="4300" y="16145"/>
                </a:lnTo>
                <a:lnTo>
                  <a:pt x="4466" y="16150"/>
                </a:lnTo>
                <a:lnTo>
                  <a:pt x="4618" y="16155"/>
                </a:lnTo>
                <a:lnTo>
                  <a:pt x="4755" y="16157"/>
                </a:lnTo>
                <a:lnTo>
                  <a:pt x="4872" y="16159"/>
                </a:lnTo>
                <a:lnTo>
                  <a:pt x="4969" y="16159"/>
                </a:lnTo>
                <a:lnTo>
                  <a:pt x="5044" y="16159"/>
                </a:lnTo>
                <a:lnTo>
                  <a:pt x="5098" y="16158"/>
                </a:lnTo>
                <a:lnTo>
                  <a:pt x="5098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"/>
          <p:cNvSpPr/>
          <p:nvPr/>
        </p:nvSpPr>
        <p:spPr>
          <a:xfrm rot="1800000">
            <a:off x="2268000" y="2901960"/>
            <a:ext cx="392400" cy="82440"/>
          </a:xfrm>
          <a:custGeom>
            <a:avLst/>
            <a:gdLst/>
            <a:ahLst/>
            <a:rect l="l" t="t" r="r" b="b"/>
            <a:pathLst>
              <a:path w="5714" h="1188">
                <a:moveTo>
                  <a:pt x="5714" y="673"/>
                </a:moveTo>
                <a:lnTo>
                  <a:pt x="5635" y="703"/>
                </a:lnTo>
                <a:lnTo>
                  <a:pt x="5556" y="733"/>
                </a:lnTo>
                <a:lnTo>
                  <a:pt x="5476" y="761"/>
                </a:lnTo>
                <a:lnTo>
                  <a:pt x="5395" y="789"/>
                </a:lnTo>
                <a:lnTo>
                  <a:pt x="5313" y="816"/>
                </a:lnTo>
                <a:lnTo>
                  <a:pt x="5230" y="841"/>
                </a:lnTo>
                <a:lnTo>
                  <a:pt x="5148" y="867"/>
                </a:lnTo>
                <a:lnTo>
                  <a:pt x="5064" y="891"/>
                </a:lnTo>
                <a:lnTo>
                  <a:pt x="4979" y="914"/>
                </a:lnTo>
                <a:lnTo>
                  <a:pt x="4893" y="936"/>
                </a:lnTo>
                <a:lnTo>
                  <a:pt x="4807" y="959"/>
                </a:lnTo>
                <a:lnTo>
                  <a:pt x="4720" y="979"/>
                </a:lnTo>
                <a:lnTo>
                  <a:pt x="4633" y="999"/>
                </a:lnTo>
                <a:lnTo>
                  <a:pt x="4545" y="1018"/>
                </a:lnTo>
                <a:lnTo>
                  <a:pt x="4455" y="1036"/>
                </a:lnTo>
                <a:lnTo>
                  <a:pt x="4366" y="1053"/>
                </a:lnTo>
                <a:lnTo>
                  <a:pt x="4275" y="1068"/>
                </a:lnTo>
                <a:lnTo>
                  <a:pt x="4185" y="1084"/>
                </a:lnTo>
                <a:lnTo>
                  <a:pt x="4093" y="1097"/>
                </a:lnTo>
                <a:lnTo>
                  <a:pt x="4002" y="1111"/>
                </a:lnTo>
                <a:lnTo>
                  <a:pt x="3909" y="1123"/>
                </a:lnTo>
                <a:lnTo>
                  <a:pt x="3816" y="1134"/>
                </a:lnTo>
                <a:lnTo>
                  <a:pt x="3722" y="1144"/>
                </a:lnTo>
                <a:lnTo>
                  <a:pt x="3627" y="1153"/>
                </a:lnTo>
                <a:lnTo>
                  <a:pt x="3533" y="1161"/>
                </a:lnTo>
                <a:lnTo>
                  <a:pt x="3437" y="1168"/>
                </a:lnTo>
                <a:lnTo>
                  <a:pt x="3342" y="1174"/>
                </a:lnTo>
                <a:lnTo>
                  <a:pt x="3246" y="1179"/>
                </a:lnTo>
                <a:lnTo>
                  <a:pt x="3149" y="1183"/>
                </a:lnTo>
                <a:lnTo>
                  <a:pt x="3052" y="1186"/>
                </a:lnTo>
                <a:lnTo>
                  <a:pt x="2955" y="1187"/>
                </a:lnTo>
                <a:lnTo>
                  <a:pt x="2858" y="1188"/>
                </a:lnTo>
                <a:lnTo>
                  <a:pt x="2759" y="1187"/>
                </a:lnTo>
                <a:lnTo>
                  <a:pt x="2662" y="1186"/>
                </a:lnTo>
                <a:lnTo>
                  <a:pt x="2565" y="1183"/>
                </a:lnTo>
                <a:lnTo>
                  <a:pt x="2468" y="1179"/>
                </a:lnTo>
                <a:lnTo>
                  <a:pt x="2372" y="1174"/>
                </a:lnTo>
                <a:lnTo>
                  <a:pt x="2277" y="1168"/>
                </a:lnTo>
                <a:lnTo>
                  <a:pt x="2181" y="1161"/>
                </a:lnTo>
                <a:lnTo>
                  <a:pt x="2087" y="1153"/>
                </a:lnTo>
                <a:lnTo>
                  <a:pt x="1992" y="1144"/>
                </a:lnTo>
                <a:lnTo>
                  <a:pt x="1898" y="1134"/>
                </a:lnTo>
                <a:lnTo>
                  <a:pt x="1805" y="1123"/>
                </a:lnTo>
                <a:lnTo>
                  <a:pt x="1712" y="1111"/>
                </a:lnTo>
                <a:lnTo>
                  <a:pt x="1621" y="1097"/>
                </a:lnTo>
                <a:lnTo>
                  <a:pt x="1529" y="1084"/>
                </a:lnTo>
                <a:lnTo>
                  <a:pt x="1439" y="1068"/>
                </a:lnTo>
                <a:lnTo>
                  <a:pt x="1348" y="1053"/>
                </a:lnTo>
                <a:lnTo>
                  <a:pt x="1259" y="1036"/>
                </a:lnTo>
                <a:lnTo>
                  <a:pt x="1169" y="1018"/>
                </a:lnTo>
                <a:lnTo>
                  <a:pt x="1081" y="999"/>
                </a:lnTo>
                <a:lnTo>
                  <a:pt x="994" y="979"/>
                </a:lnTo>
                <a:lnTo>
                  <a:pt x="907" y="959"/>
                </a:lnTo>
                <a:lnTo>
                  <a:pt x="821" y="936"/>
                </a:lnTo>
                <a:lnTo>
                  <a:pt x="735" y="914"/>
                </a:lnTo>
                <a:lnTo>
                  <a:pt x="650" y="891"/>
                </a:lnTo>
                <a:lnTo>
                  <a:pt x="566" y="867"/>
                </a:lnTo>
                <a:lnTo>
                  <a:pt x="484" y="841"/>
                </a:lnTo>
                <a:lnTo>
                  <a:pt x="401" y="816"/>
                </a:lnTo>
                <a:lnTo>
                  <a:pt x="319" y="789"/>
                </a:lnTo>
                <a:lnTo>
                  <a:pt x="238" y="761"/>
                </a:lnTo>
                <a:lnTo>
                  <a:pt x="158" y="733"/>
                </a:lnTo>
                <a:lnTo>
                  <a:pt x="79" y="703"/>
                </a:lnTo>
                <a:lnTo>
                  <a:pt x="0" y="673"/>
                </a:lnTo>
                <a:lnTo>
                  <a:pt x="46" y="587"/>
                </a:lnTo>
                <a:lnTo>
                  <a:pt x="90" y="501"/>
                </a:lnTo>
                <a:lnTo>
                  <a:pt x="136" y="416"/>
                </a:lnTo>
                <a:lnTo>
                  <a:pt x="182" y="331"/>
                </a:lnTo>
                <a:lnTo>
                  <a:pt x="228" y="247"/>
                </a:lnTo>
                <a:lnTo>
                  <a:pt x="275" y="164"/>
                </a:lnTo>
                <a:lnTo>
                  <a:pt x="322" y="82"/>
                </a:lnTo>
                <a:lnTo>
                  <a:pt x="370" y="0"/>
                </a:lnTo>
                <a:lnTo>
                  <a:pt x="440" y="22"/>
                </a:lnTo>
                <a:lnTo>
                  <a:pt x="510" y="45"/>
                </a:lnTo>
                <a:lnTo>
                  <a:pt x="582" y="66"/>
                </a:lnTo>
                <a:lnTo>
                  <a:pt x="654" y="86"/>
                </a:lnTo>
                <a:lnTo>
                  <a:pt x="726" y="106"/>
                </a:lnTo>
                <a:lnTo>
                  <a:pt x="800" y="126"/>
                </a:lnTo>
                <a:lnTo>
                  <a:pt x="873" y="144"/>
                </a:lnTo>
                <a:lnTo>
                  <a:pt x="947" y="163"/>
                </a:lnTo>
                <a:lnTo>
                  <a:pt x="1022" y="180"/>
                </a:lnTo>
                <a:lnTo>
                  <a:pt x="1097" y="197"/>
                </a:lnTo>
                <a:lnTo>
                  <a:pt x="1173" y="212"/>
                </a:lnTo>
                <a:lnTo>
                  <a:pt x="1249" y="228"/>
                </a:lnTo>
                <a:lnTo>
                  <a:pt x="1325" y="243"/>
                </a:lnTo>
                <a:lnTo>
                  <a:pt x="1402" y="257"/>
                </a:lnTo>
                <a:lnTo>
                  <a:pt x="1480" y="271"/>
                </a:lnTo>
                <a:lnTo>
                  <a:pt x="1557" y="283"/>
                </a:lnTo>
                <a:lnTo>
                  <a:pt x="1635" y="294"/>
                </a:lnTo>
                <a:lnTo>
                  <a:pt x="1715" y="305"/>
                </a:lnTo>
                <a:lnTo>
                  <a:pt x="1794" y="316"/>
                </a:lnTo>
                <a:lnTo>
                  <a:pt x="1873" y="325"/>
                </a:lnTo>
                <a:lnTo>
                  <a:pt x="1954" y="334"/>
                </a:lnTo>
                <a:lnTo>
                  <a:pt x="2034" y="343"/>
                </a:lnTo>
                <a:lnTo>
                  <a:pt x="2115" y="350"/>
                </a:lnTo>
                <a:lnTo>
                  <a:pt x="2195" y="357"/>
                </a:lnTo>
                <a:lnTo>
                  <a:pt x="2277" y="363"/>
                </a:lnTo>
                <a:lnTo>
                  <a:pt x="2359" y="368"/>
                </a:lnTo>
                <a:lnTo>
                  <a:pt x="2441" y="372"/>
                </a:lnTo>
                <a:lnTo>
                  <a:pt x="2524" y="376"/>
                </a:lnTo>
                <a:lnTo>
                  <a:pt x="2606" y="379"/>
                </a:lnTo>
                <a:lnTo>
                  <a:pt x="2690" y="380"/>
                </a:lnTo>
                <a:lnTo>
                  <a:pt x="2774" y="382"/>
                </a:lnTo>
                <a:lnTo>
                  <a:pt x="2858" y="382"/>
                </a:lnTo>
                <a:lnTo>
                  <a:pt x="2940" y="382"/>
                </a:lnTo>
                <a:lnTo>
                  <a:pt x="3024" y="380"/>
                </a:lnTo>
                <a:lnTo>
                  <a:pt x="3108" y="379"/>
                </a:lnTo>
                <a:lnTo>
                  <a:pt x="3190" y="376"/>
                </a:lnTo>
                <a:lnTo>
                  <a:pt x="3273" y="372"/>
                </a:lnTo>
                <a:lnTo>
                  <a:pt x="3355" y="368"/>
                </a:lnTo>
                <a:lnTo>
                  <a:pt x="3437" y="363"/>
                </a:lnTo>
                <a:lnTo>
                  <a:pt x="3518" y="357"/>
                </a:lnTo>
                <a:lnTo>
                  <a:pt x="3599" y="350"/>
                </a:lnTo>
                <a:lnTo>
                  <a:pt x="3680" y="343"/>
                </a:lnTo>
                <a:lnTo>
                  <a:pt x="3760" y="334"/>
                </a:lnTo>
                <a:lnTo>
                  <a:pt x="3841" y="325"/>
                </a:lnTo>
                <a:lnTo>
                  <a:pt x="3920" y="316"/>
                </a:lnTo>
                <a:lnTo>
                  <a:pt x="3999" y="305"/>
                </a:lnTo>
                <a:lnTo>
                  <a:pt x="4079" y="294"/>
                </a:lnTo>
                <a:lnTo>
                  <a:pt x="4157" y="283"/>
                </a:lnTo>
                <a:lnTo>
                  <a:pt x="4234" y="271"/>
                </a:lnTo>
                <a:lnTo>
                  <a:pt x="4312" y="257"/>
                </a:lnTo>
                <a:lnTo>
                  <a:pt x="4389" y="243"/>
                </a:lnTo>
                <a:lnTo>
                  <a:pt x="4465" y="228"/>
                </a:lnTo>
                <a:lnTo>
                  <a:pt x="4541" y="212"/>
                </a:lnTo>
                <a:lnTo>
                  <a:pt x="4617" y="197"/>
                </a:lnTo>
                <a:lnTo>
                  <a:pt x="4692" y="180"/>
                </a:lnTo>
                <a:lnTo>
                  <a:pt x="4767" y="162"/>
                </a:lnTo>
                <a:lnTo>
                  <a:pt x="4841" y="144"/>
                </a:lnTo>
                <a:lnTo>
                  <a:pt x="4914" y="126"/>
                </a:lnTo>
                <a:lnTo>
                  <a:pt x="4988" y="106"/>
                </a:lnTo>
                <a:lnTo>
                  <a:pt x="5060" y="86"/>
                </a:lnTo>
                <a:lnTo>
                  <a:pt x="5132" y="66"/>
                </a:lnTo>
                <a:lnTo>
                  <a:pt x="5204" y="45"/>
                </a:lnTo>
                <a:lnTo>
                  <a:pt x="5274" y="22"/>
                </a:lnTo>
                <a:lnTo>
                  <a:pt x="5344" y="0"/>
                </a:lnTo>
                <a:lnTo>
                  <a:pt x="5392" y="82"/>
                </a:lnTo>
                <a:lnTo>
                  <a:pt x="5439" y="164"/>
                </a:lnTo>
                <a:lnTo>
                  <a:pt x="5486" y="247"/>
                </a:lnTo>
                <a:lnTo>
                  <a:pt x="5532" y="331"/>
                </a:lnTo>
                <a:lnTo>
                  <a:pt x="5578" y="416"/>
                </a:lnTo>
                <a:lnTo>
                  <a:pt x="5624" y="501"/>
                </a:lnTo>
                <a:lnTo>
                  <a:pt x="5668" y="587"/>
                </a:lnTo>
                <a:lnTo>
                  <a:pt x="5714" y="673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6"/>
          <p:cNvSpPr/>
          <p:nvPr/>
        </p:nvSpPr>
        <p:spPr>
          <a:xfrm rot="1800000">
            <a:off x="2451240" y="2951280"/>
            <a:ext cx="196560" cy="81000"/>
          </a:xfrm>
          <a:custGeom>
            <a:avLst/>
            <a:gdLst/>
            <a:ahLst/>
            <a:rect l="l" t="t" r="r" b="b"/>
            <a:pathLst>
              <a:path w="2856" h="1188">
                <a:moveTo>
                  <a:pt x="0" y="1188"/>
                </a:moveTo>
                <a:lnTo>
                  <a:pt x="0" y="1188"/>
                </a:lnTo>
                <a:lnTo>
                  <a:pt x="0" y="1188"/>
                </a:lnTo>
                <a:lnTo>
                  <a:pt x="97" y="1187"/>
                </a:lnTo>
                <a:lnTo>
                  <a:pt x="194" y="1186"/>
                </a:lnTo>
                <a:lnTo>
                  <a:pt x="291" y="1183"/>
                </a:lnTo>
                <a:lnTo>
                  <a:pt x="388" y="1179"/>
                </a:lnTo>
                <a:lnTo>
                  <a:pt x="484" y="1174"/>
                </a:lnTo>
                <a:lnTo>
                  <a:pt x="579" y="1168"/>
                </a:lnTo>
                <a:lnTo>
                  <a:pt x="675" y="1161"/>
                </a:lnTo>
                <a:lnTo>
                  <a:pt x="770" y="1153"/>
                </a:lnTo>
                <a:lnTo>
                  <a:pt x="864" y="1144"/>
                </a:lnTo>
                <a:lnTo>
                  <a:pt x="958" y="1134"/>
                </a:lnTo>
                <a:lnTo>
                  <a:pt x="1051" y="1123"/>
                </a:lnTo>
                <a:lnTo>
                  <a:pt x="1144" y="1111"/>
                </a:lnTo>
                <a:lnTo>
                  <a:pt x="1235" y="1097"/>
                </a:lnTo>
                <a:lnTo>
                  <a:pt x="1327" y="1084"/>
                </a:lnTo>
                <a:lnTo>
                  <a:pt x="1417" y="1068"/>
                </a:lnTo>
                <a:lnTo>
                  <a:pt x="1508" y="1053"/>
                </a:lnTo>
                <a:lnTo>
                  <a:pt x="1597" y="1036"/>
                </a:lnTo>
                <a:lnTo>
                  <a:pt x="1687" y="1018"/>
                </a:lnTo>
                <a:lnTo>
                  <a:pt x="1775" y="999"/>
                </a:lnTo>
                <a:lnTo>
                  <a:pt x="1862" y="979"/>
                </a:lnTo>
                <a:lnTo>
                  <a:pt x="1949" y="959"/>
                </a:lnTo>
                <a:lnTo>
                  <a:pt x="2035" y="936"/>
                </a:lnTo>
                <a:lnTo>
                  <a:pt x="2121" y="914"/>
                </a:lnTo>
                <a:lnTo>
                  <a:pt x="2206" y="891"/>
                </a:lnTo>
                <a:lnTo>
                  <a:pt x="2290" y="867"/>
                </a:lnTo>
                <a:lnTo>
                  <a:pt x="2372" y="841"/>
                </a:lnTo>
                <a:lnTo>
                  <a:pt x="2455" y="816"/>
                </a:lnTo>
                <a:lnTo>
                  <a:pt x="2537" y="789"/>
                </a:lnTo>
                <a:lnTo>
                  <a:pt x="2618" y="761"/>
                </a:lnTo>
                <a:lnTo>
                  <a:pt x="2699" y="733"/>
                </a:lnTo>
                <a:lnTo>
                  <a:pt x="2777" y="703"/>
                </a:lnTo>
                <a:lnTo>
                  <a:pt x="2856" y="673"/>
                </a:lnTo>
                <a:lnTo>
                  <a:pt x="2810" y="587"/>
                </a:lnTo>
                <a:lnTo>
                  <a:pt x="2766" y="501"/>
                </a:lnTo>
                <a:lnTo>
                  <a:pt x="2720" y="416"/>
                </a:lnTo>
                <a:lnTo>
                  <a:pt x="2674" y="331"/>
                </a:lnTo>
                <a:lnTo>
                  <a:pt x="2628" y="247"/>
                </a:lnTo>
                <a:lnTo>
                  <a:pt x="2581" y="164"/>
                </a:lnTo>
                <a:lnTo>
                  <a:pt x="2534" y="82"/>
                </a:lnTo>
                <a:lnTo>
                  <a:pt x="2486" y="0"/>
                </a:lnTo>
                <a:lnTo>
                  <a:pt x="2416" y="22"/>
                </a:lnTo>
                <a:lnTo>
                  <a:pt x="2346" y="45"/>
                </a:lnTo>
                <a:lnTo>
                  <a:pt x="2274" y="66"/>
                </a:lnTo>
                <a:lnTo>
                  <a:pt x="2203" y="86"/>
                </a:lnTo>
                <a:lnTo>
                  <a:pt x="2130" y="106"/>
                </a:lnTo>
                <a:lnTo>
                  <a:pt x="2056" y="126"/>
                </a:lnTo>
                <a:lnTo>
                  <a:pt x="1983" y="144"/>
                </a:lnTo>
                <a:lnTo>
                  <a:pt x="1909" y="163"/>
                </a:lnTo>
                <a:lnTo>
                  <a:pt x="1834" y="180"/>
                </a:lnTo>
                <a:lnTo>
                  <a:pt x="1759" y="197"/>
                </a:lnTo>
                <a:lnTo>
                  <a:pt x="1683" y="212"/>
                </a:lnTo>
                <a:lnTo>
                  <a:pt x="1607" y="228"/>
                </a:lnTo>
                <a:lnTo>
                  <a:pt x="1531" y="243"/>
                </a:lnTo>
                <a:lnTo>
                  <a:pt x="1454" y="257"/>
                </a:lnTo>
                <a:lnTo>
                  <a:pt x="1376" y="271"/>
                </a:lnTo>
                <a:lnTo>
                  <a:pt x="1299" y="283"/>
                </a:lnTo>
                <a:lnTo>
                  <a:pt x="1221" y="294"/>
                </a:lnTo>
                <a:lnTo>
                  <a:pt x="1141" y="305"/>
                </a:lnTo>
                <a:lnTo>
                  <a:pt x="1062" y="316"/>
                </a:lnTo>
                <a:lnTo>
                  <a:pt x="983" y="325"/>
                </a:lnTo>
                <a:lnTo>
                  <a:pt x="902" y="334"/>
                </a:lnTo>
                <a:lnTo>
                  <a:pt x="822" y="343"/>
                </a:lnTo>
                <a:lnTo>
                  <a:pt x="741" y="350"/>
                </a:lnTo>
                <a:lnTo>
                  <a:pt x="661" y="357"/>
                </a:lnTo>
                <a:lnTo>
                  <a:pt x="579" y="363"/>
                </a:lnTo>
                <a:lnTo>
                  <a:pt x="497" y="368"/>
                </a:lnTo>
                <a:lnTo>
                  <a:pt x="415" y="372"/>
                </a:lnTo>
                <a:lnTo>
                  <a:pt x="332" y="376"/>
                </a:lnTo>
                <a:lnTo>
                  <a:pt x="250" y="379"/>
                </a:lnTo>
                <a:lnTo>
                  <a:pt x="166" y="380"/>
                </a:lnTo>
                <a:lnTo>
                  <a:pt x="83" y="382"/>
                </a:lnTo>
                <a:lnTo>
                  <a:pt x="0" y="382"/>
                </a:lnTo>
                <a:lnTo>
                  <a:pt x="0" y="382"/>
                </a:lnTo>
                <a:lnTo>
                  <a:pt x="0" y="382"/>
                </a:lnTo>
                <a:lnTo>
                  <a:pt x="0" y="1188"/>
                </a:lnTo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7"/>
          <p:cNvSpPr/>
          <p:nvPr/>
        </p:nvSpPr>
        <p:spPr>
          <a:xfrm rot="1800000">
            <a:off x="1620360" y="3121200"/>
            <a:ext cx="206640" cy="46332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3021" y="0"/>
                </a:moveTo>
                <a:lnTo>
                  <a:pt x="0" y="1815"/>
                </a:lnTo>
                <a:lnTo>
                  <a:pt x="386" y="6345"/>
                </a:lnTo>
                <a:lnTo>
                  <a:pt x="1350" y="6762"/>
                </a:lnTo>
                <a:lnTo>
                  <a:pt x="1387" y="6675"/>
                </a:lnTo>
                <a:lnTo>
                  <a:pt x="1424" y="6589"/>
                </a:lnTo>
                <a:lnTo>
                  <a:pt x="1461" y="6503"/>
                </a:lnTo>
                <a:lnTo>
                  <a:pt x="1499" y="6418"/>
                </a:lnTo>
                <a:lnTo>
                  <a:pt x="1537" y="6333"/>
                </a:lnTo>
                <a:lnTo>
                  <a:pt x="1576" y="6249"/>
                </a:lnTo>
                <a:lnTo>
                  <a:pt x="1615" y="6166"/>
                </a:lnTo>
                <a:lnTo>
                  <a:pt x="1654" y="6083"/>
                </a:lnTo>
                <a:lnTo>
                  <a:pt x="1694" y="6000"/>
                </a:lnTo>
                <a:lnTo>
                  <a:pt x="1735" y="5919"/>
                </a:lnTo>
                <a:lnTo>
                  <a:pt x="1777" y="5838"/>
                </a:lnTo>
                <a:lnTo>
                  <a:pt x="1818" y="5759"/>
                </a:lnTo>
                <a:lnTo>
                  <a:pt x="1861" y="5680"/>
                </a:lnTo>
                <a:lnTo>
                  <a:pt x="1904" y="5601"/>
                </a:lnTo>
                <a:lnTo>
                  <a:pt x="1948" y="5523"/>
                </a:lnTo>
                <a:lnTo>
                  <a:pt x="1992" y="5447"/>
                </a:lnTo>
                <a:lnTo>
                  <a:pt x="2037" y="5371"/>
                </a:lnTo>
                <a:lnTo>
                  <a:pt x="2083" y="5295"/>
                </a:lnTo>
                <a:lnTo>
                  <a:pt x="2129" y="5221"/>
                </a:lnTo>
                <a:lnTo>
                  <a:pt x="2176" y="5148"/>
                </a:lnTo>
                <a:lnTo>
                  <a:pt x="2224" y="5076"/>
                </a:lnTo>
                <a:lnTo>
                  <a:pt x="2272" y="5005"/>
                </a:lnTo>
                <a:lnTo>
                  <a:pt x="2321" y="4934"/>
                </a:lnTo>
                <a:lnTo>
                  <a:pt x="2371" y="4864"/>
                </a:lnTo>
                <a:lnTo>
                  <a:pt x="2421" y="4796"/>
                </a:lnTo>
                <a:lnTo>
                  <a:pt x="2473" y="4729"/>
                </a:lnTo>
                <a:lnTo>
                  <a:pt x="2525" y="4662"/>
                </a:lnTo>
                <a:lnTo>
                  <a:pt x="2579" y="4596"/>
                </a:lnTo>
                <a:lnTo>
                  <a:pt x="2633" y="4532"/>
                </a:lnTo>
                <a:lnTo>
                  <a:pt x="2687" y="4468"/>
                </a:lnTo>
                <a:lnTo>
                  <a:pt x="2742" y="4406"/>
                </a:lnTo>
                <a:lnTo>
                  <a:pt x="2799" y="4345"/>
                </a:lnTo>
                <a:lnTo>
                  <a:pt x="2795" y="4324"/>
                </a:lnTo>
                <a:lnTo>
                  <a:pt x="2791" y="4304"/>
                </a:lnTo>
                <a:lnTo>
                  <a:pt x="2789" y="4283"/>
                </a:lnTo>
                <a:lnTo>
                  <a:pt x="2788" y="4262"/>
                </a:lnTo>
                <a:lnTo>
                  <a:pt x="2788" y="3977"/>
                </a:lnTo>
                <a:lnTo>
                  <a:pt x="2790" y="3695"/>
                </a:lnTo>
                <a:lnTo>
                  <a:pt x="2795" y="3415"/>
                </a:lnTo>
                <a:lnTo>
                  <a:pt x="2800" y="3137"/>
                </a:lnTo>
                <a:lnTo>
                  <a:pt x="2809" y="2863"/>
                </a:lnTo>
                <a:lnTo>
                  <a:pt x="2819" y="2591"/>
                </a:lnTo>
                <a:lnTo>
                  <a:pt x="2830" y="2321"/>
                </a:lnTo>
                <a:lnTo>
                  <a:pt x="2845" y="2054"/>
                </a:lnTo>
                <a:lnTo>
                  <a:pt x="2860" y="1788"/>
                </a:lnTo>
                <a:lnTo>
                  <a:pt x="2877" y="1525"/>
                </a:lnTo>
                <a:lnTo>
                  <a:pt x="2897" y="1265"/>
                </a:lnTo>
                <a:lnTo>
                  <a:pt x="2919" y="1008"/>
                </a:lnTo>
                <a:lnTo>
                  <a:pt x="2942" y="752"/>
                </a:lnTo>
                <a:lnTo>
                  <a:pt x="2967" y="499"/>
                </a:lnTo>
                <a:lnTo>
                  <a:pt x="2993" y="248"/>
                </a:lnTo>
                <a:lnTo>
                  <a:pt x="3021" y="0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8"/>
          <p:cNvSpPr/>
          <p:nvPr/>
        </p:nvSpPr>
        <p:spPr>
          <a:xfrm rot="1800000">
            <a:off x="2376360" y="3557520"/>
            <a:ext cx="208080" cy="46368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0" y="0"/>
                </a:moveTo>
                <a:lnTo>
                  <a:pt x="3021" y="1815"/>
                </a:lnTo>
                <a:lnTo>
                  <a:pt x="2635" y="6345"/>
                </a:lnTo>
                <a:lnTo>
                  <a:pt x="1671" y="6762"/>
                </a:lnTo>
                <a:lnTo>
                  <a:pt x="1634" y="6675"/>
                </a:lnTo>
                <a:lnTo>
                  <a:pt x="1597" y="6589"/>
                </a:lnTo>
                <a:lnTo>
                  <a:pt x="1560" y="6503"/>
                </a:lnTo>
                <a:lnTo>
                  <a:pt x="1522" y="6418"/>
                </a:lnTo>
                <a:lnTo>
                  <a:pt x="1484" y="6333"/>
                </a:lnTo>
                <a:lnTo>
                  <a:pt x="1445" y="6248"/>
                </a:lnTo>
                <a:lnTo>
                  <a:pt x="1406" y="6166"/>
                </a:lnTo>
                <a:lnTo>
                  <a:pt x="1367" y="6083"/>
                </a:lnTo>
                <a:lnTo>
                  <a:pt x="1327" y="6000"/>
                </a:lnTo>
                <a:lnTo>
                  <a:pt x="1286" y="5919"/>
                </a:lnTo>
                <a:lnTo>
                  <a:pt x="1244" y="5838"/>
                </a:lnTo>
                <a:lnTo>
                  <a:pt x="1203" y="5759"/>
                </a:lnTo>
                <a:lnTo>
                  <a:pt x="1160" y="5680"/>
                </a:lnTo>
                <a:lnTo>
                  <a:pt x="1117" y="5601"/>
                </a:lnTo>
                <a:lnTo>
                  <a:pt x="1073" y="5523"/>
                </a:lnTo>
                <a:lnTo>
                  <a:pt x="1029" y="5447"/>
                </a:lnTo>
                <a:lnTo>
                  <a:pt x="984" y="5371"/>
                </a:lnTo>
                <a:lnTo>
                  <a:pt x="938" y="5295"/>
                </a:lnTo>
                <a:lnTo>
                  <a:pt x="892" y="5221"/>
                </a:lnTo>
                <a:lnTo>
                  <a:pt x="845" y="5148"/>
                </a:lnTo>
                <a:lnTo>
                  <a:pt x="797" y="5076"/>
                </a:lnTo>
                <a:lnTo>
                  <a:pt x="749" y="5005"/>
                </a:lnTo>
                <a:lnTo>
                  <a:pt x="700" y="4934"/>
                </a:lnTo>
                <a:lnTo>
                  <a:pt x="650" y="4864"/>
                </a:lnTo>
                <a:lnTo>
                  <a:pt x="600" y="4796"/>
                </a:lnTo>
                <a:lnTo>
                  <a:pt x="548" y="4729"/>
                </a:lnTo>
                <a:lnTo>
                  <a:pt x="496" y="4662"/>
                </a:lnTo>
                <a:lnTo>
                  <a:pt x="442" y="4596"/>
                </a:lnTo>
                <a:lnTo>
                  <a:pt x="388" y="4532"/>
                </a:lnTo>
                <a:lnTo>
                  <a:pt x="334" y="4468"/>
                </a:lnTo>
                <a:lnTo>
                  <a:pt x="279" y="4406"/>
                </a:lnTo>
                <a:lnTo>
                  <a:pt x="222" y="4345"/>
                </a:lnTo>
                <a:lnTo>
                  <a:pt x="226" y="4324"/>
                </a:lnTo>
                <a:lnTo>
                  <a:pt x="230" y="4304"/>
                </a:lnTo>
                <a:lnTo>
                  <a:pt x="232" y="4283"/>
                </a:lnTo>
                <a:lnTo>
                  <a:pt x="233" y="4262"/>
                </a:lnTo>
                <a:lnTo>
                  <a:pt x="233" y="3977"/>
                </a:lnTo>
                <a:lnTo>
                  <a:pt x="231" y="3695"/>
                </a:lnTo>
                <a:lnTo>
                  <a:pt x="226" y="3415"/>
                </a:lnTo>
                <a:lnTo>
                  <a:pt x="221" y="3137"/>
                </a:lnTo>
                <a:lnTo>
                  <a:pt x="212" y="2863"/>
                </a:lnTo>
                <a:lnTo>
                  <a:pt x="202" y="2591"/>
                </a:lnTo>
                <a:lnTo>
                  <a:pt x="191" y="2321"/>
                </a:lnTo>
                <a:lnTo>
                  <a:pt x="176" y="2054"/>
                </a:lnTo>
                <a:lnTo>
                  <a:pt x="161" y="1788"/>
                </a:lnTo>
                <a:lnTo>
                  <a:pt x="144" y="1525"/>
                </a:lnTo>
                <a:lnTo>
                  <a:pt x="124" y="1265"/>
                </a:lnTo>
                <a:lnTo>
                  <a:pt x="102" y="1007"/>
                </a:lnTo>
                <a:lnTo>
                  <a:pt x="79" y="752"/>
                </a:lnTo>
                <a:lnTo>
                  <a:pt x="54" y="498"/>
                </a:lnTo>
                <a:lnTo>
                  <a:pt x="28" y="248"/>
                </a:lnTo>
                <a:lnTo>
                  <a:pt x="0" y="0"/>
                </a:lnTo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9"/>
          <p:cNvSpPr/>
          <p:nvPr/>
        </p:nvSpPr>
        <p:spPr>
          <a:xfrm rot="1800000">
            <a:off x="1720800" y="3606840"/>
            <a:ext cx="304920" cy="114120"/>
          </a:xfrm>
          <a:custGeom>
            <a:avLst/>
            <a:gdLst/>
            <a:ahLst/>
            <a:rect l="l" t="t" r="r" b="b"/>
            <a:pathLst>
              <a:path w="4441" h="1674">
                <a:moveTo>
                  <a:pt x="0" y="0"/>
                </a:moveTo>
                <a:lnTo>
                  <a:pt x="21" y="119"/>
                </a:lnTo>
                <a:lnTo>
                  <a:pt x="51" y="233"/>
                </a:lnTo>
                <a:lnTo>
                  <a:pt x="90" y="343"/>
                </a:lnTo>
                <a:lnTo>
                  <a:pt x="136" y="447"/>
                </a:lnTo>
                <a:lnTo>
                  <a:pt x="191" y="546"/>
                </a:lnTo>
                <a:lnTo>
                  <a:pt x="254" y="640"/>
                </a:lnTo>
                <a:lnTo>
                  <a:pt x="325" y="729"/>
                </a:lnTo>
                <a:lnTo>
                  <a:pt x="403" y="814"/>
                </a:lnTo>
                <a:lnTo>
                  <a:pt x="489" y="894"/>
                </a:lnTo>
                <a:lnTo>
                  <a:pt x="583" y="970"/>
                </a:lnTo>
                <a:lnTo>
                  <a:pt x="685" y="1041"/>
                </a:lnTo>
                <a:lnTo>
                  <a:pt x="794" y="1108"/>
                </a:lnTo>
                <a:lnTo>
                  <a:pt x="911" y="1171"/>
                </a:lnTo>
                <a:lnTo>
                  <a:pt x="1035" y="1229"/>
                </a:lnTo>
                <a:lnTo>
                  <a:pt x="1166" y="1282"/>
                </a:lnTo>
                <a:lnTo>
                  <a:pt x="1305" y="1333"/>
                </a:lnTo>
                <a:lnTo>
                  <a:pt x="1451" y="1380"/>
                </a:lnTo>
                <a:lnTo>
                  <a:pt x="1604" y="1422"/>
                </a:lnTo>
                <a:lnTo>
                  <a:pt x="1764" y="1461"/>
                </a:lnTo>
                <a:lnTo>
                  <a:pt x="1930" y="1497"/>
                </a:lnTo>
                <a:lnTo>
                  <a:pt x="2103" y="1528"/>
                </a:lnTo>
                <a:lnTo>
                  <a:pt x="2284" y="1557"/>
                </a:lnTo>
                <a:lnTo>
                  <a:pt x="2471" y="1582"/>
                </a:lnTo>
                <a:lnTo>
                  <a:pt x="2664" y="1604"/>
                </a:lnTo>
                <a:lnTo>
                  <a:pt x="2864" y="1622"/>
                </a:lnTo>
                <a:lnTo>
                  <a:pt x="3071" y="1638"/>
                </a:lnTo>
                <a:lnTo>
                  <a:pt x="3283" y="1651"/>
                </a:lnTo>
                <a:lnTo>
                  <a:pt x="3503" y="1660"/>
                </a:lnTo>
                <a:lnTo>
                  <a:pt x="3728" y="1668"/>
                </a:lnTo>
                <a:lnTo>
                  <a:pt x="3959" y="1671"/>
                </a:lnTo>
                <a:lnTo>
                  <a:pt x="4197" y="1674"/>
                </a:lnTo>
                <a:lnTo>
                  <a:pt x="4441" y="1672"/>
                </a:lnTo>
                <a:lnTo>
                  <a:pt x="4441" y="687"/>
                </a:lnTo>
                <a:lnTo>
                  <a:pt x="4231" y="685"/>
                </a:lnTo>
                <a:lnTo>
                  <a:pt x="4025" y="681"/>
                </a:lnTo>
                <a:lnTo>
                  <a:pt x="3823" y="678"/>
                </a:lnTo>
                <a:lnTo>
                  <a:pt x="3625" y="673"/>
                </a:lnTo>
                <a:lnTo>
                  <a:pt x="3432" y="668"/>
                </a:lnTo>
                <a:lnTo>
                  <a:pt x="3243" y="661"/>
                </a:lnTo>
                <a:lnTo>
                  <a:pt x="3057" y="653"/>
                </a:lnTo>
                <a:lnTo>
                  <a:pt x="2878" y="644"/>
                </a:lnTo>
                <a:lnTo>
                  <a:pt x="2701" y="634"/>
                </a:lnTo>
                <a:lnTo>
                  <a:pt x="2529" y="624"/>
                </a:lnTo>
                <a:lnTo>
                  <a:pt x="2363" y="612"/>
                </a:lnTo>
                <a:lnTo>
                  <a:pt x="2199" y="599"/>
                </a:lnTo>
                <a:lnTo>
                  <a:pt x="2042" y="584"/>
                </a:lnTo>
                <a:lnTo>
                  <a:pt x="1889" y="567"/>
                </a:lnTo>
                <a:lnTo>
                  <a:pt x="1740" y="551"/>
                </a:lnTo>
                <a:lnTo>
                  <a:pt x="1596" y="532"/>
                </a:lnTo>
                <a:lnTo>
                  <a:pt x="1458" y="511"/>
                </a:lnTo>
                <a:lnTo>
                  <a:pt x="1324" y="489"/>
                </a:lnTo>
                <a:lnTo>
                  <a:pt x="1194" y="467"/>
                </a:lnTo>
                <a:lnTo>
                  <a:pt x="1071" y="441"/>
                </a:lnTo>
                <a:lnTo>
                  <a:pt x="952" y="414"/>
                </a:lnTo>
                <a:lnTo>
                  <a:pt x="839" y="386"/>
                </a:lnTo>
                <a:lnTo>
                  <a:pt x="730" y="356"/>
                </a:lnTo>
                <a:lnTo>
                  <a:pt x="626" y="325"/>
                </a:lnTo>
                <a:lnTo>
                  <a:pt x="529" y="290"/>
                </a:lnTo>
                <a:lnTo>
                  <a:pt x="437" y="256"/>
                </a:lnTo>
                <a:lnTo>
                  <a:pt x="349" y="218"/>
                </a:lnTo>
                <a:lnTo>
                  <a:pt x="269" y="178"/>
                </a:lnTo>
                <a:lnTo>
                  <a:pt x="193" y="136"/>
                </a:lnTo>
                <a:lnTo>
                  <a:pt x="123" y="92"/>
                </a:lnTo>
                <a:lnTo>
                  <a:pt x="58" y="47"/>
                </a:lnTo>
                <a:lnTo>
                  <a:pt x="0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2"/>
          <p:cNvSpPr/>
          <p:nvPr/>
        </p:nvSpPr>
        <p:spPr>
          <a:xfrm flipH="1">
            <a:off x="2115360" y="3039480"/>
            <a:ext cx="293760" cy="509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Freeform 13"/>
          <p:cNvGrpSpPr/>
          <p:nvPr/>
        </p:nvGrpSpPr>
        <p:grpSpPr>
          <a:xfrm>
            <a:off x="2095200" y="3078360"/>
            <a:ext cx="369360" cy="369720"/>
            <a:chOff x="2095200" y="3078360"/>
            <a:chExt cx="369360" cy="369720"/>
          </a:xfrm>
        </p:grpSpPr>
        <p:pic>
          <p:nvPicPr>
            <p:cNvPr id="483" name="Freeform 13" descr=""/>
            <p:cNvPicPr/>
            <p:nvPr/>
          </p:nvPicPr>
          <p:blipFill>
            <a:blip r:embed="rId1"/>
            <a:stretch/>
          </p:blipFill>
          <p:spPr>
            <a:xfrm>
              <a:off x="2139840" y="3127320"/>
              <a:ext cx="27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 rot="1800000">
              <a:off x="2144880" y="3127320"/>
              <a:ext cx="26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Freeform 16"/>
          <p:cNvSpPr/>
          <p:nvPr/>
        </p:nvSpPr>
        <p:spPr>
          <a:xfrm rot="1800000">
            <a:off x="1731960" y="3565440"/>
            <a:ext cx="322200" cy="93600"/>
          </a:xfrm>
          <a:custGeom>
            <a:avLst/>
            <a:gdLst/>
            <a:ahLst/>
            <a:rect l="l" t="t" r="r" b="b"/>
            <a:pathLst>
              <a:path w="4704" h="1372">
                <a:moveTo>
                  <a:pt x="10" y="0"/>
                </a:moveTo>
                <a:lnTo>
                  <a:pt x="7" y="27"/>
                </a:lnTo>
                <a:lnTo>
                  <a:pt x="4" y="52"/>
                </a:lnTo>
                <a:lnTo>
                  <a:pt x="2" y="77"/>
                </a:lnTo>
                <a:lnTo>
                  <a:pt x="0" y="103"/>
                </a:lnTo>
                <a:lnTo>
                  <a:pt x="0" y="127"/>
                </a:lnTo>
                <a:lnTo>
                  <a:pt x="0" y="152"/>
                </a:lnTo>
                <a:lnTo>
                  <a:pt x="1" y="176"/>
                </a:lnTo>
                <a:lnTo>
                  <a:pt x="2" y="201"/>
                </a:lnTo>
                <a:lnTo>
                  <a:pt x="5" y="225"/>
                </a:lnTo>
                <a:lnTo>
                  <a:pt x="8" y="249"/>
                </a:lnTo>
                <a:lnTo>
                  <a:pt x="12" y="272"/>
                </a:lnTo>
                <a:lnTo>
                  <a:pt x="17" y="296"/>
                </a:lnTo>
                <a:lnTo>
                  <a:pt x="23" y="318"/>
                </a:lnTo>
                <a:lnTo>
                  <a:pt x="29" y="342"/>
                </a:lnTo>
                <a:lnTo>
                  <a:pt x="36" y="364"/>
                </a:lnTo>
                <a:lnTo>
                  <a:pt x="44" y="386"/>
                </a:lnTo>
                <a:lnTo>
                  <a:pt x="52" y="409"/>
                </a:lnTo>
                <a:lnTo>
                  <a:pt x="62" y="430"/>
                </a:lnTo>
                <a:lnTo>
                  <a:pt x="72" y="451"/>
                </a:lnTo>
                <a:lnTo>
                  <a:pt x="82" y="472"/>
                </a:lnTo>
                <a:lnTo>
                  <a:pt x="93" y="494"/>
                </a:lnTo>
                <a:lnTo>
                  <a:pt x="105" y="515"/>
                </a:lnTo>
                <a:lnTo>
                  <a:pt x="119" y="535"/>
                </a:lnTo>
                <a:lnTo>
                  <a:pt x="132" y="556"/>
                </a:lnTo>
                <a:lnTo>
                  <a:pt x="147" y="576"/>
                </a:lnTo>
                <a:lnTo>
                  <a:pt x="161" y="596"/>
                </a:lnTo>
                <a:lnTo>
                  <a:pt x="177" y="615"/>
                </a:lnTo>
                <a:lnTo>
                  <a:pt x="193" y="636"/>
                </a:lnTo>
                <a:lnTo>
                  <a:pt x="211" y="655"/>
                </a:lnTo>
                <a:lnTo>
                  <a:pt x="229" y="674"/>
                </a:lnTo>
                <a:lnTo>
                  <a:pt x="247" y="691"/>
                </a:lnTo>
                <a:lnTo>
                  <a:pt x="267" y="710"/>
                </a:lnTo>
                <a:lnTo>
                  <a:pt x="265" y="697"/>
                </a:lnTo>
                <a:lnTo>
                  <a:pt x="263" y="685"/>
                </a:lnTo>
                <a:lnTo>
                  <a:pt x="321" y="732"/>
                </a:lnTo>
                <a:lnTo>
                  <a:pt x="386" y="777"/>
                </a:lnTo>
                <a:lnTo>
                  <a:pt x="456" y="821"/>
                </a:lnTo>
                <a:lnTo>
                  <a:pt x="532" y="863"/>
                </a:lnTo>
                <a:lnTo>
                  <a:pt x="612" y="903"/>
                </a:lnTo>
                <a:lnTo>
                  <a:pt x="700" y="941"/>
                </a:lnTo>
                <a:lnTo>
                  <a:pt x="792" y="975"/>
                </a:lnTo>
                <a:lnTo>
                  <a:pt x="889" y="1010"/>
                </a:lnTo>
                <a:lnTo>
                  <a:pt x="993" y="1041"/>
                </a:lnTo>
                <a:lnTo>
                  <a:pt x="1102" y="1071"/>
                </a:lnTo>
                <a:lnTo>
                  <a:pt x="1215" y="1099"/>
                </a:lnTo>
                <a:lnTo>
                  <a:pt x="1334" y="1126"/>
                </a:lnTo>
                <a:lnTo>
                  <a:pt x="1457" y="1152"/>
                </a:lnTo>
                <a:lnTo>
                  <a:pt x="1587" y="1174"/>
                </a:lnTo>
                <a:lnTo>
                  <a:pt x="1721" y="1196"/>
                </a:lnTo>
                <a:lnTo>
                  <a:pt x="1859" y="1217"/>
                </a:lnTo>
                <a:lnTo>
                  <a:pt x="2003" y="1236"/>
                </a:lnTo>
                <a:lnTo>
                  <a:pt x="2152" y="1252"/>
                </a:lnTo>
                <a:lnTo>
                  <a:pt x="2305" y="1269"/>
                </a:lnTo>
                <a:lnTo>
                  <a:pt x="2462" y="1284"/>
                </a:lnTo>
                <a:lnTo>
                  <a:pt x="2626" y="1297"/>
                </a:lnTo>
                <a:lnTo>
                  <a:pt x="2792" y="1309"/>
                </a:lnTo>
                <a:lnTo>
                  <a:pt x="2964" y="1319"/>
                </a:lnTo>
                <a:lnTo>
                  <a:pt x="3141" y="1329"/>
                </a:lnTo>
                <a:lnTo>
                  <a:pt x="3320" y="1338"/>
                </a:lnTo>
                <a:lnTo>
                  <a:pt x="3506" y="1346"/>
                </a:lnTo>
                <a:lnTo>
                  <a:pt x="3695" y="1353"/>
                </a:lnTo>
                <a:lnTo>
                  <a:pt x="3888" y="1358"/>
                </a:lnTo>
                <a:lnTo>
                  <a:pt x="4086" y="1363"/>
                </a:lnTo>
                <a:lnTo>
                  <a:pt x="4288" y="1366"/>
                </a:lnTo>
                <a:lnTo>
                  <a:pt x="4494" y="1370"/>
                </a:lnTo>
                <a:lnTo>
                  <a:pt x="4704" y="1372"/>
                </a:lnTo>
                <a:lnTo>
                  <a:pt x="4704" y="652"/>
                </a:lnTo>
                <a:lnTo>
                  <a:pt x="4661" y="653"/>
                </a:lnTo>
                <a:lnTo>
                  <a:pt x="4604" y="653"/>
                </a:lnTo>
                <a:lnTo>
                  <a:pt x="4533" y="653"/>
                </a:lnTo>
                <a:lnTo>
                  <a:pt x="4447" y="652"/>
                </a:lnTo>
                <a:lnTo>
                  <a:pt x="4347" y="651"/>
                </a:lnTo>
                <a:lnTo>
                  <a:pt x="4237" y="649"/>
                </a:lnTo>
                <a:lnTo>
                  <a:pt x="4114" y="646"/>
                </a:lnTo>
                <a:lnTo>
                  <a:pt x="3982" y="641"/>
                </a:lnTo>
                <a:lnTo>
                  <a:pt x="3839" y="636"/>
                </a:lnTo>
                <a:lnTo>
                  <a:pt x="3688" y="629"/>
                </a:lnTo>
                <a:lnTo>
                  <a:pt x="3529" y="621"/>
                </a:lnTo>
                <a:lnTo>
                  <a:pt x="3364" y="612"/>
                </a:lnTo>
                <a:lnTo>
                  <a:pt x="3193" y="601"/>
                </a:lnTo>
                <a:lnTo>
                  <a:pt x="3017" y="589"/>
                </a:lnTo>
                <a:lnTo>
                  <a:pt x="2837" y="575"/>
                </a:lnTo>
                <a:lnTo>
                  <a:pt x="2652" y="560"/>
                </a:lnTo>
                <a:lnTo>
                  <a:pt x="2467" y="542"/>
                </a:lnTo>
                <a:lnTo>
                  <a:pt x="2279" y="523"/>
                </a:lnTo>
                <a:lnTo>
                  <a:pt x="2092" y="501"/>
                </a:lnTo>
                <a:lnTo>
                  <a:pt x="1904" y="478"/>
                </a:lnTo>
                <a:lnTo>
                  <a:pt x="1718" y="452"/>
                </a:lnTo>
                <a:lnTo>
                  <a:pt x="1534" y="424"/>
                </a:lnTo>
                <a:lnTo>
                  <a:pt x="1353" y="394"/>
                </a:lnTo>
                <a:lnTo>
                  <a:pt x="1177" y="361"/>
                </a:lnTo>
                <a:lnTo>
                  <a:pt x="1005" y="326"/>
                </a:lnTo>
                <a:lnTo>
                  <a:pt x="838" y="288"/>
                </a:lnTo>
                <a:lnTo>
                  <a:pt x="678" y="247"/>
                </a:lnTo>
                <a:lnTo>
                  <a:pt x="526" y="203"/>
                </a:lnTo>
                <a:lnTo>
                  <a:pt x="382" y="157"/>
                </a:lnTo>
                <a:lnTo>
                  <a:pt x="248" y="108"/>
                </a:lnTo>
                <a:lnTo>
                  <a:pt x="124" y="56"/>
                </a:lnTo>
                <a:lnTo>
                  <a:pt x="1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17"/>
          <p:cNvSpPr/>
          <p:nvPr/>
        </p:nvSpPr>
        <p:spPr>
          <a:xfrm rot="1800000">
            <a:off x="1984320" y="3759120"/>
            <a:ext cx="303120" cy="114480"/>
          </a:xfrm>
          <a:custGeom>
            <a:avLst/>
            <a:gdLst/>
            <a:ahLst/>
            <a:rect l="l" t="t" r="r" b="b"/>
            <a:pathLst>
              <a:path w="4439" h="1674">
                <a:moveTo>
                  <a:pt x="4439" y="0"/>
                </a:moveTo>
                <a:lnTo>
                  <a:pt x="4418" y="119"/>
                </a:lnTo>
                <a:lnTo>
                  <a:pt x="4388" y="233"/>
                </a:lnTo>
                <a:lnTo>
                  <a:pt x="4349" y="343"/>
                </a:lnTo>
                <a:lnTo>
                  <a:pt x="4303" y="447"/>
                </a:lnTo>
                <a:lnTo>
                  <a:pt x="4248" y="546"/>
                </a:lnTo>
                <a:lnTo>
                  <a:pt x="4186" y="640"/>
                </a:lnTo>
                <a:lnTo>
                  <a:pt x="4114" y="729"/>
                </a:lnTo>
                <a:lnTo>
                  <a:pt x="4036" y="814"/>
                </a:lnTo>
                <a:lnTo>
                  <a:pt x="3950" y="894"/>
                </a:lnTo>
                <a:lnTo>
                  <a:pt x="3856" y="970"/>
                </a:lnTo>
                <a:lnTo>
                  <a:pt x="3754" y="1041"/>
                </a:lnTo>
                <a:lnTo>
                  <a:pt x="3645" y="1108"/>
                </a:lnTo>
                <a:lnTo>
                  <a:pt x="3528" y="1171"/>
                </a:lnTo>
                <a:lnTo>
                  <a:pt x="3404" y="1229"/>
                </a:lnTo>
                <a:lnTo>
                  <a:pt x="3273" y="1282"/>
                </a:lnTo>
                <a:lnTo>
                  <a:pt x="3134" y="1333"/>
                </a:lnTo>
                <a:lnTo>
                  <a:pt x="2988" y="1380"/>
                </a:lnTo>
                <a:lnTo>
                  <a:pt x="2835" y="1422"/>
                </a:lnTo>
                <a:lnTo>
                  <a:pt x="2675" y="1461"/>
                </a:lnTo>
                <a:lnTo>
                  <a:pt x="2509" y="1497"/>
                </a:lnTo>
                <a:lnTo>
                  <a:pt x="2336" y="1528"/>
                </a:lnTo>
                <a:lnTo>
                  <a:pt x="2155" y="1557"/>
                </a:lnTo>
                <a:lnTo>
                  <a:pt x="1968" y="1582"/>
                </a:lnTo>
                <a:lnTo>
                  <a:pt x="1775" y="1604"/>
                </a:lnTo>
                <a:lnTo>
                  <a:pt x="1575" y="1622"/>
                </a:lnTo>
                <a:lnTo>
                  <a:pt x="1368" y="1638"/>
                </a:lnTo>
                <a:lnTo>
                  <a:pt x="1156" y="1651"/>
                </a:lnTo>
                <a:lnTo>
                  <a:pt x="937" y="1660"/>
                </a:lnTo>
                <a:lnTo>
                  <a:pt x="711" y="1668"/>
                </a:lnTo>
                <a:lnTo>
                  <a:pt x="480" y="1671"/>
                </a:lnTo>
                <a:lnTo>
                  <a:pt x="242" y="1674"/>
                </a:lnTo>
                <a:lnTo>
                  <a:pt x="0" y="1672"/>
                </a:lnTo>
                <a:lnTo>
                  <a:pt x="0" y="687"/>
                </a:lnTo>
                <a:lnTo>
                  <a:pt x="208" y="685"/>
                </a:lnTo>
                <a:lnTo>
                  <a:pt x="414" y="681"/>
                </a:lnTo>
                <a:lnTo>
                  <a:pt x="616" y="678"/>
                </a:lnTo>
                <a:lnTo>
                  <a:pt x="814" y="673"/>
                </a:lnTo>
                <a:lnTo>
                  <a:pt x="1007" y="668"/>
                </a:lnTo>
                <a:lnTo>
                  <a:pt x="1196" y="661"/>
                </a:lnTo>
                <a:lnTo>
                  <a:pt x="1382" y="653"/>
                </a:lnTo>
                <a:lnTo>
                  <a:pt x="1561" y="644"/>
                </a:lnTo>
                <a:lnTo>
                  <a:pt x="1738" y="634"/>
                </a:lnTo>
                <a:lnTo>
                  <a:pt x="1910" y="624"/>
                </a:lnTo>
                <a:lnTo>
                  <a:pt x="2076" y="612"/>
                </a:lnTo>
                <a:lnTo>
                  <a:pt x="2240" y="599"/>
                </a:lnTo>
                <a:lnTo>
                  <a:pt x="2397" y="584"/>
                </a:lnTo>
                <a:lnTo>
                  <a:pt x="2550" y="567"/>
                </a:lnTo>
                <a:lnTo>
                  <a:pt x="2699" y="551"/>
                </a:lnTo>
                <a:lnTo>
                  <a:pt x="2843" y="532"/>
                </a:lnTo>
                <a:lnTo>
                  <a:pt x="2981" y="511"/>
                </a:lnTo>
                <a:lnTo>
                  <a:pt x="3115" y="489"/>
                </a:lnTo>
                <a:lnTo>
                  <a:pt x="3245" y="467"/>
                </a:lnTo>
                <a:lnTo>
                  <a:pt x="3368" y="441"/>
                </a:lnTo>
                <a:lnTo>
                  <a:pt x="3487" y="414"/>
                </a:lnTo>
                <a:lnTo>
                  <a:pt x="3600" y="386"/>
                </a:lnTo>
                <a:lnTo>
                  <a:pt x="3709" y="356"/>
                </a:lnTo>
                <a:lnTo>
                  <a:pt x="3813" y="325"/>
                </a:lnTo>
                <a:lnTo>
                  <a:pt x="3910" y="290"/>
                </a:lnTo>
                <a:lnTo>
                  <a:pt x="4002" y="256"/>
                </a:lnTo>
                <a:lnTo>
                  <a:pt x="4090" y="218"/>
                </a:lnTo>
                <a:lnTo>
                  <a:pt x="4170" y="178"/>
                </a:lnTo>
                <a:lnTo>
                  <a:pt x="4246" y="136"/>
                </a:lnTo>
                <a:lnTo>
                  <a:pt x="4316" y="92"/>
                </a:lnTo>
                <a:lnTo>
                  <a:pt x="4381" y="47"/>
                </a:lnTo>
                <a:lnTo>
                  <a:pt x="4439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8"/>
          <p:cNvSpPr/>
          <p:nvPr/>
        </p:nvSpPr>
        <p:spPr>
          <a:xfrm rot="1800000">
            <a:off x="2009880" y="3726000"/>
            <a:ext cx="322200" cy="95040"/>
          </a:xfrm>
          <a:custGeom>
            <a:avLst/>
            <a:gdLst/>
            <a:ahLst/>
            <a:rect l="l" t="t" r="r" b="b"/>
            <a:pathLst>
              <a:path w="4702" h="1372">
                <a:moveTo>
                  <a:pt x="4692" y="0"/>
                </a:moveTo>
                <a:lnTo>
                  <a:pt x="4695" y="27"/>
                </a:lnTo>
                <a:lnTo>
                  <a:pt x="4698" y="52"/>
                </a:lnTo>
                <a:lnTo>
                  <a:pt x="4701" y="77"/>
                </a:lnTo>
                <a:lnTo>
                  <a:pt x="4702" y="103"/>
                </a:lnTo>
                <a:lnTo>
                  <a:pt x="4702" y="127"/>
                </a:lnTo>
                <a:lnTo>
                  <a:pt x="4702" y="152"/>
                </a:lnTo>
                <a:lnTo>
                  <a:pt x="4701" y="176"/>
                </a:lnTo>
                <a:lnTo>
                  <a:pt x="4700" y="201"/>
                </a:lnTo>
                <a:lnTo>
                  <a:pt x="4697" y="225"/>
                </a:lnTo>
                <a:lnTo>
                  <a:pt x="4694" y="249"/>
                </a:lnTo>
                <a:lnTo>
                  <a:pt x="4690" y="272"/>
                </a:lnTo>
                <a:lnTo>
                  <a:pt x="4685" y="296"/>
                </a:lnTo>
                <a:lnTo>
                  <a:pt x="4679" y="318"/>
                </a:lnTo>
                <a:lnTo>
                  <a:pt x="4673" y="342"/>
                </a:lnTo>
                <a:lnTo>
                  <a:pt x="4666" y="364"/>
                </a:lnTo>
                <a:lnTo>
                  <a:pt x="4658" y="386"/>
                </a:lnTo>
                <a:lnTo>
                  <a:pt x="4650" y="409"/>
                </a:lnTo>
                <a:lnTo>
                  <a:pt x="4640" y="430"/>
                </a:lnTo>
                <a:lnTo>
                  <a:pt x="4630" y="451"/>
                </a:lnTo>
                <a:lnTo>
                  <a:pt x="4620" y="472"/>
                </a:lnTo>
                <a:lnTo>
                  <a:pt x="4609" y="494"/>
                </a:lnTo>
                <a:lnTo>
                  <a:pt x="4597" y="515"/>
                </a:lnTo>
                <a:lnTo>
                  <a:pt x="4583" y="535"/>
                </a:lnTo>
                <a:lnTo>
                  <a:pt x="4570" y="556"/>
                </a:lnTo>
                <a:lnTo>
                  <a:pt x="4555" y="576"/>
                </a:lnTo>
                <a:lnTo>
                  <a:pt x="4541" y="596"/>
                </a:lnTo>
                <a:lnTo>
                  <a:pt x="4525" y="615"/>
                </a:lnTo>
                <a:lnTo>
                  <a:pt x="4509" y="636"/>
                </a:lnTo>
                <a:lnTo>
                  <a:pt x="4491" y="655"/>
                </a:lnTo>
                <a:lnTo>
                  <a:pt x="4473" y="674"/>
                </a:lnTo>
                <a:lnTo>
                  <a:pt x="4455" y="691"/>
                </a:lnTo>
                <a:lnTo>
                  <a:pt x="4435" y="710"/>
                </a:lnTo>
                <a:lnTo>
                  <a:pt x="4437" y="697"/>
                </a:lnTo>
                <a:lnTo>
                  <a:pt x="4439" y="685"/>
                </a:lnTo>
                <a:lnTo>
                  <a:pt x="4381" y="732"/>
                </a:lnTo>
                <a:lnTo>
                  <a:pt x="4316" y="777"/>
                </a:lnTo>
                <a:lnTo>
                  <a:pt x="4246" y="821"/>
                </a:lnTo>
                <a:lnTo>
                  <a:pt x="4170" y="863"/>
                </a:lnTo>
                <a:lnTo>
                  <a:pt x="4090" y="903"/>
                </a:lnTo>
                <a:lnTo>
                  <a:pt x="4002" y="941"/>
                </a:lnTo>
                <a:lnTo>
                  <a:pt x="3910" y="975"/>
                </a:lnTo>
                <a:lnTo>
                  <a:pt x="3813" y="1010"/>
                </a:lnTo>
                <a:lnTo>
                  <a:pt x="3709" y="1041"/>
                </a:lnTo>
                <a:lnTo>
                  <a:pt x="3600" y="1071"/>
                </a:lnTo>
                <a:lnTo>
                  <a:pt x="3487" y="1099"/>
                </a:lnTo>
                <a:lnTo>
                  <a:pt x="3368" y="1126"/>
                </a:lnTo>
                <a:lnTo>
                  <a:pt x="3245" y="1152"/>
                </a:lnTo>
                <a:lnTo>
                  <a:pt x="3115" y="1174"/>
                </a:lnTo>
                <a:lnTo>
                  <a:pt x="2981" y="1196"/>
                </a:lnTo>
                <a:lnTo>
                  <a:pt x="2843" y="1217"/>
                </a:lnTo>
                <a:lnTo>
                  <a:pt x="2699" y="1236"/>
                </a:lnTo>
                <a:lnTo>
                  <a:pt x="2550" y="1252"/>
                </a:lnTo>
                <a:lnTo>
                  <a:pt x="2397" y="1269"/>
                </a:lnTo>
                <a:lnTo>
                  <a:pt x="2240" y="1284"/>
                </a:lnTo>
                <a:lnTo>
                  <a:pt x="2076" y="1297"/>
                </a:lnTo>
                <a:lnTo>
                  <a:pt x="1910" y="1309"/>
                </a:lnTo>
                <a:lnTo>
                  <a:pt x="1738" y="1319"/>
                </a:lnTo>
                <a:lnTo>
                  <a:pt x="1561" y="1329"/>
                </a:lnTo>
                <a:lnTo>
                  <a:pt x="1382" y="1338"/>
                </a:lnTo>
                <a:lnTo>
                  <a:pt x="1196" y="1346"/>
                </a:lnTo>
                <a:lnTo>
                  <a:pt x="1007" y="1353"/>
                </a:lnTo>
                <a:lnTo>
                  <a:pt x="814" y="1358"/>
                </a:lnTo>
                <a:lnTo>
                  <a:pt x="616" y="1363"/>
                </a:lnTo>
                <a:lnTo>
                  <a:pt x="414" y="1366"/>
                </a:lnTo>
                <a:lnTo>
                  <a:pt x="208" y="1370"/>
                </a:lnTo>
                <a:lnTo>
                  <a:pt x="0" y="1372"/>
                </a:lnTo>
                <a:lnTo>
                  <a:pt x="0" y="652"/>
                </a:lnTo>
                <a:lnTo>
                  <a:pt x="41" y="653"/>
                </a:lnTo>
                <a:lnTo>
                  <a:pt x="98" y="653"/>
                </a:lnTo>
                <a:lnTo>
                  <a:pt x="169" y="653"/>
                </a:lnTo>
                <a:lnTo>
                  <a:pt x="255" y="652"/>
                </a:lnTo>
                <a:lnTo>
                  <a:pt x="355" y="651"/>
                </a:lnTo>
                <a:lnTo>
                  <a:pt x="465" y="649"/>
                </a:lnTo>
                <a:lnTo>
                  <a:pt x="588" y="646"/>
                </a:lnTo>
                <a:lnTo>
                  <a:pt x="721" y="641"/>
                </a:lnTo>
                <a:lnTo>
                  <a:pt x="863" y="636"/>
                </a:lnTo>
                <a:lnTo>
                  <a:pt x="1014" y="629"/>
                </a:lnTo>
                <a:lnTo>
                  <a:pt x="1173" y="621"/>
                </a:lnTo>
                <a:lnTo>
                  <a:pt x="1338" y="612"/>
                </a:lnTo>
                <a:lnTo>
                  <a:pt x="1509" y="601"/>
                </a:lnTo>
                <a:lnTo>
                  <a:pt x="1685" y="589"/>
                </a:lnTo>
                <a:lnTo>
                  <a:pt x="1865" y="575"/>
                </a:lnTo>
                <a:lnTo>
                  <a:pt x="2050" y="560"/>
                </a:lnTo>
                <a:lnTo>
                  <a:pt x="2235" y="542"/>
                </a:lnTo>
                <a:lnTo>
                  <a:pt x="2423" y="523"/>
                </a:lnTo>
                <a:lnTo>
                  <a:pt x="2610" y="501"/>
                </a:lnTo>
                <a:lnTo>
                  <a:pt x="2798" y="478"/>
                </a:lnTo>
                <a:lnTo>
                  <a:pt x="2984" y="452"/>
                </a:lnTo>
                <a:lnTo>
                  <a:pt x="3168" y="424"/>
                </a:lnTo>
                <a:lnTo>
                  <a:pt x="3349" y="394"/>
                </a:lnTo>
                <a:lnTo>
                  <a:pt x="3525" y="361"/>
                </a:lnTo>
                <a:lnTo>
                  <a:pt x="3697" y="326"/>
                </a:lnTo>
                <a:lnTo>
                  <a:pt x="3864" y="288"/>
                </a:lnTo>
                <a:lnTo>
                  <a:pt x="4024" y="247"/>
                </a:lnTo>
                <a:lnTo>
                  <a:pt x="4176" y="203"/>
                </a:lnTo>
                <a:lnTo>
                  <a:pt x="4320" y="157"/>
                </a:lnTo>
                <a:lnTo>
                  <a:pt x="4454" y="108"/>
                </a:lnTo>
                <a:lnTo>
                  <a:pt x="4578" y="56"/>
                </a:lnTo>
                <a:lnTo>
                  <a:pt x="4692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14"/>
          <p:cNvSpPr/>
          <p:nvPr/>
        </p:nvSpPr>
        <p:spPr>
          <a:xfrm rot="1800000">
            <a:off x="2128320" y="3060720"/>
            <a:ext cx="162000" cy="324000"/>
          </a:xfrm>
          <a:custGeom>
            <a:avLst/>
            <a:gdLst/>
            <a:ahLst/>
            <a:rect l="l" t="t" r="r" b="b"/>
            <a:pathLst>
              <a:path w="2357" h="4712">
                <a:moveTo>
                  <a:pt x="2357" y="433"/>
                </a:moveTo>
                <a:lnTo>
                  <a:pt x="2357" y="433"/>
                </a:lnTo>
                <a:lnTo>
                  <a:pt x="2357" y="433"/>
                </a:lnTo>
                <a:lnTo>
                  <a:pt x="2357" y="0"/>
                </a:lnTo>
                <a:lnTo>
                  <a:pt x="2357" y="0"/>
                </a:lnTo>
                <a:lnTo>
                  <a:pt x="2357" y="0"/>
                </a:lnTo>
                <a:lnTo>
                  <a:pt x="2235" y="4"/>
                </a:lnTo>
                <a:lnTo>
                  <a:pt x="2115" y="13"/>
                </a:lnTo>
                <a:lnTo>
                  <a:pt x="1998" y="28"/>
                </a:lnTo>
                <a:lnTo>
                  <a:pt x="1883" y="48"/>
                </a:lnTo>
                <a:lnTo>
                  <a:pt x="1769" y="75"/>
                </a:lnTo>
                <a:lnTo>
                  <a:pt x="1657" y="106"/>
                </a:lnTo>
                <a:lnTo>
                  <a:pt x="1548" y="144"/>
                </a:lnTo>
                <a:lnTo>
                  <a:pt x="1440" y="186"/>
                </a:lnTo>
                <a:lnTo>
                  <a:pt x="1337" y="234"/>
                </a:lnTo>
                <a:lnTo>
                  <a:pt x="1235" y="285"/>
                </a:lnTo>
                <a:lnTo>
                  <a:pt x="1137" y="342"/>
                </a:lnTo>
                <a:lnTo>
                  <a:pt x="1041" y="404"/>
                </a:lnTo>
                <a:lnTo>
                  <a:pt x="948" y="470"/>
                </a:lnTo>
                <a:lnTo>
                  <a:pt x="860" y="540"/>
                </a:lnTo>
                <a:lnTo>
                  <a:pt x="774" y="614"/>
                </a:lnTo>
                <a:lnTo>
                  <a:pt x="692" y="692"/>
                </a:lnTo>
                <a:lnTo>
                  <a:pt x="614" y="773"/>
                </a:lnTo>
                <a:lnTo>
                  <a:pt x="540" y="859"/>
                </a:lnTo>
                <a:lnTo>
                  <a:pt x="470" y="949"/>
                </a:lnTo>
                <a:lnTo>
                  <a:pt x="404" y="1040"/>
                </a:lnTo>
                <a:lnTo>
                  <a:pt x="342" y="1137"/>
                </a:lnTo>
                <a:lnTo>
                  <a:pt x="285" y="1235"/>
                </a:lnTo>
                <a:lnTo>
                  <a:pt x="233" y="1337"/>
                </a:lnTo>
                <a:lnTo>
                  <a:pt x="186" y="1441"/>
                </a:lnTo>
                <a:lnTo>
                  <a:pt x="143" y="1548"/>
                </a:lnTo>
                <a:lnTo>
                  <a:pt x="107" y="1657"/>
                </a:lnTo>
                <a:lnTo>
                  <a:pt x="75" y="1769"/>
                </a:lnTo>
                <a:lnTo>
                  <a:pt x="48" y="1883"/>
                </a:lnTo>
                <a:lnTo>
                  <a:pt x="27" y="1998"/>
                </a:lnTo>
                <a:lnTo>
                  <a:pt x="13" y="2117"/>
                </a:lnTo>
                <a:lnTo>
                  <a:pt x="4" y="2236"/>
                </a:lnTo>
                <a:lnTo>
                  <a:pt x="0" y="2357"/>
                </a:lnTo>
                <a:lnTo>
                  <a:pt x="4" y="2477"/>
                </a:lnTo>
                <a:lnTo>
                  <a:pt x="13" y="2597"/>
                </a:lnTo>
                <a:lnTo>
                  <a:pt x="27" y="2714"/>
                </a:lnTo>
                <a:lnTo>
                  <a:pt x="48" y="2831"/>
                </a:lnTo>
                <a:lnTo>
                  <a:pt x="75" y="2944"/>
                </a:lnTo>
                <a:lnTo>
                  <a:pt x="107" y="3056"/>
                </a:lnTo>
                <a:lnTo>
                  <a:pt x="143" y="3166"/>
                </a:lnTo>
                <a:lnTo>
                  <a:pt x="186" y="3272"/>
                </a:lnTo>
                <a:lnTo>
                  <a:pt x="233" y="3377"/>
                </a:lnTo>
                <a:lnTo>
                  <a:pt x="285" y="3477"/>
                </a:lnTo>
                <a:lnTo>
                  <a:pt x="342" y="3577"/>
                </a:lnTo>
                <a:lnTo>
                  <a:pt x="404" y="3672"/>
                </a:lnTo>
                <a:lnTo>
                  <a:pt x="470" y="3765"/>
                </a:lnTo>
                <a:lnTo>
                  <a:pt x="540" y="3854"/>
                </a:lnTo>
                <a:lnTo>
                  <a:pt x="614" y="3939"/>
                </a:lnTo>
                <a:lnTo>
                  <a:pt x="692" y="4022"/>
                </a:lnTo>
                <a:lnTo>
                  <a:pt x="774" y="4099"/>
                </a:lnTo>
                <a:lnTo>
                  <a:pt x="860" y="4174"/>
                </a:lnTo>
                <a:lnTo>
                  <a:pt x="948" y="4244"/>
                </a:lnTo>
                <a:lnTo>
                  <a:pt x="1041" y="4309"/>
                </a:lnTo>
                <a:lnTo>
                  <a:pt x="1137" y="4370"/>
                </a:lnTo>
                <a:lnTo>
                  <a:pt x="1235" y="4427"/>
                </a:lnTo>
                <a:lnTo>
                  <a:pt x="1337" y="4480"/>
                </a:lnTo>
                <a:lnTo>
                  <a:pt x="1440" y="4527"/>
                </a:lnTo>
                <a:lnTo>
                  <a:pt x="1548" y="4569"/>
                </a:lnTo>
                <a:lnTo>
                  <a:pt x="1657" y="4606"/>
                </a:lnTo>
                <a:lnTo>
                  <a:pt x="1769" y="4638"/>
                </a:lnTo>
                <a:lnTo>
                  <a:pt x="1883" y="4664"/>
                </a:lnTo>
                <a:lnTo>
                  <a:pt x="1998" y="4685"/>
                </a:lnTo>
                <a:lnTo>
                  <a:pt x="2115" y="4700"/>
                </a:lnTo>
                <a:lnTo>
                  <a:pt x="2235" y="4710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281"/>
                </a:lnTo>
                <a:lnTo>
                  <a:pt x="2357" y="4281"/>
                </a:lnTo>
                <a:lnTo>
                  <a:pt x="2357" y="4281"/>
                </a:lnTo>
                <a:lnTo>
                  <a:pt x="2257" y="4279"/>
                </a:lnTo>
                <a:lnTo>
                  <a:pt x="2160" y="4271"/>
                </a:lnTo>
                <a:lnTo>
                  <a:pt x="2064" y="4259"/>
                </a:lnTo>
                <a:lnTo>
                  <a:pt x="1969" y="4242"/>
                </a:lnTo>
                <a:lnTo>
                  <a:pt x="1876" y="4221"/>
                </a:lnTo>
                <a:lnTo>
                  <a:pt x="1785" y="4194"/>
                </a:lnTo>
                <a:lnTo>
                  <a:pt x="1695" y="4164"/>
                </a:lnTo>
                <a:lnTo>
                  <a:pt x="1608" y="4129"/>
                </a:lnTo>
                <a:lnTo>
                  <a:pt x="1523" y="4091"/>
                </a:lnTo>
                <a:lnTo>
                  <a:pt x="1440" y="4048"/>
                </a:lnTo>
                <a:lnTo>
                  <a:pt x="1360" y="4002"/>
                </a:lnTo>
                <a:lnTo>
                  <a:pt x="1282" y="3951"/>
                </a:lnTo>
                <a:lnTo>
                  <a:pt x="1206" y="3898"/>
                </a:lnTo>
                <a:lnTo>
                  <a:pt x="1133" y="3841"/>
                </a:lnTo>
                <a:lnTo>
                  <a:pt x="1064" y="3780"/>
                </a:lnTo>
                <a:lnTo>
                  <a:pt x="997" y="3717"/>
                </a:lnTo>
                <a:lnTo>
                  <a:pt x="933" y="3650"/>
                </a:lnTo>
                <a:lnTo>
                  <a:pt x="872" y="3579"/>
                </a:lnTo>
                <a:lnTo>
                  <a:pt x="815" y="3507"/>
                </a:lnTo>
                <a:lnTo>
                  <a:pt x="761" y="3432"/>
                </a:lnTo>
                <a:lnTo>
                  <a:pt x="711" y="3353"/>
                </a:lnTo>
                <a:lnTo>
                  <a:pt x="665" y="3273"/>
                </a:lnTo>
                <a:lnTo>
                  <a:pt x="623" y="3189"/>
                </a:lnTo>
                <a:lnTo>
                  <a:pt x="584" y="3104"/>
                </a:lnTo>
                <a:lnTo>
                  <a:pt x="549" y="3017"/>
                </a:lnTo>
                <a:lnTo>
                  <a:pt x="519" y="2928"/>
                </a:lnTo>
                <a:lnTo>
                  <a:pt x="493" y="2836"/>
                </a:lnTo>
                <a:lnTo>
                  <a:pt x="471" y="2743"/>
                </a:lnTo>
                <a:lnTo>
                  <a:pt x="454" y="2648"/>
                </a:lnTo>
                <a:lnTo>
                  <a:pt x="442" y="2552"/>
                </a:lnTo>
                <a:lnTo>
                  <a:pt x="435" y="2455"/>
                </a:lnTo>
                <a:lnTo>
                  <a:pt x="432" y="2357"/>
                </a:lnTo>
                <a:lnTo>
                  <a:pt x="435" y="2257"/>
                </a:lnTo>
                <a:lnTo>
                  <a:pt x="442" y="2160"/>
                </a:lnTo>
                <a:lnTo>
                  <a:pt x="454" y="2064"/>
                </a:lnTo>
                <a:lnTo>
                  <a:pt x="471" y="1969"/>
                </a:lnTo>
                <a:lnTo>
                  <a:pt x="493" y="1876"/>
                </a:lnTo>
                <a:lnTo>
                  <a:pt x="519" y="1786"/>
                </a:lnTo>
                <a:lnTo>
                  <a:pt x="549" y="1696"/>
                </a:lnTo>
                <a:lnTo>
                  <a:pt x="584" y="1609"/>
                </a:lnTo>
                <a:lnTo>
                  <a:pt x="623" y="1523"/>
                </a:lnTo>
                <a:lnTo>
                  <a:pt x="665" y="1441"/>
                </a:lnTo>
                <a:lnTo>
                  <a:pt x="711" y="1360"/>
                </a:lnTo>
                <a:lnTo>
                  <a:pt x="761" y="1282"/>
                </a:lnTo>
                <a:lnTo>
                  <a:pt x="815" y="1206"/>
                </a:lnTo>
                <a:lnTo>
                  <a:pt x="872" y="1133"/>
                </a:lnTo>
                <a:lnTo>
                  <a:pt x="933" y="1064"/>
                </a:lnTo>
                <a:lnTo>
                  <a:pt x="997" y="997"/>
                </a:lnTo>
                <a:lnTo>
                  <a:pt x="1064" y="933"/>
                </a:lnTo>
                <a:lnTo>
                  <a:pt x="1133" y="873"/>
                </a:lnTo>
                <a:lnTo>
                  <a:pt x="1206" y="815"/>
                </a:lnTo>
                <a:lnTo>
                  <a:pt x="1282" y="761"/>
                </a:lnTo>
                <a:lnTo>
                  <a:pt x="1360" y="711"/>
                </a:lnTo>
                <a:lnTo>
                  <a:pt x="1440" y="665"/>
                </a:lnTo>
                <a:lnTo>
                  <a:pt x="1523" y="623"/>
                </a:lnTo>
                <a:lnTo>
                  <a:pt x="1608" y="583"/>
                </a:lnTo>
                <a:lnTo>
                  <a:pt x="1695" y="549"/>
                </a:lnTo>
                <a:lnTo>
                  <a:pt x="1785" y="519"/>
                </a:lnTo>
                <a:lnTo>
                  <a:pt x="1876" y="493"/>
                </a:lnTo>
                <a:lnTo>
                  <a:pt x="1969" y="472"/>
                </a:lnTo>
                <a:lnTo>
                  <a:pt x="2064" y="454"/>
                </a:lnTo>
                <a:lnTo>
                  <a:pt x="2160" y="442"/>
                </a:lnTo>
                <a:lnTo>
                  <a:pt x="2257" y="435"/>
                </a:lnTo>
                <a:lnTo>
                  <a:pt x="2357" y="433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15"/>
          <p:cNvSpPr/>
          <p:nvPr/>
        </p:nvSpPr>
        <p:spPr>
          <a:xfrm rot="1800000">
            <a:off x="2268360" y="3141720"/>
            <a:ext cx="162000" cy="323640"/>
          </a:xfrm>
          <a:custGeom>
            <a:avLst/>
            <a:gdLst/>
            <a:ahLst/>
            <a:rect l="l" t="t" r="r" b="b"/>
            <a:pathLst>
              <a:path w="2355" h="4712">
                <a:moveTo>
                  <a:pt x="0" y="433"/>
                </a:moveTo>
                <a:lnTo>
                  <a:pt x="0" y="433"/>
                </a:lnTo>
                <a:lnTo>
                  <a:pt x="0" y="4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0" y="4"/>
                </a:lnTo>
                <a:lnTo>
                  <a:pt x="240" y="13"/>
                </a:lnTo>
                <a:lnTo>
                  <a:pt x="357" y="28"/>
                </a:lnTo>
                <a:lnTo>
                  <a:pt x="473" y="48"/>
                </a:lnTo>
                <a:lnTo>
                  <a:pt x="587" y="75"/>
                </a:lnTo>
                <a:lnTo>
                  <a:pt x="698" y="106"/>
                </a:lnTo>
                <a:lnTo>
                  <a:pt x="807" y="144"/>
                </a:lnTo>
                <a:lnTo>
                  <a:pt x="915" y="186"/>
                </a:lnTo>
                <a:lnTo>
                  <a:pt x="1018" y="234"/>
                </a:lnTo>
                <a:lnTo>
                  <a:pt x="1120" y="285"/>
                </a:lnTo>
                <a:lnTo>
                  <a:pt x="1220" y="342"/>
                </a:lnTo>
                <a:lnTo>
                  <a:pt x="1314" y="404"/>
                </a:lnTo>
                <a:lnTo>
                  <a:pt x="1407" y="470"/>
                </a:lnTo>
                <a:lnTo>
                  <a:pt x="1497" y="540"/>
                </a:lnTo>
                <a:lnTo>
                  <a:pt x="1581" y="614"/>
                </a:lnTo>
                <a:lnTo>
                  <a:pt x="1663" y="692"/>
                </a:lnTo>
                <a:lnTo>
                  <a:pt x="1741" y="773"/>
                </a:lnTo>
                <a:lnTo>
                  <a:pt x="1816" y="859"/>
                </a:lnTo>
                <a:lnTo>
                  <a:pt x="1885" y="949"/>
                </a:lnTo>
                <a:lnTo>
                  <a:pt x="1951" y="1040"/>
                </a:lnTo>
                <a:lnTo>
                  <a:pt x="2013" y="1137"/>
                </a:lnTo>
                <a:lnTo>
                  <a:pt x="2070" y="1235"/>
                </a:lnTo>
                <a:lnTo>
                  <a:pt x="2122" y="1337"/>
                </a:lnTo>
                <a:lnTo>
                  <a:pt x="2169" y="1441"/>
                </a:lnTo>
                <a:lnTo>
                  <a:pt x="2212" y="1548"/>
                </a:lnTo>
                <a:lnTo>
                  <a:pt x="2248" y="1657"/>
                </a:lnTo>
                <a:lnTo>
                  <a:pt x="2281" y="1769"/>
                </a:lnTo>
                <a:lnTo>
                  <a:pt x="2307" y="1883"/>
                </a:lnTo>
                <a:lnTo>
                  <a:pt x="2328" y="1998"/>
                </a:lnTo>
                <a:lnTo>
                  <a:pt x="2342" y="2117"/>
                </a:lnTo>
                <a:lnTo>
                  <a:pt x="2351" y="2236"/>
                </a:lnTo>
                <a:lnTo>
                  <a:pt x="2355" y="2357"/>
                </a:lnTo>
                <a:lnTo>
                  <a:pt x="2351" y="2477"/>
                </a:lnTo>
                <a:lnTo>
                  <a:pt x="2342" y="2597"/>
                </a:lnTo>
                <a:lnTo>
                  <a:pt x="2328" y="2714"/>
                </a:lnTo>
                <a:lnTo>
                  <a:pt x="2307" y="2831"/>
                </a:lnTo>
                <a:lnTo>
                  <a:pt x="2281" y="2944"/>
                </a:lnTo>
                <a:lnTo>
                  <a:pt x="2248" y="3056"/>
                </a:lnTo>
                <a:lnTo>
                  <a:pt x="2212" y="3166"/>
                </a:lnTo>
                <a:lnTo>
                  <a:pt x="2169" y="3272"/>
                </a:lnTo>
                <a:lnTo>
                  <a:pt x="2122" y="3377"/>
                </a:lnTo>
                <a:lnTo>
                  <a:pt x="2070" y="3477"/>
                </a:lnTo>
                <a:lnTo>
                  <a:pt x="2013" y="3577"/>
                </a:lnTo>
                <a:lnTo>
                  <a:pt x="1951" y="3672"/>
                </a:lnTo>
                <a:lnTo>
                  <a:pt x="1885" y="3765"/>
                </a:lnTo>
                <a:lnTo>
                  <a:pt x="1816" y="3854"/>
                </a:lnTo>
                <a:lnTo>
                  <a:pt x="1741" y="3939"/>
                </a:lnTo>
                <a:lnTo>
                  <a:pt x="1663" y="4022"/>
                </a:lnTo>
                <a:lnTo>
                  <a:pt x="1581" y="4099"/>
                </a:lnTo>
                <a:lnTo>
                  <a:pt x="1497" y="4174"/>
                </a:lnTo>
                <a:lnTo>
                  <a:pt x="1407" y="4244"/>
                </a:lnTo>
                <a:lnTo>
                  <a:pt x="1314" y="4309"/>
                </a:lnTo>
                <a:lnTo>
                  <a:pt x="1220" y="4370"/>
                </a:lnTo>
                <a:lnTo>
                  <a:pt x="1120" y="4427"/>
                </a:lnTo>
                <a:lnTo>
                  <a:pt x="1018" y="4480"/>
                </a:lnTo>
                <a:lnTo>
                  <a:pt x="915" y="4527"/>
                </a:lnTo>
                <a:lnTo>
                  <a:pt x="807" y="4569"/>
                </a:lnTo>
                <a:lnTo>
                  <a:pt x="698" y="4606"/>
                </a:lnTo>
                <a:lnTo>
                  <a:pt x="587" y="4638"/>
                </a:lnTo>
                <a:lnTo>
                  <a:pt x="473" y="4664"/>
                </a:lnTo>
                <a:lnTo>
                  <a:pt x="357" y="4685"/>
                </a:lnTo>
                <a:lnTo>
                  <a:pt x="240" y="4700"/>
                </a:lnTo>
                <a:lnTo>
                  <a:pt x="120" y="4710"/>
                </a:lnTo>
                <a:lnTo>
                  <a:pt x="0" y="4712"/>
                </a:lnTo>
                <a:lnTo>
                  <a:pt x="0" y="4712"/>
                </a:lnTo>
                <a:lnTo>
                  <a:pt x="0" y="4712"/>
                </a:lnTo>
                <a:lnTo>
                  <a:pt x="0" y="4281"/>
                </a:lnTo>
                <a:lnTo>
                  <a:pt x="0" y="4281"/>
                </a:lnTo>
                <a:lnTo>
                  <a:pt x="0" y="4281"/>
                </a:lnTo>
                <a:lnTo>
                  <a:pt x="98" y="4279"/>
                </a:lnTo>
                <a:lnTo>
                  <a:pt x="195" y="4271"/>
                </a:lnTo>
                <a:lnTo>
                  <a:pt x="291" y="4259"/>
                </a:lnTo>
                <a:lnTo>
                  <a:pt x="386" y="4242"/>
                </a:lnTo>
                <a:lnTo>
                  <a:pt x="479" y="4221"/>
                </a:lnTo>
                <a:lnTo>
                  <a:pt x="570" y="4194"/>
                </a:lnTo>
                <a:lnTo>
                  <a:pt x="660" y="4164"/>
                </a:lnTo>
                <a:lnTo>
                  <a:pt x="747" y="4129"/>
                </a:lnTo>
                <a:lnTo>
                  <a:pt x="832" y="4091"/>
                </a:lnTo>
                <a:lnTo>
                  <a:pt x="915" y="4048"/>
                </a:lnTo>
                <a:lnTo>
                  <a:pt x="996" y="4002"/>
                </a:lnTo>
                <a:lnTo>
                  <a:pt x="1073" y="3951"/>
                </a:lnTo>
                <a:lnTo>
                  <a:pt x="1149" y="3898"/>
                </a:lnTo>
                <a:lnTo>
                  <a:pt x="1222" y="3841"/>
                </a:lnTo>
                <a:lnTo>
                  <a:pt x="1292" y="3780"/>
                </a:lnTo>
                <a:lnTo>
                  <a:pt x="1358" y="3717"/>
                </a:lnTo>
                <a:lnTo>
                  <a:pt x="1423" y="3650"/>
                </a:lnTo>
                <a:lnTo>
                  <a:pt x="1483" y="3579"/>
                </a:lnTo>
                <a:lnTo>
                  <a:pt x="1540" y="3507"/>
                </a:lnTo>
                <a:lnTo>
                  <a:pt x="1594" y="3432"/>
                </a:lnTo>
                <a:lnTo>
                  <a:pt x="1644" y="3353"/>
                </a:lnTo>
                <a:lnTo>
                  <a:pt x="1690" y="3273"/>
                </a:lnTo>
                <a:lnTo>
                  <a:pt x="1733" y="3189"/>
                </a:lnTo>
                <a:lnTo>
                  <a:pt x="1771" y="3104"/>
                </a:lnTo>
                <a:lnTo>
                  <a:pt x="1806" y="3017"/>
                </a:lnTo>
                <a:lnTo>
                  <a:pt x="1836" y="2928"/>
                </a:lnTo>
                <a:lnTo>
                  <a:pt x="1862" y="2836"/>
                </a:lnTo>
                <a:lnTo>
                  <a:pt x="1884" y="2743"/>
                </a:lnTo>
                <a:lnTo>
                  <a:pt x="1901" y="2648"/>
                </a:lnTo>
                <a:lnTo>
                  <a:pt x="1913" y="2552"/>
                </a:lnTo>
                <a:lnTo>
                  <a:pt x="1921" y="2455"/>
                </a:lnTo>
                <a:lnTo>
                  <a:pt x="1923" y="2357"/>
                </a:lnTo>
                <a:lnTo>
                  <a:pt x="1921" y="2257"/>
                </a:lnTo>
                <a:lnTo>
                  <a:pt x="1913" y="2160"/>
                </a:lnTo>
                <a:lnTo>
                  <a:pt x="1901" y="2064"/>
                </a:lnTo>
                <a:lnTo>
                  <a:pt x="1884" y="1969"/>
                </a:lnTo>
                <a:lnTo>
                  <a:pt x="1862" y="1876"/>
                </a:lnTo>
                <a:lnTo>
                  <a:pt x="1836" y="1786"/>
                </a:lnTo>
                <a:lnTo>
                  <a:pt x="1806" y="1696"/>
                </a:lnTo>
                <a:lnTo>
                  <a:pt x="1771" y="1609"/>
                </a:lnTo>
                <a:lnTo>
                  <a:pt x="1733" y="1523"/>
                </a:lnTo>
                <a:lnTo>
                  <a:pt x="1690" y="1441"/>
                </a:lnTo>
                <a:lnTo>
                  <a:pt x="1644" y="1360"/>
                </a:lnTo>
                <a:lnTo>
                  <a:pt x="1594" y="1282"/>
                </a:lnTo>
                <a:lnTo>
                  <a:pt x="1540" y="1206"/>
                </a:lnTo>
                <a:lnTo>
                  <a:pt x="1483" y="1133"/>
                </a:lnTo>
                <a:lnTo>
                  <a:pt x="1423" y="1064"/>
                </a:lnTo>
                <a:lnTo>
                  <a:pt x="1358" y="997"/>
                </a:lnTo>
                <a:lnTo>
                  <a:pt x="1292" y="933"/>
                </a:lnTo>
                <a:lnTo>
                  <a:pt x="1222" y="873"/>
                </a:lnTo>
                <a:lnTo>
                  <a:pt x="1149" y="815"/>
                </a:lnTo>
                <a:lnTo>
                  <a:pt x="1073" y="761"/>
                </a:lnTo>
                <a:lnTo>
                  <a:pt x="996" y="711"/>
                </a:lnTo>
                <a:lnTo>
                  <a:pt x="915" y="665"/>
                </a:lnTo>
                <a:lnTo>
                  <a:pt x="832" y="623"/>
                </a:lnTo>
                <a:lnTo>
                  <a:pt x="747" y="583"/>
                </a:lnTo>
                <a:lnTo>
                  <a:pt x="660" y="549"/>
                </a:lnTo>
                <a:lnTo>
                  <a:pt x="570" y="519"/>
                </a:lnTo>
                <a:lnTo>
                  <a:pt x="479" y="493"/>
                </a:lnTo>
                <a:lnTo>
                  <a:pt x="386" y="472"/>
                </a:lnTo>
                <a:lnTo>
                  <a:pt x="291" y="454"/>
                </a:lnTo>
                <a:lnTo>
                  <a:pt x="195" y="442"/>
                </a:lnTo>
                <a:lnTo>
                  <a:pt x="98" y="435"/>
                </a:lnTo>
                <a:lnTo>
                  <a:pt x="0" y="433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"/>
          <p:cNvSpPr/>
          <p:nvPr/>
        </p:nvSpPr>
        <p:spPr>
          <a:xfrm>
            <a:off x="4029120" y="2084400"/>
            <a:ext cx="1144440" cy="2335320"/>
          </a:xfrm>
          <a:custGeom>
            <a:avLst/>
            <a:gdLst/>
            <a:ahLst/>
            <a:rect l="l" t="t" r="r" b="b"/>
            <a:pathLst>
              <a:path w="6875" h="14021">
                <a:moveTo>
                  <a:pt x="4950" y="6773"/>
                </a:moveTo>
                <a:lnTo>
                  <a:pt x="4950" y="6773"/>
                </a:lnTo>
                <a:cubicBezTo>
                  <a:pt x="4950" y="5439"/>
                  <a:pt x="4950" y="5439"/>
                  <a:pt x="4950" y="5439"/>
                </a:cubicBezTo>
                <a:cubicBezTo>
                  <a:pt x="4988" y="5399"/>
                  <a:pt x="4988" y="5399"/>
                  <a:pt x="4988" y="5399"/>
                </a:cubicBezTo>
                <a:cubicBezTo>
                  <a:pt x="4988" y="6773"/>
                  <a:pt x="4988" y="6773"/>
                  <a:pt x="4988" y="6773"/>
                </a:cubicBezTo>
                <a:cubicBezTo>
                  <a:pt x="4950" y="6773"/>
                  <a:pt x="4950" y="6773"/>
                  <a:pt x="4950" y="6773"/>
                </a:cubicBezTo>
                <a:lnTo>
                  <a:pt x="1768" y="6773"/>
                </a:lnTo>
                <a:lnTo>
                  <a:pt x="1768" y="6773"/>
                </a:lnTo>
                <a:cubicBezTo>
                  <a:pt x="1768" y="5242"/>
                  <a:pt x="1768" y="5242"/>
                  <a:pt x="1768" y="5242"/>
                </a:cubicBezTo>
                <a:cubicBezTo>
                  <a:pt x="1826" y="5281"/>
                  <a:pt x="1826" y="5281"/>
                  <a:pt x="1826" y="5281"/>
                </a:cubicBezTo>
                <a:cubicBezTo>
                  <a:pt x="1826" y="6773"/>
                  <a:pt x="1826" y="6773"/>
                  <a:pt x="1826" y="6773"/>
                </a:cubicBezTo>
                <a:cubicBezTo>
                  <a:pt x="1768" y="6773"/>
                  <a:pt x="1768" y="6773"/>
                  <a:pt x="1768" y="6773"/>
                </a:cubicBezTo>
                <a:lnTo>
                  <a:pt x="3397" y="0"/>
                </a:lnTo>
                <a:lnTo>
                  <a:pt x="3397" y="0"/>
                </a:lnTo>
                <a:cubicBezTo>
                  <a:pt x="2593" y="0"/>
                  <a:pt x="1609" y="587"/>
                  <a:pt x="2082" y="1748"/>
                </a:cubicBezTo>
                <a:lnTo>
                  <a:pt x="2062" y="1748"/>
                </a:lnTo>
                <a:cubicBezTo>
                  <a:pt x="2062" y="1748"/>
                  <a:pt x="2062" y="1748"/>
                  <a:pt x="2042" y="1748"/>
                </a:cubicBezTo>
                <a:cubicBezTo>
                  <a:pt x="1924" y="1786"/>
                  <a:pt x="1866" y="1982"/>
                  <a:pt x="1904" y="2198"/>
                </a:cubicBezTo>
                <a:cubicBezTo>
                  <a:pt x="1944" y="2395"/>
                  <a:pt x="2062" y="2551"/>
                  <a:pt x="2180" y="2551"/>
                </a:cubicBezTo>
                <a:cubicBezTo>
                  <a:pt x="2200" y="2551"/>
                  <a:pt x="2200" y="2551"/>
                  <a:pt x="2200" y="2551"/>
                </a:cubicBezTo>
                <a:cubicBezTo>
                  <a:pt x="2218" y="2551"/>
                  <a:pt x="2238" y="2533"/>
                  <a:pt x="2258" y="2533"/>
                </a:cubicBezTo>
                <a:cubicBezTo>
                  <a:pt x="2377" y="2846"/>
                  <a:pt x="2593" y="3140"/>
                  <a:pt x="2828" y="3319"/>
                </a:cubicBezTo>
                <a:cubicBezTo>
                  <a:pt x="2828" y="3475"/>
                  <a:pt x="2828" y="3631"/>
                  <a:pt x="2828" y="3790"/>
                </a:cubicBezTo>
                <a:cubicBezTo>
                  <a:pt x="2651" y="3790"/>
                  <a:pt x="2651" y="3790"/>
                  <a:pt x="2651" y="3790"/>
                </a:cubicBezTo>
                <a:cubicBezTo>
                  <a:pt x="2593" y="3790"/>
                  <a:pt x="2593" y="3790"/>
                  <a:pt x="2593" y="3790"/>
                </a:cubicBezTo>
                <a:cubicBezTo>
                  <a:pt x="1846" y="3790"/>
                  <a:pt x="1317" y="3926"/>
                  <a:pt x="1080" y="4555"/>
                </a:cubicBezTo>
                <a:cubicBezTo>
                  <a:pt x="1080" y="6773"/>
                  <a:pt x="1080" y="6773"/>
                  <a:pt x="1080" y="6773"/>
                </a:cubicBezTo>
                <a:cubicBezTo>
                  <a:pt x="0" y="6773"/>
                  <a:pt x="0" y="6773"/>
                  <a:pt x="0" y="6773"/>
                </a:cubicBezTo>
                <a:cubicBezTo>
                  <a:pt x="0" y="7148"/>
                  <a:pt x="0" y="7148"/>
                  <a:pt x="0" y="7148"/>
                </a:cubicBez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cubicBezTo>
                  <a:pt x="982" y="9248"/>
                  <a:pt x="982" y="9248"/>
                  <a:pt x="982" y="9248"/>
                </a:cubicBezTo>
                <a:cubicBezTo>
                  <a:pt x="1866" y="9248"/>
                  <a:pt x="1866" y="9248"/>
                  <a:pt x="1866" y="9248"/>
                </a:cubicBezTo>
                <a:cubicBezTo>
                  <a:pt x="1866" y="13470"/>
                  <a:pt x="1866" y="13470"/>
                  <a:pt x="1866" y="13470"/>
                </a:cubicBezTo>
                <a:cubicBezTo>
                  <a:pt x="1846" y="13470"/>
                  <a:pt x="1846" y="13489"/>
                  <a:pt x="1826" y="13489"/>
                </a:cubicBezTo>
                <a:cubicBezTo>
                  <a:pt x="1138" y="13489"/>
                  <a:pt x="1138" y="13489"/>
                  <a:pt x="1138" y="13489"/>
                </a:cubicBezTo>
                <a:cubicBezTo>
                  <a:pt x="1138" y="14020"/>
                  <a:pt x="1138" y="14020"/>
                  <a:pt x="1138" y="14020"/>
                </a:cubicBezTo>
                <a:cubicBezTo>
                  <a:pt x="5577" y="14020"/>
                  <a:pt x="5577" y="14020"/>
                  <a:pt x="5577" y="14020"/>
                </a:cubicBezTo>
                <a:cubicBezTo>
                  <a:pt x="5577" y="13489"/>
                  <a:pt x="5577" y="13489"/>
                  <a:pt x="5577" y="13489"/>
                </a:cubicBezTo>
                <a:cubicBezTo>
                  <a:pt x="4968" y="13489"/>
                  <a:pt x="4968" y="13489"/>
                  <a:pt x="4968" y="13489"/>
                </a:cubicBezTo>
                <a:cubicBezTo>
                  <a:pt x="4930" y="13470"/>
                  <a:pt x="4890" y="13450"/>
                  <a:pt x="4852" y="13430"/>
                </a:cubicBezTo>
                <a:cubicBezTo>
                  <a:pt x="4852" y="9248"/>
                  <a:pt x="4852" y="9248"/>
                  <a:pt x="4852" y="9248"/>
                </a:cubicBezTo>
                <a:cubicBezTo>
                  <a:pt x="5892" y="9248"/>
                  <a:pt x="5892" y="9248"/>
                  <a:pt x="5892" y="9248"/>
                </a:cubicBezTo>
                <a:cubicBezTo>
                  <a:pt x="6874" y="7148"/>
                  <a:pt x="6874" y="7148"/>
                  <a:pt x="6874" y="7148"/>
                </a:cubicBezTo>
                <a:lnTo>
                  <a:pt x="6874" y="7148"/>
                </a:lnTo>
                <a:cubicBezTo>
                  <a:pt x="6874" y="6773"/>
                  <a:pt x="6874" y="6773"/>
                  <a:pt x="6874" y="6773"/>
                </a:cubicBezTo>
                <a:cubicBezTo>
                  <a:pt x="5655" y="6773"/>
                  <a:pt x="5655" y="6773"/>
                  <a:pt x="5655" y="6773"/>
                </a:cubicBezTo>
                <a:cubicBezTo>
                  <a:pt x="5655" y="4555"/>
                  <a:pt x="5655" y="4555"/>
                  <a:pt x="5655" y="4555"/>
                </a:cubicBezTo>
                <a:lnTo>
                  <a:pt x="5655" y="4555"/>
                </a:lnTo>
                <a:cubicBezTo>
                  <a:pt x="5617" y="4024"/>
                  <a:pt x="4751" y="3790"/>
                  <a:pt x="4260" y="3790"/>
                </a:cubicBezTo>
                <a:cubicBezTo>
                  <a:pt x="4222" y="3790"/>
                  <a:pt x="4222" y="3790"/>
                  <a:pt x="4222" y="3790"/>
                </a:cubicBezTo>
                <a:cubicBezTo>
                  <a:pt x="4026" y="3790"/>
                  <a:pt x="4026" y="3790"/>
                  <a:pt x="4026" y="3790"/>
                </a:cubicBezTo>
                <a:cubicBezTo>
                  <a:pt x="4026" y="3651"/>
                  <a:pt x="4026" y="3495"/>
                  <a:pt x="4026" y="3337"/>
                </a:cubicBezTo>
                <a:cubicBezTo>
                  <a:pt x="4280" y="3140"/>
                  <a:pt x="4497" y="2846"/>
                  <a:pt x="4615" y="2533"/>
                </a:cubicBezTo>
                <a:cubicBezTo>
                  <a:pt x="4635" y="2533"/>
                  <a:pt x="4653" y="2551"/>
                  <a:pt x="4673" y="2551"/>
                </a:cubicBezTo>
                <a:lnTo>
                  <a:pt x="4693" y="2551"/>
                </a:lnTo>
                <a:cubicBezTo>
                  <a:pt x="4812" y="2551"/>
                  <a:pt x="4930" y="2395"/>
                  <a:pt x="4968" y="2198"/>
                </a:cubicBezTo>
                <a:cubicBezTo>
                  <a:pt x="5008" y="1982"/>
                  <a:pt x="4950" y="1786"/>
                  <a:pt x="4832" y="1748"/>
                </a:cubicBezTo>
                <a:lnTo>
                  <a:pt x="4812" y="1748"/>
                </a:lnTo>
                <a:lnTo>
                  <a:pt x="4812" y="1748"/>
                </a:lnTo>
                <a:cubicBezTo>
                  <a:pt x="5008" y="1295"/>
                  <a:pt x="4910" y="371"/>
                  <a:pt x="4202" y="333"/>
                </a:cubicBezTo>
                <a:cubicBezTo>
                  <a:pt x="4066" y="96"/>
                  <a:pt x="3751" y="0"/>
                  <a:pt x="3397" y="0"/>
                </a:cubicBezTo>
                <a:lnTo>
                  <a:pt x="4950" y="6773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"/>
          <p:cNvSpPr/>
          <p:nvPr/>
        </p:nvSpPr>
        <p:spPr>
          <a:xfrm>
            <a:off x="4208400" y="2843280"/>
            <a:ext cx="114480" cy="685800"/>
          </a:xfrm>
          <a:custGeom>
            <a:avLst/>
            <a:gdLst/>
            <a:ahLst/>
            <a:rect l="l" t="t" r="r" b="b"/>
            <a:pathLst>
              <a:path w="689" h="4125">
                <a:moveTo>
                  <a:pt x="688" y="4124"/>
                </a:moveTo>
                <a:lnTo>
                  <a:pt x="0" y="4124"/>
                </a:lnTo>
                <a:lnTo>
                  <a:pt x="0" y="0"/>
                </a:lnTo>
                <a:lnTo>
                  <a:pt x="688" y="0"/>
                </a:lnTo>
                <a:lnTo>
                  <a:pt x="688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4303800" y="3529080"/>
            <a:ext cx="39600" cy="85680"/>
          </a:xfrm>
          <a:custGeom>
            <a:avLst/>
            <a:gdLst/>
            <a:ahLst/>
            <a:rect l="l" t="t" r="r" b="b"/>
            <a:pathLst>
              <a:path w="238" h="512">
                <a:moveTo>
                  <a:pt x="177" y="78"/>
                </a:moveTo>
                <a:lnTo>
                  <a:pt x="177" y="78"/>
                </a:lnTo>
                <a:cubicBezTo>
                  <a:pt x="159" y="38"/>
                  <a:pt x="119" y="18"/>
                  <a:pt x="98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511"/>
                  <a:pt x="20" y="511"/>
                  <a:pt x="20" y="511"/>
                </a:cubicBezTo>
                <a:cubicBezTo>
                  <a:pt x="20" y="511"/>
                  <a:pt x="197" y="411"/>
                  <a:pt x="237" y="353"/>
                </a:cubicBezTo>
                <a:cubicBezTo>
                  <a:pt x="237" y="333"/>
                  <a:pt x="237" y="156"/>
                  <a:pt x="177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"/>
          <p:cNvSpPr/>
          <p:nvPr/>
        </p:nvSpPr>
        <p:spPr>
          <a:xfrm>
            <a:off x="4192560" y="3529080"/>
            <a:ext cx="138240" cy="88920"/>
          </a:xfrm>
          <a:custGeom>
            <a:avLst/>
            <a:gdLst/>
            <a:ahLst/>
            <a:rect l="l" t="t" r="r" b="b"/>
            <a:pathLst>
              <a:path w="827" h="530">
                <a:moveTo>
                  <a:pt x="727" y="0"/>
                </a:moveTo>
                <a:lnTo>
                  <a:pt x="727" y="0"/>
                </a:lnTo>
                <a:cubicBezTo>
                  <a:pt x="118" y="0"/>
                  <a:pt x="118" y="0"/>
                  <a:pt x="118" y="0"/>
                </a:cubicBezTo>
                <a:cubicBezTo>
                  <a:pt x="40" y="38"/>
                  <a:pt x="0" y="118"/>
                  <a:pt x="0" y="217"/>
                </a:cubicBezTo>
                <a:cubicBezTo>
                  <a:pt x="0" y="255"/>
                  <a:pt x="0" y="255"/>
                  <a:pt x="0" y="255"/>
                </a:cubicBezTo>
                <a:cubicBezTo>
                  <a:pt x="0" y="411"/>
                  <a:pt x="138" y="529"/>
                  <a:pt x="274" y="529"/>
                </a:cubicBezTo>
                <a:cubicBezTo>
                  <a:pt x="549" y="529"/>
                  <a:pt x="549" y="529"/>
                  <a:pt x="549" y="529"/>
                </a:cubicBezTo>
                <a:cubicBezTo>
                  <a:pt x="707" y="529"/>
                  <a:pt x="826" y="411"/>
                  <a:pt x="826" y="255"/>
                </a:cubicBezTo>
                <a:cubicBezTo>
                  <a:pt x="826" y="217"/>
                  <a:pt x="826" y="217"/>
                  <a:pt x="826" y="217"/>
                </a:cubicBezTo>
                <a:cubicBezTo>
                  <a:pt x="826" y="118"/>
                  <a:pt x="786" y="38"/>
                  <a:pt x="727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5"/>
          <p:cNvSpPr/>
          <p:nvPr/>
        </p:nvSpPr>
        <p:spPr>
          <a:xfrm>
            <a:off x="4859280" y="2843280"/>
            <a:ext cx="111240" cy="685800"/>
          </a:xfrm>
          <a:custGeom>
            <a:avLst/>
            <a:gdLst/>
            <a:ahLst/>
            <a:rect l="l" t="t" r="r" b="b"/>
            <a:pathLst>
              <a:path w="668" h="4125">
                <a:moveTo>
                  <a:pt x="0" y="4124"/>
                </a:moveTo>
                <a:lnTo>
                  <a:pt x="667" y="4124"/>
                </a:lnTo>
                <a:lnTo>
                  <a:pt x="667" y="0"/>
                </a:lnTo>
                <a:lnTo>
                  <a:pt x="0" y="0"/>
                </a:lnTo>
                <a:lnTo>
                  <a:pt x="0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4349880" y="3362400"/>
            <a:ext cx="490320" cy="1052280"/>
          </a:xfrm>
          <a:custGeom>
            <a:avLst/>
            <a:gdLst/>
            <a:ahLst/>
            <a:rect l="l" t="t" r="r" b="b"/>
            <a:pathLst>
              <a:path w="2947" h="6324">
                <a:moveTo>
                  <a:pt x="2946" y="0"/>
                </a:moveTo>
                <a:lnTo>
                  <a:pt x="2946" y="0"/>
                </a:lnTo>
                <a:cubicBezTo>
                  <a:pt x="2827" y="6323"/>
                  <a:pt x="2827" y="6323"/>
                  <a:pt x="2827" y="6323"/>
                </a:cubicBezTo>
                <a:cubicBezTo>
                  <a:pt x="1591" y="6323"/>
                  <a:pt x="1591" y="6323"/>
                  <a:pt x="1591" y="6323"/>
                </a:cubicBezTo>
                <a:cubicBezTo>
                  <a:pt x="1591" y="1768"/>
                  <a:pt x="1591" y="1768"/>
                  <a:pt x="1591" y="1768"/>
                </a:cubicBezTo>
                <a:cubicBezTo>
                  <a:pt x="1591" y="1708"/>
                  <a:pt x="1551" y="1669"/>
                  <a:pt x="1493" y="1669"/>
                </a:cubicBezTo>
                <a:cubicBezTo>
                  <a:pt x="1455" y="1669"/>
                  <a:pt x="1415" y="1708"/>
                  <a:pt x="1415" y="1768"/>
                </a:cubicBezTo>
                <a:cubicBezTo>
                  <a:pt x="1415" y="6323"/>
                  <a:pt x="1415" y="6323"/>
                  <a:pt x="1415" y="6323"/>
                </a:cubicBezTo>
                <a:cubicBezTo>
                  <a:pt x="118" y="6323"/>
                  <a:pt x="118" y="6323"/>
                  <a:pt x="118" y="6323"/>
                </a:cubicBezTo>
                <a:cubicBezTo>
                  <a:pt x="0" y="20"/>
                  <a:pt x="0" y="20"/>
                  <a:pt x="0" y="20"/>
                </a:cubicBezTo>
                <a:lnTo>
                  <a:pt x="2946" y="0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614840" y="4307040"/>
            <a:ext cx="274680" cy="107640"/>
          </a:xfrm>
          <a:custGeom>
            <a:avLst/>
            <a:gdLst/>
            <a:ahLst/>
            <a:rect l="l" t="t" r="r" b="b"/>
            <a:pathLst>
              <a:path w="1650" h="649">
                <a:moveTo>
                  <a:pt x="0" y="648"/>
                </a:moveTo>
                <a:lnTo>
                  <a:pt x="0" y="648"/>
                </a:lnTo>
                <a:cubicBezTo>
                  <a:pt x="0" y="0"/>
                  <a:pt x="629" y="58"/>
                  <a:pt x="1060" y="58"/>
                </a:cubicBezTo>
                <a:cubicBezTo>
                  <a:pt x="1493" y="58"/>
                  <a:pt x="1649" y="255"/>
                  <a:pt x="1611" y="648"/>
                </a:cubicBezTo>
                <a:lnTo>
                  <a:pt x="0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8"/>
          <p:cNvSpPr/>
          <p:nvPr/>
        </p:nvSpPr>
        <p:spPr>
          <a:xfrm>
            <a:off x="4300560" y="4307040"/>
            <a:ext cx="274680" cy="107640"/>
          </a:xfrm>
          <a:custGeom>
            <a:avLst/>
            <a:gdLst/>
            <a:ahLst/>
            <a:rect l="l" t="t" r="r" b="b"/>
            <a:pathLst>
              <a:path w="1653" h="649">
                <a:moveTo>
                  <a:pt x="1652" y="648"/>
                </a:moveTo>
                <a:lnTo>
                  <a:pt x="1652" y="648"/>
                </a:lnTo>
                <a:cubicBezTo>
                  <a:pt x="1652" y="0"/>
                  <a:pt x="1002" y="58"/>
                  <a:pt x="589" y="58"/>
                </a:cubicBezTo>
                <a:cubicBezTo>
                  <a:pt x="159" y="58"/>
                  <a:pt x="0" y="255"/>
                  <a:pt x="40" y="648"/>
                </a:cubicBezTo>
                <a:lnTo>
                  <a:pt x="1652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9"/>
          <p:cNvSpPr/>
          <p:nvPr/>
        </p:nvSpPr>
        <p:spPr>
          <a:xfrm>
            <a:off x="4208400" y="2716200"/>
            <a:ext cx="762120" cy="816120"/>
          </a:xfrm>
          <a:custGeom>
            <a:avLst/>
            <a:gdLst/>
            <a:ahLst/>
            <a:rect l="l" t="t" r="r" b="b"/>
            <a:pathLst>
              <a:path w="4576" h="4908">
                <a:moveTo>
                  <a:pt x="746" y="4907"/>
                </a:moveTo>
                <a:lnTo>
                  <a:pt x="746" y="4907"/>
                </a:lnTo>
                <a:cubicBezTo>
                  <a:pt x="746" y="1491"/>
                  <a:pt x="746" y="1491"/>
                  <a:pt x="746" y="1491"/>
                </a:cubicBezTo>
                <a:cubicBezTo>
                  <a:pt x="0" y="765"/>
                  <a:pt x="0" y="765"/>
                  <a:pt x="0" y="765"/>
                </a:cubicBezTo>
                <a:cubicBezTo>
                  <a:pt x="237" y="136"/>
                  <a:pt x="766" y="0"/>
                  <a:pt x="1513" y="0"/>
                </a:cubicBezTo>
                <a:cubicBezTo>
                  <a:pt x="3180" y="0"/>
                  <a:pt x="3180" y="0"/>
                  <a:pt x="3180" y="0"/>
                </a:cubicBezTo>
                <a:cubicBezTo>
                  <a:pt x="3671" y="0"/>
                  <a:pt x="4575" y="234"/>
                  <a:pt x="4575" y="803"/>
                </a:cubicBezTo>
                <a:cubicBezTo>
                  <a:pt x="3870" y="1649"/>
                  <a:pt x="3870" y="1649"/>
                  <a:pt x="3870" y="1649"/>
                </a:cubicBezTo>
                <a:cubicBezTo>
                  <a:pt x="3870" y="4907"/>
                  <a:pt x="3870" y="4907"/>
                  <a:pt x="3870" y="4907"/>
                </a:cubicBezTo>
                <a:lnTo>
                  <a:pt x="746" y="4907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4470480" y="2716200"/>
            <a:ext cx="261720" cy="558720"/>
          </a:xfrm>
          <a:custGeom>
            <a:avLst/>
            <a:gdLst/>
            <a:ahLst/>
            <a:rect l="l" t="t" r="r" b="b"/>
            <a:pathLst>
              <a:path w="1572" h="3359">
                <a:moveTo>
                  <a:pt x="0" y="0"/>
                </a:moveTo>
                <a:lnTo>
                  <a:pt x="1571" y="0"/>
                </a:lnTo>
                <a:lnTo>
                  <a:pt x="1571" y="254"/>
                </a:lnTo>
                <a:lnTo>
                  <a:pt x="786" y="3358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11"/>
          <p:cNvSpPr/>
          <p:nvPr/>
        </p:nvSpPr>
        <p:spPr>
          <a:xfrm>
            <a:off x="4548240" y="2766960"/>
            <a:ext cx="98280" cy="49320"/>
          </a:xfrm>
          <a:custGeom>
            <a:avLst/>
            <a:gdLst/>
            <a:ahLst/>
            <a:rect l="l" t="t" r="r" b="b"/>
            <a:pathLst>
              <a:path w="590" h="296">
                <a:moveTo>
                  <a:pt x="159" y="295"/>
                </a:moveTo>
                <a:lnTo>
                  <a:pt x="433" y="295"/>
                </a:lnTo>
                <a:lnTo>
                  <a:pt x="589" y="0"/>
                </a:lnTo>
                <a:lnTo>
                  <a:pt x="0" y="0"/>
                </a:lnTo>
                <a:lnTo>
                  <a:pt x="159" y="295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12"/>
          <p:cNvSpPr/>
          <p:nvPr/>
        </p:nvSpPr>
        <p:spPr>
          <a:xfrm>
            <a:off x="4498920" y="2401920"/>
            <a:ext cx="200160" cy="382680"/>
          </a:xfrm>
          <a:custGeom>
            <a:avLst/>
            <a:gdLst/>
            <a:ahLst/>
            <a:rect l="l" t="t" r="r" b="b"/>
            <a:pathLst>
              <a:path w="1199" h="2297">
                <a:moveTo>
                  <a:pt x="0" y="1944"/>
                </a:moveTo>
                <a:lnTo>
                  <a:pt x="0" y="1944"/>
                </a:lnTo>
                <a:cubicBezTo>
                  <a:pt x="0" y="1944"/>
                  <a:pt x="294" y="2296"/>
                  <a:pt x="589" y="2296"/>
                </a:cubicBezTo>
                <a:cubicBezTo>
                  <a:pt x="903" y="2296"/>
                  <a:pt x="1198" y="1924"/>
                  <a:pt x="1198" y="1924"/>
                </a:cubicBezTo>
                <a:cubicBezTo>
                  <a:pt x="1198" y="1216"/>
                  <a:pt x="1198" y="0"/>
                  <a:pt x="119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38"/>
                  <a:pt x="0" y="1944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reeform 13"/>
          <p:cNvSpPr/>
          <p:nvPr/>
        </p:nvSpPr>
        <p:spPr>
          <a:xfrm>
            <a:off x="4340160" y="2130480"/>
            <a:ext cx="522360" cy="546120"/>
          </a:xfrm>
          <a:custGeom>
            <a:avLst/>
            <a:gdLst/>
            <a:ahLst/>
            <a:rect l="l" t="t" r="r" b="b"/>
            <a:pathLst>
              <a:path w="3143" h="3279">
                <a:moveTo>
                  <a:pt x="176" y="1473"/>
                </a:moveTo>
                <a:lnTo>
                  <a:pt x="176" y="1473"/>
                </a:lnTo>
                <a:cubicBezTo>
                  <a:pt x="196" y="1473"/>
                  <a:pt x="216" y="1473"/>
                  <a:pt x="236" y="1473"/>
                </a:cubicBezTo>
                <a:cubicBezTo>
                  <a:pt x="254" y="705"/>
                  <a:pt x="785" y="0"/>
                  <a:pt x="1571" y="0"/>
                </a:cubicBezTo>
                <a:cubicBezTo>
                  <a:pt x="2356" y="0"/>
                  <a:pt x="2885" y="705"/>
                  <a:pt x="2905" y="1473"/>
                </a:cubicBezTo>
                <a:cubicBezTo>
                  <a:pt x="2926" y="1473"/>
                  <a:pt x="2946" y="1473"/>
                  <a:pt x="2966" y="1473"/>
                </a:cubicBezTo>
                <a:cubicBezTo>
                  <a:pt x="3084" y="1511"/>
                  <a:pt x="3142" y="1707"/>
                  <a:pt x="3102" y="1923"/>
                </a:cubicBezTo>
                <a:cubicBezTo>
                  <a:pt x="3064" y="2140"/>
                  <a:pt x="2926" y="2296"/>
                  <a:pt x="2807" y="2276"/>
                </a:cubicBezTo>
                <a:cubicBezTo>
                  <a:pt x="2787" y="2276"/>
                  <a:pt x="2769" y="2258"/>
                  <a:pt x="2749" y="2258"/>
                </a:cubicBezTo>
                <a:cubicBezTo>
                  <a:pt x="2533" y="2827"/>
                  <a:pt x="2062" y="3278"/>
                  <a:pt x="1571" y="3278"/>
                </a:cubicBezTo>
                <a:cubicBezTo>
                  <a:pt x="1080" y="3278"/>
                  <a:pt x="629" y="2827"/>
                  <a:pt x="392" y="2258"/>
                </a:cubicBezTo>
                <a:cubicBezTo>
                  <a:pt x="372" y="2258"/>
                  <a:pt x="352" y="2276"/>
                  <a:pt x="334" y="2276"/>
                </a:cubicBezTo>
                <a:cubicBezTo>
                  <a:pt x="216" y="2296"/>
                  <a:pt x="78" y="2140"/>
                  <a:pt x="38" y="1923"/>
                </a:cubicBezTo>
                <a:cubicBezTo>
                  <a:pt x="0" y="1707"/>
                  <a:pt x="58" y="1511"/>
                  <a:pt x="176" y="1473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14"/>
          <p:cNvSpPr/>
          <p:nvPr/>
        </p:nvSpPr>
        <p:spPr>
          <a:xfrm>
            <a:off x="4238640" y="2011320"/>
            <a:ext cx="628560" cy="390600"/>
          </a:xfrm>
          <a:custGeom>
            <a:avLst/>
            <a:gdLst/>
            <a:ahLst/>
            <a:rect l="l" t="t" r="r" b="b"/>
            <a:pathLst>
              <a:path w="3773" h="2338">
                <a:moveTo>
                  <a:pt x="3457" y="2337"/>
                </a:moveTo>
                <a:lnTo>
                  <a:pt x="3457" y="2337"/>
                </a:lnTo>
                <a:cubicBezTo>
                  <a:pt x="3772" y="2002"/>
                  <a:pt x="3752" y="826"/>
                  <a:pt x="2946" y="766"/>
                </a:cubicBezTo>
                <a:cubicBezTo>
                  <a:pt x="2435" y="0"/>
                  <a:pt x="0" y="549"/>
                  <a:pt x="884" y="2337"/>
                </a:cubicBezTo>
                <a:cubicBezTo>
                  <a:pt x="864" y="1964"/>
                  <a:pt x="1101" y="1846"/>
                  <a:pt x="1101" y="1846"/>
                </a:cubicBezTo>
                <a:cubicBezTo>
                  <a:pt x="1355" y="2199"/>
                  <a:pt x="2632" y="2062"/>
                  <a:pt x="2946" y="1473"/>
                </a:cubicBezTo>
                <a:cubicBezTo>
                  <a:pt x="3103" y="1806"/>
                  <a:pt x="3417" y="1826"/>
                  <a:pt x="3457" y="2337"/>
                </a:cubicBezTo>
              </a:path>
            </a:pathLst>
          </a:custGeom>
          <a:solidFill>
            <a:srgbClr val="43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15"/>
          <p:cNvSpPr/>
          <p:nvPr/>
        </p:nvSpPr>
        <p:spPr>
          <a:xfrm>
            <a:off x="4557600" y="2816280"/>
            <a:ext cx="79560" cy="471600"/>
          </a:xfrm>
          <a:custGeom>
            <a:avLst/>
            <a:gdLst/>
            <a:ahLst/>
            <a:rect l="l" t="t" r="r" b="b"/>
            <a:pathLst>
              <a:path w="474" h="2828">
                <a:moveTo>
                  <a:pt x="257" y="2827"/>
                </a:moveTo>
                <a:lnTo>
                  <a:pt x="0" y="1785"/>
                </a:lnTo>
                <a:lnTo>
                  <a:pt x="101" y="0"/>
                </a:lnTo>
                <a:lnTo>
                  <a:pt x="375" y="0"/>
                </a:lnTo>
                <a:lnTo>
                  <a:pt x="473" y="1942"/>
                </a:lnTo>
                <a:lnTo>
                  <a:pt x="257" y="2827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836960" y="3529080"/>
            <a:ext cx="42840" cy="85680"/>
          </a:xfrm>
          <a:custGeom>
            <a:avLst/>
            <a:gdLst/>
            <a:ahLst/>
            <a:rect l="l" t="t" r="r" b="b"/>
            <a:pathLst>
              <a:path w="255" h="512">
                <a:moveTo>
                  <a:pt x="58" y="78"/>
                </a:moveTo>
                <a:lnTo>
                  <a:pt x="58" y="78"/>
                </a:lnTo>
                <a:cubicBezTo>
                  <a:pt x="78" y="38"/>
                  <a:pt x="116" y="18"/>
                  <a:pt x="156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34" y="511"/>
                  <a:pt x="234" y="511"/>
                  <a:pt x="234" y="511"/>
                </a:cubicBezTo>
                <a:cubicBezTo>
                  <a:pt x="234" y="511"/>
                  <a:pt x="58" y="411"/>
                  <a:pt x="18" y="353"/>
                </a:cubicBezTo>
                <a:cubicBezTo>
                  <a:pt x="0" y="333"/>
                  <a:pt x="18" y="156"/>
                  <a:pt x="58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4853160" y="3529080"/>
            <a:ext cx="133200" cy="88920"/>
          </a:xfrm>
          <a:custGeom>
            <a:avLst/>
            <a:gdLst/>
            <a:ahLst/>
            <a:rect l="l" t="t" r="r" b="b"/>
            <a:pathLst>
              <a:path w="804" h="530">
                <a:moveTo>
                  <a:pt x="96" y="0"/>
                </a:moveTo>
                <a:lnTo>
                  <a:pt x="96" y="0"/>
                </a:lnTo>
                <a:cubicBezTo>
                  <a:pt x="705" y="0"/>
                  <a:pt x="705" y="0"/>
                  <a:pt x="705" y="0"/>
                </a:cubicBezTo>
                <a:cubicBezTo>
                  <a:pt x="765" y="38"/>
                  <a:pt x="803" y="118"/>
                  <a:pt x="803" y="217"/>
                </a:cubicBezTo>
                <a:cubicBezTo>
                  <a:pt x="803" y="255"/>
                  <a:pt x="803" y="255"/>
                  <a:pt x="803" y="255"/>
                </a:cubicBezTo>
                <a:cubicBezTo>
                  <a:pt x="803" y="411"/>
                  <a:pt x="687" y="529"/>
                  <a:pt x="529" y="529"/>
                </a:cubicBezTo>
                <a:cubicBezTo>
                  <a:pt x="274" y="529"/>
                  <a:pt x="274" y="529"/>
                  <a:pt x="274" y="529"/>
                </a:cubicBezTo>
                <a:cubicBezTo>
                  <a:pt x="116" y="529"/>
                  <a:pt x="0" y="411"/>
                  <a:pt x="0" y="255"/>
                </a:cubicBezTo>
                <a:cubicBezTo>
                  <a:pt x="0" y="217"/>
                  <a:pt x="0" y="217"/>
                  <a:pt x="0" y="217"/>
                </a:cubicBezTo>
                <a:cubicBezTo>
                  <a:pt x="0" y="118"/>
                  <a:pt x="38" y="38"/>
                  <a:pt x="96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18"/>
          <p:cNvSpPr/>
          <p:nvPr/>
        </p:nvSpPr>
        <p:spPr>
          <a:xfrm>
            <a:off x="4029120" y="3274920"/>
            <a:ext cx="1144440" cy="349200"/>
          </a:xfrm>
          <a:custGeom>
            <a:avLst/>
            <a:gdLst/>
            <a:ahLst/>
            <a:rect l="l" t="t" r="r" b="b"/>
            <a:pathLst>
              <a:path w="6875" h="2101">
                <a:moveTo>
                  <a:pt x="5892" y="2100"/>
                </a:moveTo>
                <a:lnTo>
                  <a:pt x="982" y="2100"/>
                </a:lnTo>
                <a:lnTo>
                  <a:pt x="0" y="0"/>
                </a:lnTo>
                <a:lnTo>
                  <a:pt x="6874" y="0"/>
                </a:lnTo>
                <a:lnTo>
                  <a:pt x="5892" y="210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9"/>
          <p:cNvSpPr/>
          <p:nvPr/>
        </p:nvSpPr>
        <p:spPr>
          <a:xfrm>
            <a:off x="4340160" y="3398760"/>
            <a:ext cx="496800" cy="966960"/>
          </a:xfrm>
          <a:custGeom>
            <a:avLst/>
            <a:gdLst/>
            <a:ahLst/>
            <a:rect l="l" t="t" r="r" b="b"/>
            <a:pathLst>
              <a:path w="2987" h="5812">
                <a:moveTo>
                  <a:pt x="2986" y="5811"/>
                </a:moveTo>
                <a:lnTo>
                  <a:pt x="0" y="5811"/>
                </a:lnTo>
                <a:lnTo>
                  <a:pt x="0" y="0"/>
                </a:lnTo>
                <a:lnTo>
                  <a:pt x="2986" y="0"/>
                </a:lnTo>
                <a:lnTo>
                  <a:pt x="2986" y="5811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21"/>
          <p:cNvSpPr/>
          <p:nvPr/>
        </p:nvSpPr>
        <p:spPr>
          <a:xfrm>
            <a:off x="4029120" y="3211560"/>
            <a:ext cx="1144440" cy="63360"/>
          </a:xfrm>
          <a:custGeom>
            <a:avLst/>
            <a:gdLst/>
            <a:ahLst/>
            <a:rect l="l" t="t" r="r" b="b"/>
            <a:pathLst>
              <a:path w="6875" h="376">
                <a:moveTo>
                  <a:pt x="6874" y="0"/>
                </a:moveTo>
                <a:lnTo>
                  <a:pt x="0" y="0"/>
                </a:lnTo>
                <a:lnTo>
                  <a:pt x="0" y="375"/>
                </a:lnTo>
                <a:lnTo>
                  <a:pt x="6874" y="375"/>
                </a:lnTo>
                <a:lnTo>
                  <a:pt x="6874" y="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33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4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3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3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37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8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4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41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2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43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44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45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46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47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48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49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0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1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2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3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54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55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56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7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58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59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0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61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62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3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64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5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66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7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8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69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70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71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72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73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74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75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76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77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78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79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80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81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8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3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84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85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86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87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8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89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90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1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92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93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94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95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6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97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8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99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00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01"/>
          <p:cNvSpPr/>
          <p:nvPr/>
        </p:nvSpPr>
        <p:spPr>
          <a:xfrm>
            <a:off x="6883560" y="3033720"/>
            <a:ext cx="566640" cy="262080"/>
          </a:xfrm>
          <a:custGeom>
            <a:avLst/>
            <a:gdLst/>
            <a:ahLst/>
            <a:rect l="l" t="t" r="r" b="b"/>
            <a:pathLst>
              <a:path w="1491" h="690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596"/>
                  <a:pt x="0" y="596"/>
                  <a:pt x="0" y="596"/>
                </a:cubicBezTo>
                <a:cubicBezTo>
                  <a:pt x="0" y="633"/>
                  <a:pt x="19" y="651"/>
                  <a:pt x="38" y="689"/>
                </a:cubicBezTo>
                <a:cubicBezTo>
                  <a:pt x="38" y="335"/>
                  <a:pt x="38" y="335"/>
                  <a:pt x="38" y="335"/>
                </a:cubicBez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689"/>
                  <a:pt x="1472" y="689"/>
                  <a:pt x="1472" y="689"/>
                </a:cubicBezTo>
                <a:cubicBezTo>
                  <a:pt x="1490" y="651"/>
                  <a:pt x="1490" y="633"/>
                  <a:pt x="1490" y="596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02"/>
          <p:cNvSpPr/>
          <p:nvPr/>
        </p:nvSpPr>
        <p:spPr>
          <a:xfrm>
            <a:off x="6593040" y="3182760"/>
            <a:ext cx="1153800" cy="793800"/>
          </a:xfrm>
          <a:custGeom>
            <a:avLst/>
            <a:gdLst/>
            <a:ahLst/>
            <a:rect l="l" t="t" r="r" b="b"/>
            <a:pathLst>
              <a:path w="3036" h="2085">
                <a:moveTo>
                  <a:pt x="3035" y="1936"/>
                </a:moveTo>
                <a:lnTo>
                  <a:pt x="3035" y="1936"/>
                </a:lnTo>
                <a:cubicBezTo>
                  <a:pt x="3035" y="2029"/>
                  <a:pt x="2979" y="2084"/>
                  <a:pt x="2886" y="2084"/>
                </a:cubicBezTo>
                <a:cubicBezTo>
                  <a:pt x="167" y="2084"/>
                  <a:pt x="167" y="2084"/>
                  <a:pt x="167" y="2084"/>
                </a:cubicBezTo>
                <a:cubicBezTo>
                  <a:pt x="74" y="2084"/>
                  <a:pt x="0" y="2029"/>
                  <a:pt x="0" y="1936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74"/>
                  <a:pt x="74" y="0"/>
                  <a:pt x="167" y="0"/>
                </a:cubicBezTo>
                <a:cubicBezTo>
                  <a:pt x="2886" y="0"/>
                  <a:pt x="2886" y="0"/>
                  <a:pt x="2886" y="0"/>
                </a:cubicBezTo>
                <a:cubicBezTo>
                  <a:pt x="2979" y="0"/>
                  <a:pt x="3035" y="74"/>
                  <a:pt x="3035" y="149"/>
                </a:cubicBezTo>
                <a:cubicBezTo>
                  <a:pt x="3035" y="1936"/>
                  <a:pt x="3035" y="1936"/>
                  <a:pt x="3035" y="1936"/>
                </a:cubicBez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03"/>
          <p:cNvSpPr/>
          <p:nvPr/>
        </p:nvSpPr>
        <p:spPr>
          <a:xfrm>
            <a:off x="6593040" y="3182760"/>
            <a:ext cx="1153800" cy="405000"/>
          </a:xfrm>
          <a:custGeom>
            <a:avLst/>
            <a:gdLst/>
            <a:ahLst/>
            <a:rect l="l" t="t" r="r" b="b"/>
            <a:pathLst>
              <a:path w="3036" h="1062">
                <a:moveTo>
                  <a:pt x="3035" y="1061"/>
                </a:moveTo>
                <a:lnTo>
                  <a:pt x="3035" y="1061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3035" y="1061"/>
                  <a:pt x="3035" y="1061"/>
                  <a:pt x="3035" y="1061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4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3035" y="986"/>
                </a:moveTo>
                <a:lnTo>
                  <a:pt x="3035" y="986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986"/>
                  <a:pt x="0" y="986"/>
                  <a:pt x="0" y="986"/>
                </a:cubicBezTo>
                <a:cubicBezTo>
                  <a:pt x="3035" y="986"/>
                  <a:pt x="3035" y="986"/>
                  <a:pt x="3035" y="986"/>
                </a:cubicBez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05"/>
          <p:cNvSpPr/>
          <p:nvPr/>
        </p:nvSpPr>
        <p:spPr>
          <a:xfrm>
            <a:off x="7032600" y="3586320"/>
            <a:ext cx="262080" cy="134640"/>
          </a:xfrm>
          <a:custGeom>
            <a:avLst/>
            <a:gdLst/>
            <a:ahLst/>
            <a:rect l="l" t="t" r="r" b="b"/>
            <a:pathLst>
              <a:path w="690" h="355">
                <a:moveTo>
                  <a:pt x="0" y="0"/>
                </a:moveTo>
                <a:lnTo>
                  <a:pt x="0" y="0"/>
                </a:lnTo>
                <a:lnTo>
                  <a:pt x="0" y="18"/>
                </a:lnTo>
                <a:cubicBezTo>
                  <a:pt x="0" y="205"/>
                  <a:pt x="168" y="354"/>
                  <a:pt x="354" y="354"/>
                </a:cubicBezTo>
                <a:cubicBezTo>
                  <a:pt x="541" y="354"/>
                  <a:pt x="689" y="205"/>
                  <a:pt x="689" y="18"/>
                </a:cubicBez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0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07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08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cubicBezTo>
                  <a:pt x="0" y="242"/>
                  <a:pt x="74" y="297"/>
                  <a:pt x="167" y="297"/>
                </a:cubicBezTo>
                <a:cubicBezTo>
                  <a:pt x="316" y="297"/>
                  <a:pt x="316" y="297"/>
                  <a:pt x="316" y="297"/>
                </a:cubicBez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09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0" y="334"/>
                </a:moveTo>
                <a:lnTo>
                  <a:pt x="0" y="334"/>
                </a:ln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  <a:cubicBezTo>
                  <a:pt x="0" y="334"/>
                  <a:pt x="0" y="334"/>
                  <a:pt x="0" y="334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10"/>
          <p:cNvSpPr/>
          <p:nvPr/>
        </p:nvSpPr>
        <p:spPr>
          <a:xfrm>
            <a:off x="6019920" y="2843280"/>
            <a:ext cx="863640" cy="1076400"/>
          </a:xfrm>
          <a:custGeom>
            <a:avLst/>
            <a:gdLst/>
            <a:ahLst/>
            <a:rect l="l" t="t" r="r" b="b"/>
            <a:pathLst>
              <a:path w="2272" h="2831">
                <a:moveTo>
                  <a:pt x="0" y="2346"/>
                </a:moveTo>
                <a:lnTo>
                  <a:pt x="1508" y="2830"/>
                </a:lnTo>
                <a:lnTo>
                  <a:pt x="1508" y="2830"/>
                </a:lnTo>
                <a:lnTo>
                  <a:pt x="0" y="2346"/>
                </a:lnTo>
                <a:close/>
                <a:moveTo>
                  <a:pt x="651" y="968"/>
                </a:moveTo>
                <a:lnTo>
                  <a:pt x="689" y="1024"/>
                </a:lnTo>
                <a:lnTo>
                  <a:pt x="689" y="1024"/>
                </a:lnTo>
                <a:lnTo>
                  <a:pt x="651" y="968"/>
                </a:lnTo>
                <a:close/>
                <a:moveTo>
                  <a:pt x="1824" y="0"/>
                </a:moveTo>
                <a:lnTo>
                  <a:pt x="521" y="689"/>
                </a:lnTo>
                <a:lnTo>
                  <a:pt x="1824" y="0"/>
                </a:lnTo>
                <a:lnTo>
                  <a:pt x="2271" y="875"/>
                </a:lnTo>
                <a:lnTo>
                  <a:pt x="2271" y="875"/>
                </a:lnTo>
                <a:lnTo>
                  <a:pt x="1824" y="0"/>
                </a:lnTo>
                <a:close/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11"/>
          <p:cNvSpPr/>
          <p:nvPr/>
        </p:nvSpPr>
        <p:spPr>
          <a:xfrm>
            <a:off x="6019920" y="3735360"/>
            <a:ext cx="573120" cy="184320"/>
          </a:xfrm>
          <a:custGeom>
            <a:avLst/>
            <a:gdLst/>
            <a:ahLst/>
            <a:rect l="l" t="t" r="r" b="b"/>
            <a:pathLst>
              <a:path w="1509" h="485">
                <a:moveTo>
                  <a:pt x="0" y="0"/>
                </a:moveTo>
                <a:lnTo>
                  <a:pt x="1508" y="484"/>
                </a:lnTo>
                <a:lnTo>
                  <a:pt x="1508" y="484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12"/>
          <p:cNvSpPr/>
          <p:nvPr/>
        </p:nvSpPr>
        <p:spPr>
          <a:xfrm>
            <a:off x="6267600" y="3211560"/>
            <a:ext cx="15840" cy="22320"/>
          </a:xfrm>
          <a:custGeom>
            <a:avLst/>
            <a:gdLst/>
            <a:ahLst/>
            <a:rect l="l" t="t" r="r" b="b"/>
            <a:pathLst>
              <a:path w="39" h="57">
                <a:moveTo>
                  <a:pt x="0" y="0"/>
                </a:moveTo>
                <a:lnTo>
                  <a:pt x="38" y="56"/>
                </a:lnTo>
                <a:lnTo>
                  <a:pt x="38" y="56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113"/>
          <p:cNvSpPr/>
          <p:nvPr/>
        </p:nvSpPr>
        <p:spPr>
          <a:xfrm>
            <a:off x="6219720" y="2843280"/>
            <a:ext cx="665280" cy="333360"/>
          </a:xfrm>
          <a:custGeom>
            <a:avLst/>
            <a:gdLst/>
            <a:ahLst/>
            <a:rect l="l" t="t" r="r" b="b"/>
            <a:pathLst>
              <a:path w="1751" h="876">
                <a:moveTo>
                  <a:pt x="1303" y="0"/>
                </a:moveTo>
                <a:lnTo>
                  <a:pt x="0" y="689"/>
                </a:lnTo>
                <a:lnTo>
                  <a:pt x="1303" y="0"/>
                </a:lnTo>
                <a:lnTo>
                  <a:pt x="1750" y="875"/>
                </a:lnTo>
                <a:lnTo>
                  <a:pt x="1750" y="875"/>
                </a:lnTo>
                <a:lnTo>
                  <a:pt x="1303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114"/>
          <p:cNvSpPr/>
          <p:nvPr/>
        </p:nvSpPr>
        <p:spPr>
          <a:xfrm>
            <a:off x="6019920" y="3205080"/>
            <a:ext cx="573120" cy="716040"/>
          </a:xfrm>
          <a:custGeom>
            <a:avLst/>
            <a:gdLst/>
            <a:ahLst/>
            <a:rect l="l" t="t" r="r" b="b"/>
            <a:pathLst>
              <a:path w="1509" h="1881">
                <a:moveTo>
                  <a:pt x="912" y="1526"/>
                </a:moveTo>
                <a:lnTo>
                  <a:pt x="912" y="1526"/>
                </a:lnTo>
                <a:cubicBezTo>
                  <a:pt x="502" y="1396"/>
                  <a:pt x="502" y="1396"/>
                  <a:pt x="502" y="1396"/>
                </a:cubicBezTo>
                <a:cubicBezTo>
                  <a:pt x="614" y="1043"/>
                  <a:pt x="614" y="1043"/>
                  <a:pt x="614" y="1043"/>
                </a:cubicBezTo>
                <a:cubicBezTo>
                  <a:pt x="1024" y="1172"/>
                  <a:pt x="1024" y="1172"/>
                  <a:pt x="1024" y="1172"/>
                </a:cubicBezTo>
                <a:cubicBezTo>
                  <a:pt x="912" y="1526"/>
                  <a:pt x="912" y="1526"/>
                  <a:pt x="912" y="1526"/>
                </a:cubicBezTo>
                <a:lnTo>
                  <a:pt x="428" y="1210"/>
                </a:lnTo>
                <a:lnTo>
                  <a:pt x="428" y="1210"/>
                </a:lnTo>
                <a:cubicBezTo>
                  <a:pt x="316" y="1172"/>
                  <a:pt x="316" y="1172"/>
                  <a:pt x="316" y="1172"/>
                </a:cubicBezTo>
                <a:cubicBezTo>
                  <a:pt x="577" y="353"/>
                  <a:pt x="577" y="353"/>
                  <a:pt x="577" y="353"/>
                </a:cubicBezTo>
                <a:cubicBezTo>
                  <a:pt x="689" y="391"/>
                  <a:pt x="689" y="391"/>
                  <a:pt x="689" y="391"/>
                </a:cubicBezTo>
                <a:cubicBezTo>
                  <a:pt x="428" y="1210"/>
                  <a:pt x="428" y="1210"/>
                  <a:pt x="428" y="1210"/>
                </a:cubicBezTo>
                <a:lnTo>
                  <a:pt x="447" y="0"/>
                </a:lnTo>
                <a:lnTo>
                  <a:pt x="447" y="0"/>
                </a:lnTo>
                <a:cubicBezTo>
                  <a:pt x="0" y="1396"/>
                  <a:pt x="0" y="1396"/>
                  <a:pt x="0" y="1396"/>
                </a:cubicBezTo>
                <a:cubicBezTo>
                  <a:pt x="1508" y="1880"/>
                  <a:pt x="1508" y="1880"/>
                  <a:pt x="1508" y="1880"/>
                </a:cubicBezTo>
                <a:lnTo>
                  <a:pt x="1508" y="1880"/>
                </a:lnTo>
                <a:cubicBezTo>
                  <a:pt x="1508" y="1713"/>
                  <a:pt x="1508" y="1713"/>
                  <a:pt x="1508" y="1713"/>
                </a:cubicBezTo>
                <a:cubicBezTo>
                  <a:pt x="1508" y="1694"/>
                  <a:pt x="1508" y="1694"/>
                  <a:pt x="1508" y="1694"/>
                </a:cubicBezTo>
                <a:cubicBezTo>
                  <a:pt x="1508" y="1657"/>
                  <a:pt x="1508" y="1657"/>
                  <a:pt x="1508" y="1657"/>
                </a:cubicBezTo>
                <a:cubicBezTo>
                  <a:pt x="1508" y="1619"/>
                  <a:pt x="1508" y="1619"/>
                  <a:pt x="1508" y="1619"/>
                </a:cubicBezTo>
                <a:lnTo>
                  <a:pt x="1508" y="1619"/>
                </a:lnTo>
                <a:cubicBezTo>
                  <a:pt x="1490" y="1582"/>
                  <a:pt x="1490" y="1582"/>
                  <a:pt x="1490" y="1582"/>
                </a:cubicBezTo>
                <a:cubicBezTo>
                  <a:pt x="1452" y="1694"/>
                  <a:pt x="1452" y="1694"/>
                  <a:pt x="1452" y="1694"/>
                </a:cubicBezTo>
                <a:cubicBezTo>
                  <a:pt x="1415" y="1675"/>
                  <a:pt x="1415" y="1675"/>
                  <a:pt x="1415" y="1675"/>
                </a:cubicBezTo>
                <a:cubicBezTo>
                  <a:pt x="1452" y="1526"/>
                  <a:pt x="1452" y="1526"/>
                  <a:pt x="1452" y="1526"/>
                </a:cubicBezTo>
                <a:cubicBezTo>
                  <a:pt x="1434" y="1470"/>
                  <a:pt x="1434" y="1470"/>
                  <a:pt x="1434" y="1470"/>
                </a:cubicBezTo>
                <a:cubicBezTo>
                  <a:pt x="1359" y="1657"/>
                  <a:pt x="1359" y="1657"/>
                  <a:pt x="1359" y="1657"/>
                </a:cubicBezTo>
                <a:cubicBezTo>
                  <a:pt x="1322" y="1638"/>
                  <a:pt x="1322" y="1638"/>
                  <a:pt x="1322" y="1638"/>
                </a:cubicBezTo>
                <a:cubicBezTo>
                  <a:pt x="1396" y="1396"/>
                  <a:pt x="1396" y="1396"/>
                  <a:pt x="1396" y="1396"/>
                </a:cubicBezTo>
                <a:cubicBezTo>
                  <a:pt x="1359" y="1340"/>
                  <a:pt x="1359" y="1340"/>
                  <a:pt x="1359" y="1340"/>
                </a:cubicBezTo>
                <a:cubicBezTo>
                  <a:pt x="1266" y="1638"/>
                  <a:pt x="1266" y="1638"/>
                  <a:pt x="1266" y="1638"/>
                </a:cubicBezTo>
                <a:cubicBezTo>
                  <a:pt x="1229" y="1619"/>
                  <a:pt x="1229" y="1619"/>
                  <a:pt x="1229" y="1619"/>
                </a:cubicBezTo>
                <a:cubicBezTo>
                  <a:pt x="1341" y="1284"/>
                  <a:pt x="1341" y="1284"/>
                  <a:pt x="1341" y="1284"/>
                </a:cubicBezTo>
                <a:cubicBezTo>
                  <a:pt x="1303" y="1228"/>
                  <a:pt x="1303" y="1228"/>
                  <a:pt x="1303" y="1228"/>
                </a:cubicBezTo>
                <a:cubicBezTo>
                  <a:pt x="1192" y="1601"/>
                  <a:pt x="1192" y="1601"/>
                  <a:pt x="1192" y="1601"/>
                </a:cubicBezTo>
                <a:cubicBezTo>
                  <a:pt x="1136" y="1582"/>
                  <a:pt x="1136" y="1582"/>
                  <a:pt x="1136" y="1582"/>
                </a:cubicBezTo>
                <a:cubicBezTo>
                  <a:pt x="1266" y="1172"/>
                  <a:pt x="1266" y="1172"/>
                  <a:pt x="1266" y="1172"/>
                </a:cubicBezTo>
                <a:cubicBezTo>
                  <a:pt x="1173" y="986"/>
                  <a:pt x="1173" y="986"/>
                  <a:pt x="1173" y="986"/>
                </a:cubicBezTo>
                <a:cubicBezTo>
                  <a:pt x="1005" y="1545"/>
                  <a:pt x="1005" y="1545"/>
                  <a:pt x="1005" y="1545"/>
                </a:cubicBezTo>
                <a:cubicBezTo>
                  <a:pt x="949" y="1526"/>
                  <a:pt x="949" y="1526"/>
                  <a:pt x="949" y="1526"/>
                </a:cubicBezTo>
                <a:cubicBezTo>
                  <a:pt x="1154" y="930"/>
                  <a:pt x="1154" y="930"/>
                  <a:pt x="1154" y="930"/>
                </a:cubicBezTo>
                <a:cubicBezTo>
                  <a:pt x="1117" y="874"/>
                  <a:pt x="1117" y="874"/>
                  <a:pt x="1117" y="874"/>
                </a:cubicBezTo>
                <a:cubicBezTo>
                  <a:pt x="1043" y="1098"/>
                  <a:pt x="1043" y="1098"/>
                  <a:pt x="1043" y="1098"/>
                </a:cubicBezTo>
                <a:cubicBezTo>
                  <a:pt x="1005" y="1079"/>
                  <a:pt x="1005" y="1079"/>
                  <a:pt x="1005" y="1079"/>
                </a:cubicBezTo>
                <a:cubicBezTo>
                  <a:pt x="1080" y="819"/>
                  <a:pt x="1080" y="819"/>
                  <a:pt x="1080" y="819"/>
                </a:cubicBezTo>
                <a:cubicBezTo>
                  <a:pt x="1061" y="763"/>
                  <a:pt x="1061" y="763"/>
                  <a:pt x="1061" y="763"/>
                </a:cubicBezTo>
                <a:cubicBezTo>
                  <a:pt x="949" y="1079"/>
                  <a:pt x="949" y="1079"/>
                  <a:pt x="949" y="1079"/>
                </a:cubicBezTo>
                <a:cubicBezTo>
                  <a:pt x="912" y="1061"/>
                  <a:pt x="912" y="1061"/>
                  <a:pt x="912" y="1061"/>
                </a:cubicBezTo>
                <a:cubicBezTo>
                  <a:pt x="1024" y="689"/>
                  <a:pt x="1024" y="689"/>
                  <a:pt x="1024" y="689"/>
                </a:cubicBezTo>
                <a:cubicBezTo>
                  <a:pt x="987" y="633"/>
                  <a:pt x="987" y="633"/>
                  <a:pt x="987" y="633"/>
                </a:cubicBezTo>
                <a:cubicBezTo>
                  <a:pt x="856" y="1043"/>
                  <a:pt x="856" y="1043"/>
                  <a:pt x="856" y="1043"/>
                </a:cubicBezTo>
                <a:cubicBezTo>
                  <a:pt x="819" y="1023"/>
                  <a:pt x="819" y="1023"/>
                  <a:pt x="819" y="1023"/>
                </a:cubicBezTo>
                <a:cubicBezTo>
                  <a:pt x="968" y="577"/>
                  <a:pt x="968" y="577"/>
                  <a:pt x="968" y="577"/>
                </a:cubicBezTo>
                <a:cubicBezTo>
                  <a:pt x="931" y="521"/>
                  <a:pt x="931" y="521"/>
                  <a:pt x="931" y="521"/>
                </a:cubicBezTo>
                <a:cubicBezTo>
                  <a:pt x="782" y="1023"/>
                  <a:pt x="782" y="1023"/>
                  <a:pt x="782" y="1023"/>
                </a:cubicBezTo>
                <a:cubicBezTo>
                  <a:pt x="726" y="1005"/>
                  <a:pt x="726" y="1005"/>
                  <a:pt x="726" y="1005"/>
                </a:cubicBezTo>
                <a:cubicBezTo>
                  <a:pt x="894" y="465"/>
                  <a:pt x="894" y="465"/>
                  <a:pt x="894" y="465"/>
                </a:cubicBezTo>
                <a:cubicBezTo>
                  <a:pt x="875" y="409"/>
                  <a:pt x="875" y="409"/>
                  <a:pt x="875" y="409"/>
                </a:cubicBezTo>
                <a:cubicBezTo>
                  <a:pt x="689" y="986"/>
                  <a:pt x="689" y="986"/>
                  <a:pt x="689" y="986"/>
                </a:cubicBezTo>
                <a:cubicBezTo>
                  <a:pt x="633" y="968"/>
                  <a:pt x="633" y="968"/>
                  <a:pt x="633" y="968"/>
                </a:cubicBezTo>
                <a:cubicBezTo>
                  <a:pt x="838" y="353"/>
                  <a:pt x="838" y="353"/>
                  <a:pt x="838" y="353"/>
                </a:cubicBezTo>
                <a:cubicBezTo>
                  <a:pt x="689" y="74"/>
                  <a:pt x="689" y="74"/>
                  <a:pt x="689" y="74"/>
                </a:cubicBezTo>
                <a:lnTo>
                  <a:pt x="689" y="74"/>
                </a:lnTo>
                <a:lnTo>
                  <a:pt x="689" y="74"/>
                </a:lnTo>
                <a:cubicBezTo>
                  <a:pt x="447" y="0"/>
                  <a:pt x="447" y="0"/>
                  <a:pt x="447" y="0"/>
                </a:cubicBezTo>
                <a:lnTo>
                  <a:pt x="912" y="1526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11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11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117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118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1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2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121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22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123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124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125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126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127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128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29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130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131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132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133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34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35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36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137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138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39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140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41"/>
          <p:cNvSpPr/>
          <p:nvPr/>
        </p:nvSpPr>
        <p:spPr>
          <a:xfrm>
            <a:off x="6219720" y="2843280"/>
            <a:ext cx="665280" cy="976320"/>
          </a:xfrm>
          <a:custGeom>
            <a:avLst/>
            <a:gdLst/>
            <a:ahLst/>
            <a:rect l="l" t="t" r="r" b="b"/>
            <a:pathLst>
              <a:path w="1751" h="2570">
                <a:moveTo>
                  <a:pt x="559" y="1434"/>
                </a:moveTo>
                <a:lnTo>
                  <a:pt x="559" y="1434"/>
                </a:lnTo>
                <a:cubicBezTo>
                  <a:pt x="354" y="1043"/>
                  <a:pt x="354" y="1043"/>
                  <a:pt x="354" y="1043"/>
                </a:cubicBezTo>
                <a:cubicBezTo>
                  <a:pt x="689" y="856"/>
                  <a:pt x="689" y="856"/>
                  <a:pt x="689" y="856"/>
                </a:cubicBezTo>
                <a:cubicBezTo>
                  <a:pt x="894" y="1248"/>
                  <a:pt x="894" y="1248"/>
                  <a:pt x="894" y="1248"/>
                </a:cubicBezTo>
                <a:cubicBezTo>
                  <a:pt x="559" y="1434"/>
                  <a:pt x="559" y="1434"/>
                  <a:pt x="559" y="1434"/>
                </a:cubicBezTo>
                <a:lnTo>
                  <a:pt x="820" y="968"/>
                </a:lnTo>
                <a:lnTo>
                  <a:pt x="820" y="968"/>
                </a:lnTo>
                <a:cubicBezTo>
                  <a:pt x="801" y="912"/>
                  <a:pt x="801" y="912"/>
                  <a:pt x="801" y="912"/>
                </a:cubicBezTo>
                <a:cubicBezTo>
                  <a:pt x="1434" y="577"/>
                  <a:pt x="1434" y="577"/>
                  <a:pt x="1434" y="577"/>
                </a:cubicBezTo>
                <a:cubicBezTo>
                  <a:pt x="1452" y="614"/>
                  <a:pt x="1452" y="614"/>
                  <a:pt x="1452" y="614"/>
                </a:cubicBezTo>
                <a:cubicBezTo>
                  <a:pt x="820" y="968"/>
                  <a:pt x="820" y="968"/>
                  <a:pt x="820" y="968"/>
                </a:cubicBezTo>
                <a:lnTo>
                  <a:pt x="782" y="875"/>
                </a:lnTo>
                <a:lnTo>
                  <a:pt x="782" y="875"/>
                </a:lnTo>
                <a:cubicBezTo>
                  <a:pt x="745" y="838"/>
                  <a:pt x="745" y="838"/>
                  <a:pt x="745" y="838"/>
                </a:cubicBezTo>
                <a:cubicBezTo>
                  <a:pt x="1396" y="503"/>
                  <a:pt x="1396" y="503"/>
                  <a:pt x="1396" y="503"/>
                </a:cubicBezTo>
                <a:cubicBezTo>
                  <a:pt x="1415" y="540"/>
                  <a:pt x="1415" y="540"/>
                  <a:pt x="1415" y="540"/>
                </a:cubicBezTo>
                <a:cubicBezTo>
                  <a:pt x="782" y="875"/>
                  <a:pt x="782" y="875"/>
                  <a:pt x="782" y="875"/>
                </a:cubicBezTo>
                <a:lnTo>
                  <a:pt x="428" y="856"/>
                </a:lnTo>
                <a:lnTo>
                  <a:pt x="428" y="856"/>
                </a:lnTo>
                <a:cubicBezTo>
                  <a:pt x="391" y="763"/>
                  <a:pt x="391" y="763"/>
                  <a:pt x="391" y="763"/>
                </a:cubicBezTo>
                <a:cubicBezTo>
                  <a:pt x="1154" y="354"/>
                  <a:pt x="1154" y="354"/>
                  <a:pt x="1154" y="354"/>
                </a:cubicBezTo>
                <a:cubicBezTo>
                  <a:pt x="1210" y="447"/>
                  <a:pt x="1210" y="447"/>
                  <a:pt x="1210" y="447"/>
                </a:cubicBezTo>
                <a:cubicBezTo>
                  <a:pt x="428" y="856"/>
                  <a:pt x="428" y="856"/>
                  <a:pt x="428" y="856"/>
                </a:cubicBezTo>
                <a:lnTo>
                  <a:pt x="1303" y="0"/>
                </a:lnTo>
                <a:lnTo>
                  <a:pt x="1303" y="0"/>
                </a:lnTo>
                <a:cubicBezTo>
                  <a:pt x="0" y="689"/>
                  <a:pt x="0" y="689"/>
                  <a:pt x="0" y="689"/>
                </a:cubicBezTo>
                <a:cubicBezTo>
                  <a:pt x="130" y="968"/>
                  <a:pt x="130" y="968"/>
                  <a:pt x="130" y="968"/>
                </a:cubicBezTo>
                <a:cubicBezTo>
                  <a:pt x="168" y="1024"/>
                  <a:pt x="168" y="1024"/>
                  <a:pt x="168" y="1024"/>
                </a:cubicBezTo>
                <a:cubicBezTo>
                  <a:pt x="317" y="1303"/>
                  <a:pt x="317" y="1303"/>
                  <a:pt x="317" y="1303"/>
                </a:cubicBezTo>
                <a:cubicBezTo>
                  <a:pt x="354" y="1359"/>
                  <a:pt x="354" y="1359"/>
                  <a:pt x="354" y="1359"/>
                </a:cubicBezTo>
                <a:cubicBezTo>
                  <a:pt x="373" y="1415"/>
                  <a:pt x="373" y="1415"/>
                  <a:pt x="373" y="1415"/>
                </a:cubicBezTo>
                <a:cubicBezTo>
                  <a:pt x="410" y="1471"/>
                  <a:pt x="410" y="1471"/>
                  <a:pt x="410" y="1471"/>
                </a:cubicBezTo>
                <a:cubicBezTo>
                  <a:pt x="447" y="1527"/>
                  <a:pt x="447" y="1527"/>
                  <a:pt x="447" y="1527"/>
                </a:cubicBezTo>
                <a:cubicBezTo>
                  <a:pt x="466" y="1583"/>
                  <a:pt x="466" y="1583"/>
                  <a:pt x="466" y="1583"/>
                </a:cubicBezTo>
                <a:cubicBezTo>
                  <a:pt x="503" y="1639"/>
                  <a:pt x="503" y="1639"/>
                  <a:pt x="503" y="1639"/>
                </a:cubicBezTo>
                <a:cubicBezTo>
                  <a:pt x="540" y="1713"/>
                  <a:pt x="540" y="1713"/>
                  <a:pt x="540" y="1713"/>
                </a:cubicBezTo>
                <a:cubicBezTo>
                  <a:pt x="559" y="1769"/>
                  <a:pt x="559" y="1769"/>
                  <a:pt x="559" y="1769"/>
                </a:cubicBezTo>
                <a:cubicBezTo>
                  <a:pt x="596" y="1824"/>
                  <a:pt x="596" y="1824"/>
                  <a:pt x="596" y="1824"/>
                </a:cubicBezTo>
                <a:cubicBezTo>
                  <a:pt x="633" y="1880"/>
                  <a:pt x="633" y="1880"/>
                  <a:pt x="633" y="1880"/>
                </a:cubicBezTo>
                <a:cubicBezTo>
                  <a:pt x="652" y="1936"/>
                  <a:pt x="652" y="1936"/>
                  <a:pt x="652" y="1936"/>
                </a:cubicBezTo>
                <a:cubicBezTo>
                  <a:pt x="745" y="2122"/>
                  <a:pt x="745" y="2122"/>
                  <a:pt x="745" y="2122"/>
                </a:cubicBezTo>
                <a:cubicBezTo>
                  <a:pt x="782" y="2178"/>
                  <a:pt x="782" y="2178"/>
                  <a:pt x="782" y="2178"/>
                </a:cubicBezTo>
                <a:cubicBezTo>
                  <a:pt x="820" y="2234"/>
                  <a:pt x="820" y="2234"/>
                  <a:pt x="820" y="2234"/>
                </a:cubicBezTo>
                <a:cubicBezTo>
                  <a:pt x="838" y="2290"/>
                  <a:pt x="838" y="2290"/>
                  <a:pt x="838" y="2290"/>
                </a:cubicBezTo>
                <a:cubicBezTo>
                  <a:pt x="875" y="2346"/>
                  <a:pt x="875" y="2346"/>
                  <a:pt x="875" y="2346"/>
                </a:cubicBezTo>
                <a:cubicBezTo>
                  <a:pt x="913" y="2420"/>
                  <a:pt x="913" y="2420"/>
                  <a:pt x="913" y="2420"/>
                </a:cubicBezTo>
                <a:cubicBezTo>
                  <a:pt x="931" y="2476"/>
                  <a:pt x="931" y="2476"/>
                  <a:pt x="931" y="2476"/>
                </a:cubicBezTo>
                <a:cubicBezTo>
                  <a:pt x="969" y="2532"/>
                  <a:pt x="969" y="2532"/>
                  <a:pt x="969" y="2532"/>
                </a:cubicBezTo>
                <a:cubicBezTo>
                  <a:pt x="987" y="2569"/>
                  <a:pt x="987" y="2569"/>
                  <a:pt x="987" y="2569"/>
                </a:cubicBezTo>
                <a:lnTo>
                  <a:pt x="987" y="2569"/>
                </a:lnTo>
                <a:cubicBezTo>
                  <a:pt x="987" y="2216"/>
                  <a:pt x="987" y="2216"/>
                  <a:pt x="987" y="2216"/>
                </a:cubicBezTo>
                <a:lnTo>
                  <a:pt x="987" y="2216"/>
                </a:lnTo>
                <a:lnTo>
                  <a:pt x="987" y="2216"/>
                </a:lnTo>
                <a:cubicBezTo>
                  <a:pt x="987" y="2160"/>
                  <a:pt x="987" y="2160"/>
                  <a:pt x="987" y="2160"/>
                </a:cubicBezTo>
                <a:cubicBezTo>
                  <a:pt x="969" y="2178"/>
                  <a:pt x="969" y="2178"/>
                  <a:pt x="969" y="2178"/>
                </a:cubicBezTo>
                <a:cubicBezTo>
                  <a:pt x="949" y="2122"/>
                  <a:pt x="949" y="2122"/>
                  <a:pt x="949" y="2122"/>
                </a:cubicBezTo>
                <a:cubicBezTo>
                  <a:pt x="987" y="2104"/>
                  <a:pt x="987" y="2104"/>
                  <a:pt x="987" y="2104"/>
                </a:cubicBezTo>
                <a:cubicBezTo>
                  <a:pt x="987" y="2048"/>
                  <a:pt x="987" y="2048"/>
                  <a:pt x="987" y="2048"/>
                </a:cubicBezTo>
                <a:cubicBezTo>
                  <a:pt x="931" y="2085"/>
                  <a:pt x="931" y="2085"/>
                  <a:pt x="931" y="2085"/>
                </a:cubicBezTo>
                <a:cubicBezTo>
                  <a:pt x="894" y="2048"/>
                  <a:pt x="894" y="2048"/>
                  <a:pt x="894" y="2048"/>
                </a:cubicBezTo>
                <a:cubicBezTo>
                  <a:pt x="987" y="1993"/>
                  <a:pt x="987" y="1993"/>
                  <a:pt x="987" y="1993"/>
                </a:cubicBezTo>
                <a:cubicBezTo>
                  <a:pt x="987" y="1936"/>
                  <a:pt x="987" y="1936"/>
                  <a:pt x="987" y="1936"/>
                </a:cubicBezTo>
                <a:cubicBezTo>
                  <a:pt x="875" y="2011"/>
                  <a:pt x="875" y="2011"/>
                  <a:pt x="875" y="2011"/>
                </a:cubicBezTo>
                <a:cubicBezTo>
                  <a:pt x="857" y="1955"/>
                  <a:pt x="857" y="1955"/>
                  <a:pt x="857" y="1955"/>
                </a:cubicBezTo>
                <a:cubicBezTo>
                  <a:pt x="987" y="1880"/>
                  <a:pt x="987" y="1880"/>
                  <a:pt x="987" y="1880"/>
                </a:cubicBezTo>
                <a:cubicBezTo>
                  <a:pt x="987" y="1824"/>
                  <a:pt x="987" y="1824"/>
                  <a:pt x="987" y="1824"/>
                </a:cubicBezTo>
                <a:cubicBezTo>
                  <a:pt x="838" y="1918"/>
                  <a:pt x="838" y="1918"/>
                  <a:pt x="838" y="1918"/>
                </a:cubicBezTo>
                <a:cubicBezTo>
                  <a:pt x="820" y="1880"/>
                  <a:pt x="820" y="1880"/>
                  <a:pt x="820" y="1880"/>
                </a:cubicBezTo>
                <a:cubicBezTo>
                  <a:pt x="987" y="1788"/>
                  <a:pt x="987" y="1788"/>
                  <a:pt x="987" y="1788"/>
                </a:cubicBezTo>
                <a:cubicBezTo>
                  <a:pt x="987" y="1732"/>
                  <a:pt x="987" y="1732"/>
                  <a:pt x="987" y="1732"/>
                </a:cubicBezTo>
                <a:cubicBezTo>
                  <a:pt x="782" y="1844"/>
                  <a:pt x="782" y="1844"/>
                  <a:pt x="782" y="1844"/>
                </a:cubicBezTo>
                <a:cubicBezTo>
                  <a:pt x="764" y="1788"/>
                  <a:pt x="764" y="1788"/>
                  <a:pt x="764" y="1788"/>
                </a:cubicBezTo>
                <a:cubicBezTo>
                  <a:pt x="987" y="1676"/>
                  <a:pt x="987" y="1676"/>
                  <a:pt x="987" y="1676"/>
                </a:cubicBezTo>
                <a:cubicBezTo>
                  <a:pt x="987" y="1620"/>
                  <a:pt x="987" y="1620"/>
                  <a:pt x="987" y="1620"/>
                </a:cubicBezTo>
                <a:cubicBezTo>
                  <a:pt x="745" y="1750"/>
                  <a:pt x="745" y="1750"/>
                  <a:pt x="745" y="1750"/>
                </a:cubicBezTo>
                <a:cubicBezTo>
                  <a:pt x="726" y="1713"/>
                  <a:pt x="726" y="1713"/>
                  <a:pt x="726" y="1713"/>
                </a:cubicBezTo>
                <a:cubicBezTo>
                  <a:pt x="987" y="1564"/>
                  <a:pt x="987" y="1564"/>
                  <a:pt x="987" y="1564"/>
                </a:cubicBezTo>
                <a:cubicBezTo>
                  <a:pt x="987" y="1508"/>
                  <a:pt x="987" y="1508"/>
                  <a:pt x="987" y="1508"/>
                </a:cubicBezTo>
                <a:cubicBezTo>
                  <a:pt x="708" y="1657"/>
                  <a:pt x="708" y="1657"/>
                  <a:pt x="708" y="1657"/>
                </a:cubicBezTo>
                <a:cubicBezTo>
                  <a:pt x="671" y="1620"/>
                  <a:pt x="671" y="1620"/>
                  <a:pt x="671" y="1620"/>
                </a:cubicBezTo>
                <a:cubicBezTo>
                  <a:pt x="987" y="1452"/>
                  <a:pt x="987" y="1452"/>
                  <a:pt x="987" y="1452"/>
                </a:cubicBezTo>
                <a:cubicBezTo>
                  <a:pt x="987" y="1303"/>
                  <a:pt x="987" y="1303"/>
                  <a:pt x="987" y="1303"/>
                </a:cubicBezTo>
                <a:cubicBezTo>
                  <a:pt x="615" y="1490"/>
                  <a:pt x="615" y="1490"/>
                  <a:pt x="615" y="1490"/>
                </a:cubicBezTo>
                <a:cubicBezTo>
                  <a:pt x="596" y="1452"/>
                  <a:pt x="596" y="1452"/>
                  <a:pt x="596" y="1452"/>
                </a:cubicBezTo>
                <a:cubicBezTo>
                  <a:pt x="987" y="1248"/>
                  <a:pt x="987" y="1248"/>
                  <a:pt x="987" y="1248"/>
                </a:cubicBezTo>
                <a:cubicBezTo>
                  <a:pt x="987" y="1192"/>
                  <a:pt x="987" y="1192"/>
                  <a:pt x="987" y="1192"/>
                </a:cubicBezTo>
                <a:cubicBezTo>
                  <a:pt x="949" y="1210"/>
                  <a:pt x="949" y="1210"/>
                  <a:pt x="949" y="1210"/>
                </a:cubicBezTo>
                <a:cubicBezTo>
                  <a:pt x="931" y="1173"/>
                  <a:pt x="931" y="1173"/>
                  <a:pt x="931" y="1173"/>
                </a:cubicBezTo>
                <a:cubicBezTo>
                  <a:pt x="987" y="1136"/>
                  <a:pt x="987" y="1136"/>
                  <a:pt x="987" y="1136"/>
                </a:cubicBezTo>
                <a:cubicBezTo>
                  <a:pt x="987" y="1080"/>
                  <a:pt x="987" y="1080"/>
                  <a:pt x="987" y="1080"/>
                </a:cubicBezTo>
                <a:cubicBezTo>
                  <a:pt x="913" y="1136"/>
                  <a:pt x="913" y="1136"/>
                  <a:pt x="913" y="1136"/>
                </a:cubicBezTo>
                <a:cubicBezTo>
                  <a:pt x="894" y="1080"/>
                  <a:pt x="894" y="1080"/>
                  <a:pt x="894" y="1080"/>
                </a:cubicBezTo>
                <a:cubicBezTo>
                  <a:pt x="987" y="1024"/>
                  <a:pt x="987" y="1024"/>
                  <a:pt x="987" y="1024"/>
                </a:cubicBezTo>
                <a:cubicBezTo>
                  <a:pt x="1005" y="1005"/>
                  <a:pt x="1005" y="987"/>
                  <a:pt x="1024" y="968"/>
                </a:cubicBezTo>
                <a:cubicBezTo>
                  <a:pt x="857" y="1043"/>
                  <a:pt x="857" y="1043"/>
                  <a:pt x="857" y="1043"/>
                </a:cubicBezTo>
                <a:cubicBezTo>
                  <a:pt x="838" y="1005"/>
                  <a:pt x="838" y="1005"/>
                  <a:pt x="838" y="1005"/>
                </a:cubicBezTo>
                <a:cubicBezTo>
                  <a:pt x="1471" y="670"/>
                  <a:pt x="1471" y="670"/>
                  <a:pt x="1471" y="670"/>
                </a:cubicBezTo>
                <a:cubicBezTo>
                  <a:pt x="1490" y="707"/>
                  <a:pt x="1490" y="707"/>
                  <a:pt x="1490" y="707"/>
                </a:cubicBezTo>
                <a:cubicBezTo>
                  <a:pt x="1154" y="894"/>
                  <a:pt x="1154" y="894"/>
                  <a:pt x="1154" y="894"/>
                </a:cubicBezTo>
                <a:cubicBezTo>
                  <a:pt x="1247" y="894"/>
                  <a:pt x="1247" y="894"/>
                  <a:pt x="1247" y="894"/>
                </a:cubicBezTo>
                <a:cubicBezTo>
                  <a:pt x="1527" y="745"/>
                  <a:pt x="1527" y="745"/>
                  <a:pt x="1527" y="745"/>
                </a:cubicBezTo>
                <a:cubicBezTo>
                  <a:pt x="1545" y="782"/>
                  <a:pt x="1545" y="782"/>
                  <a:pt x="1545" y="782"/>
                </a:cubicBezTo>
                <a:cubicBezTo>
                  <a:pt x="1359" y="894"/>
                  <a:pt x="1359" y="894"/>
                  <a:pt x="1359" y="894"/>
                </a:cubicBezTo>
                <a:cubicBezTo>
                  <a:pt x="1452" y="894"/>
                  <a:pt x="1452" y="894"/>
                  <a:pt x="1452" y="894"/>
                </a:cubicBezTo>
                <a:cubicBezTo>
                  <a:pt x="1564" y="838"/>
                  <a:pt x="1564" y="838"/>
                  <a:pt x="1564" y="838"/>
                </a:cubicBezTo>
                <a:cubicBezTo>
                  <a:pt x="1583" y="875"/>
                  <a:pt x="1583" y="875"/>
                  <a:pt x="1583" y="875"/>
                </a:cubicBezTo>
                <a:cubicBezTo>
                  <a:pt x="1564" y="894"/>
                  <a:pt x="1564" y="894"/>
                  <a:pt x="1564" y="894"/>
                </a:cubicBezTo>
                <a:cubicBezTo>
                  <a:pt x="1750" y="894"/>
                  <a:pt x="1750" y="894"/>
                  <a:pt x="1750" y="894"/>
                </a:cubicBezTo>
                <a:cubicBezTo>
                  <a:pt x="1750" y="875"/>
                  <a:pt x="1750" y="875"/>
                  <a:pt x="1750" y="875"/>
                </a:cubicBezTo>
                <a:cubicBezTo>
                  <a:pt x="1303" y="0"/>
                  <a:pt x="1303" y="0"/>
                  <a:pt x="1303" y="0"/>
                </a:cubicBezTo>
                <a:lnTo>
                  <a:pt x="559" y="1434"/>
                </a:lnTo>
              </a:path>
            </a:pathLst>
          </a:custGeom>
          <a:solidFill>
            <a:srgbClr val="e1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42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43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44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45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46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47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48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49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50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33" y="0"/>
                </a:moveTo>
                <a:lnTo>
                  <a:pt x="633" y="0"/>
                </a:lnTo>
                <a:cubicBezTo>
                  <a:pt x="0" y="335"/>
                  <a:pt x="0" y="335"/>
                  <a:pt x="0" y="335"/>
                </a:cubicBezTo>
                <a:cubicBezTo>
                  <a:pt x="19" y="373"/>
                  <a:pt x="19" y="373"/>
                  <a:pt x="19" y="373"/>
                </a:cubicBezTo>
                <a:cubicBezTo>
                  <a:pt x="186" y="298"/>
                  <a:pt x="186" y="298"/>
                  <a:pt x="186" y="298"/>
                </a:cubicBezTo>
                <a:cubicBezTo>
                  <a:pt x="205" y="242"/>
                  <a:pt x="260" y="224"/>
                  <a:pt x="316" y="224"/>
                </a:cubicBezTo>
                <a:lnTo>
                  <a:pt x="316" y="224"/>
                </a:lnTo>
                <a:cubicBezTo>
                  <a:pt x="652" y="37"/>
                  <a:pt x="652" y="37"/>
                  <a:pt x="652" y="37"/>
                </a:cubicBezTo>
                <a:cubicBezTo>
                  <a:pt x="633" y="0"/>
                  <a:pt x="633" y="0"/>
                  <a:pt x="633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1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93" y="279"/>
                </a:moveTo>
                <a:lnTo>
                  <a:pt x="93" y="279"/>
                </a:lnTo>
                <a:cubicBezTo>
                  <a:pt x="0" y="335"/>
                  <a:pt x="0" y="335"/>
                  <a:pt x="0" y="335"/>
                </a:cubicBezTo>
                <a:cubicBezTo>
                  <a:pt x="19" y="391"/>
                  <a:pt x="19" y="391"/>
                  <a:pt x="19" y="391"/>
                </a:cubicBezTo>
                <a:cubicBezTo>
                  <a:pt x="93" y="335"/>
                  <a:pt x="93" y="335"/>
                  <a:pt x="93" y="335"/>
                </a:cubicBezTo>
                <a:cubicBezTo>
                  <a:pt x="93" y="298"/>
                  <a:pt x="93" y="298"/>
                  <a:pt x="93" y="298"/>
                </a:cubicBezTo>
                <a:lnTo>
                  <a:pt x="93" y="298"/>
                </a:lnTo>
                <a:lnTo>
                  <a:pt x="93" y="298"/>
                </a:lnTo>
                <a:cubicBezTo>
                  <a:pt x="93" y="298"/>
                  <a:pt x="93" y="298"/>
                  <a:pt x="93" y="279"/>
                </a:cubicBezTo>
                <a:lnTo>
                  <a:pt x="633" y="0"/>
                </a:lnTo>
                <a:lnTo>
                  <a:pt x="633" y="0"/>
                </a:lnTo>
                <a:cubicBezTo>
                  <a:pt x="353" y="149"/>
                  <a:pt x="353" y="149"/>
                  <a:pt x="353" y="149"/>
                </a:cubicBezTo>
                <a:cubicBezTo>
                  <a:pt x="465" y="149"/>
                  <a:pt x="465" y="149"/>
                  <a:pt x="465" y="149"/>
                </a:cubicBezTo>
                <a:cubicBezTo>
                  <a:pt x="651" y="37"/>
                  <a:pt x="651" y="37"/>
                  <a:pt x="651" y="37"/>
                </a:cubicBezTo>
                <a:cubicBezTo>
                  <a:pt x="633" y="0"/>
                  <a:pt x="633" y="0"/>
                  <a:pt x="633" y="0"/>
                </a:cubicBezTo>
                <a:lnTo>
                  <a:pt x="93" y="279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5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56" y="298"/>
                </a:moveTo>
                <a:lnTo>
                  <a:pt x="0" y="335"/>
                </a:lnTo>
                <a:lnTo>
                  <a:pt x="18" y="372"/>
                </a:lnTo>
                <a:lnTo>
                  <a:pt x="56" y="354"/>
                </a:lnTo>
                <a:lnTo>
                  <a:pt x="56" y="298"/>
                </a:lnTo>
                <a:close/>
                <a:moveTo>
                  <a:pt x="633" y="0"/>
                </a:moveTo>
                <a:lnTo>
                  <a:pt x="521" y="56"/>
                </a:lnTo>
                <a:lnTo>
                  <a:pt x="633" y="56"/>
                </a:lnTo>
                <a:lnTo>
                  <a:pt x="652" y="37"/>
                </a:lnTo>
                <a:lnTo>
                  <a:pt x="633" y="0"/>
                </a:lnTo>
                <a:close/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3"/>
          <p:cNvSpPr/>
          <p:nvPr/>
        </p:nvSpPr>
        <p:spPr>
          <a:xfrm>
            <a:off x="6573960" y="3274920"/>
            <a:ext cx="20520" cy="28800"/>
          </a:xfrm>
          <a:custGeom>
            <a:avLst/>
            <a:gdLst/>
            <a:ahLst/>
            <a:rect l="l" t="t" r="r" b="b"/>
            <a:pathLst>
              <a:path w="57" h="75">
                <a:moveTo>
                  <a:pt x="56" y="0"/>
                </a:moveTo>
                <a:lnTo>
                  <a:pt x="0" y="37"/>
                </a:lnTo>
                <a:lnTo>
                  <a:pt x="18" y="74"/>
                </a:lnTo>
                <a:lnTo>
                  <a:pt x="56" y="56"/>
                </a:lnTo>
                <a:lnTo>
                  <a:pt x="5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54"/>
          <p:cNvSpPr/>
          <p:nvPr/>
        </p:nvSpPr>
        <p:spPr>
          <a:xfrm>
            <a:off x="6770520" y="3160800"/>
            <a:ext cx="51120" cy="219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112" y="0"/>
                </a:moveTo>
                <a:lnTo>
                  <a:pt x="0" y="56"/>
                </a:lnTo>
                <a:lnTo>
                  <a:pt x="112" y="56"/>
                </a:lnTo>
                <a:lnTo>
                  <a:pt x="131" y="37"/>
                </a:lnTo>
                <a:lnTo>
                  <a:pt x="112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55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156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157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58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159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60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161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62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163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64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65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166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67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68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69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70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171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172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173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174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175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176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177"/>
          <p:cNvSpPr/>
          <p:nvPr/>
        </p:nvSpPr>
        <p:spPr>
          <a:xfrm>
            <a:off x="6883560" y="3033720"/>
            <a:ext cx="566640" cy="149040"/>
          </a:xfrm>
          <a:custGeom>
            <a:avLst/>
            <a:gdLst/>
            <a:ahLst/>
            <a:rect l="l" t="t" r="r" b="b"/>
            <a:pathLst>
              <a:path w="1491" h="392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372"/>
                  <a:pt x="0" y="372"/>
                  <a:pt x="0" y="372"/>
                </a:cubicBezTo>
                <a:lnTo>
                  <a:pt x="0" y="372"/>
                </a:lnTo>
                <a:cubicBezTo>
                  <a:pt x="0" y="391"/>
                  <a:pt x="0" y="391"/>
                  <a:pt x="0" y="391"/>
                </a:cubicBezTo>
                <a:cubicBezTo>
                  <a:pt x="38" y="391"/>
                  <a:pt x="38" y="391"/>
                  <a:pt x="38" y="391"/>
                </a:cubicBezTo>
                <a:cubicBezTo>
                  <a:pt x="38" y="335"/>
                  <a:pt x="38" y="335"/>
                  <a:pt x="38" y="335"/>
                </a:cubicBezTo>
                <a:lnTo>
                  <a:pt x="38" y="335"/>
                </a:ln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391"/>
                  <a:pt x="1472" y="391"/>
                  <a:pt x="1472" y="391"/>
                </a:cubicBezTo>
                <a:cubicBezTo>
                  <a:pt x="1490" y="391"/>
                  <a:pt x="1490" y="391"/>
                  <a:pt x="1490" y="391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178"/>
          <p:cNvSpPr/>
          <p:nvPr/>
        </p:nvSpPr>
        <p:spPr>
          <a:xfrm>
            <a:off x="6593040" y="3240000"/>
            <a:ext cx="1153800" cy="736560"/>
          </a:xfrm>
          <a:custGeom>
            <a:avLst/>
            <a:gdLst/>
            <a:ahLst/>
            <a:rect l="l" t="t" r="r" b="b"/>
            <a:pathLst>
              <a:path w="3036" h="193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37"/>
                  <a:pt x="0" y="37"/>
                  <a:pt x="0" y="3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205"/>
                  <a:pt x="0" y="205"/>
                  <a:pt x="0" y="205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409"/>
                  <a:pt x="0" y="409"/>
                  <a:pt x="0" y="409"/>
                </a:cubicBezTo>
                <a:cubicBezTo>
                  <a:pt x="0" y="465"/>
                  <a:pt x="0" y="465"/>
                  <a:pt x="0" y="465"/>
                </a:cubicBezTo>
                <a:cubicBezTo>
                  <a:pt x="0" y="521"/>
                  <a:pt x="0" y="521"/>
                  <a:pt x="0" y="521"/>
                </a:cubicBezTo>
                <a:cubicBezTo>
                  <a:pt x="0" y="577"/>
                  <a:pt x="0" y="577"/>
                  <a:pt x="0" y="577"/>
                </a:cubicBezTo>
                <a:cubicBezTo>
                  <a:pt x="0" y="633"/>
                  <a:pt x="0" y="633"/>
                  <a:pt x="0" y="633"/>
                </a:cubicBezTo>
                <a:cubicBezTo>
                  <a:pt x="0" y="689"/>
                  <a:pt x="0" y="689"/>
                  <a:pt x="0" y="689"/>
                </a:cubicBezTo>
                <a:cubicBezTo>
                  <a:pt x="0" y="745"/>
                  <a:pt x="0" y="745"/>
                  <a:pt x="0" y="745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37"/>
                  <a:pt x="0" y="837"/>
                  <a:pt x="0" y="837"/>
                </a:cubicBezTo>
                <a:cubicBezTo>
                  <a:pt x="0" y="893"/>
                  <a:pt x="0" y="893"/>
                  <a:pt x="0" y="893"/>
                </a:cubicBezTo>
                <a:cubicBezTo>
                  <a:pt x="0" y="950"/>
                  <a:pt x="0" y="950"/>
                  <a:pt x="0" y="950"/>
                </a:cubicBezTo>
                <a:cubicBezTo>
                  <a:pt x="0" y="1005"/>
                  <a:pt x="0" y="1005"/>
                  <a:pt x="0" y="1005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117"/>
                  <a:pt x="0" y="1117"/>
                  <a:pt x="0" y="1117"/>
                </a:cubicBezTo>
                <a:cubicBezTo>
                  <a:pt x="0" y="1173"/>
                  <a:pt x="0" y="1173"/>
                  <a:pt x="0" y="1173"/>
                </a:cubicBezTo>
                <a:lnTo>
                  <a:pt x="0" y="1173"/>
                </a:lnTo>
                <a:cubicBezTo>
                  <a:pt x="0" y="1526"/>
                  <a:pt x="0" y="1526"/>
                  <a:pt x="0" y="1526"/>
                </a:cubicBezTo>
                <a:cubicBezTo>
                  <a:pt x="0" y="1564"/>
                  <a:pt x="0" y="1564"/>
                  <a:pt x="0" y="1564"/>
                </a:cubicBezTo>
                <a:cubicBezTo>
                  <a:pt x="0" y="1620"/>
                  <a:pt x="0" y="1620"/>
                  <a:pt x="0" y="1620"/>
                </a:cubicBezTo>
                <a:cubicBezTo>
                  <a:pt x="0" y="1787"/>
                  <a:pt x="0" y="1787"/>
                  <a:pt x="0" y="1787"/>
                </a:cubicBezTo>
                <a:lnTo>
                  <a:pt x="0" y="1787"/>
                </a:lnTo>
                <a:lnTo>
                  <a:pt x="0" y="1787"/>
                </a:lnTo>
                <a:lnTo>
                  <a:pt x="0" y="1787"/>
                </a:lnTo>
                <a:cubicBezTo>
                  <a:pt x="0" y="1638"/>
                  <a:pt x="0" y="1638"/>
                  <a:pt x="0" y="1638"/>
                </a:cubicBezTo>
                <a:cubicBezTo>
                  <a:pt x="111" y="1731"/>
                  <a:pt x="223" y="1843"/>
                  <a:pt x="316" y="1935"/>
                </a:cubicBezTo>
                <a:cubicBezTo>
                  <a:pt x="484" y="1935"/>
                  <a:pt x="484" y="1935"/>
                  <a:pt x="484" y="1935"/>
                </a:cubicBezTo>
                <a:lnTo>
                  <a:pt x="484" y="1935"/>
                </a:lnTo>
                <a:cubicBezTo>
                  <a:pt x="521" y="1935"/>
                  <a:pt x="521" y="1935"/>
                  <a:pt x="521" y="1935"/>
                </a:cubicBezTo>
                <a:cubicBezTo>
                  <a:pt x="2700" y="1935"/>
                  <a:pt x="2700" y="1935"/>
                  <a:pt x="2700" y="1935"/>
                </a:cubicBezTo>
                <a:cubicBezTo>
                  <a:pt x="3035" y="1601"/>
                  <a:pt x="3035" y="1601"/>
                  <a:pt x="3035" y="1601"/>
                </a:cubicBezTo>
                <a:cubicBezTo>
                  <a:pt x="3035" y="912"/>
                  <a:pt x="3035" y="912"/>
                  <a:pt x="3035" y="912"/>
                </a:cubicBezTo>
                <a:cubicBezTo>
                  <a:pt x="1881" y="912"/>
                  <a:pt x="1881" y="912"/>
                  <a:pt x="1881" y="912"/>
                </a:cubicBezTo>
                <a:cubicBezTo>
                  <a:pt x="1881" y="968"/>
                  <a:pt x="1881" y="968"/>
                  <a:pt x="1881" y="968"/>
                </a:cubicBezTo>
                <a:cubicBezTo>
                  <a:pt x="1843" y="968"/>
                  <a:pt x="1843" y="968"/>
                  <a:pt x="1843" y="968"/>
                </a:cubicBezTo>
                <a:cubicBezTo>
                  <a:pt x="1825" y="1135"/>
                  <a:pt x="1676" y="1266"/>
                  <a:pt x="1508" y="1266"/>
                </a:cubicBezTo>
                <a:cubicBezTo>
                  <a:pt x="1322" y="1266"/>
                  <a:pt x="1173" y="1135"/>
                  <a:pt x="1154" y="968"/>
                </a:cubicBezTo>
                <a:cubicBezTo>
                  <a:pt x="1117" y="968"/>
                  <a:pt x="1117" y="968"/>
                  <a:pt x="1117" y="968"/>
                </a:cubicBezTo>
                <a:cubicBezTo>
                  <a:pt x="1117" y="912"/>
                  <a:pt x="1117" y="912"/>
                  <a:pt x="1117" y="912"/>
                </a:cubicBezTo>
                <a:cubicBezTo>
                  <a:pt x="0" y="912"/>
                  <a:pt x="0" y="912"/>
                  <a:pt x="0" y="91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179"/>
          <p:cNvSpPr/>
          <p:nvPr/>
        </p:nvSpPr>
        <p:spPr>
          <a:xfrm>
            <a:off x="6593040" y="3240000"/>
            <a:ext cx="1153800" cy="347760"/>
          </a:xfrm>
          <a:custGeom>
            <a:avLst/>
            <a:gdLst/>
            <a:ahLst/>
            <a:rect l="l" t="t" r="r" b="b"/>
            <a:pathLst>
              <a:path w="3036" h="913">
                <a:moveTo>
                  <a:pt x="3035" y="837"/>
                </a:moveTo>
                <a:lnTo>
                  <a:pt x="1881" y="837"/>
                </a:lnTo>
                <a:lnTo>
                  <a:pt x="1881" y="912"/>
                </a:lnTo>
                <a:lnTo>
                  <a:pt x="3035" y="912"/>
                </a:lnTo>
                <a:lnTo>
                  <a:pt x="3035" y="837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  <a:close/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180"/>
          <p:cNvSpPr/>
          <p:nvPr/>
        </p:nvSpPr>
        <p:spPr>
          <a:xfrm>
            <a:off x="7308720" y="3557520"/>
            <a:ext cx="439920" cy="28800"/>
          </a:xfrm>
          <a:custGeom>
            <a:avLst/>
            <a:gdLst/>
            <a:ahLst/>
            <a:rect l="l" t="t" r="r" b="b"/>
            <a:pathLst>
              <a:path w="1155" h="76">
                <a:moveTo>
                  <a:pt x="1154" y="0"/>
                </a:moveTo>
                <a:lnTo>
                  <a:pt x="0" y="0"/>
                </a:lnTo>
                <a:lnTo>
                  <a:pt x="0" y="75"/>
                </a:lnTo>
                <a:lnTo>
                  <a:pt x="1154" y="75"/>
                </a:lnTo>
                <a:lnTo>
                  <a:pt x="1154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181"/>
          <p:cNvSpPr/>
          <p:nvPr/>
        </p:nvSpPr>
        <p:spPr>
          <a:xfrm>
            <a:off x="6593040" y="3240000"/>
            <a:ext cx="426960" cy="347760"/>
          </a:xfrm>
          <a:custGeom>
            <a:avLst/>
            <a:gdLst/>
            <a:ahLst/>
            <a:rect l="l" t="t" r="r" b="b"/>
            <a:pathLst>
              <a:path w="1118" h="913"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182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2886" y="0"/>
                </a:moveTo>
                <a:lnTo>
                  <a:pt x="2886" y="0"/>
                </a:lnTo>
                <a:cubicBezTo>
                  <a:pt x="2253" y="0"/>
                  <a:pt x="2253" y="0"/>
                  <a:pt x="2253" y="0"/>
                </a:cubicBezTo>
                <a:cubicBezTo>
                  <a:pt x="2235" y="0"/>
                  <a:pt x="2235" y="0"/>
                  <a:pt x="2235" y="0"/>
                </a:cubicBezTo>
                <a:cubicBezTo>
                  <a:pt x="801" y="0"/>
                  <a:pt x="801" y="0"/>
                  <a:pt x="801" y="0"/>
                </a:cubicBezTo>
                <a:cubicBezTo>
                  <a:pt x="763" y="0"/>
                  <a:pt x="763" y="0"/>
                  <a:pt x="763" y="0"/>
                </a:cubicBezTo>
                <a:cubicBezTo>
                  <a:pt x="577" y="0"/>
                  <a:pt x="577" y="0"/>
                  <a:pt x="577" y="0"/>
                </a:cubicBezTo>
                <a:cubicBezTo>
                  <a:pt x="465" y="0"/>
                  <a:pt x="465" y="0"/>
                  <a:pt x="465" y="0"/>
                </a:cubicBezTo>
                <a:cubicBezTo>
                  <a:pt x="372" y="0"/>
                  <a:pt x="372" y="0"/>
                  <a:pt x="372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167" y="0"/>
                  <a:pt x="167" y="0"/>
                  <a:pt x="167" y="0"/>
                </a:cubicBezTo>
                <a:lnTo>
                  <a:pt x="167" y="0"/>
                </a:lnTo>
                <a:cubicBezTo>
                  <a:pt x="111" y="0"/>
                  <a:pt x="56" y="18"/>
                  <a:pt x="37" y="74"/>
                </a:cubicBezTo>
                <a:cubicBezTo>
                  <a:pt x="18" y="93"/>
                  <a:pt x="18" y="111"/>
                  <a:pt x="0" y="130"/>
                </a:cubicBez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cubicBezTo>
                  <a:pt x="0" y="986"/>
                  <a:pt x="0" y="986"/>
                  <a:pt x="0" y="986"/>
                </a:cubicBezTo>
                <a:cubicBezTo>
                  <a:pt x="1117" y="986"/>
                  <a:pt x="1117" y="986"/>
                  <a:pt x="1117" y="986"/>
                </a:cubicBezTo>
                <a:cubicBezTo>
                  <a:pt x="1117" y="875"/>
                  <a:pt x="1117" y="875"/>
                  <a:pt x="1117" y="875"/>
                </a:cubicBezTo>
                <a:cubicBezTo>
                  <a:pt x="1881" y="875"/>
                  <a:pt x="1881" y="875"/>
                  <a:pt x="1881" y="875"/>
                </a:cubicBezTo>
                <a:cubicBezTo>
                  <a:pt x="1881" y="986"/>
                  <a:pt x="1881" y="986"/>
                  <a:pt x="1881" y="986"/>
                </a:cubicBezTo>
                <a:cubicBezTo>
                  <a:pt x="3035" y="986"/>
                  <a:pt x="3035" y="986"/>
                  <a:pt x="3035" y="986"/>
                </a:cubicBez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183"/>
          <p:cNvSpPr/>
          <p:nvPr/>
        </p:nvSpPr>
        <p:spPr>
          <a:xfrm>
            <a:off x="7032600" y="3606840"/>
            <a:ext cx="262080" cy="114120"/>
          </a:xfrm>
          <a:custGeom>
            <a:avLst/>
            <a:gdLst/>
            <a:ahLst/>
            <a:rect l="l" t="t" r="r" b="b"/>
            <a:pathLst>
              <a:path w="690" h="299">
                <a:moveTo>
                  <a:pt x="689" y="0"/>
                </a:move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  <a:cubicBezTo>
                  <a:pt x="19" y="167"/>
                  <a:pt x="168" y="298"/>
                  <a:pt x="354" y="298"/>
                </a:cubicBezTo>
                <a:cubicBezTo>
                  <a:pt x="522" y="298"/>
                  <a:pt x="671" y="167"/>
                  <a:pt x="689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184"/>
          <p:cNvSpPr/>
          <p:nvPr/>
        </p:nvSpPr>
        <p:spPr>
          <a:xfrm>
            <a:off x="6649920" y="3975120"/>
            <a:ext cx="648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85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8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87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lnTo>
                  <a:pt x="0" y="149"/>
                </a:lnTo>
                <a:cubicBezTo>
                  <a:pt x="0" y="224"/>
                  <a:pt x="74" y="297"/>
                  <a:pt x="149" y="297"/>
                </a:cubicBez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cubicBezTo>
                  <a:pt x="167" y="297"/>
                  <a:pt x="167" y="297"/>
                  <a:pt x="167" y="297"/>
                </a:cubicBez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cubicBezTo>
                  <a:pt x="316" y="297"/>
                  <a:pt x="316" y="297"/>
                  <a:pt x="316" y="297"/>
                </a:cubicBezTo>
                <a:lnTo>
                  <a:pt x="316" y="297"/>
                </a:ln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188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335" y="0"/>
                </a:moveTo>
                <a:lnTo>
                  <a:pt x="335" y="0"/>
                </a:lnTo>
                <a:lnTo>
                  <a:pt x="335" y="0"/>
                </a:lnTo>
                <a:cubicBezTo>
                  <a:pt x="0" y="334"/>
                  <a:pt x="0" y="334"/>
                  <a:pt x="0" y="334"/>
                </a:cubicBez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119052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05408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3760920" y="4705200"/>
            <a:ext cx="146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36241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627696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61405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任意多边形 1"/>
          <p:cNvSpPr/>
          <p:nvPr/>
        </p:nvSpPr>
        <p:spPr>
          <a:xfrm>
            <a:off x="315108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1594640"/>
                </a:moveTo>
                <a:cubicBezTo>
                  <a:pt x="0" y="713945"/>
                  <a:pt x="713945" y="0"/>
                  <a:pt x="1594640" y="0"/>
                </a:cubicBezTo>
                <a:lnTo>
                  <a:pt x="1594640" y="1594640"/>
                </a:lnTo>
                <a:lnTo>
                  <a:pt x="0" y="159464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89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任意多边形 2"/>
          <p:cNvSpPr/>
          <p:nvPr/>
        </p:nvSpPr>
        <p:spPr>
          <a:xfrm>
            <a:off x="450072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0"/>
                </a:moveTo>
                <a:cubicBezTo>
                  <a:pt x="880695" y="0"/>
                  <a:pt x="1594640" y="713945"/>
                  <a:pt x="1594640" y="1594640"/>
                </a:cubicBezTo>
                <a:lnTo>
                  <a:pt x="0" y="1594640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任意多边形 3"/>
          <p:cNvSpPr/>
          <p:nvPr/>
        </p:nvSpPr>
        <p:spPr>
          <a:xfrm>
            <a:off x="450072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0"/>
                </a:moveTo>
                <a:cubicBezTo>
                  <a:pt x="1594640" y="880695"/>
                  <a:pt x="880695" y="1594640"/>
                  <a:pt x="0" y="1594640"/>
                </a:cubicBezTo>
                <a:lnTo>
                  <a:pt x="0" y="0"/>
                </a:lnTo>
                <a:lnTo>
                  <a:pt x="1594640" y="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任意多边形 4"/>
          <p:cNvSpPr/>
          <p:nvPr/>
        </p:nvSpPr>
        <p:spPr>
          <a:xfrm>
            <a:off x="315108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1594640"/>
                </a:moveTo>
                <a:cubicBezTo>
                  <a:pt x="713945" y="1594640"/>
                  <a:pt x="0" y="880695"/>
                  <a:pt x="0" y="0"/>
                </a:cubicBezTo>
                <a:lnTo>
                  <a:pt x="1594640" y="0"/>
                </a:lnTo>
                <a:lnTo>
                  <a:pt x="1594640" y="159464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62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环形箭头 5"/>
          <p:cNvSpPr/>
          <p:nvPr/>
        </p:nvSpPr>
        <p:spPr>
          <a:xfrm>
            <a:off x="4248000" y="330840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环形箭头 6"/>
          <p:cNvSpPr/>
          <p:nvPr/>
        </p:nvSpPr>
        <p:spPr>
          <a:xfrm rot="10800000">
            <a:off x="4248000" y="345744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"/>
          <p:cNvSpPr/>
          <p:nvPr/>
        </p:nvSpPr>
        <p:spPr>
          <a:xfrm>
            <a:off x="3713040" y="3960720"/>
            <a:ext cx="393840" cy="39384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7"/>
          <p:cNvSpPr/>
          <p:nvPr/>
        </p:nvSpPr>
        <p:spPr>
          <a:xfrm>
            <a:off x="3749760" y="2827440"/>
            <a:ext cx="372960" cy="298440"/>
          </a:xfrm>
          <a:custGeom>
            <a:avLst/>
            <a:gdLst/>
            <a:ahLst/>
            <a:rect l="l" t="t" r="r" b="b"/>
            <a:pathLst>
              <a:path w="400" h="320">
                <a:moveTo>
                  <a:pt x="200" y="120"/>
                </a:moveTo>
                <a:cubicBezTo>
                  <a:pt x="167" y="120"/>
                  <a:pt x="140" y="147"/>
                  <a:pt x="140" y="180"/>
                </a:cubicBezTo>
                <a:cubicBezTo>
                  <a:pt x="140" y="213"/>
                  <a:pt x="167" y="240"/>
                  <a:pt x="200" y="240"/>
                </a:cubicBezTo>
                <a:cubicBezTo>
                  <a:pt x="233" y="240"/>
                  <a:pt x="260" y="213"/>
                  <a:pt x="260" y="180"/>
                </a:cubicBezTo>
                <a:cubicBezTo>
                  <a:pt x="260" y="147"/>
                  <a:pt x="233" y="120"/>
                  <a:pt x="200" y="120"/>
                </a:cubicBezTo>
                <a:close/>
                <a:moveTo>
                  <a:pt x="360" y="60"/>
                </a:moveTo>
                <a:cubicBezTo>
                  <a:pt x="312" y="60"/>
                  <a:pt x="312" y="60"/>
                  <a:pt x="312" y="60"/>
                </a:cubicBezTo>
                <a:cubicBezTo>
                  <a:pt x="305" y="60"/>
                  <a:pt x="298" y="55"/>
                  <a:pt x="296" y="49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1" y="5"/>
                  <a:pt x="274" y="0"/>
                  <a:pt x="268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5" y="0"/>
                  <a:pt x="118" y="5"/>
                  <a:pt x="116" y="11"/>
                </a:cubicBezTo>
                <a:cubicBezTo>
                  <a:pt x="104" y="49"/>
                  <a:pt x="104" y="49"/>
                  <a:pt x="104" y="49"/>
                </a:cubicBezTo>
                <a:cubicBezTo>
                  <a:pt x="101" y="55"/>
                  <a:pt x="94" y="60"/>
                  <a:pt x="88" y="60"/>
                </a:cubicBezTo>
                <a:cubicBezTo>
                  <a:pt x="40" y="60"/>
                  <a:pt x="40" y="60"/>
                  <a:pt x="40" y="60"/>
                </a:cubicBezTo>
                <a:cubicBezTo>
                  <a:pt x="18" y="60"/>
                  <a:pt x="0" y="78"/>
                  <a:pt x="0" y="100"/>
                </a:cubicBezTo>
                <a:cubicBezTo>
                  <a:pt x="0" y="280"/>
                  <a:pt x="0" y="280"/>
                  <a:pt x="0" y="280"/>
                </a:cubicBezTo>
                <a:cubicBezTo>
                  <a:pt x="0" y="302"/>
                  <a:pt x="18" y="320"/>
                  <a:pt x="40" y="320"/>
                </a:cubicBezTo>
                <a:cubicBezTo>
                  <a:pt x="360" y="320"/>
                  <a:pt x="360" y="320"/>
                  <a:pt x="360" y="320"/>
                </a:cubicBezTo>
                <a:cubicBezTo>
                  <a:pt x="382" y="320"/>
                  <a:pt x="400" y="302"/>
                  <a:pt x="400" y="280"/>
                </a:cubicBezTo>
                <a:cubicBezTo>
                  <a:pt x="400" y="100"/>
                  <a:pt x="400" y="100"/>
                  <a:pt x="400" y="100"/>
                </a:cubicBezTo>
                <a:cubicBezTo>
                  <a:pt x="400" y="78"/>
                  <a:pt x="382" y="60"/>
                  <a:pt x="360" y="60"/>
                </a:cubicBezTo>
                <a:close/>
                <a:moveTo>
                  <a:pt x="200" y="280"/>
                </a:moveTo>
                <a:cubicBezTo>
                  <a:pt x="145" y="280"/>
                  <a:pt x="100" y="235"/>
                  <a:pt x="100" y="180"/>
                </a:cubicBezTo>
                <a:cubicBezTo>
                  <a:pt x="100" y="125"/>
                  <a:pt x="145" y="80"/>
                  <a:pt x="200" y="80"/>
                </a:cubicBezTo>
                <a:cubicBezTo>
                  <a:pt x="255" y="80"/>
                  <a:pt x="300" y="125"/>
                  <a:pt x="300" y="180"/>
                </a:cubicBezTo>
                <a:cubicBezTo>
                  <a:pt x="300" y="235"/>
                  <a:pt x="255" y="280"/>
                  <a:pt x="200" y="280"/>
                </a:cubicBezTo>
                <a:close/>
                <a:moveTo>
                  <a:pt x="346" y="128"/>
                </a:moveTo>
                <a:cubicBezTo>
                  <a:pt x="338" y="128"/>
                  <a:pt x="332" y="122"/>
                  <a:pt x="332" y="114"/>
                </a:cubicBezTo>
                <a:cubicBezTo>
                  <a:pt x="332" y="106"/>
                  <a:pt x="338" y="100"/>
                  <a:pt x="346" y="100"/>
                </a:cubicBezTo>
                <a:cubicBezTo>
                  <a:pt x="354" y="100"/>
                  <a:pt x="360" y="106"/>
                  <a:pt x="360" y="114"/>
                </a:cubicBezTo>
                <a:cubicBezTo>
                  <a:pt x="360" y="122"/>
                  <a:pt x="354" y="128"/>
                  <a:pt x="346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27"/>
          <p:cNvSpPr/>
          <p:nvPr/>
        </p:nvSpPr>
        <p:spPr>
          <a:xfrm>
            <a:off x="4859280" y="2843280"/>
            <a:ext cx="360360" cy="257040"/>
          </a:xfrm>
          <a:custGeom>
            <a:avLst/>
            <a:gdLst/>
            <a:ahLst/>
            <a:rect l="l" t="t" r="r" b="b"/>
            <a:pathLst>
              <a:path w="392" h="280">
                <a:moveTo>
                  <a:pt x="392" y="40"/>
                </a:moveTo>
                <a:cubicBezTo>
                  <a:pt x="392" y="16"/>
                  <a:pt x="392" y="16"/>
                  <a:pt x="392" y="16"/>
                </a:cubicBezTo>
                <a:cubicBezTo>
                  <a:pt x="392" y="7"/>
                  <a:pt x="385" y="0"/>
                  <a:pt x="37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40"/>
                  <a:pt x="0" y="40"/>
                  <a:pt x="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80"/>
                  <a:pt x="40" y="80"/>
                  <a:pt x="4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40" y="120"/>
                  <a:pt x="40" y="120"/>
                  <a:pt x="40" y="120"/>
                </a:cubicBezTo>
                <a:cubicBezTo>
                  <a:pt x="40" y="160"/>
                  <a:pt x="40" y="160"/>
                  <a:pt x="40" y="160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0" y="200"/>
                  <a:pt x="0" y="200"/>
                </a:cubicBezTo>
                <a:cubicBezTo>
                  <a:pt x="40" y="200"/>
                  <a:pt x="40" y="200"/>
                  <a:pt x="40" y="20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3"/>
                  <a:pt x="7" y="280"/>
                  <a:pt x="16" y="280"/>
                </a:cubicBezTo>
                <a:cubicBezTo>
                  <a:pt x="376" y="280"/>
                  <a:pt x="376" y="280"/>
                  <a:pt x="376" y="280"/>
                </a:cubicBezTo>
                <a:cubicBezTo>
                  <a:pt x="385" y="280"/>
                  <a:pt x="392" y="273"/>
                  <a:pt x="392" y="264"/>
                </a:cubicBezTo>
                <a:cubicBezTo>
                  <a:pt x="392" y="240"/>
                  <a:pt x="392" y="240"/>
                  <a:pt x="392" y="240"/>
                </a:cubicBezTo>
                <a:cubicBezTo>
                  <a:pt x="352" y="240"/>
                  <a:pt x="352" y="240"/>
                  <a:pt x="352" y="240"/>
                </a:cubicBezTo>
                <a:cubicBezTo>
                  <a:pt x="352" y="200"/>
                  <a:pt x="352" y="200"/>
                  <a:pt x="352" y="200"/>
                </a:cubicBezTo>
                <a:cubicBezTo>
                  <a:pt x="392" y="200"/>
                  <a:pt x="392" y="200"/>
                  <a:pt x="392" y="200"/>
                </a:cubicBezTo>
                <a:cubicBezTo>
                  <a:pt x="392" y="160"/>
                  <a:pt x="392" y="160"/>
                  <a:pt x="392" y="160"/>
                </a:cubicBezTo>
                <a:cubicBezTo>
                  <a:pt x="352" y="160"/>
                  <a:pt x="352" y="160"/>
                  <a:pt x="352" y="160"/>
                </a:cubicBezTo>
                <a:cubicBezTo>
                  <a:pt x="352" y="120"/>
                  <a:pt x="352" y="120"/>
                  <a:pt x="352" y="120"/>
                </a:cubicBezTo>
                <a:cubicBezTo>
                  <a:pt x="392" y="120"/>
                  <a:pt x="392" y="120"/>
                  <a:pt x="392" y="120"/>
                </a:cubicBezTo>
                <a:cubicBezTo>
                  <a:pt x="392" y="80"/>
                  <a:pt x="392" y="80"/>
                  <a:pt x="392" y="80"/>
                </a:cubicBezTo>
                <a:cubicBezTo>
                  <a:pt x="352" y="80"/>
                  <a:pt x="352" y="80"/>
                  <a:pt x="352" y="80"/>
                </a:cubicBezTo>
                <a:cubicBezTo>
                  <a:pt x="352" y="40"/>
                  <a:pt x="352" y="40"/>
                  <a:pt x="352" y="40"/>
                </a:cubicBezTo>
                <a:lnTo>
                  <a:pt x="392" y="40"/>
                </a:lnTo>
                <a:close/>
                <a:moveTo>
                  <a:pt x="152" y="200"/>
                </a:moveTo>
                <a:cubicBezTo>
                  <a:pt x="152" y="80"/>
                  <a:pt x="152" y="80"/>
                  <a:pt x="152" y="80"/>
                </a:cubicBezTo>
                <a:cubicBezTo>
                  <a:pt x="252" y="140"/>
                  <a:pt x="252" y="140"/>
                  <a:pt x="252" y="140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4835520" y="3952800"/>
            <a:ext cx="406440" cy="416160"/>
          </a:xfrm>
          <a:custGeom>
            <a:avLst/>
            <a:gdLst/>
            <a:ahLst/>
            <a:rect l="l" t="t" r="r" b="b"/>
            <a:pathLst>
              <a:path w="417" h="426">
                <a:moveTo>
                  <a:pt x="121" y="94"/>
                </a:moveTo>
                <a:cubicBezTo>
                  <a:pt x="98" y="116"/>
                  <a:pt x="0" y="256"/>
                  <a:pt x="85" y="341"/>
                </a:cubicBezTo>
                <a:cubicBezTo>
                  <a:pt x="170" y="426"/>
                  <a:pt x="309" y="328"/>
                  <a:pt x="332" y="305"/>
                </a:cubicBezTo>
                <a:cubicBezTo>
                  <a:pt x="354" y="283"/>
                  <a:pt x="325" y="217"/>
                  <a:pt x="267" y="159"/>
                </a:cubicBezTo>
                <a:cubicBezTo>
                  <a:pt x="209" y="101"/>
                  <a:pt x="143" y="72"/>
                  <a:pt x="121" y="94"/>
                </a:cubicBezTo>
                <a:close/>
                <a:moveTo>
                  <a:pt x="306" y="286"/>
                </a:moveTo>
                <a:cubicBezTo>
                  <a:pt x="299" y="292"/>
                  <a:pt x="248" y="277"/>
                  <a:pt x="199" y="227"/>
                </a:cubicBezTo>
                <a:cubicBezTo>
                  <a:pt x="149" y="178"/>
                  <a:pt x="134" y="127"/>
                  <a:pt x="140" y="120"/>
                </a:cubicBezTo>
                <a:cubicBezTo>
                  <a:pt x="147" y="113"/>
                  <a:pt x="198" y="129"/>
                  <a:pt x="247" y="179"/>
                </a:cubicBezTo>
                <a:cubicBezTo>
                  <a:pt x="297" y="228"/>
                  <a:pt x="313" y="279"/>
                  <a:pt x="306" y="286"/>
                </a:cubicBezTo>
                <a:close/>
                <a:moveTo>
                  <a:pt x="309" y="128"/>
                </a:moveTo>
                <a:cubicBezTo>
                  <a:pt x="314" y="128"/>
                  <a:pt x="319" y="126"/>
                  <a:pt x="323" y="122"/>
                </a:cubicBezTo>
                <a:cubicBezTo>
                  <a:pt x="361" y="84"/>
                  <a:pt x="361" y="84"/>
                  <a:pt x="361" y="84"/>
                </a:cubicBezTo>
                <a:cubicBezTo>
                  <a:pt x="369" y="76"/>
                  <a:pt x="369" y="64"/>
                  <a:pt x="361" y="56"/>
                </a:cubicBezTo>
                <a:cubicBezTo>
                  <a:pt x="353" y="48"/>
                  <a:pt x="341" y="48"/>
                  <a:pt x="333" y="56"/>
                </a:cubicBezTo>
                <a:cubicBezTo>
                  <a:pt x="295" y="94"/>
                  <a:pt x="295" y="94"/>
                  <a:pt x="295" y="94"/>
                </a:cubicBezTo>
                <a:cubicBezTo>
                  <a:pt x="287" y="102"/>
                  <a:pt x="287" y="115"/>
                  <a:pt x="295" y="122"/>
                </a:cubicBezTo>
                <a:cubicBezTo>
                  <a:pt x="299" y="126"/>
                  <a:pt x="304" y="128"/>
                  <a:pt x="309" y="128"/>
                </a:cubicBezTo>
                <a:close/>
                <a:moveTo>
                  <a:pt x="237" y="79"/>
                </a:moveTo>
                <a:cubicBezTo>
                  <a:pt x="240" y="81"/>
                  <a:pt x="243" y="81"/>
                  <a:pt x="247" y="81"/>
                </a:cubicBezTo>
                <a:cubicBezTo>
                  <a:pt x="254" y="81"/>
                  <a:pt x="260" y="78"/>
                  <a:pt x="264" y="71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1" y="23"/>
                  <a:pt x="288" y="11"/>
                  <a:pt x="278" y="5"/>
                </a:cubicBezTo>
                <a:cubicBezTo>
                  <a:pt x="268" y="0"/>
                  <a:pt x="256" y="3"/>
                  <a:pt x="251" y="13"/>
                </a:cubicBezTo>
                <a:cubicBezTo>
                  <a:pt x="229" y="52"/>
                  <a:pt x="229" y="52"/>
                  <a:pt x="229" y="52"/>
                </a:cubicBezTo>
                <a:cubicBezTo>
                  <a:pt x="224" y="61"/>
                  <a:pt x="227" y="73"/>
                  <a:pt x="237" y="79"/>
                </a:cubicBezTo>
                <a:close/>
                <a:moveTo>
                  <a:pt x="412" y="139"/>
                </a:moveTo>
                <a:cubicBezTo>
                  <a:pt x="406" y="129"/>
                  <a:pt x="394" y="126"/>
                  <a:pt x="385" y="131"/>
                </a:cubicBezTo>
                <a:cubicBezTo>
                  <a:pt x="346" y="153"/>
                  <a:pt x="346" y="153"/>
                  <a:pt x="346" y="153"/>
                </a:cubicBezTo>
                <a:cubicBezTo>
                  <a:pt x="336" y="158"/>
                  <a:pt x="333" y="171"/>
                  <a:pt x="338" y="180"/>
                </a:cubicBezTo>
                <a:cubicBezTo>
                  <a:pt x="342" y="187"/>
                  <a:pt x="349" y="190"/>
                  <a:pt x="356" y="190"/>
                </a:cubicBezTo>
                <a:cubicBezTo>
                  <a:pt x="359" y="190"/>
                  <a:pt x="363" y="190"/>
                  <a:pt x="366" y="188"/>
                </a:cubicBezTo>
                <a:cubicBezTo>
                  <a:pt x="404" y="166"/>
                  <a:pt x="404" y="166"/>
                  <a:pt x="404" y="166"/>
                </a:cubicBezTo>
                <a:cubicBezTo>
                  <a:pt x="414" y="161"/>
                  <a:pt x="417" y="149"/>
                  <a:pt x="412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6046920" y="28432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6049800" y="3057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6043680" y="397044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6046920" y="4184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1182600" y="28432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1185840" y="30574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1177920" y="3970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1181160" y="41846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69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traight Connector 55"/>
          <p:cNvSpPr/>
          <p:nvPr/>
        </p:nvSpPr>
        <p:spPr>
          <a:xfrm flipV="1">
            <a:off x="3541680" y="380952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traight Connector 56"/>
          <p:cNvSpPr/>
          <p:nvPr/>
        </p:nvSpPr>
        <p:spPr>
          <a:xfrm>
            <a:off x="4954680" y="348768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57"/>
          <p:cNvSpPr/>
          <p:nvPr/>
        </p:nvSpPr>
        <p:spPr>
          <a:xfrm flipV="1">
            <a:off x="6367320" y="327456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traight Connector 60"/>
          <p:cNvSpPr/>
          <p:nvPr/>
        </p:nvSpPr>
        <p:spPr>
          <a:xfrm flipV="1">
            <a:off x="2111400" y="3435480"/>
            <a:ext cx="0" cy="644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1"/>
          <p:cNvSpPr/>
          <p:nvPr/>
        </p:nvSpPr>
        <p:spPr>
          <a:xfrm>
            <a:off x="351000" y="2619360"/>
            <a:ext cx="7345080" cy="268776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adb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9"/>
          <p:cNvSpPr/>
          <p:nvPr/>
        </p:nvSpPr>
        <p:spPr>
          <a:xfrm>
            <a:off x="3157560" y="4132440"/>
            <a:ext cx="74628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4581360" y="3114720"/>
            <a:ext cx="746280" cy="7459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6004080" y="3510000"/>
            <a:ext cx="74772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19"/>
          <p:cNvSpPr/>
          <p:nvPr/>
        </p:nvSpPr>
        <p:spPr>
          <a:xfrm>
            <a:off x="1733400" y="3665520"/>
            <a:ext cx="747720" cy="7444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22"/>
          <p:cNvSpPr/>
          <p:nvPr/>
        </p:nvSpPr>
        <p:spPr>
          <a:xfrm>
            <a:off x="7920000" y="2509920"/>
            <a:ext cx="304920" cy="26676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3"/>
          <p:cNvSpPr/>
          <p:nvPr/>
        </p:nvSpPr>
        <p:spPr>
          <a:xfrm>
            <a:off x="7655040" y="2182680"/>
            <a:ext cx="987480" cy="51120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4"/>
          <p:cNvSpPr/>
          <p:nvPr/>
        </p:nvSpPr>
        <p:spPr>
          <a:xfrm>
            <a:off x="7869240" y="2217600"/>
            <a:ext cx="700200" cy="5590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889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72"/>
          <p:cNvSpPr/>
          <p:nvPr/>
        </p:nvSpPr>
        <p:spPr>
          <a:xfrm flipH="1">
            <a:off x="2962440" y="252432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73"/>
          <p:cNvSpPr/>
          <p:nvPr/>
        </p:nvSpPr>
        <p:spPr>
          <a:xfrm flipH="1">
            <a:off x="1521000" y="216396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76"/>
          <p:cNvSpPr/>
          <p:nvPr/>
        </p:nvSpPr>
        <p:spPr>
          <a:xfrm flipH="1">
            <a:off x="4374360" y="42840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79"/>
          <p:cNvSpPr/>
          <p:nvPr/>
        </p:nvSpPr>
        <p:spPr>
          <a:xfrm flipH="1">
            <a:off x="5777640" y="21258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1585800" y="257796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1589040" y="27925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2987640" y="29084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2990880" y="312264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4425840" y="469260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4429080" y="490680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5851440" y="252252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5854680" y="2736720"/>
            <a:ext cx="10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29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78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文本框 100"/>
          <p:cNvSpPr/>
          <p:nvPr/>
        </p:nvSpPr>
        <p:spPr>
          <a:xfrm>
            <a:off x="5456160" y="258300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THANK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101"/>
          <p:cNvSpPr/>
          <p:nvPr/>
        </p:nvSpPr>
        <p:spPr>
          <a:xfrm>
            <a:off x="5954760" y="342252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102"/>
          <p:cNvSpPr/>
          <p:nvPr/>
        </p:nvSpPr>
        <p:spPr>
          <a:xfrm>
            <a:off x="6711840" y="3695760"/>
            <a:ext cx="207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103"/>
          <p:cNvSpPr/>
          <p:nvPr/>
        </p:nvSpPr>
        <p:spPr>
          <a:xfrm>
            <a:off x="8985240" y="2776680"/>
            <a:ext cx="160200" cy="64584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93"/>
          <p:cNvGrpSpPr/>
          <p:nvPr/>
        </p:nvGrpSpPr>
        <p:grpSpPr>
          <a:xfrm>
            <a:off x="0" y="0"/>
            <a:ext cx="6846840" cy="6846840"/>
            <a:chOff x="0" y="0"/>
            <a:chExt cx="6846840" cy="6846840"/>
          </a:xfrm>
        </p:grpSpPr>
        <p:sp>
          <p:nvSpPr>
            <p:cNvPr id="141" name="直角三角形 11"/>
            <p:cNvSpPr/>
            <p:nvPr/>
          </p:nvSpPr>
          <p:spPr>
            <a:xfrm>
              <a:off x="0" y="0"/>
              <a:ext cx="6846840" cy="684684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角三角形 10"/>
            <p:cNvSpPr/>
            <p:nvPr/>
          </p:nvSpPr>
          <p:spPr>
            <a:xfrm>
              <a:off x="0" y="3516120"/>
              <a:ext cx="3330720" cy="333072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2"/>
          <p:cNvSpPr/>
          <p:nvPr/>
        </p:nvSpPr>
        <p:spPr>
          <a:xfrm rot="2718000">
            <a:off x="1068120" y="4214520"/>
            <a:ext cx="187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3"/>
          <p:cNvSpPr/>
          <p:nvPr/>
        </p:nvSpPr>
        <p:spPr>
          <a:xfrm rot="2688000">
            <a:off x="-312480" y="521100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333"/>
          <p:cNvGrpSpPr/>
          <p:nvPr/>
        </p:nvGrpSpPr>
        <p:grpSpPr>
          <a:xfrm>
            <a:off x="7176960" y="3836880"/>
            <a:ext cx="1971720" cy="3021120"/>
            <a:chOff x="7176960" y="3836880"/>
            <a:chExt cx="1971720" cy="3021120"/>
          </a:xfrm>
        </p:grpSpPr>
        <p:sp>
          <p:nvSpPr>
            <p:cNvPr id="146" name="Freeform 2"/>
            <p:cNvSpPr/>
            <p:nvPr/>
          </p:nvSpPr>
          <p:spPr>
            <a:xfrm>
              <a:off x="7176960" y="5519880"/>
              <a:ext cx="1357560" cy="1031760"/>
            </a:xfrm>
            <a:custGeom>
              <a:avLst/>
              <a:gdLst/>
              <a:ahLst/>
              <a:rect l="l" t="t" r="r" b="b"/>
              <a:pathLst>
                <a:path w="5232" h="3973">
                  <a:moveTo>
                    <a:pt x="5212" y="3487"/>
                  </a:moveTo>
                  <a:lnTo>
                    <a:pt x="5212" y="3487"/>
                  </a:lnTo>
                  <a:cubicBezTo>
                    <a:pt x="5231" y="3701"/>
                    <a:pt x="5057" y="3875"/>
                    <a:pt x="4844" y="3875"/>
                  </a:cubicBezTo>
                  <a:cubicBezTo>
                    <a:pt x="465" y="3952"/>
                    <a:pt x="465" y="3952"/>
                    <a:pt x="465" y="3952"/>
                  </a:cubicBezTo>
                  <a:cubicBezTo>
                    <a:pt x="252" y="3972"/>
                    <a:pt x="58" y="3797"/>
                    <a:pt x="58" y="3584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0" y="271"/>
                    <a:pt x="174" y="97"/>
                    <a:pt x="387" y="97"/>
                  </a:cubicBezTo>
                  <a:cubicBezTo>
                    <a:pt x="4766" y="0"/>
                    <a:pt x="4766" y="0"/>
                    <a:pt x="4766" y="0"/>
                  </a:cubicBezTo>
                  <a:cubicBezTo>
                    <a:pt x="4979" y="0"/>
                    <a:pt x="5154" y="174"/>
                    <a:pt x="5154" y="387"/>
                  </a:cubicBezTo>
                  <a:lnTo>
                    <a:pt x="5212" y="3487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"/>
            <p:cNvSpPr/>
            <p:nvPr/>
          </p:nvSpPr>
          <p:spPr>
            <a:xfrm>
              <a:off x="7181640" y="5691240"/>
              <a:ext cx="1338480" cy="377640"/>
            </a:xfrm>
            <a:custGeom>
              <a:avLst/>
              <a:gdLst/>
              <a:ahLst/>
              <a:rect l="l" t="t" r="r" b="b"/>
              <a:pathLst>
                <a:path w="5155" h="1455">
                  <a:moveTo>
                    <a:pt x="0" y="0"/>
                  </a:moveTo>
                  <a:lnTo>
                    <a:pt x="0" y="620"/>
                  </a:lnTo>
                  <a:lnTo>
                    <a:pt x="1395" y="1454"/>
                  </a:lnTo>
                  <a:lnTo>
                    <a:pt x="3953" y="1395"/>
                  </a:lnTo>
                  <a:lnTo>
                    <a:pt x="5154" y="465"/>
                  </a:lnTo>
                  <a:lnTo>
                    <a:pt x="5154" y="0"/>
                  </a:lnTo>
                  <a:lnTo>
                    <a:pt x="0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"/>
            <p:cNvSpPr/>
            <p:nvPr/>
          </p:nvSpPr>
          <p:spPr>
            <a:xfrm>
              <a:off x="7176960" y="5519880"/>
              <a:ext cx="1343160" cy="523800"/>
            </a:xfrm>
            <a:custGeom>
              <a:avLst/>
              <a:gdLst/>
              <a:ahLst/>
              <a:rect l="l" t="t" r="r" b="b"/>
              <a:pathLst>
                <a:path w="5174" h="2016">
                  <a:moveTo>
                    <a:pt x="5154" y="387"/>
                  </a:moveTo>
                  <a:lnTo>
                    <a:pt x="5154" y="387"/>
                  </a:lnTo>
                  <a:cubicBezTo>
                    <a:pt x="5154" y="174"/>
                    <a:pt x="4979" y="0"/>
                    <a:pt x="4766" y="0"/>
                  </a:cubicBezTo>
                  <a:cubicBezTo>
                    <a:pt x="387" y="97"/>
                    <a:pt x="387" y="97"/>
                    <a:pt x="387" y="97"/>
                  </a:cubicBezTo>
                  <a:cubicBezTo>
                    <a:pt x="174" y="97"/>
                    <a:pt x="0" y="271"/>
                    <a:pt x="0" y="484"/>
                  </a:cubicBezTo>
                  <a:cubicBezTo>
                    <a:pt x="19" y="872"/>
                    <a:pt x="19" y="872"/>
                    <a:pt x="19" y="872"/>
                  </a:cubicBezTo>
                  <a:cubicBezTo>
                    <a:pt x="1414" y="2015"/>
                    <a:pt x="1414" y="2015"/>
                    <a:pt x="1414" y="2015"/>
                  </a:cubicBezTo>
                  <a:cubicBezTo>
                    <a:pt x="3972" y="1957"/>
                    <a:pt x="3972" y="1957"/>
                    <a:pt x="3972" y="1957"/>
                  </a:cubicBezTo>
                  <a:cubicBezTo>
                    <a:pt x="5173" y="833"/>
                    <a:pt x="5173" y="833"/>
                    <a:pt x="5173" y="833"/>
                  </a:cubicBezTo>
                  <a:lnTo>
                    <a:pt x="5154" y="387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>
              <a:off x="7527600" y="5330880"/>
              <a:ext cx="654120" cy="210960"/>
            </a:xfrm>
            <a:custGeom>
              <a:avLst/>
              <a:gdLst/>
              <a:ahLst/>
              <a:rect l="l" t="t" r="r" b="b"/>
              <a:pathLst>
                <a:path w="2520" h="814">
                  <a:moveTo>
                    <a:pt x="0" y="39"/>
                  </a:moveTo>
                  <a:lnTo>
                    <a:pt x="0" y="813"/>
                  </a:lnTo>
                  <a:lnTo>
                    <a:pt x="272" y="813"/>
                  </a:lnTo>
                  <a:lnTo>
                    <a:pt x="252" y="154"/>
                  </a:lnTo>
                  <a:lnTo>
                    <a:pt x="2228" y="116"/>
                  </a:lnTo>
                  <a:lnTo>
                    <a:pt x="2248" y="774"/>
                  </a:lnTo>
                  <a:lnTo>
                    <a:pt x="2519" y="774"/>
                  </a:lnTo>
                  <a:lnTo>
                    <a:pt x="2519" y="0"/>
                  </a:lnTo>
                  <a:lnTo>
                    <a:pt x="0" y="39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7754760" y="5999040"/>
              <a:ext cx="220680" cy="245880"/>
            </a:xfrm>
            <a:custGeom>
              <a:avLst/>
              <a:gdLst/>
              <a:ahLst/>
              <a:rect l="l" t="t" r="r" b="b"/>
              <a:pathLst>
                <a:path w="853" h="950">
                  <a:moveTo>
                    <a:pt x="852" y="542"/>
                  </a:moveTo>
                  <a:lnTo>
                    <a:pt x="852" y="542"/>
                  </a:lnTo>
                  <a:cubicBezTo>
                    <a:pt x="852" y="755"/>
                    <a:pt x="697" y="930"/>
                    <a:pt x="504" y="949"/>
                  </a:cubicBezTo>
                  <a:cubicBezTo>
                    <a:pt x="368" y="949"/>
                    <a:pt x="368" y="949"/>
                    <a:pt x="368" y="949"/>
                  </a:cubicBezTo>
                  <a:cubicBezTo>
                    <a:pt x="175" y="949"/>
                    <a:pt x="0" y="775"/>
                    <a:pt x="0" y="561"/>
                  </a:cubicBezTo>
                  <a:cubicBezTo>
                    <a:pt x="0" y="406"/>
                    <a:pt x="0" y="406"/>
                    <a:pt x="0" y="406"/>
                  </a:cubicBezTo>
                  <a:cubicBezTo>
                    <a:pt x="0" y="193"/>
                    <a:pt x="155" y="19"/>
                    <a:pt x="349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678" y="0"/>
                    <a:pt x="852" y="174"/>
                    <a:pt x="852" y="387"/>
                  </a:cubicBezTo>
                  <a:lnTo>
                    <a:pt x="852" y="54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7699320" y="6089760"/>
              <a:ext cx="328680" cy="90360"/>
            </a:xfrm>
            <a:custGeom>
              <a:avLst/>
              <a:gdLst/>
              <a:ahLst/>
              <a:rect l="l" t="t" r="r" b="b"/>
              <a:pathLst>
                <a:path w="1260" h="350">
                  <a:moveTo>
                    <a:pt x="1259" y="0"/>
                  </a:moveTo>
                  <a:lnTo>
                    <a:pt x="1259" y="0"/>
                  </a:lnTo>
                  <a:cubicBezTo>
                    <a:pt x="1259" y="174"/>
                    <a:pt x="1027" y="349"/>
                    <a:pt x="736" y="349"/>
                  </a:cubicBezTo>
                  <a:cubicBezTo>
                    <a:pt x="523" y="349"/>
                    <a:pt x="523" y="349"/>
                    <a:pt x="523" y="349"/>
                  </a:cubicBezTo>
                  <a:cubicBezTo>
                    <a:pt x="233" y="349"/>
                    <a:pt x="0" y="213"/>
                    <a:pt x="0" y="19"/>
                  </a:cubicBezTo>
                  <a:lnTo>
                    <a:pt x="1259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7754760" y="6034320"/>
              <a:ext cx="220680" cy="64800"/>
            </a:xfrm>
            <a:custGeom>
              <a:avLst/>
              <a:gdLst/>
              <a:ahLst/>
              <a:rect l="l" t="t" r="r" b="b"/>
              <a:pathLst>
                <a:path w="853" h="253">
                  <a:moveTo>
                    <a:pt x="852" y="232"/>
                  </a:moveTo>
                  <a:lnTo>
                    <a:pt x="0" y="252"/>
                  </a:lnTo>
                  <a:lnTo>
                    <a:pt x="0" y="20"/>
                  </a:lnTo>
                  <a:lnTo>
                    <a:pt x="852" y="0"/>
                  </a:lnTo>
                  <a:lnTo>
                    <a:pt x="852" y="23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7689600" y="6073920"/>
              <a:ext cx="338040" cy="96840"/>
            </a:xfrm>
            <a:custGeom>
              <a:avLst/>
              <a:gdLst/>
              <a:ahLst/>
              <a:rect l="l" t="t" r="r" b="b"/>
              <a:pathLst>
                <a:path w="1299" h="369">
                  <a:moveTo>
                    <a:pt x="1298" y="330"/>
                  </a:moveTo>
                  <a:lnTo>
                    <a:pt x="19" y="368"/>
                  </a:lnTo>
                  <a:lnTo>
                    <a:pt x="0" y="19"/>
                  </a:lnTo>
                  <a:lnTo>
                    <a:pt x="1298" y="0"/>
                  </a:lnTo>
                  <a:lnTo>
                    <a:pt x="1298" y="330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7492680" y="5265720"/>
              <a:ext cx="735120" cy="482400"/>
            </a:xfrm>
            <a:custGeom>
              <a:avLst/>
              <a:gdLst/>
              <a:ahLst/>
              <a:rect l="l" t="t" r="r" b="b"/>
              <a:pathLst>
                <a:path w="2830" h="1860">
                  <a:moveTo>
                    <a:pt x="0" y="39"/>
                  </a:moveTo>
                  <a:lnTo>
                    <a:pt x="20" y="1859"/>
                  </a:lnTo>
                  <a:lnTo>
                    <a:pt x="310" y="1859"/>
                  </a:lnTo>
                  <a:lnTo>
                    <a:pt x="291" y="310"/>
                  </a:lnTo>
                  <a:lnTo>
                    <a:pt x="2500" y="271"/>
                  </a:lnTo>
                  <a:lnTo>
                    <a:pt x="2519" y="1820"/>
                  </a:lnTo>
                  <a:lnTo>
                    <a:pt x="2829" y="1820"/>
                  </a:lnTo>
                  <a:lnTo>
                    <a:pt x="2810" y="0"/>
                  </a:lnTo>
                  <a:lnTo>
                    <a:pt x="0" y="39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7675200" y="4987800"/>
              <a:ext cx="280800" cy="291960"/>
            </a:xfrm>
            <a:custGeom>
              <a:avLst/>
              <a:gdLst/>
              <a:ahLst/>
              <a:rect l="l" t="t" r="r" b="b"/>
              <a:pathLst>
                <a:path w="1086" h="1125">
                  <a:moveTo>
                    <a:pt x="271" y="175"/>
                  </a:moveTo>
                  <a:lnTo>
                    <a:pt x="271" y="175"/>
                  </a:lnTo>
                  <a:cubicBezTo>
                    <a:pt x="291" y="485"/>
                    <a:pt x="291" y="485"/>
                    <a:pt x="291" y="485"/>
                  </a:cubicBezTo>
                  <a:cubicBezTo>
                    <a:pt x="291" y="485"/>
                    <a:pt x="0" y="678"/>
                    <a:pt x="77" y="1124"/>
                  </a:cubicBezTo>
                  <a:cubicBezTo>
                    <a:pt x="1085" y="911"/>
                    <a:pt x="1085" y="911"/>
                    <a:pt x="1085" y="911"/>
                  </a:cubicBezTo>
                  <a:cubicBezTo>
                    <a:pt x="1085" y="911"/>
                    <a:pt x="969" y="485"/>
                    <a:pt x="659" y="426"/>
                  </a:cubicBezTo>
                  <a:cubicBezTo>
                    <a:pt x="581" y="116"/>
                    <a:pt x="581" y="116"/>
                    <a:pt x="581" y="116"/>
                  </a:cubicBezTo>
                  <a:cubicBezTo>
                    <a:pt x="523" y="0"/>
                    <a:pt x="523" y="0"/>
                    <a:pt x="523" y="0"/>
                  </a:cubicBezTo>
                  <a:cubicBezTo>
                    <a:pt x="387" y="39"/>
                    <a:pt x="387" y="39"/>
                    <a:pt x="387" y="39"/>
                  </a:cubicBezTo>
                  <a:cubicBezTo>
                    <a:pt x="252" y="77"/>
                    <a:pt x="252" y="77"/>
                    <a:pt x="252" y="77"/>
                  </a:cubicBezTo>
                  <a:lnTo>
                    <a:pt x="271" y="17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7694280" y="5200560"/>
              <a:ext cx="287280" cy="260280"/>
            </a:xfrm>
            <a:custGeom>
              <a:avLst/>
              <a:gdLst/>
              <a:ahLst/>
              <a:rect l="l" t="t" r="r" b="b"/>
              <a:pathLst>
                <a:path w="1106" h="1007">
                  <a:moveTo>
                    <a:pt x="989" y="58"/>
                  </a:moveTo>
                  <a:lnTo>
                    <a:pt x="989" y="58"/>
                  </a:lnTo>
                  <a:cubicBezTo>
                    <a:pt x="1105" y="407"/>
                    <a:pt x="1105" y="407"/>
                    <a:pt x="1105" y="407"/>
                  </a:cubicBezTo>
                  <a:cubicBezTo>
                    <a:pt x="1105" y="407"/>
                    <a:pt x="1085" y="580"/>
                    <a:pt x="950" y="465"/>
                  </a:cubicBezTo>
                  <a:cubicBezTo>
                    <a:pt x="814" y="116"/>
                    <a:pt x="814" y="116"/>
                    <a:pt x="814" y="116"/>
                  </a:cubicBezTo>
                  <a:cubicBezTo>
                    <a:pt x="911" y="774"/>
                    <a:pt x="911" y="774"/>
                    <a:pt x="911" y="774"/>
                  </a:cubicBezTo>
                  <a:cubicBezTo>
                    <a:pt x="911" y="774"/>
                    <a:pt x="834" y="910"/>
                    <a:pt x="737" y="832"/>
                  </a:cubicBezTo>
                  <a:cubicBezTo>
                    <a:pt x="737" y="832"/>
                    <a:pt x="679" y="948"/>
                    <a:pt x="582" y="871"/>
                  </a:cubicBezTo>
                  <a:cubicBezTo>
                    <a:pt x="582" y="871"/>
                    <a:pt x="465" y="1006"/>
                    <a:pt x="369" y="910"/>
                  </a:cubicBezTo>
                  <a:cubicBezTo>
                    <a:pt x="310" y="774"/>
                    <a:pt x="310" y="774"/>
                    <a:pt x="310" y="774"/>
                  </a:cubicBezTo>
                  <a:cubicBezTo>
                    <a:pt x="310" y="774"/>
                    <a:pt x="272" y="871"/>
                    <a:pt x="194" y="774"/>
                  </a:cubicBezTo>
                  <a:cubicBezTo>
                    <a:pt x="194" y="774"/>
                    <a:pt x="20" y="426"/>
                    <a:pt x="0" y="291"/>
                  </a:cubicBezTo>
                  <a:cubicBezTo>
                    <a:pt x="39" y="193"/>
                    <a:pt x="39" y="193"/>
                    <a:pt x="39" y="193"/>
                  </a:cubicBezTo>
                  <a:cubicBezTo>
                    <a:pt x="969" y="0"/>
                    <a:pt x="969" y="0"/>
                    <a:pt x="969" y="0"/>
                  </a:cubicBezTo>
                  <a:lnTo>
                    <a:pt x="989" y="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7332480" y="3841560"/>
              <a:ext cx="1222560" cy="1271520"/>
            </a:xfrm>
            <a:custGeom>
              <a:avLst/>
              <a:gdLst/>
              <a:ahLst/>
              <a:rect l="l" t="t" r="r" b="b"/>
              <a:pathLst>
                <a:path w="4710" h="4904">
                  <a:moveTo>
                    <a:pt x="4709" y="737"/>
                  </a:moveTo>
                  <a:lnTo>
                    <a:pt x="4709" y="737"/>
                  </a:lnTo>
                  <a:cubicBezTo>
                    <a:pt x="4709" y="737"/>
                    <a:pt x="1085" y="1124"/>
                    <a:pt x="2015" y="4728"/>
                  </a:cubicBezTo>
                  <a:cubicBezTo>
                    <a:pt x="1512" y="4903"/>
                    <a:pt x="1512" y="4903"/>
                    <a:pt x="1512" y="4903"/>
                  </a:cubicBezTo>
                  <a:cubicBezTo>
                    <a:pt x="1512" y="4903"/>
                    <a:pt x="0" y="1299"/>
                    <a:pt x="4457" y="0"/>
                  </a:cubicBezTo>
                  <a:lnTo>
                    <a:pt x="4709" y="737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242200" y="6702480"/>
              <a:ext cx="363600" cy="155520"/>
            </a:xfrm>
            <a:custGeom>
              <a:avLst/>
              <a:gdLst/>
              <a:ahLst/>
              <a:rect l="l" t="t" r="r" b="b"/>
              <a:pathLst>
                <a:path w="1396" h="601">
                  <a:moveTo>
                    <a:pt x="96" y="504"/>
                  </a:moveTo>
                  <a:lnTo>
                    <a:pt x="96" y="504"/>
                  </a:lnTo>
                  <a:cubicBezTo>
                    <a:pt x="503" y="349"/>
                    <a:pt x="503" y="349"/>
                    <a:pt x="503" y="349"/>
                  </a:cubicBezTo>
                  <a:cubicBezTo>
                    <a:pt x="968" y="155"/>
                    <a:pt x="1007" y="0"/>
                    <a:pt x="1007" y="0"/>
                  </a:cubicBezTo>
                  <a:cubicBezTo>
                    <a:pt x="1142" y="19"/>
                    <a:pt x="1142" y="19"/>
                    <a:pt x="1142" y="19"/>
                  </a:cubicBezTo>
                  <a:cubicBezTo>
                    <a:pt x="1142" y="174"/>
                    <a:pt x="1142" y="174"/>
                    <a:pt x="1142" y="174"/>
                  </a:cubicBezTo>
                  <a:cubicBezTo>
                    <a:pt x="1395" y="174"/>
                    <a:pt x="1395" y="174"/>
                    <a:pt x="1395" y="174"/>
                  </a:cubicBezTo>
                  <a:cubicBezTo>
                    <a:pt x="1395" y="426"/>
                    <a:pt x="1395" y="426"/>
                    <a:pt x="1395" y="426"/>
                  </a:cubicBezTo>
                  <a:cubicBezTo>
                    <a:pt x="1395" y="600"/>
                    <a:pt x="1395" y="600"/>
                    <a:pt x="1395" y="600"/>
                  </a:cubicBezTo>
                  <a:cubicBezTo>
                    <a:pt x="1007" y="600"/>
                    <a:pt x="1007" y="600"/>
                    <a:pt x="1007" y="600"/>
                  </a:cubicBezTo>
                  <a:cubicBezTo>
                    <a:pt x="1007" y="426"/>
                    <a:pt x="1007" y="426"/>
                    <a:pt x="1007" y="426"/>
                  </a:cubicBezTo>
                  <a:cubicBezTo>
                    <a:pt x="1007" y="426"/>
                    <a:pt x="987" y="600"/>
                    <a:pt x="620" y="600"/>
                  </a:cubicBezTo>
                  <a:cubicBezTo>
                    <a:pt x="38" y="600"/>
                    <a:pt x="38" y="600"/>
                    <a:pt x="38" y="600"/>
                  </a:cubicBezTo>
                  <a:cubicBezTo>
                    <a:pt x="38" y="600"/>
                    <a:pt x="0" y="504"/>
                    <a:pt x="96" y="504"/>
                  </a:cubicBez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8504280" y="5319720"/>
              <a:ext cx="644400" cy="1538280"/>
            </a:xfrm>
            <a:custGeom>
              <a:avLst/>
              <a:gdLst/>
              <a:ahLst/>
              <a:rect l="l" t="t" r="r" b="b"/>
              <a:pathLst>
                <a:path w="2481" h="5928">
                  <a:moveTo>
                    <a:pt x="58" y="386"/>
                  </a:moveTo>
                  <a:lnTo>
                    <a:pt x="58" y="0"/>
                  </a:lnTo>
                  <a:lnTo>
                    <a:pt x="2480" y="38"/>
                  </a:lnTo>
                  <a:lnTo>
                    <a:pt x="2480" y="1781"/>
                  </a:lnTo>
                  <a:lnTo>
                    <a:pt x="504" y="1781"/>
                  </a:lnTo>
                  <a:lnTo>
                    <a:pt x="388" y="5753"/>
                  </a:lnTo>
                  <a:lnTo>
                    <a:pt x="388" y="5927"/>
                  </a:lnTo>
                  <a:lnTo>
                    <a:pt x="0" y="5927"/>
                  </a:lnTo>
                  <a:lnTo>
                    <a:pt x="0" y="5831"/>
                  </a:lnTo>
                  <a:lnTo>
                    <a:pt x="58" y="386"/>
                  </a:lnTo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8248680" y="3836880"/>
              <a:ext cx="749160" cy="1494000"/>
            </a:xfrm>
            <a:custGeom>
              <a:avLst/>
              <a:gdLst/>
              <a:ahLst/>
              <a:rect l="l" t="t" r="r" b="b"/>
              <a:pathLst>
                <a:path w="2888" h="5755">
                  <a:moveTo>
                    <a:pt x="2887" y="0"/>
                  </a:moveTo>
                  <a:lnTo>
                    <a:pt x="2809" y="0"/>
                  </a:lnTo>
                  <a:lnTo>
                    <a:pt x="2713" y="0"/>
                  </a:lnTo>
                  <a:lnTo>
                    <a:pt x="1046" y="0"/>
                  </a:lnTo>
                  <a:lnTo>
                    <a:pt x="0" y="601"/>
                  </a:lnTo>
                  <a:lnTo>
                    <a:pt x="1046" y="5754"/>
                  </a:lnTo>
                  <a:lnTo>
                    <a:pt x="2771" y="5696"/>
                  </a:lnTo>
                  <a:lnTo>
                    <a:pt x="2887" y="5696"/>
                  </a:lnTo>
                  <a:lnTo>
                    <a:pt x="2887" y="0"/>
                  </a:lnTo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248680" y="3836880"/>
              <a:ext cx="900000" cy="1494000"/>
            </a:xfrm>
            <a:custGeom>
              <a:avLst/>
              <a:gdLst/>
              <a:ahLst/>
              <a:rect l="l" t="t" r="r" b="b"/>
              <a:pathLst>
                <a:path w="3469" h="5755">
                  <a:moveTo>
                    <a:pt x="1046" y="0"/>
                  </a:moveTo>
                  <a:lnTo>
                    <a:pt x="2713" y="0"/>
                  </a:lnTo>
                  <a:lnTo>
                    <a:pt x="2809" y="0"/>
                  </a:lnTo>
                  <a:lnTo>
                    <a:pt x="3468" y="0"/>
                  </a:lnTo>
                  <a:lnTo>
                    <a:pt x="3468" y="5716"/>
                  </a:lnTo>
                  <a:lnTo>
                    <a:pt x="2771" y="5696"/>
                  </a:lnTo>
                  <a:lnTo>
                    <a:pt x="1046" y="5754"/>
                  </a:lnTo>
                  <a:lnTo>
                    <a:pt x="0" y="601"/>
                  </a:lnTo>
                  <a:lnTo>
                    <a:pt x="1046" y="0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9047160" y="5289480"/>
              <a:ext cx="99720" cy="55440"/>
            </a:xfrm>
            <a:custGeom>
              <a:avLst/>
              <a:gdLst/>
              <a:ahLst/>
              <a:rect l="l" t="t" r="r" b="b"/>
              <a:pathLst>
                <a:path w="388" h="215">
                  <a:moveTo>
                    <a:pt x="19" y="155"/>
                  </a:moveTo>
                  <a:lnTo>
                    <a:pt x="19" y="155"/>
                  </a:lnTo>
                  <a:cubicBezTo>
                    <a:pt x="19" y="78"/>
                    <a:pt x="19" y="78"/>
                    <a:pt x="19" y="78"/>
                  </a:cubicBezTo>
                  <a:cubicBezTo>
                    <a:pt x="19" y="39"/>
                    <a:pt x="0" y="20"/>
                    <a:pt x="0" y="0"/>
                  </a:cubicBezTo>
                  <a:cubicBezTo>
                    <a:pt x="135" y="0"/>
                    <a:pt x="271" y="0"/>
                    <a:pt x="387" y="20"/>
                  </a:cubicBezTo>
                  <a:cubicBezTo>
                    <a:pt x="387" y="214"/>
                    <a:pt x="387" y="214"/>
                    <a:pt x="387" y="214"/>
                  </a:cubicBezTo>
                  <a:cubicBezTo>
                    <a:pt x="271" y="214"/>
                    <a:pt x="135" y="214"/>
                    <a:pt x="0" y="214"/>
                  </a:cubicBezTo>
                  <a:cubicBezTo>
                    <a:pt x="0" y="194"/>
                    <a:pt x="19" y="175"/>
                    <a:pt x="19" y="155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8513640" y="5294160"/>
              <a:ext cx="352440" cy="64800"/>
            </a:xfrm>
            <a:custGeom>
              <a:avLst/>
              <a:gdLst/>
              <a:ahLst/>
              <a:rect l="l" t="t" r="r" b="b"/>
              <a:pathLst>
                <a:path w="1357" h="252">
                  <a:moveTo>
                    <a:pt x="1356" y="0"/>
                  </a:moveTo>
                  <a:lnTo>
                    <a:pt x="1356" y="0"/>
                  </a:lnTo>
                  <a:cubicBezTo>
                    <a:pt x="1356" y="19"/>
                    <a:pt x="1356" y="39"/>
                    <a:pt x="1356" y="58"/>
                  </a:cubicBezTo>
                  <a:cubicBezTo>
                    <a:pt x="1356" y="135"/>
                    <a:pt x="1356" y="135"/>
                    <a:pt x="1356" y="135"/>
                  </a:cubicBezTo>
                  <a:cubicBezTo>
                    <a:pt x="1356" y="155"/>
                    <a:pt x="1356" y="174"/>
                    <a:pt x="1356" y="194"/>
                  </a:cubicBezTo>
                  <a:cubicBezTo>
                    <a:pt x="930" y="194"/>
                    <a:pt x="465" y="212"/>
                    <a:pt x="19" y="251"/>
                  </a:cubicBezTo>
                  <a:cubicBezTo>
                    <a:pt x="19" y="251"/>
                    <a:pt x="19" y="116"/>
                    <a:pt x="0" y="39"/>
                  </a:cubicBezTo>
                  <a:cubicBezTo>
                    <a:pt x="0" y="39"/>
                    <a:pt x="600" y="0"/>
                    <a:pt x="1356" y="0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>
              <a:off x="8826480" y="5265720"/>
              <a:ext cx="245880" cy="104760"/>
            </a:xfrm>
            <a:custGeom>
              <a:avLst/>
              <a:gdLst/>
              <a:ahLst/>
              <a:rect l="l" t="t" r="r" b="b"/>
              <a:pathLst>
                <a:path w="951" h="406">
                  <a:moveTo>
                    <a:pt x="0" y="271"/>
                  </a:moveTo>
                  <a:lnTo>
                    <a:pt x="0" y="271"/>
                  </a:lnTo>
                  <a:cubicBezTo>
                    <a:pt x="0" y="348"/>
                    <a:pt x="58" y="405"/>
                    <a:pt x="135" y="405"/>
                  </a:cubicBezTo>
                  <a:cubicBezTo>
                    <a:pt x="814" y="405"/>
                    <a:pt x="814" y="405"/>
                    <a:pt x="814" y="405"/>
                  </a:cubicBezTo>
                  <a:cubicBezTo>
                    <a:pt x="891" y="405"/>
                    <a:pt x="950" y="348"/>
                    <a:pt x="950" y="271"/>
                  </a:cubicBezTo>
                  <a:cubicBezTo>
                    <a:pt x="950" y="135"/>
                    <a:pt x="950" y="135"/>
                    <a:pt x="950" y="135"/>
                  </a:cubicBezTo>
                  <a:cubicBezTo>
                    <a:pt x="950" y="58"/>
                    <a:pt x="891" y="0"/>
                    <a:pt x="814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58" y="0"/>
                    <a:pt x="0" y="58"/>
                    <a:pt x="0" y="135"/>
                  </a:cubicBezTo>
                  <a:lnTo>
                    <a:pt x="0" y="271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"/>
            <p:cNvSpPr/>
            <p:nvPr/>
          </p:nvSpPr>
          <p:spPr>
            <a:xfrm>
              <a:off x="8805960" y="4233600"/>
              <a:ext cx="287280" cy="1066680"/>
            </a:xfrm>
            <a:custGeom>
              <a:avLst/>
              <a:gdLst/>
              <a:ahLst/>
              <a:rect l="l" t="t" r="r" b="b"/>
              <a:pathLst>
                <a:path w="1105" h="4108">
                  <a:moveTo>
                    <a:pt x="736" y="0"/>
                  </a:moveTo>
                  <a:lnTo>
                    <a:pt x="1007" y="484"/>
                  </a:lnTo>
                  <a:lnTo>
                    <a:pt x="658" y="1046"/>
                  </a:lnTo>
                  <a:lnTo>
                    <a:pt x="1104" y="3487"/>
                  </a:lnTo>
                  <a:lnTo>
                    <a:pt x="522" y="4107"/>
                  </a:lnTo>
                  <a:lnTo>
                    <a:pt x="0" y="3487"/>
                  </a:lnTo>
                  <a:lnTo>
                    <a:pt x="445" y="1066"/>
                  </a:lnTo>
                  <a:lnTo>
                    <a:pt x="174" y="465"/>
                  </a:lnTo>
                  <a:lnTo>
                    <a:pt x="367" y="0"/>
                  </a:lnTo>
                  <a:lnTo>
                    <a:pt x="736" y="0"/>
                  </a:lnTo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>
              <a:off x="8805960" y="4233600"/>
              <a:ext cx="136440" cy="1066680"/>
            </a:xfrm>
            <a:custGeom>
              <a:avLst/>
              <a:gdLst/>
              <a:ahLst/>
              <a:rect l="l" t="t" r="r" b="b"/>
              <a:pathLst>
                <a:path w="523" h="4108">
                  <a:moveTo>
                    <a:pt x="522" y="0"/>
                  </a:moveTo>
                  <a:lnTo>
                    <a:pt x="367" y="0"/>
                  </a:lnTo>
                  <a:lnTo>
                    <a:pt x="174" y="465"/>
                  </a:lnTo>
                  <a:lnTo>
                    <a:pt x="445" y="1066"/>
                  </a:lnTo>
                  <a:lnTo>
                    <a:pt x="0" y="3487"/>
                  </a:lnTo>
                  <a:lnTo>
                    <a:pt x="522" y="4107"/>
                  </a:lnTo>
                  <a:lnTo>
                    <a:pt x="522" y="4107"/>
                  </a:lnTo>
                  <a:lnTo>
                    <a:pt x="522" y="0"/>
                  </a:ln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>
              <a:off x="8840880" y="4933800"/>
              <a:ext cx="231480" cy="236520"/>
            </a:xfrm>
            <a:custGeom>
              <a:avLst/>
              <a:gdLst/>
              <a:ahLst/>
              <a:rect l="l" t="t" r="r" b="b"/>
              <a:pathLst>
                <a:path w="893" h="911">
                  <a:moveTo>
                    <a:pt x="0" y="58"/>
                  </a:moveTo>
                  <a:lnTo>
                    <a:pt x="0" y="58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892" y="872"/>
                  </a:lnTo>
                  <a:lnTo>
                    <a:pt x="853" y="910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"/>
            <p:cNvSpPr/>
            <p:nvPr/>
          </p:nvSpPr>
          <p:spPr>
            <a:xfrm>
              <a:off x="8836200" y="4973400"/>
              <a:ext cx="212760" cy="222120"/>
            </a:xfrm>
            <a:custGeom>
              <a:avLst/>
              <a:gdLst/>
              <a:ahLst/>
              <a:rect l="l" t="t" r="r" b="b"/>
              <a:pathLst>
                <a:path w="815" h="854">
                  <a:moveTo>
                    <a:pt x="0" y="58"/>
                  </a:moveTo>
                  <a:lnTo>
                    <a:pt x="0" y="0"/>
                  </a:lnTo>
                  <a:lnTo>
                    <a:pt x="814" y="814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775" y="853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8548560" y="3931920"/>
              <a:ext cx="393480" cy="579240"/>
            </a:xfrm>
            <a:custGeom>
              <a:avLst/>
              <a:gdLst/>
              <a:ahLst/>
              <a:rect l="l" t="t" r="r" b="b"/>
              <a:pathLst>
                <a:path w="1512" h="223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75" y="1802"/>
                    <a:pt x="1046" y="2229"/>
                  </a:cubicBezTo>
                  <a:cubicBezTo>
                    <a:pt x="1046" y="2229"/>
                    <a:pt x="1201" y="1725"/>
                    <a:pt x="1511" y="1492"/>
                  </a:cubicBezTo>
                  <a:cubicBezTo>
                    <a:pt x="1511" y="1492"/>
                    <a:pt x="581" y="853"/>
                    <a:pt x="0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8971200" y="4208400"/>
              <a:ext cx="176040" cy="317520"/>
            </a:xfrm>
            <a:custGeom>
              <a:avLst/>
              <a:gdLst/>
              <a:ahLst/>
              <a:rect l="l" t="t" r="r" b="b"/>
              <a:pathLst>
                <a:path w="679" h="1221">
                  <a:moveTo>
                    <a:pt x="678" y="0"/>
                  </a:moveTo>
                  <a:lnTo>
                    <a:pt x="678" y="0"/>
                  </a:lnTo>
                  <a:cubicBezTo>
                    <a:pt x="678" y="1046"/>
                    <a:pt x="678" y="1046"/>
                    <a:pt x="678" y="1046"/>
                  </a:cubicBezTo>
                  <a:cubicBezTo>
                    <a:pt x="581" y="1124"/>
                    <a:pt x="484" y="1182"/>
                    <a:pt x="388" y="1220"/>
                  </a:cubicBezTo>
                  <a:cubicBezTo>
                    <a:pt x="388" y="1220"/>
                    <a:pt x="271" y="697"/>
                    <a:pt x="0" y="426"/>
                  </a:cubicBezTo>
                  <a:cubicBezTo>
                    <a:pt x="0" y="426"/>
                    <a:pt x="310" y="271"/>
                    <a:pt x="678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8358120" y="3836880"/>
              <a:ext cx="789120" cy="498240"/>
            </a:xfrm>
            <a:custGeom>
              <a:avLst/>
              <a:gdLst/>
              <a:ahLst/>
              <a:rect l="l" t="t" r="r" b="b"/>
              <a:pathLst>
                <a:path w="3043" h="1919">
                  <a:moveTo>
                    <a:pt x="0" y="0"/>
                  </a:moveTo>
                  <a:lnTo>
                    <a:pt x="0" y="0"/>
                  </a:lnTo>
                  <a:cubicBezTo>
                    <a:pt x="3042" y="0"/>
                    <a:pt x="3042" y="0"/>
                    <a:pt x="3042" y="0"/>
                  </a:cubicBezTo>
                  <a:cubicBezTo>
                    <a:pt x="3042" y="1763"/>
                    <a:pt x="3042" y="1763"/>
                    <a:pt x="3042" y="1763"/>
                  </a:cubicBezTo>
                  <a:cubicBezTo>
                    <a:pt x="2926" y="1822"/>
                    <a:pt x="2810" y="1860"/>
                    <a:pt x="2693" y="1899"/>
                  </a:cubicBezTo>
                  <a:cubicBezTo>
                    <a:pt x="2655" y="1899"/>
                    <a:pt x="2597" y="1918"/>
                    <a:pt x="2538" y="1918"/>
                  </a:cubicBezTo>
                  <a:lnTo>
                    <a:pt x="2538" y="1918"/>
                  </a:lnTo>
                  <a:lnTo>
                    <a:pt x="2538" y="1918"/>
                  </a:lnTo>
                  <a:lnTo>
                    <a:pt x="2538" y="1918"/>
                  </a:lnTo>
                  <a:cubicBezTo>
                    <a:pt x="2538" y="1918"/>
                    <a:pt x="2519" y="1918"/>
                    <a:pt x="2461" y="1918"/>
                  </a:cubicBezTo>
                  <a:cubicBezTo>
                    <a:pt x="2480" y="1918"/>
                    <a:pt x="2480" y="1918"/>
                    <a:pt x="2480" y="1918"/>
                  </a:cubicBezTo>
                  <a:cubicBezTo>
                    <a:pt x="2480" y="1918"/>
                    <a:pt x="2480" y="1918"/>
                    <a:pt x="2461" y="1918"/>
                  </a:cubicBezTo>
                  <a:cubicBezTo>
                    <a:pt x="2345" y="1918"/>
                    <a:pt x="2073" y="1918"/>
                    <a:pt x="1937" y="1860"/>
                  </a:cubicBezTo>
                  <a:cubicBezTo>
                    <a:pt x="1918" y="1860"/>
                    <a:pt x="1918" y="1841"/>
                    <a:pt x="1899" y="1841"/>
                  </a:cubicBezTo>
                  <a:cubicBezTo>
                    <a:pt x="1705" y="1763"/>
                    <a:pt x="1105" y="1453"/>
                    <a:pt x="659" y="892"/>
                  </a:cubicBezTo>
                  <a:lnTo>
                    <a:pt x="659" y="892"/>
                  </a:lnTo>
                  <a:lnTo>
                    <a:pt x="659" y="892"/>
                  </a:lnTo>
                  <a:cubicBezTo>
                    <a:pt x="446" y="678"/>
                    <a:pt x="213" y="388"/>
                    <a:pt x="0" y="0"/>
                  </a:cubicBezTo>
                </a:path>
              </a:pathLst>
            </a:custGeom>
            <a:solidFill>
              <a:srgbClr val="fd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357"/>
          <p:cNvGrpSpPr/>
          <p:nvPr/>
        </p:nvGrpSpPr>
        <p:grpSpPr>
          <a:xfrm>
            <a:off x="7638840" y="0"/>
            <a:ext cx="1509480" cy="1509840"/>
            <a:chOff x="7638840" y="0"/>
            <a:chExt cx="1509480" cy="1509840"/>
          </a:xfrm>
        </p:grpSpPr>
        <p:sp>
          <p:nvSpPr>
            <p:cNvPr id="173" name="直角三角形 358"/>
            <p:cNvSpPr/>
            <p:nvPr/>
          </p:nvSpPr>
          <p:spPr>
            <a:xfrm rot="10800000">
              <a:off x="7638840" y="1440"/>
              <a:ext cx="1509480" cy="150840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359"/>
            <p:cNvSpPr/>
            <p:nvPr/>
          </p:nvSpPr>
          <p:spPr>
            <a:xfrm rot="10800000">
              <a:off x="8413560" y="0"/>
              <a:ext cx="734760" cy="73440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372"/>
          <p:cNvGrpSpPr/>
          <p:nvPr/>
        </p:nvGrpSpPr>
        <p:grpSpPr>
          <a:xfrm>
            <a:off x="2170080" y="1538280"/>
            <a:ext cx="5037120" cy="2855160"/>
            <a:chOff x="2170080" y="1538280"/>
            <a:chExt cx="5037120" cy="2855160"/>
          </a:xfrm>
        </p:grpSpPr>
        <p:sp>
          <p:nvSpPr>
            <p:cNvPr id="176" name="文本框 241"/>
            <p:cNvSpPr/>
            <p:nvPr/>
          </p:nvSpPr>
          <p:spPr>
            <a:xfrm>
              <a:off x="2170080" y="153828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368"/>
            <p:cNvSpPr/>
            <p:nvPr/>
          </p:nvSpPr>
          <p:spPr>
            <a:xfrm>
              <a:off x="2964600" y="23673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文本框 370"/>
            <p:cNvSpPr/>
            <p:nvPr/>
          </p:nvSpPr>
          <p:spPr>
            <a:xfrm>
              <a:off x="3825360" y="319572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371"/>
            <p:cNvSpPr/>
            <p:nvPr/>
          </p:nvSpPr>
          <p:spPr>
            <a:xfrm>
              <a:off x="4619880" y="40251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18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 flipV="1">
            <a:off x="2671920" y="2803320"/>
            <a:ext cx="0" cy="1036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543040" y="2840040"/>
            <a:ext cx="133560" cy="138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674800" y="3188880"/>
            <a:ext cx="192240" cy="20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8"/>
          <p:cNvSpPr/>
          <p:nvPr/>
        </p:nvSpPr>
        <p:spPr>
          <a:xfrm flipH="1">
            <a:off x="1928160" y="2271600"/>
            <a:ext cx="747720" cy="820800"/>
          </a:xfrm>
          <a:custGeom>
            <a:avLst/>
            <a:gdLst/>
            <a:ahLst/>
            <a:rect l="l" t="t" r="r" b="b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1668600" y="2416320"/>
            <a:ext cx="260280" cy="26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"/>
          <p:cNvSpPr/>
          <p:nvPr/>
        </p:nvSpPr>
        <p:spPr>
          <a:xfrm flipH="1">
            <a:off x="1321560" y="3289320"/>
            <a:ext cx="1265400" cy="550800"/>
          </a:xfrm>
          <a:custGeom>
            <a:avLst/>
            <a:gdLst/>
            <a:ahLst/>
            <a:rect l="l" t="t" r="r" b="b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604880" y="3006720"/>
            <a:ext cx="301680" cy="2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1604880" y="3288960"/>
            <a:ext cx="3016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3"/>
          <p:cNvSpPr/>
          <p:nvPr/>
        </p:nvSpPr>
        <p:spPr>
          <a:xfrm flipH="1">
            <a:off x="777600" y="3665520"/>
            <a:ext cx="44604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4"/>
          <p:cNvSpPr/>
          <p:nvPr/>
        </p:nvSpPr>
        <p:spPr>
          <a:xfrm flipH="1">
            <a:off x="982440" y="3956040"/>
            <a:ext cx="276120" cy="301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5"/>
          <p:cNvSpPr/>
          <p:nvPr/>
        </p:nvSpPr>
        <p:spPr>
          <a:xfrm flipH="1">
            <a:off x="2780640" y="3013200"/>
            <a:ext cx="609480" cy="823680"/>
          </a:xfrm>
          <a:custGeom>
            <a:avLst/>
            <a:gdLst/>
            <a:ahLst/>
            <a:rect l="l" t="t" r="r" b="b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16"/>
          <p:cNvSpPr/>
          <p:nvPr/>
        </p:nvSpPr>
        <p:spPr>
          <a:xfrm flipV="1">
            <a:off x="3386160" y="2068560"/>
            <a:ext cx="11160" cy="457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7"/>
          <p:cNvSpPr/>
          <p:nvPr/>
        </p:nvSpPr>
        <p:spPr>
          <a:xfrm flipH="1" flipV="1">
            <a:off x="3042720" y="2420640"/>
            <a:ext cx="195480" cy="18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18"/>
          <p:cNvSpPr/>
          <p:nvPr/>
        </p:nvSpPr>
        <p:spPr>
          <a:xfrm flipV="1">
            <a:off x="3565440" y="2421000"/>
            <a:ext cx="189000" cy="18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9"/>
          <p:cNvSpPr/>
          <p:nvPr/>
        </p:nvSpPr>
        <p:spPr>
          <a:xfrm flipH="1">
            <a:off x="2870280" y="3446640"/>
            <a:ext cx="831600" cy="390240"/>
          </a:xfrm>
          <a:custGeom>
            <a:avLst/>
            <a:gdLst/>
            <a:ahLst/>
            <a:rect l="l" t="t" r="r" b="b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0"/>
          <p:cNvSpPr/>
          <p:nvPr/>
        </p:nvSpPr>
        <p:spPr>
          <a:xfrm flipV="1">
            <a:off x="4211640" y="3452400"/>
            <a:ext cx="55080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21"/>
          <p:cNvSpPr/>
          <p:nvPr/>
        </p:nvSpPr>
        <p:spPr>
          <a:xfrm flipV="1">
            <a:off x="3973680" y="2900520"/>
            <a:ext cx="328320" cy="33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3975120" y="3684600"/>
            <a:ext cx="307800" cy="27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4587840" y="2358720"/>
            <a:ext cx="293760" cy="299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3754440" y="1984320"/>
            <a:ext cx="457200" cy="371520"/>
          </a:xfrm>
          <a:custGeom>
            <a:avLst/>
            <a:gdLst/>
            <a:ahLst/>
            <a:rect l="l" t="t" r="r" b="b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4113360" y="2030400"/>
            <a:ext cx="44280" cy="92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959280" y="2136600"/>
            <a:ext cx="46080" cy="49320"/>
          </a:xfrm>
          <a:prstGeom prst="ellipse">
            <a:avLst/>
          </a:pr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4735440" y="3594240"/>
            <a:ext cx="103320" cy="1015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4792680" y="3341520"/>
            <a:ext cx="260280" cy="2635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4829040" y="3378240"/>
            <a:ext cx="260640" cy="2617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1"/>
          <p:cNvSpPr/>
          <p:nvPr/>
        </p:nvSpPr>
        <p:spPr>
          <a:xfrm>
            <a:off x="5046840" y="3308400"/>
            <a:ext cx="77760" cy="79200"/>
          </a:xfrm>
          <a:custGeom>
            <a:avLst/>
            <a:gdLst/>
            <a:ahLst/>
            <a:rect l="l" t="t" r="r" b="b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32"/>
          <p:cNvSpPr/>
          <p:nvPr/>
        </p:nvSpPr>
        <p:spPr>
          <a:xfrm>
            <a:off x="1746360" y="1969920"/>
            <a:ext cx="419040" cy="241560"/>
          </a:xfrm>
          <a:custGeom>
            <a:avLst/>
            <a:gdLst/>
            <a:ahLst/>
            <a:rect l="l" t="t" r="r" b="b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33"/>
          <p:cNvSpPr/>
          <p:nvPr/>
        </p:nvSpPr>
        <p:spPr>
          <a:xfrm>
            <a:off x="1746360" y="1914480"/>
            <a:ext cx="419040" cy="171360"/>
          </a:xfrm>
          <a:custGeom>
            <a:avLst/>
            <a:gdLst/>
            <a:ahLst/>
            <a:rect l="l" t="t" r="r" b="b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34"/>
          <p:cNvSpPr/>
          <p:nvPr/>
        </p:nvSpPr>
        <p:spPr>
          <a:xfrm>
            <a:off x="4302000" y="3886200"/>
            <a:ext cx="405000" cy="3589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5"/>
          <p:cNvSpPr/>
          <p:nvPr/>
        </p:nvSpPr>
        <p:spPr>
          <a:xfrm>
            <a:off x="4956120" y="2003400"/>
            <a:ext cx="324000" cy="417600"/>
          </a:xfrm>
          <a:custGeom>
            <a:avLst/>
            <a:gdLst/>
            <a:ahLst/>
            <a:rect l="l" t="t" r="r" b="b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1322280" y="2832120"/>
            <a:ext cx="179640" cy="254160"/>
          </a:xfrm>
          <a:custGeom>
            <a:avLst/>
            <a:gdLst/>
            <a:ahLst/>
            <a:rect l="l" t="t" r="r" b="b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48"/>
          <p:cNvSpPr/>
          <p:nvPr/>
        </p:nvSpPr>
        <p:spPr>
          <a:xfrm>
            <a:off x="1420920" y="2682720"/>
            <a:ext cx="244440" cy="284400"/>
          </a:xfrm>
          <a:custGeom>
            <a:avLst/>
            <a:gdLst/>
            <a:ahLst/>
            <a:rect l="l" t="t" r="r" b="b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49"/>
          <p:cNvSpPr/>
          <p:nvPr/>
        </p:nvSpPr>
        <p:spPr>
          <a:xfrm>
            <a:off x="1631880" y="2736720"/>
            <a:ext cx="39600" cy="50760"/>
          </a:xfrm>
          <a:custGeom>
            <a:avLst/>
            <a:gdLst/>
            <a:ahLst/>
            <a:rect l="l" t="t" r="r" b="b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50"/>
          <p:cNvSpPr/>
          <p:nvPr/>
        </p:nvSpPr>
        <p:spPr>
          <a:xfrm>
            <a:off x="1649520" y="2851200"/>
            <a:ext cx="54000" cy="33120"/>
          </a:xfrm>
          <a:custGeom>
            <a:avLst/>
            <a:gdLst/>
            <a:ahLst/>
            <a:rect l="l" t="t" r="r" b="b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51"/>
          <p:cNvSpPr/>
          <p:nvPr/>
        </p:nvSpPr>
        <p:spPr>
          <a:xfrm>
            <a:off x="1649520" y="2797200"/>
            <a:ext cx="54000" cy="2376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59"/>
          <p:cNvSpPr/>
          <p:nvPr/>
        </p:nvSpPr>
        <p:spPr>
          <a:xfrm>
            <a:off x="3759120" y="3271680"/>
            <a:ext cx="376200" cy="370080"/>
          </a:xfrm>
          <a:custGeom>
            <a:avLst/>
            <a:gdLst/>
            <a:ahLst/>
            <a:rect l="l" t="t" r="r" b="b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60"/>
          <p:cNvSpPr/>
          <p:nvPr/>
        </p:nvSpPr>
        <p:spPr>
          <a:xfrm>
            <a:off x="3908520" y="3417840"/>
            <a:ext cx="77760" cy="745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3"/>
          <p:cNvSpPr/>
          <p:nvPr/>
        </p:nvSpPr>
        <p:spPr>
          <a:xfrm>
            <a:off x="990720" y="3102120"/>
            <a:ext cx="303120" cy="412560"/>
          </a:xfrm>
          <a:custGeom>
            <a:avLst/>
            <a:gdLst/>
            <a:ahLst/>
            <a:rect l="l" t="t" r="r" b="b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80"/>
          <p:cNvSpPr/>
          <p:nvPr/>
        </p:nvSpPr>
        <p:spPr>
          <a:xfrm>
            <a:off x="3273480" y="1785960"/>
            <a:ext cx="291960" cy="12204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1"/>
          <p:cNvSpPr/>
          <p:nvPr/>
        </p:nvSpPr>
        <p:spPr>
          <a:xfrm>
            <a:off x="3273480" y="1881360"/>
            <a:ext cx="291960" cy="11736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2"/>
          <p:cNvSpPr/>
          <p:nvPr/>
        </p:nvSpPr>
        <p:spPr>
          <a:xfrm>
            <a:off x="3273480" y="1697040"/>
            <a:ext cx="291960" cy="123840"/>
          </a:xfrm>
          <a:custGeom>
            <a:avLst/>
            <a:gdLst/>
            <a:ahLst/>
            <a:rect l="l" t="t" r="r" b="b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83"/>
          <p:cNvSpPr/>
          <p:nvPr/>
        </p:nvSpPr>
        <p:spPr>
          <a:xfrm>
            <a:off x="3278160" y="1633680"/>
            <a:ext cx="284040" cy="9684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89"/>
          <p:cNvSpPr/>
          <p:nvPr/>
        </p:nvSpPr>
        <p:spPr>
          <a:xfrm>
            <a:off x="3292560" y="2622600"/>
            <a:ext cx="218880" cy="208080"/>
          </a:xfrm>
          <a:custGeom>
            <a:avLst/>
            <a:gdLst/>
            <a:ahLst/>
            <a:rect l="l" t="t" r="r" b="b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90"/>
          <p:cNvSpPr/>
          <p:nvPr/>
        </p:nvSpPr>
        <p:spPr>
          <a:xfrm>
            <a:off x="3243240" y="2573280"/>
            <a:ext cx="317520" cy="309600"/>
          </a:xfrm>
          <a:custGeom>
            <a:avLst/>
            <a:gdLst/>
            <a:ahLst/>
            <a:rect l="l" t="t" r="r" b="b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91"/>
          <p:cNvSpPr/>
          <p:nvPr/>
        </p:nvSpPr>
        <p:spPr>
          <a:xfrm>
            <a:off x="3357720" y="2698920"/>
            <a:ext cx="95040" cy="258480"/>
          </a:xfrm>
          <a:custGeom>
            <a:avLst/>
            <a:gdLst/>
            <a:ahLst/>
            <a:rect l="l" t="t" r="r" b="b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92"/>
          <p:cNvSpPr/>
          <p:nvPr/>
        </p:nvSpPr>
        <p:spPr>
          <a:xfrm>
            <a:off x="2617920" y="2657520"/>
            <a:ext cx="112680" cy="90360"/>
          </a:xfrm>
          <a:custGeom>
            <a:avLst/>
            <a:gdLst/>
            <a:ahLst/>
            <a:rect l="l" t="t" r="r" b="b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93"/>
          <p:cNvSpPr/>
          <p:nvPr/>
        </p:nvSpPr>
        <p:spPr>
          <a:xfrm>
            <a:off x="2543040" y="2557440"/>
            <a:ext cx="262080" cy="115920"/>
          </a:xfrm>
          <a:custGeom>
            <a:avLst/>
            <a:gdLst/>
            <a:ahLst/>
            <a:rect l="l" t="t" r="r" b="b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94"/>
          <p:cNvSpPr/>
          <p:nvPr/>
        </p:nvSpPr>
        <p:spPr>
          <a:xfrm>
            <a:off x="2476440" y="2455920"/>
            <a:ext cx="393840" cy="152280"/>
          </a:xfrm>
          <a:custGeom>
            <a:avLst/>
            <a:gdLst/>
            <a:ahLst/>
            <a:rect l="l" t="t" r="r" b="b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95"/>
          <p:cNvSpPr/>
          <p:nvPr/>
        </p:nvSpPr>
        <p:spPr>
          <a:xfrm>
            <a:off x="2101680" y="2685960"/>
            <a:ext cx="374760" cy="231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96"/>
          <p:cNvSpPr/>
          <p:nvPr/>
        </p:nvSpPr>
        <p:spPr>
          <a:xfrm>
            <a:off x="2154240" y="2735280"/>
            <a:ext cx="7128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7"/>
          <p:cNvSpPr/>
          <p:nvPr/>
        </p:nvSpPr>
        <p:spPr>
          <a:xfrm>
            <a:off x="2236680" y="2735280"/>
            <a:ext cx="6840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03"/>
          <p:cNvSpPr/>
          <p:nvPr/>
        </p:nvSpPr>
        <p:spPr>
          <a:xfrm>
            <a:off x="4262400" y="2602080"/>
            <a:ext cx="338040" cy="33336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04"/>
          <p:cNvSpPr/>
          <p:nvPr/>
        </p:nvSpPr>
        <p:spPr>
          <a:xfrm>
            <a:off x="658800" y="4146480"/>
            <a:ext cx="358920" cy="3542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05"/>
          <p:cNvSpPr/>
          <p:nvPr/>
        </p:nvSpPr>
        <p:spPr>
          <a:xfrm>
            <a:off x="1293840" y="3641760"/>
            <a:ext cx="311040" cy="274680"/>
          </a:xfrm>
          <a:custGeom>
            <a:avLst/>
            <a:gdLst/>
            <a:ahLst/>
            <a:rect l="l" t="t" r="r" b="b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06"/>
          <p:cNvSpPr/>
          <p:nvPr/>
        </p:nvSpPr>
        <p:spPr>
          <a:xfrm>
            <a:off x="442800" y="3524400"/>
            <a:ext cx="239760" cy="322200"/>
          </a:xfrm>
          <a:custGeom>
            <a:avLst/>
            <a:gdLst/>
            <a:ahLst/>
            <a:rect l="l" t="t" r="r" b="b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21"/>
          <p:cNvSpPr/>
          <p:nvPr/>
        </p:nvSpPr>
        <p:spPr>
          <a:xfrm>
            <a:off x="2773440" y="2038320"/>
            <a:ext cx="250920" cy="343080"/>
          </a:xfrm>
          <a:custGeom>
            <a:avLst/>
            <a:gdLst/>
            <a:ahLst/>
            <a:rect l="l" t="t" r="r" b="b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122"/>
          <p:cNvSpPr/>
          <p:nvPr/>
        </p:nvSpPr>
        <p:spPr>
          <a:xfrm>
            <a:off x="2859120" y="2467080"/>
            <a:ext cx="87120" cy="7920"/>
          </a:xfrm>
          <a:custGeom>
            <a:avLst/>
            <a:gdLst/>
            <a:ahLst/>
            <a:rect l="l" t="t" r="r" b="b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123"/>
          <p:cNvSpPr/>
          <p:nvPr/>
        </p:nvSpPr>
        <p:spPr>
          <a:xfrm>
            <a:off x="2871720" y="2484360"/>
            <a:ext cx="63720" cy="11160"/>
          </a:xfrm>
          <a:custGeom>
            <a:avLst/>
            <a:gdLst/>
            <a:ahLst/>
            <a:rect l="l" t="t" r="r" b="b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124"/>
          <p:cNvSpPr/>
          <p:nvPr/>
        </p:nvSpPr>
        <p:spPr>
          <a:xfrm>
            <a:off x="2857680" y="2394000"/>
            <a:ext cx="90360" cy="63360"/>
          </a:xfrm>
          <a:custGeom>
            <a:avLst/>
            <a:gdLst/>
            <a:ahLst/>
            <a:rect l="l" t="t" r="r" b="b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125"/>
          <p:cNvSpPr/>
          <p:nvPr/>
        </p:nvSpPr>
        <p:spPr>
          <a:xfrm>
            <a:off x="2854440" y="2195640"/>
            <a:ext cx="93600" cy="185760"/>
          </a:xfrm>
          <a:custGeom>
            <a:avLst/>
            <a:gdLst/>
            <a:ahLst/>
            <a:rect l="l" t="t" r="r" b="b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lnTo>
                  <a:pt x="42" y="2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129"/>
          <p:cNvSpPr/>
          <p:nvPr/>
        </p:nvSpPr>
        <p:spPr>
          <a:xfrm>
            <a:off x="2851200" y="3013200"/>
            <a:ext cx="382680" cy="141120"/>
          </a:xfrm>
          <a:custGeom>
            <a:avLst/>
            <a:gdLst/>
            <a:ahLst/>
            <a:rect l="l" t="t" r="r" b="b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130"/>
          <p:cNvSpPr/>
          <p:nvPr/>
        </p:nvSpPr>
        <p:spPr>
          <a:xfrm>
            <a:off x="2851200" y="3106800"/>
            <a:ext cx="382680" cy="137880"/>
          </a:xfrm>
          <a:custGeom>
            <a:avLst/>
            <a:gdLst/>
            <a:ahLst/>
            <a:rect l="l" t="t" r="r" b="b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131"/>
          <p:cNvSpPr/>
          <p:nvPr/>
        </p:nvSpPr>
        <p:spPr>
          <a:xfrm>
            <a:off x="2851200" y="2849400"/>
            <a:ext cx="382680" cy="216000"/>
          </a:xfrm>
          <a:custGeom>
            <a:avLst/>
            <a:gdLst/>
            <a:ahLst/>
            <a:rect l="l" t="t" r="r" b="b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141"/>
          <p:cNvSpPr/>
          <p:nvPr/>
        </p:nvSpPr>
        <p:spPr>
          <a:xfrm>
            <a:off x="1417680" y="2136600"/>
            <a:ext cx="250920" cy="284400"/>
          </a:xfrm>
          <a:custGeom>
            <a:avLst/>
            <a:gdLst/>
            <a:ahLst/>
            <a:rect l="l" t="t" r="r" b="b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42"/>
          <p:cNvSpPr/>
          <p:nvPr/>
        </p:nvSpPr>
        <p:spPr>
          <a:xfrm>
            <a:off x="1490760" y="2428920"/>
            <a:ext cx="104760" cy="38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143"/>
          <p:cNvSpPr/>
          <p:nvPr/>
        </p:nvSpPr>
        <p:spPr>
          <a:xfrm>
            <a:off x="1490760" y="2476440"/>
            <a:ext cx="104760" cy="33480"/>
          </a:xfrm>
          <a:custGeom>
            <a:avLst/>
            <a:gdLst/>
            <a:ahLst/>
            <a:rect l="l" t="t" r="r" b="b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44"/>
          <p:cNvSpPr/>
          <p:nvPr/>
        </p:nvSpPr>
        <p:spPr>
          <a:xfrm>
            <a:off x="1506600" y="2216160"/>
            <a:ext cx="74520" cy="146160"/>
          </a:xfrm>
          <a:custGeom>
            <a:avLst/>
            <a:gdLst/>
            <a:ahLst/>
            <a:rect l="l" t="t" r="r" b="b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58800" y="3781440"/>
            <a:ext cx="2360880" cy="1423800"/>
          </a:xfrm>
          <a:prstGeom prst="rect">
            <a:avLst/>
          </a:prstGeom>
          <a:ln w="0">
            <a:noFill/>
          </a:ln>
        </p:spPr>
      </p:pic>
      <p:sp>
        <p:nvSpPr>
          <p:cNvPr id="286" name="直角三角形 191"/>
          <p:cNvSpPr/>
          <p:nvPr/>
        </p:nvSpPr>
        <p:spPr>
          <a:xfrm>
            <a:off x="1914480" y="3932280"/>
            <a:ext cx="1617840" cy="104616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角三角形 192"/>
          <p:cNvSpPr/>
          <p:nvPr/>
        </p:nvSpPr>
        <p:spPr>
          <a:xfrm flipH="1" flipV="1">
            <a:off x="1923480" y="3936240"/>
            <a:ext cx="1608120" cy="10414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02"/>
          <p:cNvSpPr/>
          <p:nvPr/>
        </p:nvSpPr>
        <p:spPr>
          <a:xfrm>
            <a:off x="2752560" y="4489560"/>
            <a:ext cx="169920" cy="161640"/>
          </a:xfrm>
          <a:custGeom>
            <a:avLst/>
            <a:gdLst/>
            <a:ahLst/>
            <a:rect l="l" t="t" r="r" b="b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03"/>
          <p:cNvSpPr/>
          <p:nvPr/>
        </p:nvSpPr>
        <p:spPr>
          <a:xfrm>
            <a:off x="2763720" y="4275000"/>
            <a:ext cx="160560" cy="185760"/>
          </a:xfrm>
          <a:custGeom>
            <a:avLst/>
            <a:gdLst/>
            <a:ahLst/>
            <a:rect l="l" t="t" r="r" b="b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04"/>
          <p:cNvSpPr/>
          <p:nvPr/>
        </p:nvSpPr>
        <p:spPr>
          <a:xfrm>
            <a:off x="2562120" y="4276800"/>
            <a:ext cx="171720" cy="160200"/>
          </a:xfrm>
          <a:custGeom>
            <a:avLst/>
            <a:gdLst/>
            <a:ahLst/>
            <a:rect l="l" t="t" r="r" b="b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06"/>
          <p:cNvSpPr/>
          <p:nvPr/>
        </p:nvSpPr>
        <p:spPr>
          <a:xfrm>
            <a:off x="2562120" y="4464000"/>
            <a:ext cx="162000" cy="187200"/>
          </a:xfrm>
          <a:custGeom>
            <a:avLst/>
            <a:gdLst/>
            <a:ahLst/>
            <a:rect l="l" t="t" r="r" b="b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97"/>
          <p:cNvSpPr/>
          <p:nvPr/>
        </p:nvSpPr>
        <p:spPr>
          <a:xfrm>
            <a:off x="5464080" y="3568680"/>
            <a:ext cx="243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464080" y="33274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4" descr=""/>
          <p:cNvPicPr/>
          <p:nvPr/>
        </p:nvPicPr>
        <p:blipFill>
          <a:blip r:embed="rId1"/>
          <a:stretch/>
        </p:blipFill>
        <p:spPr>
          <a:xfrm>
            <a:off x="4454640" y="1400040"/>
            <a:ext cx="4689360" cy="5021280"/>
          </a:xfrm>
          <a:prstGeom prst="rect">
            <a:avLst/>
          </a:prstGeom>
          <a:ln w="0">
            <a:noFill/>
          </a:ln>
          <a:effectLst>
            <a:outerShdw dist="228554" dir="4679987" blurRad="0" rotWithShape="0">
              <a:srgbClr val="000000">
                <a:alpha val="11000"/>
              </a:srgbClr>
            </a:outerShdw>
          </a:effectLst>
        </p:spPr>
      </p:pic>
      <p:pic>
        <p:nvPicPr>
          <p:cNvPr id="295" name="图片占位符 5" descr=""/>
          <p:cNvPicPr/>
          <p:nvPr/>
        </p:nvPicPr>
        <p:blipFill>
          <a:blip r:embed="rId2"/>
          <a:stretch/>
        </p:blipFill>
        <p:spPr>
          <a:xfrm>
            <a:off x="5029200" y="1920960"/>
            <a:ext cx="1968480" cy="2060640"/>
          </a:xfrm>
          <a:prstGeom prst="rect">
            <a:avLst/>
          </a:prstGeom>
          <a:ln w="0">
            <a:noFill/>
          </a:ln>
        </p:spPr>
      </p:pic>
      <p:sp>
        <p:nvSpPr>
          <p:cNvPr id="296" name="直角三角形 3"/>
          <p:cNvSpPr/>
          <p:nvPr/>
        </p:nvSpPr>
        <p:spPr>
          <a:xfrm rot="21354600">
            <a:off x="5074920" y="1920960"/>
            <a:ext cx="1879560" cy="1890720"/>
          </a:xfrm>
          <a:custGeom>
            <a:avLst/>
            <a:gdLst/>
            <a:ahLst/>
            <a:rect l="l" t="t" r="r" b="b"/>
            <a:pathLst>
              <a:path w="2505824" h="2522400">
                <a:moveTo>
                  <a:pt x="0" y="168186"/>
                </a:moveTo>
                <a:lnTo>
                  <a:pt x="2505824" y="2522400"/>
                </a:lnTo>
                <a:lnTo>
                  <a:pt x="1335135" y="0"/>
                </a:lnTo>
                <a:lnTo>
                  <a:pt x="0" y="168186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角三角形 3"/>
          <p:cNvSpPr/>
          <p:nvPr/>
        </p:nvSpPr>
        <p:spPr>
          <a:xfrm>
            <a:off x="5024520" y="2119320"/>
            <a:ext cx="1981080" cy="1873080"/>
          </a:xfrm>
          <a:custGeom>
            <a:avLst/>
            <a:gdLst/>
            <a:ahLst/>
            <a:rect l="l" t="t" r="r" b="b"/>
            <a:pathLst>
              <a:path w="2639568" h="2498519">
                <a:moveTo>
                  <a:pt x="1347216" y="2498519"/>
                </a:moveTo>
                <a:lnTo>
                  <a:pt x="0" y="0"/>
                </a:lnTo>
                <a:lnTo>
                  <a:pt x="2639568" y="2144951"/>
                </a:lnTo>
                <a:lnTo>
                  <a:pt x="1347216" y="2498519"/>
                </a:lnTo>
                <a:close/>
              </a:path>
            </a:pathLst>
          </a:custGeom>
          <a:solidFill>
            <a:srgbClr val="f04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51"/>
          <p:cNvSpPr/>
          <p:nvPr/>
        </p:nvSpPr>
        <p:spPr>
          <a:xfrm>
            <a:off x="5813280" y="2747880"/>
            <a:ext cx="398520" cy="37332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774720" y="3095640"/>
            <a:ext cx="4044960" cy="19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1662120" y="2914560"/>
            <a:ext cx="2298600" cy="36036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317680" y="298116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6"/>
          <p:cNvSpPr/>
          <p:nvPr/>
        </p:nvSpPr>
        <p:spPr>
          <a:xfrm>
            <a:off x="1363680" y="3678120"/>
            <a:ext cx="30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304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"/>
          <p:cNvPicPr/>
          <p:nvPr/>
        </p:nvPicPr>
        <p:blipFill>
          <a:blip r:embed="rId1"/>
          <a:stretch/>
        </p:blipFill>
        <p:spPr>
          <a:xfrm>
            <a:off x="3560760" y="4273560"/>
            <a:ext cx="5065560" cy="2681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3989520" y="4332240"/>
            <a:ext cx="4251240" cy="1090800"/>
          </a:xfrm>
          <a:custGeom>
            <a:avLst/>
            <a:gdLst/>
            <a:ahLst/>
            <a:rect l="l" t="t" r="r" b="b"/>
            <a:pathLst>
              <a:path w="4991100" h="1740693">
                <a:moveTo>
                  <a:pt x="0" y="869156"/>
                </a:moveTo>
                <a:lnTo>
                  <a:pt x="2747963" y="0"/>
                </a:lnTo>
                <a:lnTo>
                  <a:pt x="4991100" y="557211"/>
                </a:lnTo>
                <a:lnTo>
                  <a:pt x="2333626" y="1740693"/>
                </a:lnTo>
                <a:lnTo>
                  <a:pt x="0" y="869156"/>
                </a:ln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Callout 31"/>
          <p:cNvSpPr/>
          <p:nvPr/>
        </p:nvSpPr>
        <p:spPr>
          <a:xfrm flipH="1">
            <a:off x="5050800" y="4056120"/>
            <a:ext cx="887400" cy="681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Callout 32"/>
          <p:cNvSpPr/>
          <p:nvPr/>
        </p:nvSpPr>
        <p:spPr>
          <a:xfrm>
            <a:off x="5994360" y="3716280"/>
            <a:ext cx="1309680" cy="959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Callout 33"/>
          <p:cNvSpPr/>
          <p:nvPr/>
        </p:nvSpPr>
        <p:spPr>
          <a:xfrm>
            <a:off x="7399440" y="4008600"/>
            <a:ext cx="860400" cy="556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Callout 35"/>
          <p:cNvSpPr/>
          <p:nvPr/>
        </p:nvSpPr>
        <p:spPr>
          <a:xfrm flipH="1">
            <a:off x="5050800" y="3014640"/>
            <a:ext cx="1276200" cy="80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Callout 36"/>
          <p:cNvSpPr/>
          <p:nvPr/>
        </p:nvSpPr>
        <p:spPr>
          <a:xfrm>
            <a:off x="619776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Callout 37"/>
          <p:cNvSpPr/>
          <p:nvPr/>
        </p:nvSpPr>
        <p:spPr>
          <a:xfrm>
            <a:off x="7018200" y="3014640"/>
            <a:ext cx="1090800" cy="847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Callout 38"/>
          <p:cNvSpPr/>
          <p:nvPr/>
        </p:nvSpPr>
        <p:spPr>
          <a:xfrm flipH="1">
            <a:off x="3998880" y="3495600"/>
            <a:ext cx="1116000" cy="736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Callout 39"/>
          <p:cNvSpPr/>
          <p:nvPr/>
        </p:nvSpPr>
        <p:spPr>
          <a:xfrm flipH="1">
            <a:off x="420948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11"/>
          <p:cNvSpPr/>
          <p:nvPr/>
        </p:nvSpPr>
        <p:spPr>
          <a:xfrm>
            <a:off x="7772400" y="4162320"/>
            <a:ext cx="115920" cy="25092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13"/>
          <p:cNvSpPr/>
          <p:nvPr/>
        </p:nvSpPr>
        <p:spPr>
          <a:xfrm>
            <a:off x="6465960" y="3997440"/>
            <a:ext cx="368280" cy="37152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4"/>
          <p:cNvSpPr/>
          <p:nvPr/>
        </p:nvSpPr>
        <p:spPr>
          <a:xfrm>
            <a:off x="5299200" y="4260960"/>
            <a:ext cx="392040" cy="27144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2"/>
          <p:cNvSpPr/>
          <p:nvPr/>
        </p:nvSpPr>
        <p:spPr>
          <a:xfrm>
            <a:off x="4317840" y="3768840"/>
            <a:ext cx="478080" cy="19044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6"/>
          <p:cNvSpPr/>
          <p:nvPr/>
        </p:nvSpPr>
        <p:spPr>
          <a:xfrm>
            <a:off x="5329080" y="3246480"/>
            <a:ext cx="720720" cy="323640"/>
          </a:xfrm>
          <a:custGeom>
            <a:avLst/>
            <a:gdLst/>
            <a:ahLst/>
            <a:rect l="l" t="t" r="r" b="b"/>
            <a:pathLst>
              <a:path w="3678" h="1647">
                <a:moveTo>
                  <a:pt x="2388" y="605"/>
                </a:moveTo>
                <a:lnTo>
                  <a:pt x="2397" y="605"/>
                </a:lnTo>
                <a:lnTo>
                  <a:pt x="2426" y="609"/>
                </a:lnTo>
                <a:lnTo>
                  <a:pt x="2452" y="617"/>
                </a:lnTo>
                <a:lnTo>
                  <a:pt x="2475" y="630"/>
                </a:lnTo>
                <a:lnTo>
                  <a:pt x="2495" y="651"/>
                </a:lnTo>
                <a:lnTo>
                  <a:pt x="2512" y="676"/>
                </a:lnTo>
                <a:lnTo>
                  <a:pt x="2527" y="706"/>
                </a:lnTo>
                <a:lnTo>
                  <a:pt x="2538" y="743"/>
                </a:lnTo>
                <a:lnTo>
                  <a:pt x="2546" y="785"/>
                </a:lnTo>
                <a:lnTo>
                  <a:pt x="2546" y="802"/>
                </a:lnTo>
                <a:lnTo>
                  <a:pt x="2544" y="838"/>
                </a:lnTo>
                <a:lnTo>
                  <a:pt x="2536" y="871"/>
                </a:lnTo>
                <a:lnTo>
                  <a:pt x="2523" y="902"/>
                </a:lnTo>
                <a:lnTo>
                  <a:pt x="2505" y="930"/>
                </a:lnTo>
                <a:lnTo>
                  <a:pt x="2483" y="955"/>
                </a:lnTo>
                <a:lnTo>
                  <a:pt x="2456" y="978"/>
                </a:lnTo>
                <a:lnTo>
                  <a:pt x="2424" y="987"/>
                </a:lnTo>
                <a:lnTo>
                  <a:pt x="2393" y="990"/>
                </a:lnTo>
                <a:lnTo>
                  <a:pt x="2365" y="988"/>
                </a:lnTo>
                <a:lnTo>
                  <a:pt x="2340" y="980"/>
                </a:lnTo>
                <a:lnTo>
                  <a:pt x="2316" y="967"/>
                </a:lnTo>
                <a:lnTo>
                  <a:pt x="2296" y="948"/>
                </a:lnTo>
                <a:lnTo>
                  <a:pt x="2279" y="923"/>
                </a:lnTo>
                <a:lnTo>
                  <a:pt x="2265" y="895"/>
                </a:lnTo>
                <a:lnTo>
                  <a:pt x="2253" y="860"/>
                </a:lnTo>
                <a:lnTo>
                  <a:pt x="2244" y="820"/>
                </a:lnTo>
                <a:lnTo>
                  <a:pt x="2244" y="785"/>
                </a:lnTo>
                <a:lnTo>
                  <a:pt x="2247" y="752"/>
                </a:lnTo>
                <a:lnTo>
                  <a:pt x="2252" y="721"/>
                </a:lnTo>
                <a:lnTo>
                  <a:pt x="2262" y="694"/>
                </a:lnTo>
                <a:lnTo>
                  <a:pt x="2276" y="670"/>
                </a:lnTo>
                <a:lnTo>
                  <a:pt x="2295" y="649"/>
                </a:lnTo>
                <a:lnTo>
                  <a:pt x="2316" y="630"/>
                </a:lnTo>
                <a:lnTo>
                  <a:pt x="2343" y="614"/>
                </a:lnTo>
                <a:lnTo>
                  <a:pt x="2367" y="608"/>
                </a:lnTo>
                <a:lnTo>
                  <a:pt x="2388" y="605"/>
                </a:lnTo>
                <a:close/>
                <a:moveTo>
                  <a:pt x="3058" y="592"/>
                </a:moveTo>
                <a:lnTo>
                  <a:pt x="3078" y="592"/>
                </a:lnTo>
                <a:lnTo>
                  <a:pt x="3105" y="594"/>
                </a:lnTo>
                <a:lnTo>
                  <a:pt x="3130" y="601"/>
                </a:lnTo>
                <a:lnTo>
                  <a:pt x="3153" y="613"/>
                </a:lnTo>
                <a:lnTo>
                  <a:pt x="3173" y="629"/>
                </a:lnTo>
                <a:lnTo>
                  <a:pt x="3191" y="651"/>
                </a:lnTo>
                <a:lnTo>
                  <a:pt x="3205" y="677"/>
                </a:lnTo>
                <a:lnTo>
                  <a:pt x="3218" y="708"/>
                </a:lnTo>
                <a:lnTo>
                  <a:pt x="3222" y="733"/>
                </a:lnTo>
                <a:lnTo>
                  <a:pt x="3221" y="735"/>
                </a:lnTo>
                <a:lnTo>
                  <a:pt x="2921" y="735"/>
                </a:lnTo>
                <a:lnTo>
                  <a:pt x="2916" y="730"/>
                </a:lnTo>
                <a:lnTo>
                  <a:pt x="2920" y="710"/>
                </a:lnTo>
                <a:lnTo>
                  <a:pt x="2929" y="686"/>
                </a:lnTo>
                <a:lnTo>
                  <a:pt x="2943" y="660"/>
                </a:lnTo>
                <a:lnTo>
                  <a:pt x="2965" y="630"/>
                </a:lnTo>
                <a:lnTo>
                  <a:pt x="2989" y="613"/>
                </a:lnTo>
                <a:lnTo>
                  <a:pt x="3013" y="601"/>
                </a:lnTo>
                <a:lnTo>
                  <a:pt x="3035" y="594"/>
                </a:lnTo>
                <a:lnTo>
                  <a:pt x="3058" y="592"/>
                </a:lnTo>
                <a:close/>
                <a:moveTo>
                  <a:pt x="592" y="447"/>
                </a:moveTo>
                <a:lnTo>
                  <a:pt x="542" y="449"/>
                </a:lnTo>
                <a:lnTo>
                  <a:pt x="496" y="455"/>
                </a:lnTo>
                <a:lnTo>
                  <a:pt x="455" y="465"/>
                </a:lnTo>
                <a:lnTo>
                  <a:pt x="417" y="478"/>
                </a:lnTo>
                <a:lnTo>
                  <a:pt x="383" y="495"/>
                </a:lnTo>
                <a:lnTo>
                  <a:pt x="354" y="517"/>
                </a:lnTo>
                <a:lnTo>
                  <a:pt x="328" y="542"/>
                </a:lnTo>
                <a:lnTo>
                  <a:pt x="308" y="571"/>
                </a:lnTo>
                <a:lnTo>
                  <a:pt x="290" y="604"/>
                </a:lnTo>
                <a:lnTo>
                  <a:pt x="282" y="660"/>
                </a:lnTo>
                <a:lnTo>
                  <a:pt x="286" y="692"/>
                </a:lnTo>
                <a:lnTo>
                  <a:pt x="295" y="720"/>
                </a:lnTo>
                <a:lnTo>
                  <a:pt x="310" y="747"/>
                </a:lnTo>
                <a:lnTo>
                  <a:pt x="332" y="771"/>
                </a:lnTo>
                <a:lnTo>
                  <a:pt x="360" y="794"/>
                </a:lnTo>
                <a:lnTo>
                  <a:pt x="394" y="814"/>
                </a:lnTo>
                <a:lnTo>
                  <a:pt x="435" y="833"/>
                </a:lnTo>
                <a:lnTo>
                  <a:pt x="480" y="848"/>
                </a:lnTo>
                <a:lnTo>
                  <a:pt x="528" y="864"/>
                </a:lnTo>
                <a:lnTo>
                  <a:pt x="568" y="879"/>
                </a:lnTo>
                <a:lnTo>
                  <a:pt x="600" y="892"/>
                </a:lnTo>
                <a:lnTo>
                  <a:pt x="627" y="903"/>
                </a:lnTo>
                <a:lnTo>
                  <a:pt x="647" y="912"/>
                </a:lnTo>
                <a:lnTo>
                  <a:pt x="661" y="921"/>
                </a:lnTo>
                <a:lnTo>
                  <a:pt x="669" y="928"/>
                </a:lnTo>
                <a:lnTo>
                  <a:pt x="672" y="940"/>
                </a:lnTo>
                <a:lnTo>
                  <a:pt x="672" y="948"/>
                </a:lnTo>
                <a:lnTo>
                  <a:pt x="670" y="963"/>
                </a:lnTo>
                <a:lnTo>
                  <a:pt x="663" y="976"/>
                </a:lnTo>
                <a:lnTo>
                  <a:pt x="651" y="985"/>
                </a:lnTo>
                <a:lnTo>
                  <a:pt x="635" y="990"/>
                </a:lnTo>
                <a:lnTo>
                  <a:pt x="614" y="995"/>
                </a:lnTo>
                <a:lnTo>
                  <a:pt x="588" y="996"/>
                </a:lnTo>
                <a:lnTo>
                  <a:pt x="559" y="994"/>
                </a:lnTo>
                <a:lnTo>
                  <a:pt x="526" y="988"/>
                </a:lnTo>
                <a:lnTo>
                  <a:pt x="491" y="977"/>
                </a:lnTo>
                <a:lnTo>
                  <a:pt x="452" y="962"/>
                </a:lnTo>
                <a:lnTo>
                  <a:pt x="410" y="943"/>
                </a:lnTo>
                <a:lnTo>
                  <a:pt x="392" y="938"/>
                </a:lnTo>
                <a:lnTo>
                  <a:pt x="376" y="936"/>
                </a:lnTo>
                <a:lnTo>
                  <a:pt x="364" y="935"/>
                </a:lnTo>
                <a:lnTo>
                  <a:pt x="347" y="935"/>
                </a:lnTo>
                <a:lnTo>
                  <a:pt x="323" y="937"/>
                </a:lnTo>
                <a:lnTo>
                  <a:pt x="302" y="946"/>
                </a:lnTo>
                <a:lnTo>
                  <a:pt x="283" y="960"/>
                </a:lnTo>
                <a:lnTo>
                  <a:pt x="269" y="979"/>
                </a:lnTo>
                <a:lnTo>
                  <a:pt x="256" y="1003"/>
                </a:lnTo>
                <a:lnTo>
                  <a:pt x="254" y="1013"/>
                </a:lnTo>
                <a:lnTo>
                  <a:pt x="256" y="1035"/>
                </a:lnTo>
                <a:lnTo>
                  <a:pt x="267" y="1054"/>
                </a:lnTo>
                <a:lnTo>
                  <a:pt x="282" y="1072"/>
                </a:lnTo>
                <a:lnTo>
                  <a:pt x="305" y="1089"/>
                </a:lnTo>
                <a:lnTo>
                  <a:pt x="334" y="1105"/>
                </a:lnTo>
                <a:lnTo>
                  <a:pt x="368" y="1120"/>
                </a:lnTo>
                <a:lnTo>
                  <a:pt x="410" y="1132"/>
                </a:lnTo>
                <a:lnTo>
                  <a:pt x="458" y="1144"/>
                </a:lnTo>
                <a:lnTo>
                  <a:pt x="512" y="1155"/>
                </a:lnTo>
                <a:lnTo>
                  <a:pt x="562" y="1157"/>
                </a:lnTo>
                <a:lnTo>
                  <a:pt x="576" y="1157"/>
                </a:lnTo>
                <a:lnTo>
                  <a:pt x="623" y="1155"/>
                </a:lnTo>
                <a:lnTo>
                  <a:pt x="668" y="1149"/>
                </a:lnTo>
                <a:lnTo>
                  <a:pt x="709" y="1139"/>
                </a:lnTo>
                <a:lnTo>
                  <a:pt x="747" y="1126"/>
                </a:lnTo>
                <a:lnTo>
                  <a:pt x="782" y="1107"/>
                </a:lnTo>
                <a:lnTo>
                  <a:pt x="813" y="1085"/>
                </a:lnTo>
                <a:lnTo>
                  <a:pt x="841" y="1059"/>
                </a:lnTo>
                <a:lnTo>
                  <a:pt x="866" y="1029"/>
                </a:lnTo>
                <a:lnTo>
                  <a:pt x="878" y="998"/>
                </a:lnTo>
                <a:lnTo>
                  <a:pt x="886" y="969"/>
                </a:lnTo>
                <a:lnTo>
                  <a:pt x="888" y="939"/>
                </a:lnTo>
                <a:lnTo>
                  <a:pt x="885" y="909"/>
                </a:lnTo>
                <a:lnTo>
                  <a:pt x="876" y="880"/>
                </a:lnTo>
                <a:lnTo>
                  <a:pt x="860" y="854"/>
                </a:lnTo>
                <a:lnTo>
                  <a:pt x="838" y="830"/>
                </a:lnTo>
                <a:lnTo>
                  <a:pt x="810" y="809"/>
                </a:lnTo>
                <a:lnTo>
                  <a:pt x="775" y="788"/>
                </a:lnTo>
                <a:lnTo>
                  <a:pt x="735" y="770"/>
                </a:lnTo>
                <a:lnTo>
                  <a:pt x="688" y="754"/>
                </a:lnTo>
                <a:lnTo>
                  <a:pt x="643" y="739"/>
                </a:lnTo>
                <a:lnTo>
                  <a:pt x="605" y="726"/>
                </a:lnTo>
                <a:lnTo>
                  <a:pt x="572" y="713"/>
                </a:lnTo>
                <a:lnTo>
                  <a:pt x="545" y="702"/>
                </a:lnTo>
                <a:lnTo>
                  <a:pt x="525" y="693"/>
                </a:lnTo>
                <a:lnTo>
                  <a:pt x="511" y="684"/>
                </a:lnTo>
                <a:lnTo>
                  <a:pt x="503" y="677"/>
                </a:lnTo>
                <a:lnTo>
                  <a:pt x="497" y="660"/>
                </a:lnTo>
                <a:lnTo>
                  <a:pt x="497" y="653"/>
                </a:lnTo>
                <a:lnTo>
                  <a:pt x="504" y="637"/>
                </a:lnTo>
                <a:lnTo>
                  <a:pt x="513" y="625"/>
                </a:lnTo>
                <a:lnTo>
                  <a:pt x="528" y="616"/>
                </a:lnTo>
                <a:lnTo>
                  <a:pt x="545" y="610"/>
                </a:lnTo>
                <a:lnTo>
                  <a:pt x="567" y="609"/>
                </a:lnTo>
                <a:lnTo>
                  <a:pt x="579" y="609"/>
                </a:lnTo>
                <a:lnTo>
                  <a:pt x="595" y="610"/>
                </a:lnTo>
                <a:lnTo>
                  <a:pt x="615" y="613"/>
                </a:lnTo>
                <a:lnTo>
                  <a:pt x="638" y="619"/>
                </a:lnTo>
                <a:lnTo>
                  <a:pt x="668" y="628"/>
                </a:lnTo>
                <a:lnTo>
                  <a:pt x="699" y="638"/>
                </a:lnTo>
                <a:lnTo>
                  <a:pt x="736" y="652"/>
                </a:lnTo>
                <a:lnTo>
                  <a:pt x="756" y="658"/>
                </a:lnTo>
                <a:lnTo>
                  <a:pt x="774" y="660"/>
                </a:lnTo>
                <a:lnTo>
                  <a:pt x="785" y="660"/>
                </a:lnTo>
                <a:lnTo>
                  <a:pt x="805" y="658"/>
                </a:lnTo>
                <a:lnTo>
                  <a:pt x="823" y="651"/>
                </a:lnTo>
                <a:lnTo>
                  <a:pt x="838" y="639"/>
                </a:lnTo>
                <a:lnTo>
                  <a:pt x="851" y="622"/>
                </a:lnTo>
                <a:lnTo>
                  <a:pt x="862" y="602"/>
                </a:lnTo>
                <a:lnTo>
                  <a:pt x="867" y="585"/>
                </a:lnTo>
                <a:lnTo>
                  <a:pt x="867" y="580"/>
                </a:lnTo>
                <a:lnTo>
                  <a:pt x="864" y="559"/>
                </a:lnTo>
                <a:lnTo>
                  <a:pt x="856" y="539"/>
                </a:lnTo>
                <a:lnTo>
                  <a:pt x="841" y="521"/>
                </a:lnTo>
                <a:lnTo>
                  <a:pt x="821" y="505"/>
                </a:lnTo>
                <a:lnTo>
                  <a:pt x="795" y="492"/>
                </a:lnTo>
                <a:lnTo>
                  <a:pt x="763" y="478"/>
                </a:lnTo>
                <a:lnTo>
                  <a:pt x="726" y="467"/>
                </a:lnTo>
                <a:lnTo>
                  <a:pt x="682" y="458"/>
                </a:lnTo>
                <a:lnTo>
                  <a:pt x="633" y="450"/>
                </a:lnTo>
                <a:lnTo>
                  <a:pt x="592" y="447"/>
                </a:lnTo>
                <a:close/>
                <a:moveTo>
                  <a:pt x="3496" y="433"/>
                </a:moveTo>
                <a:lnTo>
                  <a:pt x="3496" y="525"/>
                </a:lnTo>
                <a:lnTo>
                  <a:pt x="3500" y="528"/>
                </a:lnTo>
                <a:lnTo>
                  <a:pt x="3515" y="528"/>
                </a:lnTo>
                <a:lnTo>
                  <a:pt x="3515" y="459"/>
                </a:lnTo>
                <a:lnTo>
                  <a:pt x="3519" y="459"/>
                </a:lnTo>
                <a:lnTo>
                  <a:pt x="3524" y="484"/>
                </a:lnTo>
                <a:lnTo>
                  <a:pt x="3527" y="503"/>
                </a:lnTo>
                <a:lnTo>
                  <a:pt x="3530" y="518"/>
                </a:lnTo>
                <a:lnTo>
                  <a:pt x="3534" y="526"/>
                </a:lnTo>
                <a:lnTo>
                  <a:pt x="3536" y="528"/>
                </a:lnTo>
                <a:lnTo>
                  <a:pt x="3553" y="528"/>
                </a:lnTo>
                <a:lnTo>
                  <a:pt x="3568" y="454"/>
                </a:lnTo>
                <a:lnTo>
                  <a:pt x="3572" y="454"/>
                </a:lnTo>
                <a:lnTo>
                  <a:pt x="3572" y="528"/>
                </a:lnTo>
                <a:lnTo>
                  <a:pt x="3588" y="528"/>
                </a:lnTo>
                <a:lnTo>
                  <a:pt x="3588" y="433"/>
                </a:lnTo>
                <a:lnTo>
                  <a:pt x="3564" y="433"/>
                </a:lnTo>
                <a:lnTo>
                  <a:pt x="3562" y="436"/>
                </a:lnTo>
                <a:lnTo>
                  <a:pt x="3558" y="444"/>
                </a:lnTo>
                <a:lnTo>
                  <a:pt x="3555" y="458"/>
                </a:lnTo>
                <a:lnTo>
                  <a:pt x="3549" y="478"/>
                </a:lnTo>
                <a:lnTo>
                  <a:pt x="3544" y="503"/>
                </a:lnTo>
                <a:lnTo>
                  <a:pt x="3539" y="503"/>
                </a:lnTo>
                <a:lnTo>
                  <a:pt x="3526" y="433"/>
                </a:lnTo>
                <a:lnTo>
                  <a:pt x="3496" y="433"/>
                </a:lnTo>
                <a:close/>
                <a:moveTo>
                  <a:pt x="3407" y="433"/>
                </a:moveTo>
                <a:lnTo>
                  <a:pt x="3407" y="447"/>
                </a:lnTo>
                <a:lnTo>
                  <a:pt x="3433" y="447"/>
                </a:lnTo>
                <a:lnTo>
                  <a:pt x="3437" y="451"/>
                </a:lnTo>
                <a:lnTo>
                  <a:pt x="3437" y="528"/>
                </a:lnTo>
                <a:lnTo>
                  <a:pt x="3455" y="528"/>
                </a:lnTo>
                <a:lnTo>
                  <a:pt x="3455" y="451"/>
                </a:lnTo>
                <a:lnTo>
                  <a:pt x="3460" y="447"/>
                </a:lnTo>
                <a:lnTo>
                  <a:pt x="3484" y="447"/>
                </a:lnTo>
                <a:lnTo>
                  <a:pt x="3484" y="433"/>
                </a:lnTo>
                <a:lnTo>
                  <a:pt x="3407" y="433"/>
                </a:lnTo>
                <a:close/>
                <a:moveTo>
                  <a:pt x="988" y="176"/>
                </a:moveTo>
                <a:lnTo>
                  <a:pt x="964" y="178"/>
                </a:lnTo>
                <a:lnTo>
                  <a:pt x="943" y="185"/>
                </a:lnTo>
                <a:lnTo>
                  <a:pt x="926" y="198"/>
                </a:lnTo>
                <a:lnTo>
                  <a:pt x="911" y="215"/>
                </a:lnTo>
                <a:lnTo>
                  <a:pt x="899" y="237"/>
                </a:lnTo>
                <a:lnTo>
                  <a:pt x="894" y="253"/>
                </a:lnTo>
                <a:lnTo>
                  <a:pt x="893" y="270"/>
                </a:lnTo>
                <a:lnTo>
                  <a:pt x="893" y="1073"/>
                </a:lnTo>
                <a:lnTo>
                  <a:pt x="898" y="1102"/>
                </a:lnTo>
                <a:lnTo>
                  <a:pt x="908" y="1124"/>
                </a:lnTo>
                <a:lnTo>
                  <a:pt x="921" y="1143"/>
                </a:lnTo>
                <a:lnTo>
                  <a:pt x="937" y="1156"/>
                </a:lnTo>
                <a:lnTo>
                  <a:pt x="958" y="1163"/>
                </a:lnTo>
                <a:lnTo>
                  <a:pt x="981" y="1167"/>
                </a:lnTo>
                <a:lnTo>
                  <a:pt x="990" y="1168"/>
                </a:lnTo>
                <a:lnTo>
                  <a:pt x="1015" y="1165"/>
                </a:lnTo>
                <a:lnTo>
                  <a:pt x="1037" y="1157"/>
                </a:lnTo>
                <a:lnTo>
                  <a:pt x="1055" y="1144"/>
                </a:lnTo>
                <a:lnTo>
                  <a:pt x="1070" y="1126"/>
                </a:lnTo>
                <a:lnTo>
                  <a:pt x="1081" y="1102"/>
                </a:lnTo>
                <a:lnTo>
                  <a:pt x="1084" y="1092"/>
                </a:lnTo>
                <a:lnTo>
                  <a:pt x="1086" y="1078"/>
                </a:lnTo>
                <a:lnTo>
                  <a:pt x="1086" y="1061"/>
                </a:lnTo>
                <a:lnTo>
                  <a:pt x="1086" y="918"/>
                </a:lnTo>
                <a:lnTo>
                  <a:pt x="1092" y="913"/>
                </a:lnTo>
                <a:lnTo>
                  <a:pt x="1101" y="905"/>
                </a:lnTo>
                <a:lnTo>
                  <a:pt x="1114" y="895"/>
                </a:lnTo>
                <a:lnTo>
                  <a:pt x="1131" y="881"/>
                </a:lnTo>
                <a:lnTo>
                  <a:pt x="1154" y="865"/>
                </a:lnTo>
                <a:lnTo>
                  <a:pt x="1332" y="1123"/>
                </a:lnTo>
                <a:lnTo>
                  <a:pt x="1356" y="1146"/>
                </a:lnTo>
                <a:lnTo>
                  <a:pt x="1379" y="1162"/>
                </a:lnTo>
                <a:lnTo>
                  <a:pt x="1400" y="1171"/>
                </a:lnTo>
                <a:lnTo>
                  <a:pt x="1419" y="1174"/>
                </a:lnTo>
                <a:lnTo>
                  <a:pt x="1429" y="1174"/>
                </a:lnTo>
                <a:lnTo>
                  <a:pt x="1449" y="1173"/>
                </a:lnTo>
                <a:lnTo>
                  <a:pt x="1467" y="1167"/>
                </a:lnTo>
                <a:lnTo>
                  <a:pt x="1482" y="1156"/>
                </a:lnTo>
                <a:lnTo>
                  <a:pt x="1495" y="1143"/>
                </a:lnTo>
                <a:lnTo>
                  <a:pt x="1505" y="1124"/>
                </a:lnTo>
                <a:lnTo>
                  <a:pt x="1514" y="1102"/>
                </a:lnTo>
                <a:lnTo>
                  <a:pt x="1516" y="1089"/>
                </a:lnTo>
                <a:lnTo>
                  <a:pt x="1514" y="1072"/>
                </a:lnTo>
                <a:lnTo>
                  <a:pt x="1506" y="1053"/>
                </a:lnTo>
                <a:lnTo>
                  <a:pt x="1494" y="1030"/>
                </a:lnTo>
                <a:lnTo>
                  <a:pt x="1477" y="1005"/>
                </a:lnTo>
                <a:lnTo>
                  <a:pt x="1455" y="978"/>
                </a:lnTo>
                <a:lnTo>
                  <a:pt x="1297" y="743"/>
                </a:lnTo>
                <a:lnTo>
                  <a:pt x="1327" y="705"/>
                </a:lnTo>
                <a:lnTo>
                  <a:pt x="1355" y="672"/>
                </a:lnTo>
                <a:lnTo>
                  <a:pt x="1379" y="644"/>
                </a:lnTo>
                <a:lnTo>
                  <a:pt x="1399" y="620"/>
                </a:lnTo>
                <a:lnTo>
                  <a:pt x="1415" y="602"/>
                </a:lnTo>
                <a:lnTo>
                  <a:pt x="1427" y="587"/>
                </a:lnTo>
                <a:lnTo>
                  <a:pt x="1437" y="578"/>
                </a:lnTo>
                <a:lnTo>
                  <a:pt x="1440" y="578"/>
                </a:lnTo>
                <a:lnTo>
                  <a:pt x="1670" y="1209"/>
                </a:lnTo>
                <a:lnTo>
                  <a:pt x="1670" y="1215"/>
                </a:lnTo>
                <a:lnTo>
                  <a:pt x="1668" y="1229"/>
                </a:lnTo>
                <a:lnTo>
                  <a:pt x="1659" y="1241"/>
                </a:lnTo>
                <a:lnTo>
                  <a:pt x="1643" y="1254"/>
                </a:lnTo>
                <a:lnTo>
                  <a:pt x="1623" y="1265"/>
                </a:lnTo>
                <a:lnTo>
                  <a:pt x="1597" y="1262"/>
                </a:lnTo>
                <a:lnTo>
                  <a:pt x="1569" y="1262"/>
                </a:lnTo>
                <a:lnTo>
                  <a:pt x="1547" y="1264"/>
                </a:lnTo>
                <a:lnTo>
                  <a:pt x="1529" y="1272"/>
                </a:lnTo>
                <a:lnTo>
                  <a:pt x="1513" y="1284"/>
                </a:lnTo>
                <a:lnTo>
                  <a:pt x="1501" y="1301"/>
                </a:lnTo>
                <a:lnTo>
                  <a:pt x="1493" y="1322"/>
                </a:lnTo>
                <a:lnTo>
                  <a:pt x="1493" y="1351"/>
                </a:lnTo>
                <a:lnTo>
                  <a:pt x="1495" y="1372"/>
                </a:lnTo>
                <a:lnTo>
                  <a:pt x="1503" y="1390"/>
                </a:lnTo>
                <a:lnTo>
                  <a:pt x="1515" y="1406"/>
                </a:lnTo>
                <a:lnTo>
                  <a:pt x="1532" y="1419"/>
                </a:lnTo>
                <a:lnTo>
                  <a:pt x="1555" y="1429"/>
                </a:lnTo>
                <a:lnTo>
                  <a:pt x="1598" y="1437"/>
                </a:lnTo>
                <a:lnTo>
                  <a:pt x="1637" y="1435"/>
                </a:lnTo>
                <a:lnTo>
                  <a:pt x="1673" y="1427"/>
                </a:lnTo>
                <a:lnTo>
                  <a:pt x="1705" y="1415"/>
                </a:lnTo>
                <a:lnTo>
                  <a:pt x="1733" y="1399"/>
                </a:lnTo>
                <a:lnTo>
                  <a:pt x="1756" y="1378"/>
                </a:lnTo>
                <a:lnTo>
                  <a:pt x="1776" y="1353"/>
                </a:lnTo>
                <a:lnTo>
                  <a:pt x="1793" y="1322"/>
                </a:lnTo>
                <a:lnTo>
                  <a:pt x="2047" y="635"/>
                </a:lnTo>
                <a:lnTo>
                  <a:pt x="2051" y="635"/>
                </a:lnTo>
                <a:lnTo>
                  <a:pt x="2051" y="1327"/>
                </a:lnTo>
                <a:lnTo>
                  <a:pt x="2053" y="1352"/>
                </a:lnTo>
                <a:lnTo>
                  <a:pt x="2059" y="1373"/>
                </a:lnTo>
                <a:lnTo>
                  <a:pt x="2068" y="1391"/>
                </a:lnTo>
                <a:lnTo>
                  <a:pt x="2080" y="1407"/>
                </a:lnTo>
                <a:lnTo>
                  <a:pt x="2096" y="1419"/>
                </a:lnTo>
                <a:lnTo>
                  <a:pt x="2116" y="1428"/>
                </a:lnTo>
                <a:lnTo>
                  <a:pt x="2138" y="1433"/>
                </a:lnTo>
                <a:lnTo>
                  <a:pt x="2148" y="1433"/>
                </a:lnTo>
                <a:lnTo>
                  <a:pt x="2172" y="1431"/>
                </a:lnTo>
                <a:lnTo>
                  <a:pt x="2192" y="1423"/>
                </a:lnTo>
                <a:lnTo>
                  <a:pt x="2210" y="1411"/>
                </a:lnTo>
                <a:lnTo>
                  <a:pt x="2225" y="1393"/>
                </a:lnTo>
                <a:lnTo>
                  <a:pt x="2237" y="1370"/>
                </a:lnTo>
                <a:lnTo>
                  <a:pt x="2242" y="1341"/>
                </a:lnTo>
                <a:lnTo>
                  <a:pt x="2244" y="1307"/>
                </a:lnTo>
                <a:lnTo>
                  <a:pt x="2244" y="1103"/>
                </a:lnTo>
                <a:lnTo>
                  <a:pt x="2248" y="1099"/>
                </a:lnTo>
                <a:lnTo>
                  <a:pt x="2280" y="1122"/>
                </a:lnTo>
                <a:lnTo>
                  <a:pt x="2313" y="1140"/>
                </a:lnTo>
                <a:lnTo>
                  <a:pt x="2348" y="1153"/>
                </a:lnTo>
                <a:lnTo>
                  <a:pt x="2384" y="1161"/>
                </a:lnTo>
                <a:lnTo>
                  <a:pt x="2421" y="1163"/>
                </a:lnTo>
                <a:lnTo>
                  <a:pt x="2466" y="1161"/>
                </a:lnTo>
                <a:lnTo>
                  <a:pt x="2509" y="1152"/>
                </a:lnTo>
                <a:lnTo>
                  <a:pt x="2548" y="1136"/>
                </a:lnTo>
                <a:lnTo>
                  <a:pt x="2584" y="1114"/>
                </a:lnTo>
                <a:lnTo>
                  <a:pt x="2619" y="1087"/>
                </a:lnTo>
                <a:lnTo>
                  <a:pt x="2650" y="1054"/>
                </a:lnTo>
                <a:lnTo>
                  <a:pt x="2679" y="1014"/>
                </a:lnTo>
                <a:lnTo>
                  <a:pt x="2705" y="969"/>
                </a:lnTo>
                <a:lnTo>
                  <a:pt x="2731" y="887"/>
                </a:lnTo>
                <a:lnTo>
                  <a:pt x="2732" y="887"/>
                </a:lnTo>
                <a:lnTo>
                  <a:pt x="2746" y="931"/>
                </a:lnTo>
                <a:lnTo>
                  <a:pt x="2762" y="971"/>
                </a:lnTo>
                <a:lnTo>
                  <a:pt x="2782" y="1006"/>
                </a:lnTo>
                <a:lnTo>
                  <a:pt x="2803" y="1037"/>
                </a:lnTo>
                <a:lnTo>
                  <a:pt x="2828" y="1064"/>
                </a:lnTo>
                <a:lnTo>
                  <a:pt x="2855" y="1086"/>
                </a:lnTo>
                <a:lnTo>
                  <a:pt x="2887" y="1110"/>
                </a:lnTo>
                <a:lnTo>
                  <a:pt x="2923" y="1129"/>
                </a:lnTo>
                <a:lnTo>
                  <a:pt x="2960" y="1144"/>
                </a:lnTo>
                <a:lnTo>
                  <a:pt x="3000" y="1155"/>
                </a:lnTo>
                <a:lnTo>
                  <a:pt x="3042" y="1161"/>
                </a:lnTo>
                <a:lnTo>
                  <a:pt x="3086" y="1163"/>
                </a:lnTo>
                <a:lnTo>
                  <a:pt x="3142" y="1160"/>
                </a:lnTo>
                <a:lnTo>
                  <a:pt x="3196" y="1149"/>
                </a:lnTo>
                <a:lnTo>
                  <a:pt x="3251" y="1132"/>
                </a:lnTo>
                <a:lnTo>
                  <a:pt x="3304" y="1109"/>
                </a:lnTo>
                <a:lnTo>
                  <a:pt x="3357" y="1078"/>
                </a:lnTo>
                <a:lnTo>
                  <a:pt x="3376" y="1057"/>
                </a:lnTo>
                <a:lnTo>
                  <a:pt x="3389" y="1039"/>
                </a:lnTo>
                <a:lnTo>
                  <a:pt x="3397" y="1021"/>
                </a:lnTo>
                <a:lnTo>
                  <a:pt x="3400" y="1003"/>
                </a:lnTo>
                <a:lnTo>
                  <a:pt x="3397" y="982"/>
                </a:lnTo>
                <a:lnTo>
                  <a:pt x="3390" y="964"/>
                </a:lnTo>
                <a:lnTo>
                  <a:pt x="3377" y="948"/>
                </a:lnTo>
                <a:lnTo>
                  <a:pt x="3359" y="935"/>
                </a:lnTo>
                <a:lnTo>
                  <a:pt x="3335" y="923"/>
                </a:lnTo>
                <a:lnTo>
                  <a:pt x="3323" y="922"/>
                </a:lnTo>
                <a:lnTo>
                  <a:pt x="3314" y="923"/>
                </a:lnTo>
                <a:lnTo>
                  <a:pt x="3302" y="927"/>
                </a:lnTo>
                <a:lnTo>
                  <a:pt x="3285" y="934"/>
                </a:lnTo>
                <a:lnTo>
                  <a:pt x="3263" y="943"/>
                </a:lnTo>
                <a:lnTo>
                  <a:pt x="3237" y="954"/>
                </a:lnTo>
                <a:lnTo>
                  <a:pt x="3207" y="969"/>
                </a:lnTo>
                <a:lnTo>
                  <a:pt x="3172" y="986"/>
                </a:lnTo>
                <a:lnTo>
                  <a:pt x="3163" y="990"/>
                </a:lnTo>
                <a:lnTo>
                  <a:pt x="3148" y="994"/>
                </a:lnTo>
                <a:lnTo>
                  <a:pt x="3128" y="996"/>
                </a:lnTo>
                <a:lnTo>
                  <a:pt x="3102" y="1000"/>
                </a:lnTo>
                <a:lnTo>
                  <a:pt x="3095" y="996"/>
                </a:lnTo>
                <a:lnTo>
                  <a:pt x="3086" y="996"/>
                </a:lnTo>
                <a:lnTo>
                  <a:pt x="3053" y="994"/>
                </a:lnTo>
                <a:lnTo>
                  <a:pt x="3023" y="986"/>
                </a:lnTo>
                <a:lnTo>
                  <a:pt x="2995" y="972"/>
                </a:lnTo>
                <a:lnTo>
                  <a:pt x="2969" y="954"/>
                </a:lnTo>
                <a:lnTo>
                  <a:pt x="2947" y="930"/>
                </a:lnTo>
                <a:lnTo>
                  <a:pt x="2936" y="911"/>
                </a:lnTo>
                <a:lnTo>
                  <a:pt x="2928" y="893"/>
                </a:lnTo>
                <a:lnTo>
                  <a:pt x="2922" y="877"/>
                </a:lnTo>
                <a:lnTo>
                  <a:pt x="2921" y="863"/>
                </a:lnTo>
                <a:lnTo>
                  <a:pt x="2922" y="862"/>
                </a:lnTo>
                <a:lnTo>
                  <a:pt x="3323" y="862"/>
                </a:lnTo>
                <a:lnTo>
                  <a:pt x="3348" y="860"/>
                </a:lnTo>
                <a:lnTo>
                  <a:pt x="3368" y="855"/>
                </a:lnTo>
                <a:lnTo>
                  <a:pt x="3386" y="847"/>
                </a:lnTo>
                <a:lnTo>
                  <a:pt x="3398" y="835"/>
                </a:lnTo>
                <a:lnTo>
                  <a:pt x="3408" y="820"/>
                </a:lnTo>
                <a:lnTo>
                  <a:pt x="3414" y="802"/>
                </a:lnTo>
                <a:lnTo>
                  <a:pt x="3416" y="780"/>
                </a:lnTo>
                <a:lnTo>
                  <a:pt x="3416" y="777"/>
                </a:lnTo>
                <a:lnTo>
                  <a:pt x="3413" y="734"/>
                </a:lnTo>
                <a:lnTo>
                  <a:pt x="3404" y="691"/>
                </a:lnTo>
                <a:lnTo>
                  <a:pt x="3389" y="650"/>
                </a:lnTo>
                <a:lnTo>
                  <a:pt x="3368" y="610"/>
                </a:lnTo>
                <a:lnTo>
                  <a:pt x="3341" y="571"/>
                </a:lnTo>
                <a:lnTo>
                  <a:pt x="3307" y="534"/>
                </a:lnTo>
                <a:lnTo>
                  <a:pt x="3269" y="499"/>
                </a:lnTo>
                <a:lnTo>
                  <a:pt x="3231" y="476"/>
                </a:lnTo>
                <a:lnTo>
                  <a:pt x="3193" y="458"/>
                </a:lnTo>
                <a:lnTo>
                  <a:pt x="3158" y="444"/>
                </a:lnTo>
                <a:lnTo>
                  <a:pt x="3124" y="437"/>
                </a:lnTo>
                <a:lnTo>
                  <a:pt x="3090" y="434"/>
                </a:lnTo>
                <a:lnTo>
                  <a:pt x="3078" y="434"/>
                </a:lnTo>
                <a:lnTo>
                  <a:pt x="3069" y="433"/>
                </a:lnTo>
                <a:lnTo>
                  <a:pt x="3060" y="434"/>
                </a:lnTo>
                <a:lnTo>
                  <a:pt x="3049" y="434"/>
                </a:lnTo>
                <a:lnTo>
                  <a:pt x="3004" y="438"/>
                </a:lnTo>
                <a:lnTo>
                  <a:pt x="2958" y="451"/>
                </a:lnTo>
                <a:lnTo>
                  <a:pt x="2913" y="472"/>
                </a:lnTo>
                <a:lnTo>
                  <a:pt x="2868" y="502"/>
                </a:lnTo>
                <a:lnTo>
                  <a:pt x="2824" y="539"/>
                </a:lnTo>
                <a:lnTo>
                  <a:pt x="2791" y="582"/>
                </a:lnTo>
                <a:lnTo>
                  <a:pt x="2765" y="625"/>
                </a:lnTo>
                <a:lnTo>
                  <a:pt x="2745" y="669"/>
                </a:lnTo>
                <a:lnTo>
                  <a:pt x="2732" y="716"/>
                </a:lnTo>
                <a:lnTo>
                  <a:pt x="2731" y="716"/>
                </a:lnTo>
                <a:lnTo>
                  <a:pt x="2716" y="664"/>
                </a:lnTo>
                <a:lnTo>
                  <a:pt x="2698" y="618"/>
                </a:lnTo>
                <a:lnTo>
                  <a:pt x="2677" y="577"/>
                </a:lnTo>
                <a:lnTo>
                  <a:pt x="2652" y="541"/>
                </a:lnTo>
                <a:lnTo>
                  <a:pt x="2625" y="510"/>
                </a:lnTo>
                <a:lnTo>
                  <a:pt x="2591" y="483"/>
                </a:lnTo>
                <a:lnTo>
                  <a:pt x="2555" y="461"/>
                </a:lnTo>
                <a:lnTo>
                  <a:pt x="2518" y="446"/>
                </a:lnTo>
                <a:lnTo>
                  <a:pt x="2479" y="437"/>
                </a:lnTo>
                <a:lnTo>
                  <a:pt x="2438" y="434"/>
                </a:lnTo>
                <a:lnTo>
                  <a:pt x="2430" y="434"/>
                </a:lnTo>
                <a:lnTo>
                  <a:pt x="2427" y="433"/>
                </a:lnTo>
                <a:lnTo>
                  <a:pt x="2426" y="434"/>
                </a:lnTo>
                <a:lnTo>
                  <a:pt x="2415" y="434"/>
                </a:lnTo>
                <a:lnTo>
                  <a:pt x="2381" y="436"/>
                </a:lnTo>
                <a:lnTo>
                  <a:pt x="2349" y="444"/>
                </a:lnTo>
                <a:lnTo>
                  <a:pt x="2320" y="455"/>
                </a:lnTo>
                <a:lnTo>
                  <a:pt x="2292" y="471"/>
                </a:lnTo>
                <a:lnTo>
                  <a:pt x="2267" y="493"/>
                </a:lnTo>
                <a:lnTo>
                  <a:pt x="2244" y="519"/>
                </a:lnTo>
                <a:lnTo>
                  <a:pt x="2234" y="495"/>
                </a:lnTo>
                <a:lnTo>
                  <a:pt x="2223" y="476"/>
                </a:lnTo>
                <a:lnTo>
                  <a:pt x="2210" y="461"/>
                </a:lnTo>
                <a:lnTo>
                  <a:pt x="2195" y="451"/>
                </a:lnTo>
                <a:lnTo>
                  <a:pt x="2172" y="444"/>
                </a:lnTo>
                <a:lnTo>
                  <a:pt x="2147" y="442"/>
                </a:lnTo>
                <a:lnTo>
                  <a:pt x="2122" y="445"/>
                </a:lnTo>
                <a:lnTo>
                  <a:pt x="2098" y="454"/>
                </a:lnTo>
                <a:lnTo>
                  <a:pt x="2075" y="471"/>
                </a:lnTo>
                <a:lnTo>
                  <a:pt x="2072" y="471"/>
                </a:lnTo>
                <a:lnTo>
                  <a:pt x="2054" y="453"/>
                </a:lnTo>
                <a:lnTo>
                  <a:pt x="2035" y="440"/>
                </a:lnTo>
                <a:lnTo>
                  <a:pt x="2016" y="432"/>
                </a:lnTo>
                <a:lnTo>
                  <a:pt x="1996" y="428"/>
                </a:lnTo>
                <a:lnTo>
                  <a:pt x="1984" y="428"/>
                </a:lnTo>
                <a:lnTo>
                  <a:pt x="1961" y="430"/>
                </a:lnTo>
                <a:lnTo>
                  <a:pt x="1942" y="438"/>
                </a:lnTo>
                <a:lnTo>
                  <a:pt x="1925" y="451"/>
                </a:lnTo>
                <a:lnTo>
                  <a:pt x="1911" y="468"/>
                </a:lnTo>
                <a:lnTo>
                  <a:pt x="1898" y="490"/>
                </a:lnTo>
                <a:lnTo>
                  <a:pt x="1888" y="517"/>
                </a:lnTo>
                <a:lnTo>
                  <a:pt x="1880" y="549"/>
                </a:lnTo>
                <a:lnTo>
                  <a:pt x="1775" y="958"/>
                </a:lnTo>
                <a:lnTo>
                  <a:pt x="1771" y="958"/>
                </a:lnTo>
                <a:lnTo>
                  <a:pt x="1746" y="884"/>
                </a:lnTo>
                <a:lnTo>
                  <a:pt x="1724" y="817"/>
                </a:lnTo>
                <a:lnTo>
                  <a:pt x="1702" y="755"/>
                </a:lnTo>
                <a:lnTo>
                  <a:pt x="1684" y="700"/>
                </a:lnTo>
                <a:lnTo>
                  <a:pt x="1668" y="650"/>
                </a:lnTo>
                <a:lnTo>
                  <a:pt x="1652" y="605"/>
                </a:lnTo>
                <a:lnTo>
                  <a:pt x="1640" y="568"/>
                </a:lnTo>
                <a:lnTo>
                  <a:pt x="1628" y="536"/>
                </a:lnTo>
                <a:lnTo>
                  <a:pt x="1618" y="510"/>
                </a:lnTo>
                <a:lnTo>
                  <a:pt x="1612" y="490"/>
                </a:lnTo>
                <a:lnTo>
                  <a:pt x="1606" y="476"/>
                </a:lnTo>
                <a:lnTo>
                  <a:pt x="1588" y="455"/>
                </a:lnTo>
                <a:lnTo>
                  <a:pt x="1569" y="441"/>
                </a:lnTo>
                <a:lnTo>
                  <a:pt x="1547" y="432"/>
                </a:lnTo>
                <a:lnTo>
                  <a:pt x="1522" y="428"/>
                </a:lnTo>
                <a:lnTo>
                  <a:pt x="1509" y="428"/>
                </a:lnTo>
                <a:lnTo>
                  <a:pt x="1491" y="432"/>
                </a:lnTo>
                <a:lnTo>
                  <a:pt x="1474" y="440"/>
                </a:lnTo>
                <a:lnTo>
                  <a:pt x="1455" y="453"/>
                </a:lnTo>
                <a:lnTo>
                  <a:pt x="1437" y="471"/>
                </a:lnTo>
                <a:lnTo>
                  <a:pt x="1434" y="471"/>
                </a:lnTo>
                <a:lnTo>
                  <a:pt x="1416" y="455"/>
                </a:lnTo>
                <a:lnTo>
                  <a:pt x="1396" y="446"/>
                </a:lnTo>
                <a:lnTo>
                  <a:pt x="1374" y="443"/>
                </a:lnTo>
                <a:lnTo>
                  <a:pt x="1370" y="443"/>
                </a:lnTo>
                <a:lnTo>
                  <a:pt x="1344" y="446"/>
                </a:lnTo>
                <a:lnTo>
                  <a:pt x="1318" y="457"/>
                </a:lnTo>
                <a:lnTo>
                  <a:pt x="1292" y="475"/>
                </a:lnTo>
                <a:lnTo>
                  <a:pt x="1268" y="500"/>
                </a:lnTo>
                <a:lnTo>
                  <a:pt x="1242" y="532"/>
                </a:lnTo>
                <a:lnTo>
                  <a:pt x="1090" y="704"/>
                </a:lnTo>
                <a:lnTo>
                  <a:pt x="1086" y="704"/>
                </a:lnTo>
                <a:lnTo>
                  <a:pt x="1086" y="283"/>
                </a:lnTo>
                <a:lnTo>
                  <a:pt x="1084" y="256"/>
                </a:lnTo>
                <a:lnTo>
                  <a:pt x="1079" y="233"/>
                </a:lnTo>
                <a:lnTo>
                  <a:pt x="1067" y="212"/>
                </a:lnTo>
                <a:lnTo>
                  <a:pt x="1052" y="196"/>
                </a:lnTo>
                <a:lnTo>
                  <a:pt x="1032" y="184"/>
                </a:lnTo>
                <a:lnTo>
                  <a:pt x="1011" y="177"/>
                </a:lnTo>
                <a:lnTo>
                  <a:pt x="988" y="176"/>
                </a:lnTo>
                <a:close/>
                <a:moveTo>
                  <a:pt x="988" y="0"/>
                </a:moveTo>
                <a:lnTo>
                  <a:pt x="1021" y="3"/>
                </a:lnTo>
                <a:lnTo>
                  <a:pt x="1054" y="15"/>
                </a:lnTo>
                <a:lnTo>
                  <a:pt x="1084" y="34"/>
                </a:lnTo>
                <a:lnTo>
                  <a:pt x="1113" y="60"/>
                </a:lnTo>
                <a:lnTo>
                  <a:pt x="1142" y="94"/>
                </a:lnTo>
                <a:lnTo>
                  <a:pt x="1159" y="121"/>
                </a:lnTo>
                <a:lnTo>
                  <a:pt x="1174" y="156"/>
                </a:lnTo>
                <a:lnTo>
                  <a:pt x="1186" y="195"/>
                </a:lnTo>
                <a:lnTo>
                  <a:pt x="1195" y="241"/>
                </a:lnTo>
                <a:lnTo>
                  <a:pt x="1243" y="227"/>
                </a:lnTo>
                <a:lnTo>
                  <a:pt x="1289" y="217"/>
                </a:lnTo>
                <a:lnTo>
                  <a:pt x="1332" y="209"/>
                </a:lnTo>
                <a:lnTo>
                  <a:pt x="1371" y="204"/>
                </a:lnTo>
                <a:lnTo>
                  <a:pt x="1408" y="202"/>
                </a:lnTo>
                <a:lnTo>
                  <a:pt x="1453" y="204"/>
                </a:lnTo>
                <a:lnTo>
                  <a:pt x="1494" y="210"/>
                </a:lnTo>
                <a:lnTo>
                  <a:pt x="1531" y="219"/>
                </a:lnTo>
                <a:lnTo>
                  <a:pt x="1565" y="232"/>
                </a:lnTo>
                <a:lnTo>
                  <a:pt x="1596" y="248"/>
                </a:lnTo>
                <a:lnTo>
                  <a:pt x="1623" y="268"/>
                </a:lnTo>
                <a:lnTo>
                  <a:pt x="1646" y="291"/>
                </a:lnTo>
                <a:lnTo>
                  <a:pt x="1667" y="318"/>
                </a:lnTo>
                <a:lnTo>
                  <a:pt x="1669" y="318"/>
                </a:lnTo>
                <a:lnTo>
                  <a:pt x="1696" y="278"/>
                </a:lnTo>
                <a:lnTo>
                  <a:pt x="1726" y="243"/>
                </a:lnTo>
                <a:lnTo>
                  <a:pt x="1760" y="211"/>
                </a:lnTo>
                <a:lnTo>
                  <a:pt x="1796" y="184"/>
                </a:lnTo>
                <a:lnTo>
                  <a:pt x="1836" y="161"/>
                </a:lnTo>
                <a:lnTo>
                  <a:pt x="1879" y="142"/>
                </a:lnTo>
                <a:lnTo>
                  <a:pt x="1925" y="127"/>
                </a:lnTo>
                <a:lnTo>
                  <a:pt x="1975" y="117"/>
                </a:lnTo>
                <a:lnTo>
                  <a:pt x="2027" y="110"/>
                </a:lnTo>
                <a:lnTo>
                  <a:pt x="2083" y="108"/>
                </a:lnTo>
                <a:lnTo>
                  <a:pt x="2134" y="111"/>
                </a:lnTo>
                <a:lnTo>
                  <a:pt x="2182" y="119"/>
                </a:lnTo>
                <a:lnTo>
                  <a:pt x="2228" y="133"/>
                </a:lnTo>
                <a:lnTo>
                  <a:pt x="2271" y="153"/>
                </a:lnTo>
                <a:lnTo>
                  <a:pt x="2312" y="178"/>
                </a:lnTo>
                <a:lnTo>
                  <a:pt x="2350" y="209"/>
                </a:lnTo>
                <a:lnTo>
                  <a:pt x="2386" y="245"/>
                </a:lnTo>
                <a:lnTo>
                  <a:pt x="2419" y="287"/>
                </a:lnTo>
                <a:lnTo>
                  <a:pt x="2448" y="338"/>
                </a:lnTo>
                <a:lnTo>
                  <a:pt x="2486" y="327"/>
                </a:lnTo>
                <a:lnTo>
                  <a:pt x="2523" y="319"/>
                </a:lnTo>
                <a:lnTo>
                  <a:pt x="2558" y="317"/>
                </a:lnTo>
                <a:lnTo>
                  <a:pt x="2576" y="317"/>
                </a:lnTo>
                <a:lnTo>
                  <a:pt x="2607" y="319"/>
                </a:lnTo>
                <a:lnTo>
                  <a:pt x="2636" y="326"/>
                </a:lnTo>
                <a:lnTo>
                  <a:pt x="2666" y="337"/>
                </a:lnTo>
                <a:lnTo>
                  <a:pt x="2694" y="353"/>
                </a:lnTo>
                <a:lnTo>
                  <a:pt x="2719" y="375"/>
                </a:lnTo>
                <a:lnTo>
                  <a:pt x="2722" y="375"/>
                </a:lnTo>
                <a:lnTo>
                  <a:pt x="2787" y="342"/>
                </a:lnTo>
                <a:lnTo>
                  <a:pt x="2850" y="317"/>
                </a:lnTo>
                <a:lnTo>
                  <a:pt x="2912" y="299"/>
                </a:lnTo>
                <a:lnTo>
                  <a:pt x="2975" y="287"/>
                </a:lnTo>
                <a:lnTo>
                  <a:pt x="3035" y="284"/>
                </a:lnTo>
                <a:lnTo>
                  <a:pt x="3067" y="284"/>
                </a:lnTo>
                <a:lnTo>
                  <a:pt x="3119" y="287"/>
                </a:lnTo>
                <a:lnTo>
                  <a:pt x="3173" y="299"/>
                </a:lnTo>
                <a:lnTo>
                  <a:pt x="3226" y="317"/>
                </a:lnTo>
                <a:lnTo>
                  <a:pt x="3278" y="342"/>
                </a:lnTo>
                <a:lnTo>
                  <a:pt x="3331" y="375"/>
                </a:lnTo>
                <a:lnTo>
                  <a:pt x="3332" y="375"/>
                </a:lnTo>
                <a:lnTo>
                  <a:pt x="3376" y="346"/>
                </a:lnTo>
                <a:lnTo>
                  <a:pt x="3420" y="326"/>
                </a:lnTo>
                <a:lnTo>
                  <a:pt x="3464" y="313"/>
                </a:lnTo>
                <a:lnTo>
                  <a:pt x="3509" y="310"/>
                </a:lnTo>
                <a:lnTo>
                  <a:pt x="3538" y="312"/>
                </a:lnTo>
                <a:lnTo>
                  <a:pt x="3566" y="321"/>
                </a:lnTo>
                <a:lnTo>
                  <a:pt x="3592" y="335"/>
                </a:lnTo>
                <a:lnTo>
                  <a:pt x="3615" y="355"/>
                </a:lnTo>
                <a:lnTo>
                  <a:pt x="3638" y="382"/>
                </a:lnTo>
                <a:lnTo>
                  <a:pt x="3657" y="412"/>
                </a:lnTo>
                <a:lnTo>
                  <a:pt x="3668" y="446"/>
                </a:lnTo>
                <a:lnTo>
                  <a:pt x="3676" y="478"/>
                </a:lnTo>
                <a:lnTo>
                  <a:pt x="3678" y="510"/>
                </a:lnTo>
                <a:lnTo>
                  <a:pt x="3678" y="527"/>
                </a:lnTo>
                <a:lnTo>
                  <a:pt x="3676" y="557"/>
                </a:lnTo>
                <a:lnTo>
                  <a:pt x="3668" y="585"/>
                </a:lnTo>
                <a:lnTo>
                  <a:pt x="3656" y="610"/>
                </a:lnTo>
                <a:lnTo>
                  <a:pt x="3639" y="634"/>
                </a:lnTo>
                <a:lnTo>
                  <a:pt x="3618" y="654"/>
                </a:lnTo>
                <a:lnTo>
                  <a:pt x="3591" y="674"/>
                </a:lnTo>
                <a:lnTo>
                  <a:pt x="3559" y="691"/>
                </a:lnTo>
                <a:lnTo>
                  <a:pt x="3560" y="726"/>
                </a:lnTo>
                <a:lnTo>
                  <a:pt x="3560" y="760"/>
                </a:lnTo>
                <a:lnTo>
                  <a:pt x="3558" y="828"/>
                </a:lnTo>
                <a:lnTo>
                  <a:pt x="3550" y="892"/>
                </a:lnTo>
                <a:lnTo>
                  <a:pt x="3538" y="952"/>
                </a:lnTo>
                <a:lnTo>
                  <a:pt x="3520" y="1009"/>
                </a:lnTo>
                <a:lnTo>
                  <a:pt x="3497" y="1061"/>
                </a:lnTo>
                <a:lnTo>
                  <a:pt x="3469" y="1111"/>
                </a:lnTo>
                <a:lnTo>
                  <a:pt x="3435" y="1156"/>
                </a:lnTo>
                <a:lnTo>
                  <a:pt x="3397" y="1198"/>
                </a:lnTo>
                <a:lnTo>
                  <a:pt x="3353" y="1236"/>
                </a:lnTo>
                <a:lnTo>
                  <a:pt x="3314" y="1263"/>
                </a:lnTo>
                <a:lnTo>
                  <a:pt x="3269" y="1287"/>
                </a:lnTo>
                <a:lnTo>
                  <a:pt x="3221" y="1307"/>
                </a:lnTo>
                <a:lnTo>
                  <a:pt x="3168" y="1323"/>
                </a:lnTo>
                <a:lnTo>
                  <a:pt x="3118" y="1335"/>
                </a:lnTo>
                <a:lnTo>
                  <a:pt x="3071" y="1341"/>
                </a:lnTo>
                <a:lnTo>
                  <a:pt x="3026" y="1344"/>
                </a:lnTo>
                <a:lnTo>
                  <a:pt x="2967" y="1340"/>
                </a:lnTo>
                <a:lnTo>
                  <a:pt x="2908" y="1330"/>
                </a:lnTo>
                <a:lnTo>
                  <a:pt x="2848" y="1313"/>
                </a:lnTo>
                <a:lnTo>
                  <a:pt x="2790" y="1289"/>
                </a:lnTo>
                <a:lnTo>
                  <a:pt x="2732" y="1257"/>
                </a:lnTo>
                <a:lnTo>
                  <a:pt x="2697" y="1287"/>
                </a:lnTo>
                <a:lnTo>
                  <a:pt x="2660" y="1312"/>
                </a:lnTo>
                <a:lnTo>
                  <a:pt x="2619" y="1332"/>
                </a:lnTo>
                <a:lnTo>
                  <a:pt x="2574" y="1347"/>
                </a:lnTo>
                <a:lnTo>
                  <a:pt x="2527" y="1358"/>
                </a:lnTo>
                <a:lnTo>
                  <a:pt x="2476" y="1365"/>
                </a:lnTo>
                <a:lnTo>
                  <a:pt x="2421" y="1368"/>
                </a:lnTo>
                <a:lnTo>
                  <a:pt x="2392" y="1365"/>
                </a:lnTo>
                <a:lnTo>
                  <a:pt x="2381" y="1397"/>
                </a:lnTo>
                <a:lnTo>
                  <a:pt x="2365" y="1429"/>
                </a:lnTo>
                <a:lnTo>
                  <a:pt x="2344" y="1461"/>
                </a:lnTo>
                <a:lnTo>
                  <a:pt x="2317" y="1494"/>
                </a:lnTo>
                <a:lnTo>
                  <a:pt x="2292" y="1519"/>
                </a:lnTo>
                <a:lnTo>
                  <a:pt x="2262" y="1539"/>
                </a:lnTo>
                <a:lnTo>
                  <a:pt x="2229" y="1555"/>
                </a:lnTo>
                <a:lnTo>
                  <a:pt x="2193" y="1566"/>
                </a:lnTo>
                <a:lnTo>
                  <a:pt x="2154" y="1573"/>
                </a:lnTo>
                <a:lnTo>
                  <a:pt x="2110" y="1575"/>
                </a:lnTo>
                <a:lnTo>
                  <a:pt x="2092" y="1578"/>
                </a:lnTo>
                <a:lnTo>
                  <a:pt x="2059" y="1575"/>
                </a:lnTo>
                <a:lnTo>
                  <a:pt x="2027" y="1566"/>
                </a:lnTo>
                <a:lnTo>
                  <a:pt x="1997" y="1553"/>
                </a:lnTo>
                <a:lnTo>
                  <a:pt x="1968" y="1532"/>
                </a:lnTo>
                <a:lnTo>
                  <a:pt x="1941" y="1506"/>
                </a:lnTo>
                <a:lnTo>
                  <a:pt x="1915" y="1475"/>
                </a:lnTo>
                <a:lnTo>
                  <a:pt x="1891" y="1438"/>
                </a:lnTo>
                <a:lnTo>
                  <a:pt x="1889" y="1438"/>
                </a:lnTo>
                <a:lnTo>
                  <a:pt x="1879" y="1457"/>
                </a:lnTo>
                <a:lnTo>
                  <a:pt x="1866" y="1480"/>
                </a:lnTo>
                <a:lnTo>
                  <a:pt x="1848" y="1504"/>
                </a:lnTo>
                <a:lnTo>
                  <a:pt x="1827" y="1530"/>
                </a:lnTo>
                <a:lnTo>
                  <a:pt x="1802" y="1558"/>
                </a:lnTo>
                <a:lnTo>
                  <a:pt x="1773" y="1585"/>
                </a:lnTo>
                <a:lnTo>
                  <a:pt x="1740" y="1607"/>
                </a:lnTo>
                <a:lnTo>
                  <a:pt x="1706" y="1624"/>
                </a:lnTo>
                <a:lnTo>
                  <a:pt x="1667" y="1637"/>
                </a:lnTo>
                <a:lnTo>
                  <a:pt x="1625" y="1644"/>
                </a:lnTo>
                <a:lnTo>
                  <a:pt x="1580" y="1647"/>
                </a:lnTo>
                <a:lnTo>
                  <a:pt x="1559" y="1647"/>
                </a:lnTo>
                <a:lnTo>
                  <a:pt x="1522" y="1644"/>
                </a:lnTo>
                <a:lnTo>
                  <a:pt x="1485" y="1632"/>
                </a:lnTo>
                <a:lnTo>
                  <a:pt x="1450" y="1615"/>
                </a:lnTo>
                <a:lnTo>
                  <a:pt x="1417" y="1591"/>
                </a:lnTo>
                <a:lnTo>
                  <a:pt x="1383" y="1561"/>
                </a:lnTo>
                <a:lnTo>
                  <a:pt x="1352" y="1522"/>
                </a:lnTo>
                <a:lnTo>
                  <a:pt x="1335" y="1493"/>
                </a:lnTo>
                <a:lnTo>
                  <a:pt x="1320" y="1464"/>
                </a:lnTo>
                <a:lnTo>
                  <a:pt x="1309" y="1437"/>
                </a:lnTo>
                <a:lnTo>
                  <a:pt x="1307" y="1438"/>
                </a:lnTo>
                <a:lnTo>
                  <a:pt x="1305" y="1438"/>
                </a:lnTo>
                <a:lnTo>
                  <a:pt x="1248" y="1435"/>
                </a:lnTo>
                <a:lnTo>
                  <a:pt x="1194" y="1427"/>
                </a:lnTo>
                <a:lnTo>
                  <a:pt x="1144" y="1413"/>
                </a:lnTo>
                <a:lnTo>
                  <a:pt x="1095" y="1393"/>
                </a:lnTo>
                <a:lnTo>
                  <a:pt x="1052" y="1368"/>
                </a:lnTo>
                <a:lnTo>
                  <a:pt x="1010" y="1337"/>
                </a:lnTo>
                <a:lnTo>
                  <a:pt x="972" y="1299"/>
                </a:lnTo>
                <a:lnTo>
                  <a:pt x="937" y="1257"/>
                </a:lnTo>
                <a:lnTo>
                  <a:pt x="883" y="1291"/>
                </a:lnTo>
                <a:lnTo>
                  <a:pt x="827" y="1318"/>
                </a:lnTo>
                <a:lnTo>
                  <a:pt x="772" y="1337"/>
                </a:lnTo>
                <a:lnTo>
                  <a:pt x="716" y="1348"/>
                </a:lnTo>
                <a:lnTo>
                  <a:pt x="660" y="1352"/>
                </a:lnTo>
                <a:lnTo>
                  <a:pt x="600" y="1351"/>
                </a:lnTo>
                <a:lnTo>
                  <a:pt x="545" y="1346"/>
                </a:lnTo>
                <a:lnTo>
                  <a:pt x="494" y="1338"/>
                </a:lnTo>
                <a:lnTo>
                  <a:pt x="446" y="1327"/>
                </a:lnTo>
                <a:lnTo>
                  <a:pt x="403" y="1312"/>
                </a:lnTo>
                <a:lnTo>
                  <a:pt x="363" y="1294"/>
                </a:lnTo>
                <a:lnTo>
                  <a:pt x="328" y="1273"/>
                </a:lnTo>
                <a:lnTo>
                  <a:pt x="296" y="1249"/>
                </a:lnTo>
                <a:lnTo>
                  <a:pt x="270" y="1230"/>
                </a:lnTo>
                <a:lnTo>
                  <a:pt x="242" y="1203"/>
                </a:lnTo>
                <a:lnTo>
                  <a:pt x="213" y="1170"/>
                </a:lnTo>
                <a:lnTo>
                  <a:pt x="181" y="1129"/>
                </a:lnTo>
                <a:lnTo>
                  <a:pt x="156" y="1081"/>
                </a:lnTo>
                <a:lnTo>
                  <a:pt x="132" y="1030"/>
                </a:lnTo>
                <a:lnTo>
                  <a:pt x="113" y="978"/>
                </a:lnTo>
                <a:lnTo>
                  <a:pt x="102" y="935"/>
                </a:lnTo>
                <a:lnTo>
                  <a:pt x="92" y="886"/>
                </a:lnTo>
                <a:lnTo>
                  <a:pt x="83" y="831"/>
                </a:lnTo>
                <a:lnTo>
                  <a:pt x="75" y="771"/>
                </a:lnTo>
                <a:lnTo>
                  <a:pt x="48" y="727"/>
                </a:lnTo>
                <a:lnTo>
                  <a:pt x="27" y="683"/>
                </a:lnTo>
                <a:lnTo>
                  <a:pt x="12" y="637"/>
                </a:lnTo>
                <a:lnTo>
                  <a:pt x="3" y="591"/>
                </a:lnTo>
                <a:lnTo>
                  <a:pt x="0" y="544"/>
                </a:lnTo>
                <a:lnTo>
                  <a:pt x="0" y="510"/>
                </a:lnTo>
                <a:lnTo>
                  <a:pt x="2" y="477"/>
                </a:lnTo>
                <a:lnTo>
                  <a:pt x="10" y="445"/>
                </a:lnTo>
                <a:lnTo>
                  <a:pt x="22" y="415"/>
                </a:lnTo>
                <a:lnTo>
                  <a:pt x="39" y="387"/>
                </a:lnTo>
                <a:lnTo>
                  <a:pt x="62" y="360"/>
                </a:lnTo>
                <a:lnTo>
                  <a:pt x="90" y="336"/>
                </a:lnTo>
                <a:lnTo>
                  <a:pt x="121" y="312"/>
                </a:lnTo>
                <a:lnTo>
                  <a:pt x="161" y="296"/>
                </a:lnTo>
                <a:lnTo>
                  <a:pt x="204" y="286"/>
                </a:lnTo>
                <a:lnTo>
                  <a:pt x="249" y="283"/>
                </a:lnTo>
                <a:lnTo>
                  <a:pt x="286" y="285"/>
                </a:lnTo>
                <a:lnTo>
                  <a:pt x="326" y="291"/>
                </a:lnTo>
                <a:lnTo>
                  <a:pt x="368" y="301"/>
                </a:lnTo>
                <a:lnTo>
                  <a:pt x="430" y="284"/>
                </a:lnTo>
                <a:lnTo>
                  <a:pt x="491" y="271"/>
                </a:lnTo>
                <a:lnTo>
                  <a:pt x="549" y="263"/>
                </a:lnTo>
                <a:lnTo>
                  <a:pt x="605" y="261"/>
                </a:lnTo>
                <a:lnTo>
                  <a:pt x="614" y="261"/>
                </a:lnTo>
                <a:lnTo>
                  <a:pt x="653" y="263"/>
                </a:lnTo>
                <a:lnTo>
                  <a:pt x="689" y="269"/>
                </a:lnTo>
                <a:lnTo>
                  <a:pt x="721" y="279"/>
                </a:lnTo>
                <a:lnTo>
                  <a:pt x="719" y="263"/>
                </a:lnTo>
                <a:lnTo>
                  <a:pt x="718" y="245"/>
                </a:lnTo>
                <a:lnTo>
                  <a:pt x="718" y="223"/>
                </a:lnTo>
                <a:lnTo>
                  <a:pt x="719" y="186"/>
                </a:lnTo>
                <a:lnTo>
                  <a:pt x="726" y="152"/>
                </a:lnTo>
                <a:lnTo>
                  <a:pt x="735" y="121"/>
                </a:lnTo>
                <a:lnTo>
                  <a:pt x="748" y="94"/>
                </a:lnTo>
                <a:lnTo>
                  <a:pt x="766" y="70"/>
                </a:lnTo>
                <a:lnTo>
                  <a:pt x="787" y="49"/>
                </a:lnTo>
                <a:lnTo>
                  <a:pt x="812" y="32"/>
                </a:lnTo>
                <a:lnTo>
                  <a:pt x="841" y="17"/>
                </a:lnTo>
                <a:lnTo>
                  <a:pt x="861" y="10"/>
                </a:lnTo>
                <a:lnTo>
                  <a:pt x="885" y="6"/>
                </a:lnTo>
                <a:lnTo>
                  <a:pt x="915" y="2"/>
                </a:lnTo>
                <a:lnTo>
                  <a:pt x="949" y="0"/>
                </a:lnTo>
                <a:lnTo>
                  <a:pt x="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14"/>
          <p:cNvSpPr/>
          <p:nvPr/>
        </p:nvSpPr>
        <p:spPr>
          <a:xfrm>
            <a:off x="4503600" y="2905200"/>
            <a:ext cx="317520" cy="21888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2"/>
          <p:cNvSpPr/>
          <p:nvPr/>
        </p:nvSpPr>
        <p:spPr>
          <a:xfrm>
            <a:off x="7256520" y="3324240"/>
            <a:ext cx="614160" cy="24588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540480" y="2905200"/>
            <a:ext cx="217440" cy="21888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Callout 52"/>
          <p:cNvSpPr/>
          <p:nvPr/>
        </p:nvSpPr>
        <p:spPr>
          <a:xfrm flipH="1">
            <a:off x="5522760" y="2590920"/>
            <a:ext cx="533520" cy="344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5738760" y="2676600"/>
            <a:ext cx="100080" cy="17280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27"/>
          <p:cNvSpPr/>
          <p:nvPr/>
        </p:nvSpPr>
        <p:spPr>
          <a:xfrm>
            <a:off x="1560600" y="1955880"/>
            <a:ext cx="60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33"/>
          <p:cNvSpPr/>
          <p:nvPr/>
        </p:nvSpPr>
        <p:spPr>
          <a:xfrm>
            <a:off x="903240" y="2646360"/>
            <a:ext cx="2317680" cy="1119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29"/>
          <p:cNvSpPr/>
          <p:nvPr/>
        </p:nvSpPr>
        <p:spPr>
          <a:xfrm>
            <a:off x="901800" y="4064040"/>
            <a:ext cx="23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2" descr=""/>
          <p:cNvPicPr/>
          <p:nvPr/>
        </p:nvPicPr>
        <p:blipFill>
          <a:blip r:embed="rId1"/>
          <a:stretch/>
        </p:blipFill>
        <p:spPr>
          <a:xfrm>
            <a:off x="820800" y="3262320"/>
            <a:ext cx="1204920" cy="560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"/>
          <p:cNvPicPr/>
          <p:nvPr/>
        </p:nvPicPr>
        <p:blipFill>
          <a:blip r:embed="rId2"/>
          <a:stretch/>
        </p:blipFill>
        <p:spPr>
          <a:xfrm>
            <a:off x="2581200" y="3270240"/>
            <a:ext cx="801720" cy="560520"/>
          </a:xfrm>
          <a:prstGeom prst="rect">
            <a:avLst/>
          </a:prstGeom>
          <a:ln w="0">
            <a:noFill/>
          </a:ln>
        </p:spPr>
      </p:pic>
      <p:sp>
        <p:nvSpPr>
          <p:cNvPr id="366" name="Freeform 45"/>
          <p:cNvSpPr/>
          <p:nvPr/>
        </p:nvSpPr>
        <p:spPr>
          <a:xfrm>
            <a:off x="4173480" y="2405160"/>
            <a:ext cx="65160" cy="28717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  <a:lnTo>
                  <a:pt x="0" y="1519481"/>
                </a:lnTo>
                <a:lnTo>
                  <a:pt x="0" y="1519481"/>
                </a:lnTo>
              </a:path>
            </a:pathLst>
          </a:custGeom>
          <a:noFill/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42" descr=""/>
          <p:cNvPicPr/>
          <p:nvPr/>
        </p:nvPicPr>
        <p:blipFill>
          <a:blip r:embed="rId3"/>
          <a:stretch/>
        </p:blipFill>
        <p:spPr>
          <a:xfrm>
            <a:off x="5064120" y="243360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368" name="Freeform 1"/>
          <p:cNvSpPr/>
          <p:nvPr/>
        </p:nvSpPr>
        <p:spPr>
          <a:xfrm>
            <a:off x="6567480" y="2813040"/>
            <a:ext cx="779400" cy="744480"/>
          </a:xfrm>
          <a:custGeom>
            <a:avLst/>
            <a:gdLst/>
            <a:ahLst/>
            <a:rect l="l" t="t" r="r" b="b"/>
            <a:pathLst>
              <a:path w="869757" h="831272">
                <a:moveTo>
                  <a:pt x="0" y="831272"/>
                </a:moveTo>
                <a:cubicBezTo>
                  <a:pt x="25656" y="787656"/>
                  <a:pt x="51313" y="744040"/>
                  <a:pt x="100060" y="677333"/>
                </a:cubicBezTo>
                <a:cubicBezTo>
                  <a:pt x="148808" y="610626"/>
                  <a:pt x="230909" y="497737"/>
                  <a:pt x="292485" y="431030"/>
                </a:cubicBezTo>
                <a:cubicBezTo>
                  <a:pt x="354061" y="364323"/>
                  <a:pt x="407939" y="325838"/>
                  <a:pt x="469515" y="277091"/>
                </a:cubicBezTo>
                <a:cubicBezTo>
                  <a:pt x="531091" y="228344"/>
                  <a:pt x="595232" y="184727"/>
                  <a:pt x="661939" y="138545"/>
                </a:cubicBezTo>
                <a:cubicBezTo>
                  <a:pt x="728646" y="92363"/>
                  <a:pt x="804333" y="57727"/>
                  <a:pt x="86975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6450120" y="2427120"/>
            <a:ext cx="241200" cy="1033560"/>
          </a:xfrm>
          <a:custGeom>
            <a:avLst/>
            <a:gdLst/>
            <a:ahLst/>
            <a:rect l="l" t="t" r="r" b="b"/>
            <a:pathLst>
              <a:path w="269583" h="1154546">
                <a:moveTo>
                  <a:pt x="0" y="1154546"/>
                </a:moveTo>
                <a:cubicBezTo>
                  <a:pt x="41051" y="1110288"/>
                  <a:pt x="82102" y="1066030"/>
                  <a:pt x="123152" y="1000606"/>
                </a:cubicBezTo>
                <a:cubicBezTo>
                  <a:pt x="164202" y="935182"/>
                  <a:pt x="221929" y="845384"/>
                  <a:pt x="246303" y="762000"/>
                </a:cubicBezTo>
                <a:cubicBezTo>
                  <a:pt x="270677" y="678616"/>
                  <a:pt x="269394" y="583687"/>
                  <a:pt x="269394" y="500303"/>
                </a:cubicBezTo>
                <a:cubicBezTo>
                  <a:pt x="269394" y="416919"/>
                  <a:pt x="273242" y="345081"/>
                  <a:pt x="246303" y="261697"/>
                </a:cubicBezTo>
                <a:cubicBezTo>
                  <a:pt x="219364" y="178313"/>
                  <a:pt x="107758" y="0"/>
                  <a:pt x="107758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5437080" y="2757600"/>
            <a:ext cx="868320" cy="779400"/>
          </a:xfrm>
          <a:custGeom>
            <a:avLst/>
            <a:gdLst/>
            <a:ahLst/>
            <a:rect l="l" t="t" r="r" b="b"/>
            <a:pathLst>
              <a:path w="969818" h="869758">
                <a:moveTo>
                  <a:pt x="969818" y="869758"/>
                </a:moveTo>
                <a:cubicBezTo>
                  <a:pt x="962762" y="812030"/>
                  <a:pt x="955707" y="754303"/>
                  <a:pt x="915939" y="677333"/>
                </a:cubicBezTo>
                <a:cubicBezTo>
                  <a:pt x="876171" y="600363"/>
                  <a:pt x="804333" y="488757"/>
                  <a:pt x="731212" y="407939"/>
                </a:cubicBezTo>
                <a:cubicBezTo>
                  <a:pt x="658091" y="327121"/>
                  <a:pt x="556747" y="248868"/>
                  <a:pt x="477212" y="192424"/>
                </a:cubicBezTo>
                <a:cubicBezTo>
                  <a:pt x="397677" y="135980"/>
                  <a:pt x="333535" y="101344"/>
                  <a:pt x="254000" y="69273"/>
                </a:cubicBezTo>
                <a:cubicBezTo>
                  <a:pt x="174465" y="37202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4"/>
          <p:cNvSpPr/>
          <p:nvPr/>
        </p:nvSpPr>
        <p:spPr>
          <a:xfrm>
            <a:off x="5078520" y="3660840"/>
            <a:ext cx="1185840" cy="220680"/>
          </a:xfrm>
          <a:custGeom>
            <a:avLst/>
            <a:gdLst/>
            <a:ahLst/>
            <a:rect l="l" t="t" r="r" b="b"/>
            <a:pathLst>
              <a:path w="1323879" h="246303">
                <a:moveTo>
                  <a:pt x="1323879" y="0"/>
                </a:moveTo>
                <a:cubicBezTo>
                  <a:pt x="1254606" y="30146"/>
                  <a:pt x="1185334" y="60293"/>
                  <a:pt x="1123758" y="84667"/>
                </a:cubicBezTo>
                <a:cubicBezTo>
                  <a:pt x="1062182" y="109041"/>
                  <a:pt x="1010869" y="128283"/>
                  <a:pt x="954425" y="146242"/>
                </a:cubicBezTo>
                <a:cubicBezTo>
                  <a:pt x="897981" y="164201"/>
                  <a:pt x="849232" y="178313"/>
                  <a:pt x="785091" y="192424"/>
                </a:cubicBezTo>
                <a:cubicBezTo>
                  <a:pt x="720950" y="206535"/>
                  <a:pt x="637566" y="221929"/>
                  <a:pt x="569576" y="230909"/>
                </a:cubicBezTo>
                <a:cubicBezTo>
                  <a:pt x="501586" y="239889"/>
                  <a:pt x="441293" y="246303"/>
                  <a:pt x="377152" y="246303"/>
                </a:cubicBezTo>
                <a:cubicBezTo>
                  <a:pt x="313011" y="246303"/>
                  <a:pt x="247587" y="241172"/>
                  <a:pt x="184728" y="230909"/>
                </a:cubicBezTo>
                <a:cubicBezTo>
                  <a:pt x="121869" y="220646"/>
                  <a:pt x="0" y="184727"/>
                  <a:pt x="0" y="184727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7"/>
          <p:cNvSpPr/>
          <p:nvPr/>
        </p:nvSpPr>
        <p:spPr>
          <a:xfrm>
            <a:off x="5499000" y="3757680"/>
            <a:ext cx="785880" cy="1171440"/>
          </a:xfrm>
          <a:custGeom>
            <a:avLst/>
            <a:gdLst/>
            <a:ahLst/>
            <a:rect l="l" t="t" r="r" b="b"/>
            <a:pathLst>
              <a:path w="877617" h="1308485">
                <a:moveTo>
                  <a:pt x="877617" y="0"/>
                </a:moveTo>
                <a:cubicBezTo>
                  <a:pt x="823738" y="15393"/>
                  <a:pt x="769859" y="30787"/>
                  <a:pt x="708283" y="53878"/>
                </a:cubicBezTo>
                <a:cubicBezTo>
                  <a:pt x="646707" y="76969"/>
                  <a:pt x="567172" y="105191"/>
                  <a:pt x="508162" y="138545"/>
                </a:cubicBezTo>
                <a:cubicBezTo>
                  <a:pt x="449152" y="171899"/>
                  <a:pt x="397839" y="210384"/>
                  <a:pt x="354223" y="254000"/>
                </a:cubicBezTo>
                <a:cubicBezTo>
                  <a:pt x="310607" y="297616"/>
                  <a:pt x="286233" y="334818"/>
                  <a:pt x="246465" y="400242"/>
                </a:cubicBezTo>
                <a:cubicBezTo>
                  <a:pt x="206697" y="465666"/>
                  <a:pt x="146405" y="570858"/>
                  <a:pt x="115617" y="646545"/>
                </a:cubicBezTo>
                <a:cubicBezTo>
                  <a:pt x="84829" y="722232"/>
                  <a:pt x="78415" y="779959"/>
                  <a:pt x="61738" y="854363"/>
                </a:cubicBezTo>
                <a:cubicBezTo>
                  <a:pt x="45061" y="928767"/>
                  <a:pt x="25819" y="1024979"/>
                  <a:pt x="15556" y="1092969"/>
                </a:cubicBezTo>
                <a:cubicBezTo>
                  <a:pt x="5293" y="1160959"/>
                  <a:pt x="-1121" y="1226384"/>
                  <a:pt x="162" y="1262303"/>
                </a:cubicBezTo>
                <a:cubicBezTo>
                  <a:pt x="1445" y="1298222"/>
                  <a:pt x="23253" y="1308485"/>
                  <a:pt x="23253" y="1308485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8"/>
          <p:cNvSpPr/>
          <p:nvPr/>
        </p:nvSpPr>
        <p:spPr>
          <a:xfrm>
            <a:off x="6629400" y="3489480"/>
            <a:ext cx="1144440" cy="237960"/>
          </a:xfrm>
          <a:custGeom>
            <a:avLst/>
            <a:gdLst/>
            <a:ahLst/>
            <a:rect l="l" t="t" r="r" b="b"/>
            <a:pathLst>
              <a:path w="1277697" h="267083">
                <a:moveTo>
                  <a:pt x="0" y="169333"/>
                </a:moveTo>
                <a:cubicBezTo>
                  <a:pt x="44899" y="192424"/>
                  <a:pt x="89799" y="215515"/>
                  <a:pt x="153940" y="230909"/>
                </a:cubicBezTo>
                <a:cubicBezTo>
                  <a:pt x="218081" y="246303"/>
                  <a:pt x="305314" y="256566"/>
                  <a:pt x="384849" y="261697"/>
                </a:cubicBezTo>
                <a:cubicBezTo>
                  <a:pt x="464384" y="266828"/>
                  <a:pt x="545203" y="270677"/>
                  <a:pt x="631152" y="261697"/>
                </a:cubicBezTo>
                <a:cubicBezTo>
                  <a:pt x="717101" y="252717"/>
                  <a:pt x="822294" y="232192"/>
                  <a:pt x="900546" y="207818"/>
                </a:cubicBezTo>
                <a:cubicBezTo>
                  <a:pt x="978798" y="183444"/>
                  <a:pt x="1037809" y="150090"/>
                  <a:pt x="1100667" y="115454"/>
                </a:cubicBezTo>
                <a:cubicBezTo>
                  <a:pt x="1163525" y="80818"/>
                  <a:pt x="1277697" y="0"/>
                  <a:pt x="127769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9"/>
          <p:cNvSpPr/>
          <p:nvPr/>
        </p:nvSpPr>
        <p:spPr>
          <a:xfrm>
            <a:off x="6311880" y="3951360"/>
            <a:ext cx="123840" cy="1185840"/>
          </a:xfrm>
          <a:custGeom>
            <a:avLst/>
            <a:gdLst/>
            <a:ahLst/>
            <a:rect l="l" t="t" r="r" b="b"/>
            <a:pathLst>
              <a:path w="138545" h="1323879">
                <a:moveTo>
                  <a:pt x="138545" y="0"/>
                </a:moveTo>
                <a:cubicBezTo>
                  <a:pt x="131489" y="145601"/>
                  <a:pt x="124434" y="291202"/>
                  <a:pt x="115454" y="407939"/>
                </a:cubicBezTo>
                <a:cubicBezTo>
                  <a:pt x="106474" y="524676"/>
                  <a:pt x="96212" y="592666"/>
                  <a:pt x="84667" y="700424"/>
                </a:cubicBezTo>
                <a:cubicBezTo>
                  <a:pt x="73122" y="808182"/>
                  <a:pt x="60293" y="950576"/>
                  <a:pt x="46182" y="1054485"/>
                </a:cubicBezTo>
                <a:cubicBezTo>
                  <a:pt x="32071" y="1158394"/>
                  <a:pt x="3848" y="1276415"/>
                  <a:pt x="0" y="1323879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10"/>
          <p:cNvSpPr/>
          <p:nvPr/>
        </p:nvSpPr>
        <p:spPr>
          <a:xfrm>
            <a:off x="6581880" y="3716280"/>
            <a:ext cx="504720" cy="1241640"/>
          </a:xfrm>
          <a:custGeom>
            <a:avLst/>
            <a:gdLst/>
            <a:ahLst/>
            <a:rect l="l" t="t" r="r" b="b"/>
            <a:pathLst>
              <a:path w="564158" h="1385454">
                <a:moveTo>
                  <a:pt x="0" y="0"/>
                </a:moveTo>
                <a:cubicBezTo>
                  <a:pt x="65424" y="41692"/>
                  <a:pt x="130848" y="83384"/>
                  <a:pt x="184727" y="138545"/>
                </a:cubicBezTo>
                <a:cubicBezTo>
                  <a:pt x="238606" y="193706"/>
                  <a:pt x="284787" y="264262"/>
                  <a:pt x="323272" y="330969"/>
                </a:cubicBezTo>
                <a:cubicBezTo>
                  <a:pt x="361757" y="397676"/>
                  <a:pt x="386131" y="463101"/>
                  <a:pt x="415636" y="538788"/>
                </a:cubicBezTo>
                <a:cubicBezTo>
                  <a:pt x="445141" y="614475"/>
                  <a:pt x="481060" y="706838"/>
                  <a:pt x="500303" y="785091"/>
                </a:cubicBezTo>
                <a:cubicBezTo>
                  <a:pt x="519546" y="863344"/>
                  <a:pt x="520829" y="936465"/>
                  <a:pt x="531091" y="1008303"/>
                </a:cubicBezTo>
                <a:cubicBezTo>
                  <a:pt x="541353" y="1080141"/>
                  <a:pt x="556747" y="1153263"/>
                  <a:pt x="561878" y="1216121"/>
                </a:cubicBezTo>
                <a:cubicBezTo>
                  <a:pt x="567009" y="1278980"/>
                  <a:pt x="561878" y="1385454"/>
                  <a:pt x="561878" y="1385454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1" descr=""/>
          <p:cNvPicPr/>
          <p:nvPr/>
        </p:nvPicPr>
        <p:blipFill>
          <a:blip r:embed="rId4"/>
          <a:stretch/>
        </p:blipFill>
        <p:spPr>
          <a:xfrm>
            <a:off x="5738760" y="3355920"/>
            <a:ext cx="1400400" cy="766800"/>
          </a:xfrm>
          <a:prstGeom prst="rect">
            <a:avLst/>
          </a:prstGeom>
          <a:ln w="0">
            <a:noFill/>
          </a:ln>
        </p:spPr>
      </p:pic>
      <p:sp>
        <p:nvSpPr>
          <p:cNvPr id="377" name="Oval 26"/>
          <p:cNvSpPr/>
          <p:nvPr/>
        </p:nvSpPr>
        <p:spPr>
          <a:xfrm>
            <a:off x="6248520" y="2090880"/>
            <a:ext cx="407880" cy="4078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27"/>
          <p:cNvSpPr/>
          <p:nvPr/>
        </p:nvSpPr>
        <p:spPr>
          <a:xfrm>
            <a:off x="5110200" y="2581200"/>
            <a:ext cx="40968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4735440" y="3552840"/>
            <a:ext cx="40968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315040" y="4821120"/>
            <a:ext cx="40932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33"/>
          <p:cNvSpPr/>
          <p:nvPr/>
        </p:nvSpPr>
        <p:spPr>
          <a:xfrm>
            <a:off x="6100920" y="5025960"/>
            <a:ext cx="40932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35"/>
          <p:cNvSpPr/>
          <p:nvPr/>
        </p:nvSpPr>
        <p:spPr>
          <a:xfrm>
            <a:off x="6937200" y="4875120"/>
            <a:ext cx="409680" cy="40824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7"/>
          <p:cNvSpPr/>
          <p:nvPr/>
        </p:nvSpPr>
        <p:spPr>
          <a:xfrm>
            <a:off x="7634160" y="3238560"/>
            <a:ext cx="40824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39"/>
          <p:cNvSpPr/>
          <p:nvPr/>
        </p:nvSpPr>
        <p:spPr>
          <a:xfrm>
            <a:off x="7297560" y="2575080"/>
            <a:ext cx="409680" cy="4093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744480" y="2106720"/>
            <a:ext cx="300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20800" y="42004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820800" y="4486320"/>
            <a:ext cx="134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2470320" y="42004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2470320" y="4486320"/>
            <a:ext cx="127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30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4"/>
          <p:cNvSpPr/>
          <p:nvPr/>
        </p:nvSpPr>
        <p:spPr>
          <a:xfrm>
            <a:off x="2452680" y="4316400"/>
            <a:ext cx="4199040" cy="101520"/>
          </a:xfrm>
          <a:custGeom>
            <a:avLst/>
            <a:gdLst/>
            <a:ahLst/>
            <a:rect l="l" t="t" r="r" b="b"/>
            <a:pathLst>
              <a:path w="2319" h="57">
                <a:moveTo>
                  <a:pt x="0" y="8"/>
                </a:moveTo>
                <a:lnTo>
                  <a:pt x="0" y="8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17" y="32"/>
                </a:lnTo>
                <a:lnTo>
                  <a:pt x="32" y="40"/>
                </a:lnTo>
                <a:lnTo>
                  <a:pt x="57" y="49"/>
                </a:lnTo>
                <a:lnTo>
                  <a:pt x="89" y="57"/>
                </a:lnTo>
                <a:lnTo>
                  <a:pt x="2229" y="57"/>
                </a:lnTo>
                <a:lnTo>
                  <a:pt x="2229" y="57"/>
                </a:lnTo>
                <a:lnTo>
                  <a:pt x="2240" y="57"/>
                </a:lnTo>
                <a:lnTo>
                  <a:pt x="2268" y="51"/>
                </a:lnTo>
                <a:lnTo>
                  <a:pt x="2283" y="45"/>
                </a:lnTo>
                <a:lnTo>
                  <a:pt x="2298" y="40"/>
                </a:lnTo>
                <a:lnTo>
                  <a:pt x="2309" y="30"/>
                </a:lnTo>
                <a:lnTo>
                  <a:pt x="2315" y="25"/>
                </a:lnTo>
                <a:lnTo>
                  <a:pt x="2319" y="19"/>
                </a:lnTo>
                <a:lnTo>
                  <a:pt x="2319" y="0"/>
                </a:lnTo>
                <a:lnTo>
                  <a:pt x="0" y="8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35" descr=""/>
          <p:cNvPicPr/>
          <p:nvPr/>
        </p:nvPicPr>
        <p:blipFill>
          <a:blip r:embed="rId1"/>
          <a:stretch/>
        </p:blipFill>
        <p:spPr>
          <a:xfrm>
            <a:off x="2433600" y="4218120"/>
            <a:ext cx="4240080" cy="155520"/>
          </a:xfrm>
          <a:prstGeom prst="rect">
            <a:avLst/>
          </a:prstGeom>
          <a:ln w="0">
            <a:noFill/>
          </a:ln>
        </p:spPr>
      </p:pic>
      <p:sp>
        <p:nvSpPr>
          <p:cNvPr id="396" name="Freeform 36"/>
          <p:cNvSpPr/>
          <p:nvPr/>
        </p:nvSpPr>
        <p:spPr>
          <a:xfrm>
            <a:off x="6303960" y="4286160"/>
            <a:ext cx="155520" cy="15840"/>
          </a:xfrm>
          <a:custGeom>
            <a:avLst/>
            <a:gdLst/>
            <a:ahLst/>
            <a:rect l="l" t="t" r="r" b="b"/>
            <a:pathLst>
              <a:path w="86" h="8">
                <a:moveTo>
                  <a:pt x="86" y="4"/>
                </a:moveTo>
                <a:lnTo>
                  <a:pt x="86" y="4"/>
                </a:lnTo>
                <a:lnTo>
                  <a:pt x="85" y="6"/>
                </a:lnTo>
                <a:lnTo>
                  <a:pt x="83" y="8"/>
                </a:lnTo>
                <a:lnTo>
                  <a:pt x="4" y="8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83" y="0"/>
                </a:lnTo>
                <a:lnTo>
                  <a:pt x="83" y="0"/>
                </a:lnTo>
                <a:lnTo>
                  <a:pt x="85" y="0"/>
                </a:lnTo>
                <a:lnTo>
                  <a:pt x="86" y="4"/>
                </a:lnTo>
                <a:lnTo>
                  <a:pt x="86" y="4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37" descr=""/>
          <p:cNvPicPr/>
          <p:nvPr/>
        </p:nvPicPr>
        <p:blipFill>
          <a:blip r:embed="rId2"/>
          <a:stretch/>
        </p:blipFill>
        <p:spPr>
          <a:xfrm>
            <a:off x="4235400" y="4218120"/>
            <a:ext cx="627120" cy="9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8" descr=""/>
          <p:cNvPicPr/>
          <p:nvPr/>
        </p:nvPicPr>
        <p:blipFill>
          <a:blip r:embed="rId3"/>
          <a:stretch/>
        </p:blipFill>
        <p:spPr>
          <a:xfrm>
            <a:off x="4235400" y="4214880"/>
            <a:ext cx="71640" cy="82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9" descr=""/>
          <p:cNvPicPr/>
          <p:nvPr/>
        </p:nvPicPr>
        <p:blipFill>
          <a:blip r:embed="rId4"/>
          <a:stretch/>
        </p:blipFill>
        <p:spPr>
          <a:xfrm>
            <a:off x="4278240" y="4214880"/>
            <a:ext cx="576360" cy="9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0" descr=""/>
          <p:cNvPicPr/>
          <p:nvPr/>
        </p:nvPicPr>
        <p:blipFill>
          <a:blip r:embed="rId5"/>
          <a:stretch/>
        </p:blipFill>
        <p:spPr>
          <a:xfrm>
            <a:off x="4818240" y="4214880"/>
            <a:ext cx="33120" cy="31680"/>
          </a:xfrm>
          <a:prstGeom prst="rect">
            <a:avLst/>
          </a:prstGeom>
          <a:ln w="0">
            <a:noFill/>
          </a:ln>
        </p:spPr>
      </p:pic>
      <p:sp>
        <p:nvSpPr>
          <p:cNvPr id="401" name="Oval 2"/>
          <p:cNvSpPr/>
          <p:nvPr/>
        </p:nvSpPr>
        <p:spPr>
          <a:xfrm>
            <a:off x="6740640" y="2238480"/>
            <a:ext cx="671400" cy="67140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52"/>
          <p:cNvSpPr/>
          <p:nvPr/>
        </p:nvSpPr>
        <p:spPr>
          <a:xfrm>
            <a:off x="6873840" y="2379600"/>
            <a:ext cx="401760" cy="401760"/>
          </a:xfrm>
          <a:custGeom>
            <a:avLst/>
            <a:gdLst/>
            <a:ahLst/>
            <a:rect l="l" t="t" r="r" b="b"/>
            <a:pathLst>
              <a:path w="21426" h="21453">
                <a:moveTo>
                  <a:pt x="8034" y="20112"/>
                </a:moveTo>
                <a:cubicBezTo>
                  <a:pt x="5816" y="17892"/>
                  <a:pt x="3556" y="15628"/>
                  <a:pt x="1338" y="13408"/>
                </a:cubicBezTo>
                <a:cubicBezTo>
                  <a:pt x="3241" y="7240"/>
                  <a:pt x="11488" y="7509"/>
                  <a:pt x="13391" y="1341"/>
                </a:cubicBezTo>
                <a:cubicBezTo>
                  <a:pt x="15609" y="3560"/>
                  <a:pt x="17869" y="5825"/>
                  <a:pt x="20087" y="8045"/>
                </a:cubicBezTo>
                <a:cubicBezTo>
                  <a:pt x="18184" y="14212"/>
                  <a:pt x="9937" y="13944"/>
                  <a:pt x="8034" y="20112"/>
                </a:cubicBezTo>
                <a:moveTo>
                  <a:pt x="21034" y="7097"/>
                </a:moveTo>
                <a:lnTo>
                  <a:pt x="14338" y="393"/>
                </a:lnTo>
                <a:cubicBezTo>
                  <a:pt x="14006" y="60"/>
                  <a:pt x="13525" y="-73"/>
                  <a:pt x="13069" y="39"/>
                </a:cubicBezTo>
                <a:cubicBezTo>
                  <a:pt x="12828" y="98"/>
                  <a:pt x="12614" y="222"/>
                  <a:pt x="12444" y="393"/>
                </a:cubicBezTo>
                <a:cubicBezTo>
                  <a:pt x="12292" y="545"/>
                  <a:pt x="12177" y="733"/>
                  <a:pt x="12112" y="944"/>
                </a:cubicBezTo>
                <a:cubicBezTo>
                  <a:pt x="11808" y="1929"/>
                  <a:pt x="11283" y="2785"/>
                  <a:pt x="10507" y="3562"/>
                </a:cubicBezTo>
                <a:cubicBezTo>
                  <a:pt x="9471" y="4598"/>
                  <a:pt x="8121" y="5384"/>
                  <a:pt x="6693" y="6214"/>
                </a:cubicBezTo>
                <a:cubicBezTo>
                  <a:pt x="5177" y="7094"/>
                  <a:pt x="3611" y="8006"/>
                  <a:pt x="2328" y="9290"/>
                </a:cubicBezTo>
                <a:cubicBezTo>
                  <a:pt x="1237" y="10383"/>
                  <a:pt x="493" y="11600"/>
                  <a:pt x="59" y="13011"/>
                </a:cubicBezTo>
                <a:cubicBezTo>
                  <a:pt x="-87" y="13488"/>
                  <a:pt x="40" y="14004"/>
                  <a:pt x="391" y="14356"/>
                </a:cubicBezTo>
                <a:lnTo>
                  <a:pt x="7087" y="21060"/>
                </a:lnTo>
                <a:cubicBezTo>
                  <a:pt x="7419" y="21393"/>
                  <a:pt x="7900" y="21526"/>
                  <a:pt x="8356" y="21414"/>
                </a:cubicBezTo>
                <a:cubicBezTo>
                  <a:pt x="8597" y="21354"/>
                  <a:pt x="8811" y="21231"/>
                  <a:pt x="8981" y="21060"/>
                </a:cubicBezTo>
                <a:cubicBezTo>
                  <a:pt x="9133" y="20908"/>
                  <a:pt x="9248" y="20720"/>
                  <a:pt x="9314" y="20508"/>
                </a:cubicBezTo>
                <a:cubicBezTo>
                  <a:pt x="9617" y="19523"/>
                  <a:pt x="10142" y="18667"/>
                  <a:pt x="10918" y="17890"/>
                </a:cubicBezTo>
                <a:cubicBezTo>
                  <a:pt x="11954" y="16853"/>
                  <a:pt x="13304" y="16069"/>
                  <a:pt x="14733" y="15239"/>
                </a:cubicBezTo>
                <a:cubicBezTo>
                  <a:pt x="16248" y="14357"/>
                  <a:pt x="17814" y="13446"/>
                  <a:pt x="19097" y="12162"/>
                </a:cubicBezTo>
                <a:cubicBezTo>
                  <a:pt x="20188" y="11070"/>
                  <a:pt x="20932" y="9852"/>
                  <a:pt x="21366" y="8440"/>
                </a:cubicBezTo>
                <a:cubicBezTo>
                  <a:pt x="21512" y="7965"/>
                  <a:pt x="21385" y="7448"/>
                  <a:pt x="21034" y="70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53"/>
          <p:cNvSpPr/>
          <p:nvPr/>
        </p:nvSpPr>
        <p:spPr>
          <a:xfrm>
            <a:off x="7026120" y="2517840"/>
            <a:ext cx="108000" cy="112680"/>
          </a:xfrm>
          <a:custGeom>
            <a:avLst/>
            <a:gdLst/>
            <a:ahLst/>
            <a:rect l="l" t="t" r="r" b="b"/>
            <a:pathLst>
              <a:path w="21484" h="21516">
                <a:moveTo>
                  <a:pt x="17511" y="14987"/>
                </a:moveTo>
                <a:cubicBezTo>
                  <a:pt x="17287" y="15384"/>
                  <a:pt x="17032" y="15740"/>
                  <a:pt x="16731" y="16049"/>
                </a:cubicBezTo>
                <a:cubicBezTo>
                  <a:pt x="15340" y="14692"/>
                  <a:pt x="13947" y="13205"/>
                  <a:pt x="12559" y="11675"/>
                </a:cubicBezTo>
                <a:cubicBezTo>
                  <a:pt x="12912" y="11521"/>
                  <a:pt x="13287" y="11362"/>
                  <a:pt x="13689" y="11198"/>
                </a:cubicBezTo>
                <a:cubicBezTo>
                  <a:pt x="14092" y="11034"/>
                  <a:pt x="14494" y="10927"/>
                  <a:pt x="14895" y="10861"/>
                </a:cubicBezTo>
                <a:cubicBezTo>
                  <a:pt x="15308" y="10801"/>
                  <a:pt x="15715" y="10819"/>
                  <a:pt x="16122" y="10913"/>
                </a:cubicBezTo>
                <a:cubicBezTo>
                  <a:pt x="16527" y="11011"/>
                  <a:pt x="16909" y="11222"/>
                  <a:pt x="17262" y="11554"/>
                </a:cubicBezTo>
                <a:cubicBezTo>
                  <a:pt x="17612" y="11890"/>
                  <a:pt x="17835" y="12244"/>
                  <a:pt x="17923" y="12620"/>
                </a:cubicBezTo>
                <a:cubicBezTo>
                  <a:pt x="18020" y="13004"/>
                  <a:pt x="18025" y="13392"/>
                  <a:pt x="17958" y="13789"/>
                </a:cubicBezTo>
                <a:cubicBezTo>
                  <a:pt x="17883" y="14187"/>
                  <a:pt x="17738" y="14585"/>
                  <a:pt x="17511" y="14987"/>
                </a:cubicBezTo>
                <a:moveTo>
                  <a:pt x="5799" y="10193"/>
                </a:moveTo>
                <a:cubicBezTo>
                  <a:pt x="5096" y="10221"/>
                  <a:pt x="4482" y="9996"/>
                  <a:pt x="3946" y="9496"/>
                </a:cubicBezTo>
                <a:cubicBezTo>
                  <a:pt x="3717" y="9285"/>
                  <a:pt x="3558" y="9028"/>
                  <a:pt x="3461" y="8724"/>
                </a:cubicBezTo>
                <a:cubicBezTo>
                  <a:pt x="3359" y="8420"/>
                  <a:pt x="3326" y="8088"/>
                  <a:pt x="3366" y="7723"/>
                </a:cubicBezTo>
                <a:cubicBezTo>
                  <a:pt x="3397" y="7363"/>
                  <a:pt x="3509" y="6989"/>
                  <a:pt x="3703" y="6610"/>
                </a:cubicBezTo>
                <a:cubicBezTo>
                  <a:pt x="3889" y="6231"/>
                  <a:pt x="4160" y="5852"/>
                  <a:pt x="4510" y="5487"/>
                </a:cubicBezTo>
                <a:cubicBezTo>
                  <a:pt x="5768" y="6694"/>
                  <a:pt x="7022" y="8018"/>
                  <a:pt x="8282" y="9388"/>
                </a:cubicBezTo>
                <a:cubicBezTo>
                  <a:pt x="7330" y="9893"/>
                  <a:pt x="6501" y="10164"/>
                  <a:pt x="5799" y="10193"/>
                </a:cubicBezTo>
                <a:moveTo>
                  <a:pt x="19678" y="8570"/>
                </a:moveTo>
                <a:cubicBezTo>
                  <a:pt x="18868" y="7915"/>
                  <a:pt x="18055" y="7470"/>
                  <a:pt x="17235" y="7250"/>
                </a:cubicBezTo>
                <a:cubicBezTo>
                  <a:pt x="16421" y="7031"/>
                  <a:pt x="15603" y="6942"/>
                  <a:pt x="14779" y="6998"/>
                </a:cubicBezTo>
                <a:cubicBezTo>
                  <a:pt x="13964" y="7059"/>
                  <a:pt x="13130" y="7236"/>
                  <a:pt x="12296" y="7545"/>
                </a:cubicBezTo>
                <a:cubicBezTo>
                  <a:pt x="11462" y="7859"/>
                  <a:pt x="10625" y="8200"/>
                  <a:pt x="9782" y="8593"/>
                </a:cubicBezTo>
                <a:cubicBezTo>
                  <a:pt x="8448" y="7115"/>
                  <a:pt x="7114" y="5658"/>
                  <a:pt x="5778" y="4299"/>
                </a:cubicBezTo>
                <a:cubicBezTo>
                  <a:pt x="6382" y="3775"/>
                  <a:pt x="6963" y="3509"/>
                  <a:pt x="7526" y="3490"/>
                </a:cubicBezTo>
                <a:cubicBezTo>
                  <a:pt x="8088" y="3467"/>
                  <a:pt x="8631" y="3523"/>
                  <a:pt x="9145" y="3649"/>
                </a:cubicBezTo>
                <a:cubicBezTo>
                  <a:pt x="9669" y="3775"/>
                  <a:pt x="10149" y="3883"/>
                  <a:pt x="10590" y="3967"/>
                </a:cubicBezTo>
                <a:cubicBezTo>
                  <a:pt x="11038" y="4051"/>
                  <a:pt x="11424" y="3958"/>
                  <a:pt x="11765" y="3682"/>
                </a:cubicBezTo>
                <a:cubicBezTo>
                  <a:pt x="12123" y="3382"/>
                  <a:pt x="12321" y="2994"/>
                  <a:pt x="12351" y="2526"/>
                </a:cubicBezTo>
                <a:cubicBezTo>
                  <a:pt x="12376" y="2054"/>
                  <a:pt x="12189" y="1596"/>
                  <a:pt x="11782" y="1147"/>
                </a:cubicBezTo>
                <a:cubicBezTo>
                  <a:pt x="11258" y="569"/>
                  <a:pt x="10630" y="216"/>
                  <a:pt x="9872" y="85"/>
                </a:cubicBezTo>
                <a:cubicBezTo>
                  <a:pt x="9126" y="-41"/>
                  <a:pt x="8358" y="-30"/>
                  <a:pt x="7564" y="136"/>
                </a:cubicBezTo>
                <a:cubicBezTo>
                  <a:pt x="6780" y="309"/>
                  <a:pt x="6032" y="595"/>
                  <a:pt x="5324" y="997"/>
                </a:cubicBezTo>
                <a:cubicBezTo>
                  <a:pt x="4617" y="1399"/>
                  <a:pt x="4048" y="1811"/>
                  <a:pt x="3626" y="2213"/>
                </a:cubicBezTo>
                <a:cubicBezTo>
                  <a:pt x="3464" y="2066"/>
                  <a:pt x="3302" y="1918"/>
                  <a:pt x="3141" y="1773"/>
                </a:cubicBezTo>
                <a:cubicBezTo>
                  <a:pt x="2963" y="1614"/>
                  <a:pt x="2739" y="1530"/>
                  <a:pt x="2471" y="1535"/>
                </a:cubicBezTo>
                <a:cubicBezTo>
                  <a:pt x="2200" y="1535"/>
                  <a:pt x="1977" y="1647"/>
                  <a:pt x="1793" y="1853"/>
                </a:cubicBezTo>
                <a:cubicBezTo>
                  <a:pt x="1615" y="2054"/>
                  <a:pt x="1530" y="2288"/>
                  <a:pt x="1565" y="2536"/>
                </a:cubicBezTo>
                <a:cubicBezTo>
                  <a:pt x="1589" y="2793"/>
                  <a:pt x="1696" y="2989"/>
                  <a:pt x="1880" y="3139"/>
                </a:cubicBezTo>
                <a:cubicBezTo>
                  <a:pt x="2044" y="3270"/>
                  <a:pt x="2203" y="3401"/>
                  <a:pt x="2364" y="3537"/>
                </a:cubicBezTo>
                <a:cubicBezTo>
                  <a:pt x="1731" y="4276"/>
                  <a:pt x="1207" y="5094"/>
                  <a:pt x="795" y="5957"/>
                </a:cubicBezTo>
                <a:cubicBezTo>
                  <a:pt x="378" y="6820"/>
                  <a:pt x="130" y="7676"/>
                  <a:pt x="37" y="8509"/>
                </a:cubicBezTo>
                <a:cubicBezTo>
                  <a:pt x="-59" y="9346"/>
                  <a:pt x="33" y="10113"/>
                  <a:pt x="298" y="10824"/>
                </a:cubicBezTo>
                <a:cubicBezTo>
                  <a:pt x="566" y="11540"/>
                  <a:pt x="1056" y="12148"/>
                  <a:pt x="1774" y="12723"/>
                </a:cubicBezTo>
                <a:cubicBezTo>
                  <a:pt x="2942" y="13658"/>
                  <a:pt x="4321" y="14056"/>
                  <a:pt x="5915" y="13967"/>
                </a:cubicBezTo>
                <a:cubicBezTo>
                  <a:pt x="7507" y="13874"/>
                  <a:pt x="9223" y="13415"/>
                  <a:pt x="11064" y="12461"/>
                </a:cubicBezTo>
                <a:cubicBezTo>
                  <a:pt x="12532" y="14093"/>
                  <a:pt x="14002" y="15716"/>
                  <a:pt x="15470" y="17223"/>
                </a:cubicBezTo>
                <a:cubicBezTo>
                  <a:pt x="14849" y="17728"/>
                  <a:pt x="14305" y="18018"/>
                  <a:pt x="13826" y="18111"/>
                </a:cubicBezTo>
                <a:cubicBezTo>
                  <a:pt x="13344" y="18210"/>
                  <a:pt x="12917" y="18200"/>
                  <a:pt x="12530" y="18088"/>
                </a:cubicBezTo>
                <a:cubicBezTo>
                  <a:pt x="12142" y="17971"/>
                  <a:pt x="11782" y="17803"/>
                  <a:pt x="11455" y="17587"/>
                </a:cubicBezTo>
                <a:cubicBezTo>
                  <a:pt x="11125" y="17368"/>
                  <a:pt x="10799" y="17181"/>
                  <a:pt x="10474" y="17026"/>
                </a:cubicBezTo>
                <a:cubicBezTo>
                  <a:pt x="10154" y="16872"/>
                  <a:pt x="9823" y="16788"/>
                  <a:pt x="9486" y="16783"/>
                </a:cubicBezTo>
                <a:cubicBezTo>
                  <a:pt x="9145" y="16778"/>
                  <a:pt x="8785" y="16937"/>
                  <a:pt x="8388" y="17265"/>
                </a:cubicBezTo>
                <a:cubicBezTo>
                  <a:pt x="7981" y="17606"/>
                  <a:pt x="7777" y="18004"/>
                  <a:pt x="7777" y="18453"/>
                </a:cubicBezTo>
                <a:cubicBezTo>
                  <a:pt x="7777" y="18897"/>
                  <a:pt x="7991" y="19351"/>
                  <a:pt x="8408" y="19809"/>
                </a:cubicBezTo>
                <a:cubicBezTo>
                  <a:pt x="8830" y="20268"/>
                  <a:pt x="9379" y="20651"/>
                  <a:pt x="10042" y="20955"/>
                </a:cubicBezTo>
                <a:cubicBezTo>
                  <a:pt x="10708" y="21259"/>
                  <a:pt x="11455" y="21451"/>
                  <a:pt x="12279" y="21502"/>
                </a:cubicBezTo>
                <a:cubicBezTo>
                  <a:pt x="13103" y="21559"/>
                  <a:pt x="13970" y="21437"/>
                  <a:pt x="14886" y="21109"/>
                </a:cubicBezTo>
                <a:cubicBezTo>
                  <a:pt x="15807" y="20787"/>
                  <a:pt x="16721" y="20202"/>
                  <a:pt x="17617" y="19332"/>
                </a:cubicBezTo>
                <a:cubicBezTo>
                  <a:pt x="18051" y="19739"/>
                  <a:pt x="18489" y="20127"/>
                  <a:pt x="18921" y="20501"/>
                </a:cubicBezTo>
                <a:cubicBezTo>
                  <a:pt x="19107" y="20656"/>
                  <a:pt x="19328" y="20731"/>
                  <a:pt x="19601" y="20712"/>
                </a:cubicBezTo>
                <a:cubicBezTo>
                  <a:pt x="19861" y="20703"/>
                  <a:pt x="20090" y="20586"/>
                  <a:pt x="20269" y="20375"/>
                </a:cubicBezTo>
                <a:cubicBezTo>
                  <a:pt x="20455" y="20160"/>
                  <a:pt x="20532" y="19921"/>
                  <a:pt x="20503" y="19674"/>
                </a:cubicBezTo>
                <a:cubicBezTo>
                  <a:pt x="20477" y="19421"/>
                  <a:pt x="20371" y="19229"/>
                  <a:pt x="20192" y="19089"/>
                </a:cubicBezTo>
                <a:cubicBezTo>
                  <a:pt x="19755" y="18752"/>
                  <a:pt x="19321" y="18397"/>
                  <a:pt x="18884" y="18022"/>
                </a:cubicBezTo>
                <a:cubicBezTo>
                  <a:pt x="19626" y="17143"/>
                  <a:pt x="20221" y="16217"/>
                  <a:pt x="20664" y="15300"/>
                </a:cubicBezTo>
                <a:cubicBezTo>
                  <a:pt x="21103" y="14379"/>
                  <a:pt x="21367" y="13490"/>
                  <a:pt x="21453" y="12667"/>
                </a:cubicBezTo>
                <a:cubicBezTo>
                  <a:pt x="21540" y="11839"/>
                  <a:pt x="21439" y="11091"/>
                  <a:pt x="21159" y="10412"/>
                </a:cubicBezTo>
                <a:cubicBezTo>
                  <a:pt x="20880" y="9725"/>
                  <a:pt x="20386" y="9135"/>
                  <a:pt x="19678" y="85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4"/>
          <p:cNvSpPr/>
          <p:nvPr/>
        </p:nvSpPr>
        <p:spPr>
          <a:xfrm>
            <a:off x="7012080" y="2655720"/>
            <a:ext cx="61920" cy="63720"/>
          </a:xfrm>
          <a:custGeom>
            <a:avLst/>
            <a:gdLst/>
            <a:ahLst/>
            <a:rect l="l" t="t" r="r" b="b"/>
            <a:pathLst>
              <a:path w="21188" h="21203">
                <a:moveTo>
                  <a:pt x="17615" y="468"/>
                </a:moveTo>
                <a:lnTo>
                  <a:pt x="17606" y="468"/>
                </a:lnTo>
                <a:cubicBezTo>
                  <a:pt x="14870" y="2476"/>
                  <a:pt x="12200" y="4590"/>
                  <a:pt x="9727" y="6958"/>
                </a:cubicBezTo>
                <a:cubicBezTo>
                  <a:pt x="7348" y="9227"/>
                  <a:pt x="5200" y="11619"/>
                  <a:pt x="3329" y="14060"/>
                </a:cubicBezTo>
                <a:lnTo>
                  <a:pt x="341" y="17962"/>
                </a:lnTo>
                <a:lnTo>
                  <a:pt x="350" y="17970"/>
                </a:lnTo>
                <a:cubicBezTo>
                  <a:pt x="-197" y="18786"/>
                  <a:pt x="-106" y="19880"/>
                  <a:pt x="638" y="20590"/>
                </a:cubicBezTo>
                <a:cubicBezTo>
                  <a:pt x="1491" y="21407"/>
                  <a:pt x="2889" y="21407"/>
                  <a:pt x="3746" y="20590"/>
                </a:cubicBezTo>
                <a:cubicBezTo>
                  <a:pt x="3877" y="20460"/>
                  <a:pt x="3984" y="20321"/>
                  <a:pt x="4069" y="20174"/>
                </a:cubicBezTo>
                <a:lnTo>
                  <a:pt x="6867" y="16517"/>
                </a:lnTo>
                <a:cubicBezTo>
                  <a:pt x="8601" y="14255"/>
                  <a:pt x="10606" y="12027"/>
                  <a:pt x="12824" y="9913"/>
                </a:cubicBezTo>
                <a:cubicBezTo>
                  <a:pt x="15281" y="7570"/>
                  <a:pt x="17557" y="5758"/>
                  <a:pt x="20329" y="3749"/>
                </a:cubicBezTo>
                <a:lnTo>
                  <a:pt x="20321" y="3741"/>
                </a:lnTo>
                <a:cubicBezTo>
                  <a:pt x="20400" y="3684"/>
                  <a:pt x="20473" y="3635"/>
                  <a:pt x="20543" y="3570"/>
                </a:cubicBezTo>
                <a:cubicBezTo>
                  <a:pt x="21402" y="2753"/>
                  <a:pt x="21402" y="1427"/>
                  <a:pt x="20543" y="606"/>
                </a:cubicBezTo>
                <a:cubicBezTo>
                  <a:pt x="19742" y="-161"/>
                  <a:pt x="18472" y="-193"/>
                  <a:pt x="1761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5"/>
          <p:cNvSpPr/>
          <p:nvPr/>
        </p:nvSpPr>
        <p:spPr>
          <a:xfrm>
            <a:off x="7075440" y="2441520"/>
            <a:ext cx="61920" cy="65160"/>
          </a:xfrm>
          <a:custGeom>
            <a:avLst/>
            <a:gdLst/>
            <a:ahLst/>
            <a:rect l="l" t="t" r="r" b="b"/>
            <a:pathLst>
              <a:path w="21180" h="21196">
                <a:moveTo>
                  <a:pt x="8372" y="11356"/>
                </a:moveTo>
                <a:cubicBezTo>
                  <a:pt x="6122" y="13508"/>
                  <a:pt x="3675" y="15444"/>
                  <a:pt x="1144" y="17292"/>
                </a:cubicBezTo>
                <a:cubicBezTo>
                  <a:pt x="963" y="17388"/>
                  <a:pt x="786" y="17493"/>
                  <a:pt x="637" y="17645"/>
                </a:cubicBezTo>
                <a:cubicBezTo>
                  <a:pt x="-213" y="18457"/>
                  <a:pt x="-213" y="19774"/>
                  <a:pt x="637" y="20585"/>
                </a:cubicBezTo>
                <a:cubicBezTo>
                  <a:pt x="1464" y="21380"/>
                  <a:pt x="2796" y="21397"/>
                  <a:pt x="3652" y="20641"/>
                </a:cubicBezTo>
                <a:lnTo>
                  <a:pt x="3665" y="20649"/>
                </a:lnTo>
                <a:cubicBezTo>
                  <a:pt x="6364" y="18673"/>
                  <a:pt x="8988" y="16581"/>
                  <a:pt x="11419" y="14263"/>
                </a:cubicBezTo>
                <a:cubicBezTo>
                  <a:pt x="13759" y="12030"/>
                  <a:pt x="15873" y="9685"/>
                  <a:pt x="17715" y="7283"/>
                </a:cubicBezTo>
                <a:lnTo>
                  <a:pt x="20663" y="3427"/>
                </a:lnTo>
                <a:lnTo>
                  <a:pt x="20654" y="3419"/>
                </a:lnTo>
                <a:cubicBezTo>
                  <a:pt x="21386" y="2600"/>
                  <a:pt x="21357" y="1379"/>
                  <a:pt x="20541" y="608"/>
                </a:cubicBezTo>
                <a:cubicBezTo>
                  <a:pt x="19697" y="-203"/>
                  <a:pt x="18323" y="-203"/>
                  <a:pt x="17468" y="608"/>
                </a:cubicBezTo>
                <a:cubicBezTo>
                  <a:pt x="17313" y="760"/>
                  <a:pt x="17197" y="937"/>
                  <a:pt x="17094" y="1114"/>
                </a:cubicBezTo>
                <a:lnTo>
                  <a:pt x="14228" y="4857"/>
                </a:lnTo>
                <a:cubicBezTo>
                  <a:pt x="12526" y="7090"/>
                  <a:pt x="10552" y="9275"/>
                  <a:pt x="8372" y="1135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7486560" y="2216160"/>
            <a:ext cx="12178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900" spc="-1" strike="noStrike">
                <a:solidFill>
                  <a:srgbClr val="000000"/>
                </a:solidFill>
                <a:latin typeface="Arial"/>
                <a:ea typeface="微软雅黑"/>
              </a:rPr>
              <a:t>89%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120"/>
          <p:cNvSpPr/>
          <p:nvPr/>
        </p:nvSpPr>
        <p:spPr>
          <a:xfrm>
            <a:off x="1550880" y="4861080"/>
            <a:ext cx="17964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48" y="16070"/>
                </a:moveTo>
                <a:cubicBezTo>
                  <a:pt x="14037" y="19468"/>
                  <a:pt x="8925" y="19859"/>
                  <a:pt x="5529" y="16948"/>
                </a:cubicBezTo>
                <a:cubicBezTo>
                  <a:pt x="2130" y="14038"/>
                  <a:pt x="1740" y="8924"/>
                  <a:pt x="4651" y="5527"/>
                </a:cubicBezTo>
                <a:cubicBezTo>
                  <a:pt x="7559" y="2131"/>
                  <a:pt x="12674" y="1740"/>
                  <a:pt x="16070" y="4650"/>
                </a:cubicBezTo>
                <a:cubicBezTo>
                  <a:pt x="19466" y="7560"/>
                  <a:pt x="19859" y="12673"/>
                  <a:pt x="16948" y="16070"/>
                </a:cubicBezTo>
                <a:moveTo>
                  <a:pt x="10800" y="0"/>
                </a:moveTo>
                <a:cubicBezTo>
                  <a:pt x="4833" y="0"/>
                  <a:pt x="0" y="4834"/>
                  <a:pt x="0" y="10800"/>
                </a:cubicBezTo>
                <a:cubicBezTo>
                  <a:pt x="0" y="16765"/>
                  <a:pt x="4833" y="21599"/>
                  <a:pt x="10800" y="21599"/>
                </a:cubicBezTo>
                <a:cubicBezTo>
                  <a:pt x="16764" y="21599"/>
                  <a:pt x="21600" y="16765"/>
                  <a:pt x="21600" y="10800"/>
                </a:cubicBezTo>
                <a:cubicBezTo>
                  <a:pt x="21600" y="4834"/>
                  <a:pt x="16764" y="0"/>
                  <a:pt x="108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121"/>
          <p:cNvSpPr/>
          <p:nvPr/>
        </p:nvSpPr>
        <p:spPr>
          <a:xfrm>
            <a:off x="1595520" y="4905360"/>
            <a:ext cx="5076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00" y="0"/>
                </a:moveTo>
                <a:cubicBezTo>
                  <a:pt x="8596" y="0"/>
                  <a:pt x="0" y="8596"/>
                  <a:pt x="0" y="19195"/>
                </a:cubicBezTo>
                <a:lnTo>
                  <a:pt x="0" y="19199"/>
                </a:lnTo>
                <a:cubicBezTo>
                  <a:pt x="0" y="20524"/>
                  <a:pt x="1068" y="21599"/>
                  <a:pt x="2400" y="21599"/>
                </a:cubicBezTo>
                <a:cubicBezTo>
                  <a:pt x="3721" y="21599"/>
                  <a:pt x="4800" y="20524"/>
                  <a:pt x="4800" y="19199"/>
                </a:cubicBezTo>
                <a:lnTo>
                  <a:pt x="4800" y="19195"/>
                </a:lnTo>
                <a:cubicBezTo>
                  <a:pt x="4800" y="11247"/>
                  <a:pt x="11240" y="4799"/>
                  <a:pt x="19200" y="4799"/>
                </a:cubicBezTo>
                <a:cubicBezTo>
                  <a:pt x="20521" y="4799"/>
                  <a:pt x="21600" y="3724"/>
                  <a:pt x="21600" y="2399"/>
                </a:cubicBezTo>
                <a:cubicBezTo>
                  <a:pt x="21600" y="1075"/>
                  <a:pt x="20521" y="0"/>
                  <a:pt x="192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AutoShape 122"/>
          <p:cNvSpPr/>
          <p:nvPr/>
        </p:nvSpPr>
        <p:spPr>
          <a:xfrm>
            <a:off x="1460520" y="4781520"/>
            <a:ext cx="3603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19199"/>
                </a:moveTo>
                <a:cubicBezTo>
                  <a:pt x="20249" y="19642"/>
                  <a:pt x="19948" y="19999"/>
                  <a:pt x="19575" y="19999"/>
                </a:cubicBezTo>
                <a:lnTo>
                  <a:pt x="2024" y="19999"/>
                </a:lnTo>
                <a:cubicBezTo>
                  <a:pt x="1651" y="19999"/>
                  <a:pt x="1349" y="19642"/>
                  <a:pt x="1349" y="19199"/>
                </a:cubicBezTo>
                <a:lnTo>
                  <a:pt x="1349" y="7200"/>
                </a:lnTo>
                <a:cubicBezTo>
                  <a:pt x="1349" y="6809"/>
                  <a:pt x="1588" y="6475"/>
                  <a:pt x="1914" y="6411"/>
                </a:cubicBezTo>
                <a:lnTo>
                  <a:pt x="5588" y="5684"/>
                </a:lnTo>
                <a:lnTo>
                  <a:pt x="6797" y="2103"/>
                </a:lnTo>
                <a:cubicBezTo>
                  <a:pt x="6900" y="1799"/>
                  <a:pt x="7148" y="1600"/>
                  <a:pt x="7424" y="1600"/>
                </a:cubicBezTo>
                <a:lnTo>
                  <a:pt x="14174" y="1600"/>
                </a:lnTo>
                <a:cubicBezTo>
                  <a:pt x="14450" y="1600"/>
                  <a:pt x="14698" y="1799"/>
                  <a:pt x="14801" y="2103"/>
                </a:cubicBezTo>
                <a:lnTo>
                  <a:pt x="16010" y="5684"/>
                </a:lnTo>
                <a:lnTo>
                  <a:pt x="19685" y="6411"/>
                </a:lnTo>
                <a:cubicBezTo>
                  <a:pt x="20011" y="6475"/>
                  <a:pt x="20249" y="6809"/>
                  <a:pt x="20249" y="7200"/>
                </a:cubicBezTo>
                <a:cubicBezTo>
                  <a:pt x="20249" y="7200"/>
                  <a:pt x="20249" y="19199"/>
                  <a:pt x="20249" y="19199"/>
                </a:cubicBezTo>
                <a:close/>
                <a:moveTo>
                  <a:pt x="19907" y="4832"/>
                </a:moveTo>
                <a:lnTo>
                  <a:pt x="16981" y="4254"/>
                </a:lnTo>
                <a:lnTo>
                  <a:pt x="16054" y="1507"/>
                </a:lnTo>
                <a:cubicBezTo>
                  <a:pt x="15745" y="591"/>
                  <a:pt x="15006" y="0"/>
                  <a:pt x="14174" y="0"/>
                </a:cubicBezTo>
                <a:lnTo>
                  <a:pt x="7424" y="0"/>
                </a:lnTo>
                <a:cubicBezTo>
                  <a:pt x="6593" y="0"/>
                  <a:pt x="5854" y="591"/>
                  <a:pt x="5543" y="1509"/>
                </a:cubicBezTo>
                <a:lnTo>
                  <a:pt x="4618" y="4254"/>
                </a:lnTo>
                <a:lnTo>
                  <a:pt x="1692" y="4832"/>
                </a:lnTo>
                <a:cubicBezTo>
                  <a:pt x="711" y="5025"/>
                  <a:pt x="0" y="6020"/>
                  <a:pt x="0" y="7200"/>
                </a:cubicBezTo>
                <a:lnTo>
                  <a:pt x="0" y="19199"/>
                </a:lnTo>
                <a:cubicBezTo>
                  <a:pt x="0" y="20523"/>
                  <a:pt x="908" y="21600"/>
                  <a:pt x="2024" y="21600"/>
                </a:cubicBezTo>
                <a:lnTo>
                  <a:pt x="19575" y="21600"/>
                </a:lnTo>
                <a:cubicBezTo>
                  <a:pt x="20691" y="21600"/>
                  <a:pt x="21600" y="20523"/>
                  <a:pt x="21600" y="19199"/>
                </a:cubicBezTo>
                <a:lnTo>
                  <a:pt x="21600" y="7200"/>
                </a:lnTo>
                <a:cubicBezTo>
                  <a:pt x="21600" y="6020"/>
                  <a:pt x="20888" y="5025"/>
                  <a:pt x="19907" y="4832"/>
                </a:cubicBez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48"/>
          <p:cNvSpPr/>
          <p:nvPr/>
        </p:nvSpPr>
        <p:spPr>
          <a:xfrm>
            <a:off x="3817800" y="4753080"/>
            <a:ext cx="31608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7425"/>
                </a:moveTo>
                <a:cubicBezTo>
                  <a:pt x="5687" y="7425"/>
                  <a:pt x="1542" y="6064"/>
                  <a:pt x="1542" y="4387"/>
                </a:cubicBezTo>
                <a:cubicBezTo>
                  <a:pt x="1542" y="2709"/>
                  <a:pt x="5687" y="1350"/>
                  <a:pt x="10800" y="1350"/>
                </a:cubicBezTo>
                <a:cubicBezTo>
                  <a:pt x="15912" y="1350"/>
                  <a:pt x="20057" y="2709"/>
                  <a:pt x="20057" y="4387"/>
                </a:cubicBezTo>
                <a:cubicBezTo>
                  <a:pt x="20057" y="6064"/>
                  <a:pt x="15912" y="7425"/>
                  <a:pt x="10800" y="7425"/>
                </a:cubicBezTo>
                <a:moveTo>
                  <a:pt x="20057" y="9112"/>
                </a:moveTo>
                <a:lnTo>
                  <a:pt x="20054" y="9112"/>
                </a:lnTo>
                <a:cubicBezTo>
                  <a:pt x="20054" y="9119"/>
                  <a:pt x="20057" y="9127"/>
                  <a:pt x="20057" y="9133"/>
                </a:cubicBezTo>
                <a:cubicBezTo>
                  <a:pt x="20057" y="10800"/>
                  <a:pt x="15912" y="12150"/>
                  <a:pt x="10800" y="12150"/>
                </a:cubicBezTo>
                <a:cubicBezTo>
                  <a:pt x="5687" y="12150"/>
                  <a:pt x="1542" y="10800"/>
                  <a:pt x="1542" y="9133"/>
                </a:cubicBezTo>
                <a:cubicBezTo>
                  <a:pt x="1542" y="9127"/>
                  <a:pt x="1545" y="9119"/>
                  <a:pt x="1545" y="9112"/>
                </a:cubicBezTo>
                <a:lnTo>
                  <a:pt x="1542" y="9112"/>
                </a:lnTo>
                <a:lnTo>
                  <a:pt x="1542" y="6793"/>
                </a:lnTo>
                <a:cubicBezTo>
                  <a:pt x="3564" y="8140"/>
                  <a:pt x="7271" y="8774"/>
                  <a:pt x="10800" y="8774"/>
                </a:cubicBezTo>
                <a:cubicBezTo>
                  <a:pt x="14328" y="8774"/>
                  <a:pt x="18035" y="8140"/>
                  <a:pt x="20057" y="6793"/>
                </a:cubicBezTo>
                <a:cubicBezTo>
                  <a:pt x="20057" y="6793"/>
                  <a:pt x="20057" y="9112"/>
                  <a:pt x="20057" y="9112"/>
                </a:cubicBezTo>
                <a:close/>
                <a:moveTo>
                  <a:pt x="20057" y="13162"/>
                </a:moveTo>
                <a:lnTo>
                  <a:pt x="20054" y="13162"/>
                </a:lnTo>
                <a:cubicBezTo>
                  <a:pt x="20054" y="13169"/>
                  <a:pt x="20057" y="13177"/>
                  <a:pt x="20057" y="13183"/>
                </a:cubicBezTo>
                <a:cubicBezTo>
                  <a:pt x="20057" y="14850"/>
                  <a:pt x="15912" y="16200"/>
                  <a:pt x="10800" y="16200"/>
                </a:cubicBezTo>
                <a:cubicBezTo>
                  <a:pt x="5687" y="16200"/>
                  <a:pt x="1542" y="14850"/>
                  <a:pt x="1542" y="13183"/>
                </a:cubicBezTo>
                <a:cubicBezTo>
                  <a:pt x="1542" y="13177"/>
                  <a:pt x="1545" y="13169"/>
                  <a:pt x="1545" y="13162"/>
                </a:cubicBezTo>
                <a:lnTo>
                  <a:pt x="1542" y="13162"/>
                </a:lnTo>
                <a:lnTo>
                  <a:pt x="1542" y="10640"/>
                </a:lnTo>
                <a:cubicBezTo>
                  <a:pt x="3136" y="12077"/>
                  <a:pt x="6982" y="12825"/>
                  <a:pt x="10800" y="12825"/>
                </a:cubicBezTo>
                <a:cubicBezTo>
                  <a:pt x="14617" y="12825"/>
                  <a:pt x="18463" y="12077"/>
                  <a:pt x="20057" y="10640"/>
                </a:cubicBezTo>
                <a:cubicBezTo>
                  <a:pt x="20057" y="10640"/>
                  <a:pt x="20057" y="13162"/>
                  <a:pt x="20057" y="13162"/>
                </a:cubicBezTo>
                <a:close/>
                <a:moveTo>
                  <a:pt x="20057" y="17212"/>
                </a:moveTo>
                <a:cubicBezTo>
                  <a:pt x="20057" y="18889"/>
                  <a:pt x="15912" y="20249"/>
                  <a:pt x="10800" y="20249"/>
                </a:cubicBezTo>
                <a:cubicBezTo>
                  <a:pt x="5687" y="20249"/>
                  <a:pt x="1542" y="18889"/>
                  <a:pt x="1542" y="17212"/>
                </a:cubicBezTo>
                <a:lnTo>
                  <a:pt x="1542" y="14690"/>
                </a:lnTo>
                <a:cubicBezTo>
                  <a:pt x="3136" y="16127"/>
                  <a:pt x="6982" y="16875"/>
                  <a:pt x="10800" y="16875"/>
                </a:cubicBezTo>
                <a:cubicBezTo>
                  <a:pt x="14617" y="16875"/>
                  <a:pt x="18463" y="16127"/>
                  <a:pt x="20057" y="14690"/>
                </a:cubicBezTo>
                <a:cubicBezTo>
                  <a:pt x="20057" y="14690"/>
                  <a:pt x="20057" y="17212"/>
                  <a:pt x="20057" y="17212"/>
                </a:cubicBezTo>
                <a:close/>
                <a:moveTo>
                  <a:pt x="10800" y="0"/>
                </a:moveTo>
                <a:cubicBezTo>
                  <a:pt x="5598" y="0"/>
                  <a:pt x="0" y="1372"/>
                  <a:pt x="0" y="4387"/>
                </a:cubicBezTo>
                <a:lnTo>
                  <a:pt x="0" y="17212"/>
                </a:lnTo>
                <a:cubicBezTo>
                  <a:pt x="0" y="20226"/>
                  <a:pt x="5598" y="21599"/>
                  <a:pt x="10800" y="21599"/>
                </a:cubicBezTo>
                <a:cubicBezTo>
                  <a:pt x="16001" y="21599"/>
                  <a:pt x="21599" y="20226"/>
                  <a:pt x="21599" y="17212"/>
                </a:cubicBezTo>
                <a:lnTo>
                  <a:pt x="21599" y="4387"/>
                </a:lnTo>
                <a:cubicBezTo>
                  <a:pt x="21599" y="1372"/>
                  <a:pt x="16001" y="0"/>
                  <a:pt x="10800" y="0"/>
                </a:cubicBezTo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AutoShape 49"/>
          <p:cNvSpPr/>
          <p:nvPr/>
        </p:nvSpPr>
        <p:spPr>
          <a:xfrm>
            <a:off x="4065480" y="5035680"/>
            <a:ext cx="22320" cy="2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0"/>
          <p:cNvSpPr/>
          <p:nvPr/>
        </p:nvSpPr>
        <p:spPr>
          <a:xfrm>
            <a:off x="4065480" y="4967280"/>
            <a:ext cx="22320" cy="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AutoShape 51"/>
          <p:cNvSpPr/>
          <p:nvPr/>
        </p:nvSpPr>
        <p:spPr>
          <a:xfrm>
            <a:off x="4065480" y="4898880"/>
            <a:ext cx="22320" cy="2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AutoShape 28"/>
          <p:cNvSpPr/>
          <p:nvPr/>
        </p:nvSpPr>
        <p:spPr>
          <a:xfrm>
            <a:off x="6173640" y="4749840"/>
            <a:ext cx="36216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9450"/>
                </a:moveTo>
                <a:cubicBezTo>
                  <a:pt x="20249" y="9823"/>
                  <a:pt x="19947" y="10124"/>
                  <a:pt x="19575" y="10124"/>
                </a:cubicBezTo>
                <a:lnTo>
                  <a:pt x="18324" y="10124"/>
                </a:lnTo>
                <a:lnTo>
                  <a:pt x="15624" y="5400"/>
                </a:lnTo>
                <a:lnTo>
                  <a:pt x="17549" y="5400"/>
                </a:lnTo>
                <a:cubicBezTo>
                  <a:pt x="17762" y="5400"/>
                  <a:pt x="17962" y="5500"/>
                  <a:pt x="18089" y="5670"/>
                </a:cubicBezTo>
                <a:lnTo>
                  <a:pt x="20114" y="8370"/>
                </a:lnTo>
                <a:cubicBezTo>
                  <a:pt x="20202" y="8486"/>
                  <a:pt x="20249" y="8628"/>
                  <a:pt x="20249" y="8774"/>
                </a:cubicBezTo>
                <a:cubicBezTo>
                  <a:pt x="20249" y="8774"/>
                  <a:pt x="20249" y="9450"/>
                  <a:pt x="20249" y="9450"/>
                </a:cubicBezTo>
                <a:close/>
                <a:moveTo>
                  <a:pt x="18224" y="20249"/>
                </a:moveTo>
                <a:lnTo>
                  <a:pt x="14174" y="20249"/>
                </a:lnTo>
                <a:lnTo>
                  <a:pt x="14174" y="13500"/>
                </a:lnTo>
                <a:cubicBezTo>
                  <a:pt x="14174" y="13126"/>
                  <a:pt x="13872" y="12825"/>
                  <a:pt x="13499" y="12825"/>
                </a:cubicBezTo>
                <a:lnTo>
                  <a:pt x="8437" y="12825"/>
                </a:lnTo>
                <a:cubicBezTo>
                  <a:pt x="8064" y="12825"/>
                  <a:pt x="7762" y="13126"/>
                  <a:pt x="7762" y="13500"/>
                </a:cubicBezTo>
                <a:lnTo>
                  <a:pt x="7762" y="20249"/>
                </a:lnTo>
                <a:lnTo>
                  <a:pt x="3374" y="20249"/>
                </a:lnTo>
                <a:lnTo>
                  <a:pt x="3374" y="11475"/>
                </a:lnTo>
                <a:lnTo>
                  <a:pt x="18224" y="11475"/>
                </a:lnTo>
                <a:cubicBezTo>
                  <a:pt x="18224" y="11475"/>
                  <a:pt x="18224" y="20249"/>
                  <a:pt x="18224" y="20249"/>
                </a:cubicBezTo>
                <a:close/>
                <a:moveTo>
                  <a:pt x="13499" y="20249"/>
                </a:moveTo>
                <a:lnTo>
                  <a:pt x="8437" y="20249"/>
                </a:lnTo>
                <a:lnTo>
                  <a:pt x="8437" y="13500"/>
                </a:lnTo>
                <a:lnTo>
                  <a:pt x="13499" y="13500"/>
                </a:lnTo>
                <a:cubicBezTo>
                  <a:pt x="13499" y="13500"/>
                  <a:pt x="13499" y="20249"/>
                  <a:pt x="13499" y="20249"/>
                </a:cubicBezTo>
                <a:close/>
                <a:moveTo>
                  <a:pt x="1349" y="9450"/>
                </a:moveTo>
                <a:lnTo>
                  <a:pt x="1349" y="8774"/>
                </a:lnTo>
                <a:cubicBezTo>
                  <a:pt x="1349" y="8628"/>
                  <a:pt x="1397" y="8486"/>
                  <a:pt x="1485" y="8370"/>
                </a:cubicBezTo>
                <a:lnTo>
                  <a:pt x="3510" y="5670"/>
                </a:lnTo>
                <a:cubicBezTo>
                  <a:pt x="3637" y="5500"/>
                  <a:pt x="3837" y="5400"/>
                  <a:pt x="4049" y="5400"/>
                </a:cubicBezTo>
                <a:lnTo>
                  <a:pt x="5975" y="5400"/>
                </a:lnTo>
                <a:lnTo>
                  <a:pt x="3275" y="10124"/>
                </a:lnTo>
                <a:lnTo>
                  <a:pt x="2024" y="10124"/>
                </a:lnTo>
                <a:cubicBezTo>
                  <a:pt x="1652" y="10124"/>
                  <a:pt x="1349" y="9823"/>
                  <a:pt x="1349" y="9450"/>
                </a:cubicBezTo>
                <a:moveTo>
                  <a:pt x="13369" y="5400"/>
                </a:moveTo>
                <a:lnTo>
                  <a:pt x="14846" y="5400"/>
                </a:lnTo>
                <a:lnTo>
                  <a:pt x="17546" y="10124"/>
                </a:lnTo>
                <a:lnTo>
                  <a:pt x="14719" y="10124"/>
                </a:lnTo>
                <a:cubicBezTo>
                  <a:pt x="14719" y="10124"/>
                  <a:pt x="13369" y="5400"/>
                  <a:pt x="13369" y="5400"/>
                </a:cubicBezTo>
                <a:close/>
                <a:moveTo>
                  <a:pt x="11137" y="5400"/>
                </a:moveTo>
                <a:lnTo>
                  <a:pt x="12666" y="5400"/>
                </a:lnTo>
                <a:lnTo>
                  <a:pt x="14016" y="10124"/>
                </a:lnTo>
                <a:lnTo>
                  <a:pt x="11137" y="10124"/>
                </a:lnTo>
                <a:cubicBezTo>
                  <a:pt x="11137" y="10124"/>
                  <a:pt x="11137" y="5400"/>
                  <a:pt x="11137" y="5400"/>
                </a:cubicBezTo>
                <a:close/>
                <a:moveTo>
                  <a:pt x="8932" y="5400"/>
                </a:moveTo>
                <a:lnTo>
                  <a:pt x="10462" y="5400"/>
                </a:lnTo>
                <a:lnTo>
                  <a:pt x="10462" y="10124"/>
                </a:lnTo>
                <a:lnTo>
                  <a:pt x="7582" y="10124"/>
                </a:lnTo>
                <a:cubicBezTo>
                  <a:pt x="7582" y="10124"/>
                  <a:pt x="8932" y="5400"/>
                  <a:pt x="8932" y="5400"/>
                </a:cubicBezTo>
                <a:close/>
                <a:moveTo>
                  <a:pt x="6880" y="10124"/>
                </a:moveTo>
                <a:lnTo>
                  <a:pt x="4052" y="10124"/>
                </a:lnTo>
                <a:lnTo>
                  <a:pt x="6752" y="5400"/>
                </a:lnTo>
                <a:lnTo>
                  <a:pt x="8230" y="5400"/>
                </a:lnTo>
                <a:cubicBezTo>
                  <a:pt x="8230" y="5400"/>
                  <a:pt x="6880" y="10124"/>
                  <a:pt x="6880" y="10124"/>
                </a:cubicBezTo>
                <a:close/>
                <a:moveTo>
                  <a:pt x="17549" y="1350"/>
                </a:moveTo>
                <a:lnTo>
                  <a:pt x="17549" y="4050"/>
                </a:lnTo>
                <a:lnTo>
                  <a:pt x="4049" y="4050"/>
                </a:lnTo>
                <a:lnTo>
                  <a:pt x="4049" y="1350"/>
                </a:lnTo>
                <a:cubicBezTo>
                  <a:pt x="4049" y="1350"/>
                  <a:pt x="17549" y="1350"/>
                  <a:pt x="17549" y="1350"/>
                </a:cubicBezTo>
                <a:close/>
                <a:moveTo>
                  <a:pt x="21194" y="7560"/>
                </a:moveTo>
                <a:lnTo>
                  <a:pt x="19170" y="4861"/>
                </a:lnTo>
                <a:cubicBezTo>
                  <a:pt x="19091" y="4755"/>
                  <a:pt x="18997" y="4663"/>
                  <a:pt x="18899" y="4576"/>
                </a:cubicBezTo>
                <a:lnTo>
                  <a:pt x="18899" y="1350"/>
                </a:lnTo>
                <a:cubicBezTo>
                  <a:pt x="18899" y="605"/>
                  <a:pt x="18295" y="0"/>
                  <a:pt x="17549" y="0"/>
                </a:cubicBezTo>
                <a:lnTo>
                  <a:pt x="4049" y="0"/>
                </a:lnTo>
                <a:cubicBezTo>
                  <a:pt x="3304" y="0"/>
                  <a:pt x="2699" y="605"/>
                  <a:pt x="2699" y="1350"/>
                </a:cubicBezTo>
                <a:lnTo>
                  <a:pt x="2699" y="4576"/>
                </a:lnTo>
                <a:cubicBezTo>
                  <a:pt x="2602" y="4663"/>
                  <a:pt x="2508" y="4754"/>
                  <a:pt x="2430" y="4860"/>
                </a:cubicBezTo>
                <a:lnTo>
                  <a:pt x="406" y="7559"/>
                </a:lnTo>
                <a:cubicBezTo>
                  <a:pt x="143" y="7907"/>
                  <a:pt x="0" y="8338"/>
                  <a:pt x="0" y="8774"/>
                </a:cubicBezTo>
                <a:lnTo>
                  <a:pt x="0" y="9450"/>
                </a:lnTo>
                <a:cubicBezTo>
                  <a:pt x="0" y="10566"/>
                  <a:pt x="908" y="11475"/>
                  <a:pt x="2024" y="11475"/>
                </a:cubicBezTo>
                <a:lnTo>
                  <a:pt x="2024" y="20249"/>
                </a:lnTo>
                <a:cubicBezTo>
                  <a:pt x="2024" y="20994"/>
                  <a:pt x="2629" y="21599"/>
                  <a:pt x="3374" y="21599"/>
                </a:cubicBezTo>
                <a:lnTo>
                  <a:pt x="18224" y="21599"/>
                </a:lnTo>
                <a:cubicBezTo>
                  <a:pt x="18970" y="21599"/>
                  <a:pt x="19575" y="20994"/>
                  <a:pt x="19575" y="20249"/>
                </a:cubicBezTo>
                <a:lnTo>
                  <a:pt x="19575" y="11475"/>
                </a:lnTo>
                <a:cubicBezTo>
                  <a:pt x="20691" y="11475"/>
                  <a:pt x="21600" y="10566"/>
                  <a:pt x="21600" y="9450"/>
                </a:cubicBezTo>
                <a:lnTo>
                  <a:pt x="21600" y="8774"/>
                </a:lnTo>
                <a:cubicBezTo>
                  <a:pt x="21600" y="8338"/>
                  <a:pt x="21456" y="7907"/>
                  <a:pt x="21194" y="756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27"/>
          <p:cNvSpPr/>
          <p:nvPr/>
        </p:nvSpPr>
        <p:spPr>
          <a:xfrm>
            <a:off x="329256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63"/>
          <p:cNvSpPr/>
          <p:nvPr/>
        </p:nvSpPr>
        <p:spPr>
          <a:xfrm>
            <a:off x="562608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784920" y="3156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784920" y="34290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82560" y="22986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396720" y="2543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682560" y="33242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396720" y="3567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3840120" y="4849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3817800" y="5270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1484280" y="48909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46052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6232680" y="48909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620856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图片 44" descr=""/>
          <p:cNvPicPr/>
          <p:nvPr/>
        </p:nvPicPr>
        <p:blipFill>
          <a:blip r:embed="rId6"/>
          <a:stretch/>
        </p:blipFill>
        <p:spPr>
          <a:xfrm>
            <a:off x="3100320" y="2330280"/>
            <a:ext cx="28958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6T14:27:22Z</dcterms:created>
  <dc:creator>Administrator</dc:creator>
  <dc:description/>
  <dc:language>en-US</dc:language>
  <cp:lastModifiedBy>my</cp:lastModifiedBy>
  <dcterms:modified xsi:type="dcterms:W3CDTF">2015-10-24T03:10:26Z</dcterms:modified>
  <cp:revision>43</cp:revision>
  <dc:subject/>
  <dc:title>PowerPoint 演示文稿</dc:title>
</cp:coreProperties>
</file>