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FA8B-BF4A-4BA4-8E9F-1816C0D7C31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EE4C-8565-4D3F-B1B3-F4D386655BB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8FFF-4B06-4E88-A171-D78519BD9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5BB1-F5A0-4A88-9A86-00BF0F80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87C6-943F-4692-94BF-07052AF37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057A-A264-483C-A1FE-75E59D7C8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A3A-68CF-49BF-B029-55AD3024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472-A0AF-422F-9C58-0DEE80E7C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C61B-48C2-46E0-A23B-8918D702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2D6B-47FD-4015-AE0C-D87B99CA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C914-74AC-4527-ABA9-30E270DC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41D6-E878-434C-963A-9111EE33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4B39-B030-436B-8915-F7116D6F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700-01E4-451D-A712-626B6BEB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734F-A4D0-45D1-85F3-F6479455839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B8E9A-8AE8-41F0-B648-622390CF5E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77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0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0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nodeType="clickEffect" fill="hold">
                      <p:stCondLst>
                        <p:cond delay="0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7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50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3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6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0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2" dur="19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70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nodeType="clickEffect" fill="hold">
                      <p:stCondLst>
                        <p:cond delay="0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0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0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5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8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0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6"/>
          <p:cNvSpPr/>
          <p:nvPr/>
        </p:nvSpPr>
        <p:spPr>
          <a:xfrm>
            <a:off x="5958000" y="-992160"/>
            <a:ext cx="276120" cy="274680"/>
          </a:xfrm>
          <a:prstGeom prst="ellipse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"/>
          <p:cNvSpPr/>
          <p:nvPr/>
        </p:nvSpPr>
        <p:spPr>
          <a:xfrm>
            <a:off x="5055120" y="3090960"/>
            <a:ext cx="14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8"/>
          <p:cNvSpPr/>
          <p:nvPr/>
        </p:nvSpPr>
        <p:spPr>
          <a:xfrm>
            <a:off x="6325200" y="308916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6"/>
          <p:cNvSpPr/>
          <p:nvPr/>
        </p:nvSpPr>
        <p:spPr>
          <a:xfrm>
            <a:off x="4853160" y="0"/>
            <a:ext cx="2485800" cy="1768320"/>
          </a:xfrm>
          <a:prstGeom prst="rect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016600" y="1768320"/>
            <a:ext cx="21398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20"/>
          <p:cNvSpPr/>
          <p:nvPr/>
        </p:nvSpPr>
        <p:spPr>
          <a:xfrm>
            <a:off x="4946760" y="1700280"/>
            <a:ext cx="16488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1"/>
          <p:cNvSpPr/>
          <p:nvPr/>
        </p:nvSpPr>
        <p:spPr>
          <a:xfrm>
            <a:off x="5076000" y="308916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39"/>
          <p:cNvSpPr/>
          <p:nvPr/>
        </p:nvSpPr>
        <p:spPr>
          <a:xfrm>
            <a:off x="6006960" y="3365640"/>
            <a:ext cx="169920" cy="16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8"/>
          <p:cNvGrpSpPr/>
          <p:nvPr/>
        </p:nvGrpSpPr>
        <p:grpSpPr>
          <a:xfrm>
            <a:off x="6574680" y="2839680"/>
            <a:ext cx="702720" cy="696600"/>
            <a:chOff x="6574680" y="2839680"/>
            <a:chExt cx="702720" cy="696600"/>
          </a:xfrm>
        </p:grpSpPr>
        <p:sp>
          <p:nvSpPr>
            <p:cNvPr id="450" name="任意多边形 5"/>
            <p:cNvSpPr/>
            <p:nvPr/>
          </p:nvSpPr>
          <p:spPr>
            <a:xfrm rot="1986600">
              <a:off x="6774480" y="2880000"/>
              <a:ext cx="214920" cy="222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40"/>
            <p:cNvSpPr/>
            <p:nvPr/>
          </p:nvSpPr>
          <p:spPr>
            <a:xfrm flipH="1" rot="1986600">
              <a:off x="7018920" y="3039480"/>
              <a:ext cx="214920" cy="22248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41"/>
            <p:cNvSpPr/>
            <p:nvPr/>
          </p:nvSpPr>
          <p:spPr>
            <a:xfrm rot="18187200">
              <a:off x="6618600" y="3112920"/>
              <a:ext cx="215280" cy="222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42"/>
            <p:cNvSpPr/>
            <p:nvPr/>
          </p:nvSpPr>
          <p:spPr>
            <a:xfrm flipH="1" rot="7386600">
              <a:off x="6866280" y="3274200"/>
              <a:ext cx="215280" cy="222120"/>
            </a:xfrm>
            <a:custGeom>
              <a:avLst/>
              <a:gdLst>
                <a:gd name="textAreaLeft" fmla="*/ 360 w 215280"/>
                <a:gd name="textAreaRight" fmla="*/ 21600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0.57037 E">
                                      <p:cBhvr>
                                        <p:cTn id="2084" dur="18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086" dur="350" fill="hold"/>
                                        <p:tgtEl>
                                          <p:spTgt spid="441"/>
                                        </p:tgtEl>
                                      </p:cBhvr>
                                      <p:to x="5500000" y="5500000"/>
                                    </p:animScale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3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22" presetSubtype="2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0" dur="7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3" presetSubtype="16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path" presetID="51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8.33333E-007 -0.00255 C -0.05833 0.00023 -0.10911 0.00787 -0.16536 0.04537 C -0.20677 0.07129 -0.22721 0.10208 -0.22773 0.12453 C -0.22773 0.15046 -0.1888 0.20486 -0.15299 0.22592 C -0.10781 0.25208 -0.10586 0.24907 -8.33333E-007 0.25856 E">
                                      <p:cBhvr>
                                        <p:cTn id="2107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path" presetID="35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5.55112E-017 0.26111 L 0.61797 0.25741 E">
                                      <p:cBhvr>
                                        <p:cTn id="2109" dur="3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38">
                                  <p:stCondLst>
                                    <p:cond delay="4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">
                                  <p:stCondLst>
                                    <p:cond delay="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mph" presetID="34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4.16667E-007 -1.85185E-006 L 4.16667E-007 -0.06481 E">
                                      <p:cBhvr>
                                        <p:cTn id="2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mph" presetID="26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4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6" presetSubtype="16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6" dur="3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22" presetSubtype="2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6.25E-007 7.40741E-007 L -0.03997 7.40741E-007 E">
                                      <p:cBhvr>
                                        <p:cTn id="2147" dur="7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6.25E-007 7.40741E-007 L 0.52357 7.40741E-007 E">
                                      <p:cBhvr>
                                        <p:cTn id="2149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微软用户</cp:lastModifiedBy>
  <dcterms:modified xsi:type="dcterms:W3CDTF">2014-11-09T03:22:05Z</dcterms:modified>
  <cp:revision>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