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B06-B41F-44C1-A40E-CAD8BD44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4E6-BECD-465A-A893-27F165FE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5D0-FAD1-4F6E-8334-D62C2CF8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652-F526-4355-A06E-02A1DC6C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4B7E-B803-4E57-8EE8-12E457C4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BBB7-9495-4DF7-8DB2-57C492E1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8336-C7C5-4D05-A3B2-5E7D4220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0678-E508-4E52-B251-6795F6FF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4B9-1086-4B17-A940-E05B0F01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C095-1616-42B8-842D-969A76E2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39DF-E236-4004-8268-13E71470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8B6-1004-474C-AD47-461846FF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7A24-B29B-4E98-9086-749288EE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F37D-DC19-4127-A07E-DAA07E5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3705-46DB-463D-9D17-5ECE9764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337F-D338-4F6F-84CF-921280D0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7A98-26E6-44A3-A548-3E0C1851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564-010E-489C-8F02-EDC047B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5D9-763B-4FBC-8C04-7342978D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9E2-8925-4B30-8682-F75D1EC2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F5C-E7C7-4B63-A175-4DF10460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D8F-22EF-4877-8FC0-74877D2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3CA-F1E2-4181-8A3D-6E08E0DC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883-4F82-41C7-8E97-A316772C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8AC9-B9D3-4653-BE61-20432FEE46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FF02-074E-4312-B283-572ED3BBFC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请在此处填入你需要的内容。请在此处填入你需要的内容。美乐辰旗舰店更专业的模板。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专业的模板。不止创新。请在此处填入你需要的内容。更专业的模板。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9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47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97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47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深夜列车</dc:creator>
  <dc:description/>
  <cp:keywords/>
  <dc:language>en-US</dc:language>
  <cp:lastModifiedBy>Administrator</cp:lastModifiedBy>
  <dcterms:modified xsi:type="dcterms:W3CDTF">2016-07-26T01:18:06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