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EBA-0607-4450-A60F-830DA1B7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090-C396-42A6-B834-00AFC7AF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B01-7EF5-4D70-82F7-EE8800B5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4A4-EEBF-4A5B-9012-6F818950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AC0-C482-49E0-82B8-E3038562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419F-086F-4AEE-8E5C-5050B85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24A8-635C-4E03-A2D7-33828D8D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ECC9-E933-42B1-B797-DDA1CE16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DEB9-6A48-4C6C-B396-762C9A19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609E-DD3F-4E86-9329-3FF69F94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095-C2FD-4309-B3D8-0F9151D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19E-1A5C-468D-8622-AA79144D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8BE0-5B18-499C-852D-D31261D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3C15-A1FC-490C-8FA5-616D861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CD3E-2632-4F3F-9BE1-C6F96122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5343-2401-4731-8AD7-871F8BA1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253A-405E-4149-B077-EBF30141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6E1-2172-439F-8556-4580CE16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3ED-D253-49A9-B617-D4C604E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A88-EC1F-4273-A49A-7B898BA6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2C4-5767-41A6-8240-16867E52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EF1-EF0D-4E2A-92E4-F8069B66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FB7-A3FC-40DD-80B7-1EEF4B1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D61-6A7E-499C-9A5C-3778F9CA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55DA-5CD1-4379-BEE9-4E24670766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77D-EF72-4E16-A6D6-D58F8965A1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84D-9047-4BDB-89CF-DCC41A0DF7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A03-4F03-4CC4-BF9F-BB17013E3D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3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5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6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23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3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3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5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2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6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20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3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6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9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2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8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dc:language>en-US</dc:language>
  <cp:lastModifiedBy>NEE</cp:lastModifiedBy>
  <dcterms:modified xsi:type="dcterms:W3CDTF">2015-01-06T18:26:1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