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444F-2626-4D3B-8A02-D4BA8DE7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99F1-B4AD-4B26-B086-3AF43CA2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E7FF-5770-43C3-8305-50199E171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30EE-3A3D-4DCD-AE5C-242760C25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4F06-0481-4CB6-A338-6E186E48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A7B6-6C9D-44EE-9293-15615720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9D47-A9A1-4687-97ED-84B5F9F6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7C1F-D766-4B98-B4AF-A39E0203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A290-1DED-4D30-9C6F-206CDAF9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44D6-0130-4869-96A7-14A51584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2804-49B3-469A-8795-5FCFEAE9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762D-D0CA-4DFF-B5B8-DC69134F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2396-00A2-4083-BDE3-5DF46D909F7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C41D-5B02-4FF9-A493-993582DCB04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1178640" y="1434960"/>
            <a:ext cx="20713320" cy="24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ba62af"/>
                </a:solidFill>
                <a:latin typeface="HelveticaNeueLT Std UltLt Ext"/>
              </a:rPr>
              <a:t>SOCIAL CUSTOMER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-1433520" y="1052640"/>
            <a:ext cx="862632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igNoodleTitling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BigNoodleTitling"/>
              </a:rPr>
              <a:t>UNDENIABLE 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BigNoodleTitling"/>
              </a:rPr>
              <a:t>AUTHORITY 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BigNoodleTitling"/>
              </a:rPr>
              <a:t>OF 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BigNoodleTitling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3924360" y="6575400"/>
            <a:ext cx="525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4722840" y="1109520"/>
            <a:ext cx="4350240" cy="18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4000" spc="-1" strike="noStrike">
                <a:solidFill>
                  <a:srgbClr val="603a9a"/>
                </a:solidFill>
                <a:latin typeface="BigNoodleTitling"/>
              </a:rPr>
              <a:t>88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c4b3"/>
                </a:solidFill>
                <a:latin typeface="BigNoodleTitling"/>
              </a:rPr>
              <a:t>88%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50c4b3"/>
                </a:solidFill>
                <a:latin typeface="BigNoodleTitling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50c4b3"/>
                </a:solidFill>
                <a:latin typeface="BigNoodleTitling"/>
              </a:rPr>
              <a:t>CUSTOMER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uenced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ading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vi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-918360" y="673200"/>
            <a:ext cx="6366240" cy="45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CUSTOMERS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LO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LISTEN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COMPANY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MESSAG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HEY’RE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LISTENING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P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INSTEAD.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SHIFTED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BRANDS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HEIR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CUSTO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NeueLT Std UltLt Ext"/>
              </a:rPr>
              <a:t>	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average,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CUSTOM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will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OTH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about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company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igNoodleTitling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650520" y="1828800"/>
            <a:ext cx="704772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NeueLT Std UltLt Ext"/>
              </a:rPr>
              <a:t>HOW  DOES  THIS  SHIFT  IN  AUTHORITY  A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820080" y="2476440"/>
            <a:ext cx="712404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2a4e"/>
                </a:solidFill>
                <a:latin typeface="HelveticaNeueLT Std UltLt Ext"/>
              </a:rPr>
              <a:t>CUSTOMER  SUPPORT  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2a4e"/>
                </a:solidFill>
                <a:latin typeface="HelveticaNeueLT Std UltLt Ext"/>
              </a:rPr>
              <a:t>BUSINESS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1"/>
          <p:cNvSpPr/>
          <p:nvPr/>
        </p:nvSpPr>
        <p:spPr>
          <a:xfrm>
            <a:off x="617400" y="1098720"/>
            <a:ext cx="7181640" cy="11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UNFORTUNATELY,  MANY  ORGANIZATIONS  STILL  DO 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BELIEVE  IN  THE  AUTHORITY  OF  THE  SOCIAL  CUSTO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2775600" y="2692440"/>
            <a:ext cx="263088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50c4b3"/>
                </a:solidFill>
                <a:latin typeface="BigNoodleTitling"/>
              </a:rPr>
              <a:t>60%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don't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spond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social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media,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asked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di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5222520" y="4267080"/>
            <a:ext cx="326196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tailer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have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rased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question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Facebook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4290120" y="2374920"/>
            <a:ext cx="48103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62af"/>
                </a:solidFill>
                <a:latin typeface="BigNoodleTitling"/>
              </a:rPr>
              <a:t>88%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nsumer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likely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buy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at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ignor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laint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question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ocial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1969200" y="4648320"/>
            <a:ext cx="515484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533520"/>
                <a:tab algn="l" pos="6732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c4b3"/>
                </a:solidFill>
                <a:latin typeface="BigNoodleTitling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800" spc="-1" strike="noStrike">
                <a:solidFill>
                  <a:srgbClr val="50c4b3"/>
                </a:solidFill>
                <a:latin typeface="BigNoodleTitling"/>
              </a:rPr>
              <a:t>17%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nsu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533520"/>
                <a:tab algn="l" pos="6732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wh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had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negativ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533520"/>
                <a:tab algn="l" pos="6732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experience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recommend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533520"/>
                <a:tab algn="l" pos="6732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fu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3911760" y="2819520"/>
            <a:ext cx="90432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62af"/>
                </a:solidFill>
                <a:latin typeface="HelveticaNeueLT Std UltLt Ext"/>
              </a:rPr>
              <a:t>88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7222320" y="5089680"/>
            <a:ext cx="100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HelveticaNeueLT Std UltLt Ext"/>
              </a:rPr>
              <a:t>17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628920" y="1111320"/>
            <a:ext cx="563508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BUT  THEY’RE  PAYING  FOR  IT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779040" y="4521240"/>
            <a:ext cx="136332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2c63"/>
                </a:solidFill>
                <a:latin typeface="微软雅黑"/>
              </a:rPr>
              <a:t>MONE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3f2c63"/>
                </a:solidFill>
                <a:latin typeface="微软雅黑"/>
              </a:rPr>
              <a:t>SHRED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0" y="888840"/>
            <a:ext cx="9144000" cy="52707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"/>
          <p:cNvSpPr/>
          <p:nvPr/>
        </p:nvSpPr>
        <p:spPr>
          <a:xfrm>
            <a:off x="-483840" y="1065240"/>
            <a:ext cx="10315080" cy="25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THE  MOST  SOCIALLY  PROACTIVE 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SEE  SOLIDRE  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wh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engag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ocial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media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pend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800" spc="-1" strike="noStrike">
                <a:solidFill>
                  <a:srgbClr val="ba62af"/>
                </a:solidFill>
                <a:latin typeface="BigNoodleTitling"/>
              </a:rPr>
              <a:t>20%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800" spc="-1" strike="noStrike">
                <a:solidFill>
                  <a:srgbClr val="ba62af"/>
                </a:solidFill>
                <a:latin typeface="BigNoodleTitling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800" spc="-1" strike="noStrike">
                <a:solidFill>
                  <a:srgbClr val="ba62af"/>
                </a:solidFill>
                <a:latin typeface="BigNoodleTitling"/>
              </a:rPr>
              <a:t>40%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os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a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ther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"/>
          <p:cNvSpPr/>
          <p:nvPr/>
        </p:nvSpPr>
        <p:spPr>
          <a:xfrm>
            <a:off x="-131400" y="4673520"/>
            <a:ext cx="702900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c4b3"/>
                </a:solidFill>
                <a:latin typeface="BigNoodleTitling"/>
              </a:rPr>
              <a:t>81%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trong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delivering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excellent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ut-performing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eir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eti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6907680" y="4546440"/>
            <a:ext cx="11055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62af"/>
                </a:solidFill>
                <a:latin typeface="HelveticaNeueLT Std UltLt Ext"/>
              </a:rPr>
              <a:t>81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"/>
          <p:cNvSpPr/>
          <p:nvPr/>
        </p:nvSpPr>
        <p:spPr>
          <a:xfrm>
            <a:off x="777600" y="1663560"/>
            <a:ext cx="675036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NeueLT Std UltLt Ext"/>
              </a:rPr>
              <a:t>HOW  SHOULD  YOU  PREPARE  YOURSELF 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695880" y="1828800"/>
            <a:ext cx="668052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2a4e"/>
                </a:solidFill>
                <a:latin typeface="HelveticaNeueLT Std UltLt Ext"/>
              </a:rPr>
              <a:t>THE  COMING  AGE  OF 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787680" y="2133720"/>
            <a:ext cx="7437960" cy="21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6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62a4e"/>
                </a:solidFill>
                <a:latin typeface="HelveticaNeueLT Std UltLt Ext"/>
              </a:rPr>
              <a:t>SOCIAL  CUSTOM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"/>
          <p:cNvSpPr/>
          <p:nvPr/>
        </p:nvSpPr>
        <p:spPr>
          <a:xfrm>
            <a:off x="1003320" y="1720800"/>
            <a:ext cx="17133480" cy="19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4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600" spc="-1" strike="noStrike">
                <a:solidFill>
                  <a:srgbClr val="ffffff"/>
                </a:solidFill>
                <a:latin typeface="HelveticaNeueLT Std UltLt Ext"/>
              </a:rPr>
              <a:t>ALWAYS  RESPOND.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-2317680" y="863640"/>
            <a:ext cx="127638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MATTER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EMBARRASSED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FRUSTRATED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MAY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CUSTOMER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COMPLAINS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MEDIA,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6159240" y="3645000"/>
            <a:ext cx="1949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ba62af"/>
                </a:solidFill>
                <a:latin typeface="BigNoodleTitling"/>
              </a:rPr>
              <a:t>83%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"/>
          <p:cNvSpPr/>
          <p:nvPr/>
        </p:nvSpPr>
        <p:spPr>
          <a:xfrm>
            <a:off x="6194160" y="4699080"/>
            <a:ext cx="213732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weet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ompl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lov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it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6101280" y="5613480"/>
            <a:ext cx="24314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resp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"/>
          <p:cNvSpPr/>
          <p:nvPr/>
        </p:nvSpPr>
        <p:spPr>
          <a:xfrm>
            <a:off x="635400" y="800280"/>
            <a:ext cx="6177600" cy="13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WHEN  RESPONDING  TO  THE  SOCIAL  CUSTOM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LT Std UltLt Ext"/>
              </a:rPr>
              <a:t>DON’T  FORGET 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451800" y="2747880"/>
            <a:ext cx="691524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  <a:ea typeface="Microsoft Yi Baiti"/>
              </a:rPr>
              <a:t>STRIVEFORFASTRESPONSETIM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  <a:ea typeface="Microsoft Yi Baiti"/>
              </a:rPr>
              <a:t>BEHUMANAND,ATTIMES,APPLYHUMO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  <a:ea typeface="Microsoft Yi Baiti"/>
              </a:rPr>
              <a:t>DON’TBEDEFENSIV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  <a:ea typeface="Microsoft Yi Baiti"/>
              </a:rPr>
              <a:t>ALWAYSTHANKTHECUSTOME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  <a:ea typeface="Microsoft Yi Baiti"/>
              </a:rPr>
              <a:t>SUGGESTASOLUTIONTOTHEPROBLEM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"/>
          <p:cNvSpPr/>
          <p:nvPr/>
        </p:nvSpPr>
        <p:spPr>
          <a:xfrm>
            <a:off x="1386360" y="2689200"/>
            <a:ext cx="26280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c4b3"/>
                </a:solidFill>
                <a:latin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c4b3"/>
                </a:solidFill>
                <a:latin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c4b3"/>
                </a:solidFill>
                <a:latin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c4b3"/>
                </a:solidFill>
                <a:latin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c4b3"/>
                </a:solidFill>
                <a:latin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"/>
          <p:cNvSpPr/>
          <p:nvPr/>
        </p:nvSpPr>
        <p:spPr>
          <a:xfrm>
            <a:off x="781200" y="958680"/>
            <a:ext cx="65815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TO  IMPROVE  YOUR  COMPANY’S  OVERALL  PLAN 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SOCIAL  CUSTOMER  SERVICE,  CONSIDER  THESE  TI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836640" y="2540160"/>
            <a:ext cx="5951880" cy="7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LISTENTOYOURCUSTOMERS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BUILDRELATIONSHIPSWITHTHEM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458640" y="3479760"/>
            <a:ext cx="7739640" cy="10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HAVEADETAILEDCRISIS-MANAGEMENTPLAN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DESIGNATEATLEASTONEMEMBEROFYOU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"/>
          <p:cNvSpPr/>
          <p:nvPr/>
        </p:nvSpPr>
        <p:spPr>
          <a:xfrm>
            <a:off x="66960" y="4413240"/>
            <a:ext cx="946764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COMPANYTOBEAVAILABLE24/7ONSOCIALMEDI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COMMITRANDOMACTSOFWOWFORYOURCUSTOMER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STRIVETOALWAYSPROVIDELINKSTOHELPFU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INFORMATIONATTHEENDOFEACHRESPONS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"/>
          <p:cNvSpPr/>
          <p:nvPr/>
        </p:nvSpPr>
        <p:spPr>
          <a:xfrm>
            <a:off x="636120" y="1071720"/>
            <a:ext cx="745272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EVEN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 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CHANNELS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(FACEBOOK,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TWITTER,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ETC.)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EVOLV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751680" y="1571760"/>
            <a:ext cx="7488000" cy="8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LT Std UltLt Ext"/>
              </a:rPr>
              <a:t>THE  SOCIAL  CUSTOMER  IS  HERE  TO  ST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1954080" y="2730600"/>
            <a:ext cx="80758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IN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NOT-SO-DISTANT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FUTUR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CONSUMERS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WILL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EXPECT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E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FASTER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RESPONSES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FR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COMPANIES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LIKE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YOU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3951720" y="4584600"/>
            <a:ext cx="362016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LT Std UltLt Ext"/>
              </a:rPr>
              <a:t>DON’T  LET  YOUR 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3825720" y="5397480"/>
            <a:ext cx="401796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LT Std UltLt Ext"/>
              </a:rPr>
              <a:t>SERVICE  EFFORTS  FALL  BEHIN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0" y="584280"/>
            <a:ext cx="9144000" cy="54738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763560" y="609480"/>
            <a:ext cx="493704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62af"/>
                </a:solidFill>
                <a:latin typeface="HelveticaNeueLT Std UltLt Ext"/>
              </a:rPr>
              <a:t>THE  DAWN  OF  THEDIGITAL  A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"/>
          <p:cNvSpPr/>
          <p:nvPr/>
        </p:nvSpPr>
        <p:spPr>
          <a:xfrm>
            <a:off x="-109440" y="1568520"/>
            <a:ext cx="533916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along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explosiv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social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media,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ha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forced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evolutio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customer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cam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ris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customer—on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wh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ha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b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know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oppl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eve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respected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br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-803520" y="3822840"/>
            <a:ext cx="660132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NEWFOUND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AUTHORITY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KNOW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698400" y="4295880"/>
            <a:ext cx="38736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lveticaNeueLT Std UltLt Ext"/>
              </a:rPr>
              <a:t>THE 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lveticaNeueLT Std UltLt Ext"/>
              </a:rPr>
              <a:t>CUSTOM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"/>
          <p:cNvSpPr/>
          <p:nvPr/>
        </p:nvSpPr>
        <p:spPr>
          <a:xfrm>
            <a:off x="-1627920" y="3797280"/>
            <a:ext cx="12003120" cy="13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gNoodleTitling"/>
              </a:rPr>
              <a:t>DESK.COM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IS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ONLY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SERVICE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PRODUCT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BUILT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GROUND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UP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SERVE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CUSTOMER.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VIEW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RESPOND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YOUR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CUSTOMERS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DIRECTLY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DESK.C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Sources: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pewinternet.org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forrester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conecomm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oracle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touchagency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zendesk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americanexpress.c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liveops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crmidol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nmincite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inc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peppersandrogersgroup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maritzresearch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"/>
          <p:cNvSpPr/>
          <p:nvPr/>
        </p:nvSpPr>
        <p:spPr>
          <a:xfrm>
            <a:off x="696600" y="1676520"/>
            <a:ext cx="75902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NeueLT Std UltLt Ext"/>
              </a:rPr>
              <a:t>SIGN  UP  FOR  YOUR  FREE  14-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NeueLT Std UltLt Ext"/>
              </a:rPr>
              <a:t>TRIAL  OF  DESK.COM  TODA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"/>
          <p:cNvSpPr/>
          <p:nvPr/>
        </p:nvSpPr>
        <p:spPr>
          <a:xfrm>
            <a:off x="4745160" y="2970360"/>
            <a:ext cx="447372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gNoodleTitling"/>
              </a:rPr>
              <a:t>CLICK  HERE  TO  GET 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486000" y="1486080"/>
            <a:ext cx="3917520" cy="22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62a4e"/>
                </a:solidFill>
                <a:latin typeface="HelveticaNeueLT Std UltLt Ext"/>
              </a:rPr>
              <a:t>WHO IS TH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763200" y="3429000"/>
            <a:ext cx="7239600" cy="22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elveticaNeueLT Std UltLt Ext"/>
              </a:rPr>
              <a:t>SOCIAL CUSTOM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763200" y="1028880"/>
            <a:ext cx="7043040" cy="16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THE  SOCIAL  CUSTOMER  TOU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NEARLY  EVERY  CORNER  OF  THE  GLO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7357680" y="4203720"/>
            <a:ext cx="90432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ctr"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62af"/>
                </a:solidFill>
                <a:latin typeface="BigNoodleTitling"/>
                <a:ea typeface="微软雅黑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2938320" y="3083040"/>
            <a:ext cx="51883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AT  LEAST  </a:t>
            </a:r>
            <a:r>
              <a:rPr b="0" lang="en-US" sz="2800" spc="-1" strike="noStrike">
                <a:solidFill>
                  <a:srgbClr val="ba62af"/>
                </a:solidFill>
                <a:latin typeface="BigNoodleTitling"/>
                <a:ea typeface="微软雅黑"/>
              </a:rPr>
              <a:t>20%  </a:t>
            </a: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OF 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WORLD’S 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USE  SSOCIAL  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THAT’S  MORE  THAN  HALF 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THE  2.4  BILLION 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USERS  ACROSS  THE 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781920" y="1009800"/>
            <a:ext cx="551304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TODAY’S  SOCIAL  CUSTOMER 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-1499040" y="4978440"/>
            <a:ext cx="9164160" cy="15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…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WHICH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HAS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CHANGED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EVERY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BUSINESS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OWNERS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THOUGHT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THEY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K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ABOUT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CUSTOMER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RELATIONSHIP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923760" y="3854520"/>
            <a:ext cx="236916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LISTENING  TO  PE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3621240" y="3854520"/>
            <a:ext cx="18766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RESEAR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HEAVILY 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5738400" y="3854520"/>
            <a:ext cx="25441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POSTING  COMPL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ON  SOCIAL 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461520" y="1015920"/>
            <a:ext cx="455004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EXPECTATIONS  ARE  HI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5024880" y="533520"/>
            <a:ext cx="37652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oday'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g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onnectivity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i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olutions,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h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ocial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demand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immediat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t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ny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hour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h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1820520" y="584280"/>
            <a:ext cx="210996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HelveticaNeueLT Std UltLt Ext"/>
              </a:rPr>
              <a:t>FACE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69480" y="2629080"/>
            <a:ext cx="2934360" cy="34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46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1" lang="en-US" sz="2000" spc="-1" strike="noStrike">
                <a:solidFill>
                  <a:srgbClr val="ba62af"/>
                </a:solidFill>
                <a:latin typeface="BigNoodleTitling"/>
              </a:rPr>
              <a:t>46%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engag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ith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b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via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Facebook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o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a62af"/>
                </a:solidFill>
                <a:latin typeface="BigNoodleTitling"/>
              </a:rPr>
              <a:t>39%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hem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r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loo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giv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feedback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product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6126840" y="2629080"/>
            <a:ext cx="2148120" cy="23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29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a62af"/>
                </a:solidFill>
                <a:latin typeface="BigNoodleTitling"/>
              </a:rPr>
              <a:t>29%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expect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ithin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ho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3318480" y="2629080"/>
            <a:ext cx="2148120" cy="23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22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c4b3"/>
                </a:solidFill>
                <a:latin typeface="BigNoodleTitling"/>
              </a:rPr>
              <a:t>22%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expect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ame-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respon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"/>
          <p:cNvSpPr/>
          <p:nvPr/>
        </p:nvSpPr>
        <p:spPr>
          <a:xfrm>
            <a:off x="1915560" y="584280"/>
            <a:ext cx="208872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HelveticaNeueLT Std UltLt Ext"/>
              </a:rPr>
              <a:t>TWI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"/>
          <p:cNvSpPr/>
          <p:nvPr/>
        </p:nvSpPr>
        <p:spPr>
          <a:xfrm>
            <a:off x="6042960" y="1092240"/>
            <a:ext cx="2935440" cy="46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c4b3"/>
                </a:solidFill>
                <a:latin typeface="BigNoodleTitling"/>
              </a:rPr>
              <a:t>81%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witt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xpect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same-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spon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22%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witt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xpect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withi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ho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c4b3"/>
                </a:solidFill>
                <a:latin typeface="BigNoodleTitling"/>
              </a:rPr>
              <a:t>30%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witt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xpect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withi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5180760" y="1523880"/>
            <a:ext cx="727200" cy="40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800" spc="-1" strike="noStrike">
                <a:solidFill>
                  <a:srgbClr val="ba62af"/>
                </a:solidFill>
                <a:latin typeface="BigNoodleTitling"/>
              </a:rPr>
              <a:t>8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BigNoodleTitling"/>
              </a:rPr>
              <a:t>2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BigNoodleTitling"/>
              </a:rPr>
              <a:t>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673200"/>
            <a:ext cx="9144000" cy="5499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1"/>
          <p:cNvSpPr/>
          <p:nvPr/>
        </p:nvSpPr>
        <p:spPr>
          <a:xfrm>
            <a:off x="6144840" y="4000680"/>
            <a:ext cx="2283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a62af"/>
                </a:solidFill>
                <a:latin typeface="BigNoodleTitling"/>
              </a:rPr>
              <a:t>80%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3430080" y="4762440"/>
            <a:ext cx="236160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a62af"/>
                </a:solidFill>
                <a:latin typeface="微软雅黑"/>
              </a:rPr>
              <a:t>MO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ba62af"/>
                </a:solidFill>
                <a:latin typeface="微软雅黑"/>
              </a:rPr>
              <a:t>T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a62af"/>
                </a:solidFill>
                <a:latin typeface="微软雅黑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ba62af"/>
                </a:solidFill>
                <a:latin typeface="微软雅黑"/>
              </a:rPr>
              <a:t>MILL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ba62af"/>
                </a:solidFill>
                <a:latin typeface="微软雅黑"/>
              </a:rPr>
              <a:t>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view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weet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6174720" y="3665520"/>
            <a:ext cx="234468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ROUGH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weet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r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neg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ritical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n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176760" y="838080"/>
            <a:ext cx="58266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MEDIA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PRO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UltLt Ext"/>
              </a:rPr>
              <a:t>AN  INTIMATE 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UltLt Ext"/>
              </a:rPr>
              <a:t>AMONG  ALL 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chenkui</dc:creator>
  <dc:description/>
  <dc:language>en-US</dc:language>
  <cp:lastModifiedBy>陈魁chinakui</cp:lastModifiedBy>
  <dcterms:modified xsi:type="dcterms:W3CDTF">2015-01-06T16:19:00Z</dcterms:modified>
  <cp:revision>2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