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FDC-1947-474E-9CA2-8E0A474C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7C9-3FD5-4393-A47F-2FE39A3B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5EF-B929-4625-82B6-FC6A25E1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D84-9C18-4001-AECD-5A37D1F5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394-A91D-4C2C-AC3C-E69E5202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803-2D93-44D6-B27F-A381661C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10E-93F5-4FFF-96D2-554621F3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F76-4C01-4516-B5FE-CE620379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CAC-7699-40BE-BE3C-49F3D9F4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211D-08F4-403F-888F-EB2E6898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C2B-74C9-4899-B31D-D710A993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51E-E635-4C06-AD9E-76A58F30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9B35-34E1-4D12-9B08-32220E640D91}" type="slidenum">
              <a:rPr b="0" lang="zh-CN" sz="1200" spc="-1" strike="noStrike">
                <a:solidFill>
                  <a:srgbClr val="898989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5240" y="23572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21320" y="2691720"/>
            <a:ext cx="575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473720" y="4156200"/>
            <a:ext cx="17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si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296040" y="415620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power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8791560" y="414036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f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392720" y="2467080"/>
            <a:ext cx="7813440" cy="14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363920" y="4214880"/>
            <a:ext cx="0" cy="2643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638440" y="0"/>
            <a:ext cx="0" cy="26877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9000" y="3994200"/>
            <a:ext cx="2629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8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1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24280" y="1555920"/>
            <a:ext cx="2070000" cy="2070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92400" y="1674720"/>
            <a:ext cx="1800360" cy="1798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03880" y="1571760"/>
            <a:ext cx="21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atalogue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348160" y="2349360"/>
            <a:ext cx="3641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180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 his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9545400" y="2360880"/>
            <a:ext cx="842040" cy="337320"/>
          </a:xfrm>
          <a:prstGeom prst="rect">
            <a:avLst/>
          </a:prstGeom>
          <a:solidFill>
            <a:srgbClr val="18005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ubm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5243400" y="927000"/>
            <a:ext cx="558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2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X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Vis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2863800" y="4986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st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"/>
                            </p:stCondLst>
                            <p:childTnLst>
                              <p:par>
                                <p:cTn id="6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1"/>
                            </p:stCondLst>
                            <p:childTnLst>
                              <p:par>
                                <p:cTn id="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2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362"/>
                            </p:stCondLst>
                            <p:childTnLst>
                              <p:par>
                                <p:cTn id="152" nodeType="afterEffect" fill="hold" presetClass="emph" presetID="2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80052"/>
                                      </p:to>
                                    </p:animClr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80052"/>
                                      </p:to>
                                    </p:animClr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4720" y="542880"/>
            <a:ext cx="29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1103400" y="2095560"/>
            <a:ext cx="1292040" cy="1276200"/>
          </a:xfrm>
          <a:prstGeom prst="rect">
            <a:avLst/>
          </a:prstGeom>
          <a:solidFill>
            <a:srgbClr val="347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567160" y="2095560"/>
            <a:ext cx="1282680" cy="127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2095560"/>
            <a:ext cx="2732040" cy="1292040"/>
          </a:xfrm>
          <a:prstGeom prst="rect">
            <a:avLst/>
          </a:prstGeom>
          <a:solidFill>
            <a:srgbClr val="d44b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me Bas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me Prem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ofess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ltim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112760" y="3451320"/>
            <a:ext cx="2732040" cy="1292040"/>
          </a:xfrm>
          <a:prstGeom prst="rect">
            <a:avLst/>
          </a:prstGeom>
          <a:solidFill>
            <a:srgbClr val="1e7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990960" y="3451320"/>
            <a:ext cx="2732040" cy="12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7578720" y="3436920"/>
            <a:ext cx="2732040" cy="1292400"/>
          </a:xfrm>
          <a:prstGeom prst="rect">
            <a:avLst/>
          </a:prstGeom>
          <a:solidFill>
            <a:srgbClr val="72b9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用 快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 安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效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 小工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574040" y="2095560"/>
            <a:ext cx="2732040" cy="1292040"/>
          </a:xfrm>
          <a:prstGeom prst="rect">
            <a:avLst/>
          </a:prstGeom>
          <a:solidFill>
            <a:srgbClr val="543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显卡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4M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PU  1G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存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G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硬盘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G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000680" y="3759120"/>
            <a:ext cx="2698560" cy="708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557440" y="2101680"/>
            <a:ext cx="1309680" cy="1276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0560" y="3068640"/>
            <a:ext cx="127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开发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951360" y="3068640"/>
            <a:ext cx="17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版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7535880" y="306864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配置要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7550280" y="4389480"/>
            <a:ext cx="13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系统特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074600" y="4433760"/>
            <a:ext cx="27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ternet Explorer 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919160" y="3487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hecke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dur="indefinite" nodeType="afterEffect" fill="hold" presetClass="emph" presetID="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200"/>
                            </p:stCondLst>
                            <p:childTnLst>
                              <p:par>
                                <p:cTn id="243" nodeType="afterEffect" fill="hold" presetClass="exit" presetID="55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47600" y="542880"/>
            <a:ext cx="29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"/>
          <p:cNvCxnSpPr/>
          <p:nvPr/>
        </p:nvCxnSpPr>
        <p:spPr>
          <a:xfrm>
            <a:off x="2476440" y="1244160"/>
            <a:ext cx="23040" cy="43362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75" name=""/>
          <p:cNvCxnSpPr>
            <a:stCxn id="73" idx="3"/>
          </p:cNvCxnSpPr>
          <p:nvPr/>
        </p:nvCxnSpPr>
        <p:spPr>
          <a:xfrm>
            <a:off x="3995640" y="893880"/>
            <a:ext cx="6433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</p:cxn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04240" y="4229280"/>
            <a:ext cx="4178160" cy="2614320"/>
          </a:xfrm>
          <a:prstGeom prst="rect">
            <a:avLst/>
          </a:prstGeom>
          <a:ln w="0">
            <a:noFill/>
          </a:ln>
        </p:spPr>
      </p:pic>
      <p:cxnSp>
        <p:nvCxnSpPr>
          <p:cNvPr id="77" name=""/>
          <p:cNvCxnSpPr/>
          <p:nvPr/>
        </p:nvCxnSpPr>
        <p:spPr>
          <a:xfrm>
            <a:off x="10427760" y="894960"/>
            <a:ext cx="1080" cy="32900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</p:cxnSp>
      <p:cxnSp>
        <p:nvCxnSpPr>
          <p:cNvPr id="78" name=""/>
          <p:cNvCxnSpPr/>
          <p:nvPr/>
        </p:nvCxnSpPr>
        <p:spPr>
          <a:xfrm>
            <a:off x="2498760" y="5594040"/>
            <a:ext cx="54633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</p:cxnSp>
      <p:sp>
        <p:nvSpPr>
          <p:cNvPr id="79" name=""/>
          <p:cNvSpPr/>
          <p:nvPr/>
        </p:nvSpPr>
        <p:spPr>
          <a:xfrm>
            <a:off x="3203640" y="1262160"/>
            <a:ext cx="665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由微软公司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开发的操作系统，核心版本号为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NT 6.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供家庭及商业工作环境、笔记本电脑、平板电脑、多媒体中心等使用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RTM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uild 7600.1638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正式上线，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微软于美国正式发布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凌晨，微软面向大众用户正式发布了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级补丁——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SP1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uild7601.17514.101119-18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，另外还包括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Server 2008 R2 SP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级补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4025880" y="1352520"/>
            <a:ext cx="528480" cy="527040"/>
            <a:chOff x="4025880" y="1352520"/>
            <a:chExt cx="528480" cy="527040"/>
          </a:xfrm>
        </p:grpSpPr>
        <p:sp>
          <p:nvSpPr>
            <p:cNvPr id="81" name=""/>
            <p:cNvSpPr/>
            <p:nvPr/>
          </p:nvSpPr>
          <p:spPr>
            <a:xfrm>
              <a:off x="4025880" y="1352520"/>
              <a:ext cx="528480" cy="527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85280" y="1530360"/>
              <a:ext cx="380520" cy="173160"/>
            </a:xfrm>
            <a:prstGeom prst="leftArrow">
              <a:avLst>
                <a:gd name="adj1" fmla="val 50000"/>
                <a:gd name="adj2" fmla="val 54938"/>
              </a:avLst>
            </a:prstGeom>
            <a:solidFill>
              <a:srgbClr val="ffffff"/>
            </a:solidFill>
            <a:ln w="12600">
              <a:solidFill>
                <a:srgbClr val="1800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43280" y="1116000"/>
            <a:ext cx="4507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simple(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powerful(P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free(F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 more(M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1517480" y="5827320"/>
            <a:ext cx="334800" cy="441360"/>
            <a:chOff x="11517480" y="5827320"/>
            <a:chExt cx="334800" cy="441360"/>
          </a:xfrm>
        </p:grpSpPr>
        <p:sp>
          <p:nvSpPr>
            <p:cNvPr id="85" name=""/>
            <p:cNvSpPr/>
            <p:nvPr/>
          </p:nvSpPr>
          <p:spPr>
            <a:xfrm>
              <a:off x="11517480" y="5933880"/>
              <a:ext cx="334800" cy="334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1690640" y="5827320"/>
              <a:ext cx="360" cy="25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0709280" y="4654440"/>
            <a:ext cx="1424160" cy="10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Dotum"/>
                <a:ea typeface="微软雅黑"/>
              </a:rPr>
              <a:t>關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Dotum"/>
                <a:ea typeface="微软雅黑"/>
              </a:rPr>
              <a:t>重新啟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761480" y="1270800"/>
            <a:ext cx="17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Fu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50"/>
                            </p:stCondLst>
                            <p:childTnLst>
                              <p:par>
                                <p:cTn id="314" dur="indefinite" nodeType="afterEffect" fill="hold" presetClass="emph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15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3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30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微软用户</cp:lastModifiedBy>
  <dcterms:modified xsi:type="dcterms:W3CDTF">2015-01-06T15:15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