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0C78-5753-40B3-BE70-21ECC31B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89AE-8662-4F2A-AFFA-F212DA88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639-5AEB-4385-8231-A112A92A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2075-8823-4BC9-A922-1972D978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877-65E1-4007-9A99-AB4841D2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26B9-5D74-464B-9549-C76D919F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246A-F221-4628-97A8-748CEE2F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528-7FCE-4918-9ECC-FD2944DE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0338-B806-4AEC-84C7-7A149668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1F1C-6BF6-4129-B3A1-36DC2B3F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471-95C6-4166-AE7D-2F7D35D4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C851-8529-439F-ABAA-CD4C2852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5365-A9EE-4667-8AF2-6541B49C601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38F8-A575-45BB-B5DE-61BB13AA1C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玩转大学   </a:t>
            </a: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素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  <a:ea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  <a:ea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  <a:ea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  <a:ea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  <a:ea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BST-WLZ</cp:lastModifiedBy>
  <dcterms:modified xsi:type="dcterms:W3CDTF">2015-05-14T06:25:45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