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022-1C6F-4535-BED1-AC007538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A61-E6F2-4D98-93F7-67FF1C71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943-4C62-4FD7-8147-69A98404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4F7-6351-4891-A304-DAE29A0E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A7A-90F2-4A62-B851-286726E7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2F4-B965-443A-9FCC-BB03B55E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DB9-0BD0-4EB0-A4B4-FF059A4F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4E8-3D4C-44F6-B4A2-5AF84F43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BAB-0EB9-44A5-B0CC-D61A3636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266-5106-4161-9B16-FB33403B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037-D403-429C-8BD4-064E9405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300-6F5C-4F42-B723-FAE647B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F342-DF75-481E-86CB-89F5BA4A12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286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"/>
          <p:cNvSpPr/>
          <p:nvPr/>
        </p:nvSpPr>
        <p:spPr>
          <a:xfrm>
            <a:off x="514800" y="42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4000680" y="2214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712120" y="5214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49792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211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6140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926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97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99788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071880" y="2071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497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711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6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4-06-23T07:56:29Z</dcterms:modified>
  <cp:revision>36</cp:revision>
  <dc:subject/>
  <dc:title>幻灯片 1</dc:title>
</cp:coreProperties>
</file>