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030-63C3-4427-BF8B-6D93AE12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59A-0F93-4EFA-8809-C920DAC9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456-4FD8-4D17-ADDE-C7982F4A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43C-4456-4BD6-B26F-77F5B309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730-838D-4C72-847A-2DC5F0DF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633-B7E4-4110-83F2-83A263FD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642-2DB3-47CE-8DDE-8032FDDE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892-3C35-4235-B95C-C0501F1A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994-CBD7-44EE-8F22-A2CE3384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51D-10E8-4642-8B3C-27399CA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922-59D0-43EE-AA17-FCBF5FD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627-41E5-4975-8364-63344780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4DCD-1C89-49AC-94E3-0ADBC606C6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514800" y="42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712120" y="521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49792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97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99788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07188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497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711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4-06-23T07:56:29Z</dcterms:modified>
  <cp:revision>36</cp:revision>
  <dc:subject/>
  <dc:title>幻灯片 1</dc:title>
</cp:coreProperties>
</file>