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917-9D42-42EA-A047-292D42AE3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2A5E-3CC9-43A0-86FE-54CA7236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6BC-7D6C-4531-A26D-CE397089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C39A-8AA5-485D-819C-F868814C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F1B3-EC41-4826-8E00-7F87B8B8E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74C4-63CA-42A0-87D5-33275000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9B6AC-4478-415B-A36F-356E1D6E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ACA2-996C-402E-BE78-E583BC40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FA5C-A8B7-4B6A-990D-6775EBD2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80DD-9C78-4200-9CF3-8618475E1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B68C-A4BB-4E55-AB80-C9A26339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6AE-6CDC-4D40-98BD-9AAB06A8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B458-808A-439A-9B39-61CEE271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B10B8-E4D8-4894-8C7F-AC823B27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86B8D-5AB5-4486-A9FC-4AD4B03F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DECD-FF6A-4B8C-B1B0-9CF4E02E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F779-5221-4F8E-9A7D-85200A1A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288D-1B00-4C65-A65A-458CB925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C956-D7AD-4298-8572-5FF9CA72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B827-9E54-4014-9F9D-4B540AB19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19E1-2D28-4ABE-8F40-E43AB1E3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19B-956A-4922-8852-11C4A3C2A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E8AC-5D77-4AB4-86B7-735C7D6D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27A1-F980-4A13-9FFE-2C1F9B38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CC8E-B91C-43EB-8E89-B2D422AAB33A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A281-BC42-49C6-8F5D-4FB311ECDAF0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9017" t="15973" r="9408" b="30123"/>
          <a:stretch/>
        </p:blipFill>
        <p:spPr>
          <a:xfrm>
            <a:off x="689040" y="1117440"/>
            <a:ext cx="79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/>
          <p:cNvSpPr/>
          <p:nvPr/>
        </p:nvSpPr>
        <p:spPr>
          <a:xfrm>
            <a:off x="682200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　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8632" t="15681" r="15170" b="16457"/>
          <a:stretch/>
        </p:blipFill>
        <p:spPr>
          <a:xfrm>
            <a:off x="3138480" y="1224000"/>
            <a:ext cx="28414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09" name="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badc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4a1df"/>
                </a:gs>
                <a:gs pos="100000">
                  <a:srgbClr val="0066c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bafe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4bafe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15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6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18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0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2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3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4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25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7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9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0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1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2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34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36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7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8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9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1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43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4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5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d5cb0d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46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8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1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2" name="AutoShape 5"/>
            <p:cNvCxnSpPr>
              <a:stCxn id="153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4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</p:grpSp>
      <p:sp>
        <p:nvSpPr>
          <p:cNvPr id="155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3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0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1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2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3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4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5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d5cb0d"/>
            </a:solidFill>
            <a:ln w="12600">
              <a:solidFill>
                <a:srgbClr val="d5c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6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5cb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7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79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3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8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0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4" name="AutoShape 17"/>
            <p:cNvSpPr/>
            <p:nvPr/>
          </p:nvSpPr>
          <p:spPr>
            <a:xfrm>
              <a:off x="1495440" y="2425680"/>
              <a:ext cx="1258920" cy="10796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99cc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196" name="图片 27" descr="无标题666.bmp"/>
          <p:cNvPicPr/>
          <p:nvPr/>
        </p:nvPicPr>
        <p:blipFill>
          <a:blip r:embed="rId2">
            <a:lum bright="48000"/>
          </a:blip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8" name="AutoShape 3"/>
            <p:cNvSpPr/>
            <p:nvPr/>
          </p:nvSpPr>
          <p:spPr>
            <a:xfrm>
              <a:off x="6348240" y="2425680"/>
              <a:ext cx="1258920" cy="107964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9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1" name="AutoShape 10"/>
            <p:cNvSpPr/>
            <p:nvPr/>
          </p:nvSpPr>
          <p:spPr>
            <a:xfrm>
              <a:off x="3890880" y="2425680"/>
              <a:ext cx="1260720" cy="107964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203" name="图片 27" descr="无标题666.bmp"/>
          <p:cNvPicPr/>
          <p:nvPr/>
        </p:nvPicPr>
        <p:blipFill>
          <a:blip r:embed="rId3">
            <a:lum bright="48000"/>
          </a:blip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7" descr="无标题666.bmp"/>
          <p:cNvPicPr/>
          <p:nvPr/>
        </p:nvPicPr>
        <p:blipFill>
          <a:blip r:embed="rId4">
            <a:lum bright="48000"/>
          </a:blip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cfcfc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07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8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1506240" y="263520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0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1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5068800" y="2635200"/>
              <a:ext cx="243360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3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4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150624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6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7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8" name="Text Box 15"/>
            <p:cNvSpPr/>
            <p:nvPr/>
          </p:nvSpPr>
          <p:spPr>
            <a:xfrm>
              <a:off x="507816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0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1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2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6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8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36" name=" 3" descr=""/>
          <p:cNvPicPr/>
          <p:nvPr/>
        </p:nvPicPr>
        <p:blipFill>
          <a:blip r:embed="rId2"/>
          <a:stretch/>
        </p:blipFill>
        <p:spPr>
          <a:xfrm>
            <a:off x="3773520" y="3828960"/>
            <a:ext cx="2309760" cy="2279880"/>
          </a:xfrm>
          <a:prstGeom prst="rect">
            <a:avLst/>
          </a:prstGeom>
          <a:ln w="0">
            <a:noFill/>
          </a:ln>
        </p:spPr>
      </p:pic>
      <p:pic>
        <p:nvPicPr>
          <p:cNvPr id="237" name=" 3" descr=""/>
          <p:cNvPicPr/>
          <p:nvPr/>
        </p:nvPicPr>
        <p:blipFill>
          <a:blip r:embed="rId3"/>
          <a:stretch/>
        </p:blipFill>
        <p:spPr>
          <a:xfrm>
            <a:off x="2779560" y="2541600"/>
            <a:ext cx="1901880" cy="187812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4"/>
          <a:stretch/>
        </p:blipFill>
        <p:spPr>
          <a:xfrm>
            <a:off x="3968640" y="1468440"/>
            <a:ext cx="1650960" cy="163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1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2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5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6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49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99cc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50" name="Picture 37" descr="cir_lighteffect0"/>
            <p:cNvPicPr/>
            <p:nvPr/>
          </p:nvPicPr>
          <p:blipFill>
            <a:blip r:embed="rId7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AutoShape 3"/>
          <p:cNvSpPr/>
          <p:nvPr/>
        </p:nvSpPr>
        <p:spPr>
          <a:xfrm rot="18033600">
            <a:off x="1642680" y="1936440"/>
            <a:ext cx="5692680" cy="5629320"/>
          </a:xfrm>
          <a:prstGeom prst="pie">
            <a:avLst/>
          </a:pr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663560" y="1916280"/>
            <a:ext cx="5631120" cy="5692680"/>
          </a:xfrm>
          <a:prstGeom prst="pie">
            <a:avLst/>
          </a:pr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 rot="3543600">
            <a:off x="1652760" y="1958400"/>
            <a:ext cx="5693040" cy="5630760"/>
          </a:xfrm>
          <a:prstGeom prst="pie">
            <a:avLst/>
          </a:pr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3441600" y="3675240"/>
            <a:ext cx="2075040" cy="2001600"/>
          </a:xfrm>
          <a:prstGeom prst="pie">
            <a:avLst/>
          </a:pr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 rot="18061200">
            <a:off x="3364560" y="3724920"/>
            <a:ext cx="2098800" cy="1979640"/>
          </a:xfrm>
          <a:prstGeom prst="pie">
            <a:avLst/>
          </a:pr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3532200">
            <a:off x="3516840" y="3744000"/>
            <a:ext cx="2095560" cy="1979640"/>
          </a:xfrm>
          <a:prstGeom prst="pie">
            <a:avLst/>
          </a:pr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6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67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3193920" y="2865600"/>
            <a:ext cx="296892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3814920" y="3627360"/>
            <a:ext cx="18367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幻演广告有限公司</dc:creator>
  <dc:description/>
  <dc:language>en-US</dc:language>
  <cp:lastModifiedBy>番茄花园</cp:lastModifiedBy>
  <dcterms:modified xsi:type="dcterms:W3CDTF">2011-08-20T04:20:39Z</dcterms:modified>
  <cp:revision>129</cp:revision>
  <dc:subject/>
  <dc:title>锐得PPT模板</dc:title>
</cp:coreProperties>
</file>