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E32-AFB2-4C84-A571-45FDE939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B36-555C-45E7-BFE1-849615BA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5EE-F842-4AE7-B74F-150B51AC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61B-87C6-4A42-9AA0-C4BBA1B5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2E6-B50D-470C-9006-7A9C7166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9DBA-9679-4139-8AF0-11F49DA0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2CF-E750-44C5-B6ED-45B5E774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A2D-5162-4F33-88EB-11F6C451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891-9ED7-465A-BC63-DC3A4728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5EC-952D-4BE3-AA31-A3DE99D8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3E5-E945-40AF-91D6-12E637B3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63C-5F89-47A4-B80A-16F2DB84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7DAE-8BA8-4F21-A700-55E0568A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C304-41F4-4DF5-903B-49A77252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ECA5-F5AA-4F5F-8D9F-9AC8D098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7FE0-5570-410F-9CD6-A1EA2297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BA50-5ABD-462D-AD7A-37279FF1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50CC-2DFE-4E5D-830F-BB4E2E9F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9606-1EA3-4D84-B772-D42B36AF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E6A1-51F6-4815-AD29-2FFD5F30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3D02-005D-43C5-A839-5A0C8526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F09C-0B49-433B-B9BD-8A890B6B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27AA-CB91-4CB9-811E-1F041471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6F1F-7ED5-4500-BBF8-5AEC8F73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04E2-5F0A-450B-A7E8-0CCE37AAAEF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40F7-FEB8-4CD8-BB77-1BCBAB4DBC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/>
            <a:ahLst/>
            <a:rect l="l" t="t" r="r" b="b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/>
            <a:ahLst/>
            <a:rect l="l" t="t" r="r" b="b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/>
            <a:ahLst/>
            <a:rect l="l" t="t" r="r" b="b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" name="椭圆 8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" name="椭圆 10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" name="椭圆 11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" name="椭圆 12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椭圆 13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椭圆 14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直接连接符 16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直接连接符 18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直接连接符 21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直接连接符 23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直接连接符 25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直接连接符 28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直接连接符 3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直接连接符 33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直接连接符 36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直接连接符 40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直接连接符 4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直接连接符 47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直接连接符 50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直接连接符 53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直接连接符 56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直接连接符 58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直接连接符 61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椭圆 7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3519360" y="2131920"/>
            <a:ext cx="4889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2015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文本框 5"/>
          <p:cNvSpPr/>
          <p:nvPr/>
        </p:nvSpPr>
        <p:spPr>
          <a:xfrm>
            <a:off x="4048200" y="4013280"/>
            <a:ext cx="38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Vrinda"/>
              </a:rPr>
              <a:t>BUSINESS PLAN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/>
            <a:ahLst/>
            <a:rect l="l" t="t" r="r" b="b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/>
            <a:ahLst/>
            <a:rect l="l" t="t" r="r" b="b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/>
            <a:ahLst/>
            <a:rect l="l" t="t" r="r" b="b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椭圆 2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椭圆 46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直接连接符 72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331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完成情况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616040" y="1114560"/>
            <a:ext cx="10336320" cy="4270320"/>
          </a:xfrm>
          <a:prstGeom prst="rect">
            <a:avLst/>
          </a:prstGeom>
          <a:ln w="0">
            <a:noFill/>
          </a:ln>
        </p:spPr>
      </p:pic>
      <p:sp>
        <p:nvSpPr>
          <p:cNvPr id="335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37" name="组合 1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38" name="组合 1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39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41" name="文本框 14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42" name="文本框 15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3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93" name="组合 5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94" name="组合 5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9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97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98" name="文本框 60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1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2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3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4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/>
            <a:ahLst/>
            <a:rect l="l" t="t" r="r" b="b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5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7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19" name="组合 40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20" name="组合 41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2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23" name="文本框 4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24" name="文本框 43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/>
            <a:ahLst/>
            <a:rect l="l" t="t" r="r" b="b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0" name="组合 5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71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72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74" name="文本框 6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75" name="文本框 6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477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成功项目展示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05" name="组合 3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06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07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09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0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7" name="组合 2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28" name="组合 2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2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31" name="文本框 3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2" name="文本框 3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8" name="组合 1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39" name="组合 1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4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42" name="文本框 1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3" name="文本框 1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2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56" name="组合 1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57" name="组合 2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5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60" name="文本框 21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1" name="文本框 2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53" name="稻壳儿小白白(http://dwz.cn/Wu2UP)"/>
          <p:cNvSpPr/>
          <p:nvPr/>
        </p:nvSpPr>
        <p:spPr>
          <a:xfrm>
            <a:off x="2622600" y="1920960"/>
            <a:ext cx="7342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ccfd"/>
                </a:solidFill>
                <a:latin typeface="Arial"/>
              </a:rPr>
              <a:t>2015</a:t>
            </a:r>
            <a:r>
              <a:rPr b="1" lang="zh-CN" sz="3600" spc="-1" strike="noStrike">
                <a:solidFill>
                  <a:srgbClr val="60ccfd"/>
                </a:solidFill>
                <a:latin typeface="Arial"/>
              </a:rPr>
              <a:t>的结束，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5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6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/>
            <a:ahLst/>
            <a:rect l="l" t="t" r="r" b="b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7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/>
            <a:ahLst/>
            <a:rect l="l" t="t" r="r" b="b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8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/>
            <a:ahLst/>
            <a:rect l="l" t="t" r="r" b="b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9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/>
            <a:ahLst/>
            <a:rect l="l" t="t" r="r" b="b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/>
            <a:ahLst/>
            <a:rect l="l" t="t" r="r" b="b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/>
            <a:ahLst/>
            <a:rect l="l" t="t" r="r" b="b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/>
            <a:ahLst/>
            <a:rect l="l" t="t" r="r" b="b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  <a:ea typeface="微软雅黑"/>
              </a:rPr>
              <a:t>我们的</a:t>
            </a:r>
            <a:r>
              <a:rPr b="1" lang="zh-CN" sz="4800" spc="-1" strike="noStrike">
                <a:solidFill>
                  <a:srgbClr val="63cff6"/>
                </a:solidFill>
                <a:latin typeface="Arial"/>
                <a:ea typeface="微软雅黑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80" name="组合 26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81" name="组合 29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82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3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84" name="文本框 3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85" name="文本框 3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587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存在不足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63cff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/>
            <a:ahLst/>
            <a:rect l="l" t="t" r="r" b="b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/>
            <a:ahLst/>
            <a:rect l="l" t="t" r="r" b="b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/>
            <a:ahLst/>
            <a:rect l="l" t="t" r="r" b="b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/>
            <a:ahLst/>
            <a:rect l="l" t="t" r="r" b="b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0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608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609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/>
            <a:ahLst/>
            <a:rect l="l" t="t" r="r" b="b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6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27" name="组合 52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28" name="Picture 25@|13FFC:16777215|FBC:16777215|LFC:16777215|LBC:167772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30" name="文本框 5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1" name="文本框 5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  <a:ea typeface="微软雅黑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0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9" name="组合 4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50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5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53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/>
            <a:ahLst/>
            <a:rect l="l" t="t" r="r" b="b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7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8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9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0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1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2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3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73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674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/>
            <a:ahLst/>
            <a:rect l="l" t="t" r="r" b="b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1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2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/>
            <a:ahLst/>
            <a:rect l="l" t="t" r="r" b="b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94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95" name="组合 5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96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98" name="文本框 7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文本框 7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2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3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4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5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6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7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8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15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716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18" name="稻壳儿小白白(http://dwz.cn/Wu2UP)"/>
          <p:cNvGrpSpPr/>
          <p:nvPr/>
        </p:nvGrpSpPr>
        <p:grpSpPr>
          <a:xfrm>
            <a:off x="7418520" y="2664000"/>
            <a:ext cx="1606320" cy="514080"/>
            <a:chOff x="7418520" y="2664000"/>
            <a:chExt cx="1606320" cy="514080"/>
          </a:xfrm>
        </p:grpSpPr>
        <p:sp>
          <p:nvSpPr>
            <p:cNvPr id="719" name="稻壳儿小白白(http://dwz.cn/Wu2UP)@|9FFC:0|FBC:0|LFC:14277081|LBC:16777215"/>
            <p:cNvSpPr/>
            <p:nvPr/>
          </p:nvSpPr>
          <p:spPr>
            <a:xfrm flipV="1">
              <a:off x="7418520" y="2664000"/>
              <a:ext cx="220320" cy="5140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9FFC:0|FBC:0|LFC:14277081|LBC:16777215"/>
            <p:cNvSpPr/>
            <p:nvPr/>
          </p:nvSpPr>
          <p:spPr>
            <a:xfrm>
              <a:off x="7638840" y="266724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21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22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723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25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6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7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8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9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0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1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2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3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39" name="组合 49"/>
          <p:cNvGrpSpPr/>
          <p:nvPr/>
        </p:nvGrpSpPr>
        <p:grpSpPr>
          <a:xfrm>
            <a:off x="244440" y="119160"/>
            <a:ext cx="4008600" cy="610920"/>
            <a:chOff x="244440" y="119160"/>
            <a:chExt cx="4008600" cy="610920"/>
          </a:xfrm>
        </p:grpSpPr>
        <p:grpSp>
          <p:nvGrpSpPr>
            <p:cNvPr id="740" name="组合 62"/>
            <p:cNvGrpSpPr/>
            <p:nvPr/>
          </p:nvGrpSpPr>
          <p:grpSpPr>
            <a:xfrm>
              <a:off x="244440" y="119160"/>
              <a:ext cx="611280" cy="610920"/>
              <a:chOff x="244440" y="119160"/>
              <a:chExt cx="611280" cy="610920"/>
            </a:xfrm>
          </p:grpSpPr>
          <p:pic>
            <p:nvPicPr>
              <p:cNvPr id="74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916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Oval 36@|1FFC:15773696|FBC:16777215|LFC:16777215|LBC:16777215"/>
              <p:cNvSpPr/>
              <p:nvPr/>
            </p:nvSpPr>
            <p:spPr>
              <a:xfrm>
                <a:off x="244440" y="12060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43" name="文本框 64"/>
            <p:cNvSpPr/>
            <p:nvPr/>
          </p:nvSpPr>
          <p:spPr>
            <a:xfrm>
              <a:off x="312840" y="13248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文本框 65"/>
            <p:cNvSpPr/>
            <p:nvPr/>
          </p:nvSpPr>
          <p:spPr>
            <a:xfrm>
              <a:off x="924120" y="14544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746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明年工作计划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5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755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758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759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760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761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762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763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9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0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1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7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778" name="组合 4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779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81" name="文本框 5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82" name="文本框 5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/>
            <a:ahLst/>
            <a:rect l="l" t="t" r="r" b="b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/>
            <a:ahLst/>
            <a:rect l="l" t="t" r="r" b="b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/>
            <a:ahLst/>
            <a:rect l="l" t="t" r="r" b="b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/>
            <a:ahLst/>
            <a:rect l="l" t="t" r="r" b="b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23" name="组合 4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24" name="组合 4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2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27" name="文本框 4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28" name="文本框 5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0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1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2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3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4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58" name="组合 3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59" name="组合 3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6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62" name="文本框 4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63" name="文本框 4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椭圆 31"/>
          <p:cNvSpPr/>
          <p:nvPr/>
        </p:nvSpPr>
        <p:spPr>
          <a:xfrm>
            <a:off x="1487520" y="1860480"/>
            <a:ext cx="3173400" cy="317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55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57" name="椭圆 4"/>
          <p:cNvSpPr/>
          <p:nvPr/>
        </p:nvSpPr>
        <p:spPr>
          <a:xfrm>
            <a:off x="6006960" y="1670040"/>
            <a:ext cx="563760" cy="58428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6006960" y="16700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文本框 21"/>
          <p:cNvSpPr/>
          <p:nvPr/>
        </p:nvSpPr>
        <p:spPr>
          <a:xfrm>
            <a:off x="6732720" y="16794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年度工作概述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椭圆 9"/>
          <p:cNvSpPr/>
          <p:nvPr/>
        </p:nvSpPr>
        <p:spPr>
          <a:xfrm>
            <a:off x="6006960" y="2463840"/>
            <a:ext cx="563760" cy="56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006960" y="2463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文本框 22"/>
          <p:cNvSpPr/>
          <p:nvPr/>
        </p:nvSpPr>
        <p:spPr>
          <a:xfrm>
            <a:off x="6732720" y="24732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完成情况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3" name="椭圆 13"/>
          <p:cNvSpPr/>
          <p:nvPr/>
        </p:nvSpPr>
        <p:spPr>
          <a:xfrm>
            <a:off x="6006960" y="32558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4" name="文本框 14"/>
          <p:cNvSpPr/>
          <p:nvPr/>
        </p:nvSpPr>
        <p:spPr>
          <a:xfrm>
            <a:off x="6006960" y="3255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文本框 24"/>
          <p:cNvSpPr/>
          <p:nvPr/>
        </p:nvSpPr>
        <p:spPr>
          <a:xfrm>
            <a:off x="6732720" y="326556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存在不足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椭圆 16"/>
          <p:cNvSpPr/>
          <p:nvPr/>
        </p:nvSpPr>
        <p:spPr>
          <a:xfrm>
            <a:off x="6006960" y="40496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文本框 17"/>
          <p:cNvSpPr/>
          <p:nvPr/>
        </p:nvSpPr>
        <p:spPr>
          <a:xfrm>
            <a:off x="6006960" y="40496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文本框 25"/>
          <p:cNvSpPr/>
          <p:nvPr/>
        </p:nvSpPr>
        <p:spPr>
          <a:xfrm>
            <a:off x="6732720" y="404964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成功项目展示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椭圆 19"/>
          <p:cNvSpPr/>
          <p:nvPr/>
        </p:nvSpPr>
        <p:spPr>
          <a:xfrm>
            <a:off x="6006960" y="4843440"/>
            <a:ext cx="563760" cy="56376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文本框 20"/>
          <p:cNvSpPr/>
          <p:nvPr/>
        </p:nvSpPr>
        <p:spPr>
          <a:xfrm>
            <a:off x="6006960" y="48434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文本框 26"/>
          <p:cNvSpPr/>
          <p:nvPr/>
        </p:nvSpPr>
        <p:spPr>
          <a:xfrm>
            <a:off x="6732720" y="4863960"/>
            <a:ext cx="34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明年工作计划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2" name="组合 30"/>
          <p:cNvGrpSpPr/>
          <p:nvPr/>
        </p:nvGrpSpPr>
        <p:grpSpPr>
          <a:xfrm>
            <a:off x="1417680" y="2724120"/>
            <a:ext cx="3192480" cy="1557000"/>
            <a:chOff x="1417680" y="2724120"/>
            <a:chExt cx="3192480" cy="1557000"/>
          </a:xfrm>
        </p:grpSpPr>
        <p:sp>
          <p:nvSpPr>
            <p:cNvPr id="173" name="文本框 29"/>
            <p:cNvSpPr/>
            <p:nvPr/>
          </p:nvSpPr>
          <p:spPr>
            <a:xfrm>
              <a:off x="1417680" y="2724120"/>
              <a:ext cx="319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Vrinda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Vrinda"/>
                </a:rPr>
                <a:t>ONTENTS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74" name="文本框 27"/>
            <p:cNvSpPr/>
            <p:nvPr/>
          </p:nvSpPr>
          <p:spPr>
            <a:xfrm>
              <a:off x="2669760" y="2850840"/>
              <a:ext cx="164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Vrinda"/>
                </a:rPr>
                <a:t>目录</a:t>
              </a:r>
              <a:endParaRPr b="0" lang="en-US" sz="4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6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7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8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9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0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1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2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79" name="组合 1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80" name="组合 1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81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2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83" name="文本框 1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84" name="文本框 1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/>
            <a:ahLst/>
            <a:rect l="l" t="t" r="r" b="b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/>
            <a:ahLst/>
            <a:rect l="l" t="t" r="r" b="b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/>
            <a:ahLst/>
            <a:rect l="l" t="t" r="r" b="b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椭圆 6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椭圆 7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椭圆 8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椭圆 9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椭圆 10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椭圆 11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直接连接符 12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直接连接符 15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直接连接符 16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直接连接符 17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直接连接符 18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直接连接符 19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直接连接符 2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直接连接符 21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直接连接符 22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直接连接符 23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直接连接符 2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直接连接符 25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直接连接符 26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直接连接符 27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直接连接符 28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直接连接符 29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直接连接符 30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椭圆 31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/>
            <a:ahLst/>
            <a:rect l="l" t="t" r="r" b="b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/>
            <a:ahLst/>
            <a:rect l="l" t="t" r="r" b="b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/>
            <a:ahLst/>
            <a:rect l="l" t="t" r="r" b="b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椭圆 37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椭圆 38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直接连接符 39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文本框 14"/>
          <p:cNvSpPr/>
          <p:nvPr/>
        </p:nvSpPr>
        <p:spPr>
          <a:xfrm>
            <a:off x="3505320" y="2793960"/>
            <a:ext cx="483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8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矩形 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/>
            <a:ahLst/>
            <a:rect l="l" t="t" r="r" b="b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/>
            <a:ahLst/>
            <a:rect l="l" t="t" r="r" b="b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/>
            <a:ahLst/>
            <a:rect l="l" t="t" r="r" b="b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7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/>
            <a:ahLst/>
            <a:rect l="l" t="t" r="r" b="b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/>
            <a:ahLst/>
            <a:rect l="l" t="t" r="r" b="b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/>
            <a:ahLst/>
            <a:rect l="l" t="t" r="r" b="b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/>
            <a:ahLst/>
            <a:rect l="l" t="t" r="r" b="b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/>
            <a:ahLst/>
            <a:rect l="l" t="t" r="r" b="b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/>
            <a:ahLst/>
            <a:rect l="l" t="t" r="r" b="b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/>
            <a:ahLst/>
            <a:rect l="l" t="t" r="r" b="b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/>
            <a:ahLst/>
            <a:rect l="l" t="t" r="r" b="b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/>
            <a:ahLst/>
            <a:rect l="l" t="t" r="r" b="b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/>
            <a:ahLst/>
            <a:rect l="l" t="t" r="r" b="b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/>
            <a:ahLst/>
            <a:rect l="l" t="t" r="r" b="b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/>
            <a:ahLst/>
            <a:rect l="l" t="t" r="r" b="b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/>
            <a:ahLst/>
            <a:rect l="l" t="t" r="r" b="b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/>
            <a:ahLst/>
            <a:rect l="l" t="t" r="r" b="b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/>
            <a:ahLst/>
            <a:rect l="l" t="t" r="r" b="b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/>
            <a:ahLst/>
            <a:rect l="l" t="t" r="r" b="b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/>
            <a:ahLst/>
            <a:rect l="l" t="t" r="r" b="b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/>
            <a:ahLst/>
            <a:rect l="l" t="t" r="r" b="b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/>
            <a:ahLst/>
            <a:rect l="l" t="t" r="r" b="b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/>
            <a:ahLst/>
            <a:rect l="l" t="t" r="r" b="b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/>
            <a:ahLst/>
            <a:rect l="l" t="t" r="r" b="b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/>
            <a:ahLst/>
            <a:rect l="l" t="t" r="r" b="b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/>
            <a:ahLst/>
            <a:rect l="l" t="t" r="r" b="b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/>
            <a:ahLst/>
            <a:rect l="l" t="t" r="r" b="b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/>
            <a:ahLst/>
            <a:rect l="l" t="t" r="r" b="b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/>
            <a:ahLst/>
            <a:rect l="l" t="t" r="r" b="b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/>
            <a:ahLst/>
            <a:rect l="l" t="t" r="r" b="b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/>
            <a:ahLst/>
            <a:rect l="l" t="t" r="r" b="b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/>
            <a:ahLst/>
            <a:rect l="l" t="t" r="r" b="b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/>
            <a:ahLst/>
            <a:rect l="l" t="t" r="r" b="b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3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/>
            <a:ahLst/>
            <a:rect l="l" t="t" r="r" b="b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/>
            <a:ahLst/>
            <a:rect l="l" t="t" r="r" b="b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/>
            <a:ahLst/>
            <a:rect l="l" t="t" r="r" b="b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/>
            <a:ahLst/>
            <a:rect l="l" t="t" r="r" b="b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982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983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8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98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98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987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89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990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1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2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3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4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995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6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997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998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999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00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1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02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03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04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5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06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7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8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9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10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1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12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3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4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5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16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17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18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19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20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1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22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23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4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5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26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27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028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9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0" name="矩形 183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3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4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5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6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0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4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5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6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7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8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9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0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2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3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4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5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7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8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9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0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3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矩形 11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/>
            <a:ahLst/>
            <a:rect l="l" t="t" r="r" b="b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/>
            <a:ahLst/>
            <a:rect l="l" t="t" r="r" b="b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/>
            <a:ahLst/>
            <a:rect l="l" t="t" r="r" b="b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/>
            <a:ahLst/>
            <a:rect l="l" t="t" r="r" b="b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/>
            <a:ahLst/>
            <a:rect l="l" t="t" r="r" b="b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/>
            <a:ahLst/>
            <a:rect l="l" t="t" r="r" b="b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/>
            <a:ahLst/>
            <a:rect l="l" t="t" r="r" b="b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/>
            <a:ahLst/>
            <a:rect l="l" t="t" r="r" b="b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/>
            <a:ahLst/>
            <a:rect l="l" t="t" r="r" b="b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/>
            <a:ahLst/>
            <a:rect l="l" t="t" r="r" b="b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/>
            <a:ahLst/>
            <a:rect l="l" t="t" r="r" b="b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/>
            <a:ahLst/>
            <a:rect l="l" t="t" r="r" b="b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/>
            <a:ahLst/>
            <a:rect l="l" t="t" r="r" b="b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/>
            <a:ahLst/>
            <a:rect l="l" t="t" r="r" b="b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/>
            <a:ahLst/>
            <a:rect l="l" t="t" r="r" b="b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/>
            <a:ahLst/>
            <a:rect l="l" t="t" r="r" b="b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/>
            <a:ahLst/>
            <a:rect l="l" t="t" r="r" b="b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/>
            <a:ahLst/>
            <a:rect l="l" t="t" r="r" b="b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/>
            <a:ahLst/>
            <a:rect l="l" t="t" r="r" b="b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/>
            <a:ahLst/>
            <a:rect l="l" t="t" r="r" b="b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/>
            <a:ahLst/>
            <a:rect l="l" t="t" r="r" b="b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/>
            <a:ahLst/>
            <a:rect l="l" t="t" r="r" b="b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/>
            <a:ahLst/>
            <a:rect l="l" t="t" r="r" b="b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/>
            <a:ahLst/>
            <a:rect l="l" t="t" r="r" b="b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/>
            <a:ahLst/>
            <a:rect l="l" t="t" r="r" b="b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/>
            <a:ahLst/>
            <a:rect l="l" t="t" r="r" b="b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5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/>
            <a:ahLst/>
            <a:rect l="l" t="t" r="r" b="b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/>
            <a:ahLst/>
            <a:rect l="l" t="t" r="r" b="b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/>
            <a:ahLst/>
            <a:rect l="l" t="t" r="r" b="b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/>
            <a:ahLst/>
            <a:rect l="l" t="t" r="r" b="b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/>
            <a:ahLst/>
            <a:rect l="l" t="t" r="r" b="b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/>
            <a:ahLst/>
            <a:rect l="l" t="t" r="r" b="b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/>
            <a:ahLst/>
            <a:rect l="l" t="t" r="r" b="b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/>
            <a:ahLst/>
            <a:rect l="l" t="t" r="r" b="b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/>
            <a:ahLst/>
            <a:rect l="l" t="t" r="r" b="b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/>
            <a:ahLst/>
            <a:rect l="l" t="t" r="r" b="b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/>
            <a:ahLst/>
            <a:rect l="l" t="t" r="r" b="b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/>
            <a:ahLst/>
            <a:rect l="l" t="t" r="r" b="b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/>
            <a:ahLst/>
            <a:rect l="l" t="t" r="r" b="b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/>
            <a:ahLst/>
            <a:rect l="l" t="t" r="r" b="b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/>
            <a:ahLst/>
            <a:rect l="l" t="t" r="r" b="b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/>
            <a:ahLst/>
            <a:rect l="l" t="t" r="r" b="b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/>
            <a:ahLst/>
            <a:rect l="l" t="t" r="r" b="b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/>
            <a:ahLst/>
            <a:rect l="l" t="t" r="r" b="b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/>
            <a:ahLst/>
            <a:rect l="l" t="t" r="r" b="b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/>
            <a:ahLst/>
            <a:rect l="l" t="t" r="r" b="b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矩形 114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255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256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5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25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25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60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/>
            <a:ahLst/>
            <a:rect l="l" t="t" r="r" b="b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/>
            <a:ahLst/>
            <a:rect l="l" t="t" r="r" b="b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62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63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26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6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26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6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268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269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270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/>
            <a:ahLst/>
            <a:rect l="l" t="t" r="r" b="b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72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73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/>
            <a:ahLst/>
            <a:rect l="l" t="t" r="r" b="b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/>
            <a:ahLst/>
            <a:rect l="l" t="t" r="r" b="b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5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276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/>
            <a:ahLst/>
            <a:rect l="l" t="t" r="r" b="b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/>
            <a:ahLst/>
            <a:rect l="l" t="t" r="r" b="b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279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28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28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283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/>
            <a:ahLst/>
            <a:rect l="l" t="t" r="r" b="b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/>
            <a:ahLst/>
            <a:rect l="l" t="t" r="r" b="b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7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288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289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290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/>
            <a:ahLst/>
            <a:rect l="l" t="t" r="r" b="b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92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293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294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295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296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297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/>
            <a:ahLst/>
            <a:rect l="l" t="t" r="r" b="b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98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299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1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302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303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/>
            <a:ahLst/>
            <a:rect l="l" t="t" r="r" b="b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4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305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/>
            <a:ahLst/>
            <a:rect l="l" t="t" r="r" b="b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6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307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308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309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/>
            <a:ahLst/>
            <a:rect l="l" t="t" r="r" b="b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0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311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312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4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315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/>
            <a:ahLst/>
            <a:rect l="l" t="t" r="r" b="b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/>
            <a:ahLst/>
            <a:rect l="l" t="t" r="r" b="b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/>
            <a:ahLst/>
            <a:rect l="l" t="t" r="r" b="b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/>
            <a:ahLst/>
            <a:rect l="l" t="t" r="r" b="b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/>
            <a:ahLst/>
            <a:rect l="l" t="t" r="r" b="b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0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321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/>
            <a:ahLst/>
            <a:rect l="l" t="t" r="r" b="b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2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323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324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325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326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7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328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/>
            <a:ahLst/>
            <a:rect l="l" t="t" r="r" b="b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/>
            <a:ahLst/>
            <a:rect l="l" t="t" r="r" b="b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0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31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32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33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334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/>
            <a:ahLst/>
            <a:rect l="l" t="t" r="r" b="b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/>
            <a:ahLst/>
            <a:rect l="l" t="t" r="r" b="b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6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337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38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339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340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341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42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43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344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345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/>
            <a:ahLst/>
            <a:rect l="l" t="t" r="r" b="b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/>
            <a:ahLst/>
            <a:rect l="l" t="t" r="r" b="b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/>
            <a:ahLst/>
            <a:rect l="l" t="t" r="r" b="b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49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350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351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352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353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54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355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356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357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358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359" name="矩形 329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176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a8ea9"/>
                </a:solidFill>
                <a:latin typeface="Arial"/>
              </a:rPr>
              <a:t>年度工作概述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0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1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2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3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5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25560">
            <a:solidFill>
              <a:srgbClr val="63cff6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6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7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/>
            <a:ahLst/>
            <a:rect l="l" t="t" r="r" b="b"/>
            <a:pathLst>
              <a:path w="21600" h="21599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96" name="组合 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197" name="组合 2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19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00" name="文本框 3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1" name="文本框 3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3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4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5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6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7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/>
            <a:ahLst/>
            <a:rect l="l" t="t" r="r" b="b"/>
            <a:pathLst>
              <a:path w="462" h="427">
                <a:moveTo>
                  <a:pt x="266" y="0"/>
                </a:moveTo>
                <a:lnTo>
                  <a:pt x="266" y="0"/>
                </a:ln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lnTo>
                  <a:pt x="266" y="426"/>
                </a:ln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/>
            <a:ahLst/>
            <a:rect l="l" t="t" r="r" b="b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/>
            <a:ahLst/>
            <a:rect l="l" t="t" r="r" b="b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/>
            <a:ahLst/>
            <a:rect l="l" t="t" r="r" b="b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/>
            <a:ahLst/>
            <a:rect l="l" t="t" r="r" b="b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/>
            <a:ahLst/>
            <a:rect l="l" t="t" r="r" b="b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/>
            <a:ahLst/>
            <a:rect l="l" t="t" r="r" b="b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/>
            <a:ahLst/>
            <a:rect l="l" t="t" r="r" b="b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34" name="组合 53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35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36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38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9" name="文本框 6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2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3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0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7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8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59" name="组合 4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60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62" name="文本框 4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63" name="文本框 4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/>
            <a:ahLst/>
            <a:rect l="l" t="t" r="r" b="b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65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266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267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268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269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270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/>
            <a:ahLst/>
            <a:rect l="l" t="t" r="r" b="b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/>
            <a:ahLst/>
            <a:rect l="l" t="t" r="r" b="b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/>
            <a:ahLst/>
            <a:rect l="l" t="t" r="r" b="b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85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86" name="组合 5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87" name="Picture 25@|13FFC:16777215|FBC:16777215|LFC:16777215|LBC:167772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89" name="文本框 5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90" name="文本框 5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299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0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1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2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303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1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31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31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315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24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25" name="组合 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26" name="Picture 25@|13FFC:16777215|FBC:16777215|LFC:16777215|LBC:167772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28" name="文本框 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29" name="文本框 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9T08:06:38Z</dcterms:modified>
  <cp:revision>4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