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ADE3-2923-4DA5-87C8-BE00CE9B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0388-690D-45F1-ADB1-8AB16C9E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A9F6A-FB3A-4F2E-854D-FFCCC09931B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D4AB7-4EF5-4D76-9695-198A50B3062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B43C1-ED0C-4921-B365-D205726D82F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3E465-D5B4-4E7C-94B3-53D3554598C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1BECB-BB62-4017-86EE-C8CC4662B22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67338-BBE6-430F-A174-5C37D97D19F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752F0-EB4C-4C95-A1EB-7FAE2E031B3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B6D85-B0FC-464A-99D1-A357E542140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64D98-9801-4CED-AC42-4C7E6F7D3E2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D825F6-2E73-4202-AB71-B83EEACE0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0E44-CBEF-4C6C-A7DF-6F4B0674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024654-277E-4778-8179-F8FBFEE7FCD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749559-653B-454E-B3DE-F8DAFEDDE6E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5DFBB0-2706-4DC7-B60B-0F79E855AA5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CD36D1-8E3D-4535-B84E-9EF4B7B9E61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A22846-3234-4400-ACB6-29F21682528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4914DE-9460-4FE1-A63E-66271DCCAC4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5D91E1-48AE-44B1-96A5-14FD657E705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B85D0F-C5E8-4E77-AAD0-EBC656DD45F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8DA71F-3E4E-4E9B-A794-0321D4E6FBA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C0917B-B2E2-42E6-82F6-8F250A5DF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0584-37BF-4357-AAA3-50882895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4655FB-2448-41F0-BF83-4D1BC9D197E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A63B3A-425A-4881-BF33-E3FF7410E5A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1A1BF8-0695-466F-A07F-55728D00087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970299-BE1C-4808-9A35-FB700F5258B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8D382F-5DA4-4395-B1FA-611FDF4EE78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DEBFA7-EBF2-4CE1-9EA6-8F36BA7264E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F0FD3F-FCB6-48C6-8B80-038233F8824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5751C4-59C1-4B8B-8FA2-DA50A8D872E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A4C142-AC93-4195-966A-9B1937449E5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F56196-F0E2-4083-AE54-C0D58D082C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3CD67-0380-445E-A1F2-C0A695D4E2D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F1FF75-A0AE-445B-BCB3-733A7C40FE4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FC4855-2F46-41CF-9371-E769B6C52F8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C9A3E4-FEC6-4D4B-A99A-CE782949AFB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04B83-237E-4DEB-AD8D-D8A228A2336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9F0B9-DAFA-4C14-84C1-9424944CB51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8CE93-C99C-4830-B74E-031AA094A5D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4FB6B-3A8D-4EC1-B8EE-8F7DE7CB4D0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75433-D2F7-4C92-B9AB-9F6CD84746C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1CEF8-4101-4CD0-9E97-737F18561EF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7B021-28D8-4EFE-BA7C-CB1D344F67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35B30-ECBB-4AAD-919A-28881F9843C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DBE17-437D-4D99-BFF8-8B1EA3A6FAF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A5045-25A5-45AC-A135-637532104EA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B8A33-F689-4FA8-B96C-8E02243A873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3DC89-30DB-4F51-9BE5-9FA895F0D00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959A6-CA74-4F85-9558-2CE3B330468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49648-CD59-4C01-98E7-401AA95820B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1C068-FAC4-4B89-9302-7A1FF1EEB6B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E995C-05D8-4920-9988-D372AF0CFD1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805F2-C8C6-4012-8096-7BECE54BDC4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FD673-0C4E-43BD-8CEB-73AC1B1AA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73997-4F84-4A97-A312-4954D7D9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6E5DC-716C-4941-9D0C-A58B8F1E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C024A-8D8D-46B3-A94D-790E19BE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1993D-EE4F-467E-8B0C-C5B82875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1957D-8280-4B56-A8C1-28B94340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1B10A-F5D4-4BAA-96FA-D5AC482B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D74D4-40ED-4A9F-98C6-856B8BB6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FDE6C-CFCF-4936-B19D-828557C8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1BB36-4377-4170-945D-350B42009BD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B4F9F-BDDE-4F0B-9E1B-06E184B2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E2726-1802-4FB4-A261-283F8555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49B48-9B7C-4C6F-AC35-DBD170BF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17BC-EC6C-4839-98CF-9A60B224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BBB05-ED69-4D18-AA12-E5D0C0941E9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AC1FF1-12CB-48D2-A649-7EE469C51C0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56792B-BA9E-40D4-B31C-88ED73586CE5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92BCB9-51A3-431D-973F-7C806F9E6CD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77CE35-841F-49B3-9C5C-15AE9A827D5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01000F-E2DF-4714-BC97-C09755751F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46DA0-EB27-4DAE-AE47-FAC068747CF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B9649B-288B-49F3-8B80-ACDD2F2CF36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5779F2-7514-4CF8-BA03-1FF86D8AC9B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AD082F-DC62-4B9B-8F6F-C9DC1DF904D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52E6A6-DF64-4F1B-BCF0-6D8C245F241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E4268C-7274-4926-8C87-E268336B5EB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069514-A259-415B-AC5A-CE8C353B0B6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2C3EBF-EC3C-4F3A-90D5-662F0A1E03F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1EED0A-9D9B-4706-9524-77886B24A19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FB8D48-C44D-461A-91F8-3942C5FFDC7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5B4DEF-7D80-4E34-8719-1D31B712D5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7D9EE-AE78-49D6-B523-3C1C24C544E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586FD0-962F-4E80-8EF9-2EDC14E29C0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06C555-319A-41B4-8515-A431B8C7694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52D6A7-C52C-4DD9-B2B1-23502A08E74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15DF48-6D99-4CC1-9EC7-B0144E1267F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02F64C-3B48-45EB-B8F3-6CB0C4E8D80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085E4E-6127-4CDC-96BA-3B573235E3B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A8D248-786D-4F63-B9F3-D8AEF054AA2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F7E0F5-6106-4573-8E3C-FEB1791D7DB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BA2525-1B52-44F6-9B73-321F61AA6DB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FF4F6-F09A-498C-B837-C2830AA0DDA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2B852-3CF1-4A67-BB0C-D0214874089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2DEB0-4137-4EF0-9652-5849C2FCDAA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F3EAD-57E8-481D-82CC-16CECF3C943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2BFEF-7E37-4ECB-B7DF-9D45D796CF9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C6761-E99E-4079-9057-65F6448F666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5E962-A5BE-402D-B552-02E2E404BEF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B6960-322A-4830-82AD-FA68EC96BBA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85DD9-EB76-4B65-95C9-BECDF55E585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78ECE-CD5C-4F91-B14F-5497AA2584D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D4F3C-B04B-4C93-901E-261AD1F46C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E17F12-3AF7-4F87-93F6-77164A36EB4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8016F-83F5-480E-AAFA-7854709F670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551C0-B184-4614-9F8E-C8AE22AC679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EF169-E75E-4FF2-8FBB-3F4F3F5ACAC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117C0B-A5A6-4EE4-9A1F-EB42D89F174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027E80-A3C8-40B3-A301-6551F06468C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F357A6-A7CD-4EB8-8105-B856D1F66B8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D0A56B-F96D-444C-95B4-4DB8FF9209D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5C2A0D-6C26-4932-8172-C626886A39D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CEEDBA-8C88-4790-B182-C3EA218E844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FFD312-A6B5-4D9F-BF9B-B35DA45CC9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63915F-718E-4F09-9F2D-1827880DC8C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7C691B-429C-49C3-8156-3BC7CBED2D3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502C99-F072-4FB0-B6E7-FC4CD306FF3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B43DC4-23B0-43A4-8C05-22499160575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BFBFB5-D6C8-4C0E-8A50-5E1CE2D1B49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3B19DC-BCB0-4A59-ACD7-853CAEFE9D8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C8A8A8-D99B-49E4-AFF4-7A470CDE2DDA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F9705F-0AB9-4F63-BA00-BDF5D3904F7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5C3BD0-7CE2-43D3-BE03-D55F068C414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5D10D4-86DC-4BA7-9E44-BE20101AD7B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38347B-B5AD-491D-A071-B1643E8361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7B0D55-B761-4B8D-ABDA-2F57E978853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4E9723-3B1A-40E8-8566-780F5B31529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C16844-16DD-4E7C-AF4B-A2436052265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AB1066-0440-4EB2-B41F-2A62B7EC3AC0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EF6845-BC32-4BCF-B12F-F4D2302A629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EA5780-90D6-4585-8612-114694B780BE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5E1DA0-6CAE-4096-8D42-A8B0283BAD8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06AC7A-1A69-4418-869D-AFF7A4FCDD2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8383A-CE06-4BBB-A245-62D85A3192D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1E0AE-516C-4250-8370-9B7D4492810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1CE52-06A4-464B-85C9-509633074BA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95A70A-BB1E-4A1F-90FA-774AE5CE641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239AB-2C42-402E-8AF9-B51CB24289C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630986-5582-401E-9A0C-3936BBD6163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CAC1A-E34A-47F2-B263-336C9601F02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8B14E2-7ABA-46DD-B5AA-CEDB10C85F8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48DB5-D4D6-42BA-AAED-BB0B7AB8C51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57874-AF75-42A6-98D4-27F9079B170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87FD5-01B6-424B-8AD4-9A32BF85AD7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1282F5-86EE-414E-878B-72A1A1708CEF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18AD77-C555-45D6-A9F5-1ECB6C3F490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32C1E9-45DE-472A-9059-AA0D641E0E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8CDBBE-A134-46D8-A619-7A96D80B4B9F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45F067-B080-4A79-8426-F7E1CA71162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7407AA-66B6-4B41-9355-46597BB89FC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019BB4-96BC-49FD-B5D0-89166D203460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9D7C50-D8D9-415F-BD96-890307F4E7C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5CC3D2-2D1D-4D89-A4A8-23C44E30C53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6B1D8F-CEB0-4FE2-A087-F4C4AA9E945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B4DC20-4E6D-4070-AA9C-F9DFC44BB8B2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508A01-3596-476B-AE6A-A6772EB8E9A7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1C6FBC-7FF8-4526-A697-00ED0E0848B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A95F20-BD97-4A72-9CC4-969125FBAF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48C9-2140-4E5C-BE58-A8A2EED8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CC5E4C-0AC3-4B3C-BD75-BBE64847C19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8295B6-7961-4535-82A9-A9D0A853AEF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C53C53-0E65-4B14-97AA-20A73E2CBD0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941B1D-4188-474D-B8A0-5AAD59911240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132337-04FA-4328-BED0-06464E379A18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133D04E-091D-4674-917F-DC68C0E3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E5DED62-677F-4BA7-9E3C-6584C345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9AB9301-1780-40B3-A905-1249A3BB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D4FDC0-94C0-4E46-A460-B612868D2412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00C062C-E9C3-4A6B-8C67-FA60A2C7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FC8BD10-377D-4CC3-BAD7-739B0C47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1F5943D-FFA9-415C-A581-5BEF58FF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966E1A4-0DB7-4845-9833-F347ED07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26233DE-E7C4-48D5-BD2D-628ADF15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E5CDB45-591E-4B0F-B188-2ECF5206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090D6FA-A6C9-4E6A-8FEF-A094C62B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41EA8BD-8947-43C5-996D-C004641B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B522013-40AA-4C0A-812B-B1828D2C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1AB3D9-AFCE-4BA6-9455-8F9888603FE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23051E-941D-4F05-9097-0FB430E5BEB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820D-CB9C-46A4-971F-673AAD8D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9D208-4C8C-4499-AD47-F10111F3BB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7EB1-C9C8-4628-9513-67165FB4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D4ECA-CAE1-4A2C-BEF8-887EB99C776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04BFE-7E5B-47CC-8098-D925FF4DFC8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BA654-E745-4F78-B8BD-01BFA2776F2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3DC10-610D-4A18-B1B1-BD4887C4CF9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A2BAA-C1FD-48B7-B70A-F2089FBC0FF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B76D7-F021-4E97-8956-F369DB36881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38D39-6847-44C7-B258-A54F646B836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CF4DF-8CC3-4001-825B-F8BEC9E52B2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3E6F3-CCE9-4E0F-BDF6-419C5C5CC85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BDEC1-7466-45A4-97B6-52C20B3007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E7E6-3781-4935-9F6C-97F3CE21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150AB-4486-47EA-8F60-A2F0ABF5070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375654-6296-4FB1-BF19-EB8058990ED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EFD3A7-5498-441E-923D-53A2D07611C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96FBD3-E2EE-40C2-948A-68052C79E5D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2C63B3-8F44-47DD-8A74-552E8CB92B2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26739A-7F74-4891-A61F-5FC1E2FCACF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092B06-1855-4158-B5F0-08DF8AACECF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A6FF51-6780-4730-9963-24B3DDE2EAC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65D2AD-A8F6-4E30-BC16-1F9F5FE8879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7E8965-C3C0-44BB-B179-C88ABB5B4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83B3-634B-4A1E-ADA6-87C20517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7A860A-9BAC-48F6-9808-6F8DCDF15E7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12EF4D-7BFF-47A4-AF0C-87074DCCC52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F99A13-CA0A-44CC-8BEE-4F279D0E149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541B-5DE8-4FEB-B47D-21BF391B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70CD2D-24FF-4453-9AAC-8758E6B9A24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F03BAA-4667-424A-B720-BBA5CBB8893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3A3DBD-8F8A-466F-97A1-0C0B950FDD9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A968C9-9751-466C-9518-63641001408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EBF796-D0A9-4AD5-B9C9-438875FC9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69C0-EFD4-44E1-83ED-3B5F4189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2EB8D8-1802-427A-B20B-E5B72BEBD22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43D066-3234-4ACE-81DC-8BC6321D166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8DD29A-E1AA-49BD-B929-AE23EBBB8BF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ACE377-37CA-4611-B4C2-2E3D8CFC75D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64EC4B-C4DE-4A94-BE7E-2F5ED23C4B9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67A1B9-955B-40FB-AB45-8383641C060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605703-BEDE-4FC9-9755-3DF36A075D9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EB347-1182-4ED8-9FEB-A60E7373F33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D2CAB-3065-4FF0-AA9F-C76627B022D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F2C31-C23B-4E22-B957-D5A37F10BA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99A2-6C1A-4CBE-9367-ECFFB4A42E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1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C64F-353C-46BB-B8CB-86BAA8FD0D35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1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8C1B-95F6-4611-ABC7-3AC783B8FF3E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3D4E-EA85-44A5-A149-BE9B606F90BC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2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FF84-1AEB-46FA-A070-C4EDD028B558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sldNum" idx="2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32E4-AF94-4246-AF46-53800BC91EF2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2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CA05-0FD0-41CE-8E04-2C1E5E9E9495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B278-1104-4A53-97EC-95367EA2D937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sldNum" idx="30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39B3-AFBC-44EE-8C5E-49661000B870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32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761A-C8EA-4995-A595-FCA26368E5E7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sldNum" idx="3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36D7-C8BA-49BF-BA8B-BD52F3823B98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3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9979-4C7F-4E9A-AE32-31E72FB6876B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sldNum" idx="3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C773-27B8-46FA-A161-B6BCA87B5E23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4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8D61-5F8D-4FC0-A94D-DD1BEC60B2D1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6705-5659-4151-A3B2-0F99E964DB6E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5E74-412E-43BC-A64B-B40EF80A6B74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13C6-4B0B-4B08-A900-A81FE4A01FF8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3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DCE3-1927-4C8B-8E01-240DD6EFB858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5726-6984-44BB-BFA8-D75C99C952D3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TextBox 1"/>
          <p:cNvSpPr/>
          <p:nvPr/>
        </p:nvSpPr>
        <p:spPr>
          <a:xfrm>
            <a:off x="642960" y="465120"/>
            <a:ext cx="4929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bacc6"/>
                </a:solidFill>
                <a:latin typeface="微软雅黑"/>
                <a:ea typeface="微软雅黑"/>
              </a:rPr>
              <a:t>交通安全不是问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问题是解决的方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圆角矩形标注 7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Box 3"/>
          <p:cNvSpPr/>
          <p:nvPr/>
        </p:nvSpPr>
        <p:spPr>
          <a:xfrm>
            <a:off x="1724040" y="34383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XXX</a:t>
            </a:r>
            <a:r>
              <a:rPr b="0" lang="zh-CN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小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Box 12"/>
          <p:cNvSpPr/>
          <p:nvPr/>
        </p:nvSpPr>
        <p:spPr>
          <a:xfrm>
            <a:off x="4140360" y="15699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交通安全无小事</a:t>
            </a:r>
            <a:r>
              <a:rPr b="1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 </a:t>
            </a: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事事注意安全！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Box 17"/>
          <p:cNvSpPr/>
          <p:nvPr/>
        </p:nvSpPr>
        <p:spPr>
          <a:xfrm>
            <a:off x="142920" y="28584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TextBox 3"/>
          <p:cNvSpPr/>
          <p:nvPr/>
        </p:nvSpPr>
        <p:spPr>
          <a:xfrm>
            <a:off x="1771560" y="857160"/>
            <a:ext cx="3061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区交通安全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解决方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4"/>
          <p:cNvSpPr/>
          <p:nvPr/>
        </p:nvSpPr>
        <p:spPr>
          <a:xfrm>
            <a:off x="1515960" y="224316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广西自治区南宁市卫国小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圆角矩形标注 5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6"/>
          <p:cNvSpPr/>
          <p:nvPr/>
        </p:nvSpPr>
        <p:spPr>
          <a:xfrm>
            <a:off x="1724040" y="34383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南宁市卫国小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TextBox 1"/>
          <p:cNvSpPr/>
          <p:nvPr/>
        </p:nvSpPr>
        <p:spPr>
          <a:xfrm>
            <a:off x="1187280" y="80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卷首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Box 3"/>
          <p:cNvSpPr/>
          <p:nvPr/>
        </p:nvSpPr>
        <p:spPr>
          <a:xfrm>
            <a:off x="1886040" y="244620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矩形​​ 4"/>
          <p:cNvSpPr/>
          <p:nvPr/>
        </p:nvSpPr>
        <p:spPr>
          <a:xfrm>
            <a:off x="969840" y="1515960"/>
            <a:ext cx="417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区交通安全问题：我们的解决方案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一学习项目主要是通过学生在观察学校放学时段人流量的基础上，搜集数据，并进行整理、分析，找出校门口人车混行的原因，提出了学生的校区交通安全问题解决方案。通过项目的学习，期望学生在亲身实践中，体验运用已学知识解决设计问题的过程，培养整理、分析信息的能力、问题解决的能力与协作意识、态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Box 9"/>
          <p:cNvSpPr/>
          <p:nvPr/>
        </p:nvSpPr>
        <p:spPr>
          <a:xfrm>
            <a:off x="398520" y="58752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TextBox 2"/>
          <p:cNvSpPr/>
          <p:nvPr/>
        </p:nvSpPr>
        <p:spPr>
          <a:xfrm>
            <a:off x="1510200" y="1609560"/>
            <a:ext cx="146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 action="ppaction://hlinksldjump"/>
              </a:rPr>
              <a:t>一、问题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Box 3"/>
          <p:cNvSpPr/>
          <p:nvPr/>
        </p:nvSpPr>
        <p:spPr>
          <a:xfrm>
            <a:off x="3311640" y="2395440"/>
            <a:ext cx="32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 action="ppaction://hlinksldjump"/>
              </a:rPr>
              <a:t>二、学区交通安全问题原因的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Box 4"/>
          <p:cNvSpPr/>
          <p:nvPr/>
        </p:nvSpPr>
        <p:spPr>
          <a:xfrm>
            <a:off x="1071720" y="3214800"/>
            <a:ext cx="428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 action="ppaction://hlinksldjump"/>
              </a:rPr>
              <a:t>三、我们的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Box 5"/>
          <p:cNvSpPr/>
          <p:nvPr/>
        </p:nvSpPr>
        <p:spPr>
          <a:xfrm>
            <a:off x="1114920" y="801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Box 6"/>
          <p:cNvSpPr/>
          <p:nvPr/>
        </p:nvSpPr>
        <p:spPr>
          <a:xfrm>
            <a:off x="398520" y="58752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Box 7"/>
          <p:cNvSpPr/>
          <p:nvPr/>
        </p:nvSpPr>
        <p:spPr>
          <a:xfrm>
            <a:off x="1073160" y="4029120"/>
            <a:ext cx="321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 action="ppaction://hlinksldjump"/>
              </a:rPr>
              <a:t>四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奇思妙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6" name="Picture 1" descr="D:\卫国小学\map01.jpg"/>
          <p:cNvPicPr/>
          <p:nvPr/>
        </p:nvPicPr>
        <p:blipFill>
          <a:blip r:embed="rId1"/>
          <a:srcRect l="2122" t="1870" r="907" b="-399"/>
          <a:stretch/>
        </p:blipFill>
        <p:spPr>
          <a:xfrm>
            <a:off x="428760" y="1428840"/>
            <a:ext cx="5286240" cy="4000320"/>
          </a:xfrm>
          <a:prstGeom prst="rect">
            <a:avLst/>
          </a:prstGeom>
          <a:ln w="0">
            <a:noFill/>
          </a:ln>
        </p:spPr>
      </p:pic>
      <p:sp>
        <p:nvSpPr>
          <p:cNvPr id="1197" name="矩形​​ 7"/>
          <p:cNvSpPr/>
          <p:nvPr/>
        </p:nvSpPr>
        <p:spPr>
          <a:xfrm>
            <a:off x="5857920" y="1359000"/>
            <a:ext cx="25002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中国广西南宁市卫国小学位于旧城商业区内，是服务于华强社区的一所学校。学校共有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802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名师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学区占地面积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2.1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平方公里，学区内人口约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3.7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万人，人口密度为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.84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人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平方千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Box 8"/>
          <p:cNvSpPr/>
          <p:nvPr/>
        </p:nvSpPr>
        <p:spPr>
          <a:xfrm>
            <a:off x="1672560" y="619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我们的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Box 9"/>
          <p:cNvSpPr/>
          <p:nvPr/>
        </p:nvSpPr>
        <p:spPr>
          <a:xfrm>
            <a:off x="1157040" y="190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bacc6"/>
                </a:solidFill>
                <a:latin typeface="微软雅黑"/>
                <a:ea typeface="微软雅黑"/>
              </a:rPr>
              <a:t>一、问题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Box 10"/>
          <p:cNvSpPr/>
          <p:nvPr/>
        </p:nvSpPr>
        <p:spPr>
          <a:xfrm>
            <a:off x="285840" y="-6840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直接连接符 14"/>
          <p:cNvSpPr/>
          <p:nvPr/>
        </p:nvSpPr>
        <p:spPr>
          <a:xfrm>
            <a:off x="785880" y="4071960"/>
            <a:ext cx="91440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任意多边形 22"/>
          <p:cNvSpPr/>
          <p:nvPr/>
        </p:nvSpPr>
        <p:spPr>
          <a:xfrm>
            <a:off x="857160" y="2590920"/>
            <a:ext cx="4591080" cy="2554200"/>
          </a:xfrm>
          <a:prstGeom prst="pie">
            <a:avLst/>
          </a:prstGeom>
          <a:noFill/>
          <a:ln w="572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圆角矩形标注 23"/>
          <p:cNvSpPr/>
          <p:nvPr/>
        </p:nvSpPr>
        <p:spPr>
          <a:xfrm>
            <a:off x="3000240" y="2357280"/>
            <a:ext cx="1714680" cy="428760"/>
          </a:xfrm>
          <a:prstGeom prst="wedgeRoundRectCallout">
            <a:avLst>
              <a:gd name="adj1" fmla="val -49319"/>
              <a:gd name="adj2" fmla="val 227050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 Box 6"/>
          <p:cNvSpPr/>
          <p:nvPr/>
        </p:nvSpPr>
        <p:spPr>
          <a:xfrm>
            <a:off x="3325680" y="2408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f6228"/>
                </a:solidFill>
                <a:latin typeface="微软雅黑"/>
                <a:ea typeface="微软雅黑"/>
              </a:rPr>
              <a:t>华强社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5" name="TextBox 7" descr=""/>
          <p:cNvPicPr/>
          <p:nvPr/>
        </p:nvPicPr>
        <p:blipFill>
          <a:blip r:embed="rId2"/>
          <a:stretch/>
        </p:blipFill>
        <p:spPr>
          <a:xfrm>
            <a:off x="2554200" y="1920960"/>
            <a:ext cx="47116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8:16:02Z</dcterms:created>
  <dc:creator>SUSAN</dc:creator>
  <dc:description/>
  <cp:keywords/>
  <dc:language>en-US</dc:language>
  <cp:lastModifiedBy>Microsoft</cp:lastModifiedBy>
  <dcterms:modified xsi:type="dcterms:W3CDTF">2016-04-20T01:55:21Z</dcterms:modified>
  <cp:revision>2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