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899953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C808-A252-4B2A-8003-373007EB7E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B622-0CD6-479F-AADB-7D2A1C01ED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C879-179A-4D65-8531-A879F6C47D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ED5F-B5F6-48C8-904A-15EB9F2C17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BD12-2838-4FAA-8679-D87B4A73BA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F576-16FE-41E3-9713-CE98F8436B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F808-4C18-4D45-BECD-210D9A023E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F657-DF35-41BD-AA1A-B8D0675845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A5AB-7CF8-4F9C-B5B6-8D6AA633AE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18863-7417-47E4-BB13-2320F19C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94A92-FC16-43C9-9035-E31FDA5E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103C0-4D4D-44AC-AC2E-1DF34B51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A9CB4-EC14-4B73-A1BC-2FAEBB1C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4BA9C-C10F-4825-9D96-08625C05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33656-AB60-4792-8D9A-B37261AC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44CB1-C318-4E94-88C1-8CFB7555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79CFB-837B-4B94-893A-18E9FB0A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42E07-8EB2-48B3-AD25-CF41DD16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FB45D-E643-41FF-B594-C9F8E068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BB988-BC70-4A85-90FC-6C6880A1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321D6-2C89-4639-80C2-02348122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23D83-58D1-412F-8E32-E56F8E11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4A1D7-1BD6-406B-B4E4-B33E84E9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6D1EB-3689-42BF-8341-0DE23D7A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654C1-152E-4B67-B8EE-CC22F05D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2FCF0-9DD3-45EB-AE22-0951E7C7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5D697-67E4-41DA-A8D5-EC1C3D7A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7EBCC-4115-424E-9964-17495228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C40F5-397A-4170-9D8D-35312A4B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43F13-C49B-476B-85F4-452D8DB9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0396F-8532-4307-A968-5C3C1D9E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15E5B-6567-4938-94A9-A2EA1347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49186-4F67-4D1D-8923-EEF1862D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E5578-B2FB-4656-97ED-4B3071B9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2CC49-5FE5-4055-88FF-6C18115A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B0078-A710-4853-8D63-46385F9A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B4FCA-4D36-42CF-A505-82033436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282CB-8504-405C-9900-A1D4A4A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9B6C3-ECE3-423B-9DE0-6A8908F4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12E-45EC-421F-A880-60FA3AD1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FFA48-713B-4AA4-AC1D-C1B18653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8C125-80D7-4D85-9552-56DEB1A5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FCC62-A3D0-484E-9F59-A00338F3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32171-8952-4EE0-A8D4-E8C5DB07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9AB85-ECFA-49B9-8152-B63C5C68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EE2C2-BD91-4EC6-89F7-D18F7529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64166-C52B-4D8F-9B5B-71DF02B2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F7135-4DA0-4FE1-B597-DC602277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82878-008D-4F86-8081-11254EEA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C4684-E5CD-49DD-9DEA-5914D1F2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5F4-33C7-4AC0-B2F9-2EEB94F9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67971-774B-4559-B92C-62BD10CB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0D8B3-D419-4B96-A1B8-2C04538A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3E169-CB31-4F9B-A23D-57BB5E6A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CBEA0-6C3B-4A17-8FD8-0B4A9604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7C7C9-F136-48C2-8F48-9613288E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B40-4863-492C-AB15-FED92328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215-FB2C-4784-826A-287133EE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51E-AADD-4EEE-A0EC-ADA604F3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657-08BD-4046-89CE-7D37F107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F52-46B1-4C13-96F1-A58AA570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B03-AB06-46AA-9B62-FD3F2AD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36B-13A6-4903-8F94-0EBD2B9C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347-197D-4398-8C11-D9DB9010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AEC-506C-4076-B50F-72D9F6FA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8C9-EEFF-4454-B152-9B9B265C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9136-CA9E-4A1D-959E-40634BC0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52A1-D546-44D5-9682-D3C0DE22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6209-7449-41CC-BC66-5133FA66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FEDC-C18B-4299-B4DB-1B9492D0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DE26-A17E-4555-8E73-201A4FAF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71A0-8331-4978-B049-4F8B2F96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DD4F-8B83-4294-A665-95715843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DFEF-E37E-4781-BC7F-29EAE800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4518-1433-4342-97E3-4CEA67F5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0A45-3411-4666-B620-A1CB4F87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FC7D-6886-423E-A5AF-663E903A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7A55-DFC6-4745-AADD-0073F8CD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A666D-079C-4CB1-AE53-6A2F9DE7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B6A93-7AE6-4153-99B9-817F2385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DCBF-3BDA-4D1F-8194-26E2D8B7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CF4F0-5487-44AA-BFBA-D25032DA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3380-15CE-4196-9398-88C8B377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057D-6824-4BCC-ABBC-9AD677C9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8F98-ABD9-47C9-AC32-D2B6FDD2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5A6B1-981D-4696-B994-87A0B65D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84C8-9479-4499-8D88-58F23B37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8C7C-476E-4465-A508-A0845B22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C2E0-540B-4EAD-886B-03A5982B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F2C4B-7A80-45A3-B886-952B9B23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30B4E-482D-4FA8-8169-3DA00033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D7279-9B6B-4301-8845-7E5E7813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1DAE9-349D-4655-8D7C-490D4439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F1F83-5823-4B25-9268-EC0EAF00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81E6-2C23-4274-97E6-B84AD607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5338A-1A4A-4819-AB4A-E68CA950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85E3-872C-470B-AB45-47F10D82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3788D-BBC3-4C35-A5DD-BD0915AA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D1062-6869-422A-922F-61279D64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505D6-E3D4-4225-A678-E4AD55B8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1391C-B544-46C2-B18F-EAA67373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F1393-3984-4D71-A783-88CD371A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66A51-B037-4DA8-8A2A-387DC40A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7B350-8B9E-4C2D-9639-C9423DD2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4C005-23A4-4CC0-8559-D0519B76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FCCFD-1D01-48BB-8D30-32B18C96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DCCCD-CB71-4D7D-9B33-3A12B1E6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32C59-A5A8-4FFA-84CD-843DE06D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4696F-0413-42DE-813F-EF1BA171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74F62-F095-436B-BCE3-26E83FA1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075AA-626D-4744-A349-770BC570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95BED-A2D5-459C-A656-17FAD54A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F9E83-68B2-4143-840F-FE2BFC60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F3467-AFB7-4597-B1CA-745141CE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F9920-DCC8-478E-B6E7-F70F4509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91E8E-A1B6-4B33-9DCC-6AC75E6D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58611-D388-48B4-A5B5-2A0A1A41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B7E1B-D9F3-4908-8D97-69EDBC4D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321FD-9F77-4D30-AF3D-CEB617BC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3BB0E-F1B8-4FEC-8EBC-A9D9AA55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3E4D2-3310-4E5F-BA5F-96597AB2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29534-4D68-4F16-9609-96BC9EC6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E5127-9BE7-49B5-9E22-3B0C36E8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1ABF2-F5EC-4FD0-ACF6-97F69336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01ED3-F650-4CA7-BF69-31436F3A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0AD7D-7F94-4BDF-9009-09EE0C71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103FC-B5A8-4BC8-8781-6858F824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5EB7C-F3C7-40F3-B501-80457824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D92C1-AF0B-43C7-89EA-9B732EA6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628D8-FFB3-4AB8-B93A-B6E3B9D9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44DA4-4F78-4843-806D-EC74C7B2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E6C60-D9E9-4C6E-AF96-EE725175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5A751-5C88-45FB-8D74-111EAA17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3B166-43BC-4EB6-8B0F-D0609288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A6491-6578-4483-B8CF-1E88B178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55025-44DF-454D-87B1-1875523B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F328B-B283-4AED-98C0-75C89D41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14F40-8F27-4AA6-96A6-62CD18E0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29D9B-17C6-4E38-8A90-DBDD51DF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A75A3-8353-46A7-84A6-131C371C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845D3-5C93-44F3-B4E9-9DDF6468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0666-CCFF-4AFC-A03B-116973C37E1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65D0-C915-427D-88DC-3F745C3ADB2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EF5A-6BD8-4504-BACC-8427515F0A6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1BFA-AC07-4BC2-A513-0AEDF397741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CE61-37D4-4B68-8077-FDD19DFF2C9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601E-B50B-4796-BB7E-C5BC9DD5987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059F-9E3C-41FD-8939-AC87A0A329F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5837-A861-42D1-9F4A-B618179E3C3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55E5-3E3D-4000-A580-1DD2FE0CF2C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7E71-67B4-4ABE-BE2E-95564FF0D05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DD5D-E19B-481D-9D27-3AB9B929DF0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A1E4-0C4C-46F0-A3E9-31172853718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4CDA-8BCF-44FE-A687-79B7A2DAA47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E97D-76D1-4CFD-AA33-DE70953081F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B082-9793-4E90-86F2-58CC2211D1AE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CC78-A86F-4B36-9DDB-B565308D2DB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1282-80FA-478C-8F1C-F59D22B546D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3DE8-E6C6-4C49-8FF0-D6B2EAE9736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7B34-CAF0-43E8-A217-37DE63CD262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020A-10DB-4539-A9D5-1E263F7C261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5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2680" indent="-203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417680" indent="-2034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F52E-3A9F-435B-B2DB-3AF6167A258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A968-8361-4348-A740-E57AE95825D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11" descr=""/>
          <p:cNvPicPr/>
          <p:nvPr/>
        </p:nvPicPr>
        <p:blipFill>
          <a:blip r:embed="rId1"/>
          <a:stretch/>
        </p:blipFill>
        <p:spPr>
          <a:xfrm>
            <a:off x="2406600" y="2924280"/>
            <a:ext cx="4465800" cy="566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3"/>
          <p:cNvSpPr/>
          <p:nvPr/>
        </p:nvSpPr>
        <p:spPr>
          <a:xfrm>
            <a:off x="1838160" y="1619280"/>
            <a:ext cx="554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IOS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效果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2263680" y="1619280"/>
            <a:ext cx="4680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"/>
          <p:cNvSpPr/>
          <p:nvPr/>
        </p:nvSpPr>
        <p:spPr>
          <a:xfrm>
            <a:off x="2263680" y="2198520"/>
            <a:ext cx="4680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"/>
          <p:cNvSpPr/>
          <p:nvPr/>
        </p:nvSpPr>
        <p:spPr>
          <a:xfrm flipV="1">
            <a:off x="4782960" y="1187280"/>
            <a:ext cx="505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"/>
          <p:cNvSpPr/>
          <p:nvPr/>
        </p:nvSpPr>
        <p:spPr>
          <a:xfrm flipV="1">
            <a:off x="3848040" y="2198520"/>
            <a:ext cx="504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8" hidden="1"/>
          <p:cNvSpPr/>
          <p:nvPr/>
        </p:nvSpPr>
        <p:spPr>
          <a:xfrm>
            <a:off x="4351320" y="2843280"/>
            <a:ext cx="503280" cy="504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 hidden="1"/>
          <p:cNvSpPr/>
          <p:nvPr/>
        </p:nvSpPr>
        <p:spPr>
          <a:xfrm rot="16200000">
            <a:off x="4423320" y="2804400"/>
            <a:ext cx="3650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2"/>
          <p:cNvSpPr/>
          <p:nvPr/>
        </p:nvSpPr>
        <p:spPr>
          <a:xfrm>
            <a:off x="234468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25"/>
          <p:cNvSpPr/>
          <p:nvPr/>
        </p:nvSpPr>
        <p:spPr>
          <a:xfrm>
            <a:off x="332100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6"/>
          <p:cNvSpPr/>
          <p:nvPr/>
        </p:nvSpPr>
        <p:spPr>
          <a:xfrm>
            <a:off x="429732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阅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7"/>
          <p:cNvSpPr/>
          <p:nvPr/>
        </p:nvSpPr>
        <p:spPr>
          <a:xfrm>
            <a:off x="527364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8"/>
          <p:cNvSpPr/>
          <p:nvPr/>
        </p:nvSpPr>
        <p:spPr>
          <a:xfrm>
            <a:off x="624996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21"/>
          <p:cNvSpPr/>
          <p:nvPr/>
        </p:nvSpPr>
        <p:spPr>
          <a:xfrm>
            <a:off x="4395960" y="4519440"/>
            <a:ext cx="420480" cy="42084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1"/>
          <p:cNvSpPr/>
          <p:nvPr/>
        </p:nvSpPr>
        <p:spPr>
          <a:xfrm>
            <a:off x="4444920" y="4562640"/>
            <a:ext cx="322200" cy="334800"/>
          </a:xfrm>
          <a:prstGeom prst="ellipse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22"/>
          <p:cNvSpPr/>
          <p:nvPr/>
        </p:nvSpPr>
        <p:spPr>
          <a:xfrm>
            <a:off x="4511520" y="4635360"/>
            <a:ext cx="187560" cy="189000"/>
          </a:xfrm>
          <a:prstGeom prst="ellips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2"/>
          <p:cNvSpPr/>
          <p:nvPr/>
        </p:nvSpPr>
        <p:spPr>
          <a:xfrm>
            <a:off x="1332000" y="466560"/>
            <a:ext cx="64764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3"/>
          <p:cNvSpPr/>
          <p:nvPr/>
        </p:nvSpPr>
        <p:spPr>
          <a:xfrm>
            <a:off x="2263680" y="2771640"/>
            <a:ext cx="7905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13"/>
          <p:cNvSpPr/>
          <p:nvPr/>
        </p:nvSpPr>
        <p:spPr>
          <a:xfrm>
            <a:off x="3236760" y="2771640"/>
            <a:ext cx="7923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4"/>
          <p:cNvSpPr/>
          <p:nvPr/>
        </p:nvSpPr>
        <p:spPr>
          <a:xfrm>
            <a:off x="421020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5"/>
          <p:cNvSpPr/>
          <p:nvPr/>
        </p:nvSpPr>
        <p:spPr>
          <a:xfrm>
            <a:off x="518328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6"/>
          <p:cNvSpPr/>
          <p:nvPr/>
        </p:nvSpPr>
        <p:spPr>
          <a:xfrm>
            <a:off x="615636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2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625" autoRev="1" fill="hold"/>
                                        <p:tgtEl>
                                          <p:spTgt spid="4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5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5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5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5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5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3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5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3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5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3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5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3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5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3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-2.28612E-006 -4.89562E-006 L -2.28612E-006 0.05293 E">
                                      <p:cBhvr>
                                        <p:cTn id="41" dur="35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51579E-007 -4.89562E-006 L 4.51579E-007 0.05293 E">
                                      <p:cBhvr>
                                        <p:cTn id="43" dur="35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-4.12771E-007 -4.89562E-006 L -4.12771E-007 0.05293 E">
                                      <p:cBhvr>
                                        <p:cTn id="45" dur="35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27712E-006 -4.89562E-006 L -1.27712E-006 0.05293 E">
                                      <p:cBhvr>
                                        <p:cTn id="47" dur="35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2.14147E-006 -4.89562E-006 L -2.14147E-006 0.05293 E">
                                      <p:cBhvr>
                                        <p:cTn id="49" dur="35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5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3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698E-006 -2.95795E-006 L -4.7698E-006 0.02764 E">
                                      <p:cBhvr>
                                        <p:cTn id="55" dur="25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5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3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5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3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5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3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3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3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2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625" autoRev="1" fill="hold"/>
                                        <p:tgtEl>
                                          <p:spTgt spid="4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2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625" autoRev="1" fill="hold"/>
                                        <p:tgtEl>
                                          <p:spTgt spid="5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1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625" autoRev="1" fill="hold"/>
                                        <p:tgtEl>
                                          <p:spTgt spid="5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1"/>
          <p:cNvSpPr/>
          <p:nvPr/>
        </p:nvSpPr>
        <p:spPr>
          <a:xfrm>
            <a:off x="743040" y="900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前必读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2"/>
          <p:cNvSpPr/>
          <p:nvPr/>
        </p:nvSpPr>
        <p:spPr>
          <a:xfrm>
            <a:off x="1174680" y="1471680"/>
            <a:ext cx="640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模板适用于多种场合，主要用于分类较多的情况，一个标题，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分项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255680" y="1905120"/>
            <a:ext cx="398520" cy="398520"/>
            <a:chOff x="1255680" y="1905120"/>
            <a:chExt cx="398520" cy="398520"/>
          </a:xfrm>
        </p:grpSpPr>
        <p:pic>
          <p:nvPicPr>
            <p:cNvPr id="512" name="Picture 11" descr="home">
              <a:hlinkClick r:id="" action="ppaction://hlinkshowjump?jump=firstslide"/>
            </p:cNvPr>
            <p:cNvPicPr/>
            <p:nvPr/>
          </p:nvPicPr>
          <p:blipFill>
            <a:blip r:embed="rId1">
              <a:lum bright="42000"/>
            </a:blip>
            <a:stretch/>
          </p:blipFill>
          <p:spPr>
            <a:xfrm>
              <a:off x="1311120" y="1959120"/>
              <a:ext cx="28908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AutoShape 12"/>
            <p:cNvSpPr/>
            <p:nvPr/>
          </p:nvSpPr>
          <p:spPr>
            <a:xfrm>
              <a:off x="1255680" y="1905120"/>
              <a:ext cx="398520" cy="398520"/>
            </a:xfrm>
            <a:custGeom>
              <a:avLst/>
              <a:gdLst>
                <a:gd name="textAreaLeft" fmla="*/ 58320 w 398520"/>
                <a:gd name="textAreaRight" fmla="*/ 340200 w 398520"/>
                <a:gd name="textAreaTop" fmla="*/ 58320 h 398520"/>
                <a:gd name="textAreaBottom" fmla="*/ 3402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78" y="10800"/>
                  </a:moveTo>
                  <a:cubicBezTo>
                    <a:pt x="378" y="16556"/>
                    <a:pt x="5044" y="21222"/>
                    <a:pt x="10800" y="21222"/>
                  </a:cubicBezTo>
                  <a:cubicBezTo>
                    <a:pt x="16556" y="21222"/>
                    <a:pt x="21222" y="16556"/>
                    <a:pt x="21222" y="10800"/>
                  </a:cubicBezTo>
                  <a:cubicBezTo>
                    <a:pt x="21222" y="5044"/>
                    <a:pt x="16556" y="378"/>
                    <a:pt x="10800" y="378"/>
                  </a:cubicBezTo>
                  <a:cubicBezTo>
                    <a:pt x="5044" y="378"/>
                    <a:pt x="378" y="5044"/>
                    <a:pt x="378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文本框 6"/>
          <p:cNvSpPr/>
          <p:nvPr/>
        </p:nvSpPr>
        <p:spPr>
          <a:xfrm>
            <a:off x="1738440" y="1959120"/>
            <a:ext cx="557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左上角的这个标志代表回到主页，记得在它上面点击哦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"/>
          <p:cNvGrpSpPr/>
          <p:nvPr/>
        </p:nvGrpSpPr>
        <p:grpSpPr>
          <a:xfrm>
            <a:off x="1239840" y="2536920"/>
            <a:ext cx="930240" cy="1019160"/>
            <a:chOff x="1239840" y="2536920"/>
            <a:chExt cx="930240" cy="1019160"/>
          </a:xfrm>
        </p:grpSpPr>
        <p:sp>
          <p:nvSpPr>
            <p:cNvPr id="516" name="矩形 3"/>
            <p:cNvSpPr/>
            <p:nvPr/>
          </p:nvSpPr>
          <p:spPr>
            <a:xfrm>
              <a:off x="1239840" y="2536920"/>
              <a:ext cx="930240" cy="10191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文本框 12"/>
            <p:cNvSpPr/>
            <p:nvPr/>
          </p:nvSpPr>
          <p:spPr>
            <a:xfrm>
              <a:off x="1336320" y="3174840"/>
              <a:ext cx="710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图片 24" descr=""/>
            <p:cNvPicPr/>
            <p:nvPr/>
          </p:nvPicPr>
          <p:blipFill>
            <a:blip r:embed="rId2"/>
            <a:srcRect l="0" t="0" r="87759" b="0"/>
            <a:stretch/>
          </p:blipFill>
          <p:spPr>
            <a:xfrm>
              <a:off x="1411920" y="2536920"/>
              <a:ext cx="642600" cy="66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文本框 11"/>
          <p:cNvSpPr/>
          <p:nvPr/>
        </p:nvSpPr>
        <p:spPr>
          <a:xfrm>
            <a:off x="2195640" y="2481120"/>
            <a:ext cx="5964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分项，文字、图片可替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来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的分项，单击会自动切换到相应的页面哦，记得要在它的上面单击才有效哦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2"/>
          <p:cNvSpPr/>
          <p:nvPr/>
        </p:nvSpPr>
        <p:spPr>
          <a:xfrm>
            <a:off x="6083280" y="42102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赶紧试试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13"/>
          <p:cNvSpPr/>
          <p:nvPr/>
        </p:nvSpPr>
        <p:spPr>
          <a:xfrm>
            <a:off x="1116000" y="3705120"/>
            <a:ext cx="6997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一个分项内容页就不要点击回到首页啦，直接在页面点击就可以到结束页了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24" name="矩形 3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12"/>
            <p:cNvSpPr/>
            <p:nvPr/>
          </p:nvSpPr>
          <p:spPr>
            <a:xfrm>
              <a:off x="142344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6" name="图片 24" descr=""/>
            <p:cNvPicPr/>
            <p:nvPr/>
          </p:nvPicPr>
          <p:blipFill>
            <a:blip r:embed="rId1"/>
            <a:srcRect l="0" t="0" r="87759" b="0"/>
            <a:stretch/>
          </p:blipFill>
          <p:spPr>
            <a:xfrm>
              <a:off x="1523160" y="1179360"/>
              <a:ext cx="54720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7" name="图片 1" descr=""/>
          <p:cNvPicPr/>
          <p:nvPr/>
        </p:nvPicPr>
        <p:blipFill>
          <a:blip r:embed="rId2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2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9"/>
          <p:cNvSpPr/>
          <p:nvPr/>
        </p:nvSpPr>
        <p:spPr>
          <a:xfrm>
            <a:off x="2451240" y="1359000"/>
            <a:ext cx="52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1"/>
          <p:cNvSpPr/>
          <p:nvPr/>
        </p:nvSpPr>
        <p:spPr>
          <a:xfrm>
            <a:off x="1555920" y="2344680"/>
            <a:ext cx="59292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36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5"/>
          <p:cNvGrpSpPr/>
          <p:nvPr/>
        </p:nvGrpSpPr>
        <p:grpSpPr>
          <a:xfrm>
            <a:off x="1341360" y="1177920"/>
            <a:ext cx="792360" cy="865080"/>
            <a:chOff x="1341360" y="1177920"/>
            <a:chExt cx="792360" cy="865080"/>
          </a:xfrm>
        </p:grpSpPr>
        <p:sp>
          <p:nvSpPr>
            <p:cNvPr id="539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文本框 11"/>
            <p:cNvSpPr/>
            <p:nvPr/>
          </p:nvSpPr>
          <p:spPr>
            <a:xfrm>
              <a:off x="1429200" y="171936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阅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图片 13" descr=""/>
            <p:cNvPicPr/>
            <p:nvPr/>
          </p:nvPicPr>
          <p:blipFill>
            <a:blip r:embed="rId2"/>
            <a:srcRect l="43274" t="0" r="43830" b="0"/>
            <a:stretch/>
          </p:blipFill>
          <p:spPr>
            <a:xfrm>
              <a:off x="1458000" y="1186920"/>
              <a:ext cx="576360" cy="56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文本框 14"/>
          <p:cNvSpPr/>
          <p:nvPr/>
        </p:nvSpPr>
        <p:spPr>
          <a:xfrm>
            <a:off x="2482920" y="135900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4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5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51" name="矩形 10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文本框 11"/>
            <p:cNvSpPr/>
            <p:nvPr/>
          </p:nvSpPr>
          <p:spPr>
            <a:xfrm>
              <a:off x="143208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图片 13" descr=""/>
            <p:cNvPicPr/>
            <p:nvPr/>
          </p:nvPicPr>
          <p:blipFill>
            <a:blip r:embed="rId2"/>
            <a:srcRect l="64435" t="0" r="21054" b="0"/>
            <a:stretch/>
          </p:blipFill>
          <p:spPr>
            <a:xfrm>
              <a:off x="1438920" y="1188360"/>
              <a:ext cx="64836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文本框 14"/>
          <p:cNvSpPr/>
          <p:nvPr/>
        </p:nvSpPr>
        <p:spPr>
          <a:xfrm>
            <a:off x="2413080" y="1359000"/>
            <a:ext cx="507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60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5"/>
          <p:cNvGrpSpPr/>
          <p:nvPr/>
        </p:nvGrpSpPr>
        <p:grpSpPr>
          <a:xfrm>
            <a:off x="1341360" y="1170000"/>
            <a:ext cx="792360" cy="873000"/>
            <a:chOff x="1341360" y="1170000"/>
            <a:chExt cx="792360" cy="873000"/>
          </a:xfrm>
        </p:grpSpPr>
        <p:sp>
          <p:nvSpPr>
            <p:cNvPr id="563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图片 11" descr=""/>
            <p:cNvPicPr/>
            <p:nvPr/>
          </p:nvPicPr>
          <p:blipFill>
            <a:blip r:embed="rId2"/>
            <a:srcRect l="84789" t="0" r="0" b="0"/>
            <a:stretch/>
          </p:blipFill>
          <p:spPr>
            <a:xfrm>
              <a:off x="1381320" y="1170000"/>
              <a:ext cx="679680" cy="56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文本框 13"/>
            <p:cNvSpPr/>
            <p:nvPr/>
          </p:nvSpPr>
          <p:spPr>
            <a:xfrm>
              <a:off x="1434960" y="171972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下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文本框 14"/>
          <p:cNvSpPr/>
          <p:nvPr/>
        </p:nvSpPr>
        <p:spPr>
          <a:xfrm>
            <a:off x="2484360" y="135900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68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2"/>
          <p:cNvSpPr/>
          <p:nvPr/>
        </p:nvSpPr>
        <p:spPr>
          <a:xfrm>
            <a:off x="8172360" y="478800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8118360" y="4842000"/>
            <a:ext cx="57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1"/>
          <p:cNvSpPr/>
          <p:nvPr/>
        </p:nvSpPr>
        <p:spPr>
          <a:xfrm>
            <a:off x="3708360" y="2124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3"/>
          <p:cNvSpPr/>
          <p:nvPr/>
        </p:nvSpPr>
        <p:spPr>
          <a:xfrm>
            <a:off x="4680000" y="281628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4"/>
          <p:cNvSpPr/>
          <p:nvPr/>
        </p:nvSpPr>
        <p:spPr>
          <a:xfrm>
            <a:off x="3203640" y="196200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5"/>
          <p:cNvSpPr/>
          <p:nvPr/>
        </p:nvSpPr>
        <p:spPr>
          <a:xfrm>
            <a:off x="4522680" y="190800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6"/>
          <p:cNvSpPr/>
          <p:nvPr/>
        </p:nvSpPr>
        <p:spPr>
          <a:xfrm>
            <a:off x="4675320" y="2771640"/>
            <a:ext cx="10764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835280" y="1908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跟我一样成为高校联盟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P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员吗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2627280" y="274644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527280" y="2425680"/>
            <a:ext cx="20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就猛击  了解详情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MQ</dc:creator>
  <dc:description/>
  <cp:keywords/>
  <dc:language>en-US</dc:language>
  <cp:lastModifiedBy>姜天宝</cp:lastModifiedBy>
  <dcterms:modified xsi:type="dcterms:W3CDTF">2014-11-09T12:24:53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