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5DA1-5CD6-4E92-91AC-357123A486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53D2-A592-45D3-B53D-C359419895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C40C-4E78-4B10-B560-DACB4C2025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B50B-64E0-4941-B5C9-D4E6BA2F1B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66CB-D273-48BB-AA33-1BD0F98308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72E4-CCAB-4EE6-B05E-E78F1B2041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BA6F-7F8D-4D62-A0E6-FAB64F7717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31EC-F899-4BD1-A8F8-498BBC8C67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07E-F3D3-49EC-BCBD-E136E707F5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8DDAA-9F12-4A5C-A78D-8C1643B5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4B198-E7A1-47FB-8F48-2C5D6E80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302DA-4A9A-4499-8C78-F83FB52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CC9C0-3C44-4850-8BC5-1563CF4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8F42B-1CCE-4B7D-B81F-4CDE340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42BC3-4403-4C60-8036-7D9FB2B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9DA7C-B213-4D77-818B-74A4622D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4E01C-EEFD-4AE0-9BD0-6331D835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01017-B9CA-44DD-A1E1-34FD3362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45658-498F-4A4A-9146-888AD731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9F59A-5A65-481F-8051-05647D87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516D3-27AC-4B2A-AA89-34E683C9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223D0-6BC9-4778-A909-D7F75A9D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8BEC0-60D6-4429-8A37-FFE3D56A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6DB5F-13D9-4800-A70A-AA79829C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7CDA-9694-47E3-8368-A9418D4E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10199-81DC-42FB-9880-2FCDD27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F3809-CB68-4798-B64B-B8A0B35B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DD4EC-0946-4AC8-85C9-3C227BFE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C91D9-68DB-4677-9B6B-410C5A7A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7EBA4-2599-48FD-953D-2000A221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7CB98-A26F-4A48-9FC8-5F298418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F5435-BF4F-4679-B401-A780C2B6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27CBB-B2AF-4AE3-A9D1-98A4C440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39EFF-1693-44C7-8C13-D4135957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137EC-1EED-46B9-9124-9236AD15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03934-C846-4F05-996E-71E404A9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52B54-B6C6-4B72-AE82-7B084E2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C8077-1663-4CF9-B44C-5AA672A3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F6A8D-D733-42B2-87CE-A606D0B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3CC-8882-4D1E-A631-266F5DCA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0B7D4-0CA1-45F8-A4F7-DFEFC266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5CA2E-4C4C-4C78-943A-4241443B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BD442-658F-4771-B552-014EB14D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4CAD0-23E2-455F-984F-91C7FBC1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D745B-2E89-4DE9-BEB6-C8B00AD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2460B-8BA8-41D6-8375-51C46D0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368DD-DF90-4C03-9AFC-A3DFD5EB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D770F-2C83-4B05-8D06-10551569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6097-E2AE-4119-B1FC-FCB30A5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35C84-3E6E-4B10-82F2-4029F5F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790-CF22-4932-B05B-0096E24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8218F-5153-497A-ACDE-DFBB3F47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10558-713F-46BA-88F0-DADB657A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84FE5-9322-42C0-A399-8457CAA6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5635B-9426-4497-9C44-8C3732AB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B5ACC-E61B-47AD-B8BD-FEDE8255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6D6-773C-468A-A113-F117A390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363-187C-478B-9968-E3CF2189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30C-6A81-4CFB-ACD9-B19340A0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781-F7BB-48C1-B57D-6F375265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CAE-F5FD-4EDC-B379-63EFEEC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F8E-892C-44FD-9CDD-C0A6A051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D4F-976E-467C-8FE4-50DFAF51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1AD-A1CB-45AB-812A-9A851408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E7B-CEEB-45EF-BF24-33240227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612-3000-407D-8766-55B32FE4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C9AA-D97A-48C5-9F65-70D9F808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E12D-9541-40A7-9F73-FF60BA87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D7CF-F36D-468B-8887-80332C93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46A5-F197-4498-BFDA-AD06FF0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902-4636-4B6F-9AB0-9C2CB01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E577-DF97-4837-8B1A-1DC21CC3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A9CA-A3B8-47EA-B1F7-393E3860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77D-6CB7-4B28-ACCA-F74696B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05FC-5DE9-49F3-9917-38BF407D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803D-EF03-408C-B709-5D7DBFAF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92E5-722E-4FFF-9315-530524AA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DBA5-3163-49A8-BFC9-E97A309C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9BB7-4353-4F52-B263-16CCB0E9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48E8-58BC-4907-99F7-38C7F168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684E-8676-4763-ACDB-BACB2BD1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B581-10DF-4336-A1BE-6297E1BA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16EB-9661-4547-BA4B-15A7A7AE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8112-3F61-4850-9E46-20D09517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5343-11A3-4437-A016-27EDC1A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EE28-E933-4A06-AF44-1B2F5D1A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2A64-9E87-4A3B-AEFB-415FCF3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D9B9-660E-4044-92A7-09EBBDC7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B23D-35B1-44C1-9335-85039ED7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2D9F-9D7A-40A3-956E-892948B1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4E288-152E-4E61-B6FF-2CF62D5C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0C1A-6768-4CFA-88F0-2E96E59E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F94E-AFFB-40B8-A0A4-6D94A871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885A-B411-4C85-A42A-F7DF33FD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B1823-C6F1-4829-B007-2351AD92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7312B-70F1-4F37-99F9-D9985954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2216-8A23-404C-B813-9D39006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4B61-13EA-4D10-80CA-729EA981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97BA-0E0F-42B6-B1BE-D8B354D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406C-D054-46CF-A579-1F0A8953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FB59-E64C-4A87-99AB-C71F4B7F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C9F7-9CE5-42B6-A3A4-974EEBC6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430DA-197D-46CB-8CCB-2F8F12F6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C1B57-57CC-45D5-BAFE-5BD42ABF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D500-C743-4957-96F6-768D6FFD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80FD-8839-498A-BDA1-9847A42A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8886-4EBA-4228-8DAA-C59A8EED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99156-AF99-4FBE-8474-CA662923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DB6A-650E-484B-BF62-37029B4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2804B-3BE9-4853-9F5A-920282A7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7ED7-6032-4C2A-B2B7-6F44A5C0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FA55-3960-4ACB-91CF-8513DF7F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F1DE-FDAD-42D9-ADCE-396A57EF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63BEC-31A7-4EBC-BCE3-665AB31E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53AF-C5D5-47A0-9DF1-D7D98DD3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4E9C-7134-4148-A9AD-E7097ACF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A6967-6E5C-4874-90CB-56E15D21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98BF-4B5D-4052-930A-56E13D0D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126E-EC35-4683-BB71-9EEF43D7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1667-9C77-4ACA-AE6C-F3220D04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759E9-A67C-4247-854D-CC8B8B2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0D301-3902-4D34-8C56-F475800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78C9-A264-428A-85ED-CED843E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A8365-AF2B-4D73-8F29-D7A27DCF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78ED9-FBCB-402D-BD68-B51E9A91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65655-9FE1-4136-8B54-9D4513EF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0213E-CC5A-4C8B-8AC5-0F587F73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E8260-3E35-460C-9DA8-A19A4D3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CE17B-EFD1-4F74-A416-21409431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B5F7-F9F6-4BA2-8874-118F2B7E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FBE01-3F4D-4B83-A12F-7DED426B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B9F09-A3CE-4552-9725-F3C938CD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A90E9-3BA7-400F-8A7C-18342BDE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112B-D6E8-4A0B-B907-9882FE17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95525-A0AF-446B-9BAA-E5899B5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E09A0-B8CF-4F59-AF0D-191AE4E1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611B-E59B-44C6-AE7A-EB66F8EA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7FF13-B364-456E-81DD-1C0C6E79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82408-6237-4A90-8FD7-4831AACF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DED95-B670-401C-BAD8-C068EB6A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0A109-6A76-465E-8E67-319FB1E0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E265-102B-4327-A683-94507DC403B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E685-4097-4D1A-ACC1-C3FB97534D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8215-D5B1-4B62-8D0A-7010EFC3783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5FC-EFDA-4CA2-AC64-A66A9FB86C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49EF-7630-4CFF-9C09-3DB33A79B39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A342-F7C9-42E2-9F2D-84CFAB4015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7ECE-B805-401B-A8FC-E030FDA4617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27AC-8144-4D06-80CC-9D3AE5AA408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E8E1-E785-4F05-AE09-3BBCB79129C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C409-1D95-4A29-9E5D-A228DE9B2C5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F30E-DFAC-466C-85AB-660855CDC73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620-C45C-4835-ACCE-85AC0A3F97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9222-D59D-4F48-BF66-95AF63EF61D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340-9D66-4BF3-B767-BC6898486A5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FD9B-3ADC-45B8-B720-52FFD3C3ED8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E3BE-B6A9-4F07-B416-621F43DF55C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56E-97DF-409E-AB71-0121C5950ED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3EC-8BC6-4ABC-A782-2FF892BBA2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CF99-82AF-479A-9F8A-63CDE8F578D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9869-667E-4D2E-841B-9AF56F5434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B3A7-E6B0-4A64-8D11-A3E739118CA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44CA-5192-444E-9556-04AC1ED4F36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1838160" y="1619280"/>
            <a:ext cx="55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IOS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效果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2263680" y="1619280"/>
            <a:ext cx="4680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4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4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5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512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516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24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2451240" y="1359000"/>
            <a:ext cx="52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"/>
          <p:cNvSpPr/>
          <p:nvPr/>
        </p:nvSpPr>
        <p:spPr>
          <a:xfrm>
            <a:off x="1555920" y="2344680"/>
            <a:ext cx="5929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6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39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文本框 14"/>
          <p:cNvSpPr/>
          <p:nvPr/>
        </p:nvSpPr>
        <p:spPr>
          <a:xfrm>
            <a:off x="248292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4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51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文本框 14"/>
          <p:cNvSpPr/>
          <p:nvPr/>
        </p:nvSpPr>
        <p:spPr>
          <a:xfrm>
            <a:off x="2413080" y="1359000"/>
            <a:ext cx="507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6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63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文本框 14"/>
          <p:cNvSpPr/>
          <p:nvPr/>
        </p:nvSpPr>
        <p:spPr>
          <a:xfrm>
            <a:off x="248436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35280" y="1908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跟我一样成为高校联盟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员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627280" y="274644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27280" y="2425680"/>
            <a:ext cx="20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就猛击  了解详情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姜天宝</cp:lastModifiedBy>
  <dcterms:modified xsi:type="dcterms:W3CDTF">2014-11-09T12:24:53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