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dt" idx="7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ftr" idx="7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 type="sldNum" idx="8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317F-1E15-4033-8BA3-22F85B6D7D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FC4F-A74A-4251-A462-C585EFE6471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F2B-528E-4D35-8398-CDB1BBBC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04C-38B7-4F98-9AFB-02A39954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3ED5-F370-44F5-B985-678D7CD6D2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A688-65C2-48F1-8E20-AD54D95AF5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0FDC-B773-496F-B034-157530987C7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5962C-BF8E-4642-A5AB-6549ABB6D4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5091E-208F-4149-A14E-2DB04DD6373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E7914-9878-427F-B092-EA1E92CA44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617C-DEF2-43E3-8337-4B96C4063CE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692BA-F24F-4B5B-B593-3B4FA73A30F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F0FE1-2639-4BFD-B3F9-C389C70075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50AC9-9EFB-4E19-AF95-FBFDEE07D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B52-68CC-412A-B51F-F3008119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F95F8-FBAC-4D43-8456-B7F4D806F41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84010-510C-4047-8B6E-EBD52AF9034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B3F22-6FA3-47E8-AF7B-26948995BF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7EE28-7DFA-48A8-BB22-C55FE293C2B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B33B5-217C-4290-A91D-03C05D87729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CAB70-C78A-43E2-91AF-D2B73EC11F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04F92-964B-4E19-8DAC-A60601E2577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42494-FA37-47DD-A551-EAC832DF353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9840C-8DCF-4F8C-9A70-4D5EF35B3A0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CF3C8-E306-4AD1-9714-175EFD2CC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EEB-0B4E-4E0C-ACFA-B899BE4B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8B20B-540B-48FA-8903-5B9FB59E32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28B0D6-9213-44F0-BB91-DB9E2FBE1ED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61A370-70C8-4D17-8774-4C0E62558ED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E4D3E9-2334-433B-9922-708E7C0C7A3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D67224-5D4E-4757-9373-A08F5D44EBE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2AAF99-8190-49A2-8293-867AB4B04A7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D093C5-45E1-4D78-92EC-45A56C9B81D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893A85-DF92-45FF-AAFF-1B28D6F6D3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48ED4F-3E2E-4AA5-9344-A20BA46130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CECB96-75F3-4FC3-8D48-49E94B4F9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2CDF8-5942-4E5A-9B7E-115122EF5E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FC6667-4161-438E-AE2D-2DE674C7B79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7030B9-A7B1-4833-ADB7-0C0FBDD9BD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811ED5-9156-4552-9008-942157BDE5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DE657-86BE-43A6-9098-8A388B0913F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0CA27-BBC9-4335-B4F7-47854957D38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03E0A-8C3D-4B21-9D1E-D663645110E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BE092-A082-48BC-916B-342B746B553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FAC81-621F-41C1-A23B-4BBBEB8D726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F474A-E7F1-43D2-86E1-F521034F44D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7A230-6709-490E-AD21-9E5D1A6397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10241-E015-4D08-B248-E466FE5F30F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2ED0D-5089-4472-976C-FBAC05689D8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2610C-CBE3-43C4-BAD6-55B024F9F49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738F9-4BC7-4A03-8D24-1F193F2DD0B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CE4AA-4FA2-4649-BEF0-A01EAF17643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AC0EE-7413-4A5E-8028-97C9C224268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CD8F4-4A6C-42E9-8677-2B64A8C014B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FE42F-E1F3-48E6-B71E-7C4970794F1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A7CCE-1ECA-4A6F-9AAF-AC17B18240A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235A-2E90-48AB-B46E-3368D9A5806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F9D69-D2E0-4BF9-8E24-92975E66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759B4-6F0A-4E8F-89EB-1A31D1EA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2F453-B2BD-445E-BEB2-514C7985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CA93C-E600-46E1-8BD9-0DE179E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68F5D-2EF7-44CA-8B54-6E04C550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14C7A-779F-430A-9F35-31B9B57C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C24E9-B00F-4542-B0CC-5047B08D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8E1F5-6367-4E8D-862E-B0BE42B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04E16-7CC6-4393-B02B-7C0FE653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AFC0F-1424-4D97-B6FA-A121859C003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59D03-EAD4-42F7-BA06-5D22BC07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929D9-CE25-4523-B969-E69526AE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8B0D1-2B8B-4D88-BABB-86B62793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751-0E73-411C-97B6-8407E7A4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E3F5B-7344-4E9A-B46D-AFDEF4D8F22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AEF7E5-EBA4-477D-A156-1C326D69B72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F797BA-4668-49E6-93F2-89C9021707D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C00F33-D5FB-4468-A804-6A81E424F51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4CD67-1C56-4281-BFB2-D3B000FE08A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A4C689-FF3E-4D25-AA16-B0AE315A8B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DAB77-3E03-46FA-B110-2D7552933CA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8FA57B-4253-483E-BF88-E5E291C0A4B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72C76-1364-4603-8708-3C5B29B7705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4C8068-FEE9-4D3C-9392-E2283439BAA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84713-D487-4AAC-99B2-917254F368B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3B139D-84FC-4866-B608-1BAD9E8BA1E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C76AE6-5DC3-4C0B-8685-44A2AA61DD3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07B7E4-8F98-48BE-A67C-98CB5FFA6BE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B030A-5384-4413-A8B3-1B9B95E04F9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26DC2-C4C9-447B-AD04-1264ABBC43B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14C02-149F-409B-BA93-BB915D2F84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7B82E-1455-457D-B639-464EB971D41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46E10-F560-43C5-87D3-18842715D35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C4C8F-1067-4046-BB27-0F73DD1541F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BDF9A-F2AA-4267-86B9-89C96B197CD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560B6-D362-4601-B6A6-41B89586295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8918A-3561-4E88-877A-4EB6AA12DFF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6307A-90C0-4917-911C-1601CA3AC78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1FCA3-D00E-45D1-A2D7-F7496357766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1E7A8-B9A8-47D8-A27F-9CB1CA76326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EC3B1-59DB-4256-99AA-4F0375B8D56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FA69B-B5E6-4104-9E1E-81840939E1F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96760-D43C-4037-AE9C-777AF7F84DD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A3017-4B2C-4331-8993-C82F2D9387C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A9903-6E39-422F-949B-A720A1E0073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2DAA8-FFEA-4A7D-A1EF-6A640FA6A46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F6E18-6C0B-46AF-8641-BC2873969ED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C4CCF-ABAA-4772-BA2F-977711F7DA3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04022-69DA-41FD-B0C5-759A79DF043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63649-9B19-4841-AAC2-C8C68FC75FF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97FF3-94F6-467F-86DD-5BE1E32BF5B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4D0B8-BBBD-4276-80D0-0A35407197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D3B0B-52F8-4BDC-A247-1A22C589658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C51D1-21E3-45B2-90C9-E5EE46262FC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414CC-7374-4746-A505-BA058B5AAA0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ADB6C-A761-40C0-953B-4A2F2BDB872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32606D-7B94-4E10-9CDC-9A967FE249A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E902CB-875E-4FAC-8036-A00AD2E5680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6A1128-D1E5-4350-896B-20126A1D56F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AEEFA1-5D8C-4F36-A32C-FFAD47B2250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0FE8B7-164D-4C86-9B73-967C24AB1BB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CA40E7-4AFD-4DCB-A05B-CB7F4D67063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A3EC01-A040-451E-89BB-A53D19EADB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AEE75-36F3-4D5B-9658-366762F7863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2E5375-7983-469D-AADD-6DF1C6A1DF8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1AD71B-C4F1-49A2-A735-82CF0BED5FF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AFD5EA-376A-4DDD-A248-F3A814FDB6A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D630FF-2F06-44CA-9293-0184597F7DE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A5884A-85FF-48E7-A6C0-4F900CB7478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DD837-5914-4291-91BC-4CBAAF2A988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7A112-240F-4940-8D08-377C19BBF67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D01B5-BDD4-459E-9431-48D90659C77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845D2-247F-4F2F-A9AD-788BEFE6E54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6664B-F22A-4FC6-BB63-C4A5F0EF05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FA2257-BC7A-4974-BAB9-389968584FA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E0182-318F-4C2F-B506-EB787BB05A4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7CFF0-85DB-4EF8-8E6F-0181D57A329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57FAD-B5EB-4A6B-8ADB-E7C21895624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08A9A-04DC-48A1-97EC-AFAA2F581CF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2E930-C7A9-4846-A5E4-6A9B7CE8E29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4A57B-06A9-43AA-B392-8B87642EA55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87FFD-AE99-48DF-AD67-9B934A28E18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9FF83-98DE-48AA-B60A-F0B3EE2710B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C2CEF-CD20-4D0C-9F90-ADAA76BDC19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36431-AD34-4676-896B-3386620D83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91F8A3-F611-4680-A40D-4F94C3DB27E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2AD69-00A7-48B8-8F83-C25A188A4FE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FDFD1-BD81-4F1A-99DA-2A1E18228F2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CF94C-ED39-4D5D-B5F5-84BC59409C3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56444-F910-49C7-8AB4-35B19DBBB48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E1D5E-247E-4EDD-8118-E8C3CAA2121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EDA6B-EEAB-4C20-B39A-8EC786C4835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22C81-9D9E-4CC0-9200-A1D73DCAABC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9B753-5063-431A-9D05-4CCF52DAD2C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4F6AB-436D-4DB7-B975-D485102C341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F8E95A-0842-4DDC-9285-CB002B20FA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9459BD-7553-4F89-9BD9-77134E0AE29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5B9AF4-EA3B-4765-8658-80AA43447BA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51E7D1-0223-4850-B525-663C5885947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C2DD8E-5A5C-4776-8DEF-AE1F055A59D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0B0362-82E7-4755-B3DE-64C45FD22A5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EC6301-03C6-40A3-9236-DF62F707EAA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9F30B1-0E59-454A-910D-E1649338833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EFFD50-EC7E-4EA9-9F49-057A34B978A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D05BFA-D8E2-411F-88A9-6A26D2B74D1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F1A4C1-C171-4EB6-84F3-DE6D0EBAC17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F22B72-B9E3-47DC-A027-DCDD33DDD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DA8-11F5-433C-9F5B-583CD1D6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2F615-4652-478B-BC88-B99D8EDD482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797603-1481-4E75-AF5E-B0DA407FE7D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964A9-6D3D-41F7-BBC3-D972E31619D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22A33-0FE4-4AB4-9AA7-A441A28F507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E0B032-94CE-4EAB-9C37-DF0D7C67E00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DE47D6-9056-4A57-AEDE-254F9AF4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73DA04-291A-4942-ACCA-87A27273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8CBBD2-283F-426B-A41E-D1C94725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43598-062E-40C0-ACE3-2015B28543CB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AEABD0-4DBA-46B8-80D1-E5632B0E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F59F73-F2CE-44BF-8AD0-F74BD1F1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B6432D-D5D8-4592-90A4-E3B654D5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C31F3E-0AB6-4A3D-8968-455701AA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FFDF85-D349-462C-B962-0C8C277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B8D7AB-6CA1-4B18-AA32-0E8F3CC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932127-D68C-42B3-84FC-08864BD1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2D5210-4ADC-4E09-B284-6CAE2D0F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6906A5-7777-44E2-A9E2-50A15250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603F18-3BDD-4213-9055-7090FB6A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0A72A-D866-4A8E-8D2E-802959B2D48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667070-A414-4C1A-8F3A-B4F50212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460216-9F2F-45C7-AE6C-2F2D8723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B15FF0-E9E7-4892-80DA-5E97A913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999BBA-B991-495F-936D-FBD0D5E7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7FC5BE-63F8-41BC-97ED-2483C13F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1DA881-4B90-41BD-9A10-C1D346BE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E8DE9D-D5EF-462A-BAED-19A45822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192D17-3955-4BE9-95AC-7E631646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C0E0D1-CDC2-49B8-ACC0-0213A268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0F975A-E5FB-402E-A415-6D215C5A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C3658-35AA-4777-AA0E-B0D9733BED2A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764C69-5951-43A1-B873-8064D78D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A2280E-7365-4504-80A0-892E2E65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B90775-041B-41B1-98C0-BAAA1357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B4BAF4-B938-45FB-82EB-FD25CE73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97B876-7E2D-4534-BF0C-F720588E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4AF358-F63B-48DE-897F-D5A47A1C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899803-6E19-4357-9E60-02F1A39E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981698-9498-43F6-86C5-B9DE834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1D0891-E025-4865-9458-7BC9159F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F7367B-6E72-4AD6-8777-2056930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FBF9C1-55C5-4E25-9409-DC625B36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ACB8E2-F2AA-49EC-88BE-E22D1183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083B75-4350-434C-8158-7193C21E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33B972-E424-4A21-BA61-B8812773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7CC683-F593-43BC-93B6-E384FA00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75CE27-06C0-4401-8190-17A07570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E2194B-8474-49A4-86B3-1F80B566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EA14AC-D12D-4EEF-97D8-523619F3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380E28-12C6-4378-812C-449C6BB3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8B58A6-0198-46B7-B556-4396CD9E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116E2D-9775-4DB4-A208-FD4C594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882437-4DB0-4AA2-8460-DC598E61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575317-74C0-47AE-82DD-658AD09C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3A6FDF-A021-4D51-80CA-FD9C2CF4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04535D-6A6B-4568-8496-CC790BA6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27E99D-BEFC-4B47-A35D-4864404A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624C62-CAF9-495B-BB21-D81082A6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DADF1B-1537-462A-8374-3B3EAD79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6C4DF7-C272-4209-99E2-E94C6BC0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97042C-60A6-43D4-A1C2-FF33ADE7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3F059C-B535-4476-878E-A856CCF4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7BEDCC-8520-44FB-A398-76897287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B9D58E-3FBA-4780-9F5C-D3EC6295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697F80-5075-49AB-A3E0-E083029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2DCA78-03E7-4837-8341-8D285A3C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091D4F-FA48-4E61-8FC8-A06A6C48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C6E0BE-5C58-4AE5-A4C8-70121FC5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837762-68B2-4EEB-8035-7BA73E43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EBC54F-D8BB-45F9-94EC-8C8FB878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E4016E-3C1B-4A90-9E87-484F2A00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9D1-5B0A-4B03-871C-A9274FD0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22C3D8-6ECE-4559-B0D5-10648FCC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66CD52-EBD6-4324-8674-0FDB9CAE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9F09B5-B745-4CB8-83E5-7E61AEA9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8C7C0C-1749-4DF8-A839-19A73BCE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E56529-4C44-4EA2-9A8B-818BD49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BB19CE5-9D0E-48F8-B20E-5F95836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3E9332-3F9C-4247-A1BB-55ECA233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990F84-2FCA-4B74-B3F2-C1B1D8F8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B19EB2-77EA-43FF-A5CC-3C5AA899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81363F-3695-4378-9A15-8922E700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6B5AD3-D14B-49C3-9885-8EE61020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872BC0-5A53-4599-821A-B3DADEE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F7BB84B-C1D9-445A-A0AF-ADDE9D5B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868A79-27AD-4C86-9E7C-89535FC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0B06A8-5391-4B85-A689-0E6502B6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F07A5AF-F1DE-44ED-8565-B82F8A16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9E8170-336E-4B9E-BF00-A4E1440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18A501-2575-442F-96E3-A2082D0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D504AC2-9135-40D8-97D1-3DBAB2CB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72F697-5271-416B-86C9-6266CF83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806AA4-541C-4D47-B07C-8A99FC57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CB331F-DD7B-4451-80F9-C0181AE5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0DD991E-6D1D-44CA-BD30-DC4D1DE1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EC67B58-0415-4155-A50B-33DD1278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7FE3D3-8032-4430-905F-CDC822F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7D4338-F3CB-4550-9BEC-2EA714E6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5C8214-6AFB-41A5-A680-28515A12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1464BDB-3881-4B34-9D86-AABB1249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FB4F76-55CA-47D4-A173-A0DC38E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B22D10-A6DC-49EB-AF1A-E57FF585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BE3550-248A-4D06-B197-F0BA2E96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7A5159-0C1C-4C77-9C71-CCA53009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86AAB59-121A-435D-AF96-66856BB2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6FF7EB9-6C5B-42DE-B506-508824B1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26B7E8-44AB-4801-B93E-56018669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25877E-4706-4A18-BD8F-AC2F222D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D4D23D-269E-49C3-A0C3-0DEBF643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07558B8-72A8-40AB-A1E5-FFCE3469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2B7531-F664-4A70-A0D4-C53AABA4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0F038FF-011F-4DAA-9E8C-E9DB8795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F35675C-44A5-4F21-A8D4-C8D570E1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4388C0A-BF18-4191-B05C-12E0519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821D3CB-C841-4F9F-B489-38964118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3F2D9AF-349B-4B41-91FD-B186927C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31B186E-753F-40AB-91D4-4CF9650F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178337-B906-4592-A773-3B6B8F83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DC0FB5A-724D-4974-A71D-AE5447A9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02FE630-7A4F-446D-9BE8-34207DA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AFA412B-D0F2-431B-83EC-BFA3FDD2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669FA0F-A186-413E-A291-06AE889E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B3E4AE5-C6B1-47E4-A775-23A2C3C6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A505549-E792-42E8-A1DE-B6F2849B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4D302F3-8192-4C2C-8778-F0D00173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2FDB44-813C-4638-8F22-AB560ED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89C974-F82D-4776-9E1C-0F92D0A0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3D86E6-06AB-49E3-808E-4F4B5D14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2170CCD-D8A8-4634-A5C5-56ED1DFE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8F70C42-8D38-4935-ABCD-EAB9E19E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F3E57EF-7213-4485-8DF5-E1D40E93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97CF62A-1C1C-47F8-AF68-045D1BB6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FDC982-0920-4A56-AEDF-4E7B6B95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A2E14D-C944-4094-871B-DC138980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934C9D-6C22-463E-BE30-AD24348B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433B38-00E0-4E0E-B6C7-0256CDA7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47382D8-FC96-4D73-89DB-E7D3B809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9C89A66-D7C8-4B57-A630-50D821B1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8224E4-4866-4BC3-A732-DE348A24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F5F418-53E1-40D9-8D66-F02E4BE1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67F428-58AC-4FAE-BB46-248178E4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D317C4-0D18-4A6D-9121-417EFE4F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8784F67-0F92-460A-9C67-DC699016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3767273-A2A7-4310-B56F-DEC15D05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93862BA-3670-458E-B4ED-F4AD88D8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F5CAF6A-8517-49B3-BE0C-58811710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4BC912-98A1-4721-B10F-D981B2E2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C732DBB-6B52-4AAB-9E62-7B255624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717C03-CCF2-4B2D-A33B-E776545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D98099-35EF-4BD0-A1C1-CFE7EE25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B19E4EA-6CCE-4FC5-B096-971643AF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1375752-4AD2-4B82-AF4B-F9011496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8C23EEC-10F9-4B8E-8700-BB252B8B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145E553-29F1-4692-8A5B-04CA8A70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2627388-D29A-49AA-AAC7-EED9D1D0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26B20B-5A7A-4E1B-B762-04F6A8D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3399FD3-C0D3-4AAF-A4F0-ABCA43CB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5710679-B0C4-4336-8247-15D602F6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C4854C7-A41D-43BD-92C3-E7CCF748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C1B120-05A0-4EB7-BC53-BDA6A23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52AEF13-4054-4C01-8227-7DFF5673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32EBB4A-B762-4F4A-BA32-11A0B83B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7226-AA9B-479B-AAC7-4AD166D1BB43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801DAF-4F6B-4958-9215-A7BC0BBD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F159F0D-7D46-4A05-A31A-E1CE1F24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C630C5B-D11C-4051-800D-BA3F444E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572-2767-4F54-9BB2-09178631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DB5F8-98C2-414C-BE6A-0ABB27E1FB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2716-AB39-41EA-A684-8360A43EE4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8BFC-41BC-4401-B095-B15250BB80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B766-CEFF-4E0F-8D3F-C0CB466363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506D-057E-43E2-8DE7-D4FA619050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837A-3302-4FAC-A92A-98DD476EE1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42C0-1DEC-4206-94D4-A4B9FB89469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B6AA-5CED-4CA6-B36E-6972177A15F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86E8-A46C-4C56-997D-C3063DB205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F73B-92FB-4031-9F5E-8AEA54536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704-F93D-42F7-B174-29F31588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CFB7-F139-4909-B694-017E3180CB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B5607-E805-42FD-A44D-40315D9CC8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4A83C-485B-4C73-85EA-A87C4C54FD7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D0BDC-30D2-46AB-862C-3C9D4A6271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3F777-7BF8-4CBB-8B1F-24ABE6ED995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5C166-7F0E-4335-AAA6-5CC990A94A6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8B000-B965-4D69-B001-28FE008663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7B618-877D-4951-85D7-F8125DD708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C023C-3A5A-489E-BE41-881590070D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BC2F1-3571-44E4-9C7D-D8FFA29AD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C05-9A89-41F5-A570-4C3FB90C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1A2F3-6522-4043-8894-8D345E38E3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88402-D02D-4923-A2BC-4CED3212F3D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4FD94-670F-4E7D-B9A6-E07122F561B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360-7B18-49E2-BE2F-BE76816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DDF7D-7685-464F-9EC0-37D1B188D84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39F9C7-E36A-4429-96C2-56E3A9313A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6DD2BB-4EED-4FDA-BEDD-C58D3066788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D565F-8B9F-45EC-AFA9-24EB70F95E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8844FB-51DA-47D0-931E-0E37CAA7A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A8C-3EDA-42B9-B2B8-7ACEC0E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C34C4-D29A-424B-B9EF-32035F4C63D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BB585E-C04D-4423-A785-038717C62DE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1CDF78-0BF8-484E-97D4-A12FF9BD5F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10686C-07D1-45E0-B9EE-C881454389F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567F3-9EED-4E44-B580-1E4C80A654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60346A-A085-4A07-9B1C-EFE700F197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CF1FA6-62F8-409F-9562-595BCF6D83C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1C7CB-63E1-4930-B21F-ED5891046A9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581D-059C-443D-BB52-8ED5E10711A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F162-4B92-49E7-B6CC-D5F9D51B7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8103-FC6B-4B6B-93E5-C061A545AD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B1E-842A-462C-AFE7-05F24162C14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205C-6E0E-4DDF-A069-C0E1576A9D1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178-59E4-45C3-B914-4AE5D3DF6CC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F92E-A43F-49FE-9A75-452F20A9FE0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501F-7E42-47A8-A0F8-7687F0F0C08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D513-579C-46D6-AE6D-52F3AAD8201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B81A-15DA-4A2F-BEA4-65F3A4DD5FC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D4E7-0E14-4813-9329-C11261C6451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C4C4-07DA-45E5-95A6-FF4BA46AC3D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C22A-AF8F-4AB8-869D-E626AAE4C17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20BE-2934-4D2D-B073-9C910CB050C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D087-60FE-43D1-9F51-0EAFE2F0A61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EF68-827A-40C4-B1FA-B49D96E6711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D3A8-A421-4225-95F8-58D1FEEBF9A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A6CB-ECD8-46B2-82CA-42A12B4E0B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D9FC-80F3-455C-BEF2-8CE5CF5B95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F6EB-9B0D-4864-B9AF-DEB258C619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D4BF-C180-4928-91BA-BDE150969F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2B04-7473-4403-8A42-5B0BF3D5F7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9544-BB33-414D-8111-E7D9EE517C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808C-6267-4180-9CE4-FD035D422C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92F-1488-4F70-B94C-B3A0C8E716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7759-143C-4508-9D88-7795B0466B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5204-2AA1-47EA-B2CA-D189B4BA37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3AF0-8E09-4761-BEEC-BB1776E9EC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D819-A0C2-498E-9CB0-52594AAB2C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9833-63DB-46E8-AC13-D782803277A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F788-6289-48D6-B471-9F46CE53644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D97C-EE9B-4FE9-8AF4-9A00E96D16F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1231-20F6-40A3-97E3-08FBF780F9D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Box 2"/>
          <p:cNvSpPr/>
          <p:nvPr/>
        </p:nvSpPr>
        <p:spPr>
          <a:xfrm>
            <a:off x="2080440" y="160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"/>
          <p:cNvSpPr/>
          <p:nvPr/>
        </p:nvSpPr>
        <p:spPr>
          <a:xfrm>
            <a:off x="3311640" y="2395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4"/>
          <p:cNvSpPr/>
          <p:nvPr/>
        </p:nvSpPr>
        <p:spPr>
          <a:xfrm>
            <a:off x="1071720" y="32148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7"/>
          <p:cNvSpPr/>
          <p:nvPr/>
        </p:nvSpPr>
        <p:spPr>
          <a:xfrm>
            <a:off x="1073160" y="40291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696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任意多边形 2"/>
          <p:cNvSpPr/>
          <p:nvPr/>
        </p:nvSpPr>
        <p:spPr>
          <a:xfrm>
            <a:off x="1986120" y="2943360"/>
            <a:ext cx="596880" cy="65700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"/>
          <p:cNvSpPr/>
          <p:nvPr/>
        </p:nvSpPr>
        <p:spPr>
          <a:xfrm>
            <a:off x="2583000" y="2949480"/>
            <a:ext cx="6561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</a:t>
            </a:r>
            <a:r>
              <a:rPr b="0" lang="en-US" sz="2800" spc="-1" strike="noStrike">
                <a:solidFill>
                  <a:srgbClr val="ceeab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6"/>
          <p:cNvSpPr/>
          <p:nvPr/>
        </p:nvSpPr>
        <p:spPr>
          <a:xfrm>
            <a:off x="0" y="2182680"/>
            <a:ext cx="69008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直角三角形 5"/>
          <p:cNvSpPr/>
          <p:nvPr/>
        </p:nvSpPr>
        <p:spPr>
          <a:xfrm>
            <a:off x="6900840" y="2179800"/>
            <a:ext cx="7668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kan</cp:lastModifiedBy>
  <dcterms:modified xsi:type="dcterms:W3CDTF">2015-08-23T05:17:29Z</dcterms:modified>
  <cp:revision>2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