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7235-2A63-466E-A9FE-09FFF9B96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FFEC-FF89-4458-B2DD-32015037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D345-E60F-4705-BF8E-F7D32E5D7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667D-1C04-4015-8C89-46405467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207-D258-48D5-A43B-39F37A73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5FBE-5F81-4893-A483-CAE1A5EF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DE72-D399-4D7E-837A-ED29778D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700-8CF5-4A7B-8FD4-0668190A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A11-7788-4490-88E6-0D7805FC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0D7F-04D6-4403-B31C-4A1672E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791-51E5-41EB-9D09-2A240EB3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4DE-7BF3-4459-91A2-18FF9C28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E3D4-B7B0-4EA0-A1D4-1C342AB60A2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6E75-F263-44A1-878F-D6552EF652C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 rot="10800000">
            <a:off x="2896920" y="4600080"/>
            <a:ext cx="2576520" cy="24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2470320" y="5781240"/>
            <a:ext cx="8578800" cy="49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 rot="10800000">
            <a:off x="5470200" y="3765600"/>
            <a:ext cx="2576520" cy="3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"/>
          <p:cNvSpPr/>
          <p:nvPr/>
        </p:nvSpPr>
        <p:spPr>
          <a:xfrm rot="10800000">
            <a:off x="8044920" y="4405320"/>
            <a:ext cx="2576520" cy="24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2"/>
          <p:cNvSpPr/>
          <p:nvPr/>
        </p:nvSpPr>
        <p:spPr>
          <a:xfrm>
            <a:off x="6561000" y="4514760"/>
            <a:ext cx="397080" cy="717480"/>
          </a:xfrm>
          <a:custGeom>
            <a:avLst/>
            <a:gdLst>
              <a:gd name="textAreaLeft" fmla="*/ 0 w 397080"/>
              <a:gd name="textAreaRight" fmla="*/ 397440 w 39708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3"/>
          <p:cNvSpPr/>
          <p:nvPr/>
        </p:nvSpPr>
        <p:spPr>
          <a:xfrm>
            <a:off x="3965400" y="5037120"/>
            <a:ext cx="492480" cy="617400"/>
          </a:xfrm>
          <a:custGeom>
            <a:avLst/>
            <a:gdLst>
              <a:gd name="textAreaLeft" fmla="*/ 0 w 492480"/>
              <a:gd name="textAreaRight" fmla="*/ 492840 w 4924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4"/>
          <p:cNvSpPr/>
          <p:nvPr/>
        </p:nvSpPr>
        <p:spPr>
          <a:xfrm>
            <a:off x="9075600" y="4917960"/>
            <a:ext cx="492120" cy="6159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0B5F-45B0-44EE-94BE-2DD3D7CA6175}" type="slidenum">
              <a:t>10</a:t>
            </a:fld>
          </a:p>
        </p:txBody>
      </p:sp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698-EB22-4875-99A4-7535C7FC6911}" type="slidenum">
              <a:t>11</a:t>
            </a:fld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2"/>
          <p:cNvSpPr/>
          <p:nvPr/>
        </p:nvSpPr>
        <p:spPr>
          <a:xfrm rot="10800000">
            <a:off x="3269880" y="1019160"/>
            <a:ext cx="3987720" cy="52754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5C0-67F5-49AE-9CAC-F89D3EBA55D6}" type="slidenum">
              <a:t>12</a:t>
            </a:fld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4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38" name="未知"/>
            <p:cNvSpPr/>
            <p:nvPr/>
          </p:nvSpPr>
          <p:spPr>
            <a:xfrm>
              <a:off x="5805720" y="1646280"/>
              <a:ext cx="203616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805720" y="3678120"/>
              <a:ext cx="203616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3763800" y="3678120"/>
              <a:ext cx="204192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3763800" y="1646280"/>
              <a:ext cx="204192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未知"/>
          <p:cNvSpPr/>
          <p:nvPr/>
        </p:nvSpPr>
        <p:spPr>
          <a:xfrm>
            <a:off x="5802480" y="2038320"/>
            <a:ext cx="1676160" cy="167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5796000" y="3686040"/>
            <a:ext cx="167652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4130640" y="3686040"/>
            <a:ext cx="167976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 flipH="1" rot="5400000">
            <a:off x="3702960" y="1586520"/>
            <a:ext cx="1738080" cy="244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7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16"/>
          <p:cNvSpPr/>
          <p:nvPr/>
        </p:nvSpPr>
        <p:spPr>
          <a:xfrm>
            <a:off x="5172120" y="3375000"/>
            <a:ext cx="1219320" cy="606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7"/>
          <p:cNvSpPr/>
          <p:nvPr/>
        </p:nvSpPr>
        <p:spPr>
          <a:xfrm rot="2997000">
            <a:off x="6618960" y="248040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8"/>
          <p:cNvSpPr/>
          <p:nvPr/>
        </p:nvSpPr>
        <p:spPr>
          <a:xfrm rot="18869400">
            <a:off x="6534720" y="480744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9"/>
          <p:cNvSpPr/>
          <p:nvPr/>
        </p:nvSpPr>
        <p:spPr>
          <a:xfrm rot="2616600">
            <a:off x="4053960" y="4862520"/>
            <a:ext cx="1062360" cy="17784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5002200" y="2735280"/>
            <a:ext cx="154800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6B44-0D2E-4995-AAD7-DCFF7CBBA25D}" type="slidenum">
              <a:t>13</a:t>
            </a:fld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6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442520" y="814320"/>
            <a:ext cx="360" cy="2192400"/>
            <a:chOff x="1442520" y="814320"/>
            <a:chExt cx="360" cy="2192400"/>
          </a:xfrm>
        </p:grpSpPr>
        <p:sp>
          <p:nvSpPr>
            <p:cNvPr id="373" name="Line 6"/>
            <p:cNvSpPr/>
            <p:nvPr/>
          </p:nvSpPr>
          <p:spPr>
            <a:xfrm flipV="1">
              <a:off x="1442880" y="81432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 rot="10800000">
              <a:off x="1442520" y="81432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51560" y="814320"/>
            <a:ext cx="1440" cy="2192400"/>
            <a:chOff x="5551560" y="814320"/>
            <a:chExt cx="1440" cy="2192400"/>
          </a:xfrm>
        </p:grpSpPr>
        <p:sp>
          <p:nvSpPr>
            <p:cNvPr id="376" name="Line 7"/>
            <p:cNvSpPr/>
            <p:nvPr/>
          </p:nvSpPr>
          <p:spPr>
            <a:xfrm flipV="1">
              <a:off x="5551560" y="814320"/>
              <a:ext cx="144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10800000">
              <a:off x="5551560" y="814320"/>
              <a:ext cx="144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640040" y="4195800"/>
            <a:ext cx="360" cy="2192400"/>
            <a:chOff x="4640040" y="4195800"/>
            <a:chExt cx="360" cy="2192400"/>
          </a:xfrm>
        </p:grpSpPr>
        <p:sp>
          <p:nvSpPr>
            <p:cNvPr id="379" name="Line 8"/>
            <p:cNvSpPr/>
            <p:nvPr/>
          </p:nvSpPr>
          <p:spPr>
            <a:xfrm flipV="1">
              <a:off x="464040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10800000">
              <a:off x="464004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470360" y="4195800"/>
            <a:ext cx="360" cy="2192400"/>
            <a:chOff x="7470360" y="4195800"/>
            <a:chExt cx="360" cy="2192400"/>
          </a:xfrm>
        </p:grpSpPr>
        <p:sp>
          <p:nvSpPr>
            <p:cNvPr id="382" name="Line 9"/>
            <p:cNvSpPr/>
            <p:nvPr/>
          </p:nvSpPr>
          <p:spPr>
            <a:xfrm flipV="1">
              <a:off x="747072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 rot="10800000">
              <a:off x="747036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9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WordArt 20"/>
          <p:cNvSpPr/>
          <p:nvPr/>
        </p:nvSpPr>
        <p:spPr>
          <a:xfrm>
            <a:off x="161460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21"/>
          <p:cNvSpPr/>
          <p:nvPr/>
        </p:nvSpPr>
        <p:spPr>
          <a:xfrm>
            <a:off x="39686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22"/>
          <p:cNvSpPr/>
          <p:nvPr/>
        </p:nvSpPr>
        <p:spPr>
          <a:xfrm>
            <a:off x="597708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23"/>
          <p:cNvSpPr/>
          <p:nvPr/>
        </p:nvSpPr>
        <p:spPr>
          <a:xfrm>
            <a:off x="79088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flag_source_128"/>
          <p:cNvPicPr/>
          <p:nvPr/>
        </p:nvPicPr>
        <p:blipFill>
          <a:blip r:embed="rId6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flag_source_128"/>
          <p:cNvPicPr/>
          <p:nvPr/>
        </p:nvPicPr>
        <p:blipFill>
          <a:blip r:embed="rId7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AAE-D21E-4F24-8CD6-34F2F8A5486D}" type="slidenum">
              <a:t>14</a:t>
            </a:fld>
          </a:p>
        </p:txBody>
      </p:sp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1"/>
          <p:cNvSpPr/>
          <p:nvPr/>
        </p:nvSpPr>
        <p:spPr>
          <a:xfrm rot="5400000">
            <a:off x="6348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任意多边形 2"/>
          <p:cNvSpPr/>
          <p:nvPr/>
        </p:nvSpPr>
        <p:spPr>
          <a:xfrm>
            <a:off x="5464080" y="2465280"/>
            <a:ext cx="1150920" cy="9367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"/>
          <p:cNvSpPr/>
          <p:nvPr/>
        </p:nvSpPr>
        <p:spPr>
          <a:xfrm rot="16200000">
            <a:off x="4575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4"/>
          <p:cNvSpPr/>
          <p:nvPr/>
        </p:nvSpPr>
        <p:spPr>
          <a:xfrm rot="10800000">
            <a:off x="5463720" y="4238640"/>
            <a:ext cx="1150920" cy="93816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1E8-4131-4E0E-97B0-2A915B9421F5}" type="slidenum">
              <a:t>15</a:t>
            </a:fld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D361-1AF5-4873-8881-FFBF31524C69}" type="slidenum">
              <a:t>16</a:t>
            </a:fld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31" name="未知"/>
            <p:cNvSpPr/>
            <p:nvPr/>
          </p:nvSpPr>
          <p:spPr>
            <a:xfrm>
              <a:off x="1334520" y="2027160"/>
              <a:ext cx="24577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5"/>
            <p:cNvSpPr/>
            <p:nvPr/>
          </p:nvSpPr>
          <p:spPr>
            <a:xfrm rot="12420000">
              <a:off x="1186560" y="2694240"/>
              <a:ext cx="1653480" cy="25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未知"/>
          <p:cNvSpPr/>
          <p:nvPr/>
        </p:nvSpPr>
        <p:spPr>
          <a:xfrm>
            <a:off x="2870280" y="2819520"/>
            <a:ext cx="2876400" cy="1201680"/>
          </a:xfrm>
          <a:prstGeom prst="pie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3008160" y="2117880"/>
            <a:ext cx="2874960" cy="120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/>
          <p:cNvSpPr/>
          <p:nvPr/>
        </p:nvSpPr>
        <p:spPr>
          <a:xfrm rot="12420000">
            <a:off x="4488840" y="4511160"/>
            <a:ext cx="217476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4654440" y="3308400"/>
            <a:ext cx="5762880" cy="24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 rot="10800000">
            <a:off x="4957560" y="5874840"/>
            <a:ext cx="546228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5FCA-2777-4384-92E4-4AEDD5D2DC13}" type="slidenum">
              <a:t>17</a:t>
            </a:fld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4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DC1-27F5-4A55-ABDF-AE08EA4FEED7}" type="slidenum">
              <a:t>18</a:t>
            </a:fld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prstGeom prst="pie">
              <a:avLst/>
            </a:pr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6EB2-70C1-400F-BB39-F6B3FF1A9793}" type="slidenum">
              <a:t>19</a:t>
            </a:fld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任意多边形 17"/>
          <p:cNvSpPr/>
          <p:nvPr/>
        </p:nvSpPr>
        <p:spPr>
          <a:xfrm>
            <a:off x="0" y="0"/>
            <a:ext cx="5437080" cy="6858000"/>
          </a:xfrm>
          <a:prstGeom prst="pie">
            <a:avLst/>
          </a:pr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679-84E4-492C-A55B-B469820D4A16}" type="slidenum">
              <a:t>2</a:t>
            </a:fld>
          </a:p>
        </p:txBody>
      </p:sp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"/>
          <p:cNvSpPr/>
          <p:nvPr/>
        </p:nvSpPr>
        <p:spPr>
          <a:xfrm>
            <a:off x="1093680" y="1384200"/>
            <a:ext cx="376884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7"/>
          <p:cNvSpPr/>
          <p:nvPr/>
        </p:nvSpPr>
        <p:spPr>
          <a:xfrm>
            <a:off x="7054920" y="1384200"/>
            <a:ext cx="376560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8"/>
          <p:cNvSpPr/>
          <p:nvPr/>
        </p:nvSpPr>
        <p:spPr>
          <a:xfrm>
            <a:off x="1093680" y="3657600"/>
            <a:ext cx="37465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9"/>
          <p:cNvSpPr/>
          <p:nvPr/>
        </p:nvSpPr>
        <p:spPr>
          <a:xfrm>
            <a:off x="7086600" y="3657600"/>
            <a:ext cx="37339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5D9-EEEE-46A0-AFD5-BAD9D877E0CD}" type="slidenum">
              <a:t>20</a:t>
            </a:fld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08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77A-3605-4AA6-AF5C-B1B16AD81296}" type="slidenum">
              <a:t>21</a:t>
            </a:fld>
          </a:p>
        </p:txBody>
      </p: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37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0" name="任意多边形 60"/>
            <p:cNvSpPr/>
            <p:nvPr/>
          </p:nvSpPr>
          <p:spPr>
            <a:xfrm>
              <a:off x="1346040" y="583740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3" name="任意多边形 63"/>
            <p:cNvSpPr/>
            <p:nvPr/>
          </p:nvSpPr>
          <p:spPr>
            <a:xfrm>
              <a:off x="3139920" y="4803840"/>
              <a:ext cx="1108080" cy="14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6" name="任意多边形 66"/>
            <p:cNvSpPr/>
            <p:nvPr/>
          </p:nvSpPr>
          <p:spPr>
            <a:xfrm>
              <a:off x="3906720" y="4711680"/>
              <a:ext cx="1992600" cy="30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49" name="任意多边形 69"/>
            <p:cNvSpPr/>
            <p:nvPr/>
          </p:nvSpPr>
          <p:spPr>
            <a:xfrm>
              <a:off x="5704200" y="3676680"/>
              <a:ext cx="1103040" cy="141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2" name="任意多边形 72"/>
            <p:cNvSpPr/>
            <p:nvPr/>
          </p:nvSpPr>
          <p:spPr>
            <a:xfrm>
              <a:off x="6477120" y="354024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5" name="任意多边形 75"/>
            <p:cNvSpPr/>
            <p:nvPr/>
          </p:nvSpPr>
          <p:spPr>
            <a:xfrm>
              <a:off x="8272440" y="2503440"/>
              <a:ext cx="1108080" cy="1403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58" name="任意多边形 78"/>
            <p:cNvSpPr/>
            <p:nvPr/>
          </p:nvSpPr>
          <p:spPr>
            <a:xfrm>
              <a:off x="10834920" y="2397240"/>
              <a:ext cx="203040" cy="38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0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3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4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68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69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3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4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78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79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69EF-0AFE-4068-ADC4-566BEF762411}" type="slidenum">
              <a:t>22</a:t>
            </a:fld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89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8777-8F77-4C1B-A1C6-EA18C47D7592}" type="slidenum">
              <a:t>23</a:t>
            </a:fld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9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0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981000" y="5780160"/>
              <a:ext cx="4797360" cy="1440"/>
              <a:chOff x="981000" y="5780160"/>
              <a:chExt cx="4797360" cy="1440"/>
            </a:xfrm>
          </p:grpSpPr>
          <p:sp>
            <p:nvSpPr>
              <p:cNvPr id="602" name="Line 5"/>
              <p:cNvSpPr/>
              <p:nvPr/>
            </p:nvSpPr>
            <p:spPr>
              <a:xfrm>
                <a:off x="98100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98100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AutoShape 6"/>
            <p:cNvSpPr/>
            <p:nvPr/>
          </p:nvSpPr>
          <p:spPr>
            <a:xfrm>
              <a:off x="98100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6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9"/>
            <p:cNvSpPr/>
            <p:nvPr/>
          </p:nvSpPr>
          <p:spPr>
            <a:xfrm>
              <a:off x="98100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09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65920" y="5780160"/>
              <a:ext cx="4797360" cy="1440"/>
              <a:chOff x="5965920" y="5780160"/>
              <a:chExt cx="4797360" cy="1440"/>
            </a:xfrm>
          </p:grpSpPr>
          <p:sp>
            <p:nvSpPr>
              <p:cNvPr id="611" name="Line 12"/>
              <p:cNvSpPr/>
              <p:nvPr/>
            </p:nvSpPr>
            <p:spPr>
              <a:xfrm>
                <a:off x="596592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596592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AutoShape 13"/>
            <p:cNvSpPr/>
            <p:nvPr/>
          </p:nvSpPr>
          <p:spPr>
            <a:xfrm>
              <a:off x="596592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5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6"/>
            <p:cNvSpPr/>
            <p:nvPr/>
          </p:nvSpPr>
          <p:spPr>
            <a:xfrm>
              <a:off x="596592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8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979560" y="3239640"/>
              <a:ext cx="4797360" cy="1440"/>
              <a:chOff x="979560" y="3239640"/>
              <a:chExt cx="4797360" cy="1440"/>
            </a:xfrm>
          </p:grpSpPr>
          <p:sp>
            <p:nvSpPr>
              <p:cNvPr id="620" name="Line 19"/>
              <p:cNvSpPr/>
              <p:nvPr/>
            </p:nvSpPr>
            <p:spPr>
              <a:xfrm>
                <a:off x="97956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97956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AutoShape 20"/>
            <p:cNvSpPr/>
            <p:nvPr/>
          </p:nvSpPr>
          <p:spPr>
            <a:xfrm>
              <a:off x="97956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4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"/>
            <p:cNvSpPr/>
            <p:nvPr/>
          </p:nvSpPr>
          <p:spPr>
            <a:xfrm>
              <a:off x="98100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7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5965920" y="3239640"/>
              <a:ext cx="4797360" cy="1440"/>
              <a:chOff x="5965920" y="3239640"/>
              <a:chExt cx="4797360" cy="1440"/>
            </a:xfrm>
          </p:grpSpPr>
          <p:sp>
            <p:nvSpPr>
              <p:cNvPr id="629" name="Line 26"/>
              <p:cNvSpPr/>
              <p:nvPr/>
            </p:nvSpPr>
            <p:spPr>
              <a:xfrm>
                <a:off x="596592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596592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AutoShape 27"/>
            <p:cNvSpPr/>
            <p:nvPr/>
          </p:nvSpPr>
          <p:spPr>
            <a:xfrm>
              <a:off x="596592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3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30"/>
            <p:cNvSpPr/>
            <p:nvPr/>
          </p:nvSpPr>
          <p:spPr>
            <a:xfrm>
              <a:off x="596592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WordArt 31"/>
          <p:cNvSpPr/>
          <p:nvPr/>
        </p:nvSpPr>
        <p:spPr>
          <a:xfrm>
            <a:off x="1920960" y="138276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32"/>
          <p:cNvSpPr/>
          <p:nvPr/>
        </p:nvSpPr>
        <p:spPr>
          <a:xfrm>
            <a:off x="6986520" y="138276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WordArt 33"/>
          <p:cNvSpPr/>
          <p:nvPr/>
        </p:nvSpPr>
        <p:spPr>
          <a:xfrm>
            <a:off x="1920960" y="390852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34"/>
          <p:cNvSpPr/>
          <p:nvPr/>
        </p:nvSpPr>
        <p:spPr>
          <a:xfrm>
            <a:off x="6986520" y="390852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826-A2C8-49B8-B3BA-215C9257C54E}" type="slidenum">
              <a:t>24</a:t>
            </a:fld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97FA-10E5-4565-A977-DE16566BE37F}" type="slidenum">
              <a:t>25</a:t>
            </a:fld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FDB2-9688-4807-A0A6-3D02116752CE}" type="slidenum">
              <a:t>26</a:t>
            </a:fld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4D2-3F09-4834-89D5-55D47953CBAD}" type="slidenum">
              <a:t>27</a:t>
            </a:fld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F83-0AE3-47A8-886C-F9F01498422F}" type="slidenum">
              <a:t>28</a:t>
            </a:fld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7"/>
          <p:cNvSpPr/>
          <p:nvPr/>
        </p:nvSpPr>
        <p:spPr>
          <a:xfrm>
            <a:off x="2114640" y="4000680"/>
            <a:ext cx="29034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432480" y="4000680"/>
            <a:ext cx="29052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F426-1520-499E-B44D-C36DD2B96380}" type="slidenum">
              <a:t>29</a:t>
            </a:fld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1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C84-E368-46BF-AABC-EBAB7868C658}" type="slidenum">
              <a:t>3</a:t>
            </a:fld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5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3181320" y="4251240"/>
            <a:ext cx="5908680" cy="199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681360" y="1081080"/>
            <a:ext cx="5726160" cy="517860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137040" y="1333440"/>
            <a:ext cx="1681200" cy="65088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24080" y="1434960"/>
            <a:ext cx="1614600" cy="55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3773520" y="990720"/>
            <a:ext cx="5727600" cy="5143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FC0-B4C4-4578-8E93-098790B23E4B}" type="slidenum">
              <a:t>30</a:t>
            </a:fld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7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9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64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86364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917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308448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"/>
          <p:cNvSpPr/>
          <p:nvPr/>
        </p:nvSpPr>
        <p:spPr>
          <a:xfrm>
            <a:off x="313992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52722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5"/>
          <p:cNvSpPr/>
          <p:nvPr/>
        </p:nvSpPr>
        <p:spPr>
          <a:xfrm>
            <a:off x="5326200" y="4067280"/>
            <a:ext cx="142848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74628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"/>
          <p:cNvSpPr/>
          <p:nvPr/>
        </p:nvSpPr>
        <p:spPr>
          <a:xfrm>
            <a:off x="751680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9629640" y="5603760"/>
            <a:ext cx="155124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9683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A5D-1D7E-4F0C-9564-744668F84005}" type="slidenum">
              <a:t>4</a:t>
            </a:fld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"/>
          <p:cNvSpPr/>
          <p:nvPr/>
        </p:nvSpPr>
        <p:spPr>
          <a:xfrm>
            <a:off x="5938920" y="2225520"/>
            <a:ext cx="871560" cy="596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039000" y="2819520"/>
            <a:ext cx="1498320" cy="71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6037200" y="2770200"/>
            <a:ext cx="1500120" cy="474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092480" y="2206800"/>
            <a:ext cx="81000" cy="9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3852720" y="2198520"/>
            <a:ext cx="84240" cy="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4282920" y="2214720"/>
            <a:ext cx="8424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5273640" y="2554200"/>
            <a:ext cx="19080" cy="274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4465800" y="2525760"/>
            <a:ext cx="1419120" cy="61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7024680" y="3662280"/>
            <a:ext cx="20520" cy="37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7251840" y="3597120"/>
            <a:ext cx="125280" cy="45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6157800" y="3592440"/>
            <a:ext cx="2135160" cy="114156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8874000" y="4041720"/>
            <a:ext cx="204840" cy="51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8308800" y="4181400"/>
            <a:ext cx="2737080" cy="138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3292560" y="2309760"/>
            <a:ext cx="1241280" cy="35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3281400" y="2200320"/>
            <a:ext cx="123660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5937120" y="2222640"/>
            <a:ext cx="876600" cy="357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8"/>
          <p:cNvSpPr/>
          <p:nvPr/>
        </p:nvSpPr>
        <p:spPr>
          <a:xfrm>
            <a:off x="4465800" y="2517840"/>
            <a:ext cx="1414440" cy="35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6157800" y="3546360"/>
            <a:ext cx="2140200" cy="8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8350200" y="3995640"/>
            <a:ext cx="2698920" cy="114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1"/>
          <p:cNvSpPr/>
          <p:nvPr/>
        </p:nvSpPr>
        <p:spPr>
          <a:xfrm>
            <a:off x="4844880" y="695160"/>
            <a:ext cx="881280" cy="207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2"/>
          <p:cNvSpPr/>
          <p:nvPr/>
        </p:nvSpPr>
        <p:spPr>
          <a:xfrm>
            <a:off x="5259240" y="1087560"/>
            <a:ext cx="149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3"/>
          <p:cNvSpPr/>
          <p:nvPr/>
        </p:nvSpPr>
        <p:spPr>
          <a:xfrm>
            <a:off x="5197320" y="1081080"/>
            <a:ext cx="4608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4"/>
          <p:cNvSpPr/>
          <p:nvPr/>
        </p:nvSpPr>
        <p:spPr>
          <a:xfrm>
            <a:off x="3470400" y="709560"/>
            <a:ext cx="514080" cy="172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5"/>
          <p:cNvSpPr/>
          <p:nvPr/>
        </p:nvSpPr>
        <p:spPr>
          <a:xfrm>
            <a:off x="3714840" y="990720"/>
            <a:ext cx="141120" cy="37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"/>
          <p:cNvSpPr/>
          <p:nvPr/>
        </p:nvSpPr>
        <p:spPr>
          <a:xfrm>
            <a:off x="6846840" y="988920"/>
            <a:ext cx="1144800" cy="325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7"/>
          <p:cNvSpPr/>
          <p:nvPr/>
        </p:nvSpPr>
        <p:spPr>
          <a:xfrm>
            <a:off x="7294680" y="1386000"/>
            <a:ext cx="34272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8"/>
          <p:cNvSpPr/>
          <p:nvPr/>
        </p:nvSpPr>
        <p:spPr>
          <a:xfrm>
            <a:off x="9139320" y="1881360"/>
            <a:ext cx="958680" cy="29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9485280" y="2289240"/>
            <a:ext cx="220680" cy="58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0"/>
          <p:cNvSpPr/>
          <p:nvPr/>
        </p:nvSpPr>
        <p:spPr>
          <a:xfrm>
            <a:off x="6091200" y="600120"/>
            <a:ext cx="596880" cy="180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1"/>
          <p:cNvSpPr/>
          <p:nvPr/>
        </p:nvSpPr>
        <p:spPr>
          <a:xfrm>
            <a:off x="6302520" y="868320"/>
            <a:ext cx="14112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6"/>
          <p:cNvSpPr/>
          <p:nvPr/>
        </p:nvSpPr>
        <p:spPr>
          <a:xfrm>
            <a:off x="882720" y="5748480"/>
            <a:ext cx="5060880" cy="501480"/>
          </a:xfrm>
          <a:custGeom>
            <a:avLst/>
            <a:gdLst>
              <a:gd name="textAreaLeft" fmla="*/ 0 w 5060880"/>
              <a:gd name="textAreaRight" fmla="*/ 5061240 w 5060880"/>
              <a:gd name="textAreaTop" fmla="*/ 0 h 501480"/>
              <a:gd name="textAreaBottom" fmla="*/ 50148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073-D7AF-4AF0-8C7F-F2F12A3C0888}" type="slidenum">
              <a:t>5</a:t>
            </a:fld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534000" y="2435400"/>
            <a:ext cx="1757520" cy="364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2641680" y="3564000"/>
            <a:ext cx="1714320" cy="251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4583160" y="2835360"/>
            <a:ext cx="1720800" cy="32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677880" y="4676760"/>
            <a:ext cx="1736640" cy="14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635040" y="3948120"/>
            <a:ext cx="1779480" cy="165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2641680" y="2921040"/>
            <a:ext cx="1714320" cy="115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4583160" y="2262240"/>
            <a:ext cx="1720800" cy="83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6534000" y="1920960"/>
            <a:ext cx="1757520" cy="55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5040" y="6064200"/>
            <a:ext cx="9866160" cy="360"/>
            <a:chOff x="635040" y="6064200"/>
            <a:chExt cx="9866160" cy="360"/>
          </a:xfrm>
        </p:grpSpPr>
        <p:sp>
          <p:nvSpPr>
            <p:cNvPr id="165" name="Line 11"/>
            <p:cNvSpPr/>
            <p:nvPr/>
          </p:nvSpPr>
          <p:spPr>
            <a:xfrm>
              <a:off x="635040" y="6064200"/>
              <a:ext cx="9866160" cy="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35040" y="6064200"/>
              <a:ext cx="986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4680" y="775800"/>
            <a:ext cx="360" cy="5288040"/>
            <a:chOff x="634680" y="775800"/>
            <a:chExt cx="360" cy="5288040"/>
          </a:xfrm>
        </p:grpSpPr>
        <p:sp>
          <p:nvSpPr>
            <p:cNvPr id="168" name="Line 12"/>
            <p:cNvSpPr/>
            <p:nvPr/>
          </p:nvSpPr>
          <p:spPr>
            <a:xfrm flipV="1">
              <a:off x="635040" y="775800"/>
              <a:ext cx="0" cy="528804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634680" y="775800"/>
              <a:ext cx="360" cy="528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7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7"/>
          <p:cNvSpPr/>
          <p:nvPr/>
        </p:nvSpPr>
        <p:spPr>
          <a:xfrm>
            <a:off x="891684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8"/>
          <p:cNvSpPr/>
          <p:nvPr/>
        </p:nvSpPr>
        <p:spPr>
          <a:xfrm>
            <a:off x="695952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19"/>
          <p:cNvSpPr/>
          <p:nvPr/>
        </p:nvSpPr>
        <p:spPr>
          <a:xfrm>
            <a:off x="5000760" y="5580000"/>
            <a:ext cx="909360" cy="351000"/>
          </a:xfrm>
          <a:custGeom>
            <a:avLst/>
            <a:gdLst>
              <a:gd name="textAreaLeft" fmla="*/ 0 w 909360"/>
              <a:gd name="textAreaRight" fmla="*/ 909720 w 90936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/>
          <p:nvPr/>
        </p:nvSpPr>
        <p:spPr>
          <a:xfrm>
            <a:off x="304308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1"/>
          <p:cNvSpPr/>
          <p:nvPr/>
        </p:nvSpPr>
        <p:spPr>
          <a:xfrm>
            <a:off x="131904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22"/>
          <p:cNvSpPr/>
          <p:nvPr/>
        </p:nvSpPr>
        <p:spPr>
          <a:xfrm>
            <a:off x="2840040" y="2451240"/>
            <a:ext cx="1144440" cy="3506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441F-621D-4930-9FE5-CF548BBD3490}" type="slidenum">
              <a:t>6</a:t>
            </a:fld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 rot="5400000">
            <a:off x="7190640" y="44758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 rot="5400000">
            <a:off x="1302120" y="20962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4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5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6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8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WordArt 15"/>
            <p:cNvSpPr/>
            <p:nvPr/>
          </p:nvSpPr>
          <p:spPr>
            <a:xfrm>
              <a:off x="2032560" y="1186560"/>
              <a:ext cx="1068480" cy="6033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3360"/>
                <a:gd name="textAreaBottom" fmla="*/ 60336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2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3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4" name="Picture 20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Picture 22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WordArt 23"/>
            <p:cNvSpPr/>
            <p:nvPr/>
          </p:nvSpPr>
          <p:spPr>
            <a:xfrm>
              <a:off x="7939800" y="543456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0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1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2" name="Picture 28" descr="circuler_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4" name="Picture 30" descr="Picture2"/>
              <p:cNvPicPr/>
              <p:nvPr/>
            </p:nvPicPr>
            <p:blipFill>
              <a:blip r:embed="rId11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WordArt 31"/>
            <p:cNvSpPr/>
            <p:nvPr/>
          </p:nvSpPr>
          <p:spPr>
            <a:xfrm>
              <a:off x="2077560" y="3312000"/>
              <a:ext cx="1067760" cy="603000"/>
            </a:xfrm>
            <a:custGeom>
              <a:avLst/>
              <a:gdLst>
                <a:gd name="textAreaLeft" fmla="*/ 0 w 1067760"/>
                <a:gd name="textAreaRight" fmla="*/ 1067760 w 106776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19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0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1" name="Picture 37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3" name="Picture 39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WordArt 40"/>
            <p:cNvSpPr/>
            <p:nvPr/>
          </p:nvSpPr>
          <p:spPr>
            <a:xfrm>
              <a:off x="7952760" y="331200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558880" y="2335320"/>
            <a:ext cx="1800" cy="442800"/>
            <a:chOff x="2558880" y="2335320"/>
            <a:chExt cx="1800" cy="442800"/>
          </a:xfrm>
        </p:grpSpPr>
        <p:sp>
          <p:nvSpPr>
            <p:cNvPr id="227" name="Line 42"/>
            <p:cNvSpPr/>
            <p:nvPr/>
          </p:nvSpPr>
          <p:spPr>
            <a:xfrm>
              <a:off x="2558880" y="2335320"/>
              <a:ext cx="180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558880" y="2335320"/>
              <a:ext cx="180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620520" y="3706560"/>
            <a:ext cx="3718440" cy="360"/>
            <a:chOff x="3620520" y="3706560"/>
            <a:chExt cx="3718440" cy="360"/>
          </a:xfrm>
        </p:grpSpPr>
        <p:sp>
          <p:nvSpPr>
            <p:cNvPr id="230" name="Line 43"/>
            <p:cNvSpPr/>
            <p:nvPr/>
          </p:nvSpPr>
          <p:spPr>
            <a:xfrm>
              <a:off x="3620520" y="3706920"/>
              <a:ext cx="3717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6200000">
              <a:off x="5479920" y="1847880"/>
              <a:ext cx="360" cy="37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488440" y="4457880"/>
            <a:ext cx="360" cy="442800"/>
            <a:chOff x="8488440" y="4457880"/>
            <a:chExt cx="360" cy="442800"/>
          </a:xfrm>
        </p:grpSpPr>
        <p:sp>
          <p:nvSpPr>
            <p:cNvPr id="233" name="Line 44"/>
            <p:cNvSpPr/>
            <p:nvPr/>
          </p:nvSpPr>
          <p:spPr>
            <a:xfrm>
              <a:off x="8488440" y="4457880"/>
              <a:ext cx="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8488440" y="4457880"/>
              <a:ext cx="36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75B-2E52-40D2-B712-736E0CED9B22}" type="slidenum">
              <a:t>7</a:t>
            </a:fld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4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49440" y="421812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49440" y="3068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49440" y="1930320"/>
            <a:ext cx="9218520" cy="308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49440" y="541188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9440" y="6551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68E-7775-4427-BD89-65E072DB9BA3}" type="slidenum">
              <a:t>8</a:t>
            </a:fld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5"/>
          <p:cNvSpPr/>
          <p:nvPr/>
        </p:nvSpPr>
        <p:spPr>
          <a:xfrm>
            <a:off x="6084720" y="4151160"/>
            <a:ext cx="1190880" cy="117792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6"/>
          <p:cNvSpPr/>
          <p:nvPr/>
        </p:nvSpPr>
        <p:spPr>
          <a:xfrm>
            <a:off x="6485040" y="4502160"/>
            <a:ext cx="388800" cy="439560"/>
          </a:xfrm>
          <a:prstGeom prst="pie">
            <a:avLst/>
          </a:pr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"/>
          <p:cNvSpPr/>
          <p:nvPr/>
        </p:nvSpPr>
        <p:spPr>
          <a:xfrm>
            <a:off x="6084720" y="1467000"/>
            <a:ext cx="1177920" cy="1193760"/>
          </a:xfrm>
          <a:prstGeom prst="pie">
            <a:avLst/>
          </a:pr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8"/>
          <p:cNvSpPr/>
          <p:nvPr/>
        </p:nvSpPr>
        <p:spPr>
          <a:xfrm>
            <a:off x="6485040" y="1832040"/>
            <a:ext cx="376200" cy="436320"/>
          </a:xfrm>
          <a:prstGeom prst="pie">
            <a:avLst/>
          </a:pr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4849920" y="2419200"/>
            <a:ext cx="1954080" cy="1957680"/>
          </a:xfrm>
          <a:prstGeom prst="pie">
            <a:avLst/>
          </a:pr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0"/>
          <p:cNvSpPr/>
          <p:nvPr/>
        </p:nvSpPr>
        <p:spPr>
          <a:xfrm>
            <a:off x="5513400" y="3009960"/>
            <a:ext cx="627120" cy="726840"/>
          </a:xfrm>
          <a:prstGeom prst="pie">
            <a:avLst/>
          </a:pr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"/>
          <p:cNvSpPr/>
          <p:nvPr/>
        </p:nvSpPr>
        <p:spPr>
          <a:xfrm flipV="1">
            <a:off x="7083360" y="1313280"/>
            <a:ext cx="3902040" cy="303480"/>
          </a:xfrm>
          <a:prstGeom prst="pie">
            <a:avLst/>
          </a:pr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8"/>
          <p:cNvSpPr/>
          <p:nvPr/>
        </p:nvSpPr>
        <p:spPr>
          <a:xfrm>
            <a:off x="7083360" y="5175360"/>
            <a:ext cx="3902040" cy="301680"/>
          </a:xfrm>
          <a:prstGeom prst="pie">
            <a:avLst/>
          </a:pr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9"/>
          <p:cNvSpPr/>
          <p:nvPr/>
        </p:nvSpPr>
        <p:spPr>
          <a:xfrm flipH="1">
            <a:off x="950040" y="3398760"/>
            <a:ext cx="3900600" cy="303120"/>
          </a:xfrm>
          <a:prstGeom prst="pie">
            <a:avLst/>
          </a:pr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6B9-BF0A-495A-A40A-A9812EC1B203}" type="slidenum">
              <a:t>9</a:t>
            </a:fld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+</cp:lastModifiedBy>
  <dcterms:modified xsi:type="dcterms:W3CDTF">2015-09-18T12:43:02Z</dcterms:modified>
  <cp:revision>50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