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94BDB-8D7D-4161-8841-13C112DE0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35E2-BAEE-415D-82BA-433587C0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1C169-B8CD-4D0E-932C-CD5181AB3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0789C-BACF-458A-B899-DEEF9BDA4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F5BA-0F20-4445-A683-F4BAACDEB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DEE9-D96E-410D-9F21-9BF314622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8E552-D6B1-4097-B006-0B33AFB69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9EEA-ADD5-4DFD-AA6B-A4BCA04FC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C444-52C9-48A6-80D3-F80625625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F91A-C8E7-4F5A-B4F9-04C5BDF7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48CA-7923-4978-8CB1-BAF765512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29FE-341C-4D4C-9180-FB02D5AD6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5F96-6F53-475E-A134-C7FB5D0F783B}" type="datetime">
              <a:rPr b="0" lang="zh-CN" sz="1200" spc="-1" strike="noStrike">
                <a:solidFill>
                  <a:srgbClr val="ffffff"/>
                </a:solidFill>
                <a:latin typeface="Arial"/>
              </a:rPr>
              <a:t>26/7/31</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9BDD-C78F-4741-9D70-10FE5EF60CA5}"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E218412-4D21-4CF0-804E-84844310A4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42822C51-4441-437B-966C-66FC03C832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059E11DC-707D-4364-8606-9BAC014EC1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FF02EDE7-BD79-48F2-8630-75B15A894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DD839E65-11E0-479E-86D1-943F2FC4D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