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918D9-FAE2-49EA-B205-9F5D01F3E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7ADC1-1329-4E24-AFF3-7362C67B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591B3-CCE9-4B47-BB86-2AB7AF23B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6C15C-E9D0-41C6-98A5-4B21DAC1D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C5D4F-4A37-4D54-A945-97A9A60F8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51BD-EF6E-48BD-9AB1-0F6C2736E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419EE-3C9D-4948-B0CF-87DB68CC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9AE3D-93DE-4CF4-B8DB-25399F78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AFD1C-9C73-4A1E-889D-19E40C843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23AD-9610-4A48-BDB7-9000AFBB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92B2-F52D-4209-8349-22196F12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9924-09CF-4B8E-B09F-4CAAFCE2B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0507-96DE-481A-8665-7D8B10FDCB77}" type="datetime">
              <a:rPr b="0" lang="zh-CN" sz="1200" spc="-1" strike="noStrike">
                <a:solidFill>
                  <a:srgbClr val="ffffff"/>
                </a:solidFill>
                <a:latin typeface="Arial"/>
              </a:rPr>
              <a:t>26/7/31</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7920-8528-4922-AF09-9EE33FADCA2A}"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0C8A71F-7C1C-4E71-AF79-8DF4C779D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6D83FD86-4DCB-4E17-9FE8-72C75A94A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88119594-DE4B-41FE-837B-C6C51FA6A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83698AC9-2DCF-495A-B283-E09A1480F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4457524C-931E-4430-9D47-EB3BE2714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