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51CF-B6FA-4FB5-86B2-76FC55BE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6DA-359E-47C2-BDF9-BBB853C4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CC02-1954-4DF3-9F40-3DB04688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C27-3710-4067-9650-CAAE3EB8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450-D49B-4322-AD7D-E5654F10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CDFD-9E0A-43AF-ACE2-11ED8051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9FE3-45B3-440F-857A-29560DF7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1D8A-11AD-40EE-BEE4-75DD5D1A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511D-75AF-4EFC-830C-5847CA76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DCB0-54C5-4F82-B044-8990FF15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EB57-D540-4B59-A811-A7082541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A6CC-4A7B-4B33-8FC8-7AB02F68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6F1B-1C13-44D3-A861-F488A682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466D-4778-435B-8EF0-09E3024D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AE5C-0CA3-43EA-87BF-17425014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98CD-A2F4-469A-B699-E79A41F3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DCFB-6A75-45D0-82D3-40505FDC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BAF5-42E5-45B2-9953-7FA646C3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06C6-1782-4C98-A74A-1E0F0464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572-B071-430F-8237-CF8BC67F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CE6-9231-4BE6-9F87-E41C3984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C82-5F9D-44E6-B9C3-56477B56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8B6-F4FA-469B-81B7-53046E48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B74-87B5-46B1-AA93-A08330B7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B1F4-4CC1-4C11-AD6A-FE8167DD9ED1}" type="slidenum">
              <a:rPr b="0" lang="en-US" sz="800" spc="-1" strike="noStrike">
                <a:solidFill>
                  <a:srgbClr val="8c8c8c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65D5-2CD5-4867-BCFB-47E0426035FF}" type="slidenum">
              <a:rPr b="0" lang="en-US" sz="800" spc="-1" strike="noStrike">
                <a:solidFill>
                  <a:srgbClr val="8c8c8c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75564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ITLE LAYOUT</a:t>
            </a:r>
            <a:endParaRPr b="0" lang="en-US" sz="80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09480" y="3955680"/>
            <a:ext cx="6858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宋体"/>
              </a:rPr>
              <a:t>Subtitl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5960" y="38412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-36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55960" y="2239920"/>
            <a:ext cx="4799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LIS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CH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pic>
        <p:nvPicPr>
          <p:cNvPr id="202" name="Content Placeholder 5" descr="Clustered Column Chart"/>
          <p:cNvPicPr/>
          <p:nvPr/>
        </p:nvPicPr>
        <p:blipFill>
          <a:blip r:embed="rId2"/>
          <a:stretch/>
        </p:blipFill>
        <p:spPr>
          <a:xfrm>
            <a:off x="1930320" y="1936800"/>
            <a:ext cx="9474120" cy="458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TABLE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781680" y="1981080"/>
          <a:ext cx="4572000" cy="20890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5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4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SMART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8" name="Content Placeholder 4" descr="Interconnected Block Process"/>
          <p:cNvPicPr/>
          <p:nvPr/>
        </p:nvPicPr>
        <p:blipFill>
          <a:blip r:embed="rId2"/>
          <a:stretch/>
        </p:blipFill>
        <p:spPr>
          <a:xfrm>
            <a:off x="6778800" y="1981080"/>
            <a:ext cx="4730400" cy="44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22240"/>
            <a:ext cx="8686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283500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9200" y="4096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6600" y="380520"/>
            <a:ext cx="54892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59200" y="22384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810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9810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7816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816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2:50:02Z</dcterms:created>
  <dc:creator/>
  <dc:description/>
  <dc:language>en-US</dc:language>
  <cp:lastModifiedBy/>
  <dcterms:modified xsi:type="dcterms:W3CDTF">2014-07-19T07:15:1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  <property fmtid="{D5CDD505-2E9C-101B-9397-08002B2CF9AE}" pid="3" name="_TemplateID">
    <vt:lpwstr>TC030310279991</vt:lpwstr>
  </property>
</Properties>
</file>