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D37-48FC-46D1-A0C5-230B9472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FC1-2488-4905-B296-FA8575BA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E6F-DE67-4376-9836-68A7C485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E01-24B2-4B99-9078-D40356DA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7A5-D2DA-4CD2-B4D2-57C05F70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3AB-8592-4626-84EA-70FEAB1F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DE5-F957-4CED-8293-50AE4F63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17B-D1CB-43A8-B85E-FF58B8B7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FE8B-F3DD-443E-9375-91D62850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B76-5EEC-4C3F-A1A8-8942443B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88C-1A26-4AF4-A03B-98D11654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EAC-492A-4366-9E3D-B7878FFA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44A1-4C3C-4133-9772-1D3B595CA2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3908.WAV" TargetMode="External"/><Relationship Id="rId3" Type="http://schemas.microsoft.com/office/2007/relationships/media" Target="file:///tmp/home/.config/libreoffice/4/user/gallery/~PP390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audio" Target="file:///tmp/home/.config/libreoffice/4/user/gallery/~PP1343.WAV" TargetMode="External"/><Relationship Id="rId17" Type="http://schemas.microsoft.com/office/2007/relationships/media" Target="file:///tmp/home/.config/libreoffice/4/user/gallery/~PP1343.WAV" TargetMode="External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80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0" y="35053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4572000" y="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0" y="3429000"/>
            <a:ext cx="502920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486400" y="4648320"/>
            <a:ext cx="3429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爸 爸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12952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黑体"/>
              </a:rPr>
              <a:t>I LOVE YOU!</a:t>
            </a:r>
            <a:endParaRPr b="0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黑体"/>
              <a:ea typeface="黑体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6846840"/>
            <a:chOff x="0" y="0"/>
            <a:chExt cx="9144000" cy="684684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352680" y="5322960"/>
              <a:ext cx="1752840" cy="838080"/>
            </a:xfrm>
            <a:prstGeom prst="wedgeEllipseCallout">
              <a:avLst>
                <a:gd name="adj1" fmla="val -55615"/>
                <a:gd name="adj2" fmla="val -5549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我也要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2503440"/>
              <a:ext cx="1447920" cy="685800"/>
            </a:xfrm>
            <a:prstGeom prst="wedgeEllipseCallout">
              <a:avLst>
                <a:gd name="adj1" fmla="val 30263"/>
                <a:gd name="adj2" fmla="val 77314"/>
              </a:avLst>
            </a:prstGeom>
            <a:solidFill>
              <a:srgbClr val="bbe0e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好好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 txBox="1"/>
          <p:nvPr/>
        </p:nvSpPr>
        <p:spPr>
          <a:xfrm>
            <a:off x="4038480" y="350532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祝爸爸父亲节快乐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3716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3716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045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533376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3049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371600" y="304920"/>
            <a:ext cx="6400800" cy="6095880"/>
            <a:chOff x="1371600" y="304920"/>
            <a:chExt cx="6400800" cy="6095880"/>
          </a:xfrm>
        </p:grpSpPr>
        <p:grpSp>
          <p:nvGrpSpPr>
            <p:cNvPr id="78" name=""/>
            <p:cNvGrpSpPr/>
            <p:nvPr/>
          </p:nvGrpSpPr>
          <p:grpSpPr>
            <a:xfrm>
              <a:off x="1371600" y="304920"/>
              <a:ext cx="6400800" cy="6095880"/>
              <a:chOff x="1371600" y="304920"/>
              <a:chExt cx="6400800" cy="6095880"/>
            </a:xfrm>
          </p:grpSpPr>
          <p:sp>
            <p:nvSpPr>
              <p:cNvPr id="79" name=""/>
              <p:cNvSpPr/>
              <p:nvPr/>
            </p:nvSpPr>
            <p:spPr>
              <a:xfrm>
                <a:off x="1371600" y="304920"/>
                <a:ext cx="6400800" cy="6095880"/>
              </a:xfrm>
              <a:custGeom>
                <a:avLst/>
                <a:gdLst/>
                <a:ahLst/>
                <a:rect l="l" t="t" r="r" b="b"/>
                <a:pathLst>
                  <a:path w="4032" h="3840">
                    <a:moveTo>
                      <a:pt x="2016" y="672"/>
                    </a:moveTo>
                    <a:lnTo>
                      <a:pt x="0" y="0"/>
                    </a:lnTo>
                    <a:lnTo>
                      <a:pt x="0" y="3120"/>
                    </a:lnTo>
                    <a:lnTo>
                      <a:pt x="0" y="3168"/>
                    </a:lnTo>
                    <a:lnTo>
                      <a:pt x="2016" y="3840"/>
                    </a:lnTo>
                    <a:lnTo>
                      <a:pt x="4032" y="3168"/>
                    </a:lnTo>
                    <a:lnTo>
                      <a:pt x="4032" y="0"/>
                    </a:lnTo>
                    <a:lnTo>
                      <a:pt x="2016" y="67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47920" y="11430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亲爱的爸爸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76520" y="2209680"/>
                <a:ext cx="579096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你是雄鹰，我是小鸟， 你是大树，我是小草；你是我老爸，我是你那位特调      皮捣蛋的孩子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您给了我一片蓝天，给了我一方沃土，  您是我生命里永远的太阳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祝父亲节快乐 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562720" y="3886200"/>
                <a:ext cx="2057400" cy="60948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爱您的女儿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1752480" y="3276720"/>
              <a:ext cx="2667240" cy="203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45720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7T12:05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