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E85-0C49-43E9-8CB0-3193B6A8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8D4-E76E-4E43-8B43-12FFBF06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544-A2DE-440A-AEB4-782AF665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C2F-3DE5-4039-9A93-D2C06F9F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A22-ECD2-46BF-B862-54FFD5E3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A5E-59F5-4C44-919D-1C6F528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69B-C351-490A-A120-26643A88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F2F-4FC8-405C-ADFE-72D109E5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97C1-9986-492E-B749-9A39093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02B-00D3-48F6-9E59-593B435D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BF8-E6A5-45B4-A7F4-95F34A2F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F1CC-441A-474A-A8BD-181DD3A7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1D0D-73BA-4509-92D9-58698C2BED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908.WAV" TargetMode="External"/><Relationship Id="rId3" Type="http://schemas.microsoft.com/office/2007/relationships/media" Target="file:///tmp/home/.config/libreoffice/4/user/gallery/~PP390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audio" Target="file:///tmp/home/.config/libreoffice/4/user/gallery/~PP1343.WAV" TargetMode="External"/><Relationship Id="rId17" Type="http://schemas.microsoft.com/office/2007/relationships/media" Target="file:///tmp/home/.config/libreoffice/4/user/gallery/~PP1343.WAV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86400" y="46483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爸 爸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2952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I LOVE YOU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2680" y="5322960"/>
              <a:ext cx="1752840" cy="838080"/>
            </a:xfrm>
            <a:prstGeom prst="wedgeEllipseCallout">
              <a:avLst>
                <a:gd name="adj1" fmla="val -55615"/>
                <a:gd name="adj2" fmla="val -5549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也要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503440"/>
              <a:ext cx="1447920" cy="685800"/>
            </a:xfrm>
            <a:prstGeom prst="wedgeEllipseCallout">
              <a:avLst>
                <a:gd name="adj1" fmla="val 30263"/>
                <a:gd name="adj2" fmla="val 77314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好好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038480" y="35053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祝爸爸父亲节快乐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3716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3716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304920"/>
            <a:ext cx="6400800" cy="6095880"/>
            <a:chOff x="1371600" y="304920"/>
            <a:chExt cx="6400800" cy="6095880"/>
          </a:xfrm>
        </p:grpSpPr>
        <p:grpSp>
          <p:nvGrpSpPr>
            <p:cNvPr id="78" name=""/>
            <p:cNvGrpSpPr/>
            <p:nvPr/>
          </p:nvGrpSpPr>
          <p:grpSpPr>
            <a:xfrm>
              <a:off x="1371600" y="304920"/>
              <a:ext cx="6400800" cy="6095880"/>
              <a:chOff x="1371600" y="304920"/>
              <a:chExt cx="6400800" cy="6095880"/>
            </a:xfrm>
          </p:grpSpPr>
          <p:sp>
            <p:nvSpPr>
              <p:cNvPr id="79" name=""/>
              <p:cNvSpPr/>
              <p:nvPr/>
            </p:nvSpPr>
            <p:spPr>
              <a:xfrm>
                <a:off x="1371600" y="304920"/>
                <a:ext cx="6400800" cy="6095880"/>
              </a:xfrm>
              <a:custGeom>
                <a:avLst/>
                <a:gdLst/>
                <a:ahLst/>
                <a:rect l="l" t="t" r="r" b="b"/>
                <a:pathLst>
                  <a:path w="4032" h="3840">
                    <a:moveTo>
                      <a:pt x="2016" y="672"/>
                    </a:moveTo>
                    <a:lnTo>
                      <a:pt x="0" y="0"/>
                    </a:lnTo>
                    <a:lnTo>
                      <a:pt x="0" y="3120"/>
                    </a:lnTo>
                    <a:lnTo>
                      <a:pt x="0" y="3168"/>
                    </a:lnTo>
                    <a:lnTo>
                      <a:pt x="2016" y="3840"/>
                    </a:lnTo>
                    <a:lnTo>
                      <a:pt x="4032" y="3168"/>
                    </a:lnTo>
                    <a:lnTo>
                      <a:pt x="4032" y="0"/>
                    </a:lnTo>
                    <a:lnTo>
                      <a:pt x="2016" y="67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47920" y="11430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亲爱的爸爸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6520" y="2209680"/>
                <a:ext cx="57909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你是雄鹰，我是小鸟， 你是大树，我是小草；你是我老爸，我是你那位特调      皮捣蛋的孩子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您给了我一片蓝天，给了我一方沃土，  您是我生命里永远的太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祝父亲节快乐 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62720" y="38862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爱您的女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752480" y="3276720"/>
              <a:ext cx="2667240" cy="20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7T12:05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