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BD3D-26EB-4C85-B7AC-2E54DB71A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634B-6A9A-451E-874F-0F523A63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6E09-E78A-4627-9E4B-5B9FFF07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9312-8997-4F07-A979-8FC9D9D4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FCA6-2B80-4CAD-9746-54EFE04A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260A-C5D0-4BA6-B775-FD417C50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75E8-443D-4E99-86AC-334EB23F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C8D9-86F4-411B-AAA8-2D55812A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41FC-6CDE-416F-A5CA-CED775C7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F4C3-208A-4715-9ABB-2E4E4AF1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117A-6E6F-4EEE-B6C2-30876DF2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2325-878D-4CC7-9D30-7FAAE830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6A91-98CA-4B5D-8CB8-62B41A188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"/>
          <p:cNvSpPr/>
          <p:nvPr/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请在此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21"/>
          <p:cNvSpPr/>
          <p:nvPr/>
        </p:nvSpPr>
        <p:spPr>
          <a:xfrm>
            <a:off x="2195640" y="260280"/>
            <a:ext cx="3313080" cy="1511280"/>
          </a:xfrm>
          <a:prstGeom prst="cloudCallout">
            <a:avLst>
              <a:gd name="adj1" fmla="val 106060"/>
              <a:gd name="adj2" fmla="val 34032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4"/>
          <p:cNvSpPr/>
          <p:nvPr/>
        </p:nvSpPr>
        <p:spPr>
          <a:xfrm>
            <a:off x="539640" y="2060640"/>
            <a:ext cx="424836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4"/>
          <p:cNvSpPr/>
          <p:nvPr/>
        </p:nvSpPr>
        <p:spPr>
          <a:xfrm>
            <a:off x="628560" y="2041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700280"/>
            <a:ext cx="41148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3203640" y="260280"/>
            <a:ext cx="2305080" cy="79236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4"/>
          <p:cNvSpPr/>
          <p:nvPr/>
        </p:nvSpPr>
        <p:spPr>
          <a:xfrm>
            <a:off x="5305320" y="1825560"/>
            <a:ext cx="32101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5T09:09:04Z</dcterms:created>
  <dc:creator>微软用户</dc:creator>
  <dc:description/>
  <dc:language>en-US</dc:language>
  <cp:lastModifiedBy>Administrator</cp:lastModifiedBy>
  <dcterms:modified xsi:type="dcterms:W3CDTF">2016-03-24T09:58:3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