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50B-60E8-4151-8063-F33E6106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1D4-025C-4D16-B50E-41F1EF53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10FD9-D200-4C2B-8E63-06FFA66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315F6-2C51-44BF-B8EA-0DEF41EC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8D87A-F555-43EA-9E12-BC7B41B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D221-BCA7-4C8A-9428-4C2F3C44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D44FB-FC20-4836-8CEF-95DC730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B656B-9A26-4DDF-8B0A-32269E7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D7AEA-0D39-4EAE-AEE9-8403314C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8B41-F61A-4818-883E-EAE04E66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B3B61-E325-4E4A-ACAE-F2DA8205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2B3B-276D-41BE-9211-388823B1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37A-5B26-49CD-A4FD-1D5E80D9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216B2-A642-4780-9C5C-C4E90380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A1B33-116E-4130-80CE-BB23B77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411C8-077F-4288-9976-66090BBE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36CE0-1F33-4184-9FB3-DE7EBA5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F40D7-B9C2-43FF-9543-3CF28EE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9AEA7-7C16-4FCD-AABB-8622677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CA755-8D66-4A1C-B8F1-1C09B86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22FF1-7FA9-414A-8910-6265A9E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53429-FBA3-4C60-A5BD-C24C6626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776D3-F73F-456D-B2FD-AD88CE75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3AF-0664-4595-B1DE-C32CA7C7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90D59-A078-401B-90C1-47203B7B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1839F-A99A-4B2F-85FD-93DEFD5A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7BF0D-C691-4C1A-B9FE-76FBD5F7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F171B-6A57-427D-BE9A-1CD7E29F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C3036-1B91-49E7-A9E4-DE090A5D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E9CEB-ABC6-4AEA-8872-01498D9C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26B43-7514-4A29-BAC7-42870162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16B57-DDF3-4DBE-AFC6-D272577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F80DA-065A-4065-BD45-48764FF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A73C9-FA33-41A7-8338-6954C3E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F035-8A9E-4B0A-B8E2-A750BCC7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914B1-EC59-4678-9D07-C6BB260B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E0854-4DF7-4013-9ACF-A06D0F9F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F8D66-5FFD-4826-90AD-BFEA2DBF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27A16-9422-4383-A0F9-2661DA3B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774A5-DA79-4BD9-B8D4-B3BA54FE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64477-D0AF-4577-A133-BFD1EB98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BE9FF-EEBA-4BAC-8D46-35FF37A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CBFE-5CEA-4E53-B43D-D772A0AF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7B6F1-3857-4D87-A7D4-E880ACD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C91BC-DF08-49BC-805A-2FBBBFE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5DE9-EAA8-403D-AC9E-02871097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A33B5-ADE9-4ACA-A765-BF4FE56E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29A4A-14E8-4A84-A2FE-FB0FC36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10CF6-1162-4C56-94CD-F3090252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63CA1-5DDE-4437-BFA7-4E2821F3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A434-2096-431A-9453-31C55193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9FCC8-30C6-4EE4-B0F1-C60EB4C9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74231-A049-4C0D-B745-2FF8B5E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C23F5-9B99-4D15-B7E1-FDE9D9E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8D827-B313-4A17-A572-5640938B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9C8C1-9996-4E14-874D-0781E2E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9C5-C843-4904-A914-C40BC84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39DCC-9171-4378-B28B-9565E4B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51FF1-E8C9-47BA-84EF-7753E65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0A853-BEA6-43E8-923C-FF96A33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3D38F-5FD3-428D-BFBE-FA0248F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61CC9-579E-45D0-B7D7-4C27AD65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FDAD5-3796-40B5-8DD2-B795C82A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95FFF-C211-454A-8EA2-CF42B007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0F704-598D-4B76-A9E3-29B50A92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6E77C-CDF0-40C2-88F9-0260F03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458A8-E074-4AB0-B038-876C1F78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5CAE-EE9D-42AC-8CBB-DF752AD5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69FAA-F508-49C7-9738-DA8149D8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5C54C-F315-4615-841A-C758CE73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D9AFA-F7DD-4457-AF9F-BE21620C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F4DB1-C149-4B49-BAED-328415E9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43768-4128-4F77-B711-FFC56D20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6550E-D3FB-48BB-97E5-F5FCB7D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B78B5-DFA8-47E8-B425-7DD9ED9B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550C7-25D4-4BDC-8D99-DE4ED9AE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5168B-D644-4A6D-81FE-F2BBC438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BB0EC-8B32-400B-B554-33B595C9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D0ED-3DBF-408B-AA68-A1BF08A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CAF5F-1429-45CB-8F9F-1C65986B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68183-34BE-4FF5-A74A-CB59505F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5A910-D603-4F1D-8E8F-A4E944FD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D3C1C-89CD-4D1A-88EE-35773043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DA6C9-17F8-4057-BC06-E07C1C63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FA5E7-8DEB-4FDF-8FD0-87ADA16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89465-66A9-486E-8FDF-4113C82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A5F58-6F3F-41E8-BB6D-3078DE4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867C3-1822-44CE-B1AC-1125B684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B2F44-A2A2-41CD-82EB-A507C76A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C2EC-33DE-4A30-8B32-BB1C069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1BD97-B74F-4319-970D-1E5D9B8E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9678-881C-4EE6-87FE-4F3F234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998-9AC7-4CD8-BD4E-6123963C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92E3-B7A4-4D6F-AE96-685F0B9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7F7B-C2C3-450D-A837-34B3B71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0746-B51C-4ABB-80ED-924C9990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81A0-315F-4C58-92C7-BFC0D175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7764-81C3-4F14-8C5B-6D9884EA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C18-8E22-4DA4-B0E0-FF11666C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5469-4B27-4B61-8674-8C28234F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DDED-CF42-4B25-B2A0-147E02E8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FC1C-437D-4090-97C8-A2F5450B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C0A-893A-4E08-B5A3-2DEA5CE8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069D-76BC-4874-B9E9-C789F73A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1328-C646-4B37-A4EE-46B8A11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6E7B-9867-452C-80BF-F3CA45E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BB9D-53F7-4CC1-AE91-D68CB9F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21B6-EADF-4480-AB2A-D35D729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5D71-CF9D-42E0-BD89-FDB9FB4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65AB-59ED-4CF9-83FA-CA0E5D3D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2369-5999-4206-B1DA-C93D58B8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4840-B4C0-4F4B-BE4C-59E08B5C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50FF-6C3A-4D99-9695-9E9CF043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259-E7C6-4397-9FB8-81E26668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ED00-0F94-4942-A219-70ED8E7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2A410-F15A-4DD9-9F39-6EBC650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3394-B7E5-4DA0-B2B0-594DEF42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4280-81C6-4509-881C-C4651488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EBD0-263E-4FC3-8505-B730C59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9214-2FD8-4C8B-A20B-A485325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5C8D-FCD5-4BBC-A917-93E186DE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F6CC-874D-4525-89F6-D64975F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7CFE-EC0D-4E1C-8E20-0AEC6EE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5AC2-2786-4C6E-90B2-0166E2EA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B52-68F6-46F7-B2A6-5CA2EDE5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743D-4C6E-4321-AD03-F39DE203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9013-004C-4002-A3AF-146CD373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297C7-233F-4D07-847D-48BD0BF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510B4-67D8-4692-A37A-7C78A0EC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985C-FFDA-46F1-BE64-CE7BBACD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E854-6821-4611-97C0-BC21EAE3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2FF62-B6DE-4A81-9963-84D77361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6E9B-6A86-4F46-84DF-126E4BF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FF40-9FE2-48E9-9B0A-DFABA4EC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EAE7-E452-4182-BC14-9772641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0AA-547B-4186-ACB6-DE1504F7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C108-E440-4FBF-8A7F-21AF250B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88F3-6CF5-4BFF-A209-8443AF52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950E1-2457-41D0-A303-3308B90F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9704E-81BE-4988-A199-F5B62944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3F97-B6BE-4ACA-883A-4B5E183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4038-0E67-4F1C-B65A-15AFB842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A9B3-5E2D-4B73-9014-39D3216A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0D7E5-DF2B-45EF-B5B7-35A60C2E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48DC-EA26-4CEF-9474-6CA8319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75BC-16C1-4320-AB14-19A3209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067-D640-4D40-90CB-50D8E66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06968-F339-4BF4-B5CD-318F071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ACD0F-D157-47EC-9EB9-BD52B13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C41D-EAE2-46B4-AD60-8A18DDCD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1E51-CA3F-44E1-B610-03C6229A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840D5-518E-4480-A880-7A39051F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666A-9D78-45A9-9526-2A0E0F34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F7B2-94CF-4920-B0C6-971DDAB3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B4D6-603B-4565-B47A-F48BC51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3845E-2F9C-4B79-8D4E-0063FEA9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0063-1879-48D7-8551-4F160006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F22-854D-4CBB-8DA3-C7AE360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52F7B-6821-4874-ACB6-F5C6C80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4A97C-6D64-415C-831D-213C348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F5F1-7503-4635-95FD-3C56473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CEB0-0CE5-4EF1-AFA9-99B945F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7530E-8B15-42AF-B596-A95B1432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99F59-9BE3-4571-9D66-97EA2C8E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9FF8-718E-4847-AFBB-D89E2400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7CD1-2AD6-4325-B5FC-42DCA2EC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100D5-38D4-4B96-B419-B206B1D9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E1DD4-26D1-4012-9589-8B449B0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AF0-2963-491E-A44C-AAC2EA096B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6A67-BF38-47FB-AFB5-0A401561C2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6E7-0EC9-4AD5-9A3D-DF6296E553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2EE3-27A0-43BA-A726-D1B0A53240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AB60-33D8-4B3D-8DE0-669C241898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9351-C4D0-41F8-8B0B-F96817A73A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DBAB-0828-42EA-B1F5-D06E8106A1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5CCE-D5E7-4C5D-B5AB-6CC001CB62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A5D9-9E7B-43EB-8CE3-2BD40DA042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0A3-B8F5-43BC-8CDF-55E54A50AE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7421-BB2F-4E0A-9335-56765D1FC6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52D-60E7-4C24-B047-F4AAAEBAB2A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427D-6439-43CC-BA77-47F94F82CA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938B-4628-4468-8DC6-B713B3F535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EDEF-C673-41FA-8332-19F74A53E6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FC97-EEE0-4CC2-A46C-4DF6BFEFBB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45F4-C00E-4598-96D7-4772F30A37A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6665-C4C6-47E7-9E57-E9ED5287EB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2F7A-2511-4828-A6DB-7AE100C95AA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031-FA40-41CF-9E23-B3DF46FAA5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6E85-4AD1-4713-A9C4-9AA626FDE5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A30-06B9-4BB6-90E4-35AC4E37A6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55B2-F87D-4ED8-A8AE-CA9733D3A4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07C-AE92-424B-8102-4CA81AE757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6D0-9F21-4C91-B127-91FB07CA90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D264-D23E-43BA-B1ED-CF5DCBCB37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3" descr=""/>
          <p:cNvPicPr/>
          <p:nvPr/>
        </p:nvPicPr>
        <p:blipFill>
          <a:blip r:embed="rId2"/>
          <a:srcRect l="33460" t="4937" r="0" b="34328"/>
          <a:stretch/>
        </p:blipFill>
        <p:spPr>
          <a:xfrm>
            <a:off x="-133200" y="2827440"/>
            <a:ext cx="6721200" cy="37526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1"/>
          <p:cNvSpPr/>
          <p:nvPr/>
        </p:nvSpPr>
        <p:spPr>
          <a:xfrm>
            <a:off x="2901960" y="1681200"/>
            <a:ext cx="652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商务清新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22"/>
          <p:cNvSpPr/>
          <p:nvPr/>
        </p:nvSpPr>
        <p:spPr>
          <a:xfrm>
            <a:off x="2901960" y="2448000"/>
            <a:ext cx="47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1" descr=""/>
          <p:cNvPicPr/>
          <p:nvPr/>
        </p:nvPicPr>
        <p:blipFill>
          <a:blip r:embed="rId3"/>
          <a:stretch/>
        </p:blipFill>
        <p:spPr>
          <a:xfrm>
            <a:off x="1477800" y="1569960"/>
            <a:ext cx="154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椭圆 7"/>
          <p:cNvSpPr/>
          <p:nvPr/>
        </p:nvSpPr>
        <p:spPr>
          <a:xfrm>
            <a:off x="2182680" y="170964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椭圆 9"/>
          <p:cNvSpPr/>
          <p:nvPr/>
        </p:nvSpPr>
        <p:spPr>
          <a:xfrm>
            <a:off x="1249200" y="2975040"/>
            <a:ext cx="1265400" cy="126684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椭圆 12"/>
          <p:cNvSpPr/>
          <p:nvPr/>
        </p:nvSpPr>
        <p:spPr>
          <a:xfrm>
            <a:off x="2182680" y="427356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6788160" y="2343240"/>
            <a:ext cx="430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组合 14" descr=""/>
          <p:cNvPicPr/>
          <p:nvPr/>
        </p:nvPicPr>
        <p:blipFill>
          <a:blip r:embed="rId1"/>
          <a:stretch/>
        </p:blipFill>
        <p:spPr>
          <a:xfrm>
            <a:off x="3255840" y="2365200"/>
            <a:ext cx="2863800" cy="2517840"/>
          </a:xfrm>
          <a:prstGeom prst="rect">
            <a:avLst/>
          </a:prstGeom>
          <a:ln w="0">
            <a:noFill/>
          </a:ln>
        </p:spPr>
      </p:pic>
      <p:sp>
        <p:nvSpPr>
          <p:cNvPr id="837" name="文本框 21"/>
          <p:cNvSpPr/>
          <p:nvPr/>
        </p:nvSpPr>
        <p:spPr>
          <a:xfrm>
            <a:off x="6757920" y="197316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0"/>
          <p:cNvSpPr/>
          <p:nvPr/>
        </p:nvSpPr>
        <p:spPr>
          <a:xfrm>
            <a:off x="6818400" y="364176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23"/>
          <p:cNvSpPr/>
          <p:nvPr/>
        </p:nvSpPr>
        <p:spPr>
          <a:xfrm>
            <a:off x="6786720" y="3271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0"/>
          <p:cNvSpPr/>
          <p:nvPr/>
        </p:nvSpPr>
        <p:spPr>
          <a:xfrm>
            <a:off x="6818400" y="500220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25"/>
          <p:cNvSpPr/>
          <p:nvPr/>
        </p:nvSpPr>
        <p:spPr>
          <a:xfrm>
            <a:off x="6786720" y="46324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五角星 26"/>
          <p:cNvSpPr/>
          <p:nvPr/>
        </p:nvSpPr>
        <p:spPr>
          <a:xfrm>
            <a:off x="2625840" y="238284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27"/>
          <p:cNvSpPr/>
          <p:nvPr/>
        </p:nvSpPr>
        <p:spPr>
          <a:xfrm>
            <a:off x="2516040" y="1920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五角星 28"/>
          <p:cNvSpPr/>
          <p:nvPr/>
        </p:nvSpPr>
        <p:spPr>
          <a:xfrm>
            <a:off x="1650960" y="3622680"/>
            <a:ext cx="38268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29"/>
          <p:cNvSpPr/>
          <p:nvPr/>
        </p:nvSpPr>
        <p:spPr>
          <a:xfrm>
            <a:off x="1542960" y="316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五角星 30"/>
          <p:cNvSpPr/>
          <p:nvPr/>
        </p:nvSpPr>
        <p:spPr>
          <a:xfrm>
            <a:off x="2637000" y="495792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31"/>
          <p:cNvSpPr/>
          <p:nvPr/>
        </p:nvSpPr>
        <p:spPr>
          <a:xfrm>
            <a:off x="2527200" y="4495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8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49" name="矩形 33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矩形 34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矩形 35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组合 36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53" name="矩形 37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矩形 38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39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5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组合 7"/>
          <p:cNvGrpSpPr/>
          <p:nvPr/>
        </p:nvGrpSpPr>
        <p:grpSpPr>
          <a:xfrm>
            <a:off x="1127160" y="1801800"/>
            <a:ext cx="2984400" cy="2840040"/>
            <a:chOff x="1127160" y="1801800"/>
            <a:chExt cx="2984400" cy="2840040"/>
          </a:xfrm>
        </p:grpSpPr>
        <p:sp>
          <p:nvSpPr>
            <p:cNvPr id="863" name="椭圆形标注 9"/>
            <p:cNvSpPr/>
            <p:nvPr/>
          </p:nvSpPr>
          <p:spPr>
            <a:xfrm>
              <a:off x="1127160" y="1801800"/>
              <a:ext cx="2984400" cy="2840040"/>
            </a:xfrm>
            <a:prstGeom prst="wedgeEllipseCallout">
              <a:avLst>
                <a:gd name="adj1" fmla="val -17379"/>
                <a:gd name="adj2" fmla="val 5977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4" name="图片 12" descr=""/>
            <p:cNvPicPr/>
            <p:nvPr/>
          </p:nvPicPr>
          <p:blipFill>
            <a:blip r:embed="rId1"/>
            <a:stretch/>
          </p:blipFill>
          <p:spPr>
            <a:xfrm>
              <a:off x="1487160" y="2108520"/>
              <a:ext cx="2237760" cy="22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组合 13"/>
          <p:cNvGrpSpPr/>
          <p:nvPr/>
        </p:nvGrpSpPr>
        <p:grpSpPr>
          <a:xfrm>
            <a:off x="5572080" y="3375000"/>
            <a:ext cx="5254560" cy="204840"/>
            <a:chOff x="5572080" y="3375000"/>
            <a:chExt cx="5254560" cy="204840"/>
          </a:xfrm>
        </p:grpSpPr>
        <p:sp>
          <p:nvSpPr>
            <p:cNvPr id="866" name="矩形 14"/>
            <p:cNvSpPr/>
            <p:nvPr/>
          </p:nvSpPr>
          <p:spPr>
            <a:xfrm>
              <a:off x="5572080" y="3375000"/>
              <a:ext cx="5254560" cy="204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矩形 15"/>
            <p:cNvSpPr/>
            <p:nvPr/>
          </p:nvSpPr>
          <p:spPr>
            <a:xfrm>
              <a:off x="5572080" y="3375000"/>
              <a:ext cx="4185720" cy="2048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组合 16"/>
          <p:cNvGrpSpPr/>
          <p:nvPr/>
        </p:nvGrpSpPr>
        <p:grpSpPr>
          <a:xfrm>
            <a:off x="5572080" y="4060800"/>
            <a:ext cx="5254560" cy="206280"/>
            <a:chOff x="5572080" y="4060800"/>
            <a:chExt cx="5254560" cy="206280"/>
          </a:xfrm>
        </p:grpSpPr>
        <p:sp>
          <p:nvSpPr>
            <p:cNvPr id="869" name="矩形 17"/>
            <p:cNvSpPr/>
            <p:nvPr/>
          </p:nvSpPr>
          <p:spPr>
            <a:xfrm>
              <a:off x="5572080" y="40608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矩形 18"/>
            <p:cNvSpPr/>
            <p:nvPr/>
          </p:nvSpPr>
          <p:spPr>
            <a:xfrm>
              <a:off x="5572080" y="4060800"/>
              <a:ext cx="3374280" cy="206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1" name="组合 19"/>
          <p:cNvGrpSpPr/>
          <p:nvPr/>
        </p:nvGrpSpPr>
        <p:grpSpPr>
          <a:xfrm>
            <a:off x="5572080" y="4746600"/>
            <a:ext cx="5254560" cy="206280"/>
            <a:chOff x="5572080" y="4746600"/>
            <a:chExt cx="5254560" cy="206280"/>
          </a:xfrm>
        </p:grpSpPr>
        <p:sp>
          <p:nvSpPr>
            <p:cNvPr id="872" name="矩形 20"/>
            <p:cNvSpPr/>
            <p:nvPr/>
          </p:nvSpPr>
          <p:spPr>
            <a:xfrm>
              <a:off x="5572080" y="47466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矩形 21"/>
            <p:cNvSpPr/>
            <p:nvPr/>
          </p:nvSpPr>
          <p:spPr>
            <a:xfrm>
              <a:off x="5572080" y="4746600"/>
              <a:ext cx="4803840" cy="206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4" name="组合 22"/>
          <p:cNvGrpSpPr/>
          <p:nvPr/>
        </p:nvGrpSpPr>
        <p:grpSpPr>
          <a:xfrm>
            <a:off x="5572080" y="5630760"/>
            <a:ext cx="5254560" cy="206640"/>
            <a:chOff x="5572080" y="5630760"/>
            <a:chExt cx="5254560" cy="206640"/>
          </a:xfrm>
        </p:grpSpPr>
        <p:sp>
          <p:nvSpPr>
            <p:cNvPr id="875" name="矩形 23"/>
            <p:cNvSpPr/>
            <p:nvPr/>
          </p:nvSpPr>
          <p:spPr>
            <a:xfrm>
              <a:off x="5572080" y="5630760"/>
              <a:ext cx="5254560" cy="20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矩形 24"/>
            <p:cNvSpPr/>
            <p:nvPr/>
          </p:nvSpPr>
          <p:spPr>
            <a:xfrm>
              <a:off x="5572080" y="5630760"/>
              <a:ext cx="4482000" cy="20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7" name="TextBox 10"/>
          <p:cNvSpPr/>
          <p:nvPr/>
        </p:nvSpPr>
        <p:spPr>
          <a:xfrm>
            <a:off x="5572080" y="215280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26"/>
          <p:cNvSpPr/>
          <p:nvPr/>
        </p:nvSpPr>
        <p:spPr>
          <a:xfrm>
            <a:off x="5572080" y="1844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27"/>
          <p:cNvSpPr/>
          <p:nvPr/>
        </p:nvSpPr>
        <p:spPr>
          <a:xfrm>
            <a:off x="5572080" y="29494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28"/>
          <p:cNvSpPr/>
          <p:nvPr/>
        </p:nvSpPr>
        <p:spPr>
          <a:xfrm>
            <a:off x="5572080" y="36860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29"/>
          <p:cNvSpPr/>
          <p:nvPr/>
        </p:nvSpPr>
        <p:spPr>
          <a:xfrm>
            <a:off x="5572080" y="43797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30"/>
          <p:cNvSpPr/>
          <p:nvPr/>
        </p:nvSpPr>
        <p:spPr>
          <a:xfrm>
            <a:off x="5495760" y="5264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图片 33" descr=""/>
          <p:cNvPicPr/>
          <p:nvPr/>
        </p:nvPicPr>
        <p:blipFill>
          <a:blip r:embed="rId2"/>
          <a:stretch/>
        </p:blipFill>
        <p:spPr>
          <a:xfrm>
            <a:off x="1011240" y="539604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34" descr=""/>
          <p:cNvPicPr/>
          <p:nvPr/>
        </p:nvPicPr>
        <p:blipFill>
          <a:blip r:embed="rId3"/>
          <a:stretch/>
        </p:blipFill>
        <p:spPr>
          <a:xfrm>
            <a:off x="1927080" y="539604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35" descr=""/>
          <p:cNvPicPr/>
          <p:nvPr/>
        </p:nvPicPr>
        <p:blipFill>
          <a:blip r:embed="rId4"/>
          <a:stretch/>
        </p:blipFill>
        <p:spPr>
          <a:xfrm>
            <a:off x="2843280" y="5396040"/>
            <a:ext cx="514440" cy="512640"/>
          </a:xfrm>
          <a:prstGeom prst="rect">
            <a:avLst/>
          </a:prstGeom>
          <a:ln w="0">
            <a:noFill/>
          </a:ln>
        </p:spPr>
      </p:pic>
      <p:sp>
        <p:nvSpPr>
          <p:cNvPr id="886" name="文本框 36"/>
          <p:cNvSpPr/>
          <p:nvPr/>
        </p:nvSpPr>
        <p:spPr>
          <a:xfrm>
            <a:off x="1731960" y="4962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88" name="矩形 37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矩形 38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矩形 39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94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6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组合 7"/>
          <p:cNvGrpSpPr/>
          <p:nvPr/>
        </p:nvGrpSpPr>
        <p:grpSpPr>
          <a:xfrm>
            <a:off x="1481040" y="1622520"/>
            <a:ext cx="4533840" cy="4198680"/>
            <a:chOff x="1481040" y="1622520"/>
            <a:chExt cx="4533840" cy="4198680"/>
          </a:xfrm>
        </p:grpSpPr>
        <p:pic>
          <p:nvPicPr>
            <p:cNvPr id="898" name="图片 9" descr=""/>
            <p:cNvPicPr/>
            <p:nvPr/>
          </p:nvPicPr>
          <p:blipFill>
            <a:blip r:embed="rId1"/>
            <a:srcRect l="63386" t="0" r="0" b="0"/>
            <a:stretch/>
          </p:blipFill>
          <p:spPr>
            <a:xfrm>
              <a:off x="1481040" y="1622520"/>
              <a:ext cx="246024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矩形 12"/>
            <p:cNvSpPr/>
            <p:nvPr/>
          </p:nvSpPr>
          <p:spPr>
            <a:xfrm>
              <a:off x="3941280" y="1622520"/>
              <a:ext cx="2073600" cy="419868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13"/>
          <p:cNvGrpSpPr/>
          <p:nvPr/>
        </p:nvGrpSpPr>
        <p:grpSpPr>
          <a:xfrm>
            <a:off x="6554880" y="1622520"/>
            <a:ext cx="4521240" cy="4198680"/>
            <a:chOff x="6554880" y="1622520"/>
            <a:chExt cx="4521240" cy="4198680"/>
          </a:xfrm>
        </p:grpSpPr>
        <p:pic>
          <p:nvPicPr>
            <p:cNvPr id="901" name="图片 14" descr=""/>
            <p:cNvPicPr/>
            <p:nvPr/>
          </p:nvPicPr>
          <p:blipFill>
            <a:blip r:embed="rId2"/>
            <a:srcRect l="63576" t="0" r="0" b="0"/>
            <a:stretch/>
          </p:blipFill>
          <p:spPr>
            <a:xfrm>
              <a:off x="6554880" y="1622520"/>
              <a:ext cx="244728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矩形 15"/>
            <p:cNvSpPr/>
            <p:nvPr/>
          </p:nvSpPr>
          <p:spPr>
            <a:xfrm>
              <a:off x="9002160" y="1622520"/>
              <a:ext cx="2073960" cy="41986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TextBox 10"/>
          <p:cNvSpPr/>
          <p:nvPr/>
        </p:nvSpPr>
        <p:spPr>
          <a:xfrm>
            <a:off x="4176720" y="236232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17"/>
          <p:cNvSpPr/>
          <p:nvPr/>
        </p:nvSpPr>
        <p:spPr>
          <a:xfrm>
            <a:off x="417672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417024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19"/>
          <p:cNvSpPr/>
          <p:nvPr/>
        </p:nvSpPr>
        <p:spPr>
          <a:xfrm>
            <a:off x="4170240" y="3778200"/>
            <a:ext cx="11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0"/>
          <p:cNvSpPr/>
          <p:nvPr/>
        </p:nvSpPr>
        <p:spPr>
          <a:xfrm>
            <a:off x="9398160" y="2362320"/>
            <a:ext cx="166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21"/>
          <p:cNvSpPr/>
          <p:nvPr/>
        </p:nvSpPr>
        <p:spPr>
          <a:xfrm>
            <a:off x="939816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0"/>
          <p:cNvSpPr/>
          <p:nvPr/>
        </p:nvSpPr>
        <p:spPr>
          <a:xfrm>
            <a:off x="939168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23"/>
          <p:cNvSpPr/>
          <p:nvPr/>
        </p:nvSpPr>
        <p:spPr>
          <a:xfrm>
            <a:off x="9391680" y="3778200"/>
            <a:ext cx="11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24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12" name="矩形 25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18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0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直接连接符 7"/>
          <p:cNvSpPr/>
          <p:nvPr/>
        </p:nvSpPr>
        <p:spPr>
          <a:xfrm flipV="1">
            <a:off x="2828880" y="5660640"/>
            <a:ext cx="1870200" cy="561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直接连接符 9"/>
          <p:cNvSpPr/>
          <p:nvPr/>
        </p:nvSpPr>
        <p:spPr>
          <a:xfrm flipH="1" flipV="1">
            <a:off x="3911760" y="5181480"/>
            <a:ext cx="801360" cy="4651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12"/>
          <p:cNvSpPr/>
          <p:nvPr/>
        </p:nvSpPr>
        <p:spPr>
          <a:xfrm flipV="1">
            <a:off x="3897360" y="4000680"/>
            <a:ext cx="2630520" cy="1180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直接连接符 13"/>
          <p:cNvSpPr/>
          <p:nvPr/>
        </p:nvSpPr>
        <p:spPr>
          <a:xfrm>
            <a:off x="6527880" y="4000680"/>
            <a:ext cx="722160" cy="661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直接连接符 14"/>
          <p:cNvSpPr/>
          <p:nvPr/>
        </p:nvSpPr>
        <p:spPr>
          <a:xfrm flipV="1">
            <a:off x="7250040" y="3606840"/>
            <a:ext cx="2049480" cy="10555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椭圆 15"/>
          <p:cNvSpPr/>
          <p:nvPr/>
        </p:nvSpPr>
        <p:spPr>
          <a:xfrm>
            <a:off x="4635360" y="5597640"/>
            <a:ext cx="12708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椭圆 16"/>
          <p:cNvSpPr/>
          <p:nvPr/>
        </p:nvSpPr>
        <p:spPr>
          <a:xfrm>
            <a:off x="3882960" y="5132520"/>
            <a:ext cx="12564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椭圆 17"/>
          <p:cNvSpPr/>
          <p:nvPr/>
        </p:nvSpPr>
        <p:spPr>
          <a:xfrm>
            <a:off x="6464160" y="396396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椭圆 18"/>
          <p:cNvSpPr/>
          <p:nvPr/>
        </p:nvSpPr>
        <p:spPr>
          <a:xfrm>
            <a:off x="7186680" y="460692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椭圆 19"/>
          <p:cNvSpPr/>
          <p:nvPr/>
        </p:nvSpPr>
        <p:spPr>
          <a:xfrm>
            <a:off x="2751120" y="617364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椭圆 20"/>
          <p:cNvSpPr/>
          <p:nvPr/>
        </p:nvSpPr>
        <p:spPr>
          <a:xfrm>
            <a:off x="9236160" y="352908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标注 21"/>
          <p:cNvSpPr/>
          <p:nvPr/>
        </p:nvSpPr>
        <p:spPr>
          <a:xfrm>
            <a:off x="2630520" y="5568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标注 22"/>
          <p:cNvSpPr/>
          <p:nvPr/>
        </p:nvSpPr>
        <p:spPr>
          <a:xfrm>
            <a:off x="4549680" y="5046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标注 23"/>
          <p:cNvSpPr/>
          <p:nvPr/>
        </p:nvSpPr>
        <p:spPr>
          <a:xfrm>
            <a:off x="6319800" y="338940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矩形标注 24"/>
          <p:cNvSpPr/>
          <p:nvPr/>
        </p:nvSpPr>
        <p:spPr>
          <a:xfrm>
            <a:off x="9097920" y="29336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矩形标注 25"/>
          <p:cNvSpPr/>
          <p:nvPr/>
        </p:nvSpPr>
        <p:spPr>
          <a:xfrm>
            <a:off x="7165800" y="4905360"/>
            <a:ext cx="1027440" cy="366840"/>
          </a:xfrm>
          <a:prstGeom prst="wedgeRectCallout">
            <a:avLst>
              <a:gd name="adj1" fmla="val -37268"/>
              <a:gd name="adj2" fmla="val -8629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标注 26"/>
          <p:cNvSpPr/>
          <p:nvPr/>
        </p:nvSpPr>
        <p:spPr>
          <a:xfrm>
            <a:off x="3657600" y="4368960"/>
            <a:ext cx="1027080" cy="368280"/>
          </a:xfrm>
          <a:prstGeom prst="wedgeRectCallout">
            <a:avLst>
              <a:gd name="adj1" fmla="val -27680"/>
              <a:gd name="adj2" fmla="val 10496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10"/>
          <p:cNvSpPr/>
          <p:nvPr/>
        </p:nvSpPr>
        <p:spPr>
          <a:xfrm>
            <a:off x="1874880" y="1976400"/>
            <a:ext cx="836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28"/>
          <p:cNvSpPr/>
          <p:nvPr/>
        </p:nvSpPr>
        <p:spPr>
          <a:xfrm>
            <a:off x="1868400" y="1560600"/>
            <a:ext cx="18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0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41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47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直接连接符 7"/>
          <p:cNvSpPr/>
          <p:nvPr/>
        </p:nvSpPr>
        <p:spPr>
          <a:xfrm>
            <a:off x="1920960" y="3848040"/>
            <a:ext cx="85136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椭圆 9"/>
          <p:cNvSpPr/>
          <p:nvPr/>
        </p:nvSpPr>
        <p:spPr>
          <a:xfrm>
            <a:off x="4406760" y="2932200"/>
            <a:ext cx="1816200" cy="181584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椭圆 12"/>
          <p:cNvSpPr/>
          <p:nvPr/>
        </p:nvSpPr>
        <p:spPr>
          <a:xfrm>
            <a:off x="6040440" y="2932200"/>
            <a:ext cx="1816200" cy="1815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13"/>
          <p:cNvSpPr/>
          <p:nvPr/>
        </p:nvSpPr>
        <p:spPr>
          <a:xfrm>
            <a:off x="4527720" y="365616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14"/>
          <p:cNvSpPr/>
          <p:nvPr/>
        </p:nvSpPr>
        <p:spPr>
          <a:xfrm>
            <a:off x="6161040" y="366228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5"/>
          <p:cNvGrpSpPr/>
          <p:nvPr/>
        </p:nvGrpSpPr>
        <p:grpSpPr>
          <a:xfrm>
            <a:off x="1889280" y="2214720"/>
            <a:ext cx="2022480" cy="1066320"/>
            <a:chOff x="1889280" y="2214720"/>
            <a:chExt cx="2022480" cy="1066320"/>
          </a:xfrm>
        </p:grpSpPr>
        <p:sp>
          <p:nvSpPr>
            <p:cNvPr id="956" name="文本框 16"/>
            <p:cNvSpPr/>
            <p:nvPr/>
          </p:nvSpPr>
          <p:spPr>
            <a:xfrm>
              <a:off x="188928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TextBox 35"/>
            <p:cNvSpPr/>
            <p:nvPr/>
          </p:nvSpPr>
          <p:spPr>
            <a:xfrm>
              <a:off x="189036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8" name="组合 18"/>
          <p:cNvGrpSpPr/>
          <p:nvPr/>
        </p:nvGrpSpPr>
        <p:grpSpPr>
          <a:xfrm>
            <a:off x="8412120" y="2214720"/>
            <a:ext cx="2022480" cy="1066320"/>
            <a:chOff x="8412120" y="2214720"/>
            <a:chExt cx="2022480" cy="1066320"/>
          </a:xfrm>
        </p:grpSpPr>
        <p:sp>
          <p:nvSpPr>
            <p:cNvPr id="959" name="文本框 19"/>
            <p:cNvSpPr/>
            <p:nvPr/>
          </p:nvSpPr>
          <p:spPr>
            <a:xfrm>
              <a:off x="841212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TextBox 35"/>
            <p:cNvSpPr/>
            <p:nvPr/>
          </p:nvSpPr>
          <p:spPr>
            <a:xfrm>
              <a:off x="841320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1" name="组合 21"/>
          <p:cNvGrpSpPr/>
          <p:nvPr/>
        </p:nvGrpSpPr>
        <p:grpSpPr>
          <a:xfrm>
            <a:off x="1889280" y="4135320"/>
            <a:ext cx="2022480" cy="1066320"/>
            <a:chOff x="1889280" y="4135320"/>
            <a:chExt cx="2022480" cy="1066320"/>
          </a:xfrm>
        </p:grpSpPr>
        <p:sp>
          <p:nvSpPr>
            <p:cNvPr id="962" name="文本框 22"/>
            <p:cNvSpPr/>
            <p:nvPr/>
          </p:nvSpPr>
          <p:spPr>
            <a:xfrm>
              <a:off x="188928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TextBox 35"/>
            <p:cNvSpPr/>
            <p:nvPr/>
          </p:nvSpPr>
          <p:spPr>
            <a:xfrm>
              <a:off x="189036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4" name="组合 24"/>
          <p:cNvGrpSpPr/>
          <p:nvPr/>
        </p:nvGrpSpPr>
        <p:grpSpPr>
          <a:xfrm>
            <a:off x="8412120" y="4135320"/>
            <a:ext cx="2022480" cy="1066320"/>
            <a:chOff x="8412120" y="4135320"/>
            <a:chExt cx="2022480" cy="1066320"/>
          </a:xfrm>
        </p:grpSpPr>
        <p:sp>
          <p:nvSpPr>
            <p:cNvPr id="965" name="文本框 25"/>
            <p:cNvSpPr/>
            <p:nvPr/>
          </p:nvSpPr>
          <p:spPr>
            <a:xfrm>
              <a:off x="841212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TextBox 35"/>
            <p:cNvSpPr/>
            <p:nvPr/>
          </p:nvSpPr>
          <p:spPr>
            <a:xfrm>
              <a:off x="841320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68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任意多边形 23"/>
          <p:cNvSpPr/>
          <p:nvPr/>
        </p:nvSpPr>
        <p:spPr>
          <a:xfrm flipV="1">
            <a:off x="0" y="192600"/>
            <a:ext cx="12201480" cy="4081320"/>
          </a:xfrm>
          <a:custGeom>
            <a:avLst/>
            <a:gdLst/>
            <a:ahLst/>
            <a:rect l="l" t="t" r="r" b="b"/>
            <a:pathLst>
              <a:path w="12201987" h="4082606">
                <a:moveTo>
                  <a:pt x="804061" y="4082606"/>
                </a:moveTo>
                <a:lnTo>
                  <a:pt x="2047460" y="4082606"/>
                </a:lnTo>
                <a:lnTo>
                  <a:pt x="2623035" y="2638119"/>
                </a:lnTo>
                <a:lnTo>
                  <a:pt x="7328452" y="4082606"/>
                </a:lnTo>
                <a:lnTo>
                  <a:pt x="12201987" y="4082606"/>
                </a:lnTo>
                <a:lnTo>
                  <a:pt x="12201987" y="3915013"/>
                </a:lnTo>
                <a:lnTo>
                  <a:pt x="2132415" y="684186"/>
                </a:lnTo>
                <a:lnTo>
                  <a:pt x="804061" y="4082606"/>
                </a:lnTo>
                <a:close/>
                <a:moveTo>
                  <a:pt x="0" y="4082606"/>
                </a:moveTo>
                <a:lnTo>
                  <a:pt x="519489" y="4082606"/>
                </a:lnTo>
                <a:lnTo>
                  <a:pt x="1879555" y="603056"/>
                </a:lnTo>
                <a:lnTo>
                  <a:pt x="0" y="0"/>
                </a:lnTo>
                <a:lnTo>
                  <a:pt x="0" y="4082606"/>
                </a:lnTo>
                <a:close/>
              </a:path>
            </a:pathLst>
          </a:cu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任意多边形 21"/>
          <p:cNvSpPr/>
          <p:nvPr/>
        </p:nvSpPr>
        <p:spPr>
          <a:xfrm flipV="1" rot="10800000">
            <a:off x="-360" y="659160"/>
            <a:ext cx="12192120" cy="6761160"/>
          </a:xfrm>
          <a:custGeom>
            <a:avLst/>
            <a:gdLst/>
            <a:ahLst/>
            <a:rect l="l" t="t" r="r" b="b"/>
            <a:pathLst>
              <a:path w="12192000" h="6761344">
                <a:moveTo>
                  <a:pt x="3875109" y="1243330"/>
                </a:moveTo>
                <a:lnTo>
                  <a:pt x="1718260" y="6761344"/>
                </a:lnTo>
                <a:lnTo>
                  <a:pt x="12192000" y="6761344"/>
                </a:lnTo>
                <a:lnTo>
                  <a:pt x="12192000" y="3911808"/>
                </a:lnTo>
                <a:lnTo>
                  <a:pt x="3875109" y="1243330"/>
                </a:lnTo>
                <a:close/>
                <a:moveTo>
                  <a:pt x="0" y="0"/>
                </a:moveTo>
                <a:lnTo>
                  <a:pt x="0" y="6761344"/>
                </a:lnTo>
                <a:lnTo>
                  <a:pt x="1454836" y="6761344"/>
                </a:lnTo>
                <a:lnTo>
                  <a:pt x="3641039" y="116822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任意多边形 27"/>
          <p:cNvSpPr/>
          <p:nvPr/>
        </p:nvSpPr>
        <p:spPr>
          <a:xfrm>
            <a:off x="0" y="0"/>
            <a:ext cx="12201480" cy="193680"/>
          </a:xfrm>
          <a:custGeom>
            <a:avLst/>
            <a:gdLst/>
            <a:ahLst/>
            <a:rect l="l" t="t" r="r" b="b"/>
            <a:pathLst>
              <a:path w="12201987" h="193179">
                <a:moveTo>
                  <a:pt x="8831145" y="0"/>
                </a:moveTo>
                <a:lnTo>
                  <a:pt x="12201987" y="0"/>
                </a:lnTo>
                <a:lnTo>
                  <a:pt x="12201987" y="193179"/>
                </a:lnTo>
                <a:lnTo>
                  <a:pt x="8947310" y="193179"/>
                </a:lnTo>
                <a:lnTo>
                  <a:pt x="8831145" y="0"/>
                </a:lnTo>
                <a:close/>
                <a:moveTo>
                  <a:pt x="0" y="0"/>
                </a:moveTo>
                <a:lnTo>
                  <a:pt x="8516501" y="0"/>
                </a:lnTo>
                <a:lnTo>
                  <a:pt x="8632666" y="193179"/>
                </a:lnTo>
                <a:lnTo>
                  <a:pt x="0" y="19317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25"/>
          <p:cNvSpPr/>
          <p:nvPr/>
        </p:nvSpPr>
        <p:spPr>
          <a:xfrm rot="20510400">
            <a:off x="2641680" y="2800440"/>
            <a:ext cx="618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20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接连接符 13"/>
          <p:cNvSpPr/>
          <p:nvPr/>
        </p:nvSpPr>
        <p:spPr>
          <a:xfrm>
            <a:off x="4368960" y="1106640"/>
            <a:ext cx="0" cy="5157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14"/>
          <p:cNvSpPr/>
          <p:nvPr/>
        </p:nvSpPr>
        <p:spPr>
          <a:xfrm>
            <a:off x="4300560" y="194472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15"/>
          <p:cNvSpPr/>
          <p:nvPr/>
        </p:nvSpPr>
        <p:spPr>
          <a:xfrm>
            <a:off x="4300560" y="362124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椭圆 16"/>
          <p:cNvSpPr/>
          <p:nvPr/>
        </p:nvSpPr>
        <p:spPr>
          <a:xfrm>
            <a:off x="4300560" y="529920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2358360" y="1107000"/>
            <a:ext cx="1803960" cy="1803960"/>
            <a:chOff x="2358360" y="1107000"/>
            <a:chExt cx="1803960" cy="1803960"/>
          </a:xfrm>
        </p:grpSpPr>
        <p:sp>
          <p:nvSpPr>
            <p:cNvPr id="628" name="泪滴形 7"/>
            <p:cNvSpPr/>
            <p:nvPr/>
          </p:nvSpPr>
          <p:spPr>
            <a:xfrm rot="2700000">
              <a:off x="2622960" y="1370520"/>
              <a:ext cx="12747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文本框 17"/>
            <p:cNvSpPr/>
            <p:nvPr/>
          </p:nvSpPr>
          <p:spPr>
            <a:xfrm>
              <a:off x="2951640" y="18090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组合 28"/>
          <p:cNvGrpSpPr/>
          <p:nvPr/>
        </p:nvGrpSpPr>
        <p:grpSpPr>
          <a:xfrm>
            <a:off x="2358000" y="2783880"/>
            <a:ext cx="1805040" cy="1804680"/>
            <a:chOff x="2358000" y="2783880"/>
            <a:chExt cx="1805040" cy="1804680"/>
          </a:xfrm>
        </p:grpSpPr>
        <p:sp>
          <p:nvSpPr>
            <p:cNvPr id="631" name="泪滴形 9"/>
            <p:cNvSpPr/>
            <p:nvPr/>
          </p:nvSpPr>
          <p:spPr>
            <a:xfrm rot="2700000">
              <a:off x="2622240" y="3048120"/>
              <a:ext cx="127620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文本框 18"/>
            <p:cNvSpPr/>
            <p:nvPr/>
          </p:nvSpPr>
          <p:spPr>
            <a:xfrm>
              <a:off x="2954160" y="348588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组合 29"/>
          <p:cNvGrpSpPr/>
          <p:nvPr/>
        </p:nvGrpSpPr>
        <p:grpSpPr>
          <a:xfrm>
            <a:off x="2357640" y="4460040"/>
            <a:ext cx="1805040" cy="1805040"/>
            <a:chOff x="2357640" y="4460040"/>
            <a:chExt cx="1805040" cy="1805040"/>
          </a:xfrm>
        </p:grpSpPr>
        <p:sp>
          <p:nvSpPr>
            <p:cNvPr id="634" name="泪滴形 12"/>
            <p:cNvSpPr/>
            <p:nvPr/>
          </p:nvSpPr>
          <p:spPr>
            <a:xfrm rot="2700000">
              <a:off x="2621880" y="4724280"/>
              <a:ext cx="12765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文本框 19"/>
            <p:cNvSpPr/>
            <p:nvPr/>
          </p:nvSpPr>
          <p:spPr>
            <a:xfrm>
              <a:off x="2954160" y="51624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矩形 20"/>
          <p:cNvSpPr/>
          <p:nvPr/>
        </p:nvSpPr>
        <p:spPr>
          <a:xfrm>
            <a:off x="4756320" y="1592280"/>
            <a:ext cx="2730240" cy="37620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4635360" y="20448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4756320" y="3352680"/>
            <a:ext cx="2730240" cy="37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0"/>
          <p:cNvSpPr/>
          <p:nvPr/>
        </p:nvSpPr>
        <p:spPr>
          <a:xfrm>
            <a:off x="4635360" y="38070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4"/>
          <p:cNvSpPr/>
          <p:nvPr/>
        </p:nvSpPr>
        <p:spPr>
          <a:xfrm>
            <a:off x="4756320" y="4973760"/>
            <a:ext cx="2730240" cy="37764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635360" y="542772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43" name="矩形 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4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7"/>
          <p:cNvGrpSpPr/>
          <p:nvPr/>
        </p:nvGrpSpPr>
        <p:grpSpPr>
          <a:xfrm>
            <a:off x="3921120" y="1881360"/>
            <a:ext cx="2093760" cy="3398760"/>
            <a:chOff x="3921120" y="1881360"/>
            <a:chExt cx="2093760" cy="3398760"/>
          </a:xfrm>
        </p:grpSpPr>
        <p:sp>
          <p:nvSpPr>
            <p:cNvPr id="653" name="上箭头 9"/>
            <p:cNvSpPr/>
            <p:nvPr/>
          </p:nvSpPr>
          <p:spPr>
            <a:xfrm>
              <a:off x="4208400" y="203544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上箭头 12"/>
            <p:cNvSpPr/>
            <p:nvPr/>
          </p:nvSpPr>
          <p:spPr>
            <a:xfrm>
              <a:off x="3921120" y="188136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3"/>
          <p:cNvGrpSpPr/>
          <p:nvPr/>
        </p:nvGrpSpPr>
        <p:grpSpPr>
          <a:xfrm>
            <a:off x="6113520" y="2246040"/>
            <a:ext cx="2093760" cy="3398760"/>
            <a:chOff x="6113520" y="2246040"/>
            <a:chExt cx="2093760" cy="3398760"/>
          </a:xfrm>
        </p:grpSpPr>
        <p:sp>
          <p:nvSpPr>
            <p:cNvPr id="656" name="上箭头 14"/>
            <p:cNvSpPr/>
            <p:nvPr/>
          </p:nvSpPr>
          <p:spPr>
            <a:xfrm rot="10800000">
              <a:off x="6369120" y="236196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上箭头 15"/>
            <p:cNvSpPr/>
            <p:nvPr/>
          </p:nvSpPr>
          <p:spPr>
            <a:xfrm rot="10800000">
              <a:off x="6113520" y="224604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椭圆 16"/>
          <p:cNvSpPr/>
          <p:nvPr/>
        </p:nvSpPr>
        <p:spPr>
          <a:xfrm>
            <a:off x="6892920" y="4700520"/>
            <a:ext cx="50328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17"/>
          <p:cNvSpPr/>
          <p:nvPr/>
        </p:nvSpPr>
        <p:spPr>
          <a:xfrm>
            <a:off x="6892920" y="366084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8"/>
          <p:cNvSpPr/>
          <p:nvPr/>
        </p:nvSpPr>
        <p:spPr>
          <a:xfrm>
            <a:off x="6892920" y="262260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9"/>
          <p:cNvSpPr/>
          <p:nvPr/>
        </p:nvSpPr>
        <p:spPr>
          <a:xfrm>
            <a:off x="4702320" y="235908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20"/>
          <p:cNvSpPr/>
          <p:nvPr/>
        </p:nvSpPr>
        <p:spPr>
          <a:xfrm>
            <a:off x="4702320" y="344340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21"/>
          <p:cNvSpPr/>
          <p:nvPr/>
        </p:nvSpPr>
        <p:spPr>
          <a:xfrm>
            <a:off x="4732200" y="4527720"/>
            <a:ext cx="503280" cy="47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22"/>
          <p:cNvSpPr/>
          <p:nvPr/>
        </p:nvSpPr>
        <p:spPr>
          <a:xfrm>
            <a:off x="6558120" y="1749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23"/>
          <p:cNvSpPr/>
          <p:nvPr/>
        </p:nvSpPr>
        <p:spPr>
          <a:xfrm>
            <a:off x="4413240" y="5329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674640" y="203508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0"/>
          <p:cNvSpPr/>
          <p:nvPr/>
        </p:nvSpPr>
        <p:spPr>
          <a:xfrm>
            <a:off x="674640" y="325296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733320" y="453060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8510760" y="203508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0"/>
          <p:cNvSpPr/>
          <p:nvPr/>
        </p:nvSpPr>
        <p:spPr>
          <a:xfrm>
            <a:off x="8510760" y="325296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0"/>
          <p:cNvSpPr/>
          <p:nvPr/>
        </p:nvSpPr>
        <p:spPr>
          <a:xfrm>
            <a:off x="8569440" y="4530600"/>
            <a:ext cx="2884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7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7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组合 7" descr=""/>
          <p:cNvPicPr/>
          <p:nvPr/>
        </p:nvPicPr>
        <p:blipFill>
          <a:blip r:embed="rId1"/>
          <a:stretch/>
        </p:blipFill>
        <p:spPr>
          <a:xfrm>
            <a:off x="1700280" y="285264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17"/>
          <p:cNvSpPr/>
          <p:nvPr/>
        </p:nvSpPr>
        <p:spPr>
          <a:xfrm>
            <a:off x="2178000" y="365616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18"/>
          <p:cNvSpPr/>
          <p:nvPr/>
        </p:nvSpPr>
        <p:spPr>
          <a:xfrm>
            <a:off x="3638520" y="2957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4910040" y="36640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613584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7429680" y="3805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876780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0"/>
          <p:cNvSpPr/>
          <p:nvPr/>
        </p:nvSpPr>
        <p:spPr>
          <a:xfrm>
            <a:off x="187164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0"/>
          <p:cNvSpPr/>
          <p:nvPr/>
        </p:nvSpPr>
        <p:spPr>
          <a:xfrm>
            <a:off x="3063960" y="123840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4255920" y="4573440"/>
            <a:ext cx="1698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685008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0"/>
          <p:cNvSpPr/>
          <p:nvPr/>
        </p:nvSpPr>
        <p:spPr>
          <a:xfrm>
            <a:off x="5535720" y="128268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0"/>
          <p:cNvSpPr/>
          <p:nvPr/>
        </p:nvSpPr>
        <p:spPr>
          <a:xfrm>
            <a:off x="8104320" y="1231920"/>
            <a:ext cx="1697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96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0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组合 13"/>
          <p:cNvGrpSpPr/>
          <p:nvPr/>
        </p:nvGrpSpPr>
        <p:grpSpPr>
          <a:xfrm>
            <a:off x="1941120" y="2646000"/>
            <a:ext cx="1703520" cy="4212000"/>
            <a:chOff x="1941120" y="2646000"/>
            <a:chExt cx="1703520" cy="4212000"/>
          </a:xfrm>
        </p:grpSpPr>
        <p:sp>
          <p:nvSpPr>
            <p:cNvPr id="706" name="弧形 14"/>
            <p:cNvSpPr/>
            <p:nvPr/>
          </p:nvSpPr>
          <p:spPr>
            <a:xfrm rot="8206800">
              <a:off x="21553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接连接符 15"/>
            <p:cNvSpPr/>
            <p:nvPr/>
          </p:nvSpPr>
          <p:spPr>
            <a:xfrm>
              <a:off x="27414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8" name="椭圆 16"/>
          <p:cNvSpPr/>
          <p:nvPr/>
        </p:nvSpPr>
        <p:spPr>
          <a:xfrm>
            <a:off x="2286000" y="3044880"/>
            <a:ext cx="901800" cy="9018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组合 17"/>
          <p:cNvGrpSpPr/>
          <p:nvPr/>
        </p:nvGrpSpPr>
        <p:grpSpPr>
          <a:xfrm>
            <a:off x="3501720" y="1821600"/>
            <a:ext cx="1703160" cy="5036400"/>
            <a:chOff x="3501720" y="1821600"/>
            <a:chExt cx="1703160" cy="5036400"/>
          </a:xfrm>
        </p:grpSpPr>
        <p:sp>
          <p:nvSpPr>
            <p:cNvPr id="710" name="弧形 18"/>
            <p:cNvSpPr/>
            <p:nvPr/>
          </p:nvSpPr>
          <p:spPr>
            <a:xfrm rot="8206800">
              <a:off x="3715560" y="2104560"/>
              <a:ext cx="1274760" cy="113076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接连接符 19"/>
            <p:cNvSpPr/>
            <p:nvPr/>
          </p:nvSpPr>
          <p:spPr>
            <a:xfrm>
              <a:off x="4302000" y="3258000"/>
              <a:ext cx="0" cy="360000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椭圆 20"/>
          <p:cNvSpPr/>
          <p:nvPr/>
        </p:nvSpPr>
        <p:spPr>
          <a:xfrm>
            <a:off x="3757680" y="2013120"/>
            <a:ext cx="1087200" cy="108720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21"/>
          <p:cNvGrpSpPr/>
          <p:nvPr/>
        </p:nvGrpSpPr>
        <p:grpSpPr>
          <a:xfrm>
            <a:off x="4887720" y="2646000"/>
            <a:ext cx="1703520" cy="4212000"/>
            <a:chOff x="4887720" y="2646000"/>
            <a:chExt cx="1703520" cy="4212000"/>
          </a:xfrm>
        </p:grpSpPr>
        <p:sp>
          <p:nvSpPr>
            <p:cNvPr id="714" name="弧形 22"/>
            <p:cNvSpPr/>
            <p:nvPr/>
          </p:nvSpPr>
          <p:spPr>
            <a:xfrm rot="8206800">
              <a:off x="51019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23"/>
            <p:cNvSpPr/>
            <p:nvPr/>
          </p:nvSpPr>
          <p:spPr>
            <a:xfrm>
              <a:off x="56880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椭圆 24"/>
          <p:cNvSpPr/>
          <p:nvPr/>
        </p:nvSpPr>
        <p:spPr>
          <a:xfrm>
            <a:off x="5237280" y="3102120"/>
            <a:ext cx="901440" cy="9014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图片 25" descr=""/>
          <p:cNvPicPr/>
          <p:nvPr/>
        </p:nvPicPr>
        <p:blipFill>
          <a:blip r:embed="rId2"/>
          <a:stretch/>
        </p:blipFill>
        <p:spPr>
          <a:xfrm>
            <a:off x="5478480" y="33480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6" descr=""/>
          <p:cNvPicPr/>
          <p:nvPr/>
        </p:nvPicPr>
        <p:blipFill>
          <a:blip r:embed="rId3"/>
          <a:stretch/>
        </p:blipFill>
        <p:spPr>
          <a:xfrm>
            <a:off x="2446200" y="3236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7" descr=""/>
          <p:cNvPicPr/>
          <p:nvPr/>
        </p:nvPicPr>
        <p:blipFill>
          <a:blip r:embed="rId4"/>
          <a:stretch/>
        </p:blipFill>
        <p:spPr>
          <a:xfrm>
            <a:off x="3913200" y="2224080"/>
            <a:ext cx="776160" cy="77472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78"/>
          <p:cNvSpPr/>
          <p:nvPr/>
        </p:nvSpPr>
        <p:spPr>
          <a:xfrm>
            <a:off x="7283520" y="29988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流程图: 可选过程 29"/>
          <p:cNvSpPr/>
          <p:nvPr/>
        </p:nvSpPr>
        <p:spPr>
          <a:xfrm>
            <a:off x="7202520" y="2487600"/>
            <a:ext cx="12999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2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组合 7"/>
          <p:cNvGrpSpPr/>
          <p:nvPr/>
        </p:nvGrpSpPr>
        <p:grpSpPr>
          <a:xfrm>
            <a:off x="2297160" y="1922400"/>
            <a:ext cx="7074000" cy="3881520"/>
            <a:chOff x="2297160" y="1922400"/>
            <a:chExt cx="7074000" cy="3881520"/>
          </a:xfrm>
        </p:grpSpPr>
        <p:sp>
          <p:nvSpPr>
            <p:cNvPr id="733" name="矩形 9"/>
            <p:cNvSpPr/>
            <p:nvPr/>
          </p:nvSpPr>
          <p:spPr>
            <a:xfrm>
              <a:off x="2297160" y="3348720"/>
              <a:ext cx="2227680" cy="100440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12"/>
            <p:cNvSpPr/>
            <p:nvPr/>
          </p:nvSpPr>
          <p:spPr>
            <a:xfrm flipV="1">
              <a:off x="4524840" y="2742840"/>
              <a:ext cx="605160" cy="110772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13"/>
            <p:cNvSpPr/>
            <p:nvPr/>
          </p:nvSpPr>
          <p:spPr>
            <a:xfrm>
              <a:off x="4524840" y="3850920"/>
              <a:ext cx="605160" cy="109476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矩形 14"/>
            <p:cNvSpPr/>
            <p:nvPr/>
          </p:nvSpPr>
          <p:spPr>
            <a:xfrm>
              <a:off x="5130000" y="241488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矩形 15"/>
            <p:cNvSpPr/>
            <p:nvPr/>
          </p:nvSpPr>
          <p:spPr>
            <a:xfrm>
              <a:off x="5130000" y="463032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矩形 16"/>
            <p:cNvSpPr/>
            <p:nvPr/>
          </p:nvSpPr>
          <p:spPr>
            <a:xfrm>
              <a:off x="7705800" y="1922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17"/>
            <p:cNvSpPr/>
            <p:nvPr/>
          </p:nvSpPr>
          <p:spPr>
            <a:xfrm>
              <a:off x="7710120" y="295092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18"/>
            <p:cNvGrpSpPr/>
            <p:nvPr/>
          </p:nvGrpSpPr>
          <p:grpSpPr>
            <a:xfrm>
              <a:off x="6786000" y="4398120"/>
              <a:ext cx="914040" cy="1077480"/>
              <a:chOff x="6786000" y="4398120"/>
              <a:chExt cx="914040" cy="1077480"/>
            </a:xfrm>
          </p:grpSpPr>
          <p:sp>
            <p:nvSpPr>
              <p:cNvPr id="741" name="直接连接符 31"/>
              <p:cNvSpPr/>
              <p:nvPr/>
            </p:nvSpPr>
            <p:spPr>
              <a:xfrm flipV="1">
                <a:off x="6786000" y="4398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直接连接符 32"/>
              <p:cNvSpPr/>
              <p:nvPr/>
            </p:nvSpPr>
            <p:spPr>
              <a:xfrm>
                <a:off x="6786000" y="4939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矩形 19"/>
            <p:cNvSpPr/>
            <p:nvPr/>
          </p:nvSpPr>
          <p:spPr>
            <a:xfrm>
              <a:off x="7705800" y="4118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矩形 20"/>
            <p:cNvSpPr/>
            <p:nvPr/>
          </p:nvSpPr>
          <p:spPr>
            <a:xfrm>
              <a:off x="7710120" y="514728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文本框 21"/>
            <p:cNvSpPr/>
            <p:nvPr/>
          </p:nvSpPr>
          <p:spPr>
            <a:xfrm>
              <a:off x="2494080" y="3651120"/>
              <a:ext cx="18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6" name="组合 22"/>
            <p:cNvGrpSpPr/>
            <p:nvPr/>
          </p:nvGrpSpPr>
          <p:grpSpPr>
            <a:xfrm>
              <a:off x="6793560" y="2202120"/>
              <a:ext cx="914040" cy="1077480"/>
              <a:chOff x="6793560" y="2202120"/>
              <a:chExt cx="914040" cy="1077480"/>
            </a:xfrm>
          </p:grpSpPr>
          <p:sp>
            <p:nvSpPr>
              <p:cNvPr id="747" name="直接连接符 29"/>
              <p:cNvSpPr/>
              <p:nvPr/>
            </p:nvSpPr>
            <p:spPr>
              <a:xfrm flipV="1">
                <a:off x="6793560" y="2202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直接连接符 30"/>
              <p:cNvSpPr/>
              <p:nvPr/>
            </p:nvSpPr>
            <p:spPr>
              <a:xfrm>
                <a:off x="6793560" y="2743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9" name="TextBox 1"/>
            <p:cNvSpPr/>
            <p:nvPr/>
          </p:nvSpPr>
          <p:spPr>
            <a:xfrm>
              <a:off x="5186160" y="25124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Box 1"/>
            <p:cNvSpPr/>
            <p:nvPr/>
          </p:nvSpPr>
          <p:spPr>
            <a:xfrm>
              <a:off x="7759440" y="20325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TextBox 1"/>
            <p:cNvSpPr/>
            <p:nvPr/>
          </p:nvSpPr>
          <p:spPr>
            <a:xfrm>
              <a:off x="7732800" y="303300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TextBox 1"/>
            <p:cNvSpPr/>
            <p:nvPr/>
          </p:nvSpPr>
          <p:spPr>
            <a:xfrm>
              <a:off x="7719480" y="42159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TextBox 1"/>
            <p:cNvSpPr/>
            <p:nvPr/>
          </p:nvSpPr>
          <p:spPr>
            <a:xfrm>
              <a:off x="5184000" y="476748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1"/>
            <p:cNvSpPr/>
            <p:nvPr/>
          </p:nvSpPr>
          <p:spPr>
            <a:xfrm>
              <a:off x="7742880" y="52448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33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56" name="矩形 34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35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6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6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7" descr=""/>
          <p:cNvPicPr/>
          <p:nvPr/>
        </p:nvPicPr>
        <p:blipFill>
          <a:blip r:embed="rId1"/>
          <a:stretch/>
        </p:blipFill>
        <p:spPr>
          <a:xfrm>
            <a:off x="3833640" y="2097000"/>
            <a:ext cx="2202120" cy="2090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2"/>
          <a:stretch/>
        </p:blipFill>
        <p:spPr>
          <a:xfrm>
            <a:off x="6242040" y="2066760"/>
            <a:ext cx="2201760" cy="212112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12" descr=""/>
          <p:cNvPicPr/>
          <p:nvPr/>
        </p:nvPicPr>
        <p:blipFill>
          <a:blip r:embed="rId3"/>
          <a:stretch/>
        </p:blipFill>
        <p:spPr>
          <a:xfrm>
            <a:off x="1425600" y="2084400"/>
            <a:ext cx="2201760" cy="21034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3" descr=""/>
          <p:cNvPicPr/>
          <p:nvPr/>
        </p:nvPicPr>
        <p:blipFill>
          <a:blip r:embed="rId4"/>
          <a:stretch/>
        </p:blipFill>
        <p:spPr>
          <a:xfrm>
            <a:off x="8650440" y="2066760"/>
            <a:ext cx="2201760" cy="2121120"/>
          </a:xfrm>
          <a:prstGeom prst="rect">
            <a:avLst/>
          </a:prstGeom>
          <a:ln w="0">
            <a:noFill/>
          </a:ln>
        </p:spPr>
      </p:pic>
      <p:sp>
        <p:nvSpPr>
          <p:cNvPr id="769" name="椭圆 18"/>
          <p:cNvSpPr/>
          <p:nvPr/>
        </p:nvSpPr>
        <p:spPr>
          <a:xfrm>
            <a:off x="230040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9"/>
          <p:cNvSpPr/>
          <p:nvPr/>
        </p:nvSpPr>
        <p:spPr>
          <a:xfrm>
            <a:off x="4710240" y="1547640"/>
            <a:ext cx="4492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20"/>
          <p:cNvSpPr/>
          <p:nvPr/>
        </p:nvSpPr>
        <p:spPr>
          <a:xfrm>
            <a:off x="707724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椭圆 21"/>
          <p:cNvSpPr/>
          <p:nvPr/>
        </p:nvSpPr>
        <p:spPr>
          <a:xfrm>
            <a:off x="9513720" y="1547640"/>
            <a:ext cx="4510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0"/>
          <p:cNvSpPr/>
          <p:nvPr/>
        </p:nvSpPr>
        <p:spPr>
          <a:xfrm>
            <a:off x="1574640" y="4594320"/>
            <a:ext cx="190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0"/>
          <p:cNvSpPr/>
          <p:nvPr/>
        </p:nvSpPr>
        <p:spPr>
          <a:xfrm>
            <a:off x="1727280" y="474660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3970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6391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880920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图片 1" descr=""/>
          <p:cNvPicPr/>
          <p:nvPr/>
        </p:nvPicPr>
        <p:blipFill>
          <a:blip r:embed="rId5"/>
          <a:stretch/>
        </p:blipFill>
        <p:spPr>
          <a:xfrm>
            <a:off x="2360520" y="4187880"/>
            <a:ext cx="7547040" cy="208080"/>
          </a:xfrm>
          <a:prstGeom prst="rect">
            <a:avLst/>
          </a:prstGeom>
          <a:ln w="0">
            <a:noFill/>
          </a:ln>
        </p:spPr>
      </p:pic>
      <p:grpSp>
        <p:nvGrpSpPr>
          <p:cNvPr id="779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80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86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9" name="组合 7"/>
          <p:cNvGrpSpPr/>
          <p:nvPr/>
        </p:nvGrpSpPr>
        <p:grpSpPr>
          <a:xfrm>
            <a:off x="7263360" y="2398680"/>
            <a:ext cx="3442320" cy="3442320"/>
            <a:chOff x="7263360" y="2398680"/>
            <a:chExt cx="3442320" cy="3442320"/>
          </a:xfrm>
        </p:grpSpPr>
        <p:sp>
          <p:nvSpPr>
            <p:cNvPr id="790" name="同心圆 9"/>
            <p:cNvSpPr/>
            <p:nvPr/>
          </p:nvSpPr>
          <p:spPr>
            <a:xfrm>
              <a:off x="7683480" y="2819520"/>
              <a:ext cx="260208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空心弧 12"/>
            <p:cNvSpPr/>
            <p:nvPr/>
          </p:nvSpPr>
          <p:spPr>
            <a:xfrm rot="14741400">
              <a:off x="7683480" y="2818800"/>
              <a:ext cx="2601720" cy="260208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492477" y="281619"/>
                  </a:moveTo>
                  <a:cubicBezTo>
                    <a:pt x="880549" y="-26162"/>
                    <a:pt x="1409739" y="-86838"/>
                    <a:pt x="1857403" y="125119"/>
                  </a:cubicBezTo>
                  <a:cubicBezTo>
                    <a:pt x="2305067" y="337076"/>
                    <a:pt x="2593507" y="784877"/>
                    <a:pt x="2601368" y="1280122"/>
                  </a:cubicBezTo>
                  <a:lnTo>
                    <a:pt x="2120249" y="1287758"/>
                  </a:lnTo>
                  <a:cubicBezTo>
                    <a:pt x="2115296" y="975714"/>
                    <a:pt x="1933555" y="693563"/>
                    <a:pt x="1651491" y="560014"/>
                  </a:cubicBezTo>
                  <a:cubicBezTo>
                    <a:pt x="1369427" y="426464"/>
                    <a:pt x="1035994" y="464695"/>
                    <a:pt x="791478" y="658622"/>
                  </a:cubicBezTo>
                  <a:lnTo>
                    <a:pt x="492477" y="2816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1732680" y="2437200"/>
            <a:ext cx="3441960" cy="3441960"/>
            <a:chOff x="1732680" y="2437200"/>
            <a:chExt cx="3441960" cy="3441960"/>
          </a:xfrm>
        </p:grpSpPr>
        <p:sp>
          <p:nvSpPr>
            <p:cNvPr id="793" name="同心圆 14"/>
            <p:cNvSpPr/>
            <p:nvPr/>
          </p:nvSpPr>
          <p:spPr>
            <a:xfrm>
              <a:off x="2152800" y="285768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空心弧 15"/>
            <p:cNvSpPr/>
            <p:nvPr/>
          </p:nvSpPr>
          <p:spPr>
            <a:xfrm rot="14741400">
              <a:off x="2152800" y="285696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1848431" y="120912"/>
                  </a:moveTo>
                  <a:cubicBezTo>
                    <a:pt x="2300939" y="330957"/>
                    <a:pt x="2593450" y="781302"/>
                    <a:pt x="2601369" y="1280121"/>
                  </a:cubicBezTo>
                  <a:lnTo>
                    <a:pt x="2120249" y="1287758"/>
                  </a:lnTo>
                  <a:cubicBezTo>
                    <a:pt x="2115260" y="973462"/>
                    <a:pt x="1930954" y="689709"/>
                    <a:pt x="1645838" y="557363"/>
                  </a:cubicBezTo>
                  <a:lnTo>
                    <a:pt x="1848431" y="12091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5" name="组合 16"/>
          <p:cNvGrpSpPr/>
          <p:nvPr/>
        </p:nvGrpSpPr>
        <p:grpSpPr>
          <a:xfrm>
            <a:off x="5614920" y="3849480"/>
            <a:ext cx="908280" cy="441360"/>
            <a:chOff x="5614920" y="3849480"/>
            <a:chExt cx="908280" cy="441360"/>
          </a:xfrm>
        </p:grpSpPr>
        <p:sp>
          <p:nvSpPr>
            <p:cNvPr id="796" name="等腰三角形 17"/>
            <p:cNvSpPr/>
            <p:nvPr/>
          </p:nvSpPr>
          <p:spPr>
            <a:xfrm rot="5400000">
              <a:off x="6112440" y="388008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18"/>
            <p:cNvSpPr/>
            <p:nvPr/>
          </p:nvSpPr>
          <p:spPr>
            <a:xfrm rot="16200000">
              <a:off x="5584320" y="387972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8" name="文本框 19"/>
          <p:cNvSpPr/>
          <p:nvPr/>
        </p:nvSpPr>
        <p:spPr>
          <a:xfrm>
            <a:off x="3084480" y="393696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0"/>
          <p:cNvSpPr/>
          <p:nvPr/>
        </p:nvSpPr>
        <p:spPr>
          <a:xfrm>
            <a:off x="8543880" y="3859200"/>
            <a:ext cx="8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1"/>
          <p:cNvSpPr/>
          <p:nvPr/>
        </p:nvSpPr>
        <p:spPr>
          <a:xfrm>
            <a:off x="2886120" y="55879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22"/>
          <p:cNvSpPr/>
          <p:nvPr/>
        </p:nvSpPr>
        <p:spPr>
          <a:xfrm>
            <a:off x="8639280" y="55101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0"/>
          <p:cNvSpPr/>
          <p:nvPr/>
        </p:nvSpPr>
        <p:spPr>
          <a:xfrm>
            <a:off x="1577880" y="1871640"/>
            <a:ext cx="38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0"/>
          <p:cNvSpPr/>
          <p:nvPr/>
        </p:nvSpPr>
        <p:spPr>
          <a:xfrm>
            <a:off x="7002360" y="1870200"/>
            <a:ext cx="37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25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05" name="矩形 26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矩形 27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矩形 28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组合 29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09" name="矩形 30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矩形 31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32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15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同心圆 7"/>
          <p:cNvSpPr/>
          <p:nvPr/>
        </p:nvSpPr>
        <p:spPr>
          <a:xfrm>
            <a:off x="4753080" y="2467080"/>
            <a:ext cx="2523960" cy="2523960"/>
          </a:xfrm>
          <a:custGeom>
            <a:avLst/>
            <a:gdLst/>
            <a:ahLst/>
            <a:rect l="l" t="t" r="r" b="b"/>
            <a:pathLst>
              <a:path w="2524259" h="2524259">
                <a:moveTo>
                  <a:pt x="0" y="1262130"/>
                </a:moveTo>
                <a:cubicBezTo>
                  <a:pt x="0" y="565075"/>
                  <a:pt x="565075" y="0"/>
                  <a:pt x="1262130" y="0"/>
                </a:cubicBezTo>
                <a:cubicBezTo>
                  <a:pt x="1959185" y="0"/>
                  <a:pt x="2524260" y="565075"/>
                  <a:pt x="2524260" y="1262130"/>
                </a:cubicBezTo>
                <a:cubicBezTo>
                  <a:pt x="2524260" y="1959185"/>
                  <a:pt x="1959185" y="2524260"/>
                  <a:pt x="1262130" y="2524260"/>
                </a:cubicBezTo>
                <a:cubicBezTo>
                  <a:pt x="565075" y="2524260"/>
                  <a:pt x="0" y="1959185"/>
                  <a:pt x="0" y="1262130"/>
                </a:cubicBezTo>
                <a:close/>
                <a:moveTo>
                  <a:pt x="294833" y="1262130"/>
                </a:moveTo>
                <a:cubicBezTo>
                  <a:pt x="294833" y="1796353"/>
                  <a:pt x="727906" y="2229426"/>
                  <a:pt x="1262129" y="2229426"/>
                </a:cubicBezTo>
                <a:cubicBezTo>
                  <a:pt x="1796352" y="2229426"/>
                  <a:pt x="2229425" y="1796353"/>
                  <a:pt x="2229425" y="1262130"/>
                </a:cubicBezTo>
                <a:cubicBezTo>
                  <a:pt x="2229425" y="727907"/>
                  <a:pt x="1796352" y="294834"/>
                  <a:pt x="1262129" y="294834"/>
                </a:cubicBezTo>
                <a:cubicBezTo>
                  <a:pt x="727906" y="294834"/>
                  <a:pt x="294833" y="727907"/>
                  <a:pt x="294833" y="126213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任意多边形 9"/>
          <p:cNvSpPr/>
          <p:nvPr/>
        </p:nvSpPr>
        <p:spPr>
          <a:xfrm>
            <a:off x="6173640" y="2340000"/>
            <a:ext cx="368640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任意多边形 12"/>
          <p:cNvSpPr/>
          <p:nvPr/>
        </p:nvSpPr>
        <p:spPr>
          <a:xfrm rot="10800000">
            <a:off x="2168280" y="4593960"/>
            <a:ext cx="368604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13"/>
          <p:cNvSpPr/>
          <p:nvPr/>
        </p:nvSpPr>
        <p:spPr>
          <a:xfrm>
            <a:off x="7589880" y="24177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4"/>
          <p:cNvSpPr/>
          <p:nvPr/>
        </p:nvSpPr>
        <p:spPr>
          <a:xfrm>
            <a:off x="2806560" y="46702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0"/>
          <p:cNvSpPr/>
          <p:nvPr/>
        </p:nvSpPr>
        <p:spPr>
          <a:xfrm>
            <a:off x="2689200" y="2943360"/>
            <a:ext cx="186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0"/>
          <p:cNvSpPr/>
          <p:nvPr/>
        </p:nvSpPr>
        <p:spPr>
          <a:xfrm>
            <a:off x="7472520" y="3024360"/>
            <a:ext cx="186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17" descr=""/>
          <p:cNvPicPr/>
          <p:nvPr/>
        </p:nvPicPr>
        <p:blipFill>
          <a:blip r:embed="rId1"/>
          <a:stretch/>
        </p:blipFill>
        <p:spPr>
          <a:xfrm>
            <a:off x="5405400" y="3119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0:04:21Z</dcterms:created>
  <dc:creator>admin</dc:creator>
  <dc:description/>
  <dc:language>en-US</dc:language>
  <cp:lastModifiedBy>大蛀虫</cp:lastModifiedBy>
  <dcterms:modified xsi:type="dcterms:W3CDTF">2015-06-28T11:53:3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