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E3F-FFBD-4DFF-B100-4F1BBA9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97A-836E-4AB9-94C2-8635692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C9A22-38D2-454F-912C-A48534D8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4799-4743-4579-8EE4-7C6B7B8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CCAE-AA62-4E4C-9B0B-035624DB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D5792-DC22-4EC4-AF0A-3850694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CB99-0242-4DF2-B07D-7F47BF6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7963-B7EF-4693-AA77-4AB2224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69AE-2145-4676-8D7F-C5B501E0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3A2E3-5169-4EF5-B483-69514535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4716-5FFD-48F2-8E12-029AD5A3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2FBB0-D379-4D17-BD9A-ED29C003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708-8724-417E-A220-FBA7E1F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5CD9B-E956-48C6-BC47-82EE1D5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8B6EB-85BD-4DF7-8347-74CF84A7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65BF3-FCF5-4694-834F-E0792885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6A6C5-84E5-44E2-940E-5E7A9DF4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1E79C-E48A-4AAA-A5C5-E4A0FFD4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6CF9F-E95D-40B3-A3A4-DD0B0F8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6571D-5B02-49E4-A390-C0C1B7A8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02C07-A519-4A5F-9994-E3A3921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5581A-01A9-4F72-B547-DA27EC6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83A03-3EC7-4C68-8DCD-7435DC7A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110-792B-46C6-B0AA-163453D0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F1F79-50DB-47D2-B49A-A76E9A2A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88924-47A7-4C16-B69D-410D7E1F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292C-8C52-46AA-9AFF-7881E36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B25C6-4FF4-4805-B98F-1399771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45CDC-0D14-47B2-AA32-6DA0C962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26BD1-7590-47D7-B49D-12B375B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6B88-E538-402D-B585-E9EC53F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6D445-9D4D-4C34-9D15-28A7165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00FFF-5863-457C-8100-87C3A3F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1F1AC-32BE-4AAD-8803-F3D6449E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775-2650-441B-A849-D4894F31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6BC73-D9DC-4999-958F-37322D88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FA39F-D3E7-4F9C-92C0-531476FD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8080C-7167-48E1-8634-D48F7EEE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D98A1-7677-4E9E-9F09-48A12DC6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23CAD-CBBA-41DA-8EBE-6C47A3A2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7379F-C6CA-416C-A625-83AC53C7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59EFB-3B8C-4A82-A04A-69B4F840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E56F-1C20-4EF6-9D61-170C2B0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B939-FB33-47B4-878C-D0DFD0F9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AE537-82DF-4EE2-8D00-138B31B5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55C8-F05C-4C56-9F28-885DD155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3878B-D868-432E-81E5-C8F6090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66829-F0AA-4867-9FB2-D4A49F87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8338B-9D4D-4658-B550-6DFC8E7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8208-7095-449A-9C49-97360ED3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07562-4242-40E3-B7C1-DC5A8CE8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01589-4F8E-4D96-894B-0AC1CEC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868C6-0E3D-48AF-921F-21793D6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2C9C4-E8A4-4B68-8A6B-66A368C3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2EAFB-0F92-48AF-AEBE-2769BBB1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10E34-B28B-463A-8F31-19571AC5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3CC-3790-4156-A12B-86804653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E277C-C8BE-4CC8-8027-EAEE9E68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C3C50-F1C9-4937-A485-32766B0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03B82-9109-47A9-ADE3-A6C196D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B10E4-B123-4188-AE63-2B28317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B10DF-F1C1-42BC-A2DB-BF09E2CC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16065-98C4-44CA-9D30-67EBE80A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9E034-B261-4656-86C4-40004660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0B0E3-76BA-4A93-9D99-98FF6D95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90208-25D2-4BE7-AC6A-B3933466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B3AF9-D633-4570-B86F-E9CD6AE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66C-1451-4A93-99E3-B7E43DB5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B1DFC-DA00-4B28-8D0A-F08C2AC4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9DAAA-4ECE-4A7B-AF50-5743CA05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A7179-5762-4DBF-B4C1-0ED9064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A7497-6702-42EF-9414-B6B02FA3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CDBAD-717E-421A-BBA9-B2AA830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DB892-0698-4762-83D4-5F12F322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BC2B1-EBF7-49AE-9229-112615BF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9980C-4AFE-4A1C-8BD1-793A43C9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25E46-CC6E-49B9-820E-9F8EA603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373E6-294E-4F71-9ED8-53867C62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755-2A76-47DD-A651-A86CD298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E903E-CC70-48F6-BCCF-B184D85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C002B-4A03-42AE-AA50-82E72262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23578-3B99-42B2-AAC3-E5DE687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68E10-69CE-424A-988B-187D287E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C3BB9-83B6-4FEA-A595-F4A7A61B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4462B-050E-44AD-B171-113B27A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9EF8D-9F94-464B-847A-217CC0CC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43233-D170-439F-826B-D39D603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0315D-0CBD-40C7-A71D-D0625225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7278F-5472-42C2-983C-44DF4682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3A99-84B5-49A0-9A13-DC934FE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B3029-EE0D-4842-96B8-09DBC626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1A23-00A3-4215-914C-1D7A1B3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D54-0EAA-4643-A2C4-B708DE9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170-A06F-46A5-B554-6A00039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45D5-A92F-47B3-8ACF-40A461D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A5FB-DFE6-4666-AB34-EA925B2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60F3-DD39-4608-A308-5F48B582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266E-B567-4115-A359-61AF6DCE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B3F-F7E0-4D0D-B994-2FE1663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FB40-24BB-4C07-A3F0-DDD51ED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F07F-1994-4C6B-AFE0-116566F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3AF1-3774-4DD1-A97F-1421D1B2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D39-0C4E-4666-8F26-978C3A7F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5922-0A2C-4380-AC82-DF409A7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9915-38DF-467E-BECC-66DE191D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432B-55AD-4DCD-AFD3-DF9B06FB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C527-8F62-4EE0-84C2-21D6A0D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F1CF-26A4-43E2-93C7-CAD3C07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C2EA-FC2A-4A2E-8770-2492143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2B01-5EDD-4ADA-ABB0-1FCDB2F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9AF3-D404-4315-B306-3587184E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DAC7-20B1-46B7-9C95-9D71A5F4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C303-8D81-4FA3-B824-0F392C04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110-E924-4DB4-BC60-4A00C3F1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CCC4-5B65-46C6-86BB-F71E106B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B94D-512E-4A26-BEE8-EF2923FD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AA5A-744F-422C-8AED-F94362B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D7B7-771E-4016-A16B-1B2C899A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0583-6192-4560-862B-9A19D581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AEE8-6D04-4563-8734-6350D72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107E-85C7-4296-8342-F92F059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A6A7-7A0F-4E84-A60D-53C8697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239A-6075-4BF8-8367-D2F405DB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2385-EE09-43C6-B6FA-DD04B2E5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656-3367-49CC-90DC-703C3930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B9884-D12D-4161-A5E2-9F701138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772F-E011-4105-A97B-909D3443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D38C2-E923-4D32-9930-FB9CF2B4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6B49-7803-450C-B13A-D9C07555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A9ED-A06F-4B49-8C08-A6C8695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C8AE-D606-4129-B3BB-1B389770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18DB-ABC5-4988-8DD5-D6953F46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CB8A-4E93-4C66-9AF9-ECE6931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475D-7453-4A48-B5A3-965F886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11D1-FF5F-46B8-8E1B-CBF19D7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F06-3378-4E28-B33B-D615013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1E3CA-BD12-48D6-84D1-D2A1D470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09ED-C09C-417C-B95B-ADA8FB5B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3534C-AD86-43AF-8C39-FE4F6D5A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55EDB-9D96-4AD8-84F8-9BBBEF7A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DCF3-2994-46F4-8D33-D12F020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7444-1CC1-473F-BB3E-D676EFEC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F8F8-2FD8-40B9-9602-A70A4CF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0F972-3863-4F41-AB8D-CD278CB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AB49-0A3A-407B-9D60-8DFA6A3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B6C9-FA89-45B8-B8E2-52542C3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E46-FF36-4271-8D73-3B290EE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492D-9D8A-4ABE-AD18-B7D0537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FC79-7FCF-49C6-B3F1-14069BE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144F-0C94-4526-90FA-8A0047B3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5232B-0F72-4F6F-9473-2194ED2F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DF55D-B4F6-4ACE-8422-2326107B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699C-8AFC-4564-8AF4-D85483E2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9014-DC96-46A4-B7E8-DE154EE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564BE-41E0-43E9-B85D-33076284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0AB8F-DC08-4E63-8596-8ABF4B4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D9F56-104D-4286-BE33-BADED6C4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329-80FC-4E3B-BFA1-DEB810B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D3A6-5E34-4383-84AD-1FA7F6F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DD8A-7572-414E-9C27-F0F7B68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8A0D-4175-4FE8-9CA7-79782C4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88A6-A117-40F4-810C-D349C86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0B87-9604-4DF6-87BF-DD32808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FAEC9-117A-45F3-AB64-3A06F930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5347-A07E-49DC-B5BD-02F59DC2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38D41-C2FD-4F92-9A7F-93E81AA8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6A5E-B2C2-41C7-A457-A3FC5DF9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9519-B8DB-45AC-8203-C7E6071C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760F-A340-41D9-9ADF-570F79510B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8D8-68BD-475A-918B-E00441AB23D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8A38-DD88-4A4D-9983-1B47ADABD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393-DCBA-488E-8E2D-D8EDC7F87A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1260-C94C-4C62-A770-683BBA9D29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955-7146-474B-AAEC-4611F4C937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DA89-35A6-470D-AFD1-E6E152125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DEEA-6376-4FAA-B2CE-B7809A62F81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3CF-899A-49CF-AEBA-99DF8B91A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BD32-93D5-4D6D-9D36-CAF5478D967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8E59-6C61-4454-99F8-51DA30932B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2EA-AC7E-47BA-8300-24BD78DADD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55F4-B4ED-479B-A228-8B78B5B219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7B4A-6380-499F-AEC0-BD01368C8C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9F20-44D8-4D55-810A-F3E7D1DA79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4DC5-8840-41FD-A196-AE548D09C0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02D-DA2F-44E8-A776-6BF4F3BC7D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589-2268-4E33-A2F3-0737B3B250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D75-B926-4727-A794-0501DDF7E5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367-C95C-49EE-B5CF-DB752817E7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9AC5-A157-4B2C-8982-C85464B031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9E9-D516-4B07-8D70-A293C47A6D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E04E-D544-4C14-926D-B467879808C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428-0784-485D-9561-4BA55DFEE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B1FF-EA6F-483C-95C6-F7D31A4167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A413-6BA8-4646-A980-2206C0AED5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3" descr=""/>
          <p:cNvPicPr/>
          <p:nvPr/>
        </p:nvPicPr>
        <p:blipFill>
          <a:blip r:embed="rId2"/>
          <a:srcRect l="33460" t="4937" r="0" b="34328"/>
          <a:stretch/>
        </p:blipFill>
        <p:spPr>
          <a:xfrm>
            <a:off x="-133200" y="2827440"/>
            <a:ext cx="6721200" cy="37526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1"/>
          <p:cNvSpPr/>
          <p:nvPr/>
        </p:nvSpPr>
        <p:spPr>
          <a:xfrm>
            <a:off x="2901960" y="1681200"/>
            <a:ext cx="652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商务清新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22"/>
          <p:cNvSpPr/>
          <p:nvPr/>
        </p:nvSpPr>
        <p:spPr>
          <a:xfrm>
            <a:off x="2901960" y="244800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3"/>
          <a:stretch/>
        </p:blipFill>
        <p:spPr>
          <a:xfrm>
            <a:off x="1477800" y="1569960"/>
            <a:ext cx="154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椭圆 7"/>
          <p:cNvSpPr/>
          <p:nvPr/>
        </p:nvSpPr>
        <p:spPr>
          <a:xfrm>
            <a:off x="2182680" y="170964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椭圆 9"/>
          <p:cNvSpPr/>
          <p:nvPr/>
        </p:nvSpPr>
        <p:spPr>
          <a:xfrm>
            <a:off x="1249200" y="2975040"/>
            <a:ext cx="1265400" cy="126684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椭圆 12"/>
          <p:cNvSpPr/>
          <p:nvPr/>
        </p:nvSpPr>
        <p:spPr>
          <a:xfrm>
            <a:off x="2182680" y="427356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6788160" y="2343240"/>
            <a:ext cx="430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组合 14" descr=""/>
          <p:cNvPicPr/>
          <p:nvPr/>
        </p:nvPicPr>
        <p:blipFill>
          <a:blip r:embed="rId1"/>
          <a:stretch/>
        </p:blipFill>
        <p:spPr>
          <a:xfrm>
            <a:off x="3255840" y="2365200"/>
            <a:ext cx="2863800" cy="2517840"/>
          </a:xfrm>
          <a:prstGeom prst="rect">
            <a:avLst/>
          </a:prstGeom>
          <a:ln w="0">
            <a:noFill/>
          </a:ln>
        </p:spPr>
      </p:pic>
      <p:sp>
        <p:nvSpPr>
          <p:cNvPr id="837" name="文本框 21"/>
          <p:cNvSpPr/>
          <p:nvPr/>
        </p:nvSpPr>
        <p:spPr>
          <a:xfrm>
            <a:off x="6757920" y="197316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0"/>
          <p:cNvSpPr/>
          <p:nvPr/>
        </p:nvSpPr>
        <p:spPr>
          <a:xfrm>
            <a:off x="6818400" y="364176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23"/>
          <p:cNvSpPr/>
          <p:nvPr/>
        </p:nvSpPr>
        <p:spPr>
          <a:xfrm>
            <a:off x="6786720" y="3271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0"/>
          <p:cNvSpPr/>
          <p:nvPr/>
        </p:nvSpPr>
        <p:spPr>
          <a:xfrm>
            <a:off x="6818400" y="500220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25"/>
          <p:cNvSpPr/>
          <p:nvPr/>
        </p:nvSpPr>
        <p:spPr>
          <a:xfrm>
            <a:off x="6786720" y="46324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五角星 26"/>
          <p:cNvSpPr/>
          <p:nvPr/>
        </p:nvSpPr>
        <p:spPr>
          <a:xfrm>
            <a:off x="2625840" y="238284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27"/>
          <p:cNvSpPr/>
          <p:nvPr/>
        </p:nvSpPr>
        <p:spPr>
          <a:xfrm>
            <a:off x="2516040" y="1920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五角星 28"/>
          <p:cNvSpPr/>
          <p:nvPr/>
        </p:nvSpPr>
        <p:spPr>
          <a:xfrm>
            <a:off x="1650960" y="3622680"/>
            <a:ext cx="38268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29"/>
          <p:cNvSpPr/>
          <p:nvPr/>
        </p:nvSpPr>
        <p:spPr>
          <a:xfrm>
            <a:off x="154296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五角星 30"/>
          <p:cNvSpPr/>
          <p:nvPr/>
        </p:nvSpPr>
        <p:spPr>
          <a:xfrm>
            <a:off x="2637000" y="495792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1"/>
          <p:cNvSpPr/>
          <p:nvPr/>
        </p:nvSpPr>
        <p:spPr>
          <a:xfrm>
            <a:off x="2527200" y="4495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8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49" name="矩形 33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矩形 34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矩形 35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组合 36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53" name="矩形 37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矩形 38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39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5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组合 7"/>
          <p:cNvGrpSpPr/>
          <p:nvPr/>
        </p:nvGrpSpPr>
        <p:grpSpPr>
          <a:xfrm>
            <a:off x="1127160" y="1801800"/>
            <a:ext cx="2984400" cy="2840040"/>
            <a:chOff x="1127160" y="1801800"/>
            <a:chExt cx="2984400" cy="2840040"/>
          </a:xfrm>
        </p:grpSpPr>
        <p:sp>
          <p:nvSpPr>
            <p:cNvPr id="863" name="椭圆形标注 9"/>
            <p:cNvSpPr/>
            <p:nvPr/>
          </p:nvSpPr>
          <p:spPr>
            <a:xfrm>
              <a:off x="1127160" y="1801800"/>
              <a:ext cx="2984400" cy="2840040"/>
            </a:xfrm>
            <a:prstGeom prst="wedgeEllipseCallout">
              <a:avLst>
                <a:gd name="adj1" fmla="val -17379"/>
                <a:gd name="adj2" fmla="val 5977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4" name="图片 12" descr=""/>
            <p:cNvPicPr/>
            <p:nvPr/>
          </p:nvPicPr>
          <p:blipFill>
            <a:blip r:embed="rId1"/>
            <a:stretch/>
          </p:blipFill>
          <p:spPr>
            <a:xfrm>
              <a:off x="1487160" y="2108520"/>
              <a:ext cx="2237760" cy="22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组合 13"/>
          <p:cNvGrpSpPr/>
          <p:nvPr/>
        </p:nvGrpSpPr>
        <p:grpSpPr>
          <a:xfrm>
            <a:off x="5572080" y="3375000"/>
            <a:ext cx="5254560" cy="204840"/>
            <a:chOff x="5572080" y="3375000"/>
            <a:chExt cx="5254560" cy="204840"/>
          </a:xfrm>
        </p:grpSpPr>
        <p:sp>
          <p:nvSpPr>
            <p:cNvPr id="866" name="矩形 14"/>
            <p:cNvSpPr/>
            <p:nvPr/>
          </p:nvSpPr>
          <p:spPr>
            <a:xfrm>
              <a:off x="5572080" y="3375000"/>
              <a:ext cx="5254560" cy="204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矩形 15"/>
            <p:cNvSpPr/>
            <p:nvPr/>
          </p:nvSpPr>
          <p:spPr>
            <a:xfrm>
              <a:off x="5572080" y="3375000"/>
              <a:ext cx="4185720" cy="2048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组合 16"/>
          <p:cNvGrpSpPr/>
          <p:nvPr/>
        </p:nvGrpSpPr>
        <p:grpSpPr>
          <a:xfrm>
            <a:off x="5572080" y="4060800"/>
            <a:ext cx="5254560" cy="206280"/>
            <a:chOff x="5572080" y="4060800"/>
            <a:chExt cx="5254560" cy="206280"/>
          </a:xfrm>
        </p:grpSpPr>
        <p:sp>
          <p:nvSpPr>
            <p:cNvPr id="869" name="矩形 17"/>
            <p:cNvSpPr/>
            <p:nvPr/>
          </p:nvSpPr>
          <p:spPr>
            <a:xfrm>
              <a:off x="5572080" y="40608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矩形 18"/>
            <p:cNvSpPr/>
            <p:nvPr/>
          </p:nvSpPr>
          <p:spPr>
            <a:xfrm>
              <a:off x="5572080" y="4060800"/>
              <a:ext cx="3374280" cy="206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1" name="组合 19"/>
          <p:cNvGrpSpPr/>
          <p:nvPr/>
        </p:nvGrpSpPr>
        <p:grpSpPr>
          <a:xfrm>
            <a:off x="5572080" y="4746600"/>
            <a:ext cx="5254560" cy="206280"/>
            <a:chOff x="5572080" y="4746600"/>
            <a:chExt cx="5254560" cy="206280"/>
          </a:xfrm>
        </p:grpSpPr>
        <p:sp>
          <p:nvSpPr>
            <p:cNvPr id="872" name="矩形 20"/>
            <p:cNvSpPr/>
            <p:nvPr/>
          </p:nvSpPr>
          <p:spPr>
            <a:xfrm>
              <a:off x="5572080" y="47466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矩形 21"/>
            <p:cNvSpPr/>
            <p:nvPr/>
          </p:nvSpPr>
          <p:spPr>
            <a:xfrm>
              <a:off x="5572080" y="4746600"/>
              <a:ext cx="4803840" cy="206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4" name="组合 22"/>
          <p:cNvGrpSpPr/>
          <p:nvPr/>
        </p:nvGrpSpPr>
        <p:grpSpPr>
          <a:xfrm>
            <a:off x="5572080" y="5630760"/>
            <a:ext cx="5254560" cy="206640"/>
            <a:chOff x="5572080" y="5630760"/>
            <a:chExt cx="5254560" cy="206640"/>
          </a:xfrm>
        </p:grpSpPr>
        <p:sp>
          <p:nvSpPr>
            <p:cNvPr id="875" name="矩形 23"/>
            <p:cNvSpPr/>
            <p:nvPr/>
          </p:nvSpPr>
          <p:spPr>
            <a:xfrm>
              <a:off x="5572080" y="5630760"/>
              <a:ext cx="5254560" cy="20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矩形 24"/>
            <p:cNvSpPr/>
            <p:nvPr/>
          </p:nvSpPr>
          <p:spPr>
            <a:xfrm>
              <a:off x="5572080" y="5630760"/>
              <a:ext cx="4482000" cy="20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7" name="TextBox 10"/>
          <p:cNvSpPr/>
          <p:nvPr/>
        </p:nvSpPr>
        <p:spPr>
          <a:xfrm>
            <a:off x="5572080" y="215280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26"/>
          <p:cNvSpPr/>
          <p:nvPr/>
        </p:nvSpPr>
        <p:spPr>
          <a:xfrm>
            <a:off x="5572080" y="1844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27"/>
          <p:cNvSpPr/>
          <p:nvPr/>
        </p:nvSpPr>
        <p:spPr>
          <a:xfrm>
            <a:off x="5572080" y="29494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28"/>
          <p:cNvSpPr/>
          <p:nvPr/>
        </p:nvSpPr>
        <p:spPr>
          <a:xfrm>
            <a:off x="5572080" y="36860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29"/>
          <p:cNvSpPr/>
          <p:nvPr/>
        </p:nvSpPr>
        <p:spPr>
          <a:xfrm>
            <a:off x="5572080" y="43797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30"/>
          <p:cNvSpPr/>
          <p:nvPr/>
        </p:nvSpPr>
        <p:spPr>
          <a:xfrm>
            <a:off x="5495760" y="5264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图片 33" descr=""/>
          <p:cNvPicPr/>
          <p:nvPr/>
        </p:nvPicPr>
        <p:blipFill>
          <a:blip r:embed="rId2"/>
          <a:stretch/>
        </p:blipFill>
        <p:spPr>
          <a:xfrm>
            <a:off x="1011240" y="539604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34" descr=""/>
          <p:cNvPicPr/>
          <p:nvPr/>
        </p:nvPicPr>
        <p:blipFill>
          <a:blip r:embed="rId3"/>
          <a:stretch/>
        </p:blipFill>
        <p:spPr>
          <a:xfrm>
            <a:off x="1927080" y="539604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35" descr=""/>
          <p:cNvPicPr/>
          <p:nvPr/>
        </p:nvPicPr>
        <p:blipFill>
          <a:blip r:embed="rId4"/>
          <a:stretch/>
        </p:blipFill>
        <p:spPr>
          <a:xfrm>
            <a:off x="2843280" y="5396040"/>
            <a:ext cx="514440" cy="512640"/>
          </a:xfrm>
          <a:prstGeom prst="rect">
            <a:avLst/>
          </a:prstGeom>
          <a:ln w="0">
            <a:noFill/>
          </a:ln>
        </p:spPr>
      </p:pic>
      <p:sp>
        <p:nvSpPr>
          <p:cNvPr id="886" name="文本框 36"/>
          <p:cNvSpPr/>
          <p:nvPr/>
        </p:nvSpPr>
        <p:spPr>
          <a:xfrm>
            <a:off x="1731960" y="4962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88" name="矩形 37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矩形 38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矩形 39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94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7"/>
          <p:cNvGrpSpPr/>
          <p:nvPr/>
        </p:nvGrpSpPr>
        <p:grpSpPr>
          <a:xfrm>
            <a:off x="1481040" y="1622520"/>
            <a:ext cx="4533840" cy="4198680"/>
            <a:chOff x="1481040" y="1622520"/>
            <a:chExt cx="4533840" cy="4198680"/>
          </a:xfrm>
        </p:grpSpPr>
        <p:pic>
          <p:nvPicPr>
            <p:cNvPr id="898" name="图片 9" descr=""/>
            <p:cNvPicPr/>
            <p:nvPr/>
          </p:nvPicPr>
          <p:blipFill>
            <a:blip r:embed="rId1"/>
            <a:srcRect l="63386" t="0" r="0" b="0"/>
            <a:stretch/>
          </p:blipFill>
          <p:spPr>
            <a:xfrm>
              <a:off x="1481040" y="1622520"/>
              <a:ext cx="24602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矩形 12"/>
            <p:cNvSpPr/>
            <p:nvPr/>
          </p:nvSpPr>
          <p:spPr>
            <a:xfrm>
              <a:off x="3941280" y="1622520"/>
              <a:ext cx="2073600" cy="419868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13"/>
          <p:cNvGrpSpPr/>
          <p:nvPr/>
        </p:nvGrpSpPr>
        <p:grpSpPr>
          <a:xfrm>
            <a:off x="6554880" y="1622520"/>
            <a:ext cx="4521240" cy="4198680"/>
            <a:chOff x="6554880" y="1622520"/>
            <a:chExt cx="4521240" cy="4198680"/>
          </a:xfrm>
        </p:grpSpPr>
        <p:pic>
          <p:nvPicPr>
            <p:cNvPr id="901" name="图片 14" descr=""/>
            <p:cNvPicPr/>
            <p:nvPr/>
          </p:nvPicPr>
          <p:blipFill>
            <a:blip r:embed="rId2"/>
            <a:srcRect l="63576" t="0" r="0" b="0"/>
            <a:stretch/>
          </p:blipFill>
          <p:spPr>
            <a:xfrm>
              <a:off x="6554880" y="1622520"/>
              <a:ext cx="244728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矩形 15"/>
            <p:cNvSpPr/>
            <p:nvPr/>
          </p:nvSpPr>
          <p:spPr>
            <a:xfrm>
              <a:off x="9002160" y="1622520"/>
              <a:ext cx="2073960" cy="4198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TextBox 10"/>
          <p:cNvSpPr/>
          <p:nvPr/>
        </p:nvSpPr>
        <p:spPr>
          <a:xfrm>
            <a:off x="4176720" y="236232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17"/>
          <p:cNvSpPr/>
          <p:nvPr/>
        </p:nvSpPr>
        <p:spPr>
          <a:xfrm>
            <a:off x="417672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417024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19"/>
          <p:cNvSpPr/>
          <p:nvPr/>
        </p:nvSpPr>
        <p:spPr>
          <a:xfrm>
            <a:off x="4170240" y="37782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0"/>
          <p:cNvSpPr/>
          <p:nvPr/>
        </p:nvSpPr>
        <p:spPr>
          <a:xfrm>
            <a:off x="9398160" y="2362320"/>
            <a:ext cx="166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21"/>
          <p:cNvSpPr/>
          <p:nvPr/>
        </p:nvSpPr>
        <p:spPr>
          <a:xfrm>
            <a:off x="939816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0"/>
          <p:cNvSpPr/>
          <p:nvPr/>
        </p:nvSpPr>
        <p:spPr>
          <a:xfrm>
            <a:off x="939168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23"/>
          <p:cNvSpPr/>
          <p:nvPr/>
        </p:nvSpPr>
        <p:spPr>
          <a:xfrm>
            <a:off x="9391680" y="3778200"/>
            <a:ext cx="11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24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12" name="矩形 25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18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0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直接连接符 7"/>
          <p:cNvSpPr/>
          <p:nvPr/>
        </p:nvSpPr>
        <p:spPr>
          <a:xfrm flipV="1">
            <a:off x="2828880" y="5660640"/>
            <a:ext cx="1870200" cy="561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9"/>
          <p:cNvSpPr/>
          <p:nvPr/>
        </p:nvSpPr>
        <p:spPr>
          <a:xfrm flipH="1" flipV="1">
            <a:off x="3911760" y="5181480"/>
            <a:ext cx="801360" cy="4651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12"/>
          <p:cNvSpPr/>
          <p:nvPr/>
        </p:nvSpPr>
        <p:spPr>
          <a:xfrm flipV="1">
            <a:off x="3897360" y="4000680"/>
            <a:ext cx="2630520" cy="1180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直接连接符 13"/>
          <p:cNvSpPr/>
          <p:nvPr/>
        </p:nvSpPr>
        <p:spPr>
          <a:xfrm>
            <a:off x="6527880" y="4000680"/>
            <a:ext cx="722160" cy="661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14"/>
          <p:cNvSpPr/>
          <p:nvPr/>
        </p:nvSpPr>
        <p:spPr>
          <a:xfrm flipV="1">
            <a:off x="7250040" y="3606840"/>
            <a:ext cx="2049480" cy="10555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椭圆 15"/>
          <p:cNvSpPr/>
          <p:nvPr/>
        </p:nvSpPr>
        <p:spPr>
          <a:xfrm>
            <a:off x="4635360" y="5597640"/>
            <a:ext cx="12708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椭圆 16"/>
          <p:cNvSpPr/>
          <p:nvPr/>
        </p:nvSpPr>
        <p:spPr>
          <a:xfrm>
            <a:off x="3882960" y="5132520"/>
            <a:ext cx="12564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椭圆 17"/>
          <p:cNvSpPr/>
          <p:nvPr/>
        </p:nvSpPr>
        <p:spPr>
          <a:xfrm>
            <a:off x="6464160" y="396396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椭圆 18"/>
          <p:cNvSpPr/>
          <p:nvPr/>
        </p:nvSpPr>
        <p:spPr>
          <a:xfrm>
            <a:off x="7186680" y="460692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椭圆 19"/>
          <p:cNvSpPr/>
          <p:nvPr/>
        </p:nvSpPr>
        <p:spPr>
          <a:xfrm>
            <a:off x="2751120" y="617364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椭圆 20"/>
          <p:cNvSpPr/>
          <p:nvPr/>
        </p:nvSpPr>
        <p:spPr>
          <a:xfrm>
            <a:off x="9236160" y="352908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标注 21"/>
          <p:cNvSpPr/>
          <p:nvPr/>
        </p:nvSpPr>
        <p:spPr>
          <a:xfrm>
            <a:off x="2630520" y="5568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标注 22"/>
          <p:cNvSpPr/>
          <p:nvPr/>
        </p:nvSpPr>
        <p:spPr>
          <a:xfrm>
            <a:off x="4549680" y="5046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标注 23"/>
          <p:cNvSpPr/>
          <p:nvPr/>
        </p:nvSpPr>
        <p:spPr>
          <a:xfrm>
            <a:off x="6319800" y="338940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矩形标注 24"/>
          <p:cNvSpPr/>
          <p:nvPr/>
        </p:nvSpPr>
        <p:spPr>
          <a:xfrm>
            <a:off x="9097920" y="29336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矩形标注 25"/>
          <p:cNvSpPr/>
          <p:nvPr/>
        </p:nvSpPr>
        <p:spPr>
          <a:xfrm>
            <a:off x="7165800" y="4905360"/>
            <a:ext cx="1027440" cy="366840"/>
          </a:xfrm>
          <a:prstGeom prst="wedgeRectCallout">
            <a:avLst>
              <a:gd name="adj1" fmla="val -37268"/>
              <a:gd name="adj2" fmla="val -8629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标注 26"/>
          <p:cNvSpPr/>
          <p:nvPr/>
        </p:nvSpPr>
        <p:spPr>
          <a:xfrm>
            <a:off x="3657600" y="4368960"/>
            <a:ext cx="1027080" cy="368280"/>
          </a:xfrm>
          <a:prstGeom prst="wedgeRectCallout">
            <a:avLst>
              <a:gd name="adj1" fmla="val -27680"/>
              <a:gd name="adj2" fmla="val 10496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0"/>
          <p:cNvSpPr/>
          <p:nvPr/>
        </p:nvSpPr>
        <p:spPr>
          <a:xfrm>
            <a:off x="1874880" y="1976400"/>
            <a:ext cx="836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28"/>
          <p:cNvSpPr/>
          <p:nvPr/>
        </p:nvSpPr>
        <p:spPr>
          <a:xfrm>
            <a:off x="1868400" y="1560600"/>
            <a:ext cx="18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0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41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47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接连接符 7"/>
          <p:cNvSpPr/>
          <p:nvPr/>
        </p:nvSpPr>
        <p:spPr>
          <a:xfrm>
            <a:off x="1920960" y="3848040"/>
            <a:ext cx="85136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椭圆 9"/>
          <p:cNvSpPr/>
          <p:nvPr/>
        </p:nvSpPr>
        <p:spPr>
          <a:xfrm>
            <a:off x="4406760" y="2932200"/>
            <a:ext cx="1816200" cy="181584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椭圆 12"/>
          <p:cNvSpPr/>
          <p:nvPr/>
        </p:nvSpPr>
        <p:spPr>
          <a:xfrm>
            <a:off x="6040440" y="2932200"/>
            <a:ext cx="1816200" cy="1815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13"/>
          <p:cNvSpPr/>
          <p:nvPr/>
        </p:nvSpPr>
        <p:spPr>
          <a:xfrm>
            <a:off x="4527720" y="36561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14"/>
          <p:cNvSpPr/>
          <p:nvPr/>
        </p:nvSpPr>
        <p:spPr>
          <a:xfrm>
            <a:off x="6161040" y="366228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5"/>
          <p:cNvGrpSpPr/>
          <p:nvPr/>
        </p:nvGrpSpPr>
        <p:grpSpPr>
          <a:xfrm>
            <a:off x="1889280" y="2214720"/>
            <a:ext cx="2022480" cy="1066320"/>
            <a:chOff x="1889280" y="2214720"/>
            <a:chExt cx="2022480" cy="1066320"/>
          </a:xfrm>
        </p:grpSpPr>
        <p:sp>
          <p:nvSpPr>
            <p:cNvPr id="956" name="文本框 16"/>
            <p:cNvSpPr/>
            <p:nvPr/>
          </p:nvSpPr>
          <p:spPr>
            <a:xfrm>
              <a:off x="188928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TextBox 35"/>
            <p:cNvSpPr/>
            <p:nvPr/>
          </p:nvSpPr>
          <p:spPr>
            <a:xfrm>
              <a:off x="189036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组合 18"/>
          <p:cNvGrpSpPr/>
          <p:nvPr/>
        </p:nvGrpSpPr>
        <p:grpSpPr>
          <a:xfrm>
            <a:off x="8412120" y="2214720"/>
            <a:ext cx="2022480" cy="1066320"/>
            <a:chOff x="8412120" y="2214720"/>
            <a:chExt cx="2022480" cy="1066320"/>
          </a:xfrm>
        </p:grpSpPr>
        <p:sp>
          <p:nvSpPr>
            <p:cNvPr id="959" name="文本框 19"/>
            <p:cNvSpPr/>
            <p:nvPr/>
          </p:nvSpPr>
          <p:spPr>
            <a:xfrm>
              <a:off x="841212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TextBox 35"/>
            <p:cNvSpPr/>
            <p:nvPr/>
          </p:nvSpPr>
          <p:spPr>
            <a:xfrm>
              <a:off x="841320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组合 21"/>
          <p:cNvGrpSpPr/>
          <p:nvPr/>
        </p:nvGrpSpPr>
        <p:grpSpPr>
          <a:xfrm>
            <a:off x="1889280" y="4135320"/>
            <a:ext cx="2022480" cy="1066320"/>
            <a:chOff x="1889280" y="4135320"/>
            <a:chExt cx="2022480" cy="1066320"/>
          </a:xfrm>
        </p:grpSpPr>
        <p:sp>
          <p:nvSpPr>
            <p:cNvPr id="962" name="文本框 22"/>
            <p:cNvSpPr/>
            <p:nvPr/>
          </p:nvSpPr>
          <p:spPr>
            <a:xfrm>
              <a:off x="188928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Box 35"/>
            <p:cNvSpPr/>
            <p:nvPr/>
          </p:nvSpPr>
          <p:spPr>
            <a:xfrm>
              <a:off x="189036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4" name="组合 24"/>
          <p:cNvGrpSpPr/>
          <p:nvPr/>
        </p:nvGrpSpPr>
        <p:grpSpPr>
          <a:xfrm>
            <a:off x="8412120" y="4135320"/>
            <a:ext cx="2022480" cy="1066320"/>
            <a:chOff x="8412120" y="4135320"/>
            <a:chExt cx="2022480" cy="1066320"/>
          </a:xfrm>
        </p:grpSpPr>
        <p:sp>
          <p:nvSpPr>
            <p:cNvPr id="965" name="文本框 25"/>
            <p:cNvSpPr/>
            <p:nvPr/>
          </p:nvSpPr>
          <p:spPr>
            <a:xfrm>
              <a:off x="841212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5"/>
            <p:cNvSpPr/>
            <p:nvPr/>
          </p:nvSpPr>
          <p:spPr>
            <a:xfrm>
              <a:off x="841320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68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任意多边形 23"/>
          <p:cNvSpPr/>
          <p:nvPr/>
        </p:nvSpPr>
        <p:spPr>
          <a:xfrm flipV="1">
            <a:off x="0" y="192600"/>
            <a:ext cx="12201480" cy="4081320"/>
          </a:xfrm>
          <a:custGeom>
            <a:avLst/>
            <a:gdLst/>
            <a:ahLst/>
            <a:rect l="l" t="t" r="r" b="b"/>
            <a:pathLst>
              <a:path w="12201987" h="4082606">
                <a:moveTo>
                  <a:pt x="804061" y="4082606"/>
                </a:moveTo>
                <a:lnTo>
                  <a:pt x="2047460" y="4082606"/>
                </a:lnTo>
                <a:lnTo>
                  <a:pt x="2623035" y="2638119"/>
                </a:lnTo>
                <a:lnTo>
                  <a:pt x="7328452" y="4082606"/>
                </a:lnTo>
                <a:lnTo>
                  <a:pt x="12201987" y="4082606"/>
                </a:lnTo>
                <a:lnTo>
                  <a:pt x="12201987" y="3915013"/>
                </a:lnTo>
                <a:lnTo>
                  <a:pt x="2132415" y="684186"/>
                </a:lnTo>
                <a:lnTo>
                  <a:pt x="804061" y="4082606"/>
                </a:lnTo>
                <a:close/>
                <a:moveTo>
                  <a:pt x="0" y="4082606"/>
                </a:moveTo>
                <a:lnTo>
                  <a:pt x="519489" y="4082606"/>
                </a:lnTo>
                <a:lnTo>
                  <a:pt x="1879555" y="603056"/>
                </a:lnTo>
                <a:lnTo>
                  <a:pt x="0" y="0"/>
                </a:lnTo>
                <a:lnTo>
                  <a:pt x="0" y="4082606"/>
                </a:lnTo>
                <a:close/>
              </a:path>
            </a:pathLst>
          </a:cu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任意多边形 21"/>
          <p:cNvSpPr/>
          <p:nvPr/>
        </p:nvSpPr>
        <p:spPr>
          <a:xfrm flipV="1" rot="10800000">
            <a:off x="-360" y="659160"/>
            <a:ext cx="12192120" cy="6761160"/>
          </a:xfrm>
          <a:custGeom>
            <a:avLst/>
            <a:gdLst/>
            <a:ahLst/>
            <a:rect l="l" t="t" r="r" b="b"/>
            <a:pathLst>
              <a:path w="12192000" h="6761344">
                <a:moveTo>
                  <a:pt x="3875109" y="1243330"/>
                </a:moveTo>
                <a:lnTo>
                  <a:pt x="1718260" y="6761344"/>
                </a:lnTo>
                <a:lnTo>
                  <a:pt x="12192000" y="6761344"/>
                </a:lnTo>
                <a:lnTo>
                  <a:pt x="12192000" y="3911808"/>
                </a:lnTo>
                <a:lnTo>
                  <a:pt x="3875109" y="1243330"/>
                </a:lnTo>
                <a:close/>
                <a:moveTo>
                  <a:pt x="0" y="0"/>
                </a:moveTo>
                <a:lnTo>
                  <a:pt x="0" y="6761344"/>
                </a:lnTo>
                <a:lnTo>
                  <a:pt x="1454836" y="6761344"/>
                </a:lnTo>
                <a:lnTo>
                  <a:pt x="3641039" y="116822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任意多边形 27"/>
          <p:cNvSpPr/>
          <p:nvPr/>
        </p:nvSpPr>
        <p:spPr>
          <a:xfrm>
            <a:off x="0" y="0"/>
            <a:ext cx="12201480" cy="193680"/>
          </a:xfrm>
          <a:custGeom>
            <a:avLst/>
            <a:gdLst/>
            <a:ahLst/>
            <a:rect l="l" t="t" r="r" b="b"/>
            <a:pathLst>
              <a:path w="12201987" h="193179">
                <a:moveTo>
                  <a:pt x="8831145" y="0"/>
                </a:moveTo>
                <a:lnTo>
                  <a:pt x="12201987" y="0"/>
                </a:lnTo>
                <a:lnTo>
                  <a:pt x="12201987" y="193179"/>
                </a:lnTo>
                <a:lnTo>
                  <a:pt x="8947310" y="193179"/>
                </a:lnTo>
                <a:lnTo>
                  <a:pt x="8831145" y="0"/>
                </a:lnTo>
                <a:close/>
                <a:moveTo>
                  <a:pt x="0" y="0"/>
                </a:moveTo>
                <a:lnTo>
                  <a:pt x="8516501" y="0"/>
                </a:lnTo>
                <a:lnTo>
                  <a:pt x="8632666" y="193179"/>
                </a:lnTo>
                <a:lnTo>
                  <a:pt x="0" y="19317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25"/>
          <p:cNvSpPr/>
          <p:nvPr/>
        </p:nvSpPr>
        <p:spPr>
          <a:xfrm rot="20510400">
            <a:off x="2641680" y="2800440"/>
            <a:ext cx="618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20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13"/>
          <p:cNvSpPr/>
          <p:nvPr/>
        </p:nvSpPr>
        <p:spPr>
          <a:xfrm>
            <a:off x="4368960" y="1106640"/>
            <a:ext cx="0" cy="5157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14"/>
          <p:cNvSpPr/>
          <p:nvPr/>
        </p:nvSpPr>
        <p:spPr>
          <a:xfrm>
            <a:off x="4300560" y="194472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15"/>
          <p:cNvSpPr/>
          <p:nvPr/>
        </p:nvSpPr>
        <p:spPr>
          <a:xfrm>
            <a:off x="4300560" y="362124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椭圆 16"/>
          <p:cNvSpPr/>
          <p:nvPr/>
        </p:nvSpPr>
        <p:spPr>
          <a:xfrm>
            <a:off x="4300560" y="529920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2358360" y="1107000"/>
            <a:ext cx="1803960" cy="1803960"/>
            <a:chOff x="2358360" y="1107000"/>
            <a:chExt cx="1803960" cy="1803960"/>
          </a:xfrm>
        </p:grpSpPr>
        <p:sp>
          <p:nvSpPr>
            <p:cNvPr id="628" name="泪滴形 7"/>
            <p:cNvSpPr/>
            <p:nvPr/>
          </p:nvSpPr>
          <p:spPr>
            <a:xfrm rot="2700000">
              <a:off x="2622960" y="1370520"/>
              <a:ext cx="12747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文本框 17"/>
            <p:cNvSpPr/>
            <p:nvPr/>
          </p:nvSpPr>
          <p:spPr>
            <a:xfrm>
              <a:off x="2951640" y="18090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28"/>
          <p:cNvGrpSpPr/>
          <p:nvPr/>
        </p:nvGrpSpPr>
        <p:grpSpPr>
          <a:xfrm>
            <a:off x="2358000" y="2783880"/>
            <a:ext cx="1805040" cy="1804680"/>
            <a:chOff x="2358000" y="2783880"/>
            <a:chExt cx="1805040" cy="1804680"/>
          </a:xfrm>
        </p:grpSpPr>
        <p:sp>
          <p:nvSpPr>
            <p:cNvPr id="631" name="泪滴形 9"/>
            <p:cNvSpPr/>
            <p:nvPr/>
          </p:nvSpPr>
          <p:spPr>
            <a:xfrm rot="2700000">
              <a:off x="2622240" y="3048120"/>
              <a:ext cx="127620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文本框 18"/>
            <p:cNvSpPr/>
            <p:nvPr/>
          </p:nvSpPr>
          <p:spPr>
            <a:xfrm>
              <a:off x="2954160" y="348588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29"/>
          <p:cNvGrpSpPr/>
          <p:nvPr/>
        </p:nvGrpSpPr>
        <p:grpSpPr>
          <a:xfrm>
            <a:off x="2357640" y="4460040"/>
            <a:ext cx="1805040" cy="1805040"/>
            <a:chOff x="2357640" y="4460040"/>
            <a:chExt cx="1805040" cy="1805040"/>
          </a:xfrm>
        </p:grpSpPr>
        <p:sp>
          <p:nvSpPr>
            <p:cNvPr id="634" name="泪滴形 12"/>
            <p:cNvSpPr/>
            <p:nvPr/>
          </p:nvSpPr>
          <p:spPr>
            <a:xfrm rot="2700000">
              <a:off x="2621880" y="4724280"/>
              <a:ext cx="12765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文本框 19"/>
            <p:cNvSpPr/>
            <p:nvPr/>
          </p:nvSpPr>
          <p:spPr>
            <a:xfrm>
              <a:off x="2954160" y="51624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矩形 20"/>
          <p:cNvSpPr/>
          <p:nvPr/>
        </p:nvSpPr>
        <p:spPr>
          <a:xfrm>
            <a:off x="4756320" y="1592280"/>
            <a:ext cx="2730240" cy="37620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4635360" y="20448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4756320" y="3352680"/>
            <a:ext cx="2730240" cy="37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4635360" y="38070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4"/>
          <p:cNvSpPr/>
          <p:nvPr/>
        </p:nvSpPr>
        <p:spPr>
          <a:xfrm>
            <a:off x="4756320" y="4973760"/>
            <a:ext cx="2730240" cy="37764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635360" y="542772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43" name="矩形 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4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7"/>
          <p:cNvGrpSpPr/>
          <p:nvPr/>
        </p:nvGrpSpPr>
        <p:grpSpPr>
          <a:xfrm>
            <a:off x="3921120" y="1881360"/>
            <a:ext cx="2093760" cy="3398760"/>
            <a:chOff x="3921120" y="1881360"/>
            <a:chExt cx="2093760" cy="3398760"/>
          </a:xfrm>
        </p:grpSpPr>
        <p:sp>
          <p:nvSpPr>
            <p:cNvPr id="653" name="上箭头 9"/>
            <p:cNvSpPr/>
            <p:nvPr/>
          </p:nvSpPr>
          <p:spPr>
            <a:xfrm>
              <a:off x="4208400" y="203544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上箭头 12"/>
            <p:cNvSpPr/>
            <p:nvPr/>
          </p:nvSpPr>
          <p:spPr>
            <a:xfrm>
              <a:off x="3921120" y="188136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3"/>
          <p:cNvGrpSpPr/>
          <p:nvPr/>
        </p:nvGrpSpPr>
        <p:grpSpPr>
          <a:xfrm>
            <a:off x="6113520" y="2246040"/>
            <a:ext cx="2093760" cy="3398760"/>
            <a:chOff x="6113520" y="2246040"/>
            <a:chExt cx="2093760" cy="3398760"/>
          </a:xfrm>
        </p:grpSpPr>
        <p:sp>
          <p:nvSpPr>
            <p:cNvPr id="656" name="上箭头 14"/>
            <p:cNvSpPr/>
            <p:nvPr/>
          </p:nvSpPr>
          <p:spPr>
            <a:xfrm rot="10800000">
              <a:off x="6369120" y="236196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上箭头 15"/>
            <p:cNvSpPr/>
            <p:nvPr/>
          </p:nvSpPr>
          <p:spPr>
            <a:xfrm rot="10800000">
              <a:off x="6113520" y="224604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椭圆 16"/>
          <p:cNvSpPr/>
          <p:nvPr/>
        </p:nvSpPr>
        <p:spPr>
          <a:xfrm>
            <a:off x="6892920" y="4700520"/>
            <a:ext cx="50328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7"/>
          <p:cNvSpPr/>
          <p:nvPr/>
        </p:nvSpPr>
        <p:spPr>
          <a:xfrm>
            <a:off x="6892920" y="366084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8"/>
          <p:cNvSpPr/>
          <p:nvPr/>
        </p:nvSpPr>
        <p:spPr>
          <a:xfrm>
            <a:off x="6892920" y="262260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9"/>
          <p:cNvSpPr/>
          <p:nvPr/>
        </p:nvSpPr>
        <p:spPr>
          <a:xfrm>
            <a:off x="4702320" y="235908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20"/>
          <p:cNvSpPr/>
          <p:nvPr/>
        </p:nvSpPr>
        <p:spPr>
          <a:xfrm>
            <a:off x="4702320" y="344340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21"/>
          <p:cNvSpPr/>
          <p:nvPr/>
        </p:nvSpPr>
        <p:spPr>
          <a:xfrm>
            <a:off x="4732200" y="4527720"/>
            <a:ext cx="503280" cy="47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6558120" y="1749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23"/>
          <p:cNvSpPr/>
          <p:nvPr/>
        </p:nvSpPr>
        <p:spPr>
          <a:xfrm>
            <a:off x="4413240" y="5329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674640" y="203508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674640" y="325296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733320" y="453060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8510760" y="203508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8510760" y="325296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0"/>
          <p:cNvSpPr/>
          <p:nvPr/>
        </p:nvSpPr>
        <p:spPr>
          <a:xfrm>
            <a:off x="8569440" y="4530600"/>
            <a:ext cx="288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7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7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组合 7" descr=""/>
          <p:cNvPicPr/>
          <p:nvPr/>
        </p:nvPicPr>
        <p:blipFill>
          <a:blip r:embed="rId1"/>
          <a:stretch/>
        </p:blipFill>
        <p:spPr>
          <a:xfrm>
            <a:off x="1700280" y="285264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17"/>
          <p:cNvSpPr/>
          <p:nvPr/>
        </p:nvSpPr>
        <p:spPr>
          <a:xfrm>
            <a:off x="2178000" y="365616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18"/>
          <p:cNvSpPr/>
          <p:nvPr/>
        </p:nvSpPr>
        <p:spPr>
          <a:xfrm>
            <a:off x="3638520" y="2957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4910040" y="3664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613584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7429680" y="3805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876780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0"/>
          <p:cNvSpPr/>
          <p:nvPr/>
        </p:nvSpPr>
        <p:spPr>
          <a:xfrm>
            <a:off x="187164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0"/>
          <p:cNvSpPr/>
          <p:nvPr/>
        </p:nvSpPr>
        <p:spPr>
          <a:xfrm>
            <a:off x="3063960" y="123840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4255920" y="4573440"/>
            <a:ext cx="1698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685008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5535720" y="12826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0"/>
          <p:cNvSpPr/>
          <p:nvPr/>
        </p:nvSpPr>
        <p:spPr>
          <a:xfrm>
            <a:off x="8104320" y="1231920"/>
            <a:ext cx="169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96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0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组合 13"/>
          <p:cNvGrpSpPr/>
          <p:nvPr/>
        </p:nvGrpSpPr>
        <p:grpSpPr>
          <a:xfrm>
            <a:off x="1941120" y="2646000"/>
            <a:ext cx="1703520" cy="4212000"/>
            <a:chOff x="1941120" y="2646000"/>
            <a:chExt cx="1703520" cy="4212000"/>
          </a:xfrm>
        </p:grpSpPr>
        <p:sp>
          <p:nvSpPr>
            <p:cNvPr id="706" name="弧形 14"/>
            <p:cNvSpPr/>
            <p:nvPr/>
          </p:nvSpPr>
          <p:spPr>
            <a:xfrm rot="8206800">
              <a:off x="21553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接连接符 15"/>
            <p:cNvSpPr/>
            <p:nvPr/>
          </p:nvSpPr>
          <p:spPr>
            <a:xfrm>
              <a:off x="27414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8" name="椭圆 16"/>
          <p:cNvSpPr/>
          <p:nvPr/>
        </p:nvSpPr>
        <p:spPr>
          <a:xfrm>
            <a:off x="2286000" y="3044880"/>
            <a:ext cx="901800" cy="9018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组合 17"/>
          <p:cNvGrpSpPr/>
          <p:nvPr/>
        </p:nvGrpSpPr>
        <p:grpSpPr>
          <a:xfrm>
            <a:off x="3501720" y="1821600"/>
            <a:ext cx="1703160" cy="5036400"/>
            <a:chOff x="3501720" y="1821600"/>
            <a:chExt cx="1703160" cy="5036400"/>
          </a:xfrm>
        </p:grpSpPr>
        <p:sp>
          <p:nvSpPr>
            <p:cNvPr id="710" name="弧形 18"/>
            <p:cNvSpPr/>
            <p:nvPr/>
          </p:nvSpPr>
          <p:spPr>
            <a:xfrm rot="8206800">
              <a:off x="3715560" y="2104560"/>
              <a:ext cx="1274760" cy="113076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接连接符 19"/>
            <p:cNvSpPr/>
            <p:nvPr/>
          </p:nvSpPr>
          <p:spPr>
            <a:xfrm>
              <a:off x="4302000" y="3258000"/>
              <a:ext cx="0" cy="360000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椭圆 20"/>
          <p:cNvSpPr/>
          <p:nvPr/>
        </p:nvSpPr>
        <p:spPr>
          <a:xfrm>
            <a:off x="3757680" y="2013120"/>
            <a:ext cx="1087200" cy="108720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21"/>
          <p:cNvGrpSpPr/>
          <p:nvPr/>
        </p:nvGrpSpPr>
        <p:grpSpPr>
          <a:xfrm>
            <a:off x="4887720" y="2646000"/>
            <a:ext cx="1703520" cy="4212000"/>
            <a:chOff x="4887720" y="2646000"/>
            <a:chExt cx="1703520" cy="4212000"/>
          </a:xfrm>
        </p:grpSpPr>
        <p:sp>
          <p:nvSpPr>
            <p:cNvPr id="714" name="弧形 22"/>
            <p:cNvSpPr/>
            <p:nvPr/>
          </p:nvSpPr>
          <p:spPr>
            <a:xfrm rot="8206800">
              <a:off x="51019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23"/>
            <p:cNvSpPr/>
            <p:nvPr/>
          </p:nvSpPr>
          <p:spPr>
            <a:xfrm>
              <a:off x="56880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椭圆 24"/>
          <p:cNvSpPr/>
          <p:nvPr/>
        </p:nvSpPr>
        <p:spPr>
          <a:xfrm>
            <a:off x="5237280" y="3102120"/>
            <a:ext cx="901440" cy="9014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图片 25" descr=""/>
          <p:cNvPicPr/>
          <p:nvPr/>
        </p:nvPicPr>
        <p:blipFill>
          <a:blip r:embed="rId2"/>
          <a:stretch/>
        </p:blipFill>
        <p:spPr>
          <a:xfrm>
            <a:off x="5478480" y="3348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" descr=""/>
          <p:cNvPicPr/>
          <p:nvPr/>
        </p:nvPicPr>
        <p:blipFill>
          <a:blip r:embed="rId3"/>
          <a:stretch/>
        </p:blipFill>
        <p:spPr>
          <a:xfrm>
            <a:off x="2446200" y="3236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7" descr=""/>
          <p:cNvPicPr/>
          <p:nvPr/>
        </p:nvPicPr>
        <p:blipFill>
          <a:blip r:embed="rId4"/>
          <a:stretch/>
        </p:blipFill>
        <p:spPr>
          <a:xfrm>
            <a:off x="3913200" y="2224080"/>
            <a:ext cx="776160" cy="7747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8"/>
          <p:cNvSpPr/>
          <p:nvPr/>
        </p:nvSpPr>
        <p:spPr>
          <a:xfrm>
            <a:off x="7283520" y="29988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流程图: 可选过程 29"/>
          <p:cNvSpPr/>
          <p:nvPr/>
        </p:nvSpPr>
        <p:spPr>
          <a:xfrm>
            <a:off x="7202520" y="2487600"/>
            <a:ext cx="12999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2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组合 7"/>
          <p:cNvGrpSpPr/>
          <p:nvPr/>
        </p:nvGrpSpPr>
        <p:grpSpPr>
          <a:xfrm>
            <a:off x="2297160" y="1922400"/>
            <a:ext cx="7074000" cy="3881520"/>
            <a:chOff x="2297160" y="1922400"/>
            <a:chExt cx="7074000" cy="3881520"/>
          </a:xfrm>
        </p:grpSpPr>
        <p:sp>
          <p:nvSpPr>
            <p:cNvPr id="733" name="矩形 9"/>
            <p:cNvSpPr/>
            <p:nvPr/>
          </p:nvSpPr>
          <p:spPr>
            <a:xfrm>
              <a:off x="2297160" y="3348720"/>
              <a:ext cx="2227680" cy="100440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12"/>
            <p:cNvSpPr/>
            <p:nvPr/>
          </p:nvSpPr>
          <p:spPr>
            <a:xfrm flipV="1">
              <a:off x="4524840" y="2742840"/>
              <a:ext cx="605160" cy="110772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13"/>
            <p:cNvSpPr/>
            <p:nvPr/>
          </p:nvSpPr>
          <p:spPr>
            <a:xfrm>
              <a:off x="4524840" y="3850920"/>
              <a:ext cx="605160" cy="109476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14"/>
            <p:cNvSpPr/>
            <p:nvPr/>
          </p:nvSpPr>
          <p:spPr>
            <a:xfrm>
              <a:off x="5130000" y="241488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15"/>
            <p:cNvSpPr/>
            <p:nvPr/>
          </p:nvSpPr>
          <p:spPr>
            <a:xfrm>
              <a:off x="5130000" y="463032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16"/>
            <p:cNvSpPr/>
            <p:nvPr/>
          </p:nvSpPr>
          <p:spPr>
            <a:xfrm>
              <a:off x="7705800" y="1922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17"/>
            <p:cNvSpPr/>
            <p:nvPr/>
          </p:nvSpPr>
          <p:spPr>
            <a:xfrm>
              <a:off x="7710120" y="295092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18"/>
            <p:cNvGrpSpPr/>
            <p:nvPr/>
          </p:nvGrpSpPr>
          <p:grpSpPr>
            <a:xfrm>
              <a:off x="6786000" y="4398120"/>
              <a:ext cx="914040" cy="1077480"/>
              <a:chOff x="6786000" y="4398120"/>
              <a:chExt cx="914040" cy="1077480"/>
            </a:xfrm>
          </p:grpSpPr>
          <p:sp>
            <p:nvSpPr>
              <p:cNvPr id="741" name="直接连接符 31"/>
              <p:cNvSpPr/>
              <p:nvPr/>
            </p:nvSpPr>
            <p:spPr>
              <a:xfrm flipV="1">
                <a:off x="6786000" y="4398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直接连接符 32"/>
              <p:cNvSpPr/>
              <p:nvPr/>
            </p:nvSpPr>
            <p:spPr>
              <a:xfrm>
                <a:off x="6786000" y="4939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矩形 19"/>
            <p:cNvSpPr/>
            <p:nvPr/>
          </p:nvSpPr>
          <p:spPr>
            <a:xfrm>
              <a:off x="7705800" y="4118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0"/>
            <p:cNvSpPr/>
            <p:nvPr/>
          </p:nvSpPr>
          <p:spPr>
            <a:xfrm>
              <a:off x="7710120" y="514728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文本框 21"/>
            <p:cNvSpPr/>
            <p:nvPr/>
          </p:nvSpPr>
          <p:spPr>
            <a:xfrm>
              <a:off x="2494080" y="365112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6" name="组合 22"/>
            <p:cNvGrpSpPr/>
            <p:nvPr/>
          </p:nvGrpSpPr>
          <p:grpSpPr>
            <a:xfrm>
              <a:off x="6793560" y="2202120"/>
              <a:ext cx="914040" cy="1077480"/>
              <a:chOff x="6793560" y="2202120"/>
              <a:chExt cx="914040" cy="1077480"/>
            </a:xfrm>
          </p:grpSpPr>
          <p:sp>
            <p:nvSpPr>
              <p:cNvPr id="747" name="直接连接符 29"/>
              <p:cNvSpPr/>
              <p:nvPr/>
            </p:nvSpPr>
            <p:spPr>
              <a:xfrm flipV="1">
                <a:off x="6793560" y="2202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直接连接符 30"/>
              <p:cNvSpPr/>
              <p:nvPr/>
            </p:nvSpPr>
            <p:spPr>
              <a:xfrm>
                <a:off x="6793560" y="2743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9" name="TextBox 1"/>
            <p:cNvSpPr/>
            <p:nvPr/>
          </p:nvSpPr>
          <p:spPr>
            <a:xfrm>
              <a:off x="5186160" y="25124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1"/>
            <p:cNvSpPr/>
            <p:nvPr/>
          </p:nvSpPr>
          <p:spPr>
            <a:xfrm>
              <a:off x="7759440" y="20325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1"/>
            <p:cNvSpPr/>
            <p:nvPr/>
          </p:nvSpPr>
          <p:spPr>
            <a:xfrm>
              <a:off x="7732800" y="303300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1"/>
            <p:cNvSpPr/>
            <p:nvPr/>
          </p:nvSpPr>
          <p:spPr>
            <a:xfrm>
              <a:off x="7719480" y="42159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1"/>
            <p:cNvSpPr/>
            <p:nvPr/>
          </p:nvSpPr>
          <p:spPr>
            <a:xfrm>
              <a:off x="5184000" y="476748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1"/>
            <p:cNvSpPr/>
            <p:nvPr/>
          </p:nvSpPr>
          <p:spPr>
            <a:xfrm>
              <a:off x="7742880" y="52448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33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56" name="矩形 34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35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6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6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7" descr=""/>
          <p:cNvPicPr/>
          <p:nvPr/>
        </p:nvPicPr>
        <p:blipFill>
          <a:blip r:embed="rId1"/>
          <a:stretch/>
        </p:blipFill>
        <p:spPr>
          <a:xfrm>
            <a:off x="3833640" y="2097000"/>
            <a:ext cx="2202120" cy="2090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2"/>
          <a:stretch/>
        </p:blipFill>
        <p:spPr>
          <a:xfrm>
            <a:off x="6242040" y="2066760"/>
            <a:ext cx="2201760" cy="212112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2" descr=""/>
          <p:cNvPicPr/>
          <p:nvPr/>
        </p:nvPicPr>
        <p:blipFill>
          <a:blip r:embed="rId3"/>
          <a:stretch/>
        </p:blipFill>
        <p:spPr>
          <a:xfrm>
            <a:off x="1425600" y="2084400"/>
            <a:ext cx="2201760" cy="21034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3" descr=""/>
          <p:cNvPicPr/>
          <p:nvPr/>
        </p:nvPicPr>
        <p:blipFill>
          <a:blip r:embed="rId4"/>
          <a:stretch/>
        </p:blipFill>
        <p:spPr>
          <a:xfrm>
            <a:off x="8650440" y="2066760"/>
            <a:ext cx="2201760" cy="2121120"/>
          </a:xfrm>
          <a:prstGeom prst="rect">
            <a:avLst/>
          </a:prstGeom>
          <a:ln w="0">
            <a:noFill/>
          </a:ln>
        </p:spPr>
      </p:pic>
      <p:sp>
        <p:nvSpPr>
          <p:cNvPr id="769" name="椭圆 18"/>
          <p:cNvSpPr/>
          <p:nvPr/>
        </p:nvSpPr>
        <p:spPr>
          <a:xfrm>
            <a:off x="230040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9"/>
          <p:cNvSpPr/>
          <p:nvPr/>
        </p:nvSpPr>
        <p:spPr>
          <a:xfrm>
            <a:off x="4710240" y="1547640"/>
            <a:ext cx="4492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20"/>
          <p:cNvSpPr/>
          <p:nvPr/>
        </p:nvSpPr>
        <p:spPr>
          <a:xfrm>
            <a:off x="707724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椭圆 21"/>
          <p:cNvSpPr/>
          <p:nvPr/>
        </p:nvSpPr>
        <p:spPr>
          <a:xfrm>
            <a:off x="9513720" y="1547640"/>
            <a:ext cx="4510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0"/>
          <p:cNvSpPr/>
          <p:nvPr/>
        </p:nvSpPr>
        <p:spPr>
          <a:xfrm>
            <a:off x="1574640" y="4594320"/>
            <a:ext cx="190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0"/>
          <p:cNvSpPr/>
          <p:nvPr/>
        </p:nvSpPr>
        <p:spPr>
          <a:xfrm>
            <a:off x="1727280" y="474660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3970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6391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880920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图片 1" descr=""/>
          <p:cNvPicPr/>
          <p:nvPr/>
        </p:nvPicPr>
        <p:blipFill>
          <a:blip r:embed="rId5"/>
          <a:stretch/>
        </p:blipFill>
        <p:spPr>
          <a:xfrm>
            <a:off x="2360520" y="4187880"/>
            <a:ext cx="7547040" cy="208080"/>
          </a:xfrm>
          <a:prstGeom prst="rect">
            <a:avLst/>
          </a:prstGeom>
          <a:ln w="0">
            <a:noFill/>
          </a:ln>
        </p:spPr>
      </p:pic>
      <p:grpSp>
        <p:nvGrpSpPr>
          <p:cNvPr id="779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80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86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组合 7"/>
          <p:cNvGrpSpPr/>
          <p:nvPr/>
        </p:nvGrpSpPr>
        <p:grpSpPr>
          <a:xfrm>
            <a:off x="7263360" y="2398680"/>
            <a:ext cx="3442320" cy="3442320"/>
            <a:chOff x="7263360" y="2398680"/>
            <a:chExt cx="3442320" cy="3442320"/>
          </a:xfrm>
        </p:grpSpPr>
        <p:sp>
          <p:nvSpPr>
            <p:cNvPr id="790" name="同心圆 9"/>
            <p:cNvSpPr/>
            <p:nvPr/>
          </p:nvSpPr>
          <p:spPr>
            <a:xfrm>
              <a:off x="7683480" y="2819520"/>
              <a:ext cx="260208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空心弧 12"/>
            <p:cNvSpPr/>
            <p:nvPr/>
          </p:nvSpPr>
          <p:spPr>
            <a:xfrm rot="14741400">
              <a:off x="7683480" y="2818800"/>
              <a:ext cx="2601720" cy="260208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492477" y="281619"/>
                  </a:moveTo>
                  <a:cubicBezTo>
                    <a:pt x="880549" y="-26162"/>
                    <a:pt x="1409739" y="-86838"/>
                    <a:pt x="1857403" y="125119"/>
                  </a:cubicBezTo>
                  <a:cubicBezTo>
                    <a:pt x="2305067" y="337076"/>
                    <a:pt x="2593507" y="784877"/>
                    <a:pt x="2601368" y="1280122"/>
                  </a:cubicBezTo>
                  <a:lnTo>
                    <a:pt x="2120249" y="1287758"/>
                  </a:lnTo>
                  <a:cubicBezTo>
                    <a:pt x="2115296" y="975714"/>
                    <a:pt x="1933555" y="693563"/>
                    <a:pt x="1651491" y="560014"/>
                  </a:cubicBezTo>
                  <a:cubicBezTo>
                    <a:pt x="1369427" y="426464"/>
                    <a:pt x="1035994" y="464695"/>
                    <a:pt x="791478" y="658622"/>
                  </a:cubicBezTo>
                  <a:lnTo>
                    <a:pt x="492477" y="2816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1732680" y="2437200"/>
            <a:ext cx="3441960" cy="3441960"/>
            <a:chOff x="1732680" y="2437200"/>
            <a:chExt cx="3441960" cy="3441960"/>
          </a:xfrm>
        </p:grpSpPr>
        <p:sp>
          <p:nvSpPr>
            <p:cNvPr id="793" name="同心圆 14"/>
            <p:cNvSpPr/>
            <p:nvPr/>
          </p:nvSpPr>
          <p:spPr>
            <a:xfrm>
              <a:off x="2152800" y="285768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空心弧 15"/>
            <p:cNvSpPr/>
            <p:nvPr/>
          </p:nvSpPr>
          <p:spPr>
            <a:xfrm rot="14741400">
              <a:off x="2152800" y="285696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1848431" y="120912"/>
                  </a:moveTo>
                  <a:cubicBezTo>
                    <a:pt x="2300939" y="330957"/>
                    <a:pt x="2593450" y="781302"/>
                    <a:pt x="2601369" y="1280121"/>
                  </a:cubicBezTo>
                  <a:lnTo>
                    <a:pt x="2120249" y="1287758"/>
                  </a:lnTo>
                  <a:cubicBezTo>
                    <a:pt x="2115260" y="973462"/>
                    <a:pt x="1930954" y="689709"/>
                    <a:pt x="1645838" y="557363"/>
                  </a:cubicBezTo>
                  <a:lnTo>
                    <a:pt x="1848431" y="12091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5" name="组合 16"/>
          <p:cNvGrpSpPr/>
          <p:nvPr/>
        </p:nvGrpSpPr>
        <p:grpSpPr>
          <a:xfrm>
            <a:off x="5614920" y="3849480"/>
            <a:ext cx="908280" cy="441360"/>
            <a:chOff x="5614920" y="3849480"/>
            <a:chExt cx="908280" cy="441360"/>
          </a:xfrm>
        </p:grpSpPr>
        <p:sp>
          <p:nvSpPr>
            <p:cNvPr id="796" name="等腰三角形 17"/>
            <p:cNvSpPr/>
            <p:nvPr/>
          </p:nvSpPr>
          <p:spPr>
            <a:xfrm rot="5400000">
              <a:off x="6112440" y="388008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18"/>
            <p:cNvSpPr/>
            <p:nvPr/>
          </p:nvSpPr>
          <p:spPr>
            <a:xfrm rot="16200000">
              <a:off x="5584320" y="387972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8" name="文本框 19"/>
          <p:cNvSpPr/>
          <p:nvPr/>
        </p:nvSpPr>
        <p:spPr>
          <a:xfrm>
            <a:off x="3084480" y="39369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0"/>
          <p:cNvSpPr/>
          <p:nvPr/>
        </p:nvSpPr>
        <p:spPr>
          <a:xfrm>
            <a:off x="8543880" y="3859200"/>
            <a:ext cx="8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1"/>
          <p:cNvSpPr/>
          <p:nvPr/>
        </p:nvSpPr>
        <p:spPr>
          <a:xfrm>
            <a:off x="2886120" y="5587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22"/>
          <p:cNvSpPr/>
          <p:nvPr/>
        </p:nvSpPr>
        <p:spPr>
          <a:xfrm>
            <a:off x="8639280" y="55101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1577880" y="1871640"/>
            <a:ext cx="38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0"/>
          <p:cNvSpPr/>
          <p:nvPr/>
        </p:nvSpPr>
        <p:spPr>
          <a:xfrm>
            <a:off x="7002360" y="1870200"/>
            <a:ext cx="37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25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05" name="矩形 26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矩形 27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矩形 28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29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09" name="矩形 30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31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32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15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同心圆 7"/>
          <p:cNvSpPr/>
          <p:nvPr/>
        </p:nvSpPr>
        <p:spPr>
          <a:xfrm>
            <a:off x="4753080" y="2467080"/>
            <a:ext cx="2523960" cy="2523960"/>
          </a:xfrm>
          <a:custGeom>
            <a:avLst/>
            <a:gdLst/>
            <a:ahLst/>
            <a:rect l="l" t="t" r="r" b="b"/>
            <a:pathLst>
              <a:path w="2524259" h="2524259">
                <a:moveTo>
                  <a:pt x="0" y="1262130"/>
                </a:moveTo>
                <a:cubicBezTo>
                  <a:pt x="0" y="565075"/>
                  <a:pt x="565075" y="0"/>
                  <a:pt x="1262130" y="0"/>
                </a:cubicBezTo>
                <a:cubicBezTo>
                  <a:pt x="1959185" y="0"/>
                  <a:pt x="2524260" y="565075"/>
                  <a:pt x="2524260" y="1262130"/>
                </a:cubicBezTo>
                <a:cubicBezTo>
                  <a:pt x="2524260" y="1959185"/>
                  <a:pt x="1959185" y="2524260"/>
                  <a:pt x="1262130" y="2524260"/>
                </a:cubicBezTo>
                <a:cubicBezTo>
                  <a:pt x="565075" y="2524260"/>
                  <a:pt x="0" y="1959185"/>
                  <a:pt x="0" y="1262130"/>
                </a:cubicBezTo>
                <a:close/>
                <a:moveTo>
                  <a:pt x="294833" y="1262130"/>
                </a:moveTo>
                <a:cubicBezTo>
                  <a:pt x="294833" y="1796353"/>
                  <a:pt x="727906" y="2229426"/>
                  <a:pt x="1262129" y="2229426"/>
                </a:cubicBezTo>
                <a:cubicBezTo>
                  <a:pt x="1796352" y="2229426"/>
                  <a:pt x="2229425" y="1796353"/>
                  <a:pt x="2229425" y="1262130"/>
                </a:cubicBezTo>
                <a:cubicBezTo>
                  <a:pt x="2229425" y="727907"/>
                  <a:pt x="1796352" y="294834"/>
                  <a:pt x="1262129" y="294834"/>
                </a:cubicBezTo>
                <a:cubicBezTo>
                  <a:pt x="727906" y="294834"/>
                  <a:pt x="294833" y="727907"/>
                  <a:pt x="294833" y="126213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任意多边形 9"/>
          <p:cNvSpPr/>
          <p:nvPr/>
        </p:nvSpPr>
        <p:spPr>
          <a:xfrm>
            <a:off x="6173640" y="2340000"/>
            <a:ext cx="368640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任意多边形 12"/>
          <p:cNvSpPr/>
          <p:nvPr/>
        </p:nvSpPr>
        <p:spPr>
          <a:xfrm rot="10800000">
            <a:off x="2168280" y="4593960"/>
            <a:ext cx="368604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13"/>
          <p:cNvSpPr/>
          <p:nvPr/>
        </p:nvSpPr>
        <p:spPr>
          <a:xfrm>
            <a:off x="7589880" y="2417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4"/>
          <p:cNvSpPr/>
          <p:nvPr/>
        </p:nvSpPr>
        <p:spPr>
          <a:xfrm>
            <a:off x="2806560" y="46702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2689200" y="2943360"/>
            <a:ext cx="186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0"/>
          <p:cNvSpPr/>
          <p:nvPr/>
        </p:nvSpPr>
        <p:spPr>
          <a:xfrm>
            <a:off x="7472520" y="3024360"/>
            <a:ext cx="186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17" descr=""/>
          <p:cNvPicPr/>
          <p:nvPr/>
        </p:nvPicPr>
        <p:blipFill>
          <a:blip r:embed="rId1"/>
          <a:stretch/>
        </p:blipFill>
        <p:spPr>
          <a:xfrm>
            <a:off x="5405400" y="3119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0:04:21Z</dcterms:created>
  <dc:creator>admin</dc:creator>
  <dc:description/>
  <dc:language>en-US</dc:language>
  <cp:lastModifiedBy>大蛀虫</cp:lastModifiedBy>
  <dcterms:modified xsi:type="dcterms:W3CDTF">2015-06-28T11:53:3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