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D1CA-3488-48EA-810B-69F87B41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D6B1-9B58-48ED-8659-5D0E14FC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4C12-A1E7-4ECA-8882-AADCD612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692F-64CA-476D-A8DA-0DF433BE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2670-FEEF-42EC-A5ED-2E53F0CA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B8FE-0FBD-4B33-91C0-FA688C19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A116-7A18-42E8-8E21-AF245E40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1C7D-D1BD-4853-B24B-3A62C60B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1C0C-ED22-4407-86D6-19265726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226B3-0579-4E5B-B275-6AE567A8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FDE75-63D0-49B5-8659-AA0A3888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F7A1-88BB-4650-9F6B-2AB651AB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62FDF-3D8C-40DC-A7B8-54D575D7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7EFB7-B2D9-4196-96E3-0C9488BC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60A2F-0AD6-4259-9DDE-50B002EB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922D8-C46B-4106-96E5-1E0FACFA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D822-1E86-422D-ABC5-7C13E87B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B6251-BC79-45E5-99B9-7C2BADE6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DB415-660D-4ED2-81B8-9851AB83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A6B07-AE34-4D41-8E66-94ABF780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3F6D9-1780-4122-84A9-1D3EACB3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D27FE-1377-4BF4-83A8-3A01946E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80300-789A-4111-BC62-C4ED08F2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C9437-C5B2-4DBD-8672-56AD9866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E20A5-B367-4742-96C7-85A6E4FC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EF7D3-7C3E-4528-8C52-DEF09090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341C4-F85B-4E17-A9D9-438A9215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A3842-2EEA-4413-819F-53D34EB1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9D68A-4A4B-416E-9CD3-AE9FD8F5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503CF-19D4-4070-8CE1-F8A75A2C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EBDDB-3516-407D-AE9A-7EDFC493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7761F-B8B1-4048-9CA8-BEC752DB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CFD56-DAEC-4EE4-A9C4-2ADD7C9E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41B4D-D559-42C6-B9C5-A59B5CFB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FDB49-BCAA-4FF4-8FC8-5B1C7127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17AC0-566E-4ECA-B248-1879428B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41D53-79A5-4BC0-8B28-383AD66C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64C18-8F2C-441B-B7A0-99553B79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958D7-8D07-43AA-A7A2-F9E0B448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792E0-75B6-4B9D-98F1-C7877B25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ACBD1-4D71-44ED-A43F-1BB3B456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7B112-C6F5-4675-B932-998596A5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EA8A9-45BB-4536-B8AA-E6A85EB5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BD77C-F287-4A2C-9C62-A671CF81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A8FEB-1962-41AC-948F-D0EF5C41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440A5-715F-4679-A273-8F75DACA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FC9CF-6921-4161-AEC2-3BF971A0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FC23D-E454-4E45-98CD-DB9308BA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70249-5CFA-4582-A13A-67B76264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2BC42-CB35-468B-A794-996E8E88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18977-E4E5-4F32-B908-BA9EB48E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01B1B-0013-4D57-BE1D-B0FC0DF5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06221-72C2-461C-BE2A-8A68958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846BD-4091-4653-A6CB-F631E7CE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30231-48C2-461C-ACB3-8FCFDDF3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24D54-3F66-4987-9997-FAF28DAD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3474D-1ED6-4DF5-A571-3C2CB958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6A724-7AB9-4700-952C-D5CCDBEF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52730-0BA5-4D8A-A638-544B63CD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A8365-C723-40E3-A81E-C1F33B93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67403-03D2-4235-BB42-4B169A13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68181-1506-4107-86F4-EFEA2A18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78D56-21A8-4256-9AC0-85A0C4C5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AF149-A475-408A-975A-C833544B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C8146-794D-46AC-9E5F-AE1A7F32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32B9E-0EE8-4989-871C-64ED576B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B565F-60F7-415D-AF42-EFA7E1E9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A61B9-4BE6-4342-85B4-FB3DC8ED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0C5CF-16D1-4D79-9374-D0D92B7C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29CC6-8AD5-4897-9259-A0D77E06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EE5C6-C0F9-49EE-832F-46D40E65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2E64C-BFC8-4BC7-9AE1-5D44C8A7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72D49-45C8-42CB-AAF1-0779569D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A9B21-B4F9-46D4-81B2-DB2D814F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BEBFD-FF45-4E23-88BB-FAFBD62C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17303-FD7E-4C7E-98E4-8051A73F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57A22-F7D3-4D39-A963-A7B6FABA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874B8-C7B8-4C41-8DFC-2C037D45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5F46F-E9E1-45B7-AA27-1052341E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15BCA-DD79-4E5B-85B9-8E970F18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9FC57-20DF-4E8A-B116-72828564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15A-95CC-4D21-9B5F-FE1F6305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0EB-3881-4603-A52B-49B53B76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50D-8D81-4060-BA30-75E0D2ED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765-DFD1-4F6C-B6E2-0CD9749F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A51-A673-4615-92F5-C5CB778B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11E-7BCB-498D-A36D-B486FFF2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AF8-332B-45A1-953D-925AF160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650-3824-429E-8444-8D57F265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FBE-3621-4216-A68E-4F84AF8D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58A-8FAE-433A-BB00-BEABAFDC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B5C-09B5-4DA3-B4C9-947802B3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2DE-2E67-4828-93B0-34562A4D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A2A5-F2A8-4F74-B373-91556008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292B-F63F-4CE9-BC6E-30C1D187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557E-D826-4F81-BEBC-7698264B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dt" idx="7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ftr" idx="8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9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36AAB9C2-9BA5-4C76-AB4E-616472A975B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dt" idx="10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11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12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0D586315-3FFC-4303-A4F9-2C3350DDBEB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13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14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5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48B7A734-F385-4133-8541-60432C196DB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16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17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8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970FE58D-409D-4E70-A2C0-A15349B7417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dt" idx="19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20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18AFE630-37B7-4D55-90E9-D1A7DE8FFDF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dt" idx="22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23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24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2F1B9B31-25C7-41CD-BD28-7177395C5CD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3935160" y="117360"/>
            <a:ext cx="1802160" cy="414000"/>
          </a:xfrm>
          <a:prstGeom prst="rect">
            <a:avLst/>
          </a:prstGeom>
          <a:solidFill>
            <a:srgbClr val="288f20"/>
          </a:solidFill>
          <a:ln w="9360">
            <a:solidFill>
              <a:srgbClr val="288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70572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936936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3900960" y="117360"/>
            <a:ext cx="171684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6740280" y="117360"/>
            <a:ext cx="210996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9366120" y="117360"/>
            <a:ext cx="200016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3907440" y="117360"/>
            <a:ext cx="143352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6712560" y="117360"/>
            <a:ext cx="157500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9401760" y="117360"/>
            <a:ext cx="164808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dt" idx="1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3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435B40E6-52C2-4D97-A587-4DCBF2E8A8B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dt" idx="4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5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6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3EF08763-C9A8-466A-BF55-526589436DA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18"/>
          <p:cNvSpPr/>
          <p:nvPr/>
        </p:nvSpPr>
        <p:spPr>
          <a:xfrm>
            <a:off x="-27000" y="4680"/>
            <a:ext cx="12192120" cy="68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C:\Documents and Settings\Administrator\桌面\PPT配图\公司宣传PPT图片\240490-1306030Q53886.jpg"/>
          <p:cNvPicPr/>
          <p:nvPr/>
        </p:nvPicPr>
        <p:blipFill>
          <a:blip r:embed="rId2"/>
          <a:stretch/>
        </p:blipFill>
        <p:spPr>
          <a:xfrm>
            <a:off x="552600" y="765000"/>
            <a:ext cx="5184720" cy="5185080"/>
          </a:xfrm>
          <a:prstGeom prst="rect">
            <a:avLst/>
          </a:prstGeom>
          <a:ln w="0">
            <a:noFill/>
          </a:ln>
        </p:spPr>
      </p:pic>
      <p:sp>
        <p:nvSpPr>
          <p:cNvPr id="595" name="矩形 19"/>
          <p:cNvSpPr/>
          <p:nvPr/>
        </p:nvSpPr>
        <p:spPr>
          <a:xfrm>
            <a:off x="-122400" y="6149880"/>
            <a:ext cx="12598560" cy="70956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28"/>
          <p:cNvSpPr/>
          <p:nvPr/>
        </p:nvSpPr>
        <p:spPr>
          <a:xfrm>
            <a:off x="6382800" y="38624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通过</a:t>
            </a:r>
            <a:r>
              <a:rPr b="0" lang="en-US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29"/>
          <p:cNvSpPr/>
          <p:nvPr/>
        </p:nvSpPr>
        <p:spPr>
          <a:xfrm>
            <a:off x="7189920" y="4365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达到减少二氧化碳排放的目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30"/>
          <p:cNvSpPr/>
          <p:nvPr/>
        </p:nvSpPr>
        <p:spPr>
          <a:xfrm>
            <a:off x="9164520" y="4870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减缓全球气候变暖，改善人类的生活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10" descr="C:\Documents and Settings\Administrator\桌面\PPT配图\公司宣传PPT图片\235103-13051209221830.jpg"/>
          <p:cNvPicPr/>
          <p:nvPr/>
        </p:nvPicPr>
        <p:blipFill>
          <a:blip r:embed="rId3"/>
          <a:stretch/>
        </p:blipFill>
        <p:spPr>
          <a:xfrm>
            <a:off x="5665680" y="1630440"/>
            <a:ext cx="2808360" cy="2158920"/>
          </a:xfrm>
          <a:prstGeom prst="rect">
            <a:avLst/>
          </a:prstGeom>
          <a:ln w="0">
            <a:noFill/>
          </a:ln>
        </p:spPr>
      </p:pic>
      <p:sp>
        <p:nvSpPr>
          <p:cNvPr id="600" name="TextBox 20"/>
          <p:cNvSpPr/>
          <p:nvPr/>
        </p:nvSpPr>
        <p:spPr>
          <a:xfrm>
            <a:off x="7015680" y="1125360"/>
            <a:ext cx="31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我们为您提供</a:t>
            </a:r>
            <a:r>
              <a:rPr b="1" lang="en-US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</a:t>
            </a: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自多年的积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21"/>
          <p:cNvSpPr/>
          <p:nvPr/>
        </p:nvSpPr>
        <p:spPr>
          <a:xfrm>
            <a:off x="6535800" y="246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2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22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00"/>
                            </p:stCondLst>
                            <p:childTnLst>
                              <p:par>
                                <p:cTn id="3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00"/>
                            </p:stCondLst>
                            <p:childTnLst>
                              <p:par>
                                <p:cTn id="3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7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7"/>
          <p:cNvSpPr/>
          <p:nvPr/>
        </p:nvSpPr>
        <p:spPr>
          <a:xfrm>
            <a:off x="4541760" y="3944880"/>
            <a:ext cx="3168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www.xxxxx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"/>
          <p:cNvSpPr/>
          <p:nvPr/>
        </p:nvSpPr>
        <p:spPr>
          <a:xfrm>
            <a:off x="3952080" y="2965320"/>
            <a:ext cx="55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xxxxxxx</a:t>
            </a:r>
            <a:r>
              <a:rPr b="1" lang="zh-CN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，    我们更专业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75"/>
          <p:cNvSpPr/>
          <p:nvPr/>
        </p:nvSpPr>
        <p:spPr>
          <a:xfrm>
            <a:off x="-136440" y="0"/>
            <a:ext cx="13030200" cy="6859440"/>
          </a:xfrm>
          <a:prstGeom prst="rect">
            <a:avLst/>
          </a:prstGeom>
          <a:solidFill>
            <a:srgbClr val="f2f2f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19"/>
          <p:cNvSpPr/>
          <p:nvPr/>
        </p:nvSpPr>
        <p:spPr>
          <a:xfrm rot="10800000">
            <a:off x="-308160" y="-23760"/>
            <a:ext cx="12598200" cy="8618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23"/>
          <p:cNvSpPr/>
          <p:nvPr/>
        </p:nvSpPr>
        <p:spPr>
          <a:xfrm>
            <a:off x="0" y="1486080"/>
            <a:ext cx="501984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07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10" name="椭圆 34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13" name="椭圆 37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16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19" name="椭圆 32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22" name="椭圆 35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25" name="椭圆 33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28" name="椭圆 36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TextBox 46"/>
          <p:cNvSpPr/>
          <p:nvPr/>
        </p:nvSpPr>
        <p:spPr>
          <a:xfrm>
            <a:off x="1206720" y="90972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sh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直接连接符 2"/>
          <p:cNvSpPr/>
          <p:nvPr/>
        </p:nvSpPr>
        <p:spPr>
          <a:xfrm>
            <a:off x="0" y="1846440"/>
            <a:ext cx="472932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3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38" name="椭圆 5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41" name="椭圆 6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4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47" name="椭圆 8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50" name="椭圆 9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53" name="椭圆 10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56" name="椭圆 11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TextBox 12"/>
          <p:cNvSpPr/>
          <p:nvPr/>
        </p:nvSpPr>
        <p:spPr>
          <a:xfrm>
            <a:off x="1650960" y="11984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节能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实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3"/>
          <p:cNvSpPr/>
          <p:nvPr/>
        </p:nvSpPr>
        <p:spPr>
          <a:xfrm>
            <a:off x="138060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19"/>
          <p:cNvSpPr/>
          <p:nvPr/>
        </p:nvSpPr>
        <p:spPr>
          <a:xfrm rot="10800000">
            <a:off x="-360" y="0"/>
            <a:ext cx="12434760" cy="1054080"/>
          </a:xfrm>
          <a:custGeom>
            <a:avLst/>
            <a:gdLst/>
            <a:ahLst/>
            <a:rect l="l" t="t" r="r" b="b"/>
            <a:pathLst>
              <a:path w="122967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431410" y="-16801"/>
                  <a:pt x="12285863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L -0.12995 -0.00023 C -0.18815 -0.00023 -0.25977 -0.14775 -0.25977 -0.26775 L -0.25977 -0.53457 E">
                                      <p:cBhvr>
                                        <p:cTn id="132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7"/>
          <p:cNvSpPr/>
          <p:nvPr/>
        </p:nvSpPr>
        <p:spPr>
          <a:xfrm>
            <a:off x="888840" y="2916360"/>
            <a:ext cx="5208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公司商业，已删除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7"/>
          <p:cNvSpPr/>
          <p:nvPr/>
        </p:nvSpPr>
        <p:spPr>
          <a:xfrm>
            <a:off x="6145200" y="2916360"/>
            <a:ext cx="5208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删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7081920" y="4678200"/>
            <a:ext cx="2303280" cy="337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精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9"/>
          <p:cNvSpPr/>
          <p:nvPr/>
        </p:nvSpPr>
        <p:spPr>
          <a:xfrm>
            <a:off x="15249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657680" y="1125360"/>
            <a:ext cx="7207200" cy="936720"/>
            <a:chOff x="4657680" y="1125360"/>
            <a:chExt cx="7207200" cy="936720"/>
          </a:xfrm>
        </p:grpSpPr>
        <p:grpSp>
          <p:nvGrpSpPr>
            <p:cNvPr id="669" name=""/>
            <p:cNvGrpSpPr/>
            <p:nvPr/>
          </p:nvGrpSpPr>
          <p:grpSpPr>
            <a:xfrm>
              <a:off x="4657680" y="1125360"/>
              <a:ext cx="2340000" cy="936720"/>
              <a:chOff x="4657680" y="1125360"/>
              <a:chExt cx="2340000" cy="936720"/>
            </a:xfrm>
          </p:grpSpPr>
          <p:pic>
            <p:nvPicPr>
              <p:cNvPr id="670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76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1" name="TextBox 10"/>
              <p:cNvSpPr/>
              <p:nvPr/>
            </p:nvSpPr>
            <p:spPr>
              <a:xfrm>
                <a:off x="5244840" y="1125360"/>
                <a:ext cx="1003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言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行一致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091280" y="1125360"/>
              <a:ext cx="2340000" cy="936720"/>
              <a:chOff x="7091280" y="1125360"/>
              <a:chExt cx="2340000" cy="936720"/>
            </a:xfrm>
          </p:grpSpPr>
          <p:pic>
            <p:nvPicPr>
              <p:cNvPr id="673" name="矩形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912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TextBox 15"/>
              <p:cNvSpPr/>
              <p:nvPr/>
            </p:nvSpPr>
            <p:spPr>
              <a:xfrm>
                <a:off x="749664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厚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德载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9524880" y="1125360"/>
              <a:ext cx="2340000" cy="936720"/>
              <a:chOff x="9524880" y="1125360"/>
              <a:chExt cx="2340000" cy="936720"/>
            </a:xfrm>
          </p:grpSpPr>
          <p:pic>
            <p:nvPicPr>
              <p:cNvPr id="676" name="矩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5248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TextBox 18"/>
              <p:cNvSpPr/>
              <p:nvPr/>
            </p:nvSpPr>
            <p:spPr>
              <a:xfrm>
                <a:off x="993132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自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强不息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78" name="Picture 2" descr="F:\03图片下载\Z自然风景\1253332070679.jpg"/>
          <p:cNvPicPr/>
          <p:nvPr/>
        </p:nvPicPr>
        <p:blipFill>
          <a:blip r:embed="rId5"/>
          <a:srcRect l="0" t="69513" r="10781" b="7083"/>
          <a:stretch/>
        </p:blipFill>
        <p:spPr>
          <a:xfrm>
            <a:off x="0" y="1106640"/>
            <a:ext cx="1631628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155" dur="5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1991E-006 -1.48148E-006 L -1.55386 -1.48148E-006 E">
                                      <p:cBhvr>
                                        <p:cTn id="172" dur="193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2045160" y="544680"/>
            <a:ext cx="7163640" cy="7956360"/>
            <a:chOff x="2045160" y="544680"/>
            <a:chExt cx="7163640" cy="7956360"/>
          </a:xfrm>
        </p:grpSpPr>
        <p:pic>
          <p:nvPicPr>
            <p:cNvPr id="680" name="Freeform 11" descr=""/>
            <p:cNvPicPr/>
            <p:nvPr/>
          </p:nvPicPr>
          <p:blipFill>
            <a:blip r:embed="rId2"/>
            <a:stretch/>
          </p:blipFill>
          <p:spPr>
            <a:xfrm>
              <a:off x="2174760" y="544680"/>
              <a:ext cx="7034040" cy="79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2045160" y="3260880"/>
              <a:ext cx="6675480" cy="2715840"/>
              <a:chOff x="2045160" y="3260880"/>
              <a:chExt cx="6675480" cy="271584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2045160" y="3260880"/>
                <a:ext cx="6316920" cy="2111040"/>
                <a:chOff x="2045160" y="3260880"/>
                <a:chExt cx="6316920" cy="2111040"/>
              </a:xfrm>
            </p:grpSpPr>
            <p:sp>
              <p:nvSpPr>
                <p:cNvPr id="683" name="直接连接符 143"/>
                <p:cNvSpPr/>
                <p:nvPr/>
              </p:nvSpPr>
              <p:spPr>
                <a:xfrm flipV="1">
                  <a:off x="2045160" y="4525200"/>
                  <a:ext cx="2220480" cy="846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直接连接符 150"/>
                <p:cNvSpPr/>
                <p:nvPr/>
              </p:nvSpPr>
              <p:spPr>
                <a:xfrm>
                  <a:off x="4506480" y="4339800"/>
                  <a:ext cx="813240" cy="30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5" name="直接连接符 151"/>
                <p:cNvSpPr/>
                <p:nvPr/>
              </p:nvSpPr>
              <p:spPr>
                <a:xfrm flipV="1">
                  <a:off x="5536080" y="3797640"/>
                  <a:ext cx="1053360" cy="4017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直接连接符 152"/>
                <p:cNvSpPr/>
                <p:nvPr/>
              </p:nvSpPr>
              <p:spPr>
                <a:xfrm>
                  <a:off x="6923520" y="3650760"/>
                  <a:ext cx="487080" cy="349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7" name="直接连接符 153"/>
                <p:cNvSpPr/>
                <p:nvPr/>
              </p:nvSpPr>
              <p:spPr>
                <a:xfrm flipV="1">
                  <a:off x="7688520" y="3260880"/>
                  <a:ext cx="673560" cy="270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2310840" y="3537360"/>
                <a:ext cx="6409800" cy="2439360"/>
                <a:chOff x="2310840" y="3537360"/>
                <a:chExt cx="6409800" cy="2439360"/>
              </a:xfrm>
            </p:grpSpPr>
            <p:sp>
              <p:nvSpPr>
                <p:cNvPr id="689" name="直接连接符 138"/>
                <p:cNvSpPr/>
                <p:nvPr/>
              </p:nvSpPr>
              <p:spPr>
                <a:xfrm flipV="1">
                  <a:off x="2310840" y="5047560"/>
                  <a:ext cx="2314440" cy="9291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直接连接符 139"/>
                <p:cNvSpPr/>
                <p:nvPr/>
              </p:nvSpPr>
              <p:spPr>
                <a:xfrm flipV="1">
                  <a:off x="4721760" y="4836600"/>
                  <a:ext cx="812160" cy="12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1" name="直接连接符 140"/>
                <p:cNvSpPr/>
                <p:nvPr/>
              </p:nvSpPr>
              <p:spPr>
                <a:xfrm flipV="1">
                  <a:off x="5754240" y="4204080"/>
                  <a:ext cx="1150200" cy="485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2" name="直接连接符 141"/>
                <p:cNvSpPr/>
                <p:nvPr/>
              </p:nvSpPr>
              <p:spPr>
                <a:xfrm>
                  <a:off x="7072920" y="4049640"/>
                  <a:ext cx="584640" cy="219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3" name="直接连接符 142"/>
                <p:cNvSpPr/>
                <p:nvPr/>
              </p:nvSpPr>
              <p:spPr>
                <a:xfrm flipV="1">
                  <a:off x="7806960" y="3537360"/>
                  <a:ext cx="913680" cy="423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4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941480" y="2862360"/>
            <a:ext cx="1090800" cy="2249280"/>
            <a:chOff x="1941480" y="2862360"/>
            <a:chExt cx="1090800" cy="2249280"/>
          </a:xfrm>
        </p:grpSpPr>
        <p:sp>
          <p:nvSpPr>
            <p:cNvPr id="696" name="直接连接符 83"/>
            <p:cNvSpPr/>
            <p:nvPr/>
          </p:nvSpPr>
          <p:spPr>
            <a:xfrm flipV="1">
              <a:off x="2600280" y="4025880"/>
              <a:ext cx="0" cy="108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7"/>
            <p:cNvSpPr/>
            <p:nvPr/>
          </p:nvSpPr>
          <p:spPr>
            <a:xfrm>
              <a:off x="1941480" y="2862360"/>
              <a:ext cx="109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531880" y="3941280"/>
              <a:ext cx="144360" cy="144360"/>
              <a:chOff x="2531880" y="3941280"/>
              <a:chExt cx="144360" cy="144360"/>
            </a:xfrm>
          </p:grpSpPr>
          <p:sp>
            <p:nvSpPr>
              <p:cNvPr id="699" name="椭圆 86"/>
              <p:cNvSpPr/>
              <p:nvPr/>
            </p:nvSpPr>
            <p:spPr>
              <a:xfrm>
                <a:off x="2531880" y="3941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椭圆 87"/>
              <p:cNvSpPr/>
              <p:nvPr/>
            </p:nvSpPr>
            <p:spPr>
              <a:xfrm>
                <a:off x="2557080" y="39664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1" name="直接连接符 22"/>
          <p:cNvSpPr/>
          <p:nvPr/>
        </p:nvSpPr>
        <p:spPr>
          <a:xfrm flipV="1">
            <a:off x="4889520" y="4512960"/>
            <a:ext cx="785880" cy="21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859120" y="2133720"/>
            <a:ext cx="896760" cy="2985480"/>
            <a:chOff x="2859120" y="2133720"/>
            <a:chExt cx="896760" cy="2985480"/>
          </a:xfrm>
        </p:grpSpPr>
        <p:sp>
          <p:nvSpPr>
            <p:cNvPr id="703" name="直接连接符 98"/>
            <p:cNvSpPr/>
            <p:nvPr/>
          </p:nvSpPr>
          <p:spPr>
            <a:xfrm flipV="1">
              <a:off x="3246480" y="340164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TextBox 18"/>
            <p:cNvSpPr/>
            <p:nvPr/>
          </p:nvSpPr>
          <p:spPr>
            <a:xfrm>
              <a:off x="2859120" y="2133720"/>
              <a:ext cx="896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3174840" y="3299040"/>
              <a:ext cx="144360" cy="144360"/>
              <a:chOff x="3174840" y="3299040"/>
              <a:chExt cx="144360" cy="144360"/>
            </a:xfrm>
          </p:grpSpPr>
          <p:sp>
            <p:nvSpPr>
              <p:cNvPr id="706" name="椭圆 101"/>
              <p:cNvSpPr/>
              <p:nvPr/>
            </p:nvSpPr>
            <p:spPr>
              <a:xfrm>
                <a:off x="3174840" y="329904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椭圆 102"/>
              <p:cNvSpPr/>
              <p:nvPr/>
            </p:nvSpPr>
            <p:spPr>
              <a:xfrm>
                <a:off x="3200040" y="332424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3930480" y="2060640"/>
            <a:ext cx="833760" cy="2771280"/>
            <a:chOff x="3930480" y="2060640"/>
            <a:chExt cx="833760" cy="2771280"/>
          </a:xfrm>
        </p:grpSpPr>
        <p:sp>
          <p:nvSpPr>
            <p:cNvPr id="709" name="直接连接符 104"/>
            <p:cNvSpPr/>
            <p:nvPr/>
          </p:nvSpPr>
          <p:spPr>
            <a:xfrm flipV="1">
              <a:off x="4322880" y="3115800"/>
              <a:ext cx="0" cy="171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TextBox 25"/>
            <p:cNvSpPr/>
            <p:nvPr/>
          </p:nvSpPr>
          <p:spPr>
            <a:xfrm>
              <a:off x="3930480" y="206064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4246200" y="3012480"/>
              <a:ext cx="144360" cy="144360"/>
              <a:chOff x="4246200" y="3012480"/>
              <a:chExt cx="144360" cy="144360"/>
            </a:xfrm>
          </p:grpSpPr>
          <p:sp>
            <p:nvSpPr>
              <p:cNvPr id="712" name="椭圆 107"/>
              <p:cNvSpPr/>
              <p:nvPr/>
            </p:nvSpPr>
            <p:spPr>
              <a:xfrm>
                <a:off x="4246200" y="30124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椭圆 108"/>
              <p:cNvSpPr/>
              <p:nvPr/>
            </p:nvSpPr>
            <p:spPr>
              <a:xfrm>
                <a:off x="4271400" y="30376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4748040" y="1773360"/>
            <a:ext cx="947880" cy="2837880"/>
            <a:chOff x="4748040" y="1773360"/>
            <a:chExt cx="947880" cy="2837880"/>
          </a:xfrm>
        </p:grpSpPr>
        <p:sp>
          <p:nvSpPr>
            <p:cNvPr id="715" name="直接连接符 110"/>
            <p:cNvSpPr/>
            <p:nvPr/>
          </p:nvSpPr>
          <p:spPr>
            <a:xfrm flipV="1">
              <a:off x="5175000" y="289368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TextBox 27"/>
            <p:cNvSpPr/>
            <p:nvPr/>
          </p:nvSpPr>
          <p:spPr>
            <a:xfrm>
              <a:off x="4748040" y="1773360"/>
              <a:ext cx="94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5103000" y="2816280"/>
              <a:ext cx="144360" cy="144360"/>
              <a:chOff x="5103000" y="2816280"/>
              <a:chExt cx="144360" cy="144360"/>
            </a:xfrm>
          </p:grpSpPr>
          <p:sp>
            <p:nvSpPr>
              <p:cNvPr id="718" name="椭圆 113"/>
              <p:cNvSpPr/>
              <p:nvPr/>
            </p:nvSpPr>
            <p:spPr>
              <a:xfrm>
                <a:off x="5103000" y="2816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椭圆 114"/>
              <p:cNvSpPr/>
              <p:nvPr/>
            </p:nvSpPr>
            <p:spPr>
              <a:xfrm>
                <a:off x="5137200" y="2841480"/>
                <a:ext cx="7596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5952960" y="1773360"/>
            <a:ext cx="1130400" cy="2412360"/>
            <a:chOff x="5952960" y="1773360"/>
            <a:chExt cx="1130400" cy="2412360"/>
          </a:xfrm>
        </p:grpSpPr>
        <p:sp>
          <p:nvSpPr>
            <p:cNvPr id="721" name="直接连接符 116"/>
            <p:cNvSpPr/>
            <p:nvPr/>
          </p:nvSpPr>
          <p:spPr>
            <a:xfrm flipH="1" flipV="1">
              <a:off x="6529320" y="2538000"/>
              <a:ext cx="17280" cy="164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TextBox 29"/>
            <p:cNvSpPr/>
            <p:nvPr/>
          </p:nvSpPr>
          <p:spPr>
            <a:xfrm>
              <a:off x="5952960" y="1773360"/>
              <a:ext cx="113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6456960" y="2421360"/>
              <a:ext cx="144360" cy="142920"/>
              <a:chOff x="6456960" y="2421360"/>
              <a:chExt cx="144360" cy="142920"/>
            </a:xfrm>
          </p:grpSpPr>
          <p:sp>
            <p:nvSpPr>
              <p:cNvPr id="724" name="椭圆 119"/>
              <p:cNvSpPr/>
              <p:nvPr/>
            </p:nvSpPr>
            <p:spPr>
              <a:xfrm>
                <a:off x="6456960" y="2421360"/>
                <a:ext cx="144360" cy="14292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椭圆 120"/>
              <p:cNvSpPr/>
              <p:nvPr/>
            </p:nvSpPr>
            <p:spPr>
              <a:xfrm>
                <a:off x="6482160" y="2446560"/>
                <a:ext cx="93600" cy="9216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6" name=""/>
          <p:cNvGrpSpPr/>
          <p:nvPr/>
        </p:nvGrpSpPr>
        <p:grpSpPr>
          <a:xfrm>
            <a:off x="9360000" y="1268280"/>
            <a:ext cx="996840" cy="1958760"/>
            <a:chOff x="9360000" y="1268280"/>
            <a:chExt cx="996840" cy="1958760"/>
          </a:xfrm>
        </p:grpSpPr>
        <p:sp>
          <p:nvSpPr>
            <p:cNvPr id="727" name="直接连接符 122"/>
            <p:cNvSpPr/>
            <p:nvPr/>
          </p:nvSpPr>
          <p:spPr>
            <a:xfrm flipV="1">
              <a:off x="9785520" y="2387160"/>
              <a:ext cx="0" cy="839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TextBox 69"/>
            <p:cNvSpPr/>
            <p:nvPr/>
          </p:nvSpPr>
          <p:spPr>
            <a:xfrm>
              <a:off x="9360000" y="1268280"/>
              <a:ext cx="99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9713880" y="2243160"/>
              <a:ext cx="144360" cy="144360"/>
              <a:chOff x="9713880" y="2243160"/>
              <a:chExt cx="144360" cy="144360"/>
            </a:xfrm>
          </p:grpSpPr>
          <p:sp>
            <p:nvSpPr>
              <p:cNvPr id="730" name="椭圆 125"/>
              <p:cNvSpPr/>
              <p:nvPr/>
            </p:nvSpPr>
            <p:spPr>
              <a:xfrm>
                <a:off x="9713880" y="224316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椭圆 126"/>
              <p:cNvSpPr/>
              <p:nvPr/>
            </p:nvSpPr>
            <p:spPr>
              <a:xfrm>
                <a:off x="9739080" y="226836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1247760" y="3632040"/>
            <a:ext cx="1090800" cy="1807920"/>
            <a:chOff x="1247760" y="3632040"/>
            <a:chExt cx="1090800" cy="1807920"/>
          </a:xfrm>
        </p:grpSpPr>
        <p:sp>
          <p:nvSpPr>
            <p:cNvPr id="733" name="直接连接符 130"/>
            <p:cNvSpPr/>
            <p:nvPr/>
          </p:nvSpPr>
          <p:spPr>
            <a:xfrm flipV="1">
              <a:off x="1541520" y="4353840"/>
              <a:ext cx="0" cy="108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TextBox 17"/>
            <p:cNvSpPr/>
            <p:nvPr/>
          </p:nvSpPr>
          <p:spPr>
            <a:xfrm>
              <a:off x="1247760" y="36320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成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1472760" y="4269600"/>
              <a:ext cx="144360" cy="144360"/>
              <a:chOff x="1472760" y="4269600"/>
              <a:chExt cx="144360" cy="144360"/>
            </a:xfrm>
          </p:grpSpPr>
          <p:sp>
            <p:nvSpPr>
              <p:cNvPr id="736" name="椭圆 133"/>
              <p:cNvSpPr/>
              <p:nvPr/>
            </p:nvSpPr>
            <p:spPr>
              <a:xfrm>
                <a:off x="1472760" y="426960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椭圆 134"/>
              <p:cNvSpPr/>
              <p:nvPr/>
            </p:nvSpPr>
            <p:spPr>
              <a:xfrm>
                <a:off x="1497960" y="429480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7031160" y="1297080"/>
            <a:ext cx="1023840" cy="2650680"/>
            <a:chOff x="7031160" y="1297080"/>
            <a:chExt cx="1023840" cy="2650680"/>
          </a:xfrm>
        </p:grpSpPr>
        <p:sp>
          <p:nvSpPr>
            <p:cNvPr id="739" name="直接连接符 145"/>
            <p:cNvSpPr/>
            <p:nvPr/>
          </p:nvSpPr>
          <p:spPr>
            <a:xfrm flipV="1">
              <a:off x="7461360" y="2563560"/>
              <a:ext cx="0" cy="138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TextBox 32"/>
            <p:cNvSpPr/>
            <p:nvPr/>
          </p:nvSpPr>
          <p:spPr>
            <a:xfrm>
              <a:off x="7031160" y="1297080"/>
              <a:ext cx="102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7383960" y="2459880"/>
              <a:ext cx="144360" cy="144360"/>
              <a:chOff x="7383960" y="2459880"/>
              <a:chExt cx="144360" cy="144360"/>
            </a:xfrm>
          </p:grpSpPr>
          <p:sp>
            <p:nvSpPr>
              <p:cNvPr id="742" name="椭圆 148"/>
              <p:cNvSpPr/>
              <p:nvPr/>
            </p:nvSpPr>
            <p:spPr>
              <a:xfrm>
                <a:off x="7383960" y="24598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椭圆 149"/>
              <p:cNvSpPr/>
              <p:nvPr/>
            </p:nvSpPr>
            <p:spPr>
              <a:xfrm>
                <a:off x="7409160" y="24850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44" name="TextBox 154"/>
          <p:cNvSpPr/>
          <p:nvPr/>
        </p:nvSpPr>
        <p:spPr>
          <a:xfrm>
            <a:off x="1247760" y="5576760"/>
            <a:ext cx="8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55"/>
          <p:cNvSpPr/>
          <p:nvPr/>
        </p:nvSpPr>
        <p:spPr>
          <a:xfrm>
            <a:off x="2243160" y="52401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56"/>
          <p:cNvSpPr/>
          <p:nvPr/>
        </p:nvSpPr>
        <p:spPr>
          <a:xfrm>
            <a:off x="4368960" y="44388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8112240" y="1531800"/>
            <a:ext cx="1158840" cy="2136960"/>
            <a:chOff x="8112240" y="1531800"/>
            <a:chExt cx="1158840" cy="2136960"/>
          </a:xfrm>
        </p:grpSpPr>
        <p:sp>
          <p:nvSpPr>
            <p:cNvPr id="748" name="直接连接符 158"/>
            <p:cNvSpPr/>
            <p:nvPr/>
          </p:nvSpPr>
          <p:spPr>
            <a:xfrm flipV="1">
              <a:off x="8767800" y="2492280"/>
              <a:ext cx="0" cy="1176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TextBox 34"/>
            <p:cNvSpPr/>
            <p:nvPr/>
          </p:nvSpPr>
          <p:spPr>
            <a:xfrm>
              <a:off x="8112240" y="153180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国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8695800" y="2326320"/>
              <a:ext cx="144360" cy="144360"/>
              <a:chOff x="8695800" y="2326320"/>
              <a:chExt cx="144360" cy="144360"/>
            </a:xfrm>
          </p:grpSpPr>
          <p:sp>
            <p:nvSpPr>
              <p:cNvPr id="751" name="椭圆 161"/>
              <p:cNvSpPr/>
              <p:nvPr/>
            </p:nvSpPr>
            <p:spPr>
              <a:xfrm>
                <a:off x="8695800" y="232632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椭圆 162"/>
              <p:cNvSpPr/>
              <p:nvPr/>
            </p:nvSpPr>
            <p:spPr>
              <a:xfrm>
                <a:off x="8721000" y="235152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3" name="TextBox 163"/>
          <p:cNvSpPr/>
          <p:nvPr/>
        </p:nvSpPr>
        <p:spPr>
          <a:xfrm>
            <a:off x="6602400" y="37893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66"/>
          <p:cNvSpPr/>
          <p:nvPr/>
        </p:nvSpPr>
        <p:spPr>
          <a:xfrm>
            <a:off x="3391560" y="371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67"/>
          <p:cNvSpPr/>
          <p:nvPr/>
        </p:nvSpPr>
        <p:spPr>
          <a:xfrm>
            <a:off x="670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68"/>
          <p:cNvSpPr/>
          <p:nvPr/>
        </p:nvSpPr>
        <p:spPr>
          <a:xfrm>
            <a:off x="1519200" y="14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69"/>
          <p:cNvSpPr/>
          <p:nvPr/>
        </p:nvSpPr>
        <p:spPr>
          <a:xfrm>
            <a:off x="2959920" y="127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70"/>
          <p:cNvSpPr/>
          <p:nvPr/>
        </p:nvSpPr>
        <p:spPr>
          <a:xfrm>
            <a:off x="1159560" y="242100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71"/>
          <p:cNvSpPr/>
          <p:nvPr/>
        </p:nvSpPr>
        <p:spPr>
          <a:xfrm>
            <a:off x="5058720" y="10238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72"/>
          <p:cNvSpPr/>
          <p:nvPr/>
        </p:nvSpPr>
        <p:spPr>
          <a:xfrm>
            <a:off x="5407920" y="28544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73"/>
          <p:cNvSpPr/>
          <p:nvPr/>
        </p:nvSpPr>
        <p:spPr>
          <a:xfrm>
            <a:off x="7712280" y="4005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74"/>
          <p:cNvSpPr/>
          <p:nvPr/>
        </p:nvSpPr>
        <p:spPr>
          <a:xfrm>
            <a:off x="7856640" y="2709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75"/>
          <p:cNvSpPr/>
          <p:nvPr/>
        </p:nvSpPr>
        <p:spPr>
          <a:xfrm>
            <a:off x="5983920" y="1557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76"/>
          <p:cNvSpPr/>
          <p:nvPr/>
        </p:nvSpPr>
        <p:spPr>
          <a:xfrm>
            <a:off x="8864640" y="2781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77"/>
          <p:cNvSpPr/>
          <p:nvPr/>
        </p:nvSpPr>
        <p:spPr>
          <a:xfrm>
            <a:off x="4399920" y="32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78"/>
          <p:cNvSpPr/>
          <p:nvPr/>
        </p:nvSpPr>
        <p:spPr>
          <a:xfrm>
            <a:off x="814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79"/>
          <p:cNvSpPr/>
          <p:nvPr/>
        </p:nvSpPr>
        <p:spPr>
          <a:xfrm>
            <a:off x="1735200" y="451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80"/>
          <p:cNvSpPr/>
          <p:nvPr/>
        </p:nvSpPr>
        <p:spPr>
          <a:xfrm>
            <a:off x="5552280" y="472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81"/>
          <p:cNvSpPr/>
          <p:nvPr/>
        </p:nvSpPr>
        <p:spPr>
          <a:xfrm>
            <a:off x="6560280" y="3141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88"/>
          <p:cNvSpPr/>
          <p:nvPr/>
        </p:nvSpPr>
        <p:spPr>
          <a:xfrm>
            <a:off x="5335560" y="3573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组合 132" descr=""/>
          <p:cNvPicPr/>
          <p:nvPr/>
        </p:nvPicPr>
        <p:blipFill>
          <a:blip r:embed="rId3"/>
          <a:stretch/>
        </p:blipFill>
        <p:spPr>
          <a:xfrm>
            <a:off x="2425680" y="1768320"/>
            <a:ext cx="324000" cy="322560"/>
          </a:xfrm>
          <a:prstGeom prst="rect">
            <a:avLst/>
          </a:prstGeom>
          <a:ln w="0">
            <a:noFill/>
          </a:ln>
        </p:spPr>
      </p:pic>
      <p:sp>
        <p:nvSpPr>
          <p:cNvPr id="772" name="椭圆 204"/>
          <p:cNvSpPr/>
          <p:nvPr/>
        </p:nvSpPr>
        <p:spPr>
          <a:xfrm>
            <a:off x="1450800" y="541008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344600" y="5302080"/>
            <a:ext cx="324000" cy="325440"/>
            <a:chOff x="1344600" y="5302080"/>
            <a:chExt cx="324000" cy="325440"/>
          </a:xfrm>
        </p:grpSpPr>
        <p:sp>
          <p:nvSpPr>
            <p:cNvPr id="774" name="同心圆 206"/>
            <p:cNvSpPr/>
            <p:nvPr/>
          </p:nvSpPr>
          <p:spPr>
            <a:xfrm>
              <a:off x="1344600" y="530208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同心圆 207"/>
            <p:cNvSpPr/>
            <p:nvPr/>
          </p:nvSpPr>
          <p:spPr>
            <a:xfrm>
              <a:off x="1398600" y="535608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椭圆 208"/>
            <p:cNvSpPr/>
            <p:nvPr/>
          </p:nvSpPr>
          <p:spPr>
            <a:xfrm>
              <a:off x="1452600" y="541008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7" name="Picture 2" descr="坐在飞机上的人图片"/>
          <p:cNvPicPr/>
          <p:nvPr/>
        </p:nvPicPr>
        <p:blipFill>
          <a:blip r:embed="rId4"/>
          <a:srcRect l="10907" t="47496" r="35356" b="1683"/>
          <a:stretch/>
        </p:blipFill>
        <p:spPr>
          <a:xfrm rot="702000">
            <a:off x="10561680" y="2061720"/>
            <a:ext cx="1336680" cy="892080"/>
          </a:xfrm>
          <a:prstGeom prst="rect">
            <a:avLst/>
          </a:prstGeom>
          <a:ln w="0">
            <a:noFill/>
          </a:ln>
        </p:spPr>
      </p:pic>
      <p:grpSp>
        <p:nvGrpSpPr>
          <p:cNvPr id="778" name=""/>
          <p:cNvGrpSpPr/>
          <p:nvPr/>
        </p:nvGrpSpPr>
        <p:grpSpPr>
          <a:xfrm>
            <a:off x="2425680" y="4941720"/>
            <a:ext cx="324000" cy="325440"/>
            <a:chOff x="2425680" y="4941720"/>
            <a:chExt cx="324000" cy="325440"/>
          </a:xfrm>
        </p:grpSpPr>
        <p:sp>
          <p:nvSpPr>
            <p:cNvPr id="779" name="同心圆 225"/>
            <p:cNvSpPr/>
            <p:nvPr/>
          </p:nvSpPr>
          <p:spPr>
            <a:xfrm>
              <a:off x="2425680" y="494172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同心圆 226"/>
            <p:cNvSpPr/>
            <p:nvPr/>
          </p:nvSpPr>
          <p:spPr>
            <a:xfrm>
              <a:off x="2479680" y="499572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椭圆 227"/>
            <p:cNvSpPr/>
            <p:nvPr/>
          </p:nvSpPr>
          <p:spPr>
            <a:xfrm>
              <a:off x="2533680" y="504972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152960" y="4726080"/>
            <a:ext cx="323640" cy="325440"/>
            <a:chOff x="4152960" y="4726080"/>
            <a:chExt cx="323640" cy="325440"/>
          </a:xfrm>
        </p:grpSpPr>
        <p:sp>
          <p:nvSpPr>
            <p:cNvPr id="783" name="同心圆 229"/>
            <p:cNvSpPr/>
            <p:nvPr/>
          </p:nvSpPr>
          <p:spPr>
            <a:xfrm>
              <a:off x="4152960" y="472608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同心圆 230"/>
            <p:cNvSpPr/>
            <p:nvPr/>
          </p:nvSpPr>
          <p:spPr>
            <a:xfrm>
              <a:off x="4206600" y="478008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椭圆 231"/>
            <p:cNvSpPr/>
            <p:nvPr/>
          </p:nvSpPr>
          <p:spPr>
            <a:xfrm>
              <a:off x="4260600" y="483408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384960" y="4078440"/>
            <a:ext cx="323640" cy="325440"/>
            <a:chOff x="6384960" y="4078440"/>
            <a:chExt cx="323640" cy="325440"/>
          </a:xfrm>
        </p:grpSpPr>
        <p:sp>
          <p:nvSpPr>
            <p:cNvPr id="787" name="同心圆 233"/>
            <p:cNvSpPr/>
            <p:nvPr/>
          </p:nvSpPr>
          <p:spPr>
            <a:xfrm>
              <a:off x="6384960" y="407844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同心圆 234"/>
            <p:cNvSpPr/>
            <p:nvPr/>
          </p:nvSpPr>
          <p:spPr>
            <a:xfrm>
              <a:off x="6438600" y="413244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椭圆 235"/>
            <p:cNvSpPr/>
            <p:nvPr/>
          </p:nvSpPr>
          <p:spPr>
            <a:xfrm>
              <a:off x="6492600" y="418644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1000">
    <p:pull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50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791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794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797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00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03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06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09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金岁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13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4.16185E-006 L -0.18476 -4.16185E-006 C -0.26744 -4.16185E-006 -0.36914 -0.08277 -0.36914 -0.15005 L -0.36914 -0.29896 E">
                                      <p:cBhvr>
                                        <p:cTn id="439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Box 1"/>
          <p:cNvSpPr/>
          <p:nvPr/>
        </p:nvSpPr>
        <p:spPr>
          <a:xfrm>
            <a:off x="1128600" y="3762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资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874800" y="1413000"/>
            <a:ext cx="2374920" cy="2248560"/>
            <a:chOff x="874800" y="1413000"/>
            <a:chExt cx="2374920" cy="2248560"/>
          </a:xfrm>
        </p:grpSpPr>
        <p:pic>
          <p:nvPicPr>
            <p:cNvPr id="817" name="Picture 25" descr=""/>
            <p:cNvPicPr/>
            <p:nvPr/>
          </p:nvPicPr>
          <p:blipFill>
            <a:blip r:embed="rId2"/>
            <a:stretch/>
          </p:blipFill>
          <p:spPr>
            <a:xfrm>
              <a:off x="874800" y="1413000"/>
              <a:ext cx="2374920" cy="16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Box 18"/>
            <p:cNvSpPr/>
            <p:nvPr/>
          </p:nvSpPr>
          <p:spPr>
            <a:xfrm>
              <a:off x="1452240" y="3324240"/>
              <a:ext cx="121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3741840" y="1432080"/>
            <a:ext cx="2322360" cy="2208960"/>
            <a:chOff x="3741840" y="1432080"/>
            <a:chExt cx="2322360" cy="2208960"/>
          </a:xfrm>
        </p:grpSpPr>
        <p:pic>
          <p:nvPicPr>
            <p:cNvPr id="820" name="Picture 24" descr=""/>
            <p:cNvPicPr/>
            <p:nvPr/>
          </p:nvPicPr>
          <p:blipFill>
            <a:blip r:embed="rId3"/>
            <a:stretch/>
          </p:blipFill>
          <p:spPr>
            <a:xfrm>
              <a:off x="3741840" y="1432080"/>
              <a:ext cx="2322360" cy="16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Box 19"/>
            <p:cNvSpPr/>
            <p:nvPr/>
          </p:nvSpPr>
          <p:spPr>
            <a:xfrm>
              <a:off x="4187160" y="3303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可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8190000" y="3776760"/>
            <a:ext cx="2636640" cy="2217600"/>
            <a:chOff x="8190000" y="3776760"/>
            <a:chExt cx="2636640" cy="2217600"/>
          </a:xfrm>
        </p:grpSpPr>
        <p:pic>
          <p:nvPicPr>
            <p:cNvPr id="823" name="Picture 27" descr=""/>
            <p:cNvPicPr/>
            <p:nvPr/>
          </p:nvPicPr>
          <p:blipFill>
            <a:blip r:embed="rId4"/>
            <a:stretch/>
          </p:blipFill>
          <p:spPr>
            <a:xfrm>
              <a:off x="8190000" y="3776760"/>
              <a:ext cx="263664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Box 20"/>
            <p:cNvSpPr/>
            <p:nvPr/>
          </p:nvSpPr>
          <p:spPr>
            <a:xfrm>
              <a:off x="9599760" y="5656320"/>
              <a:ext cx="18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58640" y="4005360"/>
            <a:ext cx="1778040" cy="1721520"/>
            <a:chOff x="458640" y="4005360"/>
            <a:chExt cx="1778040" cy="1721520"/>
          </a:xfrm>
        </p:grpSpPr>
        <p:pic>
          <p:nvPicPr>
            <p:cNvPr id="826" name="Picture 28" descr=""/>
            <p:cNvPicPr/>
            <p:nvPr/>
          </p:nvPicPr>
          <p:blipFill>
            <a:blip r:embed="rId5"/>
            <a:stretch/>
          </p:blipFill>
          <p:spPr>
            <a:xfrm>
              <a:off x="458640" y="4005360"/>
              <a:ext cx="1778040" cy="12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TextBox 21"/>
            <p:cNvSpPr/>
            <p:nvPr/>
          </p:nvSpPr>
          <p:spPr>
            <a:xfrm>
              <a:off x="1080360" y="538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4802040" y="3938760"/>
            <a:ext cx="1962360" cy="1850040"/>
            <a:chOff x="4802040" y="3938760"/>
            <a:chExt cx="1962360" cy="1850040"/>
          </a:xfrm>
        </p:grpSpPr>
        <p:pic>
          <p:nvPicPr>
            <p:cNvPr id="829" name="Picture 30" descr=""/>
            <p:cNvPicPr/>
            <p:nvPr/>
          </p:nvPicPr>
          <p:blipFill>
            <a:blip r:embed="rId6"/>
            <a:stretch/>
          </p:blipFill>
          <p:spPr>
            <a:xfrm>
              <a:off x="4802040" y="3938760"/>
              <a:ext cx="19623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TextBox 23"/>
            <p:cNvSpPr/>
            <p:nvPr/>
          </p:nvSpPr>
          <p:spPr>
            <a:xfrm>
              <a:off x="5528160" y="5451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8475840" y="1843200"/>
            <a:ext cx="1334160" cy="1622880"/>
            <a:chOff x="8475840" y="1843200"/>
            <a:chExt cx="1334160" cy="1622880"/>
          </a:xfrm>
        </p:grpSpPr>
        <p:pic>
          <p:nvPicPr>
            <p:cNvPr id="832" name="Picture 21" descr=""/>
            <p:cNvPicPr/>
            <p:nvPr/>
          </p:nvPicPr>
          <p:blipFill>
            <a:blip r:embed="rId7"/>
            <a:stretch/>
          </p:blipFill>
          <p:spPr>
            <a:xfrm>
              <a:off x="8475840" y="1843200"/>
              <a:ext cx="1201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Box 27"/>
            <p:cNvSpPr/>
            <p:nvPr/>
          </p:nvSpPr>
          <p:spPr>
            <a:xfrm>
              <a:off x="8577360" y="3128760"/>
              <a:ext cx="123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516040" y="3862440"/>
            <a:ext cx="2048040" cy="1932840"/>
            <a:chOff x="2516040" y="3862440"/>
            <a:chExt cx="2048040" cy="1932840"/>
          </a:xfrm>
        </p:grpSpPr>
        <p:sp>
          <p:nvSpPr>
            <p:cNvPr id="835" name="TextBox 22"/>
            <p:cNvSpPr/>
            <p:nvPr/>
          </p:nvSpPr>
          <p:spPr>
            <a:xfrm>
              <a:off x="3280680" y="545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登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6" name="Picture 29" descr=""/>
            <p:cNvPicPr/>
            <p:nvPr/>
          </p:nvPicPr>
          <p:blipFill>
            <a:blip r:embed="rId8"/>
            <a:stretch/>
          </p:blipFill>
          <p:spPr>
            <a:xfrm>
              <a:off x="2516040" y="3862440"/>
              <a:ext cx="2048040" cy="145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7" name="图片 89" descr="16-10.png"/>
          <p:cNvPicPr/>
          <p:nvPr/>
        </p:nvPicPr>
        <p:blipFill>
          <a:blip r:embed="rId9"/>
          <a:stretch/>
        </p:blipFill>
        <p:spPr>
          <a:xfrm>
            <a:off x="7753320" y="256536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90" descr="16-10.png"/>
          <p:cNvPicPr/>
          <p:nvPr/>
        </p:nvPicPr>
        <p:blipFill>
          <a:blip r:embed="rId10"/>
          <a:stretch/>
        </p:blipFill>
        <p:spPr>
          <a:xfrm>
            <a:off x="6086520" y="982800"/>
            <a:ext cx="560520" cy="55872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91" descr="16-10.png"/>
          <p:cNvPicPr/>
          <p:nvPr/>
        </p:nvPicPr>
        <p:blipFill>
          <a:blip r:embed="rId11"/>
          <a:stretch/>
        </p:blipFill>
        <p:spPr>
          <a:xfrm>
            <a:off x="8185320" y="262080"/>
            <a:ext cx="628560" cy="70776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92" descr="16-10.png"/>
          <p:cNvPicPr/>
          <p:nvPr/>
        </p:nvPicPr>
        <p:blipFill>
          <a:blip r:embed="rId12"/>
          <a:stretch/>
        </p:blipFill>
        <p:spPr>
          <a:xfrm>
            <a:off x="6602400" y="2925720"/>
            <a:ext cx="628560" cy="7081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93" descr="16-10.png"/>
          <p:cNvPicPr/>
          <p:nvPr/>
        </p:nvPicPr>
        <p:blipFill>
          <a:blip r:embed="rId13"/>
          <a:stretch/>
        </p:blipFill>
        <p:spPr>
          <a:xfrm>
            <a:off x="3360600" y="335772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94" descr="16-10.png"/>
          <p:cNvPicPr/>
          <p:nvPr/>
        </p:nvPicPr>
        <p:blipFill>
          <a:blip r:embed="rId14"/>
          <a:stretch/>
        </p:blipFill>
        <p:spPr>
          <a:xfrm>
            <a:off x="3218040" y="981000"/>
            <a:ext cx="487080" cy="368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95" descr="16-10.png"/>
          <p:cNvPicPr/>
          <p:nvPr/>
        </p:nvPicPr>
        <p:blipFill>
          <a:blip r:embed="rId15"/>
          <a:stretch/>
        </p:blipFill>
        <p:spPr>
          <a:xfrm>
            <a:off x="3792600" y="5950080"/>
            <a:ext cx="438120" cy="492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xit" presetID="2" presetSubtype="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"/>
                            </p:stCondLst>
                            <p:childTnLst>
                              <p:par>
                                <p:cTn id="48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700"/>
                            </p:stCondLst>
                            <p:childTnLst>
                              <p:par>
                                <p:cTn id="4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00"/>
                            </p:stCondLst>
                            <p:childTnLst>
                              <p:par>
                                <p:cTn id="50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00"/>
                            </p:stCondLst>
                            <p:childTnLst>
                              <p:par>
                                <p:cTn id="5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200"/>
                            </p:stCondLst>
                            <p:childTnLst>
                              <p:par>
                                <p:cTn id="5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700"/>
                            </p:stCondLst>
                            <p:childTnLst>
                              <p:par>
                                <p:cTn id="52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84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848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851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5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57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60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63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67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0.00023 L -0.29414 -0.00023 C -0.42591 -0.00023 -0.58763 -0.10335 -0.58763 -0.18682 L -0.58763 -0.37225 E">
                                      <p:cBhvr>
                                        <p:cTn id="563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空心弧 5" descr=""/>
          <p:cNvPicPr/>
          <p:nvPr/>
        </p:nvPicPr>
        <p:blipFill>
          <a:blip r:embed="rId2"/>
          <a:stretch/>
        </p:blipFill>
        <p:spPr>
          <a:xfrm>
            <a:off x="4035600" y="158436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0" name="空心弧 6" descr=""/>
          <p:cNvPicPr/>
          <p:nvPr/>
        </p:nvPicPr>
        <p:blipFill>
          <a:blip r:embed="rId3"/>
          <a:stretch/>
        </p:blipFill>
        <p:spPr>
          <a:xfrm>
            <a:off x="3743280" y="2639880"/>
            <a:ext cx="468360" cy="2097360"/>
          </a:xfrm>
          <a:prstGeom prst="rect">
            <a:avLst/>
          </a:prstGeom>
          <a:ln w="0">
            <a:noFill/>
          </a:ln>
        </p:spPr>
      </p:pic>
      <p:pic>
        <p:nvPicPr>
          <p:cNvPr id="871" name="空心弧 7" descr=""/>
          <p:cNvPicPr/>
          <p:nvPr/>
        </p:nvPicPr>
        <p:blipFill>
          <a:blip r:embed="rId4"/>
          <a:stretch/>
        </p:blipFill>
        <p:spPr>
          <a:xfrm>
            <a:off x="4035600" y="463248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2" name="空心弧 8" descr=""/>
          <p:cNvPicPr/>
          <p:nvPr/>
        </p:nvPicPr>
        <p:blipFill>
          <a:blip r:embed="rId5"/>
          <a:stretch/>
        </p:blipFill>
        <p:spPr>
          <a:xfrm>
            <a:off x="5851440" y="4632480"/>
            <a:ext cx="1817640" cy="1158840"/>
          </a:xfrm>
          <a:prstGeom prst="rect">
            <a:avLst/>
          </a:prstGeom>
          <a:ln w="0">
            <a:noFill/>
          </a:ln>
        </p:spPr>
      </p:pic>
      <p:pic>
        <p:nvPicPr>
          <p:cNvPr id="873" name="空心弧 9" descr=""/>
          <p:cNvPicPr/>
          <p:nvPr/>
        </p:nvPicPr>
        <p:blipFill>
          <a:blip r:embed="rId6"/>
          <a:stretch/>
        </p:blipFill>
        <p:spPr>
          <a:xfrm>
            <a:off x="7491240" y="2639880"/>
            <a:ext cx="476280" cy="2097360"/>
          </a:xfrm>
          <a:prstGeom prst="rect">
            <a:avLst/>
          </a:prstGeom>
          <a:ln w="0">
            <a:noFill/>
          </a:ln>
        </p:spPr>
      </p:pic>
      <p:pic>
        <p:nvPicPr>
          <p:cNvPr id="874" name="空心弧 10" descr=""/>
          <p:cNvPicPr/>
          <p:nvPr/>
        </p:nvPicPr>
        <p:blipFill>
          <a:blip r:embed="rId7"/>
          <a:stretch/>
        </p:blipFill>
        <p:spPr>
          <a:xfrm>
            <a:off x="5851440" y="1584360"/>
            <a:ext cx="1817640" cy="1158840"/>
          </a:xfrm>
          <a:prstGeom prst="rect">
            <a:avLst/>
          </a:prstGeom>
          <a:ln w="0">
            <a:noFill/>
          </a:ln>
        </p:spPr>
      </p:pic>
      <p:sp>
        <p:nvSpPr>
          <p:cNvPr id="875" name="直接连接符 19"/>
          <p:cNvSpPr/>
          <p:nvPr/>
        </p:nvSpPr>
        <p:spPr>
          <a:xfrm flipV="1">
            <a:off x="5867280" y="2298600"/>
            <a:ext cx="0" cy="426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21"/>
          <p:cNvSpPr/>
          <p:nvPr/>
        </p:nvSpPr>
        <p:spPr>
          <a:xfrm flipV="1">
            <a:off x="6659640" y="3014640"/>
            <a:ext cx="431640" cy="216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24"/>
          <p:cNvSpPr/>
          <p:nvPr/>
        </p:nvSpPr>
        <p:spPr>
          <a:xfrm>
            <a:off x="6659640" y="4167360"/>
            <a:ext cx="43164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直接连接符 26"/>
          <p:cNvSpPr/>
          <p:nvPr/>
        </p:nvSpPr>
        <p:spPr>
          <a:xfrm>
            <a:off x="5867280" y="4599000"/>
            <a:ext cx="0" cy="647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28"/>
          <p:cNvSpPr/>
          <p:nvPr/>
        </p:nvSpPr>
        <p:spPr>
          <a:xfrm flipH="1">
            <a:off x="4570200" y="4022640"/>
            <a:ext cx="433080" cy="287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直接连接符 30"/>
          <p:cNvSpPr/>
          <p:nvPr/>
        </p:nvSpPr>
        <p:spPr>
          <a:xfrm flipH="1" flipV="1">
            <a:off x="4643280" y="2943000"/>
            <a:ext cx="43200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1" name="任意多边形 11" descr=""/>
          <p:cNvPicPr/>
          <p:nvPr/>
        </p:nvPicPr>
        <p:blipFill>
          <a:blip r:embed="rId8"/>
          <a:stretch/>
        </p:blipFill>
        <p:spPr>
          <a:xfrm>
            <a:off x="4870440" y="2724120"/>
            <a:ext cx="1963800" cy="1976400"/>
          </a:xfrm>
          <a:prstGeom prst="rect">
            <a:avLst/>
          </a:prstGeom>
          <a:ln w="0">
            <a:noFill/>
          </a:ln>
        </p:spPr>
      </p:pic>
      <p:pic>
        <p:nvPicPr>
          <p:cNvPr id="882" name="任意多边形 12" descr=""/>
          <p:cNvPicPr/>
          <p:nvPr/>
        </p:nvPicPr>
        <p:blipFill>
          <a:blip r:embed="rId9"/>
          <a:stretch/>
        </p:blipFill>
        <p:spPr>
          <a:xfrm>
            <a:off x="5145120" y="9572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3" name="任意多边形 13" descr=""/>
          <p:cNvPicPr/>
          <p:nvPr/>
        </p:nvPicPr>
        <p:blipFill>
          <a:blip r:embed="rId10"/>
          <a:stretch/>
        </p:blipFill>
        <p:spPr>
          <a:xfrm>
            <a:off x="6924600" y="1981080"/>
            <a:ext cx="1408320" cy="1408320"/>
          </a:xfrm>
          <a:prstGeom prst="rect">
            <a:avLst/>
          </a:prstGeom>
          <a:ln w="0">
            <a:noFill/>
          </a:ln>
        </p:spPr>
      </p:pic>
      <p:pic>
        <p:nvPicPr>
          <p:cNvPr id="884" name="任意多边形 14" descr=""/>
          <p:cNvPicPr/>
          <p:nvPr/>
        </p:nvPicPr>
        <p:blipFill>
          <a:blip r:embed="rId11"/>
          <a:stretch/>
        </p:blipFill>
        <p:spPr>
          <a:xfrm>
            <a:off x="692460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5" name="任意多边形 15" descr=""/>
          <p:cNvPicPr/>
          <p:nvPr/>
        </p:nvPicPr>
        <p:blipFill>
          <a:blip r:embed="rId12"/>
          <a:stretch/>
        </p:blipFill>
        <p:spPr>
          <a:xfrm>
            <a:off x="5145120" y="50594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6" name="任意多边形 16" descr=""/>
          <p:cNvPicPr/>
          <p:nvPr/>
        </p:nvPicPr>
        <p:blipFill>
          <a:blip r:embed="rId13"/>
          <a:stretch/>
        </p:blipFill>
        <p:spPr>
          <a:xfrm>
            <a:off x="337176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7" name="任意多边形 17" descr=""/>
          <p:cNvPicPr/>
          <p:nvPr/>
        </p:nvPicPr>
        <p:blipFill>
          <a:blip r:embed="rId14"/>
          <a:stretch/>
        </p:blipFill>
        <p:spPr>
          <a:xfrm>
            <a:off x="3371760" y="1981080"/>
            <a:ext cx="1408320" cy="1408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6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7:55:08Z</dcterms:created>
  <dc:creator>Administrator</dc:creator>
  <dc:description/>
  <dc:language>en-US</dc:language>
  <cp:lastModifiedBy>微软用户</cp:lastModifiedBy>
  <dcterms:modified xsi:type="dcterms:W3CDTF">2014-08-23T15:32:34Z</dcterms:modified>
  <cp:revision>2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