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7C3-B7AF-4503-A5D8-98A1554F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B98-3ABF-4D17-91F9-208EEE59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236-DEA4-4070-A4FC-3E2EDAA9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8BF-880B-4556-96D2-536F9D0B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632-7279-4210-833F-98E071D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B99-906F-46F9-85EB-0C30649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9DA-63B8-4081-84C3-34B2AE7D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CAA-C8E4-40C4-93D8-10EC4DB5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E31-E9EB-4EE0-B486-F7FE5F3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B4F-EC71-4E14-B45C-F3962B2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1F1-ADB1-4735-9BBB-472482D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690-CAFB-44BB-96A8-63CF9D9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290-1D40-48DE-A836-A0ECBF53C528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EE21-D070-45C7-8DCF-EFB39C55102F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78"/>
          <p:cNvSpPr/>
          <p:nvPr/>
        </p:nvSpPr>
        <p:spPr>
          <a:xfrm>
            <a:off x="3876840" y="2063880"/>
            <a:ext cx="8323200" cy="48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Off-page Connector 36"/>
          <p:cNvSpPr/>
          <p:nvPr/>
        </p:nvSpPr>
        <p:spPr>
          <a:xfrm>
            <a:off x="8798040" y="0"/>
            <a:ext cx="863640" cy="11541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7"/>
          <p:cNvSpPr/>
          <p:nvPr/>
        </p:nvSpPr>
        <p:spPr>
          <a:xfrm>
            <a:off x="2975040" y="2779560"/>
            <a:ext cx="5254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edi2313.mp3" descr=""/>
          <p:cNvPicPr/>
          <p:nvPr/>
        </p:nvPicPr>
        <p:blipFill>
          <a:blip r:embed="rId1"/>
          <a:stretch/>
        </p:blipFill>
        <p:spPr>
          <a:xfrm>
            <a:off x="969840" y="5835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87560" y="278280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人：一凡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岗位：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87560" y="23400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长事业：营销策划、设计、美陈、统筹施工及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856720" y="111240"/>
            <a:ext cx="8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人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631800" y="1457280"/>
            <a:ext cx="2124000" cy="215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我能"/>
          <p:cNvPicPr/>
          <p:nvPr/>
        </p:nvPicPr>
        <p:blipFill>
          <a:blip r:embed="rId3"/>
          <a:stretch/>
        </p:blipFill>
        <p:spPr>
          <a:xfrm>
            <a:off x="6886440" y="4656240"/>
            <a:ext cx="22482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拳头"/>
          <p:cNvPicPr/>
          <p:nvPr/>
        </p:nvPicPr>
        <p:blipFill>
          <a:blip r:embed="rId4"/>
          <a:stretch/>
        </p:blipFill>
        <p:spPr>
          <a:xfrm>
            <a:off x="8408880" y="0"/>
            <a:ext cx="37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5"/>
          <p:cNvSpPr/>
          <p:nvPr/>
        </p:nvSpPr>
        <p:spPr>
          <a:xfrm>
            <a:off x="9172440" y="46656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0137600" y="4478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10347120" y="5065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8080" y="3049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7800" y="409680"/>
            <a:ext cx="596916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基本信息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1120680" y="509760"/>
            <a:ext cx="406440" cy="4363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3212640" y="2205000"/>
            <a:ext cx="3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姓名：一凡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815200" y="2682720"/>
            <a:ext cx="18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出生年月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199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837160" y="31622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籍贯：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7255440" y="2205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毕业学校：四川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172640" y="2682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专业：工程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089840" y="3162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学历：硕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6861960" y="479124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手机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:1911111111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6880320" y="52513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邮箱：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1911111111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@163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2837160" y="479124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英语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CET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886120" y="5251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计算机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NCR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9"/>
          <p:cNvSpPr/>
          <p:nvPr/>
        </p:nvSpPr>
        <p:spPr>
          <a:xfrm flipH="1">
            <a:off x="2282760" y="1773360"/>
            <a:ext cx="743040" cy="9093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2174760" y="164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31"/>
          <p:cNvSpPr/>
          <p:nvPr/>
        </p:nvSpPr>
        <p:spPr>
          <a:xfrm flipH="1">
            <a:off x="6568920" y="176040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9"/>
          <p:cNvSpPr/>
          <p:nvPr/>
        </p:nvSpPr>
        <p:spPr>
          <a:xfrm>
            <a:off x="647028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3"/>
          <p:cNvSpPr/>
          <p:nvPr/>
        </p:nvSpPr>
        <p:spPr>
          <a:xfrm flipH="1">
            <a:off x="2282760" y="435276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218592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H="1">
            <a:off x="6568920" y="431784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3"/>
          <p:cNvSpPr/>
          <p:nvPr/>
        </p:nvSpPr>
        <p:spPr>
          <a:xfrm>
            <a:off x="6473520" y="418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932240" y="5795640"/>
            <a:ext cx="4084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.........</a:t>
            </a: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那些关于他故事</a:t>
            </a:r>
            <a:endParaRPr b="0" lang="en-US" sz="2400" spc="-1" strike="noStrike">
              <a:solidFill>
                <a:srgbClr val="000000"/>
              </a:solidFill>
              <a:latin typeface="方正兰亭粗黑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求职意向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pic>
        <p:nvPicPr>
          <p:cNvPr id="81" name="图表 7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5461200" cy="40086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7"/>
          <p:cNvSpPr/>
          <p:nvPr/>
        </p:nvSpPr>
        <p:spPr>
          <a:xfrm>
            <a:off x="1038240" y="406440"/>
            <a:ext cx="541440" cy="6397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819440" y="163368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1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目标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1819440" y="431172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3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职业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819440" y="297180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</a:rPr>
              <a:t>2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</a:rPr>
              <a:t>意向薪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013560" y="2019240"/>
            <a:ext cx="62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网页设计师、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UI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设计师、平面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1847160" y="3338640"/>
            <a:ext cx="108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元 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/ 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757520" y="4680000"/>
            <a:ext cx="433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机会留给有准备的人。这里插入文字说明你的职业规划，便于用人单位了解你的职业发展意愿，评估本企业职业发展通道能否与求职者匹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15"/>
          <p:cNvCxnSpPr/>
          <p:nvPr/>
        </p:nvCxnSpPr>
        <p:spPr>
          <a:xfrm flipV="1">
            <a:off x="2378160" y="2858400"/>
            <a:ext cx="2160" cy="2259720"/>
          </a:xfrm>
          <a:prstGeom prst="straightConnector1">
            <a:avLst/>
          </a:prstGeom>
          <a:ln w="6480">
            <a:solidFill>
              <a:srgbClr val="3f3f3f"/>
            </a:solidFill>
            <a:miter/>
            <a:tailEnd len="med" type="triangle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学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1014480" y="511200"/>
            <a:ext cx="674640" cy="4316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9"/>
          <p:cNvGrpSpPr/>
          <p:nvPr/>
        </p:nvGrpSpPr>
        <p:grpSpPr>
          <a:xfrm>
            <a:off x="3447360" y="3543480"/>
            <a:ext cx="2656440" cy="961560"/>
            <a:chOff x="3447360" y="3543480"/>
            <a:chExt cx="2656440" cy="961560"/>
          </a:xfrm>
        </p:grpSpPr>
        <p:sp>
          <p:nvSpPr>
            <p:cNvPr id="97" name="矩形 5"/>
            <p:cNvSpPr/>
            <p:nvPr/>
          </p:nvSpPr>
          <p:spPr>
            <a:xfrm>
              <a:off x="3447360" y="3543480"/>
              <a:ext cx="2103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06-2010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7"/>
            <p:cNvSpPr/>
            <p:nvPr/>
          </p:nvSpPr>
          <p:spPr>
            <a:xfrm>
              <a:off x="3832200" y="3953880"/>
              <a:ext cx="2271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经贸管理学院    国际贸易专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3224160" y="1816200"/>
            <a:ext cx="4014720" cy="1057680"/>
            <a:chOff x="3224160" y="1816200"/>
            <a:chExt cx="4014720" cy="1057680"/>
          </a:xfrm>
        </p:grpSpPr>
        <p:sp>
          <p:nvSpPr>
            <p:cNvPr id="100" name="矩形 8"/>
            <p:cNvSpPr/>
            <p:nvPr/>
          </p:nvSpPr>
          <p:spPr>
            <a:xfrm>
              <a:off x="3224160" y="1816200"/>
              <a:ext cx="4014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10-2013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704400" y="2322720"/>
              <a:ext cx="1814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文史学院    教育心理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椭圆 11"/>
          <p:cNvSpPr/>
          <p:nvPr/>
        </p:nvSpPr>
        <p:spPr>
          <a:xfrm>
            <a:off x="1928880" y="3538440"/>
            <a:ext cx="900000" cy="900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1838160" y="1779480"/>
            <a:ext cx="1081080" cy="107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硕士研究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2019240" y="5118120"/>
            <a:ext cx="719280" cy="72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高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3517560" y="5229360"/>
            <a:ext cx="271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2003-2006</a:t>
            </a:r>
            <a:r>
              <a:rPr b="0" lang="zh-CN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四川大学附属中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7238880" y="1936800"/>
            <a:ext cx="41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10.9----2011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担任研究生院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教授助教，为本科生讲授西方教育史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课时，考试及格率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7238880" y="3451320"/>
            <a:ext cx="41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06.9----2010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担任班长，组织超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5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次班级活动，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2007.9-2008.6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学年被评为学校先进工作者。个人连续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</a:rPr>
              <a:t>年获得四川省国家助学计划一等奖学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专业技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3" name="Freeform 87"/>
          <p:cNvSpPr/>
          <p:nvPr/>
        </p:nvSpPr>
        <p:spPr>
          <a:xfrm>
            <a:off x="1084320" y="504720"/>
            <a:ext cx="450720" cy="443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811160" y="1508040"/>
            <a:ext cx="95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具有良好的美术功底与创意能力；熟悉网页设计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平面设计相关工作流程； 熟练使用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Flash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Photoshop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CAD,3Dmax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</a:rPr>
              <a:t>Illustrator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</a:rPr>
              <a:t>等设计软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表 22" descr=""/>
          <p:cNvPicPr/>
          <p:nvPr/>
        </p:nvPicPr>
        <p:blipFill>
          <a:blip r:embed="rId1"/>
          <a:stretch/>
        </p:blipFill>
        <p:spPr>
          <a:xfrm>
            <a:off x="1243080" y="3146400"/>
            <a:ext cx="3965400" cy="23954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0"/>
          <p:cNvSpPr/>
          <p:nvPr/>
        </p:nvSpPr>
        <p:spPr>
          <a:xfrm>
            <a:off x="6240960" y="2595600"/>
            <a:ext cx="101448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代表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8" descr=""/>
          <p:cNvPicPr/>
          <p:nvPr/>
        </p:nvPicPr>
        <p:blipFill>
          <a:blip r:embed="rId2"/>
          <a:srcRect l="13531" t="0" r="0" b="1961"/>
          <a:stretch/>
        </p:blipFill>
        <p:spPr>
          <a:xfrm>
            <a:off x="8966160" y="3130560"/>
            <a:ext cx="242424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18" name="TextBox 14"/>
          <p:cNvSpPr/>
          <p:nvPr/>
        </p:nvSpPr>
        <p:spPr>
          <a:xfrm>
            <a:off x="8966160" y="5727600"/>
            <a:ext cx="242100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升仙道游戏官网登录界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63" descr=""/>
          <p:cNvPicPr/>
          <p:nvPr/>
        </p:nvPicPr>
        <p:blipFill>
          <a:blip r:embed="rId3"/>
          <a:srcRect l="0" t="0" r="2503" b="0"/>
          <a:stretch/>
        </p:blipFill>
        <p:spPr>
          <a:xfrm>
            <a:off x="6095880" y="3130560"/>
            <a:ext cx="280188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0" name="文本框 76"/>
          <p:cNvSpPr/>
          <p:nvPr/>
        </p:nvSpPr>
        <p:spPr>
          <a:xfrm>
            <a:off x="1942920" y="2595600"/>
            <a:ext cx="89244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1 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</a:rPr>
              <a:t>技能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6095880" y="5727600"/>
            <a:ext cx="280188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淘宝双</a:t>
            </a:r>
            <a:r>
              <a:rPr b="0" lang="en-US" sz="1200" spc="-1" strike="noStrike">
                <a:solidFill>
                  <a:srgbClr val="ffffff"/>
                </a:solidFill>
                <a:latin typeface="方正兰亭纤黑简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</a:rPr>
              <a:t>大促广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实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1058760" y="503280"/>
            <a:ext cx="479520" cy="446040"/>
            <a:chOff x="1058760" y="503280"/>
            <a:chExt cx="479520" cy="446040"/>
          </a:xfrm>
        </p:grpSpPr>
        <p:sp>
          <p:nvSpPr>
            <p:cNvPr id="128" name="Freeform 38"/>
            <p:cNvSpPr/>
            <p:nvPr/>
          </p:nvSpPr>
          <p:spPr>
            <a:xfrm>
              <a:off x="1058760" y="503280"/>
              <a:ext cx="281520" cy="2170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126440" y="538560"/>
              <a:ext cx="55080" cy="590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1126440" y="534240"/>
              <a:ext cx="411840" cy="4150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8"/>
          <p:cNvSpPr/>
          <p:nvPr/>
        </p:nvSpPr>
        <p:spPr>
          <a:xfrm>
            <a:off x="2130480" y="3749760"/>
            <a:ext cx="6269040" cy="144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213048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4294080" y="3660840"/>
            <a:ext cx="17964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658656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839952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175536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09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391824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0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528920" y="398952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1724040" y="1565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17240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1"/>
          <p:cNvSpPr/>
          <p:nvPr/>
        </p:nvSpPr>
        <p:spPr>
          <a:xfrm>
            <a:off x="621108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1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8"/>
          <p:cNvSpPr/>
          <p:nvPr/>
        </p:nvSpPr>
        <p:spPr>
          <a:xfrm>
            <a:off x="802440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</a:rPr>
              <a:t>2012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9"/>
          <p:cNvSpPr/>
          <p:nvPr/>
        </p:nvSpPr>
        <p:spPr>
          <a:xfrm>
            <a:off x="17240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0"/>
          <p:cNvSpPr/>
          <p:nvPr/>
        </p:nvSpPr>
        <p:spPr>
          <a:xfrm>
            <a:off x="17240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6175440" y="1565280"/>
            <a:ext cx="181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61754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48"/>
          <p:cNvSpPr/>
          <p:nvPr/>
        </p:nvSpPr>
        <p:spPr>
          <a:xfrm>
            <a:off x="61754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49"/>
          <p:cNvSpPr/>
          <p:nvPr/>
        </p:nvSpPr>
        <p:spPr>
          <a:xfrm>
            <a:off x="61754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8192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98192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52"/>
          <p:cNvSpPr/>
          <p:nvPr/>
        </p:nvSpPr>
        <p:spPr>
          <a:xfrm>
            <a:off x="798192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53"/>
          <p:cNvSpPr/>
          <p:nvPr/>
        </p:nvSpPr>
        <p:spPr>
          <a:xfrm>
            <a:off x="798192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388764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388764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6"/>
          <p:cNvSpPr/>
          <p:nvPr/>
        </p:nvSpPr>
        <p:spPr>
          <a:xfrm>
            <a:off x="388764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57"/>
          <p:cNvSpPr/>
          <p:nvPr/>
        </p:nvSpPr>
        <p:spPr>
          <a:xfrm>
            <a:off x="388764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378288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5989680" y="39895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793440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5"/>
          <p:cNvSpPr/>
          <p:nvPr/>
        </p:nvSpPr>
        <p:spPr>
          <a:xfrm>
            <a:off x="9172440" y="425520"/>
            <a:ext cx="860400" cy="6033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3214800" y="3819600"/>
            <a:ext cx="61387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兴趣爱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6" name="心形 3"/>
          <p:cNvSpPr/>
          <p:nvPr/>
        </p:nvSpPr>
        <p:spPr>
          <a:xfrm>
            <a:off x="1058760" y="473040"/>
            <a:ext cx="506520" cy="5079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5614920" y="3149640"/>
            <a:ext cx="1338480" cy="1338120"/>
            <a:chOff x="5614920" y="3149640"/>
            <a:chExt cx="1338480" cy="1338120"/>
          </a:xfrm>
        </p:grpSpPr>
        <p:sp>
          <p:nvSpPr>
            <p:cNvPr id="168" name="椭圆 15"/>
            <p:cNvSpPr/>
            <p:nvPr/>
          </p:nvSpPr>
          <p:spPr>
            <a:xfrm>
              <a:off x="56149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46"/>
            <p:cNvSpPr/>
            <p:nvPr/>
          </p:nvSpPr>
          <p:spPr>
            <a:xfrm>
              <a:off x="5784120" y="3318840"/>
              <a:ext cx="999720" cy="99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4"/>
          <p:cNvGrpSpPr/>
          <p:nvPr/>
        </p:nvGrpSpPr>
        <p:grpSpPr>
          <a:xfrm>
            <a:off x="7485120" y="3149640"/>
            <a:ext cx="1338120" cy="1338120"/>
            <a:chOff x="7485120" y="3149640"/>
            <a:chExt cx="1338120" cy="1338120"/>
          </a:xfrm>
        </p:grpSpPr>
        <p:sp>
          <p:nvSpPr>
            <p:cNvPr id="171" name="椭圆 20"/>
            <p:cNvSpPr/>
            <p:nvPr/>
          </p:nvSpPr>
          <p:spPr>
            <a:xfrm>
              <a:off x="74851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794000" y="3530520"/>
              <a:ext cx="720000" cy="57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21"/>
          <p:cNvGrpSpPr/>
          <p:nvPr/>
        </p:nvGrpSpPr>
        <p:grpSpPr>
          <a:xfrm>
            <a:off x="3746520" y="3149640"/>
            <a:ext cx="1338120" cy="1338120"/>
            <a:chOff x="3746520" y="3149640"/>
            <a:chExt cx="1338120" cy="1338120"/>
          </a:xfrm>
        </p:grpSpPr>
        <p:sp>
          <p:nvSpPr>
            <p:cNvPr id="174" name="椭圆 16"/>
            <p:cNvSpPr/>
            <p:nvPr/>
          </p:nvSpPr>
          <p:spPr>
            <a:xfrm>
              <a:off x="37465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5"/>
            <p:cNvGrpSpPr/>
            <p:nvPr/>
          </p:nvGrpSpPr>
          <p:grpSpPr>
            <a:xfrm>
              <a:off x="4037040" y="3472200"/>
              <a:ext cx="757080" cy="692640"/>
              <a:chOff x="4037040" y="3472200"/>
              <a:chExt cx="757080" cy="692640"/>
            </a:xfrm>
          </p:grpSpPr>
          <p:sp>
            <p:nvSpPr>
              <p:cNvPr id="176" name="Freeform 248"/>
              <p:cNvSpPr/>
              <p:nvPr/>
            </p:nvSpPr>
            <p:spPr>
              <a:xfrm>
                <a:off x="4037040" y="3472200"/>
                <a:ext cx="413280" cy="40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49"/>
              <p:cNvSpPr/>
              <p:nvPr/>
            </p:nvSpPr>
            <p:spPr>
              <a:xfrm>
                <a:off x="4627800" y="4014720"/>
                <a:ext cx="166320" cy="15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50"/>
              <p:cNvSpPr/>
              <p:nvPr/>
            </p:nvSpPr>
            <p:spPr>
              <a:xfrm>
                <a:off x="4289400" y="3756600"/>
                <a:ext cx="354240" cy="35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23"/>
          <p:cNvGrpSpPr/>
          <p:nvPr/>
        </p:nvGrpSpPr>
        <p:grpSpPr>
          <a:xfrm>
            <a:off x="9353520" y="3149640"/>
            <a:ext cx="1339920" cy="1338120"/>
            <a:chOff x="9353520" y="3149640"/>
            <a:chExt cx="1339920" cy="1338120"/>
          </a:xfrm>
        </p:grpSpPr>
        <p:sp>
          <p:nvSpPr>
            <p:cNvPr id="180" name="椭圆 19"/>
            <p:cNvSpPr/>
            <p:nvPr/>
          </p:nvSpPr>
          <p:spPr>
            <a:xfrm>
              <a:off x="9353520" y="3149640"/>
              <a:ext cx="13399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9501840" y="3524400"/>
              <a:ext cx="864360" cy="58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1876320" y="3149640"/>
            <a:ext cx="1338480" cy="1338120"/>
            <a:chOff x="1876320" y="3149640"/>
            <a:chExt cx="1338480" cy="1338120"/>
          </a:xfrm>
        </p:grpSpPr>
        <p:sp>
          <p:nvSpPr>
            <p:cNvPr id="183" name="椭圆 17"/>
            <p:cNvSpPr/>
            <p:nvPr/>
          </p:nvSpPr>
          <p:spPr>
            <a:xfrm>
              <a:off x="18763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12"/>
            <p:cNvGrpSpPr/>
            <p:nvPr/>
          </p:nvGrpSpPr>
          <p:grpSpPr>
            <a:xfrm>
              <a:off x="2398680" y="3360240"/>
              <a:ext cx="293400" cy="916920"/>
              <a:chOff x="2398680" y="3360240"/>
              <a:chExt cx="293400" cy="916920"/>
            </a:xfrm>
          </p:grpSpPr>
          <p:sp>
            <p:nvSpPr>
              <p:cNvPr id="185" name="Freeform 60"/>
              <p:cNvSpPr/>
              <p:nvPr/>
            </p:nvSpPr>
            <p:spPr>
              <a:xfrm>
                <a:off x="2398680" y="3360240"/>
                <a:ext cx="293400" cy="47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2422440" y="3867480"/>
                <a:ext cx="237960" cy="40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文本框 25"/>
          <p:cNvSpPr/>
          <p:nvPr/>
        </p:nvSpPr>
        <p:spPr>
          <a:xfrm>
            <a:off x="1876320" y="26589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写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3746520" y="47451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方正兰亭粗黑_GBK"/>
              </a:rPr>
              <a:t>K</a:t>
            </a: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5614920" y="267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8"/>
          <p:cNvSpPr/>
          <p:nvPr/>
        </p:nvSpPr>
        <p:spPr>
          <a:xfrm>
            <a:off x="7485120" y="47340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摄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9"/>
          <p:cNvSpPr/>
          <p:nvPr/>
        </p:nvSpPr>
        <p:spPr>
          <a:xfrm>
            <a:off x="9353520" y="26701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</a:rPr>
              <a:t>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1101600" y="1482840"/>
            <a:ext cx="288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曾获得“全国高中生限时命题你作文大赛”二等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写作锻炼了我的书面写作能力和逻辑思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762280" y="5213520"/>
            <a:ext cx="3305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获得四川大学文学院“迎新晚会”节目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等奖，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获得四川大学“研究生毕业晚会”歌唱节目第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喜欢唱歌让我结识到很多志同道合的朋友，更好的锻炼了我人际交际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2"/>
          <p:cNvSpPr/>
          <p:nvPr/>
        </p:nvSpPr>
        <p:spPr>
          <a:xfrm>
            <a:off x="4843440" y="1482840"/>
            <a:ext cx="3097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已经去过九寨沟、都江堰、青城山、峨眉山、武当山等名胜区，也经常背包驴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旅游开阔了我的心胸，了解到各地风土人情，并锻炼了我独立生活的能力和顽强的毅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3"/>
          <p:cNvSpPr/>
          <p:nvPr/>
        </p:nvSpPr>
        <p:spPr>
          <a:xfrm>
            <a:off x="6599160" y="52135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年曾获四川大学“发现生活的美”摄影大赛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等奖，作品被校史馆收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摄影丰富了我发现美的能力，也让我能敏锐的发现生活的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4"/>
          <p:cNvSpPr/>
          <p:nvPr/>
        </p:nvSpPr>
        <p:spPr>
          <a:xfrm>
            <a:off x="8686800" y="2036880"/>
            <a:ext cx="26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喜欢看名人传记电影，科教记录片如“探索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</a:rPr>
              <a:t>发现、“动物世界”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0880" y="3338640"/>
            <a:ext cx="7131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感谢您阅读我的简历</a:t>
            </a:r>
            <a:endParaRPr b="0" lang="en-US" sz="60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300200" y="4606920"/>
            <a:ext cx="703116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THANK YOU FOR READING MY RESUME</a:t>
            </a: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987480" y="669960"/>
            <a:ext cx="2017800" cy="14130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463200" y="692280"/>
            <a:ext cx="1716840" cy="1366920"/>
            <a:chOff x="3463200" y="692280"/>
            <a:chExt cx="1716840" cy="1366920"/>
          </a:xfrm>
        </p:grpSpPr>
        <p:sp>
          <p:nvSpPr>
            <p:cNvPr id="201" name="文本框 9"/>
            <p:cNvSpPr/>
            <p:nvPr/>
          </p:nvSpPr>
          <p:spPr>
            <a:xfrm>
              <a:off x="3773160" y="1024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</a:rPr>
                <a:t>成功，是给坚持到底的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0"/>
            <p:cNvSpPr/>
            <p:nvPr/>
          </p:nvSpPr>
          <p:spPr>
            <a:xfrm>
              <a:off x="3773160" y="69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</a:rPr>
                <a:t>希望，是给时刻积极的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1"/>
            <p:cNvSpPr/>
            <p:nvPr/>
          </p:nvSpPr>
          <p:spPr>
            <a:xfrm>
              <a:off x="3463200" y="135792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简体"/>
                </a:rPr>
                <a:t>In order to succes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12"/>
            <p:cNvSpPr/>
            <p:nvPr/>
          </p:nvSpPr>
          <p:spPr>
            <a:xfrm>
              <a:off x="3654360" y="16909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方正兰亭粗黑_GBK"/>
                </a:rPr>
                <a:t>我能 </a:t>
              </a:r>
              <a:r>
                <a:rPr b="0" lang="en-US" sz="1800" spc="-1" strike="noStrike">
                  <a:solidFill>
                    <a:srgbClr val="c00000"/>
                  </a:solidFill>
                  <a:latin typeface="方正兰亭粗黑_GBK"/>
                </a:rPr>
                <a:t>I 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直接连接符 13"/>
          <p:cNvSpPr/>
          <p:nvPr/>
        </p:nvSpPr>
        <p:spPr>
          <a:xfrm>
            <a:off x="3216240" y="628560"/>
            <a:ext cx="0" cy="1495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4378320" y="504828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4"/>
          <p:cNvSpPr/>
          <p:nvPr/>
        </p:nvSpPr>
        <p:spPr>
          <a:xfrm>
            <a:off x="4378320" y="342900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3"/>
          <p:cNvGrpSpPr/>
          <p:nvPr/>
        </p:nvGrpSpPr>
        <p:grpSpPr>
          <a:xfrm>
            <a:off x="9145440" y="5264280"/>
            <a:ext cx="2235240" cy="276480"/>
            <a:chOff x="9145440" y="5264280"/>
            <a:chExt cx="2235240" cy="276480"/>
          </a:xfrm>
        </p:grpSpPr>
        <p:pic>
          <p:nvPicPr>
            <p:cNvPr id="209" name="图片 16" descr="邮件.png"/>
            <p:cNvPicPr/>
            <p:nvPr/>
          </p:nvPicPr>
          <p:blipFill>
            <a:blip r:embed="rId1"/>
            <a:stretch/>
          </p:blipFill>
          <p:spPr>
            <a:xfrm>
              <a:off x="9145440" y="52876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3"/>
            <p:cNvSpPr/>
            <p:nvPr/>
          </p:nvSpPr>
          <p:spPr>
            <a:xfrm>
              <a:off x="9394920" y="5264280"/>
              <a:ext cx="198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00</a:t>
              </a: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@163.co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7075440" y="5264280"/>
            <a:ext cx="1424160" cy="276480"/>
            <a:chOff x="7075440" y="5264280"/>
            <a:chExt cx="1424160" cy="276480"/>
          </a:xfrm>
        </p:grpSpPr>
        <p:pic>
          <p:nvPicPr>
            <p:cNvPr id="212" name="图片 18" descr="QQ.png"/>
            <p:cNvPicPr/>
            <p:nvPr/>
          </p:nvPicPr>
          <p:blipFill>
            <a:blip r:embed="rId2"/>
            <a:stretch/>
          </p:blipFill>
          <p:spPr>
            <a:xfrm>
              <a:off x="7075440" y="52642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"/>
            <p:cNvSpPr/>
            <p:nvPr/>
          </p:nvSpPr>
          <p:spPr>
            <a:xfrm>
              <a:off x="7324920" y="52642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26300304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"/>
          <p:cNvGrpSpPr/>
          <p:nvPr/>
        </p:nvGrpSpPr>
        <p:grpSpPr>
          <a:xfrm>
            <a:off x="4378320" y="5218200"/>
            <a:ext cx="2049480" cy="367560"/>
            <a:chOff x="4378320" y="5218200"/>
            <a:chExt cx="2049480" cy="367560"/>
          </a:xfrm>
        </p:grpSpPr>
        <p:sp>
          <p:nvSpPr>
            <p:cNvPr id="215" name="TextBox 17"/>
            <p:cNvSpPr/>
            <p:nvPr/>
          </p:nvSpPr>
          <p:spPr>
            <a:xfrm>
              <a:off x="4628160" y="5218200"/>
              <a:ext cx="179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凡素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图片 21" descr=""/>
            <p:cNvPicPr/>
            <p:nvPr/>
          </p:nvPicPr>
          <p:blipFill>
            <a:blip r:embed="rId3"/>
            <a:stretch/>
          </p:blipFill>
          <p:spPr>
            <a:xfrm>
              <a:off x="4378320" y="5288040"/>
              <a:ext cx="229680" cy="23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5:49:00Z</dcterms:created>
  <dc:creator>哎呀小小草</dc:creator>
  <dc:description/>
  <cp:keywords/>
  <dc:language>en-US</dc:language>
  <cp:lastModifiedBy>微软用户</cp:lastModifiedBy>
  <dcterms:modified xsi:type="dcterms:W3CDTF">2016-03-03T06:05:03Z</dcterms:modified>
  <cp:revision>28</cp:revision>
  <dc:subject/>
  <dc:title>PowerPoint 演示文稿</dc:title>
</cp:coreProperties>
</file>