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10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FAC1-209F-456F-AA54-A19EB050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63E8-7B65-4828-83DB-62A9C8D8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924-9DA0-4816-9749-A22CDB56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A219-A11C-48E4-99E6-14C619B6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3C96-5C82-40A4-ABD5-6954B5BB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9B5C-2283-47C6-94B1-EA833BE6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47E3-E1E1-474E-93F7-E69B2E25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6F2F-2ED2-4545-8C93-C373092A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9F0-633C-4836-9B82-2CBC376C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13FD-5701-4DD4-ACEA-9F8C5A8D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85D-589D-4056-94D9-6E3A4213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BA9-37F3-44A4-9181-E42DA141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99FE-C25B-47AB-8E98-24A0492CD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2286000" cy="1712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952880" y="0"/>
            <a:ext cx="1717920" cy="1289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981080" y="457200"/>
            <a:ext cx="1143000" cy="1133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505320" y="304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1905120" cy="149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886200" y="44956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34120" y="4191120"/>
            <a:ext cx="63792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63520" y="4114800"/>
            <a:ext cx="1063800" cy="115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304920" y="1295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20508000">
            <a:off x="-1712880" y="-1042560"/>
            <a:ext cx="6195960" cy="896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19999200">
            <a:off x="4609800" y="-1751040"/>
            <a:ext cx="5599080" cy="894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791320" y="6172200"/>
            <a:ext cx="676080" cy="533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181480" y="6019920"/>
            <a:ext cx="362160" cy="314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4800600" y="640080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867280" y="6019920"/>
            <a:ext cx="314280" cy="231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4419720" y="6248520"/>
            <a:ext cx="276120" cy="233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4419720" y="3352680"/>
            <a:ext cx="647640" cy="4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1458 -0.03727 C -0.02535 -0.04075 -0.03455 -0.04954 -0.04375 -0.05764 C -0.04549 -0.06112 -0.04601 -0.06551 -0.04792 -0.06875 C -0.05035 -0.07292 -0.05451 -0.07524 -0.05625 -0.07987 C -0.05712 -0.08241 -0.05764 -0.08519 -0.05903 -0.08727 C -0.06007 -0.08889 -0.06181 -0.08982 -0.06319 -0.09098 C -0.06753 -0.10278 -0.07396 -0.11042 -0.07986 -0.12061 C -0.08715 -0.13334 -0.09236 -0.15024 -0.10069 -0.16135 C -0.10469 -0.16667 -0.10833 -0.17246 -0.11181 -0.17801 C -0.1184 -0.18866 -0.11146 -0.17848 -0.11597 -0.18912 C -0.12135 -0.20162 -0.1276 -0.21459 -0.13403 -0.22616 C -0.13611 -0.23426 -0.13976 -0.24075 -0.14236 -0.24838 C -0.14618 -0.25973 -0.14983 -0.27153 -0.15208 -0.28357 C -0.15156 -0.33149 -0.16354 -0.39769 -0.14097 -0.44283 C -0.13628 -0.45209 -0.12431 -0.44584 -0.11597 -0.44653 C -0.10469 -0.44862 -0.09392 -0.45209 -0.08264 -0.45394 C -0.06962 -0.45325 -0.05677 -0.45232 -0.04375 -0.45209 C 0.05955 -0.45093 0.16267 -0.45209 0.26597 -0.45024 C 0.27639 -0.45 0.30608 -0.41528 0.31319 -0.40579 C 0.31597 -0.40209 0.31997 -0.4 0.32292 -0.39653 C 0.32639 -0.39237 0.33264 -0.38357 0.33264 -0.38357 C 0.33316 -0.38102 0.33351 -0.37871 0.33403 -0.37616 C 0.3349 -0.37246 0.33681 -0.36505 0.33681 -0.36505 C 0.33854 -0.24885 0.33142 -0.30325 0.34236 -0.2595 C 0.34184 -0.24954 0.34201 -0.23959 0.34097 -0.22987 C 0.33941 -0.21389 0.33889 -0.22362 0.33542 -0.2132 C 0.33212 -0.20325 0.33038 -0.19352 0.32431 -0.18542 C 0.31979 -0.1794 0.31372 -0.17153 0.30764 -0.16875 C 0.30486 -0.1676 0.29931 -0.16505 0.29931 -0.16505 C 0.26823 -0.16575 0.23733 -0.16575 0.20625 -0.1669 C 0.19653 -0.16737 0.18993 -0.18334 0.18125 -0.18727 C 0.17465 -0.19607 0.17865 -0.19144 0.16875 -0.20024 C 0.16736 -0.20139 0.16458 -0.20394 0.16458 -0.20394 C 0.15903 -0.21482 0.16528 -0.20463 0.15625 -0.2132 C 0.15104 -0.21829 0.15 -0.22524 0.14653 -0.23172 C 0.14531 -0.2338 0.1434 -0.23496 0.14236 -0.23727 C 0.1401 -0.2419 0.13924 -0.24769 0.13681 -0.25209 C 0.13403 -0.25695 0.13125 -0.26204 0.12847 -0.2669 C 0.12639 -0.27107 0.12552 -0.27639 0.12292 -0.27987 C 0.11927 -0.28473 0.11458 -0.28843 0.11042 -0.29283 C 0.1026 -0.30093 0.11007 -0.29676 0.10208 -0.30024 C 0.10017 -0.30209 0.09861 -0.3044 0.09653 -0.30579 C 0.09392 -0.30764 0.08819 -0.3095 0.08819 -0.3095 C 0.07847 -0.30741 0.06979 -0.3044 0.06042 -0.30024 C 0.05625 -0.29838 0.05208 -0.29653 0.04792 -0.29468 C 0.04653 -0.29399 0.04375 -0.29283 0.04375 -0.29283 C 0.03958 -0.28727 0.03819 -0.28241 0.03264 -0.27987 C 0.03073 -0.272 0.02865 -0.26713 0.02431 -0.26135 C 0.02309 -0.2544 0.02135 -0.24792 0.02014 -0.24098 C 0.02066 -0.22801 0.02031 -0.21505 0.02153 -0.20209 C 0.02205 -0.19746 0.025 -0.19375 0.02569 -0.18912 C 0.02622 -0.18473 0.02587 -0.18033 0.02708 -0.17616 C 0.0283 -0.172 0.03264 -0.16505 0.03264 -0.16505 C 0.03542 -0.15024 0.04201 -0.13774 0.04931 -0.12616 C 0.05156 -0.12246 0.05347 -0.11621 0.05625 -0.1132 C 0.05729 -0.11204 0.05903 -0.11227 0.06042 -0.11135 C 0.06198 -0.11042 0.06337 -0.10903 0.06458 -0.10764 C 0.07483 -0.09584 0.08316 -0.09144 0.09514 -0.08357 C 0.11302 -0.07153 0.12465 -0.06482 0.14514 -0.06135 C 0.17135 -0.04977 0.19028 -0.05672 0.22431 -0.05579 C 0.2434 -0.04931 0.25694 -0.03287 0.27292 -0.01875 C 0.27708 -0.01505 0.28333 4.44444000000013E-006 0.28542 0.00717 C 0.28646 0.01088 0.28819 0.01828 0.28819 0.01828 C 0.28733 0.03842 0.28941 0.04537 0.28264 0.05902 C 0.21267 0.05833 0.14288 0.05833 0.07292 0.05717 C 0.06476 0.05694 0.05069 0.04421 0.05069 0.04421 C 0.04861 0.03611 0.04514 0.0368 0.03958 0.03125 C 0.03767 0.02361 0.0349 0.02083 0.03125 0.01458 C 0.02535 0.00463 0.02049 -0.00325 0.01319 -0.01135 C 0.00729 -0.01783 0.00417 -0.0338 -0.00486 -0.03542 C -0.00816 -0.03612 -0.01128 -0.03658 -0.01458 -0.03727 Z">
                                      <p:cBhvr>
                                        <p:cTn id="39" dur="2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0T07:38:01Z</dcterms:created>
  <dc:creator/>
  <dc:description/>
  <dc:language>en-US</dc:language>
  <cp:lastModifiedBy>sdx</cp:lastModifiedBy>
  <dcterms:modified xsi:type="dcterms:W3CDTF">2014-07-20T07:39:0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  <property fmtid="{D5CDD505-2E9C-101B-9397-08002B2CF9AE}" pid="3" name="Version">
    <vt:r8>1</vt:r8>
  </property>
</Properties>
</file>