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4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6EC-1E0F-4680-8196-EF199225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8A1-EFF2-46DD-9553-9A243E62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595-BD02-4F27-BD96-D23C1498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66F-CB18-4A50-A85E-29DCF882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8ED-D862-40D5-A626-D8250473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CDC-3BFA-431A-AE7B-5EDB0FCA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B421-9C77-44E8-B13D-EC5EB594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920-1F6B-474E-A8C9-D5D04209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61F-BE74-4DA6-92F0-3CA5E6F0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3C8-4AEF-4936-91C2-B1F00497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03D-1CE7-4DF7-BB8E-6D560CD1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52E-602A-4069-8300-0DE2575F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138B-AD19-47C9-A4F6-C183E1A9819A}" type="datetime">
              <a:rPr b="0" i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B2E5-E187-49B8-9FFB-F4B6709FF366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image" Target="../media/image4.wmf"/><Relationship Id="rId5" Type="http://schemas.openxmlformats.org/officeDocument/2006/relationships/image" Target="../media/image21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cb013129"/>
          <p:cNvPicPr/>
          <p:nvPr/>
        </p:nvPicPr>
        <p:blipFill>
          <a:blip r:embed="rId1"/>
          <a:srcRect l="0" t="621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3"/>
          <p:cNvSpPr/>
          <p:nvPr/>
        </p:nvSpPr>
        <p:spPr>
          <a:xfrm>
            <a:off x="3095640" y="5157720"/>
            <a:ext cx="60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99"/>
                </a:solidFill>
                <a:latin typeface="Arial"/>
                <a:ea typeface="华文细黑"/>
              </a:rPr>
              <a:t>单击此处添加标题文字</a:t>
            </a:r>
            <a:endParaRPr b="1" i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4"/>
          <p:cNvSpPr/>
          <p:nvPr/>
        </p:nvSpPr>
        <p:spPr>
          <a:xfrm>
            <a:off x="3529080" y="5996160"/>
            <a:ext cx="5400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99"/>
                </a:solidFill>
                <a:latin typeface="Arial"/>
                <a:ea typeface="华文细黑"/>
              </a:rPr>
              <a:t>单击添加署名或公司信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F624-916C-49E1-8922-899DF92B2857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未知"/>
          <p:cNvSpPr/>
          <p:nvPr/>
        </p:nvSpPr>
        <p:spPr>
          <a:xfrm>
            <a:off x="1332000" y="1413000"/>
            <a:ext cx="6121440" cy="142848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1428480"/>
              <a:gd name="textAreaBottom" fmla="*/ 1428840 h 14284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3132000" y="2924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"/>
          <p:cNvSpPr/>
          <p:nvPr/>
        </p:nvSpPr>
        <p:spPr>
          <a:xfrm>
            <a:off x="5003640" y="2708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5"/>
          <p:cNvSpPr/>
          <p:nvPr/>
        </p:nvSpPr>
        <p:spPr>
          <a:xfrm>
            <a:off x="1187280" y="3213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687708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463400" y="312732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1187280" y="57340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132000" y="558972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5003640" y="530064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6877080" y="5013360"/>
            <a:ext cx="1781280" cy="314280"/>
          </a:xfrm>
          <a:prstGeom prst="bevel">
            <a:avLst>
              <a:gd name="adj" fmla="val 594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408120" y="2924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279760" y="270828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152840" y="2421000"/>
            <a:ext cx="100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标题：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4A98-165A-4A7B-B8CC-0E83F2D87E0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CFC0-2186-47BB-A3E8-DA88C737E4C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900000" y="2922480"/>
            <a:ext cx="7344000" cy="2579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15740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0000" y="1793880"/>
            <a:ext cx="7344000" cy="871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82520" y="3662280"/>
            <a:ext cx="1916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 rot="10800000">
            <a:off x="900000" y="5531760"/>
            <a:ext cx="7344000" cy="29988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24840 h 299880"/>
              <a:gd name="textAreaBottom" fmla="*/ 27504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215040" y="3052800"/>
            <a:ext cx="1771560" cy="231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6095880" y="3662280"/>
            <a:ext cx="2011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4581360" y="3502080"/>
            <a:ext cx="0" cy="7747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3222720" y="308448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222720" y="3697200"/>
            <a:ext cx="2692440" cy="432000"/>
          </a:xfrm>
          <a:prstGeom prst="rect">
            <a:avLst/>
          </a:prstGeom>
          <a:gradFill rotWithShape="0">
            <a:gsLst>
              <a:gs pos="0">
                <a:srgbClr val="c1c1c1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3211560" y="4276800"/>
            <a:ext cx="27144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3211560" y="4276800"/>
            <a:ext cx="322200" cy="16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3211560" y="459756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5600880" y="4597560"/>
            <a:ext cx="322200" cy="16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3211560" y="4952880"/>
            <a:ext cx="271440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3214800" y="4952880"/>
            <a:ext cx="323640" cy="16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3476520" y="3084480"/>
            <a:ext cx="2254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540240" y="3697200"/>
            <a:ext cx="2127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1890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6232680" y="3084480"/>
            <a:ext cx="1720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2"/>
          <p:cNvSpPr/>
          <p:nvPr/>
        </p:nvSpPr>
        <p:spPr>
          <a:xfrm rot="10800000">
            <a:off x="900000" y="2675880"/>
            <a:ext cx="7344000" cy="150840"/>
          </a:xfrm>
          <a:custGeom>
            <a:avLst/>
            <a:gdLst>
              <a:gd name="textAreaLeft" fmla="*/ 612000 w 7344000"/>
              <a:gd name="textAreaRight" fmla="*/ 6732000 w 7344000"/>
              <a:gd name="textAreaTop" fmla="*/ 12600 h 150840"/>
              <a:gd name="textAreaBottom" fmla="*/ 13860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23"/>
          <p:cNvSpPr txBox="1"/>
          <p:nvPr/>
        </p:nvSpPr>
        <p:spPr>
          <a:xfrm>
            <a:off x="3524400" y="2075040"/>
            <a:ext cx="2224080" cy="32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359" name="WordArt 24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2748-2FAC-4511-989F-7B141E5A767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539640" y="1557360"/>
            <a:ext cx="1787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18900000"/>
              </a:gradFill>
              <a:latin typeface="黑体"/>
              <a:ea typeface="黑体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5603760" y="1916280"/>
            <a:ext cx="1501560" cy="1517040"/>
            <a:chOff x="5603760" y="1916280"/>
            <a:chExt cx="1501560" cy="1517040"/>
          </a:xfrm>
        </p:grpSpPr>
        <p:sp>
          <p:nvSpPr>
            <p:cNvPr id="363" name="AutoShape 4"/>
            <p:cNvSpPr/>
            <p:nvPr/>
          </p:nvSpPr>
          <p:spPr>
            <a:xfrm>
              <a:off x="5603760" y="1916280"/>
              <a:ext cx="150156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6"/>
            <p:cNvGrpSpPr/>
            <p:nvPr/>
          </p:nvGrpSpPr>
          <p:grpSpPr>
            <a:xfrm>
              <a:off x="5662800" y="2999160"/>
              <a:ext cx="1439640" cy="434160"/>
              <a:chOff x="5662800" y="2999160"/>
              <a:chExt cx="1439640" cy="434160"/>
            </a:xfrm>
          </p:grpSpPr>
          <p:pic>
            <p:nvPicPr>
              <p:cNvPr id="36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5662800" y="2999160"/>
                <a:ext cx="142380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Text Box 8"/>
              <p:cNvSpPr/>
              <p:nvPr/>
            </p:nvSpPr>
            <p:spPr>
              <a:xfrm>
                <a:off x="5671440" y="3003840"/>
                <a:ext cx="14310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未知"/>
            <p:cNvSpPr/>
            <p:nvPr/>
          </p:nvSpPr>
          <p:spPr>
            <a:xfrm>
              <a:off x="5603760" y="1917720"/>
              <a:ext cx="1501560" cy="151236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838840" y="2331000"/>
              <a:ext cx="213120" cy="5083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08320"/>
                <a:gd name="textAreaBottom" fmla="*/ 508680 h 50832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6099840" y="2321280"/>
              <a:ext cx="297720" cy="52920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59" h="281">
                  <a:moveTo>
                    <a:pt x="159" y="97"/>
                  </a:moveTo>
                  <a:cubicBezTo>
                    <a:pt x="159" y="187"/>
                    <a:pt x="159" y="187"/>
                    <a:pt x="159" y="187"/>
                  </a:cubicBezTo>
                  <a:cubicBezTo>
                    <a:pt x="159" y="207"/>
                    <a:pt x="158" y="222"/>
                    <a:pt x="156" y="232"/>
                  </a:cubicBezTo>
                  <a:cubicBezTo>
                    <a:pt x="154" y="241"/>
                    <a:pt x="149" y="250"/>
                    <a:pt x="142" y="258"/>
                  </a:cubicBezTo>
                  <a:cubicBezTo>
                    <a:pt x="135" y="266"/>
                    <a:pt x="127" y="272"/>
                    <a:pt x="117" y="276"/>
                  </a:cubicBezTo>
                  <a:cubicBezTo>
                    <a:pt x="107" y="279"/>
                    <a:pt x="96" y="281"/>
                    <a:pt x="83" y="281"/>
                  </a:cubicBezTo>
                  <a:cubicBezTo>
                    <a:pt x="67" y="281"/>
                    <a:pt x="54" y="279"/>
                    <a:pt x="43" y="275"/>
                  </a:cubicBezTo>
                  <a:cubicBezTo>
                    <a:pt x="33" y="272"/>
                    <a:pt x="24" y="266"/>
                    <a:pt x="18" y="258"/>
                  </a:cubicBezTo>
                  <a:cubicBezTo>
                    <a:pt x="11" y="250"/>
                    <a:pt x="7" y="242"/>
                    <a:pt x="4" y="233"/>
                  </a:cubicBezTo>
                  <a:cubicBezTo>
                    <a:pt x="2" y="224"/>
                    <a:pt x="0" y="210"/>
                    <a:pt x="0" y="191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72"/>
                    <a:pt x="2" y="53"/>
                    <a:pt x="7" y="41"/>
                  </a:cubicBezTo>
                  <a:cubicBezTo>
                    <a:pt x="11" y="29"/>
                    <a:pt x="19" y="19"/>
                    <a:pt x="32" y="11"/>
                  </a:cubicBezTo>
                  <a:cubicBezTo>
                    <a:pt x="45" y="4"/>
                    <a:pt x="60" y="0"/>
                    <a:pt x="78" y="0"/>
                  </a:cubicBezTo>
                  <a:cubicBezTo>
                    <a:pt x="93" y="0"/>
                    <a:pt x="107" y="3"/>
                    <a:pt x="118" y="8"/>
                  </a:cubicBezTo>
                  <a:cubicBezTo>
                    <a:pt x="130" y="13"/>
                    <a:pt x="139" y="19"/>
                    <a:pt x="144" y="27"/>
                  </a:cubicBezTo>
                  <a:cubicBezTo>
                    <a:pt x="150" y="34"/>
                    <a:pt x="154" y="43"/>
                    <a:pt x="156" y="52"/>
                  </a:cubicBezTo>
                  <a:cubicBezTo>
                    <a:pt x="158" y="61"/>
                    <a:pt x="159" y="76"/>
                    <a:pt x="159" y="97"/>
                  </a:cubicBezTo>
                  <a:close/>
                  <a:moveTo>
                    <a:pt x="92" y="74"/>
                  </a:moveTo>
                  <a:cubicBezTo>
                    <a:pt x="92" y="60"/>
                    <a:pt x="91" y="51"/>
                    <a:pt x="90" y="47"/>
                  </a:cubicBezTo>
                  <a:cubicBezTo>
                    <a:pt x="88" y="44"/>
                    <a:pt x="85" y="42"/>
                    <a:pt x="80" y="42"/>
                  </a:cubicBezTo>
                  <a:cubicBezTo>
                    <a:pt x="75" y="42"/>
                    <a:pt x="72" y="44"/>
                    <a:pt x="70" y="47"/>
                  </a:cubicBezTo>
                  <a:cubicBezTo>
                    <a:pt x="69" y="51"/>
                    <a:pt x="68" y="60"/>
                    <a:pt x="68" y="74"/>
                  </a:cubicBezTo>
                  <a:cubicBezTo>
                    <a:pt x="68" y="206"/>
                    <a:pt x="68" y="206"/>
                    <a:pt x="68" y="206"/>
                  </a:cubicBezTo>
                  <a:cubicBezTo>
                    <a:pt x="68" y="222"/>
                    <a:pt x="68" y="231"/>
                    <a:pt x="70" y="234"/>
                  </a:cubicBezTo>
                  <a:cubicBezTo>
                    <a:pt x="71" y="238"/>
                    <a:pt x="75" y="239"/>
                    <a:pt x="80" y="239"/>
                  </a:cubicBezTo>
                  <a:cubicBezTo>
                    <a:pt x="85" y="239"/>
                    <a:pt x="88" y="237"/>
                    <a:pt x="89" y="234"/>
                  </a:cubicBezTo>
                  <a:cubicBezTo>
                    <a:pt x="91" y="230"/>
                    <a:pt x="92" y="221"/>
                    <a:pt x="92" y="208"/>
                  </a:cubicBezTo>
                  <a:lnTo>
                    <a:pt x="92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432840" y="2321280"/>
              <a:ext cx="419760" cy="52920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5669280" y="2799000"/>
              <a:ext cx="1436040" cy="63108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4"/>
          <p:cNvGrpSpPr/>
          <p:nvPr/>
        </p:nvGrpSpPr>
        <p:grpSpPr>
          <a:xfrm>
            <a:off x="2583000" y="1916280"/>
            <a:ext cx="1501200" cy="1517040"/>
            <a:chOff x="2583000" y="1916280"/>
            <a:chExt cx="1501200" cy="1517040"/>
          </a:xfrm>
        </p:grpSpPr>
        <p:sp>
          <p:nvSpPr>
            <p:cNvPr id="373" name="AutoShape 12"/>
            <p:cNvSpPr/>
            <p:nvPr/>
          </p:nvSpPr>
          <p:spPr>
            <a:xfrm>
              <a:off x="2583000" y="1916280"/>
              <a:ext cx="150120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6"/>
            <p:cNvGrpSpPr/>
            <p:nvPr/>
          </p:nvGrpSpPr>
          <p:grpSpPr>
            <a:xfrm>
              <a:off x="2646720" y="2999160"/>
              <a:ext cx="1432800" cy="434160"/>
              <a:chOff x="2646720" y="2999160"/>
              <a:chExt cx="1432800" cy="434160"/>
            </a:xfrm>
          </p:grpSpPr>
          <p:pic>
            <p:nvPicPr>
              <p:cNvPr id="375" name="未知" descr=""/>
              <p:cNvPicPr/>
              <p:nvPr/>
            </p:nvPicPr>
            <p:blipFill>
              <a:blip r:embed="rId2"/>
              <a:stretch/>
            </p:blipFill>
            <p:spPr>
              <a:xfrm>
                <a:off x="2646720" y="2999160"/>
                <a:ext cx="1414440" cy="40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Text Box 18"/>
              <p:cNvSpPr/>
              <p:nvPr/>
            </p:nvSpPr>
            <p:spPr>
              <a:xfrm>
                <a:off x="2652120" y="3003840"/>
                <a:ext cx="1427400" cy="42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未知"/>
            <p:cNvSpPr/>
            <p:nvPr/>
          </p:nvSpPr>
          <p:spPr>
            <a:xfrm>
              <a:off x="2583000" y="1917720"/>
              <a:ext cx="1501200" cy="151236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360"/>
                <a:gd name="textAreaBottom" fmla="*/ 1512720 h 151236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3304800" y="2321280"/>
              <a:ext cx="419040" cy="52920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2648520" y="2799000"/>
              <a:ext cx="1435680" cy="63108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2920320" y="2343960"/>
              <a:ext cx="312120" cy="53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2440"/>
                <a:gd name="textAreaBottom" fmla="*/ 532440 h 53244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23"/>
          <p:cNvGrpSpPr/>
          <p:nvPr/>
        </p:nvGrpSpPr>
        <p:grpSpPr>
          <a:xfrm>
            <a:off x="1217520" y="3881520"/>
            <a:ext cx="1501560" cy="1515600"/>
            <a:chOff x="1217520" y="3881520"/>
            <a:chExt cx="1501560" cy="1515600"/>
          </a:xfrm>
        </p:grpSpPr>
        <p:sp>
          <p:nvSpPr>
            <p:cNvPr id="382" name="AutoShape 19"/>
            <p:cNvSpPr/>
            <p:nvPr/>
          </p:nvSpPr>
          <p:spPr>
            <a:xfrm>
              <a:off x="1217520" y="3881520"/>
              <a:ext cx="150156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25"/>
            <p:cNvGrpSpPr/>
            <p:nvPr/>
          </p:nvGrpSpPr>
          <p:grpSpPr>
            <a:xfrm>
              <a:off x="1279800" y="4962600"/>
              <a:ext cx="1433160" cy="434520"/>
              <a:chOff x="1279800" y="4962600"/>
              <a:chExt cx="1433160" cy="434520"/>
            </a:xfrm>
          </p:grpSpPr>
          <p:pic>
            <p:nvPicPr>
              <p:cNvPr id="384" name="未知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80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27"/>
              <p:cNvSpPr/>
              <p:nvPr/>
            </p:nvSpPr>
            <p:spPr>
              <a:xfrm>
                <a:off x="128520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未知"/>
            <p:cNvSpPr/>
            <p:nvPr/>
          </p:nvSpPr>
          <p:spPr>
            <a:xfrm>
              <a:off x="1217520" y="3882960"/>
              <a:ext cx="1501560" cy="1512720"/>
            </a:xfrm>
            <a:custGeom>
              <a:avLst/>
              <a:gdLst>
                <a:gd name="textAreaLeft" fmla="*/ 0 w 1501560"/>
                <a:gd name="textAreaRight" fmla="*/ 1501920 w 15015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452600" y="4295160"/>
              <a:ext cx="213120" cy="5104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510480"/>
                <a:gd name="textAreaBottom" fmla="*/ 510840 h 510480"/>
              </a:gdLst>
              <a:ahLst/>
              <a:rect l="textAreaLeft" t="textAreaTop" r="textAreaRight" b="textAreaBottom"/>
              <a:pathLst>
                <a:path w="114" h="271">
                  <a:moveTo>
                    <a:pt x="114" y="0"/>
                  </a:moveTo>
                  <a:cubicBezTo>
                    <a:pt x="114" y="271"/>
                    <a:pt x="114" y="271"/>
                    <a:pt x="114" y="271"/>
                  </a:cubicBezTo>
                  <a:cubicBezTo>
                    <a:pt x="46" y="271"/>
                    <a:pt x="46" y="271"/>
                    <a:pt x="46" y="271"/>
                  </a:cubicBezTo>
                  <a:cubicBezTo>
                    <a:pt x="46" y="126"/>
                    <a:pt x="46" y="126"/>
                    <a:pt x="46" y="126"/>
                  </a:cubicBezTo>
                  <a:cubicBezTo>
                    <a:pt x="46" y="105"/>
                    <a:pt x="46" y="92"/>
                    <a:pt x="45" y="88"/>
                  </a:cubicBezTo>
                  <a:cubicBezTo>
                    <a:pt x="44" y="84"/>
                    <a:pt x="41" y="80"/>
                    <a:pt x="37" y="78"/>
                  </a:cubicBezTo>
                  <a:cubicBezTo>
                    <a:pt x="32" y="76"/>
                    <a:pt x="22" y="75"/>
                    <a:pt x="7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32" y="36"/>
                    <a:pt x="57" y="22"/>
                    <a:pt x="74" y="0"/>
                  </a:cubicBezTo>
                  <a:lnTo>
                    <a:pt x="1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046600" y="4287240"/>
              <a:ext cx="419760" cy="5284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283040" y="4763880"/>
              <a:ext cx="1436040" cy="631800"/>
            </a:xfrm>
            <a:custGeom>
              <a:avLst/>
              <a:gdLst>
                <a:gd name="textAreaLeft" fmla="*/ 0 w 1436040"/>
                <a:gd name="textAreaRight" fmla="*/ 1436040 w 143604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1713600" y="4295160"/>
              <a:ext cx="312120" cy="5331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2" h="88">
                  <a:moveTo>
                    <a:pt x="48" y="0"/>
                  </a:moveTo>
                  <a:cubicBezTo>
                    <a:pt x="48" y="14"/>
                    <a:pt x="48" y="14"/>
                    <a:pt x="48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4" y="24"/>
                    <a:pt x="28" y="23"/>
                    <a:pt x="34" y="23"/>
                  </a:cubicBezTo>
                  <a:cubicBezTo>
                    <a:pt x="40" y="23"/>
                    <a:pt x="44" y="24"/>
                    <a:pt x="47" y="28"/>
                  </a:cubicBezTo>
                  <a:cubicBezTo>
                    <a:pt x="50" y="31"/>
                    <a:pt x="52" y="37"/>
                    <a:pt x="52" y="47"/>
                  </a:cubicBezTo>
                  <a:cubicBezTo>
                    <a:pt x="52" y="59"/>
                    <a:pt x="52" y="59"/>
                    <a:pt x="52" y="59"/>
                  </a:cubicBezTo>
                  <a:cubicBezTo>
                    <a:pt x="52" y="65"/>
                    <a:pt x="52" y="70"/>
                    <a:pt x="51" y="73"/>
                  </a:cubicBezTo>
                  <a:cubicBezTo>
                    <a:pt x="50" y="76"/>
                    <a:pt x="49" y="78"/>
                    <a:pt x="47" y="81"/>
                  </a:cubicBezTo>
                  <a:cubicBezTo>
                    <a:pt x="45" y="83"/>
                    <a:pt x="43" y="85"/>
                    <a:pt x="39" y="86"/>
                  </a:cubicBezTo>
                  <a:cubicBezTo>
                    <a:pt x="36" y="88"/>
                    <a:pt x="31" y="88"/>
                    <a:pt x="26" y="88"/>
                  </a:cubicBezTo>
                  <a:cubicBezTo>
                    <a:pt x="21" y="88"/>
                    <a:pt x="16" y="87"/>
                    <a:pt x="12" y="85"/>
                  </a:cubicBezTo>
                  <a:cubicBezTo>
                    <a:pt x="7" y="83"/>
                    <a:pt x="4" y="81"/>
                    <a:pt x="3" y="77"/>
                  </a:cubicBezTo>
                  <a:cubicBezTo>
                    <a:pt x="1" y="73"/>
                    <a:pt x="0" y="67"/>
                    <a:pt x="0" y="5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65"/>
                    <a:pt x="22" y="69"/>
                    <a:pt x="22" y="71"/>
                  </a:cubicBezTo>
                  <a:cubicBezTo>
                    <a:pt x="23" y="74"/>
                    <a:pt x="24" y="75"/>
                    <a:pt x="26" y="75"/>
                  </a:cubicBezTo>
                  <a:cubicBezTo>
                    <a:pt x="27" y="75"/>
                    <a:pt x="28" y="75"/>
                    <a:pt x="29" y="74"/>
                  </a:cubicBezTo>
                  <a:cubicBezTo>
                    <a:pt x="30" y="73"/>
                    <a:pt x="30" y="72"/>
                    <a:pt x="30" y="72"/>
                  </a:cubicBezTo>
                  <a:cubicBezTo>
                    <a:pt x="30" y="71"/>
                    <a:pt x="30" y="68"/>
                    <a:pt x="30" y="61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1"/>
                    <a:pt x="30" y="39"/>
                    <a:pt x="29" y="38"/>
                  </a:cubicBezTo>
                  <a:cubicBezTo>
                    <a:pt x="28" y="36"/>
                    <a:pt x="27" y="36"/>
                    <a:pt x="26" y="36"/>
                  </a:cubicBezTo>
                  <a:cubicBezTo>
                    <a:pt x="25" y="36"/>
                    <a:pt x="24" y="36"/>
                    <a:pt x="23" y="37"/>
                  </a:cubicBezTo>
                  <a:cubicBezTo>
                    <a:pt x="23" y="37"/>
                    <a:pt x="22" y="38"/>
                    <a:pt x="22" y="39"/>
                  </a:cubicBezTo>
                  <a:cubicBezTo>
                    <a:pt x="22" y="39"/>
                    <a:pt x="22" y="41"/>
                    <a:pt x="22" y="44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33"/>
          <p:cNvGrpSpPr/>
          <p:nvPr/>
        </p:nvGrpSpPr>
        <p:grpSpPr>
          <a:xfrm>
            <a:off x="4179960" y="3881520"/>
            <a:ext cx="1501200" cy="1515600"/>
            <a:chOff x="4179960" y="3881520"/>
            <a:chExt cx="1501200" cy="1515600"/>
          </a:xfrm>
        </p:grpSpPr>
        <p:sp>
          <p:nvSpPr>
            <p:cNvPr id="392" name="AutoShape 27"/>
            <p:cNvSpPr/>
            <p:nvPr/>
          </p:nvSpPr>
          <p:spPr>
            <a:xfrm>
              <a:off x="4179960" y="3881520"/>
              <a:ext cx="150120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35"/>
            <p:cNvGrpSpPr/>
            <p:nvPr/>
          </p:nvGrpSpPr>
          <p:grpSpPr>
            <a:xfrm>
              <a:off x="4243680" y="4962600"/>
              <a:ext cx="1432800" cy="434520"/>
              <a:chOff x="4243680" y="4962600"/>
              <a:chExt cx="1432800" cy="434520"/>
            </a:xfrm>
          </p:grpSpPr>
          <p:pic>
            <p:nvPicPr>
              <p:cNvPr id="394" name="未知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3680" y="4962600"/>
                <a:ext cx="1414440" cy="40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Text Box 37"/>
              <p:cNvSpPr/>
              <p:nvPr/>
            </p:nvSpPr>
            <p:spPr>
              <a:xfrm>
                <a:off x="4248720" y="4968000"/>
                <a:ext cx="1427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未知"/>
            <p:cNvSpPr/>
            <p:nvPr/>
          </p:nvSpPr>
          <p:spPr>
            <a:xfrm>
              <a:off x="4179960" y="3882960"/>
              <a:ext cx="1501200" cy="151272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804" h="804">
                  <a:moveTo>
                    <a:pt x="804" y="628"/>
                  </a:moveTo>
                  <a:cubicBezTo>
                    <a:pt x="41" y="804"/>
                    <a:pt x="41" y="804"/>
                    <a:pt x="41" y="804"/>
                  </a:cubicBezTo>
                  <a:cubicBezTo>
                    <a:pt x="18" y="804"/>
                    <a:pt x="0" y="786"/>
                    <a:pt x="0" y="763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1" y="0"/>
                  </a:cubicBezTo>
                  <a:cubicBezTo>
                    <a:pt x="764" y="0"/>
                    <a:pt x="764" y="0"/>
                    <a:pt x="764" y="0"/>
                  </a:cubicBezTo>
                  <a:cubicBezTo>
                    <a:pt x="786" y="0"/>
                    <a:pt x="804" y="18"/>
                    <a:pt x="804" y="40"/>
                  </a:cubicBezTo>
                  <a:lnTo>
                    <a:pt x="804" y="628"/>
                  </a:lnTo>
                  <a:close/>
                </a:path>
              </a:pathLst>
            </a:cu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074560" y="4287240"/>
              <a:ext cx="417600" cy="52848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224" h="281">
                  <a:moveTo>
                    <a:pt x="99" y="51"/>
                  </a:moveTo>
                  <a:cubicBezTo>
                    <a:pt x="99" y="98"/>
                    <a:pt x="99" y="98"/>
                    <a:pt x="99" y="98"/>
                  </a:cubicBezTo>
                  <a:cubicBezTo>
                    <a:pt x="99" y="110"/>
                    <a:pt x="98" y="119"/>
                    <a:pt x="95" y="125"/>
                  </a:cubicBezTo>
                  <a:cubicBezTo>
                    <a:pt x="93" y="131"/>
                    <a:pt x="88" y="136"/>
                    <a:pt x="81" y="141"/>
                  </a:cubicBezTo>
                  <a:cubicBezTo>
                    <a:pt x="73" y="146"/>
                    <a:pt x="63" y="148"/>
                    <a:pt x="51" y="148"/>
                  </a:cubicBezTo>
                  <a:cubicBezTo>
                    <a:pt x="37" y="148"/>
                    <a:pt x="26" y="146"/>
                    <a:pt x="19" y="141"/>
                  </a:cubicBezTo>
                  <a:cubicBezTo>
                    <a:pt x="11" y="137"/>
                    <a:pt x="6" y="132"/>
                    <a:pt x="3" y="126"/>
                  </a:cubicBezTo>
                  <a:cubicBezTo>
                    <a:pt x="1" y="120"/>
                    <a:pt x="0" y="111"/>
                    <a:pt x="0" y="10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38"/>
                    <a:pt x="1" y="28"/>
                    <a:pt x="4" y="22"/>
                  </a:cubicBezTo>
                  <a:cubicBezTo>
                    <a:pt x="6" y="15"/>
                    <a:pt x="12" y="10"/>
                    <a:pt x="19" y="6"/>
                  </a:cubicBezTo>
                  <a:cubicBezTo>
                    <a:pt x="27" y="2"/>
                    <a:pt x="37" y="0"/>
                    <a:pt x="48" y="0"/>
                  </a:cubicBezTo>
                  <a:cubicBezTo>
                    <a:pt x="61" y="0"/>
                    <a:pt x="71" y="2"/>
                    <a:pt x="79" y="7"/>
                  </a:cubicBezTo>
                  <a:cubicBezTo>
                    <a:pt x="87" y="11"/>
                    <a:pt x="92" y="16"/>
                    <a:pt x="95" y="23"/>
                  </a:cubicBezTo>
                  <a:cubicBezTo>
                    <a:pt x="98" y="29"/>
                    <a:pt x="99" y="38"/>
                    <a:pt x="99" y="51"/>
                  </a:cubicBezTo>
                  <a:close/>
                  <a:moveTo>
                    <a:pt x="56" y="40"/>
                  </a:moveTo>
                  <a:cubicBezTo>
                    <a:pt x="56" y="32"/>
                    <a:pt x="56" y="28"/>
                    <a:pt x="55" y="26"/>
                  </a:cubicBezTo>
                  <a:cubicBezTo>
                    <a:pt x="54" y="25"/>
                    <a:pt x="52" y="24"/>
                    <a:pt x="49" y="24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2" y="28"/>
                    <a:pt x="42" y="33"/>
                    <a:pt x="42" y="40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2" y="115"/>
                    <a:pt x="42" y="120"/>
                    <a:pt x="43" y="122"/>
                  </a:cubicBezTo>
                  <a:cubicBezTo>
                    <a:pt x="44" y="123"/>
                    <a:pt x="46" y="124"/>
                    <a:pt x="49" y="124"/>
                  </a:cubicBezTo>
                  <a:cubicBezTo>
                    <a:pt x="52" y="124"/>
                    <a:pt x="54" y="123"/>
                    <a:pt x="55" y="121"/>
                  </a:cubicBezTo>
                  <a:cubicBezTo>
                    <a:pt x="56" y="120"/>
                    <a:pt x="56" y="115"/>
                    <a:pt x="56" y="109"/>
                  </a:cubicBezTo>
                  <a:lnTo>
                    <a:pt x="56" y="40"/>
                  </a:lnTo>
                  <a:close/>
                  <a:moveTo>
                    <a:pt x="178" y="0"/>
                  </a:moveTo>
                  <a:cubicBezTo>
                    <a:pt x="72" y="281"/>
                    <a:pt x="72" y="281"/>
                    <a:pt x="72" y="281"/>
                  </a:cubicBezTo>
                  <a:cubicBezTo>
                    <a:pt x="46" y="281"/>
                    <a:pt x="46" y="281"/>
                    <a:pt x="46" y="281"/>
                  </a:cubicBezTo>
                  <a:cubicBezTo>
                    <a:pt x="152" y="0"/>
                    <a:pt x="152" y="0"/>
                    <a:pt x="152" y="0"/>
                  </a:cubicBezTo>
                  <a:lnTo>
                    <a:pt x="178" y="0"/>
                  </a:lnTo>
                  <a:close/>
                  <a:moveTo>
                    <a:pt x="224" y="182"/>
                  </a:moveTo>
                  <a:cubicBezTo>
                    <a:pt x="224" y="229"/>
                    <a:pt x="224" y="229"/>
                    <a:pt x="224" y="229"/>
                  </a:cubicBezTo>
                  <a:cubicBezTo>
                    <a:pt x="224" y="241"/>
                    <a:pt x="223" y="250"/>
                    <a:pt x="221" y="256"/>
                  </a:cubicBezTo>
                  <a:cubicBezTo>
                    <a:pt x="219" y="262"/>
                    <a:pt x="214" y="267"/>
                    <a:pt x="206" y="272"/>
                  </a:cubicBezTo>
                  <a:cubicBezTo>
                    <a:pt x="199" y="276"/>
                    <a:pt x="189" y="279"/>
                    <a:pt x="176" y="279"/>
                  </a:cubicBezTo>
                  <a:cubicBezTo>
                    <a:pt x="162" y="279"/>
                    <a:pt x="151" y="276"/>
                    <a:pt x="144" y="272"/>
                  </a:cubicBezTo>
                  <a:cubicBezTo>
                    <a:pt x="136" y="268"/>
                    <a:pt x="131" y="263"/>
                    <a:pt x="129" y="257"/>
                  </a:cubicBezTo>
                  <a:cubicBezTo>
                    <a:pt x="126" y="251"/>
                    <a:pt x="125" y="242"/>
                    <a:pt x="125" y="231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69"/>
                    <a:pt x="126" y="159"/>
                    <a:pt x="129" y="153"/>
                  </a:cubicBezTo>
                  <a:cubicBezTo>
                    <a:pt x="132" y="146"/>
                    <a:pt x="137" y="141"/>
                    <a:pt x="145" y="137"/>
                  </a:cubicBezTo>
                  <a:cubicBezTo>
                    <a:pt x="153" y="133"/>
                    <a:pt x="162" y="131"/>
                    <a:pt x="174" y="131"/>
                  </a:cubicBezTo>
                  <a:cubicBezTo>
                    <a:pt x="186" y="131"/>
                    <a:pt x="197" y="133"/>
                    <a:pt x="205" y="137"/>
                  </a:cubicBezTo>
                  <a:cubicBezTo>
                    <a:pt x="213" y="142"/>
                    <a:pt x="218" y="147"/>
                    <a:pt x="220" y="153"/>
                  </a:cubicBezTo>
                  <a:cubicBezTo>
                    <a:pt x="223" y="160"/>
                    <a:pt x="224" y="169"/>
                    <a:pt x="224" y="182"/>
                  </a:cubicBezTo>
                  <a:close/>
                  <a:moveTo>
                    <a:pt x="182" y="170"/>
                  </a:moveTo>
                  <a:cubicBezTo>
                    <a:pt x="182" y="163"/>
                    <a:pt x="181" y="159"/>
                    <a:pt x="181" y="157"/>
                  </a:cubicBezTo>
                  <a:cubicBezTo>
                    <a:pt x="180" y="155"/>
                    <a:pt x="178" y="154"/>
                    <a:pt x="175" y="154"/>
                  </a:cubicBezTo>
                  <a:cubicBezTo>
                    <a:pt x="172" y="154"/>
                    <a:pt x="170" y="155"/>
                    <a:pt x="169" y="157"/>
                  </a:cubicBezTo>
                  <a:cubicBezTo>
                    <a:pt x="168" y="159"/>
                    <a:pt x="168" y="163"/>
                    <a:pt x="168" y="170"/>
                  </a:cubicBezTo>
                  <a:cubicBezTo>
                    <a:pt x="168" y="238"/>
                    <a:pt x="168" y="238"/>
                    <a:pt x="168" y="238"/>
                  </a:cubicBezTo>
                  <a:cubicBezTo>
                    <a:pt x="168" y="246"/>
                    <a:pt x="168" y="251"/>
                    <a:pt x="169" y="252"/>
                  </a:cubicBezTo>
                  <a:cubicBezTo>
                    <a:pt x="170" y="254"/>
                    <a:pt x="172" y="255"/>
                    <a:pt x="175" y="255"/>
                  </a:cubicBezTo>
                  <a:cubicBezTo>
                    <a:pt x="178" y="255"/>
                    <a:pt x="180" y="254"/>
                    <a:pt x="180" y="252"/>
                  </a:cubicBezTo>
                  <a:cubicBezTo>
                    <a:pt x="181" y="250"/>
                    <a:pt x="182" y="246"/>
                    <a:pt x="182" y="240"/>
                  </a:cubicBezTo>
                  <a:lnTo>
                    <a:pt x="182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45480" y="4763880"/>
              <a:ext cx="1435680" cy="631800"/>
            </a:xfrm>
            <a:custGeom>
              <a:avLst/>
              <a:gdLst>
                <a:gd name="textAreaLeft" fmla="*/ 0 w 1435680"/>
                <a:gd name="textAreaRight" fmla="*/ 1436040 w 14356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769" h="336">
                  <a:moveTo>
                    <a:pt x="0" y="334"/>
                  </a:moveTo>
                  <a:cubicBezTo>
                    <a:pt x="0" y="336"/>
                    <a:pt x="3" y="336"/>
                    <a:pt x="6" y="336"/>
                  </a:cubicBezTo>
                  <a:cubicBezTo>
                    <a:pt x="6" y="336"/>
                    <a:pt x="732" y="180"/>
                    <a:pt x="769" y="160"/>
                  </a:cubicBezTo>
                  <a:cubicBezTo>
                    <a:pt x="769" y="160"/>
                    <a:pt x="710" y="20"/>
                    <a:pt x="656" y="0"/>
                  </a:cubicBezTo>
                  <a:cubicBezTo>
                    <a:pt x="656" y="0"/>
                    <a:pt x="14" y="304"/>
                    <a:pt x="0" y="33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41"/>
            <p:cNvGrpSpPr/>
            <p:nvPr/>
          </p:nvGrpSpPr>
          <p:grpSpPr>
            <a:xfrm>
              <a:off x="4395960" y="4291920"/>
              <a:ext cx="633960" cy="529920"/>
              <a:chOff x="4395960" y="4291920"/>
              <a:chExt cx="633960" cy="529920"/>
            </a:xfrm>
          </p:grpSpPr>
          <p:sp>
            <p:nvSpPr>
              <p:cNvPr id="400" name="未知"/>
              <p:cNvSpPr/>
              <p:nvPr/>
            </p:nvSpPr>
            <p:spPr>
              <a:xfrm>
                <a:off x="4395960" y="4291920"/>
                <a:ext cx="291600" cy="52344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6" h="82">
                    <a:moveTo>
                      <a:pt x="44" y="68"/>
                    </a:moveTo>
                    <a:cubicBezTo>
                      <a:pt x="44" y="82"/>
                      <a:pt x="44" y="82"/>
                      <a:pt x="44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13" y="49"/>
                      <a:pt x="21" y="36"/>
                      <a:pt x="24" y="31"/>
                    </a:cubicBezTo>
                    <a:cubicBezTo>
                      <a:pt x="26" y="26"/>
                      <a:pt x="27" y="22"/>
                      <a:pt x="27" y="19"/>
                    </a:cubicBezTo>
                    <a:cubicBezTo>
                      <a:pt x="27" y="17"/>
                      <a:pt x="27" y="15"/>
                      <a:pt x="26" y="14"/>
                    </a:cubicBezTo>
                    <a:cubicBezTo>
                      <a:pt x="25" y="13"/>
                      <a:pt x="24" y="12"/>
                      <a:pt x="23" y="12"/>
                    </a:cubicBezTo>
                    <a:cubicBezTo>
                      <a:pt x="21" y="12"/>
                      <a:pt x="20" y="13"/>
                      <a:pt x="19" y="14"/>
                    </a:cubicBezTo>
                    <a:cubicBezTo>
                      <a:pt x="19" y="15"/>
                      <a:pt x="18" y="18"/>
                      <a:pt x="18" y="21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1"/>
                      <a:pt x="1" y="18"/>
                      <a:pt x="1" y="15"/>
                    </a:cubicBezTo>
                    <a:cubicBezTo>
                      <a:pt x="1" y="13"/>
                      <a:pt x="3" y="10"/>
                      <a:pt x="4" y="8"/>
                    </a:cubicBezTo>
                    <a:cubicBezTo>
                      <a:pt x="6" y="5"/>
                      <a:pt x="9" y="3"/>
                      <a:pt x="12" y="2"/>
                    </a:cubicBezTo>
                    <a:cubicBezTo>
                      <a:pt x="14" y="1"/>
                      <a:pt x="18" y="0"/>
                      <a:pt x="22" y="0"/>
                    </a:cubicBezTo>
                    <a:cubicBezTo>
                      <a:pt x="30" y="0"/>
                      <a:pt x="36" y="2"/>
                      <a:pt x="40" y="6"/>
                    </a:cubicBezTo>
                    <a:cubicBezTo>
                      <a:pt x="44" y="10"/>
                      <a:pt x="46" y="15"/>
                      <a:pt x="46" y="21"/>
                    </a:cubicBezTo>
                    <a:cubicBezTo>
                      <a:pt x="46" y="25"/>
                      <a:pt x="45" y="30"/>
                      <a:pt x="43" y="35"/>
                    </a:cubicBezTo>
                    <a:cubicBezTo>
                      <a:pt x="41" y="41"/>
                      <a:pt x="34" y="51"/>
                      <a:pt x="23" y="68"/>
                    </a:cubicBez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>
                <a:off x="4725360" y="4298400"/>
                <a:ext cx="304560" cy="52344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523440"/>
                  <a:gd name="textAreaBottom" fmla="*/ 523440 h 523440"/>
                </a:gdLst>
                <a:ahLst/>
                <a:rect l="textAreaLeft" t="textAreaTop" r="textAreaRight" b="textAreaBottom"/>
                <a:pathLst>
                  <a:path w="48" h="82">
                    <a:moveTo>
                      <a:pt x="44" y="0"/>
                    </a:moveTo>
                    <a:cubicBezTo>
                      <a:pt x="44" y="13"/>
                      <a:pt x="44" y="13"/>
                      <a:pt x="4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2" y="23"/>
                      <a:pt x="26" y="21"/>
                      <a:pt x="31" y="21"/>
                    </a:cubicBezTo>
                    <a:cubicBezTo>
                      <a:pt x="37" y="21"/>
                      <a:pt x="41" y="23"/>
                      <a:pt x="44" y="26"/>
                    </a:cubicBezTo>
                    <a:cubicBezTo>
                      <a:pt x="47" y="29"/>
                      <a:pt x="48" y="35"/>
                      <a:pt x="48" y="44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8" y="61"/>
                      <a:pt x="48" y="65"/>
                      <a:pt x="47" y="68"/>
                    </a:cubicBezTo>
                    <a:cubicBezTo>
                      <a:pt x="47" y="71"/>
                      <a:pt x="46" y="73"/>
                      <a:pt x="44" y="75"/>
                    </a:cubicBezTo>
                    <a:cubicBezTo>
                      <a:pt x="42" y="78"/>
                      <a:pt x="39" y="79"/>
                      <a:pt x="36" y="81"/>
                    </a:cubicBezTo>
                    <a:cubicBezTo>
                      <a:pt x="33" y="82"/>
                      <a:pt x="29" y="82"/>
                      <a:pt x="25" y="82"/>
                    </a:cubicBezTo>
                    <a:cubicBezTo>
                      <a:pt x="19" y="82"/>
                      <a:pt x="15" y="81"/>
                      <a:pt x="11" y="80"/>
                    </a:cubicBezTo>
                    <a:cubicBezTo>
                      <a:pt x="7" y="78"/>
                      <a:pt x="4" y="75"/>
                      <a:pt x="2" y="72"/>
                    </a:cubicBezTo>
                    <a:cubicBezTo>
                      <a:pt x="1" y="68"/>
                      <a:pt x="0" y="63"/>
                      <a:pt x="0" y="55"/>
                    </a:cubicBezTo>
                    <a:cubicBezTo>
                      <a:pt x="0" y="51"/>
                      <a:pt x="0" y="51"/>
                      <a:pt x="0" y="51"/>
                    </a:cubicBezTo>
                    <a:cubicBezTo>
                      <a:pt x="20" y="51"/>
                      <a:pt x="20" y="51"/>
                      <a:pt x="20" y="51"/>
                    </a:cubicBezTo>
                    <a:cubicBezTo>
                      <a:pt x="20" y="56"/>
                      <a:pt x="20" y="56"/>
                      <a:pt x="20" y="56"/>
                    </a:cubicBezTo>
                    <a:cubicBezTo>
                      <a:pt x="20" y="61"/>
                      <a:pt x="20" y="65"/>
                      <a:pt x="21" y="67"/>
                    </a:cubicBezTo>
                    <a:cubicBezTo>
                      <a:pt x="21" y="69"/>
                      <a:pt x="22" y="70"/>
                      <a:pt x="24" y="70"/>
                    </a:cubicBezTo>
                    <a:cubicBezTo>
                      <a:pt x="25" y="70"/>
                      <a:pt x="26" y="70"/>
                      <a:pt x="27" y="69"/>
                    </a:cubicBezTo>
                    <a:cubicBezTo>
                      <a:pt x="27" y="68"/>
                      <a:pt x="28" y="68"/>
                      <a:pt x="28" y="67"/>
                    </a:cubicBezTo>
                    <a:cubicBezTo>
                      <a:pt x="28" y="66"/>
                      <a:pt x="28" y="63"/>
                      <a:pt x="28" y="58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28" y="39"/>
                      <a:pt x="28" y="37"/>
                      <a:pt x="27" y="35"/>
                    </a:cubicBezTo>
                    <a:cubicBezTo>
                      <a:pt x="26" y="34"/>
                      <a:pt x="25" y="34"/>
                      <a:pt x="24" y="34"/>
                    </a:cubicBezTo>
                    <a:cubicBezTo>
                      <a:pt x="23" y="34"/>
                      <a:pt x="22" y="34"/>
                      <a:pt x="22" y="35"/>
                    </a:cubicBezTo>
                    <a:cubicBezTo>
                      <a:pt x="21" y="35"/>
                      <a:pt x="21" y="36"/>
                      <a:pt x="20" y="36"/>
                    </a:cubicBezTo>
                    <a:cubicBezTo>
                      <a:pt x="20" y="37"/>
                      <a:pt x="20" y="39"/>
                      <a:pt x="20" y="41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2" name="Rectangle 35"/>
          <p:cNvSpPr/>
          <p:nvPr/>
        </p:nvSpPr>
        <p:spPr>
          <a:xfrm>
            <a:off x="28425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6"/>
          <p:cNvSpPr/>
          <p:nvPr/>
        </p:nvSpPr>
        <p:spPr>
          <a:xfrm>
            <a:off x="5882760" y="34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1428120" y="5386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8"/>
          <p:cNvSpPr/>
          <p:nvPr/>
        </p:nvSpPr>
        <p:spPr>
          <a:xfrm>
            <a:off x="4460400" y="538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9"/>
          <p:cNvSpPr/>
          <p:nvPr/>
        </p:nvSpPr>
        <p:spPr>
          <a:xfrm>
            <a:off x="462132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0"/>
          <p:cNvSpPr/>
          <p:nvPr/>
        </p:nvSpPr>
        <p:spPr>
          <a:xfrm>
            <a:off x="7437600" y="2533680"/>
            <a:ext cx="587160" cy="480960"/>
          </a:xfrm>
          <a:prstGeom prst="rightArrow">
            <a:avLst>
              <a:gd name="adj1" fmla="val 59759"/>
              <a:gd name="adj2" fmla="val 6659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1"/>
          <p:cNvSpPr/>
          <p:nvPr/>
        </p:nvSpPr>
        <p:spPr>
          <a:xfrm>
            <a:off x="360360" y="44704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2"/>
          <p:cNvSpPr/>
          <p:nvPr/>
        </p:nvSpPr>
        <p:spPr>
          <a:xfrm>
            <a:off x="3228840" y="4470480"/>
            <a:ext cx="588960" cy="480960"/>
          </a:xfrm>
          <a:prstGeom prst="rightArrow">
            <a:avLst>
              <a:gd name="adj1" fmla="val 59759"/>
              <a:gd name="adj2" fmla="val 66795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3"/>
          <p:cNvSpPr/>
          <p:nvPr/>
        </p:nvSpPr>
        <p:spPr>
          <a:xfrm>
            <a:off x="6659640" y="5397480"/>
            <a:ext cx="178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WordArt 44" descr=""/>
          <p:cNvPicPr/>
          <p:nvPr/>
        </p:nvPicPr>
        <p:blipFill>
          <a:blip r:embed="rId5"/>
          <a:stretch/>
        </p:blipFill>
        <p:spPr>
          <a:xfrm>
            <a:off x="3340080" y="328680"/>
            <a:ext cx="26892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9A25-2906-4FC9-B7E5-00F2E69E1ED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042920" y="1700280"/>
            <a:ext cx="6840360" cy="3389040"/>
            <a:chOff x="1042920" y="1700280"/>
            <a:chExt cx="6840360" cy="3389040"/>
          </a:xfrm>
        </p:grpSpPr>
        <p:sp>
          <p:nvSpPr>
            <p:cNvPr id="414" name="AutoShape 3"/>
            <p:cNvSpPr/>
            <p:nvPr/>
          </p:nvSpPr>
          <p:spPr>
            <a:xfrm>
              <a:off x="1042920" y="1708560"/>
              <a:ext cx="4896720" cy="3367080"/>
            </a:xfrm>
            <a:prstGeom prst="roundRect">
              <a:avLst>
                <a:gd name="adj" fmla="val 0"/>
              </a:avLst>
            </a:prstGeom>
            <a:blipFill rotWithShape="0">
              <a:blip r:embed="rId1"/>
              <a:srcRect/>
              <a:stretch/>
            </a:blip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7120" indent="-3571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"/>
            <p:cNvSpPr/>
            <p:nvPr/>
          </p:nvSpPr>
          <p:spPr>
            <a:xfrm>
              <a:off x="5963760" y="1700280"/>
              <a:ext cx="1919520" cy="3389040"/>
            </a:xfrm>
            <a:prstGeom prst="rect">
              <a:avLst/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单击添加段落文字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5"/>
          <p:cNvSpPr/>
          <p:nvPr/>
        </p:nvSpPr>
        <p:spPr>
          <a:xfrm rot="10800000">
            <a:off x="1041480" y="5017320"/>
            <a:ext cx="6842160" cy="384120"/>
          </a:xfrm>
          <a:custGeom>
            <a:avLst/>
            <a:gdLst>
              <a:gd name="textAreaLeft" fmla="*/ 569880 w 6842160"/>
              <a:gd name="textAreaRight" fmla="*/ 6272280 w 6842160"/>
              <a:gd name="textAreaTop" fmla="*/ 32040 h 384120"/>
              <a:gd name="textAreaBottom" fmla="*/ 3524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6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 rot="10800000">
            <a:off x="24480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3"/>
          <p:cNvSpPr/>
          <p:nvPr/>
        </p:nvSpPr>
        <p:spPr>
          <a:xfrm rot="10800000">
            <a:off x="3920760" y="4692240"/>
            <a:ext cx="1344600" cy="141480"/>
          </a:xfrm>
          <a:custGeom>
            <a:avLst/>
            <a:gdLst>
              <a:gd name="textAreaLeft" fmla="*/ 145440 w 1344600"/>
              <a:gd name="textAreaRight" fmla="*/ 1199160 w 13446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4"/>
          <p:cNvSpPr/>
          <p:nvPr/>
        </p:nvSpPr>
        <p:spPr>
          <a:xfrm rot="10800000">
            <a:off x="541620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 rot="10800000">
            <a:off x="6899400" y="4692240"/>
            <a:ext cx="1342800" cy="141480"/>
          </a:xfrm>
          <a:custGeom>
            <a:avLst/>
            <a:gdLst>
              <a:gd name="textAreaLeft" fmla="*/ 145080 w 1342800"/>
              <a:gd name="textAreaRight" fmla="*/ 1197720 w 134280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 rot="10800000">
            <a:off x="6896160" y="4309560"/>
            <a:ext cx="1341360" cy="127080"/>
          </a:xfrm>
          <a:custGeom>
            <a:avLst/>
            <a:gdLst>
              <a:gd name="textAreaLeft" fmla="*/ 184680 w 1341360"/>
              <a:gd name="textAreaRight" fmla="*/ 1156680 w 134136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 rot="10800000">
            <a:off x="54277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 rot="10800000">
            <a:off x="391644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rot="10800000">
            <a:off x="2443320" y="4309560"/>
            <a:ext cx="1342800" cy="127080"/>
          </a:xfrm>
          <a:custGeom>
            <a:avLst/>
            <a:gdLst>
              <a:gd name="textAreaLeft" fmla="*/ 184680 w 1342800"/>
              <a:gd name="textAreaRight" fmla="*/ 1158120 w 134280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969480" y="4309560"/>
            <a:ext cx="1341720" cy="127080"/>
          </a:xfrm>
          <a:custGeom>
            <a:avLst/>
            <a:gdLst>
              <a:gd name="textAreaLeft" fmla="*/ 184680 w 1341720"/>
              <a:gd name="textAreaRight" fmla="*/ 1157040 w 1341720"/>
              <a:gd name="textAreaTop" fmla="*/ 17280 h 127080"/>
              <a:gd name="textAreaBottom" fmla="*/ 109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4606920" y="2854440"/>
            <a:ext cx="0" cy="1670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AutoShape 12"/>
          <p:cNvCxnSpPr>
            <a:stCxn id="429" idx="0"/>
            <a:endCxn id="430" idx="0"/>
          </p:cNvCxnSpPr>
          <p:nvPr/>
        </p:nvCxnSpPr>
        <p:spPr>
          <a:xfrm flipH="1" rot="16200000">
            <a:off x="4605840" y="1471320"/>
            <a:ext cx="2520" cy="5931360"/>
          </a:xfrm>
          <a:prstGeom prst="bentConnector3">
            <a:avLst>
              <a:gd name="adj1" fmla="val -367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431" name="Line 13"/>
          <p:cNvSpPr/>
          <p:nvPr/>
        </p:nvSpPr>
        <p:spPr>
          <a:xfrm>
            <a:off x="3132000" y="4005360"/>
            <a:ext cx="0" cy="620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6083280" y="4005360"/>
            <a:ext cx="0" cy="65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3494160" y="2328840"/>
            <a:ext cx="2227320" cy="592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6"/>
          <p:cNvSpPr/>
          <p:nvPr/>
        </p:nvSpPr>
        <p:spPr>
          <a:xfrm>
            <a:off x="3494160" y="2001960"/>
            <a:ext cx="2227320" cy="261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96984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8"/>
          <p:cNvSpPr/>
          <p:nvPr/>
        </p:nvSpPr>
        <p:spPr>
          <a:xfrm>
            <a:off x="969840" y="4832280"/>
            <a:ext cx="134316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244476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244620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391788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391968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5425920" y="4437000"/>
            <a:ext cx="13431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5427720" y="4832280"/>
            <a:ext cx="134280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900840" y="4437000"/>
            <a:ext cx="1341360" cy="26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此处添加标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6"/>
          <p:cNvSpPr/>
          <p:nvPr/>
        </p:nvSpPr>
        <p:spPr>
          <a:xfrm>
            <a:off x="6902280" y="4832280"/>
            <a:ext cx="1341720" cy="8841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1c1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57120" indent="-357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7"/>
          <p:cNvSpPr/>
          <p:nvPr/>
        </p:nvSpPr>
        <p:spPr>
          <a:xfrm rot="10800000">
            <a:off x="3485880" y="1873080"/>
            <a:ext cx="2238120" cy="128880"/>
          </a:xfrm>
          <a:custGeom>
            <a:avLst/>
            <a:gdLst>
              <a:gd name="textAreaLeft" fmla="*/ 308160 w 2238120"/>
              <a:gd name="textAreaRight" fmla="*/ 1929960 w 2238120"/>
              <a:gd name="textAreaTop" fmla="*/ 17640 h 128880"/>
              <a:gd name="textAreaBottom" fmla="*/ 111240 h 1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350" y="21600"/>
                </a:lnTo>
                <a:lnTo>
                  <a:pt x="1925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8"/>
          <p:cNvSpPr/>
          <p:nvPr/>
        </p:nvSpPr>
        <p:spPr>
          <a:xfrm rot="10800000">
            <a:off x="969480" y="4692240"/>
            <a:ext cx="1343160" cy="141480"/>
          </a:xfrm>
          <a:custGeom>
            <a:avLst/>
            <a:gdLst>
              <a:gd name="textAreaLeft" fmla="*/ 145080 w 1343160"/>
              <a:gd name="textAreaRight" fmla="*/ 1198080 w 1343160"/>
              <a:gd name="textAreaTop" fmla="*/ 15120 h 141480"/>
              <a:gd name="textAreaBottom" fmla="*/ 126360 h 1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9" descr="310"/>
          <p:cNvPicPr/>
          <p:nvPr/>
        </p:nvPicPr>
        <p:blipFill>
          <a:blip r:embed="rId1">
            <a:grayscl/>
          </a:blip>
          <a:stretch/>
        </p:blipFill>
        <p:spPr>
          <a:xfrm>
            <a:off x="3263760" y="1477800"/>
            <a:ext cx="514440" cy="19004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30"/>
          <p:cNvSpPr/>
          <p:nvPr/>
        </p:nvSpPr>
        <p:spPr>
          <a:xfrm rot="10800000">
            <a:off x="3419640" y="2924280"/>
            <a:ext cx="2304720" cy="318960"/>
          </a:xfrm>
          <a:custGeom>
            <a:avLst/>
            <a:gdLst>
              <a:gd name="textAreaLeft" fmla="*/ 191880 w 2304720"/>
              <a:gd name="textAreaRight" fmla="*/ 2112840 w 230472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WordArt 31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Oval 2"/>
          <p:cNvSpPr/>
          <p:nvPr/>
        </p:nvSpPr>
        <p:spPr>
          <a:xfrm flipV="1" rot="10800000">
            <a:off x="2592360" y="5081760"/>
            <a:ext cx="3957840" cy="38880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未知"/>
          <p:cNvSpPr/>
          <p:nvPr/>
        </p:nvSpPr>
        <p:spPr>
          <a:xfrm rot="21571200">
            <a:off x="3095280" y="1915920"/>
            <a:ext cx="1474920" cy="170172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未知"/>
          <p:cNvSpPr/>
          <p:nvPr/>
        </p:nvSpPr>
        <p:spPr>
          <a:xfrm rot="21571200">
            <a:off x="4570200" y="1904760"/>
            <a:ext cx="1465200" cy="17017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未知"/>
          <p:cNvSpPr/>
          <p:nvPr/>
        </p:nvSpPr>
        <p:spPr>
          <a:xfrm rot="21571200">
            <a:off x="4576320" y="2752560"/>
            <a:ext cx="1698840" cy="169416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694160"/>
              <a:gd name="textAreaBottom" fmla="*/ 1694520 h 169416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 rot="21571200">
            <a:off x="4584240" y="3606480"/>
            <a:ext cx="1465200" cy="168912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solidFill>
            <a:srgbClr val="a5002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未知"/>
          <p:cNvSpPr/>
          <p:nvPr/>
        </p:nvSpPr>
        <p:spPr>
          <a:xfrm rot="21571200">
            <a:off x="3109680" y="3617640"/>
            <a:ext cx="1474560" cy="1689120"/>
          </a:xfrm>
          <a:custGeom>
            <a:avLst/>
            <a:gdLst>
              <a:gd name="textAreaLeft" fmla="*/ 0 w 1474560"/>
              <a:gd name="textAreaRight" fmla="*/ 1474920 w 147456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未知"/>
          <p:cNvSpPr/>
          <p:nvPr/>
        </p:nvSpPr>
        <p:spPr>
          <a:xfrm rot="21571200">
            <a:off x="2866680" y="2765520"/>
            <a:ext cx="1709640" cy="1695240"/>
          </a:xfrm>
          <a:custGeom>
            <a:avLst/>
            <a:gdLst>
              <a:gd name="textAreaLeft" fmla="*/ 0 w 1709640"/>
              <a:gd name="textAreaRight" fmla="*/ 1710000 w 1709640"/>
              <a:gd name="textAreaTop" fmla="*/ 0 h 1695240"/>
              <a:gd name="textAreaBottom" fmla="*/ 1695600 h 169524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solidFill>
            <a:srgbClr val="ff66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未知"/>
          <p:cNvSpPr/>
          <p:nvPr/>
        </p:nvSpPr>
        <p:spPr>
          <a:xfrm rot="21571200">
            <a:off x="3408120" y="2274840"/>
            <a:ext cx="1162080" cy="133992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6391c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未知"/>
          <p:cNvSpPr/>
          <p:nvPr/>
        </p:nvSpPr>
        <p:spPr>
          <a:xfrm rot="21571200">
            <a:off x="4570200" y="2265120"/>
            <a:ext cx="1153800" cy="13413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未知"/>
          <p:cNvSpPr/>
          <p:nvPr/>
        </p:nvSpPr>
        <p:spPr>
          <a:xfrm rot="21571200">
            <a:off x="4575240" y="2933640"/>
            <a:ext cx="1338120" cy="1335240"/>
          </a:xfrm>
          <a:custGeom>
            <a:avLst/>
            <a:gdLst>
              <a:gd name="textAreaLeft" fmla="*/ 0 w 1338120"/>
              <a:gd name="textAreaRight" fmla="*/ 1338480 w 1338120"/>
              <a:gd name="textAreaTop" fmla="*/ 0 h 1335240"/>
              <a:gd name="textAreaBottom" fmla="*/ 1335240 h 133524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未知"/>
          <p:cNvSpPr/>
          <p:nvPr/>
        </p:nvSpPr>
        <p:spPr>
          <a:xfrm rot="21571200">
            <a:off x="4579920" y="3606840"/>
            <a:ext cx="1155600" cy="133020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150" h="173">
                <a:moveTo>
                  <a:pt x="0" y="173"/>
                </a:moveTo>
                <a:cubicBezTo>
                  <a:pt x="62" y="173"/>
                  <a:pt x="119" y="140"/>
                  <a:pt x="150" y="86"/>
                </a:cubicBezTo>
                <a:lnTo>
                  <a:pt x="0" y="0"/>
                </a:lnTo>
                <a:lnTo>
                  <a:pt x="0" y="17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未知"/>
          <p:cNvSpPr/>
          <p:nvPr/>
        </p:nvSpPr>
        <p:spPr>
          <a:xfrm rot="21571200">
            <a:off x="3419640" y="3614760"/>
            <a:ext cx="1160280" cy="1332000"/>
          </a:xfrm>
          <a:custGeom>
            <a:avLst/>
            <a:gdLst>
              <a:gd name="textAreaLeft" fmla="*/ 0 w 1160280"/>
              <a:gd name="textAreaRight" fmla="*/ 1160640 w 1160280"/>
              <a:gd name="textAreaTop" fmla="*/ 0 h 1332000"/>
              <a:gd name="textAreaBottom" fmla="*/ 1332360 h 1332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未知"/>
          <p:cNvSpPr/>
          <p:nvPr/>
        </p:nvSpPr>
        <p:spPr>
          <a:xfrm rot="21571200">
            <a:off x="3228840" y="2943360"/>
            <a:ext cx="1346400" cy="133488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334880"/>
              <a:gd name="textAreaBottom" fmla="*/ 1335240 h 1334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3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5678640" y="2625840"/>
            <a:ext cx="371160" cy="369360"/>
            <a:chOff x="5678640" y="2625840"/>
            <a:chExt cx="371160" cy="369360"/>
          </a:xfrm>
        </p:grpSpPr>
        <p:sp>
          <p:nvSpPr>
            <p:cNvPr id="462" name="AutoShape 16"/>
            <p:cNvSpPr/>
            <p:nvPr/>
          </p:nvSpPr>
          <p:spPr>
            <a:xfrm rot="17100000">
              <a:off x="5713200" y="2658600"/>
              <a:ext cx="301320" cy="303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 rot="17100000">
              <a:off x="5754240" y="2698200"/>
              <a:ext cx="210240" cy="21168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8"/>
          <p:cNvGrpSpPr/>
          <p:nvPr/>
        </p:nvGrpSpPr>
        <p:grpSpPr>
          <a:xfrm>
            <a:off x="5720760" y="4137840"/>
            <a:ext cx="371160" cy="369720"/>
            <a:chOff x="5720760" y="4137840"/>
            <a:chExt cx="371160" cy="369720"/>
          </a:xfrm>
        </p:grpSpPr>
        <p:sp>
          <p:nvSpPr>
            <p:cNvPr id="465" name="AutoShape 19"/>
            <p:cNvSpPr/>
            <p:nvPr/>
          </p:nvSpPr>
          <p:spPr>
            <a:xfrm rot="20700000">
              <a:off x="5754600" y="417168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 rot="20700000">
              <a:off x="5803560" y="4210560"/>
              <a:ext cx="211680" cy="210240"/>
            </a:xfrm>
            <a:prstGeom prst="rtTriangl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1"/>
          <p:cNvGrpSpPr/>
          <p:nvPr/>
        </p:nvGrpSpPr>
        <p:grpSpPr>
          <a:xfrm>
            <a:off x="4409280" y="4907880"/>
            <a:ext cx="428400" cy="428760"/>
            <a:chOff x="4409280" y="4907880"/>
            <a:chExt cx="428400" cy="428760"/>
          </a:xfrm>
        </p:grpSpPr>
        <p:sp>
          <p:nvSpPr>
            <p:cNvPr id="468" name="AutoShape 22"/>
            <p:cNvSpPr/>
            <p:nvPr/>
          </p:nvSpPr>
          <p:spPr>
            <a:xfrm rot="2700000">
              <a:off x="4471920" y="4970520"/>
              <a:ext cx="30312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 rot="2700000">
              <a:off x="4525200" y="5016240"/>
              <a:ext cx="211320" cy="21132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4"/>
          <p:cNvGrpSpPr/>
          <p:nvPr/>
        </p:nvGrpSpPr>
        <p:grpSpPr>
          <a:xfrm>
            <a:off x="3096000" y="4216320"/>
            <a:ext cx="370800" cy="369720"/>
            <a:chOff x="3096000" y="4216320"/>
            <a:chExt cx="370800" cy="369720"/>
          </a:xfrm>
        </p:grpSpPr>
        <p:sp>
          <p:nvSpPr>
            <p:cNvPr id="471" name="AutoShape 25"/>
            <p:cNvSpPr/>
            <p:nvPr/>
          </p:nvSpPr>
          <p:spPr>
            <a:xfrm rot="6300000">
              <a:off x="3130200" y="4249440"/>
              <a:ext cx="301680" cy="3031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26"/>
            <p:cNvSpPr/>
            <p:nvPr/>
          </p:nvSpPr>
          <p:spPr>
            <a:xfrm rot="6300000">
              <a:off x="3179880" y="4302000"/>
              <a:ext cx="210240" cy="21132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27"/>
          <p:cNvGrpSpPr/>
          <p:nvPr/>
        </p:nvGrpSpPr>
        <p:grpSpPr>
          <a:xfrm>
            <a:off x="3050640" y="2701440"/>
            <a:ext cx="370800" cy="369720"/>
            <a:chOff x="3050640" y="2701440"/>
            <a:chExt cx="370800" cy="369720"/>
          </a:xfrm>
        </p:grpSpPr>
        <p:sp>
          <p:nvSpPr>
            <p:cNvPr id="474" name="AutoShape 28"/>
            <p:cNvSpPr/>
            <p:nvPr/>
          </p:nvSpPr>
          <p:spPr>
            <a:xfrm rot="9900000">
              <a:off x="3084120" y="2735280"/>
              <a:ext cx="30312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9"/>
            <p:cNvSpPr/>
            <p:nvPr/>
          </p:nvSpPr>
          <p:spPr>
            <a:xfrm rot="9900000">
              <a:off x="3126600" y="2787480"/>
              <a:ext cx="211320" cy="210240"/>
            </a:xfrm>
            <a:prstGeom prst="rtTriangl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30"/>
          <p:cNvGrpSpPr/>
          <p:nvPr/>
        </p:nvGrpSpPr>
        <p:grpSpPr>
          <a:xfrm>
            <a:off x="4308480" y="1875600"/>
            <a:ext cx="428040" cy="428040"/>
            <a:chOff x="4308480" y="1875600"/>
            <a:chExt cx="428040" cy="428040"/>
          </a:xfrm>
        </p:grpSpPr>
        <p:sp>
          <p:nvSpPr>
            <p:cNvPr id="477" name="AutoShape 31"/>
            <p:cNvSpPr/>
            <p:nvPr/>
          </p:nvSpPr>
          <p:spPr>
            <a:xfrm rot="13500000">
              <a:off x="4370400" y="1938600"/>
              <a:ext cx="303480" cy="3016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32"/>
            <p:cNvSpPr/>
            <p:nvPr/>
          </p:nvSpPr>
          <p:spPr>
            <a:xfrm rot="13500000">
              <a:off x="4408920" y="1985040"/>
              <a:ext cx="211680" cy="210240"/>
            </a:xfrm>
            <a:prstGeom prst="rtTriangle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WordArt 33"/>
          <p:cNvSpPr txBox="1"/>
          <p:nvPr/>
        </p:nvSpPr>
        <p:spPr>
          <a:xfrm rot="20023800">
            <a:off x="3444840" y="22554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0" name="WordArt 34"/>
          <p:cNvSpPr txBox="1"/>
          <p:nvPr/>
        </p:nvSpPr>
        <p:spPr>
          <a:xfrm rot="16200000">
            <a:off x="2678040" y="3531960"/>
            <a:ext cx="97164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1" name="WordArt 35"/>
          <p:cNvSpPr txBox="1"/>
          <p:nvPr/>
        </p:nvSpPr>
        <p:spPr>
          <a:xfrm rot="2130000">
            <a:off x="3317400" y="472572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2" name="WordArt 36"/>
          <p:cNvSpPr txBox="1"/>
          <p:nvPr/>
        </p:nvSpPr>
        <p:spPr>
          <a:xfrm rot="19897800">
            <a:off x="4763880" y="4774680"/>
            <a:ext cx="97128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3" name="WordArt 37"/>
          <p:cNvSpPr txBox="1"/>
          <p:nvPr/>
        </p:nvSpPr>
        <p:spPr>
          <a:xfrm rot="5685600">
            <a:off x="5508360" y="357480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84" name="WordArt 38"/>
          <p:cNvSpPr txBox="1"/>
          <p:nvPr/>
        </p:nvSpPr>
        <p:spPr>
          <a:xfrm rot="2184000">
            <a:off x="4878360" y="2339640"/>
            <a:ext cx="97164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485" name="Group 39"/>
          <p:cNvGrpSpPr/>
          <p:nvPr/>
        </p:nvGrpSpPr>
        <p:grpSpPr>
          <a:xfrm>
            <a:off x="2994840" y="2021040"/>
            <a:ext cx="3163320" cy="3159720"/>
            <a:chOff x="2994840" y="2021040"/>
            <a:chExt cx="3163320" cy="3159720"/>
          </a:xfrm>
        </p:grpSpPr>
        <p:grpSp>
          <p:nvGrpSpPr>
            <p:cNvPr id="486" name="Group 40"/>
            <p:cNvGrpSpPr/>
            <p:nvPr/>
          </p:nvGrpSpPr>
          <p:grpSpPr>
            <a:xfrm>
              <a:off x="2994840" y="2021040"/>
              <a:ext cx="3163320" cy="3159720"/>
              <a:chOff x="2994840" y="2021040"/>
              <a:chExt cx="3163320" cy="3159720"/>
            </a:xfrm>
          </p:grpSpPr>
          <p:sp>
            <p:nvSpPr>
              <p:cNvPr id="487" name="Oval 41"/>
              <p:cNvSpPr/>
              <p:nvPr/>
            </p:nvSpPr>
            <p:spPr>
              <a:xfrm rot="649800">
                <a:off x="3224160" y="2250720"/>
                <a:ext cx="2704320" cy="269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42"/>
              <p:cNvSpPr/>
              <p:nvPr/>
            </p:nvSpPr>
            <p:spPr>
              <a:xfrm rot="649800">
                <a:off x="3376080" y="2397960"/>
                <a:ext cx="2399760" cy="2404440"/>
              </a:xfrm>
              <a:prstGeom prst="ellipse">
                <a:avLst/>
              </a:prstGeom>
              <a:gradFill rotWithShape="0">
                <a:gsLst>
                  <a:gs pos="0">
                    <a:srgbClr val="ff0000">
                      <a:alpha val="90196"/>
                    </a:srgbClr>
                  </a:gs>
                  <a:gs pos="100000">
                    <a:srgbClr val="750000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未知"/>
            <p:cNvSpPr/>
            <p:nvPr/>
          </p:nvSpPr>
          <p:spPr>
            <a:xfrm rot="16200000">
              <a:off x="3859200" y="305568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 rot="5400000">
              <a:off x="4196880" y="2058840"/>
              <a:ext cx="1030680" cy="205740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WordArt 45"/>
            <p:cNvSpPr txBox="1"/>
            <p:nvPr/>
          </p:nvSpPr>
          <p:spPr>
            <a:xfrm>
              <a:off x="3788640" y="3256560"/>
              <a:ext cx="1578960" cy="21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92" name="WordArt 46"/>
            <p:cNvSpPr txBox="1"/>
            <p:nvPr/>
          </p:nvSpPr>
          <p:spPr>
            <a:xfrm>
              <a:off x="3788640" y="3762720"/>
              <a:ext cx="1578960" cy="20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3" name="Text Box 47"/>
          <p:cNvSpPr/>
          <p:nvPr/>
        </p:nvSpPr>
        <p:spPr>
          <a:xfrm>
            <a:off x="905040" y="2746440"/>
            <a:ext cx="18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8"/>
          <p:cNvSpPr/>
          <p:nvPr/>
        </p:nvSpPr>
        <p:spPr>
          <a:xfrm>
            <a:off x="9000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9"/>
          <p:cNvSpPr/>
          <p:nvPr/>
        </p:nvSpPr>
        <p:spPr>
          <a:xfrm>
            <a:off x="6335640" y="27464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此处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0"/>
          <p:cNvSpPr/>
          <p:nvPr/>
        </p:nvSpPr>
        <p:spPr>
          <a:xfrm>
            <a:off x="6332400" y="3222720"/>
            <a:ext cx="1911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WordArt 51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869F-AA89-4681-AEDD-A1C32DF45EC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"/>
          <p:cNvSpPr/>
          <p:nvPr/>
        </p:nvSpPr>
        <p:spPr>
          <a:xfrm rot="5400000">
            <a:off x="892080" y="2693880"/>
            <a:ext cx="1401840" cy="21290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28480" y="2747880"/>
            <a:ext cx="213228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>
            <a:off x="1047600" y="2809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522360" y="3049560"/>
            <a:ext cx="21193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 rot="5400000">
            <a:off x="4628520" y="76824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348000" y="173988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8"/>
          <p:cNvSpPr txBox="1"/>
          <p:nvPr/>
        </p:nvSpPr>
        <p:spPr>
          <a:xfrm>
            <a:off x="4356000" y="1801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3348000" y="204156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 rot="5400000">
            <a:off x="4628520" y="173988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3348000" y="271152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4356000" y="27734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3348000" y="301320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 rot="5400000">
            <a:off x="4628520" y="2709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3348000" y="3681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6"/>
          <p:cNvSpPr txBox="1"/>
          <p:nvPr/>
        </p:nvSpPr>
        <p:spPr>
          <a:xfrm>
            <a:off x="4356000" y="374328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4" name="Rectangle 17"/>
          <p:cNvSpPr/>
          <p:nvPr/>
        </p:nvSpPr>
        <p:spPr>
          <a:xfrm>
            <a:off x="3348000" y="3983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8"/>
          <p:cNvSpPr/>
          <p:nvPr/>
        </p:nvSpPr>
        <p:spPr>
          <a:xfrm rot="5400000">
            <a:off x="4628520" y="3690720"/>
            <a:ext cx="519120" cy="3081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9"/>
          <p:cNvSpPr/>
          <p:nvPr/>
        </p:nvSpPr>
        <p:spPr>
          <a:xfrm>
            <a:off x="3348000" y="4662360"/>
            <a:ext cx="3081240" cy="277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20"/>
          <p:cNvSpPr txBox="1"/>
          <p:nvPr/>
        </p:nvSpPr>
        <p:spPr>
          <a:xfrm>
            <a:off x="4356000" y="4724280"/>
            <a:ext cx="1060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18" name="Rectangle 21"/>
          <p:cNvSpPr/>
          <p:nvPr/>
        </p:nvSpPr>
        <p:spPr>
          <a:xfrm>
            <a:off x="3348000" y="4964040"/>
            <a:ext cx="3086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AutoShape 22"/>
          <p:cNvCxnSpPr>
            <a:stCxn id="506" idx="1"/>
            <a:endCxn id="504" idx="1"/>
          </p:cNvCxnSpPr>
          <p:nvPr/>
        </p:nvCxnSpPr>
        <p:spPr>
          <a:xfrm flipH="1" rot="10800000">
            <a:off x="3346920" y="1878840"/>
            <a:ext cx="2520" cy="429480"/>
          </a:xfrm>
          <a:prstGeom prst="bentConnector3">
            <a:avLst>
              <a:gd name="adj1" fmla="val -14400000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0" name="AutoShape 23"/>
          <p:cNvCxnSpPr>
            <a:stCxn id="500" idx="0"/>
          </p:cNvCxnSpPr>
          <p:nvPr/>
        </p:nvCxnSpPr>
        <p:spPr>
          <a:xfrm flipH="1" flipV="1" rot="5400000">
            <a:off x="2012400" y="1648800"/>
            <a:ext cx="681840" cy="1516680"/>
          </a:xfrm>
          <a:prstGeom prst="bentConnector2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1" name="AutoShape 24"/>
          <p:cNvCxnSpPr>
            <a:stCxn id="506" idx="2"/>
            <a:endCxn id="508" idx="0"/>
          </p:cNvCxnSpPr>
          <p:nvPr/>
        </p:nvCxnSpPr>
        <p:spPr>
          <a:xfrm rot="5400000">
            <a:off x="4820400" y="2641680"/>
            <a:ext cx="138960" cy="2160"/>
          </a:xfrm>
          <a:prstGeom prst="bentConnector3">
            <a:avLst>
              <a:gd name="adj1" fmla="val 4987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2" name="AutoShape 25"/>
          <p:cNvCxnSpPr>
            <a:stCxn id="510" idx="2"/>
            <a:endCxn id="512" idx="0"/>
          </p:cNvCxnSpPr>
          <p:nvPr/>
        </p:nvCxnSpPr>
        <p:spPr>
          <a:xfrm rot="5400000">
            <a:off x="4821480" y="3612240"/>
            <a:ext cx="1371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cxnSp>
        <p:nvCxnSpPr>
          <p:cNvPr id="523" name="AutoShape 26"/>
          <p:cNvCxnSpPr>
            <a:stCxn id="514" idx="2"/>
            <a:endCxn id="516" idx="0"/>
          </p:cNvCxnSpPr>
          <p:nvPr/>
        </p:nvCxnSpPr>
        <p:spPr>
          <a:xfrm rot="5400000">
            <a:off x="4815720" y="4587840"/>
            <a:ext cx="1483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a50021"/>
            </a:solidFill>
            <a:miter/>
            <a:tailEnd len="lg" type="triangle" w="lg"/>
          </a:ln>
        </p:spPr>
      </p:cxnSp>
      <p:sp>
        <p:nvSpPr>
          <p:cNvPr id="524" name="Rectangle 27"/>
          <p:cNvSpPr/>
          <p:nvPr/>
        </p:nvSpPr>
        <p:spPr>
          <a:xfrm>
            <a:off x="6959520" y="3714840"/>
            <a:ext cx="1633680" cy="831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8"/>
          <p:cNvSpPr/>
          <p:nvPr/>
        </p:nvSpPr>
        <p:spPr>
          <a:xfrm>
            <a:off x="6959520" y="4689360"/>
            <a:ext cx="1633680" cy="8319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29"/>
          <p:cNvCxnSpPr/>
          <p:nvPr/>
        </p:nvCxnSpPr>
        <p:spPr>
          <a:xfrm>
            <a:off x="6402240" y="3857760"/>
            <a:ext cx="5760" cy="429120"/>
          </a:xfrm>
          <a:prstGeom prst="bentConnector3">
            <a:avLst>
              <a:gd name="adj1" fmla="val 3633333"/>
            </a:avLst>
          </a:prstGeom>
          <a:ln w="9360">
            <a:solidFill>
              <a:srgbClr val="a50021"/>
            </a:solidFill>
            <a:miter/>
          </a:ln>
        </p:spPr>
      </p:cxnSp>
      <p:cxnSp>
        <p:nvCxnSpPr>
          <p:cNvPr id="527" name="AutoShape 30"/>
          <p:cNvCxnSpPr/>
          <p:nvPr/>
        </p:nvCxnSpPr>
        <p:spPr>
          <a:xfrm flipH="1" flipV="1">
            <a:off x="6401880" y="4828320"/>
            <a:ext cx="5760" cy="429480"/>
          </a:xfrm>
          <a:prstGeom prst="bentConnector3">
            <a:avLst>
              <a:gd name="adj1" fmla="val -3400000"/>
            </a:avLst>
          </a:prstGeom>
          <a:ln w="9360">
            <a:solidFill>
              <a:srgbClr val="a50021"/>
            </a:solidFill>
            <a:miter/>
          </a:ln>
        </p:spPr>
      </p:cxnSp>
      <p:sp>
        <p:nvSpPr>
          <p:cNvPr id="528" name="Line 31"/>
          <p:cNvSpPr/>
          <p:nvPr/>
        </p:nvSpPr>
        <p:spPr>
          <a:xfrm>
            <a:off x="6575400" y="406404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32"/>
          <p:cNvSpPr/>
          <p:nvPr/>
        </p:nvSpPr>
        <p:spPr>
          <a:xfrm>
            <a:off x="6575400" y="5035680"/>
            <a:ext cx="3841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3"/>
          <p:cNvSpPr/>
          <p:nvPr/>
        </p:nvSpPr>
        <p:spPr>
          <a:xfrm>
            <a:off x="6948360" y="3718080"/>
            <a:ext cx="164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4"/>
          <p:cNvSpPr/>
          <p:nvPr/>
        </p:nvSpPr>
        <p:spPr>
          <a:xfrm>
            <a:off x="6948360" y="4699080"/>
            <a:ext cx="164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WordArt 3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504E-BCC2-426F-8BFD-DE6DC6E21AC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"/>
          <p:cNvSpPr/>
          <p:nvPr/>
        </p:nvSpPr>
        <p:spPr>
          <a:xfrm>
            <a:off x="3166920" y="2666880"/>
            <a:ext cx="2629080" cy="2129040"/>
          </a:xfrm>
          <a:prstGeom prst="hexagon">
            <a:avLst>
              <a:gd name="adj" fmla="val 30872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3"/>
          <p:cNvSpPr/>
          <p:nvPr/>
        </p:nvSpPr>
        <p:spPr>
          <a:xfrm>
            <a:off x="3325680" y="2795760"/>
            <a:ext cx="2310120" cy="1871640"/>
          </a:xfrm>
          <a:prstGeom prst="hexagon">
            <a:avLst>
              <a:gd name="adj" fmla="val 30857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4"/>
          <p:cNvSpPr/>
          <p:nvPr/>
        </p:nvSpPr>
        <p:spPr>
          <a:xfrm flipH="1">
            <a:off x="291096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5803920" y="3738600"/>
            <a:ext cx="25092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 flipV="1">
            <a:off x="5140440" y="2507760"/>
            <a:ext cx="13320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 flipH="1" flipV="1">
            <a:off x="3688920" y="2507760"/>
            <a:ext cx="133560" cy="16380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5140440" y="4797360"/>
            <a:ext cx="13320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 flipH="1">
            <a:off x="3688920" y="4797360"/>
            <a:ext cx="133560" cy="1634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3606840" y="3346560"/>
            <a:ext cx="1749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>
            <a:off x="2700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/>
          <p:cNvSpPr/>
          <p:nvPr/>
        </p:nvSpPr>
        <p:spPr>
          <a:xfrm>
            <a:off x="284328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3"/>
          <p:cNvSpPr/>
          <p:nvPr/>
        </p:nvSpPr>
        <p:spPr>
          <a:xfrm>
            <a:off x="4932360" y="1515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5076720" y="1628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5"/>
          <p:cNvSpPr/>
          <p:nvPr/>
        </p:nvSpPr>
        <p:spPr>
          <a:xfrm>
            <a:off x="6084720" y="324468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/>
          <p:cNvSpPr/>
          <p:nvPr/>
        </p:nvSpPr>
        <p:spPr>
          <a:xfrm>
            <a:off x="6227640" y="3357720"/>
            <a:ext cx="1008360" cy="792000"/>
          </a:xfrm>
          <a:prstGeom prst="hexagon">
            <a:avLst>
              <a:gd name="adj" fmla="val 31830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003640" y="4971960"/>
            <a:ext cx="1290960" cy="1013040"/>
          </a:xfrm>
          <a:prstGeom prst="hexagon">
            <a:avLst>
              <a:gd name="adj" fmla="val 31859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514836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1619280" y="324468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1763640" y="3357720"/>
            <a:ext cx="1008000" cy="792000"/>
          </a:xfrm>
          <a:prstGeom prst="hexagon">
            <a:avLst>
              <a:gd name="adj" fmla="val 31818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700360" y="4971960"/>
            <a:ext cx="1290600" cy="1013040"/>
          </a:xfrm>
          <a:prstGeom prst="hexagon">
            <a:avLst>
              <a:gd name="adj" fmla="val 31850"/>
              <a:gd name="vf" fmla="val 115470"/>
            </a:avLst>
          </a:prstGeom>
          <a:gradFill rotWithShape="0">
            <a:gsLst>
              <a:gs pos="0">
                <a:srgbClr val="808080"/>
              </a:gs>
              <a:gs pos="50000">
                <a:srgbClr val="e4e4e4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2843280" y="5084640"/>
            <a:ext cx="1008000" cy="792360"/>
          </a:xfrm>
          <a:prstGeom prst="hexagon">
            <a:avLst>
              <a:gd name="adj" fmla="val 31804"/>
              <a:gd name="vf" fmla="val 11547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3"/>
          <p:cNvSpPr/>
          <p:nvPr/>
        </p:nvSpPr>
        <p:spPr>
          <a:xfrm>
            <a:off x="307980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5312880" y="17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00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307980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5384880" y="515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8"/>
          <p:cNvSpPr/>
          <p:nvPr/>
        </p:nvSpPr>
        <p:spPr>
          <a:xfrm>
            <a:off x="646452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7DF9-63DB-40D8-AE07-D04E16A6378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 rot="10800000">
            <a:off x="2144880" y="2793960"/>
            <a:ext cx="1852560" cy="455760"/>
          </a:xfrm>
          <a:custGeom>
            <a:avLst/>
            <a:gdLst>
              <a:gd name="textAreaLeft" fmla="*/ 301320 w 1852560"/>
              <a:gd name="textAreaRight" fmla="*/ 1551240 w 1852560"/>
              <a:gd name="textAreaTop" fmla="*/ 74160 h 455760"/>
              <a:gd name="textAreaBottom" fmla="*/ 381600 h 45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 rot="10800000">
            <a:off x="1650600" y="3385800"/>
            <a:ext cx="2840040" cy="703080"/>
          </a:xfrm>
          <a:custGeom>
            <a:avLst/>
            <a:gdLst>
              <a:gd name="textAreaLeft" fmla="*/ 461880 w 2840040"/>
              <a:gd name="textAreaRight" fmla="*/ 2378160 w 2840040"/>
              <a:gd name="textAreaTop" fmla="*/ 114120 h 703080"/>
              <a:gd name="textAreaBottom" fmla="*/ 588960 h 70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f3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4"/>
          <p:cNvSpPr/>
          <p:nvPr/>
        </p:nvSpPr>
        <p:spPr>
          <a:xfrm rot="10800000">
            <a:off x="887040" y="4268880"/>
            <a:ext cx="4367160" cy="1079280"/>
          </a:xfrm>
          <a:custGeom>
            <a:avLst/>
            <a:gdLst>
              <a:gd name="textAreaLeft" fmla="*/ 710280 w 4367160"/>
              <a:gd name="textAreaRight" fmla="*/ 3656880 w 4367160"/>
              <a:gd name="textAreaTop" fmla="*/ 175320 h 1079280"/>
              <a:gd name="textAreaBottom" fmla="*/ 90396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28" y="21600"/>
                </a:lnTo>
                <a:lnTo>
                  <a:pt x="181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5"/>
          <p:cNvSpPr/>
          <p:nvPr/>
        </p:nvSpPr>
        <p:spPr>
          <a:xfrm>
            <a:off x="2514600" y="1832040"/>
            <a:ext cx="1112760" cy="834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6"/>
          <p:cNvSpPr/>
          <p:nvPr/>
        </p:nvSpPr>
        <p:spPr>
          <a:xfrm>
            <a:off x="903240" y="5348160"/>
            <a:ext cx="4351320" cy="457200"/>
          </a:xfrm>
          <a:custGeom>
            <a:avLst/>
            <a:gdLst>
              <a:gd name="textAreaLeft" fmla="*/ 906480 w 4351320"/>
              <a:gd name="textAreaRight" fmla="*/ 3444840 w 435132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558800" y="4268880"/>
            <a:ext cx="3013200" cy="457200"/>
          </a:xfrm>
          <a:custGeom>
            <a:avLst/>
            <a:gdLst>
              <a:gd name="textAreaLeft" fmla="*/ 627480 w 3013200"/>
              <a:gd name="textAreaRight" fmla="*/ 2385720 w 301320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>
            <a:off x="1650960" y="4089240"/>
            <a:ext cx="2840040" cy="179640"/>
          </a:xfrm>
          <a:custGeom>
            <a:avLst/>
            <a:gdLst>
              <a:gd name="textAreaLeft" fmla="*/ 591480 w 2840040"/>
              <a:gd name="textAreaRight" fmla="*/ 2248560 w 2840040"/>
              <a:gd name="textAreaTop" fmla="*/ 37440 h 179640"/>
              <a:gd name="textAreaBottom" fmla="*/ 142200 h 1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>
            <a:off x="2106720" y="3386160"/>
            <a:ext cx="1923840" cy="45720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cc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0"/>
          <p:cNvSpPr/>
          <p:nvPr/>
        </p:nvSpPr>
        <p:spPr>
          <a:xfrm>
            <a:off x="2106720" y="3249720"/>
            <a:ext cx="1923840" cy="136440"/>
          </a:xfrm>
          <a:custGeom>
            <a:avLst/>
            <a:gdLst>
              <a:gd name="textAreaLeft" fmla="*/ 400680 w 1923840"/>
              <a:gd name="textAreaRight" fmla="*/ 1523160 w 1923840"/>
              <a:gd name="textAreaTop" fmla="*/ 28440 h 136440"/>
              <a:gd name="textAreaBottom" fmla="*/ 1080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1"/>
          <p:cNvSpPr/>
          <p:nvPr/>
        </p:nvSpPr>
        <p:spPr>
          <a:xfrm>
            <a:off x="2424240" y="2793960"/>
            <a:ext cx="1295280" cy="25092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52200 h 250920"/>
              <a:gd name="textAreaBottom" fmla="*/ 198720 h 2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2"/>
          <p:cNvSpPr/>
          <p:nvPr/>
        </p:nvSpPr>
        <p:spPr>
          <a:xfrm>
            <a:off x="2514600" y="2666880"/>
            <a:ext cx="1112760" cy="127080"/>
          </a:xfrm>
          <a:custGeom>
            <a:avLst/>
            <a:gdLst>
              <a:gd name="textAreaLeft" fmla="*/ 231840 w 1112760"/>
              <a:gd name="textAreaRight" fmla="*/ 880920 w 1112760"/>
              <a:gd name="textAreaTop" fmla="*/ 26280 h 127080"/>
              <a:gd name="textAreaBottom" fmla="*/ 10080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887400" y="4268880"/>
            <a:ext cx="4367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58800" y="3386160"/>
            <a:ext cx="30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2144880" y="2793960"/>
            <a:ext cx="1852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2514600" y="2211480"/>
            <a:ext cx="111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3719520" y="22114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4030560" y="1995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4030560" y="2035080"/>
            <a:ext cx="45021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4179960" y="29703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4491000" y="2754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4491000" y="2793960"/>
            <a:ext cx="4041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23"/>
          <p:cNvSpPr/>
          <p:nvPr/>
        </p:nvSpPr>
        <p:spPr>
          <a:xfrm>
            <a:off x="4572000" y="366696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4"/>
          <p:cNvSpPr/>
          <p:nvPr/>
        </p:nvSpPr>
        <p:spPr>
          <a:xfrm>
            <a:off x="4883040" y="3451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4883040" y="3490920"/>
            <a:ext cx="3649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6"/>
          <p:cNvSpPr/>
          <p:nvPr/>
        </p:nvSpPr>
        <p:spPr>
          <a:xfrm>
            <a:off x="5254560" y="4726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7"/>
          <p:cNvSpPr/>
          <p:nvPr/>
        </p:nvSpPr>
        <p:spPr>
          <a:xfrm>
            <a:off x="5565600" y="451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5565600" y="4549680"/>
            <a:ext cx="296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WordArt 2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9DD4-D811-4F61-84B9-2F2DC5841B91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9760" y="182232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00280" y="1346040"/>
            <a:ext cx="720720" cy="703440"/>
            <a:chOff x="1700280" y="1346040"/>
            <a:chExt cx="720720" cy="703440"/>
          </a:xfrm>
        </p:grpSpPr>
        <p:grpSp>
          <p:nvGrpSpPr>
            <p:cNvPr id="47" name="Group 5"/>
            <p:cNvGrpSpPr/>
            <p:nvPr/>
          </p:nvGrpSpPr>
          <p:grpSpPr>
            <a:xfrm>
              <a:off x="1700280" y="1346040"/>
              <a:ext cx="720720" cy="703440"/>
              <a:chOff x="1700280" y="1346040"/>
              <a:chExt cx="720720" cy="703440"/>
            </a:xfrm>
          </p:grpSpPr>
          <p:pic>
            <p:nvPicPr>
              <p:cNvPr id="48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700280" y="134604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Oval 6"/>
              <p:cNvSpPr/>
              <p:nvPr/>
            </p:nvSpPr>
            <p:spPr>
              <a:xfrm>
                <a:off x="1700280" y="134604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772280" y="135288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8"/>
          <p:cNvSpPr txBox="1"/>
          <p:nvPr/>
        </p:nvSpPr>
        <p:spPr>
          <a:xfrm>
            <a:off x="1955880" y="1549440"/>
            <a:ext cx="1620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1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52" name="Oval 9"/>
          <p:cNvSpPr/>
          <p:nvPr/>
        </p:nvSpPr>
        <p:spPr>
          <a:xfrm>
            <a:off x="1616040" y="209556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042920" y="232560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39760" y="290988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3"/>
          <p:cNvGrpSpPr/>
          <p:nvPr/>
        </p:nvGrpSpPr>
        <p:grpSpPr>
          <a:xfrm>
            <a:off x="1700280" y="2433600"/>
            <a:ext cx="720720" cy="703440"/>
            <a:chOff x="1700280" y="2433600"/>
            <a:chExt cx="720720" cy="703440"/>
          </a:xfrm>
        </p:grpSpPr>
        <p:grpSp>
          <p:nvGrpSpPr>
            <p:cNvPr id="56" name="Group 14"/>
            <p:cNvGrpSpPr/>
            <p:nvPr/>
          </p:nvGrpSpPr>
          <p:grpSpPr>
            <a:xfrm>
              <a:off x="1700280" y="2433600"/>
              <a:ext cx="720720" cy="703440"/>
              <a:chOff x="1700280" y="2433600"/>
              <a:chExt cx="720720" cy="703440"/>
            </a:xfrm>
          </p:grpSpPr>
          <p:pic>
            <p:nvPicPr>
              <p:cNvPr id="57" name="Picture 1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0280" y="2433600"/>
                <a:ext cx="72072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Oval 15"/>
              <p:cNvSpPr/>
              <p:nvPr/>
            </p:nvSpPr>
            <p:spPr>
              <a:xfrm>
                <a:off x="1700280" y="2433600"/>
                <a:ext cx="716040" cy="70344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" name="Picture 16" descr="Picture2"/>
            <p:cNvPicPr/>
            <p:nvPr/>
          </p:nvPicPr>
          <p:blipFill>
            <a:blip r:embed="rId4"/>
            <a:stretch/>
          </p:blipFill>
          <p:spPr>
            <a:xfrm>
              <a:off x="1772280" y="244044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WordArt 17"/>
          <p:cNvSpPr txBox="1"/>
          <p:nvPr/>
        </p:nvSpPr>
        <p:spPr>
          <a:xfrm>
            <a:off x="1914480" y="2637000"/>
            <a:ext cx="29232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2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1616040" y="3182760"/>
            <a:ext cx="884160" cy="13212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1042920" y="34131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139760" y="4065480"/>
            <a:ext cx="6864480" cy="493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1700280" y="3587760"/>
            <a:ext cx="720720" cy="704880"/>
            <a:chOff x="1700280" y="3587760"/>
            <a:chExt cx="720720" cy="704880"/>
          </a:xfrm>
        </p:grpSpPr>
        <p:grpSp>
          <p:nvGrpSpPr>
            <p:cNvPr id="65" name="Group 23"/>
            <p:cNvGrpSpPr/>
            <p:nvPr/>
          </p:nvGrpSpPr>
          <p:grpSpPr>
            <a:xfrm>
              <a:off x="1700280" y="3587760"/>
              <a:ext cx="720720" cy="704880"/>
              <a:chOff x="1700280" y="3587760"/>
              <a:chExt cx="720720" cy="704880"/>
            </a:xfrm>
          </p:grpSpPr>
          <p:pic>
            <p:nvPicPr>
              <p:cNvPr id="66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700280" y="3587760"/>
                <a:ext cx="720720" cy="70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Oval 24"/>
              <p:cNvSpPr/>
              <p:nvPr/>
            </p:nvSpPr>
            <p:spPr>
              <a:xfrm>
                <a:off x="1700280" y="3587760"/>
                <a:ext cx="716040" cy="7048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1772280" y="3594600"/>
              <a:ext cx="56916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WordArt 26"/>
          <p:cNvSpPr txBox="1"/>
          <p:nvPr/>
        </p:nvSpPr>
        <p:spPr>
          <a:xfrm>
            <a:off x="1922400" y="3792600"/>
            <a:ext cx="28728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3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1616040" y="433692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042920" y="4568760"/>
            <a:ext cx="6958080" cy="17460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600"/>
              <a:gd name="textAreaBottom" fmla="*/ 1587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1139760" y="5151600"/>
            <a:ext cx="6864480" cy="49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1"/>
          <p:cNvGrpSpPr/>
          <p:nvPr/>
        </p:nvGrpSpPr>
        <p:grpSpPr>
          <a:xfrm>
            <a:off x="1700280" y="4675320"/>
            <a:ext cx="720720" cy="703080"/>
            <a:chOff x="1700280" y="4675320"/>
            <a:chExt cx="720720" cy="703080"/>
          </a:xfrm>
        </p:grpSpPr>
        <p:grpSp>
          <p:nvGrpSpPr>
            <p:cNvPr id="74" name="Group 32"/>
            <p:cNvGrpSpPr/>
            <p:nvPr/>
          </p:nvGrpSpPr>
          <p:grpSpPr>
            <a:xfrm>
              <a:off x="1700280" y="4675320"/>
              <a:ext cx="720720" cy="703080"/>
              <a:chOff x="1700280" y="4675320"/>
              <a:chExt cx="720720" cy="703080"/>
            </a:xfrm>
          </p:grpSpPr>
          <p:pic>
            <p:nvPicPr>
              <p:cNvPr id="75" name="Picture 32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700280" y="4675320"/>
                <a:ext cx="720720" cy="70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Oval 33"/>
              <p:cNvSpPr/>
              <p:nvPr/>
            </p:nvSpPr>
            <p:spPr>
              <a:xfrm>
                <a:off x="1700280" y="4675320"/>
                <a:ext cx="716040" cy="70308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1772280" y="4682160"/>
              <a:ext cx="569160" cy="24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WordArt 35"/>
          <p:cNvSpPr txBox="1"/>
          <p:nvPr/>
        </p:nvSpPr>
        <p:spPr>
          <a:xfrm>
            <a:off x="1930320" y="4879800"/>
            <a:ext cx="2635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4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1616040" y="5423040"/>
            <a:ext cx="884160" cy="131760"/>
          </a:xfrm>
          <a:prstGeom prst="ellipse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1042920" y="5654520"/>
            <a:ext cx="6958080" cy="174960"/>
          </a:xfrm>
          <a:custGeom>
            <a:avLst/>
            <a:gdLst>
              <a:gd name="textAreaLeft" fmla="*/ 630720 w 6958080"/>
              <a:gd name="textAreaRight" fmla="*/ 6327360 w 6958080"/>
              <a:gd name="textAreaTop" fmla="*/ 15840 h 174960"/>
              <a:gd name="textAreaBottom" fmla="*/ 159120 h 17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5" y="21600"/>
                </a:lnTo>
                <a:lnTo>
                  <a:pt x="2128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ordArt 38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73F6-8ABB-469C-A958-6F61D81202ED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6EBD-B3D5-47A8-8B20-BCFA94A93C2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flipV="1" rot="16200000">
            <a:off x="1915560" y="4374360"/>
            <a:ext cx="94788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916360" y="5994360"/>
            <a:ext cx="2923920" cy="479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3"/>
          <p:cNvSpPr/>
          <p:nvPr/>
        </p:nvSpPr>
        <p:spPr>
          <a:xfrm flipV="1" rot="16200000">
            <a:off x="2727000" y="4176000"/>
            <a:ext cx="1341720" cy="6775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13"/>
          <p:cNvSpPr/>
          <p:nvPr/>
        </p:nvSpPr>
        <p:spPr>
          <a:xfrm flipV="1" rot="16200000">
            <a:off x="3538080" y="3979800"/>
            <a:ext cx="173520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3"/>
          <p:cNvSpPr/>
          <p:nvPr/>
        </p:nvSpPr>
        <p:spPr>
          <a:xfrm flipV="1" rot="16200000">
            <a:off x="4152960" y="3585240"/>
            <a:ext cx="252432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3"/>
          <p:cNvSpPr/>
          <p:nvPr/>
        </p:nvSpPr>
        <p:spPr>
          <a:xfrm flipV="1" rot="16200000">
            <a:off x="4706280" y="3058920"/>
            <a:ext cx="3576960" cy="6778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4"/>
          <p:cNvSpPr/>
          <p:nvPr/>
        </p:nvSpPr>
        <p:spPr>
          <a:xfrm flipH="1">
            <a:off x="1547640" y="1341360"/>
            <a:ext cx="6120000" cy="3770280"/>
          </a:xfrm>
          <a:custGeom>
            <a:avLst/>
            <a:gdLst>
              <a:gd name="textAreaLeft" fmla="*/ 360 w 6120000"/>
              <a:gd name="textAreaRight" fmla="*/ 6120720 w 6120000"/>
              <a:gd name="textAreaTop" fmla="*/ 0 h 3770280"/>
              <a:gd name="textAreaBottom" fmla="*/ 3770640 h 377028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1929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5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2937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6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394524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7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495360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6032880" y="52610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91000" y="6021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年度产品销售量增长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"/>
          <p:cNvSpPr/>
          <p:nvPr/>
        </p:nvSpPr>
        <p:spPr>
          <a:xfrm>
            <a:off x="1403280" y="5229360"/>
            <a:ext cx="584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6"/>
          <p:cNvSpPr/>
          <p:nvPr/>
        </p:nvSpPr>
        <p:spPr>
          <a:xfrm flipV="1">
            <a:off x="1403280" y="956880"/>
            <a:ext cx="1800" cy="427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WordArt 17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40F5-ABA4-416E-AE06-93DEAD739497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"/>
          <p:cNvSpPr/>
          <p:nvPr/>
        </p:nvSpPr>
        <p:spPr>
          <a:xfrm rot="10800000">
            <a:off x="45720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 rot="10800000">
            <a:off x="1352520" y="1840680"/>
            <a:ext cx="6438960" cy="1089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1303200" y="2930040"/>
            <a:ext cx="3268800" cy="23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1187280" y="2570040"/>
            <a:ext cx="6769440" cy="744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 rot="10800000">
            <a:off x="1304640" y="3314160"/>
            <a:ext cx="6537240" cy="166680"/>
          </a:xfrm>
          <a:custGeom>
            <a:avLst/>
            <a:gdLst>
              <a:gd name="textAreaLeft" fmla="*/ 544680 w 6537240"/>
              <a:gd name="textAreaRight" fmla="*/ 5992560 w 6537240"/>
              <a:gd name="textAreaTop" fmla="*/ 13680 h 166680"/>
              <a:gd name="textAreaBottom" fmla="*/ 153000 h 1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366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7"/>
          <p:cNvSpPr/>
          <p:nvPr/>
        </p:nvSpPr>
        <p:spPr>
          <a:xfrm>
            <a:off x="1504800" y="2646360"/>
            <a:ext cx="59076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4276800" y="2646360"/>
            <a:ext cx="59040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7023240" y="2646360"/>
            <a:ext cx="591840" cy="59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0"/>
          <p:cNvSpPr/>
          <p:nvPr/>
        </p:nvSpPr>
        <p:spPr>
          <a:xfrm>
            <a:off x="21351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4892760" y="2930400"/>
            <a:ext cx="2116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12"/>
          <p:cNvSpPr txBox="1"/>
          <p:nvPr/>
        </p:nvSpPr>
        <p:spPr>
          <a:xfrm>
            <a:off x="3505320" y="2055960"/>
            <a:ext cx="20890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808080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808080"/>
                </a:solidFill>
                <a:miter/>
              </a:ln>
              <a:solidFill>
                <a:srgbClr val="808080"/>
              </a:solidFill>
              <a:latin typeface="黑体"/>
              <a:ea typeface="黑体"/>
            </a:endParaRPr>
          </a:p>
        </p:txBody>
      </p:sp>
      <p:pic>
        <p:nvPicPr>
          <p:cNvPr id="639" name="Picture 13" descr="Picture2"/>
          <p:cNvPicPr/>
          <p:nvPr/>
        </p:nvPicPr>
        <p:blipFill>
          <a:blip r:embed="rId1"/>
          <a:stretch/>
        </p:blipFill>
        <p:spPr>
          <a:xfrm>
            <a:off x="1554120" y="2646360"/>
            <a:ext cx="514440" cy="222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4" descr="Picture2"/>
          <p:cNvPicPr/>
          <p:nvPr/>
        </p:nvPicPr>
        <p:blipFill>
          <a:blip r:embed="rId2"/>
          <a:stretch/>
        </p:blipFill>
        <p:spPr>
          <a:xfrm>
            <a:off x="4314960" y="2646360"/>
            <a:ext cx="512640" cy="2221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5" descr="Picture2"/>
          <p:cNvPicPr/>
          <p:nvPr/>
        </p:nvPicPr>
        <p:blipFill>
          <a:blip r:embed="rId3"/>
          <a:stretch/>
        </p:blipFill>
        <p:spPr>
          <a:xfrm>
            <a:off x="7072200" y="2646360"/>
            <a:ext cx="513000" cy="222120"/>
          </a:xfrm>
          <a:prstGeom prst="rect">
            <a:avLst/>
          </a:prstGeom>
          <a:ln w="0">
            <a:noFill/>
          </a:ln>
        </p:spPr>
      </p:pic>
      <p:pic>
        <p:nvPicPr>
          <p:cNvPr id="642" name="WordArt 16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4E05-72BB-473C-BC49-CE57300F95A4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 rot="10800000">
            <a:off x="1881000" y="3089160"/>
            <a:ext cx="5033880" cy="790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25640" y="2708280"/>
            <a:ext cx="1563480" cy="1531800"/>
            <a:chOff x="1025640" y="2708280"/>
            <a:chExt cx="1563480" cy="1531800"/>
          </a:xfrm>
        </p:grpSpPr>
        <p:grpSp>
          <p:nvGrpSpPr>
            <p:cNvPr id="646" name="Group 5"/>
            <p:cNvGrpSpPr/>
            <p:nvPr/>
          </p:nvGrpSpPr>
          <p:grpSpPr>
            <a:xfrm>
              <a:off x="1025640" y="2708280"/>
              <a:ext cx="1563480" cy="1531800"/>
              <a:chOff x="1025640" y="2708280"/>
              <a:chExt cx="1563480" cy="1531800"/>
            </a:xfrm>
          </p:grpSpPr>
          <p:pic>
            <p:nvPicPr>
              <p:cNvPr id="647" name="Picture 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025640" y="2708280"/>
                <a:ext cx="15634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6"/>
              <p:cNvSpPr/>
              <p:nvPr/>
            </p:nvSpPr>
            <p:spPr>
              <a:xfrm>
                <a:off x="1025640" y="2708280"/>
                <a:ext cx="15526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7" descr="Picture2"/>
            <p:cNvPicPr/>
            <p:nvPr/>
          </p:nvPicPr>
          <p:blipFill>
            <a:blip r:embed="rId2"/>
            <a:stretch/>
          </p:blipFill>
          <p:spPr>
            <a:xfrm>
              <a:off x="1181520" y="2723040"/>
              <a:ext cx="123480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9"/>
          <p:cNvGrpSpPr/>
          <p:nvPr/>
        </p:nvGrpSpPr>
        <p:grpSpPr>
          <a:xfrm>
            <a:off x="3600360" y="2708280"/>
            <a:ext cx="1565280" cy="1531800"/>
            <a:chOff x="3600360" y="2708280"/>
            <a:chExt cx="1565280" cy="1531800"/>
          </a:xfrm>
        </p:grpSpPr>
        <p:grpSp>
          <p:nvGrpSpPr>
            <p:cNvPr id="651" name="Group 10"/>
            <p:cNvGrpSpPr/>
            <p:nvPr/>
          </p:nvGrpSpPr>
          <p:grpSpPr>
            <a:xfrm>
              <a:off x="3600360" y="2708280"/>
              <a:ext cx="1565280" cy="1531800"/>
              <a:chOff x="3600360" y="2708280"/>
              <a:chExt cx="1565280" cy="1531800"/>
            </a:xfrm>
          </p:grpSpPr>
          <p:pic>
            <p:nvPicPr>
              <p:cNvPr id="652" name="Picture 1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60036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Oval 11"/>
              <p:cNvSpPr/>
              <p:nvPr/>
            </p:nvSpPr>
            <p:spPr>
              <a:xfrm>
                <a:off x="360036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ffcccc"/>
                  </a:gs>
                  <a:gs pos="100000">
                    <a:srgbClr val="ff505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4" name="Picture 12" descr="Picture2"/>
            <p:cNvPicPr/>
            <p:nvPr/>
          </p:nvPicPr>
          <p:blipFill>
            <a:blip r:embed="rId4"/>
            <a:stretch/>
          </p:blipFill>
          <p:spPr>
            <a:xfrm>
              <a:off x="375660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14"/>
          <p:cNvGrpSpPr/>
          <p:nvPr/>
        </p:nvGrpSpPr>
        <p:grpSpPr>
          <a:xfrm>
            <a:off x="6124680" y="2708280"/>
            <a:ext cx="1565280" cy="1531800"/>
            <a:chOff x="6124680" y="2708280"/>
            <a:chExt cx="1565280" cy="1531800"/>
          </a:xfrm>
        </p:grpSpPr>
        <p:grpSp>
          <p:nvGrpSpPr>
            <p:cNvPr id="656" name="Group 15"/>
            <p:cNvGrpSpPr/>
            <p:nvPr/>
          </p:nvGrpSpPr>
          <p:grpSpPr>
            <a:xfrm>
              <a:off x="6124680" y="2708280"/>
              <a:ext cx="1565280" cy="1531800"/>
              <a:chOff x="6124680" y="2708280"/>
              <a:chExt cx="1565280" cy="1531800"/>
            </a:xfrm>
          </p:grpSpPr>
          <p:pic>
            <p:nvPicPr>
              <p:cNvPr id="657" name="Picture 1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124680" y="2708280"/>
                <a:ext cx="1565280" cy="152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Oval 16"/>
              <p:cNvSpPr/>
              <p:nvPr/>
            </p:nvSpPr>
            <p:spPr>
              <a:xfrm>
                <a:off x="6124680" y="2708280"/>
                <a:ext cx="1554480" cy="153180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9" name="Picture 17" descr="Picture2"/>
            <p:cNvPicPr/>
            <p:nvPr/>
          </p:nvPicPr>
          <p:blipFill>
            <a:blip r:embed="rId6"/>
            <a:stretch/>
          </p:blipFill>
          <p:spPr>
            <a:xfrm>
              <a:off x="6280920" y="2723040"/>
              <a:ext cx="1235880" cy="54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18"/>
          <p:cNvSpPr/>
          <p:nvPr/>
        </p:nvSpPr>
        <p:spPr>
          <a:xfrm>
            <a:off x="2905200" y="3219480"/>
            <a:ext cx="323640" cy="528480"/>
          </a:xfrm>
          <a:custGeom>
            <a:avLst/>
            <a:gdLst>
              <a:gd name="textAreaLeft" fmla="*/ 0 w 323640"/>
              <a:gd name="textAreaRight" fmla="*/ 32400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9"/>
          <p:cNvSpPr/>
          <p:nvPr/>
        </p:nvSpPr>
        <p:spPr>
          <a:xfrm flipH="1">
            <a:off x="5566680" y="3219480"/>
            <a:ext cx="323640" cy="528480"/>
          </a:xfrm>
          <a:custGeom>
            <a:avLst/>
            <a:gdLst>
              <a:gd name="textAreaLeft" fmla="*/ -360 w 323640"/>
              <a:gd name="textAreaRight" fmla="*/ 323640 w 3236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618" y="0"/>
                </a:lnTo>
                <a:lnTo>
                  <a:pt x="21600" y="10800"/>
                </a:lnTo>
                <a:lnTo>
                  <a:pt x="9618" y="21600"/>
                </a:lnTo>
                <a:lnTo>
                  <a:pt x="0" y="21600"/>
                </a:lnTo>
                <a:lnTo>
                  <a:pt x="11982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20"/>
          <p:cNvSpPr txBox="1"/>
          <p:nvPr/>
        </p:nvSpPr>
        <p:spPr>
          <a:xfrm>
            <a:off x="3990960" y="3216240"/>
            <a:ext cx="7430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3" name="WordArt 21"/>
          <p:cNvSpPr txBox="1"/>
          <p:nvPr/>
        </p:nvSpPr>
        <p:spPr>
          <a:xfrm>
            <a:off x="656280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4" name="WordArt 22"/>
          <p:cNvSpPr txBox="1"/>
          <p:nvPr/>
        </p:nvSpPr>
        <p:spPr>
          <a:xfrm>
            <a:off x="1432080" y="3216240"/>
            <a:ext cx="7444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65" name="Oval 23"/>
          <p:cNvSpPr/>
          <p:nvPr/>
        </p:nvSpPr>
        <p:spPr>
          <a:xfrm>
            <a:off x="3402000" y="4332240"/>
            <a:ext cx="1920960" cy="28728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4"/>
          <p:cNvSpPr/>
          <p:nvPr/>
        </p:nvSpPr>
        <p:spPr>
          <a:xfrm>
            <a:off x="83808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5"/>
          <p:cNvSpPr/>
          <p:nvPr/>
        </p:nvSpPr>
        <p:spPr>
          <a:xfrm>
            <a:off x="5965920" y="4340160"/>
            <a:ext cx="1920960" cy="285840"/>
          </a:xfrm>
          <a:prstGeom prst="ellipse">
            <a:avLst/>
          </a:prstGeom>
          <a:gradFill rotWithShape="0">
            <a:gsLst>
              <a:gs pos="0">
                <a:srgbClr val="996600">
                  <a:alpha val="20000"/>
                </a:srgbClr>
              </a:gs>
              <a:gs pos="100000">
                <a:srgbClr val="996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WordArt 26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5188-0331-4ED4-A528-BA48985DF3E7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6"/>
          <p:cNvSpPr/>
          <p:nvPr/>
        </p:nvSpPr>
        <p:spPr>
          <a:xfrm rot="308400">
            <a:off x="2340000" y="2205000"/>
            <a:ext cx="1590480" cy="170172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7527600">
            <a:off x="1666080" y="3626640"/>
            <a:ext cx="1589040" cy="170208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2080"/>
              <a:gd name="textAreaBottom" fmla="*/ 1452960 h 170208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"/>
          <p:cNvSpPr/>
          <p:nvPr/>
        </p:nvSpPr>
        <p:spPr>
          <a:xfrm rot="15216000">
            <a:off x="736200" y="2395080"/>
            <a:ext cx="1589040" cy="17035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480 h 1703520"/>
              <a:gd name="textAreaBottom" fmla="*/ 1454040 h 17035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6"/>
          <p:cNvGrpSpPr/>
          <p:nvPr/>
        </p:nvGrpSpPr>
        <p:grpSpPr>
          <a:xfrm>
            <a:off x="1787400" y="1716120"/>
            <a:ext cx="1287720" cy="1285920"/>
            <a:chOff x="1787400" y="1716120"/>
            <a:chExt cx="1287720" cy="1285920"/>
          </a:xfrm>
        </p:grpSpPr>
        <p:pic>
          <p:nvPicPr>
            <p:cNvPr id="674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787400" y="1725480"/>
              <a:ext cx="12877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Oval 5"/>
            <p:cNvSpPr/>
            <p:nvPr/>
          </p:nvSpPr>
          <p:spPr>
            <a:xfrm>
              <a:off x="1804320" y="1716120"/>
              <a:ext cx="127080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9"/>
          <p:cNvGrpSpPr/>
          <p:nvPr/>
        </p:nvGrpSpPr>
        <p:grpSpPr>
          <a:xfrm>
            <a:off x="611280" y="3500280"/>
            <a:ext cx="1287360" cy="1285920"/>
            <a:chOff x="611280" y="3500280"/>
            <a:chExt cx="1287360" cy="1285920"/>
          </a:xfrm>
        </p:grpSpPr>
        <p:pic>
          <p:nvPicPr>
            <p:cNvPr id="677" name="Picture 4" descr="circuler_1"/>
            <p:cNvPicPr/>
            <p:nvPr/>
          </p:nvPicPr>
          <p:blipFill>
            <a:blip r:embed="rId2"/>
            <a:stretch/>
          </p:blipFill>
          <p:spPr>
            <a:xfrm>
              <a:off x="611280" y="3509640"/>
              <a:ext cx="1287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Oval 5"/>
            <p:cNvSpPr/>
            <p:nvPr/>
          </p:nvSpPr>
          <p:spPr>
            <a:xfrm>
              <a:off x="628200" y="3500280"/>
              <a:ext cx="1270440" cy="128592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2"/>
          <p:cNvGrpSpPr/>
          <p:nvPr/>
        </p:nvGrpSpPr>
        <p:grpSpPr>
          <a:xfrm>
            <a:off x="2940120" y="3516480"/>
            <a:ext cx="1287360" cy="1285560"/>
            <a:chOff x="2940120" y="3516480"/>
            <a:chExt cx="1287360" cy="1285560"/>
          </a:xfrm>
        </p:grpSpPr>
        <p:pic>
          <p:nvPicPr>
            <p:cNvPr id="680" name="Picture 4" descr="circuler_1"/>
            <p:cNvPicPr/>
            <p:nvPr/>
          </p:nvPicPr>
          <p:blipFill>
            <a:blip r:embed="rId3"/>
            <a:stretch/>
          </p:blipFill>
          <p:spPr>
            <a:xfrm>
              <a:off x="2940120" y="3525840"/>
              <a:ext cx="1287360" cy="12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Oval 5"/>
            <p:cNvSpPr/>
            <p:nvPr/>
          </p:nvSpPr>
          <p:spPr>
            <a:xfrm>
              <a:off x="2957040" y="3516480"/>
              <a:ext cx="1270440" cy="1285560"/>
            </a:xfrm>
            <a:prstGeom prst="ellipse">
              <a:avLst/>
            </a:prstGeom>
            <a:solidFill>
              <a:srgbClr val="ff0000">
                <a:alpha val="90000"/>
              </a:srgbClr>
            </a:solidFill>
            <a:ln w="76320">
              <a:solidFill>
                <a:srgbClr val="eaeaea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5"/>
          <p:cNvGrpSpPr/>
          <p:nvPr/>
        </p:nvGrpSpPr>
        <p:grpSpPr>
          <a:xfrm>
            <a:off x="4427640" y="1916280"/>
            <a:ext cx="4274640" cy="1066680"/>
            <a:chOff x="4427640" y="1916280"/>
            <a:chExt cx="4274640" cy="1066680"/>
          </a:xfrm>
        </p:grpSpPr>
        <p:sp>
          <p:nvSpPr>
            <p:cNvPr id="683" name="AutoShape 7"/>
            <p:cNvSpPr/>
            <p:nvPr/>
          </p:nvSpPr>
          <p:spPr>
            <a:xfrm>
              <a:off x="4468680" y="1916280"/>
              <a:ext cx="423360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8"/>
            <p:cNvSpPr/>
            <p:nvPr/>
          </p:nvSpPr>
          <p:spPr>
            <a:xfrm>
              <a:off x="4427640" y="231300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7"/>
          <p:cNvSpPr/>
          <p:nvPr/>
        </p:nvSpPr>
        <p:spPr>
          <a:xfrm>
            <a:off x="5003640" y="1989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19"/>
          <p:cNvGrpSpPr/>
          <p:nvPr/>
        </p:nvGrpSpPr>
        <p:grpSpPr>
          <a:xfrm>
            <a:off x="4427640" y="3139920"/>
            <a:ext cx="4274640" cy="1067040"/>
            <a:chOff x="4427640" y="3139920"/>
            <a:chExt cx="4274640" cy="1067040"/>
          </a:xfrm>
        </p:grpSpPr>
        <p:sp>
          <p:nvSpPr>
            <p:cNvPr id="687" name="AutoShape 7"/>
            <p:cNvSpPr/>
            <p:nvPr/>
          </p:nvSpPr>
          <p:spPr>
            <a:xfrm>
              <a:off x="4468680" y="3139920"/>
              <a:ext cx="4233600" cy="10670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8"/>
            <p:cNvSpPr/>
            <p:nvPr/>
          </p:nvSpPr>
          <p:spPr>
            <a:xfrm>
              <a:off x="4427640" y="353664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17"/>
          <p:cNvSpPr/>
          <p:nvPr/>
        </p:nvSpPr>
        <p:spPr>
          <a:xfrm>
            <a:off x="5003640" y="321300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23"/>
          <p:cNvGrpSpPr/>
          <p:nvPr/>
        </p:nvGrpSpPr>
        <p:grpSpPr>
          <a:xfrm>
            <a:off x="4356000" y="4435560"/>
            <a:ext cx="4275000" cy="1066680"/>
            <a:chOff x="4356000" y="4435560"/>
            <a:chExt cx="4275000" cy="1066680"/>
          </a:xfrm>
        </p:grpSpPr>
        <p:sp>
          <p:nvSpPr>
            <p:cNvPr id="691" name="AutoShape 7"/>
            <p:cNvSpPr/>
            <p:nvPr/>
          </p:nvSpPr>
          <p:spPr>
            <a:xfrm>
              <a:off x="4397040" y="4435560"/>
              <a:ext cx="4233960" cy="1066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a50021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8"/>
            <p:cNvSpPr/>
            <p:nvPr/>
          </p:nvSpPr>
          <p:spPr>
            <a:xfrm>
              <a:off x="4356000" y="4832280"/>
              <a:ext cx="462960" cy="330480"/>
            </a:xfrm>
            <a:prstGeom prst="rightArrow">
              <a:avLst>
                <a:gd name="adj1" fmla="val 50000"/>
                <a:gd name="adj2" fmla="val 583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7"/>
          <p:cNvSpPr/>
          <p:nvPr/>
        </p:nvSpPr>
        <p:spPr>
          <a:xfrm>
            <a:off x="4932360" y="450864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2117520" y="19890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96660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3342240" y="38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加标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WordArt 29" descr=""/>
          <p:cNvPicPr/>
          <p:nvPr/>
        </p:nvPicPr>
        <p:blipFill>
          <a:blip r:embed="rId4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8114-9DCE-4CF1-A186-4A4F97FAF40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5487840" y="4451400"/>
            <a:ext cx="268452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971640" y="4451400"/>
            <a:ext cx="2652480" cy="154944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5338800" y="1860480"/>
            <a:ext cx="283356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971640" y="1860480"/>
            <a:ext cx="3031920" cy="1233720"/>
          </a:xfrm>
          <a:prstGeom prst="roundRect">
            <a:avLst>
              <a:gd name="adj" fmla="val 542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 flipV="1">
            <a:off x="4572000" y="1544760"/>
            <a:ext cx="0" cy="4549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971640" y="3946680"/>
            <a:ext cx="72007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8"/>
          <p:cNvSpPr/>
          <p:nvPr/>
        </p:nvSpPr>
        <p:spPr>
          <a:xfrm>
            <a:off x="2685960" y="5195880"/>
            <a:ext cx="3772080" cy="3697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2865600" y="2050920"/>
            <a:ext cx="3412800" cy="3411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0"/>
          <p:cNvSpPr/>
          <p:nvPr/>
        </p:nvSpPr>
        <p:spPr>
          <a:xfrm rot="4500000">
            <a:off x="3559680" y="2745360"/>
            <a:ext cx="2024280" cy="20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08080">
                  <a:alpha val="90196"/>
                </a:srgbClr>
              </a:gs>
              <a:gs pos="100000">
                <a:srgbClr val="ffffff"/>
              </a:gs>
            </a:gsLst>
            <a:lin ang="14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2"/>
          <p:cNvGrpSpPr/>
          <p:nvPr/>
        </p:nvGrpSpPr>
        <p:grpSpPr>
          <a:xfrm>
            <a:off x="3673440" y="2870280"/>
            <a:ext cx="1797120" cy="1785960"/>
            <a:chOff x="3673440" y="2870280"/>
            <a:chExt cx="1797120" cy="1785960"/>
          </a:xfrm>
        </p:grpSpPr>
        <p:grpSp>
          <p:nvGrpSpPr>
            <p:cNvPr id="709" name="Group 13"/>
            <p:cNvGrpSpPr/>
            <p:nvPr/>
          </p:nvGrpSpPr>
          <p:grpSpPr>
            <a:xfrm>
              <a:off x="3673440" y="2870280"/>
              <a:ext cx="1797120" cy="1785960"/>
              <a:chOff x="3673440" y="2870280"/>
              <a:chExt cx="1797120" cy="1785960"/>
            </a:xfrm>
          </p:grpSpPr>
          <p:sp>
            <p:nvSpPr>
              <p:cNvPr id="710" name="Oval 13"/>
              <p:cNvSpPr/>
              <p:nvPr/>
            </p:nvSpPr>
            <p:spPr>
              <a:xfrm>
                <a:off x="3673440" y="2870280"/>
                <a:ext cx="1797120" cy="1785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Oval 14"/>
              <p:cNvSpPr/>
              <p:nvPr/>
            </p:nvSpPr>
            <p:spPr>
              <a:xfrm>
                <a:off x="3774600" y="2967480"/>
                <a:ext cx="1594440" cy="1590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未知"/>
            <p:cNvSpPr/>
            <p:nvPr/>
          </p:nvSpPr>
          <p:spPr>
            <a:xfrm rot="16200000">
              <a:off x="4115880" y="3417480"/>
              <a:ext cx="681120" cy="1367640"/>
            </a:xfrm>
            <a:custGeom>
              <a:avLst/>
              <a:gdLst>
                <a:gd name="textAreaLeft" fmla="*/ 0 w 681120"/>
                <a:gd name="textAreaRight" fmla="*/ 681120 w 68112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未知"/>
            <p:cNvSpPr/>
            <p:nvPr/>
          </p:nvSpPr>
          <p:spPr>
            <a:xfrm rot="5400000">
              <a:off x="4339080" y="2739600"/>
              <a:ext cx="681480" cy="136764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1367640"/>
                <a:gd name="textAreaBottom" fmla="*/ 1368000 h 136764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WordArt 17"/>
          <p:cNvSpPr txBox="1"/>
          <p:nvPr/>
        </p:nvSpPr>
        <p:spPr>
          <a:xfrm>
            <a:off x="3929040" y="3670200"/>
            <a:ext cx="1285920" cy="1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715" name="AutoShape 18"/>
          <p:cNvSpPr/>
          <p:nvPr/>
        </p:nvSpPr>
        <p:spPr>
          <a:xfrm>
            <a:off x="5200560" y="2570040"/>
            <a:ext cx="1468440" cy="25560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/>
          <p:cNvSpPr/>
          <p:nvPr/>
        </p:nvSpPr>
        <p:spPr>
          <a:xfrm>
            <a:off x="5684760" y="3151080"/>
            <a:ext cx="1470240" cy="255600"/>
          </a:xfrm>
          <a:prstGeom prst="roundRect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5200560" y="257004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5692680" y="3143160"/>
            <a:ext cx="1463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/>
          <p:cNvSpPr/>
          <p:nvPr/>
        </p:nvSpPr>
        <p:spPr>
          <a:xfrm>
            <a:off x="5330880" y="459252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338800" y="458460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/>
          <p:cNvSpPr/>
          <p:nvPr/>
        </p:nvSpPr>
        <p:spPr>
          <a:xfrm>
            <a:off x="2673360" y="4809960"/>
            <a:ext cx="1469880" cy="255600"/>
          </a:xfrm>
          <a:prstGeom prst="roundRect">
            <a:avLst>
              <a:gd name="adj" fmla="val 500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81280" y="4802040"/>
            <a:ext cx="1465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/>
          <p:cNvSpPr/>
          <p:nvPr/>
        </p:nvSpPr>
        <p:spPr>
          <a:xfrm>
            <a:off x="2214720" y="4416480"/>
            <a:ext cx="1468440" cy="257040"/>
          </a:xfrm>
          <a:prstGeom prst="roundRect">
            <a:avLst>
              <a:gd name="adj" fmla="val 50000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214720" y="4416480"/>
            <a:ext cx="1463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2004840" y="2887560"/>
            <a:ext cx="1470240" cy="255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7474"/>
              </a:gs>
              <a:gs pos="100000">
                <a:srgbClr val="ff5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013120" y="2879640"/>
            <a:ext cx="1463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WordArt 30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14A9-2C98-4188-90F4-1F266289364B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未知"/>
          <p:cNvSpPr/>
          <p:nvPr/>
        </p:nvSpPr>
        <p:spPr>
          <a:xfrm>
            <a:off x="2494080" y="-3821040"/>
            <a:ext cx="4103640" cy="13728600"/>
          </a:xfrm>
          <a:custGeom>
            <a:avLst/>
            <a:gdLst>
              <a:gd name="textAreaLeft" fmla="*/ 0 w 4103640"/>
              <a:gd name="textAreaRight" fmla="*/ 4104000 w 4103640"/>
              <a:gd name="textAreaTop" fmla="*/ 0 h 13728600"/>
              <a:gd name="textAreaBottom" fmla="*/ 13728960 h 13728600"/>
            </a:gdLst>
            <a:ahLst/>
            <a:rect l="textAreaLeft" t="textAreaTop" r="textAreaRight" b="textAreaBottom"/>
            <a:pathLst>
              <a:path w="2585" h="6716">
                <a:moveTo>
                  <a:pt x="1104" y="0"/>
                </a:moveTo>
                <a:lnTo>
                  <a:pt x="819" y="5248"/>
                </a:lnTo>
                <a:lnTo>
                  <a:pt x="0" y="5266"/>
                </a:lnTo>
                <a:lnTo>
                  <a:pt x="1301" y="6716"/>
                </a:lnTo>
                <a:lnTo>
                  <a:pt x="2585" y="5248"/>
                </a:lnTo>
                <a:lnTo>
                  <a:pt x="1800" y="5248"/>
                </a:lnTo>
                <a:lnTo>
                  <a:pt x="1468" y="0"/>
                </a:lnTo>
                <a:lnTo>
                  <a:pt x="1104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/>
          <p:cNvSpPr/>
          <p:nvPr/>
        </p:nvSpPr>
        <p:spPr>
          <a:xfrm rot="9000000">
            <a:off x="4422240" y="5100480"/>
            <a:ext cx="3157560" cy="201600"/>
          </a:xfrm>
          <a:custGeom>
            <a:avLst/>
            <a:gdLst>
              <a:gd name="textAreaLeft" fmla="*/ 263160 w 3157560"/>
              <a:gd name="textAreaRight" fmla="*/ 2894760 w 315756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4"/>
          <p:cNvSpPr/>
          <p:nvPr/>
        </p:nvSpPr>
        <p:spPr>
          <a:xfrm flipH="1" rot="12540000">
            <a:off x="1499760" y="5102280"/>
            <a:ext cx="3230640" cy="201600"/>
          </a:xfrm>
          <a:custGeom>
            <a:avLst/>
            <a:gdLst>
              <a:gd name="textAreaLeft" fmla="*/ 268920 w 3230640"/>
              <a:gd name="textAreaRight" fmla="*/ 2961720 w 3230640"/>
              <a:gd name="textAreaTop" fmla="*/ 16560 h 201600"/>
              <a:gd name="textAreaBottom" fmla="*/ 18504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7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5"/>
          <p:cNvSpPr/>
          <p:nvPr/>
        </p:nvSpPr>
        <p:spPr>
          <a:xfrm>
            <a:off x="684360" y="2416320"/>
            <a:ext cx="2415960" cy="52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5" y="19032"/>
                </a:moveTo>
                <a:lnTo>
                  <a:pt x="22281" y="4741"/>
                </a:lnTo>
              </a:path>
              <a:path w="21600" h="21600">
                <a:moveTo>
                  <a:pt x="22281" y="0"/>
                </a:moveTo>
                <a:lnTo>
                  <a:pt x="22281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6"/>
          <p:cNvSpPr/>
          <p:nvPr/>
        </p:nvSpPr>
        <p:spPr>
          <a:xfrm>
            <a:off x="6226200" y="2050920"/>
            <a:ext cx="201780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39" y="25683"/>
                </a:moveTo>
                <a:lnTo>
                  <a:pt x="-816" y="4741"/>
                </a:lnTo>
              </a:path>
              <a:path w="21600" h="21600">
                <a:moveTo>
                  <a:pt x="-816" y="0"/>
                </a:moveTo>
                <a:lnTo>
                  <a:pt x="-81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7"/>
          <p:cNvSpPr/>
          <p:nvPr/>
        </p:nvSpPr>
        <p:spPr>
          <a:xfrm>
            <a:off x="6545160" y="3008160"/>
            <a:ext cx="213048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66" y="25683"/>
                </a:moveTo>
                <a:lnTo>
                  <a:pt x="-773" y="4741"/>
                </a:lnTo>
              </a:path>
              <a:path w="21600" h="21600">
                <a:moveTo>
                  <a:pt x="-773" y="0"/>
                </a:moveTo>
                <a:lnTo>
                  <a:pt x="-77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646200" y="3228840"/>
            <a:ext cx="212076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99" y="19032"/>
                </a:moveTo>
                <a:lnTo>
                  <a:pt x="22376" y="4741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单击添加段落文字单击添加段落文字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WordArt 9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E02F-B9E3-411C-9D51-DC32488DA047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14"/>
          <p:cNvSpPr/>
          <p:nvPr/>
        </p:nvSpPr>
        <p:spPr>
          <a:xfrm rot="692400">
            <a:off x="4107960" y="2394000"/>
            <a:ext cx="1239840" cy="963720"/>
          </a:xfrm>
          <a:custGeom>
            <a:avLst/>
            <a:gdLst>
              <a:gd name="textAreaLeft" fmla="*/ 0 w 1239840"/>
              <a:gd name="textAreaRight" fmla="*/ 1240200 w 123984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fill="none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</a:path>
              <a:path stroke="0" w="12831" h="21600">
                <a:moveTo>
                  <a:pt x="-1" y="895"/>
                </a:moveTo>
                <a:cubicBezTo>
                  <a:pt x="1997" y="301"/>
                  <a:pt x="4070" y="-1"/>
                  <a:pt x="6155" y="0"/>
                </a:cubicBezTo>
                <a:cubicBezTo>
                  <a:pt x="8422" y="0"/>
                  <a:pt x="10675" y="356"/>
                  <a:pt x="12831" y="1057"/>
                </a:cubicBezTo>
                <a:lnTo>
                  <a:pt x="6155" y="21600"/>
                </a:lnTo>
                <a:lnTo>
                  <a:pt x="-1" y="89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49"/>
          <p:cNvSpPr/>
          <p:nvPr/>
        </p:nvSpPr>
        <p:spPr>
          <a:xfrm rot="692400">
            <a:off x="4675320" y="26877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</a:path>
              <a:path stroke="0" w="18088" h="18769">
                <a:moveTo>
                  <a:pt x="10690" y="0"/>
                </a:moveTo>
                <a:cubicBezTo>
                  <a:pt x="13675" y="1700"/>
                  <a:pt x="16211" y="4087"/>
                  <a:pt x="18088" y="6963"/>
                </a:cubicBezTo>
                <a:lnTo>
                  <a:pt x="0" y="18769"/>
                </a:lnTo>
                <a:lnTo>
                  <a:pt x="10690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rc 50"/>
          <p:cNvSpPr/>
          <p:nvPr/>
        </p:nvSpPr>
        <p:spPr>
          <a:xfrm rot="692400">
            <a:off x="4536720" y="3499920"/>
            <a:ext cx="2089080" cy="5889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fill="none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</a:path>
              <a:path stroke="0" w="21600" h="13223">
                <a:moveTo>
                  <a:pt x="21574" y="0"/>
                </a:moveTo>
                <a:cubicBezTo>
                  <a:pt x="21591" y="347"/>
                  <a:pt x="21600" y="694"/>
                  <a:pt x="21600" y="1042"/>
                </a:cubicBezTo>
                <a:cubicBezTo>
                  <a:pt x="21600" y="5388"/>
                  <a:pt x="20288" y="9633"/>
                  <a:pt x="17837" y="13223"/>
                </a:cubicBezTo>
                <a:lnTo>
                  <a:pt x="0" y="1042"/>
                </a:lnTo>
                <a:lnTo>
                  <a:pt x="21574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rc 51"/>
          <p:cNvSpPr/>
          <p:nvPr/>
        </p:nvSpPr>
        <p:spPr>
          <a:xfrm rot="692400">
            <a:off x="4501800" y="3435120"/>
            <a:ext cx="1174680" cy="941400"/>
          </a:xfrm>
          <a:custGeom>
            <a:avLst/>
            <a:gdLst>
              <a:gd name="textAreaLeft" fmla="*/ 0 w 1174680"/>
              <a:gd name="textAreaRight" fmla="*/ 1175040 w 1174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fill="none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</a:path>
              <a:path stroke="0" w="12127" h="21079">
                <a:moveTo>
                  <a:pt x="12126" y="17874"/>
                </a:moveTo>
                <a:cubicBezTo>
                  <a:pt x="9879" y="19399"/>
                  <a:pt x="7364" y="20486"/>
                  <a:pt x="4714" y="21079"/>
                </a:cubicBezTo>
                <a:lnTo>
                  <a:pt x="0" y="0"/>
                </a:lnTo>
                <a:lnTo>
                  <a:pt x="12126" y="17874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rc 52"/>
          <p:cNvSpPr/>
          <p:nvPr/>
        </p:nvSpPr>
        <p:spPr>
          <a:xfrm rot="692400">
            <a:off x="3188880" y="3170160"/>
            <a:ext cx="1349280" cy="90504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905040"/>
              <a:gd name="textAreaBottom" fmla="*/ 905400 h 905040"/>
            </a:gdLst>
            <a:ahLst/>
            <a:rect l="textAreaLeft" t="textAreaTop" r="textAreaRight" b="textAreaBottom"/>
            <a:pathLst>
              <a:path fill="none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</a:path>
              <a:path stroke="0" w="13927" h="20367">
                <a:moveTo>
                  <a:pt x="6734" y="20367"/>
                </a:moveTo>
                <a:cubicBezTo>
                  <a:pt x="4275" y="19499"/>
                  <a:pt x="1993" y="18192"/>
                  <a:pt x="0" y="16510"/>
                </a:cubicBezTo>
                <a:lnTo>
                  <a:pt x="13927" y="0"/>
                </a:lnTo>
                <a:lnTo>
                  <a:pt x="6734" y="2036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rc 53"/>
          <p:cNvSpPr/>
          <p:nvPr/>
        </p:nvSpPr>
        <p:spPr>
          <a:xfrm rot="692400">
            <a:off x="2473200" y="2989440"/>
            <a:ext cx="2092320" cy="54288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fill="none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</a:path>
              <a:path stroke="0" w="21600" h="12198">
                <a:moveTo>
                  <a:pt x="2336" y="12198"/>
                </a:moveTo>
                <a:cubicBezTo>
                  <a:pt x="800" y="9169"/>
                  <a:pt x="0" y="5821"/>
                  <a:pt x="0" y="2426"/>
                </a:cubicBezTo>
                <a:cubicBezTo>
                  <a:pt x="-1" y="1615"/>
                  <a:pt x="45" y="805"/>
                  <a:pt x="136" y="-1"/>
                </a:cubicBezTo>
                <a:lnTo>
                  <a:pt x="21600" y="2426"/>
                </a:lnTo>
                <a:lnTo>
                  <a:pt x="2336" y="12198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rc 54"/>
          <p:cNvSpPr/>
          <p:nvPr/>
        </p:nvSpPr>
        <p:spPr>
          <a:xfrm rot="692400">
            <a:off x="3059280" y="2342880"/>
            <a:ext cx="1622160" cy="81108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fill="none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</a:path>
              <a:path stroke="0" w="16756" h="18207">
                <a:moveTo>
                  <a:pt x="-1" y="4576"/>
                </a:moveTo>
                <a:cubicBezTo>
                  <a:pt x="1455" y="2786"/>
                  <a:pt x="3189" y="1241"/>
                  <a:pt x="5134" y="0"/>
                </a:cubicBezTo>
                <a:lnTo>
                  <a:pt x="16756" y="18207"/>
                </a:lnTo>
                <a:lnTo>
                  <a:pt x="-1" y="457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10"/>
          <p:cNvGrpSpPr/>
          <p:nvPr/>
        </p:nvGrpSpPr>
        <p:grpSpPr>
          <a:xfrm>
            <a:off x="3635280" y="3645000"/>
            <a:ext cx="1238400" cy="1236600"/>
            <a:chOff x="3635280" y="3645000"/>
            <a:chExt cx="1238400" cy="1236600"/>
          </a:xfrm>
        </p:grpSpPr>
        <p:sp>
          <p:nvSpPr>
            <p:cNvPr id="746" name="Oval 20"/>
            <p:cNvSpPr/>
            <p:nvPr/>
          </p:nvSpPr>
          <p:spPr>
            <a:xfrm>
              <a:off x="3635280" y="36450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1"/>
            <p:cNvSpPr/>
            <p:nvPr/>
          </p:nvSpPr>
          <p:spPr>
            <a:xfrm>
              <a:off x="3686040" y="36957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22"/>
            <p:cNvSpPr/>
            <p:nvPr/>
          </p:nvSpPr>
          <p:spPr>
            <a:xfrm>
              <a:off x="3736800" y="37497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4"/>
          <p:cNvGrpSpPr/>
          <p:nvPr/>
        </p:nvGrpSpPr>
        <p:grpSpPr>
          <a:xfrm>
            <a:off x="6156360" y="2997360"/>
            <a:ext cx="877680" cy="876240"/>
            <a:chOff x="6156360" y="2997360"/>
            <a:chExt cx="877680" cy="876240"/>
          </a:xfrm>
        </p:grpSpPr>
        <p:sp>
          <p:nvSpPr>
            <p:cNvPr id="750" name="Oval 20"/>
            <p:cNvSpPr/>
            <p:nvPr/>
          </p:nvSpPr>
          <p:spPr>
            <a:xfrm>
              <a:off x="6156360" y="2997360"/>
              <a:ext cx="877680" cy="8762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21"/>
            <p:cNvSpPr/>
            <p:nvPr/>
          </p:nvSpPr>
          <p:spPr>
            <a:xfrm>
              <a:off x="6192360" y="3033360"/>
              <a:ext cx="804600" cy="80424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22"/>
            <p:cNvSpPr/>
            <p:nvPr/>
          </p:nvSpPr>
          <p:spPr>
            <a:xfrm>
              <a:off x="6228360" y="3071520"/>
              <a:ext cx="732240" cy="73188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8"/>
          <p:cNvGrpSpPr/>
          <p:nvPr/>
        </p:nvGrpSpPr>
        <p:grpSpPr>
          <a:xfrm>
            <a:off x="2556000" y="3143160"/>
            <a:ext cx="745560" cy="759240"/>
            <a:chOff x="2556000" y="3143160"/>
            <a:chExt cx="745560" cy="759240"/>
          </a:xfrm>
        </p:grpSpPr>
        <p:pic>
          <p:nvPicPr>
            <p:cNvPr id="754" name="Picture 12" descr="circuler_1"/>
            <p:cNvPicPr/>
            <p:nvPr/>
          </p:nvPicPr>
          <p:blipFill>
            <a:blip r:embed="rId1"/>
            <a:stretch/>
          </p:blipFill>
          <p:spPr>
            <a:xfrm>
              <a:off x="2557440" y="3144600"/>
              <a:ext cx="744120" cy="7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5" name="Group 20"/>
            <p:cNvGrpSpPr/>
            <p:nvPr/>
          </p:nvGrpSpPr>
          <p:grpSpPr>
            <a:xfrm>
              <a:off x="2556000" y="3143160"/>
              <a:ext cx="743400" cy="725400"/>
              <a:chOff x="2556000" y="3143160"/>
              <a:chExt cx="743400" cy="725400"/>
            </a:xfrm>
          </p:grpSpPr>
          <p:pic>
            <p:nvPicPr>
              <p:cNvPr id="756" name="Oval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3143160"/>
                <a:ext cx="743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Text Box 21"/>
              <p:cNvSpPr/>
              <p:nvPr/>
            </p:nvSpPr>
            <p:spPr>
              <a:xfrm>
                <a:off x="2666160" y="3250080"/>
                <a:ext cx="523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Freeform 14"/>
            <p:cNvSpPr/>
            <p:nvPr/>
          </p:nvSpPr>
          <p:spPr>
            <a:xfrm>
              <a:off x="2634480" y="3159360"/>
              <a:ext cx="580680" cy="25020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24"/>
            <p:cNvGrpSpPr/>
            <p:nvPr/>
          </p:nvGrpSpPr>
          <p:grpSpPr>
            <a:xfrm>
              <a:off x="2610720" y="3643200"/>
              <a:ext cx="651960" cy="259200"/>
              <a:chOff x="2610720" y="3643200"/>
              <a:chExt cx="651960" cy="259200"/>
            </a:xfrm>
          </p:grpSpPr>
          <p:grpSp>
            <p:nvGrpSpPr>
              <p:cNvPr id="760" name="Group 25"/>
              <p:cNvGrpSpPr/>
              <p:nvPr/>
            </p:nvGrpSpPr>
            <p:grpSpPr>
              <a:xfrm>
                <a:off x="2724120" y="3643200"/>
                <a:ext cx="538560" cy="243720"/>
                <a:chOff x="2724120" y="3643200"/>
                <a:chExt cx="538560" cy="243720"/>
              </a:xfrm>
            </p:grpSpPr>
            <p:sp>
              <p:nvSpPr>
                <p:cNvPr id="761" name="AutoShape 17"/>
                <p:cNvSpPr/>
                <p:nvPr/>
              </p:nvSpPr>
              <p:spPr>
                <a:xfrm flipH="1" flipV="1" rot="3964800">
                  <a:off x="3017520" y="3568680"/>
                  <a:ext cx="9360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AutoShape 18"/>
                <p:cNvSpPr/>
                <p:nvPr/>
              </p:nvSpPr>
              <p:spPr>
                <a:xfrm flipH="1" flipV="1" rot="4780200">
                  <a:off x="2957040" y="3592440"/>
                  <a:ext cx="9360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AutoShape 19"/>
                <p:cNvSpPr/>
                <p:nvPr/>
              </p:nvSpPr>
              <p:spPr>
                <a:xfrm flipH="1" flipV="1" rot="5076000">
                  <a:off x="2919600" y="359784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AutoShape 20"/>
                <p:cNvSpPr/>
                <p:nvPr/>
              </p:nvSpPr>
              <p:spPr>
                <a:xfrm flipH="1" flipV="1" rot="5608200">
                  <a:off x="2875680" y="3602160"/>
                  <a:ext cx="9360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30"/>
              <p:cNvGrpSpPr/>
              <p:nvPr/>
            </p:nvGrpSpPr>
            <p:grpSpPr>
              <a:xfrm>
                <a:off x="2610720" y="3646800"/>
                <a:ext cx="537840" cy="255600"/>
                <a:chOff x="2610720" y="3646800"/>
                <a:chExt cx="537840" cy="255600"/>
              </a:xfrm>
            </p:grpSpPr>
            <p:sp>
              <p:nvSpPr>
                <p:cNvPr id="766" name="AutoShape 22"/>
                <p:cNvSpPr/>
                <p:nvPr/>
              </p:nvSpPr>
              <p:spPr>
                <a:xfrm flipH="1" flipV="1" rot="5317800">
                  <a:off x="2904480" y="3602880"/>
                  <a:ext cx="93960" cy="391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flipH="1" flipV="1" rot="6133800">
                  <a:off x="2839680" y="3600360"/>
                  <a:ext cx="93960" cy="39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flipH="1" flipV="1" rot="6429000">
                  <a:off x="2802960" y="3591720"/>
                  <a:ext cx="93960" cy="39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H="1" flipV="1" rot="6961200">
                  <a:off x="2760480" y="3578400"/>
                  <a:ext cx="93960" cy="39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0" name="Group 35"/>
          <p:cNvGrpSpPr/>
          <p:nvPr/>
        </p:nvGrpSpPr>
        <p:grpSpPr>
          <a:xfrm>
            <a:off x="3635280" y="1989000"/>
            <a:ext cx="587160" cy="599040"/>
            <a:chOff x="3635280" y="1989000"/>
            <a:chExt cx="587160" cy="599040"/>
          </a:xfrm>
        </p:grpSpPr>
        <p:pic>
          <p:nvPicPr>
            <p:cNvPr id="771" name="Picture 12" descr="circuler_1"/>
            <p:cNvPicPr/>
            <p:nvPr/>
          </p:nvPicPr>
          <p:blipFill>
            <a:blip r:embed="rId3"/>
            <a:stretch/>
          </p:blipFill>
          <p:spPr>
            <a:xfrm>
              <a:off x="3636360" y="1990080"/>
              <a:ext cx="586080" cy="56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2" name="Group 37"/>
            <p:cNvGrpSpPr/>
            <p:nvPr/>
          </p:nvGrpSpPr>
          <p:grpSpPr>
            <a:xfrm>
              <a:off x="3635280" y="1989000"/>
              <a:ext cx="585720" cy="571680"/>
              <a:chOff x="3635280" y="1989000"/>
              <a:chExt cx="585720" cy="571680"/>
            </a:xfrm>
          </p:grpSpPr>
          <p:pic>
            <p:nvPicPr>
              <p:cNvPr id="773" name="Oval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1989000"/>
                <a:ext cx="58572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Text Box 38"/>
              <p:cNvSpPr/>
              <p:nvPr/>
            </p:nvSpPr>
            <p:spPr>
              <a:xfrm>
                <a:off x="3722040" y="2073240"/>
                <a:ext cx="412200" cy="40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Freeform 14"/>
            <p:cNvSpPr/>
            <p:nvPr/>
          </p:nvSpPr>
          <p:spPr>
            <a:xfrm>
              <a:off x="3696840" y="2001600"/>
              <a:ext cx="457200" cy="197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"/>
            <p:cNvGrpSpPr/>
            <p:nvPr/>
          </p:nvGrpSpPr>
          <p:grpSpPr>
            <a:xfrm>
              <a:off x="3678120" y="2382480"/>
              <a:ext cx="513720" cy="205560"/>
              <a:chOff x="3678120" y="2382480"/>
              <a:chExt cx="513720" cy="205560"/>
            </a:xfrm>
          </p:grpSpPr>
          <p:grpSp>
            <p:nvGrpSpPr>
              <p:cNvPr id="777" name="Group 42"/>
              <p:cNvGrpSpPr/>
              <p:nvPr/>
            </p:nvGrpSpPr>
            <p:grpSpPr>
              <a:xfrm>
                <a:off x="3767400" y="2382480"/>
                <a:ext cx="424440" cy="192960"/>
                <a:chOff x="3767400" y="2382480"/>
                <a:chExt cx="424440" cy="192960"/>
              </a:xfrm>
            </p:grpSpPr>
            <p:sp>
              <p:nvSpPr>
                <p:cNvPr id="778" name="AutoShape 17"/>
                <p:cNvSpPr/>
                <p:nvPr/>
              </p:nvSpPr>
              <p:spPr>
                <a:xfrm flipH="1" flipV="1" rot="3964800">
                  <a:off x="3998520" y="232416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18"/>
                <p:cNvSpPr/>
                <p:nvPr/>
              </p:nvSpPr>
              <p:spPr>
                <a:xfrm flipH="1" flipV="1" rot="4780200">
                  <a:off x="3951720" y="234288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19"/>
                <p:cNvSpPr/>
                <p:nvPr/>
              </p:nvSpPr>
              <p:spPr>
                <a:xfrm flipH="1" flipV="1" rot="5076000">
                  <a:off x="3922200" y="2347200"/>
                  <a:ext cx="7344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20"/>
                <p:cNvSpPr/>
                <p:nvPr/>
              </p:nvSpPr>
              <p:spPr>
                <a:xfrm flipH="1" flipV="1" rot="5608200">
                  <a:off x="3887280" y="2350440"/>
                  <a:ext cx="73440" cy="30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47"/>
              <p:cNvGrpSpPr/>
              <p:nvPr/>
            </p:nvGrpSpPr>
            <p:grpSpPr>
              <a:xfrm>
                <a:off x="3678120" y="2386080"/>
                <a:ext cx="424080" cy="201960"/>
                <a:chOff x="3678120" y="2386080"/>
                <a:chExt cx="424080" cy="201960"/>
              </a:xfrm>
            </p:grpSpPr>
            <p:sp>
              <p:nvSpPr>
                <p:cNvPr id="783" name="AutoShape 22"/>
                <p:cNvSpPr/>
                <p:nvPr/>
              </p:nvSpPr>
              <p:spPr>
                <a:xfrm flipH="1" flipV="1" rot="5317800">
                  <a:off x="3909600" y="235080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AutoShape 23"/>
                <p:cNvSpPr/>
                <p:nvPr/>
              </p:nvSpPr>
              <p:spPr>
                <a:xfrm flipH="1" flipV="1" rot="6133800">
                  <a:off x="3858480" y="235044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24"/>
                <p:cNvSpPr/>
                <p:nvPr/>
              </p:nvSpPr>
              <p:spPr>
                <a:xfrm flipH="1" flipV="1" rot="6429000">
                  <a:off x="3830040" y="234216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25"/>
                <p:cNvSpPr/>
                <p:nvPr/>
              </p:nvSpPr>
              <p:spPr>
                <a:xfrm flipH="1" flipV="1" rot="6961200">
                  <a:off x="3795840" y="2332080"/>
                  <a:ext cx="73800" cy="30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7" name="Group 52"/>
          <p:cNvGrpSpPr/>
          <p:nvPr/>
        </p:nvGrpSpPr>
        <p:grpSpPr>
          <a:xfrm>
            <a:off x="5415120" y="2419200"/>
            <a:ext cx="451800" cy="460440"/>
            <a:chOff x="5415120" y="2419200"/>
            <a:chExt cx="451800" cy="460440"/>
          </a:xfrm>
        </p:grpSpPr>
        <p:pic>
          <p:nvPicPr>
            <p:cNvPr id="788" name="Picture 12" descr="circuler_1"/>
            <p:cNvPicPr/>
            <p:nvPr/>
          </p:nvPicPr>
          <p:blipFill>
            <a:blip r:embed="rId5"/>
            <a:stretch/>
          </p:blipFill>
          <p:spPr>
            <a:xfrm>
              <a:off x="5415840" y="2419920"/>
              <a:ext cx="451080" cy="43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9" name="Group 54"/>
            <p:cNvGrpSpPr/>
            <p:nvPr/>
          </p:nvGrpSpPr>
          <p:grpSpPr>
            <a:xfrm>
              <a:off x="5415120" y="2419200"/>
              <a:ext cx="450720" cy="439920"/>
              <a:chOff x="5415120" y="2419200"/>
              <a:chExt cx="450720" cy="439920"/>
            </a:xfrm>
          </p:grpSpPr>
          <p:pic>
            <p:nvPicPr>
              <p:cNvPr id="790" name="Oval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5120" y="2419200"/>
                <a:ext cx="450720" cy="43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Text Box 55"/>
              <p:cNvSpPr/>
              <p:nvPr/>
            </p:nvSpPr>
            <p:spPr>
              <a:xfrm>
                <a:off x="5481720" y="2484000"/>
                <a:ext cx="3171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Freeform 14"/>
            <p:cNvSpPr/>
            <p:nvPr/>
          </p:nvSpPr>
          <p:spPr>
            <a:xfrm>
              <a:off x="5462640" y="2428920"/>
              <a:ext cx="352080" cy="15156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Group 58"/>
            <p:cNvGrpSpPr/>
            <p:nvPr/>
          </p:nvGrpSpPr>
          <p:grpSpPr>
            <a:xfrm>
              <a:off x="5448240" y="2721600"/>
              <a:ext cx="394920" cy="158040"/>
              <a:chOff x="5448240" y="2721600"/>
              <a:chExt cx="394920" cy="158040"/>
            </a:xfrm>
          </p:grpSpPr>
          <p:grpSp>
            <p:nvGrpSpPr>
              <p:cNvPr id="794" name="Group 59"/>
              <p:cNvGrpSpPr/>
              <p:nvPr/>
            </p:nvGrpSpPr>
            <p:grpSpPr>
              <a:xfrm>
                <a:off x="5516640" y="2721600"/>
                <a:ext cx="326520" cy="148320"/>
                <a:chOff x="5516640" y="2721600"/>
                <a:chExt cx="326520" cy="148320"/>
              </a:xfrm>
            </p:grpSpPr>
            <p:sp>
              <p:nvSpPr>
                <p:cNvPr id="795" name="AutoShape 17"/>
                <p:cNvSpPr/>
                <p:nvPr/>
              </p:nvSpPr>
              <p:spPr>
                <a:xfrm flipH="1" flipV="1" rot="3964800">
                  <a:off x="5694120" y="267696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AutoShape 18"/>
                <p:cNvSpPr/>
                <p:nvPr/>
              </p:nvSpPr>
              <p:spPr>
                <a:xfrm flipH="1" flipV="1" rot="4780200">
                  <a:off x="5657760" y="269172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19"/>
                <p:cNvSpPr/>
                <p:nvPr/>
              </p:nvSpPr>
              <p:spPr>
                <a:xfrm flipH="1" flipV="1" rot="5076000">
                  <a:off x="5635800" y="269424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AutoShape 20"/>
                <p:cNvSpPr/>
                <p:nvPr/>
              </p:nvSpPr>
              <p:spPr>
                <a:xfrm flipH="1" flipV="1" rot="5608200">
                  <a:off x="5608440" y="2697480"/>
                  <a:ext cx="5652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9" name="Group 64"/>
              <p:cNvGrpSpPr/>
              <p:nvPr/>
            </p:nvGrpSpPr>
            <p:grpSpPr>
              <a:xfrm>
                <a:off x="5448240" y="2724480"/>
                <a:ext cx="325800" cy="155160"/>
                <a:chOff x="5448240" y="2724480"/>
                <a:chExt cx="325800" cy="155160"/>
              </a:xfrm>
            </p:grpSpPr>
            <p:sp>
              <p:nvSpPr>
                <p:cNvPr id="800" name="AutoShape 22"/>
                <p:cNvSpPr/>
                <p:nvPr/>
              </p:nvSpPr>
              <p:spPr>
                <a:xfrm flipH="1" flipV="1" rot="5317800">
                  <a:off x="5626080" y="2697120"/>
                  <a:ext cx="5688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AutoShape 23"/>
                <p:cNvSpPr/>
                <p:nvPr/>
              </p:nvSpPr>
              <p:spPr>
                <a:xfrm flipH="1" flipV="1" rot="6133800">
                  <a:off x="5587200" y="2696760"/>
                  <a:ext cx="56520" cy="23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AutoShape 24"/>
                <p:cNvSpPr/>
                <p:nvPr/>
              </p:nvSpPr>
              <p:spPr>
                <a:xfrm flipH="1" flipV="1" rot="6429000">
                  <a:off x="5564160" y="2691360"/>
                  <a:ext cx="56880" cy="237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AutoShape 25"/>
                <p:cNvSpPr/>
                <p:nvPr/>
              </p:nvSpPr>
              <p:spPr>
                <a:xfrm flipH="1" flipV="1" rot="6961200">
                  <a:off x="5539320" y="2682720"/>
                  <a:ext cx="56880" cy="23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4" name="Group 69"/>
          <p:cNvGrpSpPr/>
          <p:nvPr/>
        </p:nvGrpSpPr>
        <p:grpSpPr>
          <a:xfrm>
            <a:off x="5580000" y="4005360"/>
            <a:ext cx="576000" cy="586080"/>
            <a:chOff x="5580000" y="4005360"/>
            <a:chExt cx="576000" cy="586080"/>
          </a:xfrm>
        </p:grpSpPr>
        <p:pic>
          <p:nvPicPr>
            <p:cNvPr id="805" name="Picture 12" descr="circuler_1"/>
            <p:cNvPicPr/>
            <p:nvPr/>
          </p:nvPicPr>
          <p:blipFill>
            <a:blip r:embed="rId7"/>
            <a:stretch/>
          </p:blipFill>
          <p:spPr>
            <a:xfrm>
              <a:off x="5581080" y="4006440"/>
              <a:ext cx="574920" cy="55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6" name="Group 71"/>
            <p:cNvGrpSpPr/>
            <p:nvPr/>
          </p:nvGrpSpPr>
          <p:grpSpPr>
            <a:xfrm>
              <a:off x="5580000" y="4005360"/>
              <a:ext cx="574560" cy="560160"/>
              <a:chOff x="5580000" y="4005360"/>
              <a:chExt cx="574560" cy="560160"/>
            </a:xfrm>
          </p:grpSpPr>
          <p:pic>
            <p:nvPicPr>
              <p:cNvPr id="807" name="Oval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5580000" y="4005360"/>
                <a:ext cx="57456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8" name="Text Box 72"/>
              <p:cNvSpPr/>
              <p:nvPr/>
            </p:nvSpPr>
            <p:spPr>
              <a:xfrm>
                <a:off x="5664960" y="4087800"/>
                <a:ext cx="404280" cy="39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Freeform 14"/>
            <p:cNvSpPr/>
            <p:nvPr/>
          </p:nvSpPr>
          <p:spPr>
            <a:xfrm>
              <a:off x="5640480" y="4017600"/>
              <a:ext cx="448560" cy="19332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0" name="Group 75"/>
            <p:cNvGrpSpPr/>
            <p:nvPr/>
          </p:nvGrpSpPr>
          <p:grpSpPr>
            <a:xfrm>
              <a:off x="5621400" y="4390920"/>
              <a:ext cx="504720" cy="200520"/>
              <a:chOff x="5621400" y="4390920"/>
              <a:chExt cx="504720" cy="200520"/>
            </a:xfrm>
          </p:grpSpPr>
          <p:grpSp>
            <p:nvGrpSpPr>
              <p:cNvPr id="811" name="Group 76"/>
              <p:cNvGrpSpPr/>
              <p:nvPr/>
            </p:nvGrpSpPr>
            <p:grpSpPr>
              <a:xfrm>
                <a:off x="5709960" y="4390920"/>
                <a:ext cx="416160" cy="188280"/>
                <a:chOff x="5709960" y="4390920"/>
                <a:chExt cx="416160" cy="188280"/>
              </a:xfrm>
            </p:grpSpPr>
            <p:sp>
              <p:nvSpPr>
                <p:cNvPr id="812" name="AutoShape 17"/>
                <p:cNvSpPr/>
                <p:nvPr/>
              </p:nvSpPr>
              <p:spPr>
                <a:xfrm flipH="1" flipV="1" rot="3964800">
                  <a:off x="5936760" y="433332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AutoShape 18"/>
                <p:cNvSpPr/>
                <p:nvPr/>
              </p:nvSpPr>
              <p:spPr>
                <a:xfrm flipH="1" flipV="1" rot="4780200">
                  <a:off x="5890320" y="435204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19"/>
                <p:cNvSpPr/>
                <p:nvPr/>
              </p:nvSpPr>
              <p:spPr>
                <a:xfrm flipH="1" flipV="1" rot="5076000">
                  <a:off x="5861520" y="4355280"/>
                  <a:ext cx="7200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AutoShape 20"/>
                <p:cNvSpPr/>
                <p:nvPr/>
              </p:nvSpPr>
              <p:spPr>
                <a:xfrm flipH="1" flipV="1" rot="5608200">
                  <a:off x="5826960" y="4358880"/>
                  <a:ext cx="72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Group 81"/>
              <p:cNvGrpSpPr/>
              <p:nvPr/>
            </p:nvGrpSpPr>
            <p:grpSpPr>
              <a:xfrm>
                <a:off x="5621400" y="4393440"/>
                <a:ext cx="416160" cy="198000"/>
                <a:chOff x="5621400" y="4393440"/>
                <a:chExt cx="416160" cy="198000"/>
              </a:xfrm>
            </p:grpSpPr>
            <p:sp>
              <p:nvSpPr>
                <p:cNvPr id="817" name="AutoShape 22"/>
                <p:cNvSpPr/>
                <p:nvPr/>
              </p:nvSpPr>
              <p:spPr>
                <a:xfrm flipH="1" flipV="1" rot="5317800">
                  <a:off x="5848560" y="435924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AutoShape 23"/>
                <p:cNvSpPr/>
                <p:nvPr/>
              </p:nvSpPr>
              <p:spPr>
                <a:xfrm flipH="1" flipV="1" rot="6133800">
                  <a:off x="5798520" y="4359240"/>
                  <a:ext cx="72360" cy="302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AutoShape 24"/>
                <p:cNvSpPr/>
                <p:nvPr/>
              </p:nvSpPr>
              <p:spPr>
                <a:xfrm flipH="1" flipV="1" rot="6429000">
                  <a:off x="5770800" y="4350600"/>
                  <a:ext cx="72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25"/>
                <p:cNvSpPr/>
                <p:nvPr/>
              </p:nvSpPr>
              <p:spPr>
                <a:xfrm flipH="1" flipV="1" rot="6961200">
                  <a:off x="5737320" y="4339800"/>
                  <a:ext cx="72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1" name="Group 86"/>
          <p:cNvGrpSpPr/>
          <p:nvPr/>
        </p:nvGrpSpPr>
        <p:grpSpPr>
          <a:xfrm>
            <a:off x="2484360" y="1989000"/>
            <a:ext cx="863640" cy="862200"/>
            <a:chOff x="2484360" y="1989000"/>
            <a:chExt cx="863640" cy="862200"/>
          </a:xfrm>
        </p:grpSpPr>
        <p:sp>
          <p:nvSpPr>
            <p:cNvPr id="822" name="Oval 20"/>
            <p:cNvSpPr/>
            <p:nvPr/>
          </p:nvSpPr>
          <p:spPr>
            <a:xfrm>
              <a:off x="2484360" y="1989000"/>
              <a:ext cx="863640" cy="8622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21"/>
            <p:cNvSpPr/>
            <p:nvPr/>
          </p:nvSpPr>
          <p:spPr>
            <a:xfrm>
              <a:off x="2519640" y="2024280"/>
              <a:ext cx="791640" cy="791280"/>
            </a:xfrm>
            <a:prstGeom prst="ellipse">
              <a:avLst/>
            </a:prstGeom>
            <a:noFill/>
            <a:ln w="38160">
              <a:solidFill>
                <a:srgbClr val="a5002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22"/>
            <p:cNvSpPr/>
            <p:nvPr/>
          </p:nvSpPr>
          <p:spPr>
            <a:xfrm>
              <a:off x="2555280" y="2062080"/>
              <a:ext cx="720360" cy="720000"/>
            </a:xfrm>
            <a:prstGeom prst="ellipse">
              <a:avLst/>
            </a:prstGeom>
            <a:noFill/>
            <a:ln w="38160">
              <a:solidFill>
                <a:srgbClr val="a50021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AutoShape 89"/>
          <p:cNvSpPr/>
          <p:nvPr/>
        </p:nvSpPr>
        <p:spPr>
          <a:xfrm>
            <a:off x="7564320" y="1557360"/>
            <a:ext cx="1111320" cy="2376360"/>
          </a:xfrm>
          <a:prstGeom prst="borderCallout2">
            <a:avLst>
              <a:gd name="adj1" fmla="val 18750"/>
              <a:gd name="adj2" fmla="val -8333"/>
              <a:gd name="adj3" fmla="val 4810"/>
              <a:gd name="adj4" fmla="val -41569"/>
              <a:gd name="adj5" fmla="val 60587"/>
              <a:gd name="adj6" fmla="val -71143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90"/>
          <p:cNvSpPr/>
          <p:nvPr/>
        </p:nvSpPr>
        <p:spPr>
          <a:xfrm>
            <a:off x="468360" y="5178600"/>
            <a:ext cx="2138400" cy="914400"/>
          </a:xfrm>
          <a:prstGeom prst="borderCallout2">
            <a:avLst>
              <a:gd name="adj1" fmla="val 18750"/>
              <a:gd name="adj2" fmla="val -8333"/>
              <a:gd name="adj3" fmla="val 12500"/>
              <a:gd name="adj4" fmla="val 154268"/>
              <a:gd name="adj5" fmla="val -37328"/>
              <a:gd name="adj6" fmla="val 165106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91"/>
          <p:cNvSpPr/>
          <p:nvPr/>
        </p:nvSpPr>
        <p:spPr>
          <a:xfrm>
            <a:off x="395280" y="1411200"/>
            <a:ext cx="1728720" cy="978120"/>
          </a:xfrm>
          <a:prstGeom prst="borderCallout2">
            <a:avLst>
              <a:gd name="adj1" fmla="val 18750"/>
              <a:gd name="adj2" fmla="val -8333"/>
              <a:gd name="adj3" fmla="val 11689"/>
              <a:gd name="adj4" fmla="val 115796"/>
              <a:gd name="adj5" fmla="val 66560"/>
              <a:gd name="adj6" fmla="val 129199"/>
            </a:avLst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内容内容内容内容内容内容内容内容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92"/>
          <p:cNvSpPr/>
          <p:nvPr/>
        </p:nvSpPr>
        <p:spPr>
          <a:xfrm>
            <a:off x="950760" y="5307120"/>
            <a:ext cx="153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WordArt 93" descr=""/>
          <p:cNvPicPr/>
          <p:nvPr/>
        </p:nvPicPr>
        <p:blipFill>
          <a:blip r:embed="rId9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09AE-AE86-4940-939D-56065546E4C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"/>
          <p:cNvSpPr/>
          <p:nvPr/>
        </p:nvSpPr>
        <p:spPr>
          <a:xfrm flipV="1" rot="16200000">
            <a:off x="2684160" y="3795120"/>
            <a:ext cx="21272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7"/>
          <p:cNvSpPr/>
          <p:nvPr/>
        </p:nvSpPr>
        <p:spPr>
          <a:xfrm flipV="1" rot="16200000">
            <a:off x="3197520" y="232416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8"/>
          <p:cNvSpPr/>
          <p:nvPr/>
        </p:nvSpPr>
        <p:spPr>
          <a:xfrm flipV="1" rot="16200000">
            <a:off x="2035800" y="4043160"/>
            <a:ext cx="163188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9"/>
          <p:cNvSpPr/>
          <p:nvPr/>
        </p:nvSpPr>
        <p:spPr>
          <a:xfrm flipV="1" rot="16200000">
            <a:off x="2301840" y="2819520"/>
            <a:ext cx="1108080" cy="71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0"/>
          <p:cNvSpPr/>
          <p:nvPr/>
        </p:nvSpPr>
        <p:spPr>
          <a:xfrm flipV="1" rot="16200000">
            <a:off x="1357200" y="4303800"/>
            <a:ext cx="11620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1"/>
          <p:cNvSpPr/>
          <p:nvPr/>
        </p:nvSpPr>
        <p:spPr>
          <a:xfrm flipV="1" rot="16200000">
            <a:off x="1386360" y="3314520"/>
            <a:ext cx="11098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2"/>
          <p:cNvSpPr/>
          <p:nvPr/>
        </p:nvSpPr>
        <p:spPr>
          <a:xfrm flipV="1" rot="16200000">
            <a:off x="658800" y="4518000"/>
            <a:ext cx="73512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a50021"/>
              </a:gs>
              <a:gs pos="100000">
                <a:srgbClr val="ff00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3"/>
          <p:cNvSpPr/>
          <p:nvPr/>
        </p:nvSpPr>
        <p:spPr>
          <a:xfrm flipV="1" rot="16200000">
            <a:off x="474120" y="374148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4"/>
          <p:cNvSpPr/>
          <p:nvPr/>
        </p:nvSpPr>
        <p:spPr>
          <a:xfrm flipH="1">
            <a:off x="828720" y="27097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5"/>
          <p:cNvSpPr/>
          <p:nvPr/>
        </p:nvSpPr>
        <p:spPr>
          <a:xfrm>
            <a:off x="748800" y="3262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6"/>
          <p:cNvSpPr/>
          <p:nvPr/>
        </p:nvSpPr>
        <p:spPr>
          <a:xfrm>
            <a:off x="1671120" y="27702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7"/>
          <p:cNvSpPr/>
          <p:nvPr/>
        </p:nvSpPr>
        <p:spPr>
          <a:xfrm>
            <a:off x="2593440" y="2270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8"/>
          <p:cNvSpPr/>
          <p:nvPr/>
        </p:nvSpPr>
        <p:spPr>
          <a:xfrm>
            <a:off x="3498480" y="178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  <a:ea typeface="华文细黑"/>
              </a:rPr>
              <a:t>Titl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9"/>
          <p:cNvSpPr/>
          <p:nvPr/>
        </p:nvSpPr>
        <p:spPr>
          <a:xfrm>
            <a:off x="896760" y="5451480"/>
            <a:ext cx="2930760" cy="45252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1866960" y="5495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标题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1"/>
          <p:cNvSpPr/>
          <p:nvPr/>
        </p:nvSpPr>
        <p:spPr>
          <a:xfrm>
            <a:off x="633240" y="377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4572000" y="1844640"/>
            <a:ext cx="4249800" cy="1152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4572000" y="3284640"/>
            <a:ext cx="4249800" cy="1942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点此添加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1547640" y="33577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2484360" y="2852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1"/>
          <p:cNvSpPr/>
          <p:nvPr/>
        </p:nvSpPr>
        <p:spPr>
          <a:xfrm>
            <a:off x="334800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D550-8D82-4B14-A06A-BAA094AD395E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378"/>
          <p:cNvPicPr/>
          <p:nvPr/>
        </p:nvPicPr>
        <p:blipFill>
          <a:blip r:embed="rId1">
            <a:grayscl/>
            <a:lum contrast="30000"/>
          </a:blip>
          <a:srcRect l="0" t="0" r="80" b="0"/>
          <a:stretch/>
        </p:blipFill>
        <p:spPr>
          <a:xfrm>
            <a:off x="108000" y="3284640"/>
            <a:ext cx="1609560" cy="158580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3"/>
          <p:cNvSpPr/>
          <p:nvPr/>
        </p:nvSpPr>
        <p:spPr>
          <a:xfrm>
            <a:off x="1692360" y="2781360"/>
            <a:ext cx="7184880" cy="2073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79532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3538440" y="3355920"/>
            <a:ext cx="1711440" cy="1405080"/>
          </a:xfrm>
          <a:prstGeom prst="rightArrowCallout">
            <a:avLst>
              <a:gd name="adj1" fmla="val 50005"/>
              <a:gd name="adj2" fmla="val 25000"/>
              <a:gd name="adj3" fmla="val 12062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256360" y="3355920"/>
            <a:ext cx="1711080" cy="1405080"/>
          </a:xfrm>
          <a:prstGeom prst="rightArrowCallout">
            <a:avLst>
              <a:gd name="adj1" fmla="val 50005"/>
              <a:gd name="adj2" fmla="val 25000"/>
              <a:gd name="adj3" fmla="val 1205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7"/>
          <p:cNvSpPr/>
          <p:nvPr/>
        </p:nvSpPr>
        <p:spPr>
          <a:xfrm>
            <a:off x="7012080" y="3355920"/>
            <a:ext cx="1709640" cy="1405080"/>
          </a:xfrm>
          <a:prstGeom prst="rightArrowCallout">
            <a:avLst>
              <a:gd name="adj1" fmla="val 50005"/>
              <a:gd name="adj2" fmla="val 25000"/>
              <a:gd name="adj3" fmla="val 12049"/>
              <a:gd name="adj4" fmla="val 90097"/>
            </a:avLst>
          </a:prstGeom>
          <a:gradFill rotWithShape="0">
            <a:gsLst>
              <a:gs pos="0">
                <a:srgbClr val="ff0000"/>
              </a:gs>
              <a:gs pos="100000">
                <a:srgbClr val="a50021"/>
              </a:gs>
            </a:gsLst>
            <a:lin ang="189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3387600" y="2857680"/>
            <a:ext cx="53974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未知"/>
          <p:cNvSpPr/>
          <p:nvPr/>
        </p:nvSpPr>
        <p:spPr>
          <a:xfrm>
            <a:off x="180180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未知"/>
          <p:cNvSpPr/>
          <p:nvPr/>
        </p:nvSpPr>
        <p:spPr>
          <a:xfrm>
            <a:off x="3544920" y="3362400"/>
            <a:ext cx="1392120" cy="8049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未知"/>
          <p:cNvSpPr/>
          <p:nvPr/>
        </p:nvSpPr>
        <p:spPr>
          <a:xfrm>
            <a:off x="5259240" y="3362400"/>
            <a:ext cx="1393920" cy="804960"/>
          </a:xfrm>
          <a:custGeom>
            <a:avLst/>
            <a:gdLst>
              <a:gd name="textAreaLeft" fmla="*/ 0 w 1393920"/>
              <a:gd name="textAreaRight" fmla="*/ 1393920 w 139392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未知"/>
          <p:cNvSpPr/>
          <p:nvPr/>
        </p:nvSpPr>
        <p:spPr>
          <a:xfrm>
            <a:off x="7015320" y="3362400"/>
            <a:ext cx="1393560" cy="80496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921" h="532">
                <a:moveTo>
                  <a:pt x="5" y="532"/>
                </a:moveTo>
                <a:lnTo>
                  <a:pt x="0" y="0"/>
                </a:lnTo>
                <a:lnTo>
                  <a:pt x="921" y="0"/>
                </a:lnTo>
                <a:lnTo>
                  <a:pt x="5" y="532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3"/>
          <p:cNvSpPr/>
          <p:nvPr/>
        </p:nvSpPr>
        <p:spPr>
          <a:xfrm>
            <a:off x="179388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4"/>
          <p:cNvSpPr/>
          <p:nvPr/>
        </p:nvSpPr>
        <p:spPr>
          <a:xfrm>
            <a:off x="3522600" y="3355920"/>
            <a:ext cx="15429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5"/>
          <p:cNvSpPr/>
          <p:nvPr/>
        </p:nvSpPr>
        <p:spPr>
          <a:xfrm>
            <a:off x="5251320" y="3355920"/>
            <a:ext cx="15433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6"/>
          <p:cNvSpPr/>
          <p:nvPr/>
        </p:nvSpPr>
        <p:spPr>
          <a:xfrm>
            <a:off x="7008840" y="3355920"/>
            <a:ext cx="154152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段落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7"/>
          <p:cNvSpPr/>
          <p:nvPr/>
        </p:nvSpPr>
        <p:spPr>
          <a:xfrm rot="10800000">
            <a:off x="178920" y="4862160"/>
            <a:ext cx="8704440" cy="318960"/>
          </a:xfrm>
          <a:custGeom>
            <a:avLst/>
            <a:gdLst>
              <a:gd name="textAreaLeft" fmla="*/ 725400 w 8704440"/>
              <a:gd name="textAreaRight" fmla="*/ 7979400 w 870444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8"/>
          <p:cNvSpPr/>
          <p:nvPr/>
        </p:nvSpPr>
        <p:spPr>
          <a:xfrm>
            <a:off x="1784520" y="2857680"/>
            <a:ext cx="1577880" cy="42372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段落文字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WordArt 19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7789-CF19-467C-9B04-7794A828BEB5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32000" y="1652760"/>
            <a:ext cx="6480000" cy="12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32000" y="1652760"/>
            <a:ext cx="2227320" cy="12049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3559320" y="165240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1332000" y="285768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434960" y="2092320"/>
            <a:ext cx="2025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59320" y="1652760"/>
            <a:ext cx="42526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332000" y="2860560"/>
            <a:ext cx="6480000" cy="26856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8800 h 268560"/>
              <a:gd name="textAreaBottom" fmla="*/ 239760 h 26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1332000" y="30942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332000" y="30942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3559320" y="3093840"/>
            <a:ext cx="0" cy="1207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1332000" y="42973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3"/>
          <p:cNvSpPr txBox="1"/>
          <p:nvPr/>
        </p:nvSpPr>
        <p:spPr>
          <a:xfrm>
            <a:off x="1434960" y="35323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3559320" y="3094200"/>
            <a:ext cx="425268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1332000" y="43005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1332000" y="4532400"/>
            <a:ext cx="6480000" cy="1203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332000" y="4532400"/>
            <a:ext cx="2227320" cy="120312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3559320" y="4532400"/>
            <a:ext cx="0" cy="1208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1332000" y="5735520"/>
            <a:ext cx="6480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1434960" y="4970520"/>
            <a:ext cx="2025720" cy="24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3559320" y="4532400"/>
            <a:ext cx="425268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1332000" y="5738760"/>
            <a:ext cx="6480000" cy="270000"/>
          </a:xfrm>
          <a:custGeom>
            <a:avLst/>
            <a:gdLst>
              <a:gd name="textAreaLeft" fmla="*/ 700560 w 6480000"/>
              <a:gd name="textAreaRight" fmla="*/ 5779440 w 6480000"/>
              <a:gd name="textAreaTop" fmla="*/ 29160 h 270000"/>
              <a:gd name="textAreaBottom" fmla="*/ 24084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4716-DEF2-4D0A-80E0-1AE920D8385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-360" y="4510080"/>
            <a:ext cx="9180000" cy="2293560"/>
            <a:chOff x="-360" y="4510080"/>
            <a:chExt cx="9180000" cy="2293560"/>
          </a:xfrm>
        </p:grpSpPr>
        <p:grpSp>
          <p:nvGrpSpPr>
            <p:cNvPr id="107" name="Group 4"/>
            <p:cNvGrpSpPr/>
            <p:nvPr/>
          </p:nvGrpSpPr>
          <p:grpSpPr>
            <a:xfrm>
              <a:off x="4588560" y="4510080"/>
              <a:ext cx="4591080" cy="2293560"/>
              <a:chOff x="4588560" y="4510080"/>
              <a:chExt cx="4591080" cy="2293560"/>
            </a:xfrm>
          </p:grpSpPr>
          <p:sp>
            <p:nvSpPr>
              <p:cNvPr id="108" name="Line 4"/>
              <p:cNvSpPr/>
              <p:nvPr/>
            </p:nvSpPr>
            <p:spPr>
              <a:xfrm>
                <a:off x="4588560" y="4510080"/>
                <a:ext cx="459108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5"/>
              <p:cNvSpPr/>
              <p:nvPr/>
            </p:nvSpPr>
            <p:spPr>
              <a:xfrm>
                <a:off x="4588560" y="4510080"/>
                <a:ext cx="459108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588560" y="4510080"/>
                <a:ext cx="4354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4588560" y="4510080"/>
                <a:ext cx="36471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8"/>
              <p:cNvSpPr/>
              <p:nvPr/>
            </p:nvSpPr>
            <p:spPr>
              <a:xfrm>
                <a:off x="4588560" y="4510080"/>
                <a:ext cx="2983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>
                <a:off x="4588560" y="4510080"/>
                <a:ext cx="231480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4588560" y="4510080"/>
                <a:ext cx="17265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588560" y="4510080"/>
                <a:ext cx="113976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>
                <a:off x="4588560" y="4510080"/>
                <a:ext cx="5497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4588560" y="4510080"/>
                <a:ext cx="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4588560" y="4510080"/>
                <a:ext cx="459108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>
                <a:off x="4588560" y="4510080"/>
                <a:ext cx="459108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4588560" y="4510080"/>
                <a:ext cx="459108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>
                <a:off x="4588560" y="4510080"/>
                <a:ext cx="459108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>
                <a:off x="4628520" y="4510080"/>
                <a:ext cx="455112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4588560" y="4510080"/>
                <a:ext cx="459108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>
                <a:off x="4588560" y="4510080"/>
                <a:ext cx="459108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4588560" y="4510080"/>
                <a:ext cx="459108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>
                <a:off x="4588560" y="4510080"/>
                <a:ext cx="459108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>
                <a:off x="4588560" y="4510080"/>
                <a:ext cx="459108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88560" y="4510080"/>
                <a:ext cx="459108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26"/>
            <p:cNvGrpSpPr/>
            <p:nvPr/>
          </p:nvGrpSpPr>
          <p:grpSpPr>
            <a:xfrm>
              <a:off x="-360" y="4510080"/>
              <a:ext cx="4588560" cy="2293560"/>
              <a:chOff x="-360" y="4510080"/>
              <a:chExt cx="4588560" cy="2293560"/>
            </a:xfrm>
          </p:grpSpPr>
          <p:sp>
            <p:nvSpPr>
              <p:cNvPr id="130" name="Line 26"/>
              <p:cNvSpPr/>
              <p:nvPr/>
            </p:nvSpPr>
            <p:spPr>
              <a:xfrm flipH="1">
                <a:off x="-360" y="4510080"/>
                <a:ext cx="4588200" cy="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7"/>
              <p:cNvSpPr/>
              <p:nvPr/>
            </p:nvSpPr>
            <p:spPr>
              <a:xfrm flipH="1">
                <a:off x="-360" y="4510080"/>
                <a:ext cx="4588200" cy="174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>
                <a:off x="-360" y="4510080"/>
                <a:ext cx="4588200" cy="205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 flipH="1">
                <a:off x="237960" y="4510080"/>
                <a:ext cx="43498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0"/>
              <p:cNvSpPr/>
              <p:nvPr/>
            </p:nvSpPr>
            <p:spPr>
              <a:xfrm flipH="1">
                <a:off x="944280" y="4510080"/>
                <a:ext cx="364392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>
                <a:off x="1608120" y="4510080"/>
                <a:ext cx="298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H="1">
                <a:off x="2275560" y="4510080"/>
                <a:ext cx="231264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 flipH="1">
                <a:off x="2868120" y="4510080"/>
                <a:ext cx="1720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452760" y="4510080"/>
                <a:ext cx="11350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 flipH="1">
                <a:off x="4043160" y="4510080"/>
                <a:ext cx="544680" cy="22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 flipH="1">
                <a:off x="-360" y="4510080"/>
                <a:ext cx="4588200" cy="1509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-360" y="4510080"/>
                <a:ext cx="4588200" cy="1300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 flipH="1">
                <a:off x="-360" y="4510080"/>
                <a:ext cx="4588200" cy="1119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9"/>
              <p:cNvSpPr/>
              <p:nvPr/>
            </p:nvSpPr>
            <p:spPr>
              <a:xfrm flipH="1">
                <a:off x="-360" y="4510080"/>
                <a:ext cx="4588200" cy="938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0" y="4510080"/>
                <a:ext cx="4549680" cy="78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 flipH="1">
                <a:off x="-360" y="4510080"/>
                <a:ext cx="4588200" cy="626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-360" y="4510080"/>
                <a:ext cx="4588200" cy="49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H="1">
                <a:off x="-360" y="4510080"/>
                <a:ext cx="4588200" cy="362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H="1">
                <a:off x="-360" y="4510080"/>
                <a:ext cx="4588200" cy="259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 flipH="1">
                <a:off x="-360" y="4510080"/>
                <a:ext cx="458820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-360" y="4510080"/>
                <a:ext cx="4588200" cy="7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48"/>
            <p:cNvGrpSpPr/>
            <p:nvPr/>
          </p:nvGrpSpPr>
          <p:grpSpPr>
            <a:xfrm>
              <a:off x="0" y="4533840"/>
              <a:ext cx="9179280" cy="1955520"/>
              <a:chOff x="0" y="4533840"/>
              <a:chExt cx="9179280" cy="1955520"/>
            </a:xfrm>
          </p:grpSpPr>
          <p:grpSp>
            <p:nvGrpSpPr>
              <p:cNvPr id="152" name="Group 49"/>
              <p:cNvGrpSpPr/>
              <p:nvPr/>
            </p:nvGrpSpPr>
            <p:grpSpPr>
              <a:xfrm>
                <a:off x="0" y="5637600"/>
                <a:ext cx="9179280" cy="851760"/>
                <a:chOff x="0" y="5637600"/>
                <a:chExt cx="9179280" cy="851760"/>
              </a:xfrm>
            </p:grpSpPr>
            <p:sp>
              <p:nvSpPr>
                <p:cNvPr id="153" name="Line 49"/>
                <p:cNvSpPr/>
                <p:nvPr/>
              </p:nvSpPr>
              <p:spPr>
                <a:xfrm>
                  <a:off x="0" y="648936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0"/>
                <p:cNvSpPr/>
                <p:nvPr/>
              </p:nvSpPr>
              <p:spPr>
                <a:xfrm>
                  <a:off x="0" y="617508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1"/>
                <p:cNvSpPr/>
                <p:nvPr/>
              </p:nvSpPr>
              <p:spPr>
                <a:xfrm>
                  <a:off x="0" y="589104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2"/>
                <p:cNvSpPr/>
                <p:nvPr/>
              </p:nvSpPr>
              <p:spPr>
                <a:xfrm>
                  <a:off x="0" y="5637600"/>
                  <a:ext cx="917640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54"/>
              <p:cNvGrpSpPr/>
              <p:nvPr/>
            </p:nvGrpSpPr>
            <p:grpSpPr>
              <a:xfrm>
                <a:off x="0" y="4533840"/>
                <a:ext cx="9179280" cy="886680"/>
                <a:chOff x="0" y="4533840"/>
                <a:chExt cx="9179280" cy="886680"/>
              </a:xfrm>
            </p:grpSpPr>
            <p:sp>
              <p:nvSpPr>
                <p:cNvPr id="158" name="Line 54"/>
                <p:cNvSpPr/>
                <p:nvPr/>
              </p:nvSpPr>
              <p:spPr>
                <a:xfrm>
                  <a:off x="0" y="542052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5"/>
                <p:cNvSpPr/>
                <p:nvPr/>
              </p:nvSpPr>
              <p:spPr>
                <a:xfrm flipV="1">
                  <a:off x="0" y="5211720"/>
                  <a:ext cx="9179280" cy="10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6"/>
                <p:cNvSpPr/>
                <p:nvPr/>
              </p:nvSpPr>
              <p:spPr>
                <a:xfrm>
                  <a:off x="0" y="5022000"/>
                  <a:ext cx="9179280" cy="576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7"/>
                <p:cNvSpPr/>
                <p:nvPr/>
              </p:nvSpPr>
              <p:spPr>
                <a:xfrm>
                  <a:off x="0" y="4870800"/>
                  <a:ext cx="91378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58"/>
                <p:cNvSpPr/>
                <p:nvPr/>
              </p:nvSpPr>
              <p:spPr>
                <a:xfrm flipV="1">
                  <a:off x="0" y="4741920"/>
                  <a:ext cx="9179280" cy="720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59"/>
                <p:cNvSpPr/>
                <p:nvPr/>
              </p:nvSpPr>
              <p:spPr>
                <a:xfrm>
                  <a:off x="0" y="4658040"/>
                  <a:ext cx="9179280" cy="46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0"/>
                <p:cNvSpPr/>
                <p:nvPr/>
              </p:nvSpPr>
              <p:spPr>
                <a:xfrm flipV="1">
                  <a:off x="0" y="4611240"/>
                  <a:ext cx="9179280" cy="1188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1"/>
                <p:cNvSpPr/>
                <p:nvPr/>
              </p:nvSpPr>
              <p:spPr>
                <a:xfrm>
                  <a:off x="39960" y="4560480"/>
                  <a:ext cx="913932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2"/>
                <p:cNvSpPr/>
                <p:nvPr/>
              </p:nvSpPr>
              <p:spPr>
                <a:xfrm>
                  <a:off x="0" y="4533840"/>
                  <a:ext cx="9179280" cy="0"/>
                </a:xfrm>
                <a:prstGeom prst="line">
                  <a:avLst/>
                </a:prstGeom>
                <a:ln w="324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Oval 63"/>
          <p:cNvSpPr/>
          <p:nvPr/>
        </p:nvSpPr>
        <p:spPr>
          <a:xfrm>
            <a:off x="2138400" y="4876920"/>
            <a:ext cx="535284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5"/>
          <p:cNvGrpSpPr/>
          <p:nvPr/>
        </p:nvGrpSpPr>
        <p:grpSpPr>
          <a:xfrm>
            <a:off x="2401920" y="2087640"/>
            <a:ext cx="4461840" cy="2487600"/>
            <a:chOff x="2401920" y="2087640"/>
            <a:chExt cx="4461840" cy="2487600"/>
          </a:xfrm>
        </p:grpSpPr>
        <p:grpSp>
          <p:nvGrpSpPr>
            <p:cNvPr id="169" name="Group 66"/>
            <p:cNvGrpSpPr/>
            <p:nvPr/>
          </p:nvGrpSpPr>
          <p:grpSpPr>
            <a:xfrm>
              <a:off x="2401920" y="2087640"/>
              <a:ext cx="4449600" cy="2487600"/>
              <a:chOff x="2401920" y="2087640"/>
              <a:chExt cx="4449600" cy="2487600"/>
            </a:xfrm>
          </p:grpSpPr>
          <p:pic>
            <p:nvPicPr>
              <p:cNvPr id="170" name="Oval 6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01920" y="2087640"/>
                <a:ext cx="4449600" cy="24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68"/>
              <p:cNvSpPr/>
              <p:nvPr/>
            </p:nvSpPr>
            <p:spPr>
              <a:xfrm>
                <a:off x="3057840" y="2458080"/>
                <a:ext cx="3137400" cy="17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9"/>
            <p:cNvGrpSpPr/>
            <p:nvPr/>
          </p:nvGrpSpPr>
          <p:grpSpPr>
            <a:xfrm>
              <a:off x="2408040" y="2096640"/>
              <a:ext cx="4455720" cy="2170440"/>
              <a:chOff x="2408040" y="2096640"/>
              <a:chExt cx="4455720" cy="2170440"/>
            </a:xfrm>
          </p:grpSpPr>
          <p:sp>
            <p:nvSpPr>
              <p:cNvPr id="173" name="Arc 67"/>
              <p:cNvSpPr/>
              <p:nvPr/>
            </p:nvSpPr>
            <p:spPr>
              <a:xfrm>
                <a:off x="2408040" y="2424240"/>
                <a:ext cx="4302000" cy="1842840"/>
              </a:xfrm>
              <a:custGeom>
                <a:avLst/>
                <a:gdLst>
                  <a:gd name="textAreaLeft" fmla="*/ 0 w 4302000"/>
                  <a:gd name="textAreaRight" fmla="*/ 4302360 w 4302000"/>
                  <a:gd name="textAreaTop" fmla="*/ 0 h 1842840"/>
                  <a:gd name="textAreaBottom" fmla="*/ 1843200 h 18428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rc 68"/>
              <p:cNvSpPr/>
              <p:nvPr/>
            </p:nvSpPr>
            <p:spPr>
              <a:xfrm>
                <a:off x="3048480" y="2096640"/>
                <a:ext cx="1635480" cy="1084680"/>
              </a:xfrm>
              <a:custGeom>
                <a:avLst/>
                <a:gdLst>
                  <a:gd name="textAreaLeft" fmla="*/ 0 w 1635480"/>
                  <a:gd name="textAreaRight" fmla="*/ 1635840 w 163548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rc 69"/>
              <p:cNvSpPr/>
              <p:nvPr/>
            </p:nvSpPr>
            <p:spPr>
              <a:xfrm>
                <a:off x="4633560" y="2096640"/>
                <a:ext cx="1623240" cy="1084680"/>
              </a:xfrm>
              <a:custGeom>
                <a:avLst/>
                <a:gdLst>
                  <a:gd name="textAreaLeft" fmla="*/ 0 w 1623240"/>
                  <a:gd name="textAreaRight" fmla="*/ 1623600 w 1623240"/>
                  <a:gd name="textAreaTop" fmla="*/ 0 h 1084680"/>
                  <a:gd name="textAreaBottom" fmla="*/ 1085040 h 10846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rc 70"/>
              <p:cNvSpPr/>
              <p:nvPr/>
            </p:nvSpPr>
            <p:spPr>
              <a:xfrm>
                <a:off x="4636440" y="2391480"/>
                <a:ext cx="2227320" cy="1191240"/>
              </a:xfrm>
              <a:custGeom>
                <a:avLst/>
                <a:gdLst>
                  <a:gd name="textAreaLeft" fmla="*/ 0 w 2227320"/>
                  <a:gd name="textAreaRight" fmla="*/ 2227680 w 2227320"/>
                  <a:gd name="textAreaTop" fmla="*/ 0 h 1191240"/>
                  <a:gd name="textAreaBottom" fmla="*/ 1191240 h 119124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Arc 71"/>
          <p:cNvSpPr/>
          <p:nvPr/>
        </p:nvSpPr>
        <p:spPr>
          <a:xfrm>
            <a:off x="4646520" y="2373480"/>
            <a:ext cx="2230560" cy="1199880"/>
          </a:xfrm>
          <a:custGeom>
            <a:avLst/>
            <a:gdLst>
              <a:gd name="textAreaLeft" fmla="*/ 0 w 2230560"/>
              <a:gd name="textAreaRight" fmla="*/ 2230560 w 223056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4932720" y="22464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5958360" y="28098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3743640" y="221760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2899080" y="3176640"/>
            <a:ext cx="616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6"/>
          <p:cNvSpPr/>
          <p:nvPr/>
        </p:nvSpPr>
        <p:spPr>
          <a:xfrm>
            <a:off x="2425680" y="242100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7"/>
          <p:cNvSpPr/>
          <p:nvPr/>
        </p:nvSpPr>
        <p:spPr>
          <a:xfrm>
            <a:off x="6880320" y="12272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72134"/>
              <a:gd name="adj4" fmla="val -11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8"/>
          <p:cNvSpPr/>
          <p:nvPr/>
        </p:nvSpPr>
        <p:spPr>
          <a:xfrm>
            <a:off x="1060560" y="15145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13282"/>
              <a:gd name="adj4" fmla="val 297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9"/>
          <p:cNvSpPr/>
          <p:nvPr/>
        </p:nvSpPr>
        <p:spPr>
          <a:xfrm>
            <a:off x="1060560" y="439416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2916"/>
              <a:gd name="adj4" fmla="val 210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0"/>
          <p:cNvSpPr/>
          <p:nvPr/>
        </p:nvSpPr>
        <p:spPr>
          <a:xfrm>
            <a:off x="7020000" y="472428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-276564"/>
              <a:gd name="adj4" fmla="val -3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内容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1"/>
          <p:cNvSpPr/>
          <p:nvPr/>
        </p:nvSpPr>
        <p:spPr>
          <a:xfrm>
            <a:off x="2700360" y="5661000"/>
            <a:ext cx="390528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a000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点此添加标题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WordArt 82" descr=""/>
          <p:cNvPicPr/>
          <p:nvPr/>
        </p:nvPicPr>
        <p:blipFill>
          <a:blip r:embed="rId2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4766-13A5-46CC-905D-0DCD5EE597B8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 rot="10800000">
            <a:off x="4016160" y="4651200"/>
            <a:ext cx="4010040" cy="103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4016160" y="44546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10800000">
            <a:off x="4017600" y="1844640"/>
            <a:ext cx="4010040" cy="1106640"/>
          </a:xfrm>
          <a:prstGeom prst="upArrowCallout">
            <a:avLst>
              <a:gd name="adj1" fmla="val 82881"/>
              <a:gd name="adj2" fmla="val 41437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 rot="10800000">
            <a:off x="4017600" y="1641240"/>
            <a:ext cx="4010040" cy="1886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160 h 188640"/>
              <a:gd name="textAreaBottom" fmla="*/ 168480 h 18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 rot="10800000">
            <a:off x="4017600" y="3277800"/>
            <a:ext cx="4010040" cy="1104840"/>
          </a:xfrm>
          <a:prstGeom prst="upArrowCallout">
            <a:avLst>
              <a:gd name="adj1" fmla="val 83016"/>
              <a:gd name="adj2" fmla="val 41504"/>
              <a:gd name="adj3" fmla="val 17995"/>
              <a:gd name="adj4" fmla="val 3609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 rot="10800000">
            <a:off x="4017600" y="3072960"/>
            <a:ext cx="4010040" cy="190440"/>
          </a:xfrm>
          <a:custGeom>
            <a:avLst/>
            <a:gdLst>
              <a:gd name="textAreaLeft" fmla="*/ 433440 w 4010040"/>
              <a:gd name="textAreaRight" fmla="*/ 3576600 w 4010040"/>
              <a:gd name="textAreaTop" fmla="*/ 20520 h 190440"/>
              <a:gd name="textAreaBottom" fmla="*/ 16992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18039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AutoShape 8"/>
          <p:cNvCxnSpPr/>
          <p:nvPr/>
        </p:nvCxnSpPr>
        <p:spPr>
          <a:xfrm flipH="1" flipV="1" rot="5400000">
            <a:off x="2894400" y="1599120"/>
            <a:ext cx="4262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7" name="AutoShape 9"/>
          <p:cNvCxnSpPr/>
          <p:nvPr/>
        </p:nvCxnSpPr>
        <p:spPr>
          <a:xfrm flipH="1" rot="16200000">
            <a:off x="2734560" y="3821760"/>
            <a:ext cx="746640" cy="1824480"/>
          </a:xfrm>
          <a:prstGeom prst="bentConnector2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198" name="AutoShape 10"/>
          <p:cNvCxnSpPr>
            <a:endCxn id="194" idx="0"/>
          </p:cNvCxnSpPr>
          <p:nvPr/>
        </p:nvCxnSpPr>
        <p:spPr>
          <a:xfrm>
            <a:off x="3268440" y="3725640"/>
            <a:ext cx="749880" cy="5400"/>
          </a:xfrm>
          <a:prstGeom prst="straightConnector1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</p:cxnSp>
      <p:grpSp>
        <p:nvGrpSpPr>
          <p:cNvPr id="199" name="Group 12"/>
          <p:cNvGrpSpPr/>
          <p:nvPr/>
        </p:nvGrpSpPr>
        <p:grpSpPr>
          <a:xfrm>
            <a:off x="1260360" y="2637000"/>
            <a:ext cx="2012400" cy="1965960"/>
            <a:chOff x="1260360" y="2637000"/>
            <a:chExt cx="2012400" cy="1965960"/>
          </a:xfrm>
        </p:grpSpPr>
        <p:grpSp>
          <p:nvGrpSpPr>
            <p:cNvPr id="200" name="Group 13"/>
            <p:cNvGrpSpPr/>
            <p:nvPr/>
          </p:nvGrpSpPr>
          <p:grpSpPr>
            <a:xfrm>
              <a:off x="1260360" y="2637000"/>
              <a:ext cx="2012400" cy="1965960"/>
              <a:chOff x="1260360" y="2637000"/>
              <a:chExt cx="2012400" cy="1965960"/>
            </a:xfrm>
          </p:grpSpPr>
          <p:pic>
            <p:nvPicPr>
              <p:cNvPr id="201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60360" y="2637000"/>
                <a:ext cx="2012400" cy="195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Oval 14"/>
              <p:cNvSpPr/>
              <p:nvPr/>
            </p:nvSpPr>
            <p:spPr>
              <a:xfrm>
                <a:off x="1260360" y="2637000"/>
                <a:ext cx="1999080" cy="1965960"/>
              </a:xfrm>
              <a:prstGeom prst="ellipse">
                <a:avLst/>
              </a:prstGeom>
              <a:gradFill rotWithShape="0">
                <a:gsLst>
                  <a:gs pos="0">
                    <a:srgbClr val="a50021"/>
                  </a:gs>
                  <a:gs pos="100000">
                    <a:srgbClr val="ff0000"/>
                  </a:gs>
                </a:gsLst>
                <a:lin ang="54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15" descr="Picture2"/>
            <p:cNvPicPr/>
            <p:nvPr/>
          </p:nvPicPr>
          <p:blipFill>
            <a:blip r:embed="rId2"/>
            <a:stretch/>
          </p:blipFill>
          <p:spPr>
            <a:xfrm>
              <a:off x="1461240" y="2656080"/>
              <a:ext cx="1589760" cy="69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WordArt 16"/>
          <p:cNvSpPr txBox="1"/>
          <p:nvPr/>
        </p:nvSpPr>
        <p:spPr>
          <a:xfrm>
            <a:off x="1665360" y="33670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205" name="WordArt 17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7177-B36C-4B73-9F60-0663D8641300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708120" y="2001960"/>
            <a:ext cx="250488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"/>
          <p:cNvSpPr/>
          <p:nvPr/>
        </p:nvSpPr>
        <p:spPr>
          <a:xfrm>
            <a:off x="708120" y="5381640"/>
            <a:ext cx="2504880" cy="222120"/>
          </a:xfrm>
          <a:custGeom>
            <a:avLst/>
            <a:gdLst>
              <a:gd name="textAreaLeft" fmla="*/ 270720 w 2504880"/>
              <a:gd name="textAreaRight" fmla="*/ 2234160 w 250488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6680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"/>
          <p:cNvSpPr txBox="1"/>
          <p:nvPr/>
        </p:nvSpPr>
        <p:spPr>
          <a:xfrm>
            <a:off x="890640" y="2235240"/>
            <a:ext cx="216036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76680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6836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32568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332568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38472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50820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3086280" y="289872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338472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086280" y="3913200"/>
            <a:ext cx="2981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5937120" y="2001960"/>
            <a:ext cx="2505240" cy="3370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5937120" y="5381640"/>
            <a:ext cx="2505240" cy="222120"/>
          </a:xfrm>
          <a:custGeom>
            <a:avLst/>
            <a:gdLst>
              <a:gd name="textAreaLeft" fmla="*/ 270720 w 2505240"/>
              <a:gd name="textAreaRight" fmla="*/ 2234520 w 2505240"/>
              <a:gd name="textAreaTop" fmla="*/ 23760 h 222120"/>
              <a:gd name="textAreaBottom" fmla="*/ 19836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996160" y="2090880"/>
            <a:ext cx="2376360" cy="56196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6119640" y="2235240"/>
            <a:ext cx="21607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1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697360" y="289872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5996160" y="2665440"/>
            <a:ext cx="2376360" cy="287280"/>
          </a:xfrm>
          <a:custGeom>
            <a:avLst/>
            <a:gdLst>
              <a:gd name="textAreaLeft" fmla="*/ 256680 w 2376360"/>
              <a:gd name="textAreaRight" fmla="*/ 2119680 w 2376360"/>
              <a:gd name="textAreaTop" fmla="*/ 30960 h 287280"/>
              <a:gd name="textAreaBottom" fmla="*/ 2563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5697360" y="3913200"/>
            <a:ext cx="29815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单击此处添加段落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WordArt 23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69F2-BA51-45D3-8AE9-AF464629596A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4356000" y="1700280"/>
            <a:ext cx="2448000" cy="24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4356000" y="3787920"/>
            <a:ext cx="2448000" cy="2447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2124000" y="3787920"/>
            <a:ext cx="2448000" cy="2447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2050920" y="1700280"/>
            <a:ext cx="2448000" cy="244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684600" y="3139920"/>
            <a:ext cx="1647720" cy="164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71636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51160" y="48736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98880" y="48560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388188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4635720" y="341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3910320" y="412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635720" y="4118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66920" y="27795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华文细黑"/>
              </a:rPr>
              <a:t>点此添加内容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WordArt 15" descr=""/>
          <p:cNvPicPr/>
          <p:nvPr/>
        </p:nvPicPr>
        <p:blipFill>
          <a:blip r:embed="rId1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5801-083F-448B-BC42-B5A16D73CA16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2949480" y="1916280"/>
            <a:ext cx="4838760" cy="3528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381"/>
          <p:cNvPicPr/>
          <p:nvPr/>
        </p:nvPicPr>
        <p:blipFill>
          <a:blip r:embed="rId2"/>
          <a:stretch/>
        </p:blipFill>
        <p:spPr>
          <a:xfrm>
            <a:off x="1731960" y="1996920"/>
            <a:ext cx="110484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 rot="10800000">
            <a:off x="2916000" y="5516640"/>
            <a:ext cx="4824360" cy="318960"/>
          </a:xfrm>
          <a:custGeom>
            <a:avLst/>
            <a:gdLst>
              <a:gd name="textAreaLeft" fmla="*/ 401760 w 4824360"/>
              <a:gd name="textAreaRight" fmla="*/ 4422600 w 4824360"/>
              <a:gd name="textAreaTop" fmla="*/ 26280 h 318960"/>
              <a:gd name="textAreaBottom" fmla="*/ 292680 h 3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cc33">
                  <a:alpha val="0"/>
                </a:srgbClr>
              </a:gs>
              <a:gs pos="100000">
                <a:srgbClr val="006600">
                  <a:alpha val="18039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WordArt 5" descr=""/>
          <p:cNvPicPr/>
          <p:nvPr/>
        </p:nvPicPr>
        <p:blipFill>
          <a:blip r:embed="rId3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55BA-6014-4376-AE5E-29E1601CCC1F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7254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"/>
          <p:cNvSpPr/>
          <p:nvPr/>
        </p:nvSpPr>
        <p:spPr>
          <a:xfrm>
            <a:off x="4846680" y="501336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4559400" y="2030400"/>
            <a:ext cx="3103560" cy="3102120"/>
            <a:chOff x="4559400" y="2030400"/>
            <a:chExt cx="3103560" cy="3102120"/>
          </a:xfrm>
        </p:grpSpPr>
        <p:pic>
          <p:nvPicPr>
            <p:cNvPr id="253" name="Oval 4" descr=""/>
            <p:cNvPicPr/>
            <p:nvPr/>
          </p:nvPicPr>
          <p:blipFill>
            <a:blip r:embed="rId1"/>
            <a:stretch/>
          </p:blipFill>
          <p:spPr>
            <a:xfrm>
              <a:off x="4559400" y="2030400"/>
              <a:ext cx="31035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7"/>
            <p:cNvSpPr/>
            <p:nvPr/>
          </p:nvSpPr>
          <p:spPr>
            <a:xfrm rot="3600000">
              <a:off x="5019480" y="2491920"/>
              <a:ext cx="217944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992840" y="2425680"/>
            <a:ext cx="2303280" cy="2311560"/>
            <a:chOff x="4992840" y="2425680"/>
            <a:chExt cx="2303280" cy="2311560"/>
          </a:xfrm>
        </p:grpSpPr>
        <p:pic>
          <p:nvPicPr>
            <p:cNvPr id="256" name="Oval 5" descr=""/>
            <p:cNvPicPr/>
            <p:nvPr/>
          </p:nvPicPr>
          <p:blipFill>
            <a:blip r:embed="rId2"/>
            <a:stretch/>
          </p:blipFill>
          <p:spPr>
            <a:xfrm>
              <a:off x="4992840" y="2425680"/>
              <a:ext cx="23032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10"/>
            <p:cNvSpPr/>
            <p:nvPr/>
          </p:nvSpPr>
          <p:spPr>
            <a:xfrm rot="3600000">
              <a:off x="533664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463760" y="2030400"/>
            <a:ext cx="3101760" cy="3102120"/>
            <a:chOff x="1463760" y="2030400"/>
            <a:chExt cx="3101760" cy="3102120"/>
          </a:xfrm>
        </p:grpSpPr>
        <p:pic>
          <p:nvPicPr>
            <p:cNvPr id="259" name="Oval 6" descr=""/>
            <p:cNvPicPr/>
            <p:nvPr/>
          </p:nvPicPr>
          <p:blipFill>
            <a:blip r:embed="rId3"/>
            <a:stretch/>
          </p:blipFill>
          <p:spPr>
            <a:xfrm>
              <a:off x="1463760" y="2030400"/>
              <a:ext cx="3101760" cy="31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13"/>
            <p:cNvSpPr/>
            <p:nvPr/>
          </p:nvSpPr>
          <p:spPr>
            <a:xfrm rot="3600000">
              <a:off x="1923120" y="2492640"/>
              <a:ext cx="217944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1895400" y="2425680"/>
            <a:ext cx="2305080" cy="2311560"/>
            <a:chOff x="1895400" y="2425680"/>
            <a:chExt cx="2305080" cy="2311560"/>
          </a:xfrm>
        </p:grpSpPr>
        <p:pic>
          <p:nvPicPr>
            <p:cNvPr id="262" name="Oval 7" descr=""/>
            <p:cNvPicPr/>
            <p:nvPr/>
          </p:nvPicPr>
          <p:blipFill>
            <a:blip r:embed="rId4"/>
            <a:stretch/>
          </p:blipFill>
          <p:spPr>
            <a:xfrm>
              <a:off x="1895400" y="2425680"/>
              <a:ext cx="23050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6"/>
            <p:cNvSpPr/>
            <p:nvPr/>
          </p:nvSpPr>
          <p:spPr>
            <a:xfrm rot="3600000">
              <a:off x="2241360" y="2774880"/>
              <a:ext cx="161604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85880" y="2893680"/>
            <a:ext cx="1381320" cy="1378800"/>
            <a:chOff x="785880" y="2893680"/>
            <a:chExt cx="1381320" cy="1378800"/>
          </a:xfrm>
        </p:grpSpPr>
        <p:grpSp>
          <p:nvGrpSpPr>
            <p:cNvPr id="265" name="Group 18"/>
            <p:cNvGrpSpPr/>
            <p:nvPr/>
          </p:nvGrpSpPr>
          <p:grpSpPr>
            <a:xfrm>
              <a:off x="785880" y="2893680"/>
              <a:ext cx="1381320" cy="1378800"/>
              <a:chOff x="785880" y="2893680"/>
              <a:chExt cx="1381320" cy="1378800"/>
            </a:xfrm>
          </p:grpSpPr>
          <p:sp>
            <p:nvSpPr>
              <p:cNvPr id="266" name="Oval 10"/>
              <p:cNvSpPr/>
              <p:nvPr/>
            </p:nvSpPr>
            <p:spPr>
              <a:xfrm rot="649800">
                <a:off x="88596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1"/>
              <p:cNvSpPr/>
              <p:nvPr/>
            </p:nvSpPr>
            <p:spPr>
              <a:xfrm rot="649800">
                <a:off x="95220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未知"/>
            <p:cNvSpPr/>
            <p:nvPr/>
          </p:nvSpPr>
          <p:spPr>
            <a:xfrm rot="16200000">
              <a:off x="116316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 rot="5400000">
              <a:off x="131040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3645720" y="2657880"/>
            <a:ext cx="1852920" cy="1850760"/>
            <a:chOff x="3645720" y="2657880"/>
            <a:chExt cx="1852920" cy="1850760"/>
          </a:xfrm>
        </p:grpSpPr>
        <p:grpSp>
          <p:nvGrpSpPr>
            <p:cNvPr id="271" name="Group 24"/>
            <p:cNvGrpSpPr/>
            <p:nvPr/>
          </p:nvGrpSpPr>
          <p:grpSpPr>
            <a:xfrm>
              <a:off x="3645720" y="2657880"/>
              <a:ext cx="1852920" cy="1850760"/>
              <a:chOff x="3645720" y="2657880"/>
              <a:chExt cx="1852920" cy="1850760"/>
            </a:xfrm>
          </p:grpSpPr>
          <p:sp>
            <p:nvSpPr>
              <p:cNvPr id="272" name="Oval 16"/>
              <p:cNvSpPr/>
              <p:nvPr/>
            </p:nvSpPr>
            <p:spPr>
              <a:xfrm rot="649800">
                <a:off x="3780000" y="2792520"/>
                <a:ext cx="1584000" cy="158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7"/>
              <p:cNvSpPr/>
              <p:nvPr/>
            </p:nvSpPr>
            <p:spPr>
              <a:xfrm rot="649800">
                <a:off x="3868560" y="2878200"/>
                <a:ext cx="14054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未知"/>
            <p:cNvSpPr/>
            <p:nvPr/>
          </p:nvSpPr>
          <p:spPr>
            <a:xfrm rot="16200000">
              <a:off x="4151880" y="326340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 rot="5400000">
              <a:off x="4349520" y="2679480"/>
              <a:ext cx="603360" cy="12049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4920"/>
                <a:gd name="textAreaBottom" fmla="*/ 1205280 h 12049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9"/>
          <p:cNvGrpSpPr/>
          <p:nvPr/>
        </p:nvGrpSpPr>
        <p:grpSpPr>
          <a:xfrm>
            <a:off x="6977160" y="2893680"/>
            <a:ext cx="1381320" cy="1378800"/>
            <a:chOff x="6977160" y="2893680"/>
            <a:chExt cx="1381320" cy="1378800"/>
          </a:xfrm>
        </p:grpSpPr>
        <p:grpSp>
          <p:nvGrpSpPr>
            <p:cNvPr id="277" name="Group 30"/>
            <p:cNvGrpSpPr/>
            <p:nvPr/>
          </p:nvGrpSpPr>
          <p:grpSpPr>
            <a:xfrm>
              <a:off x="6977160" y="2893680"/>
              <a:ext cx="1381320" cy="1378800"/>
              <a:chOff x="6977160" y="2893680"/>
              <a:chExt cx="1381320" cy="1378800"/>
            </a:xfrm>
          </p:grpSpPr>
          <p:sp>
            <p:nvSpPr>
              <p:cNvPr id="278" name="Oval 22"/>
              <p:cNvSpPr/>
              <p:nvPr/>
            </p:nvSpPr>
            <p:spPr>
              <a:xfrm rot="649800">
                <a:off x="7077240" y="2994120"/>
                <a:ext cx="1180800" cy="117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08080">
                      <a:alpha val="90196"/>
                    </a:srgbClr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3"/>
              <p:cNvSpPr/>
              <p:nvPr/>
            </p:nvSpPr>
            <p:spPr>
              <a:xfrm rot="649800">
                <a:off x="7143480" y="3057840"/>
                <a:ext cx="1047600" cy="1049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a50021">
                      <a:alpha val="90196"/>
                    </a:srgbClr>
                  </a:gs>
                </a:gsLst>
                <a:lin ang="189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 rot="16200000">
              <a:off x="7354440" y="334440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 rot="5400000">
              <a:off x="7501680" y="2909880"/>
              <a:ext cx="449640" cy="8982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26"/>
          <p:cNvSpPr/>
          <p:nvPr/>
        </p:nvSpPr>
        <p:spPr>
          <a:xfrm>
            <a:off x="53722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9097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398628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70819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181296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1812960" y="3716280"/>
            <a:ext cx="2201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5070600" y="3141720"/>
            <a:ext cx="22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5070600" y="3726000"/>
            <a:ext cx="220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细黑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34"/>
          <p:cNvSpPr txBox="1"/>
          <p:nvPr/>
        </p:nvSpPr>
        <p:spPr>
          <a:xfrm>
            <a:off x="25560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1" name="WordArt 35"/>
          <p:cNvSpPr txBox="1"/>
          <p:nvPr/>
        </p:nvSpPr>
        <p:spPr>
          <a:xfrm rot="10800000">
            <a:off x="25560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2" name="WordArt 36"/>
          <p:cNvSpPr txBox="1"/>
          <p:nvPr/>
        </p:nvSpPr>
        <p:spPr>
          <a:xfrm>
            <a:off x="5673600" y="2276640"/>
            <a:ext cx="914400" cy="16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3" name="WordArt 37"/>
          <p:cNvSpPr txBox="1"/>
          <p:nvPr/>
        </p:nvSpPr>
        <p:spPr>
          <a:xfrm rot="10800000">
            <a:off x="5673600" y="4724280"/>
            <a:ext cx="914400" cy="1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华文细黑"/>
              </a:rPr>
              <a:t>此处添加内容</a:t>
            </a:r>
            <a:endParaRPr b="1" i="1" lang="en-US" sz="1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华文细黑"/>
              <a:ea typeface="华文细黑"/>
            </a:endParaRPr>
          </a:p>
        </p:txBody>
      </p:sp>
      <p:sp>
        <p:nvSpPr>
          <p:cNvPr id="294" name="Line 38"/>
          <p:cNvSpPr/>
          <p:nvPr/>
        </p:nvSpPr>
        <p:spPr>
          <a:xfrm>
            <a:off x="2049480" y="3583080"/>
            <a:ext cx="1712880" cy="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9" descr="6"/>
          <p:cNvPicPr/>
          <p:nvPr/>
        </p:nvPicPr>
        <p:blipFill>
          <a:blip r:embed="rId5"/>
          <a:stretch/>
        </p:blipFill>
        <p:spPr>
          <a:xfrm>
            <a:off x="8028000" y="285264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0" descr="图片1"/>
          <p:cNvPicPr/>
          <p:nvPr/>
        </p:nvPicPr>
        <p:blipFill>
          <a:blip r:embed="rId6"/>
          <a:srcRect l="0" t="0" r="0" b="44387"/>
          <a:stretch/>
        </p:blipFill>
        <p:spPr>
          <a:xfrm>
            <a:off x="4500720" y="4221000"/>
            <a:ext cx="981000" cy="251640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41" descr=""/>
          <p:cNvPicPr/>
          <p:nvPr/>
        </p:nvPicPr>
        <p:blipFill>
          <a:blip r:embed="rId7"/>
          <a:stretch/>
        </p:blipFill>
        <p:spPr>
          <a:xfrm>
            <a:off x="3340080" y="396720"/>
            <a:ext cx="26892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cp:lastPrinted>1899-12-30T00:00:00Z</cp:lastPrinted>
  <dcterms:modified xsi:type="dcterms:W3CDTF">2016-08-22T03:12:02Z</dcterms:modified>
  <cp:revision>2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