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84F-4C15-494F-B507-13D3C8A6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6CC-1027-4834-90B9-7A2FE3CD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740-B18A-472E-94D2-E574CBFE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7887-C514-47AA-AE6F-3E735AF3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AF8-FCB5-429A-9533-1760EB25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5D6-63CF-4A53-8D35-AD055EF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EFD-BDB6-4C25-9B88-4C8FA7E6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744-4B00-46DD-AF6B-8DCFB71C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34A-C3E8-4861-8523-420E04C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AD6-147B-4E7F-83A2-2D99A1A5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251-A92A-4333-9350-30E3C3EC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534-2A09-4CA8-A2B7-CACDC5B4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6382-323F-47B0-A4DE-B67F690E98C9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8F8C-851C-431B-A7F0-628FAD76A6F1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b013129"/>
          <p:cNvPicPr/>
          <p:nvPr/>
        </p:nvPicPr>
        <p:blipFill>
          <a:blip r:embed="rId1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8555-DC15-4561-995F-6874FB887F6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B882-FD61-4181-A350-9014929DC20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0D56-D42F-4CFA-B986-933ACCA57749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399-56DC-4927-B407-4CE6F3610F8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9A62-F870-4FC5-963D-F4807D4E203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7D13-8DE9-43CF-BB54-B37E26304EB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0801-2C04-40D4-96EC-BB3952E3E9F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754E-55E0-4869-9D73-E33648CE023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78EB-9E7B-4F1B-88C0-BA83DA5DF38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800C-4085-40E0-9691-FD9E2CA5C14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1AC-0EA8-478C-97D0-78B2BB1ABBE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034E-C844-4E30-8174-B136D566E4B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B575-6CCC-479B-93BA-D56DCFEB980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243F-F6C7-4BC8-A257-1E5E0DF0357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35D7-7F6D-4131-AB1A-3D3C8A08D9C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3D45-B912-4B98-990F-8525163A05C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BBC2-7031-4AB7-B7C6-0DBEA47599E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044C-1E49-4B12-B81B-9F7B702413FC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CF0A-4D4D-4862-AF6C-574B419B163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085D-8706-49F3-8018-BC64D8CE1733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0383-E73F-4B55-B555-67014D2894A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EA0B-1B72-4324-AB94-3D766F9164C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3EE6-BD75-42B9-A419-D42666D0198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C483-AD23-4AFF-B2D5-7EDA1B83A7F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53A6-B858-415B-B2D3-F6380654966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4E2E-FB92-4319-9510-A4B368B896A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2:02Z</dcterms:modified>
  <cp:revision>2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