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837B-1F87-4527-854F-E04AE29732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BC4D-336E-407C-A6E5-AD056FD063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E95-A064-4FA9-B0FC-5BB5D8DD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D1C-2961-4BF4-976B-493000C6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564-7CAA-4ED3-BD49-FB351F63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FBA-75A9-401C-9BC0-43F9D92E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3EE-4427-4423-A463-E0FA25DB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E64-86EE-4D48-A80F-FE34F49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F23-5B17-44A1-A2DC-E7B4A6C1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FCB-3514-450F-A4AE-B5EF4609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0ED-7CE7-4F3D-8752-C6FC31C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7DD-4399-4865-8685-B3F2379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BF8-4F3E-4FB0-AD5D-7B08CAA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6B6-6162-488B-8CB0-CAAFDC4E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CAAE-4699-4B4C-B795-9D6E7B6C80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Microsoft</cp:lastModifiedBy>
  <dcterms:modified xsi:type="dcterms:W3CDTF">2016-04-20T05:10:30Z</dcterms:modified>
  <cp:revision>76</cp:revision>
  <dc:subject/>
  <dc:title>幻灯片 1</dc:title>
</cp:coreProperties>
</file>