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65734-1037-46F6-886C-E0246F13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A8DE-A347-4C83-B0DF-04B22249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A1283-C014-4CBF-97CF-5CD01157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EE46D-6B91-4C24-A92F-606E0D7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F8FCF-1E91-46D8-9D33-3ED8137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14CAB-2120-437A-9669-CD7AE04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3BB2B-93B3-427C-9E73-14ACD23D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D2C70-1890-43FA-BA8D-1999CEE9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3EC9A-BE0D-48CD-A38F-D5D33291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D0E9E-D999-4E14-A1D3-6F263884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976C5-8A5F-46C1-89DA-6E5488BC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F1AAA-B00B-4FA1-A841-4122F805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79B61-AD83-482A-B6A9-3B63C343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A92F2-3F09-4E13-A1EC-1F909510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BED50-1151-469C-9B9D-FEB59B51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54735-92FB-4AF2-B530-C6C6C2A0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AF89A-C998-40CE-91BB-236A6A1C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1E910-75C9-4C44-A8C8-0890E7B4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1BAC4-4CA2-4005-B1DB-467767E6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20481-3699-4768-88BE-B5281D66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1B1E5-3EF7-4E59-AB61-01ACC6AF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5C228-810F-4599-9948-D7EC7EEF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1B1FD-BA49-4F45-A875-1FBFD15C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66165-A2A1-4160-9ACE-D79698F3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4407C-2A1E-4703-AA0C-C508B98E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8CEF0-8AED-4A83-8877-BA39AA7D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2C577-CAB6-47A0-9771-41EC0D9A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EF361-C7E5-49C5-819C-4DB5F02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0A793-5E79-4AA8-921C-FE9CC359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949A0-8B0B-4A35-90FB-08C99EB4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844-8D80-40A6-9894-FBC4142A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32899-F65A-4E74-A694-1C605F71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2679A-3829-4FD9-9C76-1E193AC5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90CCB-9BF4-48E6-9CFF-10BF0B7F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DB989-99BE-4755-BE74-02C58462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C1123-65A9-4A75-A1F0-596361B2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FAB00-9B02-4BBD-B1B1-05B6B5EF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A966D-57F7-41E9-B5F8-2D88AA7A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8798F-D2A6-4D17-B046-F970AE85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E7C56-AC05-4618-BEB6-54345B6A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1341D-C0CA-4208-A690-E64C76AA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FF6-994B-4E95-B7BC-8CDA4D69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F8746-6D24-4B8D-916F-90C024D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26462-82EA-4C2D-AC02-EDE75299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476E1-BB18-43F1-BBEF-F1CE3994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2530D-8023-42CE-BA04-912999D4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4D74F-2B74-4058-A779-C5AA562A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DCB-42EE-4380-A701-2AA6A9D1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A10-5D81-435E-9C30-1DCDC7C4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ABB-99A6-4BC5-9709-EB53DE96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888-E3AF-4DAA-A5E0-47F6BFA3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756-0970-44A3-B767-A74242E8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FD4-7DFA-47F0-820E-737CA38E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1FC-3106-435F-9681-DB89584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448-CA4A-4A95-8A2A-C20CF3CE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799-5A34-44F0-90B4-79762F25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1FB-3E23-4AFF-9703-3E6C6054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6992-F271-417A-B9ED-A5109916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9CAD-17F6-4335-8AC9-AB0AA861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49F4-29BB-4FB6-9C4A-E70C2417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9B3E-B04A-4394-89D7-F3C88F6E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4899-F11A-4B8E-99C6-96CA0446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78A6-0C93-46DD-BB2B-903AD934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AFB3-637A-4DA4-83BA-269B9351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3A61-10DE-47A8-B193-27FD3EDE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4B2E-72F4-4AA7-A67C-007E3C94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5BC9-2E19-4487-9A22-FF024182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6D7C-3943-43AE-B376-7A10E81D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0A76-9A8F-43CE-886F-97C3CCB2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928F-E1D2-4AEF-AAE6-B5D3A050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4C04-65C3-4327-BC0A-CD6118F1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4BB2-2165-4010-88A2-E234531F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B7EC-B3D8-4BFC-9EB2-F48F50D6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91E0-BB22-45BF-A15D-7F296F40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2C4D-2C85-42FE-9C52-AD973A0F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0144-F9D0-4F33-9E1F-FCE627E8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9239-3826-478D-ABD7-A666C938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36A7-53F1-4EDC-A4B0-2A0F5FDD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C44E-8F60-479F-A5E7-BF6261D9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BF56-1D40-4769-B176-F1D3D790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0462-6727-4DB2-A64F-06C65B7E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FF2F-D819-4FE9-BEE6-94CED32E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06FE-1838-444A-9AE1-1C9756EE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F859-80E3-4CD7-BB71-6DEA63C1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9E101-021A-4A65-B760-FE5AEB3E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9174-1D49-49E4-A7C5-70D46A20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90AF-C361-4E36-976E-B3C381D5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FA95-4387-47B1-ADB0-B1174C9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43102-533E-4AB0-86F8-81AC8EA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FF526-5B9B-4CFE-9117-CAB8D035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FE96-5F4D-4F12-A311-53CD8271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6A302-81D1-4F5F-AB22-7EB66653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6A67-3DFF-40E6-9BC6-FB731EF1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CCE4-3B48-4791-A551-7DE13718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0958D-89C0-4A5E-902A-C3793B6C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07033-1157-45E0-98B5-BCAF6DFE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2C632-E91E-41BC-9BC1-826E46EF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7C0BE-FCB4-4922-A7FC-57B3F75F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7B17C-80EB-48CD-9A33-508326D3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D2E94-EA2E-48B5-967B-060318F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890E1-3D10-4D00-B697-27ACAF9D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3650-0D63-4C9B-B114-AED69439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D5E96-8528-4C61-B47A-5AD94B3C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D1CE8-593F-4B49-B687-A10938FD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CDD6-2147-4876-857B-BC010D7F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50C92-F482-4FC3-A411-BADC8D35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B08C9-0A67-482F-B899-3969BD7C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C32B-B664-4BE5-85C0-30EC2D4C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1D049-8A38-4883-9001-7548D52E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5C8DD-8CC2-4D37-870C-3F078E57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EC993-61CA-40CC-BC55-026315B7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B582D-5F38-45BD-9E79-6A4AE717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CE300-D5A4-4C41-9D9E-0C50572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80D84-2DE0-4534-9849-6391BAB8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0B827-1B0A-4FA0-8FD8-A22076AA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3CCE1-21EB-4987-8861-3805E72A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32F6A-2936-4513-9296-3F5C0D42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7B6BF-48BB-41FB-9B70-2E293FBC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5D6A3-4CC0-48A4-9A5F-91943816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66F7E-0458-4F14-A4DD-CA7758F7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82342-A0F1-44CB-A7A5-EAA6FEF7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4C136-90A9-4AB8-90A2-3CDA03CF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1B32D-85C7-4820-9394-E6DB08C5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AE91B-9E81-47C9-872C-E127A9F3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068F7-3537-4FF9-A278-AD3797BB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F5AB2-FFFC-474C-A5AE-8937D74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C746-8400-4B90-A1F8-1784980C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B8F79-C0BA-428C-A299-A95DC7E1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80A94-CC0F-4E5C-8273-71EE2B41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D2229-7E1F-49FC-9713-2E238137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14EFF-2953-46FF-B408-2CF875F6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1A38-A0A1-4E50-91AA-959FCB26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16F-6441-47AA-B9E0-A13AC15AB31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F477-F8AE-44AE-8F71-D02F60A194E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2E32-9426-4D70-920A-43ABC142FA2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5E65-2B82-4D03-8095-1BCA399BBB6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4236-5F6B-4C36-BBCB-0532814BA16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819D-2659-4E56-BA93-ABF8F589100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F35B-D3AD-4E14-856C-075747C3A49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0CDA-1E64-4884-B18E-EEE0F1CACF5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123A-DBFD-457E-90DD-F011EB9DACD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C272-28E9-4476-87D5-259D0CB5BC5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F6D5-1ECB-4B88-A8C8-361ADC1773C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theoatmeal.com/comics" TargetMode="External"/><Relationship Id="rId3" Type="http://schemas.openxmlformats.org/officeDocument/2006/relationships/hyperlink" Target="http://www.reddit.com/r/pics/comments/b0jqz/the_10_types_of_crappy_interviewees_the_oatmeal/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7605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779480" y="1081080"/>
            <a:ext cx="5585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rcRect l="4308" t="5275" r="0" b="0"/>
          <a:stretch/>
        </p:blipFill>
        <p:spPr>
          <a:xfrm>
            <a:off x="2270160" y="1138320"/>
            <a:ext cx="46036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2295360" y="2328840"/>
            <a:ext cx="4553280" cy="981000"/>
          </a:xfrm>
          <a:prstGeom prst="rect">
            <a:avLst/>
          </a:prstGeom>
          <a:ln w="0">
            <a:noFill/>
          </a:ln>
        </p:spPr>
      </p:pic>
      <p:sp>
        <p:nvSpPr>
          <p:cNvPr id="623" name="TextBox 3"/>
          <p:cNvSpPr/>
          <p:nvPr/>
        </p:nvSpPr>
        <p:spPr>
          <a:xfrm>
            <a:off x="2969640" y="160020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e3f"/>
                </a:solidFill>
                <a:latin typeface="Georgia"/>
              </a:rPr>
              <a:t>Share this com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3434760" y="38862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e3f"/>
                </a:solidFill>
                <a:latin typeface="Georgia"/>
              </a:rPr>
              <a:t>find more comics @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3017160" y="4129200"/>
            <a:ext cx="302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6600"/>
                </a:solidFill>
                <a:uFillTx/>
                <a:latin typeface="Georgia"/>
                <a:hlinkClick r:id="rId2"/>
              </a:rPr>
              <a:t>theoatmeal.com/c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2429640" y="29052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red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"/>
          <p:cNvSpPr/>
          <p:nvPr/>
        </p:nvSpPr>
        <p:spPr>
          <a:xfrm>
            <a:off x="3272400" y="29052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Stu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4213800" y="28972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9"/>
          <p:cNvSpPr/>
          <p:nvPr/>
        </p:nvSpPr>
        <p:spPr>
          <a:xfrm>
            <a:off x="5183640" y="28843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alibri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6024240" y="29034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ww.51pptmoban.com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2119320" y="1152360"/>
            <a:ext cx="4905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"/>
          <p:cNvPicPr/>
          <p:nvPr/>
        </p:nvPicPr>
        <p:blipFill>
          <a:blip r:embed="rId1"/>
          <a:srcRect l="0" t="0" r="0" b="4741"/>
          <a:stretch/>
        </p:blipFill>
        <p:spPr>
          <a:xfrm>
            <a:off x="1967040" y="1257480"/>
            <a:ext cx="5209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828800" y="1081080"/>
            <a:ext cx="54864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rcRect l="4259" t="0" r="0" b="0"/>
          <a:stretch/>
        </p:blipFill>
        <p:spPr>
          <a:xfrm>
            <a:off x="1789200" y="1077840"/>
            <a:ext cx="5486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5720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785960" y="1076400"/>
            <a:ext cx="5572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rcRect l="0" t="4936" r="0" b="0"/>
          <a:stretch/>
        </p:blipFill>
        <p:spPr>
          <a:xfrm>
            <a:off x="2008080" y="1143000"/>
            <a:ext cx="51292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rcRect l="0" t="3593" r="0" b="0"/>
          <a:stretch/>
        </p:blipFill>
        <p:spPr>
          <a:xfrm>
            <a:off x="1447920" y="1066680"/>
            <a:ext cx="6165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2:04:40Z</dcterms:created>
  <dc:creator>Cameron Scott</dc:creator>
  <dc:description/>
  <dc:language>en-US</dc:language>
  <cp:lastModifiedBy>YANGS2015</cp:lastModifiedBy>
  <dcterms:modified xsi:type="dcterms:W3CDTF">2015-03-05T12:45:2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93A4EAA9143924D9E7AE997567DACBC</vt:lpwstr>
  </property>
</Properties>
</file>