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DA1C-F5EE-4FF9-92BC-0C1A2C93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705E-D54A-42BA-93C6-27B4F992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E647-EF0F-4A3E-9996-2BD205A3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6FD0-11E1-421F-8EF5-BB7C6130F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1807-467F-4EDB-8131-B14953AB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28A5-A029-48F5-867E-014CD77D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53AF-CD5C-44AF-BA60-AD955062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36D5-2C4E-4885-BEA5-5837091B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A354-1403-486E-B8D0-9AA96D7D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9444-8890-4E06-98E8-BBACB04D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7113-D61F-46E5-BB6A-4B7E09EE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67B7-4880-4FC0-8F73-0C1321AD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FD7A-1075-424B-8BC0-1F6F17D113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928800" y="4773600"/>
            <a:ext cx="106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m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4071960" y="4773600"/>
            <a:ext cx="13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owerf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7286760" y="4773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7" descr="C:\Documents and Settings\meihu\桌面\新建文件夹 (2)\ppt\015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目录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C:\Documents and Settings\meihu\桌面\新建文件夹 (2)\ppt\016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:\Documents and Settings\meihu\桌面\新建文件夹 (2)\ppt\017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C:\Documents and Settings\meihu\桌面\新建文件夹 (2)\ppt\018.jpg"/>
          <p:cNvPicPr/>
          <p:nvPr/>
        </p:nvPicPr>
        <p:blipFill>
          <a:blip r:embed="rId1"/>
          <a:stretch/>
        </p:blipFill>
        <p:spPr>
          <a:xfrm>
            <a:off x="15840" y="-7920"/>
            <a:ext cx="121921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C:\Documents and Settings\meihu\桌面\新建文件夹 (2)\ppt\019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meihu\桌面\新建文件夹 (2)\ppt\020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SUNNY-PC</cp:lastModifiedBy>
  <dcterms:modified xsi:type="dcterms:W3CDTF">2014-07-19T07:26:10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