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9BA-3AD1-4AC0-90DA-416C899C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EB2-245D-421C-93EF-B578D62C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8C9-966E-42FB-9AC9-3E961C4E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8C7-D495-4E01-A737-8BA1CEDF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052-5022-4D09-AE67-28615039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93B-9585-4298-816E-DBEB4F36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D06-4A5C-47AF-9350-C74A236E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D65-469E-45FC-B591-1501ED3D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BE6-5712-40FE-A59A-66047FD3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884-1352-46FA-85BC-C0E6FBC6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C65-7E88-467A-931C-D2F2139D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F9D-10A9-4D18-A1C8-32CEA624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6508-EB61-4E8B-8196-E898A92401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2639880" y="21337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040"/>
                </a:solidFill>
                <a:latin typeface="华康俪金黑W8(P)"/>
                <a:ea typeface="华康俪金黑W8(P)"/>
              </a:rPr>
              <a:t>个 人 简 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 rot="2526600">
            <a:off x="10283400" y="312480"/>
            <a:ext cx="2424240" cy="552240"/>
          </a:xfrm>
          <a:custGeom>
            <a:avLst/>
            <a:gdLst/>
            <a:ahLst/>
            <a:rect l="l" t="t" r="r" b="b"/>
            <a:pathLst>
              <a:path w="2423543" h="551363">
                <a:moveTo>
                  <a:pt x="592397" y="21572"/>
                </a:moveTo>
                <a:lnTo>
                  <a:pt x="1924640" y="0"/>
                </a:lnTo>
                <a:lnTo>
                  <a:pt x="2423543" y="551363"/>
                </a:lnTo>
                <a:lnTo>
                  <a:pt x="0" y="549365"/>
                </a:lnTo>
                <a:lnTo>
                  <a:pt x="592397" y="2157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3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443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48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51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43"/>
          <p:cNvSpPr/>
          <p:nvPr/>
        </p:nvSpPr>
        <p:spPr>
          <a:xfrm>
            <a:off x="7032600" y="34304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2"/>
          <p:cNvGrpSpPr/>
          <p:nvPr/>
        </p:nvGrpSpPr>
        <p:grpSpPr>
          <a:xfrm>
            <a:off x="1343160" y="116640"/>
            <a:ext cx="10995120" cy="8272080"/>
            <a:chOff x="1343160" y="116640"/>
            <a:chExt cx="10995120" cy="8272080"/>
          </a:xfrm>
        </p:grpSpPr>
        <p:sp>
          <p:nvSpPr>
            <p:cNvPr id="481" name="TextBox 3"/>
            <p:cNvSpPr/>
            <p:nvPr/>
          </p:nvSpPr>
          <p:spPr>
            <a:xfrm rot="625800">
              <a:off x="7560000" y="426240"/>
              <a:ext cx="4119480" cy="7652880"/>
            </a:xfrm>
            <a:prstGeom prst="rect">
              <a:avLst/>
            </a:prstGeom>
            <a:noFill/>
            <a:ln w="0">
              <a:noFill/>
            </a:ln>
            <a:effectLst>
              <a:outerShdw dist="12708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600" spc="-1" strike="noStrike">
                  <a:solidFill>
                    <a:srgbClr val="404040"/>
                  </a:solidFill>
                  <a:latin typeface="Kartika"/>
                  <a:ea typeface="Kartika"/>
                </a:rPr>
                <a:t>?</a:t>
              </a:r>
              <a:endParaRPr b="0" lang="en-US" sz="4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文本框 1"/>
            <p:cNvSpPr/>
            <p:nvPr/>
          </p:nvSpPr>
          <p:spPr>
            <a:xfrm>
              <a:off x="1343160" y="1628640"/>
              <a:ext cx="489744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我 </a:t>
              </a: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为什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文本框 4"/>
            <p:cNvSpPr/>
            <p:nvPr/>
          </p:nvSpPr>
          <p:spPr>
            <a:xfrm>
              <a:off x="3108240" y="3645000"/>
              <a:ext cx="564372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寄出这份简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直角三角形 5"/>
          <p:cNvSpPr/>
          <p:nvPr/>
        </p:nvSpPr>
        <p:spPr>
          <a:xfrm rot="10800000">
            <a:off x="7032240" y="0"/>
            <a:ext cx="5170680" cy="2865600"/>
          </a:xfrm>
          <a:prstGeom prst="rtTriangle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D:\MyData\桌面\2312312.png"/>
          <p:cNvPicPr/>
          <p:nvPr/>
        </p:nvPicPr>
        <p:blipFill>
          <a:blip r:embed="rId1"/>
          <a:srcRect l="12337" t="39463" r="9570" b="22940"/>
          <a:stretch/>
        </p:blipFill>
        <p:spPr>
          <a:xfrm>
            <a:off x="8928000" y="-185760"/>
            <a:ext cx="3432240" cy="203040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5"/>
          <p:cNvSpPr/>
          <p:nvPr/>
        </p:nvSpPr>
        <p:spPr>
          <a:xfrm>
            <a:off x="2556000" y="1989000"/>
            <a:ext cx="609588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给出你的理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5"/>
          <p:cNvSpPr/>
          <p:nvPr/>
        </p:nvSpPr>
        <p:spPr>
          <a:xfrm>
            <a:off x="3984480" y="3889440"/>
            <a:ext cx="679140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how</a:t>
            </a:r>
            <a:r>
              <a:rPr b="0" lang="zh-CN" sz="88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出自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479520" y="-334800"/>
            <a:ext cx="3240000" cy="76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3"/>
          <p:cNvSpPr/>
          <p:nvPr/>
        </p:nvSpPr>
        <p:spPr>
          <a:xfrm>
            <a:off x="1487520" y="1197000"/>
            <a:ext cx="612144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如</a:t>
            </a:r>
            <a:r>
              <a:rPr b="0" lang="zh-CN" sz="80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"/>
          <p:cNvSpPr/>
          <p:nvPr/>
        </p:nvSpPr>
        <p:spPr>
          <a:xfrm>
            <a:off x="3432240" y="4005360"/>
            <a:ext cx="727236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愿意给我一个机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直接连接符 31" descr=""/>
          <p:cNvPicPr/>
          <p:nvPr/>
        </p:nvPicPr>
        <p:blipFill>
          <a:blip r:embed="rId1"/>
          <a:stretch/>
        </p:blipFill>
        <p:spPr>
          <a:xfrm>
            <a:off x="420840" y="4834080"/>
            <a:ext cx="11436120" cy="12852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" descr=""/>
          <p:cNvPicPr/>
          <p:nvPr/>
        </p:nvPicPr>
        <p:blipFill>
          <a:blip r:embed="rId2"/>
          <a:srcRect l="11642" t="23754" r="12669" b="27954"/>
          <a:stretch/>
        </p:blipFill>
        <p:spPr>
          <a:xfrm>
            <a:off x="5086440" y="1488960"/>
            <a:ext cx="1944720" cy="2205000"/>
          </a:xfrm>
          <a:prstGeom prst="rect">
            <a:avLst/>
          </a:prstGeom>
          <a:ln w="0">
            <a:noFill/>
          </a:ln>
        </p:spPr>
      </p:pic>
      <p:grpSp>
        <p:nvGrpSpPr>
          <p:cNvPr id="493" name="组合 2"/>
          <p:cNvGrpSpPr/>
          <p:nvPr/>
        </p:nvGrpSpPr>
        <p:grpSpPr>
          <a:xfrm>
            <a:off x="4287960" y="5594400"/>
            <a:ext cx="558720" cy="787320"/>
            <a:chOff x="4287960" y="5594400"/>
            <a:chExt cx="558720" cy="787320"/>
          </a:xfrm>
        </p:grpSpPr>
        <p:sp>
          <p:nvSpPr>
            <p:cNvPr id="494" name="圆角矩形 3"/>
            <p:cNvSpPr/>
            <p:nvPr/>
          </p:nvSpPr>
          <p:spPr>
            <a:xfrm>
              <a:off x="4287960" y="5594400"/>
              <a:ext cx="558720" cy="787320"/>
            </a:xfrm>
            <a:custGeom>
              <a:avLst/>
              <a:gdLst>
                <a:gd name="textAreaLeft" fmla="*/ 27000 w 558720"/>
                <a:gd name="textAreaRight" fmla="*/ 531720 w 558720"/>
                <a:gd name="textAreaTop" fmla="*/ 27000 h 787320"/>
                <a:gd name="textAreaBottom" fmla="*/ 760320 h 787320"/>
              </a:gdLst>
              <a:ahLst/>
              <a:rect l="textAreaLeft" t="textAreaTop" r="textAreaRight" b="textAreaBottom"/>
              <a:pathLst>
                <a:path w="21600" h="30432">
                  <a:moveTo>
                    <a:pt x="3600" y="0"/>
                  </a:moveTo>
                  <a:arcTo wR="3600" hR="3600" stAng="16200000" swAng="-5400000"/>
                  <a:lnTo>
                    <a:pt x="0" y="26832"/>
                  </a:lnTo>
                  <a:arcTo wR="3600" hR="3600" stAng="10800000" swAng="-5400000"/>
                  <a:lnTo>
                    <a:pt x="18000" y="30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>
              <a:off x="4352760" y="5676840"/>
              <a:ext cx="428760" cy="573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5"/>
            <p:cNvSpPr/>
            <p:nvPr/>
          </p:nvSpPr>
          <p:spPr>
            <a:xfrm>
              <a:off x="4491000" y="5635440"/>
              <a:ext cx="13176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6"/>
            <p:cNvSpPr/>
            <p:nvPr/>
          </p:nvSpPr>
          <p:spPr>
            <a:xfrm>
              <a:off x="4524480" y="6283440"/>
              <a:ext cx="64800" cy="64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7"/>
          <p:cNvGrpSpPr/>
          <p:nvPr/>
        </p:nvGrpSpPr>
        <p:grpSpPr>
          <a:xfrm>
            <a:off x="9911880" y="5672160"/>
            <a:ext cx="879840" cy="630360"/>
            <a:chOff x="9911880" y="5672160"/>
            <a:chExt cx="879840" cy="630360"/>
          </a:xfrm>
        </p:grpSpPr>
        <p:sp>
          <p:nvSpPr>
            <p:cNvPr id="499" name="矩形 8"/>
            <p:cNvSpPr/>
            <p:nvPr/>
          </p:nvSpPr>
          <p:spPr>
            <a:xfrm>
              <a:off x="9912240" y="5676840"/>
              <a:ext cx="879480" cy="625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直接连接符 9"/>
            <p:cNvSpPr/>
            <p:nvPr/>
          </p:nvSpPr>
          <p:spPr>
            <a:xfrm>
              <a:off x="9912240" y="5676840"/>
              <a:ext cx="436680" cy="393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10"/>
            <p:cNvSpPr/>
            <p:nvPr/>
          </p:nvSpPr>
          <p:spPr>
            <a:xfrm flipH="1">
              <a:off x="10337400" y="5672160"/>
              <a:ext cx="453960" cy="4050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 11"/>
            <p:cNvSpPr/>
            <p:nvPr/>
          </p:nvSpPr>
          <p:spPr>
            <a:xfrm flipH="1">
              <a:off x="9911880" y="5989680"/>
              <a:ext cx="352440" cy="312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12"/>
            <p:cNvSpPr/>
            <p:nvPr/>
          </p:nvSpPr>
          <p:spPr>
            <a:xfrm>
              <a:off x="10434600" y="5989680"/>
              <a:ext cx="357120" cy="308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9"/>
          <p:cNvGrpSpPr/>
          <p:nvPr/>
        </p:nvGrpSpPr>
        <p:grpSpPr>
          <a:xfrm>
            <a:off x="6991200" y="5599080"/>
            <a:ext cx="776520" cy="776160"/>
            <a:chOff x="6991200" y="5599080"/>
            <a:chExt cx="776520" cy="776160"/>
          </a:xfrm>
        </p:grpSpPr>
        <p:sp>
          <p:nvSpPr>
            <p:cNvPr id="505" name="圆角矩形 20"/>
            <p:cNvSpPr/>
            <p:nvPr/>
          </p:nvSpPr>
          <p:spPr>
            <a:xfrm>
              <a:off x="6991200" y="5599080"/>
              <a:ext cx="776520" cy="77616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组合 21"/>
            <p:cNvGrpSpPr/>
            <p:nvPr/>
          </p:nvGrpSpPr>
          <p:grpSpPr>
            <a:xfrm>
              <a:off x="7058520" y="5745960"/>
              <a:ext cx="641520" cy="464760"/>
              <a:chOff x="7058520" y="5745960"/>
              <a:chExt cx="641520" cy="464760"/>
            </a:xfrm>
          </p:grpSpPr>
          <p:grpSp>
            <p:nvGrpSpPr>
              <p:cNvPr id="507" name="组合 22"/>
              <p:cNvGrpSpPr/>
              <p:nvPr/>
            </p:nvGrpSpPr>
            <p:grpSpPr>
              <a:xfrm>
                <a:off x="7058520" y="5745960"/>
                <a:ext cx="525600" cy="405360"/>
                <a:chOff x="7058520" y="5745960"/>
                <a:chExt cx="525600" cy="405360"/>
              </a:xfrm>
            </p:grpSpPr>
            <p:sp>
              <p:nvSpPr>
                <p:cNvPr id="508" name="椭圆形标注 27"/>
                <p:cNvSpPr/>
                <p:nvPr/>
              </p:nvSpPr>
              <p:spPr>
                <a:xfrm>
                  <a:off x="7058520" y="5745960"/>
                  <a:ext cx="525600" cy="405360"/>
                </a:xfrm>
                <a:prstGeom prst="wedgeEllipseCallout">
                  <a:avLst>
                    <a:gd name="adj1" fmla="val -20833"/>
                    <a:gd name="adj2" fmla="val 625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28"/>
                <p:cNvSpPr/>
                <p:nvPr/>
              </p:nvSpPr>
              <p:spPr>
                <a:xfrm>
                  <a:off x="720180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29"/>
                <p:cNvSpPr/>
                <p:nvPr/>
              </p:nvSpPr>
              <p:spPr>
                <a:xfrm>
                  <a:off x="7405920" y="5866560"/>
                  <a:ext cx="460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组合 23"/>
              <p:cNvGrpSpPr/>
              <p:nvPr/>
            </p:nvGrpSpPr>
            <p:grpSpPr>
              <a:xfrm>
                <a:off x="7353720" y="5943600"/>
                <a:ext cx="346320" cy="267120"/>
                <a:chOff x="7353720" y="5943600"/>
                <a:chExt cx="346320" cy="267120"/>
              </a:xfrm>
            </p:grpSpPr>
            <p:sp>
              <p:nvSpPr>
                <p:cNvPr id="512" name="椭圆形标注 24"/>
                <p:cNvSpPr/>
                <p:nvPr/>
              </p:nvSpPr>
              <p:spPr>
                <a:xfrm>
                  <a:off x="7353720" y="5943600"/>
                  <a:ext cx="346320" cy="267120"/>
                </a:xfrm>
                <a:prstGeom prst="wedgeEllipseCallout">
                  <a:avLst>
                    <a:gd name="adj1" fmla="val 23990"/>
                    <a:gd name="adj2" fmla="val 56324"/>
                  </a:avLst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25"/>
                <p:cNvSpPr/>
                <p:nvPr/>
              </p:nvSpPr>
              <p:spPr>
                <a:xfrm>
                  <a:off x="74221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26"/>
                <p:cNvSpPr/>
                <p:nvPr/>
              </p:nvSpPr>
              <p:spPr>
                <a:xfrm>
                  <a:off x="7580520" y="6027840"/>
                  <a:ext cx="47880" cy="460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5" name="图片 41" descr=""/>
          <p:cNvPicPr/>
          <p:nvPr/>
        </p:nvPicPr>
        <p:blipFill>
          <a:blip r:embed="rId3"/>
          <a:stretch/>
        </p:blipFill>
        <p:spPr>
          <a:xfrm>
            <a:off x="1357200" y="55944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43"/>
          <p:cNvSpPr/>
          <p:nvPr/>
        </p:nvSpPr>
        <p:spPr>
          <a:xfrm>
            <a:off x="4987800" y="404496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联络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2534760" y="2724120"/>
            <a:ext cx="719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12sc.taobao.com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6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"/>
          <p:cNvSpPr/>
          <p:nvPr/>
        </p:nvSpPr>
        <p:spPr>
          <a:xfrm>
            <a:off x="1785960" y="177336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52"/>
          <p:cNvGrpSpPr/>
          <p:nvPr/>
        </p:nvGrpSpPr>
        <p:grpSpPr>
          <a:xfrm>
            <a:off x="6095880" y="1557360"/>
            <a:ext cx="932040" cy="803160"/>
            <a:chOff x="6095880" y="1557360"/>
            <a:chExt cx="932040" cy="803160"/>
          </a:xfrm>
        </p:grpSpPr>
        <p:sp>
          <p:nvSpPr>
            <p:cNvPr id="59" name="梯形 8"/>
            <p:cNvSpPr/>
            <p:nvPr/>
          </p:nvSpPr>
          <p:spPr>
            <a:xfrm>
              <a:off x="6095880" y="1971720"/>
              <a:ext cx="932040" cy="388800"/>
            </a:xfrm>
            <a:custGeom>
              <a:avLst/>
              <a:gdLst/>
              <a:ahLst/>
              <a:rect l="l" t="t" r="r" b="b"/>
              <a:pathLst>
                <a:path w="1944216" h="1174244">
                  <a:moveTo>
                    <a:pt x="0" y="1174244"/>
                  </a:moveTo>
                  <a:lnTo>
                    <a:pt x="263539" y="128511"/>
                  </a:lnTo>
                  <a:cubicBezTo>
                    <a:pt x="975280" y="-3386"/>
                    <a:pt x="265415" y="128722"/>
                    <a:pt x="970012" y="0"/>
                  </a:cubicBezTo>
                  <a:lnTo>
                    <a:pt x="1673533" y="125855"/>
                  </a:lnTo>
                  <a:lnTo>
                    <a:pt x="1944216" y="1174244"/>
                  </a:lnTo>
                  <a:lnTo>
                    <a:pt x="0" y="11742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54"/>
            <p:cNvSpPr/>
            <p:nvPr/>
          </p:nvSpPr>
          <p:spPr>
            <a:xfrm>
              <a:off x="6372000" y="1557360"/>
              <a:ext cx="379440" cy="379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55"/>
          <p:cNvGrpSpPr/>
          <p:nvPr/>
        </p:nvGrpSpPr>
        <p:grpSpPr>
          <a:xfrm>
            <a:off x="6129360" y="2703600"/>
            <a:ext cx="863640" cy="780840"/>
            <a:chOff x="6129360" y="2703600"/>
            <a:chExt cx="863640" cy="780840"/>
          </a:xfrm>
        </p:grpSpPr>
        <p:sp>
          <p:nvSpPr>
            <p:cNvPr id="62" name="任意多边形 56"/>
            <p:cNvSpPr/>
            <p:nvPr/>
          </p:nvSpPr>
          <p:spPr>
            <a:xfrm>
              <a:off x="62262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lnTo>
                    <a:pt x="717549" y="247312"/>
                  </a:ln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lnTo>
                    <a:pt x="7315" y="201481"/>
                  </a:ln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57"/>
            <p:cNvSpPr/>
            <p:nvPr/>
          </p:nvSpPr>
          <p:spPr>
            <a:xfrm>
              <a:off x="6575400" y="2703600"/>
              <a:ext cx="325440" cy="676080"/>
            </a:xfrm>
            <a:custGeom>
              <a:avLst/>
              <a:gdLst/>
              <a:ahLst/>
              <a:rect l="l" t="t" r="r" b="b"/>
              <a:pathLst>
                <a:path w="720080" h="1495355">
                  <a:moveTo>
                    <a:pt x="360040" y="0"/>
                  </a:moveTo>
                  <a:cubicBezTo>
                    <a:pt x="514979" y="19050"/>
                    <a:pt x="622043" y="81109"/>
                    <a:pt x="712766" y="201481"/>
                  </a:cubicBezTo>
                  <a:cubicBezTo>
                    <a:pt x="716741" y="314390"/>
                    <a:pt x="715955" y="232035"/>
                    <a:pt x="717549" y="247312"/>
                  </a:cubicBezTo>
                  <a:lnTo>
                    <a:pt x="720080" y="247312"/>
                  </a:lnTo>
                  <a:lnTo>
                    <a:pt x="720080" y="271568"/>
                  </a:lnTo>
                  <a:lnTo>
                    <a:pt x="720080" y="1495355"/>
                  </a:lnTo>
                  <a:cubicBezTo>
                    <a:pt x="599373" y="1493347"/>
                    <a:pt x="535815" y="1357989"/>
                    <a:pt x="345258" y="1362331"/>
                  </a:cubicBezTo>
                  <a:cubicBezTo>
                    <a:pt x="185722" y="1368572"/>
                    <a:pt x="115086" y="1451014"/>
                    <a:pt x="0" y="1495355"/>
                  </a:cubicBezTo>
                  <a:lnTo>
                    <a:pt x="0" y="271568"/>
                  </a:lnTo>
                  <a:lnTo>
                    <a:pt x="0" y="247312"/>
                  </a:lnTo>
                  <a:lnTo>
                    <a:pt x="2532" y="247312"/>
                  </a:lnTo>
                  <a:cubicBezTo>
                    <a:pt x="4126" y="232035"/>
                    <a:pt x="-1422" y="333439"/>
                    <a:pt x="7315" y="201481"/>
                  </a:cubicBezTo>
                  <a:cubicBezTo>
                    <a:pt x="85337" y="74759"/>
                    <a:pt x="205101" y="12700"/>
                    <a:pt x="360040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58"/>
            <p:cNvGrpSpPr/>
            <p:nvPr/>
          </p:nvGrpSpPr>
          <p:grpSpPr>
            <a:xfrm>
              <a:off x="6129360" y="2770560"/>
              <a:ext cx="863640" cy="713880"/>
              <a:chOff x="6129360" y="2770560"/>
              <a:chExt cx="863640" cy="713880"/>
            </a:xfrm>
          </p:grpSpPr>
          <p:sp>
            <p:nvSpPr>
              <p:cNvPr id="65" name="直接连接符 59"/>
              <p:cNvSpPr/>
              <p:nvPr/>
            </p:nvSpPr>
            <p:spPr>
              <a:xfrm>
                <a:off x="6618240" y="3408480"/>
                <a:ext cx="0" cy="75960"/>
              </a:xfrm>
              <a:prstGeom prst="line">
                <a:avLst/>
              </a:prstGeom>
              <a:ln w="63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组合 60"/>
              <p:cNvGrpSpPr/>
              <p:nvPr/>
            </p:nvGrpSpPr>
            <p:grpSpPr>
              <a:xfrm>
                <a:off x="6129360" y="2770560"/>
                <a:ext cx="863640" cy="708840"/>
                <a:chOff x="6129360" y="2770560"/>
                <a:chExt cx="863640" cy="708840"/>
              </a:xfrm>
            </p:grpSpPr>
            <p:sp>
              <p:nvSpPr>
                <p:cNvPr id="67" name="直接连接符 61"/>
                <p:cNvSpPr/>
                <p:nvPr/>
              </p:nvSpPr>
              <p:spPr>
                <a:xfrm>
                  <a:off x="6151320" y="2770560"/>
                  <a:ext cx="0" cy="674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62"/>
                <p:cNvSpPr/>
                <p:nvPr/>
              </p:nvSpPr>
              <p:spPr>
                <a:xfrm>
                  <a:off x="6971040" y="2770560"/>
                  <a:ext cx="0" cy="6724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直接连接符 63"/>
                <p:cNvSpPr/>
                <p:nvPr/>
              </p:nvSpPr>
              <p:spPr>
                <a:xfrm flipH="1">
                  <a:off x="612936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64"/>
                <p:cNvSpPr/>
                <p:nvPr/>
              </p:nvSpPr>
              <p:spPr>
                <a:xfrm flipH="1">
                  <a:off x="6596280" y="343044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65"/>
                <p:cNvSpPr/>
                <p:nvPr/>
              </p:nvSpPr>
              <p:spPr>
                <a:xfrm>
                  <a:off x="6502320" y="3408120"/>
                  <a:ext cx="0" cy="7128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66"/>
                <p:cNvSpPr/>
                <p:nvPr/>
              </p:nvSpPr>
              <p:spPr>
                <a:xfrm flipH="1">
                  <a:off x="6478200" y="3477960"/>
                  <a:ext cx="17460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" name="组合 67"/>
          <p:cNvGrpSpPr/>
          <p:nvPr/>
        </p:nvGrpSpPr>
        <p:grpSpPr>
          <a:xfrm>
            <a:off x="6230880" y="3825720"/>
            <a:ext cx="662040" cy="935280"/>
            <a:chOff x="6230880" y="3825720"/>
            <a:chExt cx="662040" cy="935280"/>
          </a:xfrm>
        </p:grpSpPr>
        <p:sp>
          <p:nvSpPr>
            <p:cNvPr id="74" name="圆角矩形 68"/>
            <p:cNvSpPr/>
            <p:nvPr/>
          </p:nvSpPr>
          <p:spPr>
            <a:xfrm>
              <a:off x="6230880" y="3825720"/>
              <a:ext cx="662040" cy="935280"/>
            </a:xfrm>
            <a:custGeom>
              <a:avLst/>
              <a:gdLst>
                <a:gd name="textAreaLeft" fmla="*/ 32040 w 662040"/>
                <a:gd name="textAreaRight" fmla="*/ 630000 w 662040"/>
                <a:gd name="textAreaTop" fmla="*/ 32040 h 935280"/>
                <a:gd name="textAreaBottom" fmla="*/ 903240 h 935280"/>
              </a:gdLst>
              <a:ahLst/>
              <a:rect l="textAreaLeft" t="textAreaTop" r="textAreaRight" b="textAreaBottom"/>
              <a:pathLst>
                <a:path w="21600" h="30510">
                  <a:moveTo>
                    <a:pt x="3600" y="0"/>
                  </a:moveTo>
                  <a:arcTo wR="3600" hR="3600" stAng="16200000" swAng="-5400000"/>
                  <a:lnTo>
                    <a:pt x="0" y="26910"/>
                  </a:lnTo>
                  <a:arcTo wR="3600" hR="3600" stAng="10800000" swAng="-5400000"/>
                  <a:lnTo>
                    <a:pt x="18000" y="305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69"/>
            <p:cNvSpPr/>
            <p:nvPr/>
          </p:nvSpPr>
          <p:spPr>
            <a:xfrm>
              <a:off x="6308640" y="3922560"/>
              <a:ext cx="506520" cy="682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70"/>
            <p:cNvSpPr/>
            <p:nvPr/>
          </p:nvSpPr>
          <p:spPr>
            <a:xfrm>
              <a:off x="6472080" y="3879720"/>
              <a:ext cx="15552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71"/>
            <p:cNvSpPr/>
            <p:nvPr/>
          </p:nvSpPr>
          <p:spPr>
            <a:xfrm>
              <a:off x="6510240" y="4643640"/>
              <a:ext cx="79200" cy="7776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2"/>
          <p:cNvGrpSpPr/>
          <p:nvPr/>
        </p:nvGrpSpPr>
        <p:grpSpPr>
          <a:xfrm>
            <a:off x="6164280" y="5103720"/>
            <a:ext cx="793800" cy="567000"/>
            <a:chOff x="6164280" y="5103720"/>
            <a:chExt cx="793800" cy="567000"/>
          </a:xfrm>
        </p:grpSpPr>
        <p:sp>
          <p:nvSpPr>
            <p:cNvPr id="79" name="矩形 73"/>
            <p:cNvSpPr/>
            <p:nvPr/>
          </p:nvSpPr>
          <p:spPr>
            <a:xfrm>
              <a:off x="6164280" y="5108400"/>
              <a:ext cx="793800" cy="56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74"/>
            <p:cNvSpPr/>
            <p:nvPr/>
          </p:nvSpPr>
          <p:spPr>
            <a:xfrm>
              <a:off x="6164280" y="5108400"/>
              <a:ext cx="395280" cy="3542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75"/>
            <p:cNvSpPr/>
            <p:nvPr/>
          </p:nvSpPr>
          <p:spPr>
            <a:xfrm flipH="1">
              <a:off x="6548400" y="5103720"/>
              <a:ext cx="409680" cy="3636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76"/>
            <p:cNvSpPr/>
            <p:nvPr/>
          </p:nvSpPr>
          <p:spPr>
            <a:xfrm flipH="1">
              <a:off x="6164280" y="5389560"/>
              <a:ext cx="317520" cy="281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77"/>
            <p:cNvSpPr/>
            <p:nvPr/>
          </p:nvSpPr>
          <p:spPr>
            <a:xfrm>
              <a:off x="6635880" y="5389560"/>
              <a:ext cx="322200" cy="27648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"/>
          <p:cNvGrpSpPr/>
          <p:nvPr/>
        </p:nvGrpSpPr>
        <p:grpSpPr>
          <a:xfrm>
            <a:off x="406440" y="5237280"/>
            <a:ext cx="1952640" cy="430560"/>
            <a:chOff x="406440" y="5237280"/>
            <a:chExt cx="1952640" cy="430560"/>
          </a:xfrm>
        </p:grpSpPr>
        <p:sp>
          <p:nvSpPr>
            <p:cNvPr id="85" name="文本框 91"/>
            <p:cNvSpPr/>
            <p:nvPr/>
          </p:nvSpPr>
          <p:spPr>
            <a:xfrm>
              <a:off x="714600" y="5299560"/>
              <a:ext cx="16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 </a:t>
              </a: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7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89" descr=""/>
            <p:cNvPicPr/>
            <p:nvPr/>
          </p:nvPicPr>
          <p:blipFill>
            <a:blip r:embed="rId1"/>
            <a:stretch/>
          </p:blipFill>
          <p:spPr>
            <a:xfrm>
              <a:off x="406440" y="5237280"/>
              <a:ext cx="371160" cy="38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"/>
          <p:cNvGrpSpPr/>
          <p:nvPr/>
        </p:nvGrpSpPr>
        <p:grpSpPr>
          <a:xfrm>
            <a:off x="2448000" y="5270400"/>
            <a:ext cx="1646280" cy="397080"/>
            <a:chOff x="2448000" y="5270400"/>
            <a:chExt cx="1646280" cy="397080"/>
          </a:xfrm>
        </p:grpSpPr>
        <p:sp>
          <p:nvSpPr>
            <p:cNvPr id="88" name="文本框 90"/>
            <p:cNvSpPr/>
            <p:nvPr/>
          </p:nvSpPr>
          <p:spPr>
            <a:xfrm>
              <a:off x="2952720" y="5289120"/>
              <a:ext cx="11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组合 92"/>
            <p:cNvGrpSpPr/>
            <p:nvPr/>
          </p:nvGrpSpPr>
          <p:grpSpPr>
            <a:xfrm>
              <a:off x="2448000" y="5270400"/>
              <a:ext cx="395640" cy="397080"/>
              <a:chOff x="2448000" y="5270400"/>
              <a:chExt cx="395640" cy="397080"/>
            </a:xfrm>
          </p:grpSpPr>
          <p:sp>
            <p:nvSpPr>
              <p:cNvPr id="90" name="圆角矩形 93"/>
              <p:cNvSpPr/>
              <p:nvPr/>
            </p:nvSpPr>
            <p:spPr>
              <a:xfrm>
                <a:off x="2448000" y="5270400"/>
                <a:ext cx="395640" cy="397080"/>
              </a:xfrm>
              <a:custGeom>
                <a:avLst/>
                <a:gdLst>
                  <a:gd name="textAreaLeft" fmla="*/ 19080 w 395640"/>
                  <a:gd name="textAreaRight" fmla="*/ 376560 w 395640"/>
                  <a:gd name="textAreaTop" fmla="*/ 19080 h 397080"/>
                  <a:gd name="textAreaBottom" fmla="*/ 378000 h 397080"/>
                </a:gdLst>
                <a:ahLst/>
                <a:rect l="textAreaLeft" t="textAreaTop" r="textAreaRight" b="textAreaBottom"/>
                <a:pathLst>
                  <a:path w="21600" h="21679">
                    <a:moveTo>
                      <a:pt x="3600" y="0"/>
                    </a:moveTo>
                    <a:arcTo wR="3600" hR="3600" stAng="16200000" swAng="-5400000"/>
                    <a:lnTo>
                      <a:pt x="0" y="18079"/>
                    </a:lnTo>
                    <a:arcTo wR="3600" hR="3600" stAng="10800000" swAng="-5400000"/>
                    <a:lnTo>
                      <a:pt x="18000" y="216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组合 94"/>
              <p:cNvGrpSpPr/>
              <p:nvPr/>
            </p:nvGrpSpPr>
            <p:grpSpPr>
              <a:xfrm>
                <a:off x="2482200" y="5345280"/>
                <a:ext cx="327240" cy="237960"/>
                <a:chOff x="2482200" y="5345280"/>
                <a:chExt cx="327240" cy="237960"/>
              </a:xfrm>
            </p:grpSpPr>
            <p:grpSp>
              <p:nvGrpSpPr>
                <p:cNvPr id="92" name="组合 95"/>
                <p:cNvGrpSpPr/>
                <p:nvPr/>
              </p:nvGrpSpPr>
              <p:grpSpPr>
                <a:xfrm>
                  <a:off x="2482200" y="5345280"/>
                  <a:ext cx="268200" cy="207720"/>
                  <a:chOff x="2482200" y="5345280"/>
                  <a:chExt cx="268200" cy="207720"/>
                </a:xfrm>
              </p:grpSpPr>
              <p:sp>
                <p:nvSpPr>
                  <p:cNvPr id="93" name="椭圆形标注 100"/>
                  <p:cNvSpPr/>
                  <p:nvPr/>
                </p:nvSpPr>
                <p:spPr>
                  <a:xfrm>
                    <a:off x="2482200" y="5345280"/>
                    <a:ext cx="268200" cy="207720"/>
                  </a:xfrm>
                  <a:prstGeom prst="wedgeEllipseCallout">
                    <a:avLst>
                      <a:gd name="adj1" fmla="val -20833"/>
                      <a:gd name="adj2" fmla="val 625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椭圆 101"/>
                  <p:cNvSpPr/>
                  <p:nvPr/>
                </p:nvSpPr>
                <p:spPr>
                  <a:xfrm>
                    <a:off x="255564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椭圆 102"/>
                  <p:cNvSpPr/>
                  <p:nvPr/>
                </p:nvSpPr>
                <p:spPr>
                  <a:xfrm>
                    <a:off x="2659320" y="540720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组合 96"/>
                <p:cNvGrpSpPr/>
                <p:nvPr/>
              </p:nvGrpSpPr>
              <p:grpSpPr>
                <a:xfrm>
                  <a:off x="2632680" y="5446440"/>
                  <a:ext cx="176760" cy="136800"/>
                  <a:chOff x="2632680" y="5446440"/>
                  <a:chExt cx="176760" cy="136800"/>
                </a:xfrm>
              </p:grpSpPr>
              <p:sp>
                <p:nvSpPr>
                  <p:cNvPr id="97" name="椭圆形标注 97"/>
                  <p:cNvSpPr/>
                  <p:nvPr/>
                </p:nvSpPr>
                <p:spPr>
                  <a:xfrm>
                    <a:off x="2632680" y="5446440"/>
                    <a:ext cx="176760" cy="136800"/>
                  </a:xfrm>
                  <a:prstGeom prst="wedgeEllipseCallout">
                    <a:avLst>
                      <a:gd name="adj1" fmla="val 23990"/>
                      <a:gd name="adj2" fmla="val 56324"/>
                    </a:avLst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椭圆 98"/>
                  <p:cNvSpPr/>
                  <p:nvPr/>
                </p:nvSpPr>
                <p:spPr>
                  <a:xfrm>
                    <a:off x="266760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椭圆 99"/>
                  <p:cNvSpPr/>
                  <p:nvPr/>
                </p:nvSpPr>
                <p:spPr>
                  <a:xfrm>
                    <a:off x="2748960" y="5489280"/>
                    <a:ext cx="2376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0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3" descr=""/>
          <p:cNvPicPr/>
          <p:nvPr/>
        </p:nvPicPr>
        <p:blipFill>
          <a:blip r:embed="rId2"/>
          <a:stretch/>
        </p:blipFill>
        <p:spPr>
          <a:xfrm>
            <a:off x="117360" y="1709640"/>
            <a:ext cx="176544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01"/>
          <p:cNvSpPr/>
          <p:nvPr/>
        </p:nvSpPr>
        <p:spPr>
          <a:xfrm>
            <a:off x="7923240" y="17096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1"/>
          <p:cNvSpPr/>
          <p:nvPr/>
        </p:nvSpPr>
        <p:spPr>
          <a:xfrm>
            <a:off x="7923240" y="28479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1"/>
          <p:cNvSpPr/>
          <p:nvPr/>
        </p:nvSpPr>
        <p:spPr>
          <a:xfrm>
            <a:off x="7923240" y="398772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1"/>
          <p:cNvSpPr/>
          <p:nvPr/>
        </p:nvSpPr>
        <p:spPr>
          <a:xfrm>
            <a:off x="7923240" y="51260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0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1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83"/>
          <p:cNvGrpSpPr/>
          <p:nvPr/>
        </p:nvGrpSpPr>
        <p:grpSpPr>
          <a:xfrm>
            <a:off x="266760" y="1873080"/>
            <a:ext cx="1601640" cy="1252800"/>
            <a:chOff x="266760" y="1873080"/>
            <a:chExt cx="1601640" cy="1252800"/>
          </a:xfrm>
        </p:grpSpPr>
        <p:sp>
          <p:nvSpPr>
            <p:cNvPr id="123" name="任意多边形 84"/>
            <p:cNvSpPr/>
            <p:nvPr/>
          </p:nvSpPr>
          <p:spPr>
            <a:xfrm>
              <a:off x="266760" y="1873080"/>
              <a:ext cx="1601640" cy="752760"/>
            </a:xfrm>
            <a:custGeom>
              <a:avLst/>
              <a:gdLst/>
              <a:ahLst/>
              <a:rect l="l" t="t" r="r" b="b"/>
              <a:pathLst>
                <a:path w="2409372" h="1132115">
                  <a:moveTo>
                    <a:pt x="1262743" y="0"/>
                  </a:moveTo>
                  <a:lnTo>
                    <a:pt x="2409372" y="827315"/>
                  </a:lnTo>
                  <a:lnTo>
                    <a:pt x="1886857" y="1132115"/>
                  </a:lnTo>
                  <a:lnTo>
                    <a:pt x="1958083" y="1075667"/>
                  </a:lnTo>
                  <a:lnTo>
                    <a:pt x="1928372" y="1094320"/>
                  </a:lnTo>
                  <a:cubicBezTo>
                    <a:pt x="1823047" y="908444"/>
                    <a:pt x="1448259" y="792088"/>
                    <a:pt x="1204686" y="792088"/>
                  </a:cubicBezTo>
                  <a:cubicBezTo>
                    <a:pt x="961113" y="792088"/>
                    <a:pt x="572259" y="908444"/>
                    <a:pt x="466935" y="1094320"/>
                  </a:cubicBezTo>
                  <a:lnTo>
                    <a:pt x="408812" y="1048193"/>
                  </a:lnTo>
                  <a:lnTo>
                    <a:pt x="0" y="812800"/>
                  </a:lnTo>
                  <a:lnTo>
                    <a:pt x="126274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85"/>
            <p:cNvGrpSpPr/>
            <p:nvPr/>
          </p:nvGrpSpPr>
          <p:grpSpPr>
            <a:xfrm>
              <a:off x="725760" y="2510280"/>
              <a:ext cx="683280" cy="615600"/>
              <a:chOff x="725760" y="2510280"/>
              <a:chExt cx="683280" cy="615600"/>
            </a:xfrm>
          </p:grpSpPr>
          <p:grpSp>
            <p:nvGrpSpPr>
              <p:cNvPr id="125" name="组合 89"/>
              <p:cNvGrpSpPr/>
              <p:nvPr/>
            </p:nvGrpSpPr>
            <p:grpSpPr>
              <a:xfrm>
                <a:off x="725760" y="2510280"/>
                <a:ext cx="683280" cy="615600"/>
                <a:chOff x="725760" y="2510280"/>
                <a:chExt cx="683280" cy="615600"/>
              </a:xfrm>
            </p:grpSpPr>
            <p:sp>
              <p:nvSpPr>
                <p:cNvPr id="126" name="任意多边形 91"/>
                <p:cNvSpPr/>
                <p:nvPr/>
              </p:nvSpPr>
              <p:spPr>
                <a:xfrm>
                  <a:off x="725760" y="25102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92"/>
                <p:cNvSpPr/>
                <p:nvPr/>
              </p:nvSpPr>
              <p:spPr>
                <a:xfrm>
                  <a:off x="725760" y="2578320"/>
                  <a:ext cx="683280" cy="4712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任意多边形 93"/>
                <p:cNvSpPr/>
                <p:nvPr/>
              </p:nvSpPr>
              <p:spPr>
                <a:xfrm>
                  <a:off x="725760" y="2643480"/>
                  <a:ext cx="683280" cy="482400"/>
                </a:xfrm>
                <a:custGeom>
                  <a:avLst/>
                  <a:gdLst/>
                  <a:ahLst/>
                  <a:rect l="l" t="t" r="r" b="b"/>
                  <a:pathLst>
                    <a:path w="1101646" h="1072080">
                      <a:moveTo>
                        <a:pt x="527698" y="0"/>
                      </a:moveTo>
                      <a:cubicBezTo>
                        <a:pt x="736485" y="0"/>
                        <a:pt x="925506" y="59999"/>
                        <a:pt x="1062331" y="157003"/>
                      </a:cubicBezTo>
                      <a:lnTo>
                        <a:pt x="1101646" y="190786"/>
                      </a:lnTo>
                      <a:lnTo>
                        <a:pt x="1101646" y="881295"/>
                      </a:lnTo>
                      <a:lnTo>
                        <a:pt x="1062331" y="915078"/>
                      </a:lnTo>
                      <a:cubicBezTo>
                        <a:pt x="925506" y="1012082"/>
                        <a:pt x="736485" y="1072080"/>
                        <a:pt x="527698" y="1072080"/>
                      </a:cubicBezTo>
                      <a:cubicBezTo>
                        <a:pt x="371108" y="1072080"/>
                        <a:pt x="225636" y="1038331"/>
                        <a:pt x="104964" y="980533"/>
                      </a:cubicBezTo>
                      <a:lnTo>
                        <a:pt x="0" y="919134"/>
                      </a:lnTo>
                      <a:lnTo>
                        <a:pt x="0" y="152946"/>
                      </a:lnTo>
                      <a:lnTo>
                        <a:pt x="104964" y="91547"/>
                      </a:lnTo>
                      <a:cubicBezTo>
                        <a:pt x="225636" y="33749"/>
                        <a:pt x="371108" y="0"/>
                        <a:pt x="527698" y="0"/>
                      </a:cubicBez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椭圆 90"/>
              <p:cNvSpPr/>
              <p:nvPr/>
            </p:nvSpPr>
            <p:spPr>
              <a:xfrm>
                <a:off x="788760" y="2876400"/>
                <a:ext cx="546120" cy="1843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直接连接符 86"/>
            <p:cNvSpPr/>
            <p:nvPr/>
          </p:nvSpPr>
          <p:spPr>
            <a:xfrm>
              <a:off x="458640" y="2492280"/>
              <a:ext cx="0" cy="324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等腰三角形 87"/>
            <p:cNvSpPr/>
            <p:nvPr/>
          </p:nvSpPr>
          <p:spPr>
            <a:xfrm>
              <a:off x="395280" y="2805120"/>
              <a:ext cx="126720" cy="250920"/>
            </a:xfrm>
            <a:prstGeom prst="triangle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88"/>
            <p:cNvSpPr/>
            <p:nvPr/>
          </p:nvSpPr>
          <p:spPr>
            <a:xfrm>
              <a:off x="411120" y="2718000"/>
              <a:ext cx="95040" cy="191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101"/>
          <p:cNvSpPr/>
          <p:nvPr/>
        </p:nvSpPr>
        <p:spPr>
          <a:xfrm>
            <a:off x="8177040" y="22827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"/>
          <p:cNvGrpSpPr/>
          <p:nvPr/>
        </p:nvGrpSpPr>
        <p:grpSpPr>
          <a:xfrm>
            <a:off x="5845320" y="1789200"/>
            <a:ext cx="1662120" cy="1671480"/>
            <a:chOff x="5845320" y="1789200"/>
            <a:chExt cx="1662120" cy="1671480"/>
          </a:xfrm>
        </p:grpSpPr>
        <p:grpSp>
          <p:nvGrpSpPr>
            <p:cNvPr id="135" name="组合 94"/>
            <p:cNvGrpSpPr/>
            <p:nvPr/>
          </p:nvGrpSpPr>
          <p:grpSpPr>
            <a:xfrm>
              <a:off x="6099840" y="1789200"/>
              <a:ext cx="1152720" cy="1139760"/>
              <a:chOff x="6099840" y="1789200"/>
              <a:chExt cx="1152720" cy="1139760"/>
            </a:xfrm>
          </p:grpSpPr>
          <p:sp>
            <p:nvSpPr>
              <p:cNvPr id="136" name="圆柱形 95"/>
              <p:cNvSpPr/>
              <p:nvPr/>
            </p:nvSpPr>
            <p:spPr>
              <a:xfrm>
                <a:off x="692460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柱形 96"/>
              <p:cNvSpPr/>
              <p:nvPr/>
            </p:nvSpPr>
            <p:spPr>
              <a:xfrm>
                <a:off x="6231240" y="2813400"/>
                <a:ext cx="190080" cy="11556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柱形 97"/>
              <p:cNvSpPr/>
              <p:nvPr/>
            </p:nvSpPr>
            <p:spPr>
              <a:xfrm>
                <a:off x="6962400" y="2181240"/>
                <a:ext cx="115560" cy="663480"/>
              </a:xfrm>
              <a:prstGeom prst="can">
                <a:avLst>
                  <a:gd name="adj" fmla="val 436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柱形 98"/>
              <p:cNvSpPr/>
              <p:nvPr/>
            </p:nvSpPr>
            <p:spPr>
              <a:xfrm>
                <a:off x="6269400" y="2181240"/>
                <a:ext cx="114120" cy="663480"/>
              </a:xfrm>
              <a:prstGeom prst="can">
                <a:avLst>
                  <a:gd name="adj" fmla="val 430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等腰三角形 99"/>
              <p:cNvSpPr/>
              <p:nvPr/>
            </p:nvSpPr>
            <p:spPr>
              <a:xfrm>
                <a:off x="6099840" y="1789200"/>
                <a:ext cx="1152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100"/>
              <p:cNvSpPr/>
              <p:nvPr/>
            </p:nvSpPr>
            <p:spPr>
              <a:xfrm>
                <a:off x="6599160" y="1990800"/>
                <a:ext cx="153720" cy="1537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文本框 43"/>
            <p:cNvSpPr/>
            <p:nvPr/>
          </p:nvSpPr>
          <p:spPr>
            <a:xfrm>
              <a:off x="5845320" y="294012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毕业院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117"/>
          <p:cNvSpPr/>
          <p:nvPr/>
        </p:nvSpPr>
        <p:spPr>
          <a:xfrm>
            <a:off x="7242120" y="4282920"/>
            <a:ext cx="26352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18"/>
          <p:cNvSpPr/>
          <p:nvPr/>
        </p:nvSpPr>
        <p:spPr>
          <a:xfrm flipH="1">
            <a:off x="6102360" y="4282920"/>
            <a:ext cx="25416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19"/>
          <p:cNvSpPr/>
          <p:nvPr/>
        </p:nvSpPr>
        <p:spPr>
          <a:xfrm flipH="1">
            <a:off x="7243560" y="5016600"/>
            <a:ext cx="25236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20"/>
          <p:cNvSpPr/>
          <p:nvPr/>
        </p:nvSpPr>
        <p:spPr>
          <a:xfrm flipH="1" flipV="1">
            <a:off x="6098760" y="5016600"/>
            <a:ext cx="25740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3"/>
          <p:cNvSpPr/>
          <p:nvPr/>
        </p:nvSpPr>
        <p:spPr>
          <a:xfrm>
            <a:off x="6141960" y="50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学 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60"/>
          <p:cNvGrpSpPr/>
          <p:nvPr/>
        </p:nvGrpSpPr>
        <p:grpSpPr>
          <a:xfrm>
            <a:off x="5721480" y="3993840"/>
            <a:ext cx="2008080" cy="1035360"/>
            <a:chOff x="5721480" y="3993840"/>
            <a:chExt cx="2008080" cy="1035360"/>
          </a:xfrm>
        </p:grpSpPr>
        <p:sp>
          <p:nvSpPr>
            <p:cNvPr id="149" name="矩形 61"/>
            <p:cNvSpPr/>
            <p:nvPr/>
          </p:nvSpPr>
          <p:spPr>
            <a:xfrm>
              <a:off x="5797800" y="4063680"/>
              <a:ext cx="1852200" cy="901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3"/>
            <p:cNvSpPr/>
            <p:nvPr/>
          </p:nvSpPr>
          <p:spPr>
            <a:xfrm rot="2526600">
              <a:off x="7358400" y="4107960"/>
              <a:ext cx="368280" cy="72360"/>
            </a:xfrm>
            <a:custGeom>
              <a:avLst/>
              <a:gdLst/>
              <a:ahLst/>
              <a:rect l="l" t="t" r="r" b="b"/>
              <a:pathLst>
                <a:path w="2423543" h="551363">
                  <a:moveTo>
                    <a:pt x="592397" y="21572"/>
                  </a:moveTo>
                  <a:lnTo>
                    <a:pt x="1924640" y="0"/>
                  </a:lnTo>
                  <a:lnTo>
                    <a:pt x="2423543" y="551363"/>
                  </a:lnTo>
                  <a:lnTo>
                    <a:pt x="0" y="549365"/>
                  </a:lnTo>
                  <a:lnTo>
                    <a:pt x="592397" y="215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矩形 13" descr=""/>
            <p:cNvPicPr/>
            <p:nvPr/>
          </p:nvPicPr>
          <p:blipFill>
            <a:blip r:embed="rId1"/>
            <a:stretch/>
          </p:blipFill>
          <p:spPr>
            <a:xfrm>
              <a:off x="5727600" y="4735080"/>
              <a:ext cx="35820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矩形 13" descr=""/>
            <p:cNvPicPr/>
            <p:nvPr/>
          </p:nvPicPr>
          <p:blipFill>
            <a:blip r:embed="rId2"/>
            <a:stretch/>
          </p:blipFill>
          <p:spPr>
            <a:xfrm>
              <a:off x="5721480" y="4002120"/>
              <a:ext cx="339840" cy="3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矩形 13" descr=""/>
            <p:cNvPicPr/>
            <p:nvPr/>
          </p:nvPicPr>
          <p:blipFill>
            <a:blip r:embed="rId3"/>
            <a:stretch/>
          </p:blipFill>
          <p:spPr>
            <a:xfrm>
              <a:off x="7389720" y="4713480"/>
              <a:ext cx="3398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66"/>
            <p:cNvSpPr/>
            <p:nvPr/>
          </p:nvSpPr>
          <p:spPr>
            <a:xfrm>
              <a:off x="6354720" y="4161240"/>
              <a:ext cx="7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证  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101"/>
          <p:cNvSpPr/>
          <p:nvPr/>
        </p:nvSpPr>
        <p:spPr>
          <a:xfrm>
            <a:off x="8116920" y="424188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5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67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53"/>
          <p:cNvSpPr/>
          <p:nvPr/>
        </p:nvSpPr>
        <p:spPr>
          <a:xfrm rot="8400000">
            <a:off x="-41040" y="1719000"/>
            <a:ext cx="1866960" cy="2052720"/>
          </a:xfrm>
          <a:custGeom>
            <a:avLst/>
            <a:gdLst/>
            <a:ahLst/>
            <a:rect l="l" t="t" r="r" b="b"/>
            <a:pathLst>
              <a:path w="4965540" h="5305273">
                <a:moveTo>
                  <a:pt x="4965540" y="1908105"/>
                </a:moveTo>
                <a:lnTo>
                  <a:pt x="2784152" y="77703"/>
                </a:lnTo>
                <a:lnTo>
                  <a:pt x="4707991" y="0"/>
                </a:lnTo>
                <a:lnTo>
                  <a:pt x="4965540" y="1908105"/>
                </a:lnTo>
                <a:close/>
                <a:moveTo>
                  <a:pt x="1411584" y="2385337"/>
                </a:moveTo>
                <a:lnTo>
                  <a:pt x="1261106" y="501539"/>
                </a:lnTo>
                <a:lnTo>
                  <a:pt x="1247764" y="501539"/>
                </a:lnTo>
                <a:lnTo>
                  <a:pt x="1259583" y="482480"/>
                </a:lnTo>
                <a:lnTo>
                  <a:pt x="1258926" y="474257"/>
                </a:lnTo>
                <a:lnTo>
                  <a:pt x="1264545" y="474479"/>
                </a:lnTo>
                <a:lnTo>
                  <a:pt x="1476364" y="132906"/>
                </a:lnTo>
                <a:lnTo>
                  <a:pt x="1698782" y="491571"/>
                </a:lnTo>
                <a:lnTo>
                  <a:pt x="1713989" y="492170"/>
                </a:lnTo>
                <a:lnTo>
                  <a:pt x="1411584" y="2385337"/>
                </a:lnTo>
                <a:close/>
                <a:moveTo>
                  <a:pt x="2620006" y="3605958"/>
                </a:moveTo>
                <a:lnTo>
                  <a:pt x="1513338" y="2677353"/>
                </a:lnTo>
                <a:lnTo>
                  <a:pt x="2780522" y="75063"/>
                </a:lnTo>
                <a:lnTo>
                  <a:pt x="4962717" y="1906142"/>
                </a:lnTo>
                <a:lnTo>
                  <a:pt x="2620006" y="3605958"/>
                </a:lnTo>
                <a:close/>
                <a:moveTo>
                  <a:pt x="1732533" y="5305273"/>
                </a:moveTo>
                <a:lnTo>
                  <a:pt x="0" y="3851506"/>
                </a:lnTo>
                <a:lnTo>
                  <a:pt x="1381752" y="2848939"/>
                </a:lnTo>
                <a:lnTo>
                  <a:pt x="2479930" y="3770419"/>
                </a:lnTo>
                <a:lnTo>
                  <a:pt x="1732533" y="53052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5734080" y="1574280"/>
            <a:ext cx="6192720" cy="4000680"/>
            <a:chOff x="5734080" y="1574280"/>
            <a:chExt cx="6192720" cy="4000680"/>
          </a:xfrm>
        </p:grpSpPr>
        <p:sp>
          <p:nvSpPr>
            <p:cNvPr id="173" name="直接连接符 2"/>
            <p:cNvSpPr/>
            <p:nvPr/>
          </p:nvSpPr>
          <p:spPr>
            <a:xfrm flipV="1">
              <a:off x="5734080" y="1574280"/>
              <a:ext cx="6192720" cy="40006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20"/>
            <p:cNvGrpSpPr/>
            <p:nvPr/>
          </p:nvGrpSpPr>
          <p:grpSpPr>
            <a:xfrm>
              <a:off x="6311160" y="4949280"/>
              <a:ext cx="295920" cy="295920"/>
              <a:chOff x="6311160" y="4949280"/>
              <a:chExt cx="295920" cy="295920"/>
            </a:xfrm>
          </p:grpSpPr>
          <p:sp>
            <p:nvSpPr>
              <p:cNvPr id="175" name="椭圆 21"/>
              <p:cNvSpPr/>
              <p:nvPr/>
            </p:nvSpPr>
            <p:spPr>
              <a:xfrm>
                <a:off x="6311160" y="49492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22"/>
              <p:cNvSpPr/>
              <p:nvPr/>
            </p:nvSpPr>
            <p:spPr>
              <a:xfrm>
                <a:off x="6373080" y="5009760"/>
                <a:ext cx="17352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23"/>
            <p:cNvGrpSpPr/>
            <p:nvPr/>
          </p:nvGrpSpPr>
          <p:grpSpPr>
            <a:xfrm>
              <a:off x="7823520" y="3984480"/>
              <a:ext cx="295920" cy="295920"/>
              <a:chOff x="7823520" y="3984480"/>
              <a:chExt cx="295920" cy="295920"/>
            </a:xfrm>
          </p:grpSpPr>
          <p:sp>
            <p:nvSpPr>
              <p:cNvPr id="178" name="椭圆 24"/>
              <p:cNvSpPr/>
              <p:nvPr/>
            </p:nvSpPr>
            <p:spPr>
              <a:xfrm>
                <a:off x="7823520" y="39844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25"/>
              <p:cNvSpPr/>
              <p:nvPr/>
            </p:nvSpPr>
            <p:spPr>
              <a:xfrm>
                <a:off x="7885080" y="404496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28"/>
            <p:cNvGrpSpPr/>
            <p:nvPr/>
          </p:nvGrpSpPr>
          <p:grpSpPr>
            <a:xfrm>
              <a:off x="9407880" y="2977560"/>
              <a:ext cx="295920" cy="295920"/>
              <a:chOff x="9407880" y="2977560"/>
              <a:chExt cx="295920" cy="295920"/>
            </a:xfrm>
          </p:grpSpPr>
          <p:sp>
            <p:nvSpPr>
              <p:cNvPr id="181" name="椭圆 33"/>
              <p:cNvSpPr/>
              <p:nvPr/>
            </p:nvSpPr>
            <p:spPr>
              <a:xfrm>
                <a:off x="9407880" y="297756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34"/>
              <p:cNvSpPr/>
              <p:nvPr/>
            </p:nvSpPr>
            <p:spPr>
              <a:xfrm>
                <a:off x="9469440" y="3038040"/>
                <a:ext cx="174240" cy="17496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35"/>
            <p:cNvGrpSpPr/>
            <p:nvPr/>
          </p:nvGrpSpPr>
          <p:grpSpPr>
            <a:xfrm>
              <a:off x="10958040" y="1945080"/>
              <a:ext cx="295920" cy="295920"/>
              <a:chOff x="10958040" y="1945080"/>
              <a:chExt cx="295920" cy="295920"/>
            </a:xfrm>
          </p:grpSpPr>
          <p:sp>
            <p:nvSpPr>
              <p:cNvPr id="184" name="椭圆 36"/>
              <p:cNvSpPr/>
              <p:nvPr/>
            </p:nvSpPr>
            <p:spPr>
              <a:xfrm>
                <a:off x="10958040" y="19450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37"/>
              <p:cNvSpPr/>
              <p:nvPr/>
            </p:nvSpPr>
            <p:spPr>
              <a:xfrm>
                <a:off x="11019960" y="2006640"/>
                <a:ext cx="173520" cy="17244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38"/>
          <p:cNvSpPr/>
          <p:nvPr/>
        </p:nvSpPr>
        <p:spPr>
          <a:xfrm>
            <a:off x="5370480" y="44226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9"/>
          <p:cNvSpPr/>
          <p:nvPr/>
        </p:nvSpPr>
        <p:spPr>
          <a:xfrm>
            <a:off x="6627960" y="3429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0"/>
          <p:cNvSpPr/>
          <p:nvPr/>
        </p:nvSpPr>
        <p:spPr>
          <a:xfrm>
            <a:off x="9470880" y="333684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2"/>
          <p:cNvSpPr/>
          <p:nvPr/>
        </p:nvSpPr>
        <p:spPr>
          <a:xfrm>
            <a:off x="10814040" y="2325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2"/>
          <p:cNvSpPr/>
          <p:nvPr/>
        </p:nvSpPr>
        <p:spPr>
          <a:xfrm>
            <a:off x="7899480" y="432432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4"/>
          <p:cNvSpPr/>
          <p:nvPr/>
        </p:nvSpPr>
        <p:spPr>
          <a:xfrm>
            <a:off x="6311880" y="53038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5"/>
          <p:cNvSpPr/>
          <p:nvPr/>
        </p:nvSpPr>
        <p:spPr>
          <a:xfrm>
            <a:off x="5167440" y="2546280"/>
            <a:ext cx="43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6"/>
          <p:cNvSpPr/>
          <p:nvPr/>
        </p:nvSpPr>
        <p:spPr>
          <a:xfrm>
            <a:off x="6647040" y="147168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3"/>
          <p:cNvSpPr/>
          <p:nvPr/>
        </p:nvSpPr>
        <p:spPr>
          <a:xfrm>
            <a:off x="1849320" y="2771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98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0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6"/>
          <p:cNvGrpSpPr/>
          <p:nvPr/>
        </p:nvGrpSpPr>
        <p:grpSpPr>
          <a:xfrm>
            <a:off x="258480" y="1905120"/>
            <a:ext cx="1299960" cy="1309680"/>
            <a:chOff x="258480" y="1905120"/>
            <a:chExt cx="1299960" cy="1309680"/>
          </a:xfrm>
        </p:grpSpPr>
        <p:grpSp>
          <p:nvGrpSpPr>
            <p:cNvPr id="211" name="组合 37"/>
            <p:cNvGrpSpPr/>
            <p:nvPr/>
          </p:nvGrpSpPr>
          <p:grpSpPr>
            <a:xfrm>
              <a:off x="294840" y="1905120"/>
              <a:ext cx="1263600" cy="1278360"/>
              <a:chOff x="294840" y="1905120"/>
              <a:chExt cx="1263600" cy="1278360"/>
            </a:xfrm>
          </p:grpSpPr>
          <p:sp>
            <p:nvSpPr>
              <p:cNvPr id="212" name="任意多边形 55"/>
              <p:cNvSpPr/>
              <p:nvPr/>
            </p:nvSpPr>
            <p:spPr>
              <a:xfrm>
                <a:off x="947520" y="1905120"/>
                <a:ext cx="610920" cy="611280"/>
              </a:xfrm>
              <a:custGeom>
                <a:avLst/>
                <a:gdLst/>
                <a:ahLst/>
                <a:rect l="l" t="t" r="r" b="b"/>
                <a:pathLst>
                  <a:path w="523442" h="523442">
                    <a:moveTo>
                      <a:pt x="261721" y="0"/>
                    </a:moveTo>
                    <a:cubicBezTo>
                      <a:pt x="279789" y="0"/>
                      <a:pt x="297430" y="1831"/>
                      <a:pt x="314467" y="5317"/>
                    </a:cubicBezTo>
                    <a:lnTo>
                      <a:pt x="359730" y="19368"/>
                    </a:lnTo>
                    <a:lnTo>
                      <a:pt x="205908" y="166330"/>
                    </a:lnTo>
                    <a:lnTo>
                      <a:pt x="340726" y="307441"/>
                    </a:lnTo>
                    <a:lnTo>
                      <a:pt x="500257" y="155024"/>
                    </a:lnTo>
                    <a:lnTo>
                      <a:pt x="502875" y="159847"/>
                    </a:lnTo>
                    <a:cubicBezTo>
                      <a:pt x="516119" y="191159"/>
                      <a:pt x="523442" y="225585"/>
                      <a:pt x="523442" y="261721"/>
                    </a:cubicBezTo>
                    <a:cubicBezTo>
                      <a:pt x="523442" y="406266"/>
                      <a:pt x="406266" y="523442"/>
                      <a:pt x="261721" y="523442"/>
                    </a:cubicBezTo>
                    <a:cubicBezTo>
                      <a:pt x="117176" y="523442"/>
                      <a:pt x="0" y="406266"/>
                      <a:pt x="0" y="261721"/>
                    </a:cubicBezTo>
                    <a:cubicBezTo>
                      <a:pt x="0" y="117176"/>
                      <a:pt x="117176" y="0"/>
                      <a:pt x="261721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组合 56"/>
              <p:cNvGrpSpPr/>
              <p:nvPr/>
            </p:nvGrpSpPr>
            <p:grpSpPr>
              <a:xfrm>
                <a:off x="294840" y="2350800"/>
                <a:ext cx="832680" cy="832680"/>
                <a:chOff x="294840" y="2350800"/>
                <a:chExt cx="832680" cy="832680"/>
              </a:xfrm>
            </p:grpSpPr>
            <p:sp>
              <p:nvSpPr>
                <p:cNvPr id="214" name="圆角矩形 57"/>
                <p:cNvSpPr/>
                <p:nvPr/>
              </p:nvSpPr>
              <p:spPr>
                <a:xfrm rot="2700000">
                  <a:off x="626760" y="2262240"/>
                  <a:ext cx="168480" cy="1009080"/>
                </a:xfrm>
                <a:custGeom>
                  <a:avLst/>
                  <a:gdLst>
                    <a:gd name="textAreaLeft" fmla="*/ 7920 w 168480"/>
                    <a:gd name="textAreaRight" fmla="*/ 160560 w 168480"/>
                    <a:gd name="textAreaTop" fmla="*/ 7920 h 1009080"/>
                    <a:gd name="textAreaBottom" fmla="*/ 1001160 h 1009080"/>
                  </a:gdLst>
                  <a:ahLst/>
                  <a:rect l="textAreaLeft" t="textAreaTop" r="textAreaRight" b="textAreaBottom"/>
                  <a:pathLst>
                    <a:path w="21600" h="129139">
                      <a:moveTo>
                        <a:pt x="3600" y="0"/>
                      </a:moveTo>
                      <a:arcTo wR="3600" hR="3600" stAng="16200000" swAng="-5400000"/>
                      <a:lnTo>
                        <a:pt x="0" y="125539"/>
                      </a:lnTo>
                      <a:arcTo wR="3600" hR="3600" stAng="10800000" swAng="-5400000"/>
                      <a:lnTo>
                        <a:pt x="18000" y="12913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椭圆 58"/>
                <p:cNvSpPr/>
                <p:nvPr/>
              </p:nvSpPr>
              <p:spPr>
                <a:xfrm>
                  <a:off x="381240" y="3017880"/>
                  <a:ext cx="83880" cy="842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组合 38"/>
            <p:cNvGrpSpPr/>
            <p:nvPr/>
          </p:nvGrpSpPr>
          <p:grpSpPr>
            <a:xfrm>
              <a:off x="258480" y="1967400"/>
              <a:ext cx="1293840" cy="1247400"/>
              <a:chOff x="258480" y="1967400"/>
              <a:chExt cx="1293840" cy="1247400"/>
            </a:xfrm>
          </p:grpSpPr>
          <p:sp>
            <p:nvSpPr>
              <p:cNvPr id="217" name="圆角矩形 39"/>
              <p:cNvSpPr/>
              <p:nvPr/>
            </p:nvSpPr>
            <p:spPr>
              <a:xfrm rot="2629200">
                <a:off x="950760" y="2775600"/>
                <a:ext cx="588960" cy="27324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40"/>
              <p:cNvSpPr/>
              <p:nvPr/>
            </p:nvSpPr>
            <p:spPr>
              <a:xfrm>
                <a:off x="497520" y="2201760"/>
                <a:ext cx="560880" cy="538560"/>
              </a:xfrm>
              <a:prstGeom prst="line">
                <a:avLst/>
              </a:prstGeom>
              <a:ln w="763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组合 42"/>
              <p:cNvGrpSpPr/>
              <p:nvPr/>
            </p:nvGrpSpPr>
            <p:grpSpPr>
              <a:xfrm>
                <a:off x="258480" y="1967400"/>
                <a:ext cx="351360" cy="348120"/>
                <a:chOff x="258480" y="1967400"/>
                <a:chExt cx="351360" cy="348120"/>
              </a:xfrm>
            </p:grpSpPr>
            <p:sp>
              <p:nvSpPr>
                <p:cNvPr id="220" name="梯形 53"/>
                <p:cNvSpPr/>
                <p:nvPr/>
              </p:nvSpPr>
              <p:spPr>
                <a:xfrm rot="18829200">
                  <a:off x="284040" y="2018520"/>
                  <a:ext cx="210960" cy="161640"/>
                </a:xfrm>
                <a:custGeom>
                  <a:avLst/>
                  <a:gdLst/>
                  <a:ahLst/>
                  <a:rect l="l" t="t" r="r" b="b"/>
                  <a:pathLst>
                    <a:path w="358739" h="277231">
                      <a:moveTo>
                        <a:pt x="0" y="277231"/>
                      </a:moveTo>
                      <a:lnTo>
                        <a:pt x="69308" y="0"/>
                      </a:lnTo>
                      <a:lnTo>
                        <a:pt x="289431" y="0"/>
                      </a:lnTo>
                      <a:lnTo>
                        <a:pt x="358739" y="277231"/>
                      </a:lnTo>
                      <a:lnTo>
                        <a:pt x="0" y="27723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等腰三角形 54"/>
                <p:cNvSpPr/>
                <p:nvPr/>
              </p:nvSpPr>
              <p:spPr>
                <a:xfrm rot="8029200">
                  <a:off x="385920" y="2130120"/>
                  <a:ext cx="209160" cy="129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2" name="文本框 43"/>
          <p:cNvSpPr/>
          <p:nvPr/>
        </p:nvSpPr>
        <p:spPr>
          <a:xfrm>
            <a:off x="1849320" y="2765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 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"/>
          <p:cNvGrpSpPr/>
          <p:nvPr/>
        </p:nvGrpSpPr>
        <p:grpSpPr>
          <a:xfrm>
            <a:off x="5819760" y="1533600"/>
            <a:ext cx="1341360" cy="1748160"/>
            <a:chOff x="5819760" y="1533600"/>
            <a:chExt cx="1341360" cy="1748160"/>
          </a:xfrm>
        </p:grpSpPr>
        <p:grpSp>
          <p:nvGrpSpPr>
            <p:cNvPr id="224" name="组合 59"/>
            <p:cNvGrpSpPr/>
            <p:nvPr/>
          </p:nvGrpSpPr>
          <p:grpSpPr>
            <a:xfrm>
              <a:off x="5819760" y="1533600"/>
              <a:ext cx="1321560" cy="1319040"/>
              <a:chOff x="5819760" y="1533600"/>
              <a:chExt cx="1321560" cy="1319040"/>
            </a:xfrm>
          </p:grpSpPr>
          <p:sp>
            <p:nvSpPr>
              <p:cNvPr id="225" name="矩形 60"/>
              <p:cNvSpPr/>
              <p:nvPr/>
            </p:nvSpPr>
            <p:spPr>
              <a:xfrm>
                <a:off x="5922720" y="1533600"/>
                <a:ext cx="1218600" cy="123660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61"/>
              <p:cNvSpPr/>
              <p:nvPr/>
            </p:nvSpPr>
            <p:spPr>
              <a:xfrm>
                <a:off x="5819760" y="1616040"/>
                <a:ext cx="1218600" cy="12366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ET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文本框 43"/>
            <p:cNvSpPr/>
            <p:nvPr/>
          </p:nvSpPr>
          <p:spPr>
            <a:xfrm>
              <a:off x="5837040" y="2882880"/>
              <a:ext cx="13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英语六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5"/>
          <p:cNvGrpSpPr/>
          <p:nvPr/>
        </p:nvGrpSpPr>
        <p:grpSpPr>
          <a:xfrm>
            <a:off x="5575320" y="3875040"/>
            <a:ext cx="2074680" cy="1550520"/>
            <a:chOff x="5575320" y="3875040"/>
            <a:chExt cx="2074680" cy="1550520"/>
          </a:xfrm>
        </p:grpSpPr>
        <p:pic>
          <p:nvPicPr>
            <p:cNvPr id="229" name="Picture 2" descr="D:\MyData\桌面\20140406023634398_easyicon_net_128.png"/>
            <p:cNvPicPr/>
            <p:nvPr/>
          </p:nvPicPr>
          <p:blipFill>
            <a:blip r:embed="rId1"/>
            <a:stretch/>
          </p:blipFill>
          <p:spPr>
            <a:xfrm>
              <a:off x="5943600" y="3875040"/>
              <a:ext cx="1334880" cy="13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文本框 43"/>
            <p:cNvSpPr/>
            <p:nvPr/>
          </p:nvSpPr>
          <p:spPr>
            <a:xfrm>
              <a:off x="5575320" y="505728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责任心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服务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8"/>
          <p:cNvGrpSpPr/>
          <p:nvPr/>
        </p:nvGrpSpPr>
        <p:grpSpPr>
          <a:xfrm>
            <a:off x="9829800" y="1382760"/>
            <a:ext cx="2027160" cy="1906560"/>
            <a:chOff x="9829800" y="1382760"/>
            <a:chExt cx="2027160" cy="1906560"/>
          </a:xfrm>
        </p:grpSpPr>
        <p:sp>
          <p:nvSpPr>
            <p:cNvPr id="232" name="文本框 43"/>
            <p:cNvSpPr/>
            <p:nvPr/>
          </p:nvSpPr>
          <p:spPr>
            <a:xfrm>
              <a:off x="9829800" y="2921040"/>
              <a:ext cx="20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熟练使用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组合 7"/>
            <p:cNvGrpSpPr/>
            <p:nvPr/>
          </p:nvGrpSpPr>
          <p:grpSpPr>
            <a:xfrm>
              <a:off x="9956520" y="1382760"/>
              <a:ext cx="1659600" cy="1498320"/>
              <a:chOff x="9956520" y="1382760"/>
              <a:chExt cx="1659600" cy="1498320"/>
            </a:xfrm>
          </p:grpSpPr>
          <p:pic>
            <p:nvPicPr>
              <p:cNvPr id="234" name="Picture 2" descr="D:\MyData\桌面\20140406024219535_easyicon_net_76.png"/>
              <p:cNvPicPr/>
              <p:nvPr/>
            </p:nvPicPr>
            <p:blipFill>
              <a:blip r:embed="rId2"/>
              <a:stretch/>
            </p:blipFill>
            <p:spPr>
              <a:xfrm>
                <a:off x="10315080" y="1382760"/>
                <a:ext cx="911880" cy="9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3" descr="D:\MyData\桌面\20140406024208594_easyicon_net_76.png"/>
              <p:cNvPicPr/>
              <p:nvPr/>
            </p:nvPicPr>
            <p:blipFill>
              <a:blip r:embed="rId3"/>
              <a:stretch/>
            </p:blipFill>
            <p:spPr>
              <a:xfrm>
                <a:off x="9956520" y="1961280"/>
                <a:ext cx="918000" cy="91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4" descr="D:\MyData\桌面\20140406024413931_easyicon_net_96.png"/>
              <p:cNvPicPr/>
              <p:nvPr/>
            </p:nvPicPr>
            <p:blipFill>
              <a:blip r:embed="rId4"/>
              <a:stretch/>
            </p:blipFill>
            <p:spPr>
              <a:xfrm>
                <a:off x="10698120" y="1961280"/>
                <a:ext cx="918000" cy="91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7" name="组合 9"/>
          <p:cNvGrpSpPr/>
          <p:nvPr/>
        </p:nvGrpSpPr>
        <p:grpSpPr>
          <a:xfrm>
            <a:off x="7872480" y="3822840"/>
            <a:ext cx="1797120" cy="1603440"/>
            <a:chOff x="7872480" y="3822840"/>
            <a:chExt cx="1797120" cy="1603440"/>
          </a:xfrm>
        </p:grpSpPr>
        <p:sp>
          <p:nvSpPr>
            <p:cNvPr id="238" name="圆角矩形 4"/>
            <p:cNvSpPr/>
            <p:nvPr/>
          </p:nvSpPr>
          <p:spPr>
            <a:xfrm>
              <a:off x="8172360" y="3822840"/>
              <a:ext cx="1197000" cy="1119240"/>
            </a:xfrm>
            <a:custGeom>
              <a:avLst/>
              <a:gdLst/>
              <a:ahLst/>
              <a:rect l="l" t="t" r="r" b="b"/>
              <a:pathLst>
                <a:path w="5703556" h="5329509">
                  <a:moveTo>
                    <a:pt x="2739186" y="5234443"/>
                  </a:moveTo>
                  <a:lnTo>
                    <a:pt x="5688953" y="5234443"/>
                  </a:lnTo>
                  <a:cubicBezTo>
                    <a:pt x="5697018" y="5234443"/>
                    <a:pt x="5703556" y="5241216"/>
                    <a:pt x="5703556" y="5249569"/>
                  </a:cubicBezTo>
                  <a:lnTo>
                    <a:pt x="5703556" y="5310076"/>
                  </a:lnTo>
                  <a:cubicBezTo>
                    <a:pt x="5703556" y="5318429"/>
                    <a:pt x="5697018" y="5325202"/>
                    <a:pt x="5688953" y="5325202"/>
                  </a:cubicBezTo>
                  <a:lnTo>
                    <a:pt x="2739186" y="5325202"/>
                  </a:lnTo>
                  <a:cubicBezTo>
                    <a:pt x="2731121" y="5325202"/>
                    <a:pt x="2724583" y="5318429"/>
                    <a:pt x="2724583" y="5310076"/>
                  </a:cubicBezTo>
                  <a:lnTo>
                    <a:pt x="2724583" y="5249569"/>
                  </a:lnTo>
                  <a:cubicBezTo>
                    <a:pt x="2724583" y="5241216"/>
                    <a:pt x="2731121" y="5234443"/>
                    <a:pt x="2739186" y="5234443"/>
                  </a:cubicBezTo>
                  <a:close/>
                  <a:moveTo>
                    <a:pt x="336378" y="3247104"/>
                  </a:moveTo>
                  <a:lnTo>
                    <a:pt x="2399926" y="3247104"/>
                  </a:lnTo>
                  <a:cubicBezTo>
                    <a:pt x="2486280" y="3247104"/>
                    <a:pt x="2556284" y="3304902"/>
                    <a:pt x="2556284" y="3376199"/>
                  </a:cubicBezTo>
                  <a:lnTo>
                    <a:pt x="2556284" y="5210604"/>
                  </a:lnTo>
                  <a:lnTo>
                    <a:pt x="2562558" y="5210604"/>
                  </a:lnTo>
                  <a:lnTo>
                    <a:pt x="2592284" y="5329509"/>
                  </a:lnTo>
                  <a:lnTo>
                    <a:pt x="2412284" y="5329509"/>
                  </a:lnTo>
                  <a:lnTo>
                    <a:pt x="2442010" y="5210604"/>
                  </a:lnTo>
                  <a:lnTo>
                    <a:pt x="2449968" y="5210604"/>
                  </a:lnTo>
                  <a:lnTo>
                    <a:pt x="2449968" y="3479341"/>
                  </a:lnTo>
                  <a:cubicBezTo>
                    <a:pt x="2449968" y="3414423"/>
                    <a:pt x="2386228" y="3361797"/>
                    <a:pt x="2307601" y="3361797"/>
                  </a:cubicBezTo>
                  <a:lnTo>
                    <a:pt x="428703" y="3361797"/>
                  </a:lnTo>
                  <a:cubicBezTo>
                    <a:pt x="350076" y="3361797"/>
                    <a:pt x="286336" y="3414423"/>
                    <a:pt x="286336" y="3479341"/>
                  </a:cubicBezTo>
                  <a:lnTo>
                    <a:pt x="286336" y="5210604"/>
                  </a:lnTo>
                  <a:lnTo>
                    <a:pt x="291858" y="5210604"/>
                  </a:lnTo>
                  <a:lnTo>
                    <a:pt x="321584" y="5329509"/>
                  </a:lnTo>
                  <a:lnTo>
                    <a:pt x="141584" y="5329509"/>
                  </a:lnTo>
                  <a:lnTo>
                    <a:pt x="171310" y="5210604"/>
                  </a:lnTo>
                  <a:lnTo>
                    <a:pt x="180020" y="5210604"/>
                  </a:lnTo>
                  <a:lnTo>
                    <a:pt x="180020" y="3376199"/>
                  </a:lnTo>
                  <a:cubicBezTo>
                    <a:pt x="180020" y="3304902"/>
                    <a:pt x="250024" y="3247104"/>
                    <a:pt x="336378" y="3247104"/>
                  </a:cubicBezTo>
                  <a:close/>
                  <a:moveTo>
                    <a:pt x="4692028" y="1952802"/>
                  </a:moveTo>
                  <a:lnTo>
                    <a:pt x="4867262" y="1952802"/>
                  </a:lnTo>
                  <a:lnTo>
                    <a:pt x="4867262" y="5033683"/>
                  </a:lnTo>
                  <a:lnTo>
                    <a:pt x="4911070" y="5033683"/>
                  </a:lnTo>
                  <a:lnTo>
                    <a:pt x="4954879" y="5215202"/>
                  </a:lnTo>
                  <a:lnTo>
                    <a:pt x="4604411" y="5215202"/>
                  </a:lnTo>
                  <a:lnTo>
                    <a:pt x="4648220" y="5033683"/>
                  </a:lnTo>
                  <a:lnTo>
                    <a:pt x="4692028" y="5033683"/>
                  </a:lnTo>
                  <a:lnTo>
                    <a:pt x="4692028" y="1952802"/>
                  </a:lnTo>
                  <a:close/>
                  <a:moveTo>
                    <a:pt x="2564413" y="1742447"/>
                  </a:moveTo>
                  <a:lnTo>
                    <a:pt x="5660552" y="1742447"/>
                  </a:lnTo>
                  <a:cubicBezTo>
                    <a:pt x="5676683" y="1742447"/>
                    <a:pt x="5689761" y="1755994"/>
                    <a:pt x="5689761" y="1772704"/>
                  </a:cubicBezTo>
                  <a:lnTo>
                    <a:pt x="5689761" y="1893729"/>
                  </a:lnTo>
                  <a:cubicBezTo>
                    <a:pt x="5689761" y="1910439"/>
                    <a:pt x="5676683" y="1923986"/>
                    <a:pt x="5660552" y="1923986"/>
                  </a:cubicBezTo>
                  <a:lnTo>
                    <a:pt x="2564413" y="1923986"/>
                  </a:lnTo>
                  <a:cubicBezTo>
                    <a:pt x="2548282" y="1923986"/>
                    <a:pt x="2535204" y="1910439"/>
                    <a:pt x="2535204" y="1893729"/>
                  </a:cubicBezTo>
                  <a:lnTo>
                    <a:pt x="2535204" y="1772704"/>
                  </a:lnTo>
                  <a:cubicBezTo>
                    <a:pt x="2535204" y="1755994"/>
                    <a:pt x="2548282" y="1742447"/>
                    <a:pt x="2564413" y="1742447"/>
                  </a:cubicBezTo>
                  <a:close/>
                  <a:moveTo>
                    <a:pt x="4237552" y="985318"/>
                  </a:moveTo>
                  <a:lnTo>
                    <a:pt x="4410682" y="1684193"/>
                  </a:lnTo>
                  <a:lnTo>
                    <a:pt x="4382727" y="1691118"/>
                  </a:lnTo>
                  <a:lnTo>
                    <a:pt x="4209597" y="992243"/>
                  </a:lnTo>
                  <a:lnTo>
                    <a:pt x="4237552" y="985318"/>
                  </a:lnTo>
                  <a:close/>
                  <a:moveTo>
                    <a:pt x="1761980" y="745455"/>
                  </a:moveTo>
                  <a:cubicBezTo>
                    <a:pt x="1780858" y="747193"/>
                    <a:pt x="1799707" y="752661"/>
                    <a:pt x="1817468" y="762178"/>
                  </a:cubicBezTo>
                  <a:lnTo>
                    <a:pt x="2955174" y="1371850"/>
                  </a:lnTo>
                  <a:lnTo>
                    <a:pt x="2994253" y="1404178"/>
                  </a:lnTo>
                  <a:lnTo>
                    <a:pt x="4294588" y="1404178"/>
                  </a:lnTo>
                  <a:lnTo>
                    <a:pt x="4366596" y="1692210"/>
                  </a:lnTo>
                  <a:lnTo>
                    <a:pt x="2882668" y="1692210"/>
                  </a:lnTo>
                  <a:lnTo>
                    <a:pt x="2884052" y="1686675"/>
                  </a:lnTo>
                  <a:cubicBezTo>
                    <a:pt x="2854294" y="1693778"/>
                    <a:pt x="2822462" y="1689024"/>
                    <a:pt x="2793519" y="1673514"/>
                  </a:cubicBezTo>
                  <a:lnTo>
                    <a:pt x="2024796" y="1261572"/>
                  </a:lnTo>
                  <a:cubicBezTo>
                    <a:pt x="2023793" y="1266287"/>
                    <a:pt x="2021668" y="1270482"/>
                    <a:pt x="2019452" y="1274654"/>
                  </a:cubicBezTo>
                  <a:lnTo>
                    <a:pt x="1298406" y="2632090"/>
                  </a:lnTo>
                  <a:lnTo>
                    <a:pt x="2918710" y="2632090"/>
                  </a:lnTo>
                  <a:cubicBezTo>
                    <a:pt x="2973775" y="2632090"/>
                    <a:pt x="3018609" y="2675897"/>
                    <a:pt x="3019682" y="2730578"/>
                  </a:cubicBezTo>
                  <a:cubicBezTo>
                    <a:pt x="3021708" y="2731892"/>
                    <a:pt x="3022734" y="2733800"/>
                    <a:pt x="3023705" y="2735753"/>
                  </a:cubicBezTo>
                  <a:lnTo>
                    <a:pt x="4009030" y="4716310"/>
                  </a:lnTo>
                  <a:cubicBezTo>
                    <a:pt x="4034023" y="4766549"/>
                    <a:pt x="4013558" y="4827536"/>
                    <a:pt x="3963320" y="4852530"/>
                  </a:cubicBezTo>
                  <a:lnTo>
                    <a:pt x="3838828" y="4914465"/>
                  </a:lnTo>
                  <a:cubicBezTo>
                    <a:pt x="3788589" y="4939458"/>
                    <a:pt x="3727602" y="4918993"/>
                    <a:pt x="3702608" y="4868755"/>
                  </a:cubicBezTo>
                  <a:lnTo>
                    <a:pt x="2760138" y="2974338"/>
                  </a:lnTo>
                  <a:lnTo>
                    <a:pt x="964209" y="2974338"/>
                  </a:lnTo>
                  <a:cubicBezTo>
                    <a:pt x="887563" y="2990555"/>
                    <a:pt x="805298" y="2980069"/>
                    <a:pt x="730743" y="2940466"/>
                  </a:cubicBezTo>
                  <a:cubicBezTo>
                    <a:pt x="556781" y="2848061"/>
                    <a:pt x="490666" y="2632128"/>
                    <a:pt x="583072" y="2458166"/>
                  </a:cubicBezTo>
                  <a:lnTo>
                    <a:pt x="1389481" y="940025"/>
                  </a:lnTo>
                  <a:cubicBezTo>
                    <a:pt x="1453696" y="819134"/>
                    <a:pt x="1577566" y="750325"/>
                    <a:pt x="1705548" y="751519"/>
                  </a:cubicBezTo>
                  <a:cubicBezTo>
                    <a:pt x="1723617" y="745772"/>
                    <a:pt x="1742814" y="743691"/>
                    <a:pt x="1761980" y="745455"/>
                  </a:cubicBezTo>
                  <a:close/>
                  <a:moveTo>
                    <a:pt x="331323" y="521203"/>
                  </a:moveTo>
                  <a:lnTo>
                    <a:pt x="403331" y="539205"/>
                  </a:lnTo>
                  <a:lnTo>
                    <a:pt x="403331" y="1453569"/>
                  </a:lnTo>
                  <a:lnTo>
                    <a:pt x="331323" y="1471571"/>
                  </a:lnTo>
                  <a:lnTo>
                    <a:pt x="331323" y="1029470"/>
                  </a:lnTo>
                  <a:lnTo>
                    <a:pt x="318123" y="1033646"/>
                  </a:lnTo>
                  <a:cubicBezTo>
                    <a:pt x="311528" y="1035089"/>
                    <a:pt x="314310" y="1032388"/>
                    <a:pt x="230026" y="1062834"/>
                  </a:cubicBezTo>
                  <a:cubicBezTo>
                    <a:pt x="141349" y="1096226"/>
                    <a:pt x="82849" y="1130732"/>
                    <a:pt x="82849" y="1199951"/>
                  </a:cubicBezTo>
                  <a:lnTo>
                    <a:pt x="82849" y="2890831"/>
                  </a:lnTo>
                  <a:cubicBezTo>
                    <a:pt x="88134" y="2954523"/>
                    <a:pt x="152967" y="3004090"/>
                    <a:pt x="231834" y="3004090"/>
                  </a:cubicBezTo>
                  <a:lnTo>
                    <a:pt x="2736304" y="3004090"/>
                  </a:lnTo>
                  <a:lnTo>
                    <a:pt x="2736304" y="3016292"/>
                  </a:lnTo>
                  <a:cubicBezTo>
                    <a:pt x="2736304" y="3083475"/>
                    <a:pt x="2670279" y="3137938"/>
                    <a:pt x="2588833" y="3137938"/>
                  </a:cubicBezTo>
                  <a:lnTo>
                    <a:pt x="147471" y="3137938"/>
                  </a:lnTo>
                  <a:cubicBezTo>
                    <a:pt x="66025" y="3137938"/>
                    <a:pt x="0" y="3083475"/>
                    <a:pt x="0" y="3016292"/>
                  </a:cubicBezTo>
                  <a:lnTo>
                    <a:pt x="0" y="1299451"/>
                  </a:lnTo>
                  <a:lnTo>
                    <a:pt x="1" y="1299445"/>
                  </a:lnTo>
                  <a:lnTo>
                    <a:pt x="1" y="1121257"/>
                  </a:lnTo>
                  <a:cubicBezTo>
                    <a:pt x="1" y="1054074"/>
                    <a:pt x="66026" y="999611"/>
                    <a:pt x="147472" y="999611"/>
                  </a:cubicBezTo>
                  <a:lnTo>
                    <a:pt x="331323" y="951157"/>
                  </a:lnTo>
                  <a:lnTo>
                    <a:pt x="331323" y="521203"/>
                  </a:lnTo>
                  <a:close/>
                  <a:moveTo>
                    <a:pt x="2077492" y="0"/>
                  </a:moveTo>
                  <a:cubicBezTo>
                    <a:pt x="2286139" y="0"/>
                    <a:pt x="2455280" y="169141"/>
                    <a:pt x="2455280" y="377788"/>
                  </a:cubicBezTo>
                  <a:cubicBezTo>
                    <a:pt x="2455280" y="586435"/>
                    <a:pt x="2286139" y="755576"/>
                    <a:pt x="2077492" y="755576"/>
                  </a:cubicBezTo>
                  <a:cubicBezTo>
                    <a:pt x="1868845" y="755576"/>
                    <a:pt x="1699704" y="586435"/>
                    <a:pt x="1699704" y="377788"/>
                  </a:cubicBezTo>
                  <a:cubicBezTo>
                    <a:pt x="1699704" y="169141"/>
                    <a:pt x="1868845" y="0"/>
                    <a:pt x="2077492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43"/>
            <p:cNvSpPr/>
            <p:nvPr/>
          </p:nvSpPr>
          <p:spPr>
            <a:xfrm>
              <a:off x="7872480" y="505800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抗压，不怕加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43"/>
          <p:cNvSpPr/>
          <p:nvPr/>
        </p:nvSpPr>
        <p:spPr>
          <a:xfrm>
            <a:off x="9956880" y="3992400"/>
            <a:ext cx="38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更多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等待你的发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·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0"/>
          <p:cNvGrpSpPr/>
          <p:nvPr/>
        </p:nvGrpSpPr>
        <p:grpSpPr>
          <a:xfrm>
            <a:off x="7539120" y="1627200"/>
            <a:ext cx="1914480" cy="1662120"/>
            <a:chOff x="7539120" y="1627200"/>
            <a:chExt cx="1914480" cy="1662120"/>
          </a:xfrm>
        </p:grpSpPr>
        <p:sp>
          <p:nvSpPr>
            <p:cNvPr id="242" name="文本框 43"/>
            <p:cNvSpPr/>
            <p:nvPr/>
          </p:nvSpPr>
          <p:spPr>
            <a:xfrm>
              <a:off x="7539120" y="2921040"/>
              <a:ext cx="19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丰富的网购经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21"/>
            <p:cNvSpPr/>
            <p:nvPr/>
          </p:nvSpPr>
          <p:spPr>
            <a:xfrm>
              <a:off x="7662960" y="1627200"/>
              <a:ext cx="1666800" cy="982440"/>
            </a:xfrm>
            <a:custGeom>
              <a:avLst/>
              <a:gdLst/>
              <a:ahLst/>
              <a:rect l="l" t="t" r="r" b="b"/>
              <a:pathLst>
                <a:path w="3286860" h="1938274">
                  <a:moveTo>
                    <a:pt x="2773459" y="1575932"/>
                  </a:moveTo>
                  <a:cubicBezTo>
                    <a:pt x="2873517" y="1575932"/>
                    <a:pt x="2954630" y="1657045"/>
                    <a:pt x="2954630" y="1757103"/>
                  </a:cubicBezTo>
                  <a:cubicBezTo>
                    <a:pt x="2954630" y="1857161"/>
                    <a:pt x="2873517" y="1938274"/>
                    <a:pt x="2773459" y="1938274"/>
                  </a:cubicBezTo>
                  <a:cubicBezTo>
                    <a:pt x="2673401" y="1938274"/>
                    <a:pt x="2592288" y="1857161"/>
                    <a:pt x="2592288" y="1757103"/>
                  </a:cubicBezTo>
                  <a:cubicBezTo>
                    <a:pt x="2592288" y="1657045"/>
                    <a:pt x="2673401" y="1575932"/>
                    <a:pt x="2773459" y="1575932"/>
                  </a:cubicBezTo>
                  <a:close/>
                  <a:moveTo>
                    <a:pt x="1462258" y="1575932"/>
                  </a:moveTo>
                  <a:cubicBezTo>
                    <a:pt x="1562316" y="1575932"/>
                    <a:pt x="1643429" y="1657045"/>
                    <a:pt x="1643429" y="1757103"/>
                  </a:cubicBezTo>
                  <a:cubicBezTo>
                    <a:pt x="1643429" y="1857161"/>
                    <a:pt x="1562316" y="1938274"/>
                    <a:pt x="1462258" y="1938274"/>
                  </a:cubicBezTo>
                  <a:cubicBezTo>
                    <a:pt x="1362200" y="1938274"/>
                    <a:pt x="1281087" y="1857161"/>
                    <a:pt x="1281087" y="1757103"/>
                  </a:cubicBezTo>
                  <a:cubicBezTo>
                    <a:pt x="1281087" y="1657045"/>
                    <a:pt x="1362200" y="1575932"/>
                    <a:pt x="1462258" y="1575932"/>
                  </a:cubicBezTo>
                  <a:close/>
                  <a:moveTo>
                    <a:pt x="1019913" y="7885"/>
                  </a:moveTo>
                  <a:lnTo>
                    <a:pt x="3286860" y="7885"/>
                  </a:lnTo>
                  <a:lnTo>
                    <a:pt x="3058771" y="1218992"/>
                  </a:lnTo>
                  <a:lnTo>
                    <a:pt x="1248001" y="1218992"/>
                  </a:lnTo>
                  <a:lnTo>
                    <a:pt x="1019913" y="7885"/>
                  </a:lnTo>
                  <a:close/>
                  <a:moveTo>
                    <a:pt x="0" y="0"/>
                  </a:moveTo>
                  <a:lnTo>
                    <a:pt x="1008112" y="0"/>
                  </a:lnTo>
                  <a:lnTo>
                    <a:pt x="1008112" y="30124"/>
                  </a:lnTo>
                  <a:lnTo>
                    <a:pt x="1079382" y="408554"/>
                  </a:lnTo>
                  <a:lnTo>
                    <a:pt x="1078170" y="408554"/>
                  </a:lnTo>
                  <a:lnTo>
                    <a:pt x="1258190" y="1364426"/>
                  </a:lnTo>
                  <a:lnTo>
                    <a:pt x="1269685" y="1364426"/>
                  </a:lnTo>
                  <a:lnTo>
                    <a:pt x="1269685" y="1381699"/>
                  </a:lnTo>
                  <a:lnTo>
                    <a:pt x="3033454" y="1381699"/>
                  </a:lnTo>
                  <a:lnTo>
                    <a:pt x="2995312" y="1575932"/>
                  </a:lnTo>
                  <a:lnTo>
                    <a:pt x="2773459" y="1575932"/>
                  </a:lnTo>
                  <a:lnTo>
                    <a:pt x="1462258" y="1575932"/>
                  </a:lnTo>
                  <a:lnTo>
                    <a:pt x="1183648" y="1575932"/>
                  </a:lnTo>
                  <a:lnTo>
                    <a:pt x="923432" y="194233"/>
                  </a:lnTo>
                  <a:lnTo>
                    <a:pt x="0" y="1942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47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54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259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262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43"/>
          <p:cNvSpPr/>
          <p:nvPr/>
        </p:nvSpPr>
        <p:spPr>
          <a:xfrm>
            <a:off x="6616800" y="3421080"/>
            <a:ext cx="407196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岗位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43"/>
          <p:cNvSpPr/>
          <p:nvPr/>
        </p:nvSpPr>
        <p:spPr>
          <a:xfrm>
            <a:off x="6024600" y="2100240"/>
            <a:ext cx="525600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BankGothic Lt BT"/>
                <a:ea typeface="方正风雅宋简体"/>
              </a:rPr>
              <a:t>Company’s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92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99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04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07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3"/>
          <p:cNvSpPr/>
          <p:nvPr/>
        </p:nvSpPr>
        <p:spPr>
          <a:xfrm>
            <a:off x="7029360" y="293832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43"/>
          <p:cNvSpPr/>
          <p:nvPr/>
        </p:nvSpPr>
        <p:spPr>
          <a:xfrm>
            <a:off x="7029360" y="37083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3"/>
          <p:cNvSpPr/>
          <p:nvPr/>
        </p:nvSpPr>
        <p:spPr>
          <a:xfrm>
            <a:off x="7029360" y="44798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41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48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53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56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3"/>
          <p:cNvSpPr/>
          <p:nvPr/>
        </p:nvSpPr>
        <p:spPr>
          <a:xfrm>
            <a:off x="7032600" y="335124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矩形 56" descr=""/>
          <p:cNvPicPr/>
          <p:nvPr/>
        </p:nvPicPr>
        <p:blipFill>
          <a:blip r:embed="rId1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  <p:pic>
        <p:nvPicPr>
          <p:cNvPr id="385" name="矩形 62" descr=""/>
          <p:cNvPicPr/>
          <p:nvPr/>
        </p:nvPicPr>
        <p:blipFill>
          <a:blip r:embed="rId2"/>
          <a:stretch/>
        </p:blipFill>
        <p:spPr>
          <a:xfrm>
            <a:off x="7040520" y="2414520"/>
            <a:ext cx="2805120" cy="280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29"/>
          <p:cNvSpPr/>
          <p:nvPr/>
        </p:nvSpPr>
        <p:spPr>
          <a:xfrm>
            <a:off x="-1440" y="1128600"/>
            <a:ext cx="39589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44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89" name="矩形 27"/>
            <p:cNvSpPr/>
            <p:nvPr/>
          </p:nvSpPr>
          <p:spPr>
            <a:xfrm>
              <a:off x="5451120" y="984240"/>
              <a:ext cx="676620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30"/>
            <p:cNvSpPr/>
            <p:nvPr/>
          </p:nvSpPr>
          <p:spPr>
            <a:xfrm>
              <a:off x="5448240" y="112860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31"/>
            <p:cNvSpPr/>
            <p:nvPr/>
          </p:nvSpPr>
          <p:spPr>
            <a:xfrm>
              <a:off x="5449680" y="898560"/>
              <a:ext cx="676764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直接连接符 32"/>
          <p:cNvSpPr/>
          <p:nvPr/>
        </p:nvSpPr>
        <p:spPr>
          <a:xfrm>
            <a:off x="-1440" y="89856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96" name="矩形 48"/>
            <p:cNvSpPr/>
            <p:nvPr/>
          </p:nvSpPr>
          <p:spPr>
            <a:xfrm>
              <a:off x="5454360" y="6107040"/>
              <a:ext cx="6764760" cy="730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49"/>
            <p:cNvSpPr/>
            <p:nvPr/>
          </p:nvSpPr>
          <p:spPr>
            <a:xfrm>
              <a:off x="5451480" y="6251400"/>
              <a:ext cx="676476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50"/>
            <p:cNvSpPr/>
            <p:nvPr/>
          </p:nvSpPr>
          <p:spPr>
            <a:xfrm>
              <a:off x="5452920" y="6021360"/>
              <a:ext cx="676620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01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66"/>
            <p:cNvSpPr/>
            <p:nvPr/>
          </p:nvSpPr>
          <p:spPr>
            <a:xfrm>
              <a:off x="1028880" y="196200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04" name="梯形 8"/>
              <p:cNvSpPr/>
              <p:nvPr/>
            </p:nvSpPr>
            <p:spPr>
              <a:xfrm>
                <a:off x="1026000" y="2166480"/>
                <a:ext cx="312480" cy="129960"/>
              </a:xfrm>
              <a:custGeom>
                <a:avLst/>
                <a:gdLst/>
                <a:ahLst/>
                <a:rect l="l" t="t" r="r" b="b"/>
                <a:pathLst>
                  <a:path w="1944216" h="1174244">
                    <a:moveTo>
                      <a:pt x="0" y="1174244"/>
                    </a:moveTo>
                    <a:lnTo>
                      <a:pt x="263539" y="128511"/>
                    </a:lnTo>
                    <a:cubicBezTo>
                      <a:pt x="975280" y="-3386"/>
                      <a:pt x="265415" y="128722"/>
                      <a:pt x="970012" y="0"/>
                    </a:cubicBezTo>
                    <a:lnTo>
                      <a:pt x="1673533" y="125855"/>
                    </a:lnTo>
                    <a:lnTo>
                      <a:pt x="1944216" y="1174244"/>
                    </a:lnTo>
                    <a:lnTo>
                      <a:pt x="0" y="117424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90"/>
              <p:cNvSpPr/>
              <p:nvPr/>
            </p:nvSpPr>
            <p:spPr>
              <a:xfrm>
                <a:off x="1117800" y="2026800"/>
                <a:ext cx="128520" cy="12672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直接连接符 68"/>
            <p:cNvSpPr/>
            <p:nvPr/>
          </p:nvSpPr>
          <p:spPr>
            <a:xfrm>
              <a:off x="345960" y="19666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69"/>
            <p:cNvSpPr/>
            <p:nvPr/>
          </p:nvSpPr>
          <p:spPr>
            <a:xfrm>
              <a:off x="345960" y="22986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70"/>
            <p:cNvSpPr/>
            <p:nvPr/>
          </p:nvSpPr>
          <p:spPr>
            <a:xfrm>
              <a:off x="345960" y="20336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71"/>
            <p:cNvSpPr/>
            <p:nvPr/>
          </p:nvSpPr>
          <p:spPr>
            <a:xfrm>
              <a:off x="345960" y="21002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72"/>
            <p:cNvSpPr/>
            <p:nvPr/>
          </p:nvSpPr>
          <p:spPr>
            <a:xfrm>
              <a:off x="345960" y="21668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73"/>
            <p:cNvSpPr/>
            <p:nvPr/>
          </p:nvSpPr>
          <p:spPr>
            <a:xfrm>
              <a:off x="345960" y="223200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74"/>
            <p:cNvSpPr/>
            <p:nvPr/>
          </p:nvSpPr>
          <p:spPr>
            <a:xfrm>
              <a:off x="345960" y="2352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75"/>
            <p:cNvSpPr/>
            <p:nvPr/>
          </p:nvSpPr>
          <p:spPr>
            <a:xfrm>
              <a:off x="345960" y="311004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76"/>
            <p:cNvSpPr/>
            <p:nvPr/>
          </p:nvSpPr>
          <p:spPr>
            <a:xfrm>
              <a:off x="345960" y="2982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7"/>
            <p:cNvSpPr/>
            <p:nvPr/>
          </p:nvSpPr>
          <p:spPr>
            <a:xfrm>
              <a:off x="345960" y="2919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78"/>
            <p:cNvSpPr/>
            <p:nvPr/>
          </p:nvSpPr>
          <p:spPr>
            <a:xfrm>
              <a:off x="345960" y="2857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79"/>
            <p:cNvSpPr/>
            <p:nvPr/>
          </p:nvSpPr>
          <p:spPr>
            <a:xfrm>
              <a:off x="345960" y="2793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80"/>
            <p:cNvSpPr/>
            <p:nvPr/>
          </p:nvSpPr>
          <p:spPr>
            <a:xfrm>
              <a:off x="345960" y="2730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81"/>
            <p:cNvSpPr/>
            <p:nvPr/>
          </p:nvSpPr>
          <p:spPr>
            <a:xfrm>
              <a:off x="345960" y="2668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82"/>
            <p:cNvSpPr/>
            <p:nvPr/>
          </p:nvSpPr>
          <p:spPr>
            <a:xfrm>
              <a:off x="345960" y="2605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83"/>
            <p:cNvSpPr/>
            <p:nvPr/>
          </p:nvSpPr>
          <p:spPr>
            <a:xfrm>
              <a:off x="345960" y="254160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84"/>
            <p:cNvSpPr/>
            <p:nvPr/>
          </p:nvSpPr>
          <p:spPr>
            <a:xfrm>
              <a:off x="345960" y="2479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85"/>
            <p:cNvSpPr/>
            <p:nvPr/>
          </p:nvSpPr>
          <p:spPr>
            <a:xfrm>
              <a:off x="345960" y="241632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86"/>
            <p:cNvSpPr/>
            <p:nvPr/>
          </p:nvSpPr>
          <p:spPr>
            <a:xfrm>
              <a:off x="345960" y="3046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87"/>
            <p:cNvSpPr/>
            <p:nvPr/>
          </p:nvSpPr>
          <p:spPr>
            <a:xfrm>
              <a:off x="345960" y="317196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88"/>
            <p:cNvSpPr/>
            <p:nvPr/>
          </p:nvSpPr>
          <p:spPr>
            <a:xfrm>
              <a:off x="345960" y="3235680"/>
              <a:ext cx="107028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3"/>
          <p:cNvSpPr/>
          <p:nvPr/>
        </p:nvSpPr>
        <p:spPr>
          <a:xfrm>
            <a:off x="7032600" y="332280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L 形 3" descr=""/>
          <p:cNvPicPr/>
          <p:nvPr/>
        </p:nvPicPr>
        <p:blipFill>
          <a:blip r:embed="rId1"/>
          <a:stretch/>
        </p:blipFill>
        <p:spPr>
          <a:xfrm>
            <a:off x="6473880" y="804960"/>
            <a:ext cx="4718160" cy="47178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09:53Z</dcterms:created>
  <dc:creator>Authen</dc:creator>
  <dc:description/>
  <dc:language>en-US</dc:language>
  <cp:lastModifiedBy>admin</cp:lastModifiedBy>
  <dcterms:modified xsi:type="dcterms:W3CDTF">2016-11-19T03:05:32Z</dcterms:modified>
  <cp:revision>103</cp:revision>
  <dc:subject/>
  <dc:title>PowerPoint 演示文稿</dc:title>
</cp:coreProperties>
</file>