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0BB-D743-4905-81B4-858039F3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8D1-2BF6-4CD8-9FAB-930884FC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E2B-77EE-4EF2-A2E9-5D41FF4D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BB4-979E-44D9-A603-9DF4AF61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14A-59AF-46EF-A759-2A2885C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B82-3D30-419B-98E4-7BC6899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F40-35BA-449E-82C6-12EED96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37F-6C49-4C35-9887-33102378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30D-B377-45A7-A7BE-A59C386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909-AA62-41BF-AE87-5D4039E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212-44C9-4689-B82B-50A3E5B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CCF-1223-413E-BD8C-4D501FC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4B1-44EC-41C4-ABE9-6DCFC6BE74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046560" y="150012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45720" y="42836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81840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948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28600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926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926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26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019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2892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640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948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714680" y="4500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09160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9882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2024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640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1640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0T03:40:37Z</dcterms:modified>
  <cp:revision>33</cp:revision>
  <dc:subject/>
  <dc:title>幻灯片 1</dc:title>
</cp:coreProperties>
</file>