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44D-8752-4565-9560-E1D96779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249-4C1A-4D27-A71D-A2943D41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84D76-4698-41B9-9559-1A99885C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72CFF-5E63-403D-9C4B-C1E9AEA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67AC3-E72A-4662-A1A8-0447AE72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C7560-6945-4FAC-95A9-BC7BCCB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9A487-40D7-40AD-AF31-7680473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83E99-0913-40F6-8E98-A266CC51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0E7DA-4850-4076-924B-34A75B53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12894-3F97-42B3-8B3F-E28CE129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5D3C3-0E67-4ED9-85EA-A1F1E0FF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29ACD-6847-4397-9A26-BC3DB2AB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3A0-7BEB-487A-893E-236CC391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0A70D-4683-4027-8282-5428BDD7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04B45-EF23-48FE-B576-18D8E423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A38E3-E13B-403A-94AD-5C4FE53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B48F6-E674-4613-A479-0288DD53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F05F6-295B-4FC4-9309-41C98424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CE578-69C5-4E6A-9C00-3B67EBB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107C1-33DA-4B04-86CC-8E46A52C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EBBBF-FACF-4032-967B-A0DAA2C3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CDB90-5CD9-43CD-BF5F-0D6A26DD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5A95A-4D9E-4ACC-A732-6E2A7657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9F3-D8BA-4D48-A6C8-5164D0C9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2B6F0-E795-4CFF-B07A-37F08D81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90D76-AC4F-42CC-95D0-195591FE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128A0-3A3E-4FED-9FB6-9ADC7B21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BF857-E2C0-4561-AD40-9EC94EBA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D419E-D1F8-4CAA-A7F2-A0EA1C9D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1E1A6-D28F-477C-8728-7B0C2FCE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18777-5F23-484A-9CAE-0F87AAB7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241D4-F28A-4D6E-8820-D5E8619F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D9D9C-7676-4B11-AA00-0436472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A439C-5F61-4A03-98AB-C7B9152A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AE796-3CF1-41AC-8915-70A7C866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E842F-EC82-4227-BB28-5E66E024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D3352-6441-4190-8B6F-789939ED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0D8C6-2DA9-44B1-B390-A957CCAB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0C96B-3377-4CEC-9816-3170D33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62CA3-E24F-4BFA-9479-9137605A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18108-D578-4546-B7D3-C21FE4CE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A9C32-D24F-49E3-9D9B-58CDD6D2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84593-9D84-4747-8712-9E571236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F89A1-5186-4CED-875F-05AEFC2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7C020-7C1F-41B4-A22C-0607628D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627FB-FD1E-4D9A-BAE1-F6C67437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04686-6FA3-48C8-897B-B876A00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BAF6D-8418-4C1C-95F9-30BB3B7C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F1205-5824-4892-A123-24F49A17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BAFF7-73C8-47AD-8FF4-2ACD7171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D3FA-0C94-4ADD-92E0-594E8309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EEA71-0575-42EE-8B96-DC47DADE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2DBBC-97A8-4507-A0C4-84D4F773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7EFF5-7F7B-453C-93F5-D6DA38B4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08D27-BA38-4F3F-BB97-F1EA52C1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BA962-460C-4EC9-A4B6-46ABB767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859EA-370B-4E42-9682-1B5B0C33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E0A2A-15AF-4DB1-9127-3D65AA0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711CA-CE56-4603-9AB5-AF8470D2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A8F1F-2DF7-4D37-A290-6553B3B0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D4E7B-3D2D-4C95-A28B-404A5DF3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57617-00B7-4A68-9046-F3242590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857C2-21A3-497F-A458-69E6A609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7385C-3507-4695-A095-C9C4DDB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F5FE1-6F08-42D7-97E4-367ABB16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3ACE0-1D6D-411A-BCCF-EE7C2AA0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CC07B-2367-4EB5-86A9-F5E6E240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658E9-4FF5-47F2-90D4-09F82782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FB191-A377-4471-8B00-4FD8EC0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FCCF9-FF9F-4CAE-B95E-0C0430FD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52C16-42FA-462E-BBF2-539FA2FF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E0639-B3D0-4CD6-AD64-63D4DEB5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E49E3-49E3-4C62-8654-02436286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AB7-8063-4343-A18A-36D0B528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3B7-B725-4B3D-8AAA-AD74F20E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E9B8-1204-48D2-BF6D-52B38B09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A86F-9D96-42B7-AD71-4A33C135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CB9A-61C4-4CCC-B384-767D82B8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333-B9B1-4066-A87B-91BB69B4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C2C5-5A50-41B1-A62E-7C79C7AD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0DA8-769A-4191-89E7-E32FE700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5D0D-119A-46A6-A7EF-345FF0C5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3D73-8C72-409E-9744-6988B7DA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C10C-638B-4F95-847B-E962B530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DF7C-7744-4B98-8B9A-97064397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91AA-CD58-4CCB-AFD7-511AC0F6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DD34-4AD3-409E-8A39-C57F0516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1EC2-57D5-4B5B-914C-D4318DE0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E863-C38E-4399-9D08-8A4DBE14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51C-60EE-4744-8F83-7121ADAC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C831-81CD-437B-B059-329DF527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539E-94EA-43A0-9C55-DD63FB6B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5021-3877-4AFF-B88B-65AEF163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5F8F-B563-4A99-B55F-1DBA3296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D2BB-D10D-4082-8F43-DAD9B79D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6DB44-145E-4FB2-ACBE-C4AC9A0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3C17-526A-4397-8546-19F47E9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974E-80E9-442E-BD56-1E95EBAC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8AAE-7915-4892-8910-5B02994C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28A1-AEBA-4F24-BDD8-976CE582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B7B-DE81-4D08-A336-1192E464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E428-D762-4D05-B575-27853730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C539-9C98-495C-8008-34035F4F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FE91-D6A7-4F5E-A1E2-11E4B37E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5744-FA0E-4A0D-A13D-DCD4FAEB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087F-27A1-4C26-8A78-67C9ED8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C207-6F1C-4713-8B11-8CE9477C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121A-454E-4C15-B1AB-D485742D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8B98-8198-4D62-8051-F349EA6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B7A8-BDBC-4D58-B1CC-9255089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416C6-C8D5-47C0-897F-4251398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28B-3474-4364-AF4C-AEA07A9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3C9E2-82CE-40C9-A670-96E1343D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ADAF5-20B8-4B25-AABB-42760E7A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EDE0-A3B7-45EA-9441-6583ECE2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C74A-29A9-4869-B3DF-9F1C3907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7A1E-DECE-4AD8-8D9C-EE1AD9E7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67C45-33F2-4F1E-BE49-E4E43D79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01A6-3EAA-45DE-89F0-C89DAEAD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06648-7261-48FE-85DE-A7307724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36142-850B-4D00-B65F-97AE15A2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A0305-1AD9-4407-852B-C10BC86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9CA-2485-46B9-B162-75E77861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B9FF7-0AC0-4F9E-8DE6-2DBA0D59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2D600-AB9C-4892-859C-06F186D9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9971-C8AD-44B1-A96B-00535F31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832F0-319C-4378-9F54-62603248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776F-43BB-4CE2-A745-6E26A307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0B2CB-A7F2-461E-A54A-6E82AFC2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AED26-FCE8-4A8F-A344-975196A1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08B2D-DA25-4066-8786-80B83C3D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3A3F7-A0DE-4845-9BFC-EF7F7CA3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0E13-9A11-4078-AE26-6D6AA9D1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E84-6541-439D-B0AC-E53EC7C3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F116D-6425-42F4-818C-2801D664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4DE37-71D9-4372-9FE0-6589A52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1B66A-BAC8-42BF-9B97-54EF9F9B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405E6-C28B-44E7-B889-A885D34B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83E6-5847-4523-8E54-9F75DA37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89EEB-09CE-46AA-9F36-FD734AFB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6C81D-CF0D-4C95-BF4D-3DA751B2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ED02-AD90-4B52-90C0-490F935F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02F0F-3B33-47BE-9AB0-F43DD7F1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F2AAF-4815-4F67-8479-127EB51E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135-6E63-44D2-89C8-86BEC75C8862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B7B3-A3AE-4CA5-9E4C-F2E588E1ED98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2FD8-26F5-4400-91D9-DB9CB0248808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427A-8C72-4A48-8502-E31AC98B7536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6DA9-6E28-4D00-A82F-5CE90FE66FCF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D94C-1092-4781-BA41-62B3A00B6EEA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7"/>
          <p:cNvGrpSpPr/>
          <p:nvPr/>
        </p:nvGrpSpPr>
        <p:grpSpPr>
          <a:xfrm>
            <a:off x="-1955880" y="-12600"/>
            <a:ext cx="16078320" cy="7873920"/>
            <a:chOff x="-1955880" y="-12600"/>
            <a:chExt cx="16078320" cy="7873920"/>
          </a:xfrm>
        </p:grpSpPr>
        <p:sp>
          <p:nvSpPr>
            <p:cNvPr id="82" name="Freeform 62"/>
            <p:cNvSpPr/>
            <p:nvPr/>
          </p:nvSpPr>
          <p:spPr>
            <a:xfrm>
              <a:off x="-33480" y="-12600"/>
              <a:ext cx="12243240" cy="7873920"/>
            </a:xfrm>
            <a:custGeom>
              <a:avLst/>
              <a:gdLst>
                <a:gd name="textAreaLeft" fmla="*/ 0 w 12243240"/>
                <a:gd name="textAreaRight" fmla="*/ 12243600 w 12243240"/>
                <a:gd name="textAreaTop" fmla="*/ 0 h 7873920"/>
                <a:gd name="textAreaBottom" fmla="*/ 7874280 h 787392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63"/>
            <p:cNvSpPr/>
            <p:nvPr/>
          </p:nvSpPr>
          <p:spPr>
            <a:xfrm>
              <a:off x="57240" y="50040"/>
              <a:ext cx="12061080" cy="7748280"/>
            </a:xfrm>
            <a:custGeom>
              <a:avLst/>
              <a:gdLst>
                <a:gd name="textAreaLeft" fmla="*/ 0 w 12061080"/>
                <a:gd name="textAreaRight" fmla="*/ 12061440 w 12061080"/>
                <a:gd name="textAreaTop" fmla="*/ 0 h 7748280"/>
                <a:gd name="textAreaBottom" fmla="*/ 7748640 h 774828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4"/>
            <p:cNvSpPr/>
            <p:nvPr/>
          </p:nvSpPr>
          <p:spPr>
            <a:xfrm>
              <a:off x="-1955880" y="6894000"/>
              <a:ext cx="16078320" cy="967320"/>
            </a:xfrm>
            <a:custGeom>
              <a:avLst/>
              <a:gdLst>
                <a:gd name="textAreaLeft" fmla="*/ 0 w 16078320"/>
                <a:gd name="textAreaRight" fmla="*/ 16078680 w 1607832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65"/>
            <p:cNvSpPr/>
            <p:nvPr/>
          </p:nvSpPr>
          <p:spPr>
            <a:xfrm>
              <a:off x="-1937520" y="7460280"/>
              <a:ext cx="16041960" cy="401040"/>
            </a:xfrm>
            <a:custGeom>
              <a:avLst/>
              <a:gdLst>
                <a:gd name="textAreaLeft" fmla="*/ 0 w 16041960"/>
                <a:gd name="textAreaRight" fmla="*/ 16042320 w 1604196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66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69"/>
            <p:cNvSpPr/>
            <p:nvPr/>
          </p:nvSpPr>
          <p:spPr>
            <a:xfrm>
              <a:off x="594720" y="734400"/>
              <a:ext cx="10986120" cy="5773680"/>
            </a:xfrm>
            <a:custGeom>
              <a:avLst/>
              <a:gdLst>
                <a:gd name="textAreaLeft" fmla="*/ 0 w 10986120"/>
                <a:gd name="textAreaRight" fmla="*/ 10986480 w 10986120"/>
                <a:gd name="textAreaTop" fmla="*/ 0 h 5773680"/>
                <a:gd name="textAreaBottom" fmla="*/ 5774040 h 577368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74"/>
            <p:cNvSpPr/>
            <p:nvPr/>
          </p:nvSpPr>
          <p:spPr>
            <a:xfrm>
              <a:off x="5923800" y="152280"/>
              <a:ext cx="318600" cy="2750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75"/>
            <p:cNvSpPr/>
            <p:nvPr/>
          </p:nvSpPr>
          <p:spPr>
            <a:xfrm>
              <a:off x="5960160" y="183960"/>
              <a:ext cx="254880" cy="227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76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77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78"/>
            <p:cNvSpPr/>
            <p:nvPr/>
          </p:nvSpPr>
          <p:spPr>
            <a:xfrm>
              <a:off x="-1591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79"/>
            <p:cNvSpPr/>
            <p:nvPr/>
          </p:nvSpPr>
          <p:spPr>
            <a:xfrm>
              <a:off x="-156384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80"/>
            <p:cNvSpPr/>
            <p:nvPr/>
          </p:nvSpPr>
          <p:spPr>
            <a:xfrm>
              <a:off x="-121788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81"/>
            <p:cNvSpPr/>
            <p:nvPr/>
          </p:nvSpPr>
          <p:spPr>
            <a:xfrm>
              <a:off x="-119052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82"/>
            <p:cNvSpPr/>
            <p:nvPr/>
          </p:nvSpPr>
          <p:spPr>
            <a:xfrm>
              <a:off x="-844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83"/>
            <p:cNvSpPr/>
            <p:nvPr/>
          </p:nvSpPr>
          <p:spPr>
            <a:xfrm>
              <a:off x="-807840" y="7098480"/>
              <a:ext cx="17280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36B7-6DC9-4ACF-8049-E8B6E06C517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CBAF-133E-4B55-9950-C8EFA5D1B2CC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8047-6D0F-4AE6-A330-57A5EE934D1F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8453-2ECF-40B3-85EA-AE57B3DF6612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2452-64F5-4F04-BF9C-94FFA50219C2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B6E0-910B-4A9E-8793-974484BC2D33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7.wmf"/><Relationship Id="rId3" Type="http://schemas.openxmlformats.org/officeDocument/2006/relationships/image" Target="../media/image28.wmf"/><Relationship Id="rId4" Type="http://schemas.openxmlformats.org/officeDocument/2006/relationships/image" Target="../media/image18.wmf"/><Relationship Id="rId5" Type="http://schemas.openxmlformats.org/officeDocument/2006/relationships/image" Target="../media/image29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7" descr=""/>
          <p:cNvPicPr/>
          <p:nvPr/>
        </p:nvPicPr>
        <p:blipFill>
          <a:blip r:embed="rId1"/>
          <a:stretch/>
        </p:blipFill>
        <p:spPr>
          <a:xfrm>
            <a:off x="1152360" y="184320"/>
            <a:ext cx="9887040" cy="667368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5"/>
          <p:cNvSpPr/>
          <p:nvPr/>
        </p:nvSpPr>
        <p:spPr>
          <a:xfrm>
            <a:off x="4505400" y="33638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4707000" y="4849920"/>
            <a:ext cx="2271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12"/>
          <p:cNvGrpSpPr/>
          <p:nvPr/>
        </p:nvGrpSpPr>
        <p:grpSpPr>
          <a:xfrm>
            <a:off x="4257720" y="4795920"/>
            <a:ext cx="3165480" cy="358560"/>
            <a:chOff x="4257720" y="4795920"/>
            <a:chExt cx="3165480" cy="358560"/>
          </a:xfrm>
        </p:grpSpPr>
        <p:sp>
          <p:nvSpPr>
            <p:cNvPr id="592" name="Freeform 5"/>
            <p:cNvSpPr/>
            <p:nvPr/>
          </p:nvSpPr>
          <p:spPr>
            <a:xfrm>
              <a:off x="4257720" y="4795920"/>
              <a:ext cx="3165480" cy="358560"/>
            </a:xfrm>
            <a:custGeom>
              <a:avLst/>
              <a:gdLst>
                <a:gd name="textAreaLeft" fmla="*/ 0 w 3165480"/>
                <a:gd name="textAreaRight" fmla="*/ 3165840 w 3165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6861600" y="4795920"/>
              <a:ext cx="561600" cy="3542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07" h="65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93" y="65"/>
                    <a:pt x="107" y="51"/>
                    <a:pt x="107" y="33"/>
                  </a:cubicBezTo>
                  <a:cubicBezTo>
                    <a:pt x="107" y="14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6956280" y="4829760"/>
              <a:ext cx="294120" cy="3099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文本框 13"/>
          <p:cNvSpPr/>
          <p:nvPr/>
        </p:nvSpPr>
        <p:spPr>
          <a:xfrm>
            <a:off x="5320800" y="4800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14"/>
          <p:cNvSpPr/>
          <p:nvPr/>
        </p:nvSpPr>
        <p:spPr>
          <a:xfrm>
            <a:off x="3496680" y="261144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XX-20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857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8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859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881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3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4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895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896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9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901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902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5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6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104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909" name="组合 105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910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3" name="文本框 106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4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915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916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9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2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、工作态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5" name="矩形 58"/>
          <p:cNvGrpSpPr/>
          <p:nvPr/>
        </p:nvGrpSpPr>
        <p:grpSpPr>
          <a:xfrm>
            <a:off x="1042920" y="3011400"/>
            <a:ext cx="2370240" cy="2590560"/>
            <a:chOff x="1042920" y="3011400"/>
            <a:chExt cx="2370240" cy="2590560"/>
          </a:xfrm>
        </p:grpSpPr>
        <p:pic>
          <p:nvPicPr>
            <p:cNvPr id="926" name="矩形 58" descr=""/>
            <p:cNvPicPr/>
            <p:nvPr/>
          </p:nvPicPr>
          <p:blipFill>
            <a:blip r:embed="rId1"/>
            <a:stretch/>
          </p:blipFill>
          <p:spPr>
            <a:xfrm>
              <a:off x="1045800" y="3011400"/>
              <a:ext cx="23637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Text Box 9"/>
            <p:cNvSpPr/>
            <p:nvPr/>
          </p:nvSpPr>
          <p:spPr>
            <a:xfrm>
              <a:off x="1042920" y="3012480"/>
              <a:ext cx="237024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任意多边形 59"/>
          <p:cNvSpPr/>
          <p:nvPr/>
        </p:nvSpPr>
        <p:spPr>
          <a:xfrm>
            <a:off x="103968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文本框 60"/>
          <p:cNvSpPr/>
          <p:nvPr/>
        </p:nvSpPr>
        <p:spPr>
          <a:xfrm>
            <a:off x="167004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矩形 61"/>
          <p:cNvGrpSpPr/>
          <p:nvPr/>
        </p:nvGrpSpPr>
        <p:grpSpPr>
          <a:xfrm>
            <a:off x="3633840" y="3011400"/>
            <a:ext cx="2376000" cy="2590560"/>
            <a:chOff x="3633840" y="3011400"/>
            <a:chExt cx="2376000" cy="2590560"/>
          </a:xfrm>
        </p:grpSpPr>
        <p:pic>
          <p:nvPicPr>
            <p:cNvPr id="931" name="矩形 61" descr=""/>
            <p:cNvPicPr/>
            <p:nvPr/>
          </p:nvPicPr>
          <p:blipFill>
            <a:blip r:embed="rId2"/>
            <a:stretch/>
          </p:blipFill>
          <p:spPr>
            <a:xfrm>
              <a:off x="3634920" y="3011400"/>
              <a:ext cx="237492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4"/>
            <p:cNvSpPr/>
            <p:nvPr/>
          </p:nvSpPr>
          <p:spPr>
            <a:xfrm>
              <a:off x="3633840" y="3012480"/>
              <a:ext cx="237492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3" name="任意多边形 62"/>
          <p:cNvSpPr/>
          <p:nvPr/>
        </p:nvSpPr>
        <p:spPr>
          <a:xfrm>
            <a:off x="363204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矩形 64"/>
          <p:cNvGrpSpPr/>
          <p:nvPr/>
        </p:nvGrpSpPr>
        <p:grpSpPr>
          <a:xfrm>
            <a:off x="6211800" y="3011400"/>
            <a:ext cx="2378160" cy="2590560"/>
            <a:chOff x="6211800" y="3011400"/>
            <a:chExt cx="2378160" cy="2590560"/>
          </a:xfrm>
        </p:grpSpPr>
        <p:pic>
          <p:nvPicPr>
            <p:cNvPr id="935" name="矩形 64" descr=""/>
            <p:cNvPicPr/>
            <p:nvPr/>
          </p:nvPicPr>
          <p:blipFill>
            <a:blip r:embed="rId3"/>
            <a:stretch/>
          </p:blipFill>
          <p:spPr>
            <a:xfrm>
              <a:off x="6211800" y="3011400"/>
              <a:ext cx="23781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Text Box 18"/>
            <p:cNvSpPr/>
            <p:nvPr/>
          </p:nvSpPr>
          <p:spPr>
            <a:xfrm>
              <a:off x="6211800" y="3012480"/>
              <a:ext cx="237636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任意多边形 65"/>
          <p:cNvSpPr/>
          <p:nvPr/>
        </p:nvSpPr>
        <p:spPr>
          <a:xfrm>
            <a:off x="621180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8" name="矩形 68"/>
          <p:cNvGrpSpPr/>
          <p:nvPr/>
        </p:nvGrpSpPr>
        <p:grpSpPr>
          <a:xfrm>
            <a:off x="8759880" y="3011400"/>
            <a:ext cx="2371680" cy="2590560"/>
            <a:chOff x="8759880" y="3011400"/>
            <a:chExt cx="2371680" cy="2590560"/>
          </a:xfrm>
        </p:grpSpPr>
        <p:pic>
          <p:nvPicPr>
            <p:cNvPr id="939" name="矩形 68" descr=""/>
            <p:cNvPicPr/>
            <p:nvPr/>
          </p:nvPicPr>
          <p:blipFill>
            <a:blip r:embed="rId4"/>
            <a:stretch/>
          </p:blipFill>
          <p:spPr>
            <a:xfrm>
              <a:off x="8762760" y="3011400"/>
              <a:ext cx="236664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 Box 22"/>
            <p:cNvSpPr/>
            <p:nvPr/>
          </p:nvSpPr>
          <p:spPr>
            <a:xfrm>
              <a:off x="8759880" y="3012480"/>
              <a:ext cx="237168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任意多边形 83"/>
          <p:cNvSpPr/>
          <p:nvPr/>
        </p:nvSpPr>
        <p:spPr>
          <a:xfrm>
            <a:off x="8756640" y="2241720"/>
            <a:ext cx="2376360" cy="99036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29"/>
          <p:cNvSpPr/>
          <p:nvPr/>
        </p:nvSpPr>
        <p:spPr>
          <a:xfrm>
            <a:off x="4311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0"/>
          <p:cNvSpPr/>
          <p:nvPr/>
        </p:nvSpPr>
        <p:spPr>
          <a:xfrm>
            <a:off x="6885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31"/>
          <p:cNvSpPr/>
          <p:nvPr/>
        </p:nvSpPr>
        <p:spPr>
          <a:xfrm>
            <a:off x="939168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4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4"/>
          <p:cNvGrpSpPr/>
          <p:nvPr/>
        </p:nvGrpSpPr>
        <p:grpSpPr>
          <a:xfrm>
            <a:off x="1989000" y="2598840"/>
            <a:ext cx="3759480" cy="2565360"/>
            <a:chOff x="1989000" y="2598840"/>
            <a:chExt cx="3759480" cy="2565360"/>
          </a:xfrm>
        </p:grpSpPr>
        <p:sp>
          <p:nvSpPr>
            <p:cNvPr id="951" name="任意多边形 14"/>
            <p:cNvSpPr/>
            <p:nvPr/>
          </p:nvSpPr>
          <p:spPr>
            <a:xfrm>
              <a:off x="1989000" y="2598840"/>
              <a:ext cx="3759480" cy="2124000"/>
            </a:xfrm>
            <a:custGeom>
              <a:avLst/>
              <a:gdLst>
                <a:gd name="textAreaLeft" fmla="*/ 0 w 3759480"/>
                <a:gd name="textAreaRight" fmla="*/ 3759840 w 375948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任意多边形 15"/>
            <p:cNvSpPr/>
            <p:nvPr/>
          </p:nvSpPr>
          <p:spPr>
            <a:xfrm>
              <a:off x="3602160" y="4262400"/>
              <a:ext cx="2089440" cy="901800"/>
            </a:xfrm>
            <a:custGeom>
              <a:avLst/>
              <a:gdLst>
                <a:gd name="textAreaLeft" fmla="*/ 0 w 2089440"/>
                <a:gd name="textAreaRight" fmla="*/ 2089800 w 208944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TextBox 6"/>
            <p:cNvSpPr/>
            <p:nvPr/>
          </p:nvSpPr>
          <p:spPr>
            <a:xfrm>
              <a:off x="2249280" y="320868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TextBox 2"/>
            <p:cNvSpPr/>
            <p:nvPr/>
          </p:nvSpPr>
          <p:spPr>
            <a:xfrm>
              <a:off x="3431520" y="304740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5" name="组合 3"/>
          <p:cNvGrpSpPr/>
          <p:nvPr/>
        </p:nvGrpSpPr>
        <p:grpSpPr>
          <a:xfrm>
            <a:off x="6572160" y="2671920"/>
            <a:ext cx="3759120" cy="2565360"/>
            <a:chOff x="6572160" y="2671920"/>
            <a:chExt cx="3759120" cy="2565360"/>
          </a:xfrm>
        </p:grpSpPr>
        <p:sp>
          <p:nvSpPr>
            <p:cNvPr id="956" name="任意多边形 17"/>
            <p:cNvSpPr/>
            <p:nvPr/>
          </p:nvSpPr>
          <p:spPr>
            <a:xfrm>
              <a:off x="6572160" y="2671920"/>
              <a:ext cx="3759120" cy="2124000"/>
            </a:xfrm>
            <a:custGeom>
              <a:avLst/>
              <a:gdLst>
                <a:gd name="textAreaLeft" fmla="*/ 0 w 3759120"/>
                <a:gd name="textAreaRight" fmla="*/ 3759480 w 375912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任意多边形 18"/>
            <p:cNvSpPr/>
            <p:nvPr/>
          </p:nvSpPr>
          <p:spPr>
            <a:xfrm>
              <a:off x="8184960" y="4335480"/>
              <a:ext cx="2089080" cy="9018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TextBox 7"/>
            <p:cNvSpPr/>
            <p:nvPr/>
          </p:nvSpPr>
          <p:spPr>
            <a:xfrm>
              <a:off x="6851520" y="344304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TextBox 9"/>
            <p:cNvSpPr/>
            <p:nvPr/>
          </p:nvSpPr>
          <p:spPr>
            <a:xfrm>
              <a:off x="8182440" y="322812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6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6"/>
          <p:cNvSpPr/>
          <p:nvPr/>
        </p:nvSpPr>
        <p:spPr>
          <a:xfrm>
            <a:off x="1249200" y="2128680"/>
            <a:ext cx="2624400" cy="2622600"/>
          </a:xfrm>
          <a:custGeom>
            <a:avLst/>
            <a:gdLst>
              <a:gd name="textAreaLeft" fmla="*/ 0 w 2624400"/>
              <a:gd name="textAreaRight" fmla="*/ 2624760 w 262440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937275" h="1935887">
                <a:moveTo>
                  <a:pt x="738803" y="0"/>
                </a:moveTo>
                <a:lnTo>
                  <a:pt x="742174" y="344"/>
                </a:lnTo>
                <a:lnTo>
                  <a:pt x="745507" y="0"/>
                </a:lnTo>
                <a:cubicBezTo>
                  <a:pt x="844082" y="0"/>
                  <a:pt x="924608" y="81876"/>
                  <a:pt x="924608" y="181793"/>
                </a:cubicBezTo>
                <a:cubicBezTo>
                  <a:pt x="924608" y="233139"/>
                  <a:pt x="902394" y="280322"/>
                  <a:pt x="867684" y="313628"/>
                </a:cubicBezTo>
                <a:cubicBezTo>
                  <a:pt x="860743" y="339995"/>
                  <a:pt x="855189" y="369137"/>
                  <a:pt x="855189" y="401055"/>
                </a:cubicBezTo>
                <a:cubicBezTo>
                  <a:pt x="855189" y="426034"/>
                  <a:pt x="859354" y="442687"/>
                  <a:pt x="864908" y="455176"/>
                </a:cubicBezTo>
                <a:cubicBezTo>
                  <a:pt x="864908" y="455176"/>
                  <a:pt x="864908" y="455176"/>
                  <a:pt x="942310" y="455176"/>
                </a:cubicBezTo>
                <a:lnTo>
                  <a:pt x="967992" y="455176"/>
                </a:lnTo>
                <a:lnTo>
                  <a:pt x="975115" y="455176"/>
                </a:lnTo>
                <a:cubicBezTo>
                  <a:pt x="987361" y="455176"/>
                  <a:pt x="1000967" y="455176"/>
                  <a:pt x="1016084" y="455176"/>
                </a:cubicBezTo>
                <a:lnTo>
                  <a:pt x="1064050" y="455176"/>
                </a:lnTo>
                <a:lnTo>
                  <a:pt x="1066124" y="455176"/>
                </a:lnTo>
                <a:cubicBezTo>
                  <a:pt x="1084416" y="455176"/>
                  <a:pt x="1104371" y="455176"/>
                  <a:pt x="1126141" y="455176"/>
                </a:cubicBezTo>
                <a:lnTo>
                  <a:pt x="1147321" y="455176"/>
                </a:lnTo>
                <a:lnTo>
                  <a:pt x="1197043" y="455176"/>
                </a:lnTo>
                <a:lnTo>
                  <a:pt x="1218717" y="455176"/>
                </a:lnTo>
                <a:lnTo>
                  <a:pt x="1279153" y="455176"/>
                </a:lnTo>
                <a:lnTo>
                  <a:pt x="1279736" y="455176"/>
                </a:lnTo>
                <a:lnTo>
                  <a:pt x="1329541" y="455176"/>
                </a:lnTo>
                <a:lnTo>
                  <a:pt x="1370796" y="455176"/>
                </a:lnTo>
                <a:lnTo>
                  <a:pt x="1375129" y="455176"/>
                </a:lnTo>
                <a:lnTo>
                  <a:pt x="1403830" y="455176"/>
                </a:lnTo>
                <a:lnTo>
                  <a:pt x="1448891" y="455176"/>
                </a:lnTo>
                <a:lnTo>
                  <a:pt x="1472030" y="455176"/>
                </a:lnTo>
                <a:lnTo>
                  <a:pt x="1480555" y="455176"/>
                </a:lnTo>
                <a:lnTo>
                  <a:pt x="1481772" y="455176"/>
                </a:lnTo>
                <a:lnTo>
                  <a:pt x="1484127" y="455176"/>
                </a:lnTo>
                <a:cubicBezTo>
                  <a:pt x="1484127" y="455176"/>
                  <a:pt x="1484127" y="455176"/>
                  <a:pt x="1484127" y="1072718"/>
                </a:cubicBezTo>
                <a:lnTo>
                  <a:pt x="1482945" y="1073145"/>
                </a:lnTo>
                <a:lnTo>
                  <a:pt x="1504166" y="1080870"/>
                </a:lnTo>
                <a:cubicBezTo>
                  <a:pt x="1513019" y="1082779"/>
                  <a:pt x="1523434" y="1083819"/>
                  <a:pt x="1535933" y="1083819"/>
                </a:cubicBezTo>
                <a:cubicBezTo>
                  <a:pt x="1567874" y="1083819"/>
                  <a:pt x="1597037" y="1076881"/>
                  <a:pt x="1623423" y="1069942"/>
                </a:cubicBezTo>
                <a:cubicBezTo>
                  <a:pt x="1656752" y="1035249"/>
                  <a:pt x="1703969" y="1014433"/>
                  <a:pt x="1755352" y="1014433"/>
                </a:cubicBezTo>
                <a:cubicBezTo>
                  <a:pt x="1856729" y="1014433"/>
                  <a:pt x="1937275" y="1093533"/>
                  <a:pt x="1937275" y="1193450"/>
                </a:cubicBezTo>
                <a:cubicBezTo>
                  <a:pt x="1937275" y="1291979"/>
                  <a:pt x="1856729" y="1372468"/>
                  <a:pt x="1755352" y="1372468"/>
                </a:cubicBezTo>
                <a:cubicBezTo>
                  <a:pt x="1703969" y="1372468"/>
                  <a:pt x="1656752" y="1350264"/>
                  <a:pt x="1623423" y="1315571"/>
                </a:cubicBezTo>
                <a:cubicBezTo>
                  <a:pt x="1597037" y="1308632"/>
                  <a:pt x="1567874" y="1301693"/>
                  <a:pt x="1535933" y="1301693"/>
                </a:cubicBezTo>
                <a:cubicBezTo>
                  <a:pt x="1523434" y="1301693"/>
                  <a:pt x="1513019" y="1302734"/>
                  <a:pt x="1504166" y="1304642"/>
                </a:cubicBezTo>
                <a:lnTo>
                  <a:pt x="1482945" y="1312368"/>
                </a:lnTo>
                <a:lnTo>
                  <a:pt x="1484127" y="1312795"/>
                </a:lnTo>
                <a:cubicBezTo>
                  <a:pt x="1484127" y="1312795"/>
                  <a:pt x="1484127" y="1312795"/>
                  <a:pt x="1484127" y="1316958"/>
                </a:cubicBezTo>
                <a:cubicBezTo>
                  <a:pt x="1484127" y="1316958"/>
                  <a:pt x="1484127" y="1316958"/>
                  <a:pt x="1484127" y="1935887"/>
                </a:cubicBezTo>
                <a:lnTo>
                  <a:pt x="1481772" y="1935887"/>
                </a:lnTo>
                <a:lnTo>
                  <a:pt x="1481234" y="1935887"/>
                </a:lnTo>
                <a:cubicBezTo>
                  <a:pt x="1474000" y="1935887"/>
                  <a:pt x="1448683" y="1935887"/>
                  <a:pt x="1360074" y="1935887"/>
                </a:cubicBezTo>
                <a:lnTo>
                  <a:pt x="1347152" y="1935887"/>
                </a:lnTo>
                <a:lnTo>
                  <a:pt x="1298951" y="1935887"/>
                </a:lnTo>
                <a:lnTo>
                  <a:pt x="1220943" y="1935887"/>
                </a:lnTo>
                <a:lnTo>
                  <a:pt x="1220469" y="1935887"/>
                </a:lnTo>
                <a:cubicBezTo>
                  <a:pt x="1191173" y="1935887"/>
                  <a:pt x="1158623" y="1935887"/>
                  <a:pt x="1122456" y="1935887"/>
                </a:cubicBezTo>
                <a:lnTo>
                  <a:pt x="1102873" y="1935887"/>
                </a:lnTo>
                <a:lnTo>
                  <a:pt x="1002742" y="1935887"/>
                </a:lnTo>
                <a:lnTo>
                  <a:pt x="992672" y="1935887"/>
                </a:lnTo>
                <a:lnTo>
                  <a:pt x="890067" y="1935887"/>
                </a:lnTo>
                <a:lnTo>
                  <a:pt x="859159" y="1935887"/>
                </a:lnTo>
                <a:lnTo>
                  <a:pt x="794789" y="1935887"/>
                </a:lnTo>
                <a:lnTo>
                  <a:pt x="689535" y="1935887"/>
                </a:lnTo>
                <a:lnTo>
                  <a:pt x="625123" y="1935887"/>
                </a:lnTo>
                <a:lnTo>
                  <a:pt x="594280" y="1935887"/>
                </a:lnTo>
                <a:cubicBezTo>
                  <a:pt x="561323" y="1935887"/>
                  <a:pt x="527145" y="1935887"/>
                  <a:pt x="491701" y="1935887"/>
                </a:cubicBezTo>
                <a:lnTo>
                  <a:pt x="481504" y="1935887"/>
                </a:lnTo>
                <a:lnTo>
                  <a:pt x="381527" y="1935887"/>
                </a:lnTo>
                <a:lnTo>
                  <a:pt x="361761" y="1935887"/>
                </a:lnTo>
                <a:lnTo>
                  <a:pt x="263724" y="1935887"/>
                </a:lnTo>
                <a:lnTo>
                  <a:pt x="263486" y="1935887"/>
                </a:lnTo>
                <a:lnTo>
                  <a:pt x="185222" y="1935887"/>
                </a:lnTo>
                <a:lnTo>
                  <a:pt x="137308" y="1935887"/>
                </a:lnTo>
                <a:lnTo>
                  <a:pt x="124084" y="1935887"/>
                </a:lnTo>
                <a:lnTo>
                  <a:pt x="78140" y="1935887"/>
                </a:lnTo>
                <a:lnTo>
                  <a:pt x="45220" y="1935887"/>
                </a:lnTo>
                <a:lnTo>
                  <a:pt x="23153" y="1935887"/>
                </a:lnTo>
                <a:lnTo>
                  <a:pt x="9768" y="1935887"/>
                </a:lnTo>
                <a:lnTo>
                  <a:pt x="2894" y="1935887"/>
                </a:lnTo>
                <a:lnTo>
                  <a:pt x="2721" y="1935887"/>
                </a:lnTo>
                <a:lnTo>
                  <a:pt x="0" y="1935887"/>
                </a:lnTo>
                <a:cubicBezTo>
                  <a:pt x="0" y="1312795"/>
                  <a:pt x="0" y="1312795"/>
                  <a:pt x="0" y="1312795"/>
                </a:cubicBezTo>
                <a:lnTo>
                  <a:pt x="2721" y="1311812"/>
                </a:lnTo>
                <a:lnTo>
                  <a:pt x="2721" y="1311212"/>
                </a:lnTo>
                <a:cubicBezTo>
                  <a:pt x="2721" y="1259156"/>
                  <a:pt x="2721" y="1202762"/>
                  <a:pt x="2721" y="1141668"/>
                </a:cubicBezTo>
                <a:lnTo>
                  <a:pt x="2721" y="1073701"/>
                </a:lnTo>
                <a:lnTo>
                  <a:pt x="0" y="1072718"/>
                </a:lnTo>
                <a:cubicBezTo>
                  <a:pt x="0" y="455176"/>
                  <a:pt x="0" y="455176"/>
                  <a:pt x="0" y="455176"/>
                </a:cubicBezTo>
                <a:lnTo>
                  <a:pt x="2721" y="455176"/>
                </a:lnTo>
                <a:cubicBezTo>
                  <a:pt x="2721" y="455176"/>
                  <a:pt x="2721" y="455176"/>
                  <a:pt x="80644" y="455176"/>
                </a:cubicBezTo>
                <a:lnTo>
                  <a:pt x="109025" y="455176"/>
                </a:lnTo>
                <a:lnTo>
                  <a:pt x="113670" y="455176"/>
                </a:lnTo>
                <a:cubicBezTo>
                  <a:pt x="125998" y="455176"/>
                  <a:pt x="139695" y="455176"/>
                  <a:pt x="154915" y="455176"/>
                </a:cubicBezTo>
                <a:lnTo>
                  <a:pt x="204441" y="455176"/>
                </a:lnTo>
                <a:lnTo>
                  <a:pt x="205291" y="455176"/>
                </a:lnTo>
                <a:cubicBezTo>
                  <a:pt x="223706" y="455176"/>
                  <a:pt x="243796" y="455176"/>
                  <a:pt x="265711" y="455176"/>
                </a:cubicBezTo>
                <a:lnTo>
                  <a:pt x="287155" y="455176"/>
                </a:lnTo>
                <a:lnTo>
                  <a:pt x="337090" y="455176"/>
                </a:lnTo>
                <a:lnTo>
                  <a:pt x="358075" y="455176"/>
                </a:lnTo>
                <a:lnTo>
                  <a:pt x="418107" y="455176"/>
                </a:lnTo>
                <a:lnTo>
                  <a:pt x="420340" y="455176"/>
                </a:lnTo>
                <a:lnTo>
                  <a:pt x="468159" y="455176"/>
                </a:lnTo>
                <a:lnTo>
                  <a:pt x="509138" y="455176"/>
                </a:lnTo>
                <a:lnTo>
                  <a:pt x="516374" y="455176"/>
                </a:lnTo>
                <a:lnTo>
                  <a:pt x="541951" y="455176"/>
                </a:lnTo>
                <a:lnTo>
                  <a:pt x="586710" y="455176"/>
                </a:lnTo>
                <a:lnTo>
                  <a:pt x="609695" y="455176"/>
                </a:lnTo>
                <a:lnTo>
                  <a:pt x="618163" y="455176"/>
                </a:lnTo>
                <a:lnTo>
                  <a:pt x="619373" y="455176"/>
                </a:lnTo>
                <a:cubicBezTo>
                  <a:pt x="624927" y="442687"/>
                  <a:pt x="630482" y="426034"/>
                  <a:pt x="630482" y="401055"/>
                </a:cubicBezTo>
                <a:cubicBezTo>
                  <a:pt x="630482" y="369137"/>
                  <a:pt x="623539" y="339995"/>
                  <a:pt x="616595" y="313628"/>
                </a:cubicBezTo>
                <a:cubicBezTo>
                  <a:pt x="581877" y="280322"/>
                  <a:pt x="559657" y="233139"/>
                  <a:pt x="559657" y="181793"/>
                </a:cubicBezTo>
                <a:cubicBezTo>
                  <a:pt x="559657" y="81876"/>
                  <a:pt x="640203" y="0"/>
                  <a:pt x="73880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7"/>
          <p:cNvSpPr/>
          <p:nvPr/>
        </p:nvSpPr>
        <p:spPr>
          <a:xfrm flipH="1">
            <a:off x="3858480" y="2128680"/>
            <a:ext cx="2624040" cy="2622600"/>
          </a:xfrm>
          <a:custGeom>
            <a:avLst/>
            <a:gdLst>
              <a:gd name="textAreaLeft" fmla="*/ -360 w 2624040"/>
              <a:gd name="textAreaRight" fmla="*/ 2624040 w 262404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8"/>
          <p:cNvSpPr/>
          <p:nvPr/>
        </p:nvSpPr>
        <p:spPr>
          <a:xfrm flipH="1">
            <a:off x="9286920" y="2092320"/>
            <a:ext cx="2008080" cy="2624040"/>
          </a:xfrm>
          <a:custGeom>
            <a:avLst/>
            <a:gdLst>
              <a:gd name="textAreaLeft" fmla="*/ 360 w 2008080"/>
              <a:gd name="textAreaRight" fmla="*/ 2008800 w 2008080"/>
              <a:gd name="textAreaTop" fmla="*/ 0 h 2624040"/>
              <a:gd name="textAreaBottom" fmla="*/ 2624400 h 2624040"/>
            </a:gdLst>
            <a:ahLst/>
            <a:rect l="textAreaLeft" t="textAreaTop" r="textAreaRight" b="textAreaBottom"/>
            <a:pathLst>
              <a:path w="1067" h="1395">
                <a:moveTo>
                  <a:pt x="535" y="0"/>
                </a:moveTo>
                <a:cubicBezTo>
                  <a:pt x="464" y="0"/>
                  <a:pt x="406" y="59"/>
                  <a:pt x="406" y="131"/>
                </a:cubicBezTo>
                <a:cubicBezTo>
                  <a:pt x="406" y="168"/>
                  <a:pt x="422" y="202"/>
                  <a:pt x="447" y="226"/>
                </a:cubicBezTo>
                <a:cubicBezTo>
                  <a:pt x="452" y="245"/>
                  <a:pt x="457" y="266"/>
                  <a:pt x="457" y="289"/>
                </a:cubicBezTo>
                <a:cubicBezTo>
                  <a:pt x="457" y="307"/>
                  <a:pt x="453" y="319"/>
                  <a:pt x="449" y="328"/>
                </a:cubicBezTo>
                <a:cubicBezTo>
                  <a:pt x="0" y="328"/>
                  <a:pt x="0" y="328"/>
                  <a:pt x="0" y="328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1067" y="1395"/>
                  <a:pt x="1067" y="1395"/>
                  <a:pt x="1067" y="1395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6"/>
                  <a:pt x="1067" y="946"/>
                  <a:pt x="1067" y="946"/>
                </a:cubicBezTo>
                <a:cubicBezTo>
                  <a:pt x="1058" y="941"/>
                  <a:pt x="1046" y="938"/>
                  <a:pt x="1027" y="938"/>
                </a:cubicBezTo>
                <a:cubicBezTo>
                  <a:pt x="1005" y="938"/>
                  <a:pt x="984" y="943"/>
                  <a:pt x="965" y="948"/>
                </a:cubicBezTo>
                <a:cubicBezTo>
                  <a:pt x="941" y="973"/>
                  <a:pt x="907" y="989"/>
                  <a:pt x="869" y="989"/>
                </a:cubicBezTo>
                <a:cubicBezTo>
                  <a:pt x="797" y="989"/>
                  <a:pt x="739" y="931"/>
                  <a:pt x="739" y="860"/>
                </a:cubicBezTo>
                <a:cubicBezTo>
                  <a:pt x="739" y="788"/>
                  <a:pt x="797" y="731"/>
                  <a:pt x="869" y="731"/>
                </a:cubicBezTo>
                <a:cubicBezTo>
                  <a:pt x="907" y="731"/>
                  <a:pt x="941" y="746"/>
                  <a:pt x="965" y="771"/>
                </a:cubicBezTo>
                <a:cubicBezTo>
                  <a:pt x="984" y="776"/>
                  <a:pt x="1005" y="781"/>
                  <a:pt x="1027" y="781"/>
                </a:cubicBezTo>
                <a:cubicBezTo>
                  <a:pt x="1046" y="781"/>
                  <a:pt x="1058" y="778"/>
                  <a:pt x="1067" y="773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621" y="328"/>
                  <a:pt x="621" y="328"/>
                  <a:pt x="621" y="328"/>
                </a:cubicBezTo>
                <a:cubicBezTo>
                  <a:pt x="617" y="319"/>
                  <a:pt x="614" y="307"/>
                  <a:pt x="614" y="289"/>
                </a:cubicBezTo>
                <a:cubicBezTo>
                  <a:pt x="614" y="266"/>
                  <a:pt x="618" y="245"/>
                  <a:pt x="623" y="226"/>
                </a:cubicBezTo>
                <a:cubicBezTo>
                  <a:pt x="648" y="202"/>
                  <a:pt x="664" y="168"/>
                  <a:pt x="664" y="131"/>
                </a:cubicBezTo>
                <a:cubicBezTo>
                  <a:pt x="664" y="59"/>
                  <a:pt x="606" y="0"/>
                  <a:pt x="535" y="0"/>
                </a:cubicBezTo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7"/>
          <p:cNvSpPr/>
          <p:nvPr/>
        </p:nvSpPr>
        <p:spPr>
          <a:xfrm flipH="1">
            <a:off x="6566760" y="2075040"/>
            <a:ext cx="2622600" cy="2622240"/>
          </a:xfrm>
          <a:custGeom>
            <a:avLst/>
            <a:gdLst>
              <a:gd name="textAreaLeft" fmla="*/ -360 w 2622600"/>
              <a:gd name="textAreaRight" fmla="*/ 2622600 w 2622600"/>
              <a:gd name="textAreaTop" fmla="*/ 0 h 2622240"/>
              <a:gd name="textAreaBottom" fmla="*/ 2622600 h 262224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20"/>
          <p:cNvSpPr/>
          <p:nvPr/>
        </p:nvSpPr>
        <p:spPr>
          <a:xfrm>
            <a:off x="129060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20"/>
          <p:cNvSpPr/>
          <p:nvPr/>
        </p:nvSpPr>
        <p:spPr>
          <a:xfrm>
            <a:off x="1193760" y="4908600"/>
            <a:ext cx="219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"/>
          <p:cNvSpPr/>
          <p:nvPr/>
        </p:nvSpPr>
        <p:spPr>
          <a:xfrm>
            <a:off x="18864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21"/>
          <p:cNvSpPr/>
          <p:nvPr/>
        </p:nvSpPr>
        <p:spPr>
          <a:xfrm>
            <a:off x="45882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22"/>
          <p:cNvSpPr/>
          <p:nvPr/>
        </p:nvSpPr>
        <p:spPr>
          <a:xfrm>
            <a:off x="732528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23"/>
          <p:cNvSpPr/>
          <p:nvPr/>
        </p:nvSpPr>
        <p:spPr>
          <a:xfrm>
            <a:off x="100620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20"/>
          <p:cNvSpPr/>
          <p:nvPr/>
        </p:nvSpPr>
        <p:spPr>
          <a:xfrm>
            <a:off x="4003560" y="5343480"/>
            <a:ext cx="186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25"/>
          <p:cNvSpPr/>
          <p:nvPr/>
        </p:nvSpPr>
        <p:spPr>
          <a:xfrm>
            <a:off x="390852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20"/>
          <p:cNvSpPr/>
          <p:nvPr/>
        </p:nvSpPr>
        <p:spPr>
          <a:xfrm>
            <a:off x="671832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662148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943128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29"/>
          <p:cNvSpPr/>
          <p:nvPr/>
        </p:nvSpPr>
        <p:spPr>
          <a:xfrm>
            <a:off x="933444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8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25"/>
          <p:cNvGrpSpPr/>
          <p:nvPr/>
        </p:nvGrpSpPr>
        <p:grpSpPr>
          <a:xfrm>
            <a:off x="1782720" y="2509920"/>
            <a:ext cx="2968560" cy="2895480"/>
            <a:chOff x="1782720" y="2509920"/>
            <a:chExt cx="2968560" cy="2895480"/>
          </a:xfrm>
        </p:grpSpPr>
        <p:sp>
          <p:nvSpPr>
            <p:cNvPr id="987" name="任意多边形 2"/>
            <p:cNvSpPr/>
            <p:nvPr/>
          </p:nvSpPr>
          <p:spPr>
            <a:xfrm>
              <a:off x="2097000" y="3294000"/>
              <a:ext cx="114120" cy="260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任意多边形 3"/>
            <p:cNvSpPr/>
            <p:nvPr/>
          </p:nvSpPr>
          <p:spPr>
            <a:xfrm flipH="1">
              <a:off x="436320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矩形 4"/>
            <p:cNvSpPr/>
            <p:nvPr/>
          </p:nvSpPr>
          <p:spPr>
            <a:xfrm>
              <a:off x="217620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任意多边形 5"/>
            <p:cNvSpPr/>
            <p:nvPr/>
          </p:nvSpPr>
          <p:spPr>
            <a:xfrm>
              <a:off x="2097000" y="3378240"/>
              <a:ext cx="2379600" cy="1905120"/>
            </a:xfrm>
            <a:custGeom>
              <a:avLst/>
              <a:gdLst>
                <a:gd name="textAreaLeft" fmla="*/ 0 w 2379600"/>
                <a:gd name="textAreaRight" fmla="*/ 2379960 w 23796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任意多边形 6"/>
            <p:cNvSpPr/>
            <p:nvPr/>
          </p:nvSpPr>
          <p:spPr>
            <a:xfrm>
              <a:off x="213660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任意多边形 7"/>
            <p:cNvSpPr/>
            <p:nvPr/>
          </p:nvSpPr>
          <p:spPr>
            <a:xfrm>
              <a:off x="2233440" y="3843360"/>
              <a:ext cx="2108160" cy="1562040"/>
            </a:xfrm>
            <a:prstGeom prst="pi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3" name="图片 34" descr=""/>
            <p:cNvPicPr/>
            <p:nvPr/>
          </p:nvPicPr>
          <p:blipFill>
            <a:blip r:embed="rId1"/>
            <a:srcRect l="0" t="52846" r="0" b="0"/>
            <a:stretch/>
          </p:blipFill>
          <p:spPr>
            <a:xfrm>
              <a:off x="1782720" y="2512800"/>
              <a:ext cx="29685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4" name="组合 16"/>
          <p:cNvGrpSpPr/>
          <p:nvPr/>
        </p:nvGrpSpPr>
        <p:grpSpPr>
          <a:xfrm>
            <a:off x="4757760" y="2509920"/>
            <a:ext cx="2970360" cy="2895480"/>
            <a:chOff x="4757760" y="2509920"/>
            <a:chExt cx="2970360" cy="2895480"/>
          </a:xfrm>
        </p:grpSpPr>
        <p:sp>
          <p:nvSpPr>
            <p:cNvPr id="995" name="任意多边形 8"/>
            <p:cNvSpPr/>
            <p:nvPr/>
          </p:nvSpPr>
          <p:spPr>
            <a:xfrm>
              <a:off x="503712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任意多边形 9"/>
            <p:cNvSpPr/>
            <p:nvPr/>
          </p:nvSpPr>
          <p:spPr>
            <a:xfrm flipH="1">
              <a:off x="730188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矩形 10"/>
            <p:cNvSpPr/>
            <p:nvPr/>
          </p:nvSpPr>
          <p:spPr>
            <a:xfrm>
              <a:off x="511488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任意多边形 11"/>
            <p:cNvSpPr/>
            <p:nvPr/>
          </p:nvSpPr>
          <p:spPr>
            <a:xfrm>
              <a:off x="503712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任意多边形 12"/>
            <p:cNvSpPr/>
            <p:nvPr/>
          </p:nvSpPr>
          <p:spPr>
            <a:xfrm>
              <a:off x="507528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任意多边形 13"/>
            <p:cNvSpPr/>
            <p:nvPr/>
          </p:nvSpPr>
          <p:spPr>
            <a:xfrm>
              <a:off x="5172120" y="3843360"/>
              <a:ext cx="2108520" cy="1562040"/>
            </a:xfrm>
            <a:prstGeom prst="pi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1" name="图片 35" descr=""/>
            <p:cNvPicPr/>
            <p:nvPr/>
          </p:nvPicPr>
          <p:blipFill>
            <a:blip r:embed="rId2"/>
            <a:srcRect l="0" t="52846" r="0" b="0"/>
            <a:stretch/>
          </p:blipFill>
          <p:spPr>
            <a:xfrm>
              <a:off x="475776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2" name="组合 17"/>
          <p:cNvGrpSpPr/>
          <p:nvPr/>
        </p:nvGrpSpPr>
        <p:grpSpPr>
          <a:xfrm>
            <a:off x="7734240" y="2509920"/>
            <a:ext cx="2970360" cy="2895480"/>
            <a:chOff x="7734240" y="2509920"/>
            <a:chExt cx="2970360" cy="2895480"/>
          </a:xfrm>
        </p:grpSpPr>
        <p:sp>
          <p:nvSpPr>
            <p:cNvPr id="1003" name="任意多边形 18"/>
            <p:cNvSpPr/>
            <p:nvPr/>
          </p:nvSpPr>
          <p:spPr>
            <a:xfrm>
              <a:off x="801360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任意多边形 19"/>
            <p:cNvSpPr/>
            <p:nvPr/>
          </p:nvSpPr>
          <p:spPr>
            <a:xfrm flipH="1">
              <a:off x="1027836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矩形 20"/>
            <p:cNvSpPr/>
            <p:nvPr/>
          </p:nvSpPr>
          <p:spPr>
            <a:xfrm>
              <a:off x="809136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任意多边形 21"/>
            <p:cNvSpPr/>
            <p:nvPr/>
          </p:nvSpPr>
          <p:spPr>
            <a:xfrm>
              <a:off x="801360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任意多边形 22"/>
            <p:cNvSpPr/>
            <p:nvPr/>
          </p:nvSpPr>
          <p:spPr>
            <a:xfrm>
              <a:off x="805176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任意多边形 23"/>
            <p:cNvSpPr/>
            <p:nvPr/>
          </p:nvSpPr>
          <p:spPr>
            <a:xfrm>
              <a:off x="8148600" y="3843360"/>
              <a:ext cx="2108520" cy="1562040"/>
            </a:xfrm>
            <a:prstGeom prst="pi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9" name="图片 35" descr=""/>
            <p:cNvPicPr/>
            <p:nvPr/>
          </p:nvPicPr>
          <p:blipFill>
            <a:blip r:embed="rId3"/>
            <a:srcRect l="0" t="52846" r="0" b="0"/>
            <a:stretch/>
          </p:blipFill>
          <p:spPr>
            <a:xfrm>
              <a:off x="773424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文本框 41"/>
          <p:cNvSpPr/>
          <p:nvPr/>
        </p:nvSpPr>
        <p:spPr>
          <a:xfrm>
            <a:off x="28472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42"/>
          <p:cNvSpPr/>
          <p:nvPr/>
        </p:nvSpPr>
        <p:spPr>
          <a:xfrm>
            <a:off x="577476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43"/>
          <p:cNvSpPr/>
          <p:nvPr/>
        </p:nvSpPr>
        <p:spPr>
          <a:xfrm>
            <a:off x="87386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椭圆 3"/>
          <p:cNvSpPr/>
          <p:nvPr/>
        </p:nvSpPr>
        <p:spPr>
          <a:xfrm>
            <a:off x="8928000" y="2252520"/>
            <a:ext cx="1778040" cy="177804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椭圆 4"/>
          <p:cNvSpPr/>
          <p:nvPr/>
        </p:nvSpPr>
        <p:spPr>
          <a:xfrm>
            <a:off x="9421920" y="16653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椭圆 6"/>
          <p:cNvSpPr/>
          <p:nvPr/>
        </p:nvSpPr>
        <p:spPr>
          <a:xfrm>
            <a:off x="6508800" y="3133800"/>
            <a:ext cx="1871640" cy="1871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7"/>
          <p:cNvSpPr/>
          <p:nvPr/>
        </p:nvSpPr>
        <p:spPr>
          <a:xfrm>
            <a:off x="7026120" y="2573280"/>
            <a:ext cx="782640" cy="78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9"/>
          <p:cNvSpPr/>
          <p:nvPr/>
        </p:nvSpPr>
        <p:spPr>
          <a:xfrm>
            <a:off x="4021200" y="4148280"/>
            <a:ext cx="1873080" cy="187164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1"/>
          <p:cNvSpPr/>
          <p:nvPr/>
        </p:nvSpPr>
        <p:spPr>
          <a:xfrm>
            <a:off x="1665360" y="2725560"/>
            <a:ext cx="1873080" cy="187200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2"/>
          <p:cNvSpPr/>
          <p:nvPr/>
        </p:nvSpPr>
        <p:spPr>
          <a:xfrm>
            <a:off x="2478240" y="227664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3"/>
          <p:cNvSpPr/>
          <p:nvPr/>
        </p:nvSpPr>
        <p:spPr>
          <a:xfrm>
            <a:off x="4527720" y="35877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29"/>
          <p:cNvSpPr/>
          <p:nvPr/>
        </p:nvSpPr>
        <p:spPr>
          <a:xfrm>
            <a:off x="1816200" y="3513240"/>
            <a:ext cx="159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0"/>
          <p:cNvSpPr/>
          <p:nvPr/>
        </p:nvSpPr>
        <p:spPr>
          <a:xfrm>
            <a:off x="4168800" y="491904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31"/>
          <p:cNvSpPr/>
          <p:nvPr/>
        </p:nvSpPr>
        <p:spPr>
          <a:xfrm>
            <a:off x="6624720" y="386892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32"/>
          <p:cNvSpPr/>
          <p:nvPr/>
        </p:nvSpPr>
        <p:spPr>
          <a:xfrm>
            <a:off x="9012240" y="293796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右箭头 33"/>
          <p:cNvSpPr/>
          <p:nvPr/>
        </p:nvSpPr>
        <p:spPr>
          <a:xfrm rot="2032800">
            <a:off x="3341160" y="433404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右箭头 34"/>
          <p:cNvSpPr/>
          <p:nvPr/>
        </p:nvSpPr>
        <p:spPr>
          <a:xfrm rot="20351400">
            <a:off x="5902200" y="433368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右箭头 35"/>
          <p:cNvSpPr/>
          <p:nvPr/>
        </p:nvSpPr>
        <p:spPr>
          <a:xfrm rot="20351400">
            <a:off x="8389440" y="3360240"/>
            <a:ext cx="60660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034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5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036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7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058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07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07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7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079" name="组合 10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080" name="组合 105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08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4" name="文本框 106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086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087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0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1" name="组合 116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092" name="组合 117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09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6" name="文本框 118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9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2" name="组合 20"/>
          <p:cNvGrpSpPr/>
          <p:nvPr/>
        </p:nvGrpSpPr>
        <p:grpSpPr>
          <a:xfrm>
            <a:off x="6197760" y="2830680"/>
            <a:ext cx="382320" cy="382320"/>
            <a:chOff x="6197760" y="2830680"/>
            <a:chExt cx="382320" cy="382320"/>
          </a:xfrm>
        </p:grpSpPr>
        <p:sp>
          <p:nvSpPr>
            <p:cNvPr id="1103" name="椭圆 21"/>
            <p:cNvSpPr/>
            <p:nvPr/>
          </p:nvSpPr>
          <p:spPr>
            <a:xfrm>
              <a:off x="6197760" y="2830680"/>
              <a:ext cx="382320" cy="382320"/>
            </a:xfrm>
            <a:prstGeom prst="ellips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KSO_Shape"/>
            <p:cNvSpPr/>
            <p:nvPr/>
          </p:nvSpPr>
          <p:spPr>
            <a:xfrm>
              <a:off x="6243480" y="292572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23"/>
          <p:cNvGrpSpPr/>
          <p:nvPr/>
        </p:nvGrpSpPr>
        <p:grpSpPr>
          <a:xfrm>
            <a:off x="6197760" y="3963960"/>
            <a:ext cx="382320" cy="382680"/>
            <a:chOff x="6197760" y="3963960"/>
            <a:chExt cx="382320" cy="382680"/>
          </a:xfrm>
        </p:grpSpPr>
        <p:sp>
          <p:nvSpPr>
            <p:cNvPr id="1106" name="椭圆 24"/>
            <p:cNvSpPr/>
            <p:nvPr/>
          </p:nvSpPr>
          <p:spPr>
            <a:xfrm>
              <a:off x="6197760" y="3963960"/>
              <a:ext cx="382320" cy="38268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KSO_Shape"/>
            <p:cNvSpPr/>
            <p:nvPr/>
          </p:nvSpPr>
          <p:spPr>
            <a:xfrm>
              <a:off x="6243480" y="405900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26"/>
          <p:cNvGrpSpPr/>
          <p:nvPr/>
        </p:nvGrpSpPr>
        <p:grpSpPr>
          <a:xfrm>
            <a:off x="6197760" y="5097600"/>
            <a:ext cx="382320" cy="382320"/>
            <a:chOff x="6197760" y="5097600"/>
            <a:chExt cx="382320" cy="382320"/>
          </a:xfrm>
        </p:grpSpPr>
        <p:sp>
          <p:nvSpPr>
            <p:cNvPr id="1109" name="椭圆 27"/>
            <p:cNvSpPr/>
            <p:nvPr/>
          </p:nvSpPr>
          <p:spPr>
            <a:xfrm>
              <a:off x="6197760" y="5097600"/>
              <a:ext cx="382320" cy="382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KSO_Shape"/>
            <p:cNvSpPr/>
            <p:nvPr/>
          </p:nvSpPr>
          <p:spPr>
            <a:xfrm>
              <a:off x="6243480" y="519264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等腰三角形 36"/>
          <p:cNvSpPr/>
          <p:nvPr/>
        </p:nvSpPr>
        <p:spPr>
          <a:xfrm flipV="1">
            <a:off x="5589720" y="2285280"/>
            <a:ext cx="414360" cy="452520"/>
          </a:xfrm>
          <a:prstGeom prst="triangle">
            <a:avLst>
              <a:gd name="adj" fmla="val 10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2" name="任意多边形 37"/>
          <p:cNvGrpSpPr/>
          <p:nvPr/>
        </p:nvGrpSpPr>
        <p:grpSpPr>
          <a:xfrm>
            <a:off x="963720" y="2273400"/>
            <a:ext cx="5046480" cy="3414600"/>
            <a:chOff x="963720" y="2273400"/>
            <a:chExt cx="5046480" cy="3414600"/>
          </a:xfrm>
        </p:grpSpPr>
        <p:pic>
          <p:nvPicPr>
            <p:cNvPr id="1113" name="任意多边形 37" descr=""/>
            <p:cNvPicPr/>
            <p:nvPr/>
          </p:nvPicPr>
          <p:blipFill>
            <a:blip r:embed="rId1"/>
            <a:stretch/>
          </p:blipFill>
          <p:spPr>
            <a:xfrm>
              <a:off x="963720" y="2273400"/>
              <a:ext cx="504648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Text Box 19"/>
            <p:cNvSpPr/>
            <p:nvPr/>
          </p:nvSpPr>
          <p:spPr>
            <a:xfrm>
              <a:off x="974520" y="2282760"/>
              <a:ext cx="50162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5" name="任意多边形 38"/>
          <p:cNvSpPr/>
          <p:nvPr/>
        </p:nvSpPr>
        <p:spPr>
          <a:xfrm>
            <a:off x="2523960" y="4883040"/>
            <a:ext cx="3497400" cy="35892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168352" h="360040">
                <a:moveTo>
                  <a:pt x="180770" y="0"/>
                </a:moveTo>
                <a:lnTo>
                  <a:pt x="3168352" y="0"/>
                </a:lnTo>
                <a:lnTo>
                  <a:pt x="3168352" y="360040"/>
                </a:lnTo>
                <a:lnTo>
                  <a:pt x="0" y="360040"/>
                </a:lnTo>
                <a:lnTo>
                  <a:pt x="0" y="179093"/>
                </a:lnTo>
                <a:lnTo>
                  <a:pt x="180770" y="0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39"/>
          <p:cNvSpPr/>
          <p:nvPr/>
        </p:nvSpPr>
        <p:spPr>
          <a:xfrm>
            <a:off x="3313800" y="48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alibri"/>
              </a:rPr>
              <a:t>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45"/>
          <p:cNvSpPr/>
          <p:nvPr/>
        </p:nvSpPr>
        <p:spPr>
          <a:xfrm>
            <a:off x="976320" y="5621400"/>
            <a:ext cx="1668600" cy="442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矩形 46"/>
          <p:cNvSpPr/>
          <p:nvPr/>
        </p:nvSpPr>
        <p:spPr>
          <a:xfrm>
            <a:off x="2649600" y="5621400"/>
            <a:ext cx="1666800" cy="442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矩形 47"/>
          <p:cNvSpPr/>
          <p:nvPr/>
        </p:nvSpPr>
        <p:spPr>
          <a:xfrm>
            <a:off x="4321080" y="5621400"/>
            <a:ext cx="1668600" cy="442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9"/>
          <p:cNvSpPr/>
          <p:nvPr/>
        </p:nvSpPr>
        <p:spPr>
          <a:xfrm>
            <a:off x="6624720" y="243036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9"/>
          <p:cNvSpPr/>
          <p:nvPr/>
        </p:nvSpPr>
        <p:spPr>
          <a:xfrm>
            <a:off x="6624720" y="365616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9"/>
          <p:cNvSpPr/>
          <p:nvPr/>
        </p:nvSpPr>
        <p:spPr>
          <a:xfrm>
            <a:off x="6624720" y="488304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2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"/>
          <p:cNvSpPr/>
          <p:nvPr/>
        </p:nvSpPr>
        <p:spPr>
          <a:xfrm>
            <a:off x="1112760" y="3624120"/>
            <a:ext cx="2351160" cy="2330640"/>
          </a:xfrm>
          <a:custGeom>
            <a:avLst/>
            <a:gdLst>
              <a:gd name="textAreaLeft" fmla="*/ 0 w 2351160"/>
              <a:gd name="textAreaRight" fmla="*/ 2351160 w 2351160"/>
              <a:gd name="textAreaTop" fmla="*/ 0 h 2330640"/>
              <a:gd name="textAreaBottom" fmla="*/ 2331000 h 2330640"/>
            </a:gdLst>
            <a:ahLst/>
            <a:rect l="textAreaLeft" t="textAreaTop" r="textAreaRight" b="textAreaBottom"/>
            <a:pathLst>
              <a:path w="1122" h="1112">
                <a:moveTo>
                  <a:pt x="561" y="97"/>
                </a:moveTo>
                <a:cubicBezTo>
                  <a:pt x="546" y="97"/>
                  <a:pt x="530" y="98"/>
                  <a:pt x="515" y="100"/>
                </a:cubicBezTo>
                <a:cubicBezTo>
                  <a:pt x="457" y="0"/>
                  <a:pt x="457" y="0"/>
                  <a:pt x="457" y="0"/>
                </a:cubicBezTo>
                <a:cubicBezTo>
                  <a:pt x="318" y="45"/>
                  <a:pt x="318" y="45"/>
                  <a:pt x="318" y="45"/>
                </a:cubicBezTo>
                <a:cubicBezTo>
                  <a:pt x="330" y="160"/>
                  <a:pt x="330" y="160"/>
                  <a:pt x="330" y="160"/>
                </a:cubicBezTo>
                <a:cubicBezTo>
                  <a:pt x="303" y="176"/>
                  <a:pt x="279" y="194"/>
                  <a:pt x="256" y="214"/>
                </a:cubicBezTo>
                <a:cubicBezTo>
                  <a:pt x="151" y="167"/>
                  <a:pt x="151" y="167"/>
                  <a:pt x="151" y="167"/>
                </a:cubicBezTo>
                <a:cubicBezTo>
                  <a:pt x="64" y="286"/>
                  <a:pt x="64" y="286"/>
                  <a:pt x="64" y="286"/>
                </a:cubicBezTo>
                <a:cubicBezTo>
                  <a:pt x="141" y="372"/>
                  <a:pt x="141" y="372"/>
                  <a:pt x="141" y="372"/>
                </a:cubicBezTo>
                <a:cubicBezTo>
                  <a:pt x="129" y="399"/>
                  <a:pt x="120" y="428"/>
                  <a:pt x="113" y="459"/>
                </a:cubicBezTo>
                <a:cubicBezTo>
                  <a:pt x="0" y="483"/>
                  <a:pt x="0" y="483"/>
                  <a:pt x="0" y="483"/>
                </a:cubicBezTo>
                <a:cubicBezTo>
                  <a:pt x="0" y="630"/>
                  <a:pt x="0" y="630"/>
                  <a:pt x="0" y="630"/>
                </a:cubicBezTo>
                <a:cubicBezTo>
                  <a:pt x="113" y="654"/>
                  <a:pt x="113" y="654"/>
                  <a:pt x="113" y="654"/>
                </a:cubicBezTo>
                <a:cubicBezTo>
                  <a:pt x="120" y="684"/>
                  <a:pt x="129" y="713"/>
                  <a:pt x="142" y="740"/>
                </a:cubicBezTo>
                <a:cubicBezTo>
                  <a:pt x="65" y="826"/>
                  <a:pt x="65" y="826"/>
                  <a:pt x="65" y="826"/>
                </a:cubicBezTo>
                <a:cubicBezTo>
                  <a:pt x="151" y="945"/>
                  <a:pt x="151" y="945"/>
                  <a:pt x="151" y="945"/>
                </a:cubicBezTo>
                <a:cubicBezTo>
                  <a:pt x="257" y="898"/>
                  <a:pt x="257" y="898"/>
                  <a:pt x="257" y="898"/>
                </a:cubicBezTo>
                <a:cubicBezTo>
                  <a:pt x="279" y="919"/>
                  <a:pt x="304" y="936"/>
                  <a:pt x="330" y="952"/>
                </a:cubicBezTo>
                <a:cubicBezTo>
                  <a:pt x="318" y="1067"/>
                  <a:pt x="318" y="1067"/>
                  <a:pt x="318" y="1067"/>
                </a:cubicBezTo>
                <a:cubicBezTo>
                  <a:pt x="458" y="1112"/>
                  <a:pt x="458" y="1112"/>
                  <a:pt x="458" y="1112"/>
                </a:cubicBezTo>
                <a:cubicBezTo>
                  <a:pt x="516" y="1012"/>
                  <a:pt x="516" y="1012"/>
                  <a:pt x="516" y="1012"/>
                </a:cubicBezTo>
                <a:cubicBezTo>
                  <a:pt x="531" y="1014"/>
                  <a:pt x="546" y="1014"/>
                  <a:pt x="562" y="1014"/>
                </a:cubicBezTo>
                <a:cubicBezTo>
                  <a:pt x="577" y="1014"/>
                  <a:pt x="592" y="1013"/>
                  <a:pt x="607" y="1012"/>
                </a:cubicBezTo>
                <a:cubicBezTo>
                  <a:pt x="665" y="1112"/>
                  <a:pt x="665" y="1112"/>
                  <a:pt x="665" y="1112"/>
                </a:cubicBezTo>
                <a:cubicBezTo>
                  <a:pt x="805" y="1066"/>
                  <a:pt x="805" y="1066"/>
                  <a:pt x="805" y="1066"/>
                </a:cubicBezTo>
                <a:cubicBezTo>
                  <a:pt x="793" y="952"/>
                  <a:pt x="793" y="952"/>
                  <a:pt x="793" y="952"/>
                </a:cubicBezTo>
                <a:cubicBezTo>
                  <a:pt x="819" y="936"/>
                  <a:pt x="844" y="918"/>
                  <a:pt x="866" y="898"/>
                </a:cubicBezTo>
                <a:cubicBezTo>
                  <a:pt x="972" y="945"/>
                  <a:pt x="972" y="945"/>
                  <a:pt x="972" y="945"/>
                </a:cubicBezTo>
                <a:cubicBezTo>
                  <a:pt x="1058" y="826"/>
                  <a:pt x="1058" y="826"/>
                  <a:pt x="1058" y="826"/>
                </a:cubicBezTo>
                <a:cubicBezTo>
                  <a:pt x="981" y="740"/>
                  <a:pt x="981" y="740"/>
                  <a:pt x="981" y="740"/>
                </a:cubicBezTo>
                <a:cubicBezTo>
                  <a:pt x="993" y="712"/>
                  <a:pt x="1003" y="683"/>
                  <a:pt x="1009" y="653"/>
                </a:cubicBezTo>
                <a:cubicBezTo>
                  <a:pt x="1122" y="629"/>
                  <a:pt x="1122" y="629"/>
                  <a:pt x="1122" y="629"/>
                </a:cubicBezTo>
                <a:cubicBezTo>
                  <a:pt x="1122" y="482"/>
                  <a:pt x="1122" y="482"/>
                  <a:pt x="1122" y="482"/>
                </a:cubicBezTo>
                <a:cubicBezTo>
                  <a:pt x="1009" y="458"/>
                  <a:pt x="1009" y="458"/>
                  <a:pt x="1009" y="458"/>
                </a:cubicBezTo>
                <a:cubicBezTo>
                  <a:pt x="1003" y="428"/>
                  <a:pt x="993" y="399"/>
                  <a:pt x="981" y="371"/>
                </a:cubicBezTo>
                <a:cubicBezTo>
                  <a:pt x="1058" y="285"/>
                  <a:pt x="1058" y="285"/>
                  <a:pt x="1058" y="285"/>
                </a:cubicBezTo>
                <a:cubicBezTo>
                  <a:pt x="972" y="167"/>
                  <a:pt x="972" y="167"/>
                  <a:pt x="972" y="167"/>
                </a:cubicBezTo>
                <a:cubicBezTo>
                  <a:pt x="866" y="213"/>
                  <a:pt x="866" y="213"/>
                  <a:pt x="866" y="213"/>
                </a:cubicBezTo>
                <a:cubicBezTo>
                  <a:pt x="843" y="193"/>
                  <a:pt x="819" y="175"/>
                  <a:pt x="792" y="160"/>
                </a:cubicBezTo>
                <a:cubicBezTo>
                  <a:pt x="804" y="45"/>
                  <a:pt x="804" y="45"/>
                  <a:pt x="804" y="45"/>
                </a:cubicBezTo>
                <a:cubicBezTo>
                  <a:pt x="664" y="0"/>
                  <a:pt x="664" y="0"/>
                  <a:pt x="664" y="0"/>
                </a:cubicBezTo>
                <a:cubicBezTo>
                  <a:pt x="606" y="100"/>
                  <a:pt x="606" y="100"/>
                  <a:pt x="606" y="100"/>
                </a:cubicBezTo>
                <a:cubicBezTo>
                  <a:pt x="592" y="98"/>
                  <a:pt x="576" y="97"/>
                  <a:pt x="561" y="97"/>
                </a:cubicBezTo>
                <a:close/>
                <a:moveTo>
                  <a:pt x="967" y="556"/>
                </a:moveTo>
                <a:cubicBezTo>
                  <a:pt x="968" y="780"/>
                  <a:pt x="786" y="962"/>
                  <a:pt x="562" y="962"/>
                </a:cubicBezTo>
                <a:cubicBezTo>
                  <a:pt x="337" y="962"/>
                  <a:pt x="155" y="781"/>
                  <a:pt x="155" y="556"/>
                </a:cubicBezTo>
                <a:cubicBezTo>
                  <a:pt x="155" y="332"/>
                  <a:pt x="337" y="150"/>
                  <a:pt x="561" y="150"/>
                </a:cubicBezTo>
                <a:cubicBezTo>
                  <a:pt x="785" y="149"/>
                  <a:pt x="967" y="331"/>
                  <a:pt x="967" y="55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6"/>
          <p:cNvSpPr/>
          <p:nvPr/>
        </p:nvSpPr>
        <p:spPr>
          <a:xfrm>
            <a:off x="2809800" y="2489040"/>
            <a:ext cx="1746360" cy="173196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1731960"/>
              <a:gd name="textAreaBottom" fmla="*/ 1732320 h 1731960"/>
            </a:gdLst>
            <a:ahLst/>
            <a:rect l="textAreaLeft" t="textAreaTop" r="textAreaRight" b="textAreaBottom"/>
            <a:pathLst>
              <a:path w="833" h="826">
                <a:moveTo>
                  <a:pt x="416" y="72"/>
                </a:moveTo>
                <a:cubicBezTo>
                  <a:pt x="405" y="72"/>
                  <a:pt x="394" y="73"/>
                  <a:pt x="383" y="74"/>
                </a:cubicBezTo>
                <a:cubicBezTo>
                  <a:pt x="340" y="0"/>
                  <a:pt x="340" y="0"/>
                  <a:pt x="340" y="0"/>
                </a:cubicBezTo>
                <a:cubicBezTo>
                  <a:pt x="236" y="34"/>
                  <a:pt x="236" y="34"/>
                  <a:pt x="236" y="34"/>
                </a:cubicBezTo>
                <a:cubicBezTo>
                  <a:pt x="245" y="119"/>
                  <a:pt x="245" y="119"/>
                  <a:pt x="245" y="119"/>
                </a:cubicBezTo>
                <a:cubicBezTo>
                  <a:pt x="225" y="131"/>
                  <a:pt x="207" y="144"/>
                  <a:pt x="190" y="159"/>
                </a:cubicBezTo>
                <a:cubicBezTo>
                  <a:pt x="112" y="124"/>
                  <a:pt x="112" y="124"/>
                  <a:pt x="112" y="124"/>
                </a:cubicBezTo>
                <a:cubicBezTo>
                  <a:pt x="48" y="212"/>
                  <a:pt x="48" y="212"/>
                  <a:pt x="48" y="212"/>
                </a:cubicBezTo>
                <a:cubicBezTo>
                  <a:pt x="105" y="276"/>
                  <a:pt x="105" y="276"/>
                  <a:pt x="105" y="276"/>
                </a:cubicBezTo>
                <a:cubicBezTo>
                  <a:pt x="96" y="297"/>
                  <a:pt x="89" y="318"/>
                  <a:pt x="84" y="341"/>
                </a:cubicBezTo>
                <a:cubicBezTo>
                  <a:pt x="0" y="359"/>
                  <a:pt x="0" y="359"/>
                  <a:pt x="0" y="359"/>
                </a:cubicBezTo>
                <a:cubicBezTo>
                  <a:pt x="0" y="468"/>
                  <a:pt x="0" y="468"/>
                  <a:pt x="0" y="468"/>
                </a:cubicBezTo>
                <a:cubicBezTo>
                  <a:pt x="84" y="486"/>
                  <a:pt x="84" y="486"/>
                  <a:pt x="84" y="486"/>
                </a:cubicBezTo>
                <a:cubicBezTo>
                  <a:pt x="89" y="508"/>
                  <a:pt x="96" y="529"/>
                  <a:pt x="105" y="550"/>
                </a:cubicBezTo>
                <a:cubicBezTo>
                  <a:pt x="48" y="614"/>
                  <a:pt x="48" y="614"/>
                  <a:pt x="48" y="614"/>
                </a:cubicBezTo>
                <a:cubicBezTo>
                  <a:pt x="112" y="702"/>
                  <a:pt x="112" y="702"/>
                  <a:pt x="112" y="702"/>
                </a:cubicBezTo>
                <a:cubicBezTo>
                  <a:pt x="190" y="667"/>
                  <a:pt x="190" y="667"/>
                  <a:pt x="190" y="667"/>
                </a:cubicBezTo>
                <a:cubicBezTo>
                  <a:pt x="207" y="682"/>
                  <a:pt x="226" y="695"/>
                  <a:pt x="245" y="707"/>
                </a:cubicBezTo>
                <a:cubicBezTo>
                  <a:pt x="236" y="792"/>
                  <a:pt x="236" y="792"/>
                  <a:pt x="236" y="792"/>
                </a:cubicBezTo>
                <a:cubicBezTo>
                  <a:pt x="340" y="826"/>
                  <a:pt x="340" y="826"/>
                  <a:pt x="340" y="826"/>
                </a:cubicBezTo>
                <a:cubicBezTo>
                  <a:pt x="383" y="752"/>
                  <a:pt x="383" y="752"/>
                  <a:pt x="383" y="752"/>
                </a:cubicBezTo>
                <a:cubicBezTo>
                  <a:pt x="394" y="753"/>
                  <a:pt x="406" y="753"/>
                  <a:pt x="417" y="753"/>
                </a:cubicBezTo>
                <a:cubicBezTo>
                  <a:pt x="428" y="753"/>
                  <a:pt x="440" y="753"/>
                  <a:pt x="451" y="752"/>
                </a:cubicBezTo>
                <a:cubicBezTo>
                  <a:pt x="494" y="826"/>
                  <a:pt x="494" y="826"/>
                  <a:pt x="494" y="826"/>
                </a:cubicBezTo>
                <a:cubicBezTo>
                  <a:pt x="597" y="792"/>
                  <a:pt x="597" y="792"/>
                  <a:pt x="597" y="792"/>
                </a:cubicBezTo>
                <a:cubicBezTo>
                  <a:pt x="589" y="707"/>
                  <a:pt x="589" y="707"/>
                  <a:pt x="589" y="707"/>
                </a:cubicBezTo>
                <a:cubicBezTo>
                  <a:pt x="608" y="695"/>
                  <a:pt x="626" y="682"/>
                  <a:pt x="643" y="667"/>
                </a:cubicBezTo>
                <a:cubicBezTo>
                  <a:pt x="722" y="702"/>
                  <a:pt x="722" y="702"/>
                  <a:pt x="722" y="702"/>
                </a:cubicBezTo>
                <a:cubicBezTo>
                  <a:pt x="786" y="613"/>
                  <a:pt x="786" y="613"/>
                  <a:pt x="786" y="613"/>
                </a:cubicBezTo>
                <a:cubicBezTo>
                  <a:pt x="728" y="550"/>
                  <a:pt x="728" y="550"/>
                  <a:pt x="728" y="550"/>
                </a:cubicBezTo>
                <a:cubicBezTo>
                  <a:pt x="737" y="529"/>
                  <a:pt x="745" y="508"/>
                  <a:pt x="749" y="485"/>
                </a:cubicBezTo>
                <a:cubicBezTo>
                  <a:pt x="833" y="467"/>
                  <a:pt x="833" y="467"/>
                  <a:pt x="833" y="467"/>
                </a:cubicBezTo>
                <a:cubicBezTo>
                  <a:pt x="833" y="358"/>
                  <a:pt x="833" y="358"/>
                  <a:pt x="833" y="358"/>
                </a:cubicBezTo>
                <a:cubicBezTo>
                  <a:pt x="749" y="340"/>
                  <a:pt x="749" y="340"/>
                  <a:pt x="749" y="340"/>
                </a:cubicBezTo>
                <a:cubicBezTo>
                  <a:pt x="744" y="318"/>
                  <a:pt x="737" y="296"/>
                  <a:pt x="728" y="276"/>
                </a:cubicBezTo>
                <a:cubicBezTo>
                  <a:pt x="786" y="212"/>
                  <a:pt x="786" y="212"/>
                  <a:pt x="786" y="212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643" y="159"/>
                  <a:pt x="643" y="159"/>
                  <a:pt x="643" y="159"/>
                </a:cubicBezTo>
                <a:cubicBezTo>
                  <a:pt x="626" y="144"/>
                  <a:pt x="608" y="130"/>
                  <a:pt x="588" y="119"/>
                </a:cubicBezTo>
                <a:cubicBezTo>
                  <a:pt x="597" y="34"/>
                  <a:pt x="597" y="34"/>
                  <a:pt x="597" y="34"/>
                </a:cubicBezTo>
                <a:cubicBezTo>
                  <a:pt x="493" y="0"/>
                  <a:pt x="493" y="0"/>
                  <a:pt x="493" y="0"/>
                </a:cubicBezTo>
                <a:cubicBezTo>
                  <a:pt x="450" y="74"/>
                  <a:pt x="450" y="74"/>
                  <a:pt x="450" y="74"/>
                </a:cubicBezTo>
                <a:cubicBezTo>
                  <a:pt x="439" y="73"/>
                  <a:pt x="428" y="72"/>
                  <a:pt x="416" y="72"/>
                </a:cubicBezTo>
                <a:close/>
                <a:moveTo>
                  <a:pt x="718" y="413"/>
                </a:moveTo>
                <a:cubicBezTo>
                  <a:pt x="718" y="579"/>
                  <a:pt x="583" y="714"/>
                  <a:pt x="417" y="715"/>
                </a:cubicBezTo>
                <a:cubicBezTo>
                  <a:pt x="250" y="715"/>
                  <a:pt x="115" y="580"/>
                  <a:pt x="115" y="413"/>
                </a:cubicBezTo>
                <a:cubicBezTo>
                  <a:pt x="115" y="247"/>
                  <a:pt x="250" y="111"/>
                  <a:pt x="416" y="111"/>
                </a:cubicBezTo>
                <a:cubicBezTo>
                  <a:pt x="583" y="111"/>
                  <a:pt x="718" y="246"/>
                  <a:pt x="718" y="413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7"/>
          <p:cNvSpPr/>
          <p:nvPr/>
        </p:nvSpPr>
        <p:spPr>
          <a:xfrm>
            <a:off x="3471840" y="4371840"/>
            <a:ext cx="1441440" cy="1428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688" h="682">
                <a:moveTo>
                  <a:pt x="344" y="60"/>
                </a:moveTo>
                <a:cubicBezTo>
                  <a:pt x="334" y="60"/>
                  <a:pt x="325" y="60"/>
                  <a:pt x="316" y="61"/>
                </a:cubicBezTo>
                <a:cubicBezTo>
                  <a:pt x="280" y="0"/>
                  <a:pt x="280" y="0"/>
                  <a:pt x="280" y="0"/>
                </a:cubicBezTo>
                <a:cubicBezTo>
                  <a:pt x="195" y="28"/>
                  <a:pt x="195" y="28"/>
                  <a:pt x="195" y="28"/>
                </a:cubicBezTo>
                <a:cubicBezTo>
                  <a:pt x="202" y="98"/>
                  <a:pt x="202" y="98"/>
                  <a:pt x="202" y="98"/>
                </a:cubicBezTo>
                <a:cubicBezTo>
                  <a:pt x="186" y="108"/>
                  <a:pt x="171" y="119"/>
                  <a:pt x="157" y="131"/>
                </a:cubicBezTo>
                <a:cubicBezTo>
                  <a:pt x="92" y="103"/>
                  <a:pt x="92" y="103"/>
                  <a:pt x="92" y="103"/>
                </a:cubicBezTo>
                <a:cubicBezTo>
                  <a:pt x="39" y="175"/>
                  <a:pt x="39" y="175"/>
                  <a:pt x="39" y="175"/>
                </a:cubicBezTo>
                <a:cubicBezTo>
                  <a:pt x="87" y="228"/>
                  <a:pt x="87" y="228"/>
                  <a:pt x="87" y="228"/>
                </a:cubicBezTo>
                <a:cubicBezTo>
                  <a:pt x="79" y="245"/>
                  <a:pt x="73" y="263"/>
                  <a:pt x="69" y="281"/>
                </a:cubicBezTo>
                <a:cubicBezTo>
                  <a:pt x="0" y="296"/>
                  <a:pt x="0" y="296"/>
                  <a:pt x="0" y="296"/>
                </a:cubicBezTo>
                <a:cubicBezTo>
                  <a:pt x="0" y="386"/>
                  <a:pt x="0" y="386"/>
                  <a:pt x="0" y="386"/>
                </a:cubicBezTo>
                <a:cubicBezTo>
                  <a:pt x="69" y="401"/>
                  <a:pt x="69" y="401"/>
                  <a:pt x="69" y="401"/>
                </a:cubicBezTo>
                <a:cubicBezTo>
                  <a:pt x="73" y="419"/>
                  <a:pt x="79" y="437"/>
                  <a:pt x="87" y="454"/>
                </a:cubicBezTo>
                <a:cubicBezTo>
                  <a:pt x="39" y="507"/>
                  <a:pt x="39" y="507"/>
                  <a:pt x="39" y="507"/>
                </a:cubicBezTo>
                <a:cubicBezTo>
                  <a:pt x="93" y="580"/>
                  <a:pt x="93" y="580"/>
                  <a:pt x="93" y="580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71" y="563"/>
                  <a:pt x="186" y="574"/>
                  <a:pt x="202" y="584"/>
                </a:cubicBezTo>
                <a:cubicBezTo>
                  <a:pt x="195" y="654"/>
                  <a:pt x="195" y="654"/>
                  <a:pt x="195" y="654"/>
                </a:cubicBezTo>
                <a:cubicBezTo>
                  <a:pt x="281" y="682"/>
                  <a:pt x="281" y="682"/>
                  <a:pt x="281" y="682"/>
                </a:cubicBezTo>
                <a:cubicBezTo>
                  <a:pt x="316" y="621"/>
                  <a:pt x="316" y="621"/>
                  <a:pt x="316" y="621"/>
                </a:cubicBezTo>
                <a:cubicBezTo>
                  <a:pt x="325" y="622"/>
                  <a:pt x="335" y="622"/>
                  <a:pt x="344" y="622"/>
                </a:cubicBezTo>
                <a:cubicBezTo>
                  <a:pt x="354" y="622"/>
                  <a:pt x="363" y="621"/>
                  <a:pt x="372" y="621"/>
                </a:cubicBezTo>
                <a:cubicBezTo>
                  <a:pt x="408" y="682"/>
                  <a:pt x="408" y="682"/>
                  <a:pt x="408" y="682"/>
                </a:cubicBezTo>
                <a:cubicBezTo>
                  <a:pt x="493" y="654"/>
                  <a:pt x="493" y="654"/>
                  <a:pt x="493" y="654"/>
                </a:cubicBezTo>
                <a:cubicBezTo>
                  <a:pt x="486" y="584"/>
                  <a:pt x="486" y="584"/>
                  <a:pt x="486" y="584"/>
                </a:cubicBezTo>
                <a:cubicBezTo>
                  <a:pt x="502" y="574"/>
                  <a:pt x="517" y="563"/>
                  <a:pt x="531" y="551"/>
                </a:cubicBezTo>
                <a:cubicBezTo>
                  <a:pt x="596" y="579"/>
                  <a:pt x="596" y="579"/>
                  <a:pt x="596" y="579"/>
                </a:cubicBezTo>
                <a:cubicBezTo>
                  <a:pt x="649" y="506"/>
                  <a:pt x="649" y="506"/>
                  <a:pt x="649" y="506"/>
                </a:cubicBezTo>
                <a:cubicBezTo>
                  <a:pt x="601" y="454"/>
                  <a:pt x="601" y="454"/>
                  <a:pt x="601" y="454"/>
                </a:cubicBezTo>
                <a:cubicBezTo>
                  <a:pt x="609" y="437"/>
                  <a:pt x="615" y="419"/>
                  <a:pt x="619" y="401"/>
                </a:cubicBezTo>
                <a:cubicBezTo>
                  <a:pt x="688" y="386"/>
                  <a:pt x="688" y="386"/>
                  <a:pt x="688" y="386"/>
                </a:cubicBezTo>
                <a:cubicBezTo>
                  <a:pt x="688" y="296"/>
                  <a:pt x="688" y="296"/>
                  <a:pt x="688" y="296"/>
                </a:cubicBezTo>
                <a:cubicBezTo>
                  <a:pt x="619" y="281"/>
                  <a:pt x="619" y="281"/>
                  <a:pt x="619" y="281"/>
                </a:cubicBezTo>
                <a:cubicBezTo>
                  <a:pt x="615" y="262"/>
                  <a:pt x="609" y="245"/>
                  <a:pt x="601" y="228"/>
                </a:cubicBezTo>
                <a:cubicBezTo>
                  <a:pt x="649" y="175"/>
                  <a:pt x="649" y="175"/>
                  <a:pt x="649" y="175"/>
                </a:cubicBezTo>
                <a:cubicBezTo>
                  <a:pt x="596" y="102"/>
                  <a:pt x="596" y="102"/>
                  <a:pt x="596" y="102"/>
                </a:cubicBezTo>
                <a:cubicBezTo>
                  <a:pt x="531" y="131"/>
                  <a:pt x="531" y="131"/>
                  <a:pt x="531" y="131"/>
                </a:cubicBezTo>
                <a:cubicBezTo>
                  <a:pt x="517" y="119"/>
                  <a:pt x="502" y="108"/>
                  <a:pt x="486" y="98"/>
                </a:cubicBezTo>
                <a:cubicBezTo>
                  <a:pt x="493" y="28"/>
                  <a:pt x="493" y="28"/>
                  <a:pt x="493" y="28"/>
                </a:cubicBezTo>
                <a:cubicBezTo>
                  <a:pt x="407" y="0"/>
                  <a:pt x="407" y="0"/>
                  <a:pt x="407" y="0"/>
                </a:cubicBezTo>
                <a:cubicBezTo>
                  <a:pt x="372" y="61"/>
                  <a:pt x="372" y="61"/>
                  <a:pt x="372" y="61"/>
                </a:cubicBezTo>
                <a:cubicBezTo>
                  <a:pt x="363" y="60"/>
                  <a:pt x="353" y="60"/>
                  <a:pt x="344" y="60"/>
                </a:cubicBezTo>
                <a:close/>
                <a:moveTo>
                  <a:pt x="593" y="341"/>
                </a:moveTo>
                <a:cubicBezTo>
                  <a:pt x="593" y="478"/>
                  <a:pt x="482" y="590"/>
                  <a:pt x="344" y="590"/>
                </a:cubicBezTo>
                <a:cubicBezTo>
                  <a:pt x="207" y="590"/>
                  <a:pt x="95" y="479"/>
                  <a:pt x="95" y="341"/>
                </a:cubicBezTo>
                <a:cubicBezTo>
                  <a:pt x="95" y="204"/>
                  <a:pt x="206" y="92"/>
                  <a:pt x="344" y="92"/>
                </a:cubicBezTo>
                <a:cubicBezTo>
                  <a:pt x="481" y="92"/>
                  <a:pt x="593" y="203"/>
                  <a:pt x="593" y="341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8"/>
          <p:cNvSpPr/>
          <p:nvPr/>
        </p:nvSpPr>
        <p:spPr>
          <a:xfrm>
            <a:off x="4387680" y="3368520"/>
            <a:ext cx="1324080" cy="1311480"/>
          </a:xfrm>
          <a:custGeom>
            <a:avLst/>
            <a:gdLst>
              <a:gd name="textAreaLeft" fmla="*/ 0 w 1324080"/>
              <a:gd name="textAreaRight" fmla="*/ 1324440 w 132408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631" h="626">
                <a:moveTo>
                  <a:pt x="315" y="55"/>
                </a:moveTo>
                <a:cubicBezTo>
                  <a:pt x="306" y="55"/>
                  <a:pt x="298" y="56"/>
                  <a:pt x="289" y="57"/>
                </a:cubicBezTo>
                <a:cubicBezTo>
                  <a:pt x="257" y="0"/>
                  <a:pt x="257" y="0"/>
                  <a:pt x="257" y="0"/>
                </a:cubicBezTo>
                <a:cubicBezTo>
                  <a:pt x="178" y="26"/>
                  <a:pt x="178" y="26"/>
                  <a:pt x="178" y="26"/>
                </a:cubicBezTo>
                <a:cubicBezTo>
                  <a:pt x="185" y="91"/>
                  <a:pt x="185" y="91"/>
                  <a:pt x="185" y="91"/>
                </a:cubicBezTo>
                <a:cubicBezTo>
                  <a:pt x="170" y="99"/>
                  <a:pt x="156" y="109"/>
                  <a:pt x="144" y="121"/>
                </a:cubicBezTo>
                <a:cubicBezTo>
                  <a:pt x="84" y="94"/>
                  <a:pt x="84" y="94"/>
                  <a:pt x="84" y="94"/>
                </a:cubicBezTo>
                <a:cubicBezTo>
                  <a:pt x="36" y="161"/>
                  <a:pt x="36" y="161"/>
                  <a:pt x="36" y="161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2" y="225"/>
                  <a:pt x="67" y="241"/>
                  <a:pt x="63" y="258"/>
                </a:cubicBezTo>
                <a:cubicBezTo>
                  <a:pt x="0" y="272"/>
                  <a:pt x="0" y="272"/>
                  <a:pt x="0" y="272"/>
                </a:cubicBezTo>
                <a:cubicBezTo>
                  <a:pt x="0" y="354"/>
                  <a:pt x="0" y="354"/>
                  <a:pt x="0" y="354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7" y="385"/>
                  <a:pt x="72" y="401"/>
                  <a:pt x="79" y="417"/>
                </a:cubicBezTo>
                <a:cubicBezTo>
                  <a:pt x="36" y="465"/>
                  <a:pt x="36" y="465"/>
                  <a:pt x="36" y="465"/>
                </a:cubicBezTo>
                <a:cubicBezTo>
                  <a:pt x="85" y="532"/>
                  <a:pt x="85" y="532"/>
                  <a:pt x="85" y="532"/>
                </a:cubicBezTo>
                <a:cubicBezTo>
                  <a:pt x="144" y="506"/>
                  <a:pt x="144" y="506"/>
                  <a:pt x="144" y="506"/>
                </a:cubicBezTo>
                <a:cubicBezTo>
                  <a:pt x="157" y="517"/>
                  <a:pt x="171" y="527"/>
                  <a:pt x="185" y="536"/>
                </a:cubicBezTo>
                <a:cubicBezTo>
                  <a:pt x="179" y="600"/>
                  <a:pt x="179" y="600"/>
                  <a:pt x="179" y="600"/>
                </a:cubicBezTo>
                <a:cubicBezTo>
                  <a:pt x="257" y="626"/>
                  <a:pt x="257" y="626"/>
                  <a:pt x="257" y="626"/>
                </a:cubicBezTo>
                <a:cubicBezTo>
                  <a:pt x="290" y="570"/>
                  <a:pt x="290" y="570"/>
                  <a:pt x="290" y="570"/>
                </a:cubicBezTo>
                <a:cubicBezTo>
                  <a:pt x="298" y="570"/>
                  <a:pt x="307" y="571"/>
                  <a:pt x="315" y="571"/>
                </a:cubicBezTo>
                <a:cubicBezTo>
                  <a:pt x="324" y="571"/>
                  <a:pt x="333" y="570"/>
                  <a:pt x="341" y="569"/>
                </a:cubicBezTo>
                <a:cubicBezTo>
                  <a:pt x="374" y="626"/>
                  <a:pt x="374" y="626"/>
                  <a:pt x="374" y="626"/>
                </a:cubicBezTo>
                <a:cubicBezTo>
                  <a:pt x="452" y="600"/>
                  <a:pt x="452" y="600"/>
                  <a:pt x="452" y="600"/>
                </a:cubicBezTo>
                <a:cubicBezTo>
                  <a:pt x="445" y="535"/>
                  <a:pt x="445" y="535"/>
                  <a:pt x="445" y="535"/>
                </a:cubicBezTo>
                <a:cubicBezTo>
                  <a:pt x="460" y="527"/>
                  <a:pt x="474" y="517"/>
                  <a:pt x="487" y="505"/>
                </a:cubicBezTo>
                <a:cubicBezTo>
                  <a:pt x="546" y="532"/>
                  <a:pt x="546" y="532"/>
                  <a:pt x="546" y="532"/>
                </a:cubicBezTo>
                <a:cubicBezTo>
                  <a:pt x="595" y="465"/>
                  <a:pt x="595" y="465"/>
                  <a:pt x="595" y="465"/>
                </a:cubicBezTo>
                <a:cubicBezTo>
                  <a:pt x="551" y="416"/>
                  <a:pt x="551" y="416"/>
                  <a:pt x="551" y="416"/>
                </a:cubicBezTo>
                <a:cubicBezTo>
                  <a:pt x="558" y="401"/>
                  <a:pt x="563" y="385"/>
                  <a:pt x="567" y="368"/>
                </a:cubicBezTo>
                <a:cubicBezTo>
                  <a:pt x="631" y="354"/>
                  <a:pt x="631" y="354"/>
                  <a:pt x="631" y="354"/>
                </a:cubicBezTo>
                <a:cubicBezTo>
                  <a:pt x="631" y="271"/>
                  <a:pt x="631" y="271"/>
                  <a:pt x="631" y="271"/>
                </a:cubicBezTo>
                <a:cubicBezTo>
                  <a:pt x="567" y="258"/>
                  <a:pt x="567" y="258"/>
                  <a:pt x="567" y="258"/>
                </a:cubicBezTo>
                <a:cubicBezTo>
                  <a:pt x="563" y="241"/>
                  <a:pt x="558" y="225"/>
                  <a:pt x="551" y="209"/>
                </a:cubicBezTo>
                <a:cubicBezTo>
                  <a:pt x="594" y="161"/>
                  <a:pt x="594" y="161"/>
                  <a:pt x="594" y="161"/>
                </a:cubicBezTo>
                <a:cubicBezTo>
                  <a:pt x="546" y="94"/>
                  <a:pt x="546" y="94"/>
                  <a:pt x="546" y="94"/>
                </a:cubicBezTo>
                <a:cubicBezTo>
                  <a:pt x="487" y="120"/>
                  <a:pt x="487" y="120"/>
                  <a:pt x="487" y="120"/>
                </a:cubicBezTo>
                <a:cubicBezTo>
                  <a:pt x="474" y="109"/>
                  <a:pt x="460" y="99"/>
                  <a:pt x="445" y="90"/>
                </a:cubicBezTo>
                <a:cubicBezTo>
                  <a:pt x="452" y="26"/>
                  <a:pt x="452" y="26"/>
                  <a:pt x="452" y="26"/>
                </a:cubicBezTo>
                <a:cubicBezTo>
                  <a:pt x="373" y="0"/>
                  <a:pt x="373" y="0"/>
                  <a:pt x="373" y="0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32" y="56"/>
                  <a:pt x="324" y="55"/>
                  <a:pt x="315" y="55"/>
                </a:cubicBezTo>
                <a:close/>
                <a:moveTo>
                  <a:pt x="544" y="313"/>
                </a:moveTo>
                <a:cubicBezTo>
                  <a:pt x="544" y="439"/>
                  <a:pt x="441" y="541"/>
                  <a:pt x="315" y="541"/>
                </a:cubicBezTo>
                <a:cubicBezTo>
                  <a:pt x="189" y="541"/>
                  <a:pt x="87" y="439"/>
                  <a:pt x="87" y="313"/>
                </a:cubicBezTo>
                <a:cubicBezTo>
                  <a:pt x="87" y="187"/>
                  <a:pt x="189" y="85"/>
                  <a:pt x="315" y="85"/>
                </a:cubicBezTo>
                <a:cubicBezTo>
                  <a:pt x="441" y="85"/>
                  <a:pt x="543" y="187"/>
                  <a:pt x="544" y="313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44640" y="4367160"/>
            <a:ext cx="831960" cy="833400"/>
          </a:xfrm>
          <a:custGeom>
            <a:avLst/>
            <a:gdLst>
              <a:gd name="textAreaLeft" fmla="*/ 0 w 831960"/>
              <a:gd name="textAreaRight" fmla="*/ 832320 w 831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32" h="132">
                <a:moveTo>
                  <a:pt x="108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21"/>
                  <a:pt x="11" y="132"/>
                  <a:pt x="24" y="132"/>
                </a:cubicBezTo>
                <a:cubicBezTo>
                  <a:pt x="108" y="132"/>
                  <a:pt x="108" y="132"/>
                  <a:pt x="108" y="132"/>
                </a:cubicBezTo>
                <a:cubicBezTo>
                  <a:pt x="121" y="132"/>
                  <a:pt x="132" y="121"/>
                  <a:pt x="132" y="108"/>
                </a:cubicBezTo>
                <a:cubicBezTo>
                  <a:pt x="132" y="24"/>
                  <a:pt x="132" y="24"/>
                  <a:pt x="132" y="24"/>
                </a:cubicBezTo>
                <a:cubicBezTo>
                  <a:pt x="132" y="11"/>
                  <a:pt x="121" y="0"/>
                  <a:pt x="108" y="0"/>
                </a:cubicBezTo>
                <a:moveTo>
                  <a:pt x="108" y="78"/>
                </a:moveTo>
                <a:cubicBezTo>
                  <a:pt x="78" y="78"/>
                  <a:pt x="78" y="78"/>
                  <a:pt x="78" y="78"/>
                </a:cubicBezTo>
                <a:cubicBezTo>
                  <a:pt x="78" y="108"/>
                  <a:pt x="78" y="108"/>
                  <a:pt x="78" y="108"/>
                </a:cubicBezTo>
                <a:cubicBezTo>
                  <a:pt x="54" y="108"/>
                  <a:pt x="54" y="108"/>
                  <a:pt x="54" y="108"/>
                </a:cubicBez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54"/>
                  <a:pt x="24" y="54"/>
                  <a:pt x="24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24"/>
                  <a:pt x="54" y="24"/>
                  <a:pt x="54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54"/>
                  <a:pt x="78" y="54"/>
                  <a:pt x="78" y="54"/>
                </a:cubicBezTo>
                <a:cubicBezTo>
                  <a:pt x="108" y="54"/>
                  <a:pt x="108" y="54"/>
                  <a:pt x="108" y="54"/>
                </a:cubicBezTo>
                <a:lnTo>
                  <a:pt x="108" y="78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3" name="组合 6"/>
          <p:cNvGrpSpPr/>
          <p:nvPr/>
        </p:nvGrpSpPr>
        <p:grpSpPr>
          <a:xfrm>
            <a:off x="3449520" y="3025800"/>
            <a:ext cx="509760" cy="581040"/>
            <a:chOff x="3449520" y="3025800"/>
            <a:chExt cx="509760" cy="581040"/>
          </a:xfrm>
        </p:grpSpPr>
        <p:sp>
          <p:nvSpPr>
            <p:cNvPr id="1134" name="Freeform 20"/>
            <p:cNvSpPr/>
            <p:nvPr/>
          </p:nvSpPr>
          <p:spPr>
            <a:xfrm>
              <a:off x="3674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39" y="12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1" y="12"/>
                    <a:pt x="43" y="12"/>
                    <a:pt x="45" y="14"/>
                  </a:cubicBezTo>
                  <a:cubicBezTo>
                    <a:pt x="45" y="14"/>
                    <a:pt x="46" y="15"/>
                    <a:pt x="46" y="18"/>
                  </a:cubicBezTo>
                  <a:cubicBezTo>
                    <a:pt x="46" y="21"/>
                    <a:pt x="45" y="25"/>
                    <a:pt x="40" y="29"/>
                  </a:cubicBezTo>
                  <a:cubicBezTo>
                    <a:pt x="35" y="34"/>
                    <a:pt x="26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35"/>
                    <a:pt x="18" y="25"/>
                    <a:pt x="26" y="18"/>
                  </a:cubicBezTo>
                  <a:cubicBezTo>
                    <a:pt x="30" y="14"/>
                    <a:pt x="35" y="12"/>
                    <a:pt x="39" y="12"/>
                  </a:cubicBezTo>
                  <a:moveTo>
                    <a:pt x="39" y="0"/>
                  </a:moveTo>
                  <a:cubicBezTo>
                    <a:pt x="32" y="0"/>
                    <a:pt x="24" y="3"/>
                    <a:pt x="17" y="9"/>
                  </a:cubicBezTo>
                  <a:cubicBezTo>
                    <a:pt x="6" y="19"/>
                    <a:pt x="0" y="38"/>
                    <a:pt x="8" y="47"/>
                  </a:cubicBezTo>
                  <a:cubicBezTo>
                    <a:pt x="11" y="49"/>
                    <a:pt x="15" y="50"/>
                    <a:pt x="20" y="50"/>
                  </a:cubicBezTo>
                  <a:cubicBezTo>
                    <a:pt x="29" y="50"/>
                    <a:pt x="41" y="45"/>
                    <a:pt x="49" y="38"/>
                  </a:cubicBezTo>
                  <a:cubicBezTo>
                    <a:pt x="60" y="28"/>
                    <a:pt x="62" y="13"/>
                    <a:pt x="53" y="5"/>
                  </a:cubicBezTo>
                  <a:cubicBezTo>
                    <a:pt x="50" y="1"/>
                    <a:pt x="45" y="0"/>
                    <a:pt x="39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21"/>
            <p:cNvSpPr/>
            <p:nvPr/>
          </p:nvSpPr>
          <p:spPr>
            <a:xfrm>
              <a:off x="3512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23" y="12"/>
                  </a:moveTo>
                  <a:cubicBezTo>
                    <a:pt x="27" y="12"/>
                    <a:pt x="32" y="14"/>
                    <a:pt x="36" y="18"/>
                  </a:cubicBezTo>
                  <a:cubicBezTo>
                    <a:pt x="44" y="25"/>
                    <a:pt x="46" y="35"/>
                    <a:pt x="45" y="38"/>
                  </a:cubicBezTo>
                  <a:cubicBezTo>
                    <a:pt x="45" y="38"/>
                    <a:pt x="45" y="38"/>
                    <a:pt x="42" y="38"/>
                  </a:cubicBezTo>
                  <a:cubicBezTo>
                    <a:pt x="36" y="38"/>
                    <a:pt x="27" y="34"/>
                    <a:pt x="22" y="29"/>
                  </a:cubicBezTo>
                  <a:cubicBezTo>
                    <a:pt x="17" y="25"/>
                    <a:pt x="16" y="21"/>
                    <a:pt x="16" y="18"/>
                  </a:cubicBezTo>
                  <a:cubicBezTo>
                    <a:pt x="16" y="15"/>
                    <a:pt x="17" y="14"/>
                    <a:pt x="17" y="14"/>
                  </a:cubicBezTo>
                  <a:cubicBezTo>
                    <a:pt x="19" y="12"/>
                    <a:pt x="21" y="12"/>
                    <a:pt x="23" y="12"/>
                  </a:cubicBezTo>
                  <a:moveTo>
                    <a:pt x="23" y="0"/>
                  </a:moveTo>
                  <a:cubicBezTo>
                    <a:pt x="17" y="0"/>
                    <a:pt x="12" y="1"/>
                    <a:pt x="9" y="5"/>
                  </a:cubicBezTo>
                  <a:cubicBezTo>
                    <a:pt x="0" y="13"/>
                    <a:pt x="2" y="28"/>
                    <a:pt x="13" y="38"/>
                  </a:cubicBezTo>
                  <a:cubicBezTo>
                    <a:pt x="21" y="45"/>
                    <a:pt x="33" y="50"/>
                    <a:pt x="42" y="50"/>
                  </a:cubicBezTo>
                  <a:cubicBezTo>
                    <a:pt x="47" y="50"/>
                    <a:pt x="51" y="49"/>
                    <a:pt x="54" y="47"/>
                  </a:cubicBezTo>
                  <a:cubicBezTo>
                    <a:pt x="62" y="38"/>
                    <a:pt x="56" y="19"/>
                    <a:pt x="45" y="9"/>
                  </a:cubicBezTo>
                  <a:cubicBezTo>
                    <a:pt x="38" y="3"/>
                    <a:pt x="30" y="0"/>
                    <a:pt x="23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22"/>
            <p:cNvSpPr/>
            <p:nvPr/>
          </p:nvSpPr>
          <p:spPr>
            <a:xfrm>
              <a:off x="372600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1" y="0"/>
                    <a:pt x="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23"/>
            <p:cNvSpPr/>
            <p:nvPr/>
          </p:nvSpPr>
          <p:spPr>
            <a:xfrm>
              <a:off x="372600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54"/>
                    <a:pt x="0" y="54"/>
                    <a:pt x="0" y="54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61" y="54"/>
                    <a:pt x="66" y="49"/>
                    <a:pt x="66" y="42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24"/>
            <p:cNvSpPr/>
            <p:nvPr/>
          </p:nvSpPr>
          <p:spPr>
            <a:xfrm>
              <a:off x="344952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6"/>
                    <a:pt x="0" y="1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25"/>
            <p:cNvSpPr/>
            <p:nvPr/>
          </p:nvSpPr>
          <p:spPr>
            <a:xfrm>
              <a:off x="344952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9"/>
                    <a:pt x="5" y="54"/>
                    <a:pt x="12" y="54"/>
                  </a:cubicBezTo>
                  <a:cubicBezTo>
                    <a:pt x="66" y="54"/>
                    <a:pt x="66" y="54"/>
                    <a:pt x="66" y="54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0" name="组合 12"/>
          <p:cNvGrpSpPr/>
          <p:nvPr/>
        </p:nvGrpSpPr>
        <p:grpSpPr>
          <a:xfrm>
            <a:off x="3913200" y="4900680"/>
            <a:ext cx="550800" cy="466560"/>
            <a:chOff x="3913200" y="4900680"/>
            <a:chExt cx="550800" cy="466560"/>
          </a:xfrm>
        </p:grpSpPr>
        <p:sp>
          <p:nvSpPr>
            <p:cNvPr id="1141" name="Rectangle 111"/>
            <p:cNvSpPr/>
            <p:nvPr/>
          </p:nvSpPr>
          <p:spPr>
            <a:xfrm>
              <a:off x="4019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12"/>
            <p:cNvSpPr/>
            <p:nvPr/>
          </p:nvSpPr>
          <p:spPr>
            <a:xfrm>
              <a:off x="3913200" y="4900680"/>
              <a:ext cx="550800" cy="23328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56" h="66">
                  <a:moveTo>
                    <a:pt x="114" y="24"/>
                  </a:moveTo>
                  <a:cubicBezTo>
                    <a:pt x="114" y="23"/>
                    <a:pt x="114" y="23"/>
                    <a:pt x="114" y="23"/>
                  </a:cubicBezTo>
                  <a:cubicBezTo>
                    <a:pt x="114" y="18"/>
                    <a:pt x="114" y="18"/>
                    <a:pt x="114" y="18"/>
                  </a:cubicBezTo>
                  <a:cubicBezTo>
                    <a:pt x="114" y="6"/>
                    <a:pt x="105" y="0"/>
                    <a:pt x="96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8" y="0"/>
                    <a:pt x="42" y="9"/>
                    <a:pt x="42" y="18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108" y="66"/>
                    <a:pt x="108" y="66"/>
                    <a:pt x="108" y="66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32" y="54"/>
                    <a:pt x="132" y="54"/>
                    <a:pt x="132" y="54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56" y="66"/>
                    <a:pt x="156" y="66"/>
                    <a:pt x="156" y="66"/>
                  </a:cubicBezTo>
                  <a:cubicBezTo>
                    <a:pt x="156" y="24"/>
                    <a:pt x="156" y="24"/>
                    <a:pt x="156" y="24"/>
                  </a:cubicBezTo>
                  <a:lnTo>
                    <a:pt x="114" y="24"/>
                  </a:lnTo>
                  <a:close/>
                  <a:moveTo>
                    <a:pt x="54" y="18"/>
                  </a:moveTo>
                  <a:cubicBezTo>
                    <a:pt x="54" y="18"/>
                    <a:pt x="54" y="12"/>
                    <a:pt x="60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102" y="12"/>
                    <a:pt x="102" y="18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54" y="24"/>
                    <a:pt x="54" y="24"/>
                    <a:pt x="54" y="24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113"/>
            <p:cNvSpPr/>
            <p:nvPr/>
          </p:nvSpPr>
          <p:spPr>
            <a:xfrm>
              <a:off x="3933720" y="5154480"/>
              <a:ext cx="509760" cy="2127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134">
                  <a:moveTo>
                    <a:pt x="281" y="40"/>
                  </a:moveTo>
                  <a:lnTo>
                    <a:pt x="227" y="40"/>
                  </a:lnTo>
                  <a:lnTo>
                    <a:pt x="227" y="0"/>
                  </a:lnTo>
                  <a:lnTo>
                    <a:pt x="94" y="0"/>
                  </a:lnTo>
                  <a:lnTo>
                    <a:pt x="94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4"/>
                  </a:lnTo>
                  <a:lnTo>
                    <a:pt x="321" y="134"/>
                  </a:lnTo>
                  <a:lnTo>
                    <a:pt x="321" y="0"/>
                  </a:lnTo>
                  <a:lnTo>
                    <a:pt x="281" y="0"/>
                  </a:lnTo>
                  <a:lnTo>
                    <a:pt x="281" y="40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114"/>
            <p:cNvSpPr/>
            <p:nvPr/>
          </p:nvSpPr>
          <p:spPr>
            <a:xfrm>
              <a:off x="4316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5" name="Freeform 31"/>
          <p:cNvSpPr/>
          <p:nvPr/>
        </p:nvSpPr>
        <p:spPr>
          <a:xfrm>
            <a:off x="4802040" y="3797280"/>
            <a:ext cx="509760" cy="509760"/>
          </a:xfrm>
          <a:custGeom>
            <a:avLst/>
            <a:gdLst>
              <a:gd name="textAreaLeft" fmla="*/ 0 w 509760"/>
              <a:gd name="textAreaRight" fmla="*/ 510120 w 509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44" h="144">
                <a:moveTo>
                  <a:pt x="72" y="36"/>
                </a:moveTo>
                <a:cubicBezTo>
                  <a:pt x="48" y="0"/>
                  <a:pt x="0" y="21"/>
                  <a:pt x="0" y="61"/>
                </a:cubicBezTo>
                <a:cubicBezTo>
                  <a:pt x="0" y="87"/>
                  <a:pt x="24" y="106"/>
                  <a:pt x="42" y="120"/>
                </a:cubicBezTo>
                <a:cubicBezTo>
                  <a:pt x="61" y="135"/>
                  <a:pt x="66" y="138"/>
                  <a:pt x="72" y="144"/>
                </a:cubicBezTo>
                <a:cubicBezTo>
                  <a:pt x="78" y="138"/>
                  <a:pt x="83" y="135"/>
                  <a:pt x="102" y="120"/>
                </a:cubicBezTo>
                <a:cubicBezTo>
                  <a:pt x="120" y="106"/>
                  <a:pt x="144" y="87"/>
                  <a:pt x="144" y="60"/>
                </a:cubicBezTo>
                <a:cubicBezTo>
                  <a:pt x="144" y="21"/>
                  <a:pt x="96" y="0"/>
                  <a:pt x="72" y="36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57"/>
          <p:cNvSpPr/>
          <p:nvPr/>
        </p:nvSpPr>
        <p:spPr>
          <a:xfrm>
            <a:off x="5934240" y="292428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57"/>
          <p:cNvSpPr/>
          <p:nvPr/>
        </p:nvSpPr>
        <p:spPr>
          <a:xfrm>
            <a:off x="5934240" y="468000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57"/>
          <p:cNvSpPr/>
          <p:nvPr/>
        </p:nvSpPr>
        <p:spPr>
          <a:xfrm>
            <a:off x="8661240" y="292428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57"/>
          <p:cNvSpPr/>
          <p:nvPr/>
        </p:nvSpPr>
        <p:spPr>
          <a:xfrm>
            <a:off x="8661240" y="468000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19"/>
          <p:cNvGrpSpPr/>
          <p:nvPr/>
        </p:nvGrpSpPr>
        <p:grpSpPr>
          <a:xfrm>
            <a:off x="4243320" y="2146320"/>
            <a:ext cx="3853080" cy="3855960"/>
            <a:chOff x="4243320" y="2146320"/>
            <a:chExt cx="3853080" cy="3855960"/>
          </a:xfrm>
        </p:grpSpPr>
        <p:sp>
          <p:nvSpPr>
            <p:cNvPr id="1156" name="Freeform 12"/>
            <p:cNvSpPr/>
            <p:nvPr/>
          </p:nvSpPr>
          <p:spPr>
            <a:xfrm>
              <a:off x="5400720" y="2146320"/>
              <a:ext cx="2535480" cy="1927080"/>
            </a:xfrm>
            <a:custGeom>
              <a:avLst/>
              <a:gdLst>
                <a:gd name="textAreaLeft" fmla="*/ 0 w 2535480"/>
                <a:gd name="textAreaRight" fmla="*/ 2535840 w 2535480"/>
                <a:gd name="textAreaTop" fmla="*/ 0 h 1927080"/>
                <a:gd name="textAreaBottom" fmla="*/ 1927080 h 1927080"/>
              </a:gdLst>
              <a:ahLst/>
              <a:rect l="textAreaLeft" t="textAreaTop" r="textAreaRight" b="textAreaBottom"/>
              <a:pathLst>
                <a:path w="774" h="588">
                  <a:moveTo>
                    <a:pt x="774" y="353"/>
                  </a:moveTo>
                  <a:cubicBezTo>
                    <a:pt x="235" y="353"/>
                    <a:pt x="235" y="353"/>
                    <a:pt x="235" y="353"/>
                  </a:cubicBezTo>
                  <a:cubicBezTo>
                    <a:pt x="108" y="353"/>
                    <a:pt x="5" y="453"/>
                    <a:pt x="0" y="579"/>
                  </a:cubicBezTo>
                  <a:cubicBezTo>
                    <a:pt x="0" y="579"/>
                    <a:pt x="0" y="579"/>
                    <a:pt x="0" y="579"/>
                  </a:cubicBezTo>
                  <a:cubicBezTo>
                    <a:pt x="0" y="581"/>
                    <a:pt x="0" y="583"/>
                    <a:pt x="0" y="585"/>
                  </a:cubicBezTo>
                  <a:cubicBezTo>
                    <a:pt x="0" y="586"/>
                    <a:pt x="0" y="587"/>
                    <a:pt x="0" y="588"/>
                  </a:cubicBezTo>
                  <a:cubicBezTo>
                    <a:pt x="0" y="236"/>
                    <a:pt x="0" y="236"/>
                    <a:pt x="0" y="236"/>
                  </a:cubicBezTo>
                  <a:cubicBezTo>
                    <a:pt x="0" y="107"/>
                    <a:pt x="103" y="2"/>
                    <a:pt x="231" y="0"/>
                  </a:cubicBezTo>
                  <a:cubicBezTo>
                    <a:pt x="233" y="0"/>
                    <a:pt x="234" y="0"/>
                    <a:pt x="235" y="0"/>
                  </a:cubicBezTo>
                  <a:cubicBezTo>
                    <a:pt x="236" y="0"/>
                    <a:pt x="237" y="0"/>
                    <a:pt x="238" y="0"/>
                  </a:cubicBezTo>
                  <a:cubicBezTo>
                    <a:pt x="475" y="1"/>
                    <a:pt x="679" y="143"/>
                    <a:pt x="771" y="345"/>
                  </a:cubicBezTo>
                  <a:cubicBezTo>
                    <a:pt x="772" y="348"/>
                    <a:pt x="773" y="350"/>
                    <a:pt x="774" y="353"/>
                  </a:cubicBez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13"/>
            <p:cNvSpPr/>
            <p:nvPr/>
          </p:nvSpPr>
          <p:spPr>
            <a:xfrm>
              <a:off x="6170760" y="3303360"/>
              <a:ext cx="1925640" cy="25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235"/>
                  </a:moveTo>
                  <a:cubicBezTo>
                    <a:pt x="588" y="237"/>
                    <a:pt x="588" y="238"/>
                    <a:pt x="588" y="239"/>
                  </a:cubicBezTo>
                  <a:cubicBezTo>
                    <a:pt x="587" y="478"/>
                    <a:pt x="442" y="684"/>
                    <a:pt x="236" y="775"/>
                  </a:cubicBezTo>
                  <a:cubicBezTo>
                    <a:pt x="236" y="235"/>
                    <a:pt x="236" y="235"/>
                    <a:pt x="236" y="235"/>
                  </a:cubicBezTo>
                  <a:cubicBezTo>
                    <a:pt x="236" y="105"/>
                    <a:pt x="130" y="0"/>
                    <a:pt x="0" y="0"/>
                  </a:cubicBezTo>
                  <a:cubicBezTo>
                    <a:pt x="353" y="0"/>
                    <a:pt x="353" y="0"/>
                    <a:pt x="353" y="0"/>
                  </a:cubicBezTo>
                  <a:cubicBezTo>
                    <a:pt x="482" y="0"/>
                    <a:pt x="586" y="103"/>
                    <a:pt x="588" y="232"/>
                  </a:cubicBezTo>
                  <a:cubicBezTo>
                    <a:pt x="588" y="233"/>
                    <a:pt x="588" y="234"/>
                    <a:pt x="588" y="235"/>
                  </a:cubicBez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4"/>
            <p:cNvSpPr/>
            <p:nvPr/>
          </p:nvSpPr>
          <p:spPr>
            <a:xfrm>
              <a:off x="4403520" y="4073400"/>
              <a:ext cx="2538720" cy="1928880"/>
            </a:xfrm>
            <a:custGeom>
              <a:avLst/>
              <a:gdLst>
                <a:gd name="textAreaLeft" fmla="*/ 0 w 2538720"/>
                <a:gd name="textAreaRight" fmla="*/ 2539080 w 253872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775" h="589">
                  <a:moveTo>
                    <a:pt x="775" y="0"/>
                  </a:moveTo>
                  <a:cubicBezTo>
                    <a:pt x="775" y="353"/>
                    <a:pt x="775" y="353"/>
                    <a:pt x="775" y="353"/>
                  </a:cubicBezTo>
                  <a:cubicBezTo>
                    <a:pt x="775" y="482"/>
                    <a:pt x="671" y="587"/>
                    <a:pt x="543" y="589"/>
                  </a:cubicBezTo>
                  <a:cubicBezTo>
                    <a:pt x="542" y="589"/>
                    <a:pt x="540" y="589"/>
                    <a:pt x="539" y="589"/>
                  </a:cubicBezTo>
                  <a:cubicBezTo>
                    <a:pt x="538" y="589"/>
                    <a:pt x="537" y="589"/>
                    <a:pt x="536" y="589"/>
                  </a:cubicBezTo>
                  <a:cubicBezTo>
                    <a:pt x="296" y="587"/>
                    <a:pt x="90" y="443"/>
                    <a:pt x="0" y="236"/>
                  </a:cubicBezTo>
                  <a:cubicBezTo>
                    <a:pt x="539" y="236"/>
                    <a:pt x="539" y="236"/>
                    <a:pt x="539" y="236"/>
                  </a:cubicBezTo>
                  <a:cubicBezTo>
                    <a:pt x="669" y="236"/>
                    <a:pt x="775" y="131"/>
                    <a:pt x="775" y="0"/>
                  </a:cubicBez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5"/>
            <p:cNvSpPr/>
            <p:nvPr/>
          </p:nvSpPr>
          <p:spPr>
            <a:xfrm>
              <a:off x="4243320" y="2306520"/>
              <a:ext cx="1927440" cy="2538360"/>
            </a:xfrm>
            <a:custGeom>
              <a:avLst/>
              <a:gdLst>
                <a:gd name="textAreaLeft" fmla="*/ 0 w 1927440"/>
                <a:gd name="textAreaRight" fmla="*/ 1927800 w 19274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775"/>
                  </a:moveTo>
                  <a:cubicBezTo>
                    <a:pt x="235" y="775"/>
                    <a:pt x="235" y="775"/>
                    <a:pt x="235" y="775"/>
                  </a:cubicBezTo>
                  <a:cubicBezTo>
                    <a:pt x="107" y="775"/>
                    <a:pt x="2" y="672"/>
                    <a:pt x="0" y="543"/>
                  </a:cubicBezTo>
                  <a:cubicBezTo>
                    <a:pt x="0" y="542"/>
                    <a:pt x="0" y="541"/>
                    <a:pt x="0" y="539"/>
                  </a:cubicBezTo>
                  <a:cubicBezTo>
                    <a:pt x="0" y="538"/>
                    <a:pt x="0" y="537"/>
                    <a:pt x="0" y="536"/>
                  </a:cubicBezTo>
                  <a:cubicBezTo>
                    <a:pt x="1" y="297"/>
                    <a:pt x="146" y="91"/>
                    <a:pt x="353" y="0"/>
                  </a:cubicBezTo>
                  <a:cubicBezTo>
                    <a:pt x="353" y="539"/>
                    <a:pt x="353" y="539"/>
                    <a:pt x="353" y="539"/>
                  </a:cubicBezTo>
                  <a:cubicBezTo>
                    <a:pt x="353" y="670"/>
                    <a:pt x="458" y="775"/>
                    <a:pt x="588" y="775"/>
                  </a:cubicBez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矩形 60"/>
            <p:cNvSpPr/>
            <p:nvPr/>
          </p:nvSpPr>
          <p:spPr>
            <a:xfrm>
              <a:off x="4550400" y="3378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矩形 61"/>
            <p:cNvSpPr/>
            <p:nvPr/>
          </p:nvSpPr>
          <p:spPr>
            <a:xfrm>
              <a:off x="5985360" y="24681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矩形 62"/>
            <p:cNvSpPr/>
            <p:nvPr/>
          </p:nvSpPr>
          <p:spPr>
            <a:xfrm>
              <a:off x="7148880" y="40302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矩形 63"/>
            <p:cNvSpPr/>
            <p:nvPr/>
          </p:nvSpPr>
          <p:spPr>
            <a:xfrm>
              <a:off x="5600520" y="5088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矩形 64"/>
            <p:cNvSpPr/>
            <p:nvPr/>
          </p:nvSpPr>
          <p:spPr>
            <a:xfrm>
              <a:off x="5743440" y="381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a4f62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5" name="TextBox 57"/>
          <p:cNvSpPr/>
          <p:nvPr/>
        </p:nvSpPr>
        <p:spPr>
          <a:xfrm>
            <a:off x="8313840" y="24242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57"/>
          <p:cNvSpPr/>
          <p:nvPr/>
        </p:nvSpPr>
        <p:spPr>
          <a:xfrm>
            <a:off x="1254240" y="24242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57"/>
          <p:cNvSpPr/>
          <p:nvPr/>
        </p:nvSpPr>
        <p:spPr>
          <a:xfrm>
            <a:off x="8313840" y="49640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57"/>
          <p:cNvSpPr/>
          <p:nvPr/>
        </p:nvSpPr>
        <p:spPr>
          <a:xfrm>
            <a:off x="1254240" y="49640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7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234"/>
          <p:cNvSpPr/>
          <p:nvPr/>
        </p:nvSpPr>
        <p:spPr>
          <a:xfrm>
            <a:off x="147960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1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1" y="426"/>
                  <a:pt x="381" y="426"/>
                  <a:pt x="381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1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"/>
          <p:cNvSpPr/>
          <p:nvPr/>
        </p:nvSpPr>
        <p:spPr>
          <a:xfrm>
            <a:off x="1593000" y="35751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235"/>
          <p:cNvSpPr/>
          <p:nvPr/>
        </p:nvSpPr>
        <p:spPr>
          <a:xfrm>
            <a:off x="411948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68"/>
          <p:cNvSpPr/>
          <p:nvPr/>
        </p:nvSpPr>
        <p:spPr>
          <a:xfrm>
            <a:off x="4244040" y="35924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236"/>
          <p:cNvSpPr/>
          <p:nvPr/>
        </p:nvSpPr>
        <p:spPr>
          <a:xfrm>
            <a:off x="675792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69"/>
          <p:cNvSpPr/>
          <p:nvPr/>
        </p:nvSpPr>
        <p:spPr>
          <a:xfrm>
            <a:off x="687384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7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237"/>
          <p:cNvSpPr/>
          <p:nvPr/>
        </p:nvSpPr>
        <p:spPr>
          <a:xfrm>
            <a:off x="939816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0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0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3" y="426"/>
                  <a:pt x="263" y="426"/>
                  <a:pt x="263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5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5" y="0"/>
                  <a:pt x="380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70"/>
          <p:cNvSpPr/>
          <p:nvPr/>
        </p:nvSpPr>
        <p:spPr>
          <a:xfrm>
            <a:off x="951408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8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57"/>
          <p:cNvSpPr/>
          <p:nvPr/>
        </p:nvSpPr>
        <p:spPr>
          <a:xfrm>
            <a:off x="79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57"/>
          <p:cNvSpPr/>
          <p:nvPr/>
        </p:nvSpPr>
        <p:spPr>
          <a:xfrm>
            <a:off x="344952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Box 57"/>
          <p:cNvSpPr/>
          <p:nvPr/>
        </p:nvSpPr>
        <p:spPr>
          <a:xfrm>
            <a:off x="607860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57"/>
          <p:cNvSpPr/>
          <p:nvPr/>
        </p:nvSpPr>
        <p:spPr>
          <a:xfrm>
            <a:off x="871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6" name="图片 67" descr=""/>
          <p:cNvPicPr/>
          <p:nvPr/>
        </p:nvPicPr>
        <p:blipFill>
          <a:blip r:embed="rId1"/>
          <a:stretch/>
        </p:blipFill>
        <p:spPr>
          <a:xfrm>
            <a:off x="1517760" y="4950000"/>
            <a:ext cx="1170000" cy="100152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68" descr=""/>
          <p:cNvPicPr/>
          <p:nvPr/>
        </p:nvPicPr>
        <p:blipFill>
          <a:blip r:embed="rId2"/>
          <a:stretch/>
        </p:blipFill>
        <p:spPr>
          <a:xfrm>
            <a:off x="4308480" y="495000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1188" name="图片 69" descr=""/>
          <p:cNvPicPr/>
          <p:nvPr/>
        </p:nvPicPr>
        <p:blipFill>
          <a:blip r:embed="rId3"/>
          <a:stretch/>
        </p:blipFill>
        <p:spPr>
          <a:xfrm>
            <a:off x="9466200" y="4950000"/>
            <a:ext cx="1028880" cy="1047600"/>
          </a:xfrm>
          <a:prstGeom prst="rect">
            <a:avLst/>
          </a:prstGeom>
          <a:ln w="0">
            <a:noFill/>
          </a:ln>
        </p:spPr>
      </p:pic>
      <p:pic>
        <p:nvPicPr>
          <p:cNvPr id="1189" name="图片 70" descr=""/>
          <p:cNvPicPr/>
          <p:nvPr/>
        </p:nvPicPr>
        <p:blipFill>
          <a:blip r:embed="rId4"/>
          <a:stretch/>
        </p:blipFill>
        <p:spPr>
          <a:xfrm>
            <a:off x="6950160" y="4950000"/>
            <a:ext cx="9349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6"/>
          <p:cNvSpPr/>
          <p:nvPr/>
        </p:nvSpPr>
        <p:spPr>
          <a:xfrm>
            <a:off x="1444680" y="2058840"/>
            <a:ext cx="3002040" cy="4636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7"/>
          <p:cNvSpPr/>
          <p:nvPr/>
        </p:nvSpPr>
        <p:spPr>
          <a:xfrm>
            <a:off x="144468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8"/>
          <p:cNvSpPr/>
          <p:nvPr/>
        </p:nvSpPr>
        <p:spPr>
          <a:xfrm>
            <a:off x="4548240" y="2058840"/>
            <a:ext cx="3002040" cy="4636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矩形 9"/>
          <p:cNvSpPr/>
          <p:nvPr/>
        </p:nvSpPr>
        <p:spPr>
          <a:xfrm>
            <a:off x="4548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10"/>
          <p:cNvSpPr/>
          <p:nvPr/>
        </p:nvSpPr>
        <p:spPr>
          <a:xfrm>
            <a:off x="7653240" y="2058840"/>
            <a:ext cx="3002040" cy="4636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矩形 11"/>
          <p:cNvSpPr/>
          <p:nvPr/>
        </p:nvSpPr>
        <p:spPr>
          <a:xfrm>
            <a:off x="7653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矩形 12"/>
          <p:cNvSpPr/>
          <p:nvPr/>
        </p:nvSpPr>
        <p:spPr>
          <a:xfrm>
            <a:off x="1444680" y="4268880"/>
            <a:ext cx="3002040" cy="463320"/>
          </a:xfrm>
          <a:prstGeom prst="rect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矩形 13"/>
          <p:cNvSpPr/>
          <p:nvPr/>
        </p:nvSpPr>
        <p:spPr>
          <a:xfrm>
            <a:off x="144468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14"/>
          <p:cNvSpPr/>
          <p:nvPr/>
        </p:nvSpPr>
        <p:spPr>
          <a:xfrm>
            <a:off x="4548240" y="4268880"/>
            <a:ext cx="3002040" cy="46332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矩形 15"/>
          <p:cNvSpPr/>
          <p:nvPr/>
        </p:nvSpPr>
        <p:spPr>
          <a:xfrm>
            <a:off x="4548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矩形 16"/>
          <p:cNvSpPr/>
          <p:nvPr/>
        </p:nvSpPr>
        <p:spPr>
          <a:xfrm>
            <a:off x="7653240" y="4268880"/>
            <a:ext cx="3002040" cy="46332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矩形 17"/>
          <p:cNvSpPr/>
          <p:nvPr/>
        </p:nvSpPr>
        <p:spPr>
          <a:xfrm>
            <a:off x="7653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64"/>
          <p:cNvSpPr/>
          <p:nvPr/>
        </p:nvSpPr>
        <p:spPr>
          <a:xfrm>
            <a:off x="248940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64"/>
          <p:cNvSpPr/>
          <p:nvPr/>
        </p:nvSpPr>
        <p:spPr>
          <a:xfrm>
            <a:off x="5592960" y="206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矩形 64"/>
          <p:cNvSpPr/>
          <p:nvPr/>
        </p:nvSpPr>
        <p:spPr>
          <a:xfrm>
            <a:off x="869796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矩形 64"/>
          <p:cNvSpPr/>
          <p:nvPr/>
        </p:nvSpPr>
        <p:spPr>
          <a:xfrm>
            <a:off x="247284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矩形 64"/>
          <p:cNvSpPr/>
          <p:nvPr/>
        </p:nvSpPr>
        <p:spPr>
          <a:xfrm>
            <a:off x="5576400" y="4235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64"/>
          <p:cNvSpPr/>
          <p:nvPr/>
        </p:nvSpPr>
        <p:spPr>
          <a:xfrm>
            <a:off x="868140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2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7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 Box 44"/>
          <p:cNvSpPr/>
          <p:nvPr/>
        </p:nvSpPr>
        <p:spPr>
          <a:xfrm>
            <a:off x="6986520" y="2855880"/>
            <a:ext cx="357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9" name="组合 33"/>
          <p:cNvGrpSpPr/>
          <p:nvPr/>
        </p:nvGrpSpPr>
        <p:grpSpPr>
          <a:xfrm>
            <a:off x="2262240" y="2633760"/>
            <a:ext cx="3924360" cy="647640"/>
            <a:chOff x="2262240" y="2633760"/>
            <a:chExt cx="3924360" cy="647640"/>
          </a:xfrm>
        </p:grpSpPr>
        <p:sp>
          <p:nvSpPr>
            <p:cNvPr id="1220" name="椭圆 108"/>
            <p:cNvSpPr/>
            <p:nvPr/>
          </p:nvSpPr>
          <p:spPr>
            <a:xfrm>
              <a:off x="2262240" y="2633760"/>
              <a:ext cx="392436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33947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1" name="组合 4"/>
          <p:cNvGrpSpPr/>
          <p:nvPr/>
        </p:nvGrpSpPr>
        <p:grpSpPr>
          <a:xfrm>
            <a:off x="2262240" y="3798720"/>
            <a:ext cx="3924360" cy="649440"/>
            <a:chOff x="2262240" y="3798720"/>
            <a:chExt cx="3924360" cy="649440"/>
          </a:xfrm>
        </p:grpSpPr>
        <p:sp>
          <p:nvSpPr>
            <p:cNvPr id="1222" name="椭圆 111"/>
            <p:cNvSpPr/>
            <p:nvPr/>
          </p:nvSpPr>
          <p:spPr>
            <a:xfrm>
              <a:off x="2262240" y="3798720"/>
              <a:ext cx="3924360" cy="64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49b18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3" name="组合 3"/>
          <p:cNvGrpSpPr/>
          <p:nvPr/>
        </p:nvGrpSpPr>
        <p:grpSpPr>
          <a:xfrm>
            <a:off x="2262240" y="4965840"/>
            <a:ext cx="3933720" cy="649080"/>
            <a:chOff x="2262240" y="4965840"/>
            <a:chExt cx="3933720" cy="649080"/>
          </a:xfrm>
        </p:grpSpPr>
        <p:sp>
          <p:nvSpPr>
            <p:cNvPr id="1224" name="椭圆 114"/>
            <p:cNvSpPr/>
            <p:nvPr/>
          </p:nvSpPr>
          <p:spPr>
            <a:xfrm>
              <a:off x="2262240" y="4965840"/>
              <a:ext cx="3933720" cy="64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2b71f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5" name="组合 118"/>
          <p:cNvGrpSpPr/>
          <p:nvPr/>
        </p:nvGrpSpPr>
        <p:grpSpPr>
          <a:xfrm>
            <a:off x="1846440" y="2538360"/>
            <a:ext cx="838080" cy="827280"/>
            <a:chOff x="1846440" y="2538360"/>
            <a:chExt cx="838080" cy="827280"/>
          </a:xfrm>
        </p:grpSpPr>
        <p:sp>
          <p:nvSpPr>
            <p:cNvPr id="1226" name="Freeform 7"/>
            <p:cNvSpPr/>
            <p:nvPr/>
          </p:nvSpPr>
          <p:spPr>
            <a:xfrm>
              <a:off x="1846440" y="253836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2166120" y="253836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1978560" y="2749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1987560" y="27662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1996920" y="278388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2007360" y="280044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2369520" y="29473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2378880" y="29649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2387880" y="298152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2398680" y="299880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2039040" y="27381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2048760" y="275472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2057760" y="27720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2067120" y="278712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2097720" y="2840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2106720" y="2858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2115720" y="287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2125800" y="289044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2165400" y="313920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2236680" y="309888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2308320" y="305820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7" name="组合 140"/>
          <p:cNvGrpSpPr/>
          <p:nvPr/>
        </p:nvGrpSpPr>
        <p:grpSpPr>
          <a:xfrm>
            <a:off x="1846440" y="3678120"/>
            <a:ext cx="838080" cy="827280"/>
            <a:chOff x="1846440" y="3678120"/>
            <a:chExt cx="838080" cy="827280"/>
          </a:xfrm>
        </p:grpSpPr>
        <p:sp>
          <p:nvSpPr>
            <p:cNvPr id="1248" name="Freeform 7"/>
            <p:cNvSpPr/>
            <p:nvPr/>
          </p:nvSpPr>
          <p:spPr>
            <a:xfrm>
              <a:off x="1846440" y="367812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8"/>
            <p:cNvSpPr/>
            <p:nvPr/>
          </p:nvSpPr>
          <p:spPr>
            <a:xfrm>
              <a:off x="2166120" y="367812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9"/>
            <p:cNvSpPr/>
            <p:nvPr/>
          </p:nvSpPr>
          <p:spPr>
            <a:xfrm>
              <a:off x="1978560" y="38894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0"/>
            <p:cNvSpPr/>
            <p:nvPr/>
          </p:nvSpPr>
          <p:spPr>
            <a:xfrm>
              <a:off x="1987560" y="3906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1"/>
            <p:cNvSpPr/>
            <p:nvPr/>
          </p:nvSpPr>
          <p:spPr>
            <a:xfrm>
              <a:off x="1996920" y="39236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"/>
            <p:cNvSpPr/>
            <p:nvPr/>
          </p:nvSpPr>
          <p:spPr>
            <a:xfrm>
              <a:off x="2007360" y="39402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3"/>
            <p:cNvSpPr/>
            <p:nvPr/>
          </p:nvSpPr>
          <p:spPr>
            <a:xfrm>
              <a:off x="2369520" y="40870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4"/>
            <p:cNvSpPr/>
            <p:nvPr/>
          </p:nvSpPr>
          <p:spPr>
            <a:xfrm>
              <a:off x="2378880" y="41047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5"/>
            <p:cNvSpPr/>
            <p:nvPr/>
          </p:nvSpPr>
          <p:spPr>
            <a:xfrm>
              <a:off x="2387880" y="41212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6"/>
            <p:cNvSpPr/>
            <p:nvPr/>
          </p:nvSpPr>
          <p:spPr>
            <a:xfrm>
              <a:off x="2398680" y="41385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7"/>
            <p:cNvSpPr/>
            <p:nvPr/>
          </p:nvSpPr>
          <p:spPr>
            <a:xfrm>
              <a:off x="2039040" y="3877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8"/>
            <p:cNvSpPr/>
            <p:nvPr/>
          </p:nvSpPr>
          <p:spPr>
            <a:xfrm>
              <a:off x="2048760" y="389448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"/>
            <p:cNvSpPr/>
            <p:nvPr/>
          </p:nvSpPr>
          <p:spPr>
            <a:xfrm>
              <a:off x="2057760" y="3911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20"/>
            <p:cNvSpPr/>
            <p:nvPr/>
          </p:nvSpPr>
          <p:spPr>
            <a:xfrm>
              <a:off x="2067120" y="392688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2097720" y="39805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2106720" y="39978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2115720" y="4014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2125800" y="40302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2165400" y="42789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2236680" y="42386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2308320" y="41979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9" name="组合 162"/>
          <p:cNvGrpSpPr/>
          <p:nvPr/>
        </p:nvGrpSpPr>
        <p:grpSpPr>
          <a:xfrm>
            <a:off x="1846440" y="4819680"/>
            <a:ext cx="838080" cy="826920"/>
            <a:chOff x="1846440" y="4819680"/>
            <a:chExt cx="838080" cy="826920"/>
          </a:xfrm>
        </p:grpSpPr>
        <p:sp>
          <p:nvSpPr>
            <p:cNvPr id="1270" name="Freeform 7"/>
            <p:cNvSpPr/>
            <p:nvPr/>
          </p:nvSpPr>
          <p:spPr>
            <a:xfrm>
              <a:off x="1846440" y="481968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8"/>
            <p:cNvSpPr/>
            <p:nvPr/>
          </p:nvSpPr>
          <p:spPr>
            <a:xfrm>
              <a:off x="2166120" y="481968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9"/>
            <p:cNvSpPr/>
            <p:nvPr/>
          </p:nvSpPr>
          <p:spPr>
            <a:xfrm>
              <a:off x="1978560" y="5031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0"/>
            <p:cNvSpPr/>
            <p:nvPr/>
          </p:nvSpPr>
          <p:spPr>
            <a:xfrm>
              <a:off x="1987560" y="50475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1"/>
            <p:cNvSpPr/>
            <p:nvPr/>
          </p:nvSpPr>
          <p:spPr>
            <a:xfrm>
              <a:off x="1996920" y="50648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"/>
            <p:cNvSpPr/>
            <p:nvPr/>
          </p:nvSpPr>
          <p:spPr>
            <a:xfrm>
              <a:off x="2007360" y="50814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3"/>
            <p:cNvSpPr/>
            <p:nvPr/>
          </p:nvSpPr>
          <p:spPr>
            <a:xfrm>
              <a:off x="2369520" y="52286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4"/>
            <p:cNvSpPr/>
            <p:nvPr/>
          </p:nvSpPr>
          <p:spPr>
            <a:xfrm>
              <a:off x="2378880" y="52459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5"/>
            <p:cNvSpPr/>
            <p:nvPr/>
          </p:nvSpPr>
          <p:spPr>
            <a:xfrm>
              <a:off x="2387880" y="52624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6"/>
            <p:cNvSpPr/>
            <p:nvPr/>
          </p:nvSpPr>
          <p:spPr>
            <a:xfrm>
              <a:off x="2398680" y="52797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7"/>
            <p:cNvSpPr/>
            <p:nvPr/>
          </p:nvSpPr>
          <p:spPr>
            <a:xfrm>
              <a:off x="2039040" y="5019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8"/>
            <p:cNvSpPr/>
            <p:nvPr/>
          </p:nvSpPr>
          <p:spPr>
            <a:xfrm>
              <a:off x="2048760" y="503604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9"/>
            <p:cNvSpPr/>
            <p:nvPr/>
          </p:nvSpPr>
          <p:spPr>
            <a:xfrm>
              <a:off x="2057760" y="50533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20"/>
            <p:cNvSpPr/>
            <p:nvPr/>
          </p:nvSpPr>
          <p:spPr>
            <a:xfrm>
              <a:off x="2067120" y="506844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21"/>
            <p:cNvSpPr/>
            <p:nvPr/>
          </p:nvSpPr>
          <p:spPr>
            <a:xfrm>
              <a:off x="2097720" y="51220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22"/>
            <p:cNvSpPr/>
            <p:nvPr/>
          </p:nvSpPr>
          <p:spPr>
            <a:xfrm>
              <a:off x="2106720" y="5139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23"/>
            <p:cNvSpPr/>
            <p:nvPr/>
          </p:nvSpPr>
          <p:spPr>
            <a:xfrm>
              <a:off x="2115720" y="5155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24"/>
            <p:cNvSpPr/>
            <p:nvPr/>
          </p:nvSpPr>
          <p:spPr>
            <a:xfrm>
              <a:off x="2125800" y="51714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25"/>
            <p:cNvSpPr/>
            <p:nvPr/>
          </p:nvSpPr>
          <p:spPr>
            <a:xfrm>
              <a:off x="2165400" y="54201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26"/>
            <p:cNvSpPr/>
            <p:nvPr/>
          </p:nvSpPr>
          <p:spPr>
            <a:xfrm>
              <a:off x="2236680" y="53798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27"/>
            <p:cNvSpPr/>
            <p:nvPr/>
          </p:nvSpPr>
          <p:spPr>
            <a:xfrm>
              <a:off x="2308320" y="53391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29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29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31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330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331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4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5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337" name="组合 104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338" name="组合 105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339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2" name="文本框 106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3" name="组合 110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344" name="组合 111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345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8" name="文本框 11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9" name="组合 116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350" name="组合 117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35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4" name="文本框 118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任意多边形 3"/>
          <p:cNvSpPr/>
          <p:nvPr/>
        </p:nvSpPr>
        <p:spPr>
          <a:xfrm>
            <a:off x="2820960" y="3290760"/>
            <a:ext cx="693720" cy="776520"/>
          </a:xfrm>
          <a:custGeom>
            <a:avLst/>
            <a:gdLst>
              <a:gd name="textAreaLeft" fmla="*/ 0 w 693720"/>
              <a:gd name="textAreaRight" fmla="*/ 694080 w 69372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任意多边形 4"/>
          <p:cNvSpPr/>
          <p:nvPr/>
        </p:nvSpPr>
        <p:spPr>
          <a:xfrm flipV="1">
            <a:off x="2820960" y="4006080"/>
            <a:ext cx="663480" cy="723960"/>
          </a:xfrm>
          <a:custGeom>
            <a:avLst/>
            <a:gdLst>
              <a:gd name="textAreaLeft" fmla="*/ 0 w 663480"/>
              <a:gd name="textAreaRight" fmla="*/ 663480 w 663480"/>
              <a:gd name="textAreaTop" fmla="*/ -360 h 723960"/>
              <a:gd name="textAreaBottom" fmla="*/ 723960 h 7239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任意多边形 5"/>
          <p:cNvSpPr/>
          <p:nvPr/>
        </p:nvSpPr>
        <p:spPr>
          <a:xfrm>
            <a:off x="4883040" y="2766960"/>
            <a:ext cx="665280" cy="476280"/>
          </a:xfrm>
          <a:custGeom>
            <a:avLst/>
            <a:gdLst>
              <a:gd name="textAreaLeft" fmla="*/ 0 w 665280"/>
              <a:gd name="textAreaRight" fmla="*/ 665640 w 6652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任意多边形 6"/>
          <p:cNvSpPr/>
          <p:nvPr/>
        </p:nvSpPr>
        <p:spPr>
          <a:xfrm flipV="1">
            <a:off x="4894200" y="3240000"/>
            <a:ext cx="603360" cy="416160"/>
          </a:xfrm>
          <a:custGeom>
            <a:avLst/>
            <a:gdLst>
              <a:gd name="textAreaLeft" fmla="*/ 0 w 603360"/>
              <a:gd name="textAreaRight" fmla="*/ 603720 w 603360"/>
              <a:gd name="textAreaTop" fmla="*/ 360 h 416160"/>
              <a:gd name="textAreaBottom" fmla="*/ 416880 h 4161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任意多边形 7"/>
          <p:cNvSpPr/>
          <p:nvPr/>
        </p:nvSpPr>
        <p:spPr>
          <a:xfrm>
            <a:off x="4894200" y="4438800"/>
            <a:ext cx="663480" cy="476280"/>
          </a:xfrm>
          <a:custGeom>
            <a:avLst/>
            <a:gdLst>
              <a:gd name="textAreaLeft" fmla="*/ 0 w 663480"/>
              <a:gd name="textAreaRight" fmla="*/ 663480 w 6634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任意多边形 8"/>
          <p:cNvSpPr/>
          <p:nvPr/>
        </p:nvSpPr>
        <p:spPr>
          <a:xfrm flipV="1">
            <a:off x="4905360" y="4911120"/>
            <a:ext cx="603360" cy="415800"/>
          </a:xfrm>
          <a:custGeom>
            <a:avLst/>
            <a:gdLst>
              <a:gd name="textAreaLeft" fmla="*/ 0 w 603360"/>
              <a:gd name="textAreaRight" fmla="*/ 603720 w 603360"/>
              <a:gd name="textAreaTop" fmla="*/ -360 h 415800"/>
              <a:gd name="textAreaBottom" fmla="*/ 415800 h 41580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1411200" y="3705120"/>
            <a:ext cx="1449360" cy="663840"/>
          </a:xfrm>
          <a:prstGeom prst="roundRect">
            <a:avLst>
              <a:gd name="adj" fmla="val 10255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10"/>
          <p:cNvSpPr/>
          <p:nvPr/>
        </p:nvSpPr>
        <p:spPr>
          <a:xfrm>
            <a:off x="3487680" y="2895480"/>
            <a:ext cx="1447920" cy="6652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3487680" y="4567320"/>
            <a:ext cx="1447920" cy="6634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Freeform 89"/>
          <p:cNvSpPr/>
          <p:nvPr/>
        </p:nvSpPr>
        <p:spPr>
          <a:xfrm>
            <a:off x="1924200" y="3827520"/>
            <a:ext cx="422280" cy="420480"/>
          </a:xfrm>
          <a:custGeom>
            <a:avLst/>
            <a:gdLst>
              <a:gd name="textAreaLeft" fmla="*/ 0 w 422280"/>
              <a:gd name="textAreaRight" fmla="*/ 422640 w 422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60" h="60">
                <a:moveTo>
                  <a:pt x="30" y="0"/>
                </a:moveTo>
                <a:cubicBezTo>
                  <a:pt x="38" y="0"/>
                  <a:pt x="46" y="3"/>
                  <a:pt x="51" y="8"/>
                </a:cubicBezTo>
                <a:cubicBezTo>
                  <a:pt x="57" y="14"/>
                  <a:pt x="60" y="21"/>
                  <a:pt x="60" y="30"/>
                </a:cubicBezTo>
                <a:cubicBezTo>
                  <a:pt x="60" y="38"/>
                  <a:pt x="57" y="45"/>
                  <a:pt x="51" y="51"/>
                </a:cubicBezTo>
                <a:cubicBezTo>
                  <a:pt x="46" y="56"/>
                  <a:pt x="38" y="60"/>
                  <a:pt x="30" y="60"/>
                </a:cubicBezTo>
                <a:cubicBezTo>
                  <a:pt x="22" y="60"/>
                  <a:pt x="14" y="56"/>
                  <a:pt x="9" y="51"/>
                </a:cubicBezTo>
                <a:cubicBezTo>
                  <a:pt x="3" y="45"/>
                  <a:pt x="0" y="38"/>
                  <a:pt x="0" y="30"/>
                </a:cubicBezTo>
                <a:cubicBezTo>
                  <a:pt x="0" y="21"/>
                  <a:pt x="3" y="14"/>
                  <a:pt x="9" y="8"/>
                </a:cubicBezTo>
                <a:cubicBezTo>
                  <a:pt x="14" y="3"/>
                  <a:pt x="22" y="0"/>
                  <a:pt x="30" y="0"/>
                </a:cubicBezTo>
                <a:close/>
                <a:moveTo>
                  <a:pt x="15" y="39"/>
                </a:move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13" y="38"/>
                  <a:pt x="13" y="38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40"/>
                  <a:pt x="13" y="41"/>
                  <a:pt x="13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0"/>
                  <a:pt x="15" y="40"/>
                </a:cubicBezTo>
                <a:cubicBezTo>
                  <a:pt x="15" y="40"/>
                  <a:pt x="15" y="40"/>
                  <a:pt x="15" y="39"/>
                </a:cubicBezTo>
                <a:cubicBezTo>
                  <a:pt x="15" y="39"/>
                  <a:pt x="15" y="39"/>
                  <a:pt x="15" y="39"/>
                </a:cubicBezTo>
                <a:close/>
                <a:moveTo>
                  <a:pt x="14" y="38"/>
                </a:move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4" y="38"/>
                  <a:pt x="14" y="38"/>
                </a:cubicBezTo>
                <a:close/>
                <a:moveTo>
                  <a:pt x="14" y="40"/>
                </a:move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lose/>
                <a:moveTo>
                  <a:pt x="21" y="44"/>
                </a:moveTo>
                <a:cubicBezTo>
                  <a:pt x="19" y="44"/>
                  <a:pt x="19" y="44"/>
                  <a:pt x="19" y="44"/>
                </a:cubicBezTo>
                <a:cubicBezTo>
                  <a:pt x="19" y="45"/>
                  <a:pt x="19" y="45"/>
                  <a:pt x="19" y="45"/>
                </a:cubicBezTo>
                <a:cubicBezTo>
                  <a:pt x="20" y="45"/>
                  <a:pt x="20" y="45"/>
                  <a:pt x="20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4"/>
                  <a:pt x="21" y="44"/>
                  <a:pt x="21" y="44"/>
                </a:cubicBezTo>
                <a:close/>
                <a:moveTo>
                  <a:pt x="41" y="44"/>
                </a:moveTo>
                <a:cubicBezTo>
                  <a:pt x="40" y="44"/>
                  <a:pt x="40" y="44"/>
                  <a:pt x="40" y="44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5"/>
                  <a:pt x="40" y="45"/>
                </a:cubicBezTo>
                <a:cubicBezTo>
                  <a:pt x="40" y="45"/>
                  <a:pt x="40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0" y="47"/>
                  <a:pt x="40" y="47"/>
                </a:cubicBezTo>
                <a:cubicBezTo>
                  <a:pt x="40" y="47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5"/>
                  <a:pt x="42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0" y="45"/>
                </a:cubicBezTo>
                <a:cubicBezTo>
                  <a:pt x="40" y="44"/>
                  <a:pt x="40" y="44"/>
                  <a:pt x="40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1" y="44"/>
                  <a:pt x="41" y="44"/>
                </a:cubicBezTo>
                <a:close/>
                <a:moveTo>
                  <a:pt x="47" y="37"/>
                </a:moveTo>
                <a:cubicBezTo>
                  <a:pt x="46" y="37"/>
                  <a:pt x="46" y="37"/>
                  <a:pt x="46" y="37"/>
                </a:cubicBezTo>
                <a:cubicBezTo>
                  <a:pt x="46" y="40"/>
                  <a:pt x="46" y="40"/>
                  <a:pt x="46" y="40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0"/>
                  <a:pt x="47" y="40"/>
                  <a:pt x="47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7"/>
                  <a:pt x="47" y="37"/>
                  <a:pt x="47" y="37"/>
                </a:cubicBezTo>
                <a:close/>
                <a:moveTo>
                  <a:pt x="47" y="40"/>
                </a:moveTo>
                <a:cubicBezTo>
                  <a:pt x="47" y="38"/>
                  <a:pt x="47" y="38"/>
                  <a:pt x="47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lose/>
                <a:moveTo>
                  <a:pt x="48" y="21"/>
                </a:move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0"/>
                  <a:pt x="48" y="20"/>
                </a:cubicBezTo>
                <a:cubicBezTo>
                  <a:pt x="48" y="20"/>
                  <a:pt x="48" y="19"/>
                  <a:pt x="48" y="19"/>
                </a:cubicBezTo>
                <a:cubicBezTo>
                  <a:pt x="48" y="19"/>
                  <a:pt x="48" y="19"/>
                  <a:pt x="47" y="19"/>
                </a:cubicBezTo>
                <a:cubicBezTo>
                  <a:pt x="47" y="18"/>
                  <a:pt x="47" y="18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8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20"/>
                </a:cubicBezTo>
                <a:cubicBezTo>
                  <a:pt x="47" y="20"/>
                  <a:pt x="46" y="20"/>
                  <a:pt x="46" y="21"/>
                </a:cubicBezTo>
                <a:cubicBezTo>
                  <a:pt x="46" y="22"/>
                  <a:pt x="46" y="22"/>
                  <a:pt x="46" y="22"/>
                </a:cubicBezTo>
                <a:cubicBezTo>
                  <a:pt x="48" y="22"/>
                  <a:pt x="48" y="22"/>
                  <a:pt x="48" y="22"/>
                </a:cubicBezTo>
                <a:cubicBezTo>
                  <a:pt x="48" y="21"/>
                  <a:pt x="48" y="21"/>
                  <a:pt x="48" y="21"/>
                </a:cubicBezTo>
                <a:close/>
                <a:moveTo>
                  <a:pt x="41" y="12"/>
                </a:move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40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40" y="15"/>
                  <a:pt x="40" y="15"/>
                  <a:pt x="40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2"/>
                  <a:pt x="41" y="12"/>
                  <a:pt x="41" y="12"/>
                </a:cubicBezTo>
                <a:close/>
                <a:moveTo>
                  <a:pt x="20" y="12"/>
                </a:moveTo>
                <a:cubicBezTo>
                  <a:pt x="20" y="12"/>
                  <a:pt x="20" y="12"/>
                  <a:pt x="20" y="12"/>
                </a:cubicBezTo>
                <a:cubicBezTo>
                  <a:pt x="19" y="12"/>
                  <a:pt x="19" y="12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12"/>
                  <a:pt x="20" y="12"/>
                  <a:pt x="20" y="12"/>
                </a:cubicBezTo>
                <a:close/>
                <a:moveTo>
                  <a:pt x="22" y="12"/>
                </a:move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1" y="12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4"/>
                </a:cubicBezTo>
                <a:cubicBezTo>
                  <a:pt x="21" y="15"/>
                  <a:pt x="21" y="15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2"/>
                  <a:pt x="22" y="12"/>
                  <a:pt x="22" y="12"/>
                </a:cubicBezTo>
                <a:close/>
                <a:moveTo>
                  <a:pt x="14" y="19"/>
                </a:moveTo>
                <a:cubicBezTo>
                  <a:pt x="13" y="19"/>
                  <a:pt x="13" y="19"/>
                  <a:pt x="13" y="19"/>
                </a:cubicBezTo>
                <a:cubicBezTo>
                  <a:pt x="13" y="19"/>
                  <a:pt x="13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1"/>
                </a:cubicBezTo>
                <a:cubicBezTo>
                  <a:pt x="13" y="22"/>
                  <a:pt x="13" y="22"/>
                  <a:pt x="13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9"/>
                  <a:pt x="14" y="19"/>
                  <a:pt x="14" y="19"/>
                </a:cubicBezTo>
                <a:close/>
                <a:moveTo>
                  <a:pt x="16" y="20"/>
                </a:move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4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1"/>
                  <a:pt x="16" y="21"/>
                </a:cubicBezTo>
                <a:cubicBezTo>
                  <a:pt x="16" y="20"/>
                  <a:pt x="16" y="20"/>
                  <a:pt x="16" y="20"/>
                </a:cubicBezTo>
                <a:close/>
                <a:moveTo>
                  <a:pt x="15" y="20"/>
                </a:moveTo>
                <a:cubicBezTo>
                  <a:pt x="15" y="20"/>
                  <a:pt x="15" y="20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20"/>
                  <a:pt x="15" y="20"/>
                  <a:pt x="15" y="20"/>
                </a:cubicBezTo>
                <a:cubicBezTo>
                  <a:pt x="15" y="21"/>
                  <a:pt x="15" y="21"/>
                  <a:pt x="15" y="21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1"/>
                </a:cubicBezTo>
                <a:cubicBezTo>
                  <a:pt x="15" y="20"/>
                  <a:pt x="15" y="20"/>
                  <a:pt x="15" y="20"/>
                </a:cubicBezTo>
                <a:close/>
                <a:moveTo>
                  <a:pt x="9" y="31"/>
                </a:moveTo>
                <a:cubicBezTo>
                  <a:pt x="9" y="32"/>
                  <a:pt x="10" y="32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1" y="33"/>
                  <a:pt x="11" y="33"/>
                  <a:pt x="12" y="33"/>
                </a:cubicBezTo>
                <a:cubicBezTo>
                  <a:pt x="12" y="33"/>
                  <a:pt x="12" y="33"/>
                  <a:pt x="13" y="33"/>
                </a:cubicBezTo>
                <a:cubicBezTo>
                  <a:pt x="13" y="33"/>
                  <a:pt x="13" y="33"/>
                  <a:pt x="13" y="33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2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7"/>
                  <a:pt x="14" y="27"/>
                  <a:pt x="13" y="27"/>
                </a:cubicBezTo>
                <a:cubicBezTo>
                  <a:pt x="13" y="27"/>
                  <a:pt x="13" y="26"/>
                  <a:pt x="13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0" y="26"/>
                  <a:pt x="10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10" y="28"/>
                  <a:pt x="9" y="28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10" y="30"/>
                  <a:pt x="10" y="30"/>
                </a:cubicBezTo>
                <a:cubicBezTo>
                  <a:pt x="10" y="30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1"/>
                  <a:pt x="11" y="31"/>
                  <a:pt x="12" y="31"/>
                </a:cubicBezTo>
                <a:cubicBezTo>
                  <a:pt x="12" y="31"/>
                  <a:pt x="12" y="31"/>
                  <a:pt x="12" y="30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1"/>
                </a:cubicBezTo>
                <a:cubicBezTo>
                  <a:pt x="9" y="31"/>
                  <a:pt x="9" y="31"/>
                  <a:pt x="9" y="31"/>
                </a:cubicBezTo>
                <a:close/>
                <a:moveTo>
                  <a:pt x="11" y="29"/>
                </a:moveTo>
                <a:cubicBezTo>
                  <a:pt x="11" y="30"/>
                  <a:pt x="11" y="30"/>
                  <a:pt x="11" y="30"/>
                </a:cubicBezTo>
                <a:cubicBezTo>
                  <a:pt x="11" y="30"/>
                  <a:pt x="12" y="30"/>
                  <a:pt x="12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0"/>
                  <a:pt x="12" y="29"/>
                </a:cubicBez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2" y="27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7"/>
                  <a:pt x="11" y="27"/>
                  <a:pt x="11" y="27"/>
                </a:cubicBezTo>
                <a:cubicBezTo>
                  <a:pt x="11" y="27"/>
                  <a:pt x="11" y="28"/>
                  <a:pt x="11" y="28"/>
                </a:cubicBezTo>
                <a:cubicBezTo>
                  <a:pt x="11" y="29"/>
                  <a:pt x="11" y="29"/>
                  <a:pt x="11" y="29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4"/>
                </a:cubicBezTo>
                <a:cubicBezTo>
                  <a:pt x="32" y="43"/>
                  <a:pt x="32" y="43"/>
                  <a:pt x="32" y="43"/>
                </a:cubicBezTo>
                <a:cubicBezTo>
                  <a:pt x="31" y="43"/>
                  <a:pt x="31" y="43"/>
                  <a:pt x="30" y="43"/>
                </a:cubicBezTo>
                <a:cubicBezTo>
                  <a:pt x="30" y="43"/>
                  <a:pt x="30" y="43"/>
                  <a:pt x="29" y="43"/>
                </a:cubicBezTo>
                <a:cubicBezTo>
                  <a:pt x="29" y="43"/>
                  <a:pt x="29" y="43"/>
                  <a:pt x="29" y="44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45"/>
                  <a:pt x="28" y="45"/>
                  <a:pt x="28" y="46"/>
                </a:cubicBezTo>
                <a:cubicBezTo>
                  <a:pt x="28" y="47"/>
                  <a:pt x="28" y="47"/>
                  <a:pt x="28" y="47"/>
                </a:cubicBezTo>
                <a:cubicBezTo>
                  <a:pt x="28" y="48"/>
                  <a:pt x="28" y="48"/>
                  <a:pt x="28" y="49"/>
                </a:cubicBezTo>
                <a:cubicBezTo>
                  <a:pt x="28" y="49"/>
                  <a:pt x="28" y="49"/>
                  <a:pt x="29" y="49"/>
                </a:cubicBezTo>
                <a:cubicBezTo>
                  <a:pt x="29" y="50"/>
                  <a:pt x="29" y="50"/>
                  <a:pt x="29" y="50"/>
                </a:cubicBezTo>
                <a:cubicBezTo>
                  <a:pt x="30" y="50"/>
                  <a:pt x="30" y="50"/>
                  <a:pt x="30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50"/>
                  <a:pt x="32" y="50"/>
                  <a:pt x="32" y="49"/>
                </a:cubicBezTo>
                <a:cubicBezTo>
                  <a:pt x="32" y="49"/>
                  <a:pt x="32" y="49"/>
                  <a:pt x="32" y="49"/>
                </a:cubicBezTo>
                <a:cubicBezTo>
                  <a:pt x="32" y="49"/>
                  <a:pt x="32" y="48"/>
                  <a:pt x="32" y="48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2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6"/>
                  <a:pt x="30" y="46"/>
                  <a:pt x="30" y="46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1" y="44"/>
                  <a:pt x="31" y="44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1" y="45"/>
                </a:cubicBezTo>
                <a:cubicBezTo>
                  <a:pt x="32" y="45"/>
                  <a:pt x="32" y="45"/>
                  <a:pt x="32" y="45"/>
                </a:cubicBezTo>
                <a:close/>
                <a:moveTo>
                  <a:pt x="31" y="47"/>
                </a:moveTo>
                <a:cubicBezTo>
                  <a:pt x="31" y="47"/>
                  <a:pt x="31" y="47"/>
                  <a:pt x="31" y="47"/>
                </a:cubicBezTo>
                <a:cubicBezTo>
                  <a:pt x="31" y="46"/>
                  <a:pt x="30" y="46"/>
                  <a:pt x="30" y="46"/>
                </a:cubicBezTo>
                <a:cubicBezTo>
                  <a:pt x="30" y="46"/>
                  <a:pt x="30" y="46"/>
                  <a:pt x="30" y="47"/>
                </a:cubicBezTo>
                <a:cubicBezTo>
                  <a:pt x="30" y="47"/>
                  <a:pt x="30" y="47"/>
                  <a:pt x="30" y="47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8"/>
                </a:cubicBezTo>
                <a:cubicBezTo>
                  <a:pt x="31" y="47"/>
                  <a:pt x="31" y="47"/>
                  <a:pt x="31" y="47"/>
                </a:cubicBezTo>
                <a:close/>
                <a:moveTo>
                  <a:pt x="50" y="29"/>
                </a:moveTo>
                <a:cubicBezTo>
                  <a:pt x="50" y="29"/>
                  <a:pt x="50" y="29"/>
                  <a:pt x="51" y="29"/>
                </a:cubicBezTo>
                <a:cubicBezTo>
                  <a:pt x="51" y="29"/>
                  <a:pt x="51" y="28"/>
                  <a:pt x="51" y="28"/>
                </a:cubicBezTo>
                <a:cubicBezTo>
                  <a:pt x="51" y="27"/>
                  <a:pt x="51" y="27"/>
                  <a:pt x="50" y="27"/>
                </a:cubicBezTo>
                <a:cubicBezTo>
                  <a:pt x="50" y="26"/>
                  <a:pt x="49" y="26"/>
                  <a:pt x="49" y="26"/>
                </a:cubicBezTo>
                <a:cubicBezTo>
                  <a:pt x="48" y="26"/>
                  <a:pt x="47" y="26"/>
                  <a:pt x="47" y="26"/>
                </a:cubicBezTo>
                <a:cubicBezTo>
                  <a:pt x="47" y="27"/>
                  <a:pt x="47" y="27"/>
                  <a:pt x="47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7"/>
                  <a:pt x="48" y="27"/>
                </a:cubicBezTo>
                <a:cubicBezTo>
                  <a:pt x="48" y="27"/>
                  <a:pt x="49" y="27"/>
                  <a:pt x="49" y="27"/>
                </a:cubicBezTo>
                <a:cubicBezTo>
                  <a:pt x="49" y="27"/>
                  <a:pt x="49" y="27"/>
                  <a:pt x="49" y="27"/>
                </a:cubicBezTo>
                <a:cubicBezTo>
                  <a:pt x="49" y="27"/>
                  <a:pt x="49" y="28"/>
                  <a:pt x="49" y="28"/>
                </a:cubicBezTo>
                <a:cubicBezTo>
                  <a:pt x="49" y="28"/>
                  <a:pt x="49" y="28"/>
                  <a:pt x="49" y="28"/>
                </a:cubicBezTo>
                <a:cubicBezTo>
                  <a:pt x="49" y="28"/>
                  <a:pt x="49" y="29"/>
                  <a:pt x="49" y="29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9"/>
                  <a:pt x="48" y="29"/>
                  <a:pt x="48" y="29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30"/>
                  <a:pt x="49" y="31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0"/>
                  <a:pt x="48" y="30"/>
                  <a:pt x="48" y="30"/>
                </a:cubicBezTo>
                <a:cubicBezTo>
                  <a:pt x="47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2"/>
                  <a:pt x="47" y="32"/>
                  <a:pt x="47" y="32"/>
                </a:cubicBezTo>
                <a:cubicBezTo>
                  <a:pt x="47" y="33"/>
                  <a:pt x="47" y="33"/>
                  <a:pt x="47" y="33"/>
                </a:cubicBezTo>
                <a:cubicBezTo>
                  <a:pt x="48" y="33"/>
                  <a:pt x="48" y="33"/>
                  <a:pt x="49" y="33"/>
                </a:cubicBezTo>
                <a:cubicBezTo>
                  <a:pt x="49" y="33"/>
                  <a:pt x="50" y="33"/>
                  <a:pt x="50" y="33"/>
                </a:cubicBezTo>
                <a:cubicBezTo>
                  <a:pt x="50" y="33"/>
                  <a:pt x="50" y="33"/>
                  <a:pt x="51" y="32"/>
                </a:cubicBezTo>
                <a:cubicBezTo>
                  <a:pt x="51" y="32"/>
                  <a:pt x="51" y="32"/>
                  <a:pt x="51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0" y="29"/>
                  <a:pt x="50" y="29"/>
                  <a:pt x="50" y="29"/>
                </a:cubicBezTo>
                <a:close/>
                <a:moveTo>
                  <a:pt x="29" y="9"/>
                </a:move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7" y="10"/>
                  <a:pt x="26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1"/>
                  <a:pt x="26" y="11"/>
                  <a:pt x="26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2"/>
                  <a:pt x="27" y="12"/>
                </a:cubicBezTo>
                <a:cubicBezTo>
                  <a:pt x="27" y="16"/>
                  <a:pt x="27" y="16"/>
                  <a:pt x="27" y="16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9"/>
                  <a:pt x="29" y="9"/>
                  <a:pt x="29" y="9"/>
                </a:cubicBezTo>
                <a:close/>
                <a:moveTo>
                  <a:pt x="34" y="15"/>
                </a:moveTo>
                <a:cubicBezTo>
                  <a:pt x="32" y="15"/>
                  <a:pt x="32" y="15"/>
                  <a:pt x="32" y="15"/>
                </a:cubicBezTo>
                <a:cubicBezTo>
                  <a:pt x="33" y="13"/>
                  <a:pt x="33" y="12"/>
                  <a:pt x="33" y="12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ubicBezTo>
                  <a:pt x="33" y="9"/>
                  <a:pt x="32" y="9"/>
                  <a:pt x="32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0" y="11"/>
                  <a:pt x="30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0"/>
                  <a:pt x="31" y="10"/>
                  <a:pt x="31" y="10"/>
                </a:cubicBezTo>
                <a:cubicBezTo>
                  <a:pt x="31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2"/>
                  <a:pt x="31" y="13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5"/>
                  <a:pt x="34" y="15"/>
                </a:cubicBezTo>
                <a:close/>
                <a:moveTo>
                  <a:pt x="16" y="9"/>
                </a:moveTo>
                <a:cubicBezTo>
                  <a:pt x="16" y="9"/>
                  <a:pt x="16" y="9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10"/>
                  <a:pt x="14" y="10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1"/>
                  <a:pt x="13" y="11"/>
                  <a:pt x="12" y="11"/>
                </a:cubicBezTo>
                <a:cubicBezTo>
                  <a:pt x="13" y="12"/>
                  <a:pt x="13" y="12"/>
                  <a:pt x="13" y="12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2"/>
                  <a:pt x="11" y="12"/>
                  <a:pt x="11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6"/>
                  <a:pt x="10" y="16"/>
                  <a:pt x="10" y="16"/>
                </a:cubicBezTo>
                <a:cubicBezTo>
                  <a:pt x="9" y="15"/>
                  <a:pt x="9" y="15"/>
                  <a:pt x="9" y="15"/>
                </a:cubicBezTo>
                <a:cubicBezTo>
                  <a:pt x="9" y="15"/>
                  <a:pt x="9" y="16"/>
                  <a:pt x="8" y="16"/>
                </a:cubicBezTo>
                <a:cubicBezTo>
                  <a:pt x="12" y="18"/>
                  <a:pt x="12" y="18"/>
                  <a:pt x="12" y="18"/>
                </a:cubicBezTo>
                <a:cubicBezTo>
                  <a:pt x="11" y="20"/>
                  <a:pt x="11" y="20"/>
                  <a:pt x="11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0"/>
                  <a:pt x="6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2"/>
                  <a:pt x="6" y="22"/>
                  <a:pt x="5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4"/>
                  <a:pt x="5" y="24"/>
                  <a:pt x="5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6" y="26"/>
                  <a:pt x="6" y="26"/>
                  <a:pt x="6" y="26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26"/>
                  <a:pt x="5" y="26"/>
                  <a:pt x="5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8"/>
                  <a:pt x="6" y="28"/>
                  <a:pt x="6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4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1"/>
                  <a:pt x="9" y="31"/>
                  <a:pt x="9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5" y="31"/>
                  <a:pt x="5" y="31"/>
                  <a:pt x="5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6" y="33"/>
                  <a:pt x="6" y="33"/>
                  <a:pt x="6" y="33"/>
                </a:cubicBezTo>
                <a:cubicBezTo>
                  <a:pt x="5" y="33"/>
                  <a:pt x="5" y="33"/>
                  <a:pt x="5" y="33"/>
                </a:cubicBezTo>
                <a:cubicBezTo>
                  <a:pt x="5" y="33"/>
                  <a:pt x="5" y="33"/>
                  <a:pt x="5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6" y="35"/>
                  <a:pt x="6" y="35"/>
                  <a:pt x="6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5"/>
                  <a:pt x="5" y="36"/>
                  <a:pt x="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37"/>
                  <a:pt x="6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40"/>
                  <a:pt x="7" y="40"/>
                </a:cubicBezTo>
                <a:cubicBezTo>
                  <a:pt x="8" y="39"/>
                  <a:pt x="8" y="39"/>
                  <a:pt x="8" y="39"/>
                </a:cubicBezTo>
                <a:cubicBezTo>
                  <a:pt x="8" y="40"/>
                  <a:pt x="8" y="40"/>
                  <a:pt x="8" y="40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2"/>
                </a:cubicBezTo>
                <a:cubicBezTo>
                  <a:pt x="11" y="40"/>
                  <a:pt x="11" y="40"/>
                  <a:pt x="11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8" y="43"/>
                  <a:pt x="8" y="43"/>
                  <a:pt x="8" y="43"/>
                </a:cubicBezTo>
                <a:cubicBezTo>
                  <a:pt x="9" y="44"/>
                  <a:pt x="9" y="44"/>
                  <a:pt x="9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5"/>
                  <a:pt x="10" y="45"/>
                  <a:pt x="10" y="45"/>
                </a:cubicBezTo>
                <a:cubicBezTo>
                  <a:pt x="10" y="45"/>
                  <a:pt x="10" y="46"/>
                  <a:pt x="10" y="46"/>
                </a:cubicBezTo>
                <a:cubicBezTo>
                  <a:pt x="11" y="45"/>
                  <a:pt x="11" y="45"/>
                  <a:pt x="11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7"/>
                  <a:pt x="12" y="47"/>
                  <a:pt x="12" y="48"/>
                </a:cubicBezTo>
                <a:cubicBezTo>
                  <a:pt x="13" y="47"/>
                  <a:pt x="13" y="47"/>
                  <a:pt x="13" y="47"/>
                </a:cubicBezTo>
                <a:cubicBezTo>
                  <a:pt x="13" y="47"/>
                  <a:pt x="13" y="47"/>
                  <a:pt x="13" y="47"/>
                </a:cubicBezTo>
                <a:cubicBezTo>
                  <a:pt x="12" y="48"/>
                  <a:pt x="12" y="48"/>
                  <a:pt x="12" y="48"/>
                </a:cubicBezTo>
                <a:cubicBezTo>
                  <a:pt x="13" y="48"/>
                  <a:pt x="13" y="49"/>
                  <a:pt x="13" y="49"/>
                </a:cubicBezTo>
                <a:cubicBezTo>
                  <a:pt x="14" y="48"/>
                  <a:pt x="14" y="48"/>
                  <a:pt x="14" y="48"/>
                </a:cubicBezTo>
                <a:cubicBezTo>
                  <a:pt x="15" y="49"/>
                  <a:pt x="15" y="49"/>
                  <a:pt x="15" y="49"/>
                </a:cubicBezTo>
                <a:cubicBezTo>
                  <a:pt x="14" y="49"/>
                  <a:pt x="14" y="49"/>
                  <a:pt x="14" y="49"/>
                </a:cubicBezTo>
                <a:cubicBezTo>
                  <a:pt x="14" y="50"/>
                  <a:pt x="15" y="50"/>
                  <a:pt x="15" y="50"/>
                </a:cubicBezTo>
                <a:cubicBezTo>
                  <a:pt x="16" y="49"/>
                  <a:pt x="16" y="49"/>
                  <a:pt x="16" y="49"/>
                </a:cubicBezTo>
                <a:cubicBezTo>
                  <a:pt x="16" y="50"/>
                  <a:pt x="16" y="50"/>
                  <a:pt x="16" y="50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1"/>
                  <a:pt x="16" y="51"/>
                  <a:pt x="17" y="51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9" y="53"/>
                  <a:pt x="19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3"/>
                  <a:pt x="20" y="53"/>
                  <a:pt x="20" y="53"/>
                </a:cubicBezTo>
                <a:cubicBezTo>
                  <a:pt x="20" y="53"/>
                  <a:pt x="21" y="53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3"/>
                  <a:pt x="22" y="53"/>
                </a:cubicBezTo>
                <a:cubicBezTo>
                  <a:pt x="22" y="54"/>
                  <a:pt x="22" y="54"/>
                  <a:pt x="22" y="54"/>
                </a:cubicBezTo>
                <a:cubicBezTo>
                  <a:pt x="22" y="54"/>
                  <a:pt x="23" y="54"/>
                  <a:pt x="23" y="54"/>
                </a:cubicBezTo>
                <a:cubicBezTo>
                  <a:pt x="23" y="53"/>
                  <a:pt x="23" y="53"/>
                  <a:pt x="23" y="53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4" y="54"/>
                  <a:pt x="25" y="55"/>
                  <a:pt x="25" y="55"/>
                </a:cubicBezTo>
                <a:cubicBezTo>
                  <a:pt x="25" y="54"/>
                  <a:pt x="25" y="54"/>
                  <a:pt x="25" y="54"/>
                </a:cubicBezTo>
                <a:cubicBezTo>
                  <a:pt x="26" y="54"/>
                  <a:pt x="26" y="54"/>
                  <a:pt x="26" y="54"/>
                </a:cubicBezTo>
                <a:cubicBezTo>
                  <a:pt x="26" y="55"/>
                  <a:pt x="26" y="55"/>
                  <a:pt x="26" y="55"/>
                </a:cubicBezTo>
                <a:cubicBezTo>
                  <a:pt x="26" y="55"/>
                  <a:pt x="27" y="55"/>
                  <a:pt x="27" y="55"/>
                </a:cubicBezTo>
                <a:cubicBezTo>
                  <a:pt x="27" y="54"/>
                  <a:pt x="27" y="54"/>
                  <a:pt x="27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5"/>
                  <a:pt x="28" y="55"/>
                  <a:pt x="28" y="55"/>
                </a:cubicBezTo>
                <a:cubicBezTo>
                  <a:pt x="28" y="55"/>
                  <a:pt x="29" y="55"/>
                  <a:pt x="29" y="55"/>
                </a:cubicBezTo>
                <a:cubicBezTo>
                  <a:pt x="29" y="51"/>
                  <a:pt x="29" y="51"/>
                  <a:pt x="29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5"/>
                  <a:pt x="31" y="55"/>
                  <a:pt x="31" y="55"/>
                </a:cubicBezTo>
                <a:cubicBezTo>
                  <a:pt x="31" y="55"/>
                  <a:pt x="32" y="55"/>
                  <a:pt x="32" y="55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3" y="54"/>
                  <a:pt x="33" y="54"/>
                </a:cubicBezTo>
                <a:cubicBezTo>
                  <a:pt x="33" y="55"/>
                  <a:pt x="33" y="55"/>
                  <a:pt x="33" y="55"/>
                </a:cubicBezTo>
                <a:cubicBezTo>
                  <a:pt x="33" y="55"/>
                  <a:pt x="34" y="55"/>
                  <a:pt x="34" y="55"/>
                </a:cubicBezTo>
                <a:cubicBezTo>
                  <a:pt x="34" y="54"/>
                  <a:pt x="34" y="54"/>
                  <a:pt x="34" y="54"/>
                </a:cubicBezTo>
                <a:cubicBezTo>
                  <a:pt x="35" y="54"/>
                  <a:pt x="35" y="54"/>
                  <a:pt x="35" y="54"/>
                </a:cubicBezTo>
                <a:cubicBezTo>
                  <a:pt x="35" y="55"/>
                  <a:pt x="35" y="55"/>
                  <a:pt x="35" y="55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3"/>
                  <a:pt x="36" y="53"/>
                  <a:pt x="36" y="53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53"/>
                  <a:pt x="39" y="53"/>
                  <a:pt x="39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40" y="52"/>
                  <a:pt x="40" y="52"/>
                  <a:pt x="40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2"/>
                  <a:pt x="42" y="52"/>
                  <a:pt x="42" y="52"/>
                </a:cubicBezTo>
                <a:cubicBezTo>
                  <a:pt x="40" y="49"/>
                  <a:pt x="40" y="49"/>
                  <a:pt x="40" y="49"/>
                </a:cubicBezTo>
                <a:cubicBezTo>
                  <a:pt x="42" y="48"/>
                  <a:pt x="42" y="48"/>
                  <a:pt x="42" y="48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5" y="49"/>
                  <a:pt x="45" y="49"/>
                  <a:pt x="45" y="49"/>
                </a:cubicBezTo>
                <a:cubicBezTo>
                  <a:pt x="45" y="50"/>
                  <a:pt x="45" y="50"/>
                  <a:pt x="45" y="50"/>
                </a:cubicBezTo>
                <a:cubicBezTo>
                  <a:pt x="46" y="50"/>
                  <a:pt x="46" y="49"/>
                  <a:pt x="46" y="49"/>
                </a:cubicBezTo>
                <a:cubicBezTo>
                  <a:pt x="46" y="49"/>
                  <a:pt x="46" y="49"/>
                  <a:pt x="46" y="49"/>
                </a:cubicBezTo>
                <a:cubicBezTo>
                  <a:pt x="46" y="48"/>
                  <a:pt x="46" y="48"/>
                  <a:pt x="46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8" y="48"/>
                </a:cubicBezTo>
                <a:cubicBezTo>
                  <a:pt x="47" y="47"/>
                  <a:pt x="47" y="47"/>
                  <a:pt x="47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9" y="47"/>
                  <a:pt x="49" y="47"/>
                  <a:pt x="49" y="46"/>
                </a:cubicBezTo>
                <a:cubicBezTo>
                  <a:pt x="49" y="46"/>
                  <a:pt x="49" y="46"/>
                  <a:pt x="49" y="46"/>
                </a:cubicBezTo>
                <a:cubicBezTo>
                  <a:pt x="49" y="45"/>
                  <a:pt x="49" y="45"/>
                  <a:pt x="49" y="45"/>
                </a:cubicBezTo>
                <a:cubicBezTo>
                  <a:pt x="50" y="46"/>
                  <a:pt x="50" y="46"/>
                  <a:pt x="50" y="46"/>
                </a:cubicBezTo>
                <a:cubicBezTo>
                  <a:pt x="50" y="45"/>
                  <a:pt x="50" y="45"/>
                  <a:pt x="50" y="45"/>
                </a:cubicBezTo>
                <a:cubicBezTo>
                  <a:pt x="50" y="44"/>
                  <a:pt x="50" y="44"/>
                  <a:pt x="50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3"/>
                  <a:pt x="51" y="43"/>
                </a:cubicBezTo>
                <a:cubicBezTo>
                  <a:pt x="48" y="41"/>
                  <a:pt x="48" y="41"/>
                  <a:pt x="48" y="41"/>
                </a:cubicBezTo>
                <a:cubicBezTo>
                  <a:pt x="49" y="40"/>
                  <a:pt x="49" y="40"/>
                  <a:pt x="49" y="40"/>
                </a:cubicBezTo>
                <a:cubicBezTo>
                  <a:pt x="52" y="41"/>
                  <a:pt x="52" y="41"/>
                  <a:pt x="52" y="41"/>
                </a:cubicBezTo>
                <a:cubicBezTo>
                  <a:pt x="53" y="41"/>
                  <a:pt x="53" y="41"/>
                  <a:pt x="53" y="41"/>
                </a:cubicBezTo>
                <a:cubicBezTo>
                  <a:pt x="52" y="40"/>
                  <a:pt x="52" y="40"/>
                  <a:pt x="52" y="40"/>
                </a:cubicBezTo>
                <a:cubicBezTo>
                  <a:pt x="53" y="39"/>
                  <a:pt x="53" y="39"/>
                  <a:pt x="53" y="39"/>
                </a:cubicBezTo>
                <a:cubicBezTo>
                  <a:pt x="53" y="40"/>
                  <a:pt x="53" y="40"/>
                  <a:pt x="53" y="40"/>
                </a:cubicBezTo>
                <a:cubicBezTo>
                  <a:pt x="53" y="39"/>
                  <a:pt x="54" y="39"/>
                  <a:pt x="54" y="39"/>
                </a:cubicBezTo>
                <a:cubicBezTo>
                  <a:pt x="53" y="38"/>
                  <a:pt x="53" y="38"/>
                  <a:pt x="53" y="38"/>
                </a:cubicBezTo>
                <a:cubicBezTo>
                  <a:pt x="53" y="37"/>
                  <a:pt x="53" y="37"/>
                  <a:pt x="53" y="37"/>
                </a:cubicBezTo>
                <a:cubicBezTo>
                  <a:pt x="54" y="38"/>
                  <a:pt x="54" y="38"/>
                  <a:pt x="54" y="38"/>
                </a:cubicBezTo>
                <a:cubicBezTo>
                  <a:pt x="54" y="37"/>
                  <a:pt x="54" y="37"/>
                  <a:pt x="54" y="37"/>
                </a:cubicBezTo>
                <a:cubicBezTo>
                  <a:pt x="54" y="36"/>
                  <a:pt x="54" y="36"/>
                  <a:pt x="54" y="36"/>
                </a:cubicBezTo>
                <a:cubicBezTo>
                  <a:pt x="54" y="35"/>
                  <a:pt x="54" y="35"/>
                  <a:pt x="54" y="35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5"/>
                  <a:pt x="55" y="35"/>
                  <a:pt x="55" y="35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4"/>
                  <a:pt x="54" y="34"/>
                  <a:pt x="54" y="3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33"/>
                  <a:pt x="55" y="33"/>
                  <a:pt x="55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5" y="32"/>
                  <a:pt x="55" y="32"/>
                  <a:pt x="55" y="32"/>
                </a:cubicBezTo>
                <a:cubicBezTo>
                  <a:pt x="55" y="31"/>
                  <a:pt x="55" y="31"/>
                  <a:pt x="55" y="31"/>
                </a:cubicBezTo>
                <a:cubicBezTo>
                  <a:pt x="52" y="31"/>
                  <a:pt x="52" y="31"/>
                  <a:pt x="52" y="31"/>
                </a:cubicBezTo>
                <a:cubicBezTo>
                  <a:pt x="52" y="29"/>
                  <a:pt x="52" y="29"/>
                  <a:pt x="52" y="29"/>
                </a:cubicBezTo>
                <a:cubicBezTo>
                  <a:pt x="55" y="29"/>
                  <a:pt x="55" y="29"/>
                  <a:pt x="55" y="29"/>
                </a:cubicBezTo>
                <a:cubicBezTo>
                  <a:pt x="55" y="28"/>
                  <a:pt x="55" y="28"/>
                  <a:pt x="55" y="28"/>
                </a:cubicBezTo>
                <a:cubicBezTo>
                  <a:pt x="54" y="28"/>
                  <a:pt x="54" y="28"/>
                  <a:pt x="54" y="28"/>
                </a:cubicBezTo>
                <a:cubicBezTo>
                  <a:pt x="54" y="27"/>
                  <a:pt x="54" y="27"/>
                  <a:pt x="54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6"/>
                  <a:pt x="55" y="26"/>
                  <a:pt x="55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4" y="25"/>
                  <a:pt x="54" y="25"/>
                  <a:pt x="54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4"/>
                  <a:pt x="55" y="24"/>
                  <a:pt x="55" y="23"/>
                </a:cubicBezTo>
                <a:cubicBezTo>
                  <a:pt x="54" y="24"/>
                  <a:pt x="54" y="24"/>
                  <a:pt x="54" y="24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3" y="22"/>
                  <a:pt x="53" y="22"/>
                </a:cubicBezTo>
                <a:cubicBezTo>
                  <a:pt x="53" y="21"/>
                  <a:pt x="53" y="21"/>
                  <a:pt x="53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8"/>
                  <a:pt x="53" y="18"/>
                  <a:pt x="52" y="18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51" y="16"/>
                  <a:pt x="51" y="16"/>
                  <a:pt x="51" y="16"/>
                </a:cubicBezTo>
                <a:cubicBezTo>
                  <a:pt x="51" y="16"/>
                  <a:pt x="51" y="16"/>
                  <a:pt x="51" y="15"/>
                </a:cubicBezTo>
                <a:cubicBezTo>
                  <a:pt x="50" y="16"/>
                  <a:pt x="50" y="16"/>
                  <a:pt x="50" y="16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4"/>
                  <a:pt x="50" y="14"/>
                  <a:pt x="50" y="14"/>
                </a:cubicBezTo>
                <a:cubicBezTo>
                  <a:pt x="49" y="14"/>
                  <a:pt x="49" y="14"/>
                  <a:pt x="49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9" y="13"/>
                  <a:pt x="49" y="13"/>
                  <a:pt x="49" y="13"/>
                </a:cubicBezTo>
                <a:cubicBezTo>
                  <a:pt x="49" y="13"/>
                  <a:pt x="49" y="12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7" y="12"/>
                  <a:pt x="47" y="12"/>
                  <a:pt x="47" y="12"/>
                </a:cubicBezTo>
                <a:cubicBezTo>
                  <a:pt x="48" y="11"/>
                  <a:pt x="48" y="11"/>
                  <a:pt x="4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5" y="9"/>
                </a:cubicBezTo>
                <a:cubicBezTo>
                  <a:pt x="45" y="10"/>
                  <a:pt x="45" y="10"/>
                  <a:pt x="45" y="10"/>
                </a:cubicBezTo>
                <a:cubicBezTo>
                  <a:pt x="44" y="10"/>
                  <a:pt x="44" y="10"/>
                  <a:pt x="44" y="10"/>
                </a:cubicBezTo>
                <a:cubicBezTo>
                  <a:pt x="45" y="9"/>
                  <a:pt x="45" y="9"/>
                  <a:pt x="45" y="9"/>
                </a:cubicBezTo>
                <a:cubicBezTo>
                  <a:pt x="44" y="9"/>
                  <a:pt x="44" y="8"/>
                  <a:pt x="44" y="8"/>
                </a:cubicBezTo>
                <a:cubicBezTo>
                  <a:pt x="42" y="11"/>
                  <a:pt x="42" y="11"/>
                  <a:pt x="42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2" y="7"/>
                  <a:pt x="42" y="7"/>
                  <a:pt x="42" y="7"/>
                </a:cubicBezTo>
                <a:cubicBezTo>
                  <a:pt x="42" y="7"/>
                  <a:pt x="41" y="7"/>
                  <a:pt x="41" y="7"/>
                </a:cubicBezTo>
                <a:cubicBezTo>
                  <a:pt x="41" y="8"/>
                  <a:pt x="41" y="8"/>
                  <a:pt x="41" y="8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6"/>
                  <a:pt x="39" y="6"/>
                  <a:pt x="39" y="6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5"/>
                  <a:pt x="37" y="5"/>
                  <a:pt x="37" y="5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5" y="5"/>
                  <a:pt x="35" y="5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3" y="4"/>
                  <a:pt x="33" y="4"/>
                </a:cubicBezTo>
                <a:cubicBezTo>
                  <a:pt x="33" y="5"/>
                  <a:pt x="33" y="5"/>
                  <a:pt x="33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4"/>
                  <a:pt x="31" y="4"/>
                </a:cubicBezTo>
                <a:cubicBezTo>
                  <a:pt x="31" y="8"/>
                  <a:pt x="31" y="8"/>
                  <a:pt x="31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5"/>
                  <a:pt x="28" y="5"/>
                  <a:pt x="28" y="5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6" y="4"/>
                  <a:pt x="26" y="5"/>
                </a:cubicBezTo>
                <a:cubicBezTo>
                  <a:pt x="26" y="6"/>
                  <a:pt x="26" y="6"/>
                  <a:pt x="26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5"/>
                  <a:pt x="24" y="5"/>
                  <a:pt x="24" y="5"/>
                </a:cubicBezTo>
                <a:cubicBezTo>
                  <a:pt x="24" y="6"/>
                  <a:pt x="24" y="6"/>
                  <a:pt x="24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0" y="6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7"/>
                  <a:pt x="18" y="7"/>
                  <a:pt x="18" y="7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8"/>
                  <a:pt x="16" y="8"/>
                  <a:pt x="16" y="8"/>
                </a:cubicBezTo>
                <a:cubicBezTo>
                  <a:pt x="16" y="8"/>
                  <a:pt x="16" y="8"/>
                  <a:pt x="16" y="9"/>
                </a:cubicBezTo>
                <a:close/>
                <a:moveTo>
                  <a:pt x="22" y="19"/>
                </a:moveTo>
                <a:cubicBezTo>
                  <a:pt x="24" y="22"/>
                  <a:pt x="27" y="25"/>
                  <a:pt x="29" y="28"/>
                </a:cubicBezTo>
                <a:cubicBezTo>
                  <a:pt x="28" y="28"/>
                  <a:pt x="28" y="29"/>
                  <a:pt x="28" y="29"/>
                </a:cubicBezTo>
                <a:cubicBezTo>
                  <a:pt x="28" y="29"/>
                  <a:pt x="28" y="29"/>
                  <a:pt x="28" y="30"/>
                </a:cubicBezTo>
                <a:cubicBezTo>
                  <a:pt x="28" y="30"/>
                  <a:pt x="28" y="30"/>
                  <a:pt x="28" y="31"/>
                </a:cubicBezTo>
                <a:cubicBezTo>
                  <a:pt x="29" y="31"/>
                  <a:pt x="29" y="32"/>
                  <a:pt x="30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1" y="31"/>
                  <a:pt x="31" y="31"/>
                  <a:pt x="32" y="31"/>
                </a:cubicBezTo>
                <a:cubicBezTo>
                  <a:pt x="32" y="31"/>
                  <a:pt x="33" y="32"/>
                  <a:pt x="33" y="33"/>
                </a:cubicBezTo>
                <a:cubicBezTo>
                  <a:pt x="33" y="32"/>
                  <a:pt x="34" y="32"/>
                  <a:pt x="34" y="32"/>
                </a:cubicBezTo>
                <a:cubicBezTo>
                  <a:pt x="33" y="31"/>
                  <a:pt x="33" y="31"/>
                  <a:pt x="32" y="30"/>
                </a:cubicBezTo>
                <a:cubicBezTo>
                  <a:pt x="33" y="30"/>
                  <a:pt x="33" y="29"/>
                  <a:pt x="33" y="29"/>
                </a:cubicBezTo>
                <a:cubicBezTo>
                  <a:pt x="34" y="26"/>
                  <a:pt x="36" y="24"/>
                  <a:pt x="37" y="21"/>
                </a:cubicBezTo>
                <a:cubicBezTo>
                  <a:pt x="37" y="21"/>
                  <a:pt x="36" y="20"/>
                  <a:pt x="35" y="20"/>
                </a:cubicBezTo>
                <a:cubicBezTo>
                  <a:pt x="33" y="22"/>
                  <a:pt x="32" y="24"/>
                  <a:pt x="30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28" y="24"/>
                  <a:pt x="25" y="21"/>
                  <a:pt x="23" y="18"/>
                </a:cubicBezTo>
                <a:cubicBezTo>
                  <a:pt x="23" y="18"/>
                  <a:pt x="22" y="19"/>
                  <a:pt x="22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33"/>
          <p:cNvSpPr/>
          <p:nvPr/>
        </p:nvSpPr>
        <p:spPr>
          <a:xfrm>
            <a:off x="3924360" y="3016080"/>
            <a:ext cx="574560" cy="422280"/>
          </a:xfrm>
          <a:custGeom>
            <a:avLst/>
            <a:gdLst>
              <a:gd name="textAreaLeft" fmla="*/ 0 w 574560"/>
              <a:gd name="textAreaRight" fmla="*/ 574920 w 57456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33"/>
          <p:cNvSpPr/>
          <p:nvPr/>
        </p:nvSpPr>
        <p:spPr>
          <a:xfrm>
            <a:off x="3924360" y="4676760"/>
            <a:ext cx="574560" cy="423720"/>
          </a:xfrm>
          <a:custGeom>
            <a:avLst/>
            <a:gdLst>
              <a:gd name="textAreaLeft" fmla="*/ 0 w 574560"/>
              <a:gd name="textAreaRight" fmla="*/ 574920 w 5745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24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6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1" name="文本框 28"/>
          <p:cNvSpPr/>
          <p:nvPr/>
        </p:nvSpPr>
        <p:spPr>
          <a:xfrm>
            <a:off x="29052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、未来展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2" name="组合 2"/>
          <p:cNvGrpSpPr/>
          <p:nvPr/>
        </p:nvGrpSpPr>
        <p:grpSpPr>
          <a:xfrm>
            <a:off x="5504040" y="2502000"/>
            <a:ext cx="1447560" cy="663480"/>
            <a:chOff x="5504040" y="2502000"/>
            <a:chExt cx="1447560" cy="663480"/>
          </a:xfrm>
        </p:grpSpPr>
        <p:sp>
          <p:nvSpPr>
            <p:cNvPr id="1373" name="圆角矩形 12"/>
            <p:cNvSpPr/>
            <p:nvPr/>
          </p:nvSpPr>
          <p:spPr>
            <a:xfrm>
              <a:off x="5504040" y="250200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矩形 64"/>
            <p:cNvSpPr/>
            <p:nvPr/>
          </p:nvSpPr>
          <p:spPr>
            <a:xfrm>
              <a:off x="5771520" y="2602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5" name="组合 44"/>
          <p:cNvGrpSpPr/>
          <p:nvPr/>
        </p:nvGrpSpPr>
        <p:grpSpPr>
          <a:xfrm>
            <a:off x="5504040" y="3327480"/>
            <a:ext cx="1447560" cy="663480"/>
            <a:chOff x="5504040" y="3327480"/>
            <a:chExt cx="1447560" cy="663480"/>
          </a:xfrm>
        </p:grpSpPr>
        <p:sp>
          <p:nvSpPr>
            <p:cNvPr id="1376" name="圆角矩形 13"/>
            <p:cNvSpPr/>
            <p:nvPr/>
          </p:nvSpPr>
          <p:spPr>
            <a:xfrm>
              <a:off x="5504040" y="332748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矩形 64"/>
            <p:cNvSpPr/>
            <p:nvPr/>
          </p:nvSpPr>
          <p:spPr>
            <a:xfrm>
              <a:off x="5771520" y="3428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8" name="组合 45"/>
          <p:cNvGrpSpPr/>
          <p:nvPr/>
        </p:nvGrpSpPr>
        <p:grpSpPr>
          <a:xfrm>
            <a:off x="5504040" y="4151160"/>
            <a:ext cx="1447560" cy="663840"/>
            <a:chOff x="5504040" y="4151160"/>
            <a:chExt cx="1447560" cy="663840"/>
          </a:xfrm>
        </p:grpSpPr>
        <p:sp>
          <p:nvSpPr>
            <p:cNvPr id="1379" name="圆角矩形 14"/>
            <p:cNvSpPr/>
            <p:nvPr/>
          </p:nvSpPr>
          <p:spPr>
            <a:xfrm>
              <a:off x="5504040" y="415116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矩形 64"/>
            <p:cNvSpPr/>
            <p:nvPr/>
          </p:nvSpPr>
          <p:spPr>
            <a:xfrm>
              <a:off x="5771520" y="4252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组合 46"/>
          <p:cNvGrpSpPr/>
          <p:nvPr/>
        </p:nvGrpSpPr>
        <p:grpSpPr>
          <a:xfrm>
            <a:off x="5504040" y="4976640"/>
            <a:ext cx="1447560" cy="663840"/>
            <a:chOff x="5504040" y="4976640"/>
            <a:chExt cx="1447560" cy="663840"/>
          </a:xfrm>
        </p:grpSpPr>
        <p:sp>
          <p:nvSpPr>
            <p:cNvPr id="1382" name="圆角矩形 15"/>
            <p:cNvSpPr/>
            <p:nvPr/>
          </p:nvSpPr>
          <p:spPr>
            <a:xfrm>
              <a:off x="5504040" y="497664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64"/>
            <p:cNvSpPr/>
            <p:nvPr/>
          </p:nvSpPr>
          <p:spPr>
            <a:xfrm>
              <a:off x="5771520" y="507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4" name="TextBox 59"/>
          <p:cNvSpPr/>
          <p:nvPr/>
        </p:nvSpPr>
        <p:spPr>
          <a:xfrm>
            <a:off x="7418520" y="2766960"/>
            <a:ext cx="366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9"/>
          <p:cNvSpPr/>
          <p:nvPr/>
        </p:nvSpPr>
        <p:spPr>
          <a:xfrm>
            <a:off x="7448400" y="4492800"/>
            <a:ext cx="3667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任意多边形 1"/>
          <p:cNvSpPr/>
          <p:nvPr/>
        </p:nvSpPr>
        <p:spPr>
          <a:xfrm rot="5400000">
            <a:off x="16120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10"/>
          <p:cNvSpPr/>
          <p:nvPr/>
        </p:nvSpPr>
        <p:spPr>
          <a:xfrm>
            <a:off x="2514600" y="3027240"/>
            <a:ext cx="758880" cy="758880"/>
          </a:xfrm>
          <a:custGeom>
            <a:avLst/>
            <a:gdLst>
              <a:gd name="textAreaLeft" fmla="*/ 0 w 758880"/>
              <a:gd name="textAreaRight" fmla="*/ 759240 w 75888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8" h="78">
                <a:moveTo>
                  <a:pt x="39" y="0"/>
                </a:moveTo>
                <a:cubicBezTo>
                  <a:pt x="46" y="0"/>
                  <a:pt x="52" y="2"/>
                  <a:pt x="58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5" y="8"/>
                  <a:pt x="53" y="11"/>
                  <a:pt x="53" y="14"/>
                </a:cubicBezTo>
                <a:cubicBezTo>
                  <a:pt x="53" y="16"/>
                  <a:pt x="54" y="18"/>
                  <a:pt x="55" y="20"/>
                </a:cubicBezTo>
                <a:cubicBezTo>
                  <a:pt x="54" y="20"/>
                  <a:pt x="53" y="19"/>
                  <a:pt x="53" y="18"/>
                </a:cubicBezTo>
                <a:cubicBezTo>
                  <a:pt x="52" y="17"/>
                  <a:pt x="51" y="19"/>
                  <a:pt x="51" y="20"/>
                </a:cubicBezTo>
                <a:cubicBezTo>
                  <a:pt x="50" y="21"/>
                  <a:pt x="49" y="22"/>
                  <a:pt x="48" y="22"/>
                </a:cubicBezTo>
                <a:cubicBezTo>
                  <a:pt x="47" y="22"/>
                  <a:pt x="46" y="18"/>
                  <a:pt x="46" y="18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8" y="18"/>
                  <a:pt x="48" y="17"/>
                </a:cubicBezTo>
                <a:cubicBezTo>
                  <a:pt x="48" y="16"/>
                  <a:pt x="48" y="17"/>
                  <a:pt x="49" y="17"/>
                </a:cubicBezTo>
                <a:cubicBezTo>
                  <a:pt x="49" y="17"/>
                  <a:pt x="50" y="15"/>
                  <a:pt x="50" y="14"/>
                </a:cubicBezTo>
                <a:cubicBezTo>
                  <a:pt x="51" y="13"/>
                  <a:pt x="52" y="12"/>
                  <a:pt x="53" y="11"/>
                </a:cubicBezTo>
                <a:cubicBezTo>
                  <a:pt x="49" y="9"/>
                  <a:pt x="44" y="8"/>
                  <a:pt x="39" y="8"/>
                </a:cubicBezTo>
                <a:cubicBezTo>
                  <a:pt x="37" y="8"/>
                  <a:pt x="36" y="8"/>
                  <a:pt x="35" y="8"/>
                </a:cubicBezTo>
                <a:cubicBezTo>
                  <a:pt x="35" y="9"/>
                  <a:pt x="35" y="10"/>
                  <a:pt x="35" y="12"/>
                </a:cubicBezTo>
                <a:cubicBezTo>
                  <a:pt x="35" y="15"/>
                  <a:pt x="33" y="13"/>
                  <a:pt x="32" y="14"/>
                </a:cubicBezTo>
                <a:cubicBezTo>
                  <a:pt x="30" y="15"/>
                  <a:pt x="30" y="17"/>
                  <a:pt x="28" y="17"/>
                </a:cubicBezTo>
                <a:cubicBezTo>
                  <a:pt x="28" y="17"/>
                  <a:pt x="27" y="18"/>
                  <a:pt x="25" y="19"/>
                </a:cubicBezTo>
                <a:cubicBezTo>
                  <a:pt x="25" y="20"/>
                  <a:pt x="25" y="20"/>
                  <a:pt x="24" y="20"/>
                </a:cubicBezTo>
                <a:cubicBezTo>
                  <a:pt x="23" y="22"/>
                  <a:pt x="22" y="23"/>
                  <a:pt x="21" y="25"/>
                </a:cubicBezTo>
                <a:cubicBezTo>
                  <a:pt x="21" y="26"/>
                  <a:pt x="20" y="26"/>
                  <a:pt x="20" y="27"/>
                </a:cubicBezTo>
                <a:cubicBezTo>
                  <a:pt x="19" y="27"/>
                  <a:pt x="19" y="24"/>
                  <a:pt x="17" y="23"/>
                </a:cubicBezTo>
                <a:cubicBezTo>
                  <a:pt x="14" y="23"/>
                  <a:pt x="13" y="27"/>
                  <a:pt x="13" y="29"/>
                </a:cubicBezTo>
                <a:cubicBezTo>
                  <a:pt x="12" y="31"/>
                  <a:pt x="15" y="29"/>
                  <a:pt x="17" y="29"/>
                </a:cubicBezTo>
                <a:cubicBezTo>
                  <a:pt x="18" y="28"/>
                  <a:pt x="17" y="30"/>
                  <a:pt x="17" y="31"/>
                </a:cubicBezTo>
                <a:cubicBezTo>
                  <a:pt x="17" y="32"/>
                  <a:pt x="18" y="33"/>
                  <a:pt x="17" y="34"/>
                </a:cubicBezTo>
                <a:cubicBezTo>
                  <a:pt x="17" y="35"/>
                  <a:pt x="18" y="36"/>
                  <a:pt x="19" y="36"/>
                </a:cubicBezTo>
                <a:cubicBezTo>
                  <a:pt x="20" y="35"/>
                  <a:pt x="21" y="34"/>
                  <a:pt x="22" y="34"/>
                </a:cubicBezTo>
                <a:cubicBezTo>
                  <a:pt x="24" y="38"/>
                  <a:pt x="27" y="42"/>
                  <a:pt x="30" y="45"/>
                </a:cubicBezTo>
                <a:cubicBezTo>
                  <a:pt x="32" y="46"/>
                  <a:pt x="32" y="46"/>
                  <a:pt x="32" y="46"/>
                </a:cubicBezTo>
                <a:cubicBezTo>
                  <a:pt x="35" y="45"/>
                  <a:pt x="35" y="45"/>
                  <a:pt x="35" y="45"/>
                </a:cubicBezTo>
                <a:cubicBezTo>
                  <a:pt x="35" y="44"/>
                  <a:pt x="36" y="43"/>
                  <a:pt x="37" y="42"/>
                </a:cubicBezTo>
                <a:cubicBezTo>
                  <a:pt x="37" y="42"/>
                  <a:pt x="38" y="42"/>
                  <a:pt x="38" y="42"/>
                </a:cubicBezTo>
                <a:cubicBezTo>
                  <a:pt x="39" y="43"/>
                  <a:pt x="42" y="44"/>
                  <a:pt x="41" y="45"/>
                </a:cubicBezTo>
                <a:cubicBezTo>
                  <a:pt x="40" y="46"/>
                  <a:pt x="40" y="47"/>
                  <a:pt x="39" y="49"/>
                </a:cubicBezTo>
                <a:cubicBezTo>
                  <a:pt x="38" y="51"/>
                  <a:pt x="35" y="57"/>
                  <a:pt x="32" y="59"/>
                </a:cubicBezTo>
                <a:cubicBezTo>
                  <a:pt x="29" y="62"/>
                  <a:pt x="29" y="62"/>
                  <a:pt x="28" y="64"/>
                </a:cubicBezTo>
                <a:cubicBezTo>
                  <a:pt x="27" y="65"/>
                  <a:pt x="28" y="67"/>
                  <a:pt x="27" y="67"/>
                </a:cubicBezTo>
                <a:cubicBezTo>
                  <a:pt x="26" y="67"/>
                  <a:pt x="25" y="66"/>
                  <a:pt x="25" y="66"/>
                </a:cubicBezTo>
                <a:cubicBezTo>
                  <a:pt x="25" y="66"/>
                  <a:pt x="24" y="62"/>
                  <a:pt x="24" y="61"/>
                </a:cubicBezTo>
                <a:cubicBezTo>
                  <a:pt x="24" y="59"/>
                  <a:pt x="23" y="55"/>
                  <a:pt x="23" y="54"/>
                </a:cubicBezTo>
                <a:cubicBezTo>
                  <a:pt x="23" y="53"/>
                  <a:pt x="22" y="50"/>
                  <a:pt x="21" y="49"/>
                </a:cubicBezTo>
                <a:cubicBezTo>
                  <a:pt x="20" y="49"/>
                  <a:pt x="18" y="46"/>
                  <a:pt x="18" y="45"/>
                </a:cubicBezTo>
                <a:cubicBezTo>
                  <a:pt x="18" y="43"/>
                  <a:pt x="16" y="40"/>
                  <a:pt x="18" y="38"/>
                </a:cubicBezTo>
                <a:cubicBezTo>
                  <a:pt x="18" y="38"/>
                  <a:pt x="18" y="37"/>
                  <a:pt x="18" y="37"/>
                </a:cubicBezTo>
                <a:cubicBezTo>
                  <a:pt x="18" y="37"/>
                  <a:pt x="17" y="36"/>
                  <a:pt x="16" y="36"/>
                </a:cubicBezTo>
                <a:cubicBezTo>
                  <a:pt x="15" y="35"/>
                  <a:pt x="15" y="34"/>
                  <a:pt x="15" y="34"/>
                </a:cubicBezTo>
                <a:cubicBezTo>
                  <a:pt x="15" y="33"/>
                  <a:pt x="13" y="33"/>
                  <a:pt x="12" y="32"/>
                </a:cubicBezTo>
                <a:cubicBezTo>
                  <a:pt x="10" y="31"/>
                  <a:pt x="11" y="29"/>
                  <a:pt x="11" y="28"/>
                </a:cubicBezTo>
                <a:cubicBezTo>
                  <a:pt x="11" y="28"/>
                  <a:pt x="10" y="26"/>
                  <a:pt x="11" y="24"/>
                </a:cubicBezTo>
                <a:cubicBezTo>
                  <a:pt x="9" y="29"/>
                  <a:pt x="7" y="34"/>
                  <a:pt x="7" y="39"/>
                </a:cubicBezTo>
                <a:cubicBezTo>
                  <a:pt x="7" y="47"/>
                  <a:pt x="11" y="55"/>
                  <a:pt x="17" y="61"/>
                </a:cubicBezTo>
                <a:cubicBezTo>
                  <a:pt x="22" y="66"/>
                  <a:pt x="30" y="70"/>
                  <a:pt x="39" y="70"/>
                </a:cubicBezTo>
                <a:cubicBezTo>
                  <a:pt x="47" y="70"/>
                  <a:pt x="55" y="66"/>
                  <a:pt x="61" y="61"/>
                </a:cubicBezTo>
                <a:cubicBezTo>
                  <a:pt x="66" y="55"/>
                  <a:pt x="70" y="47"/>
                  <a:pt x="70" y="39"/>
                </a:cubicBezTo>
                <a:cubicBezTo>
                  <a:pt x="70" y="36"/>
                  <a:pt x="69" y="34"/>
                  <a:pt x="69" y="31"/>
                </a:cubicBezTo>
                <a:cubicBezTo>
                  <a:pt x="71" y="30"/>
                  <a:pt x="73" y="27"/>
                  <a:pt x="75" y="24"/>
                </a:cubicBezTo>
                <a:cubicBezTo>
                  <a:pt x="77" y="29"/>
                  <a:pt x="78" y="34"/>
                  <a:pt x="78" y="39"/>
                </a:cubicBezTo>
                <a:cubicBezTo>
                  <a:pt x="78" y="50"/>
                  <a:pt x="73" y="59"/>
                  <a:pt x="66" y="66"/>
                </a:cubicBezTo>
                <a:cubicBezTo>
                  <a:pt x="59" y="74"/>
                  <a:pt x="49" y="78"/>
                  <a:pt x="39" y="78"/>
                </a:cubicBezTo>
                <a:cubicBezTo>
                  <a:pt x="28" y="78"/>
                  <a:pt x="18" y="74"/>
                  <a:pt x="11" y="66"/>
                </a:cubicBezTo>
                <a:cubicBezTo>
                  <a:pt x="4" y="59"/>
                  <a:pt x="0" y="50"/>
                  <a:pt x="0" y="39"/>
                </a:cubicBezTo>
                <a:cubicBezTo>
                  <a:pt x="0" y="28"/>
                  <a:pt x="4" y="18"/>
                  <a:pt x="11" y="11"/>
                </a:cubicBezTo>
                <a:cubicBezTo>
                  <a:pt x="18" y="4"/>
                  <a:pt x="28" y="0"/>
                  <a:pt x="39" y="0"/>
                </a:cubicBezTo>
                <a:close/>
                <a:moveTo>
                  <a:pt x="66" y="5"/>
                </a:moveTo>
                <a:cubicBezTo>
                  <a:pt x="63" y="5"/>
                  <a:pt x="61" y="6"/>
                  <a:pt x="59" y="8"/>
                </a:cubicBezTo>
                <a:cubicBezTo>
                  <a:pt x="58" y="10"/>
                  <a:pt x="57" y="12"/>
                  <a:pt x="57" y="14"/>
                </a:cubicBezTo>
                <a:cubicBezTo>
                  <a:pt x="57" y="18"/>
                  <a:pt x="62" y="26"/>
                  <a:pt x="66" y="29"/>
                </a:cubicBezTo>
                <a:cubicBezTo>
                  <a:pt x="69" y="27"/>
                  <a:pt x="75" y="18"/>
                  <a:pt x="75" y="14"/>
                </a:cubicBezTo>
                <a:cubicBezTo>
                  <a:pt x="75" y="12"/>
                  <a:pt x="74" y="10"/>
                  <a:pt x="72" y="8"/>
                </a:cubicBezTo>
                <a:cubicBezTo>
                  <a:pt x="71" y="6"/>
                  <a:pt x="68" y="5"/>
                  <a:pt x="66" y="5"/>
                </a:cubicBezTo>
                <a:close/>
                <a:moveTo>
                  <a:pt x="69" y="11"/>
                </a:moveTo>
                <a:cubicBezTo>
                  <a:pt x="68" y="11"/>
                  <a:pt x="67" y="10"/>
                  <a:pt x="66" y="10"/>
                </a:cubicBezTo>
                <a:cubicBezTo>
                  <a:pt x="65" y="10"/>
                  <a:pt x="64" y="11"/>
                  <a:pt x="63" y="11"/>
                </a:cubicBezTo>
                <a:cubicBezTo>
                  <a:pt x="62" y="12"/>
                  <a:pt x="62" y="13"/>
                  <a:pt x="62" y="14"/>
                </a:cubicBezTo>
                <a:cubicBezTo>
                  <a:pt x="62" y="15"/>
                  <a:pt x="62" y="16"/>
                  <a:pt x="63" y="17"/>
                </a:cubicBezTo>
                <a:cubicBezTo>
                  <a:pt x="64" y="18"/>
                  <a:pt x="65" y="18"/>
                  <a:pt x="66" y="18"/>
                </a:cubicBezTo>
                <a:cubicBezTo>
                  <a:pt x="67" y="18"/>
                  <a:pt x="68" y="18"/>
                  <a:pt x="69" y="17"/>
                </a:cubicBezTo>
                <a:cubicBezTo>
                  <a:pt x="69" y="16"/>
                  <a:pt x="70" y="15"/>
                  <a:pt x="70" y="14"/>
                </a:cubicBezTo>
                <a:cubicBezTo>
                  <a:pt x="70" y="13"/>
                  <a:pt x="69" y="12"/>
                  <a:pt x="69" y="11"/>
                </a:cubicBezTo>
                <a:close/>
                <a:moveTo>
                  <a:pt x="32" y="21"/>
                </a:moveTo>
                <a:cubicBezTo>
                  <a:pt x="30" y="21"/>
                  <a:pt x="28" y="22"/>
                  <a:pt x="27" y="23"/>
                </a:cubicBezTo>
                <a:cubicBezTo>
                  <a:pt x="25" y="24"/>
                  <a:pt x="24" y="26"/>
                  <a:pt x="24" y="29"/>
                </a:cubicBezTo>
                <a:cubicBezTo>
                  <a:pt x="24" y="32"/>
                  <a:pt x="29" y="39"/>
                  <a:pt x="32" y="42"/>
                </a:cubicBezTo>
                <a:cubicBezTo>
                  <a:pt x="35" y="40"/>
                  <a:pt x="40" y="32"/>
                  <a:pt x="40" y="29"/>
                </a:cubicBezTo>
                <a:cubicBezTo>
                  <a:pt x="40" y="26"/>
                  <a:pt x="40" y="24"/>
                  <a:pt x="38" y="23"/>
                </a:cubicBezTo>
                <a:cubicBezTo>
                  <a:pt x="37" y="22"/>
                  <a:pt x="35" y="21"/>
                  <a:pt x="32" y="21"/>
                </a:cubicBezTo>
                <a:close/>
                <a:moveTo>
                  <a:pt x="35" y="26"/>
                </a:move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0" y="26"/>
                </a:cubicBezTo>
                <a:cubicBezTo>
                  <a:pt x="29" y="27"/>
                  <a:pt x="29" y="28"/>
                  <a:pt x="29" y="29"/>
                </a:cubicBezTo>
                <a:cubicBezTo>
                  <a:pt x="29" y="30"/>
                  <a:pt x="29" y="31"/>
                  <a:pt x="30" y="31"/>
                </a:cubicBezTo>
                <a:cubicBezTo>
                  <a:pt x="31" y="32"/>
                  <a:pt x="31" y="32"/>
                  <a:pt x="32" y="32"/>
                </a:cubicBezTo>
                <a:cubicBezTo>
                  <a:pt x="33" y="32"/>
                  <a:pt x="34" y="32"/>
                  <a:pt x="35" y="31"/>
                </a:cubicBezTo>
                <a:cubicBezTo>
                  <a:pt x="36" y="31"/>
                  <a:pt x="36" y="30"/>
                  <a:pt x="36" y="29"/>
                </a:cubicBezTo>
                <a:cubicBezTo>
                  <a:pt x="36" y="28"/>
                  <a:pt x="36" y="27"/>
                  <a:pt x="35" y="26"/>
                </a:cubicBezTo>
                <a:close/>
                <a:moveTo>
                  <a:pt x="44" y="33"/>
                </a:moveTo>
                <a:cubicBezTo>
                  <a:pt x="44" y="33"/>
                  <a:pt x="46" y="37"/>
                  <a:pt x="47" y="38"/>
                </a:cubicBezTo>
                <a:cubicBezTo>
                  <a:pt x="48" y="39"/>
                  <a:pt x="55" y="38"/>
                  <a:pt x="56" y="38"/>
                </a:cubicBezTo>
                <a:cubicBezTo>
                  <a:pt x="57" y="38"/>
                  <a:pt x="56" y="40"/>
                  <a:pt x="57" y="42"/>
                </a:cubicBezTo>
                <a:cubicBezTo>
                  <a:pt x="59" y="45"/>
                  <a:pt x="58" y="57"/>
                  <a:pt x="59" y="58"/>
                </a:cubicBezTo>
                <a:cubicBezTo>
                  <a:pt x="61" y="58"/>
                  <a:pt x="65" y="51"/>
                  <a:pt x="66" y="50"/>
                </a:cubicBezTo>
                <a:cubicBezTo>
                  <a:pt x="67" y="48"/>
                  <a:pt x="68" y="35"/>
                  <a:pt x="68" y="33"/>
                </a:cubicBezTo>
                <a:cubicBezTo>
                  <a:pt x="68" y="33"/>
                  <a:pt x="68" y="32"/>
                  <a:pt x="68" y="32"/>
                </a:cubicBezTo>
                <a:cubicBezTo>
                  <a:pt x="66" y="34"/>
                  <a:pt x="66" y="34"/>
                  <a:pt x="66" y="34"/>
                </a:cubicBezTo>
                <a:cubicBezTo>
                  <a:pt x="64" y="32"/>
                  <a:pt x="64" y="32"/>
                  <a:pt x="64" y="32"/>
                </a:cubicBezTo>
                <a:cubicBezTo>
                  <a:pt x="61" y="30"/>
                  <a:pt x="59" y="27"/>
                  <a:pt x="57" y="24"/>
                </a:cubicBezTo>
                <a:cubicBezTo>
                  <a:pt x="57" y="24"/>
                  <a:pt x="56" y="24"/>
                  <a:pt x="56" y="24"/>
                </a:cubicBezTo>
                <a:cubicBezTo>
                  <a:pt x="55" y="24"/>
                  <a:pt x="54" y="22"/>
                  <a:pt x="53" y="22"/>
                </a:cubicBezTo>
                <a:cubicBezTo>
                  <a:pt x="53" y="22"/>
                  <a:pt x="52" y="22"/>
                  <a:pt x="51" y="22"/>
                </a:cubicBezTo>
                <a:cubicBezTo>
                  <a:pt x="50" y="22"/>
                  <a:pt x="49" y="23"/>
                  <a:pt x="48" y="23"/>
                </a:cubicBezTo>
                <a:cubicBezTo>
                  <a:pt x="47" y="24"/>
                  <a:pt x="47" y="25"/>
                  <a:pt x="47" y="26"/>
                </a:cubicBezTo>
                <a:cubicBezTo>
                  <a:pt x="46" y="26"/>
                  <a:pt x="46" y="27"/>
                  <a:pt x="45" y="28"/>
                </a:cubicBezTo>
                <a:cubicBezTo>
                  <a:pt x="44" y="29"/>
                  <a:pt x="44" y="29"/>
                  <a:pt x="45" y="31"/>
                </a:cubicBezTo>
                <a:cubicBezTo>
                  <a:pt x="45" y="32"/>
                  <a:pt x="44" y="33"/>
                  <a:pt x="44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任意多边形 5"/>
          <p:cNvSpPr/>
          <p:nvPr/>
        </p:nvSpPr>
        <p:spPr>
          <a:xfrm rot="5400000">
            <a:off x="4681440" y="2700360"/>
            <a:ext cx="2809800" cy="2854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任意多边形 9"/>
          <p:cNvSpPr/>
          <p:nvPr/>
        </p:nvSpPr>
        <p:spPr>
          <a:xfrm rot="5400000">
            <a:off x="79084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13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文本框 17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"/>
          <p:cNvSpPr/>
          <p:nvPr/>
        </p:nvSpPr>
        <p:spPr>
          <a:xfrm>
            <a:off x="5881680" y="3063960"/>
            <a:ext cx="503280" cy="593640"/>
          </a:xfrm>
          <a:custGeom>
            <a:avLst/>
            <a:gdLst>
              <a:gd name="textAreaLeft" fmla="*/ 0 w 503280"/>
              <a:gd name="textAreaRight" fmla="*/ 503280 w 5032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0"/>
          <p:cNvSpPr/>
          <p:nvPr/>
        </p:nvSpPr>
        <p:spPr>
          <a:xfrm>
            <a:off x="8964720" y="3063960"/>
            <a:ext cx="723960" cy="7221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8"/>
          <p:cNvSpPr/>
          <p:nvPr/>
        </p:nvSpPr>
        <p:spPr>
          <a:xfrm>
            <a:off x="1765440" y="399096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8"/>
          <p:cNvSpPr/>
          <p:nvPr/>
        </p:nvSpPr>
        <p:spPr>
          <a:xfrm>
            <a:off x="4844880" y="399096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8"/>
          <p:cNvSpPr/>
          <p:nvPr/>
        </p:nvSpPr>
        <p:spPr>
          <a:xfrm>
            <a:off x="8105760" y="403704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0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圆角矩形 6"/>
          <p:cNvGrpSpPr/>
          <p:nvPr/>
        </p:nvGrpSpPr>
        <p:grpSpPr>
          <a:xfrm>
            <a:off x="1652760" y="2243160"/>
            <a:ext cx="1912680" cy="1908000"/>
            <a:chOff x="1652760" y="2243160"/>
            <a:chExt cx="1912680" cy="1908000"/>
          </a:xfrm>
        </p:grpSpPr>
        <p:pic>
          <p:nvPicPr>
            <p:cNvPr id="1406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652760" y="2243160"/>
              <a:ext cx="191268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Text Box 9"/>
            <p:cNvSpPr/>
            <p:nvPr/>
          </p:nvSpPr>
          <p:spPr>
            <a:xfrm>
              <a:off x="1763640" y="2351160"/>
              <a:ext cx="16887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椭圆 7"/>
          <p:cNvSpPr/>
          <p:nvPr/>
        </p:nvSpPr>
        <p:spPr>
          <a:xfrm>
            <a:off x="3029040" y="3660840"/>
            <a:ext cx="863640" cy="8650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"/>
          <p:cNvSpPr/>
          <p:nvPr/>
        </p:nvSpPr>
        <p:spPr>
          <a:xfrm>
            <a:off x="3257640" y="3789360"/>
            <a:ext cx="444240" cy="523800"/>
          </a:xfrm>
          <a:custGeom>
            <a:avLst/>
            <a:gdLst>
              <a:gd name="textAreaLeft" fmla="*/ 0 w 444240"/>
              <a:gd name="textAreaRight" fmla="*/ 444600 w 4442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文本框 2"/>
          <p:cNvSpPr/>
          <p:nvPr/>
        </p:nvSpPr>
        <p:spPr>
          <a:xfrm>
            <a:off x="6970680" y="29811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文本框 3"/>
          <p:cNvSpPr/>
          <p:nvPr/>
        </p:nvSpPr>
        <p:spPr>
          <a:xfrm>
            <a:off x="6940440" y="3487680"/>
            <a:ext cx="4181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2" name="圆角矩形 22"/>
          <p:cNvGrpSpPr/>
          <p:nvPr/>
        </p:nvGrpSpPr>
        <p:grpSpPr>
          <a:xfrm>
            <a:off x="4383000" y="2243160"/>
            <a:ext cx="1908000" cy="1908000"/>
            <a:chOff x="4383000" y="2243160"/>
            <a:chExt cx="1908000" cy="1908000"/>
          </a:xfrm>
        </p:grpSpPr>
        <p:pic>
          <p:nvPicPr>
            <p:cNvPr id="1413" name="圆角矩形 22" descr=""/>
            <p:cNvPicPr/>
            <p:nvPr/>
          </p:nvPicPr>
          <p:blipFill>
            <a:blip r:embed="rId2"/>
            <a:stretch/>
          </p:blipFill>
          <p:spPr>
            <a:xfrm>
              <a:off x="4383000" y="224316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Text Box 16"/>
            <p:cNvSpPr/>
            <p:nvPr/>
          </p:nvSpPr>
          <p:spPr>
            <a:xfrm>
              <a:off x="4494240" y="2351160"/>
              <a:ext cx="168912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5" name="椭圆 23"/>
          <p:cNvSpPr/>
          <p:nvPr/>
        </p:nvSpPr>
        <p:spPr>
          <a:xfrm>
            <a:off x="5759280" y="3660840"/>
            <a:ext cx="863640" cy="8650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30"/>
          <p:cNvSpPr/>
          <p:nvPr/>
        </p:nvSpPr>
        <p:spPr>
          <a:xfrm>
            <a:off x="5927760" y="3822840"/>
            <a:ext cx="542880" cy="541080"/>
          </a:xfrm>
          <a:custGeom>
            <a:avLst/>
            <a:gdLst>
              <a:gd name="textAreaLeft" fmla="*/ 0 w 542880"/>
              <a:gd name="textAreaRight" fmla="*/ 543240 w 54288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8"/>
          <p:cNvSpPr/>
          <p:nvPr/>
        </p:nvSpPr>
        <p:spPr>
          <a:xfrm>
            <a:off x="1417680" y="471960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8"/>
          <p:cNvSpPr/>
          <p:nvPr/>
        </p:nvSpPr>
        <p:spPr>
          <a:xfrm>
            <a:off x="1781280" y="4222800"/>
            <a:ext cx="149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8"/>
          <p:cNvSpPr/>
          <p:nvPr/>
        </p:nvSpPr>
        <p:spPr>
          <a:xfrm>
            <a:off x="4241880" y="471960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8"/>
          <p:cNvSpPr/>
          <p:nvPr/>
        </p:nvSpPr>
        <p:spPr>
          <a:xfrm>
            <a:off x="4605480" y="4222800"/>
            <a:ext cx="1490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2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6" name="组合 6"/>
          <p:cNvGrpSpPr/>
          <p:nvPr/>
        </p:nvGrpSpPr>
        <p:grpSpPr>
          <a:xfrm>
            <a:off x="1241280" y="2004480"/>
            <a:ext cx="2325960" cy="3961440"/>
            <a:chOff x="1241280" y="2004480"/>
            <a:chExt cx="2325960" cy="3961440"/>
          </a:xfrm>
        </p:grpSpPr>
        <p:sp>
          <p:nvSpPr>
            <p:cNvPr id="1427" name="矩形 7"/>
            <p:cNvSpPr/>
            <p:nvPr/>
          </p:nvSpPr>
          <p:spPr>
            <a:xfrm>
              <a:off x="1241280" y="407988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任意多边形 8"/>
            <p:cNvSpPr/>
            <p:nvPr/>
          </p:nvSpPr>
          <p:spPr>
            <a:xfrm flipV="1">
              <a:off x="1241280" y="200412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9" name="组合 9"/>
          <p:cNvGrpSpPr/>
          <p:nvPr/>
        </p:nvGrpSpPr>
        <p:grpSpPr>
          <a:xfrm>
            <a:off x="6229440" y="2004480"/>
            <a:ext cx="2325600" cy="3961440"/>
            <a:chOff x="6229440" y="2004480"/>
            <a:chExt cx="2325600" cy="3961440"/>
          </a:xfrm>
        </p:grpSpPr>
        <p:sp>
          <p:nvSpPr>
            <p:cNvPr id="1430" name="矩形 10"/>
            <p:cNvSpPr/>
            <p:nvPr/>
          </p:nvSpPr>
          <p:spPr>
            <a:xfrm>
              <a:off x="6229440" y="407988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任意多边形 11"/>
            <p:cNvSpPr/>
            <p:nvPr/>
          </p:nvSpPr>
          <p:spPr>
            <a:xfrm flipV="1">
              <a:off x="6229440" y="200412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2" name="组合 12"/>
          <p:cNvGrpSpPr/>
          <p:nvPr/>
        </p:nvGrpSpPr>
        <p:grpSpPr>
          <a:xfrm>
            <a:off x="3735360" y="2004480"/>
            <a:ext cx="2325600" cy="3961440"/>
            <a:chOff x="3735360" y="2004480"/>
            <a:chExt cx="2325600" cy="3961440"/>
          </a:xfrm>
        </p:grpSpPr>
        <p:sp>
          <p:nvSpPr>
            <p:cNvPr id="1433" name="矩形 13"/>
            <p:cNvSpPr/>
            <p:nvPr/>
          </p:nvSpPr>
          <p:spPr>
            <a:xfrm flipV="1">
              <a:off x="3735360" y="200412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任意多边形 14"/>
            <p:cNvSpPr/>
            <p:nvPr/>
          </p:nvSpPr>
          <p:spPr>
            <a:xfrm>
              <a:off x="3735360" y="363996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组合 15"/>
          <p:cNvGrpSpPr/>
          <p:nvPr/>
        </p:nvGrpSpPr>
        <p:grpSpPr>
          <a:xfrm>
            <a:off x="8723160" y="2004480"/>
            <a:ext cx="2325960" cy="3961440"/>
            <a:chOff x="8723160" y="2004480"/>
            <a:chExt cx="2325960" cy="3961440"/>
          </a:xfrm>
        </p:grpSpPr>
        <p:sp>
          <p:nvSpPr>
            <p:cNvPr id="1436" name="矩形 16"/>
            <p:cNvSpPr/>
            <p:nvPr/>
          </p:nvSpPr>
          <p:spPr>
            <a:xfrm flipV="1">
              <a:off x="8723160" y="200412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任意多边形 17"/>
            <p:cNvSpPr/>
            <p:nvPr/>
          </p:nvSpPr>
          <p:spPr>
            <a:xfrm>
              <a:off x="8723160" y="363996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8" name="Freeform 20"/>
          <p:cNvSpPr/>
          <p:nvPr/>
        </p:nvSpPr>
        <p:spPr>
          <a:xfrm>
            <a:off x="2050920" y="2639880"/>
            <a:ext cx="758880" cy="814680"/>
          </a:xfrm>
          <a:custGeom>
            <a:avLst/>
            <a:gdLst>
              <a:gd name="textAreaLeft" fmla="*/ 0 w 758880"/>
              <a:gd name="textAreaRight" fmla="*/ 759240 w 75888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56" h="60">
                <a:moveTo>
                  <a:pt x="0" y="5"/>
                </a:moveTo>
                <a:cubicBezTo>
                  <a:pt x="5" y="5"/>
                  <a:pt x="5" y="5"/>
                  <a:pt x="5" y="5"/>
                </a:cubicBezTo>
                <a:cubicBezTo>
                  <a:pt x="5" y="54"/>
                  <a:pt x="5" y="54"/>
                  <a:pt x="5" y="54"/>
                </a:cubicBezTo>
                <a:cubicBezTo>
                  <a:pt x="56" y="54"/>
                  <a:pt x="56" y="54"/>
                  <a:pt x="56" y="54"/>
                </a:cubicBezTo>
                <a:cubicBezTo>
                  <a:pt x="56" y="60"/>
                  <a:pt x="56" y="60"/>
                  <a:pt x="56" y="60"/>
                </a:cubicBezTo>
                <a:cubicBezTo>
                  <a:pt x="5" y="60"/>
                  <a:pt x="5" y="60"/>
                  <a:pt x="5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"/>
                  <a:pt x="0" y="5"/>
                  <a:pt x="0" y="5"/>
                </a:cubicBezTo>
                <a:close/>
                <a:moveTo>
                  <a:pt x="8" y="27"/>
                </a:move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5" y="30"/>
                  <a:pt x="18" y="30"/>
                  <a:pt x="22" y="30"/>
                </a:cubicBezTo>
                <a:cubicBezTo>
                  <a:pt x="30" y="30"/>
                  <a:pt x="38" y="30"/>
                  <a:pt x="43" y="12"/>
                </a:cubicBezTo>
                <a:cubicBezTo>
                  <a:pt x="47" y="13"/>
                  <a:pt x="47" y="13"/>
                  <a:pt x="47" y="13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0"/>
                  <a:pt x="44" y="0"/>
                  <a:pt x="44" y="0"/>
                </a:cubicBezTo>
                <a:cubicBezTo>
                  <a:pt x="39" y="5"/>
                  <a:pt x="39" y="5"/>
                  <a:pt x="39" y="5"/>
                </a:cubicBezTo>
                <a:cubicBezTo>
                  <a:pt x="34" y="9"/>
                  <a:pt x="34" y="9"/>
                  <a:pt x="34" y="9"/>
                </a:cubicBezTo>
                <a:cubicBezTo>
                  <a:pt x="38" y="11"/>
                  <a:pt x="38" y="11"/>
                  <a:pt x="38" y="11"/>
                </a:cubicBezTo>
                <a:cubicBezTo>
                  <a:pt x="33" y="24"/>
                  <a:pt x="28" y="24"/>
                  <a:pt x="22" y="24"/>
                </a:cubicBezTo>
                <a:cubicBezTo>
                  <a:pt x="18" y="24"/>
                  <a:pt x="13" y="24"/>
                  <a:pt x="9" y="26"/>
                </a:cubicBezTo>
                <a:cubicBezTo>
                  <a:pt x="9" y="26"/>
                  <a:pt x="9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  <a:moveTo>
                  <a:pt x="40" y="52"/>
                </a:moveTo>
                <a:cubicBezTo>
                  <a:pt x="49" y="52"/>
                  <a:pt x="49" y="52"/>
                  <a:pt x="49" y="52"/>
                </a:cubicBezTo>
                <a:cubicBezTo>
                  <a:pt x="49" y="18"/>
                  <a:pt x="49" y="18"/>
                  <a:pt x="49" y="18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52"/>
                  <a:pt x="40" y="52"/>
                  <a:pt x="40" y="52"/>
                </a:cubicBez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36" y="40"/>
                  <a:pt x="36" y="40"/>
                  <a:pt x="3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52"/>
                  <a:pt x="26" y="52"/>
                  <a:pt x="26" y="52"/>
                </a:cubicBezTo>
                <a:close/>
                <a:moveTo>
                  <a:pt x="13" y="52"/>
                </a:moveTo>
                <a:cubicBezTo>
                  <a:pt x="22" y="52"/>
                  <a:pt x="22" y="52"/>
                  <a:pt x="22" y="52"/>
                </a:cubicBezTo>
                <a:cubicBezTo>
                  <a:pt x="22" y="35"/>
                  <a:pt x="22" y="35"/>
                  <a:pt x="22" y="35"/>
                </a:cubicBezTo>
                <a:cubicBezTo>
                  <a:pt x="13" y="35"/>
                  <a:pt x="13" y="35"/>
                  <a:pt x="13" y="35"/>
                </a:cubicBezTo>
                <a:lnTo>
                  <a:pt x="13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30"/>
          <p:cNvSpPr/>
          <p:nvPr/>
        </p:nvSpPr>
        <p:spPr>
          <a:xfrm>
            <a:off x="6962760" y="2571840"/>
            <a:ext cx="827280" cy="922320"/>
          </a:xfrm>
          <a:custGeom>
            <a:avLst/>
            <a:gdLst>
              <a:gd name="textAreaLeft" fmla="*/ 0 w 827280"/>
              <a:gd name="textAreaRight" fmla="*/ 827640 w 82728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82"/>
          <p:cNvSpPr/>
          <p:nvPr/>
        </p:nvSpPr>
        <p:spPr>
          <a:xfrm>
            <a:off x="4573440" y="4583160"/>
            <a:ext cx="615960" cy="765000"/>
          </a:xfrm>
          <a:custGeom>
            <a:avLst/>
            <a:gdLst>
              <a:gd name="textAreaLeft" fmla="*/ 0 w 615960"/>
              <a:gd name="textAreaRight" fmla="*/ 616320 w 61596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50" h="62">
                <a:moveTo>
                  <a:pt x="27" y="1"/>
                </a:moveTo>
                <a:cubicBezTo>
                  <a:pt x="32" y="18"/>
                  <a:pt x="32" y="18"/>
                  <a:pt x="32" y="18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8" y="23"/>
                  <a:pt x="28" y="23"/>
                  <a:pt x="29" y="24"/>
                </a:cubicBezTo>
                <a:cubicBezTo>
                  <a:pt x="29" y="25"/>
                  <a:pt x="29" y="25"/>
                  <a:pt x="30" y="26"/>
                </a:cubicBezTo>
                <a:cubicBezTo>
                  <a:pt x="50" y="38"/>
                  <a:pt x="50" y="38"/>
                  <a:pt x="50" y="38"/>
                </a:cubicBezTo>
                <a:cubicBezTo>
                  <a:pt x="46" y="42"/>
                  <a:pt x="46" y="42"/>
                  <a:pt x="46" y="42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2"/>
                  <a:pt x="27" y="32"/>
                  <a:pt x="27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23" y="32"/>
                  <a:pt x="23" y="32"/>
                  <a:pt x="23" y="32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38"/>
                  <a:pt x="1" y="38"/>
                  <a:pt x="1" y="38"/>
                </a:cubicBezTo>
                <a:cubicBezTo>
                  <a:pt x="13" y="25"/>
                  <a:pt x="13" y="25"/>
                  <a:pt x="13" y="25"/>
                </a:cubicBezTo>
                <a:cubicBezTo>
                  <a:pt x="18" y="28"/>
                  <a:pt x="18" y="28"/>
                  <a:pt x="18" y="28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6"/>
                </a:cubicBezTo>
                <a:cubicBezTo>
                  <a:pt x="20" y="25"/>
                  <a:pt x="20" y="24"/>
                  <a:pt x="21" y="23"/>
                </a:cubicBezTo>
                <a:cubicBezTo>
                  <a:pt x="21" y="0"/>
                  <a:pt x="21" y="0"/>
                  <a:pt x="21" y="0"/>
                </a:cubicBezTo>
                <a:cubicBezTo>
                  <a:pt x="27" y="1"/>
                  <a:pt x="27" y="1"/>
                  <a:pt x="27" y="1"/>
                </a:cubicBezTo>
                <a:close/>
                <a:moveTo>
                  <a:pt x="4" y="29"/>
                </a:moveTo>
                <a:cubicBezTo>
                  <a:pt x="9" y="23"/>
                  <a:pt x="9" y="23"/>
                  <a:pt x="9" y="23"/>
                </a:cubicBezTo>
                <a:cubicBezTo>
                  <a:pt x="7" y="18"/>
                  <a:pt x="9" y="12"/>
                  <a:pt x="17" y="9"/>
                </a:cubicBezTo>
                <a:cubicBezTo>
                  <a:pt x="16" y="8"/>
                  <a:pt x="17" y="8"/>
                  <a:pt x="16" y="8"/>
                </a:cubicBezTo>
                <a:cubicBezTo>
                  <a:pt x="5" y="11"/>
                  <a:pt x="0" y="22"/>
                  <a:pt x="4" y="29"/>
                </a:cubicBezTo>
                <a:close/>
                <a:moveTo>
                  <a:pt x="33" y="9"/>
                </a:moveTo>
                <a:cubicBezTo>
                  <a:pt x="36" y="16"/>
                  <a:pt x="36" y="16"/>
                  <a:pt x="36" y="16"/>
                </a:cubicBezTo>
                <a:cubicBezTo>
                  <a:pt x="42" y="16"/>
                  <a:pt x="45" y="21"/>
                  <a:pt x="44" y="29"/>
                </a:cubicBezTo>
                <a:cubicBezTo>
                  <a:pt x="45" y="29"/>
                  <a:pt x="45" y="29"/>
                  <a:pt x="45" y="30"/>
                </a:cubicBezTo>
                <a:cubicBezTo>
                  <a:pt x="49" y="18"/>
                  <a:pt x="41" y="9"/>
                  <a:pt x="33" y="9"/>
                </a:cubicBezTo>
                <a:close/>
                <a:moveTo>
                  <a:pt x="25" y="25"/>
                </a:moveTo>
                <a:cubicBezTo>
                  <a:pt x="24" y="24"/>
                  <a:pt x="24" y="25"/>
                  <a:pt x="23" y="25"/>
                </a:cubicBezTo>
                <a:cubicBezTo>
                  <a:pt x="22" y="25"/>
                  <a:pt x="22" y="26"/>
                  <a:pt x="22" y="27"/>
                </a:cubicBezTo>
                <a:cubicBezTo>
                  <a:pt x="22" y="27"/>
                  <a:pt x="22" y="28"/>
                  <a:pt x="23" y="29"/>
                </a:cubicBezTo>
                <a:cubicBezTo>
                  <a:pt x="23" y="29"/>
                  <a:pt x="24" y="29"/>
                  <a:pt x="24" y="30"/>
                </a:cubicBezTo>
                <a:cubicBezTo>
                  <a:pt x="25" y="30"/>
                  <a:pt x="26" y="29"/>
                  <a:pt x="26" y="29"/>
                </a:cubicBezTo>
                <a:cubicBezTo>
                  <a:pt x="27" y="29"/>
                  <a:pt x="27" y="28"/>
                  <a:pt x="27" y="27"/>
                </a:cubicBezTo>
                <a:cubicBezTo>
                  <a:pt x="27" y="27"/>
                  <a:pt x="27" y="26"/>
                  <a:pt x="27" y="25"/>
                </a:cubicBezTo>
                <a:cubicBezTo>
                  <a:pt x="26" y="25"/>
                  <a:pt x="26" y="25"/>
                  <a:pt x="25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组合 21" descr=""/>
          <p:cNvPicPr/>
          <p:nvPr/>
        </p:nvPicPr>
        <p:blipFill>
          <a:blip r:embed="rId1"/>
          <a:stretch/>
        </p:blipFill>
        <p:spPr>
          <a:xfrm>
            <a:off x="9468000" y="4565520"/>
            <a:ext cx="755640" cy="76860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8"/>
          <p:cNvSpPr/>
          <p:nvPr/>
        </p:nvSpPr>
        <p:spPr>
          <a:xfrm>
            <a:off x="1297080" y="480708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TextBox 8"/>
          <p:cNvSpPr/>
          <p:nvPr/>
        </p:nvSpPr>
        <p:spPr>
          <a:xfrm>
            <a:off x="1660680" y="4378320"/>
            <a:ext cx="149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TextBox 8"/>
          <p:cNvSpPr/>
          <p:nvPr/>
        </p:nvSpPr>
        <p:spPr>
          <a:xfrm>
            <a:off x="6318360" y="4807080"/>
            <a:ext cx="22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TextBox 8"/>
          <p:cNvSpPr/>
          <p:nvPr/>
        </p:nvSpPr>
        <p:spPr>
          <a:xfrm>
            <a:off x="6681960" y="437832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8"/>
          <p:cNvSpPr/>
          <p:nvPr/>
        </p:nvSpPr>
        <p:spPr>
          <a:xfrm>
            <a:off x="877104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8"/>
          <p:cNvSpPr/>
          <p:nvPr/>
        </p:nvSpPr>
        <p:spPr>
          <a:xfrm>
            <a:off x="913464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382752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8"/>
          <p:cNvSpPr/>
          <p:nvPr/>
        </p:nvSpPr>
        <p:spPr>
          <a:xfrm>
            <a:off x="419112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6" descr=""/>
          <p:cNvPicPr/>
          <p:nvPr/>
        </p:nvPicPr>
        <p:blipFill>
          <a:blip r:embed="rId1"/>
          <a:stretch/>
        </p:blipFill>
        <p:spPr>
          <a:xfrm>
            <a:off x="5048280" y="2846520"/>
            <a:ext cx="2127240" cy="2158920"/>
          </a:xfrm>
          <a:prstGeom prst="rect">
            <a:avLst/>
          </a:prstGeom>
          <a:ln w="0">
            <a:noFill/>
          </a:ln>
        </p:spPr>
      </p:pic>
      <p:sp>
        <p:nvSpPr>
          <p:cNvPr id="1456" name="椭圆 9"/>
          <p:cNvSpPr/>
          <p:nvPr/>
        </p:nvSpPr>
        <p:spPr>
          <a:xfrm>
            <a:off x="930240" y="3357720"/>
            <a:ext cx="1122480" cy="112212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椭圆 10"/>
          <p:cNvSpPr/>
          <p:nvPr/>
        </p:nvSpPr>
        <p:spPr>
          <a:xfrm>
            <a:off x="2832120" y="3198960"/>
            <a:ext cx="1440000" cy="1439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椭圆 11"/>
          <p:cNvSpPr/>
          <p:nvPr/>
        </p:nvSpPr>
        <p:spPr>
          <a:xfrm>
            <a:off x="8004240" y="3198960"/>
            <a:ext cx="1439640" cy="143964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椭圆 12"/>
          <p:cNvSpPr/>
          <p:nvPr/>
        </p:nvSpPr>
        <p:spPr>
          <a:xfrm>
            <a:off x="9510840" y="4911840"/>
            <a:ext cx="664920" cy="66492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椭圆 13"/>
          <p:cNvSpPr/>
          <p:nvPr/>
        </p:nvSpPr>
        <p:spPr>
          <a:xfrm>
            <a:off x="2060640" y="4910040"/>
            <a:ext cx="664920" cy="6652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椭圆 15"/>
          <p:cNvSpPr/>
          <p:nvPr/>
        </p:nvSpPr>
        <p:spPr>
          <a:xfrm>
            <a:off x="268596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椭圆 16"/>
          <p:cNvSpPr/>
          <p:nvPr/>
        </p:nvSpPr>
        <p:spPr>
          <a:xfrm>
            <a:off x="784224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椭圆 17"/>
          <p:cNvSpPr/>
          <p:nvPr/>
        </p:nvSpPr>
        <p:spPr>
          <a:xfrm>
            <a:off x="10131480" y="3240000"/>
            <a:ext cx="128088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椭圆 18"/>
          <p:cNvSpPr/>
          <p:nvPr/>
        </p:nvSpPr>
        <p:spPr>
          <a:xfrm>
            <a:off x="852480" y="3240000"/>
            <a:ext cx="128124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椭圆 19"/>
          <p:cNvSpPr/>
          <p:nvPr/>
        </p:nvSpPr>
        <p:spPr>
          <a:xfrm>
            <a:off x="197964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椭圆 20"/>
          <p:cNvSpPr/>
          <p:nvPr/>
        </p:nvSpPr>
        <p:spPr>
          <a:xfrm>
            <a:off x="7091280" y="2336760"/>
            <a:ext cx="80820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任意多边形 21"/>
          <p:cNvSpPr/>
          <p:nvPr/>
        </p:nvSpPr>
        <p:spPr>
          <a:xfrm>
            <a:off x="4921200" y="2712960"/>
            <a:ext cx="2374920" cy="237492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376264" h="2376264">
                <a:moveTo>
                  <a:pt x="2375663" y="1176224"/>
                </a:moveTo>
                <a:cubicBezTo>
                  <a:pt x="2375863" y="1180193"/>
                  <a:pt x="2376064" y="1184163"/>
                  <a:pt x="2376264" y="1188132"/>
                </a:cubicBezTo>
                <a:cubicBezTo>
                  <a:pt x="2376264" y="1844319"/>
                  <a:pt x="1844319" y="2376264"/>
                  <a:pt x="1188132" y="2376264"/>
                </a:cubicBezTo>
                <a:cubicBezTo>
                  <a:pt x="531945" y="2376264"/>
                  <a:pt x="0" y="1844319"/>
                  <a:pt x="0" y="1188132"/>
                </a:cubicBezTo>
                <a:cubicBezTo>
                  <a:pt x="0" y="531945"/>
                  <a:pt x="531945" y="0"/>
                  <a:pt x="1188132" y="0"/>
                </a:cubicBezTo>
                <a:cubicBezTo>
                  <a:pt x="1199153" y="557"/>
                  <a:pt x="2152083" y="18159"/>
                  <a:pt x="2152083" y="18159"/>
                </a:cubicBez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1"/>
          <p:cNvSpPr/>
          <p:nvPr/>
        </p:nvSpPr>
        <p:spPr>
          <a:xfrm>
            <a:off x="3203640" y="3600360"/>
            <a:ext cx="720720" cy="641520"/>
          </a:xfrm>
          <a:custGeom>
            <a:avLst/>
            <a:gdLst>
              <a:gd name="textAreaLeft" fmla="*/ 0 w 720720"/>
              <a:gd name="textAreaRight" fmla="*/ 721080 w 72072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91" h="81">
                <a:moveTo>
                  <a:pt x="91" y="17"/>
                </a:moveTo>
                <a:cubicBezTo>
                  <a:pt x="91" y="63"/>
                  <a:pt x="91" y="63"/>
                  <a:pt x="91" y="63"/>
                </a:cubicBezTo>
                <a:cubicBezTo>
                  <a:pt x="91" y="68"/>
                  <a:pt x="89" y="72"/>
                  <a:pt x="86" y="76"/>
                </a:cubicBezTo>
                <a:cubicBezTo>
                  <a:pt x="83" y="79"/>
                  <a:pt x="78" y="81"/>
                  <a:pt x="74" y="81"/>
                </a:cubicBezTo>
                <a:cubicBezTo>
                  <a:pt x="17" y="81"/>
                  <a:pt x="17" y="81"/>
                  <a:pt x="17" y="81"/>
                </a:cubicBezTo>
                <a:cubicBezTo>
                  <a:pt x="13" y="81"/>
                  <a:pt x="8" y="79"/>
                  <a:pt x="5" y="76"/>
                </a:cubicBezTo>
                <a:cubicBezTo>
                  <a:pt x="2" y="72"/>
                  <a:pt x="0" y="68"/>
                  <a:pt x="0" y="6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8"/>
                  <a:pt x="18" y="30"/>
                  <a:pt x="21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22" y="28"/>
                  <a:pt x="21" y="27"/>
                  <a:pt x="21" y="24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3"/>
                  <a:pt x="24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0"/>
                  <a:pt x="33" y="3"/>
                  <a:pt x="33" y="6"/>
                </a:cubicBezTo>
                <a:cubicBezTo>
                  <a:pt x="33" y="12"/>
                  <a:pt x="33" y="12"/>
                  <a:pt x="33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9" y="24"/>
                  <a:pt x="59" y="24"/>
                  <a:pt x="59" y="24"/>
                </a:cubicBezTo>
                <a:cubicBezTo>
                  <a:pt x="59" y="28"/>
                  <a:pt x="61" y="30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6" y="30"/>
                  <a:pt x="67" y="30"/>
                  <a:pt x="67" y="30"/>
                </a:cubicBezTo>
                <a:cubicBezTo>
                  <a:pt x="66" y="28"/>
                  <a:pt x="64" y="27"/>
                  <a:pt x="64" y="24"/>
                </a:cubicBezTo>
                <a:cubicBezTo>
                  <a:pt x="64" y="6"/>
                  <a:pt x="64" y="6"/>
                  <a:pt x="64" y="6"/>
                </a:cubicBezTo>
                <a:cubicBezTo>
                  <a:pt x="64" y="3"/>
                  <a:pt x="67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4" y="0"/>
                  <a:pt x="76" y="3"/>
                  <a:pt x="76" y="6"/>
                </a:cubicBezTo>
                <a:cubicBezTo>
                  <a:pt x="76" y="12"/>
                  <a:pt x="76" y="12"/>
                  <a:pt x="76" y="12"/>
                </a:cubicBezTo>
                <a:cubicBezTo>
                  <a:pt x="86" y="12"/>
                  <a:pt x="86" y="12"/>
                  <a:pt x="86" y="12"/>
                </a:cubicBezTo>
                <a:cubicBezTo>
                  <a:pt x="91" y="12"/>
                  <a:pt x="91" y="12"/>
                  <a:pt x="91" y="12"/>
                </a:cubicBezTo>
                <a:cubicBezTo>
                  <a:pt x="91" y="17"/>
                  <a:pt x="91" y="17"/>
                  <a:pt x="91" y="17"/>
                </a:cubicBezTo>
                <a:close/>
                <a:moveTo>
                  <a:pt x="44" y="68"/>
                </a:moveTo>
                <a:cubicBezTo>
                  <a:pt x="44" y="40"/>
                  <a:pt x="44" y="40"/>
                  <a:pt x="44" y="40"/>
                </a:cubicBezTo>
                <a:cubicBezTo>
                  <a:pt x="39" y="40"/>
                  <a:pt x="39" y="40"/>
                  <a:pt x="39" y="40"/>
                </a:cubicBezTo>
                <a:cubicBezTo>
                  <a:pt x="39" y="40"/>
                  <a:pt x="39" y="41"/>
                  <a:pt x="38" y="42"/>
                </a:cubicBezTo>
                <a:cubicBezTo>
                  <a:pt x="37" y="43"/>
                  <a:pt x="37" y="43"/>
                  <a:pt x="36" y="43"/>
                </a:cubicBezTo>
                <a:cubicBezTo>
                  <a:pt x="36" y="47"/>
                  <a:pt x="36" y="47"/>
                  <a:pt x="36" y="47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8"/>
                  <a:pt x="44" y="68"/>
                  <a:pt x="44" y="68"/>
                </a:cubicBezTo>
                <a:close/>
                <a:moveTo>
                  <a:pt x="54" y="68"/>
                </a:moveTo>
                <a:cubicBezTo>
                  <a:pt x="54" y="40"/>
                  <a:pt x="54" y="40"/>
                  <a:pt x="54" y="40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40"/>
                  <a:pt x="49" y="41"/>
                  <a:pt x="48" y="42"/>
                </a:cubicBezTo>
                <a:cubicBezTo>
                  <a:pt x="47" y="43"/>
                  <a:pt x="47" y="43"/>
                  <a:pt x="46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68"/>
                  <a:pt x="48" y="68"/>
                  <a:pt x="48" y="68"/>
                </a:cubicBezTo>
                <a:cubicBezTo>
                  <a:pt x="54" y="68"/>
                  <a:pt x="54" y="68"/>
                  <a:pt x="54" y="68"/>
                </a:cubicBezTo>
                <a:close/>
                <a:moveTo>
                  <a:pt x="81" y="36"/>
                </a:moveTo>
                <a:cubicBezTo>
                  <a:pt x="10" y="36"/>
                  <a:pt x="10" y="36"/>
                  <a:pt x="10" y="36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5"/>
                  <a:pt x="11" y="67"/>
                  <a:pt x="12" y="69"/>
                </a:cubicBezTo>
                <a:cubicBezTo>
                  <a:pt x="13" y="70"/>
                  <a:pt x="15" y="71"/>
                  <a:pt x="1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6" y="71"/>
                  <a:pt x="78" y="70"/>
                  <a:pt x="79" y="69"/>
                </a:cubicBezTo>
                <a:cubicBezTo>
                  <a:pt x="80" y="67"/>
                  <a:pt x="81" y="65"/>
                  <a:pt x="81" y="63"/>
                </a:cubicBezTo>
                <a:lnTo>
                  <a:pt x="8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23" descr=""/>
          <p:cNvPicPr/>
          <p:nvPr/>
        </p:nvPicPr>
        <p:blipFill>
          <a:blip r:embed="rId2"/>
          <a:stretch/>
        </p:blipFill>
        <p:spPr>
          <a:xfrm>
            <a:off x="8332920" y="3602160"/>
            <a:ext cx="787320" cy="54900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29" descr=""/>
          <p:cNvPicPr/>
          <p:nvPr/>
        </p:nvPicPr>
        <p:blipFill>
          <a:blip r:embed="rId3"/>
          <a:stretch/>
        </p:blipFill>
        <p:spPr>
          <a:xfrm>
            <a:off x="1170000" y="3670200"/>
            <a:ext cx="566640" cy="457200"/>
          </a:xfrm>
          <a:prstGeom prst="rect">
            <a:avLst/>
          </a:prstGeom>
          <a:ln w="0">
            <a:noFill/>
          </a:ln>
        </p:spPr>
      </p:pic>
      <p:sp>
        <p:nvSpPr>
          <p:cNvPr id="1471" name="椭圆 32"/>
          <p:cNvSpPr/>
          <p:nvPr/>
        </p:nvSpPr>
        <p:spPr>
          <a:xfrm>
            <a:off x="10231560" y="3328920"/>
            <a:ext cx="1122120" cy="11224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10"/>
          <p:cNvSpPr/>
          <p:nvPr/>
        </p:nvSpPr>
        <p:spPr>
          <a:xfrm>
            <a:off x="10534680" y="3664080"/>
            <a:ext cx="576360" cy="633240"/>
          </a:xfrm>
          <a:custGeom>
            <a:avLst/>
            <a:gdLst>
              <a:gd name="textAreaLeft" fmla="*/ 0 w 576360"/>
              <a:gd name="textAreaRight" fmla="*/ 576720 w 576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00" h="110">
                <a:moveTo>
                  <a:pt x="23" y="0"/>
                </a:moveTo>
                <a:cubicBezTo>
                  <a:pt x="65" y="0"/>
                  <a:pt x="65" y="0"/>
                  <a:pt x="65" y="0"/>
                </a:cubicBezTo>
                <a:cubicBezTo>
                  <a:pt x="68" y="0"/>
                  <a:pt x="71" y="1"/>
                  <a:pt x="74" y="4"/>
                </a:cubicBezTo>
                <a:cubicBezTo>
                  <a:pt x="76" y="6"/>
                  <a:pt x="77" y="9"/>
                  <a:pt x="77" y="12"/>
                </a:cubicBezTo>
                <a:cubicBezTo>
                  <a:pt x="77" y="35"/>
                  <a:pt x="77" y="35"/>
                  <a:pt x="77" y="35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12"/>
                  <a:pt x="68" y="12"/>
                  <a:pt x="68" y="12"/>
                </a:cubicBezTo>
                <a:cubicBezTo>
                  <a:pt x="68" y="11"/>
                  <a:pt x="68" y="11"/>
                  <a:pt x="67" y="10"/>
                </a:cubicBezTo>
                <a:cubicBezTo>
                  <a:pt x="67" y="10"/>
                  <a:pt x="66" y="9"/>
                  <a:pt x="65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7"/>
                  <a:pt x="28" y="18"/>
                  <a:pt x="28" y="19"/>
                </a:cubicBezTo>
                <a:cubicBezTo>
                  <a:pt x="28" y="21"/>
                  <a:pt x="27" y="23"/>
                  <a:pt x="25" y="24"/>
                </a:cubicBezTo>
                <a:cubicBezTo>
                  <a:pt x="24" y="25"/>
                  <a:pt x="23" y="26"/>
                  <a:pt x="21" y="26"/>
                </a:cubicBezTo>
                <a:cubicBezTo>
                  <a:pt x="20" y="26"/>
                  <a:pt x="19" y="26"/>
                  <a:pt x="18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85"/>
                  <a:pt x="9" y="85"/>
                  <a:pt x="9" y="85"/>
                </a:cubicBezTo>
                <a:cubicBezTo>
                  <a:pt x="9" y="86"/>
                  <a:pt x="10" y="86"/>
                  <a:pt x="10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11" y="87"/>
                  <a:pt x="11" y="88"/>
                  <a:pt x="12" y="88"/>
                </a:cubicBezTo>
                <a:cubicBezTo>
                  <a:pt x="45" y="88"/>
                  <a:pt x="45" y="88"/>
                  <a:pt x="45" y="88"/>
                </a:cubicBezTo>
                <a:cubicBezTo>
                  <a:pt x="44" y="97"/>
                  <a:pt x="44" y="97"/>
                  <a:pt x="44" y="97"/>
                </a:cubicBezTo>
                <a:cubicBezTo>
                  <a:pt x="12" y="97"/>
                  <a:pt x="12" y="97"/>
                  <a:pt x="12" y="97"/>
                </a:cubicBezTo>
                <a:cubicBezTo>
                  <a:pt x="9" y="97"/>
                  <a:pt x="6" y="96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2" y="91"/>
                  <a:pt x="0" y="88"/>
                  <a:pt x="0" y="8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0"/>
                  <a:pt x="0" y="20"/>
                  <a:pt x="0" y="20"/>
                </a:cubicBezTo>
                <a:cubicBezTo>
                  <a:pt x="2" y="19"/>
                  <a:pt x="2" y="19"/>
                  <a:pt x="2" y="19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3" y="0"/>
                  <a:pt x="23" y="0"/>
                </a:cubicBezTo>
                <a:close/>
                <a:moveTo>
                  <a:pt x="90" y="45"/>
                </a:moveTo>
                <a:cubicBezTo>
                  <a:pt x="90" y="43"/>
                  <a:pt x="90" y="43"/>
                  <a:pt x="90" y="43"/>
                </a:cubicBezTo>
                <a:cubicBezTo>
                  <a:pt x="84" y="39"/>
                  <a:pt x="84" y="39"/>
                  <a:pt x="84" y="39"/>
                </a:cubicBezTo>
                <a:cubicBezTo>
                  <a:pt x="75" y="44"/>
                  <a:pt x="75" y="44"/>
                  <a:pt x="75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91" y="52"/>
                  <a:pt x="91" y="52"/>
                  <a:pt x="91" y="52"/>
                </a:cubicBezTo>
                <a:cubicBezTo>
                  <a:pt x="94" y="53"/>
                  <a:pt x="94" y="53"/>
                  <a:pt x="94" y="53"/>
                </a:cubicBezTo>
                <a:cubicBezTo>
                  <a:pt x="92" y="62"/>
                  <a:pt x="88" y="70"/>
                  <a:pt x="82" y="77"/>
                </a:cubicBezTo>
                <a:cubicBezTo>
                  <a:pt x="86" y="81"/>
                  <a:pt x="86" y="81"/>
                  <a:pt x="86" y="81"/>
                </a:cubicBezTo>
                <a:cubicBezTo>
                  <a:pt x="93" y="73"/>
                  <a:pt x="98" y="63"/>
                  <a:pt x="10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98" y="50"/>
                  <a:pt x="98" y="50"/>
                  <a:pt x="98" y="50"/>
                </a:cubicBezTo>
                <a:cubicBezTo>
                  <a:pt x="90" y="45"/>
                  <a:pt x="90" y="45"/>
                  <a:pt x="90" y="45"/>
                </a:cubicBezTo>
                <a:close/>
                <a:moveTo>
                  <a:pt x="74" y="47"/>
                </a:moveTo>
                <a:cubicBezTo>
                  <a:pt x="64" y="58"/>
                  <a:pt x="58" y="70"/>
                  <a:pt x="54" y="84"/>
                </a:cubicBezTo>
                <a:cubicBezTo>
                  <a:pt x="59" y="86"/>
                  <a:pt x="64" y="89"/>
                  <a:pt x="70" y="92"/>
                </a:cubicBezTo>
                <a:cubicBezTo>
                  <a:pt x="78" y="81"/>
                  <a:pt x="85" y="68"/>
                  <a:pt x="90" y="55"/>
                </a:cubicBezTo>
                <a:cubicBezTo>
                  <a:pt x="84" y="52"/>
                  <a:pt x="79" y="50"/>
                  <a:pt x="74" y="47"/>
                </a:cubicBezTo>
                <a:close/>
                <a:moveTo>
                  <a:pt x="52" y="87"/>
                </a:moveTo>
                <a:cubicBezTo>
                  <a:pt x="50" y="103"/>
                  <a:pt x="50" y="103"/>
                  <a:pt x="50" y="103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50" y="108"/>
                  <a:pt x="50" y="108"/>
                  <a:pt x="50" y="108"/>
                </a:cubicBezTo>
                <a:cubicBezTo>
                  <a:pt x="52" y="110"/>
                  <a:pt x="52" y="110"/>
                  <a:pt x="52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68" y="95"/>
                  <a:pt x="68" y="95"/>
                  <a:pt x="68" y="95"/>
                </a:cubicBezTo>
                <a:cubicBezTo>
                  <a:pt x="52" y="87"/>
                  <a:pt x="52" y="87"/>
                  <a:pt x="52" y="87"/>
                </a:cubicBezTo>
                <a:close/>
                <a:moveTo>
                  <a:pt x="18" y="56"/>
                </a:moveTo>
                <a:cubicBezTo>
                  <a:pt x="18" y="60"/>
                  <a:pt x="18" y="60"/>
                  <a:pt x="18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0" y="56"/>
                  <a:pt x="30" y="56"/>
                  <a:pt x="30" y="56"/>
                </a:cubicBezTo>
                <a:cubicBezTo>
                  <a:pt x="18" y="56"/>
                  <a:pt x="18" y="56"/>
                  <a:pt x="18" y="56"/>
                </a:cubicBezTo>
                <a:close/>
                <a:moveTo>
                  <a:pt x="18" y="43"/>
                </a:moveTo>
                <a:cubicBezTo>
                  <a:pt x="18" y="48"/>
                  <a:pt x="18" y="48"/>
                  <a:pt x="18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60" y="43"/>
                  <a:pt x="60" y="43"/>
                  <a:pt x="60" y="43"/>
                </a:cubicBezTo>
                <a:cubicBezTo>
                  <a:pt x="18" y="43"/>
                  <a:pt x="18" y="43"/>
                  <a:pt x="18" y="43"/>
                </a:cubicBezTo>
                <a:close/>
                <a:moveTo>
                  <a:pt x="18" y="31"/>
                </a:moveTo>
                <a:cubicBezTo>
                  <a:pt x="18" y="36"/>
                  <a:pt x="18" y="36"/>
                  <a:pt x="18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0" y="31"/>
                  <a:pt x="60" y="31"/>
                  <a:pt x="60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37" y="19"/>
                </a:moveTo>
                <a:cubicBezTo>
                  <a:pt x="37" y="24"/>
                  <a:pt x="37" y="24"/>
                  <a:pt x="37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9"/>
                  <a:pt x="60" y="19"/>
                  <a:pt x="60" y="19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12" y="21"/>
                </a:moveTo>
                <a:cubicBezTo>
                  <a:pt x="14" y="21"/>
                  <a:pt x="14" y="21"/>
                  <a:pt x="14" y="21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2"/>
                  <a:pt x="19" y="22"/>
                  <a:pt x="20" y="22"/>
                </a:cubicBezTo>
                <a:cubicBezTo>
                  <a:pt x="21" y="22"/>
                  <a:pt x="22" y="21"/>
                  <a:pt x="22" y="20"/>
                </a:cubicBezTo>
                <a:cubicBezTo>
                  <a:pt x="23" y="20"/>
                  <a:pt x="24" y="19"/>
                  <a:pt x="24" y="18"/>
                </a:cubicBezTo>
                <a:cubicBezTo>
                  <a:pt x="24" y="18"/>
                  <a:pt x="24" y="17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6"/>
                  <a:pt x="24" y="16"/>
                  <a:pt x="24" y="16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lnTo>
                  <a:pt x="1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2"/>
          <p:cNvSpPr/>
          <p:nvPr/>
        </p:nvSpPr>
        <p:spPr>
          <a:xfrm>
            <a:off x="2152800" y="5054760"/>
            <a:ext cx="465120" cy="350640"/>
          </a:xfrm>
          <a:custGeom>
            <a:avLst/>
            <a:gdLst>
              <a:gd name="textAreaLeft" fmla="*/ 0 w 465120"/>
              <a:gd name="textAreaRight" fmla="*/ 465480 w 46512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08" h="81">
                <a:moveTo>
                  <a:pt x="3" y="54"/>
                </a:moveTo>
                <a:cubicBezTo>
                  <a:pt x="9" y="52"/>
                  <a:pt x="15" y="49"/>
                  <a:pt x="21" y="47"/>
                </a:cubicBezTo>
                <a:cubicBezTo>
                  <a:pt x="22" y="46"/>
                  <a:pt x="24" y="45"/>
                  <a:pt x="25" y="44"/>
                </a:cubicBezTo>
                <a:cubicBezTo>
                  <a:pt x="35" y="62"/>
                  <a:pt x="35" y="62"/>
                  <a:pt x="35" y="62"/>
                </a:cubicBezTo>
                <a:cubicBezTo>
                  <a:pt x="43" y="44"/>
                  <a:pt x="43" y="44"/>
                  <a:pt x="43" y="44"/>
                </a:cubicBezTo>
                <a:cubicBezTo>
                  <a:pt x="45" y="45"/>
                  <a:pt x="46" y="46"/>
                  <a:pt x="48" y="47"/>
                </a:cubicBezTo>
                <a:cubicBezTo>
                  <a:pt x="60" y="52"/>
                  <a:pt x="60" y="52"/>
                  <a:pt x="60" y="52"/>
                </a:cubicBezTo>
                <a:cubicBezTo>
                  <a:pt x="60" y="51"/>
                  <a:pt x="60" y="51"/>
                  <a:pt x="60" y="51"/>
                </a:cubicBezTo>
                <a:cubicBezTo>
                  <a:pt x="65" y="49"/>
                  <a:pt x="69" y="47"/>
                  <a:pt x="72" y="47"/>
                </a:cubicBezTo>
                <a:cubicBezTo>
                  <a:pt x="74" y="53"/>
                  <a:pt x="78" y="57"/>
                  <a:pt x="83" y="61"/>
                </a:cubicBezTo>
                <a:cubicBezTo>
                  <a:pt x="89" y="57"/>
                  <a:pt x="93" y="52"/>
                  <a:pt x="96" y="47"/>
                </a:cubicBezTo>
                <a:cubicBezTo>
                  <a:pt x="98" y="47"/>
                  <a:pt x="102" y="48"/>
                  <a:pt x="105" y="49"/>
                </a:cubicBezTo>
                <a:cubicBezTo>
                  <a:pt x="108" y="54"/>
                  <a:pt x="108" y="65"/>
                  <a:pt x="108" y="72"/>
                </a:cubicBezTo>
                <a:cubicBezTo>
                  <a:pt x="69" y="72"/>
                  <a:pt x="69" y="72"/>
                  <a:pt x="69" y="72"/>
                </a:cubicBezTo>
                <a:cubicBezTo>
                  <a:pt x="70" y="75"/>
                  <a:pt x="70" y="78"/>
                  <a:pt x="69" y="81"/>
                </a:cubicBezTo>
                <a:cubicBezTo>
                  <a:pt x="46" y="81"/>
                  <a:pt x="23" y="81"/>
                  <a:pt x="0" y="81"/>
                </a:cubicBezTo>
                <a:cubicBezTo>
                  <a:pt x="0" y="68"/>
                  <a:pt x="0" y="59"/>
                  <a:pt x="3" y="54"/>
                </a:cubicBezTo>
                <a:close/>
                <a:moveTo>
                  <a:pt x="73" y="27"/>
                </a:moveTo>
                <a:cubicBezTo>
                  <a:pt x="79" y="28"/>
                  <a:pt x="89" y="27"/>
                  <a:pt x="93" y="25"/>
                </a:cubicBezTo>
                <a:cubicBezTo>
                  <a:pt x="93" y="27"/>
                  <a:pt x="93" y="33"/>
                  <a:pt x="92" y="37"/>
                </a:cubicBezTo>
                <a:cubicBezTo>
                  <a:pt x="91" y="39"/>
                  <a:pt x="90" y="41"/>
                  <a:pt x="88" y="42"/>
                </a:cubicBezTo>
                <a:cubicBezTo>
                  <a:pt x="99" y="42"/>
                  <a:pt x="99" y="42"/>
                  <a:pt x="99" y="42"/>
                </a:cubicBezTo>
                <a:cubicBezTo>
                  <a:pt x="99" y="42"/>
                  <a:pt x="98" y="34"/>
                  <a:pt x="98" y="32"/>
                </a:cubicBezTo>
                <a:cubicBezTo>
                  <a:pt x="102" y="3"/>
                  <a:pt x="64" y="3"/>
                  <a:pt x="69" y="32"/>
                </a:cubicBezTo>
                <a:cubicBezTo>
                  <a:pt x="69" y="34"/>
                  <a:pt x="68" y="42"/>
                  <a:pt x="68" y="42"/>
                </a:cubicBezTo>
                <a:cubicBezTo>
                  <a:pt x="78" y="42"/>
                  <a:pt x="78" y="42"/>
                  <a:pt x="78" y="42"/>
                </a:cubicBezTo>
                <a:cubicBezTo>
                  <a:pt x="77" y="41"/>
                  <a:pt x="76" y="39"/>
                  <a:pt x="75" y="37"/>
                </a:cubicBezTo>
                <a:cubicBezTo>
                  <a:pt x="73" y="34"/>
                  <a:pt x="73" y="30"/>
                  <a:pt x="73" y="27"/>
                </a:cubicBezTo>
                <a:cubicBezTo>
                  <a:pt x="73" y="27"/>
                  <a:pt x="73" y="27"/>
                  <a:pt x="73" y="27"/>
                </a:cubicBezTo>
                <a:close/>
                <a:moveTo>
                  <a:pt x="21" y="31"/>
                </a:moveTo>
                <a:cubicBezTo>
                  <a:pt x="21" y="25"/>
                  <a:pt x="21" y="21"/>
                  <a:pt x="22" y="16"/>
                </a:cubicBezTo>
                <a:cubicBezTo>
                  <a:pt x="29" y="12"/>
                  <a:pt x="37" y="18"/>
                  <a:pt x="46" y="16"/>
                </a:cubicBezTo>
                <a:cubicBezTo>
                  <a:pt x="47" y="20"/>
                  <a:pt x="48" y="25"/>
                  <a:pt x="47" y="31"/>
                </a:cubicBezTo>
                <a:cubicBezTo>
                  <a:pt x="47" y="31"/>
                  <a:pt x="51" y="28"/>
                  <a:pt x="52" y="25"/>
                </a:cubicBezTo>
                <a:cubicBezTo>
                  <a:pt x="52" y="22"/>
                  <a:pt x="51" y="10"/>
                  <a:pt x="50" y="8"/>
                </a:cubicBezTo>
                <a:cubicBezTo>
                  <a:pt x="45" y="0"/>
                  <a:pt x="25" y="0"/>
                  <a:pt x="19" y="7"/>
                </a:cubicBezTo>
                <a:cubicBezTo>
                  <a:pt x="18" y="9"/>
                  <a:pt x="16" y="25"/>
                  <a:pt x="18" y="28"/>
                </a:cubicBezTo>
                <a:cubicBezTo>
                  <a:pt x="19" y="30"/>
                  <a:pt x="21" y="31"/>
                  <a:pt x="2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16"/>
          <p:cNvSpPr/>
          <p:nvPr/>
        </p:nvSpPr>
        <p:spPr>
          <a:xfrm>
            <a:off x="9612360" y="5025960"/>
            <a:ext cx="433440" cy="432000"/>
          </a:xfrm>
          <a:custGeom>
            <a:avLst/>
            <a:gdLst>
              <a:gd name="textAreaLeft" fmla="*/ 0 w 433440"/>
              <a:gd name="textAreaRight" fmla="*/ 433800 w 433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3" h="83">
                <a:moveTo>
                  <a:pt x="42" y="0"/>
                </a:moveTo>
                <a:cubicBezTo>
                  <a:pt x="53" y="0"/>
                  <a:pt x="64" y="5"/>
                  <a:pt x="71" y="12"/>
                </a:cubicBezTo>
                <a:cubicBezTo>
                  <a:pt x="79" y="20"/>
                  <a:pt x="83" y="30"/>
                  <a:pt x="83" y="41"/>
                </a:cubicBezTo>
                <a:cubicBezTo>
                  <a:pt x="83" y="53"/>
                  <a:pt x="79" y="63"/>
                  <a:pt x="71" y="71"/>
                </a:cubicBezTo>
                <a:cubicBezTo>
                  <a:pt x="64" y="78"/>
                  <a:pt x="53" y="83"/>
                  <a:pt x="42" y="83"/>
                </a:cubicBezTo>
                <a:cubicBezTo>
                  <a:pt x="30" y="83"/>
                  <a:pt x="20" y="78"/>
                  <a:pt x="12" y="71"/>
                </a:cubicBezTo>
                <a:cubicBezTo>
                  <a:pt x="5" y="63"/>
                  <a:pt x="0" y="53"/>
                  <a:pt x="0" y="41"/>
                </a:cubicBezTo>
                <a:cubicBezTo>
                  <a:pt x="0" y="30"/>
                  <a:pt x="5" y="20"/>
                  <a:pt x="12" y="12"/>
                </a:cubicBezTo>
                <a:cubicBezTo>
                  <a:pt x="20" y="5"/>
                  <a:pt x="30" y="0"/>
                  <a:pt x="42" y="0"/>
                </a:cubicBezTo>
                <a:close/>
                <a:moveTo>
                  <a:pt x="58" y="46"/>
                </a:moveTo>
                <a:cubicBezTo>
                  <a:pt x="62" y="44"/>
                  <a:pt x="63" y="40"/>
                  <a:pt x="59" y="37"/>
                </a:cubicBezTo>
                <a:cubicBezTo>
                  <a:pt x="55" y="35"/>
                  <a:pt x="51" y="33"/>
                  <a:pt x="48" y="31"/>
                </a:cubicBezTo>
                <a:cubicBezTo>
                  <a:pt x="44" y="29"/>
                  <a:pt x="41" y="27"/>
                  <a:pt x="37" y="25"/>
                </a:cubicBezTo>
                <a:cubicBezTo>
                  <a:pt x="33" y="22"/>
                  <a:pt x="29" y="24"/>
                  <a:pt x="29" y="29"/>
                </a:cubicBezTo>
                <a:cubicBezTo>
                  <a:pt x="29" y="33"/>
                  <a:pt x="29" y="37"/>
                  <a:pt x="29" y="41"/>
                </a:cubicBezTo>
                <a:cubicBezTo>
                  <a:pt x="29" y="45"/>
                  <a:pt x="29" y="49"/>
                  <a:pt x="29" y="53"/>
                </a:cubicBezTo>
                <a:cubicBezTo>
                  <a:pt x="29" y="58"/>
                  <a:pt x="32" y="61"/>
                  <a:pt x="36" y="59"/>
                </a:cubicBezTo>
                <a:cubicBezTo>
                  <a:pt x="40" y="56"/>
                  <a:pt x="44" y="54"/>
                  <a:pt x="48" y="52"/>
                </a:cubicBezTo>
                <a:cubicBezTo>
                  <a:pt x="51" y="50"/>
                  <a:pt x="55" y="48"/>
                  <a:pt x="58" y="46"/>
                </a:cubicBezTo>
                <a:close/>
                <a:moveTo>
                  <a:pt x="61" y="23"/>
                </a:moveTo>
                <a:cubicBezTo>
                  <a:pt x="56" y="18"/>
                  <a:pt x="49" y="15"/>
                  <a:pt x="42" y="15"/>
                </a:cubicBezTo>
                <a:cubicBezTo>
                  <a:pt x="34" y="15"/>
                  <a:pt x="28" y="18"/>
                  <a:pt x="23" y="23"/>
                </a:cubicBezTo>
                <a:cubicBezTo>
                  <a:pt x="18" y="27"/>
                  <a:pt x="15" y="34"/>
                  <a:pt x="15" y="41"/>
                </a:cubicBezTo>
                <a:cubicBezTo>
                  <a:pt x="15" y="49"/>
                  <a:pt x="18" y="56"/>
                  <a:pt x="23" y="60"/>
                </a:cubicBezTo>
                <a:cubicBezTo>
                  <a:pt x="28" y="65"/>
                  <a:pt x="34" y="68"/>
                  <a:pt x="42" y="68"/>
                </a:cubicBezTo>
                <a:cubicBezTo>
                  <a:pt x="49" y="68"/>
                  <a:pt x="56" y="65"/>
                  <a:pt x="61" y="60"/>
                </a:cubicBezTo>
                <a:cubicBezTo>
                  <a:pt x="66" y="56"/>
                  <a:pt x="69" y="49"/>
                  <a:pt x="69" y="41"/>
                </a:cubicBezTo>
                <a:cubicBezTo>
                  <a:pt x="69" y="34"/>
                  <a:pt x="66" y="27"/>
                  <a:pt x="6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5" name="组合 64"/>
          <p:cNvGrpSpPr/>
          <p:nvPr/>
        </p:nvGrpSpPr>
        <p:grpSpPr>
          <a:xfrm>
            <a:off x="7174080" y="2411280"/>
            <a:ext cx="664920" cy="666720"/>
            <a:chOff x="7174080" y="2411280"/>
            <a:chExt cx="664920" cy="666720"/>
          </a:xfrm>
        </p:grpSpPr>
        <p:sp>
          <p:nvSpPr>
            <p:cNvPr id="1476" name="椭圆 14"/>
            <p:cNvSpPr/>
            <p:nvPr/>
          </p:nvSpPr>
          <p:spPr>
            <a:xfrm>
              <a:off x="7174080" y="2411280"/>
              <a:ext cx="664920" cy="6667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9"/>
            <p:cNvSpPr/>
            <p:nvPr/>
          </p:nvSpPr>
          <p:spPr>
            <a:xfrm>
              <a:off x="7238160" y="2495160"/>
              <a:ext cx="527040" cy="505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13" h="108">
                  <a:moveTo>
                    <a:pt x="57" y="42"/>
                  </a:moveTo>
                  <a:cubicBezTo>
                    <a:pt x="63" y="42"/>
                    <a:pt x="68" y="47"/>
                    <a:pt x="68" y="54"/>
                  </a:cubicBezTo>
                  <a:cubicBezTo>
                    <a:pt x="68" y="60"/>
                    <a:pt x="63" y="65"/>
                    <a:pt x="57" y="65"/>
                  </a:cubicBezTo>
                  <a:cubicBezTo>
                    <a:pt x="50" y="65"/>
                    <a:pt x="45" y="60"/>
                    <a:pt x="45" y="54"/>
                  </a:cubicBezTo>
                  <a:cubicBezTo>
                    <a:pt x="45" y="47"/>
                    <a:pt x="50" y="42"/>
                    <a:pt x="57" y="42"/>
                  </a:cubicBezTo>
                  <a:close/>
                  <a:moveTo>
                    <a:pt x="48" y="32"/>
                  </a:moveTo>
                  <a:cubicBezTo>
                    <a:pt x="36" y="32"/>
                    <a:pt x="26" y="34"/>
                    <a:pt x="19" y="37"/>
                  </a:cubicBezTo>
                  <a:cubicBezTo>
                    <a:pt x="7" y="41"/>
                    <a:pt x="0" y="47"/>
                    <a:pt x="0" y="54"/>
                  </a:cubicBezTo>
                  <a:cubicBezTo>
                    <a:pt x="0" y="60"/>
                    <a:pt x="7" y="66"/>
                    <a:pt x="17" y="70"/>
                  </a:cubicBezTo>
                  <a:cubicBezTo>
                    <a:pt x="13" y="80"/>
                    <a:pt x="12" y="89"/>
                    <a:pt x="17" y="93"/>
                  </a:cubicBezTo>
                  <a:cubicBezTo>
                    <a:pt x="22" y="98"/>
                    <a:pt x="31" y="98"/>
                    <a:pt x="42" y="92"/>
                  </a:cubicBezTo>
                  <a:cubicBezTo>
                    <a:pt x="48" y="89"/>
                    <a:pt x="55" y="84"/>
                    <a:pt x="62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4" y="81"/>
                    <a:pt x="41" y="83"/>
                    <a:pt x="38" y="84"/>
                  </a:cubicBezTo>
                  <a:cubicBezTo>
                    <a:pt x="31" y="88"/>
                    <a:pt x="25" y="89"/>
                    <a:pt x="23" y="87"/>
                  </a:cubicBezTo>
                  <a:cubicBezTo>
                    <a:pt x="21" y="85"/>
                    <a:pt x="23" y="80"/>
                    <a:pt x="26" y="73"/>
                  </a:cubicBezTo>
                  <a:cubicBezTo>
                    <a:pt x="26" y="73"/>
                    <a:pt x="26" y="73"/>
                    <a:pt x="26" y="73"/>
                  </a:cubicBezTo>
                  <a:cubicBezTo>
                    <a:pt x="35" y="75"/>
                    <a:pt x="45" y="76"/>
                    <a:pt x="57" y="76"/>
                  </a:cubicBezTo>
                  <a:cubicBezTo>
                    <a:pt x="64" y="76"/>
                    <a:pt x="71" y="75"/>
                    <a:pt x="77" y="74"/>
                  </a:cubicBezTo>
                  <a:cubicBezTo>
                    <a:pt x="78" y="77"/>
                    <a:pt x="78" y="80"/>
                    <a:pt x="79" y="82"/>
                  </a:cubicBezTo>
                  <a:cubicBezTo>
                    <a:pt x="79" y="90"/>
                    <a:pt x="79" y="95"/>
                    <a:pt x="76" y="96"/>
                  </a:cubicBezTo>
                  <a:cubicBezTo>
                    <a:pt x="74" y="98"/>
                    <a:pt x="69" y="95"/>
                    <a:pt x="64" y="89"/>
                  </a:cubicBezTo>
                  <a:cubicBezTo>
                    <a:pt x="62" y="88"/>
                    <a:pt x="61" y="86"/>
                    <a:pt x="60" y="84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4" y="91"/>
                    <a:pt x="56" y="93"/>
                    <a:pt x="57" y="95"/>
                  </a:cubicBezTo>
                  <a:cubicBezTo>
                    <a:pt x="65" y="104"/>
                    <a:pt x="74" y="108"/>
                    <a:pt x="80" y="105"/>
                  </a:cubicBezTo>
                  <a:cubicBezTo>
                    <a:pt x="86" y="102"/>
                    <a:pt x="89" y="93"/>
                    <a:pt x="88" y="81"/>
                  </a:cubicBezTo>
                  <a:cubicBezTo>
                    <a:pt x="87" y="79"/>
                    <a:pt x="87" y="76"/>
                    <a:pt x="86" y="73"/>
                  </a:cubicBezTo>
                  <a:cubicBezTo>
                    <a:pt x="89" y="72"/>
                    <a:pt x="92" y="71"/>
                    <a:pt x="95" y="70"/>
                  </a:cubicBezTo>
                  <a:cubicBezTo>
                    <a:pt x="106" y="67"/>
                    <a:pt x="113" y="61"/>
                    <a:pt x="113" y="54"/>
                  </a:cubicBezTo>
                  <a:cubicBezTo>
                    <a:pt x="113" y="47"/>
                    <a:pt x="106" y="41"/>
                    <a:pt x="95" y="37"/>
                  </a:cubicBezTo>
                  <a:cubicBezTo>
                    <a:pt x="88" y="35"/>
                    <a:pt x="80" y="33"/>
                    <a:pt x="70" y="32"/>
                  </a:cubicBezTo>
                  <a:cubicBezTo>
                    <a:pt x="69" y="31"/>
                    <a:pt x="69" y="29"/>
                    <a:pt x="68" y="28"/>
                  </a:cubicBezTo>
                  <a:cubicBezTo>
                    <a:pt x="70" y="26"/>
                    <a:pt x="73" y="24"/>
                    <a:pt x="76" y="23"/>
                  </a:cubicBezTo>
                  <a:cubicBezTo>
                    <a:pt x="83" y="20"/>
                    <a:pt x="88" y="18"/>
                    <a:pt x="90" y="20"/>
                  </a:cubicBezTo>
                  <a:cubicBezTo>
                    <a:pt x="92" y="22"/>
                    <a:pt x="91" y="27"/>
                    <a:pt x="88" y="33"/>
                  </a:cubicBezTo>
                  <a:cubicBezTo>
                    <a:pt x="97" y="35"/>
                    <a:pt x="97" y="35"/>
                    <a:pt x="97" y="35"/>
                  </a:cubicBezTo>
                  <a:cubicBezTo>
                    <a:pt x="101" y="26"/>
                    <a:pt x="101" y="18"/>
                    <a:pt x="96" y="14"/>
                  </a:cubicBezTo>
                  <a:cubicBezTo>
                    <a:pt x="91" y="9"/>
                    <a:pt x="82" y="10"/>
                    <a:pt x="72" y="15"/>
                  </a:cubicBezTo>
                  <a:cubicBezTo>
                    <a:pt x="69" y="16"/>
                    <a:pt x="66" y="18"/>
                    <a:pt x="63" y="20"/>
                  </a:cubicBezTo>
                  <a:cubicBezTo>
                    <a:pt x="60" y="17"/>
                    <a:pt x="58" y="15"/>
                    <a:pt x="56" y="12"/>
                  </a:cubicBezTo>
                  <a:cubicBezTo>
                    <a:pt x="48" y="4"/>
                    <a:pt x="39" y="0"/>
                    <a:pt x="33" y="3"/>
                  </a:cubicBezTo>
                  <a:cubicBezTo>
                    <a:pt x="27" y="6"/>
                    <a:pt x="24" y="14"/>
                    <a:pt x="26" y="26"/>
                  </a:cubicBezTo>
                  <a:cubicBezTo>
                    <a:pt x="26" y="27"/>
                    <a:pt x="26" y="28"/>
                    <a:pt x="26" y="29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5" y="27"/>
                    <a:pt x="35" y="26"/>
                    <a:pt x="34" y="25"/>
                  </a:cubicBezTo>
                  <a:cubicBezTo>
                    <a:pt x="34" y="17"/>
                    <a:pt x="34" y="12"/>
                    <a:pt x="37" y="11"/>
                  </a:cubicBezTo>
                  <a:cubicBezTo>
                    <a:pt x="39" y="10"/>
                    <a:pt x="44" y="13"/>
                    <a:pt x="49" y="18"/>
                  </a:cubicBezTo>
                  <a:cubicBezTo>
                    <a:pt x="51" y="20"/>
                    <a:pt x="53" y="23"/>
                    <a:pt x="55" y="25"/>
                  </a:cubicBezTo>
                  <a:cubicBezTo>
                    <a:pt x="53" y="27"/>
                    <a:pt x="50" y="30"/>
                    <a:pt x="48" y="32"/>
                  </a:cubicBezTo>
                  <a:close/>
                  <a:moveTo>
                    <a:pt x="75" y="42"/>
                  </a:moveTo>
                  <a:cubicBezTo>
                    <a:pt x="82" y="43"/>
                    <a:pt x="87" y="44"/>
                    <a:pt x="92" y="45"/>
                  </a:cubicBezTo>
                  <a:cubicBezTo>
                    <a:pt x="99" y="48"/>
                    <a:pt x="104" y="51"/>
                    <a:pt x="104" y="54"/>
                  </a:cubicBezTo>
                  <a:cubicBezTo>
                    <a:pt x="104" y="56"/>
                    <a:pt x="99" y="59"/>
                    <a:pt x="92" y="62"/>
                  </a:cubicBezTo>
                  <a:cubicBezTo>
                    <a:pt x="89" y="63"/>
                    <a:pt x="87" y="63"/>
                    <a:pt x="84" y="64"/>
                  </a:cubicBezTo>
                  <a:cubicBezTo>
                    <a:pt x="82" y="58"/>
                    <a:pt x="80" y="51"/>
                    <a:pt x="77" y="44"/>
                  </a:cubicBezTo>
                  <a:cubicBezTo>
                    <a:pt x="76" y="44"/>
                    <a:pt x="76" y="43"/>
                    <a:pt x="75" y="42"/>
                  </a:cubicBezTo>
                  <a:close/>
                  <a:moveTo>
                    <a:pt x="75" y="66"/>
                  </a:moveTo>
                  <a:cubicBezTo>
                    <a:pt x="73" y="60"/>
                    <a:pt x="71" y="54"/>
                    <a:pt x="69" y="48"/>
                  </a:cubicBezTo>
                  <a:cubicBezTo>
                    <a:pt x="67" y="46"/>
                    <a:pt x="66" y="43"/>
                    <a:pt x="65" y="41"/>
                  </a:cubicBezTo>
                  <a:cubicBezTo>
                    <a:pt x="62" y="41"/>
                    <a:pt x="59" y="41"/>
                    <a:pt x="57" y="41"/>
                  </a:cubicBezTo>
                  <a:cubicBezTo>
                    <a:pt x="55" y="41"/>
                    <a:pt x="53" y="41"/>
                    <a:pt x="51" y="41"/>
                  </a:cubicBezTo>
                  <a:cubicBezTo>
                    <a:pt x="50" y="42"/>
                    <a:pt x="49" y="43"/>
                    <a:pt x="47" y="44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1" y="51"/>
                    <a:pt x="35" y="58"/>
                    <a:pt x="31" y="64"/>
                  </a:cubicBezTo>
                  <a:cubicBezTo>
                    <a:pt x="38" y="66"/>
                    <a:pt x="47" y="67"/>
                    <a:pt x="57" y="67"/>
                  </a:cubicBezTo>
                  <a:cubicBezTo>
                    <a:pt x="63" y="67"/>
                    <a:pt x="69" y="66"/>
                    <a:pt x="75" y="66"/>
                  </a:cubicBezTo>
                  <a:close/>
                  <a:moveTo>
                    <a:pt x="22" y="62"/>
                  </a:moveTo>
                  <a:cubicBezTo>
                    <a:pt x="22" y="62"/>
                    <a:pt x="22" y="62"/>
                    <a:pt x="22" y="62"/>
                  </a:cubicBezTo>
                  <a:cubicBezTo>
                    <a:pt x="14" y="59"/>
                    <a:pt x="9" y="56"/>
                    <a:pt x="9" y="54"/>
                  </a:cubicBezTo>
                  <a:cubicBezTo>
                    <a:pt x="9" y="51"/>
                    <a:pt x="14" y="48"/>
                    <a:pt x="22" y="45"/>
                  </a:cubicBezTo>
                  <a:cubicBezTo>
                    <a:pt x="26" y="44"/>
                    <a:pt x="31" y="43"/>
                    <a:pt x="37" y="42"/>
                  </a:cubicBezTo>
                  <a:cubicBezTo>
                    <a:pt x="31" y="49"/>
                    <a:pt x="26" y="56"/>
                    <a:pt x="22" y="62"/>
                  </a:cubicBezTo>
                  <a:close/>
                  <a:moveTo>
                    <a:pt x="64" y="50"/>
                  </a:moveTo>
                  <a:cubicBezTo>
                    <a:pt x="63" y="55"/>
                    <a:pt x="61" y="59"/>
                    <a:pt x="57" y="62"/>
                  </a:cubicBezTo>
                  <a:cubicBezTo>
                    <a:pt x="63" y="62"/>
                    <a:pt x="66" y="55"/>
                    <a:pt x="64" y="50"/>
                  </a:cubicBezTo>
                  <a:close/>
                  <a:moveTo>
                    <a:pt x="49" y="57"/>
                  </a:moveTo>
                  <a:cubicBezTo>
                    <a:pt x="49" y="55"/>
                    <a:pt x="50" y="54"/>
                    <a:pt x="50" y="53"/>
                  </a:cubicBezTo>
                  <a:cubicBezTo>
                    <a:pt x="49" y="52"/>
                    <a:pt x="49" y="52"/>
                    <a:pt x="49" y="52"/>
                  </a:cubicBezTo>
                  <a:cubicBezTo>
                    <a:pt x="48" y="54"/>
                    <a:pt x="48" y="55"/>
                    <a:pt x="49" y="57"/>
                  </a:cubicBezTo>
                  <a:close/>
                  <a:moveTo>
                    <a:pt x="49" y="50"/>
                  </a:moveTo>
                  <a:cubicBezTo>
                    <a:pt x="51" y="52"/>
                    <a:pt x="51" y="52"/>
                    <a:pt x="51" y="52"/>
                  </a:cubicBezTo>
                  <a:cubicBezTo>
                    <a:pt x="53" y="50"/>
                    <a:pt x="55" y="49"/>
                    <a:pt x="57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3" y="45"/>
                    <a:pt x="50" y="47"/>
                    <a:pt x="49" y="50"/>
                  </a:cubicBezTo>
                  <a:close/>
                  <a:moveTo>
                    <a:pt x="58" y="45"/>
                  </a:moveTo>
                  <a:cubicBezTo>
                    <a:pt x="58" y="47"/>
                    <a:pt x="58" y="47"/>
                    <a:pt x="58" y="47"/>
                  </a:cubicBezTo>
                  <a:cubicBezTo>
                    <a:pt x="59" y="46"/>
                    <a:pt x="59" y="46"/>
                    <a:pt x="60" y="46"/>
                  </a:cubicBezTo>
                  <a:cubicBezTo>
                    <a:pt x="59" y="45"/>
                    <a:pt x="58" y="45"/>
                    <a:pt x="58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8" name="任意多边形 40"/>
          <p:cNvSpPr/>
          <p:nvPr/>
        </p:nvSpPr>
        <p:spPr>
          <a:xfrm>
            <a:off x="21319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任意多边形 41"/>
          <p:cNvSpPr/>
          <p:nvPr/>
        </p:nvSpPr>
        <p:spPr>
          <a:xfrm>
            <a:off x="4398840" y="3892680"/>
            <a:ext cx="54000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任意多边形 42"/>
          <p:cNvSpPr/>
          <p:nvPr/>
        </p:nvSpPr>
        <p:spPr>
          <a:xfrm>
            <a:off x="729468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任意多边形 43"/>
          <p:cNvSpPr/>
          <p:nvPr/>
        </p:nvSpPr>
        <p:spPr>
          <a:xfrm>
            <a:off x="95551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任意多边形 44"/>
          <p:cNvSpPr/>
          <p:nvPr/>
        </p:nvSpPr>
        <p:spPr>
          <a:xfrm>
            <a:off x="98330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任意多边形 45"/>
          <p:cNvSpPr/>
          <p:nvPr/>
        </p:nvSpPr>
        <p:spPr>
          <a:xfrm>
            <a:off x="23972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椭圆 46"/>
          <p:cNvSpPr/>
          <p:nvPr/>
        </p:nvSpPr>
        <p:spPr>
          <a:xfrm>
            <a:off x="942516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8"/>
          <p:cNvSpPr/>
          <p:nvPr/>
        </p:nvSpPr>
        <p:spPr>
          <a:xfrm>
            <a:off x="268128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8"/>
          <p:cNvSpPr/>
          <p:nvPr/>
        </p:nvSpPr>
        <p:spPr>
          <a:xfrm>
            <a:off x="733752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8"/>
          <p:cNvSpPr/>
          <p:nvPr/>
        </p:nvSpPr>
        <p:spPr>
          <a:xfrm>
            <a:off x="7956720" y="2136600"/>
            <a:ext cx="22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89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2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17"/>
          <p:cNvSpPr/>
          <p:nvPr/>
        </p:nvSpPr>
        <p:spPr>
          <a:xfrm>
            <a:off x="5764320" y="3371760"/>
            <a:ext cx="1657080" cy="16304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Freeform 18"/>
          <p:cNvSpPr/>
          <p:nvPr/>
        </p:nvSpPr>
        <p:spPr>
          <a:xfrm>
            <a:off x="4253040" y="3478320"/>
            <a:ext cx="1449360" cy="14158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9"/>
          <p:cNvSpPr/>
          <p:nvPr/>
        </p:nvSpPr>
        <p:spPr>
          <a:xfrm>
            <a:off x="3054240" y="3603600"/>
            <a:ext cx="1149480" cy="116532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11"/>
          <p:cNvSpPr/>
          <p:nvPr/>
        </p:nvSpPr>
        <p:spPr>
          <a:xfrm>
            <a:off x="2079720" y="2097000"/>
            <a:ext cx="2654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"/>
          <p:cNvSpPr/>
          <p:nvPr/>
        </p:nvSpPr>
        <p:spPr>
          <a:xfrm>
            <a:off x="7191360" y="3159000"/>
            <a:ext cx="2084400" cy="2052720"/>
          </a:xfrm>
          <a:prstGeom prst="pi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11"/>
          <p:cNvSpPr/>
          <p:nvPr/>
        </p:nvSpPr>
        <p:spPr>
          <a:xfrm>
            <a:off x="3068640" y="5405400"/>
            <a:ext cx="26557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TextBox 11"/>
          <p:cNvSpPr/>
          <p:nvPr/>
        </p:nvSpPr>
        <p:spPr>
          <a:xfrm>
            <a:off x="4894200" y="2097000"/>
            <a:ext cx="2656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0" name="直接箭头连接符 14"/>
          <p:cNvCxnSpPr/>
          <p:nvPr/>
        </p:nvCxnSpPr>
        <p:spPr>
          <a:xfrm flipV="1">
            <a:off x="3392280" y="3052080"/>
            <a:ext cx="1080" cy="64836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1" name="直接箭头连接符 15"/>
          <p:cNvCxnSpPr/>
          <p:nvPr/>
        </p:nvCxnSpPr>
        <p:spPr>
          <a:xfrm flipV="1">
            <a:off x="6222600" y="2863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2" name="直接箭头连接符 16"/>
          <p:cNvCxnSpPr/>
          <p:nvPr/>
        </p:nvCxnSpPr>
        <p:spPr>
          <a:xfrm>
            <a:off x="4395600" y="4762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3" name="直接箭头连接符 17"/>
          <p:cNvCxnSpPr/>
          <p:nvPr/>
        </p:nvCxnSpPr>
        <p:spPr>
          <a:xfrm>
            <a:off x="7335360" y="5046840"/>
            <a:ext cx="1080" cy="6451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sp>
        <p:nvSpPr>
          <p:cNvPr id="1504" name="椭圆 18"/>
          <p:cNvSpPr/>
          <p:nvPr/>
        </p:nvSpPr>
        <p:spPr>
          <a:xfrm>
            <a:off x="3336840" y="370044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椭圆 19"/>
          <p:cNvSpPr/>
          <p:nvPr/>
        </p:nvSpPr>
        <p:spPr>
          <a:xfrm>
            <a:off x="4334040" y="4668840"/>
            <a:ext cx="125280" cy="12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椭圆 20"/>
          <p:cNvSpPr/>
          <p:nvPr/>
        </p:nvSpPr>
        <p:spPr>
          <a:xfrm>
            <a:off x="6161040" y="348300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椭圆 21"/>
          <p:cNvSpPr/>
          <p:nvPr/>
        </p:nvSpPr>
        <p:spPr>
          <a:xfrm>
            <a:off x="7275600" y="5003640"/>
            <a:ext cx="125280" cy="12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11"/>
          <p:cNvSpPr/>
          <p:nvPr/>
        </p:nvSpPr>
        <p:spPr>
          <a:xfrm>
            <a:off x="6022800" y="5405400"/>
            <a:ext cx="26560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598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9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00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22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636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637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642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64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648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649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654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8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9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1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75"/>
          <p:cNvSpPr/>
          <p:nvPr/>
        </p:nvSpPr>
        <p:spPr>
          <a:xfrm>
            <a:off x="2757600" y="223200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圆角矩形 7"/>
          <p:cNvSpPr/>
          <p:nvPr/>
        </p:nvSpPr>
        <p:spPr>
          <a:xfrm>
            <a:off x="2855880" y="347508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圆角矩形 8"/>
          <p:cNvSpPr/>
          <p:nvPr/>
        </p:nvSpPr>
        <p:spPr>
          <a:xfrm>
            <a:off x="6770520" y="348768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75"/>
          <p:cNvSpPr/>
          <p:nvPr/>
        </p:nvSpPr>
        <p:spPr>
          <a:xfrm>
            <a:off x="6651720" y="223200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75"/>
          <p:cNvSpPr/>
          <p:nvPr/>
        </p:nvSpPr>
        <p:spPr>
          <a:xfrm>
            <a:off x="2757600" y="432576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圆角矩形 11"/>
          <p:cNvSpPr/>
          <p:nvPr/>
        </p:nvSpPr>
        <p:spPr>
          <a:xfrm>
            <a:off x="2855880" y="557064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圆角矩形 12"/>
          <p:cNvSpPr/>
          <p:nvPr/>
        </p:nvSpPr>
        <p:spPr>
          <a:xfrm>
            <a:off x="6770520" y="558324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75"/>
          <p:cNvSpPr/>
          <p:nvPr/>
        </p:nvSpPr>
        <p:spPr>
          <a:xfrm>
            <a:off x="6651720" y="432576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椭圆 14"/>
          <p:cNvSpPr/>
          <p:nvPr/>
        </p:nvSpPr>
        <p:spPr>
          <a:xfrm>
            <a:off x="1890720" y="3114720"/>
            <a:ext cx="1041480" cy="10396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椭圆 15"/>
          <p:cNvSpPr/>
          <p:nvPr/>
        </p:nvSpPr>
        <p:spPr>
          <a:xfrm>
            <a:off x="9115560" y="3114720"/>
            <a:ext cx="1033200" cy="103032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椭圆 16"/>
          <p:cNvSpPr/>
          <p:nvPr/>
        </p:nvSpPr>
        <p:spPr>
          <a:xfrm>
            <a:off x="1890720" y="5208480"/>
            <a:ext cx="1041480" cy="10414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椭圆 17"/>
          <p:cNvSpPr/>
          <p:nvPr/>
        </p:nvSpPr>
        <p:spPr>
          <a:xfrm>
            <a:off x="9115560" y="5208480"/>
            <a:ext cx="1033200" cy="103356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图片 30" descr=""/>
          <p:cNvPicPr/>
          <p:nvPr/>
        </p:nvPicPr>
        <p:blipFill>
          <a:blip r:embed="rId1"/>
          <a:stretch/>
        </p:blipFill>
        <p:spPr>
          <a:xfrm>
            <a:off x="1765440" y="2063880"/>
            <a:ext cx="981000" cy="1093680"/>
          </a:xfrm>
          <a:prstGeom prst="rect">
            <a:avLst/>
          </a:prstGeom>
          <a:ln w="0">
            <a:noFill/>
          </a:ln>
        </p:spPr>
      </p:pic>
      <p:pic>
        <p:nvPicPr>
          <p:cNvPr id="1527" name="图片 31" descr=""/>
          <p:cNvPicPr/>
          <p:nvPr/>
        </p:nvPicPr>
        <p:blipFill>
          <a:blip r:embed="rId2"/>
          <a:stretch/>
        </p:blipFill>
        <p:spPr>
          <a:xfrm>
            <a:off x="1890720" y="4494240"/>
            <a:ext cx="954000" cy="876240"/>
          </a:xfrm>
          <a:prstGeom prst="rect">
            <a:avLst/>
          </a:prstGeom>
          <a:ln w="0">
            <a:noFill/>
          </a:ln>
        </p:spPr>
      </p:pic>
      <p:pic>
        <p:nvPicPr>
          <p:cNvPr id="1528" name="图片 32" descr=""/>
          <p:cNvPicPr/>
          <p:nvPr/>
        </p:nvPicPr>
        <p:blipFill>
          <a:blip r:embed="rId3"/>
          <a:stretch/>
        </p:blipFill>
        <p:spPr>
          <a:xfrm>
            <a:off x="9329760" y="2232000"/>
            <a:ext cx="795240" cy="979560"/>
          </a:xfrm>
          <a:prstGeom prst="rect">
            <a:avLst/>
          </a:prstGeom>
          <a:ln w="0">
            <a:noFill/>
          </a:ln>
        </p:spPr>
      </p:pic>
      <p:pic>
        <p:nvPicPr>
          <p:cNvPr id="1529" name="图片 33" descr=""/>
          <p:cNvPicPr/>
          <p:nvPr/>
        </p:nvPicPr>
        <p:blipFill>
          <a:blip r:embed="rId4"/>
          <a:stretch/>
        </p:blipFill>
        <p:spPr>
          <a:xfrm>
            <a:off x="9329760" y="4627440"/>
            <a:ext cx="700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3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KSO_GT1.1"/>
          <p:cNvSpPr/>
          <p:nvPr/>
        </p:nvSpPr>
        <p:spPr>
          <a:xfrm>
            <a:off x="2333520" y="4572000"/>
            <a:ext cx="14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任意多边形 7"/>
          <p:cNvSpPr/>
          <p:nvPr/>
        </p:nvSpPr>
        <p:spPr>
          <a:xfrm>
            <a:off x="2127240" y="2075040"/>
            <a:ext cx="1832040" cy="245556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455560"/>
              <a:gd name="textAreaBottom" fmla="*/ 2455920 h 2455560"/>
            </a:gdLst>
            <a:ahLst/>
            <a:rect l="textAreaLeft" t="textAreaTop" r="textAreaRight" b="textAreaBottom"/>
            <a:pathLst>
              <a:path w="1696584" h="2273362">
                <a:moveTo>
                  <a:pt x="848292" y="102876"/>
                </a:moveTo>
                <a:cubicBezTo>
                  <a:pt x="436611" y="102876"/>
                  <a:pt x="102877" y="436610"/>
                  <a:pt x="102876" y="848291"/>
                </a:cubicBezTo>
                <a:cubicBezTo>
                  <a:pt x="102877" y="1259972"/>
                  <a:pt x="436611" y="1593706"/>
                  <a:pt x="848292" y="1593706"/>
                </a:cubicBezTo>
                <a:cubicBezTo>
                  <a:pt x="1259974" y="1593706"/>
                  <a:pt x="1593708" y="1259972"/>
                  <a:pt x="1593709" y="848291"/>
                </a:cubicBezTo>
                <a:cubicBezTo>
                  <a:pt x="1593708" y="436610"/>
                  <a:pt x="1259974" y="102876"/>
                  <a:pt x="848292" y="102876"/>
                </a:cubicBezTo>
                <a:close/>
                <a:moveTo>
                  <a:pt x="848293" y="0"/>
                </a:moveTo>
                <a:cubicBezTo>
                  <a:pt x="1065390" y="-1"/>
                  <a:pt x="1282486" y="82819"/>
                  <a:pt x="1448126" y="248458"/>
                </a:cubicBezTo>
                <a:cubicBezTo>
                  <a:pt x="1779404" y="579736"/>
                  <a:pt x="1779404" y="1116845"/>
                  <a:pt x="1448125" y="1448123"/>
                </a:cubicBezTo>
                <a:cubicBezTo>
                  <a:pt x="1210613" y="1685636"/>
                  <a:pt x="1010668" y="1960714"/>
                  <a:pt x="848291" y="2273362"/>
                </a:cubicBezTo>
                <a:cubicBezTo>
                  <a:pt x="685915" y="1960715"/>
                  <a:pt x="485971" y="1685636"/>
                  <a:pt x="248459" y="1448124"/>
                </a:cubicBezTo>
                <a:cubicBezTo>
                  <a:pt x="-82819" y="1116846"/>
                  <a:pt x="-82819" y="579738"/>
                  <a:pt x="248460" y="248458"/>
                </a:cubicBezTo>
                <a:cubicBezTo>
                  <a:pt x="414100" y="82819"/>
                  <a:pt x="631197" y="-1"/>
                  <a:pt x="84829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KSO_GT2.1"/>
          <p:cNvSpPr/>
          <p:nvPr/>
        </p:nvSpPr>
        <p:spPr>
          <a:xfrm>
            <a:off x="4175280" y="5427720"/>
            <a:ext cx="1731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任意多边形 9"/>
          <p:cNvSpPr/>
          <p:nvPr/>
        </p:nvSpPr>
        <p:spPr>
          <a:xfrm>
            <a:off x="4184640" y="3033720"/>
            <a:ext cx="1749600" cy="234144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2341440"/>
              <a:gd name="textAreaBottom" fmla="*/ 2341800 h 2341440"/>
            </a:gdLst>
            <a:ahLst/>
            <a:rect l="textAreaLeft" t="textAreaTop" r="textAreaRight" b="textAreaBottom"/>
            <a:pathLst>
              <a:path w="1619509" h="2170088">
                <a:moveTo>
                  <a:pt x="809755" y="98200"/>
                </a:moveTo>
                <a:cubicBezTo>
                  <a:pt x="416774" y="98200"/>
                  <a:pt x="98201" y="416773"/>
                  <a:pt x="98201" y="809753"/>
                </a:cubicBezTo>
                <a:cubicBezTo>
                  <a:pt x="98201" y="1202732"/>
                  <a:pt x="416774" y="1521305"/>
                  <a:pt x="809755" y="1521305"/>
                </a:cubicBezTo>
                <a:cubicBezTo>
                  <a:pt x="1202735" y="1521305"/>
                  <a:pt x="1521308" y="1202732"/>
                  <a:pt x="1521308" y="809753"/>
                </a:cubicBezTo>
                <a:cubicBezTo>
                  <a:pt x="1521307" y="416774"/>
                  <a:pt x="1202734" y="98201"/>
                  <a:pt x="809755" y="98200"/>
                </a:cubicBezTo>
                <a:close/>
                <a:moveTo>
                  <a:pt x="809755" y="0"/>
                </a:moveTo>
                <a:cubicBezTo>
                  <a:pt x="1016990" y="0"/>
                  <a:pt x="1224224" y="79056"/>
                  <a:pt x="1382339" y="237171"/>
                </a:cubicBezTo>
                <a:cubicBezTo>
                  <a:pt x="1698567" y="553400"/>
                  <a:pt x="1698567" y="1066109"/>
                  <a:pt x="1382338" y="1382338"/>
                </a:cubicBezTo>
                <a:cubicBezTo>
                  <a:pt x="1155616" y="1609061"/>
                  <a:pt x="964754" y="1871644"/>
                  <a:pt x="809754" y="2170088"/>
                </a:cubicBezTo>
                <a:cubicBezTo>
                  <a:pt x="654754" y="1871644"/>
                  <a:pt x="463892" y="1609061"/>
                  <a:pt x="237170" y="1382339"/>
                </a:cubicBezTo>
                <a:cubicBezTo>
                  <a:pt x="-79058" y="1066110"/>
                  <a:pt x="-79058" y="553401"/>
                  <a:pt x="237171" y="237172"/>
                </a:cubicBezTo>
                <a:cubicBezTo>
                  <a:pt x="395286" y="79057"/>
                  <a:pt x="602521" y="0"/>
                  <a:pt x="809755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KSO_GT3.1"/>
          <p:cNvSpPr/>
          <p:nvPr/>
        </p:nvSpPr>
        <p:spPr>
          <a:xfrm>
            <a:off x="6175440" y="4530600"/>
            <a:ext cx="172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任意多边形 11"/>
          <p:cNvSpPr/>
          <p:nvPr/>
        </p:nvSpPr>
        <p:spPr>
          <a:xfrm>
            <a:off x="6162840" y="2075040"/>
            <a:ext cx="1787400" cy="239868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KSO_GT3.1"/>
          <p:cNvSpPr/>
          <p:nvPr/>
        </p:nvSpPr>
        <p:spPr>
          <a:xfrm>
            <a:off x="8191440" y="54864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任意多边形 13"/>
          <p:cNvSpPr/>
          <p:nvPr/>
        </p:nvSpPr>
        <p:spPr>
          <a:xfrm>
            <a:off x="8177040" y="2971800"/>
            <a:ext cx="1789200" cy="23986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3" name="图片 27" descr=""/>
          <p:cNvPicPr/>
          <p:nvPr/>
        </p:nvPicPr>
        <p:blipFill>
          <a:blip r:embed="rId1"/>
          <a:stretch/>
        </p:blipFill>
        <p:spPr>
          <a:xfrm>
            <a:off x="4662360" y="3271680"/>
            <a:ext cx="836640" cy="717840"/>
          </a:xfrm>
          <a:prstGeom prst="rect">
            <a:avLst/>
          </a:prstGeom>
          <a:ln w="0">
            <a:noFill/>
          </a:ln>
        </p:spPr>
      </p:pic>
      <p:pic>
        <p:nvPicPr>
          <p:cNvPr id="1544" name="图片 28" descr=""/>
          <p:cNvPicPr/>
          <p:nvPr/>
        </p:nvPicPr>
        <p:blipFill>
          <a:blip r:embed="rId2"/>
          <a:stretch/>
        </p:blipFill>
        <p:spPr>
          <a:xfrm>
            <a:off x="8693280" y="3147840"/>
            <a:ext cx="757080" cy="871560"/>
          </a:xfrm>
          <a:prstGeom prst="rect">
            <a:avLst/>
          </a:prstGeom>
          <a:ln w="0">
            <a:noFill/>
          </a:ln>
        </p:spPr>
      </p:pic>
      <p:grpSp>
        <p:nvGrpSpPr>
          <p:cNvPr id="1545" name="Group 17"/>
          <p:cNvGrpSpPr/>
          <p:nvPr/>
        </p:nvGrpSpPr>
        <p:grpSpPr>
          <a:xfrm>
            <a:off x="6580080" y="2370240"/>
            <a:ext cx="1052640" cy="739800"/>
            <a:chOff x="6580080" y="2370240"/>
            <a:chExt cx="1052640" cy="739800"/>
          </a:xfrm>
        </p:grpSpPr>
        <p:sp>
          <p:nvSpPr>
            <p:cNvPr id="1546" name="AutoShape 16"/>
            <p:cNvSpPr/>
            <p:nvPr/>
          </p:nvSpPr>
          <p:spPr>
            <a:xfrm>
              <a:off x="6585120" y="2373840"/>
              <a:ext cx="10461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8"/>
            <p:cNvSpPr/>
            <p:nvPr/>
          </p:nvSpPr>
          <p:spPr>
            <a:xfrm>
              <a:off x="6687360" y="2393280"/>
              <a:ext cx="802800" cy="7167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9"/>
            <p:cNvSpPr/>
            <p:nvPr/>
          </p:nvSpPr>
          <p:spPr>
            <a:xfrm>
              <a:off x="6580080" y="2584080"/>
              <a:ext cx="1019160" cy="29196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26"/>
            <p:cNvSpPr/>
            <p:nvPr/>
          </p:nvSpPr>
          <p:spPr>
            <a:xfrm>
              <a:off x="6596640" y="2370240"/>
              <a:ext cx="1036080" cy="716400"/>
            </a:xfrm>
            <a:custGeom>
              <a:avLst/>
              <a:gdLst>
                <a:gd name="textAreaLeft" fmla="*/ 0 w 1036080"/>
                <a:gd name="textAreaRight" fmla="*/ 1036440 w 10360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0" name="组合 34"/>
          <p:cNvGrpSpPr/>
          <p:nvPr/>
        </p:nvGrpSpPr>
        <p:grpSpPr>
          <a:xfrm>
            <a:off x="2543040" y="2266920"/>
            <a:ext cx="1020960" cy="1020960"/>
            <a:chOff x="2543040" y="2266920"/>
            <a:chExt cx="1020960" cy="1020960"/>
          </a:xfrm>
        </p:grpSpPr>
        <p:sp>
          <p:nvSpPr>
            <p:cNvPr id="1551" name="Freeform 36"/>
            <p:cNvSpPr/>
            <p:nvPr/>
          </p:nvSpPr>
          <p:spPr>
            <a:xfrm>
              <a:off x="2598120" y="2322000"/>
              <a:ext cx="910440" cy="91080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37"/>
            <p:cNvSpPr/>
            <p:nvPr/>
          </p:nvSpPr>
          <p:spPr>
            <a:xfrm>
              <a:off x="2703240" y="2322720"/>
              <a:ext cx="799920" cy="610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10560"/>
                <a:gd name="textAreaBottom" fmla="*/ 610920 h 61056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38"/>
            <p:cNvSpPr/>
            <p:nvPr/>
          </p:nvSpPr>
          <p:spPr>
            <a:xfrm>
              <a:off x="2543040" y="2266920"/>
              <a:ext cx="1020960" cy="1020960"/>
            </a:xfrm>
            <a:custGeom>
              <a:avLst/>
              <a:gdLst>
                <a:gd name="textAreaLeft" fmla="*/ 0 w 1020960"/>
                <a:gd name="textAreaRight" fmla="*/ 1021320 w 10209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39"/>
            <p:cNvSpPr/>
            <p:nvPr/>
          </p:nvSpPr>
          <p:spPr>
            <a:xfrm>
              <a:off x="2876040" y="3056040"/>
              <a:ext cx="38160" cy="59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40"/>
            <p:cNvSpPr/>
            <p:nvPr/>
          </p:nvSpPr>
          <p:spPr>
            <a:xfrm>
              <a:off x="3195000" y="2435760"/>
              <a:ext cx="38160" cy="59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41"/>
            <p:cNvSpPr/>
            <p:nvPr/>
          </p:nvSpPr>
          <p:spPr>
            <a:xfrm>
              <a:off x="2732760" y="2943720"/>
              <a:ext cx="58320" cy="42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42"/>
            <p:cNvSpPr/>
            <p:nvPr/>
          </p:nvSpPr>
          <p:spPr>
            <a:xfrm>
              <a:off x="2675160" y="2786040"/>
              <a:ext cx="62280" cy="126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43"/>
            <p:cNvSpPr/>
            <p:nvPr/>
          </p:nvSpPr>
          <p:spPr>
            <a:xfrm>
              <a:off x="2714400" y="2598120"/>
              <a:ext cx="59040" cy="374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44"/>
            <p:cNvSpPr/>
            <p:nvPr/>
          </p:nvSpPr>
          <p:spPr>
            <a:xfrm>
              <a:off x="2844720" y="2454120"/>
              <a:ext cx="41400" cy="565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45"/>
            <p:cNvSpPr/>
            <p:nvPr/>
          </p:nvSpPr>
          <p:spPr>
            <a:xfrm>
              <a:off x="3030840" y="2396520"/>
              <a:ext cx="12600" cy="62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46"/>
            <p:cNvSpPr/>
            <p:nvPr/>
          </p:nvSpPr>
          <p:spPr>
            <a:xfrm>
              <a:off x="3318120" y="2566080"/>
              <a:ext cx="57600" cy="41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47"/>
            <p:cNvSpPr/>
            <p:nvPr/>
          </p:nvSpPr>
          <p:spPr>
            <a:xfrm>
              <a:off x="3371040" y="2751840"/>
              <a:ext cx="63000" cy="133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48"/>
            <p:cNvSpPr/>
            <p:nvPr/>
          </p:nvSpPr>
          <p:spPr>
            <a:xfrm>
              <a:off x="3334320" y="2916720"/>
              <a:ext cx="59760" cy="367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49"/>
            <p:cNvSpPr/>
            <p:nvPr/>
          </p:nvSpPr>
          <p:spPr>
            <a:xfrm>
              <a:off x="3222000" y="3039840"/>
              <a:ext cx="42120" cy="57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50"/>
            <p:cNvSpPr/>
            <p:nvPr/>
          </p:nvSpPr>
          <p:spPr>
            <a:xfrm>
              <a:off x="3064320" y="3092760"/>
              <a:ext cx="13320" cy="622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51"/>
            <p:cNvSpPr/>
            <p:nvPr/>
          </p:nvSpPr>
          <p:spPr>
            <a:xfrm>
              <a:off x="2838600" y="2760480"/>
              <a:ext cx="232920" cy="957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52"/>
            <p:cNvSpPr/>
            <p:nvPr/>
          </p:nvSpPr>
          <p:spPr>
            <a:xfrm>
              <a:off x="2840760" y="2767680"/>
              <a:ext cx="230400" cy="885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53"/>
            <p:cNvSpPr/>
            <p:nvPr/>
          </p:nvSpPr>
          <p:spPr>
            <a:xfrm>
              <a:off x="2843280" y="2778840"/>
              <a:ext cx="225720" cy="77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54"/>
            <p:cNvSpPr/>
            <p:nvPr/>
          </p:nvSpPr>
          <p:spPr>
            <a:xfrm>
              <a:off x="3036240" y="2426760"/>
              <a:ext cx="206640" cy="3686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55"/>
            <p:cNvSpPr/>
            <p:nvPr/>
          </p:nvSpPr>
          <p:spPr>
            <a:xfrm>
              <a:off x="3036240" y="2426760"/>
              <a:ext cx="200160" cy="3664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56"/>
            <p:cNvSpPr/>
            <p:nvPr/>
          </p:nvSpPr>
          <p:spPr>
            <a:xfrm>
              <a:off x="3038040" y="2429280"/>
              <a:ext cx="186480" cy="356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57"/>
            <p:cNvSpPr/>
            <p:nvPr/>
          </p:nvSpPr>
          <p:spPr>
            <a:xfrm>
              <a:off x="3035520" y="2756520"/>
              <a:ext cx="37440" cy="38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58"/>
            <p:cNvSpPr/>
            <p:nvPr/>
          </p:nvSpPr>
          <p:spPr>
            <a:xfrm>
              <a:off x="3036240" y="2755800"/>
              <a:ext cx="37440" cy="374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4" name="矩形 14"/>
          <p:cNvSpPr/>
          <p:nvPr/>
        </p:nvSpPr>
        <p:spPr>
          <a:xfrm>
            <a:off x="8768160" y="402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矩形 58"/>
          <p:cNvSpPr/>
          <p:nvPr/>
        </p:nvSpPr>
        <p:spPr>
          <a:xfrm>
            <a:off x="673308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矩形 59"/>
          <p:cNvSpPr/>
          <p:nvPr/>
        </p:nvSpPr>
        <p:spPr>
          <a:xfrm>
            <a:off x="4800960" y="404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矩形 60"/>
          <p:cNvSpPr/>
          <p:nvPr/>
        </p:nvSpPr>
        <p:spPr>
          <a:xfrm>
            <a:off x="2739600" y="32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图片 7" descr=""/>
          <p:cNvPicPr/>
          <p:nvPr/>
        </p:nvPicPr>
        <p:blipFill>
          <a:blip r:embed="rId1"/>
          <a:stretch/>
        </p:blipFill>
        <p:spPr>
          <a:xfrm>
            <a:off x="2282760" y="2965320"/>
            <a:ext cx="1763640" cy="196560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8" descr=""/>
          <p:cNvPicPr/>
          <p:nvPr/>
        </p:nvPicPr>
        <p:blipFill>
          <a:blip r:embed="rId2"/>
          <a:stretch/>
        </p:blipFill>
        <p:spPr>
          <a:xfrm>
            <a:off x="5710320" y="1077840"/>
            <a:ext cx="1928880" cy="165276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10" descr=""/>
          <p:cNvPicPr/>
          <p:nvPr/>
        </p:nvPicPr>
        <p:blipFill>
          <a:blip r:embed="rId3"/>
          <a:stretch/>
        </p:blipFill>
        <p:spPr>
          <a:xfrm>
            <a:off x="4287960" y="2927520"/>
            <a:ext cx="1373040" cy="200340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1" descr=""/>
          <p:cNvPicPr/>
          <p:nvPr/>
        </p:nvPicPr>
        <p:blipFill>
          <a:blip r:embed="rId4"/>
          <a:stretch/>
        </p:blipFill>
        <p:spPr>
          <a:xfrm>
            <a:off x="8101080" y="1096920"/>
            <a:ext cx="1488960" cy="1496880"/>
          </a:xfrm>
          <a:prstGeom prst="rect">
            <a:avLst/>
          </a:prstGeom>
          <a:ln w="0">
            <a:noFill/>
          </a:ln>
        </p:spPr>
      </p:pic>
      <p:pic>
        <p:nvPicPr>
          <p:cNvPr id="1582" name="图片 12" descr=""/>
          <p:cNvPicPr/>
          <p:nvPr/>
        </p:nvPicPr>
        <p:blipFill>
          <a:blip r:embed="rId5"/>
          <a:stretch/>
        </p:blipFill>
        <p:spPr>
          <a:xfrm>
            <a:off x="6192720" y="3081240"/>
            <a:ext cx="1473480" cy="1755720"/>
          </a:xfrm>
          <a:prstGeom prst="rect">
            <a:avLst/>
          </a:prstGeom>
          <a:ln w="0">
            <a:noFill/>
          </a:ln>
        </p:spPr>
      </p:pic>
      <p:pic>
        <p:nvPicPr>
          <p:cNvPr id="1583" name="图片 13" descr=""/>
          <p:cNvPicPr/>
          <p:nvPr/>
        </p:nvPicPr>
        <p:blipFill>
          <a:blip r:embed="rId6"/>
          <a:stretch/>
        </p:blipFill>
        <p:spPr>
          <a:xfrm>
            <a:off x="10018800" y="928800"/>
            <a:ext cx="1406520" cy="1735200"/>
          </a:xfrm>
          <a:prstGeom prst="rect">
            <a:avLst/>
          </a:prstGeom>
          <a:ln w="0">
            <a:noFill/>
          </a:ln>
        </p:spPr>
      </p:pic>
      <p:pic>
        <p:nvPicPr>
          <p:cNvPr id="1584" name="图片 14" descr=""/>
          <p:cNvPicPr/>
          <p:nvPr/>
        </p:nvPicPr>
        <p:blipFill>
          <a:blip r:embed="rId7"/>
          <a:stretch/>
        </p:blipFill>
        <p:spPr>
          <a:xfrm>
            <a:off x="7970760" y="2984400"/>
            <a:ext cx="1689120" cy="1946520"/>
          </a:xfrm>
          <a:prstGeom prst="rect">
            <a:avLst/>
          </a:prstGeom>
          <a:ln w="0">
            <a:noFill/>
          </a:ln>
        </p:spPr>
      </p:pic>
      <p:sp>
        <p:nvSpPr>
          <p:cNvPr id="1585" name="AutoShape 7"/>
          <p:cNvSpPr/>
          <p:nvPr/>
        </p:nvSpPr>
        <p:spPr>
          <a:xfrm>
            <a:off x="9970920" y="2998800"/>
            <a:ext cx="1684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6" name="Group 17"/>
          <p:cNvGrpSpPr/>
          <p:nvPr/>
        </p:nvGrpSpPr>
        <p:grpSpPr>
          <a:xfrm>
            <a:off x="2724120" y="3065400"/>
            <a:ext cx="1050840" cy="739800"/>
            <a:chOff x="2724120" y="3065400"/>
            <a:chExt cx="1050840" cy="739800"/>
          </a:xfrm>
        </p:grpSpPr>
        <p:sp>
          <p:nvSpPr>
            <p:cNvPr id="1587" name="AutoShape 16"/>
            <p:cNvSpPr/>
            <p:nvPr/>
          </p:nvSpPr>
          <p:spPr>
            <a:xfrm>
              <a:off x="2729160" y="3069000"/>
              <a:ext cx="1044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8"/>
            <p:cNvSpPr/>
            <p:nvPr/>
          </p:nvSpPr>
          <p:spPr>
            <a:xfrm>
              <a:off x="2831400" y="3088440"/>
              <a:ext cx="801360" cy="71676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9"/>
            <p:cNvSpPr/>
            <p:nvPr/>
          </p:nvSpPr>
          <p:spPr>
            <a:xfrm>
              <a:off x="2724120" y="3279240"/>
              <a:ext cx="1017360" cy="291960"/>
            </a:xfrm>
            <a:custGeom>
              <a:avLst/>
              <a:gdLst>
                <a:gd name="textAreaLeft" fmla="*/ 0 w 1017360"/>
                <a:gd name="textAreaRight" fmla="*/ 1017720 w 10173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26"/>
            <p:cNvSpPr/>
            <p:nvPr/>
          </p:nvSpPr>
          <p:spPr>
            <a:xfrm>
              <a:off x="2740680" y="3065400"/>
              <a:ext cx="1034280" cy="716400"/>
            </a:xfrm>
            <a:custGeom>
              <a:avLst/>
              <a:gdLst>
                <a:gd name="textAreaLeft" fmla="*/ 0 w 1034280"/>
                <a:gd name="textAreaRight" fmla="*/ 1034640 w 10342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1" name="组合 2049"/>
          <p:cNvGrpSpPr/>
          <p:nvPr/>
        </p:nvGrpSpPr>
        <p:grpSpPr>
          <a:xfrm>
            <a:off x="10007640" y="2790720"/>
            <a:ext cx="1690560" cy="2113200"/>
            <a:chOff x="10007640" y="2790720"/>
            <a:chExt cx="1690560" cy="2113200"/>
          </a:xfrm>
        </p:grpSpPr>
        <p:grpSp>
          <p:nvGrpSpPr>
            <p:cNvPr id="1592" name="组合 27"/>
            <p:cNvGrpSpPr/>
            <p:nvPr/>
          </p:nvGrpSpPr>
          <p:grpSpPr>
            <a:xfrm>
              <a:off x="10007640" y="3767760"/>
              <a:ext cx="1690560" cy="1136160"/>
              <a:chOff x="10007640" y="3767760"/>
              <a:chExt cx="1690560" cy="1136160"/>
            </a:xfrm>
          </p:grpSpPr>
          <p:sp>
            <p:nvSpPr>
              <p:cNvPr id="1593" name="AutoShape 3"/>
              <p:cNvSpPr/>
              <p:nvPr/>
            </p:nvSpPr>
            <p:spPr>
              <a:xfrm>
                <a:off x="10080360" y="4634640"/>
                <a:ext cx="130968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0"/>
              <p:cNvSpPr/>
              <p:nvPr/>
            </p:nvSpPr>
            <p:spPr>
              <a:xfrm>
                <a:off x="10007640" y="4347720"/>
                <a:ext cx="1690560" cy="209160"/>
              </a:xfrm>
              <a:custGeom>
                <a:avLst/>
                <a:gdLst>
                  <a:gd name="textAreaLeft" fmla="*/ 0 w 1690560"/>
                  <a:gd name="textAreaRight" fmla="*/ 1690920 w 16905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861" h="106">
                    <a:moveTo>
                      <a:pt x="430" y="0"/>
                    </a:moveTo>
                    <a:cubicBezTo>
                      <a:pt x="0" y="0"/>
                      <a:pt x="2" y="32"/>
                      <a:pt x="2" y="32"/>
                    </a:cubicBezTo>
                    <a:cubicBezTo>
                      <a:pt x="28" y="73"/>
                      <a:pt x="430" y="106"/>
                      <a:pt x="430" y="106"/>
                    </a:cubicBezTo>
                    <a:cubicBezTo>
                      <a:pt x="430" y="106"/>
                      <a:pt x="833" y="73"/>
                      <a:pt x="859" y="32"/>
                    </a:cubicBezTo>
                    <a:cubicBezTo>
                      <a:pt x="859" y="32"/>
                      <a:pt x="861" y="0"/>
                      <a:pt x="430" y="0"/>
                    </a:cubicBez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1"/>
              <p:cNvSpPr/>
              <p:nvPr/>
            </p:nvSpPr>
            <p:spPr>
              <a:xfrm>
                <a:off x="11172960" y="3831120"/>
                <a:ext cx="411120" cy="5608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560880"/>
                  <a:gd name="textAreaBottom" fmla="*/ 561240 h 560880"/>
                </a:gdLst>
                <a:ahLst/>
                <a:rect l="textAreaLeft" t="textAreaTop" r="textAreaRight" b="textAreaBottom"/>
                <a:pathLst>
                  <a:path w="210" h="286">
                    <a:moveTo>
                      <a:pt x="14" y="286"/>
                    </a:moveTo>
                    <a:cubicBezTo>
                      <a:pt x="0" y="259"/>
                      <a:pt x="0" y="259"/>
                      <a:pt x="0" y="259"/>
                    </a:cubicBezTo>
                    <a:cubicBezTo>
                      <a:pt x="61" y="227"/>
                      <a:pt x="112" y="186"/>
                      <a:pt x="142" y="146"/>
                    </a:cubicBezTo>
                    <a:cubicBezTo>
                      <a:pt x="168" y="111"/>
                      <a:pt x="177" y="78"/>
                      <a:pt x="168" y="56"/>
                    </a:cubicBezTo>
                    <a:cubicBezTo>
                      <a:pt x="161" y="40"/>
                      <a:pt x="148" y="32"/>
                      <a:pt x="130" y="31"/>
                    </a:cubicBezTo>
                    <a:cubicBezTo>
                      <a:pt x="115" y="31"/>
                      <a:pt x="102" y="36"/>
                      <a:pt x="102" y="36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7"/>
                      <a:pt x="109" y="0"/>
                      <a:pt x="130" y="0"/>
                    </a:cubicBezTo>
                    <a:cubicBezTo>
                      <a:pt x="160" y="1"/>
                      <a:pt x="184" y="16"/>
                      <a:pt x="196" y="44"/>
                    </a:cubicBezTo>
                    <a:cubicBezTo>
                      <a:pt x="210" y="77"/>
                      <a:pt x="200" y="120"/>
                      <a:pt x="167" y="164"/>
                    </a:cubicBezTo>
                    <a:cubicBezTo>
                      <a:pt x="133" y="209"/>
                      <a:pt x="81" y="251"/>
                      <a:pt x="14" y="286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2"/>
              <p:cNvSpPr/>
              <p:nvPr/>
            </p:nvSpPr>
            <p:spPr>
              <a:xfrm>
                <a:off x="10298160" y="4512600"/>
                <a:ext cx="1108080" cy="17100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564" h="87">
                    <a:moveTo>
                      <a:pt x="564" y="22"/>
                    </a:moveTo>
                    <a:cubicBezTo>
                      <a:pt x="495" y="0"/>
                      <a:pt x="282" y="59"/>
                      <a:pt x="282" y="59"/>
                    </a:cubicBezTo>
                    <a:cubicBezTo>
                      <a:pt x="282" y="59"/>
                      <a:pt x="69" y="0"/>
                      <a:pt x="0" y="22"/>
                    </a:cubicBezTo>
                    <a:cubicBezTo>
                      <a:pt x="0" y="22"/>
                      <a:pt x="55" y="36"/>
                      <a:pt x="63" y="59"/>
                    </a:cubicBezTo>
                    <a:cubicBezTo>
                      <a:pt x="63" y="59"/>
                      <a:pt x="60" y="87"/>
                      <a:pt x="282" y="87"/>
                    </a:cubicBezTo>
                    <a:cubicBezTo>
                      <a:pt x="504" y="87"/>
                      <a:pt x="502" y="59"/>
                      <a:pt x="502" y="59"/>
                    </a:cubicBezTo>
                    <a:cubicBezTo>
                      <a:pt x="510" y="36"/>
                      <a:pt x="564" y="22"/>
                      <a:pt x="564" y="22"/>
                    </a:cubicBez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3"/>
              <p:cNvSpPr/>
              <p:nvPr/>
            </p:nvSpPr>
            <p:spPr>
              <a:xfrm>
                <a:off x="10296360" y="3767760"/>
                <a:ext cx="1112760" cy="76536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567" h="390">
                    <a:moveTo>
                      <a:pt x="559" y="20"/>
                    </a:moveTo>
                    <a:cubicBezTo>
                      <a:pt x="553" y="0"/>
                      <a:pt x="14" y="0"/>
                      <a:pt x="8" y="20"/>
                    </a:cubicBezTo>
                    <a:cubicBezTo>
                      <a:pt x="2" y="40"/>
                      <a:pt x="0" y="390"/>
                      <a:pt x="283" y="390"/>
                    </a:cubicBezTo>
                    <a:cubicBezTo>
                      <a:pt x="567" y="390"/>
                      <a:pt x="564" y="40"/>
                      <a:pt x="559" y="20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4"/>
              <p:cNvSpPr/>
              <p:nvPr/>
            </p:nvSpPr>
            <p:spPr>
              <a:xfrm>
                <a:off x="10012320" y="4411080"/>
                <a:ext cx="1682640" cy="217080"/>
              </a:xfrm>
              <a:custGeom>
                <a:avLst/>
                <a:gdLst>
                  <a:gd name="textAreaLeft" fmla="*/ 0 w 1682640"/>
                  <a:gd name="textAreaRight" fmla="*/ 1683000 w 168264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857" h="111">
                    <a:moveTo>
                      <a:pt x="428" y="33"/>
                    </a:moveTo>
                    <a:cubicBezTo>
                      <a:pt x="89" y="33"/>
                      <a:pt x="0" y="0"/>
                      <a:pt x="0" y="0"/>
                    </a:cubicBezTo>
                    <a:cubicBezTo>
                      <a:pt x="50" y="110"/>
                      <a:pt x="428" y="111"/>
                      <a:pt x="428" y="111"/>
                    </a:cubicBezTo>
                    <a:cubicBezTo>
                      <a:pt x="428" y="111"/>
                      <a:pt x="807" y="110"/>
                      <a:pt x="857" y="0"/>
                    </a:cubicBezTo>
                    <a:cubicBezTo>
                      <a:pt x="857" y="0"/>
                      <a:pt x="768" y="33"/>
                      <a:pt x="428" y="33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99" name="Freeform 15"/>
            <p:cNvGrpSpPr/>
            <p:nvPr/>
          </p:nvGrpSpPr>
          <p:grpSpPr>
            <a:xfrm>
              <a:off x="10314360" y="2790720"/>
              <a:ext cx="1274040" cy="1003680"/>
              <a:chOff x="10314360" y="2790720"/>
              <a:chExt cx="1274040" cy="1003680"/>
            </a:xfrm>
          </p:grpSpPr>
          <p:pic>
            <p:nvPicPr>
              <p:cNvPr id="1600" name="Freeform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0314360" y="2790720"/>
                <a:ext cx="1274040" cy="100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1" name=""/>
              <p:cNvSpPr/>
              <p:nvPr/>
            </p:nvSpPr>
            <p:spPr>
              <a:xfrm>
                <a:off x="10318320" y="2795400"/>
                <a:ext cx="12654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02" name="组合 2057"/>
          <p:cNvGrpSpPr/>
          <p:nvPr/>
        </p:nvGrpSpPr>
        <p:grpSpPr>
          <a:xfrm>
            <a:off x="1071720" y="5440320"/>
            <a:ext cx="10005840" cy="1052640"/>
            <a:chOff x="1071720" y="5440320"/>
            <a:chExt cx="10005840" cy="1052640"/>
          </a:xfrm>
        </p:grpSpPr>
        <p:sp>
          <p:nvSpPr>
            <p:cNvPr id="1603" name="Freeform 30"/>
            <p:cNvSpPr/>
            <p:nvPr/>
          </p:nvSpPr>
          <p:spPr>
            <a:xfrm>
              <a:off x="1071720" y="5440320"/>
              <a:ext cx="10005840" cy="1052640"/>
            </a:xfrm>
            <a:custGeom>
              <a:avLst/>
              <a:gdLst>
                <a:gd name="textAreaLeft" fmla="*/ 0 w 10005840"/>
                <a:gd name="textAreaRight" fmla="*/ 10006200 w 100058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31"/>
            <p:cNvSpPr/>
            <p:nvPr/>
          </p:nvSpPr>
          <p:spPr>
            <a:xfrm>
              <a:off x="9301320" y="5440320"/>
              <a:ext cx="1776240" cy="1052640"/>
            </a:xfrm>
            <a:custGeom>
              <a:avLst/>
              <a:gdLst>
                <a:gd name="textAreaLeft" fmla="*/ 0 w 1776240"/>
                <a:gd name="textAreaRight" fmla="*/ 1776600 w 17762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32"/>
            <p:cNvSpPr/>
            <p:nvPr/>
          </p:nvSpPr>
          <p:spPr>
            <a:xfrm>
              <a:off x="9631080" y="5529240"/>
              <a:ext cx="928440" cy="90900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6" name="组合 42"/>
          <p:cNvGrpSpPr/>
          <p:nvPr/>
        </p:nvGrpSpPr>
        <p:grpSpPr>
          <a:xfrm>
            <a:off x="331920" y="669960"/>
            <a:ext cx="2023920" cy="2025720"/>
            <a:chOff x="331920" y="669960"/>
            <a:chExt cx="2023920" cy="2025720"/>
          </a:xfrm>
        </p:grpSpPr>
        <p:sp>
          <p:nvSpPr>
            <p:cNvPr id="1607" name="Freeform 36"/>
            <p:cNvSpPr/>
            <p:nvPr/>
          </p:nvSpPr>
          <p:spPr>
            <a:xfrm>
              <a:off x="441360" y="779400"/>
              <a:ext cx="1805040" cy="1806840"/>
            </a:xfrm>
            <a:custGeom>
              <a:avLst/>
              <a:gdLst>
                <a:gd name="textAreaLeft" fmla="*/ 0 w 1805040"/>
                <a:gd name="textAreaRight" fmla="*/ 1805400 w 18050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37"/>
            <p:cNvSpPr/>
            <p:nvPr/>
          </p:nvSpPr>
          <p:spPr>
            <a:xfrm>
              <a:off x="649440" y="780840"/>
              <a:ext cx="1585800" cy="1211400"/>
            </a:xfrm>
            <a:custGeom>
              <a:avLst/>
              <a:gdLst>
                <a:gd name="textAreaLeft" fmla="*/ 0 w 1585800"/>
                <a:gd name="textAreaRight" fmla="*/ 1586160 w 158580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38"/>
            <p:cNvSpPr/>
            <p:nvPr/>
          </p:nvSpPr>
          <p:spPr>
            <a:xfrm>
              <a:off x="331920" y="669960"/>
              <a:ext cx="2023920" cy="2025720"/>
            </a:xfrm>
            <a:custGeom>
              <a:avLst/>
              <a:gdLst>
                <a:gd name="textAreaLeft" fmla="*/ 0 w 2023920"/>
                <a:gd name="textAreaRight" fmla="*/ 2024280 w 2023920"/>
                <a:gd name="textAreaTop" fmla="*/ 0 h 2025720"/>
                <a:gd name="textAreaBottom" fmla="*/ 2026080 h 202572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39"/>
            <p:cNvSpPr/>
            <p:nvPr/>
          </p:nvSpPr>
          <p:spPr>
            <a:xfrm>
              <a:off x="992160" y="2235240"/>
              <a:ext cx="75960" cy="118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40"/>
            <p:cNvSpPr/>
            <p:nvPr/>
          </p:nvSpPr>
          <p:spPr>
            <a:xfrm>
              <a:off x="1623960" y="1004760"/>
              <a:ext cx="75960" cy="117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41"/>
            <p:cNvSpPr/>
            <p:nvPr/>
          </p:nvSpPr>
          <p:spPr>
            <a:xfrm>
              <a:off x="708120" y="2013120"/>
              <a:ext cx="115560" cy="83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42"/>
            <p:cNvSpPr/>
            <p:nvPr/>
          </p:nvSpPr>
          <p:spPr>
            <a:xfrm>
              <a:off x="593640" y="1700280"/>
              <a:ext cx="123480" cy="25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43"/>
            <p:cNvSpPr/>
            <p:nvPr/>
          </p:nvSpPr>
          <p:spPr>
            <a:xfrm>
              <a:off x="671400" y="1327320"/>
              <a:ext cx="117360" cy="74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44"/>
            <p:cNvSpPr/>
            <p:nvPr/>
          </p:nvSpPr>
          <p:spPr>
            <a:xfrm>
              <a:off x="930240" y="1041480"/>
              <a:ext cx="82440" cy="112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45"/>
            <p:cNvSpPr/>
            <p:nvPr/>
          </p:nvSpPr>
          <p:spPr>
            <a:xfrm>
              <a:off x="1298520" y="927000"/>
              <a:ext cx="25200" cy="123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6"/>
            <p:cNvSpPr/>
            <p:nvPr/>
          </p:nvSpPr>
          <p:spPr>
            <a:xfrm>
              <a:off x="1868760" y="1263600"/>
              <a:ext cx="114120" cy="8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7"/>
            <p:cNvSpPr/>
            <p:nvPr/>
          </p:nvSpPr>
          <p:spPr>
            <a:xfrm>
              <a:off x="1973520" y="1631880"/>
              <a:ext cx="125280" cy="2664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48"/>
            <p:cNvSpPr/>
            <p:nvPr/>
          </p:nvSpPr>
          <p:spPr>
            <a:xfrm>
              <a:off x="1900440" y="1959120"/>
              <a:ext cx="118800" cy="72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49"/>
            <p:cNvSpPr/>
            <p:nvPr/>
          </p:nvSpPr>
          <p:spPr>
            <a:xfrm>
              <a:off x="1677960" y="2203560"/>
              <a:ext cx="83880" cy="114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50"/>
            <p:cNvSpPr/>
            <p:nvPr/>
          </p:nvSpPr>
          <p:spPr>
            <a:xfrm>
              <a:off x="1365480" y="2308320"/>
              <a:ext cx="26640" cy="123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51"/>
            <p:cNvSpPr/>
            <p:nvPr/>
          </p:nvSpPr>
          <p:spPr>
            <a:xfrm>
              <a:off x="917640" y="1649520"/>
              <a:ext cx="461880" cy="1904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52"/>
            <p:cNvSpPr/>
            <p:nvPr/>
          </p:nvSpPr>
          <p:spPr>
            <a:xfrm>
              <a:off x="922320" y="1663920"/>
              <a:ext cx="457200" cy="1760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53"/>
            <p:cNvSpPr/>
            <p:nvPr/>
          </p:nvSpPr>
          <p:spPr>
            <a:xfrm>
              <a:off x="927000" y="1685880"/>
              <a:ext cx="447480" cy="15372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54"/>
            <p:cNvSpPr/>
            <p:nvPr/>
          </p:nvSpPr>
          <p:spPr>
            <a:xfrm>
              <a:off x="1309680" y="987480"/>
              <a:ext cx="409320" cy="731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55"/>
            <p:cNvSpPr/>
            <p:nvPr/>
          </p:nvSpPr>
          <p:spPr>
            <a:xfrm>
              <a:off x="1309680" y="987480"/>
              <a:ext cx="396720" cy="7272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56"/>
            <p:cNvSpPr/>
            <p:nvPr/>
          </p:nvSpPr>
          <p:spPr>
            <a:xfrm>
              <a:off x="1312920" y="992160"/>
              <a:ext cx="369720" cy="70812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57"/>
            <p:cNvSpPr/>
            <p:nvPr/>
          </p:nvSpPr>
          <p:spPr>
            <a:xfrm>
              <a:off x="1308240" y="1641600"/>
              <a:ext cx="74520" cy="77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58"/>
            <p:cNvSpPr/>
            <p:nvPr/>
          </p:nvSpPr>
          <p:spPr>
            <a:xfrm>
              <a:off x="1309680" y="1639800"/>
              <a:ext cx="74520" cy="74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0" name="组合 2111"/>
          <p:cNvGrpSpPr/>
          <p:nvPr/>
        </p:nvGrpSpPr>
        <p:grpSpPr>
          <a:xfrm>
            <a:off x="2557440" y="947880"/>
            <a:ext cx="2801880" cy="1589040"/>
            <a:chOff x="2557440" y="947880"/>
            <a:chExt cx="2801880" cy="1589040"/>
          </a:xfrm>
        </p:grpSpPr>
        <p:sp>
          <p:nvSpPr>
            <p:cNvPr id="1631" name="Freeform 62"/>
            <p:cNvSpPr/>
            <p:nvPr/>
          </p:nvSpPr>
          <p:spPr>
            <a:xfrm>
              <a:off x="2892240" y="947880"/>
              <a:ext cx="2133720" cy="158904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63"/>
            <p:cNvSpPr/>
            <p:nvPr/>
          </p:nvSpPr>
          <p:spPr>
            <a:xfrm>
              <a:off x="2908080" y="960480"/>
              <a:ext cx="2102040" cy="1563840"/>
            </a:xfrm>
            <a:custGeom>
              <a:avLst/>
              <a:gdLst>
                <a:gd name="textAreaLeft" fmla="*/ 0 w 2102040"/>
                <a:gd name="textAreaRight" fmla="*/ 2102400 w 21020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64"/>
            <p:cNvSpPr/>
            <p:nvPr/>
          </p:nvSpPr>
          <p:spPr>
            <a:xfrm>
              <a:off x="2557440" y="2341800"/>
              <a:ext cx="2801880" cy="195120"/>
            </a:xfrm>
            <a:custGeom>
              <a:avLst/>
              <a:gdLst>
                <a:gd name="textAreaLeft" fmla="*/ 0 w 2801880"/>
                <a:gd name="textAreaRight" fmla="*/ 2802240 w 28018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65"/>
            <p:cNvSpPr/>
            <p:nvPr/>
          </p:nvSpPr>
          <p:spPr>
            <a:xfrm>
              <a:off x="2560320" y="2456280"/>
              <a:ext cx="2795760" cy="806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Rectangle 66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Rectangle 67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68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  <a:close/>
                </a:path>
              </a:pathLst>
            </a:custGeom>
            <a:solidFill>
              <a:srgbClr val="cdf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69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9" name="Picture 70" descr=""/>
            <p:cNvPicPr/>
            <p:nvPr/>
          </p:nvPicPr>
          <p:blipFill>
            <a:blip r:embed="rId9"/>
            <a:stretch/>
          </p:blipFill>
          <p:spPr>
            <a:xfrm>
              <a:off x="4727520" y="1075320"/>
              <a:ext cx="11736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Picture 71" descr=""/>
            <p:cNvPicPr/>
            <p:nvPr/>
          </p:nvPicPr>
          <p:blipFill>
            <a:blip r:embed="rId10"/>
            <a:stretch/>
          </p:blipFill>
          <p:spPr>
            <a:xfrm>
              <a:off x="4727520" y="1107360"/>
              <a:ext cx="11736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Picture 72" descr=""/>
            <p:cNvPicPr/>
            <p:nvPr/>
          </p:nvPicPr>
          <p:blipFill>
            <a:blip r:embed="rId11"/>
            <a:stretch/>
          </p:blipFill>
          <p:spPr>
            <a:xfrm>
              <a:off x="4611600" y="1075320"/>
              <a:ext cx="6804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Picture 73" descr=""/>
            <p:cNvPicPr/>
            <p:nvPr/>
          </p:nvPicPr>
          <p:blipFill>
            <a:blip r:embed="rId12"/>
            <a:stretch/>
          </p:blipFill>
          <p:spPr>
            <a:xfrm>
              <a:off x="4611600" y="1107360"/>
              <a:ext cx="6804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3" name="Oval 74"/>
            <p:cNvSpPr/>
            <p:nvPr/>
          </p:nvSpPr>
          <p:spPr>
            <a:xfrm>
              <a:off x="3930480" y="981000"/>
              <a:ext cx="55440" cy="554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Oval 75"/>
            <p:cNvSpPr/>
            <p:nvPr/>
          </p:nvSpPr>
          <p:spPr>
            <a:xfrm>
              <a:off x="3936960" y="987480"/>
              <a:ext cx="44280" cy="457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76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77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Oval 78"/>
            <p:cNvSpPr/>
            <p:nvPr/>
          </p:nvSpPr>
          <p:spPr>
            <a:xfrm>
              <a:off x="262080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Oval 79"/>
            <p:cNvSpPr/>
            <p:nvPr/>
          </p:nvSpPr>
          <p:spPr>
            <a:xfrm>
              <a:off x="262548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Oval 80"/>
            <p:cNvSpPr/>
            <p:nvPr/>
          </p:nvSpPr>
          <p:spPr>
            <a:xfrm>
              <a:off x="268596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Oval 81"/>
            <p:cNvSpPr/>
            <p:nvPr/>
          </p:nvSpPr>
          <p:spPr>
            <a:xfrm>
              <a:off x="269064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Oval 82"/>
            <p:cNvSpPr/>
            <p:nvPr/>
          </p:nvSpPr>
          <p:spPr>
            <a:xfrm>
              <a:off x="275112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Oval 83"/>
            <p:cNvSpPr/>
            <p:nvPr/>
          </p:nvSpPr>
          <p:spPr>
            <a:xfrm>
              <a:off x="2757240" y="2383200"/>
              <a:ext cx="298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组合 2130"/>
          <p:cNvGrpSpPr/>
          <p:nvPr/>
        </p:nvGrpSpPr>
        <p:grpSpPr>
          <a:xfrm>
            <a:off x="542880" y="3297240"/>
            <a:ext cx="1490760" cy="1490760"/>
            <a:chOff x="542880" y="3297240"/>
            <a:chExt cx="1490760" cy="1490760"/>
          </a:xfrm>
        </p:grpSpPr>
        <p:grpSp>
          <p:nvGrpSpPr>
            <p:cNvPr id="1654" name="组合 2128"/>
            <p:cNvGrpSpPr/>
            <p:nvPr/>
          </p:nvGrpSpPr>
          <p:grpSpPr>
            <a:xfrm>
              <a:off x="542880" y="3297240"/>
              <a:ext cx="1490760" cy="1490760"/>
              <a:chOff x="542880" y="3297240"/>
              <a:chExt cx="1490760" cy="1490760"/>
            </a:xfrm>
          </p:grpSpPr>
          <p:sp>
            <p:nvSpPr>
              <p:cNvPr id="1655" name="AutoShape 85"/>
              <p:cNvSpPr/>
              <p:nvPr/>
            </p:nvSpPr>
            <p:spPr>
              <a:xfrm>
                <a:off x="590400" y="3340080"/>
                <a:ext cx="1435320" cy="144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88"/>
              <p:cNvSpPr/>
              <p:nvPr/>
            </p:nvSpPr>
            <p:spPr>
              <a:xfrm>
                <a:off x="1311120" y="4067280"/>
                <a:ext cx="249120" cy="2476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57" h="156">
                    <a:moveTo>
                      <a:pt x="157" y="97"/>
                    </a:moveTo>
                    <a:lnTo>
                      <a:pt x="98" y="156"/>
                    </a:lnTo>
                    <a:lnTo>
                      <a:pt x="0" y="60"/>
                    </a:lnTo>
                    <a:lnTo>
                      <a:pt x="60" y="0"/>
                    </a:lnTo>
                    <a:lnTo>
                      <a:pt x="157" y="97"/>
                    </a:lnTo>
                    <a:close/>
                  </a:path>
                </a:pathLst>
              </a:custGeom>
              <a:solidFill>
                <a:srgbClr val="da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89"/>
              <p:cNvSpPr/>
              <p:nvPr/>
            </p:nvSpPr>
            <p:spPr>
              <a:xfrm>
                <a:off x="1311120" y="4146480"/>
                <a:ext cx="168120" cy="1681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6" h="106">
                    <a:moveTo>
                      <a:pt x="10" y="0"/>
                    </a:moveTo>
                    <a:lnTo>
                      <a:pt x="0" y="10"/>
                    </a:lnTo>
                    <a:lnTo>
                      <a:pt x="98" y="106"/>
                    </a:lnTo>
                    <a:lnTo>
                      <a:pt x="106" y="9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90"/>
              <p:cNvSpPr/>
              <p:nvPr/>
            </p:nvSpPr>
            <p:spPr>
              <a:xfrm>
                <a:off x="1349280" y="4067280"/>
                <a:ext cx="210960" cy="2127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33" h="134">
                    <a:moveTo>
                      <a:pt x="0" y="36"/>
                    </a:moveTo>
                    <a:lnTo>
                      <a:pt x="96" y="134"/>
                    </a:lnTo>
                    <a:lnTo>
                      <a:pt x="133" y="97"/>
                    </a:lnTo>
                    <a:lnTo>
                      <a:pt x="3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91"/>
              <p:cNvSpPr/>
              <p:nvPr/>
            </p:nvSpPr>
            <p:spPr>
              <a:xfrm>
                <a:off x="1384200" y="4067280"/>
                <a:ext cx="176040" cy="1746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1" h="110">
                    <a:moveTo>
                      <a:pt x="0" y="14"/>
                    </a:moveTo>
                    <a:lnTo>
                      <a:pt x="98" y="110"/>
                    </a:lnTo>
                    <a:lnTo>
                      <a:pt x="111" y="97"/>
                    </a:lnTo>
                    <a:lnTo>
                      <a:pt x="1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92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103" y="103"/>
                    </a:moveTo>
                    <a:cubicBezTo>
                      <a:pt x="158" y="48"/>
                      <a:pt x="248" y="48"/>
                      <a:pt x="303" y="103"/>
                    </a:cubicBezTo>
                    <a:cubicBezTo>
                      <a:pt x="358" y="158"/>
                      <a:pt x="358" y="248"/>
                      <a:pt x="303" y="303"/>
                    </a:cubicBezTo>
                    <a:cubicBezTo>
                      <a:pt x="248" y="358"/>
                      <a:pt x="158" y="358"/>
                      <a:pt x="103" y="303"/>
                    </a:cubicBezTo>
                    <a:cubicBezTo>
                      <a:pt x="48" y="248"/>
                      <a:pt x="48" y="158"/>
                      <a:pt x="103" y="103"/>
                    </a:cubicBezTo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</a:path>
                </a:pathLst>
              </a:custGeom>
              <a:solidFill>
                <a:srgbClr val="e2a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93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  <a:moveTo>
                      <a:pt x="319" y="319"/>
                    </a:moveTo>
                    <a:cubicBezTo>
                      <a:pt x="255" y="383"/>
                      <a:pt x="151" y="383"/>
                      <a:pt x="87" y="319"/>
                    </a:cubicBezTo>
                    <a:cubicBezTo>
                      <a:pt x="23" y="255"/>
                      <a:pt x="23" y="151"/>
                      <a:pt x="87" y="87"/>
                    </a:cubicBezTo>
                    <a:cubicBezTo>
                      <a:pt x="151" y="23"/>
                      <a:pt x="255" y="23"/>
                      <a:pt x="319" y="87"/>
                    </a:cubicBezTo>
                    <a:cubicBezTo>
                      <a:pt x="383" y="151"/>
                      <a:pt x="383" y="255"/>
                      <a:pt x="319" y="319"/>
                    </a:cubicBezTo>
                  </a:path>
                </a:pathLst>
              </a:custGeom>
              <a:solidFill>
                <a:srgbClr val="db8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94"/>
              <p:cNvSpPr/>
              <p:nvPr/>
            </p:nvSpPr>
            <p:spPr>
              <a:xfrm>
                <a:off x="1424160" y="4181400"/>
                <a:ext cx="609480" cy="6066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06600"/>
                  <a:gd name="textAreaBottom" fmla="*/ 606960 h 606600"/>
                </a:gdLst>
                <a:ahLst/>
                <a:rect l="textAreaLeft" t="textAreaTop" r="textAreaRight" b="textAreaBottom"/>
                <a:pathLst>
                  <a:path w="243" h="242">
                    <a:moveTo>
                      <a:pt x="0" y="46"/>
                    </a:moveTo>
                    <a:cubicBezTo>
                      <a:pt x="183" y="229"/>
                      <a:pt x="183" y="229"/>
                      <a:pt x="183" y="229"/>
                    </a:cubicBezTo>
                    <a:cubicBezTo>
                      <a:pt x="196" y="242"/>
                      <a:pt x="216" y="242"/>
                      <a:pt x="228" y="229"/>
                    </a:cubicBezTo>
                    <a:cubicBezTo>
                      <a:pt x="230" y="228"/>
                      <a:pt x="230" y="228"/>
                      <a:pt x="230" y="228"/>
                    </a:cubicBezTo>
                    <a:cubicBezTo>
                      <a:pt x="243" y="215"/>
                      <a:pt x="243" y="195"/>
                      <a:pt x="230" y="182"/>
                    </a:cubicBezTo>
                    <a:cubicBezTo>
                      <a:pt x="47" y="0"/>
                      <a:pt x="47" y="0"/>
                      <a:pt x="47" y="0"/>
                    </a:cubicBez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95"/>
              <p:cNvSpPr/>
              <p:nvPr/>
            </p:nvSpPr>
            <p:spPr>
              <a:xfrm>
                <a:off x="1424160" y="4286520"/>
                <a:ext cx="503280" cy="49212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201" h="196">
                    <a:moveTo>
                      <a:pt x="5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83" y="187"/>
                      <a:pt x="183" y="187"/>
                      <a:pt x="183" y="187"/>
                    </a:cubicBezTo>
                    <a:cubicBezTo>
                      <a:pt x="188" y="192"/>
                      <a:pt x="195" y="195"/>
                      <a:pt x="201" y="19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96"/>
              <p:cNvSpPr/>
              <p:nvPr/>
            </p:nvSpPr>
            <p:spPr>
              <a:xfrm>
                <a:off x="1479600" y="4181400"/>
                <a:ext cx="554040" cy="57636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21" h="230">
                    <a:moveTo>
                      <a:pt x="0" y="24"/>
                    </a:moveTo>
                    <a:cubicBezTo>
                      <a:pt x="206" y="230"/>
                      <a:pt x="206" y="230"/>
                      <a:pt x="206" y="230"/>
                    </a:cubicBezTo>
                    <a:cubicBezTo>
                      <a:pt x="206" y="229"/>
                      <a:pt x="206" y="229"/>
                      <a:pt x="206" y="229"/>
                    </a:cubicBezTo>
                    <a:cubicBezTo>
                      <a:pt x="208" y="228"/>
                      <a:pt x="208" y="228"/>
                      <a:pt x="208" y="228"/>
                    </a:cubicBezTo>
                    <a:cubicBezTo>
                      <a:pt x="221" y="215"/>
                      <a:pt x="221" y="195"/>
                      <a:pt x="208" y="182"/>
                    </a:cubicBezTo>
                    <a:cubicBezTo>
                      <a:pt x="25" y="0"/>
                      <a:pt x="25" y="0"/>
                      <a:pt x="2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97"/>
              <p:cNvSpPr/>
              <p:nvPr/>
            </p:nvSpPr>
            <p:spPr>
              <a:xfrm>
                <a:off x="1514520" y="4181400"/>
                <a:ext cx="514440" cy="53352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205" h="213">
                    <a:moveTo>
                      <a:pt x="0" y="10"/>
                    </a:moveTo>
                    <a:cubicBezTo>
                      <a:pt x="202" y="213"/>
                      <a:pt x="202" y="213"/>
                      <a:pt x="202" y="213"/>
                    </a:cubicBezTo>
                    <a:cubicBezTo>
                      <a:pt x="205" y="202"/>
                      <a:pt x="202" y="191"/>
                      <a:pt x="194" y="182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b1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66" name="椭圆 2129"/>
            <p:cNvSpPr/>
            <p:nvPr/>
          </p:nvSpPr>
          <p:spPr>
            <a:xfrm>
              <a:off x="685440" y="3436920"/>
              <a:ext cx="725400" cy="72540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9019"/>
                  </a:srgbClr>
                </a:gs>
                <a:gs pos="100000">
                  <a:srgbClr val="ffffff">
                    <a:alpha val="1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7" name="组合 132"/>
          <p:cNvGrpSpPr/>
          <p:nvPr/>
        </p:nvGrpSpPr>
        <p:grpSpPr>
          <a:xfrm>
            <a:off x="5275440" y="4384800"/>
            <a:ext cx="838080" cy="826920"/>
            <a:chOff x="5275440" y="4384800"/>
            <a:chExt cx="838080" cy="826920"/>
          </a:xfrm>
        </p:grpSpPr>
        <p:sp>
          <p:nvSpPr>
            <p:cNvPr id="1668" name="Freeform 7"/>
            <p:cNvSpPr/>
            <p:nvPr/>
          </p:nvSpPr>
          <p:spPr>
            <a:xfrm>
              <a:off x="5275440" y="438480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8"/>
            <p:cNvSpPr/>
            <p:nvPr/>
          </p:nvSpPr>
          <p:spPr>
            <a:xfrm>
              <a:off x="5595120" y="438480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9"/>
            <p:cNvSpPr/>
            <p:nvPr/>
          </p:nvSpPr>
          <p:spPr>
            <a:xfrm>
              <a:off x="5407560" y="45961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0"/>
            <p:cNvSpPr/>
            <p:nvPr/>
          </p:nvSpPr>
          <p:spPr>
            <a:xfrm>
              <a:off x="5416560" y="4612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1"/>
            <p:cNvSpPr/>
            <p:nvPr/>
          </p:nvSpPr>
          <p:spPr>
            <a:xfrm>
              <a:off x="5425920" y="462996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2"/>
            <p:cNvSpPr/>
            <p:nvPr/>
          </p:nvSpPr>
          <p:spPr>
            <a:xfrm>
              <a:off x="5436360" y="464652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3"/>
            <p:cNvSpPr/>
            <p:nvPr/>
          </p:nvSpPr>
          <p:spPr>
            <a:xfrm>
              <a:off x="5798520" y="47937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4"/>
            <p:cNvSpPr/>
            <p:nvPr/>
          </p:nvSpPr>
          <p:spPr>
            <a:xfrm>
              <a:off x="5807880" y="48110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5"/>
            <p:cNvSpPr/>
            <p:nvPr/>
          </p:nvSpPr>
          <p:spPr>
            <a:xfrm>
              <a:off x="5816880" y="482760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6"/>
            <p:cNvSpPr/>
            <p:nvPr/>
          </p:nvSpPr>
          <p:spPr>
            <a:xfrm>
              <a:off x="5827680" y="484488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7"/>
            <p:cNvSpPr/>
            <p:nvPr/>
          </p:nvSpPr>
          <p:spPr>
            <a:xfrm>
              <a:off x="5468040" y="458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8"/>
            <p:cNvSpPr/>
            <p:nvPr/>
          </p:nvSpPr>
          <p:spPr>
            <a:xfrm>
              <a:off x="5477760" y="460116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9"/>
            <p:cNvSpPr/>
            <p:nvPr/>
          </p:nvSpPr>
          <p:spPr>
            <a:xfrm>
              <a:off x="5486760" y="46184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0"/>
            <p:cNvSpPr/>
            <p:nvPr/>
          </p:nvSpPr>
          <p:spPr>
            <a:xfrm>
              <a:off x="5496120" y="463356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1"/>
            <p:cNvSpPr/>
            <p:nvPr/>
          </p:nvSpPr>
          <p:spPr>
            <a:xfrm>
              <a:off x="5526720" y="46872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2"/>
            <p:cNvSpPr/>
            <p:nvPr/>
          </p:nvSpPr>
          <p:spPr>
            <a:xfrm>
              <a:off x="5535720" y="4704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3"/>
            <p:cNvSpPr/>
            <p:nvPr/>
          </p:nvSpPr>
          <p:spPr>
            <a:xfrm>
              <a:off x="5544720" y="4721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4"/>
            <p:cNvSpPr/>
            <p:nvPr/>
          </p:nvSpPr>
          <p:spPr>
            <a:xfrm>
              <a:off x="5554800" y="473652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5"/>
            <p:cNvSpPr/>
            <p:nvPr/>
          </p:nvSpPr>
          <p:spPr>
            <a:xfrm>
              <a:off x="5594400" y="498528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6"/>
            <p:cNvSpPr/>
            <p:nvPr/>
          </p:nvSpPr>
          <p:spPr>
            <a:xfrm>
              <a:off x="5665680" y="494496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7"/>
            <p:cNvSpPr/>
            <p:nvPr/>
          </p:nvSpPr>
          <p:spPr>
            <a:xfrm>
              <a:off x="5737320" y="490428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66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6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8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700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70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文本框 80"/>
            <p:cNvSpPr/>
            <p:nvPr/>
          </p:nvSpPr>
          <p:spPr>
            <a:xfrm>
              <a:off x="475380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706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707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71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71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718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2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3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椭圆 18"/>
          <p:cNvSpPr/>
          <p:nvPr/>
        </p:nvSpPr>
        <p:spPr>
          <a:xfrm>
            <a:off x="2281320" y="3489480"/>
            <a:ext cx="1120680" cy="11188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19"/>
          <p:cNvSpPr/>
          <p:nvPr/>
        </p:nvSpPr>
        <p:spPr>
          <a:xfrm>
            <a:off x="3908520" y="3489480"/>
            <a:ext cx="1120680" cy="11188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5560920" y="3489480"/>
            <a:ext cx="1121040" cy="111888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椭圆 21"/>
          <p:cNvSpPr/>
          <p:nvPr/>
        </p:nvSpPr>
        <p:spPr>
          <a:xfrm>
            <a:off x="7215120" y="3489480"/>
            <a:ext cx="1119240" cy="11188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椭圆 22"/>
          <p:cNvSpPr/>
          <p:nvPr/>
        </p:nvSpPr>
        <p:spPr>
          <a:xfrm>
            <a:off x="8859960" y="3489480"/>
            <a:ext cx="1119240" cy="1118880"/>
          </a:xfrm>
          <a:prstGeom prst="ellipse">
            <a:avLst/>
          </a:pr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88128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5c2"/>
                </a:solidFill>
                <a:latin typeface="Calibri"/>
              </a:rPr>
              <a:t>2014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7082640" y="293364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98b9"/>
                </a:solidFill>
                <a:latin typeface="Calibri"/>
              </a:rPr>
              <a:t>2014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空心弧 28"/>
          <p:cNvSpPr/>
          <p:nvPr/>
        </p:nvSpPr>
        <p:spPr>
          <a:xfrm>
            <a:off x="187308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空心弧 29"/>
          <p:cNvSpPr/>
          <p:nvPr/>
        </p:nvSpPr>
        <p:spPr>
          <a:xfrm>
            <a:off x="517536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空心弧 30"/>
          <p:cNvSpPr/>
          <p:nvPr/>
        </p:nvSpPr>
        <p:spPr>
          <a:xfrm>
            <a:off x="850104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空心弧 31"/>
          <p:cNvSpPr/>
          <p:nvPr/>
        </p:nvSpPr>
        <p:spPr>
          <a:xfrm flipV="1">
            <a:off x="682308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空心弧 32"/>
          <p:cNvSpPr/>
          <p:nvPr/>
        </p:nvSpPr>
        <p:spPr>
          <a:xfrm flipV="1">
            <a:off x="352584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4229280" y="3692520"/>
            <a:ext cx="498240" cy="692280"/>
          </a:xfrm>
          <a:custGeom>
            <a:avLst/>
            <a:gdLst>
              <a:gd name="textAreaLeft" fmla="*/ 0 w 498240"/>
              <a:gd name="textAreaRight" fmla="*/ 498600 w 4982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7"/>
          <p:cNvSpPr/>
          <p:nvPr/>
        </p:nvSpPr>
        <p:spPr>
          <a:xfrm>
            <a:off x="7516800" y="3782880"/>
            <a:ext cx="512640" cy="517680"/>
          </a:xfrm>
          <a:custGeom>
            <a:avLst/>
            <a:gdLst>
              <a:gd name="textAreaLeft" fmla="*/ 0 w 512640"/>
              <a:gd name="textAreaRight" fmla="*/ 513000 w 51264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2"/>
          <p:cNvSpPr/>
          <p:nvPr/>
        </p:nvSpPr>
        <p:spPr>
          <a:xfrm>
            <a:off x="2592360" y="3787920"/>
            <a:ext cx="500040" cy="500040"/>
          </a:xfrm>
          <a:custGeom>
            <a:avLst/>
            <a:gdLst>
              <a:gd name="textAreaLeft" fmla="*/ 0 w 500040"/>
              <a:gd name="textAreaRight" fmla="*/ 500400 w 50004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8"/>
          <p:cNvSpPr/>
          <p:nvPr/>
        </p:nvSpPr>
        <p:spPr>
          <a:xfrm>
            <a:off x="9151920" y="3811680"/>
            <a:ext cx="514440" cy="441360"/>
          </a:xfrm>
          <a:custGeom>
            <a:avLst/>
            <a:gdLst>
              <a:gd name="textAreaLeft" fmla="*/ 0 w 514440"/>
              <a:gd name="textAreaRight" fmla="*/ 514800 w 514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组合 37" descr=""/>
          <p:cNvPicPr/>
          <p:nvPr/>
        </p:nvPicPr>
        <p:blipFill>
          <a:blip r:embed="rId1"/>
          <a:stretch/>
        </p:blipFill>
        <p:spPr>
          <a:xfrm>
            <a:off x="5827680" y="3790800"/>
            <a:ext cx="622440" cy="4273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43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文本框 66"/>
          <p:cNvSpPr/>
          <p:nvPr/>
        </p:nvSpPr>
        <p:spPr>
          <a:xfrm>
            <a:off x="2291760" y="111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、工作回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84"/>
          <p:cNvSpPr/>
          <p:nvPr/>
        </p:nvSpPr>
        <p:spPr>
          <a:xfrm>
            <a:off x="54126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71f"/>
                </a:solidFill>
                <a:latin typeface="Calibri"/>
              </a:rPr>
              <a:t>2014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85"/>
          <p:cNvSpPr/>
          <p:nvPr/>
        </p:nvSpPr>
        <p:spPr>
          <a:xfrm>
            <a:off x="3726360" y="2868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911e"/>
                </a:solidFill>
                <a:latin typeface="Calibri"/>
              </a:rPr>
              <a:t>2014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86"/>
          <p:cNvSpPr/>
          <p:nvPr/>
        </p:nvSpPr>
        <p:spPr>
          <a:xfrm>
            <a:off x="201204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1c24"/>
                </a:solidFill>
                <a:latin typeface="Calibri"/>
              </a:rPr>
              <a:t>2014.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179064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8"/>
          <p:cNvSpPr/>
          <p:nvPr/>
        </p:nvSpPr>
        <p:spPr>
          <a:xfrm>
            <a:off x="521496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639280" y="51084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8"/>
          <p:cNvSpPr/>
          <p:nvPr/>
        </p:nvSpPr>
        <p:spPr>
          <a:xfrm>
            <a:off x="355608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8"/>
          <p:cNvSpPr/>
          <p:nvPr/>
        </p:nvSpPr>
        <p:spPr>
          <a:xfrm>
            <a:off x="688032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5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组合 30"/>
          <p:cNvGrpSpPr/>
          <p:nvPr/>
        </p:nvGrpSpPr>
        <p:grpSpPr>
          <a:xfrm>
            <a:off x="888840" y="3894120"/>
            <a:ext cx="3140280" cy="2168640"/>
            <a:chOff x="888840" y="3894120"/>
            <a:chExt cx="3140280" cy="2168640"/>
          </a:xfrm>
        </p:grpSpPr>
        <p:sp>
          <p:nvSpPr>
            <p:cNvPr id="761" name="矩形 6"/>
            <p:cNvSpPr/>
            <p:nvPr/>
          </p:nvSpPr>
          <p:spPr>
            <a:xfrm>
              <a:off x="888840" y="3894120"/>
              <a:ext cx="3140280" cy="2168640"/>
            </a:xfrm>
            <a:prstGeom prst="rect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8"/>
            <p:cNvSpPr/>
            <p:nvPr/>
          </p:nvSpPr>
          <p:spPr>
            <a:xfrm>
              <a:off x="1001880" y="4323960"/>
              <a:ext cx="2914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9"/>
          <p:cNvGrpSpPr/>
          <p:nvPr/>
        </p:nvGrpSpPr>
        <p:grpSpPr>
          <a:xfrm>
            <a:off x="4527720" y="3894120"/>
            <a:ext cx="3139920" cy="2168640"/>
            <a:chOff x="4527720" y="3894120"/>
            <a:chExt cx="3139920" cy="2168640"/>
          </a:xfrm>
        </p:grpSpPr>
        <p:sp>
          <p:nvSpPr>
            <p:cNvPr id="764" name="矩形 7"/>
            <p:cNvSpPr/>
            <p:nvPr/>
          </p:nvSpPr>
          <p:spPr>
            <a:xfrm>
              <a:off x="4527720" y="3894120"/>
              <a:ext cx="3139920" cy="2168640"/>
            </a:xfrm>
            <a:prstGeom prst="rect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TextBox 8"/>
            <p:cNvSpPr/>
            <p:nvPr/>
          </p:nvSpPr>
          <p:spPr>
            <a:xfrm>
              <a:off x="4640760" y="432396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8"/>
          <p:cNvGrpSpPr/>
          <p:nvPr/>
        </p:nvGrpSpPr>
        <p:grpSpPr>
          <a:xfrm>
            <a:off x="7950240" y="3921120"/>
            <a:ext cx="3139920" cy="2166840"/>
            <a:chOff x="7950240" y="3921120"/>
            <a:chExt cx="3139920" cy="2166840"/>
          </a:xfrm>
        </p:grpSpPr>
        <p:sp>
          <p:nvSpPr>
            <p:cNvPr id="767" name="矩形 8"/>
            <p:cNvSpPr/>
            <p:nvPr/>
          </p:nvSpPr>
          <p:spPr>
            <a:xfrm>
              <a:off x="7950240" y="3921120"/>
              <a:ext cx="3139920" cy="2166840"/>
            </a:xfrm>
            <a:prstGeom prst="rect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8"/>
            <p:cNvSpPr/>
            <p:nvPr/>
          </p:nvSpPr>
          <p:spPr>
            <a:xfrm>
              <a:off x="8063280" y="435060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11"/>
          <p:cNvGrpSpPr/>
          <p:nvPr/>
        </p:nvGrpSpPr>
        <p:grpSpPr>
          <a:xfrm>
            <a:off x="1050840" y="2411280"/>
            <a:ext cx="2764080" cy="1884600"/>
            <a:chOff x="1050840" y="2411280"/>
            <a:chExt cx="2764080" cy="1884600"/>
          </a:xfrm>
        </p:grpSpPr>
        <p:grpSp>
          <p:nvGrpSpPr>
            <p:cNvPr id="770" name="矩形 12"/>
            <p:cNvGrpSpPr/>
            <p:nvPr/>
          </p:nvGrpSpPr>
          <p:grpSpPr>
            <a:xfrm>
              <a:off x="1050840" y="2411280"/>
              <a:ext cx="2764080" cy="1884600"/>
              <a:chOff x="1050840" y="2411280"/>
              <a:chExt cx="2764080" cy="1884600"/>
            </a:xfrm>
          </p:grpSpPr>
          <p:pic>
            <p:nvPicPr>
              <p:cNvPr id="771" name="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50840" y="2413800"/>
                <a:ext cx="276408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Text Box 9"/>
              <p:cNvSpPr/>
              <p:nvPr/>
            </p:nvSpPr>
            <p:spPr>
              <a:xfrm>
                <a:off x="1051920" y="2411280"/>
                <a:ext cx="276156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矩形 13"/>
            <p:cNvSpPr/>
            <p:nvPr/>
          </p:nvSpPr>
          <p:spPr>
            <a:xfrm>
              <a:off x="1171800" y="2490480"/>
              <a:ext cx="25221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14"/>
          <p:cNvGrpSpPr/>
          <p:nvPr/>
        </p:nvGrpSpPr>
        <p:grpSpPr>
          <a:xfrm>
            <a:off x="4681440" y="2411280"/>
            <a:ext cx="2762280" cy="1884600"/>
            <a:chOff x="4681440" y="2411280"/>
            <a:chExt cx="2762280" cy="1884600"/>
          </a:xfrm>
        </p:grpSpPr>
        <p:grpSp>
          <p:nvGrpSpPr>
            <p:cNvPr id="775" name="矩形 15"/>
            <p:cNvGrpSpPr/>
            <p:nvPr/>
          </p:nvGrpSpPr>
          <p:grpSpPr>
            <a:xfrm>
              <a:off x="4681440" y="2411280"/>
              <a:ext cx="2762280" cy="1884600"/>
              <a:chOff x="4681440" y="2411280"/>
              <a:chExt cx="2762280" cy="1884600"/>
            </a:xfrm>
          </p:grpSpPr>
          <p:pic>
            <p:nvPicPr>
              <p:cNvPr id="776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24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Text Box 14"/>
              <p:cNvSpPr/>
              <p:nvPr/>
            </p:nvSpPr>
            <p:spPr>
              <a:xfrm>
                <a:off x="468144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矩形 16"/>
            <p:cNvSpPr/>
            <p:nvPr/>
          </p:nvSpPr>
          <p:spPr>
            <a:xfrm>
              <a:off x="479916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7"/>
          <p:cNvGrpSpPr/>
          <p:nvPr/>
        </p:nvGrpSpPr>
        <p:grpSpPr>
          <a:xfrm>
            <a:off x="8163000" y="2411280"/>
            <a:ext cx="2762280" cy="1884600"/>
            <a:chOff x="8163000" y="2411280"/>
            <a:chExt cx="2762280" cy="1884600"/>
          </a:xfrm>
        </p:grpSpPr>
        <p:grpSp>
          <p:nvGrpSpPr>
            <p:cNvPr id="780" name="矩形 18"/>
            <p:cNvGrpSpPr/>
            <p:nvPr/>
          </p:nvGrpSpPr>
          <p:grpSpPr>
            <a:xfrm>
              <a:off x="8163000" y="2411280"/>
              <a:ext cx="2762280" cy="1884600"/>
              <a:chOff x="8163000" y="2411280"/>
              <a:chExt cx="2762280" cy="1884600"/>
            </a:xfrm>
          </p:grpSpPr>
          <p:pic>
            <p:nvPicPr>
              <p:cNvPr id="781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408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Text Box 19"/>
              <p:cNvSpPr/>
              <p:nvPr/>
            </p:nvSpPr>
            <p:spPr>
              <a:xfrm>
                <a:off x="816300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矩形 19"/>
            <p:cNvSpPr/>
            <p:nvPr/>
          </p:nvSpPr>
          <p:spPr>
            <a:xfrm>
              <a:off x="828144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85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等腰三角形 7"/>
          <p:cNvSpPr/>
          <p:nvPr/>
        </p:nvSpPr>
        <p:spPr>
          <a:xfrm rot="10800000">
            <a:off x="4920840" y="553032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32"/>
          <p:cNvSpPr/>
          <p:nvPr/>
        </p:nvSpPr>
        <p:spPr>
          <a:xfrm flipH="1">
            <a:off x="6039000" y="2095560"/>
            <a:ext cx="279360" cy="345960"/>
          </a:xfrm>
          <a:custGeom>
            <a:avLst/>
            <a:gdLst>
              <a:gd name="textAreaLeft" fmla="*/ 360 w 279360"/>
              <a:gd name="textAreaRight" fmla="*/ 28008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1c7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7"/>
          <p:cNvSpPr/>
          <p:nvPr/>
        </p:nvSpPr>
        <p:spPr>
          <a:xfrm rot="10800000">
            <a:off x="2703240" y="6035760"/>
            <a:ext cx="298440" cy="1555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flipV="1" rot="10800000">
            <a:off x="3814560" y="309924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20275" y="109596"/>
                  <a:pt x="250041" y="215553"/>
                </a:cubicBezTo>
                <a:cubicBezTo>
                  <a:pt x="7449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3a4f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32"/>
          <p:cNvSpPr/>
          <p:nvPr/>
        </p:nvSpPr>
        <p:spPr>
          <a:xfrm>
            <a:off x="1600200" y="4438800"/>
            <a:ext cx="279360" cy="345960"/>
          </a:xfrm>
          <a:custGeom>
            <a:avLst/>
            <a:gdLst>
              <a:gd name="textAreaLeft" fmla="*/ 0 w 279360"/>
              <a:gd name="textAreaRight" fmla="*/ 27972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9"/>
          <p:cNvSpPr/>
          <p:nvPr/>
        </p:nvSpPr>
        <p:spPr>
          <a:xfrm>
            <a:off x="2857680" y="3100320"/>
            <a:ext cx="1098360" cy="30909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3090960"/>
              <a:gd name="textAreaBottom" fmla="*/ 3091320 h 3090960"/>
            </a:gdLst>
            <a:ahLst/>
            <a:rect l="textAreaLeft" t="textAreaTop" r="textAreaRight" b="textAreaBottom"/>
            <a:pathLst>
              <a:path w="1679363" h="4031979">
                <a:moveTo>
                  <a:pt x="1679363" y="0"/>
                </a:moveTo>
                <a:cubicBezTo>
                  <a:pt x="1577760" y="103402"/>
                  <a:pt x="1512941" y="232120"/>
                  <a:pt x="1499611" y="368414"/>
                </a:cubicBezTo>
                <a:lnTo>
                  <a:pt x="1499737" y="368391"/>
                </a:lnTo>
                <a:lnTo>
                  <a:pt x="1504573" y="3435216"/>
                </a:lnTo>
                <a:lnTo>
                  <a:pt x="1500753" y="3435916"/>
                </a:lnTo>
                <a:cubicBezTo>
                  <a:pt x="1484513" y="3568386"/>
                  <a:pt x="1495902" y="3761538"/>
                  <a:pt x="1315212" y="3792435"/>
                </a:cubicBezTo>
                <a:lnTo>
                  <a:pt x="0" y="4031979"/>
                </a:lnTo>
                <a:cubicBezTo>
                  <a:pt x="100022" y="3930187"/>
                  <a:pt x="164395" y="3803859"/>
                  <a:pt x="178548" y="3669861"/>
                </a:cubicBezTo>
                <a:cubicBezTo>
                  <a:pt x="177758" y="2650295"/>
                  <a:pt x="176967" y="1630729"/>
                  <a:pt x="176177" y="611163"/>
                </a:cubicBezTo>
                <a:lnTo>
                  <a:pt x="175546" y="611278"/>
                </a:lnTo>
                <a:lnTo>
                  <a:pt x="176175" y="608158"/>
                </a:lnTo>
                <a:cubicBezTo>
                  <a:pt x="176174" y="607611"/>
                  <a:pt x="176174" y="607064"/>
                  <a:pt x="176173" y="606516"/>
                </a:cubicBezTo>
                <a:lnTo>
                  <a:pt x="176518" y="606454"/>
                </a:lnTo>
                <a:cubicBezTo>
                  <a:pt x="191341" y="470188"/>
                  <a:pt x="176408" y="281156"/>
                  <a:pt x="364151" y="239544"/>
                </a:cubicBezTo>
                <a:lnTo>
                  <a:pt x="1679363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9"/>
          <p:cNvSpPr/>
          <p:nvPr/>
        </p:nvSpPr>
        <p:spPr>
          <a:xfrm flipH="1" rot="10800000">
            <a:off x="1745280" y="4441680"/>
            <a:ext cx="1096920" cy="174960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1749600"/>
              <a:gd name="textAreaBottom" fmla="*/ 1749960 h 1749600"/>
            </a:gdLst>
            <a:ahLst/>
            <a:rect l="textAreaLeft" t="textAreaTop" r="textAreaRight" b="textAreaBottom"/>
            <a:pathLst>
              <a:path w="919353" h="1344426">
                <a:moveTo>
                  <a:pt x="0" y="1344426"/>
                </a:moveTo>
                <a:lnTo>
                  <a:pt x="720338" y="1203300"/>
                </a:lnTo>
                <a:cubicBezTo>
                  <a:pt x="823165" y="1178784"/>
                  <a:pt x="814986" y="1067417"/>
                  <a:pt x="823104" y="987136"/>
                </a:cubicBezTo>
                <a:lnTo>
                  <a:pt x="823293" y="987099"/>
                </a:lnTo>
                <a:cubicBezTo>
                  <a:pt x="823293" y="986777"/>
                  <a:pt x="823293" y="986454"/>
                  <a:pt x="823292" y="986132"/>
                </a:cubicBezTo>
                <a:lnTo>
                  <a:pt x="823637" y="984294"/>
                </a:lnTo>
                <a:lnTo>
                  <a:pt x="823291" y="984362"/>
                </a:lnTo>
                <a:cubicBezTo>
                  <a:pt x="823215" y="879121"/>
                  <a:pt x="823140" y="773881"/>
                  <a:pt x="823064" y="668641"/>
                </a:cubicBezTo>
                <a:cubicBezTo>
                  <a:pt x="822367" y="518106"/>
                  <a:pt x="821669" y="367571"/>
                  <a:pt x="820972" y="217036"/>
                </a:cubicBezTo>
                <a:cubicBezTo>
                  <a:pt x="820949" y="217041"/>
                  <a:pt x="820926" y="217045"/>
                  <a:pt x="820903" y="217050"/>
                </a:cubicBezTo>
                <a:cubicBezTo>
                  <a:pt x="828204" y="136753"/>
                  <a:pt x="863705" y="60919"/>
                  <a:pt x="919353" y="0"/>
                </a:cubicBezTo>
                <a:lnTo>
                  <a:pt x="199015" y="141126"/>
                </a:lnTo>
                <a:cubicBezTo>
                  <a:pt x="96188" y="165642"/>
                  <a:pt x="104367" y="277009"/>
                  <a:pt x="96249" y="357290"/>
                </a:cubicBezTo>
                <a:lnTo>
                  <a:pt x="96060" y="357327"/>
                </a:lnTo>
                <a:cubicBezTo>
                  <a:pt x="96060" y="357649"/>
                  <a:pt x="96060" y="357972"/>
                  <a:pt x="96061" y="358294"/>
                </a:cubicBezTo>
                <a:lnTo>
                  <a:pt x="95716" y="360132"/>
                </a:lnTo>
                <a:lnTo>
                  <a:pt x="96062" y="360064"/>
                </a:lnTo>
                <a:cubicBezTo>
                  <a:pt x="96138" y="465305"/>
                  <a:pt x="96213" y="570545"/>
                  <a:pt x="96289" y="675785"/>
                </a:cubicBezTo>
                <a:cubicBezTo>
                  <a:pt x="96986" y="826320"/>
                  <a:pt x="97684" y="976855"/>
                  <a:pt x="98381" y="1127390"/>
                </a:cubicBezTo>
                <a:cubicBezTo>
                  <a:pt x="98404" y="1127385"/>
                  <a:pt x="98427" y="1127381"/>
                  <a:pt x="98450" y="1127376"/>
                </a:cubicBezTo>
                <a:cubicBezTo>
                  <a:pt x="91149" y="1207673"/>
                  <a:pt x="55648" y="1283507"/>
                  <a:pt x="0" y="134442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9"/>
          <p:cNvSpPr/>
          <p:nvPr/>
        </p:nvSpPr>
        <p:spPr>
          <a:xfrm flipH="1" rot="10800000">
            <a:off x="3969360" y="3101760"/>
            <a:ext cx="1096920" cy="258444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919927" h="2880099">
                <a:moveTo>
                  <a:pt x="0" y="2880099"/>
                </a:moveTo>
                <a:lnTo>
                  <a:pt x="720338" y="2738973"/>
                </a:lnTo>
                <a:cubicBezTo>
                  <a:pt x="823165" y="2714457"/>
                  <a:pt x="814986" y="2603090"/>
                  <a:pt x="823104" y="2522809"/>
                </a:cubicBezTo>
                <a:lnTo>
                  <a:pt x="823293" y="2522772"/>
                </a:lnTo>
                <a:cubicBezTo>
                  <a:pt x="823293" y="2522450"/>
                  <a:pt x="823293" y="2522127"/>
                  <a:pt x="823292" y="2521805"/>
                </a:cubicBezTo>
                <a:lnTo>
                  <a:pt x="823637" y="2519967"/>
                </a:lnTo>
                <a:lnTo>
                  <a:pt x="823291" y="2520035"/>
                </a:lnTo>
                <a:cubicBezTo>
                  <a:pt x="823217" y="2417614"/>
                  <a:pt x="823144" y="2315194"/>
                  <a:pt x="823070" y="2212773"/>
                </a:cubicBezTo>
                <a:lnTo>
                  <a:pt x="824594" y="666358"/>
                </a:lnTo>
                <a:lnTo>
                  <a:pt x="823628" y="666358"/>
                </a:lnTo>
                <a:lnTo>
                  <a:pt x="821546" y="217036"/>
                </a:lnTo>
                <a:cubicBezTo>
                  <a:pt x="821523" y="217041"/>
                  <a:pt x="821500" y="217045"/>
                  <a:pt x="821477" y="217050"/>
                </a:cubicBezTo>
                <a:cubicBezTo>
                  <a:pt x="828778" y="136753"/>
                  <a:pt x="864279" y="60919"/>
                  <a:pt x="919927" y="0"/>
                </a:cubicBezTo>
                <a:lnTo>
                  <a:pt x="199589" y="141126"/>
                </a:lnTo>
                <a:cubicBezTo>
                  <a:pt x="96762" y="165642"/>
                  <a:pt x="104941" y="277009"/>
                  <a:pt x="96823" y="357290"/>
                </a:cubicBezTo>
                <a:lnTo>
                  <a:pt x="96634" y="357327"/>
                </a:lnTo>
                <a:cubicBezTo>
                  <a:pt x="96634" y="357649"/>
                  <a:pt x="96634" y="357972"/>
                  <a:pt x="96635" y="358294"/>
                </a:cubicBezTo>
                <a:lnTo>
                  <a:pt x="96290" y="360132"/>
                </a:lnTo>
                <a:lnTo>
                  <a:pt x="96636" y="360064"/>
                </a:lnTo>
                <a:cubicBezTo>
                  <a:pt x="96709" y="462162"/>
                  <a:pt x="96783" y="564260"/>
                  <a:pt x="96856" y="666358"/>
                </a:cubicBezTo>
                <a:lnTo>
                  <a:pt x="96290" y="666358"/>
                </a:lnTo>
                <a:lnTo>
                  <a:pt x="96290" y="2200074"/>
                </a:lnTo>
                <a:lnTo>
                  <a:pt x="98381" y="2663063"/>
                </a:lnTo>
                <a:cubicBezTo>
                  <a:pt x="98404" y="2663058"/>
                  <a:pt x="98427" y="2663054"/>
                  <a:pt x="98450" y="2663049"/>
                </a:cubicBezTo>
                <a:cubicBezTo>
                  <a:pt x="91149" y="2743346"/>
                  <a:pt x="55648" y="2819180"/>
                  <a:pt x="0" y="2880099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矩形 9"/>
          <p:cNvSpPr/>
          <p:nvPr/>
        </p:nvSpPr>
        <p:spPr>
          <a:xfrm>
            <a:off x="5081760" y="2095560"/>
            <a:ext cx="1110960" cy="35910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919391" h="3652965">
                <a:moveTo>
                  <a:pt x="919391" y="0"/>
                </a:moveTo>
                <a:cubicBezTo>
                  <a:pt x="864609" y="59970"/>
                  <a:pt x="829352" y="134396"/>
                  <a:pt x="821600" y="213340"/>
                </a:cubicBezTo>
                <a:lnTo>
                  <a:pt x="822220" y="1071993"/>
                </a:lnTo>
                <a:lnTo>
                  <a:pt x="823644" y="1071993"/>
                </a:lnTo>
                <a:lnTo>
                  <a:pt x="823644" y="2666512"/>
                </a:lnTo>
                <a:lnTo>
                  <a:pt x="823121" y="2666512"/>
                </a:lnTo>
                <a:lnTo>
                  <a:pt x="824051" y="3301385"/>
                </a:lnTo>
                <a:lnTo>
                  <a:pt x="821959" y="3301797"/>
                </a:lnTo>
                <a:cubicBezTo>
                  <a:pt x="813064" y="3379841"/>
                  <a:pt x="819302" y="3493636"/>
                  <a:pt x="720339" y="3511839"/>
                </a:cubicBezTo>
                <a:lnTo>
                  <a:pt x="0" y="3652965"/>
                </a:lnTo>
                <a:cubicBezTo>
                  <a:pt x="54782" y="3592995"/>
                  <a:pt x="90039" y="3518569"/>
                  <a:pt x="97791" y="3439625"/>
                </a:cubicBezTo>
                <a:lnTo>
                  <a:pt x="97233" y="2666512"/>
                </a:lnTo>
                <a:lnTo>
                  <a:pt x="95341" y="2666512"/>
                </a:lnTo>
                <a:lnTo>
                  <a:pt x="95341" y="1071993"/>
                </a:lnTo>
                <a:lnTo>
                  <a:pt x="96396" y="1071993"/>
                </a:lnTo>
                <a:lnTo>
                  <a:pt x="95340" y="351580"/>
                </a:lnTo>
                <a:lnTo>
                  <a:pt x="97432" y="351168"/>
                </a:lnTo>
                <a:cubicBezTo>
                  <a:pt x="106327" y="273124"/>
                  <a:pt x="100089" y="159329"/>
                  <a:pt x="199052" y="141126"/>
                </a:cubicBezTo>
                <a:lnTo>
                  <a:pt x="919391" y="0"/>
                </a:ln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TextBox 61" descr=""/>
          <p:cNvPicPr/>
          <p:nvPr/>
        </p:nvPicPr>
        <p:blipFill>
          <a:blip r:embed="rId1"/>
          <a:stretch/>
        </p:blipFill>
        <p:spPr>
          <a:xfrm>
            <a:off x="1798560" y="4537080"/>
            <a:ext cx="1019160" cy="963720"/>
          </a:xfrm>
          <a:prstGeom prst="rect">
            <a:avLst/>
          </a:prstGeom>
          <a:ln w="0">
            <a:noFill/>
          </a:ln>
        </p:spPr>
      </p:pic>
      <p:pic>
        <p:nvPicPr>
          <p:cNvPr id="799" name="TextBox 62" descr=""/>
          <p:cNvPicPr/>
          <p:nvPr/>
        </p:nvPicPr>
        <p:blipFill>
          <a:blip r:embed="rId2"/>
          <a:stretch/>
        </p:blipFill>
        <p:spPr>
          <a:xfrm>
            <a:off x="2890800" y="3981600"/>
            <a:ext cx="1047960" cy="963360"/>
          </a:xfrm>
          <a:prstGeom prst="rect">
            <a:avLst/>
          </a:prstGeom>
          <a:ln w="0">
            <a:noFill/>
          </a:ln>
        </p:spPr>
      </p:pic>
      <p:pic>
        <p:nvPicPr>
          <p:cNvPr id="800" name="TextBox 64" descr=""/>
          <p:cNvPicPr/>
          <p:nvPr/>
        </p:nvPicPr>
        <p:blipFill>
          <a:blip r:embed="rId3"/>
          <a:stretch/>
        </p:blipFill>
        <p:spPr>
          <a:xfrm>
            <a:off x="4000680" y="3421080"/>
            <a:ext cx="1041120" cy="963720"/>
          </a:xfrm>
          <a:prstGeom prst="rect">
            <a:avLst/>
          </a:prstGeom>
          <a:ln w="0">
            <a:noFill/>
          </a:ln>
        </p:spPr>
      </p:pic>
      <p:pic>
        <p:nvPicPr>
          <p:cNvPr id="801" name="TextBox 65" descr=""/>
          <p:cNvPicPr/>
          <p:nvPr/>
        </p:nvPicPr>
        <p:blipFill>
          <a:blip r:embed="rId4"/>
          <a:stretch/>
        </p:blipFill>
        <p:spPr>
          <a:xfrm>
            <a:off x="5097600" y="2867040"/>
            <a:ext cx="1060200" cy="961920"/>
          </a:xfrm>
          <a:prstGeom prst="rect">
            <a:avLst/>
          </a:prstGeom>
          <a:ln w="0">
            <a:noFill/>
          </a:ln>
        </p:spPr>
      </p:pic>
      <p:sp>
        <p:nvSpPr>
          <p:cNvPr id="802" name="矩形 15"/>
          <p:cNvSpPr/>
          <p:nvPr/>
        </p:nvSpPr>
        <p:spPr>
          <a:xfrm>
            <a:off x="2064600" y="5294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矩形 16"/>
          <p:cNvSpPr/>
          <p:nvPr/>
        </p:nvSpPr>
        <p:spPr>
          <a:xfrm>
            <a:off x="3172680" y="4789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17"/>
          <p:cNvSpPr/>
          <p:nvPr/>
        </p:nvSpPr>
        <p:spPr>
          <a:xfrm>
            <a:off x="4279680" y="4284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8"/>
          <p:cNvSpPr/>
          <p:nvPr/>
        </p:nvSpPr>
        <p:spPr>
          <a:xfrm>
            <a:off x="5387040" y="3780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46"/>
          <p:cNvSpPr/>
          <p:nvPr/>
        </p:nvSpPr>
        <p:spPr>
          <a:xfrm>
            <a:off x="7223040" y="2135160"/>
            <a:ext cx="31640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接连接符 20"/>
          <p:cNvSpPr/>
          <p:nvPr/>
        </p:nvSpPr>
        <p:spPr>
          <a:xfrm>
            <a:off x="7437600" y="209700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直接连接符 21"/>
          <p:cNvSpPr/>
          <p:nvPr/>
        </p:nvSpPr>
        <p:spPr>
          <a:xfrm>
            <a:off x="7628040" y="2170080"/>
            <a:ext cx="221616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直接连接符 20"/>
          <p:cNvSpPr/>
          <p:nvPr/>
        </p:nvSpPr>
        <p:spPr>
          <a:xfrm>
            <a:off x="8166240" y="550404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直接连接符 21"/>
          <p:cNvSpPr/>
          <p:nvPr/>
        </p:nvSpPr>
        <p:spPr>
          <a:xfrm>
            <a:off x="8358120" y="5576760"/>
            <a:ext cx="221472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椭圆 67"/>
          <p:cNvSpPr/>
          <p:nvPr/>
        </p:nvSpPr>
        <p:spPr>
          <a:xfrm>
            <a:off x="247320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68"/>
          <p:cNvSpPr/>
          <p:nvPr/>
        </p:nvSpPr>
        <p:spPr>
          <a:xfrm>
            <a:off x="669924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3490920" y="39877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9" name="组合 79"/>
          <p:cNvGrpSpPr/>
          <p:nvPr/>
        </p:nvGrpSpPr>
        <p:grpSpPr>
          <a:xfrm>
            <a:off x="3019320" y="2138400"/>
            <a:ext cx="1060560" cy="1030320"/>
            <a:chOff x="3019320" y="2138400"/>
            <a:chExt cx="1060560" cy="1030320"/>
          </a:xfrm>
        </p:grpSpPr>
        <p:sp>
          <p:nvSpPr>
            <p:cNvPr id="820" name="椭圆 69"/>
            <p:cNvSpPr/>
            <p:nvPr/>
          </p:nvSpPr>
          <p:spPr>
            <a:xfrm>
              <a:off x="3035160" y="213840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Text Box 23"/>
            <p:cNvSpPr/>
            <p:nvPr/>
          </p:nvSpPr>
          <p:spPr>
            <a:xfrm>
              <a:off x="3019320" y="242244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组合 80"/>
          <p:cNvGrpSpPr/>
          <p:nvPr/>
        </p:nvGrpSpPr>
        <p:grpSpPr>
          <a:xfrm>
            <a:off x="2095560" y="3651120"/>
            <a:ext cx="1060560" cy="1030320"/>
            <a:chOff x="2095560" y="3651120"/>
            <a:chExt cx="1060560" cy="1030320"/>
          </a:xfrm>
        </p:grpSpPr>
        <p:sp>
          <p:nvSpPr>
            <p:cNvPr id="823" name="椭圆 70"/>
            <p:cNvSpPr/>
            <p:nvPr/>
          </p:nvSpPr>
          <p:spPr>
            <a:xfrm>
              <a:off x="2111400" y="3651120"/>
              <a:ext cx="102888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 Box 24"/>
            <p:cNvSpPr/>
            <p:nvPr/>
          </p:nvSpPr>
          <p:spPr>
            <a:xfrm>
              <a:off x="20955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组合 81"/>
          <p:cNvGrpSpPr/>
          <p:nvPr/>
        </p:nvGrpSpPr>
        <p:grpSpPr>
          <a:xfrm>
            <a:off x="3019320" y="4986360"/>
            <a:ext cx="1060560" cy="1030320"/>
            <a:chOff x="3019320" y="4986360"/>
            <a:chExt cx="1060560" cy="1030320"/>
          </a:xfrm>
        </p:grpSpPr>
        <p:sp>
          <p:nvSpPr>
            <p:cNvPr id="826" name="椭圆 71"/>
            <p:cNvSpPr/>
            <p:nvPr/>
          </p:nvSpPr>
          <p:spPr>
            <a:xfrm>
              <a:off x="3035160" y="4986360"/>
              <a:ext cx="102888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 Box 25"/>
            <p:cNvSpPr/>
            <p:nvPr/>
          </p:nvSpPr>
          <p:spPr>
            <a:xfrm>
              <a:off x="3019320" y="527112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组合 76"/>
          <p:cNvGrpSpPr/>
          <p:nvPr/>
        </p:nvGrpSpPr>
        <p:grpSpPr>
          <a:xfrm>
            <a:off x="7999560" y="2138400"/>
            <a:ext cx="1060200" cy="1030320"/>
            <a:chOff x="7999560" y="2138400"/>
            <a:chExt cx="1060200" cy="1030320"/>
          </a:xfrm>
        </p:grpSpPr>
        <p:sp>
          <p:nvSpPr>
            <p:cNvPr id="829" name="椭圆 72"/>
            <p:cNvSpPr/>
            <p:nvPr/>
          </p:nvSpPr>
          <p:spPr>
            <a:xfrm>
              <a:off x="8015400" y="2138400"/>
              <a:ext cx="102852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Text Box 31"/>
            <p:cNvSpPr/>
            <p:nvPr/>
          </p:nvSpPr>
          <p:spPr>
            <a:xfrm>
              <a:off x="7999560" y="242244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组合 78"/>
          <p:cNvGrpSpPr/>
          <p:nvPr/>
        </p:nvGrpSpPr>
        <p:grpSpPr>
          <a:xfrm>
            <a:off x="9074160" y="3651120"/>
            <a:ext cx="1060560" cy="1030320"/>
            <a:chOff x="9074160" y="3651120"/>
            <a:chExt cx="1060560" cy="1030320"/>
          </a:xfrm>
        </p:grpSpPr>
        <p:sp>
          <p:nvSpPr>
            <p:cNvPr id="832" name="椭圆 73"/>
            <p:cNvSpPr/>
            <p:nvPr/>
          </p:nvSpPr>
          <p:spPr>
            <a:xfrm>
              <a:off x="9090000" y="365112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 Box 31"/>
            <p:cNvSpPr/>
            <p:nvPr/>
          </p:nvSpPr>
          <p:spPr>
            <a:xfrm>
              <a:off x="90741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组合 45"/>
          <p:cNvGrpSpPr/>
          <p:nvPr/>
        </p:nvGrpSpPr>
        <p:grpSpPr>
          <a:xfrm>
            <a:off x="4811760" y="3495600"/>
            <a:ext cx="2514600" cy="1220760"/>
            <a:chOff x="4811760" y="3495600"/>
            <a:chExt cx="2514600" cy="1220760"/>
          </a:xfrm>
        </p:grpSpPr>
        <p:sp>
          <p:nvSpPr>
            <p:cNvPr id="835" name="AutoShape 5"/>
            <p:cNvSpPr/>
            <p:nvPr/>
          </p:nvSpPr>
          <p:spPr>
            <a:xfrm>
              <a:off x="4811760" y="3495600"/>
              <a:ext cx="2514600" cy="1220760"/>
            </a:xfrm>
            <a:prstGeom prst="roundRect">
              <a:avLst>
                <a:gd name="adj" fmla="val 13264"/>
              </a:avLst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4847760" y="3838320"/>
              <a:ext cx="242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微软雅黑"/>
                  <a:ea typeface="微软雅黑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Text Box 7"/>
          <p:cNvSpPr/>
          <p:nvPr/>
        </p:nvSpPr>
        <p:spPr>
          <a:xfrm>
            <a:off x="7780320" y="3989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77"/>
          <p:cNvGrpSpPr/>
          <p:nvPr/>
        </p:nvGrpSpPr>
        <p:grpSpPr>
          <a:xfrm>
            <a:off x="7999560" y="4986360"/>
            <a:ext cx="1060200" cy="1030320"/>
            <a:chOff x="7999560" y="4986360"/>
            <a:chExt cx="1060200" cy="1030320"/>
          </a:xfrm>
        </p:grpSpPr>
        <p:sp>
          <p:nvSpPr>
            <p:cNvPr id="839" name="椭圆 74"/>
            <p:cNvSpPr/>
            <p:nvPr/>
          </p:nvSpPr>
          <p:spPr>
            <a:xfrm>
              <a:off x="8015400" y="4986360"/>
              <a:ext cx="102852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Text Box 25"/>
            <p:cNvSpPr/>
            <p:nvPr/>
          </p:nvSpPr>
          <p:spPr>
            <a:xfrm>
              <a:off x="7999560" y="527112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4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任意多边形 3"/>
          <p:cNvSpPr/>
          <p:nvPr/>
        </p:nvSpPr>
        <p:spPr>
          <a:xfrm rot="529200">
            <a:off x="1569600" y="4911840"/>
            <a:ext cx="3351240" cy="7016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任意多边形 4"/>
          <p:cNvSpPr/>
          <p:nvPr/>
        </p:nvSpPr>
        <p:spPr>
          <a:xfrm rot="20643000">
            <a:off x="1320840" y="2665080"/>
            <a:ext cx="3211560" cy="70164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 rot="20250000">
            <a:off x="1461960" y="4101840"/>
            <a:ext cx="3141720" cy="7030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 rot="529200">
            <a:off x="1363680" y="3298680"/>
            <a:ext cx="2948040" cy="702000"/>
          </a:xfrm>
          <a:custGeom>
            <a:avLst/>
            <a:gdLst>
              <a:gd name="textAreaLeft" fmla="*/ 0 w 2948040"/>
              <a:gd name="textAreaRight" fmla="*/ 2948400 w 29480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268292" h="540000">
                <a:moveTo>
                  <a:pt x="0" y="203080"/>
                </a:moveTo>
                <a:lnTo>
                  <a:pt x="74854" y="540000"/>
                </a:lnTo>
                <a:lnTo>
                  <a:pt x="74853" y="540000"/>
                </a:lnTo>
                <a:lnTo>
                  <a:pt x="0" y="203080"/>
                </a:lnTo>
                <a:close/>
                <a:moveTo>
                  <a:pt x="1291005" y="0"/>
                </a:moveTo>
                <a:lnTo>
                  <a:pt x="2268292" y="0"/>
                </a:lnTo>
                <a:lnTo>
                  <a:pt x="1380755" y="540000"/>
                </a:lnTo>
                <a:lnTo>
                  <a:pt x="120618" y="540000"/>
                </a:lnTo>
                <a:lnTo>
                  <a:pt x="1291005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直接连接符 35"/>
          <p:cNvSpPr/>
          <p:nvPr/>
        </p:nvSpPr>
        <p:spPr>
          <a:xfrm>
            <a:off x="4568760" y="258300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59"/>
          <p:cNvSpPr/>
          <p:nvPr/>
        </p:nvSpPr>
        <p:spPr>
          <a:xfrm>
            <a:off x="6375240" y="208764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直接连接符 37"/>
          <p:cNvSpPr/>
          <p:nvPr/>
        </p:nvSpPr>
        <p:spPr>
          <a:xfrm>
            <a:off x="4568760" y="382752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59"/>
          <p:cNvSpPr/>
          <p:nvPr/>
        </p:nvSpPr>
        <p:spPr>
          <a:xfrm>
            <a:off x="6375240" y="3564000"/>
            <a:ext cx="40752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直接连接符 39"/>
          <p:cNvSpPr/>
          <p:nvPr/>
        </p:nvSpPr>
        <p:spPr>
          <a:xfrm>
            <a:off x="4954680" y="5527800"/>
            <a:ext cx="109692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59"/>
          <p:cNvSpPr/>
          <p:nvPr/>
        </p:nvSpPr>
        <p:spPr>
          <a:xfrm>
            <a:off x="6375240" y="5035680"/>
            <a:ext cx="407520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03:43:24Z</dcterms:created>
  <dc:creator>深夜列车</dc:creator>
  <dc:description/>
  <cp:keywords/>
  <dc:language>en-US</dc:language>
  <cp:lastModifiedBy>Administrator</cp:lastModifiedBy>
  <dcterms:modified xsi:type="dcterms:W3CDTF">2016-11-09T10:25:37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