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6BA2-A41C-4A39-BE99-3F217066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9D80-B602-4EA5-9324-D833A073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E025-525A-41DC-81F6-91B256B3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3EA1-0F43-4A3F-83BF-C5F9BD13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5C34-5811-4481-8127-D3C2EF98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958B-13C4-40B4-AEA3-A4F1A999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311C-745A-4DC9-BEC8-764070AA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C05F-C3DD-4016-B7B2-B6F304FF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5230-DCF8-41B9-94E9-6047EBCB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D96B-7FBD-49E8-9E25-E782423E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CF6E-8601-4160-A172-35949175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D745-65D2-4BB9-88F7-8122306B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10C9-66B0-45BC-B7E5-3E78126518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3"/>
          <p:cNvPicPr/>
          <p:nvPr/>
        </p:nvPicPr>
        <p:blipFill>
          <a:blip r:embed="rId2"/>
          <a:stretch/>
        </p:blipFill>
        <p:spPr>
          <a:xfrm>
            <a:off x="0" y="593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19280" y="2636640"/>
            <a:ext cx="230508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时尚中黑简体"/>
              </a:rPr>
              <a:t>印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060720" y="3500280"/>
            <a:ext cx="2735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浪漫雅圆"/>
                <a:ea typeface="时尚中黑简体"/>
              </a:rPr>
              <a:t>TRAVEL AL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989080" y="3573360"/>
            <a:ext cx="367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Impre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8"/>
          <p:cNvPicPr/>
          <p:nvPr/>
        </p:nvPicPr>
        <p:blipFill>
          <a:blip r:embed="rId2"/>
          <a:stretch/>
        </p:blipFill>
        <p:spPr>
          <a:xfrm>
            <a:off x="34920" y="620640"/>
            <a:ext cx="913140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5940360" y="34369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安徽之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848560" y="365904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浪漫雅圆"/>
              </a:rPr>
              <a:t>ANHUI ZHI 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10"/>
          <p:cNvPicPr/>
          <p:nvPr/>
        </p:nvPicPr>
        <p:blipFill>
          <a:blip r:embed="rId3"/>
          <a:stretch/>
        </p:blipFill>
        <p:spPr>
          <a:xfrm>
            <a:off x="5508720" y="3427560"/>
            <a:ext cx="565200" cy="433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5651640" y="342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940360" y="400536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周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来过未曾离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10"/>
          <p:cNvPicPr/>
          <p:nvPr/>
        </p:nvPicPr>
        <p:blipFill>
          <a:blip r:embed="rId4"/>
          <a:stretch/>
        </p:blipFill>
        <p:spPr>
          <a:xfrm>
            <a:off x="5508720" y="400356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5651640" y="39988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940360" y="4235400"/>
            <a:ext cx="29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浪漫雅圆"/>
              </a:rPr>
              <a:t>ZHOU ZHUANG,LAI GUO WEI CENG LI K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10"/>
          <p:cNvPicPr/>
          <p:nvPr/>
        </p:nvPicPr>
        <p:blipFill>
          <a:blip r:embed="rId5"/>
          <a:stretch/>
        </p:blipFill>
        <p:spPr>
          <a:xfrm>
            <a:off x="5508720" y="457992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5651640" y="45752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4788000" y="2421000"/>
            <a:ext cx="99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时尚中黑简体"/>
              </a:rPr>
              <a:t>目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5940360" y="457524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ityWalk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寻梦青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940360" y="480996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浪漫雅圆"/>
              </a:rPr>
              <a:t>CITYWALKS XUN MENG QING D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7" descr="10"/>
          <p:cNvPicPr/>
          <p:nvPr/>
        </p:nvPicPr>
        <p:blipFill>
          <a:blip r:embed="rId6"/>
          <a:stretch/>
        </p:blipFill>
        <p:spPr>
          <a:xfrm>
            <a:off x="5508720" y="515628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8"/>
          <p:cNvSpPr/>
          <p:nvPr/>
        </p:nvSpPr>
        <p:spPr>
          <a:xfrm>
            <a:off x="5653080" y="51516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5940360" y="515160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读湘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5940360" y="53863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浪漫雅圆"/>
              </a:rPr>
              <a:t>JIE DU XIANG X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5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7"/>
          <p:cNvPicPr/>
          <p:nvPr/>
        </p:nvPicPr>
        <p:blipFill>
          <a:blip r:embed="rId3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11"/>
          <p:cNvPicPr/>
          <p:nvPr/>
        </p:nvPicPr>
        <p:blipFill>
          <a:blip r:embed="rId2"/>
          <a:stretch/>
        </p:blipFill>
        <p:spPr>
          <a:xfrm>
            <a:off x="-30240" y="571680"/>
            <a:ext cx="913608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657360" y="1268280"/>
            <a:ext cx="7444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  <a:ea typeface="时尚中黑简体"/>
              </a:rPr>
              <a:t>青岛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12"/>
          <p:cNvPicPr/>
          <p:nvPr/>
        </p:nvPicPr>
        <p:blipFill>
          <a:blip r:embed="rId3"/>
          <a:stretch/>
        </p:blipFill>
        <p:spPr>
          <a:xfrm>
            <a:off x="0" y="30636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13"/>
          <p:cNvPicPr/>
          <p:nvPr/>
        </p:nvPicPr>
        <p:blipFill>
          <a:blip r:embed="rId4"/>
          <a:stretch/>
        </p:blipFill>
        <p:spPr>
          <a:xfrm>
            <a:off x="0" y="522360"/>
            <a:ext cx="913752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2246760" y="15573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faed8"/>
                </a:solidFill>
                <a:latin typeface="微软雅黑"/>
                <a:ea typeface="微软雅黑"/>
              </a:rPr>
              <a:t>岛域旧志 海岛风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685160" y="188604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94949"/>
                </a:solidFill>
                <a:latin typeface="浪漫雅圆"/>
              </a:rPr>
              <a:t>MY TRAVEL MY CITYWAL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835280" y="20350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94949"/>
                </a:solidFill>
                <a:latin typeface="浪漫雅圆"/>
              </a:rPr>
              <a:t>DAO YU JIU ZHI HAI DAO FENG Q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1476360" y="2781360"/>
            <a:ext cx="7210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晚上，各位暴走团的朋友都背着厚厚的旅行包在鼓楼公园门口集合。旅行车还没到之前，各位同志都被暴站在路边，又热又闷，但是还是抵挡不了大家激动的心情呀。直到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11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，大家总算坐上了车出发了，一路上，领头的在前面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K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歌，各个座位上的小情侣们有说有唱的，我和我们家的马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sir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两人也是各种吃，从果冻到薯片，从薯片到糖果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没少折腾，抵达青岛要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8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个小时左右，中途在南京六合停（为了等后面的鲨鱼队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队），在某服务站停靠了一下（主要是很多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GG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MM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要尿尿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真的没法睡，坐七八个小时的车程真的受不了，屁股难受，想睡也没法睡，压根就没一个好的姿势让自己能入睡。于是拿着导航仪在那与大巴做同步，一路北上，经过宿迁、日照等等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4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4124880" y="3141720"/>
            <a:ext cx="88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kzidenz-Grotesk BQ Light with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sus</dc:creator>
  <dc:description/>
  <dc:language>en-US</dc:language>
  <cp:lastModifiedBy>Administrator</cp:lastModifiedBy>
  <dcterms:modified xsi:type="dcterms:W3CDTF">2016-08-02T06:35:22Z</dcterms:modified>
  <cp:revision>2</cp:revision>
  <dc:subject/>
  <dc:title>印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