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112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132.png" ContentType="image/png"/>
  <Override PartName="/ppt/media/image46.png" ContentType="image/png"/>
  <Override PartName="/ppt/media/image50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143.png" ContentType="image/png"/>
  <Override PartName="/ppt/media/image5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4.jpeg" ContentType="image/jpeg"/>
  <Override PartName="/ppt/media/image27.png" ContentType="image/png"/>
  <Override PartName="/ppt/media/image95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FCA-B2A1-4C26-9BC4-DD571A61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4D0-0A8A-4676-A74B-3C195646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88BE0-465B-4972-A29F-BE44140D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9F1C2-C37C-436B-B07A-B477C11E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F0F6C-B3E6-4EC5-A07D-3C844FD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7835F-27AC-428A-B8E2-EDA61656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3643D-B4E8-498B-91D7-F8060961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F7671-C1DE-4E7A-9D58-D222F111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AC00F-733A-4212-9684-879B73F3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86157-6A94-48CB-B0F8-A71B9AA5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3FA8E-AD3B-4867-9D1E-DA4A1383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A7178-A31E-4AFF-A184-70EE62A0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D04-11FF-49D0-A1E9-3FBC9DC6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8B819-7B24-4094-A92A-3889FA80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B5B50-5CC7-4A3D-8D3B-728A6D8B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C2D831-9326-4EC1-904D-E45DB8D8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B4F09-FB15-4D07-BD91-B0EA6815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7C274-935D-45F6-AB22-BC45ECB5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571FB-1E26-43E5-8398-164AD6A8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247A0-4B19-4F98-9453-A974D9B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7404E-211A-4FE5-BAD0-26CD4B34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D746C-34A9-4D9B-9DA0-1DA108E0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5AC3B-3C52-44A4-BC17-2DC3194D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1EC-BB31-46DE-92F2-81AF8693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EEDC0-BD46-4104-BF41-7B37B305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167B6-4486-4E47-990B-4C705E81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3DD00-0A97-499D-9E5B-C1139478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93F7-7FD5-4098-91C3-C55564C8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7D1D5-99F5-4881-A5E7-1B4B846E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CE54C-4075-4A3F-9029-9477A4A1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C6EE5-D90C-4323-B8D6-58790462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F4376-F685-4A1F-AFEA-0C5276D1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9E33E-DC86-434A-BF9F-78F3A897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3D90F-D7E5-4798-98B7-853A2341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8002-A0F2-4D39-8854-87AB4EE8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BE8EB-6AFB-40A9-A529-82FC078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40E52-7EC8-4F3B-BF79-D18F70F6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952F6-A515-4351-B676-927327FB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E9639-44B4-4196-B84E-F155F4D8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172B8-F500-402F-A9FE-4C80CB1D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2CA1B-EDF0-4126-B67C-B7EC0B3B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739C9-057C-42A7-8DE3-7E4E0DF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33B16-F2DE-4B39-BBF2-495C41D3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D933A-B4E3-422F-9506-27409A2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DCFFC-85C0-442B-ACE7-47646188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56E-DF0C-414F-93D5-17B1E4A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93071-3194-477F-B825-77114D4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6F4FA-B8CF-4FFB-AD71-634205D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8EB75-05CF-4952-B4E6-F7DA79E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70F15-002B-4588-AF92-A319DE23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514AA-528F-4606-BC7E-D947F76A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B0189-E3C7-414D-BACC-1259B2A4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0F8E6-B549-4A3B-87CA-5505605C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C0021-1A6A-4D3A-B944-D858429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585C9-78CA-4444-B3D0-1C6522A3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98DED-F401-45BC-8650-746341AC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57CC-08EF-4235-97C7-3EC30C35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490A1-4186-42A8-82DE-043E8A6B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1BFF7-294A-4779-A3EA-3F360A08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A7E2F-0911-40C8-A21F-27520BD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573E3-12F8-407F-9FA6-1483945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9E92E-67AB-4BCC-B4C5-9654129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2FF2A-C933-4763-8B43-26432448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30899-EF81-4016-80E6-89D9BCAE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428D2-123C-4D5E-972D-BDB7FB8B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CBD471-DAA1-44B0-9B01-32B3AD2B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CBEC6-9442-4CA0-A212-18F5207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62F2-B2AC-4C2B-83EF-6390D6C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1D408-F5EA-44E3-B8D5-CDC3B01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88605-2D68-41A9-9FE3-78DA1D7D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C4B14E-06E8-4700-85EA-B8A013E6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BFDE3-9F4D-450B-8627-D29D5467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DA1334-592D-4B54-BE9C-502B0762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F348B-613B-4E83-894A-BC16B6AC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E4392-920A-47B1-AF60-865A828B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17BBB-4CD4-4F42-A92E-C007522A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39AB1-2C80-48F4-84D8-573E3C73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F3C8-E240-47FA-9215-F4D5EB42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DB4E-4DD0-4533-9077-8D86477B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A9AE-094D-4CF0-8897-C5CD76BA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DCC-A66E-46C4-AF56-04C4494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B4C4-9388-40FA-8A01-459ADB48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9B9-48BF-47ED-BDA2-DD4513EC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1C81-F431-4021-AB5F-1BABC3D4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F4BD-9C9E-494D-BF8F-5FA8EFD8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9E08-643A-4377-B250-17FE7DE1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4F28-E212-45E3-83A7-3DFA082C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3C33-515F-402B-A173-2076C78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73FF-0473-4042-B9A9-5FA4884D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9C00-2383-4E59-B114-1B8C549D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A75B-DF48-448D-BFE4-EF102B5C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57A-24C4-43BB-90CF-4A1625B1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902F9-774B-441D-B23F-F6FA892C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CB41-CDEE-4027-88B6-BA51584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9850-D2BE-4A70-B818-8DA347F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13939-9377-496A-B62B-8BBE8B4C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515B-7BAF-48A7-83FF-B5C842D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90DAA-BB72-4FD9-A992-9F9120B0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7F72-5AC8-4AAC-B6AE-CF799D6F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63F6F-19D8-4265-AF77-0DDE87F3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03C55-A0C7-43B0-9B4E-72DC3296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1DD5A-135D-4FDA-AFC4-3FD4242A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0D6-59D2-4960-A226-FFE6A784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3B89-6DB2-480F-B746-00C3BADB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29F21-3A35-4DFC-B61E-85DA37C8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1634B-A0E9-4A09-8768-C343908E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AA2C-3753-4732-8437-6A3EA61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836CC-F277-4EA6-BDAC-16967BA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3EF8F-4885-4A73-BA42-4CCD8110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6149-38B2-4662-8D51-B674F09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4F993-BB9D-49F6-97DC-8CB6DE4C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62C2D-CD5B-4C23-8E68-F64F51AB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318AB-D019-4FFB-9589-37A77791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49B-1C63-409F-BBF8-55AD5694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FBC35-AAD8-496C-84FA-A6CE8FB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6C91D-69B1-4099-A5C9-022F20BB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7B62-2D4E-4A49-A201-4DCF218D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6DAE-CD8C-4048-AA28-73418B5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449FC-1F49-42F6-A42A-29BA1B89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D9C0-5049-4790-B7A4-A7D225D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300E-191F-4A6C-9DD5-1A41F55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D5FC-5565-4351-9E7E-B22482F8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D485-3379-4170-A5E2-42277EE1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B9F7E-602A-4BE5-8745-15FE4AC7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A92-7405-4243-B76C-3C49D58D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C6037-72E7-498F-95E5-654B1745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FB628-E9A9-4CB7-B4E2-195C8FB1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2C09-950F-4334-94A9-F296BC9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35B75-E84C-41F8-BFAB-63C0792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1933-143F-442A-9C23-5DCA44D4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51EA4-36B3-460E-A520-41A7B048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84A0-6D3E-4853-9CA4-DBB5C60B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B1B6C-DF05-49BE-88B7-1770F4A4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010B-154F-42E5-AA58-96F6506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700DB-1308-446D-BCE4-EB7527BD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1EA-D292-4CDF-9E35-7151D9E3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5F9CC-3922-4C8B-8AFA-635837FF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FFD45-B075-4937-B7FE-E5C95818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6F74-5372-4DB3-B298-3B606A3B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20FD-C558-4172-9C63-617F78F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86821-EF9C-40AD-A51F-F574E92D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3BB8-BFE8-42EC-ABCE-CABA76EA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A27C2-E15B-4C2A-AA7E-8514E5BA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2C63A-7D31-4443-8525-11AD8821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3E156-7603-49E6-AFF1-FAF6701D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061D-D80F-422B-B8C6-76B5F9CD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404-E606-4619-9E0B-41879DF7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0E62E-121B-4330-A903-E1D27622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4557B-CA0B-4552-8AE5-D7E9B2A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DA01-4428-4F93-A495-179DAC5E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5B7B-950C-4C2F-9A74-9AE8AC5A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BF3D7-D34A-479D-AA5A-632DAF93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877A-CC5D-454F-8B1C-B9B0600C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CC0A1-8D30-4882-9958-3FD9254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56C2F-39AB-447A-BCBB-EDD9CC8C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728DD-809E-4680-AA4A-90E7271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2FBB9-2264-4DA5-A4A8-592EB301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973-A687-40C2-BB0D-5FA5B514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C95A0-040A-430C-B0EA-9D0AA487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1CAB3-E0A6-4011-A6D1-B0DF8D4F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F2C83-D6A4-4451-9F56-9C556F69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A39A-A70A-435C-B8FB-F170537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E113C-8378-4D08-857D-A2B11D0A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06D0-CF26-459F-9453-9C210123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E1532-9141-438F-A088-CCBF372A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2AA5A-E69C-4415-8080-929C4828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E7B60-0B79-481D-8D6F-4683D2F2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9F89F-022B-4489-919D-055CBA5E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F425-C3DB-433E-8281-4DBA5FD7CC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B9EB-CD59-4F73-8604-AC53F79344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ED91-DC94-4512-9E34-1230238849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574C-C63F-4BE1-B730-6A53AB9827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73B9-D363-4872-9E31-17A4D7B124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E32-6EC5-45DD-85F6-9231382F65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99D-C8E3-4D44-934F-1E91398E01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399C-8DC5-4ABE-8E81-BC4A1AC78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01D3-C68D-493B-9990-4EEA77C95F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022A-968C-41B8-AFB6-355590D005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82B2-AA0E-457E-8784-2FFFB682D9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4DCB-18E5-4E20-BA00-36945C2D72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C6A5-FC2D-4C7A-B6F1-30BF85D2D5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5A82-D6F8-4F2D-B872-035778EADB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122.png"/><Relationship Id="rId79" Type="http://schemas.openxmlformats.org/officeDocument/2006/relationships/image" Target="../media/image123.png"/><Relationship Id="rId80" Type="http://schemas.openxmlformats.org/officeDocument/2006/relationships/image" Target="../media/image124.png"/><Relationship Id="rId81" Type="http://schemas.openxmlformats.org/officeDocument/2006/relationships/image" Target="../media/image125.png"/><Relationship Id="rId82" Type="http://schemas.openxmlformats.org/officeDocument/2006/relationships/image" Target="../media/image126.png"/><Relationship Id="rId83" Type="http://schemas.openxmlformats.org/officeDocument/2006/relationships/image" Target="../media/image127.png"/><Relationship Id="rId84" Type="http://schemas.openxmlformats.org/officeDocument/2006/relationships/image" Target="../media/image128.png"/><Relationship Id="rId85" Type="http://schemas.openxmlformats.org/officeDocument/2006/relationships/image" Target="../media/image129.png"/><Relationship Id="rId86" Type="http://schemas.openxmlformats.org/officeDocument/2006/relationships/image" Target="../media/image130.png"/><Relationship Id="rId87" Type="http://schemas.openxmlformats.org/officeDocument/2006/relationships/image" Target="../media/image131.png"/><Relationship Id="rId88" Type="http://schemas.openxmlformats.org/officeDocument/2006/relationships/image" Target="../media/image132.png"/><Relationship Id="rId89" Type="http://schemas.openxmlformats.org/officeDocument/2006/relationships/image" Target="../media/image133.png"/><Relationship Id="rId90" Type="http://schemas.openxmlformats.org/officeDocument/2006/relationships/image" Target="../media/image134.png"/><Relationship Id="rId91" Type="http://schemas.openxmlformats.org/officeDocument/2006/relationships/image" Target="../media/image135.png"/><Relationship Id="rId92" Type="http://schemas.openxmlformats.org/officeDocument/2006/relationships/image" Target="../media/image136.png"/><Relationship Id="rId93" Type="http://schemas.openxmlformats.org/officeDocument/2006/relationships/image" Target="../media/image137.png"/><Relationship Id="rId94" Type="http://schemas.openxmlformats.org/officeDocument/2006/relationships/image" Target="../media/image138.png"/><Relationship Id="rId95" Type="http://schemas.openxmlformats.org/officeDocument/2006/relationships/image" Target="../media/image139.png"/><Relationship Id="rId96" Type="http://schemas.openxmlformats.org/officeDocument/2006/relationships/image" Target="../media/image140.png"/><Relationship Id="rId97" Type="http://schemas.openxmlformats.org/officeDocument/2006/relationships/image" Target="../media/image141.png"/><Relationship Id="rId98" Type="http://schemas.openxmlformats.org/officeDocument/2006/relationships/image" Target="../media/image142.png"/><Relationship Id="rId99" Type="http://schemas.openxmlformats.org/officeDocument/2006/relationships/image" Target="../media/image143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2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9769320" y="39337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图片 8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4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6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0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4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6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7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8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大侠素材铺</dc:creator>
  <dc:description>大侠素材铺
淘宝店：https://dxpu.taobao.com/</dc:description>
  <cp:keywords>大侠素材铺</cp:keywords>
  <dc:language>en-US</dc:language>
  <cp:lastModifiedBy>微软用户</cp:lastModifiedBy>
  <dcterms:modified xsi:type="dcterms:W3CDTF">2016-11-04T03:27:43Z</dcterms:modified>
  <cp:revision>124</cp:revision>
  <dc:subject>大侠素材铺</dc:subject>
  <dc:title>大侠素材铺</dc:title>
</cp:coreProperties>
</file>