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7.png" ContentType="image/png"/>
  <Override PartName="/ppt/media/image30.jpeg" ContentType="image/jpeg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4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16.png" ContentType="image/png"/>
  <Override PartName="/ppt/media/image84.png" ContentType="image/png"/>
  <Override PartName="/ppt/media/image37.png" ContentType="image/png"/>
  <Override PartName="/ppt/media/image109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8.png" ContentType="image/png"/>
  <Override PartName="/ppt/media/image1.png" ContentType="image/png"/>
  <Override PartName="/ppt/media/image81.png" ContentType="image/png"/>
  <Override PartName="/ppt/media/image13.png" ContentType="image/png"/>
  <Override PartName="/ppt/media/image39.png" ContentType="image/png"/>
  <Override PartName="/ppt/media/image112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137.png" ContentType="image/png"/>
  <Override PartName="/ppt/media/image132.png" ContentType="image/png"/>
  <Override PartName="/ppt/media/image46.png" ContentType="image/png"/>
  <Override PartName="/ppt/media/image50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143.png" ContentType="image/png"/>
  <Override PartName="/ppt/media/image5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42.png" ContentType="image/png"/>
  <Override PartName="/ppt/media/image56.png" ContentType="image/png"/>
  <Override PartName="/ppt/media/image40.jpeg" ContentType="image/jpeg"/>
  <Override PartName="/ppt/media/image44.png" ContentType="image/png"/>
  <Override PartName="/ppt/media/image130.png" ContentType="image/png"/>
  <Override PartName="/ppt/media/image79.png" ContentType="image/png"/>
  <Override PartName="/ppt/media/image141.png" ContentType="image/png"/>
  <Override PartName="/ppt/media/image55.png" ContentType="image/png"/>
  <Override PartName="/ppt/media/image140.png" ContentType="image/png"/>
  <Override PartName="/ppt/media/image89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24.jpeg" ContentType="image/jpeg"/>
  <Override PartName="/ppt/media/image27.png" ContentType="image/png"/>
  <Override PartName="/ppt/media/image95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C87-4BB7-45BC-B88A-7FF50287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284-AA8B-4697-9131-F0615C91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6A4DD-39E2-494D-840C-C9EAD0D5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D917A-DC7B-4D8D-9045-1725874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4BBFB-539F-4BFC-B39A-DDCE92B5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36AAA-C0A4-4D17-86E8-1F7A657A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6252C-2248-4EB5-B740-4A5C8FC0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1B082-1DD8-4E53-ACC6-E53AC0B9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96DF6-4A51-478C-B3F0-AAA7B9FD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8E895-39F2-4C0F-96FB-3333A7A7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F00B3-970E-408C-8A1C-9463F647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E5C8A-2695-43AD-9EE0-B92DAC5C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7E8-0941-418D-8F90-74E3345D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43D97-85F8-484E-8C41-0C6FB1DB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A3E83-FD37-4B9C-9010-0A0560F8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FE21F-6A22-4C0C-85AE-AA80AFBE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ADD49-6C6B-4594-A398-F12B17DA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F28A7-CCCC-436D-B51D-6FDC9D39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33B00-6609-409D-AE91-DF08DF9B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5844F-5966-42BE-80D3-EBC9A8D8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88160-11AC-4019-9D97-EBD9AF45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EB29E-5C4D-4F06-B899-E493C934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C3A6B-4471-4912-B928-A539DE04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062-D5A9-481A-8D98-FE559F47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EC062-D989-4FDC-B7D9-3EC4DEDA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F6632-14E0-4298-89CF-AB5B2AEA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9B2C7-BD8E-42F2-922D-1F22A879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F1099-1850-435A-847A-704C3873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6DB6E-4FC6-4B83-95A7-9E6EAFC4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29F8C-1AD3-4998-9607-F18EE294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F28AA-A573-413F-AD42-84744FF3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57D6F-9287-4872-8210-25AF3450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16478-73CF-442C-BB2C-0CE07653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83F74-C930-416C-AD85-D573BEBB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C9BB-C039-491B-A8AF-8BABE38F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2F957-9167-443D-92EF-5D58F429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91D07-876E-4D42-B575-A880ABD1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9BC42-8D46-401F-AEED-8245B1D8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4A562-BCC4-4FD8-94E8-B11679C0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75CE6-58E6-4019-97F2-6BEC8EFE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ED2E2-26BF-4D8F-83D5-5DAD130A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C58EC-E221-41B7-AA56-274AFDB2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9913E-C2B4-4F07-A858-6637DFD8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B24F0-82B0-4C90-BEA6-80FC08A8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90435-0AD3-4DD4-B2E5-17F809A2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103B-D20A-496A-9A8C-00E42801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8C244-4CCB-4276-A9B9-8AC1F4C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B5DEA-FDC4-456A-ADBB-35E8DC6F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503E0-1F31-42AC-9394-CCDCF145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ADA754-D4D8-44A1-A80A-4BA0E430C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E396C-CDEC-4A62-8378-9C2CE08B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ACEB2-8EBF-4FD9-AA61-6B1C6C1A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8F0BD-F05C-4946-AD5E-88E50959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2BE0D-DAE5-477C-9F50-8156358D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A6ED0-C7EC-479E-B167-12BF504C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1FE8B-0681-41CC-9442-7EA150BD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F877-856C-40FD-ADC1-32449D89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6728F-A1BE-4832-B6F1-EC3478BA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0C524-32D2-47F4-BF18-B46E068D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08E67-1937-47D2-B846-6FF45DB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E020A-A133-4B7D-8338-FBA55F9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A4819-909D-4D76-BECE-5528E93B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94519-BB20-4A52-A64B-B40104B2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DD738F-23AA-48E8-9CD7-25AB0439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3DABD-C5A7-48AC-A1E6-01D8198A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C78FD-643C-4674-A4EE-401003DC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93B3A-631B-49BE-8AA3-48251B70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0CC0-B1D6-4552-BB86-E8C7C8CC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0C4E8-09FD-4956-BCCC-AD40979B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AD3F0-FE1A-42EF-9E5F-E1A3087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CBE77-AFAF-4B45-BEB5-513962E1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E71DD-DB05-4668-A483-B8E343CE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A7B6F-A8CA-42B8-8971-784955FB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E7BCC-9ADB-42B2-9634-8E6A66B5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1FD26-7A5E-4C0F-9C3B-DECA0701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87714-95D6-4640-80AD-D5F5EAAE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6CD24-A46B-4540-AAF4-18F286B5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D4D3-3270-4156-85E2-AE859A0A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CB5C-119D-4B26-A380-1C8DA723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F704-1227-4AAD-A267-23CAEB19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673-18A6-4B40-A13A-BC613A9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BAD7-DAC4-4C03-B56A-9D396F6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89EB-3CAF-4E15-B900-56D1BFE3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FB4F-94E8-4ECD-B0AA-8262A6EE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53EE-E2A2-4A09-A42D-840DADFA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BF8C-894A-4F3D-BFB3-AB2E08B1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4F72-9483-45C5-BA7D-E989553E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1DC9A-21D5-48D0-9248-11A5865A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8A61-3F07-4B6A-97D9-46799E1E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41C59-BE99-4730-8D2D-ABBBA084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7D9F-31B4-4AD5-8474-4E51D243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297-BBB0-4660-AD4A-7CB6BD49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3F9D-5391-4B16-A0F1-8D492088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B494B-A379-4BEE-B23B-E90BBAC5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D757-6F14-4142-B3C1-ACE1B978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BCB5-B18E-48EF-878B-1186BB8D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18B0-6B79-4758-9D66-4A44C999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FFCC-6159-48C0-AAF5-44F9AFE2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F173-BDA9-41BD-A810-2AE9B796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9D1C-A8C7-4853-AE33-E271D7C2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5BB94-3AD3-4C39-858E-27427642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E6C57-974C-439C-9A6C-06C5B6F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454-AC39-4059-951A-AA65C434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9C61B-2648-4CD2-ACA8-6FCE5EAE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F15F-F704-4347-B56A-DCF073E1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FFF4-D1D8-40E3-A36E-18E709AA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EDEFF-2582-4DE2-9630-6E700D97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1F2A1-1BD6-4544-A252-EDA6F216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EFE1B-66E9-472C-A050-A74A5823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B493-F4D3-4B01-B6AD-D1CD403C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D3C5E-3D54-41A0-ABB7-4A3B8384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43A28-EAA3-4766-96AE-BFE5F787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0C7BC-F346-4947-B201-DFF88453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DEE-7109-40D9-B961-73599AEC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2F305-43A6-48A6-B5F4-C15C41DB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E7C3D-88DA-4D25-8428-E1AD8DA1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EB5B0-7FFC-4C0C-BC7D-E4529A49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67078-A55F-42DF-A580-E2F8857C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C45F-4343-4743-B5EC-AF321198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ECA7E-1492-45F0-8971-7DC6F8A5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39A48-2116-4E5E-B570-DC928E26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B793F-2AFA-4345-9815-DECD1B29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D87D0-359D-4178-9863-331A2D78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36CFA-EA9F-47CE-B7D2-D796CDE5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DE4-3FDB-4773-A623-C378DB0B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F596A-43C6-43B3-A6BD-8321C81D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992C0-CD03-4340-881D-808DF198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3B8F8-B7B0-4E5B-B472-1F5A4CCC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FB9D7-39F1-48F2-825F-3710DBED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8FC42-1A6B-4246-8F92-697EEBF2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0F6C5-39DB-4E8A-AE13-0C346BD1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9D3AD-72BC-492F-91A5-70DCF6BD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FD28B-80A9-484D-9456-00DC76FA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E38E7-D9D2-4A59-AFDE-04CEB64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D6B1B-CBDE-4FD0-8961-5D4EF5C6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976-A091-4E28-BD32-B2E68010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B6BE1-A050-4C16-8081-B6D0412D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B452-81AD-4738-A4AB-526E723E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0927F-0DDC-4B53-8BA8-7C907A73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6574-D9A4-4F0D-985C-B5FE7612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EEE61-710B-433E-8237-B06F3F9B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130D8-500A-4FBA-B38E-382476C6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28385-29CB-45B8-A395-8918325C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1FEF0-C6B2-4440-A578-6227D3F5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F91E2-1D8E-424D-A943-E6D17917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D1BD8-55B8-4CEA-9B90-8E2DA888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6DC-E568-4CE2-9C99-E5D36A1C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F128A-3D0E-44B4-8BE3-E357CE1D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63A92-FBA7-4E08-9052-080F0C1C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5C016-2F47-41B2-99C0-5C6D4ACD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9208D-FD93-429B-92B0-4F1D7A4E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D85EC-6774-409D-B7FC-1CBFF198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67EBF-0D73-4FDD-8A45-C2E32B59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9B9DE-2B23-4464-8F82-5137EAFD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9E1E5-5FF5-4226-92D9-33C5483F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15571-97BC-4BA0-AA79-70E7018D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B6053-79C1-4925-B7E5-CB063BC5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2A2-2B5A-4B6F-86B8-65A0ACF3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A2739-BB8F-4BD9-93CA-2AFE9653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1300A-1354-4AA5-AA17-2EF01716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19B90-CEED-42C1-8581-8CDBE9C6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52858-227D-4B0D-A909-6A6ADB24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E8BC0-9E5F-4C0D-A012-3BA79614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92ED6-88F3-43CB-B7F8-C9D4F4F8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15D8D-93DB-45C6-A947-1B5F9650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29C75-B6D4-4983-A0AD-F8B23BD8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54896-D39A-408D-B79D-1FBF8A0C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89E09-57D3-42A9-8053-E3BC946C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BF81-4A13-4472-AFE7-242A1D695F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AF79-E41D-47E4-B84A-C96ACDEE82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7733-C08D-4B08-B777-EA149E07B6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E75C-1B97-43DD-9D14-0D9C2AE253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8C91-59D7-423E-8661-73AEEFD038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B0B1-E02E-4CA2-A7F4-6C4CC0B8C0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2680-B6BD-4354-A481-506BB71726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E9D4-10A3-4313-92AF-FEDA948F96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2779-3D79-458D-AB75-A8AE618A0D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FCCF-DCDE-4009-B2BB-8B30B4EA63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9EAB-1F61-4BF6-85B1-A94739AEFA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2443-81C8-43F8-8BFC-DE07588C49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9920-ADA5-45F9-A4B4-1A573327F2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69EF-BF05-4454-A92C-89A3DE6EE2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image" Target="../media/image56.png"/><Relationship Id="rId13" Type="http://schemas.openxmlformats.org/officeDocument/2006/relationships/image" Target="../media/image57.png"/><Relationship Id="rId14" Type="http://schemas.openxmlformats.org/officeDocument/2006/relationships/image" Target="../media/image58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image" Target="../media/image61.png"/><Relationship Id="rId18" Type="http://schemas.openxmlformats.org/officeDocument/2006/relationships/image" Target="../media/image62.png"/><Relationship Id="rId19" Type="http://schemas.openxmlformats.org/officeDocument/2006/relationships/image" Target="../media/image63.png"/><Relationship Id="rId20" Type="http://schemas.openxmlformats.org/officeDocument/2006/relationships/image" Target="../media/image64.png"/><Relationship Id="rId21" Type="http://schemas.openxmlformats.org/officeDocument/2006/relationships/image" Target="../media/image65.png"/><Relationship Id="rId22" Type="http://schemas.openxmlformats.org/officeDocument/2006/relationships/image" Target="../media/image66.png"/><Relationship Id="rId23" Type="http://schemas.openxmlformats.org/officeDocument/2006/relationships/image" Target="../media/image67.png"/><Relationship Id="rId24" Type="http://schemas.openxmlformats.org/officeDocument/2006/relationships/image" Target="../media/image68.png"/><Relationship Id="rId25" Type="http://schemas.openxmlformats.org/officeDocument/2006/relationships/image" Target="../media/image69.png"/><Relationship Id="rId26" Type="http://schemas.openxmlformats.org/officeDocument/2006/relationships/image" Target="../media/image70.png"/><Relationship Id="rId27" Type="http://schemas.openxmlformats.org/officeDocument/2006/relationships/image" Target="../media/image71.png"/><Relationship Id="rId28" Type="http://schemas.openxmlformats.org/officeDocument/2006/relationships/image" Target="../media/image72.png"/><Relationship Id="rId29" Type="http://schemas.openxmlformats.org/officeDocument/2006/relationships/image" Target="../media/image73.png"/><Relationship Id="rId30" Type="http://schemas.openxmlformats.org/officeDocument/2006/relationships/image" Target="../media/image74.png"/><Relationship Id="rId31" Type="http://schemas.openxmlformats.org/officeDocument/2006/relationships/image" Target="../media/image75.png"/><Relationship Id="rId32" Type="http://schemas.openxmlformats.org/officeDocument/2006/relationships/image" Target="../media/image76.png"/><Relationship Id="rId33" Type="http://schemas.openxmlformats.org/officeDocument/2006/relationships/image" Target="../media/image77.png"/><Relationship Id="rId34" Type="http://schemas.openxmlformats.org/officeDocument/2006/relationships/image" Target="../media/image78.png"/><Relationship Id="rId35" Type="http://schemas.openxmlformats.org/officeDocument/2006/relationships/image" Target="../media/image79.png"/><Relationship Id="rId36" Type="http://schemas.openxmlformats.org/officeDocument/2006/relationships/image" Target="../media/image80.png"/><Relationship Id="rId37" Type="http://schemas.openxmlformats.org/officeDocument/2006/relationships/image" Target="../media/image81.png"/><Relationship Id="rId38" Type="http://schemas.openxmlformats.org/officeDocument/2006/relationships/image" Target="../media/image82.png"/><Relationship Id="rId39" Type="http://schemas.openxmlformats.org/officeDocument/2006/relationships/image" Target="../media/image83.png"/><Relationship Id="rId40" Type="http://schemas.openxmlformats.org/officeDocument/2006/relationships/image" Target="../media/image84.png"/><Relationship Id="rId41" Type="http://schemas.openxmlformats.org/officeDocument/2006/relationships/image" Target="../media/image85.png"/><Relationship Id="rId42" Type="http://schemas.openxmlformats.org/officeDocument/2006/relationships/image" Target="../media/image86.png"/><Relationship Id="rId43" Type="http://schemas.openxmlformats.org/officeDocument/2006/relationships/image" Target="../media/image87.png"/><Relationship Id="rId44" Type="http://schemas.openxmlformats.org/officeDocument/2006/relationships/image" Target="../media/image88.png"/><Relationship Id="rId45" Type="http://schemas.openxmlformats.org/officeDocument/2006/relationships/image" Target="../media/image89.png"/><Relationship Id="rId46" Type="http://schemas.openxmlformats.org/officeDocument/2006/relationships/image" Target="../media/image90.png"/><Relationship Id="rId47" Type="http://schemas.openxmlformats.org/officeDocument/2006/relationships/image" Target="../media/image91.png"/><Relationship Id="rId48" Type="http://schemas.openxmlformats.org/officeDocument/2006/relationships/image" Target="../media/image92.png"/><Relationship Id="rId49" Type="http://schemas.openxmlformats.org/officeDocument/2006/relationships/image" Target="../media/image93.png"/><Relationship Id="rId50" Type="http://schemas.openxmlformats.org/officeDocument/2006/relationships/image" Target="../media/image94.png"/><Relationship Id="rId51" Type="http://schemas.openxmlformats.org/officeDocument/2006/relationships/image" Target="../media/image95.png"/><Relationship Id="rId52" Type="http://schemas.openxmlformats.org/officeDocument/2006/relationships/image" Target="../media/image96.png"/><Relationship Id="rId53" Type="http://schemas.openxmlformats.org/officeDocument/2006/relationships/image" Target="../media/image97.png"/><Relationship Id="rId54" Type="http://schemas.openxmlformats.org/officeDocument/2006/relationships/image" Target="../media/image98.png"/><Relationship Id="rId55" Type="http://schemas.openxmlformats.org/officeDocument/2006/relationships/image" Target="../media/image99.png"/><Relationship Id="rId56" Type="http://schemas.openxmlformats.org/officeDocument/2006/relationships/image" Target="../media/image100.png"/><Relationship Id="rId57" Type="http://schemas.openxmlformats.org/officeDocument/2006/relationships/image" Target="../media/image101.png"/><Relationship Id="rId58" Type="http://schemas.openxmlformats.org/officeDocument/2006/relationships/image" Target="../media/image102.png"/><Relationship Id="rId59" Type="http://schemas.openxmlformats.org/officeDocument/2006/relationships/image" Target="../media/image103.png"/><Relationship Id="rId60" Type="http://schemas.openxmlformats.org/officeDocument/2006/relationships/image" Target="../media/image104.png"/><Relationship Id="rId61" Type="http://schemas.openxmlformats.org/officeDocument/2006/relationships/image" Target="../media/image105.png"/><Relationship Id="rId62" Type="http://schemas.openxmlformats.org/officeDocument/2006/relationships/image" Target="../media/image106.png"/><Relationship Id="rId63" Type="http://schemas.openxmlformats.org/officeDocument/2006/relationships/image" Target="../media/image107.png"/><Relationship Id="rId64" Type="http://schemas.openxmlformats.org/officeDocument/2006/relationships/image" Target="../media/image108.png"/><Relationship Id="rId65" Type="http://schemas.openxmlformats.org/officeDocument/2006/relationships/image" Target="../media/image109.png"/><Relationship Id="rId66" Type="http://schemas.openxmlformats.org/officeDocument/2006/relationships/image" Target="../media/image110.png"/><Relationship Id="rId67" Type="http://schemas.openxmlformats.org/officeDocument/2006/relationships/image" Target="../media/image111.png"/><Relationship Id="rId68" Type="http://schemas.openxmlformats.org/officeDocument/2006/relationships/image" Target="../media/image112.png"/><Relationship Id="rId69" Type="http://schemas.openxmlformats.org/officeDocument/2006/relationships/image" Target="../media/image113.png"/><Relationship Id="rId70" Type="http://schemas.openxmlformats.org/officeDocument/2006/relationships/image" Target="../media/image114.png"/><Relationship Id="rId71" Type="http://schemas.openxmlformats.org/officeDocument/2006/relationships/image" Target="../media/image115.png"/><Relationship Id="rId72" Type="http://schemas.openxmlformats.org/officeDocument/2006/relationships/image" Target="../media/image116.png"/><Relationship Id="rId73" Type="http://schemas.openxmlformats.org/officeDocument/2006/relationships/image" Target="../media/image117.png"/><Relationship Id="rId74" Type="http://schemas.openxmlformats.org/officeDocument/2006/relationships/image" Target="../media/image118.png"/><Relationship Id="rId75" Type="http://schemas.openxmlformats.org/officeDocument/2006/relationships/image" Target="../media/image119.png"/><Relationship Id="rId76" Type="http://schemas.openxmlformats.org/officeDocument/2006/relationships/image" Target="../media/image120.png"/><Relationship Id="rId77" Type="http://schemas.openxmlformats.org/officeDocument/2006/relationships/image" Target="../media/image121.png"/><Relationship Id="rId78" Type="http://schemas.openxmlformats.org/officeDocument/2006/relationships/image" Target="../media/image122.png"/><Relationship Id="rId79" Type="http://schemas.openxmlformats.org/officeDocument/2006/relationships/image" Target="../media/image123.png"/><Relationship Id="rId80" Type="http://schemas.openxmlformats.org/officeDocument/2006/relationships/image" Target="../media/image124.png"/><Relationship Id="rId81" Type="http://schemas.openxmlformats.org/officeDocument/2006/relationships/image" Target="../media/image125.png"/><Relationship Id="rId82" Type="http://schemas.openxmlformats.org/officeDocument/2006/relationships/image" Target="../media/image126.png"/><Relationship Id="rId83" Type="http://schemas.openxmlformats.org/officeDocument/2006/relationships/image" Target="../media/image127.png"/><Relationship Id="rId84" Type="http://schemas.openxmlformats.org/officeDocument/2006/relationships/image" Target="../media/image128.png"/><Relationship Id="rId85" Type="http://schemas.openxmlformats.org/officeDocument/2006/relationships/image" Target="../media/image129.png"/><Relationship Id="rId86" Type="http://schemas.openxmlformats.org/officeDocument/2006/relationships/image" Target="../media/image130.png"/><Relationship Id="rId87" Type="http://schemas.openxmlformats.org/officeDocument/2006/relationships/image" Target="../media/image131.png"/><Relationship Id="rId88" Type="http://schemas.openxmlformats.org/officeDocument/2006/relationships/image" Target="../media/image132.png"/><Relationship Id="rId89" Type="http://schemas.openxmlformats.org/officeDocument/2006/relationships/image" Target="../media/image133.png"/><Relationship Id="rId90" Type="http://schemas.openxmlformats.org/officeDocument/2006/relationships/image" Target="../media/image134.png"/><Relationship Id="rId91" Type="http://schemas.openxmlformats.org/officeDocument/2006/relationships/image" Target="../media/image135.png"/><Relationship Id="rId92" Type="http://schemas.openxmlformats.org/officeDocument/2006/relationships/image" Target="../media/image136.png"/><Relationship Id="rId93" Type="http://schemas.openxmlformats.org/officeDocument/2006/relationships/image" Target="../media/image137.png"/><Relationship Id="rId94" Type="http://schemas.openxmlformats.org/officeDocument/2006/relationships/image" Target="../media/image138.png"/><Relationship Id="rId95" Type="http://schemas.openxmlformats.org/officeDocument/2006/relationships/image" Target="../media/image139.png"/><Relationship Id="rId96" Type="http://schemas.openxmlformats.org/officeDocument/2006/relationships/image" Target="../media/image140.png"/><Relationship Id="rId97" Type="http://schemas.openxmlformats.org/officeDocument/2006/relationships/image" Target="../media/image141.png"/><Relationship Id="rId98" Type="http://schemas.openxmlformats.org/officeDocument/2006/relationships/image" Target="../media/image142.png"/><Relationship Id="rId99" Type="http://schemas.openxmlformats.org/officeDocument/2006/relationships/image" Target="../media/image143.png"/><Relationship Id="rId100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等腰三角形 4"/>
          <p:cNvSpPr/>
          <p:nvPr/>
        </p:nvSpPr>
        <p:spPr>
          <a:xfrm>
            <a:off x="341136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5"/>
          <p:cNvSpPr/>
          <p:nvPr/>
        </p:nvSpPr>
        <p:spPr>
          <a:xfrm>
            <a:off x="9978120" y="177624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文本框 6"/>
          <p:cNvSpPr/>
          <p:nvPr/>
        </p:nvSpPr>
        <p:spPr>
          <a:xfrm>
            <a:off x="6285240" y="268452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用商业计划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7"/>
          <p:cNvSpPr/>
          <p:nvPr/>
        </p:nvSpPr>
        <p:spPr>
          <a:xfrm>
            <a:off x="4900680" y="383868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BUSINESS 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文本框 8"/>
          <p:cNvSpPr/>
          <p:nvPr/>
        </p:nvSpPr>
        <p:spPr>
          <a:xfrm>
            <a:off x="9283320" y="433404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招商融资 项目推广 项目介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片 2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业市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组合 12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840" name="组合 10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841" name="平行四边形 9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平行四边形 8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3" name="文本框 11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4" name="组合 13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845" name="组合 14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846" name="平行四边形 16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平行四边形 17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文本框 15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18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850" name="组合 19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851" name="平行四边形 21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平行四边形 22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3" name="文本框 20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4" name="组合 23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855" name="组合 24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856" name="平行四边形 26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平行四边形 27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8" name="文本框 25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组合 28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860" name="组合 29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861" name="平行四边形 31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平行四边形 32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3" name="文本框 30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平行四边形 33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规模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平行四边形 35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竞争对手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平行四边形 37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客户群体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平行四边形 39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产品定位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平行四边形 41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趋势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规模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ectangle 2"/>
          <p:cNvSpPr/>
          <p:nvPr/>
        </p:nvSpPr>
        <p:spPr>
          <a:xfrm>
            <a:off x="1230480" y="1906560"/>
            <a:ext cx="4917960" cy="190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Rectangle 3"/>
          <p:cNvSpPr/>
          <p:nvPr/>
        </p:nvSpPr>
        <p:spPr>
          <a:xfrm>
            <a:off x="1230480" y="3814920"/>
            <a:ext cx="4917960" cy="19065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6148440" y="1906560"/>
            <a:ext cx="4917960" cy="1908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6148440" y="3814920"/>
            <a:ext cx="4917960" cy="1906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Oval 6"/>
          <p:cNvSpPr/>
          <p:nvPr/>
        </p:nvSpPr>
        <p:spPr>
          <a:xfrm>
            <a:off x="5746680" y="3432240"/>
            <a:ext cx="758880" cy="763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3" name="Group 13" descr=""/>
          <p:cNvPicPr/>
          <p:nvPr/>
        </p:nvPicPr>
        <p:blipFill>
          <a:blip r:embed="rId1"/>
          <a:stretch/>
        </p:blipFill>
        <p:spPr>
          <a:xfrm>
            <a:off x="10064880" y="2438280"/>
            <a:ext cx="699840" cy="847800"/>
          </a:xfrm>
          <a:prstGeom prst="rect">
            <a:avLst/>
          </a:prstGeom>
          <a:ln w="0">
            <a:noFill/>
          </a:ln>
        </p:spPr>
      </p:pic>
      <p:pic>
        <p:nvPicPr>
          <p:cNvPr id="884" name="组合 24" descr=""/>
          <p:cNvPicPr/>
          <p:nvPr/>
        </p:nvPicPr>
        <p:blipFill>
          <a:blip r:embed="rId2"/>
          <a:stretch/>
        </p:blipFill>
        <p:spPr>
          <a:xfrm>
            <a:off x="5937120" y="3638520"/>
            <a:ext cx="354240" cy="353880"/>
          </a:xfrm>
          <a:prstGeom prst="rect">
            <a:avLst/>
          </a:prstGeom>
          <a:ln w="0">
            <a:noFill/>
          </a:ln>
        </p:spPr>
      </p:pic>
      <p:sp>
        <p:nvSpPr>
          <p:cNvPr id="885" name="矩形 28"/>
          <p:cNvSpPr/>
          <p:nvPr/>
        </p:nvSpPr>
        <p:spPr>
          <a:xfrm>
            <a:off x="2743200" y="2468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13"/>
          <p:cNvSpPr/>
          <p:nvPr/>
        </p:nvSpPr>
        <p:spPr>
          <a:xfrm>
            <a:off x="2743200" y="217008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规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30"/>
          <p:cNvSpPr/>
          <p:nvPr/>
        </p:nvSpPr>
        <p:spPr>
          <a:xfrm>
            <a:off x="2743200" y="4511520"/>
            <a:ext cx="28447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2743200" y="421164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消费需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矩形 32"/>
          <p:cNvSpPr/>
          <p:nvPr/>
        </p:nvSpPr>
        <p:spPr>
          <a:xfrm>
            <a:off x="6900840" y="45115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8450280" y="42116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选择网络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矩形 34"/>
          <p:cNvSpPr/>
          <p:nvPr/>
        </p:nvSpPr>
        <p:spPr>
          <a:xfrm>
            <a:off x="6900840" y="25416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8507520" y="224316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网络市场特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9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6" name="组合 39" descr=""/>
          <p:cNvPicPr/>
          <p:nvPr/>
        </p:nvPicPr>
        <p:blipFill>
          <a:blip r:embed="rId3"/>
          <a:stretch/>
        </p:blipFill>
        <p:spPr>
          <a:xfrm>
            <a:off x="1584360" y="2328840"/>
            <a:ext cx="798480" cy="987480"/>
          </a:xfrm>
          <a:prstGeom prst="rect">
            <a:avLst/>
          </a:prstGeom>
          <a:ln w="0">
            <a:noFill/>
          </a:ln>
        </p:spPr>
      </p:pic>
      <p:pic>
        <p:nvPicPr>
          <p:cNvPr id="897" name="组合 49" descr=""/>
          <p:cNvPicPr/>
          <p:nvPr/>
        </p:nvPicPr>
        <p:blipFill>
          <a:blip r:embed="rId4"/>
          <a:stretch/>
        </p:blipFill>
        <p:spPr>
          <a:xfrm>
            <a:off x="10064880" y="4376880"/>
            <a:ext cx="712800" cy="718920"/>
          </a:xfrm>
          <a:prstGeom prst="rect">
            <a:avLst/>
          </a:prstGeom>
          <a:ln w="0">
            <a:noFill/>
          </a:ln>
        </p:spPr>
      </p:pic>
      <p:pic>
        <p:nvPicPr>
          <p:cNvPr id="898" name="组合 57" descr=""/>
          <p:cNvPicPr/>
          <p:nvPr/>
        </p:nvPicPr>
        <p:blipFill>
          <a:blip r:embed="rId5"/>
          <a:stretch/>
        </p:blipFill>
        <p:spPr>
          <a:xfrm>
            <a:off x="1706400" y="4419720"/>
            <a:ext cx="8352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对手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Rounded Rectangle 5"/>
          <p:cNvSpPr/>
          <p:nvPr/>
        </p:nvSpPr>
        <p:spPr>
          <a:xfrm>
            <a:off x="1270080" y="2517840"/>
            <a:ext cx="110628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ounded Rectangle 11"/>
          <p:cNvSpPr/>
          <p:nvPr/>
        </p:nvSpPr>
        <p:spPr>
          <a:xfrm>
            <a:off x="4611600" y="2517840"/>
            <a:ext cx="1104840" cy="11062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280"/>
              <a:gd name="textAreaBottom" fmla="*/ 1052640 h 1106280"/>
            </a:gdLst>
            <a:ahLst/>
            <a:rect l="textAreaLeft" t="textAreaTop" r="textAreaRight" b="textAreaBottom"/>
            <a:pathLst>
              <a:path w="21600" h="21628">
                <a:moveTo>
                  <a:pt x="3600" y="0"/>
                </a:moveTo>
                <a:arcTo wR="3600" hR="3600" stAng="16200000" swAng="-5400000"/>
                <a:lnTo>
                  <a:pt x="0" y="18028"/>
                </a:lnTo>
                <a:arcTo wR="3600" hR="3600" stAng="10800000" swAng="-5400000"/>
                <a:lnTo>
                  <a:pt x="18000" y="216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ounded Rectangle 13"/>
          <p:cNvSpPr/>
          <p:nvPr/>
        </p:nvSpPr>
        <p:spPr>
          <a:xfrm>
            <a:off x="8005680" y="2517840"/>
            <a:ext cx="1106640" cy="11062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ounded Rectangle 15"/>
          <p:cNvSpPr/>
          <p:nvPr/>
        </p:nvSpPr>
        <p:spPr>
          <a:xfrm>
            <a:off x="1270080" y="4297320"/>
            <a:ext cx="1106280" cy="110664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106640"/>
              <a:gd name="textAreaBottom" fmla="*/ 1052640 h 1106640"/>
            </a:gdLst>
            <a:ahLst/>
            <a:rect l="textAreaLeft" t="textAreaTop" r="textAreaRight" b="textAreaBottom"/>
            <a:pathLst>
              <a:path w="21600" h="21607">
                <a:moveTo>
                  <a:pt x="3600" y="0"/>
                </a:moveTo>
                <a:arcTo wR="3600" hR="3600" stAng="16200000" swAng="-5400000"/>
                <a:lnTo>
                  <a:pt x="0" y="18007"/>
                </a:lnTo>
                <a:arcTo wR="3600" hR="3600" stAng="10800000" swAng="-5400000"/>
                <a:lnTo>
                  <a:pt x="18000" y="216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Rounded Rectangle 17"/>
          <p:cNvSpPr/>
          <p:nvPr/>
        </p:nvSpPr>
        <p:spPr>
          <a:xfrm>
            <a:off x="4611600" y="4297320"/>
            <a:ext cx="1104840" cy="110664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106640"/>
              <a:gd name="textAreaBottom" fmla="*/ 1053000 h 1106640"/>
            </a:gdLst>
            <a:ahLst/>
            <a:rect l="textAreaLeft" t="textAreaTop" r="textAreaRight" b="textAreaBottom"/>
            <a:pathLst>
              <a:path w="21600" h="21635">
                <a:moveTo>
                  <a:pt x="3600" y="0"/>
                </a:moveTo>
                <a:arcTo wR="3600" hR="3600" stAng="16200000" swAng="-5400000"/>
                <a:lnTo>
                  <a:pt x="0" y="18035"/>
                </a:lnTo>
                <a:arcTo wR="3600" hR="3600" stAng="10800000" swAng="-5400000"/>
                <a:lnTo>
                  <a:pt x="18000" y="21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Rounded Rectangle 19"/>
          <p:cNvSpPr/>
          <p:nvPr/>
        </p:nvSpPr>
        <p:spPr>
          <a:xfrm>
            <a:off x="8005680" y="4297320"/>
            <a:ext cx="1106640" cy="11066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44"/>
          <p:cNvSpPr/>
          <p:nvPr/>
        </p:nvSpPr>
        <p:spPr>
          <a:xfrm>
            <a:off x="1546200" y="2797200"/>
            <a:ext cx="530280" cy="52236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0" name="Group 24" descr=""/>
          <p:cNvPicPr/>
          <p:nvPr/>
        </p:nvPicPr>
        <p:blipFill>
          <a:blip r:embed="rId1"/>
          <a:stretch/>
        </p:blipFill>
        <p:spPr>
          <a:xfrm>
            <a:off x="4896000" y="2822400"/>
            <a:ext cx="541080" cy="5004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13"/>
          <p:cNvSpPr/>
          <p:nvPr/>
        </p:nvSpPr>
        <p:spPr>
          <a:xfrm>
            <a:off x="250668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企业竞争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3"/>
          <p:cNvSpPr/>
          <p:nvPr/>
        </p:nvSpPr>
        <p:spPr>
          <a:xfrm>
            <a:off x="24922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3"/>
          <p:cNvSpPr/>
          <p:nvPr/>
        </p:nvSpPr>
        <p:spPr>
          <a:xfrm>
            <a:off x="5845320" y="2714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TextBox 13"/>
          <p:cNvSpPr/>
          <p:nvPr/>
        </p:nvSpPr>
        <p:spPr>
          <a:xfrm>
            <a:off x="583092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TextBox 13"/>
          <p:cNvSpPr/>
          <p:nvPr/>
        </p:nvSpPr>
        <p:spPr>
          <a:xfrm>
            <a:off x="9218520" y="2714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目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TextBox 13"/>
          <p:cNvSpPr/>
          <p:nvPr/>
        </p:nvSpPr>
        <p:spPr>
          <a:xfrm>
            <a:off x="9202680" y="3024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13"/>
          <p:cNvSpPr/>
          <p:nvPr/>
        </p:nvSpPr>
        <p:spPr>
          <a:xfrm>
            <a:off x="250668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劣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24922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5845320" y="448776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战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583092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9218520" y="4487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反应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9202680" y="4797360"/>
            <a:ext cx="154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3" name="组合 4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24" name="椭圆 4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等腰三角形 4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6" name="组合 47" descr=""/>
          <p:cNvPicPr/>
          <p:nvPr/>
        </p:nvPicPr>
        <p:blipFill>
          <a:blip r:embed="rId2"/>
          <a:stretch/>
        </p:blipFill>
        <p:spPr>
          <a:xfrm>
            <a:off x="1573200" y="4638600"/>
            <a:ext cx="504720" cy="451080"/>
          </a:xfrm>
          <a:prstGeom prst="rect">
            <a:avLst/>
          </a:prstGeom>
          <a:ln w="0">
            <a:noFill/>
          </a:ln>
        </p:spPr>
      </p:pic>
      <p:pic>
        <p:nvPicPr>
          <p:cNvPr id="927" name="组合 52" descr=""/>
          <p:cNvPicPr/>
          <p:nvPr/>
        </p:nvPicPr>
        <p:blipFill>
          <a:blip r:embed="rId3"/>
          <a:stretch/>
        </p:blipFill>
        <p:spPr>
          <a:xfrm>
            <a:off x="4896000" y="4559400"/>
            <a:ext cx="554040" cy="573120"/>
          </a:xfrm>
          <a:prstGeom prst="rect">
            <a:avLst/>
          </a:prstGeom>
          <a:ln w="0">
            <a:noFill/>
          </a:ln>
        </p:spPr>
      </p:pic>
      <p:pic>
        <p:nvPicPr>
          <p:cNvPr id="928" name="组合 57" descr=""/>
          <p:cNvPicPr/>
          <p:nvPr/>
        </p:nvPicPr>
        <p:blipFill>
          <a:blip r:embed="rId4"/>
          <a:stretch/>
        </p:blipFill>
        <p:spPr>
          <a:xfrm>
            <a:off x="8290080" y="2822400"/>
            <a:ext cx="585720" cy="586080"/>
          </a:xfrm>
          <a:prstGeom prst="rect">
            <a:avLst/>
          </a:prstGeom>
          <a:ln w="0">
            <a:noFill/>
          </a:ln>
        </p:spPr>
      </p:pic>
      <p:pic>
        <p:nvPicPr>
          <p:cNvPr id="929" name="组合 62" descr=""/>
          <p:cNvPicPr/>
          <p:nvPr/>
        </p:nvPicPr>
        <p:blipFill>
          <a:blip r:embed="rId5"/>
          <a:stretch/>
        </p:blipFill>
        <p:spPr>
          <a:xfrm>
            <a:off x="8265960" y="4595760"/>
            <a:ext cx="5922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群体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898560" y="2151000"/>
            <a:ext cx="1679400" cy="17049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29">
                <a:moveTo>
                  <a:pt x="1243" y="0"/>
                </a:moveTo>
                <a:arcTo wR="1243" hR="1243" stAng="16200000" swAng="-5400000"/>
                <a:lnTo>
                  <a:pt x="0" y="20686"/>
                </a:lnTo>
                <a:arcTo wR="1243" hR="1243" stAng="10800000" swAng="-5400000"/>
                <a:lnTo>
                  <a:pt x="20357" y="21929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Straight Connector 17"/>
          <p:cNvSpPr/>
          <p:nvPr/>
        </p:nvSpPr>
        <p:spPr>
          <a:xfrm>
            <a:off x="106200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traight Connector 24"/>
          <p:cNvSpPr/>
          <p:nvPr/>
        </p:nvSpPr>
        <p:spPr>
          <a:xfrm>
            <a:off x="106200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Isosceles Triangle 27"/>
          <p:cNvSpPr/>
          <p:nvPr/>
        </p:nvSpPr>
        <p:spPr>
          <a:xfrm flipV="1">
            <a:off x="162072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Straight Connector 31"/>
          <p:cNvSpPr/>
          <p:nvPr/>
        </p:nvSpPr>
        <p:spPr>
          <a:xfrm>
            <a:off x="280980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Isosceles Triangle 32"/>
          <p:cNvSpPr/>
          <p:nvPr/>
        </p:nvSpPr>
        <p:spPr>
          <a:xfrm>
            <a:off x="3370320" y="3730680"/>
            <a:ext cx="23472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ounded Rectangle 23"/>
          <p:cNvSpPr/>
          <p:nvPr/>
        </p:nvSpPr>
        <p:spPr>
          <a:xfrm flipV="1">
            <a:off x="26478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Straight Connector 38"/>
          <p:cNvSpPr/>
          <p:nvPr/>
        </p:nvSpPr>
        <p:spPr>
          <a:xfrm>
            <a:off x="280980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Rounded Rectangle 120"/>
          <p:cNvSpPr/>
          <p:nvPr/>
        </p:nvSpPr>
        <p:spPr>
          <a:xfrm>
            <a:off x="43974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traight Connector 134"/>
          <p:cNvSpPr/>
          <p:nvPr/>
        </p:nvSpPr>
        <p:spPr>
          <a:xfrm>
            <a:off x="4559400" y="3936960"/>
            <a:ext cx="135396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Isosceles Triangle 135"/>
          <p:cNvSpPr/>
          <p:nvPr/>
        </p:nvSpPr>
        <p:spPr>
          <a:xfrm flipV="1">
            <a:off x="5118120" y="3936240"/>
            <a:ext cx="23652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traight Connector 132"/>
          <p:cNvSpPr/>
          <p:nvPr/>
        </p:nvSpPr>
        <p:spPr>
          <a:xfrm>
            <a:off x="6308640" y="3933720"/>
            <a:ext cx="135432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Isosceles Triangle 133"/>
          <p:cNvSpPr/>
          <p:nvPr/>
        </p:nvSpPr>
        <p:spPr>
          <a:xfrm>
            <a:off x="68673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Rounded Rectangle 127"/>
          <p:cNvSpPr/>
          <p:nvPr/>
        </p:nvSpPr>
        <p:spPr>
          <a:xfrm flipV="1">
            <a:off x="6145200" y="4037760"/>
            <a:ext cx="1679760" cy="1706760"/>
          </a:xfrm>
          <a:custGeom>
            <a:avLst/>
            <a:gdLst>
              <a:gd name="textAreaLeft" fmla="*/ 28080 w 1679760"/>
              <a:gd name="textAreaRight" fmla="*/ 1651680 w 167976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Rounded Rectangle 140"/>
          <p:cNvSpPr/>
          <p:nvPr/>
        </p:nvSpPr>
        <p:spPr>
          <a:xfrm>
            <a:off x="7894800" y="2151000"/>
            <a:ext cx="1677960" cy="1704960"/>
          </a:xfrm>
          <a:custGeom>
            <a:avLst/>
            <a:gdLst>
              <a:gd name="textAreaLeft" fmla="*/ 28080 w 1677960"/>
              <a:gd name="textAreaRight" fmla="*/ 1649880 w 1677960"/>
              <a:gd name="textAreaTop" fmla="*/ 28080 h 1704960"/>
              <a:gd name="textAreaBottom" fmla="*/ 1676880 h 1704960"/>
            </a:gdLst>
            <a:ahLst/>
            <a:rect l="textAreaLeft" t="textAreaTop" r="textAreaRight" b="textAreaBottom"/>
            <a:pathLst>
              <a:path w="21600" h="21947">
                <a:moveTo>
                  <a:pt x="1243" y="0"/>
                </a:moveTo>
                <a:arcTo wR="1243" hR="1243" stAng="16200000" swAng="-5400000"/>
                <a:lnTo>
                  <a:pt x="0" y="20704"/>
                </a:lnTo>
                <a:arcTo wR="1243" hR="1243" stAng="10800000" swAng="-5400000"/>
                <a:lnTo>
                  <a:pt x="20357" y="21947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traight Connector 154"/>
          <p:cNvSpPr/>
          <p:nvPr/>
        </p:nvSpPr>
        <p:spPr>
          <a:xfrm>
            <a:off x="8056440" y="3936960"/>
            <a:ext cx="1354320" cy="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Isosceles Triangle 155"/>
          <p:cNvSpPr/>
          <p:nvPr/>
        </p:nvSpPr>
        <p:spPr>
          <a:xfrm flipV="1">
            <a:off x="8616960" y="3936240"/>
            <a:ext cx="235080" cy="2034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traight Connector 152"/>
          <p:cNvSpPr/>
          <p:nvPr/>
        </p:nvSpPr>
        <p:spPr>
          <a:xfrm>
            <a:off x="9806040" y="3933720"/>
            <a:ext cx="1353960" cy="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Isosceles Triangle 153"/>
          <p:cNvSpPr/>
          <p:nvPr/>
        </p:nvSpPr>
        <p:spPr>
          <a:xfrm>
            <a:off x="10364760" y="3730680"/>
            <a:ext cx="235080" cy="2030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Rounded Rectangle 147"/>
          <p:cNvSpPr/>
          <p:nvPr/>
        </p:nvSpPr>
        <p:spPr>
          <a:xfrm flipV="1">
            <a:off x="9642600" y="4037760"/>
            <a:ext cx="1679400" cy="1706760"/>
          </a:xfrm>
          <a:custGeom>
            <a:avLst/>
            <a:gdLst>
              <a:gd name="textAreaLeft" fmla="*/ 28080 w 1679400"/>
              <a:gd name="textAreaRight" fmla="*/ 1651320 w 1679400"/>
              <a:gd name="textAreaTop" fmla="*/ 28080 h 1706760"/>
              <a:gd name="textAreaBottom" fmla="*/ 1678680 h 1706760"/>
            </a:gdLst>
            <a:ahLst/>
            <a:rect l="textAreaLeft" t="textAreaTop" r="textAreaRight" b="textAreaBottom"/>
            <a:pathLst>
              <a:path w="21600" h="21952">
                <a:moveTo>
                  <a:pt x="1243" y="0"/>
                </a:moveTo>
                <a:arcTo wR="1243" hR="1243" stAng="16200000" swAng="-5400000"/>
                <a:lnTo>
                  <a:pt x="0" y="20709"/>
                </a:lnTo>
                <a:arcTo wR="1243" hR="1243" stAng="10800000" swAng="-5400000"/>
                <a:lnTo>
                  <a:pt x="20357" y="21952"/>
                </a:lnTo>
                <a:arcTo wR="1243" hR="1243" stAng="5400000" swAng="-5400000"/>
                <a:lnTo>
                  <a:pt x="21600" y="1243"/>
                </a:lnTo>
                <a:arcTo wR="1243" hR="1243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traight Connector 137"/>
          <p:cNvSpPr/>
          <p:nvPr/>
        </p:nvSpPr>
        <p:spPr>
          <a:xfrm>
            <a:off x="4559400" y="326088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Straight Connector 129"/>
          <p:cNvSpPr/>
          <p:nvPr/>
        </p:nvSpPr>
        <p:spPr>
          <a:xfrm>
            <a:off x="6308640" y="512136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Straight Connector 157"/>
          <p:cNvSpPr/>
          <p:nvPr/>
        </p:nvSpPr>
        <p:spPr>
          <a:xfrm>
            <a:off x="8056440" y="3260880"/>
            <a:ext cx="135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91"/>
          <p:cNvSpPr/>
          <p:nvPr/>
        </p:nvSpPr>
        <p:spPr>
          <a:xfrm>
            <a:off x="8416800" y="2443320"/>
            <a:ext cx="633600" cy="6346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traight Connector 149"/>
          <p:cNvSpPr/>
          <p:nvPr/>
        </p:nvSpPr>
        <p:spPr>
          <a:xfrm>
            <a:off x="9806040" y="5121360"/>
            <a:ext cx="1353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126828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商业行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TextBox 13"/>
          <p:cNvSpPr/>
          <p:nvPr/>
        </p:nvSpPr>
        <p:spPr>
          <a:xfrm>
            <a:off x="47592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忠诚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TextBox 13"/>
          <p:cNvSpPr/>
          <p:nvPr/>
        </p:nvSpPr>
        <p:spPr>
          <a:xfrm>
            <a:off x="8256600" y="34275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营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TextBox 13"/>
          <p:cNvSpPr/>
          <p:nvPr/>
        </p:nvSpPr>
        <p:spPr>
          <a:xfrm>
            <a:off x="302112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特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TextBox 13"/>
          <p:cNvSpPr/>
          <p:nvPr/>
        </p:nvSpPr>
        <p:spPr>
          <a:xfrm>
            <a:off x="651204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注意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TextBox 13"/>
          <p:cNvSpPr/>
          <p:nvPr/>
        </p:nvSpPr>
        <p:spPr>
          <a:xfrm>
            <a:off x="10009080" y="5229360"/>
            <a:ext cx="94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客户收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13"/>
          <p:cNvSpPr/>
          <p:nvPr/>
        </p:nvSpPr>
        <p:spPr>
          <a:xfrm>
            <a:off x="2809800" y="255420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3"/>
          <p:cNvSpPr/>
          <p:nvPr/>
        </p:nvSpPr>
        <p:spPr>
          <a:xfrm>
            <a:off x="627552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3"/>
          <p:cNvSpPr/>
          <p:nvPr/>
        </p:nvSpPr>
        <p:spPr>
          <a:xfrm>
            <a:off x="9763200" y="255420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3"/>
          <p:cNvSpPr/>
          <p:nvPr/>
        </p:nvSpPr>
        <p:spPr>
          <a:xfrm>
            <a:off x="1112760" y="4483080"/>
            <a:ext cx="1432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13"/>
          <p:cNvSpPr/>
          <p:nvPr/>
        </p:nvSpPr>
        <p:spPr>
          <a:xfrm>
            <a:off x="457848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066160" y="4483080"/>
            <a:ext cx="1431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1" name="组合 4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972" name="椭圆 5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等腰三角形 5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4" name="Freeform 24"/>
          <p:cNvSpPr/>
          <p:nvPr/>
        </p:nvSpPr>
        <p:spPr>
          <a:xfrm>
            <a:off x="1400040" y="2425680"/>
            <a:ext cx="669960" cy="67320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82" y="104"/>
                </a:moveTo>
                <a:cubicBezTo>
                  <a:pt x="90" y="104"/>
                  <a:pt x="90" y="104"/>
                  <a:pt x="90" y="104"/>
                </a:cubicBezTo>
                <a:cubicBezTo>
                  <a:pt x="86" y="92"/>
                  <a:pt x="86" y="92"/>
                  <a:pt x="86" y="92"/>
                </a:cubicBezTo>
                <a:lnTo>
                  <a:pt x="82" y="104"/>
                </a:lnTo>
                <a:close/>
                <a:moveTo>
                  <a:pt x="187" y="94"/>
                </a:moveTo>
                <a:cubicBezTo>
                  <a:pt x="194" y="86"/>
                  <a:pt x="196" y="74"/>
                  <a:pt x="191" y="63"/>
                </a:cubicBezTo>
                <a:cubicBezTo>
                  <a:pt x="187" y="51"/>
                  <a:pt x="176" y="44"/>
                  <a:pt x="164" y="44"/>
                </a:cubicBezTo>
                <a:cubicBezTo>
                  <a:pt x="165" y="32"/>
                  <a:pt x="160" y="20"/>
                  <a:pt x="149" y="14"/>
                </a:cubicBezTo>
                <a:cubicBezTo>
                  <a:pt x="139" y="8"/>
                  <a:pt x="127" y="9"/>
                  <a:pt x="118" y="15"/>
                </a:cubicBezTo>
                <a:cubicBezTo>
                  <a:pt x="112" y="6"/>
                  <a:pt x="101" y="0"/>
                  <a:pt x="89" y="1"/>
                </a:cubicBezTo>
                <a:cubicBezTo>
                  <a:pt x="78" y="3"/>
                  <a:pt x="69" y="10"/>
                  <a:pt x="64" y="20"/>
                </a:cubicBezTo>
                <a:cubicBezTo>
                  <a:pt x="54" y="16"/>
                  <a:pt x="42" y="18"/>
                  <a:pt x="34" y="26"/>
                </a:cubicBezTo>
                <a:cubicBezTo>
                  <a:pt x="25" y="34"/>
                  <a:pt x="22" y="45"/>
                  <a:pt x="24" y="56"/>
                </a:cubicBezTo>
                <a:cubicBezTo>
                  <a:pt x="14" y="59"/>
                  <a:pt x="5" y="67"/>
                  <a:pt x="3" y="78"/>
                </a:cubicBezTo>
                <a:cubicBezTo>
                  <a:pt x="0" y="90"/>
                  <a:pt x="4" y="101"/>
                  <a:pt x="12" y="108"/>
                </a:cubicBezTo>
                <a:cubicBezTo>
                  <a:pt x="6" y="117"/>
                  <a:pt x="4" y="128"/>
                  <a:pt x="8" y="139"/>
                </a:cubicBezTo>
                <a:cubicBezTo>
                  <a:pt x="13" y="150"/>
                  <a:pt x="23" y="156"/>
                  <a:pt x="33" y="157"/>
                </a:cubicBezTo>
                <a:cubicBezTo>
                  <a:pt x="33" y="168"/>
                  <a:pt x="38" y="179"/>
                  <a:pt x="48" y="185"/>
                </a:cubicBezTo>
                <a:cubicBezTo>
                  <a:pt x="58" y="191"/>
                  <a:pt x="70" y="191"/>
                  <a:pt x="79" y="185"/>
                </a:cubicBezTo>
                <a:cubicBezTo>
                  <a:pt x="85" y="194"/>
                  <a:pt x="96" y="200"/>
                  <a:pt x="107" y="199"/>
                </a:cubicBezTo>
                <a:cubicBezTo>
                  <a:pt x="119" y="198"/>
                  <a:pt x="129" y="191"/>
                  <a:pt x="133" y="181"/>
                </a:cubicBezTo>
                <a:cubicBezTo>
                  <a:pt x="143" y="185"/>
                  <a:pt x="155" y="183"/>
                  <a:pt x="164" y="176"/>
                </a:cubicBezTo>
                <a:cubicBezTo>
                  <a:pt x="173" y="168"/>
                  <a:pt x="176" y="157"/>
                  <a:pt x="174" y="146"/>
                </a:cubicBezTo>
                <a:cubicBezTo>
                  <a:pt x="184" y="143"/>
                  <a:pt x="193" y="135"/>
                  <a:pt x="196" y="124"/>
                </a:cubicBezTo>
                <a:cubicBezTo>
                  <a:pt x="199" y="113"/>
                  <a:pt x="195" y="101"/>
                  <a:pt x="187" y="94"/>
                </a:cubicBezTo>
                <a:close/>
                <a:moveTo>
                  <a:pt x="63" y="116"/>
                </a:moveTo>
                <a:cubicBezTo>
                  <a:pt x="60" y="118"/>
                  <a:pt x="56" y="120"/>
                  <a:pt x="51" y="120"/>
                </a:cubicBezTo>
                <a:cubicBezTo>
                  <a:pt x="48" y="120"/>
                  <a:pt x="45" y="119"/>
                  <a:pt x="43" y="119"/>
                </a:cubicBezTo>
                <a:cubicBezTo>
                  <a:pt x="41" y="118"/>
                  <a:pt x="39" y="117"/>
                  <a:pt x="37" y="117"/>
                </a:cubicBezTo>
                <a:cubicBezTo>
                  <a:pt x="37" y="108"/>
                  <a:pt x="37" y="108"/>
                  <a:pt x="37" y="108"/>
                </a:cubicBezTo>
                <a:cubicBezTo>
                  <a:pt x="38" y="108"/>
                  <a:pt x="38" y="108"/>
                  <a:pt x="38" y="108"/>
                </a:cubicBezTo>
                <a:cubicBezTo>
                  <a:pt x="40" y="109"/>
                  <a:pt x="42" y="110"/>
                  <a:pt x="44" y="111"/>
                </a:cubicBezTo>
                <a:cubicBezTo>
                  <a:pt x="47" y="112"/>
                  <a:pt x="49" y="113"/>
                  <a:pt x="51" y="113"/>
                </a:cubicBezTo>
                <a:cubicBezTo>
                  <a:pt x="51" y="113"/>
                  <a:pt x="52" y="113"/>
                  <a:pt x="53" y="112"/>
                </a:cubicBezTo>
                <a:cubicBezTo>
                  <a:pt x="54" y="112"/>
                  <a:pt x="55" y="112"/>
                  <a:pt x="55" y="112"/>
                </a:cubicBezTo>
                <a:cubicBezTo>
                  <a:pt x="56" y="112"/>
                  <a:pt x="56" y="111"/>
                  <a:pt x="57" y="111"/>
                </a:cubicBezTo>
                <a:cubicBezTo>
                  <a:pt x="57" y="110"/>
                  <a:pt x="58" y="109"/>
                  <a:pt x="58" y="109"/>
                </a:cubicBezTo>
                <a:cubicBezTo>
                  <a:pt x="58" y="108"/>
                  <a:pt x="57" y="107"/>
                  <a:pt x="56" y="106"/>
                </a:cubicBezTo>
                <a:cubicBezTo>
                  <a:pt x="56" y="106"/>
                  <a:pt x="55" y="105"/>
                  <a:pt x="54" y="105"/>
                </a:cubicBezTo>
                <a:cubicBezTo>
                  <a:pt x="52" y="105"/>
                  <a:pt x="51" y="104"/>
                  <a:pt x="50" y="104"/>
                </a:cubicBezTo>
                <a:cubicBezTo>
                  <a:pt x="48" y="104"/>
                  <a:pt x="47" y="103"/>
                  <a:pt x="46" y="103"/>
                </a:cubicBezTo>
                <a:cubicBezTo>
                  <a:pt x="43" y="102"/>
                  <a:pt x="40" y="100"/>
                  <a:pt x="39" y="99"/>
                </a:cubicBezTo>
                <a:cubicBezTo>
                  <a:pt x="38" y="97"/>
                  <a:pt x="37" y="95"/>
                  <a:pt x="37" y="92"/>
                </a:cubicBezTo>
                <a:cubicBezTo>
                  <a:pt x="37" y="89"/>
                  <a:pt x="39" y="86"/>
                  <a:pt x="42" y="83"/>
                </a:cubicBezTo>
                <a:cubicBezTo>
                  <a:pt x="45" y="81"/>
                  <a:pt x="49" y="80"/>
                  <a:pt x="53" y="80"/>
                </a:cubicBezTo>
                <a:cubicBezTo>
                  <a:pt x="55" y="80"/>
                  <a:pt x="58" y="80"/>
                  <a:pt x="60" y="81"/>
                </a:cubicBezTo>
                <a:cubicBezTo>
                  <a:pt x="62" y="81"/>
                  <a:pt x="64" y="82"/>
                  <a:pt x="66" y="83"/>
                </a:cubicBezTo>
                <a:cubicBezTo>
                  <a:pt x="66" y="91"/>
                  <a:pt x="66" y="91"/>
                  <a:pt x="66" y="91"/>
                </a:cubicBezTo>
                <a:cubicBezTo>
                  <a:pt x="65" y="91"/>
                  <a:pt x="65" y="91"/>
                  <a:pt x="65" y="91"/>
                </a:cubicBezTo>
                <a:cubicBezTo>
                  <a:pt x="64" y="90"/>
                  <a:pt x="62" y="89"/>
                  <a:pt x="60" y="88"/>
                </a:cubicBezTo>
                <a:cubicBezTo>
                  <a:pt x="58" y="87"/>
                  <a:pt x="56" y="87"/>
                  <a:pt x="54" y="87"/>
                </a:cubicBezTo>
                <a:cubicBezTo>
                  <a:pt x="53" y="87"/>
                  <a:pt x="52" y="87"/>
                  <a:pt x="51" y="87"/>
                </a:cubicBezTo>
                <a:cubicBezTo>
                  <a:pt x="51" y="87"/>
                  <a:pt x="50" y="88"/>
                  <a:pt x="49" y="88"/>
                </a:cubicBezTo>
                <a:cubicBezTo>
                  <a:pt x="49" y="88"/>
                  <a:pt x="48" y="89"/>
                  <a:pt x="48" y="89"/>
                </a:cubicBezTo>
                <a:cubicBezTo>
                  <a:pt x="47" y="90"/>
                  <a:pt x="47" y="90"/>
                  <a:pt x="47" y="91"/>
                </a:cubicBezTo>
                <a:cubicBezTo>
                  <a:pt x="47" y="92"/>
                  <a:pt x="47" y="93"/>
                  <a:pt x="48" y="93"/>
                </a:cubicBezTo>
                <a:cubicBezTo>
                  <a:pt x="49" y="94"/>
                  <a:pt x="50" y="94"/>
                  <a:pt x="52" y="95"/>
                </a:cubicBezTo>
                <a:cubicBezTo>
                  <a:pt x="53" y="95"/>
                  <a:pt x="55" y="95"/>
                  <a:pt x="56" y="96"/>
                </a:cubicBezTo>
                <a:cubicBezTo>
                  <a:pt x="57" y="96"/>
                  <a:pt x="58" y="96"/>
                  <a:pt x="60" y="97"/>
                </a:cubicBezTo>
                <a:cubicBezTo>
                  <a:pt x="62" y="98"/>
                  <a:pt x="64" y="99"/>
                  <a:pt x="65" y="101"/>
                </a:cubicBezTo>
                <a:cubicBezTo>
                  <a:pt x="67" y="102"/>
                  <a:pt x="67" y="104"/>
                  <a:pt x="67" y="107"/>
                </a:cubicBezTo>
                <a:cubicBezTo>
                  <a:pt x="67" y="111"/>
                  <a:pt x="66" y="114"/>
                  <a:pt x="63" y="116"/>
                </a:cubicBezTo>
                <a:close/>
                <a:moveTo>
                  <a:pt x="94" y="119"/>
                </a:moveTo>
                <a:cubicBezTo>
                  <a:pt x="92" y="111"/>
                  <a:pt x="92" y="111"/>
                  <a:pt x="92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77" y="119"/>
                  <a:pt x="77" y="119"/>
                  <a:pt x="77" y="119"/>
                </a:cubicBezTo>
                <a:cubicBezTo>
                  <a:pt x="68" y="119"/>
                  <a:pt x="68" y="119"/>
                  <a:pt x="68" y="119"/>
                </a:cubicBezTo>
                <a:cubicBezTo>
                  <a:pt x="81" y="81"/>
                  <a:pt x="81" y="81"/>
                  <a:pt x="81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104" y="119"/>
                  <a:pt x="104" y="119"/>
                  <a:pt x="104" y="119"/>
                </a:cubicBezTo>
                <a:lnTo>
                  <a:pt x="94" y="119"/>
                </a:lnTo>
                <a:close/>
                <a:moveTo>
                  <a:pt x="133" y="119"/>
                </a:moveTo>
                <a:cubicBezTo>
                  <a:pt x="108" y="119"/>
                  <a:pt x="108" y="119"/>
                  <a:pt x="108" y="119"/>
                </a:cubicBezTo>
                <a:cubicBezTo>
                  <a:pt x="108" y="81"/>
                  <a:pt x="108" y="81"/>
                  <a:pt x="108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33" y="112"/>
                  <a:pt x="133" y="112"/>
                  <a:pt x="133" y="112"/>
                </a:cubicBezTo>
                <a:lnTo>
                  <a:pt x="133" y="119"/>
                </a:lnTo>
                <a:close/>
                <a:moveTo>
                  <a:pt x="163" y="88"/>
                </a:moveTo>
                <a:cubicBezTo>
                  <a:pt x="147" y="88"/>
                  <a:pt x="147" y="88"/>
                  <a:pt x="147" y="88"/>
                </a:cubicBezTo>
                <a:cubicBezTo>
                  <a:pt x="147" y="95"/>
                  <a:pt x="147" y="95"/>
                  <a:pt x="147" y="95"/>
                </a:cubicBezTo>
                <a:cubicBezTo>
                  <a:pt x="162" y="95"/>
                  <a:pt x="162" y="95"/>
                  <a:pt x="162" y="95"/>
                </a:cubicBezTo>
                <a:cubicBezTo>
                  <a:pt x="162" y="102"/>
                  <a:pt x="162" y="102"/>
                  <a:pt x="162" y="102"/>
                </a:cubicBezTo>
                <a:cubicBezTo>
                  <a:pt x="147" y="102"/>
                  <a:pt x="147" y="102"/>
                  <a:pt x="147" y="102"/>
                </a:cubicBezTo>
                <a:cubicBezTo>
                  <a:pt x="147" y="112"/>
                  <a:pt x="147" y="112"/>
                  <a:pt x="147" y="112"/>
                </a:cubicBezTo>
                <a:cubicBezTo>
                  <a:pt x="163" y="112"/>
                  <a:pt x="163" y="112"/>
                  <a:pt x="163" y="112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37" y="119"/>
                  <a:pt x="137" y="119"/>
                  <a:pt x="137" y="119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63" y="81"/>
                  <a:pt x="163" y="81"/>
                  <a:pt x="163" y="81"/>
                </a:cubicBezTo>
                <a:lnTo>
                  <a:pt x="163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16"/>
          <p:cNvSpPr/>
          <p:nvPr/>
        </p:nvSpPr>
        <p:spPr>
          <a:xfrm>
            <a:off x="4943520" y="2500200"/>
            <a:ext cx="539640" cy="5288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194" y="65"/>
                </a:moveTo>
                <a:cubicBezTo>
                  <a:pt x="194" y="65"/>
                  <a:pt x="194" y="62"/>
                  <a:pt x="194" y="56"/>
                </a:cubicBezTo>
                <a:cubicBezTo>
                  <a:pt x="194" y="30"/>
                  <a:pt x="172" y="10"/>
                  <a:pt x="146" y="10"/>
                </a:cubicBezTo>
                <a:cubicBezTo>
                  <a:pt x="103" y="10"/>
                  <a:pt x="99" y="50"/>
                  <a:pt x="99" y="50"/>
                </a:cubicBezTo>
                <a:cubicBezTo>
                  <a:pt x="99" y="50"/>
                  <a:pt x="95" y="10"/>
                  <a:pt x="51" y="10"/>
                </a:cubicBezTo>
                <a:cubicBezTo>
                  <a:pt x="25" y="10"/>
                  <a:pt x="3" y="30"/>
                  <a:pt x="3" y="56"/>
                </a:cubicBezTo>
                <a:cubicBezTo>
                  <a:pt x="3" y="62"/>
                  <a:pt x="3" y="65"/>
                  <a:pt x="3" y="65"/>
                </a:cubicBezTo>
                <a:cubicBezTo>
                  <a:pt x="3" y="65"/>
                  <a:pt x="1" y="128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197" y="128"/>
                  <a:pt x="194" y="65"/>
                  <a:pt x="194" y="65"/>
                </a:cubicBezTo>
                <a:close/>
                <a:moveTo>
                  <a:pt x="37" y="108"/>
                </a:moveTo>
                <a:cubicBezTo>
                  <a:pt x="39" y="112"/>
                  <a:pt x="0" y="67"/>
                  <a:pt x="27" y="32"/>
                </a:cubicBezTo>
                <a:cubicBezTo>
                  <a:pt x="59" y="5"/>
                  <a:pt x="81" y="44"/>
                  <a:pt x="81" y="44"/>
                </a:cubicBezTo>
                <a:cubicBezTo>
                  <a:pt x="81" y="44"/>
                  <a:pt x="5" y="0"/>
                  <a:pt x="37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15"/>
          <p:cNvSpPr/>
          <p:nvPr/>
        </p:nvSpPr>
        <p:spPr>
          <a:xfrm>
            <a:off x="3098880" y="4210200"/>
            <a:ext cx="722160" cy="74268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92" y="40"/>
                </a:moveTo>
                <a:cubicBezTo>
                  <a:pt x="103" y="40"/>
                  <a:pt x="112" y="31"/>
                  <a:pt x="112" y="20"/>
                </a:cubicBezTo>
                <a:cubicBezTo>
                  <a:pt x="112" y="9"/>
                  <a:pt x="103" y="0"/>
                  <a:pt x="92" y="0"/>
                </a:cubicBezTo>
                <a:cubicBezTo>
                  <a:pt x="81" y="0"/>
                  <a:pt x="72" y="9"/>
                  <a:pt x="72" y="20"/>
                </a:cubicBezTo>
                <a:cubicBezTo>
                  <a:pt x="72" y="31"/>
                  <a:pt x="81" y="40"/>
                  <a:pt x="92" y="40"/>
                </a:cubicBezTo>
                <a:close/>
                <a:moveTo>
                  <a:pt x="80" y="168"/>
                </a:moveTo>
                <a:cubicBezTo>
                  <a:pt x="92" y="168"/>
                  <a:pt x="92" y="168"/>
                  <a:pt x="92" y="168"/>
                </a:cubicBezTo>
                <a:cubicBezTo>
                  <a:pt x="92" y="168"/>
                  <a:pt x="92" y="168"/>
                  <a:pt x="92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9" y="108"/>
                  <a:pt x="109" y="108"/>
                  <a:pt x="109" y="108"/>
                </a:cubicBezTo>
                <a:cubicBezTo>
                  <a:pt x="128" y="108"/>
                  <a:pt x="128" y="108"/>
                  <a:pt x="128" y="108"/>
                </a:cubicBezTo>
                <a:cubicBezTo>
                  <a:pt x="128" y="108"/>
                  <a:pt x="128" y="74"/>
                  <a:pt x="128" y="60"/>
                </a:cubicBezTo>
                <a:cubicBezTo>
                  <a:pt x="128" y="47"/>
                  <a:pt x="95" y="48"/>
                  <a:pt x="92" y="48"/>
                </a:cubicBezTo>
                <a:cubicBezTo>
                  <a:pt x="89" y="48"/>
                  <a:pt x="56" y="47"/>
                  <a:pt x="56" y="60"/>
                </a:cubicBezTo>
                <a:cubicBezTo>
                  <a:pt x="56" y="74"/>
                  <a:pt x="56" y="108"/>
                  <a:pt x="56" y="108"/>
                </a:cubicBezTo>
                <a:cubicBezTo>
                  <a:pt x="75" y="108"/>
                  <a:pt x="75" y="108"/>
                  <a:pt x="75" y="108"/>
                </a:cubicBezTo>
                <a:lnTo>
                  <a:pt x="80" y="168"/>
                </a:lnTo>
                <a:close/>
                <a:moveTo>
                  <a:pt x="121" y="132"/>
                </a:moveTo>
                <a:cubicBezTo>
                  <a:pt x="120" y="143"/>
                  <a:pt x="120" y="143"/>
                  <a:pt x="120" y="143"/>
                </a:cubicBezTo>
                <a:cubicBezTo>
                  <a:pt x="142" y="146"/>
                  <a:pt x="160" y="153"/>
                  <a:pt x="160" y="160"/>
                </a:cubicBezTo>
                <a:cubicBezTo>
                  <a:pt x="160" y="171"/>
                  <a:pt x="126" y="180"/>
                  <a:pt x="92" y="180"/>
                </a:cubicBezTo>
                <a:cubicBezTo>
                  <a:pt x="59" y="180"/>
                  <a:pt x="24" y="171"/>
                  <a:pt x="24" y="160"/>
                </a:cubicBezTo>
                <a:cubicBezTo>
                  <a:pt x="24" y="153"/>
                  <a:pt x="42" y="146"/>
                  <a:pt x="64" y="143"/>
                </a:cubicBezTo>
                <a:cubicBezTo>
                  <a:pt x="63" y="132"/>
                  <a:pt x="63" y="132"/>
                  <a:pt x="63" y="132"/>
                </a:cubicBezTo>
                <a:cubicBezTo>
                  <a:pt x="26" y="136"/>
                  <a:pt x="0" y="147"/>
                  <a:pt x="0" y="160"/>
                </a:cubicBezTo>
                <a:cubicBezTo>
                  <a:pt x="0" y="177"/>
                  <a:pt x="41" y="190"/>
                  <a:pt x="92" y="190"/>
                </a:cubicBezTo>
                <a:cubicBezTo>
                  <a:pt x="143" y="190"/>
                  <a:pt x="185" y="177"/>
                  <a:pt x="185" y="160"/>
                </a:cubicBezTo>
                <a:cubicBezTo>
                  <a:pt x="185" y="147"/>
                  <a:pt x="158" y="136"/>
                  <a:pt x="121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Freeform 13"/>
          <p:cNvSpPr/>
          <p:nvPr/>
        </p:nvSpPr>
        <p:spPr>
          <a:xfrm>
            <a:off x="6694560" y="4278240"/>
            <a:ext cx="477720" cy="614520"/>
          </a:xfrm>
          <a:custGeom>
            <a:avLst/>
            <a:gdLst/>
            <a:ahLst/>
            <a:rect l="l" t="t" r="r" b="b"/>
            <a:pathLst>
              <a:path w="506" h="650">
                <a:moveTo>
                  <a:pt x="117" y="299"/>
                </a:moveTo>
                <a:lnTo>
                  <a:pt x="117" y="260"/>
                </a:lnTo>
                <a:lnTo>
                  <a:pt x="78" y="260"/>
                </a:lnTo>
                <a:lnTo>
                  <a:pt x="78" y="299"/>
                </a:lnTo>
                <a:lnTo>
                  <a:pt x="117" y="299"/>
                </a:lnTo>
                <a:close/>
                <a:moveTo>
                  <a:pt x="39" y="338"/>
                </a:moveTo>
                <a:lnTo>
                  <a:pt x="39" y="377"/>
                </a:lnTo>
                <a:lnTo>
                  <a:pt x="78" y="377"/>
                </a:lnTo>
                <a:lnTo>
                  <a:pt x="78" y="338"/>
                </a:lnTo>
                <a:lnTo>
                  <a:pt x="39" y="338"/>
                </a:lnTo>
                <a:close/>
                <a:moveTo>
                  <a:pt x="273" y="299"/>
                </a:moveTo>
                <a:lnTo>
                  <a:pt x="273" y="182"/>
                </a:lnTo>
                <a:lnTo>
                  <a:pt x="312" y="182"/>
                </a:lnTo>
                <a:lnTo>
                  <a:pt x="312" y="299"/>
                </a:lnTo>
                <a:lnTo>
                  <a:pt x="351" y="299"/>
                </a:lnTo>
                <a:lnTo>
                  <a:pt x="351" y="221"/>
                </a:lnTo>
                <a:lnTo>
                  <a:pt x="389" y="221"/>
                </a:lnTo>
                <a:lnTo>
                  <a:pt x="389" y="351"/>
                </a:lnTo>
                <a:lnTo>
                  <a:pt x="428" y="351"/>
                </a:lnTo>
                <a:lnTo>
                  <a:pt x="428" y="260"/>
                </a:lnTo>
                <a:lnTo>
                  <a:pt x="467" y="260"/>
                </a:lnTo>
                <a:lnTo>
                  <a:pt x="467" y="221"/>
                </a:lnTo>
                <a:lnTo>
                  <a:pt x="428" y="221"/>
                </a:lnTo>
                <a:lnTo>
                  <a:pt x="428" y="182"/>
                </a:lnTo>
                <a:lnTo>
                  <a:pt x="351" y="182"/>
                </a:lnTo>
                <a:lnTo>
                  <a:pt x="351" y="143"/>
                </a:lnTo>
                <a:lnTo>
                  <a:pt x="273" y="143"/>
                </a:lnTo>
                <a:lnTo>
                  <a:pt x="273" y="39"/>
                </a:lnTo>
                <a:lnTo>
                  <a:pt x="234" y="39"/>
                </a:lnTo>
                <a:lnTo>
                  <a:pt x="234" y="299"/>
                </a:lnTo>
                <a:lnTo>
                  <a:pt x="273" y="299"/>
                </a:lnTo>
                <a:close/>
                <a:moveTo>
                  <a:pt x="156" y="338"/>
                </a:moveTo>
                <a:lnTo>
                  <a:pt x="156" y="377"/>
                </a:lnTo>
                <a:lnTo>
                  <a:pt x="195" y="377"/>
                </a:lnTo>
                <a:lnTo>
                  <a:pt x="195" y="39"/>
                </a:lnTo>
                <a:lnTo>
                  <a:pt x="156" y="39"/>
                </a:lnTo>
                <a:lnTo>
                  <a:pt x="156" y="299"/>
                </a:lnTo>
                <a:lnTo>
                  <a:pt x="117" y="299"/>
                </a:lnTo>
                <a:lnTo>
                  <a:pt x="117" y="338"/>
                </a:lnTo>
                <a:lnTo>
                  <a:pt x="156" y="338"/>
                </a:lnTo>
                <a:close/>
                <a:moveTo>
                  <a:pt x="234" y="0"/>
                </a:moveTo>
                <a:lnTo>
                  <a:pt x="195" y="0"/>
                </a:lnTo>
                <a:lnTo>
                  <a:pt x="195" y="39"/>
                </a:lnTo>
                <a:lnTo>
                  <a:pt x="234" y="39"/>
                </a:lnTo>
                <a:lnTo>
                  <a:pt x="234" y="0"/>
                </a:lnTo>
                <a:close/>
                <a:moveTo>
                  <a:pt x="39" y="260"/>
                </a:moveTo>
                <a:lnTo>
                  <a:pt x="78" y="260"/>
                </a:lnTo>
                <a:lnTo>
                  <a:pt x="78" y="221"/>
                </a:lnTo>
                <a:lnTo>
                  <a:pt x="39" y="221"/>
                </a:lnTo>
                <a:lnTo>
                  <a:pt x="0" y="221"/>
                </a:lnTo>
                <a:lnTo>
                  <a:pt x="0" y="260"/>
                </a:lnTo>
                <a:lnTo>
                  <a:pt x="0" y="299"/>
                </a:lnTo>
                <a:lnTo>
                  <a:pt x="0" y="338"/>
                </a:lnTo>
                <a:lnTo>
                  <a:pt x="39" y="338"/>
                </a:lnTo>
                <a:lnTo>
                  <a:pt x="39" y="299"/>
                </a:lnTo>
                <a:lnTo>
                  <a:pt x="39" y="260"/>
                </a:lnTo>
                <a:close/>
                <a:moveTo>
                  <a:pt x="117" y="377"/>
                </a:moveTo>
                <a:lnTo>
                  <a:pt x="78" y="377"/>
                </a:lnTo>
                <a:lnTo>
                  <a:pt x="78" y="416"/>
                </a:lnTo>
                <a:lnTo>
                  <a:pt x="78" y="455"/>
                </a:lnTo>
                <a:lnTo>
                  <a:pt x="117" y="455"/>
                </a:lnTo>
                <a:lnTo>
                  <a:pt x="117" y="416"/>
                </a:lnTo>
                <a:lnTo>
                  <a:pt x="117" y="377"/>
                </a:lnTo>
                <a:close/>
                <a:moveTo>
                  <a:pt x="467" y="260"/>
                </a:moveTo>
                <a:lnTo>
                  <a:pt x="467" y="276"/>
                </a:lnTo>
                <a:lnTo>
                  <a:pt x="467" y="299"/>
                </a:lnTo>
                <a:lnTo>
                  <a:pt x="467" y="416"/>
                </a:lnTo>
                <a:lnTo>
                  <a:pt x="467" y="455"/>
                </a:lnTo>
                <a:lnTo>
                  <a:pt x="506" y="455"/>
                </a:lnTo>
                <a:lnTo>
                  <a:pt x="506" y="416"/>
                </a:lnTo>
                <a:lnTo>
                  <a:pt x="506" y="299"/>
                </a:lnTo>
                <a:lnTo>
                  <a:pt x="506" y="276"/>
                </a:lnTo>
                <a:lnTo>
                  <a:pt x="506" y="260"/>
                </a:lnTo>
                <a:lnTo>
                  <a:pt x="467" y="260"/>
                </a:lnTo>
                <a:close/>
                <a:moveTo>
                  <a:pt x="428" y="494"/>
                </a:moveTo>
                <a:lnTo>
                  <a:pt x="428" y="533"/>
                </a:lnTo>
                <a:lnTo>
                  <a:pt x="467" y="533"/>
                </a:lnTo>
                <a:lnTo>
                  <a:pt x="467" y="494"/>
                </a:lnTo>
                <a:lnTo>
                  <a:pt x="467" y="455"/>
                </a:lnTo>
                <a:lnTo>
                  <a:pt x="428" y="455"/>
                </a:lnTo>
                <a:lnTo>
                  <a:pt x="428" y="494"/>
                </a:lnTo>
                <a:close/>
                <a:moveTo>
                  <a:pt x="389" y="572"/>
                </a:moveTo>
                <a:lnTo>
                  <a:pt x="389" y="611"/>
                </a:lnTo>
                <a:lnTo>
                  <a:pt x="195" y="611"/>
                </a:lnTo>
                <a:lnTo>
                  <a:pt x="195" y="572"/>
                </a:lnTo>
                <a:lnTo>
                  <a:pt x="195" y="533"/>
                </a:lnTo>
                <a:lnTo>
                  <a:pt x="156" y="533"/>
                </a:lnTo>
                <a:lnTo>
                  <a:pt x="156" y="572"/>
                </a:lnTo>
                <a:lnTo>
                  <a:pt x="156" y="611"/>
                </a:lnTo>
                <a:lnTo>
                  <a:pt x="156" y="650"/>
                </a:lnTo>
                <a:lnTo>
                  <a:pt x="428" y="650"/>
                </a:lnTo>
                <a:lnTo>
                  <a:pt x="428" y="611"/>
                </a:lnTo>
                <a:lnTo>
                  <a:pt x="428" y="572"/>
                </a:lnTo>
                <a:lnTo>
                  <a:pt x="428" y="533"/>
                </a:lnTo>
                <a:lnTo>
                  <a:pt x="389" y="533"/>
                </a:lnTo>
                <a:lnTo>
                  <a:pt x="389" y="572"/>
                </a:lnTo>
                <a:close/>
                <a:moveTo>
                  <a:pt x="156" y="455"/>
                </a:moveTo>
                <a:lnTo>
                  <a:pt x="117" y="455"/>
                </a:lnTo>
                <a:lnTo>
                  <a:pt x="117" y="494"/>
                </a:lnTo>
                <a:lnTo>
                  <a:pt x="117" y="533"/>
                </a:lnTo>
                <a:lnTo>
                  <a:pt x="156" y="533"/>
                </a:lnTo>
                <a:lnTo>
                  <a:pt x="156" y="494"/>
                </a:lnTo>
                <a:lnTo>
                  <a:pt x="156" y="4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Freeform 16"/>
          <p:cNvSpPr/>
          <p:nvPr/>
        </p:nvSpPr>
        <p:spPr>
          <a:xfrm>
            <a:off x="10193400" y="4186080"/>
            <a:ext cx="571320" cy="673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ound Same Side Corner Rectangle 3"/>
          <p:cNvSpPr/>
          <p:nvPr/>
        </p:nvSpPr>
        <p:spPr>
          <a:xfrm rot="5400000">
            <a:off x="9012600" y="1662840"/>
            <a:ext cx="373320" cy="1908360"/>
          </a:xfrm>
          <a:custGeom>
            <a:avLst/>
            <a:gdLst/>
            <a:ahLst/>
            <a:rect l="l" t="t" r="r" b="b"/>
            <a:pathLst>
              <a:path w="373062" h="1908175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1908175"/>
                </a:lnTo>
                <a:lnTo>
                  <a:pt x="0" y="1908175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Round Same Side Corner Rectangle 36"/>
          <p:cNvSpPr/>
          <p:nvPr/>
        </p:nvSpPr>
        <p:spPr>
          <a:xfrm rot="5400000">
            <a:off x="9005040" y="2937600"/>
            <a:ext cx="371520" cy="1906560"/>
          </a:xfrm>
          <a:custGeom>
            <a:avLst/>
            <a:gdLst/>
            <a:ahLst/>
            <a:rect l="l" t="t" r="r" b="b"/>
            <a:pathLst>
              <a:path w="371475" h="1906587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354"/>
                  <a:pt x="371475" y="1332971"/>
                  <a:pt x="371475" y="1906587"/>
                </a:cubicBezTo>
                <a:lnTo>
                  <a:pt x="0" y="1906587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ound Same Side Corner Rectangle 37"/>
          <p:cNvSpPr/>
          <p:nvPr/>
        </p:nvSpPr>
        <p:spPr>
          <a:xfrm rot="5400000">
            <a:off x="9013320" y="4149360"/>
            <a:ext cx="371520" cy="1908360"/>
          </a:xfrm>
          <a:custGeom>
            <a:avLst/>
            <a:gdLst/>
            <a:ahLst/>
            <a:rect l="l" t="t" r="r" b="b"/>
            <a:pathLst>
              <a:path w="371475" h="19081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759884"/>
                  <a:pt x="371475" y="1334029"/>
                  <a:pt x="371475" y="1908175"/>
                </a:cubicBezTo>
                <a:lnTo>
                  <a:pt x="0" y="19081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Oval 40"/>
          <p:cNvSpPr/>
          <p:nvPr/>
        </p:nvSpPr>
        <p:spPr>
          <a:xfrm rot="10800000">
            <a:off x="5727240" y="3425760"/>
            <a:ext cx="908280" cy="90504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Oval 41"/>
          <p:cNvSpPr/>
          <p:nvPr/>
        </p:nvSpPr>
        <p:spPr>
          <a:xfrm rot="10800000">
            <a:off x="5832360" y="3530520"/>
            <a:ext cx="696960" cy="6955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Freeform 21"/>
          <p:cNvSpPr/>
          <p:nvPr/>
        </p:nvSpPr>
        <p:spPr>
          <a:xfrm>
            <a:off x="6010200" y="3692520"/>
            <a:ext cx="354240" cy="371520"/>
          </a:xfrm>
          <a:custGeom>
            <a:avLst/>
            <a:gdLst/>
            <a:ahLst/>
            <a:rect l="l" t="t" r="r" b="b"/>
            <a:pathLst>
              <a:path w="1670" h="1762">
                <a:moveTo>
                  <a:pt x="622" y="964"/>
                </a:moveTo>
                <a:cubicBezTo>
                  <a:pt x="622" y="1040"/>
                  <a:pt x="561" y="1102"/>
                  <a:pt x="485" y="1103"/>
                </a:cubicBezTo>
                <a:cubicBezTo>
                  <a:pt x="410" y="1103"/>
                  <a:pt x="348" y="1042"/>
                  <a:pt x="347" y="966"/>
                </a:cubicBezTo>
                <a:cubicBezTo>
                  <a:pt x="347" y="891"/>
                  <a:pt x="408" y="829"/>
                  <a:pt x="483" y="828"/>
                </a:cubicBezTo>
                <a:cubicBezTo>
                  <a:pt x="559" y="828"/>
                  <a:pt x="621" y="889"/>
                  <a:pt x="622" y="964"/>
                </a:cubicBezTo>
                <a:close/>
                <a:moveTo>
                  <a:pt x="555" y="691"/>
                </a:moveTo>
                <a:cubicBezTo>
                  <a:pt x="479" y="691"/>
                  <a:pt x="417" y="630"/>
                  <a:pt x="416" y="554"/>
                </a:cubicBezTo>
                <a:cubicBezTo>
                  <a:pt x="416" y="478"/>
                  <a:pt x="477" y="417"/>
                  <a:pt x="552" y="416"/>
                </a:cubicBezTo>
                <a:cubicBezTo>
                  <a:pt x="628" y="415"/>
                  <a:pt x="690" y="476"/>
                  <a:pt x="691" y="552"/>
                </a:cubicBezTo>
                <a:cubicBezTo>
                  <a:pt x="691" y="628"/>
                  <a:pt x="630" y="690"/>
                  <a:pt x="555" y="691"/>
                </a:cubicBezTo>
                <a:close/>
                <a:moveTo>
                  <a:pt x="1103" y="415"/>
                </a:moveTo>
                <a:cubicBezTo>
                  <a:pt x="1103" y="491"/>
                  <a:pt x="1042" y="553"/>
                  <a:pt x="966" y="553"/>
                </a:cubicBezTo>
                <a:cubicBezTo>
                  <a:pt x="890" y="554"/>
                  <a:pt x="828" y="493"/>
                  <a:pt x="828" y="417"/>
                </a:cubicBezTo>
                <a:cubicBezTo>
                  <a:pt x="827" y="341"/>
                  <a:pt x="888" y="279"/>
                  <a:pt x="964" y="279"/>
                </a:cubicBezTo>
                <a:cubicBezTo>
                  <a:pt x="1040" y="278"/>
                  <a:pt x="1102" y="339"/>
                  <a:pt x="1103" y="415"/>
                </a:cubicBezTo>
                <a:close/>
                <a:moveTo>
                  <a:pt x="279" y="1503"/>
                </a:moveTo>
                <a:cubicBezTo>
                  <a:pt x="594" y="1529"/>
                  <a:pt x="481" y="1195"/>
                  <a:pt x="772" y="1192"/>
                </a:cubicBezTo>
                <a:cubicBezTo>
                  <a:pt x="898" y="1297"/>
                  <a:pt x="898" y="1297"/>
                  <a:pt x="898" y="1297"/>
                </a:cubicBezTo>
                <a:cubicBezTo>
                  <a:pt x="930" y="1677"/>
                  <a:pt x="465" y="1762"/>
                  <a:pt x="279" y="1503"/>
                </a:cubicBezTo>
                <a:close/>
                <a:moveTo>
                  <a:pt x="1244" y="1015"/>
                </a:moveTo>
                <a:cubicBezTo>
                  <a:pt x="1342" y="861"/>
                  <a:pt x="1646" y="345"/>
                  <a:pt x="1646" y="345"/>
                </a:cubicBezTo>
                <a:cubicBezTo>
                  <a:pt x="1670" y="302"/>
                  <a:pt x="1616" y="258"/>
                  <a:pt x="1579" y="289"/>
                </a:cubicBezTo>
                <a:cubicBezTo>
                  <a:pt x="1579" y="289"/>
                  <a:pt x="1128" y="682"/>
                  <a:pt x="995" y="806"/>
                </a:cubicBezTo>
                <a:cubicBezTo>
                  <a:pt x="889" y="904"/>
                  <a:pt x="889" y="949"/>
                  <a:pt x="855" y="1111"/>
                </a:cubicBezTo>
                <a:cubicBezTo>
                  <a:pt x="970" y="1208"/>
                  <a:pt x="970" y="1208"/>
                  <a:pt x="970" y="1208"/>
                </a:cubicBezTo>
                <a:cubicBezTo>
                  <a:pt x="1123" y="1145"/>
                  <a:pt x="1167" y="1136"/>
                  <a:pt x="1244" y="1015"/>
                </a:cubicBezTo>
                <a:close/>
                <a:moveTo>
                  <a:pt x="378" y="1345"/>
                </a:moveTo>
                <a:cubicBezTo>
                  <a:pt x="235" y="1220"/>
                  <a:pt x="143" y="1037"/>
                  <a:pt x="141" y="833"/>
                </a:cubicBezTo>
                <a:cubicBezTo>
                  <a:pt x="138" y="455"/>
                  <a:pt x="444" y="145"/>
                  <a:pt x="823" y="141"/>
                </a:cubicBezTo>
                <a:cubicBezTo>
                  <a:pt x="1086" y="140"/>
                  <a:pt x="1267" y="272"/>
                  <a:pt x="1269" y="378"/>
                </a:cubicBezTo>
                <a:cubicBezTo>
                  <a:pt x="1310" y="342"/>
                  <a:pt x="1349" y="308"/>
                  <a:pt x="1383" y="278"/>
                </a:cubicBezTo>
                <a:cubicBezTo>
                  <a:pt x="1313" y="126"/>
                  <a:pt x="1096" y="0"/>
                  <a:pt x="821" y="4"/>
                </a:cubicBezTo>
                <a:cubicBezTo>
                  <a:pt x="367" y="8"/>
                  <a:pt x="0" y="379"/>
                  <a:pt x="4" y="834"/>
                </a:cubicBezTo>
                <a:cubicBezTo>
                  <a:pt x="6" y="1034"/>
                  <a:pt x="78" y="1217"/>
                  <a:pt x="198" y="1359"/>
                </a:cubicBezTo>
                <a:cubicBezTo>
                  <a:pt x="264" y="1392"/>
                  <a:pt x="344" y="1381"/>
                  <a:pt x="378" y="1345"/>
                </a:cubicBezTo>
                <a:close/>
                <a:moveTo>
                  <a:pt x="1256" y="1214"/>
                </a:moveTo>
                <a:cubicBezTo>
                  <a:pt x="1329" y="1349"/>
                  <a:pt x="1164" y="1445"/>
                  <a:pt x="1013" y="1488"/>
                </a:cubicBezTo>
                <a:cubicBezTo>
                  <a:pt x="992" y="1550"/>
                  <a:pt x="958" y="1606"/>
                  <a:pt x="919" y="1646"/>
                </a:cubicBezTo>
                <a:cubicBezTo>
                  <a:pt x="1280" y="1606"/>
                  <a:pt x="1541" y="1351"/>
                  <a:pt x="1349" y="1105"/>
                </a:cubicBezTo>
                <a:cubicBezTo>
                  <a:pt x="1317" y="1152"/>
                  <a:pt x="1287" y="1187"/>
                  <a:pt x="1256" y="12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ound Same Side Corner Rectangle 79"/>
          <p:cNvSpPr/>
          <p:nvPr/>
        </p:nvSpPr>
        <p:spPr>
          <a:xfrm rot="16200000">
            <a:off x="7741800" y="2302920"/>
            <a:ext cx="373320" cy="627120"/>
          </a:xfrm>
          <a:custGeom>
            <a:avLst/>
            <a:gdLst/>
            <a:ahLst/>
            <a:rect l="l" t="t" r="r" b="b"/>
            <a:pathLst>
              <a:path w="373062" h="627062">
                <a:moveTo>
                  <a:pt x="186531" y="0"/>
                </a:moveTo>
                <a:lnTo>
                  <a:pt x="186531" y="0"/>
                </a:lnTo>
                <a:cubicBezTo>
                  <a:pt x="289549" y="0"/>
                  <a:pt x="373062" y="83513"/>
                  <a:pt x="373062" y="186531"/>
                </a:cubicBezTo>
                <a:lnTo>
                  <a:pt x="373062" y="627062"/>
                </a:lnTo>
                <a:lnTo>
                  <a:pt x="0" y="627062"/>
                </a:lnTo>
                <a:lnTo>
                  <a:pt x="0" y="186531"/>
                </a:lnTo>
                <a:cubicBezTo>
                  <a:pt x="0" y="83513"/>
                  <a:pt x="83513" y="0"/>
                  <a:pt x="18653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Round Same Side Corner Rectangle 80"/>
          <p:cNvSpPr/>
          <p:nvPr/>
        </p:nvSpPr>
        <p:spPr>
          <a:xfrm rot="16200000">
            <a:off x="7734240" y="3584520"/>
            <a:ext cx="371520" cy="625680"/>
          </a:xfrm>
          <a:custGeom>
            <a:avLst/>
            <a:gdLst/>
            <a:ahLst/>
            <a:rect l="l" t="t" r="r" b="b"/>
            <a:pathLst>
              <a:path w="371475" h="625475">
                <a:moveTo>
                  <a:pt x="185738" y="0"/>
                </a:moveTo>
                <a:lnTo>
                  <a:pt x="185738" y="0"/>
                </a:lnTo>
                <a:cubicBezTo>
                  <a:pt x="288318" y="0"/>
                  <a:pt x="371476" y="83158"/>
                  <a:pt x="371476" y="185738"/>
                </a:cubicBezTo>
                <a:cubicBezTo>
                  <a:pt x="371476" y="332317"/>
                  <a:pt x="371475" y="478896"/>
                  <a:pt x="371475" y="625475"/>
                </a:cubicBezTo>
                <a:lnTo>
                  <a:pt x="0" y="625475"/>
                </a:lnTo>
                <a:lnTo>
                  <a:pt x="0" y="185738"/>
                </a:lnTo>
                <a:cubicBezTo>
                  <a:pt x="0" y="83158"/>
                  <a:pt x="83158" y="0"/>
                  <a:pt x="185738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ound Same Side Corner Rectangle 81"/>
          <p:cNvSpPr/>
          <p:nvPr/>
        </p:nvSpPr>
        <p:spPr>
          <a:xfrm rot="16200000">
            <a:off x="7737480" y="4788000"/>
            <a:ext cx="372960" cy="627120"/>
          </a:xfrm>
          <a:custGeom>
            <a:avLst/>
            <a:gdLst/>
            <a:ahLst/>
            <a:rect l="l" t="t" r="r" b="b"/>
            <a:pathLst>
              <a:path w="373063" h="627063">
                <a:moveTo>
                  <a:pt x="186532" y="0"/>
                </a:moveTo>
                <a:lnTo>
                  <a:pt x="186532" y="0"/>
                </a:lnTo>
                <a:cubicBezTo>
                  <a:pt x="289551" y="0"/>
                  <a:pt x="373064" y="83513"/>
                  <a:pt x="373064" y="186532"/>
                </a:cubicBezTo>
                <a:cubicBezTo>
                  <a:pt x="373064" y="333376"/>
                  <a:pt x="373063" y="480219"/>
                  <a:pt x="373063" y="627063"/>
                </a:cubicBezTo>
                <a:lnTo>
                  <a:pt x="0" y="627063"/>
                </a:lnTo>
                <a:lnTo>
                  <a:pt x="0" y="186532"/>
                </a:lnTo>
                <a:cubicBezTo>
                  <a:pt x="0" y="83513"/>
                  <a:pt x="83513" y="0"/>
                  <a:pt x="186532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Freeform 13"/>
          <p:cNvSpPr/>
          <p:nvPr/>
        </p:nvSpPr>
        <p:spPr>
          <a:xfrm>
            <a:off x="7861320" y="2486160"/>
            <a:ext cx="222120" cy="253800"/>
          </a:xfrm>
          <a:custGeom>
            <a:avLst/>
            <a:gdLst/>
            <a:ahLst/>
            <a:rect l="l" t="t" r="r" b="b"/>
            <a:pathLst>
              <a:path w="1450" h="1648">
                <a:moveTo>
                  <a:pt x="860" y="121"/>
                </a:moveTo>
                <a:cubicBezTo>
                  <a:pt x="604" y="121"/>
                  <a:pt x="604" y="121"/>
                  <a:pt x="604" y="121"/>
                </a:cubicBezTo>
                <a:cubicBezTo>
                  <a:pt x="604" y="254"/>
                  <a:pt x="604" y="254"/>
                  <a:pt x="604" y="254"/>
                </a:cubicBezTo>
                <a:cubicBezTo>
                  <a:pt x="795" y="254"/>
                  <a:pt x="795" y="254"/>
                  <a:pt x="795" y="254"/>
                </a:cubicBezTo>
                <a:cubicBezTo>
                  <a:pt x="795" y="560"/>
                  <a:pt x="795" y="560"/>
                  <a:pt x="795" y="560"/>
                </a:cubicBezTo>
                <a:cubicBezTo>
                  <a:pt x="1082" y="560"/>
                  <a:pt x="1082" y="560"/>
                  <a:pt x="1082" y="560"/>
                </a:cubicBezTo>
                <a:cubicBezTo>
                  <a:pt x="1082" y="1287"/>
                  <a:pt x="1082" y="1287"/>
                  <a:pt x="1082" y="1287"/>
                </a:cubicBezTo>
                <a:cubicBezTo>
                  <a:pt x="217" y="1287"/>
                  <a:pt x="217" y="1287"/>
                  <a:pt x="217" y="1287"/>
                </a:cubicBezTo>
                <a:cubicBezTo>
                  <a:pt x="217" y="995"/>
                  <a:pt x="217" y="995"/>
                  <a:pt x="217" y="995"/>
                </a:cubicBezTo>
                <a:cubicBezTo>
                  <a:pt x="170" y="990"/>
                  <a:pt x="125" y="976"/>
                  <a:pt x="85" y="954"/>
                </a:cubicBezTo>
                <a:cubicBezTo>
                  <a:pt x="85" y="1419"/>
                  <a:pt x="85" y="1419"/>
                  <a:pt x="85" y="1419"/>
                </a:cubicBezTo>
                <a:cubicBezTo>
                  <a:pt x="1214" y="1419"/>
                  <a:pt x="1214" y="1419"/>
                  <a:pt x="1214" y="1419"/>
                </a:cubicBezTo>
                <a:cubicBezTo>
                  <a:pt x="1214" y="483"/>
                  <a:pt x="1214" y="483"/>
                  <a:pt x="1214" y="483"/>
                </a:cubicBezTo>
                <a:lnTo>
                  <a:pt x="860" y="121"/>
                </a:lnTo>
                <a:close/>
                <a:moveTo>
                  <a:pt x="504" y="121"/>
                </a:moveTo>
                <a:cubicBezTo>
                  <a:pt x="416" y="121"/>
                  <a:pt x="416" y="121"/>
                  <a:pt x="416" y="121"/>
                </a:cubicBezTo>
                <a:cubicBezTo>
                  <a:pt x="416" y="644"/>
                  <a:pt x="416" y="644"/>
                  <a:pt x="416" y="644"/>
                </a:cubicBezTo>
                <a:cubicBezTo>
                  <a:pt x="416" y="735"/>
                  <a:pt x="343" y="808"/>
                  <a:pt x="252" y="808"/>
                </a:cubicBezTo>
                <a:cubicBezTo>
                  <a:pt x="252" y="808"/>
                  <a:pt x="252" y="808"/>
                  <a:pt x="252" y="808"/>
                </a:cubicBezTo>
                <a:cubicBezTo>
                  <a:pt x="161" y="808"/>
                  <a:pt x="88" y="735"/>
                  <a:pt x="88" y="644"/>
                </a:cubicBezTo>
                <a:cubicBezTo>
                  <a:pt x="88" y="187"/>
                  <a:pt x="88" y="187"/>
                  <a:pt x="88" y="187"/>
                </a:cubicBezTo>
                <a:cubicBezTo>
                  <a:pt x="88" y="132"/>
                  <a:pt x="132" y="88"/>
                  <a:pt x="187" y="88"/>
                </a:cubicBezTo>
                <a:cubicBezTo>
                  <a:pt x="187" y="88"/>
                  <a:pt x="187" y="88"/>
                  <a:pt x="187" y="88"/>
                </a:cubicBezTo>
                <a:cubicBezTo>
                  <a:pt x="242" y="88"/>
                  <a:pt x="287" y="132"/>
                  <a:pt x="287" y="187"/>
                </a:cubicBezTo>
                <a:cubicBezTo>
                  <a:pt x="287" y="542"/>
                  <a:pt x="287" y="542"/>
                  <a:pt x="287" y="542"/>
                </a:cubicBezTo>
                <a:cubicBezTo>
                  <a:pt x="287" y="561"/>
                  <a:pt x="271" y="576"/>
                  <a:pt x="253" y="576"/>
                </a:cubicBezTo>
                <a:cubicBezTo>
                  <a:pt x="253" y="576"/>
                  <a:pt x="253" y="576"/>
                  <a:pt x="253" y="576"/>
                </a:cubicBezTo>
                <a:cubicBezTo>
                  <a:pt x="234" y="576"/>
                  <a:pt x="218" y="561"/>
                  <a:pt x="218" y="542"/>
                </a:cubicBezTo>
                <a:cubicBezTo>
                  <a:pt x="218" y="288"/>
                  <a:pt x="218" y="288"/>
                  <a:pt x="218" y="288"/>
                </a:cubicBezTo>
                <a:cubicBezTo>
                  <a:pt x="131" y="288"/>
                  <a:pt x="131" y="288"/>
                  <a:pt x="131" y="288"/>
                </a:cubicBezTo>
                <a:cubicBezTo>
                  <a:pt x="131" y="542"/>
                  <a:pt x="131" y="542"/>
                  <a:pt x="131" y="542"/>
                </a:cubicBezTo>
                <a:cubicBezTo>
                  <a:pt x="131" y="609"/>
                  <a:pt x="185" y="664"/>
                  <a:pt x="253" y="664"/>
                </a:cubicBezTo>
                <a:cubicBezTo>
                  <a:pt x="253" y="664"/>
                  <a:pt x="253" y="664"/>
                  <a:pt x="253" y="664"/>
                </a:cubicBezTo>
                <a:cubicBezTo>
                  <a:pt x="320" y="664"/>
                  <a:pt x="375" y="609"/>
                  <a:pt x="375" y="542"/>
                </a:cubicBezTo>
                <a:cubicBezTo>
                  <a:pt x="375" y="187"/>
                  <a:pt x="375" y="187"/>
                  <a:pt x="375" y="187"/>
                </a:cubicBezTo>
                <a:cubicBezTo>
                  <a:pt x="374" y="84"/>
                  <a:pt x="29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84" y="0"/>
                  <a:pt x="0" y="84"/>
                  <a:pt x="0" y="187"/>
                </a:cubicBezTo>
                <a:cubicBezTo>
                  <a:pt x="0" y="644"/>
                  <a:pt x="0" y="644"/>
                  <a:pt x="0" y="644"/>
                </a:cubicBezTo>
                <a:cubicBezTo>
                  <a:pt x="0" y="783"/>
                  <a:pt x="113" y="896"/>
                  <a:pt x="252" y="896"/>
                </a:cubicBezTo>
                <a:cubicBezTo>
                  <a:pt x="252" y="896"/>
                  <a:pt x="252" y="896"/>
                  <a:pt x="252" y="896"/>
                </a:cubicBezTo>
                <a:cubicBezTo>
                  <a:pt x="391" y="896"/>
                  <a:pt x="504" y="783"/>
                  <a:pt x="504" y="644"/>
                </a:cubicBezTo>
                <a:lnTo>
                  <a:pt x="504" y="121"/>
                </a:lnTo>
                <a:close/>
                <a:moveTo>
                  <a:pt x="1317" y="565"/>
                </a:moveTo>
                <a:cubicBezTo>
                  <a:pt x="1317" y="1515"/>
                  <a:pt x="1317" y="1515"/>
                  <a:pt x="1317" y="1515"/>
                </a:cubicBezTo>
                <a:cubicBezTo>
                  <a:pt x="333" y="1515"/>
                  <a:pt x="333" y="1515"/>
                  <a:pt x="333" y="1515"/>
                </a:cubicBezTo>
                <a:cubicBezTo>
                  <a:pt x="333" y="1648"/>
                  <a:pt x="333" y="1648"/>
                  <a:pt x="333" y="1648"/>
                </a:cubicBezTo>
                <a:cubicBezTo>
                  <a:pt x="1450" y="1648"/>
                  <a:pt x="1450" y="1648"/>
                  <a:pt x="1450" y="1648"/>
                </a:cubicBezTo>
                <a:cubicBezTo>
                  <a:pt x="1450" y="697"/>
                  <a:pt x="1450" y="697"/>
                  <a:pt x="1450" y="697"/>
                </a:cubicBezTo>
                <a:lnTo>
                  <a:pt x="1317" y="5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Freeform 13"/>
          <p:cNvSpPr/>
          <p:nvPr/>
        </p:nvSpPr>
        <p:spPr>
          <a:xfrm>
            <a:off x="7831080" y="4976640"/>
            <a:ext cx="262080" cy="262080"/>
          </a:xfrm>
          <a:custGeom>
            <a:avLst/>
            <a:gdLst/>
            <a:ahLst/>
            <a:rect l="l" t="t" r="r" b="b"/>
            <a:pathLst>
              <a:path w="1640" h="1642">
                <a:moveTo>
                  <a:pt x="1158" y="965"/>
                </a:moveTo>
                <a:cubicBezTo>
                  <a:pt x="705" y="965"/>
                  <a:pt x="705" y="965"/>
                  <a:pt x="705" y="965"/>
                </a:cubicBezTo>
                <a:cubicBezTo>
                  <a:pt x="705" y="467"/>
                  <a:pt x="705" y="467"/>
                  <a:pt x="705" y="467"/>
                </a:cubicBezTo>
                <a:cubicBezTo>
                  <a:pt x="849" y="467"/>
                  <a:pt x="849" y="467"/>
                  <a:pt x="849" y="467"/>
                </a:cubicBezTo>
                <a:cubicBezTo>
                  <a:pt x="849" y="821"/>
                  <a:pt x="849" y="821"/>
                  <a:pt x="849" y="821"/>
                </a:cubicBezTo>
                <a:cubicBezTo>
                  <a:pt x="1158" y="821"/>
                  <a:pt x="1158" y="821"/>
                  <a:pt x="1158" y="821"/>
                </a:cubicBezTo>
                <a:cubicBezTo>
                  <a:pt x="1158" y="965"/>
                  <a:pt x="1158" y="965"/>
                  <a:pt x="1158" y="965"/>
                </a:cubicBezTo>
                <a:close/>
                <a:moveTo>
                  <a:pt x="1354" y="1311"/>
                </a:moveTo>
                <a:cubicBezTo>
                  <a:pt x="1471" y="1183"/>
                  <a:pt x="1543" y="1012"/>
                  <a:pt x="1543" y="824"/>
                </a:cubicBezTo>
                <a:cubicBezTo>
                  <a:pt x="1543" y="424"/>
                  <a:pt x="1219" y="101"/>
                  <a:pt x="820" y="101"/>
                </a:cubicBezTo>
                <a:cubicBezTo>
                  <a:pt x="421" y="101"/>
                  <a:pt x="97" y="424"/>
                  <a:pt x="97" y="824"/>
                </a:cubicBezTo>
                <a:cubicBezTo>
                  <a:pt x="97" y="1012"/>
                  <a:pt x="169" y="1183"/>
                  <a:pt x="286" y="1311"/>
                </a:cubicBezTo>
                <a:cubicBezTo>
                  <a:pt x="250" y="1401"/>
                  <a:pt x="203" y="1520"/>
                  <a:pt x="171" y="1599"/>
                </a:cubicBezTo>
                <a:cubicBezTo>
                  <a:pt x="166" y="1611"/>
                  <a:pt x="169" y="1625"/>
                  <a:pt x="179" y="1633"/>
                </a:cubicBezTo>
                <a:cubicBezTo>
                  <a:pt x="190" y="1642"/>
                  <a:pt x="204" y="1642"/>
                  <a:pt x="215" y="1635"/>
                </a:cubicBezTo>
                <a:cubicBezTo>
                  <a:pt x="288" y="1586"/>
                  <a:pt x="398" y="1513"/>
                  <a:pt x="476" y="1460"/>
                </a:cubicBezTo>
                <a:cubicBezTo>
                  <a:pt x="579" y="1515"/>
                  <a:pt x="696" y="1547"/>
                  <a:pt x="820" y="1547"/>
                </a:cubicBezTo>
                <a:cubicBezTo>
                  <a:pt x="944" y="1547"/>
                  <a:pt x="1061" y="1515"/>
                  <a:pt x="1164" y="1460"/>
                </a:cubicBezTo>
                <a:cubicBezTo>
                  <a:pt x="1425" y="1635"/>
                  <a:pt x="1425" y="1635"/>
                  <a:pt x="1425" y="1635"/>
                </a:cubicBezTo>
                <a:cubicBezTo>
                  <a:pt x="1436" y="1642"/>
                  <a:pt x="1450" y="1642"/>
                  <a:pt x="1461" y="1634"/>
                </a:cubicBezTo>
                <a:cubicBezTo>
                  <a:pt x="1471" y="1625"/>
                  <a:pt x="1474" y="1612"/>
                  <a:pt x="1469" y="1599"/>
                </a:cubicBezTo>
                <a:lnTo>
                  <a:pt x="1354" y="1311"/>
                </a:lnTo>
                <a:close/>
                <a:moveTo>
                  <a:pt x="820" y="1367"/>
                </a:moveTo>
                <a:cubicBezTo>
                  <a:pt x="520" y="1367"/>
                  <a:pt x="277" y="1124"/>
                  <a:pt x="277" y="824"/>
                </a:cubicBezTo>
                <a:cubicBezTo>
                  <a:pt x="277" y="524"/>
                  <a:pt x="520" y="281"/>
                  <a:pt x="820" y="281"/>
                </a:cubicBezTo>
                <a:cubicBezTo>
                  <a:pt x="1120" y="281"/>
                  <a:pt x="1363" y="524"/>
                  <a:pt x="1363" y="824"/>
                </a:cubicBezTo>
                <a:cubicBezTo>
                  <a:pt x="1363" y="1124"/>
                  <a:pt x="1120" y="1367"/>
                  <a:pt x="820" y="1367"/>
                </a:cubicBezTo>
                <a:close/>
                <a:moveTo>
                  <a:pt x="496" y="46"/>
                </a:moveTo>
                <a:cubicBezTo>
                  <a:pt x="446" y="17"/>
                  <a:pt x="389" y="0"/>
                  <a:pt x="328" y="0"/>
                </a:cubicBezTo>
                <a:cubicBezTo>
                  <a:pt x="147" y="0"/>
                  <a:pt x="0" y="147"/>
                  <a:pt x="0" y="328"/>
                </a:cubicBezTo>
                <a:cubicBezTo>
                  <a:pt x="0" y="388"/>
                  <a:pt x="16" y="444"/>
                  <a:pt x="45" y="493"/>
                </a:cubicBezTo>
                <a:cubicBezTo>
                  <a:pt x="131" y="292"/>
                  <a:pt x="293" y="130"/>
                  <a:pt x="496" y="46"/>
                </a:cubicBezTo>
                <a:close/>
                <a:moveTo>
                  <a:pt x="1595" y="493"/>
                </a:moveTo>
                <a:cubicBezTo>
                  <a:pt x="1624" y="444"/>
                  <a:pt x="1640" y="388"/>
                  <a:pt x="1640" y="328"/>
                </a:cubicBezTo>
                <a:cubicBezTo>
                  <a:pt x="1640" y="147"/>
                  <a:pt x="1493" y="0"/>
                  <a:pt x="1312" y="0"/>
                </a:cubicBezTo>
                <a:cubicBezTo>
                  <a:pt x="1251" y="0"/>
                  <a:pt x="1194" y="17"/>
                  <a:pt x="1145" y="46"/>
                </a:cubicBezTo>
                <a:cubicBezTo>
                  <a:pt x="1347" y="130"/>
                  <a:pt x="1509" y="292"/>
                  <a:pt x="1595" y="4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traight Connector 42"/>
          <p:cNvSpPr/>
          <p:nvPr/>
        </p:nvSpPr>
        <p:spPr>
          <a:xfrm flipH="1">
            <a:off x="6686640" y="2787480"/>
            <a:ext cx="7905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Straight Connector 43"/>
          <p:cNvSpPr/>
          <p:nvPr/>
        </p:nvSpPr>
        <p:spPr>
          <a:xfrm flipH="1" flipV="1">
            <a:off x="6716520" y="3890880"/>
            <a:ext cx="742680" cy="64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traight Connector 44"/>
          <p:cNvSpPr/>
          <p:nvPr/>
        </p:nvSpPr>
        <p:spPr>
          <a:xfrm>
            <a:off x="6673680" y="4203720"/>
            <a:ext cx="792360" cy="77796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13"/>
          <p:cNvSpPr/>
          <p:nvPr/>
        </p:nvSpPr>
        <p:spPr>
          <a:xfrm>
            <a:off x="8405640" y="2516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地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8405640" y="29336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13"/>
          <p:cNvSpPr/>
          <p:nvPr/>
        </p:nvSpPr>
        <p:spPr>
          <a:xfrm>
            <a:off x="8405640" y="3780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8405640" y="49928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13"/>
          <p:cNvSpPr/>
          <p:nvPr/>
        </p:nvSpPr>
        <p:spPr>
          <a:xfrm>
            <a:off x="8405640" y="542304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3"/>
          <p:cNvSpPr/>
          <p:nvPr/>
        </p:nvSpPr>
        <p:spPr>
          <a:xfrm>
            <a:off x="8405640" y="416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3" name="图片 29" descr=""/>
          <p:cNvPicPr/>
          <p:nvPr/>
        </p:nvPicPr>
        <p:blipFill>
          <a:blip r:embed="rId1"/>
          <a:stretch/>
        </p:blipFill>
        <p:spPr>
          <a:xfrm>
            <a:off x="727200" y="2417760"/>
            <a:ext cx="4506840" cy="3005280"/>
          </a:xfrm>
          <a:prstGeom prst="rect">
            <a:avLst/>
          </a:prstGeom>
          <a:ln w="0">
            <a:noFill/>
          </a:ln>
        </p:spPr>
      </p:pic>
      <p:grpSp>
        <p:nvGrpSpPr>
          <p:cNvPr id="1004" name="组合 3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05" name="椭圆 3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等腰三角形 3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7" name="Freeform 16"/>
          <p:cNvSpPr/>
          <p:nvPr/>
        </p:nvSpPr>
        <p:spPr>
          <a:xfrm>
            <a:off x="7832880" y="3691080"/>
            <a:ext cx="296640" cy="349200"/>
          </a:xfrm>
          <a:custGeom>
            <a:avLst/>
            <a:gdLst/>
            <a:ahLst/>
            <a:rect l="l" t="t" r="r" b="b"/>
            <a:pathLst>
              <a:path w="171" h="201">
                <a:moveTo>
                  <a:pt x="61" y="46"/>
                </a:moveTo>
                <a:cubicBezTo>
                  <a:pt x="64" y="46"/>
                  <a:pt x="82" y="39"/>
                  <a:pt x="104" y="47"/>
                </a:cubicBezTo>
                <a:cubicBezTo>
                  <a:pt x="101" y="32"/>
                  <a:pt x="109" y="24"/>
                  <a:pt x="109" y="19"/>
                </a:cubicBezTo>
                <a:cubicBezTo>
                  <a:pt x="108" y="7"/>
                  <a:pt x="104" y="15"/>
                  <a:pt x="97" y="9"/>
                </a:cubicBezTo>
                <a:cubicBezTo>
                  <a:pt x="97" y="11"/>
                  <a:pt x="100" y="21"/>
                  <a:pt x="92" y="30"/>
                </a:cubicBezTo>
                <a:cubicBezTo>
                  <a:pt x="97" y="17"/>
                  <a:pt x="92" y="0"/>
                  <a:pt x="92" y="2"/>
                </a:cubicBezTo>
                <a:cubicBezTo>
                  <a:pt x="86" y="9"/>
                  <a:pt x="79" y="1"/>
                  <a:pt x="76" y="10"/>
                </a:cubicBezTo>
                <a:cubicBezTo>
                  <a:pt x="75" y="13"/>
                  <a:pt x="82" y="22"/>
                  <a:pt x="76" y="35"/>
                </a:cubicBezTo>
                <a:cubicBezTo>
                  <a:pt x="75" y="19"/>
                  <a:pt x="72" y="14"/>
                  <a:pt x="72" y="16"/>
                </a:cubicBezTo>
                <a:cubicBezTo>
                  <a:pt x="68" y="26"/>
                  <a:pt x="59" y="12"/>
                  <a:pt x="59" y="28"/>
                </a:cubicBezTo>
                <a:cubicBezTo>
                  <a:pt x="59" y="30"/>
                  <a:pt x="66" y="35"/>
                  <a:pt x="61" y="46"/>
                </a:cubicBezTo>
                <a:close/>
                <a:moveTo>
                  <a:pt x="91" y="133"/>
                </a:moveTo>
                <a:cubicBezTo>
                  <a:pt x="91" y="153"/>
                  <a:pt x="91" y="153"/>
                  <a:pt x="91" y="153"/>
                </a:cubicBezTo>
                <a:cubicBezTo>
                  <a:pt x="95" y="152"/>
                  <a:pt x="95" y="151"/>
                  <a:pt x="96" y="149"/>
                </a:cubicBezTo>
                <a:cubicBezTo>
                  <a:pt x="98" y="147"/>
                  <a:pt x="99" y="145"/>
                  <a:pt x="99" y="143"/>
                </a:cubicBezTo>
                <a:cubicBezTo>
                  <a:pt x="99" y="141"/>
                  <a:pt x="98" y="139"/>
                  <a:pt x="97" y="137"/>
                </a:cubicBezTo>
                <a:cubicBezTo>
                  <a:pt x="95" y="136"/>
                  <a:pt x="95" y="134"/>
                  <a:pt x="91" y="133"/>
                </a:cubicBezTo>
                <a:close/>
                <a:moveTo>
                  <a:pt x="74" y="95"/>
                </a:moveTo>
                <a:cubicBezTo>
                  <a:pt x="73" y="96"/>
                  <a:pt x="72" y="97"/>
                  <a:pt x="72" y="99"/>
                </a:cubicBezTo>
                <a:cubicBezTo>
                  <a:pt x="72" y="101"/>
                  <a:pt x="73" y="103"/>
                  <a:pt x="74" y="104"/>
                </a:cubicBezTo>
                <a:cubicBezTo>
                  <a:pt x="75" y="105"/>
                  <a:pt x="76" y="106"/>
                  <a:pt x="79" y="107"/>
                </a:cubicBezTo>
                <a:cubicBezTo>
                  <a:pt x="79" y="91"/>
                  <a:pt x="79" y="91"/>
                  <a:pt x="79" y="91"/>
                </a:cubicBezTo>
                <a:cubicBezTo>
                  <a:pt x="76" y="92"/>
                  <a:pt x="75" y="93"/>
                  <a:pt x="74" y="95"/>
                </a:cubicBezTo>
                <a:close/>
                <a:moveTo>
                  <a:pt x="171" y="179"/>
                </a:moveTo>
                <a:cubicBezTo>
                  <a:pt x="163" y="72"/>
                  <a:pt x="125" y="59"/>
                  <a:pt x="115" y="54"/>
                </a:cubicBezTo>
                <a:cubicBezTo>
                  <a:pt x="108" y="51"/>
                  <a:pt x="96" y="49"/>
                  <a:pt x="84" y="49"/>
                </a:cubicBezTo>
                <a:cubicBezTo>
                  <a:pt x="83" y="49"/>
                  <a:pt x="83" y="49"/>
                  <a:pt x="82" y="49"/>
                </a:cubicBezTo>
                <a:cubicBezTo>
                  <a:pt x="81" y="49"/>
                  <a:pt x="80" y="49"/>
                  <a:pt x="80" y="49"/>
                </a:cubicBezTo>
                <a:cubicBezTo>
                  <a:pt x="78" y="49"/>
                  <a:pt x="77" y="49"/>
                  <a:pt x="75" y="49"/>
                </a:cubicBezTo>
                <a:cubicBezTo>
                  <a:pt x="72" y="49"/>
                  <a:pt x="69" y="50"/>
                  <a:pt x="66" y="50"/>
                </a:cubicBezTo>
                <a:cubicBezTo>
                  <a:pt x="61" y="51"/>
                  <a:pt x="55" y="52"/>
                  <a:pt x="51" y="54"/>
                </a:cubicBezTo>
                <a:cubicBezTo>
                  <a:pt x="25" y="64"/>
                  <a:pt x="11" y="68"/>
                  <a:pt x="0" y="179"/>
                </a:cubicBezTo>
                <a:cubicBezTo>
                  <a:pt x="0" y="179"/>
                  <a:pt x="0" y="180"/>
                  <a:pt x="0" y="180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0" y="182"/>
                </a:cubicBezTo>
                <a:cubicBezTo>
                  <a:pt x="1" y="183"/>
                  <a:pt x="1" y="184"/>
                  <a:pt x="1" y="185"/>
                </a:cubicBezTo>
                <a:cubicBezTo>
                  <a:pt x="2" y="187"/>
                  <a:pt x="4" y="189"/>
                  <a:pt x="6" y="190"/>
                </a:cubicBezTo>
                <a:cubicBezTo>
                  <a:pt x="26" y="197"/>
                  <a:pt x="63" y="200"/>
                  <a:pt x="84" y="201"/>
                </a:cubicBezTo>
                <a:cubicBezTo>
                  <a:pt x="85" y="201"/>
                  <a:pt x="86" y="201"/>
                  <a:pt x="87" y="201"/>
                </a:cubicBezTo>
                <a:cubicBezTo>
                  <a:pt x="89" y="201"/>
                  <a:pt x="89" y="201"/>
                  <a:pt x="91" y="201"/>
                </a:cubicBezTo>
                <a:cubicBezTo>
                  <a:pt x="93" y="201"/>
                  <a:pt x="96" y="201"/>
                  <a:pt x="99" y="200"/>
                </a:cubicBezTo>
                <a:cubicBezTo>
                  <a:pt x="104" y="200"/>
                  <a:pt x="129" y="200"/>
                  <a:pt x="134" y="199"/>
                </a:cubicBezTo>
                <a:cubicBezTo>
                  <a:pt x="145" y="197"/>
                  <a:pt x="155" y="194"/>
                  <a:pt x="165" y="190"/>
                </a:cubicBezTo>
                <a:cubicBezTo>
                  <a:pt x="167" y="189"/>
                  <a:pt x="169" y="188"/>
                  <a:pt x="169" y="186"/>
                </a:cubicBezTo>
                <a:cubicBezTo>
                  <a:pt x="170" y="185"/>
                  <a:pt x="170" y="183"/>
                  <a:pt x="171" y="182"/>
                </a:cubicBezTo>
                <a:cubicBezTo>
                  <a:pt x="171" y="182"/>
                  <a:pt x="171" y="181"/>
                  <a:pt x="171" y="181"/>
                </a:cubicBezTo>
                <a:cubicBezTo>
                  <a:pt x="171" y="180"/>
                  <a:pt x="171" y="180"/>
                  <a:pt x="171" y="180"/>
                </a:cubicBezTo>
                <a:cubicBezTo>
                  <a:pt x="171" y="180"/>
                  <a:pt x="171" y="179"/>
                  <a:pt x="171" y="179"/>
                </a:cubicBezTo>
                <a:close/>
                <a:moveTo>
                  <a:pt x="119" y="152"/>
                </a:moveTo>
                <a:cubicBezTo>
                  <a:pt x="117" y="156"/>
                  <a:pt x="115" y="159"/>
                  <a:pt x="112" y="161"/>
                </a:cubicBezTo>
                <a:cubicBezTo>
                  <a:pt x="108" y="164"/>
                  <a:pt x="105" y="166"/>
                  <a:pt x="102" y="167"/>
                </a:cubicBezTo>
                <a:cubicBezTo>
                  <a:pt x="98" y="168"/>
                  <a:pt x="96" y="169"/>
                  <a:pt x="91" y="169"/>
                </a:cubicBezTo>
                <a:cubicBezTo>
                  <a:pt x="91" y="183"/>
                  <a:pt x="91" y="183"/>
                  <a:pt x="91" y="183"/>
                </a:cubicBezTo>
                <a:cubicBezTo>
                  <a:pt x="79" y="183"/>
                  <a:pt x="79" y="183"/>
                  <a:pt x="79" y="183"/>
                </a:cubicBezTo>
                <a:cubicBezTo>
                  <a:pt x="79" y="169"/>
                  <a:pt x="79" y="169"/>
                  <a:pt x="79" y="169"/>
                </a:cubicBezTo>
                <a:cubicBezTo>
                  <a:pt x="73" y="168"/>
                  <a:pt x="68" y="167"/>
                  <a:pt x="65" y="166"/>
                </a:cubicBezTo>
                <a:cubicBezTo>
                  <a:pt x="61" y="165"/>
                  <a:pt x="59" y="163"/>
                  <a:pt x="56" y="160"/>
                </a:cubicBezTo>
                <a:cubicBezTo>
                  <a:pt x="53" y="158"/>
                  <a:pt x="50" y="155"/>
                  <a:pt x="48" y="152"/>
                </a:cubicBezTo>
                <a:cubicBezTo>
                  <a:pt x="47" y="149"/>
                  <a:pt x="46" y="150"/>
                  <a:pt x="45" y="146"/>
                </a:cubicBezTo>
                <a:cubicBezTo>
                  <a:pt x="70" y="138"/>
                  <a:pt x="70" y="138"/>
                  <a:pt x="70" y="138"/>
                </a:cubicBezTo>
                <a:cubicBezTo>
                  <a:pt x="71" y="142"/>
                  <a:pt x="72" y="145"/>
                  <a:pt x="73" y="147"/>
                </a:cubicBezTo>
                <a:cubicBezTo>
                  <a:pt x="75" y="149"/>
                  <a:pt x="76" y="151"/>
                  <a:pt x="79" y="152"/>
                </a:cubicBezTo>
                <a:cubicBezTo>
                  <a:pt x="79" y="130"/>
                  <a:pt x="79" y="130"/>
                  <a:pt x="79" y="130"/>
                </a:cubicBezTo>
                <a:cubicBezTo>
                  <a:pt x="71" y="128"/>
                  <a:pt x="65" y="126"/>
                  <a:pt x="62" y="124"/>
                </a:cubicBezTo>
                <a:cubicBezTo>
                  <a:pt x="58" y="122"/>
                  <a:pt x="55" y="120"/>
                  <a:pt x="53" y="116"/>
                </a:cubicBezTo>
                <a:cubicBezTo>
                  <a:pt x="50" y="112"/>
                  <a:pt x="49" y="107"/>
                  <a:pt x="49" y="102"/>
                </a:cubicBezTo>
                <a:cubicBezTo>
                  <a:pt x="49" y="95"/>
                  <a:pt x="51" y="88"/>
                  <a:pt x="56" y="83"/>
                </a:cubicBezTo>
                <a:cubicBezTo>
                  <a:pt x="62" y="78"/>
                  <a:pt x="69" y="76"/>
                  <a:pt x="79" y="75"/>
                </a:cubicBezTo>
                <a:cubicBezTo>
                  <a:pt x="79" y="63"/>
                  <a:pt x="79" y="63"/>
                  <a:pt x="79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75"/>
                  <a:pt x="91" y="75"/>
                  <a:pt x="91" y="75"/>
                </a:cubicBezTo>
                <a:cubicBezTo>
                  <a:pt x="101" y="76"/>
                  <a:pt x="105" y="78"/>
                  <a:pt x="110" y="82"/>
                </a:cubicBezTo>
                <a:cubicBezTo>
                  <a:pt x="115" y="86"/>
                  <a:pt x="118" y="91"/>
                  <a:pt x="120" y="97"/>
                </a:cubicBezTo>
                <a:cubicBezTo>
                  <a:pt x="96" y="101"/>
                  <a:pt x="96" y="101"/>
                  <a:pt x="96" y="101"/>
                </a:cubicBezTo>
                <a:cubicBezTo>
                  <a:pt x="95" y="98"/>
                  <a:pt x="94" y="96"/>
                  <a:pt x="93" y="95"/>
                </a:cubicBezTo>
                <a:cubicBezTo>
                  <a:pt x="92" y="94"/>
                  <a:pt x="93" y="93"/>
                  <a:pt x="91" y="92"/>
                </a:cubicBezTo>
                <a:cubicBezTo>
                  <a:pt x="91" y="110"/>
                  <a:pt x="91" y="110"/>
                  <a:pt x="91" y="110"/>
                </a:cubicBezTo>
                <a:cubicBezTo>
                  <a:pt x="104" y="113"/>
                  <a:pt x="110" y="117"/>
                  <a:pt x="114" y="120"/>
                </a:cubicBezTo>
                <a:cubicBezTo>
                  <a:pt x="120" y="125"/>
                  <a:pt x="122" y="132"/>
                  <a:pt x="122" y="139"/>
                </a:cubicBezTo>
                <a:cubicBezTo>
                  <a:pt x="122" y="144"/>
                  <a:pt x="121" y="148"/>
                  <a:pt x="119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定位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7"/>
          <p:cNvSpPr/>
          <p:nvPr/>
        </p:nvSpPr>
        <p:spPr>
          <a:xfrm>
            <a:off x="150804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entagon 2355"/>
          <p:cNvSpPr/>
          <p:nvPr/>
        </p:nvSpPr>
        <p:spPr>
          <a:xfrm rot="5400000">
            <a:off x="186840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Rounded Rectangle 2359"/>
          <p:cNvSpPr/>
          <p:nvPr/>
        </p:nvSpPr>
        <p:spPr>
          <a:xfrm>
            <a:off x="1662120" y="5295960"/>
            <a:ext cx="179244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价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文本框 10"/>
          <p:cNvSpPr/>
          <p:nvPr/>
        </p:nvSpPr>
        <p:spPr>
          <a:xfrm>
            <a:off x="196056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矩形 11"/>
          <p:cNvSpPr/>
          <p:nvPr/>
        </p:nvSpPr>
        <p:spPr>
          <a:xfrm>
            <a:off x="389556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entagon 2355"/>
          <p:cNvSpPr/>
          <p:nvPr/>
        </p:nvSpPr>
        <p:spPr>
          <a:xfrm rot="5400000">
            <a:off x="425664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ounded Rectangle 2359"/>
          <p:cNvSpPr/>
          <p:nvPr/>
        </p:nvSpPr>
        <p:spPr>
          <a:xfrm>
            <a:off x="404964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利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文本框 14"/>
          <p:cNvSpPr/>
          <p:nvPr/>
        </p:nvSpPr>
        <p:spPr>
          <a:xfrm>
            <a:off x="434808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矩形 15"/>
          <p:cNvSpPr/>
          <p:nvPr/>
        </p:nvSpPr>
        <p:spPr>
          <a:xfrm>
            <a:off x="6283440" y="2149560"/>
            <a:ext cx="213840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entagon 2355"/>
          <p:cNvSpPr/>
          <p:nvPr/>
        </p:nvSpPr>
        <p:spPr>
          <a:xfrm rot="5400000">
            <a:off x="6645240" y="1771560"/>
            <a:ext cx="1398600" cy="215424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4240"/>
              <a:gd name="textAreaBottom" fmla="*/ 2154600 h 21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Rounded Rectangle 2359"/>
          <p:cNvSpPr/>
          <p:nvPr/>
        </p:nvSpPr>
        <p:spPr>
          <a:xfrm>
            <a:off x="6438960" y="5295960"/>
            <a:ext cx="1792080" cy="4460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文本框 18"/>
          <p:cNvSpPr/>
          <p:nvPr/>
        </p:nvSpPr>
        <p:spPr>
          <a:xfrm>
            <a:off x="6735600" y="242892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矩形 19"/>
          <p:cNvSpPr/>
          <p:nvPr/>
        </p:nvSpPr>
        <p:spPr>
          <a:xfrm>
            <a:off x="8672400" y="2149560"/>
            <a:ext cx="2136960" cy="383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entagon 2355"/>
          <p:cNvSpPr/>
          <p:nvPr/>
        </p:nvSpPr>
        <p:spPr>
          <a:xfrm rot="5400000">
            <a:off x="9033480" y="1772280"/>
            <a:ext cx="1398600" cy="2152800"/>
          </a:xfrm>
          <a:custGeom>
            <a:avLst/>
            <a:gdLst>
              <a:gd name="textAreaLeft" fmla="*/ 0 w 1398600"/>
              <a:gd name="textAreaRight" fmla="*/ 1398960 w 139860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5" y="0"/>
                </a:lnTo>
                <a:lnTo>
                  <a:pt x="21600" y="10800"/>
                </a:lnTo>
                <a:lnTo>
                  <a:pt x="198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ounded Rectangle 2359"/>
          <p:cNvSpPr/>
          <p:nvPr/>
        </p:nvSpPr>
        <p:spPr>
          <a:xfrm>
            <a:off x="8826480" y="5295960"/>
            <a:ext cx="1793880" cy="44604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改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文本框 22"/>
          <p:cNvSpPr/>
          <p:nvPr/>
        </p:nvSpPr>
        <p:spPr>
          <a:xfrm>
            <a:off x="9124920" y="2428920"/>
            <a:ext cx="11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1333440" y="3998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Box 13"/>
          <p:cNvSpPr/>
          <p:nvPr/>
        </p:nvSpPr>
        <p:spPr>
          <a:xfrm>
            <a:off x="1960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TextBox 13"/>
          <p:cNvSpPr/>
          <p:nvPr/>
        </p:nvSpPr>
        <p:spPr>
          <a:xfrm>
            <a:off x="3701880" y="3998880"/>
            <a:ext cx="233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TextBox 13"/>
          <p:cNvSpPr/>
          <p:nvPr/>
        </p:nvSpPr>
        <p:spPr>
          <a:xfrm>
            <a:off x="432756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3"/>
          <p:cNvSpPr/>
          <p:nvPr/>
        </p:nvSpPr>
        <p:spPr>
          <a:xfrm>
            <a:off x="603252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TextBox 13"/>
          <p:cNvSpPr/>
          <p:nvPr/>
        </p:nvSpPr>
        <p:spPr>
          <a:xfrm>
            <a:off x="6659640" y="434808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3"/>
          <p:cNvSpPr/>
          <p:nvPr/>
        </p:nvSpPr>
        <p:spPr>
          <a:xfrm>
            <a:off x="8464680" y="3998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13"/>
          <p:cNvSpPr/>
          <p:nvPr/>
        </p:nvSpPr>
        <p:spPr>
          <a:xfrm>
            <a:off x="9091440" y="434808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6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37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9" name="组合 34"/>
          <p:cNvGrpSpPr/>
          <p:nvPr/>
        </p:nvGrpSpPr>
        <p:grpSpPr>
          <a:xfrm>
            <a:off x="11633040" y="631800"/>
            <a:ext cx="333360" cy="333360"/>
            <a:chOff x="11633040" y="631800"/>
            <a:chExt cx="333360" cy="333360"/>
          </a:xfrm>
        </p:grpSpPr>
        <p:sp>
          <p:nvSpPr>
            <p:cNvPr id="1040" name="椭圆 35"/>
            <p:cNvSpPr/>
            <p:nvPr/>
          </p:nvSpPr>
          <p:spPr>
            <a:xfrm>
              <a:off x="11633040" y="63180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等腰三角形 36"/>
            <p:cNvSpPr/>
            <p:nvPr/>
          </p:nvSpPr>
          <p:spPr>
            <a:xfrm rot="5400000">
              <a:off x="11714400" y="71352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趋势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Hexagon 43"/>
          <p:cNvSpPr/>
          <p:nvPr/>
        </p:nvSpPr>
        <p:spPr>
          <a:xfrm>
            <a:off x="2246400" y="2646360"/>
            <a:ext cx="2950920" cy="25430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Hexagon 35"/>
          <p:cNvSpPr/>
          <p:nvPr/>
        </p:nvSpPr>
        <p:spPr>
          <a:xfrm>
            <a:off x="4584600" y="2646360"/>
            <a:ext cx="2951280" cy="25430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Hexagon 39"/>
          <p:cNvSpPr/>
          <p:nvPr/>
        </p:nvSpPr>
        <p:spPr>
          <a:xfrm>
            <a:off x="6923160" y="2646360"/>
            <a:ext cx="2949480" cy="254304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Freeform 13"/>
          <p:cNvSpPr/>
          <p:nvPr/>
        </p:nvSpPr>
        <p:spPr>
          <a:xfrm>
            <a:off x="5614920" y="3143160"/>
            <a:ext cx="890640" cy="532080"/>
          </a:xfrm>
          <a:custGeom>
            <a:avLst/>
            <a:gdLst/>
            <a:ahLst/>
            <a:rect l="l" t="t" r="r" b="b"/>
            <a:pathLst>
              <a:path w="256" h="154">
                <a:moveTo>
                  <a:pt x="226" y="131"/>
                </a:moveTo>
                <a:cubicBezTo>
                  <a:pt x="226" y="131"/>
                  <a:pt x="226" y="131"/>
                  <a:pt x="226" y="130"/>
                </a:cubicBezTo>
                <a:cubicBezTo>
                  <a:pt x="226" y="10"/>
                  <a:pt x="226" y="10"/>
                  <a:pt x="226" y="10"/>
                </a:cubicBezTo>
                <a:cubicBezTo>
                  <a:pt x="226" y="5"/>
                  <a:pt x="222" y="0"/>
                  <a:pt x="217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3" y="0"/>
                  <a:pt x="29" y="5"/>
                  <a:pt x="29" y="10"/>
                </a:cubicBezTo>
                <a:cubicBezTo>
                  <a:pt x="29" y="130"/>
                  <a:pt x="29" y="130"/>
                  <a:pt x="29" y="130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0" y="138"/>
                  <a:pt x="0" y="138"/>
                  <a:pt x="0" y="138"/>
                </a:cubicBezTo>
                <a:cubicBezTo>
                  <a:pt x="3" y="154"/>
                  <a:pt x="3" y="154"/>
                  <a:pt x="3" y="154"/>
                </a:cubicBezTo>
                <a:cubicBezTo>
                  <a:pt x="253" y="154"/>
                  <a:pt x="253" y="154"/>
                  <a:pt x="253" y="154"/>
                </a:cubicBezTo>
                <a:cubicBezTo>
                  <a:pt x="256" y="138"/>
                  <a:pt x="256" y="138"/>
                  <a:pt x="256" y="138"/>
                </a:cubicBezTo>
                <a:lnTo>
                  <a:pt x="226" y="131"/>
                </a:lnTo>
                <a:close/>
                <a:moveTo>
                  <a:pt x="207" y="119"/>
                </a:moveTo>
                <a:cubicBezTo>
                  <a:pt x="48" y="119"/>
                  <a:pt x="48" y="119"/>
                  <a:pt x="48" y="119"/>
                </a:cubicBezTo>
                <a:cubicBezTo>
                  <a:pt x="48" y="20"/>
                  <a:pt x="48" y="20"/>
                  <a:pt x="48" y="20"/>
                </a:cubicBezTo>
                <a:cubicBezTo>
                  <a:pt x="207" y="20"/>
                  <a:pt x="207" y="20"/>
                  <a:pt x="207" y="20"/>
                </a:cubicBezTo>
                <a:lnTo>
                  <a:pt x="207" y="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Freeform 14"/>
          <p:cNvSpPr/>
          <p:nvPr/>
        </p:nvSpPr>
        <p:spPr>
          <a:xfrm>
            <a:off x="8223120" y="2979720"/>
            <a:ext cx="358920" cy="6955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1" name="组合 15"/>
          <p:cNvGrpSpPr/>
          <p:nvPr/>
        </p:nvGrpSpPr>
        <p:grpSpPr>
          <a:xfrm>
            <a:off x="2921040" y="4022640"/>
            <a:ext cx="1603440" cy="655200"/>
            <a:chOff x="2921040" y="4022640"/>
            <a:chExt cx="1603440" cy="655200"/>
          </a:xfrm>
        </p:grpSpPr>
        <p:sp>
          <p:nvSpPr>
            <p:cNvPr id="1052" name="TextBox 13"/>
            <p:cNvSpPr/>
            <p:nvPr/>
          </p:nvSpPr>
          <p:spPr>
            <a:xfrm>
              <a:off x="3239280" y="4022640"/>
              <a:ext cx="88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传统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TextBox 13"/>
            <p:cNvSpPr/>
            <p:nvPr/>
          </p:nvSpPr>
          <p:spPr>
            <a:xfrm>
              <a:off x="292104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4" name="组合 18"/>
          <p:cNvGrpSpPr/>
          <p:nvPr/>
        </p:nvGrpSpPr>
        <p:grpSpPr>
          <a:xfrm>
            <a:off x="5257800" y="4017960"/>
            <a:ext cx="1603440" cy="659880"/>
            <a:chOff x="5257800" y="4017960"/>
            <a:chExt cx="1603440" cy="659880"/>
          </a:xfrm>
        </p:grpSpPr>
        <p:sp>
          <p:nvSpPr>
            <p:cNvPr id="1055" name="TextBox 13"/>
            <p:cNvSpPr/>
            <p:nvPr/>
          </p:nvSpPr>
          <p:spPr>
            <a:xfrm>
              <a:off x="5527440" y="4017960"/>
              <a:ext cx="106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互联网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TextBox 13"/>
            <p:cNvSpPr/>
            <p:nvPr/>
          </p:nvSpPr>
          <p:spPr>
            <a:xfrm>
              <a:off x="5257800" y="4312440"/>
              <a:ext cx="1603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21"/>
          <p:cNvGrpSpPr/>
          <p:nvPr/>
        </p:nvGrpSpPr>
        <p:grpSpPr>
          <a:xfrm>
            <a:off x="7596360" y="4010040"/>
            <a:ext cx="1603080" cy="668520"/>
            <a:chOff x="7596360" y="4010040"/>
            <a:chExt cx="1603080" cy="668520"/>
          </a:xfrm>
        </p:grpSpPr>
        <p:sp>
          <p:nvSpPr>
            <p:cNvPr id="1058" name="TextBox 13"/>
            <p:cNvSpPr/>
            <p:nvPr/>
          </p:nvSpPr>
          <p:spPr>
            <a:xfrm>
              <a:off x="7687080" y="4010040"/>
              <a:ext cx="127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移动端市场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TextBox 13"/>
            <p:cNvSpPr/>
            <p:nvPr/>
          </p:nvSpPr>
          <p:spPr>
            <a:xfrm>
              <a:off x="7596360" y="4313160"/>
              <a:ext cx="160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0" name="组合 2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061" name="椭圆 25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等腰三角形 26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3" name="Freeform 18"/>
          <p:cNvSpPr/>
          <p:nvPr/>
        </p:nvSpPr>
        <p:spPr>
          <a:xfrm>
            <a:off x="3238560" y="3203640"/>
            <a:ext cx="633240" cy="550800"/>
          </a:xfrm>
          <a:custGeom>
            <a:avLst/>
            <a:gdLst/>
            <a:ahLst/>
            <a:rect l="l" t="t" r="r" b="b"/>
            <a:pathLst>
              <a:path w="200" h="174">
                <a:moveTo>
                  <a:pt x="193" y="114"/>
                </a:moveTo>
                <a:cubicBezTo>
                  <a:pt x="63" y="114"/>
                  <a:pt x="63" y="114"/>
                  <a:pt x="63" y="114"/>
                </a:cubicBezTo>
                <a:cubicBezTo>
                  <a:pt x="62" y="114"/>
                  <a:pt x="62" y="114"/>
                  <a:pt x="62" y="114"/>
                </a:cubicBezTo>
                <a:cubicBezTo>
                  <a:pt x="54" y="114"/>
                  <a:pt x="55" y="106"/>
                  <a:pt x="61" y="10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192" y="102"/>
                  <a:pt x="200" y="102"/>
                  <a:pt x="200" y="91"/>
                </a:cubicBezTo>
                <a:cubicBezTo>
                  <a:pt x="200" y="91"/>
                  <a:pt x="200" y="91"/>
                  <a:pt x="200" y="91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39"/>
                  <a:pt x="192" y="39"/>
                  <a:pt x="192" y="39"/>
                </a:cubicBezTo>
                <a:cubicBezTo>
                  <a:pt x="192" y="41"/>
                  <a:pt x="192" y="41"/>
                  <a:pt x="192" y="41"/>
                </a:cubicBezTo>
                <a:cubicBezTo>
                  <a:pt x="170" y="41"/>
                  <a:pt x="170" y="41"/>
                  <a:pt x="170" y="41"/>
                </a:cubicBezTo>
                <a:cubicBezTo>
                  <a:pt x="170" y="35"/>
                  <a:pt x="170" y="35"/>
                  <a:pt x="170" y="35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6"/>
                  <a:pt x="192" y="36"/>
                  <a:pt x="192" y="36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192" y="39"/>
                  <a:pt x="192" y="39"/>
                  <a:pt x="192" y="39"/>
                </a:cubicBezTo>
                <a:cubicBezTo>
                  <a:pt x="200" y="39"/>
                  <a:pt x="200" y="39"/>
                  <a:pt x="200" y="39"/>
                </a:cubicBezTo>
                <a:cubicBezTo>
                  <a:pt x="200" y="29"/>
                  <a:pt x="192" y="28"/>
                  <a:pt x="191" y="28"/>
                </a:cubicBezTo>
                <a:cubicBezTo>
                  <a:pt x="41" y="22"/>
                  <a:pt x="41" y="22"/>
                  <a:pt x="41" y="22"/>
                </a:cubicBezTo>
                <a:cubicBezTo>
                  <a:pt x="35" y="8"/>
                  <a:pt x="35" y="8"/>
                  <a:pt x="35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8"/>
                  <a:pt x="34" y="8"/>
                  <a:pt x="34" y="8"/>
                </a:cubicBezTo>
                <a:cubicBezTo>
                  <a:pt x="21" y="8"/>
                  <a:pt x="21" y="8"/>
                  <a:pt x="21" y="8"/>
                </a:cubicBezTo>
                <a:cubicBezTo>
                  <a:pt x="19" y="4"/>
                  <a:pt x="16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5" y="22"/>
                  <a:pt x="19" y="19"/>
                  <a:pt x="21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55" y="98"/>
                  <a:pt x="55" y="98"/>
                  <a:pt x="55" y="98"/>
                </a:cubicBezTo>
                <a:cubicBezTo>
                  <a:pt x="54" y="98"/>
                  <a:pt x="54" y="98"/>
                  <a:pt x="54" y="98"/>
                </a:cubicBezTo>
                <a:cubicBezTo>
                  <a:pt x="43" y="98"/>
                  <a:pt x="41" y="126"/>
                  <a:pt x="62" y="126"/>
                </a:cubicBezTo>
                <a:cubicBezTo>
                  <a:pt x="62" y="126"/>
                  <a:pt x="62" y="126"/>
                  <a:pt x="63" y="126"/>
                </a:cubicBezTo>
                <a:cubicBezTo>
                  <a:pt x="193" y="126"/>
                  <a:pt x="193" y="126"/>
                  <a:pt x="193" y="126"/>
                </a:cubicBezTo>
                <a:cubicBezTo>
                  <a:pt x="196" y="126"/>
                  <a:pt x="198" y="121"/>
                  <a:pt x="198" y="118"/>
                </a:cubicBezTo>
                <a:cubicBezTo>
                  <a:pt x="198" y="116"/>
                  <a:pt x="196" y="114"/>
                  <a:pt x="193" y="114"/>
                </a:cubicBezTo>
                <a:close/>
                <a:moveTo>
                  <a:pt x="62" y="98"/>
                </a:moveTo>
                <a:cubicBezTo>
                  <a:pt x="59" y="85"/>
                  <a:pt x="59" y="85"/>
                  <a:pt x="59" y="85"/>
                </a:cubicBezTo>
                <a:cubicBezTo>
                  <a:pt x="75" y="85"/>
                  <a:pt x="75" y="85"/>
                  <a:pt x="75" y="85"/>
                </a:cubicBezTo>
                <a:cubicBezTo>
                  <a:pt x="77" y="98"/>
                  <a:pt x="77" y="98"/>
                  <a:pt x="77" y="98"/>
                </a:cubicBezTo>
                <a:lnTo>
                  <a:pt x="62" y="98"/>
                </a:lnTo>
                <a:close/>
                <a:moveTo>
                  <a:pt x="164" y="96"/>
                </a:moveTo>
                <a:cubicBezTo>
                  <a:pt x="138" y="96"/>
                  <a:pt x="138" y="96"/>
                  <a:pt x="138" y="96"/>
                </a:cubicBezTo>
                <a:cubicBezTo>
                  <a:pt x="138" y="85"/>
                  <a:pt x="138" y="85"/>
                  <a:pt x="138" y="85"/>
                </a:cubicBezTo>
                <a:cubicBezTo>
                  <a:pt x="164" y="85"/>
                  <a:pt x="164" y="85"/>
                  <a:pt x="164" y="85"/>
                </a:cubicBezTo>
                <a:lnTo>
                  <a:pt x="164" y="96"/>
                </a:lnTo>
                <a:close/>
                <a:moveTo>
                  <a:pt x="164" y="79"/>
                </a:moveTo>
                <a:cubicBezTo>
                  <a:pt x="137" y="79"/>
                  <a:pt x="137" y="79"/>
                  <a:pt x="137" y="79"/>
                </a:cubicBezTo>
                <a:cubicBezTo>
                  <a:pt x="137" y="73"/>
                  <a:pt x="137" y="73"/>
                  <a:pt x="137" y="73"/>
                </a:cubicBezTo>
                <a:cubicBezTo>
                  <a:pt x="164" y="73"/>
                  <a:pt x="164" y="73"/>
                  <a:pt x="164" y="73"/>
                </a:cubicBezTo>
                <a:lnTo>
                  <a:pt x="164" y="79"/>
                </a:lnTo>
                <a:close/>
                <a:moveTo>
                  <a:pt x="164" y="67"/>
                </a:moveTo>
                <a:cubicBezTo>
                  <a:pt x="137" y="67"/>
                  <a:pt x="137" y="67"/>
                  <a:pt x="137" y="67"/>
                </a:cubicBezTo>
                <a:cubicBezTo>
                  <a:pt x="137" y="60"/>
                  <a:pt x="137" y="60"/>
                  <a:pt x="137" y="60"/>
                </a:cubicBezTo>
                <a:cubicBezTo>
                  <a:pt x="164" y="60"/>
                  <a:pt x="164" y="60"/>
                  <a:pt x="164" y="60"/>
                </a:cubicBezTo>
                <a:lnTo>
                  <a:pt x="164" y="67"/>
                </a:lnTo>
                <a:close/>
                <a:moveTo>
                  <a:pt x="164" y="54"/>
                </a:moveTo>
                <a:cubicBezTo>
                  <a:pt x="136" y="54"/>
                  <a:pt x="136" y="54"/>
                  <a:pt x="136" y="54"/>
                </a:cubicBezTo>
                <a:cubicBezTo>
                  <a:pt x="136" y="47"/>
                  <a:pt x="136" y="47"/>
                  <a:pt x="136" y="47"/>
                </a:cubicBezTo>
                <a:cubicBezTo>
                  <a:pt x="164" y="47"/>
                  <a:pt x="164" y="47"/>
                  <a:pt x="164" y="47"/>
                </a:cubicBezTo>
                <a:lnTo>
                  <a:pt x="164" y="54"/>
                </a:lnTo>
                <a:close/>
                <a:moveTo>
                  <a:pt x="170" y="47"/>
                </a:moveTo>
                <a:cubicBezTo>
                  <a:pt x="192" y="47"/>
                  <a:pt x="192" y="47"/>
                  <a:pt x="192" y="47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70" y="54"/>
                  <a:pt x="170" y="54"/>
                  <a:pt x="170" y="54"/>
                </a:cubicBezTo>
                <a:lnTo>
                  <a:pt x="170" y="47"/>
                </a:lnTo>
                <a:close/>
                <a:moveTo>
                  <a:pt x="170" y="60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7"/>
                  <a:pt x="192" y="67"/>
                  <a:pt x="192" y="67"/>
                </a:cubicBezTo>
                <a:cubicBezTo>
                  <a:pt x="170" y="67"/>
                  <a:pt x="170" y="67"/>
                  <a:pt x="170" y="67"/>
                </a:cubicBezTo>
                <a:lnTo>
                  <a:pt x="170" y="60"/>
                </a:lnTo>
                <a:close/>
                <a:moveTo>
                  <a:pt x="170" y="73"/>
                </a:moveTo>
                <a:cubicBezTo>
                  <a:pt x="192" y="73"/>
                  <a:pt x="192" y="73"/>
                  <a:pt x="192" y="73"/>
                </a:cubicBezTo>
                <a:cubicBezTo>
                  <a:pt x="192" y="79"/>
                  <a:pt x="192" y="79"/>
                  <a:pt x="192" y="79"/>
                </a:cubicBezTo>
                <a:cubicBezTo>
                  <a:pt x="170" y="79"/>
                  <a:pt x="170" y="79"/>
                  <a:pt x="170" y="79"/>
                </a:cubicBezTo>
                <a:lnTo>
                  <a:pt x="170" y="73"/>
                </a:lnTo>
                <a:close/>
                <a:moveTo>
                  <a:pt x="170" y="85"/>
                </a:moveTo>
                <a:cubicBezTo>
                  <a:pt x="192" y="85"/>
                  <a:pt x="192" y="85"/>
                  <a:pt x="192" y="85"/>
                </a:cubicBezTo>
                <a:cubicBezTo>
                  <a:pt x="192" y="91"/>
                  <a:pt x="192" y="91"/>
                  <a:pt x="192" y="91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92" y="95"/>
                  <a:pt x="192" y="95"/>
                  <a:pt x="192" y="95"/>
                </a:cubicBezTo>
                <a:cubicBezTo>
                  <a:pt x="170" y="95"/>
                  <a:pt x="170" y="95"/>
                  <a:pt x="170" y="95"/>
                </a:cubicBezTo>
                <a:lnTo>
                  <a:pt x="170" y="85"/>
                </a:lnTo>
                <a:close/>
                <a:moveTo>
                  <a:pt x="164" y="35"/>
                </a:moveTo>
                <a:cubicBezTo>
                  <a:pt x="164" y="41"/>
                  <a:pt x="164" y="41"/>
                  <a:pt x="164" y="41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5" y="34"/>
                  <a:pt x="135" y="34"/>
                  <a:pt x="135" y="34"/>
                </a:cubicBezTo>
                <a:lnTo>
                  <a:pt x="164" y="35"/>
                </a:lnTo>
                <a:close/>
                <a:moveTo>
                  <a:pt x="132" y="96"/>
                </a:moveTo>
                <a:cubicBezTo>
                  <a:pt x="107" y="97"/>
                  <a:pt x="107" y="97"/>
                  <a:pt x="107" y="97"/>
                </a:cubicBezTo>
                <a:cubicBezTo>
                  <a:pt x="106" y="85"/>
                  <a:pt x="106" y="85"/>
                  <a:pt x="106" y="85"/>
                </a:cubicBezTo>
                <a:cubicBezTo>
                  <a:pt x="131" y="85"/>
                  <a:pt x="131" y="85"/>
                  <a:pt x="131" y="85"/>
                </a:cubicBezTo>
                <a:lnTo>
                  <a:pt x="132" y="96"/>
                </a:lnTo>
                <a:close/>
                <a:moveTo>
                  <a:pt x="131" y="79"/>
                </a:moveTo>
                <a:cubicBezTo>
                  <a:pt x="106" y="79"/>
                  <a:pt x="106" y="79"/>
                  <a:pt x="106" y="79"/>
                </a:cubicBezTo>
                <a:cubicBezTo>
                  <a:pt x="105" y="73"/>
                  <a:pt x="105" y="73"/>
                  <a:pt x="105" y="73"/>
                </a:cubicBezTo>
                <a:cubicBezTo>
                  <a:pt x="131" y="73"/>
                  <a:pt x="131" y="73"/>
                  <a:pt x="131" y="73"/>
                </a:cubicBezTo>
                <a:lnTo>
                  <a:pt x="131" y="79"/>
                </a:lnTo>
                <a:close/>
                <a:moveTo>
                  <a:pt x="131" y="67"/>
                </a:moveTo>
                <a:cubicBezTo>
                  <a:pt x="105" y="67"/>
                  <a:pt x="105" y="67"/>
                  <a:pt x="105" y="67"/>
                </a:cubicBezTo>
                <a:cubicBezTo>
                  <a:pt x="105" y="60"/>
                  <a:pt x="105" y="60"/>
                  <a:pt x="105" y="60"/>
                </a:cubicBezTo>
                <a:cubicBezTo>
                  <a:pt x="130" y="60"/>
                  <a:pt x="130" y="60"/>
                  <a:pt x="130" y="60"/>
                </a:cubicBezTo>
                <a:lnTo>
                  <a:pt x="131" y="67"/>
                </a:lnTo>
                <a:close/>
                <a:moveTo>
                  <a:pt x="130" y="54"/>
                </a:moveTo>
                <a:cubicBezTo>
                  <a:pt x="104" y="54"/>
                  <a:pt x="104" y="54"/>
                  <a:pt x="104" y="54"/>
                </a:cubicBezTo>
                <a:cubicBezTo>
                  <a:pt x="104" y="47"/>
                  <a:pt x="104" y="47"/>
                  <a:pt x="104" y="47"/>
                </a:cubicBezTo>
                <a:cubicBezTo>
                  <a:pt x="130" y="47"/>
                  <a:pt x="130" y="47"/>
                  <a:pt x="130" y="47"/>
                </a:cubicBezTo>
                <a:lnTo>
                  <a:pt x="130" y="54"/>
                </a:lnTo>
                <a:close/>
                <a:moveTo>
                  <a:pt x="129" y="33"/>
                </a:moveTo>
                <a:cubicBezTo>
                  <a:pt x="129" y="41"/>
                  <a:pt x="129" y="41"/>
                  <a:pt x="129" y="41"/>
                </a:cubicBezTo>
                <a:cubicBezTo>
                  <a:pt x="104" y="41"/>
                  <a:pt x="104" y="41"/>
                  <a:pt x="104" y="41"/>
                </a:cubicBezTo>
                <a:cubicBezTo>
                  <a:pt x="103" y="32"/>
                  <a:pt x="103" y="32"/>
                  <a:pt x="103" y="32"/>
                </a:cubicBezTo>
                <a:lnTo>
                  <a:pt x="129" y="33"/>
                </a:lnTo>
                <a:close/>
                <a:moveTo>
                  <a:pt x="100" y="97"/>
                </a:moveTo>
                <a:cubicBezTo>
                  <a:pt x="83" y="98"/>
                  <a:pt x="83" y="98"/>
                  <a:pt x="83" y="98"/>
                </a:cubicBezTo>
                <a:cubicBezTo>
                  <a:pt x="81" y="85"/>
                  <a:pt x="81" y="85"/>
                  <a:pt x="81" y="85"/>
                </a:cubicBezTo>
                <a:cubicBezTo>
                  <a:pt x="100" y="85"/>
                  <a:pt x="100" y="85"/>
                  <a:pt x="100" y="85"/>
                </a:cubicBezTo>
                <a:lnTo>
                  <a:pt x="100" y="97"/>
                </a:lnTo>
                <a:close/>
                <a:moveTo>
                  <a:pt x="99" y="79"/>
                </a:moveTo>
                <a:cubicBezTo>
                  <a:pt x="80" y="79"/>
                  <a:pt x="80" y="79"/>
                  <a:pt x="80" y="79"/>
                </a:cubicBezTo>
                <a:cubicBezTo>
                  <a:pt x="79" y="73"/>
                  <a:pt x="79" y="73"/>
                  <a:pt x="79" y="73"/>
                </a:cubicBezTo>
                <a:cubicBezTo>
                  <a:pt x="99" y="73"/>
                  <a:pt x="99" y="73"/>
                  <a:pt x="99" y="73"/>
                </a:cubicBezTo>
                <a:lnTo>
                  <a:pt x="99" y="79"/>
                </a:lnTo>
                <a:close/>
                <a:moveTo>
                  <a:pt x="99" y="67"/>
                </a:moveTo>
                <a:cubicBezTo>
                  <a:pt x="78" y="67"/>
                  <a:pt x="78" y="67"/>
                  <a:pt x="78" y="67"/>
                </a:cubicBezTo>
                <a:cubicBezTo>
                  <a:pt x="77" y="60"/>
                  <a:pt x="77" y="60"/>
                  <a:pt x="77" y="60"/>
                </a:cubicBezTo>
                <a:cubicBezTo>
                  <a:pt x="98" y="60"/>
                  <a:pt x="98" y="60"/>
                  <a:pt x="98" y="60"/>
                </a:cubicBezTo>
                <a:lnTo>
                  <a:pt x="99" y="67"/>
                </a:lnTo>
                <a:close/>
                <a:moveTo>
                  <a:pt x="98" y="54"/>
                </a:moveTo>
                <a:cubicBezTo>
                  <a:pt x="76" y="54"/>
                  <a:pt x="76" y="54"/>
                  <a:pt x="76" y="54"/>
                </a:cubicBezTo>
                <a:cubicBezTo>
                  <a:pt x="74" y="47"/>
                  <a:pt x="74" y="47"/>
                  <a:pt x="74" y="47"/>
                </a:cubicBezTo>
                <a:cubicBezTo>
                  <a:pt x="98" y="47"/>
                  <a:pt x="98" y="47"/>
                  <a:pt x="98" y="47"/>
                </a:cubicBezTo>
                <a:lnTo>
                  <a:pt x="98" y="54"/>
                </a:lnTo>
                <a:close/>
                <a:moveTo>
                  <a:pt x="97" y="32"/>
                </a:moveTo>
                <a:cubicBezTo>
                  <a:pt x="97" y="41"/>
                  <a:pt x="97" y="41"/>
                  <a:pt x="97" y="41"/>
                </a:cubicBezTo>
                <a:cubicBezTo>
                  <a:pt x="73" y="41"/>
                  <a:pt x="73" y="41"/>
                  <a:pt x="73" y="41"/>
                </a:cubicBezTo>
                <a:cubicBezTo>
                  <a:pt x="72" y="31"/>
                  <a:pt x="72" y="31"/>
                  <a:pt x="72" y="31"/>
                </a:cubicBezTo>
                <a:lnTo>
                  <a:pt x="97" y="32"/>
                </a:lnTo>
                <a:close/>
                <a:moveTo>
                  <a:pt x="43" y="30"/>
                </a:moveTo>
                <a:cubicBezTo>
                  <a:pt x="66" y="31"/>
                  <a:pt x="66" y="31"/>
                  <a:pt x="66" y="31"/>
                </a:cubicBezTo>
                <a:cubicBezTo>
                  <a:pt x="67" y="41"/>
                  <a:pt x="67" y="41"/>
                  <a:pt x="67" y="41"/>
                </a:cubicBezTo>
                <a:cubicBezTo>
                  <a:pt x="46" y="41"/>
                  <a:pt x="46" y="41"/>
                  <a:pt x="46" y="41"/>
                </a:cubicBezTo>
                <a:lnTo>
                  <a:pt x="43" y="30"/>
                </a:lnTo>
                <a:close/>
                <a:moveTo>
                  <a:pt x="48" y="47"/>
                </a:moveTo>
                <a:cubicBezTo>
                  <a:pt x="68" y="47"/>
                  <a:pt x="68" y="47"/>
                  <a:pt x="68" y="47"/>
                </a:cubicBezTo>
                <a:cubicBezTo>
                  <a:pt x="69" y="54"/>
                  <a:pt x="69" y="54"/>
                  <a:pt x="69" y="54"/>
                </a:cubicBezTo>
                <a:cubicBezTo>
                  <a:pt x="50" y="54"/>
                  <a:pt x="50" y="54"/>
                  <a:pt x="50" y="54"/>
                </a:cubicBezTo>
                <a:lnTo>
                  <a:pt x="48" y="47"/>
                </a:lnTo>
                <a:close/>
                <a:moveTo>
                  <a:pt x="54" y="67"/>
                </a:moveTo>
                <a:cubicBezTo>
                  <a:pt x="51" y="60"/>
                  <a:pt x="51" y="60"/>
                  <a:pt x="51" y="60"/>
                </a:cubicBezTo>
                <a:cubicBezTo>
                  <a:pt x="70" y="60"/>
                  <a:pt x="70" y="60"/>
                  <a:pt x="70" y="60"/>
                </a:cubicBezTo>
                <a:cubicBezTo>
                  <a:pt x="71" y="67"/>
                  <a:pt x="71" y="67"/>
                  <a:pt x="71" y="67"/>
                </a:cubicBezTo>
                <a:lnTo>
                  <a:pt x="54" y="67"/>
                </a:lnTo>
                <a:close/>
                <a:moveTo>
                  <a:pt x="73" y="73"/>
                </a:moveTo>
                <a:cubicBezTo>
                  <a:pt x="74" y="79"/>
                  <a:pt x="74" y="79"/>
                  <a:pt x="74" y="79"/>
                </a:cubicBezTo>
                <a:cubicBezTo>
                  <a:pt x="58" y="79"/>
                  <a:pt x="58" y="79"/>
                  <a:pt x="58" y="79"/>
                </a:cubicBezTo>
                <a:cubicBezTo>
                  <a:pt x="55" y="73"/>
                  <a:pt x="55" y="73"/>
                  <a:pt x="55" y="73"/>
                </a:cubicBezTo>
                <a:lnTo>
                  <a:pt x="73" y="73"/>
                </a:lnTo>
                <a:close/>
                <a:moveTo>
                  <a:pt x="171" y="133"/>
                </a:moveTo>
                <a:cubicBezTo>
                  <a:pt x="160" y="133"/>
                  <a:pt x="151" y="142"/>
                  <a:pt x="151" y="153"/>
                </a:cubicBezTo>
                <a:cubicBezTo>
                  <a:pt x="151" y="165"/>
                  <a:pt x="160" y="174"/>
                  <a:pt x="171" y="174"/>
                </a:cubicBezTo>
                <a:cubicBezTo>
                  <a:pt x="183" y="174"/>
                  <a:pt x="192" y="165"/>
                  <a:pt x="192" y="153"/>
                </a:cubicBezTo>
                <a:cubicBezTo>
                  <a:pt x="192" y="142"/>
                  <a:pt x="183" y="133"/>
                  <a:pt x="171" y="133"/>
                </a:cubicBezTo>
                <a:close/>
                <a:moveTo>
                  <a:pt x="171" y="163"/>
                </a:moveTo>
                <a:cubicBezTo>
                  <a:pt x="166" y="163"/>
                  <a:pt x="162" y="158"/>
                  <a:pt x="162" y="153"/>
                </a:cubicBezTo>
                <a:cubicBezTo>
                  <a:pt x="162" y="148"/>
                  <a:pt x="166" y="144"/>
                  <a:pt x="171" y="144"/>
                </a:cubicBezTo>
                <a:cubicBezTo>
                  <a:pt x="177" y="144"/>
                  <a:pt x="181" y="148"/>
                  <a:pt x="181" y="153"/>
                </a:cubicBezTo>
                <a:cubicBezTo>
                  <a:pt x="181" y="158"/>
                  <a:pt x="177" y="163"/>
                  <a:pt x="171" y="163"/>
                </a:cubicBezTo>
                <a:close/>
                <a:moveTo>
                  <a:pt x="86" y="133"/>
                </a:moveTo>
                <a:cubicBezTo>
                  <a:pt x="75" y="133"/>
                  <a:pt x="66" y="142"/>
                  <a:pt x="66" y="153"/>
                </a:cubicBezTo>
                <a:cubicBezTo>
                  <a:pt x="66" y="165"/>
                  <a:pt x="75" y="174"/>
                  <a:pt x="86" y="174"/>
                </a:cubicBezTo>
                <a:cubicBezTo>
                  <a:pt x="98" y="174"/>
                  <a:pt x="107" y="165"/>
                  <a:pt x="107" y="153"/>
                </a:cubicBezTo>
                <a:cubicBezTo>
                  <a:pt x="107" y="142"/>
                  <a:pt x="98" y="133"/>
                  <a:pt x="86" y="133"/>
                </a:cubicBezTo>
                <a:close/>
                <a:moveTo>
                  <a:pt x="86" y="163"/>
                </a:moveTo>
                <a:cubicBezTo>
                  <a:pt x="81" y="163"/>
                  <a:pt x="77" y="158"/>
                  <a:pt x="77" y="153"/>
                </a:cubicBezTo>
                <a:cubicBezTo>
                  <a:pt x="77" y="148"/>
                  <a:pt x="81" y="144"/>
                  <a:pt x="86" y="144"/>
                </a:cubicBezTo>
                <a:cubicBezTo>
                  <a:pt x="91" y="144"/>
                  <a:pt x="96" y="148"/>
                  <a:pt x="96" y="153"/>
                </a:cubicBezTo>
                <a:cubicBezTo>
                  <a:pt x="96" y="158"/>
                  <a:pt x="91" y="163"/>
                  <a:pt x="86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整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069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070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2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074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075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7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8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079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080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2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084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085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7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8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089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090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92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3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销售渠道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广告公关投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危机公关处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模式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策略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渠道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7" name="Straight Arrow Connector 10"/>
          <p:cNvCxnSpPr/>
          <p:nvPr/>
        </p:nvCxnSpPr>
        <p:spPr>
          <a:xfrm flipV="1">
            <a:off x="2030040" y="3161520"/>
            <a:ext cx="48636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8" name="Straight Arrow Connector 13"/>
          <p:cNvCxnSpPr/>
          <p:nvPr/>
        </p:nvCxnSpPr>
        <p:spPr>
          <a:xfrm>
            <a:off x="2041560" y="3911760"/>
            <a:ext cx="4881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09" name="Straight Arrow Connector 14"/>
          <p:cNvCxnSpPr/>
          <p:nvPr/>
        </p:nvCxnSpPr>
        <p:spPr>
          <a:xfrm flipV="1">
            <a:off x="3500280" y="2370960"/>
            <a:ext cx="48672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0" name="Straight Arrow Connector 15"/>
          <p:cNvCxnSpPr/>
          <p:nvPr/>
        </p:nvCxnSpPr>
        <p:spPr>
          <a:xfrm flipV="1">
            <a:off x="3528720" y="3911400"/>
            <a:ext cx="48636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531960" y="3209400"/>
            <a:ext cx="487800" cy="2818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3531960" y="4660920"/>
            <a:ext cx="487800" cy="28152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sp>
        <p:nvSpPr>
          <p:cNvPr id="1113" name="Oval 2"/>
          <p:cNvSpPr/>
          <p:nvPr/>
        </p:nvSpPr>
        <p:spPr>
          <a:xfrm>
            <a:off x="1003320" y="3089160"/>
            <a:ext cx="1133280" cy="1152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Oval 3"/>
          <p:cNvSpPr/>
          <p:nvPr/>
        </p:nvSpPr>
        <p:spPr>
          <a:xfrm>
            <a:off x="2476440" y="2357280"/>
            <a:ext cx="1133640" cy="1150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Oval 4"/>
          <p:cNvSpPr/>
          <p:nvPr/>
        </p:nvSpPr>
        <p:spPr>
          <a:xfrm>
            <a:off x="2516040" y="3760920"/>
            <a:ext cx="1135080" cy="1152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Oval 5"/>
          <p:cNvSpPr/>
          <p:nvPr/>
        </p:nvSpPr>
        <p:spPr>
          <a:xfrm>
            <a:off x="3986280" y="308916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Oval 6"/>
          <p:cNvSpPr/>
          <p:nvPr/>
        </p:nvSpPr>
        <p:spPr>
          <a:xfrm>
            <a:off x="3957480" y="1663560"/>
            <a:ext cx="1135080" cy="11509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Oval 7"/>
          <p:cNvSpPr/>
          <p:nvPr/>
        </p:nvSpPr>
        <p:spPr>
          <a:xfrm>
            <a:off x="3986280" y="4538520"/>
            <a:ext cx="1135080" cy="115272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Freeform 55"/>
          <p:cNvSpPr/>
          <p:nvPr/>
        </p:nvSpPr>
        <p:spPr>
          <a:xfrm>
            <a:off x="1407960" y="3349800"/>
            <a:ext cx="360360" cy="37620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Freeform 61"/>
          <p:cNvSpPr/>
          <p:nvPr/>
        </p:nvSpPr>
        <p:spPr>
          <a:xfrm>
            <a:off x="4362480" y="3316320"/>
            <a:ext cx="380880" cy="3952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1" name="Group 40" descr=""/>
          <p:cNvPicPr/>
          <p:nvPr/>
        </p:nvPicPr>
        <p:blipFill>
          <a:blip r:embed="rId1"/>
          <a:stretch/>
        </p:blipFill>
        <p:spPr>
          <a:xfrm>
            <a:off x="4370400" y="1920960"/>
            <a:ext cx="304920" cy="345960"/>
          </a:xfrm>
          <a:prstGeom prst="rect">
            <a:avLst/>
          </a:prstGeom>
          <a:ln w="0">
            <a:noFill/>
          </a:ln>
        </p:spPr>
      </p:pic>
      <p:pic>
        <p:nvPicPr>
          <p:cNvPr id="1122" name="Group 45" descr=""/>
          <p:cNvPicPr/>
          <p:nvPr/>
        </p:nvPicPr>
        <p:blipFill>
          <a:blip r:embed="rId2"/>
          <a:stretch/>
        </p:blipFill>
        <p:spPr>
          <a:xfrm>
            <a:off x="4363920" y="4809960"/>
            <a:ext cx="304920" cy="32868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13"/>
          <p:cNvSpPr/>
          <p:nvPr/>
        </p:nvSpPr>
        <p:spPr>
          <a:xfrm>
            <a:off x="1143000" y="3787920"/>
            <a:ext cx="85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13"/>
          <p:cNvSpPr/>
          <p:nvPr/>
        </p:nvSpPr>
        <p:spPr>
          <a:xfrm>
            <a:off x="2631960" y="30384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13"/>
          <p:cNvSpPr/>
          <p:nvPr/>
        </p:nvSpPr>
        <p:spPr>
          <a:xfrm>
            <a:off x="2631960" y="4473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微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13"/>
          <p:cNvSpPr/>
          <p:nvPr/>
        </p:nvSpPr>
        <p:spPr>
          <a:xfrm>
            <a:off x="4097160" y="234000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Box 13"/>
          <p:cNvSpPr/>
          <p:nvPr/>
        </p:nvSpPr>
        <p:spPr>
          <a:xfrm>
            <a:off x="4097160" y="37879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TextBox 13"/>
          <p:cNvSpPr/>
          <p:nvPr/>
        </p:nvSpPr>
        <p:spPr>
          <a:xfrm>
            <a:off x="4097160" y="5211720"/>
            <a:ext cx="854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矩形 40"/>
          <p:cNvSpPr/>
          <p:nvPr/>
        </p:nvSpPr>
        <p:spPr>
          <a:xfrm>
            <a:off x="6326280" y="2090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TextBox 13"/>
          <p:cNvSpPr/>
          <p:nvPr/>
        </p:nvSpPr>
        <p:spPr>
          <a:xfrm>
            <a:off x="6326280" y="176832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网上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矩形 42"/>
          <p:cNvSpPr/>
          <p:nvPr/>
        </p:nvSpPr>
        <p:spPr>
          <a:xfrm>
            <a:off x="6326280" y="345276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3"/>
          <p:cNvSpPr/>
          <p:nvPr/>
        </p:nvSpPr>
        <p:spPr>
          <a:xfrm>
            <a:off x="6326280" y="313056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中间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矩形 44"/>
          <p:cNvSpPr/>
          <p:nvPr/>
        </p:nvSpPr>
        <p:spPr>
          <a:xfrm>
            <a:off x="6326280" y="4871880"/>
            <a:ext cx="491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3"/>
          <p:cNvSpPr/>
          <p:nvPr/>
        </p:nvSpPr>
        <p:spPr>
          <a:xfrm>
            <a:off x="6326280" y="454968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新媒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Freeform 66"/>
          <p:cNvSpPr/>
          <p:nvPr/>
        </p:nvSpPr>
        <p:spPr>
          <a:xfrm>
            <a:off x="2782800" y="2508120"/>
            <a:ext cx="520920" cy="40500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6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37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9" name="KSO_Shape"/>
          <p:cNvSpPr/>
          <p:nvPr/>
        </p:nvSpPr>
        <p:spPr>
          <a:xfrm>
            <a:off x="2844720" y="3981600"/>
            <a:ext cx="514440" cy="419040"/>
          </a:xfrm>
          <a:custGeom>
            <a:avLst/>
            <a:gdLst/>
            <a:ahLst/>
            <a:rect l="l" t="t" r="r" b="b"/>
            <a:pathLst>
              <a:path w="684048" h="556307">
                <a:moveTo>
                  <a:pt x="222901" y="383453"/>
                </a:moveTo>
                <a:cubicBezTo>
                  <a:pt x="218315" y="383977"/>
                  <a:pt x="213613" y="385281"/>
                  <a:pt x="209039" y="387420"/>
                </a:cubicBezTo>
                <a:cubicBezTo>
                  <a:pt x="190739" y="395979"/>
                  <a:pt x="181407" y="414680"/>
                  <a:pt x="188193" y="429191"/>
                </a:cubicBezTo>
                <a:cubicBezTo>
                  <a:pt x="194980" y="443702"/>
                  <a:pt x="215317" y="448527"/>
                  <a:pt x="233616" y="439969"/>
                </a:cubicBezTo>
                <a:cubicBezTo>
                  <a:pt x="251915" y="431410"/>
                  <a:pt x="261248" y="412709"/>
                  <a:pt x="254461" y="398198"/>
                </a:cubicBezTo>
                <a:cubicBezTo>
                  <a:pt x="249371" y="387315"/>
                  <a:pt x="236659" y="381879"/>
                  <a:pt x="222901" y="383453"/>
                </a:cubicBezTo>
                <a:close/>
                <a:moveTo>
                  <a:pt x="284035" y="369073"/>
                </a:moveTo>
                <a:cubicBezTo>
                  <a:pt x="281538" y="368297"/>
                  <a:pt x="278657" y="368441"/>
                  <a:pt x="275985" y="369691"/>
                </a:cubicBezTo>
                <a:cubicBezTo>
                  <a:pt x="270641" y="372190"/>
                  <a:pt x="268154" y="378164"/>
                  <a:pt x="270432" y="383034"/>
                </a:cubicBezTo>
                <a:cubicBezTo>
                  <a:pt x="272710" y="387904"/>
                  <a:pt x="278888" y="389825"/>
                  <a:pt x="284233" y="387325"/>
                </a:cubicBezTo>
                <a:cubicBezTo>
                  <a:pt x="289577" y="384826"/>
                  <a:pt x="292063" y="378852"/>
                  <a:pt x="289785" y="373982"/>
                </a:cubicBezTo>
                <a:cubicBezTo>
                  <a:pt x="288647" y="371547"/>
                  <a:pt x="286533" y="369850"/>
                  <a:pt x="284035" y="369073"/>
                </a:cubicBezTo>
                <a:close/>
                <a:moveTo>
                  <a:pt x="266604" y="297070"/>
                </a:moveTo>
                <a:cubicBezTo>
                  <a:pt x="319078" y="300338"/>
                  <a:pt x="362309" y="335548"/>
                  <a:pt x="367763" y="383070"/>
                </a:cubicBezTo>
                <a:cubicBezTo>
                  <a:pt x="373996" y="437381"/>
                  <a:pt x="328527" y="487207"/>
                  <a:pt x="266205" y="494360"/>
                </a:cubicBezTo>
                <a:cubicBezTo>
                  <a:pt x="203883" y="501513"/>
                  <a:pt x="148308" y="463284"/>
                  <a:pt x="142074" y="408972"/>
                </a:cubicBezTo>
                <a:cubicBezTo>
                  <a:pt x="135841" y="354661"/>
                  <a:pt x="181310" y="304835"/>
                  <a:pt x="243632" y="297682"/>
                </a:cubicBezTo>
                <a:cubicBezTo>
                  <a:pt x="251423" y="296788"/>
                  <a:pt x="259108" y="296603"/>
                  <a:pt x="266604" y="297070"/>
                </a:cubicBezTo>
                <a:close/>
                <a:moveTo>
                  <a:pt x="297042" y="252387"/>
                </a:moveTo>
                <a:cubicBezTo>
                  <a:pt x="283618" y="252176"/>
                  <a:pt x="269820" y="252839"/>
                  <a:pt x="255793" y="254449"/>
                </a:cubicBezTo>
                <a:cubicBezTo>
                  <a:pt x="143583" y="267328"/>
                  <a:pt x="59288" y="335880"/>
                  <a:pt x="67516" y="407566"/>
                </a:cubicBezTo>
                <a:cubicBezTo>
                  <a:pt x="75743" y="479252"/>
                  <a:pt x="173377" y="526925"/>
                  <a:pt x="285587" y="514046"/>
                </a:cubicBezTo>
                <a:cubicBezTo>
                  <a:pt x="397797" y="501168"/>
                  <a:pt x="482091" y="432615"/>
                  <a:pt x="473864" y="360929"/>
                </a:cubicBezTo>
                <a:cubicBezTo>
                  <a:pt x="466665" y="298204"/>
                  <a:pt x="391015" y="253864"/>
                  <a:pt x="297042" y="252387"/>
                </a:cubicBezTo>
                <a:close/>
                <a:moveTo>
                  <a:pt x="509416" y="97868"/>
                </a:moveTo>
                <a:cubicBezTo>
                  <a:pt x="544841" y="99182"/>
                  <a:pt x="588107" y="127580"/>
                  <a:pt x="590257" y="183051"/>
                </a:cubicBezTo>
                <a:cubicBezTo>
                  <a:pt x="592352" y="199448"/>
                  <a:pt x="588214" y="215684"/>
                  <a:pt x="579852" y="229407"/>
                </a:cubicBezTo>
                <a:lnTo>
                  <a:pt x="580228" y="229581"/>
                </a:lnTo>
                <a:cubicBezTo>
                  <a:pt x="580244" y="229743"/>
                  <a:pt x="580186" y="229872"/>
                  <a:pt x="580126" y="230000"/>
                </a:cubicBezTo>
                <a:lnTo>
                  <a:pt x="578707" y="232024"/>
                </a:lnTo>
                <a:cubicBezTo>
                  <a:pt x="578590" y="232839"/>
                  <a:pt x="578192" y="233485"/>
                  <a:pt x="577787" y="234126"/>
                </a:cubicBezTo>
                <a:lnTo>
                  <a:pt x="577385" y="233908"/>
                </a:lnTo>
                <a:cubicBezTo>
                  <a:pt x="572286" y="241165"/>
                  <a:pt x="563167" y="244302"/>
                  <a:pt x="554750" y="241632"/>
                </a:cubicBezTo>
                <a:lnTo>
                  <a:pt x="548315" y="238643"/>
                </a:lnTo>
                <a:cubicBezTo>
                  <a:pt x="539522" y="233101"/>
                  <a:pt x="536249" y="221620"/>
                  <a:pt x="540834" y="211750"/>
                </a:cubicBezTo>
                <a:lnTo>
                  <a:pt x="541088" y="211402"/>
                </a:lnTo>
                <a:lnTo>
                  <a:pt x="541243" y="211474"/>
                </a:lnTo>
                <a:cubicBezTo>
                  <a:pt x="549302" y="193084"/>
                  <a:pt x="546794" y="175359"/>
                  <a:pt x="541863" y="165391"/>
                </a:cubicBezTo>
                <a:cubicBezTo>
                  <a:pt x="534763" y="151042"/>
                  <a:pt x="514479" y="135118"/>
                  <a:pt x="480142" y="145181"/>
                </a:cubicBezTo>
                <a:lnTo>
                  <a:pt x="480025" y="144483"/>
                </a:lnTo>
                <a:cubicBezTo>
                  <a:pt x="471706" y="144624"/>
                  <a:pt x="464282" y="140887"/>
                  <a:pt x="461009" y="134412"/>
                </a:cubicBezTo>
                <a:lnTo>
                  <a:pt x="458966" y="128175"/>
                </a:lnTo>
                <a:cubicBezTo>
                  <a:pt x="457496" y="119354"/>
                  <a:pt x="463572" y="110158"/>
                  <a:pt x="473636" y="106144"/>
                </a:cubicBezTo>
                <a:lnTo>
                  <a:pt x="473571" y="105761"/>
                </a:lnTo>
                <a:cubicBezTo>
                  <a:pt x="485121" y="99922"/>
                  <a:pt x="497817" y="97438"/>
                  <a:pt x="509416" y="97868"/>
                </a:cubicBezTo>
                <a:close/>
                <a:moveTo>
                  <a:pt x="286518" y="82088"/>
                </a:moveTo>
                <a:cubicBezTo>
                  <a:pt x="376738" y="91976"/>
                  <a:pt x="317665" y="163994"/>
                  <a:pt x="337363" y="184000"/>
                </a:cubicBezTo>
                <a:cubicBezTo>
                  <a:pt x="387081" y="179119"/>
                  <a:pt x="437510" y="146098"/>
                  <a:pt x="486517" y="169358"/>
                </a:cubicBezTo>
                <a:cubicBezTo>
                  <a:pt x="533076" y="203014"/>
                  <a:pt x="494312" y="233925"/>
                  <a:pt x="501054" y="264835"/>
                </a:cubicBezTo>
                <a:cubicBezTo>
                  <a:pt x="649340" y="323962"/>
                  <a:pt x="585744" y="409170"/>
                  <a:pt x="562675" y="436725"/>
                </a:cubicBezTo>
                <a:cubicBezTo>
                  <a:pt x="354965" y="648778"/>
                  <a:pt x="45454" y="533772"/>
                  <a:pt x="10807" y="435328"/>
                </a:cubicBezTo>
                <a:cubicBezTo>
                  <a:pt x="-41075" y="330306"/>
                  <a:pt x="100878" y="89491"/>
                  <a:pt x="286518" y="82088"/>
                </a:cubicBezTo>
                <a:close/>
                <a:moveTo>
                  <a:pt x="489068" y="0"/>
                </a:moveTo>
                <a:cubicBezTo>
                  <a:pt x="596753" y="0"/>
                  <a:pt x="684048" y="87296"/>
                  <a:pt x="684048" y="194980"/>
                </a:cubicBezTo>
                <a:cubicBezTo>
                  <a:pt x="684048" y="216847"/>
                  <a:pt x="680448" y="237874"/>
                  <a:pt x="672966" y="257215"/>
                </a:cubicBezTo>
                <a:lnTo>
                  <a:pt x="672379" y="257003"/>
                </a:lnTo>
                <a:cubicBezTo>
                  <a:pt x="668967" y="265617"/>
                  <a:pt x="657523" y="269364"/>
                  <a:pt x="645725" y="265916"/>
                </a:cubicBezTo>
                <a:lnTo>
                  <a:pt x="637884" y="262819"/>
                </a:lnTo>
                <a:cubicBezTo>
                  <a:pt x="627530" y="257587"/>
                  <a:pt x="621785" y="247890"/>
                  <a:pt x="624308" y="239644"/>
                </a:cubicBezTo>
                <a:lnTo>
                  <a:pt x="623975" y="239524"/>
                </a:lnTo>
                <a:cubicBezTo>
                  <a:pt x="629260" y="225659"/>
                  <a:pt x="631774" y="210613"/>
                  <a:pt x="631774" y="194980"/>
                </a:cubicBezTo>
                <a:cubicBezTo>
                  <a:pt x="631774" y="116165"/>
                  <a:pt x="567883" y="52274"/>
                  <a:pt x="489068" y="52274"/>
                </a:cubicBezTo>
                <a:lnTo>
                  <a:pt x="469942" y="54202"/>
                </a:lnTo>
                <a:lnTo>
                  <a:pt x="469951" y="54239"/>
                </a:lnTo>
                <a:cubicBezTo>
                  <a:pt x="469861" y="54366"/>
                  <a:pt x="469744" y="54397"/>
                  <a:pt x="469627" y="54427"/>
                </a:cubicBezTo>
                <a:cubicBezTo>
                  <a:pt x="460634" y="56697"/>
                  <a:pt x="450861" y="49439"/>
                  <a:pt x="446718" y="37636"/>
                </a:cubicBezTo>
                <a:lnTo>
                  <a:pt x="444619" y="29323"/>
                </a:lnTo>
                <a:cubicBezTo>
                  <a:pt x="442667" y="16995"/>
                  <a:pt x="447797" y="5987"/>
                  <a:pt x="456757" y="3699"/>
                </a:cubicBezTo>
                <a:lnTo>
                  <a:pt x="456661" y="3267"/>
                </a:lnTo>
                <a:cubicBezTo>
                  <a:pt x="467135" y="923"/>
                  <a:pt x="477994" y="0"/>
                  <a:pt x="4890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公关投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ounded Rectangle 4"/>
          <p:cNvSpPr/>
          <p:nvPr/>
        </p:nvSpPr>
        <p:spPr>
          <a:xfrm>
            <a:off x="9255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ounded Rectangle 91"/>
          <p:cNvSpPr/>
          <p:nvPr/>
        </p:nvSpPr>
        <p:spPr>
          <a:xfrm>
            <a:off x="9255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ounded Rectangle 94"/>
          <p:cNvSpPr/>
          <p:nvPr/>
        </p:nvSpPr>
        <p:spPr>
          <a:xfrm>
            <a:off x="9255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7" name="Elbow Connector 106"/>
          <p:cNvCxnSpPr/>
          <p:nvPr/>
        </p:nvCxnSpPr>
        <p:spPr>
          <a:xfrm>
            <a:off x="3865320" y="24397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48" name="Elbow Connector 107"/>
          <p:cNvCxnSpPr/>
          <p:nvPr/>
        </p:nvCxnSpPr>
        <p:spPr>
          <a:xfrm flipV="1">
            <a:off x="3865320" y="4453920"/>
            <a:ext cx="12056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49" name="Straight Connector 109"/>
          <p:cNvSpPr/>
          <p:nvPr/>
        </p:nvSpPr>
        <p:spPr>
          <a:xfrm>
            <a:off x="3865680" y="3919680"/>
            <a:ext cx="12049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Freeform 228"/>
          <p:cNvSpPr/>
          <p:nvPr/>
        </p:nvSpPr>
        <p:spPr>
          <a:xfrm>
            <a:off x="1098720" y="2163600"/>
            <a:ext cx="545760" cy="5511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Freeform 103"/>
          <p:cNvSpPr/>
          <p:nvPr/>
        </p:nvSpPr>
        <p:spPr>
          <a:xfrm>
            <a:off x="1168560" y="4997520"/>
            <a:ext cx="409320" cy="601560"/>
          </a:xfrm>
          <a:custGeom>
            <a:avLst/>
            <a:gdLst/>
            <a:ahLst/>
            <a:rect l="l" t="t" r="r" b="b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Rounded Rectangle 29"/>
          <p:cNvSpPr/>
          <p:nvPr/>
        </p:nvSpPr>
        <p:spPr>
          <a:xfrm>
            <a:off x="8429760" y="185724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Rounded Rectangle 32"/>
          <p:cNvSpPr/>
          <p:nvPr/>
        </p:nvSpPr>
        <p:spPr>
          <a:xfrm>
            <a:off x="8429760" y="329076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ounded Rectangle 35"/>
          <p:cNvSpPr/>
          <p:nvPr/>
        </p:nvSpPr>
        <p:spPr>
          <a:xfrm>
            <a:off x="8429760" y="4724280"/>
            <a:ext cx="2813040" cy="1163880"/>
          </a:xfrm>
          <a:prstGeom prst="roundRect">
            <a:avLst>
              <a:gd name="adj" fmla="val 1013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5" name="Elbow Connector 45"/>
          <p:cNvCxnSpPr/>
          <p:nvPr/>
        </p:nvCxnSpPr>
        <p:spPr>
          <a:xfrm flipV="1" rot="10800000">
            <a:off x="7084440" y="24397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1156" name="Elbow Connector 46"/>
          <p:cNvCxnSpPr/>
          <p:nvPr/>
        </p:nvCxnSpPr>
        <p:spPr>
          <a:xfrm rot="10800000">
            <a:off x="7084440" y="4453920"/>
            <a:ext cx="1230840" cy="9277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1157" name="Straight Connector 47"/>
          <p:cNvSpPr/>
          <p:nvPr/>
        </p:nvSpPr>
        <p:spPr>
          <a:xfrm flipH="1">
            <a:off x="7084800" y="3919680"/>
            <a:ext cx="1230120" cy="288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Freeform 105"/>
          <p:cNvSpPr/>
          <p:nvPr/>
        </p:nvSpPr>
        <p:spPr>
          <a:xfrm>
            <a:off x="10523520" y="2198520"/>
            <a:ext cx="496800" cy="500400"/>
          </a:xfrm>
          <a:custGeom>
            <a:avLst/>
            <a:gdLst/>
            <a:ahLst/>
            <a:rect l="l" t="t" r="r" b="b"/>
            <a:pathLst>
              <a:path w="71" h="71">
                <a:moveTo>
                  <a:pt x="15" y="46"/>
                </a:move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4"/>
                  <a:pt x="0" y="43"/>
                </a:cubicBezTo>
                <a:cubicBezTo>
                  <a:pt x="0" y="36"/>
                  <a:pt x="9" y="35"/>
                  <a:pt x="9" y="31"/>
                </a:cubicBezTo>
                <a:cubicBezTo>
                  <a:pt x="9" y="30"/>
                  <a:pt x="8" y="29"/>
                  <a:pt x="7" y="29"/>
                </a:cubicBezTo>
                <a:cubicBezTo>
                  <a:pt x="6" y="29"/>
                  <a:pt x="4" y="31"/>
                  <a:pt x="4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2" y="27"/>
                  <a:pt x="4" y="25"/>
                  <a:pt x="7" y="25"/>
                </a:cubicBezTo>
                <a:cubicBezTo>
                  <a:pt x="11" y="25"/>
                  <a:pt x="14" y="27"/>
                  <a:pt x="14" y="31"/>
                </a:cubicBezTo>
                <a:cubicBezTo>
                  <a:pt x="14" y="37"/>
                  <a:pt x="6" y="38"/>
                  <a:pt x="6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39"/>
                  <a:pt x="11" y="39"/>
                  <a:pt x="11" y="39"/>
                </a:cubicBezTo>
                <a:cubicBezTo>
                  <a:pt x="15" y="39"/>
                  <a:pt x="15" y="39"/>
                  <a:pt x="15" y="39"/>
                </a:cubicBezTo>
                <a:lnTo>
                  <a:pt x="15" y="46"/>
                </a:lnTo>
                <a:close/>
                <a:moveTo>
                  <a:pt x="7" y="71"/>
                </a:moveTo>
                <a:cubicBezTo>
                  <a:pt x="5" y="71"/>
                  <a:pt x="2" y="70"/>
                  <a:pt x="0" y="69"/>
                </a:cubicBezTo>
                <a:cubicBezTo>
                  <a:pt x="3" y="65"/>
                  <a:pt x="3" y="65"/>
                  <a:pt x="3" y="65"/>
                </a:cubicBezTo>
                <a:cubicBezTo>
                  <a:pt x="4" y="66"/>
                  <a:pt x="5" y="67"/>
                  <a:pt x="7" y="67"/>
                </a:cubicBezTo>
                <a:cubicBezTo>
                  <a:pt x="8" y="67"/>
                  <a:pt x="10" y="66"/>
                  <a:pt x="10" y="65"/>
                </a:cubicBezTo>
                <a:cubicBezTo>
                  <a:pt x="10" y="62"/>
                  <a:pt x="7" y="62"/>
                  <a:pt x="5" y="62"/>
                </a:cubicBezTo>
                <a:cubicBezTo>
                  <a:pt x="4" y="60"/>
                  <a:pt x="4" y="60"/>
                  <a:pt x="4" y="60"/>
                </a:cubicBezTo>
                <a:cubicBezTo>
                  <a:pt x="6" y="58"/>
                  <a:pt x="7" y="56"/>
                  <a:pt x="9" y="55"/>
                </a:cubicBezTo>
                <a:cubicBezTo>
                  <a:pt x="9" y="55"/>
                  <a:pt x="9" y="55"/>
                  <a:pt x="9" y="55"/>
                </a:cubicBezTo>
                <a:cubicBezTo>
                  <a:pt x="8" y="55"/>
                  <a:pt x="6" y="55"/>
                  <a:pt x="5" y="55"/>
                </a:cubicBezTo>
                <a:cubicBezTo>
                  <a:pt x="5" y="57"/>
                  <a:pt x="5" y="57"/>
                  <a:pt x="5" y="57"/>
                </a:cubicBezTo>
                <a:cubicBezTo>
                  <a:pt x="1" y="57"/>
                  <a:pt x="1" y="57"/>
                  <a:pt x="1" y="57"/>
                </a:cubicBezTo>
                <a:cubicBezTo>
                  <a:pt x="1" y="51"/>
                  <a:pt x="1" y="51"/>
                  <a:pt x="1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4"/>
                  <a:pt x="14" y="54"/>
                  <a:pt x="14" y="54"/>
                </a:cubicBezTo>
                <a:cubicBezTo>
                  <a:pt x="10" y="59"/>
                  <a:pt x="10" y="59"/>
                  <a:pt x="10" y="59"/>
                </a:cubicBezTo>
                <a:cubicBezTo>
                  <a:pt x="13" y="60"/>
                  <a:pt x="15" y="62"/>
                  <a:pt x="15" y="64"/>
                </a:cubicBezTo>
                <a:cubicBezTo>
                  <a:pt x="15" y="69"/>
                  <a:pt x="11" y="71"/>
                  <a:pt x="7" y="71"/>
                </a:cubicBezTo>
                <a:close/>
                <a:moveTo>
                  <a:pt x="15" y="20"/>
                </a:moveTo>
                <a:cubicBezTo>
                  <a:pt x="1" y="20"/>
                  <a:pt x="1" y="20"/>
                  <a:pt x="1" y="20"/>
                </a:cubicBezTo>
                <a:cubicBezTo>
                  <a:pt x="1" y="16"/>
                  <a:pt x="1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3"/>
                  <a:pt x="6" y="9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6" y="6"/>
                  <a:pt x="6" y="6"/>
                  <a:pt x="6" y="6"/>
                </a:cubicBezTo>
                <a:cubicBezTo>
                  <a:pt x="5" y="7"/>
                  <a:pt x="4" y="7"/>
                  <a:pt x="4" y="8"/>
                </a:cubicBezTo>
                <a:cubicBezTo>
                  <a:pt x="1" y="5"/>
                  <a:pt x="1" y="5"/>
                  <a:pt x="1" y="5"/>
                </a:cubicBezTo>
                <a:cubicBezTo>
                  <a:pt x="6" y="0"/>
                  <a:pt x="6" y="0"/>
                  <a:pt x="6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16"/>
                  <a:pt x="11" y="16"/>
                  <a:pt x="11" y="16"/>
                </a:cubicBezTo>
                <a:cubicBezTo>
                  <a:pt x="15" y="16"/>
                  <a:pt x="15" y="16"/>
                  <a:pt x="15" y="16"/>
                </a:cubicBezTo>
                <a:lnTo>
                  <a:pt x="15" y="20"/>
                </a:lnTo>
                <a:close/>
                <a:moveTo>
                  <a:pt x="71" y="19"/>
                </a:moveTo>
                <a:cubicBezTo>
                  <a:pt x="71" y="19"/>
                  <a:pt x="71" y="20"/>
                  <a:pt x="7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19"/>
                  <a:pt x="20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0"/>
                  <a:pt x="21" y="10"/>
                  <a:pt x="21" y="10"/>
                </a:cubicBezTo>
                <a:cubicBezTo>
                  <a:pt x="70" y="10"/>
                  <a:pt x="70" y="10"/>
                  <a:pt x="70" y="10"/>
                </a:cubicBezTo>
                <a:cubicBezTo>
                  <a:pt x="71" y="10"/>
                  <a:pt x="71" y="10"/>
                  <a:pt x="71" y="11"/>
                </a:cubicBezTo>
                <a:lnTo>
                  <a:pt x="71" y="19"/>
                </a:lnTo>
                <a:close/>
                <a:moveTo>
                  <a:pt x="71" y="39"/>
                </a:moveTo>
                <a:cubicBezTo>
                  <a:pt x="71" y="40"/>
                  <a:pt x="71" y="40"/>
                  <a:pt x="70" y="40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0"/>
                  <a:pt x="20" y="40"/>
                  <a:pt x="20" y="39"/>
                </a:cubicBezTo>
                <a:cubicBezTo>
                  <a:pt x="20" y="31"/>
                  <a:pt x="20" y="31"/>
                  <a:pt x="20" y="31"/>
                </a:cubicBezTo>
                <a:cubicBezTo>
                  <a:pt x="20" y="31"/>
                  <a:pt x="21" y="30"/>
                  <a:pt x="21" y="30"/>
                </a:cubicBezTo>
                <a:cubicBezTo>
                  <a:pt x="70" y="30"/>
                  <a:pt x="70" y="30"/>
                  <a:pt x="70" y="30"/>
                </a:cubicBezTo>
                <a:cubicBezTo>
                  <a:pt x="71" y="30"/>
                  <a:pt x="71" y="31"/>
                  <a:pt x="71" y="31"/>
                </a:cubicBezTo>
                <a:lnTo>
                  <a:pt x="71" y="39"/>
                </a:lnTo>
                <a:close/>
                <a:moveTo>
                  <a:pt x="71" y="60"/>
                </a:moveTo>
                <a:cubicBezTo>
                  <a:pt x="71" y="60"/>
                  <a:pt x="71" y="61"/>
                  <a:pt x="70" y="61"/>
                </a:cubicBezTo>
                <a:cubicBezTo>
                  <a:pt x="21" y="61"/>
                  <a:pt x="21" y="61"/>
                  <a:pt x="21" y="61"/>
                </a:cubicBezTo>
                <a:cubicBezTo>
                  <a:pt x="21" y="61"/>
                  <a:pt x="20" y="60"/>
                  <a:pt x="20" y="60"/>
                </a:cubicBezTo>
                <a:cubicBezTo>
                  <a:pt x="20" y="52"/>
                  <a:pt x="20" y="52"/>
                  <a:pt x="20" y="52"/>
                </a:cubicBezTo>
                <a:cubicBezTo>
                  <a:pt x="20" y="51"/>
                  <a:pt x="21" y="51"/>
                  <a:pt x="21" y="51"/>
                </a:cubicBezTo>
                <a:cubicBezTo>
                  <a:pt x="70" y="51"/>
                  <a:pt x="70" y="51"/>
                  <a:pt x="70" y="51"/>
                </a:cubicBezTo>
                <a:cubicBezTo>
                  <a:pt x="71" y="51"/>
                  <a:pt x="71" y="51"/>
                  <a:pt x="71" y="52"/>
                </a:cubicBezTo>
                <a:lnTo>
                  <a:pt x="71" y="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Freeform 66"/>
          <p:cNvSpPr/>
          <p:nvPr/>
        </p:nvSpPr>
        <p:spPr>
          <a:xfrm>
            <a:off x="10523520" y="3668760"/>
            <a:ext cx="522360" cy="404640"/>
          </a:xfrm>
          <a:custGeom>
            <a:avLst/>
            <a:gdLst/>
            <a:ahLst/>
            <a:rect l="l" t="t" r="r" b="b"/>
            <a:pathLst>
              <a:path w="72" h="56">
                <a:moveTo>
                  <a:pt x="29" y="41"/>
                </a:moveTo>
                <a:cubicBezTo>
                  <a:pt x="26" y="41"/>
                  <a:pt x="24" y="40"/>
                  <a:pt x="22" y="40"/>
                </a:cubicBezTo>
                <a:cubicBezTo>
                  <a:pt x="18" y="42"/>
                  <a:pt x="15" y="44"/>
                  <a:pt x="11" y="45"/>
                </a:cubicBezTo>
                <a:cubicBezTo>
                  <a:pt x="9" y="45"/>
                  <a:pt x="8" y="46"/>
                  <a:pt x="7" y="46"/>
                </a:cubicBezTo>
                <a:cubicBezTo>
                  <a:pt x="7" y="46"/>
                  <a:pt x="7" y="46"/>
                  <a:pt x="7" y="46"/>
                </a:cubicBezTo>
                <a:cubicBezTo>
                  <a:pt x="6" y="46"/>
                  <a:pt x="6" y="45"/>
                  <a:pt x="6" y="45"/>
                </a:cubicBezTo>
                <a:cubicBezTo>
                  <a:pt x="5" y="44"/>
                  <a:pt x="6" y="43"/>
                  <a:pt x="6" y="43"/>
                </a:cubicBezTo>
                <a:cubicBezTo>
                  <a:pt x="8" y="41"/>
                  <a:pt x="10" y="40"/>
                  <a:pt x="11" y="36"/>
                </a:cubicBezTo>
                <a:cubicBezTo>
                  <a:pt x="5" y="32"/>
                  <a:pt x="0" y="27"/>
                  <a:pt x="0" y="20"/>
                </a:cubicBezTo>
                <a:cubicBezTo>
                  <a:pt x="0" y="9"/>
                  <a:pt x="13" y="0"/>
                  <a:pt x="29" y="0"/>
                </a:cubicBezTo>
                <a:cubicBezTo>
                  <a:pt x="44" y="0"/>
                  <a:pt x="57" y="9"/>
                  <a:pt x="57" y="20"/>
                </a:cubicBezTo>
                <a:cubicBezTo>
                  <a:pt x="57" y="32"/>
                  <a:pt x="44" y="41"/>
                  <a:pt x="29" y="41"/>
                </a:cubicBezTo>
                <a:close/>
                <a:moveTo>
                  <a:pt x="62" y="47"/>
                </a:moveTo>
                <a:cubicBezTo>
                  <a:pt x="63" y="50"/>
                  <a:pt x="65" y="51"/>
                  <a:pt x="66" y="53"/>
                </a:cubicBezTo>
                <a:cubicBezTo>
                  <a:pt x="67" y="54"/>
                  <a:pt x="67" y="54"/>
                  <a:pt x="67" y="55"/>
                </a:cubicBezTo>
                <a:cubicBezTo>
                  <a:pt x="67" y="56"/>
                  <a:pt x="67" y="56"/>
                  <a:pt x="66" y="56"/>
                </a:cubicBezTo>
                <a:cubicBezTo>
                  <a:pt x="65" y="56"/>
                  <a:pt x="63" y="56"/>
                  <a:pt x="62" y="55"/>
                </a:cubicBezTo>
                <a:cubicBezTo>
                  <a:pt x="58" y="54"/>
                  <a:pt x="55" y="53"/>
                  <a:pt x="51" y="50"/>
                </a:cubicBezTo>
                <a:cubicBezTo>
                  <a:pt x="49" y="51"/>
                  <a:pt x="47" y="51"/>
                  <a:pt x="44" y="51"/>
                </a:cubicBezTo>
                <a:cubicBezTo>
                  <a:pt x="37" y="51"/>
                  <a:pt x="30" y="49"/>
                  <a:pt x="25" y="46"/>
                </a:cubicBezTo>
                <a:cubicBezTo>
                  <a:pt x="26" y="46"/>
                  <a:pt x="28" y="46"/>
                  <a:pt x="29" y="46"/>
                </a:cubicBezTo>
                <a:cubicBezTo>
                  <a:pt x="37" y="46"/>
                  <a:pt x="46" y="43"/>
                  <a:pt x="52" y="39"/>
                </a:cubicBezTo>
                <a:cubicBezTo>
                  <a:pt x="58" y="34"/>
                  <a:pt x="62" y="27"/>
                  <a:pt x="62" y="20"/>
                </a:cubicBezTo>
                <a:cubicBezTo>
                  <a:pt x="62" y="18"/>
                  <a:pt x="62" y="16"/>
                  <a:pt x="61" y="14"/>
                </a:cubicBezTo>
                <a:cubicBezTo>
                  <a:pt x="68" y="18"/>
                  <a:pt x="72" y="24"/>
                  <a:pt x="72" y="30"/>
                </a:cubicBezTo>
                <a:cubicBezTo>
                  <a:pt x="72" y="37"/>
                  <a:pt x="68" y="43"/>
                  <a:pt x="6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Freeform 15"/>
          <p:cNvSpPr/>
          <p:nvPr/>
        </p:nvSpPr>
        <p:spPr>
          <a:xfrm>
            <a:off x="1111320" y="3657600"/>
            <a:ext cx="596880" cy="44784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Freeform 54@|5FFC:14657585|FBC:16777215|LFC:11765543|LBC:16777215"/>
          <p:cNvSpPr/>
          <p:nvPr/>
        </p:nvSpPr>
        <p:spPr>
          <a:xfrm>
            <a:off x="5211720" y="3078000"/>
            <a:ext cx="1744560" cy="1744920"/>
          </a:xfrm>
          <a:custGeom>
            <a:avLst/>
            <a:gdLst/>
            <a:ahLst/>
            <a:rect l="l" t="t" r="r" b="b"/>
            <a:pathLst>
              <a:path w="661361" h="661361">
                <a:moveTo>
                  <a:pt x="0" y="330681"/>
                </a:moveTo>
                <a:cubicBezTo>
                  <a:pt x="0" y="242979"/>
                  <a:pt x="34840" y="158869"/>
                  <a:pt x="96855" y="96854"/>
                </a:cubicBezTo>
                <a:cubicBezTo>
                  <a:pt x="158870" y="34839"/>
                  <a:pt x="242980" y="0"/>
                  <a:pt x="330682" y="0"/>
                </a:cubicBezTo>
                <a:cubicBezTo>
                  <a:pt x="418384" y="0"/>
                  <a:pt x="502494" y="34840"/>
                  <a:pt x="564509" y="96855"/>
                </a:cubicBezTo>
                <a:cubicBezTo>
                  <a:pt x="626524" y="158870"/>
                  <a:pt x="661363" y="242980"/>
                  <a:pt x="661363" y="330682"/>
                </a:cubicBezTo>
                <a:cubicBezTo>
                  <a:pt x="661363" y="418384"/>
                  <a:pt x="626523" y="502494"/>
                  <a:pt x="564509" y="564509"/>
                </a:cubicBezTo>
                <a:cubicBezTo>
                  <a:pt x="502494" y="626524"/>
                  <a:pt x="418384" y="661363"/>
                  <a:pt x="330682" y="661363"/>
                </a:cubicBezTo>
                <a:cubicBezTo>
                  <a:pt x="242980" y="661363"/>
                  <a:pt x="158870" y="626523"/>
                  <a:pt x="96855" y="564509"/>
                </a:cubicBezTo>
                <a:cubicBezTo>
                  <a:pt x="34840" y="502494"/>
                  <a:pt x="1" y="418384"/>
                  <a:pt x="1" y="330682"/>
                </a:cubicBezTo>
                <a:lnTo>
                  <a:pt x="0" y="330681"/>
                </a:lnTo>
                <a:close/>
              </a:path>
            </a:pathLst>
          </a:cu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1480" rIns="141480" tIns="141480" bIns="141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Freeform 78@|5FFC:0|FBC:0|LFC:16777215|LBC:16777215"/>
          <p:cNvSpPr/>
          <p:nvPr/>
        </p:nvSpPr>
        <p:spPr>
          <a:xfrm>
            <a:off x="5721480" y="3422520"/>
            <a:ext cx="725400" cy="1055880"/>
          </a:xfrm>
          <a:custGeom>
            <a:avLst/>
            <a:gdLst/>
            <a:ahLst/>
            <a:rect l="l" t="t" r="r" b="b"/>
            <a:pathLst>
              <a:path w="85" h="123">
                <a:moveTo>
                  <a:pt x="42" y="0"/>
                </a:moveTo>
                <a:cubicBezTo>
                  <a:pt x="19" y="0"/>
                  <a:pt x="0" y="19"/>
                  <a:pt x="0" y="42"/>
                </a:cubicBezTo>
                <a:cubicBezTo>
                  <a:pt x="0" y="57"/>
                  <a:pt x="14" y="74"/>
                  <a:pt x="19" y="88"/>
                </a:cubicBezTo>
                <a:cubicBezTo>
                  <a:pt x="27" y="110"/>
                  <a:pt x="26" y="123"/>
                  <a:pt x="42" y="123"/>
                </a:cubicBezTo>
                <a:cubicBezTo>
                  <a:pt x="59" y="123"/>
                  <a:pt x="58" y="110"/>
                  <a:pt x="65" y="88"/>
                </a:cubicBezTo>
                <a:cubicBezTo>
                  <a:pt x="70" y="74"/>
                  <a:pt x="85" y="57"/>
                  <a:pt x="85" y="42"/>
                </a:cubicBezTo>
                <a:cubicBezTo>
                  <a:pt x="85" y="19"/>
                  <a:pt x="66" y="0"/>
                  <a:pt x="42" y="0"/>
                </a:cubicBezTo>
                <a:close/>
                <a:moveTo>
                  <a:pt x="52" y="104"/>
                </a:moveTo>
                <a:cubicBezTo>
                  <a:pt x="33" y="106"/>
                  <a:pt x="33" y="106"/>
                  <a:pt x="33" y="106"/>
                </a:cubicBezTo>
                <a:cubicBezTo>
                  <a:pt x="33" y="104"/>
                  <a:pt x="32" y="102"/>
                  <a:pt x="31" y="99"/>
                </a:cubicBezTo>
                <a:cubicBezTo>
                  <a:pt x="31" y="99"/>
                  <a:pt x="31" y="99"/>
                  <a:pt x="31" y="99"/>
                </a:cubicBezTo>
                <a:cubicBezTo>
                  <a:pt x="55" y="96"/>
                  <a:pt x="55" y="96"/>
                  <a:pt x="55" y="96"/>
                </a:cubicBezTo>
                <a:cubicBezTo>
                  <a:pt x="54" y="97"/>
                  <a:pt x="54" y="98"/>
                  <a:pt x="54" y="99"/>
                </a:cubicBezTo>
                <a:cubicBezTo>
                  <a:pt x="53" y="101"/>
                  <a:pt x="53" y="103"/>
                  <a:pt x="52" y="104"/>
                </a:cubicBezTo>
                <a:close/>
                <a:moveTo>
                  <a:pt x="30" y="95"/>
                </a:moveTo>
                <a:cubicBezTo>
                  <a:pt x="29" y="93"/>
                  <a:pt x="28" y="91"/>
                  <a:pt x="27" y="88"/>
                </a:cubicBezTo>
                <a:cubicBezTo>
                  <a:pt x="57" y="88"/>
                  <a:pt x="57" y="88"/>
                  <a:pt x="57" y="88"/>
                </a:cubicBezTo>
                <a:cubicBezTo>
                  <a:pt x="57" y="89"/>
                  <a:pt x="56" y="91"/>
                  <a:pt x="56" y="92"/>
                </a:cubicBezTo>
                <a:lnTo>
                  <a:pt x="30" y="95"/>
                </a:lnTo>
                <a:close/>
                <a:moveTo>
                  <a:pt x="42" y="115"/>
                </a:moveTo>
                <a:cubicBezTo>
                  <a:pt x="38" y="115"/>
                  <a:pt x="37" y="114"/>
                  <a:pt x="35" y="110"/>
                </a:cubicBezTo>
                <a:cubicBezTo>
                  <a:pt x="51" y="108"/>
                  <a:pt x="51" y="108"/>
                  <a:pt x="51" y="108"/>
                </a:cubicBezTo>
                <a:cubicBezTo>
                  <a:pt x="49" y="114"/>
                  <a:pt x="47" y="115"/>
                  <a:pt x="42" y="115"/>
                </a:cubicBezTo>
                <a:close/>
                <a:moveTo>
                  <a:pt x="60" y="80"/>
                </a:moveTo>
                <a:cubicBezTo>
                  <a:pt x="24" y="80"/>
                  <a:pt x="24" y="80"/>
                  <a:pt x="24" y="80"/>
                </a:cubicBezTo>
                <a:cubicBezTo>
                  <a:pt x="23" y="76"/>
                  <a:pt x="20" y="72"/>
                  <a:pt x="18" y="68"/>
                </a:cubicBezTo>
                <a:cubicBezTo>
                  <a:pt x="13" y="59"/>
                  <a:pt x="8" y="50"/>
                  <a:pt x="8" y="42"/>
                </a:cubicBezTo>
                <a:cubicBezTo>
                  <a:pt x="8" y="23"/>
                  <a:pt x="23" y="8"/>
                  <a:pt x="42" y="8"/>
                </a:cubicBezTo>
                <a:cubicBezTo>
                  <a:pt x="61" y="8"/>
                  <a:pt x="77" y="23"/>
                  <a:pt x="77" y="42"/>
                </a:cubicBezTo>
                <a:cubicBezTo>
                  <a:pt x="77" y="50"/>
                  <a:pt x="72" y="59"/>
                  <a:pt x="67" y="68"/>
                </a:cubicBezTo>
                <a:cubicBezTo>
                  <a:pt x="64" y="72"/>
                  <a:pt x="62" y="76"/>
                  <a:pt x="60" y="80"/>
                </a:cubicBezTo>
                <a:close/>
                <a:moveTo>
                  <a:pt x="60" y="80"/>
                </a:moveTo>
                <a:cubicBezTo>
                  <a:pt x="60" y="80"/>
                  <a:pt x="60" y="80"/>
                  <a:pt x="60" y="8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Freeform 79@|5FFC:0|FBC:0|LFC:16777215|LBC:16777215"/>
          <p:cNvSpPr/>
          <p:nvPr/>
        </p:nvSpPr>
        <p:spPr>
          <a:xfrm>
            <a:off x="5884920" y="3584520"/>
            <a:ext cx="212760" cy="2142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3" y="0"/>
                </a:moveTo>
                <a:cubicBezTo>
                  <a:pt x="11" y="0"/>
                  <a:pt x="0" y="10"/>
                  <a:pt x="0" y="23"/>
                </a:cubicBezTo>
                <a:cubicBezTo>
                  <a:pt x="0" y="24"/>
                  <a:pt x="1" y="25"/>
                  <a:pt x="2" y="25"/>
                </a:cubicBezTo>
                <a:cubicBezTo>
                  <a:pt x="3" y="25"/>
                  <a:pt x="4" y="24"/>
                  <a:pt x="4" y="23"/>
                </a:cubicBezTo>
                <a:cubicBezTo>
                  <a:pt x="4" y="12"/>
                  <a:pt x="13" y="4"/>
                  <a:pt x="23" y="4"/>
                </a:cubicBezTo>
                <a:cubicBezTo>
                  <a:pt x="24" y="4"/>
                  <a:pt x="25" y="3"/>
                  <a:pt x="25" y="2"/>
                </a:cubicBezTo>
                <a:cubicBezTo>
                  <a:pt x="25" y="1"/>
                  <a:pt x="24" y="0"/>
                  <a:pt x="23" y="0"/>
                </a:cubicBezTo>
                <a:close/>
                <a:moveTo>
                  <a:pt x="23" y="0"/>
                </a:moveTo>
                <a:cubicBezTo>
                  <a:pt x="23" y="0"/>
                  <a:pt x="23" y="0"/>
                  <a:pt x="2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TextBox 13"/>
          <p:cNvSpPr/>
          <p:nvPr/>
        </p:nvSpPr>
        <p:spPr>
          <a:xfrm>
            <a:off x="18763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Box 13"/>
          <p:cNvSpPr/>
          <p:nvPr/>
        </p:nvSpPr>
        <p:spPr>
          <a:xfrm>
            <a:off x="1881360" y="24796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TextBox 13"/>
          <p:cNvSpPr/>
          <p:nvPr/>
        </p:nvSpPr>
        <p:spPr>
          <a:xfrm>
            <a:off x="1876320" y="363708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TextBox 13"/>
          <p:cNvSpPr/>
          <p:nvPr/>
        </p:nvSpPr>
        <p:spPr>
          <a:xfrm>
            <a:off x="1881360" y="39225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TextBox 13"/>
          <p:cNvSpPr/>
          <p:nvPr/>
        </p:nvSpPr>
        <p:spPr>
          <a:xfrm>
            <a:off x="1876320" y="50450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TextBox 13"/>
          <p:cNvSpPr/>
          <p:nvPr/>
        </p:nvSpPr>
        <p:spPr>
          <a:xfrm>
            <a:off x="1881360" y="5330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TextBox 13"/>
          <p:cNvSpPr/>
          <p:nvPr/>
        </p:nvSpPr>
        <p:spPr>
          <a:xfrm>
            <a:off x="8667720" y="21938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媒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Box 13"/>
          <p:cNvSpPr/>
          <p:nvPr/>
        </p:nvSpPr>
        <p:spPr>
          <a:xfrm>
            <a:off x="8672400" y="24796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13"/>
          <p:cNvSpPr/>
          <p:nvPr/>
        </p:nvSpPr>
        <p:spPr>
          <a:xfrm>
            <a:off x="8667720" y="364644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手法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3"/>
          <p:cNvSpPr/>
          <p:nvPr/>
        </p:nvSpPr>
        <p:spPr>
          <a:xfrm>
            <a:off x="8672400" y="393228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3"/>
          <p:cNvSpPr/>
          <p:nvPr/>
        </p:nvSpPr>
        <p:spPr>
          <a:xfrm>
            <a:off x="8667720" y="5054760"/>
            <a:ext cx="1562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TextBox 13"/>
          <p:cNvSpPr/>
          <p:nvPr/>
        </p:nvSpPr>
        <p:spPr>
          <a:xfrm>
            <a:off x="8672400" y="5342040"/>
            <a:ext cx="155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6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177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9" name="Freeform 135"/>
          <p:cNvSpPr/>
          <p:nvPr/>
        </p:nvSpPr>
        <p:spPr>
          <a:xfrm>
            <a:off x="10523520" y="5040360"/>
            <a:ext cx="538200" cy="503280"/>
          </a:xfrm>
          <a:custGeom>
            <a:avLst/>
            <a:gdLst/>
            <a:ahLst/>
            <a:rect l="l" t="t" r="r" b="b"/>
            <a:pathLst>
              <a:path w="73" h="68">
                <a:moveTo>
                  <a:pt x="13" y="39"/>
                </a:moveTo>
                <a:cubicBezTo>
                  <a:pt x="8" y="39"/>
                  <a:pt x="8" y="39"/>
                  <a:pt x="8" y="39"/>
                </a:cubicBezTo>
                <a:cubicBezTo>
                  <a:pt x="4" y="39"/>
                  <a:pt x="0" y="37"/>
                  <a:pt x="0" y="33"/>
                </a:cubicBezTo>
                <a:cubicBezTo>
                  <a:pt x="0" y="29"/>
                  <a:pt x="0" y="19"/>
                  <a:pt x="5" y="19"/>
                </a:cubicBezTo>
                <a:cubicBezTo>
                  <a:pt x="6" y="19"/>
                  <a:pt x="10" y="22"/>
                  <a:pt x="15" y="22"/>
                </a:cubicBezTo>
                <a:cubicBezTo>
                  <a:pt x="17" y="22"/>
                  <a:pt x="18" y="22"/>
                  <a:pt x="20" y="21"/>
                </a:cubicBezTo>
                <a:cubicBezTo>
                  <a:pt x="20" y="22"/>
                  <a:pt x="20" y="23"/>
                  <a:pt x="20" y="24"/>
                </a:cubicBezTo>
                <a:cubicBezTo>
                  <a:pt x="20" y="27"/>
                  <a:pt x="21" y="31"/>
                  <a:pt x="23" y="34"/>
                </a:cubicBezTo>
                <a:cubicBezTo>
                  <a:pt x="19" y="34"/>
                  <a:pt x="15" y="36"/>
                  <a:pt x="13" y="39"/>
                </a:cubicBezTo>
                <a:close/>
                <a:moveTo>
                  <a:pt x="15" y="19"/>
                </a:moveTo>
                <a:cubicBezTo>
                  <a:pt x="10" y="19"/>
                  <a:pt x="5" y="15"/>
                  <a:pt x="5" y="9"/>
                </a:cubicBezTo>
                <a:cubicBezTo>
                  <a:pt x="5" y="4"/>
                  <a:pt x="10" y="0"/>
                  <a:pt x="15" y="0"/>
                </a:cubicBezTo>
                <a:cubicBezTo>
                  <a:pt x="20" y="0"/>
                  <a:pt x="25" y="4"/>
                  <a:pt x="25" y="9"/>
                </a:cubicBezTo>
                <a:cubicBezTo>
                  <a:pt x="25" y="15"/>
                  <a:pt x="20" y="19"/>
                  <a:pt x="15" y="19"/>
                </a:cubicBezTo>
                <a:close/>
                <a:moveTo>
                  <a:pt x="53" y="68"/>
                </a:moveTo>
                <a:cubicBezTo>
                  <a:pt x="20" y="68"/>
                  <a:pt x="20" y="68"/>
                  <a:pt x="20" y="68"/>
                </a:cubicBezTo>
                <a:cubicBezTo>
                  <a:pt x="14" y="68"/>
                  <a:pt x="10" y="64"/>
                  <a:pt x="10" y="58"/>
                </a:cubicBezTo>
                <a:cubicBezTo>
                  <a:pt x="10" y="49"/>
                  <a:pt x="12" y="36"/>
                  <a:pt x="23" y="36"/>
                </a:cubicBezTo>
                <a:cubicBezTo>
                  <a:pt x="25" y="36"/>
                  <a:pt x="29" y="41"/>
                  <a:pt x="37" y="41"/>
                </a:cubicBezTo>
                <a:cubicBezTo>
                  <a:pt x="44" y="41"/>
                  <a:pt x="49" y="36"/>
                  <a:pt x="50" y="36"/>
                </a:cubicBezTo>
                <a:cubicBezTo>
                  <a:pt x="62" y="36"/>
                  <a:pt x="64" y="49"/>
                  <a:pt x="64" y="58"/>
                </a:cubicBezTo>
                <a:cubicBezTo>
                  <a:pt x="64" y="64"/>
                  <a:pt x="60" y="68"/>
                  <a:pt x="53" y="68"/>
                </a:cubicBezTo>
                <a:close/>
                <a:moveTo>
                  <a:pt x="37" y="39"/>
                </a:moveTo>
                <a:cubicBezTo>
                  <a:pt x="29" y="39"/>
                  <a:pt x="22" y="32"/>
                  <a:pt x="22" y="24"/>
                </a:cubicBezTo>
                <a:cubicBezTo>
                  <a:pt x="22" y="16"/>
                  <a:pt x="29" y="9"/>
                  <a:pt x="37" y="9"/>
                </a:cubicBezTo>
                <a:cubicBezTo>
                  <a:pt x="45" y="9"/>
                  <a:pt x="51" y="16"/>
                  <a:pt x="51" y="24"/>
                </a:cubicBezTo>
                <a:cubicBezTo>
                  <a:pt x="51" y="32"/>
                  <a:pt x="45" y="39"/>
                  <a:pt x="37" y="39"/>
                </a:cubicBezTo>
                <a:close/>
                <a:moveTo>
                  <a:pt x="59" y="19"/>
                </a:moveTo>
                <a:cubicBezTo>
                  <a:pt x="53" y="19"/>
                  <a:pt x="49" y="15"/>
                  <a:pt x="49" y="9"/>
                </a:cubicBezTo>
                <a:cubicBezTo>
                  <a:pt x="49" y="4"/>
                  <a:pt x="53" y="0"/>
                  <a:pt x="59" y="0"/>
                </a:cubicBezTo>
                <a:cubicBezTo>
                  <a:pt x="64" y="0"/>
                  <a:pt x="68" y="4"/>
                  <a:pt x="68" y="9"/>
                </a:cubicBezTo>
                <a:cubicBezTo>
                  <a:pt x="68" y="15"/>
                  <a:pt x="64" y="19"/>
                  <a:pt x="59" y="19"/>
                </a:cubicBezTo>
                <a:close/>
                <a:moveTo>
                  <a:pt x="66" y="39"/>
                </a:moveTo>
                <a:cubicBezTo>
                  <a:pt x="61" y="39"/>
                  <a:pt x="61" y="39"/>
                  <a:pt x="61" y="39"/>
                </a:cubicBezTo>
                <a:cubicBezTo>
                  <a:pt x="58" y="36"/>
                  <a:pt x="55" y="34"/>
                  <a:pt x="51" y="34"/>
                </a:cubicBezTo>
                <a:cubicBezTo>
                  <a:pt x="53" y="31"/>
                  <a:pt x="54" y="27"/>
                  <a:pt x="54" y="24"/>
                </a:cubicBezTo>
                <a:cubicBezTo>
                  <a:pt x="54" y="23"/>
                  <a:pt x="54" y="22"/>
                  <a:pt x="54" y="21"/>
                </a:cubicBezTo>
                <a:cubicBezTo>
                  <a:pt x="55" y="22"/>
                  <a:pt x="57" y="22"/>
                  <a:pt x="59" y="22"/>
                </a:cubicBezTo>
                <a:cubicBezTo>
                  <a:pt x="64" y="22"/>
                  <a:pt x="68" y="19"/>
                  <a:pt x="69" y="19"/>
                </a:cubicBezTo>
                <a:cubicBezTo>
                  <a:pt x="73" y="19"/>
                  <a:pt x="73" y="29"/>
                  <a:pt x="73" y="33"/>
                </a:cubicBezTo>
                <a:cubicBezTo>
                  <a:pt x="73" y="37"/>
                  <a:pt x="70" y="39"/>
                  <a:pt x="6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平行四边形 4"/>
          <p:cNvSpPr/>
          <p:nvPr/>
        </p:nvSpPr>
        <p:spPr>
          <a:xfrm>
            <a:off x="6762600" y="342900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平行四边形 5"/>
          <p:cNvSpPr/>
          <p:nvPr/>
        </p:nvSpPr>
        <p:spPr>
          <a:xfrm flipV="1">
            <a:off x="6762600" y="-720"/>
            <a:ext cx="5677200" cy="3429000"/>
          </a:xfrm>
          <a:prstGeom prst="parallelogram">
            <a:avLst>
              <a:gd name="adj" fmla="val 7284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847800" y="3184560"/>
            <a:ext cx="4653000" cy="488880"/>
            <a:chOff x="847800" y="3184560"/>
            <a:chExt cx="4653000" cy="488880"/>
          </a:xfrm>
        </p:grpSpPr>
        <p:grpSp>
          <p:nvGrpSpPr>
            <p:cNvPr id="583" name="组合 7"/>
            <p:cNvGrpSpPr/>
            <p:nvPr/>
          </p:nvGrpSpPr>
          <p:grpSpPr>
            <a:xfrm>
              <a:off x="2361600" y="3184560"/>
              <a:ext cx="3139200" cy="488880"/>
              <a:chOff x="2361600" y="3184560"/>
              <a:chExt cx="3139200" cy="488880"/>
            </a:xfrm>
          </p:grpSpPr>
          <p:sp>
            <p:nvSpPr>
              <p:cNvPr id="584" name="矩形 11"/>
              <p:cNvSpPr/>
              <p:nvPr/>
            </p:nvSpPr>
            <p:spPr>
              <a:xfrm>
                <a:off x="2361600" y="3184560"/>
                <a:ext cx="248508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Rectangle 6"/>
              <p:cNvSpPr/>
              <p:nvPr/>
            </p:nvSpPr>
            <p:spPr>
              <a:xfrm>
                <a:off x="2728800" y="323028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项目情况概述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6" name="组合 8"/>
            <p:cNvGrpSpPr/>
            <p:nvPr/>
          </p:nvGrpSpPr>
          <p:grpSpPr>
            <a:xfrm>
              <a:off x="847800" y="3184560"/>
              <a:ext cx="1328400" cy="488880"/>
              <a:chOff x="847800" y="3184560"/>
              <a:chExt cx="1328400" cy="488880"/>
            </a:xfrm>
          </p:grpSpPr>
          <p:sp>
            <p:nvSpPr>
              <p:cNvPr id="587" name="矩形 9"/>
              <p:cNvSpPr/>
              <p:nvPr/>
            </p:nvSpPr>
            <p:spPr>
              <a:xfrm>
                <a:off x="847800" y="318456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文本框 10"/>
              <p:cNvSpPr/>
              <p:nvPr/>
            </p:nvSpPr>
            <p:spPr>
              <a:xfrm>
                <a:off x="1023840" y="32212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89" name="组合 13"/>
          <p:cNvGrpSpPr/>
          <p:nvPr/>
        </p:nvGrpSpPr>
        <p:grpSpPr>
          <a:xfrm>
            <a:off x="847800" y="3844800"/>
            <a:ext cx="4653000" cy="489240"/>
            <a:chOff x="847800" y="3844800"/>
            <a:chExt cx="4653000" cy="489240"/>
          </a:xfrm>
        </p:grpSpPr>
        <p:grpSp>
          <p:nvGrpSpPr>
            <p:cNvPr id="590" name="组合 14"/>
            <p:cNvGrpSpPr/>
            <p:nvPr/>
          </p:nvGrpSpPr>
          <p:grpSpPr>
            <a:xfrm>
              <a:off x="2361600" y="3844800"/>
              <a:ext cx="3139200" cy="489240"/>
              <a:chOff x="2361600" y="3844800"/>
              <a:chExt cx="3139200" cy="489240"/>
            </a:xfrm>
          </p:grpSpPr>
          <p:sp>
            <p:nvSpPr>
              <p:cNvPr id="591" name="矩形 18"/>
              <p:cNvSpPr/>
              <p:nvPr/>
            </p:nvSpPr>
            <p:spPr>
              <a:xfrm>
                <a:off x="2361600" y="3844800"/>
                <a:ext cx="2485080" cy="48924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Rectangle 6"/>
              <p:cNvSpPr/>
              <p:nvPr/>
            </p:nvSpPr>
            <p:spPr>
              <a:xfrm>
                <a:off x="2728800" y="38905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行业市场分析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3" name="组合 15"/>
            <p:cNvGrpSpPr/>
            <p:nvPr/>
          </p:nvGrpSpPr>
          <p:grpSpPr>
            <a:xfrm>
              <a:off x="847800" y="3844800"/>
              <a:ext cx="1328400" cy="489240"/>
              <a:chOff x="847800" y="3844800"/>
              <a:chExt cx="1328400" cy="489240"/>
            </a:xfrm>
          </p:grpSpPr>
          <p:sp>
            <p:nvSpPr>
              <p:cNvPr id="594" name="矩形 16"/>
              <p:cNvSpPr/>
              <p:nvPr/>
            </p:nvSpPr>
            <p:spPr>
              <a:xfrm>
                <a:off x="847800" y="3844800"/>
                <a:ext cx="1328400" cy="48924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文本框 17"/>
              <p:cNvSpPr/>
              <p:nvPr/>
            </p:nvSpPr>
            <p:spPr>
              <a:xfrm>
                <a:off x="1023840" y="38815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6" name="组合 20"/>
          <p:cNvGrpSpPr/>
          <p:nvPr/>
        </p:nvGrpSpPr>
        <p:grpSpPr>
          <a:xfrm>
            <a:off x="844560" y="4505400"/>
            <a:ext cx="4653000" cy="488880"/>
            <a:chOff x="844560" y="4505400"/>
            <a:chExt cx="4653000" cy="488880"/>
          </a:xfrm>
        </p:grpSpPr>
        <p:grpSp>
          <p:nvGrpSpPr>
            <p:cNvPr id="597" name="组合 21"/>
            <p:cNvGrpSpPr/>
            <p:nvPr/>
          </p:nvGrpSpPr>
          <p:grpSpPr>
            <a:xfrm>
              <a:off x="2358360" y="4505400"/>
              <a:ext cx="3139200" cy="488880"/>
              <a:chOff x="2358360" y="4505400"/>
              <a:chExt cx="3139200" cy="488880"/>
            </a:xfrm>
          </p:grpSpPr>
          <p:sp>
            <p:nvSpPr>
              <p:cNvPr id="598" name="矩形 25"/>
              <p:cNvSpPr/>
              <p:nvPr/>
            </p:nvSpPr>
            <p:spPr>
              <a:xfrm>
                <a:off x="2358360" y="450540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Rectangle 6"/>
              <p:cNvSpPr/>
              <p:nvPr/>
            </p:nvSpPr>
            <p:spPr>
              <a:xfrm>
                <a:off x="2725560" y="455112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营销策略整合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0" name="组合 22"/>
            <p:cNvGrpSpPr/>
            <p:nvPr/>
          </p:nvGrpSpPr>
          <p:grpSpPr>
            <a:xfrm>
              <a:off x="844560" y="4505400"/>
              <a:ext cx="1328400" cy="488880"/>
              <a:chOff x="844560" y="4505400"/>
              <a:chExt cx="1328400" cy="488880"/>
            </a:xfrm>
          </p:grpSpPr>
          <p:sp>
            <p:nvSpPr>
              <p:cNvPr id="601" name="矩形 23"/>
              <p:cNvSpPr/>
              <p:nvPr/>
            </p:nvSpPr>
            <p:spPr>
              <a:xfrm>
                <a:off x="844560" y="450540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文本框 24"/>
              <p:cNvSpPr/>
              <p:nvPr/>
            </p:nvSpPr>
            <p:spPr>
              <a:xfrm>
                <a:off x="1020600" y="454212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27"/>
          <p:cNvGrpSpPr/>
          <p:nvPr/>
        </p:nvGrpSpPr>
        <p:grpSpPr>
          <a:xfrm>
            <a:off x="844560" y="5165640"/>
            <a:ext cx="4653000" cy="488880"/>
            <a:chOff x="844560" y="5165640"/>
            <a:chExt cx="4653000" cy="488880"/>
          </a:xfrm>
        </p:grpSpPr>
        <p:grpSp>
          <p:nvGrpSpPr>
            <p:cNvPr id="604" name="组合 28"/>
            <p:cNvGrpSpPr/>
            <p:nvPr/>
          </p:nvGrpSpPr>
          <p:grpSpPr>
            <a:xfrm>
              <a:off x="2358360" y="5165640"/>
              <a:ext cx="3139200" cy="488880"/>
              <a:chOff x="2358360" y="5165640"/>
              <a:chExt cx="3139200" cy="488880"/>
            </a:xfrm>
          </p:grpSpPr>
          <p:sp>
            <p:nvSpPr>
              <p:cNvPr id="605" name="矩形 32"/>
              <p:cNvSpPr/>
              <p:nvPr/>
            </p:nvSpPr>
            <p:spPr>
              <a:xfrm>
                <a:off x="2358360" y="5165640"/>
                <a:ext cx="2486520" cy="4888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Rectangle 6"/>
              <p:cNvSpPr/>
              <p:nvPr/>
            </p:nvSpPr>
            <p:spPr>
              <a:xfrm>
                <a:off x="2725560" y="5211360"/>
                <a:ext cx="27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财务风险管控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7" name="组合 29"/>
            <p:cNvGrpSpPr/>
            <p:nvPr/>
          </p:nvGrpSpPr>
          <p:grpSpPr>
            <a:xfrm>
              <a:off x="844560" y="5165640"/>
              <a:ext cx="1328400" cy="488880"/>
              <a:chOff x="844560" y="5165640"/>
              <a:chExt cx="1328400" cy="488880"/>
            </a:xfrm>
          </p:grpSpPr>
          <p:sp>
            <p:nvSpPr>
              <p:cNvPr id="608" name="矩形 30"/>
              <p:cNvSpPr/>
              <p:nvPr/>
            </p:nvSpPr>
            <p:spPr>
              <a:xfrm>
                <a:off x="844560" y="5165640"/>
                <a:ext cx="1328400" cy="488880"/>
              </a:xfrm>
              <a:prstGeom prst="rect">
                <a:avLst/>
              </a:prstGeom>
              <a:solidFill>
                <a:srgbClr val="006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文本框 31"/>
              <p:cNvSpPr/>
              <p:nvPr/>
            </p:nvSpPr>
            <p:spPr>
              <a:xfrm>
                <a:off x="1020600" y="520236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组合 34"/>
          <p:cNvGrpSpPr/>
          <p:nvPr/>
        </p:nvGrpSpPr>
        <p:grpSpPr>
          <a:xfrm>
            <a:off x="490680" y="1717560"/>
            <a:ext cx="2701800" cy="898560"/>
            <a:chOff x="490680" y="1717560"/>
            <a:chExt cx="2701800" cy="898560"/>
          </a:xfrm>
        </p:grpSpPr>
        <p:grpSp>
          <p:nvGrpSpPr>
            <p:cNvPr id="611" name="组合 35"/>
            <p:cNvGrpSpPr/>
            <p:nvPr/>
          </p:nvGrpSpPr>
          <p:grpSpPr>
            <a:xfrm>
              <a:off x="490680" y="1717560"/>
              <a:ext cx="2701800" cy="850680"/>
              <a:chOff x="490680" y="1717560"/>
              <a:chExt cx="2701800" cy="850680"/>
            </a:xfrm>
          </p:grpSpPr>
          <p:sp>
            <p:nvSpPr>
              <p:cNvPr id="612" name="文本框 37"/>
              <p:cNvSpPr/>
              <p:nvPr/>
            </p:nvSpPr>
            <p:spPr>
              <a:xfrm>
                <a:off x="490680" y="1717560"/>
                <a:ext cx="143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0070c0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直接连接符 38"/>
              <p:cNvSpPr/>
              <p:nvPr/>
            </p:nvSpPr>
            <p:spPr>
              <a:xfrm>
                <a:off x="641160" y="2568240"/>
                <a:ext cx="255132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14" name="文本框 36"/>
            <p:cNvSpPr/>
            <p:nvPr/>
          </p:nvSpPr>
          <p:spPr>
            <a:xfrm>
              <a:off x="1018440" y="2217240"/>
              <a:ext cx="14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5" name="文本框 39"/>
          <p:cNvSpPr/>
          <p:nvPr/>
        </p:nvSpPr>
        <p:spPr>
          <a:xfrm>
            <a:off x="8798040" y="10224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680320" y="1844640"/>
            <a:ext cx="2198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13"/>
          <p:cNvSpPr/>
          <p:nvPr/>
        </p:nvSpPr>
        <p:spPr>
          <a:xfrm>
            <a:off x="9061560" y="2417760"/>
            <a:ext cx="21985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3"/>
          <p:cNvSpPr/>
          <p:nvPr/>
        </p:nvSpPr>
        <p:spPr>
          <a:xfrm>
            <a:off x="9147240" y="38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8845560" y="43322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13"/>
          <p:cNvSpPr/>
          <p:nvPr/>
        </p:nvSpPr>
        <p:spPr>
          <a:xfrm>
            <a:off x="8501040" y="4859280"/>
            <a:ext cx="2200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13"/>
          <p:cNvSpPr/>
          <p:nvPr/>
        </p:nvSpPr>
        <p:spPr>
          <a:xfrm>
            <a:off x="8205840" y="539604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  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平行四边形 4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平行四边形 5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文本框 6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矩形 7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Freeform 25"/>
          <p:cNvSpPr/>
          <p:nvPr/>
        </p:nvSpPr>
        <p:spPr>
          <a:xfrm>
            <a:off x="1971720" y="3530520"/>
            <a:ext cx="84276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Freeform 25"/>
          <p:cNvSpPr/>
          <p:nvPr/>
        </p:nvSpPr>
        <p:spPr>
          <a:xfrm rot="14549400">
            <a:off x="4375800" y="4526640"/>
            <a:ext cx="843120" cy="14922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8b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Freeform 25"/>
          <p:cNvSpPr/>
          <p:nvPr/>
        </p:nvSpPr>
        <p:spPr>
          <a:xfrm rot="7201800">
            <a:off x="4073400" y="1879560"/>
            <a:ext cx="842760" cy="1490400"/>
          </a:xfrm>
          <a:custGeom>
            <a:avLst/>
            <a:gdLst/>
            <a:ahLst/>
            <a:rect l="l" t="t" r="r" b="b"/>
            <a:pathLst>
              <a:path w="766" h="1356">
                <a:moveTo>
                  <a:pt x="766" y="0"/>
                </a:moveTo>
                <a:lnTo>
                  <a:pt x="766" y="0"/>
                </a:lnTo>
                <a:lnTo>
                  <a:pt x="736" y="28"/>
                </a:lnTo>
                <a:lnTo>
                  <a:pt x="704" y="60"/>
                </a:lnTo>
                <a:lnTo>
                  <a:pt x="662" y="106"/>
                </a:lnTo>
                <a:lnTo>
                  <a:pt x="616" y="162"/>
                </a:lnTo>
                <a:lnTo>
                  <a:pt x="590" y="194"/>
                </a:lnTo>
                <a:lnTo>
                  <a:pt x="566" y="228"/>
                </a:lnTo>
                <a:lnTo>
                  <a:pt x="540" y="266"/>
                </a:lnTo>
                <a:lnTo>
                  <a:pt x="516" y="306"/>
                </a:lnTo>
                <a:lnTo>
                  <a:pt x="492" y="348"/>
                </a:lnTo>
                <a:lnTo>
                  <a:pt x="468" y="392"/>
                </a:lnTo>
                <a:lnTo>
                  <a:pt x="446" y="438"/>
                </a:lnTo>
                <a:lnTo>
                  <a:pt x="426" y="488"/>
                </a:lnTo>
                <a:lnTo>
                  <a:pt x="408" y="538"/>
                </a:lnTo>
                <a:lnTo>
                  <a:pt x="392" y="592"/>
                </a:lnTo>
                <a:lnTo>
                  <a:pt x="380" y="646"/>
                </a:lnTo>
                <a:lnTo>
                  <a:pt x="370" y="704"/>
                </a:lnTo>
                <a:lnTo>
                  <a:pt x="362" y="762"/>
                </a:lnTo>
                <a:lnTo>
                  <a:pt x="360" y="822"/>
                </a:lnTo>
                <a:lnTo>
                  <a:pt x="360" y="884"/>
                </a:lnTo>
                <a:lnTo>
                  <a:pt x="366" y="948"/>
                </a:lnTo>
                <a:lnTo>
                  <a:pt x="376" y="1012"/>
                </a:lnTo>
                <a:lnTo>
                  <a:pt x="382" y="1044"/>
                </a:lnTo>
                <a:lnTo>
                  <a:pt x="390" y="1078"/>
                </a:lnTo>
                <a:lnTo>
                  <a:pt x="400" y="1112"/>
                </a:lnTo>
                <a:lnTo>
                  <a:pt x="410" y="1146"/>
                </a:lnTo>
                <a:lnTo>
                  <a:pt x="422" y="1180"/>
                </a:lnTo>
                <a:lnTo>
                  <a:pt x="436" y="1214"/>
                </a:lnTo>
                <a:lnTo>
                  <a:pt x="452" y="1250"/>
                </a:lnTo>
                <a:lnTo>
                  <a:pt x="468" y="1284"/>
                </a:lnTo>
                <a:lnTo>
                  <a:pt x="486" y="1320"/>
                </a:lnTo>
                <a:lnTo>
                  <a:pt x="508" y="1356"/>
                </a:lnTo>
                <a:lnTo>
                  <a:pt x="116" y="1288"/>
                </a:lnTo>
                <a:lnTo>
                  <a:pt x="110" y="1286"/>
                </a:lnTo>
                <a:lnTo>
                  <a:pt x="96" y="1274"/>
                </a:lnTo>
                <a:lnTo>
                  <a:pt x="76" y="1252"/>
                </a:lnTo>
                <a:lnTo>
                  <a:pt x="64" y="1238"/>
                </a:lnTo>
                <a:lnTo>
                  <a:pt x="52" y="1220"/>
                </a:lnTo>
                <a:lnTo>
                  <a:pt x="40" y="1200"/>
                </a:lnTo>
                <a:lnTo>
                  <a:pt x="30" y="1176"/>
                </a:lnTo>
                <a:lnTo>
                  <a:pt x="20" y="1148"/>
                </a:lnTo>
                <a:lnTo>
                  <a:pt x="12" y="1118"/>
                </a:lnTo>
                <a:lnTo>
                  <a:pt x="6" y="1084"/>
                </a:lnTo>
                <a:lnTo>
                  <a:pt x="0" y="1046"/>
                </a:lnTo>
                <a:lnTo>
                  <a:pt x="0" y="1002"/>
                </a:lnTo>
                <a:lnTo>
                  <a:pt x="2" y="956"/>
                </a:lnTo>
                <a:lnTo>
                  <a:pt x="6" y="904"/>
                </a:lnTo>
                <a:lnTo>
                  <a:pt x="14" y="852"/>
                </a:lnTo>
                <a:lnTo>
                  <a:pt x="22" y="804"/>
                </a:lnTo>
                <a:lnTo>
                  <a:pt x="34" y="756"/>
                </a:lnTo>
                <a:lnTo>
                  <a:pt x="48" y="710"/>
                </a:lnTo>
                <a:lnTo>
                  <a:pt x="62" y="666"/>
                </a:lnTo>
                <a:lnTo>
                  <a:pt x="80" y="624"/>
                </a:lnTo>
                <a:lnTo>
                  <a:pt x="98" y="584"/>
                </a:lnTo>
                <a:lnTo>
                  <a:pt x="118" y="544"/>
                </a:lnTo>
                <a:lnTo>
                  <a:pt x="140" y="508"/>
                </a:lnTo>
                <a:lnTo>
                  <a:pt x="162" y="470"/>
                </a:lnTo>
                <a:lnTo>
                  <a:pt x="186" y="436"/>
                </a:lnTo>
                <a:lnTo>
                  <a:pt x="212" y="402"/>
                </a:lnTo>
                <a:lnTo>
                  <a:pt x="238" y="370"/>
                </a:lnTo>
                <a:lnTo>
                  <a:pt x="264" y="338"/>
                </a:lnTo>
                <a:lnTo>
                  <a:pt x="292" y="308"/>
                </a:lnTo>
                <a:lnTo>
                  <a:pt x="322" y="278"/>
                </a:lnTo>
                <a:lnTo>
                  <a:pt x="354" y="250"/>
                </a:lnTo>
                <a:lnTo>
                  <a:pt x="390" y="220"/>
                </a:lnTo>
                <a:lnTo>
                  <a:pt x="426" y="194"/>
                </a:lnTo>
                <a:lnTo>
                  <a:pt x="464" y="168"/>
                </a:lnTo>
                <a:lnTo>
                  <a:pt x="502" y="142"/>
                </a:lnTo>
                <a:lnTo>
                  <a:pt x="578" y="98"/>
                </a:lnTo>
                <a:lnTo>
                  <a:pt x="646" y="60"/>
                </a:lnTo>
                <a:lnTo>
                  <a:pt x="704" y="30"/>
                </a:lnTo>
                <a:lnTo>
                  <a:pt x="766" y="0"/>
                </a:lnTo>
                <a:close/>
              </a:path>
            </a:pathLst>
          </a:custGeom>
          <a:solidFill>
            <a:srgbClr val="004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아래쪽 화살표 461"/>
          <p:cNvSpPr/>
          <p:nvPr/>
        </p:nvSpPr>
        <p:spPr>
          <a:xfrm>
            <a:off x="8707320" y="4478400"/>
            <a:ext cx="53352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아래쪽 화살표 462"/>
          <p:cNvSpPr/>
          <p:nvPr/>
        </p:nvSpPr>
        <p:spPr>
          <a:xfrm>
            <a:off x="8707320" y="2874960"/>
            <a:ext cx="533520" cy="324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모서리가 둥근 직사각형 236"/>
          <p:cNvSpPr/>
          <p:nvPr/>
        </p:nvSpPr>
        <p:spPr>
          <a:xfrm>
            <a:off x="2330280" y="2336760"/>
            <a:ext cx="3078360" cy="3036960"/>
          </a:xfrm>
          <a:prstGeom prst="roundRect">
            <a:avLst>
              <a:gd name="adj" fmla="val 5111"/>
            </a:avLst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모서리가 둥근 직사각형 445"/>
          <p:cNvSpPr/>
          <p:nvPr/>
        </p:nvSpPr>
        <p:spPr>
          <a:xfrm>
            <a:off x="7608960" y="336060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모서리가 둥근 직사각형 450"/>
          <p:cNvSpPr/>
          <p:nvPr/>
        </p:nvSpPr>
        <p:spPr>
          <a:xfrm>
            <a:off x="7608960" y="4971960"/>
            <a:ext cx="2817720" cy="920880"/>
          </a:xfrm>
          <a:prstGeom prst="roundRect">
            <a:avLst>
              <a:gd name="adj" fmla="val 465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모서리가 둥근 직사각형 438"/>
          <p:cNvSpPr/>
          <p:nvPr/>
        </p:nvSpPr>
        <p:spPr>
          <a:xfrm>
            <a:off x="7608960" y="1735200"/>
            <a:ext cx="2817720" cy="922320"/>
          </a:xfrm>
          <a:prstGeom prst="roundRect">
            <a:avLst>
              <a:gd name="adj" fmla="val 465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49"/>
          <p:cNvSpPr/>
          <p:nvPr/>
        </p:nvSpPr>
        <p:spPr>
          <a:xfrm rot="7201800">
            <a:off x="2534040" y="20865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Freeform 49"/>
          <p:cNvSpPr/>
          <p:nvPr/>
        </p:nvSpPr>
        <p:spPr>
          <a:xfrm rot="14549400">
            <a:off x="4434480" y="388044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Freeform 49"/>
          <p:cNvSpPr/>
          <p:nvPr/>
        </p:nvSpPr>
        <p:spPr>
          <a:xfrm>
            <a:off x="1973160" y="4649760"/>
            <a:ext cx="1852560" cy="1054080"/>
          </a:xfrm>
          <a:custGeom>
            <a:avLst/>
            <a:gdLst/>
            <a:ahLst/>
            <a:rect l="l" t="t" r="r" b="b"/>
            <a:pathLst>
              <a:path w="1684" h="958">
                <a:moveTo>
                  <a:pt x="1444" y="678"/>
                </a:moveTo>
                <a:lnTo>
                  <a:pt x="1444" y="678"/>
                </a:lnTo>
                <a:lnTo>
                  <a:pt x="1440" y="656"/>
                </a:lnTo>
                <a:lnTo>
                  <a:pt x="1436" y="630"/>
                </a:lnTo>
                <a:lnTo>
                  <a:pt x="1428" y="598"/>
                </a:lnTo>
                <a:lnTo>
                  <a:pt x="1416" y="558"/>
                </a:lnTo>
                <a:lnTo>
                  <a:pt x="1402" y="514"/>
                </a:lnTo>
                <a:lnTo>
                  <a:pt x="1382" y="468"/>
                </a:lnTo>
                <a:lnTo>
                  <a:pt x="1370" y="444"/>
                </a:lnTo>
                <a:lnTo>
                  <a:pt x="1356" y="420"/>
                </a:lnTo>
                <a:lnTo>
                  <a:pt x="1342" y="396"/>
                </a:lnTo>
                <a:lnTo>
                  <a:pt x="1326" y="374"/>
                </a:lnTo>
                <a:lnTo>
                  <a:pt x="1308" y="350"/>
                </a:lnTo>
                <a:lnTo>
                  <a:pt x="1288" y="328"/>
                </a:lnTo>
                <a:lnTo>
                  <a:pt x="1266" y="306"/>
                </a:lnTo>
                <a:lnTo>
                  <a:pt x="1244" y="284"/>
                </a:lnTo>
                <a:lnTo>
                  <a:pt x="1218" y="264"/>
                </a:lnTo>
                <a:lnTo>
                  <a:pt x="1192" y="246"/>
                </a:lnTo>
                <a:lnTo>
                  <a:pt x="1162" y="228"/>
                </a:lnTo>
                <a:lnTo>
                  <a:pt x="1130" y="214"/>
                </a:lnTo>
                <a:lnTo>
                  <a:pt x="1098" y="200"/>
                </a:lnTo>
                <a:lnTo>
                  <a:pt x="1062" y="190"/>
                </a:lnTo>
                <a:lnTo>
                  <a:pt x="1024" y="180"/>
                </a:lnTo>
                <a:lnTo>
                  <a:pt x="982" y="174"/>
                </a:lnTo>
                <a:lnTo>
                  <a:pt x="940" y="170"/>
                </a:lnTo>
                <a:lnTo>
                  <a:pt x="894" y="168"/>
                </a:lnTo>
                <a:lnTo>
                  <a:pt x="730" y="188"/>
                </a:lnTo>
                <a:lnTo>
                  <a:pt x="580" y="208"/>
                </a:lnTo>
                <a:lnTo>
                  <a:pt x="432" y="230"/>
                </a:lnTo>
                <a:lnTo>
                  <a:pt x="420" y="232"/>
                </a:lnTo>
                <a:lnTo>
                  <a:pt x="386" y="236"/>
                </a:lnTo>
                <a:lnTo>
                  <a:pt x="336" y="238"/>
                </a:lnTo>
                <a:lnTo>
                  <a:pt x="308" y="238"/>
                </a:lnTo>
                <a:lnTo>
                  <a:pt x="276" y="238"/>
                </a:lnTo>
                <a:lnTo>
                  <a:pt x="244" y="234"/>
                </a:lnTo>
                <a:lnTo>
                  <a:pt x="212" y="228"/>
                </a:lnTo>
                <a:lnTo>
                  <a:pt x="178" y="220"/>
                </a:lnTo>
                <a:lnTo>
                  <a:pt x="144" y="208"/>
                </a:lnTo>
                <a:lnTo>
                  <a:pt x="112" y="194"/>
                </a:lnTo>
                <a:lnTo>
                  <a:pt x="82" y="174"/>
                </a:lnTo>
                <a:lnTo>
                  <a:pt x="68" y="162"/>
                </a:lnTo>
                <a:lnTo>
                  <a:pt x="54" y="150"/>
                </a:lnTo>
                <a:lnTo>
                  <a:pt x="42" y="136"/>
                </a:lnTo>
                <a:lnTo>
                  <a:pt x="30" y="122"/>
                </a:lnTo>
                <a:lnTo>
                  <a:pt x="24" y="116"/>
                </a:lnTo>
                <a:lnTo>
                  <a:pt x="20" y="108"/>
                </a:lnTo>
                <a:lnTo>
                  <a:pt x="14" y="96"/>
                </a:lnTo>
                <a:lnTo>
                  <a:pt x="10" y="80"/>
                </a:lnTo>
                <a:lnTo>
                  <a:pt x="4" y="58"/>
                </a:lnTo>
                <a:lnTo>
                  <a:pt x="2" y="32"/>
                </a:lnTo>
                <a:lnTo>
                  <a:pt x="0" y="0"/>
                </a:lnTo>
                <a:lnTo>
                  <a:pt x="0" y="20"/>
                </a:lnTo>
                <a:lnTo>
                  <a:pt x="2" y="42"/>
                </a:lnTo>
                <a:lnTo>
                  <a:pt x="4" y="72"/>
                </a:lnTo>
                <a:lnTo>
                  <a:pt x="12" y="108"/>
                </a:lnTo>
                <a:lnTo>
                  <a:pt x="22" y="152"/>
                </a:lnTo>
                <a:lnTo>
                  <a:pt x="38" y="200"/>
                </a:lnTo>
                <a:lnTo>
                  <a:pt x="60" y="256"/>
                </a:lnTo>
                <a:lnTo>
                  <a:pt x="74" y="284"/>
                </a:lnTo>
                <a:lnTo>
                  <a:pt x="90" y="314"/>
                </a:lnTo>
                <a:lnTo>
                  <a:pt x="106" y="346"/>
                </a:lnTo>
                <a:lnTo>
                  <a:pt x="126" y="378"/>
                </a:lnTo>
                <a:lnTo>
                  <a:pt x="148" y="410"/>
                </a:lnTo>
                <a:lnTo>
                  <a:pt x="172" y="444"/>
                </a:lnTo>
                <a:lnTo>
                  <a:pt x="198" y="478"/>
                </a:lnTo>
                <a:lnTo>
                  <a:pt x="228" y="514"/>
                </a:lnTo>
                <a:lnTo>
                  <a:pt x="260" y="550"/>
                </a:lnTo>
                <a:lnTo>
                  <a:pt x="294" y="586"/>
                </a:lnTo>
                <a:lnTo>
                  <a:pt x="332" y="622"/>
                </a:lnTo>
                <a:lnTo>
                  <a:pt x="374" y="658"/>
                </a:lnTo>
                <a:lnTo>
                  <a:pt x="418" y="696"/>
                </a:lnTo>
                <a:lnTo>
                  <a:pt x="464" y="732"/>
                </a:lnTo>
                <a:lnTo>
                  <a:pt x="516" y="770"/>
                </a:lnTo>
                <a:lnTo>
                  <a:pt x="570" y="806"/>
                </a:lnTo>
                <a:lnTo>
                  <a:pt x="582" y="814"/>
                </a:lnTo>
                <a:lnTo>
                  <a:pt x="614" y="834"/>
                </a:lnTo>
                <a:lnTo>
                  <a:pt x="666" y="862"/>
                </a:lnTo>
                <a:lnTo>
                  <a:pt x="698" y="876"/>
                </a:lnTo>
                <a:lnTo>
                  <a:pt x="732" y="892"/>
                </a:lnTo>
                <a:lnTo>
                  <a:pt x="770" y="908"/>
                </a:lnTo>
                <a:lnTo>
                  <a:pt x="810" y="922"/>
                </a:lnTo>
                <a:lnTo>
                  <a:pt x="854" y="934"/>
                </a:lnTo>
                <a:lnTo>
                  <a:pt x="898" y="944"/>
                </a:lnTo>
                <a:lnTo>
                  <a:pt x="944" y="952"/>
                </a:lnTo>
                <a:lnTo>
                  <a:pt x="990" y="958"/>
                </a:lnTo>
                <a:lnTo>
                  <a:pt x="1038" y="958"/>
                </a:lnTo>
                <a:lnTo>
                  <a:pt x="1086" y="954"/>
                </a:lnTo>
                <a:lnTo>
                  <a:pt x="1094" y="952"/>
                </a:lnTo>
                <a:lnTo>
                  <a:pt x="1116" y="948"/>
                </a:lnTo>
                <a:lnTo>
                  <a:pt x="1152" y="936"/>
                </a:lnTo>
                <a:lnTo>
                  <a:pt x="1198" y="918"/>
                </a:lnTo>
                <a:lnTo>
                  <a:pt x="1224" y="906"/>
                </a:lnTo>
                <a:lnTo>
                  <a:pt x="1252" y="892"/>
                </a:lnTo>
                <a:lnTo>
                  <a:pt x="1280" y="876"/>
                </a:lnTo>
                <a:lnTo>
                  <a:pt x="1310" y="856"/>
                </a:lnTo>
                <a:lnTo>
                  <a:pt x="1340" y="836"/>
                </a:lnTo>
                <a:lnTo>
                  <a:pt x="1370" y="810"/>
                </a:lnTo>
                <a:lnTo>
                  <a:pt x="1400" y="784"/>
                </a:lnTo>
                <a:lnTo>
                  <a:pt x="1430" y="754"/>
                </a:lnTo>
                <a:lnTo>
                  <a:pt x="1434" y="750"/>
                </a:lnTo>
                <a:lnTo>
                  <a:pt x="1444" y="744"/>
                </a:lnTo>
                <a:lnTo>
                  <a:pt x="1462" y="738"/>
                </a:lnTo>
                <a:lnTo>
                  <a:pt x="1474" y="736"/>
                </a:lnTo>
                <a:lnTo>
                  <a:pt x="1488" y="734"/>
                </a:lnTo>
                <a:lnTo>
                  <a:pt x="1518" y="734"/>
                </a:lnTo>
                <a:lnTo>
                  <a:pt x="1562" y="734"/>
                </a:lnTo>
                <a:lnTo>
                  <a:pt x="1604" y="734"/>
                </a:lnTo>
                <a:lnTo>
                  <a:pt x="1630" y="736"/>
                </a:lnTo>
                <a:lnTo>
                  <a:pt x="1646" y="742"/>
                </a:lnTo>
                <a:lnTo>
                  <a:pt x="1658" y="744"/>
                </a:lnTo>
                <a:lnTo>
                  <a:pt x="1664" y="742"/>
                </a:lnTo>
                <a:lnTo>
                  <a:pt x="1668" y="740"/>
                </a:lnTo>
                <a:lnTo>
                  <a:pt x="1680" y="732"/>
                </a:lnTo>
                <a:lnTo>
                  <a:pt x="1684" y="728"/>
                </a:lnTo>
                <a:lnTo>
                  <a:pt x="1684" y="722"/>
                </a:lnTo>
                <a:lnTo>
                  <a:pt x="1684" y="700"/>
                </a:lnTo>
                <a:lnTo>
                  <a:pt x="1684" y="690"/>
                </a:lnTo>
                <a:lnTo>
                  <a:pt x="1680" y="684"/>
                </a:lnTo>
                <a:lnTo>
                  <a:pt x="1676" y="678"/>
                </a:lnTo>
                <a:lnTo>
                  <a:pt x="1672" y="672"/>
                </a:lnTo>
                <a:lnTo>
                  <a:pt x="1668" y="670"/>
                </a:lnTo>
                <a:lnTo>
                  <a:pt x="1662" y="668"/>
                </a:lnTo>
                <a:lnTo>
                  <a:pt x="1658" y="666"/>
                </a:lnTo>
                <a:lnTo>
                  <a:pt x="1654" y="668"/>
                </a:lnTo>
                <a:lnTo>
                  <a:pt x="1636" y="680"/>
                </a:lnTo>
                <a:lnTo>
                  <a:pt x="1624" y="688"/>
                </a:lnTo>
                <a:lnTo>
                  <a:pt x="1618" y="690"/>
                </a:lnTo>
                <a:lnTo>
                  <a:pt x="1600" y="696"/>
                </a:lnTo>
                <a:lnTo>
                  <a:pt x="1586" y="696"/>
                </a:lnTo>
                <a:lnTo>
                  <a:pt x="1568" y="698"/>
                </a:lnTo>
                <a:lnTo>
                  <a:pt x="1544" y="696"/>
                </a:lnTo>
                <a:lnTo>
                  <a:pt x="1516" y="694"/>
                </a:lnTo>
                <a:lnTo>
                  <a:pt x="1506" y="694"/>
                </a:lnTo>
                <a:lnTo>
                  <a:pt x="1484" y="692"/>
                </a:lnTo>
                <a:lnTo>
                  <a:pt x="1470" y="690"/>
                </a:lnTo>
                <a:lnTo>
                  <a:pt x="1458" y="688"/>
                </a:lnTo>
                <a:lnTo>
                  <a:pt x="1448" y="684"/>
                </a:lnTo>
                <a:lnTo>
                  <a:pt x="1444" y="67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6" name="직사각형 401" descr=""/>
          <p:cNvPicPr/>
          <p:nvPr/>
        </p:nvPicPr>
        <p:blipFill>
          <a:blip r:embed="rId1"/>
          <a:stretch/>
        </p:blipFill>
        <p:spPr>
          <a:xfrm>
            <a:off x="3224160" y="2451240"/>
            <a:ext cx="225360" cy="493560"/>
          </a:xfrm>
          <a:prstGeom prst="rect">
            <a:avLst/>
          </a:prstGeom>
          <a:ln w="0">
            <a:noFill/>
          </a:ln>
        </p:spPr>
      </p:pic>
      <p:pic>
        <p:nvPicPr>
          <p:cNvPr id="1197" name="직사각형 402" descr=""/>
          <p:cNvPicPr/>
          <p:nvPr/>
        </p:nvPicPr>
        <p:blipFill>
          <a:blip r:embed="rId2"/>
          <a:stretch/>
        </p:blipFill>
        <p:spPr>
          <a:xfrm>
            <a:off x="2816280" y="4979880"/>
            <a:ext cx="225360" cy="493920"/>
          </a:xfrm>
          <a:prstGeom prst="rect">
            <a:avLst/>
          </a:prstGeom>
          <a:ln w="0">
            <a:noFill/>
          </a:ln>
        </p:spPr>
      </p:pic>
      <p:pic>
        <p:nvPicPr>
          <p:cNvPr id="1198" name="직사각형 403" descr=""/>
          <p:cNvPicPr/>
          <p:nvPr/>
        </p:nvPicPr>
        <p:blipFill>
          <a:blip r:embed="rId3"/>
          <a:stretch/>
        </p:blipFill>
        <p:spPr>
          <a:xfrm>
            <a:off x="5297400" y="4065480"/>
            <a:ext cx="225360" cy="493920"/>
          </a:xfrm>
          <a:prstGeom prst="rect">
            <a:avLst/>
          </a:prstGeom>
          <a:ln w="0">
            <a:noFill/>
          </a:ln>
        </p:spPr>
      </p:pic>
      <p:sp>
        <p:nvSpPr>
          <p:cNvPr id="1199" name="직사각형 399"/>
          <p:cNvSpPr/>
          <p:nvPr/>
        </p:nvSpPr>
        <p:spPr>
          <a:xfrm>
            <a:off x="3409560" y="333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危机公关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직사각형 400"/>
          <p:cNvSpPr/>
          <p:nvPr/>
        </p:nvSpPr>
        <p:spPr>
          <a:xfrm>
            <a:off x="2849400" y="3899520"/>
            <a:ext cx="202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向天歌是集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模板开发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定制、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培训于一体的专业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服务提供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TextBox 13"/>
          <p:cNvSpPr/>
          <p:nvPr/>
        </p:nvSpPr>
        <p:spPr>
          <a:xfrm>
            <a:off x="8263080" y="19494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准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TextBox 13"/>
          <p:cNvSpPr/>
          <p:nvPr/>
        </p:nvSpPr>
        <p:spPr>
          <a:xfrm>
            <a:off x="8265960" y="223524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TextBox 13"/>
          <p:cNvSpPr/>
          <p:nvPr/>
        </p:nvSpPr>
        <p:spPr>
          <a:xfrm>
            <a:off x="8263080" y="35542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危机处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TextBox 13"/>
          <p:cNvSpPr/>
          <p:nvPr/>
        </p:nvSpPr>
        <p:spPr>
          <a:xfrm>
            <a:off x="8265960" y="38401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TextBox 13"/>
          <p:cNvSpPr/>
          <p:nvPr/>
        </p:nvSpPr>
        <p:spPr>
          <a:xfrm>
            <a:off x="8263080" y="51958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关策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TextBox 13"/>
          <p:cNvSpPr/>
          <p:nvPr/>
        </p:nvSpPr>
        <p:spPr>
          <a:xfrm>
            <a:off x="8265960" y="54817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7" name="组合 3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08" name="椭圆 32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等腰三角形 33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Rectangle 10"/>
          <p:cNvSpPr/>
          <p:nvPr/>
        </p:nvSpPr>
        <p:spPr>
          <a:xfrm>
            <a:off x="30240" y="1719360"/>
            <a:ext cx="12202920" cy="4433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TextBox 31"/>
          <p:cNvSpPr/>
          <p:nvPr/>
        </p:nvSpPr>
        <p:spPr>
          <a:xfrm>
            <a:off x="52642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团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Rounded Rectangle 87"/>
          <p:cNvSpPr/>
          <p:nvPr/>
        </p:nvSpPr>
        <p:spPr>
          <a:xfrm>
            <a:off x="538308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Freeform 74"/>
          <p:cNvSpPr/>
          <p:nvPr/>
        </p:nvSpPr>
        <p:spPr>
          <a:xfrm>
            <a:off x="5840280" y="2395440"/>
            <a:ext cx="576360" cy="50976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451" y="213"/>
                </a:moveTo>
                <a:lnTo>
                  <a:pt x="451" y="213"/>
                </a:lnTo>
                <a:cubicBezTo>
                  <a:pt x="247" y="17"/>
                  <a:pt x="247" y="17"/>
                  <a:pt x="247" y="17"/>
                </a:cubicBezTo>
                <a:cubicBezTo>
                  <a:pt x="238" y="0"/>
                  <a:pt x="221" y="0"/>
                  <a:pt x="212" y="1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1"/>
                  <a:pt x="9" y="230"/>
                  <a:pt x="18" y="230"/>
                </a:cubicBezTo>
                <a:cubicBezTo>
                  <a:pt x="62" y="230"/>
                  <a:pt x="62" y="230"/>
                  <a:pt x="62" y="230"/>
                </a:cubicBezTo>
                <a:cubicBezTo>
                  <a:pt x="62" y="390"/>
                  <a:pt x="62" y="390"/>
                  <a:pt x="62" y="390"/>
                </a:cubicBezTo>
                <a:cubicBezTo>
                  <a:pt x="62" y="399"/>
                  <a:pt x="62" y="408"/>
                  <a:pt x="79" y="408"/>
                </a:cubicBezTo>
                <a:cubicBezTo>
                  <a:pt x="177" y="408"/>
                  <a:pt x="177" y="408"/>
                  <a:pt x="177" y="408"/>
                </a:cubicBezTo>
                <a:cubicBezTo>
                  <a:pt x="177" y="248"/>
                  <a:pt x="177" y="248"/>
                  <a:pt x="177" y="248"/>
                </a:cubicBezTo>
                <a:cubicBezTo>
                  <a:pt x="283" y="248"/>
                  <a:pt x="283" y="248"/>
                  <a:pt x="283" y="248"/>
                </a:cubicBezTo>
                <a:cubicBezTo>
                  <a:pt x="283" y="408"/>
                  <a:pt x="283" y="408"/>
                  <a:pt x="283" y="408"/>
                </a:cubicBezTo>
                <a:cubicBezTo>
                  <a:pt x="381" y="408"/>
                  <a:pt x="381" y="408"/>
                  <a:pt x="381" y="408"/>
                </a:cubicBezTo>
                <a:cubicBezTo>
                  <a:pt x="398" y="408"/>
                  <a:pt x="398" y="399"/>
                  <a:pt x="398" y="390"/>
                </a:cubicBezTo>
                <a:cubicBezTo>
                  <a:pt x="398" y="230"/>
                  <a:pt x="398" y="230"/>
                  <a:pt x="398" y="230"/>
                </a:cubicBezTo>
                <a:cubicBezTo>
                  <a:pt x="443" y="230"/>
                  <a:pt x="443" y="230"/>
                  <a:pt x="443" y="230"/>
                </a:cubicBezTo>
                <a:cubicBezTo>
                  <a:pt x="451" y="230"/>
                  <a:pt x="460" y="221"/>
                  <a:pt x="451" y="2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traight Connector 81"/>
          <p:cNvSpPr/>
          <p:nvPr/>
        </p:nvSpPr>
        <p:spPr>
          <a:xfrm>
            <a:off x="723600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traight Connector 82"/>
          <p:cNvSpPr/>
          <p:nvPr/>
        </p:nvSpPr>
        <p:spPr>
          <a:xfrm>
            <a:off x="9320040" y="2378160"/>
            <a:ext cx="0" cy="27097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Freeform 25"/>
          <p:cNvSpPr/>
          <p:nvPr/>
        </p:nvSpPr>
        <p:spPr>
          <a:xfrm>
            <a:off x="8091360" y="2378160"/>
            <a:ext cx="509760" cy="542880"/>
          </a:xfrm>
          <a:custGeom>
            <a:avLst/>
            <a:gdLst/>
            <a:ahLst/>
            <a:rect l="l" t="t" r="r" b="b"/>
            <a:pathLst>
              <a:path w="1548" h="1648">
                <a:moveTo>
                  <a:pt x="1548" y="1327"/>
                </a:moveTo>
                <a:cubicBezTo>
                  <a:pt x="1268" y="1408"/>
                  <a:pt x="1268" y="1408"/>
                  <a:pt x="1268" y="1408"/>
                </a:cubicBezTo>
                <a:cubicBezTo>
                  <a:pt x="1186" y="1129"/>
                  <a:pt x="1186" y="1129"/>
                  <a:pt x="1186" y="1129"/>
                </a:cubicBezTo>
                <a:cubicBezTo>
                  <a:pt x="1307" y="1195"/>
                  <a:pt x="1307" y="1195"/>
                  <a:pt x="1307" y="1195"/>
                </a:cubicBezTo>
                <a:cubicBezTo>
                  <a:pt x="1358" y="1105"/>
                  <a:pt x="1388" y="1003"/>
                  <a:pt x="1388" y="893"/>
                </a:cubicBezTo>
                <a:cubicBezTo>
                  <a:pt x="1388" y="640"/>
                  <a:pt x="1236" y="422"/>
                  <a:pt x="1018" y="327"/>
                </a:cubicBezTo>
                <a:cubicBezTo>
                  <a:pt x="1061" y="195"/>
                  <a:pt x="1061" y="195"/>
                  <a:pt x="1061" y="195"/>
                </a:cubicBezTo>
                <a:cubicBezTo>
                  <a:pt x="1334" y="309"/>
                  <a:pt x="1526" y="578"/>
                  <a:pt x="1526" y="893"/>
                </a:cubicBezTo>
                <a:cubicBezTo>
                  <a:pt x="1526" y="1027"/>
                  <a:pt x="1490" y="1152"/>
                  <a:pt x="1428" y="1261"/>
                </a:cubicBezTo>
                <a:lnTo>
                  <a:pt x="1548" y="1327"/>
                </a:lnTo>
                <a:close/>
                <a:moveTo>
                  <a:pt x="770" y="1511"/>
                </a:moveTo>
                <a:cubicBezTo>
                  <a:pt x="542" y="1511"/>
                  <a:pt x="342" y="1385"/>
                  <a:pt x="235" y="1200"/>
                </a:cubicBezTo>
                <a:cubicBezTo>
                  <a:pt x="357" y="1130"/>
                  <a:pt x="357" y="1130"/>
                  <a:pt x="357" y="1130"/>
                </a:cubicBezTo>
                <a:cubicBezTo>
                  <a:pt x="75" y="1055"/>
                  <a:pt x="75" y="1055"/>
                  <a:pt x="75" y="1055"/>
                </a:cubicBezTo>
                <a:cubicBezTo>
                  <a:pt x="0" y="1336"/>
                  <a:pt x="0" y="1336"/>
                  <a:pt x="0" y="1336"/>
                </a:cubicBezTo>
                <a:cubicBezTo>
                  <a:pt x="116" y="1269"/>
                  <a:pt x="116" y="1269"/>
                  <a:pt x="116" y="1269"/>
                </a:cubicBezTo>
                <a:cubicBezTo>
                  <a:pt x="247" y="1495"/>
                  <a:pt x="490" y="1648"/>
                  <a:pt x="770" y="1648"/>
                </a:cubicBezTo>
                <a:cubicBezTo>
                  <a:pt x="922" y="1648"/>
                  <a:pt x="1062" y="1603"/>
                  <a:pt x="1180" y="1527"/>
                </a:cubicBezTo>
                <a:cubicBezTo>
                  <a:pt x="1095" y="1418"/>
                  <a:pt x="1095" y="1418"/>
                  <a:pt x="1095" y="1418"/>
                </a:cubicBezTo>
                <a:cubicBezTo>
                  <a:pt x="1001" y="1476"/>
                  <a:pt x="890" y="1511"/>
                  <a:pt x="770" y="1511"/>
                </a:cubicBezTo>
                <a:close/>
                <a:moveTo>
                  <a:pt x="153" y="901"/>
                </a:moveTo>
                <a:cubicBezTo>
                  <a:pt x="153" y="898"/>
                  <a:pt x="152" y="896"/>
                  <a:pt x="152" y="893"/>
                </a:cubicBezTo>
                <a:cubicBezTo>
                  <a:pt x="152" y="575"/>
                  <a:pt x="393" y="314"/>
                  <a:pt x="702" y="279"/>
                </a:cubicBezTo>
                <a:cubicBezTo>
                  <a:pt x="702" y="412"/>
                  <a:pt x="702" y="412"/>
                  <a:pt x="702" y="412"/>
                </a:cubicBezTo>
                <a:cubicBezTo>
                  <a:pt x="908" y="206"/>
                  <a:pt x="908" y="206"/>
                  <a:pt x="908" y="206"/>
                </a:cubicBezTo>
                <a:cubicBezTo>
                  <a:pt x="702" y="0"/>
                  <a:pt x="702" y="0"/>
                  <a:pt x="702" y="0"/>
                </a:cubicBezTo>
                <a:cubicBezTo>
                  <a:pt x="702" y="141"/>
                  <a:pt x="702" y="141"/>
                  <a:pt x="702" y="141"/>
                </a:cubicBezTo>
                <a:cubicBezTo>
                  <a:pt x="317" y="175"/>
                  <a:pt x="15" y="499"/>
                  <a:pt x="15" y="893"/>
                </a:cubicBezTo>
                <a:cubicBezTo>
                  <a:pt x="15" y="902"/>
                  <a:pt x="16" y="911"/>
                  <a:pt x="16" y="920"/>
                </a:cubicBezTo>
                <a:lnTo>
                  <a:pt x="153" y="901"/>
                </a:lnTo>
                <a:close/>
                <a:moveTo>
                  <a:pt x="573" y="862"/>
                </a:moveTo>
                <a:cubicBezTo>
                  <a:pt x="556" y="922"/>
                  <a:pt x="563" y="984"/>
                  <a:pt x="602" y="1039"/>
                </a:cubicBezTo>
                <a:cubicBezTo>
                  <a:pt x="664" y="947"/>
                  <a:pt x="780" y="849"/>
                  <a:pt x="860" y="830"/>
                </a:cubicBezTo>
                <a:cubicBezTo>
                  <a:pt x="696" y="949"/>
                  <a:pt x="604" y="1116"/>
                  <a:pt x="592" y="1305"/>
                </a:cubicBezTo>
                <a:cubicBezTo>
                  <a:pt x="661" y="1305"/>
                  <a:pt x="661" y="1305"/>
                  <a:pt x="661" y="1305"/>
                </a:cubicBezTo>
                <a:cubicBezTo>
                  <a:pt x="660" y="1233"/>
                  <a:pt x="670" y="1144"/>
                  <a:pt x="695" y="1103"/>
                </a:cubicBezTo>
                <a:cubicBezTo>
                  <a:pt x="758" y="1124"/>
                  <a:pt x="827" y="1112"/>
                  <a:pt x="887" y="1061"/>
                </a:cubicBezTo>
                <a:cubicBezTo>
                  <a:pt x="1006" y="961"/>
                  <a:pt x="961" y="708"/>
                  <a:pt x="1170" y="679"/>
                </a:cubicBezTo>
                <a:cubicBezTo>
                  <a:pt x="890" y="526"/>
                  <a:pt x="624" y="688"/>
                  <a:pt x="573" y="8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Freeform 102"/>
          <p:cNvSpPr/>
          <p:nvPr/>
        </p:nvSpPr>
        <p:spPr>
          <a:xfrm>
            <a:off x="10283760" y="2403360"/>
            <a:ext cx="571680" cy="511200"/>
          </a:xfrm>
          <a:custGeom>
            <a:avLst/>
            <a:gdLst/>
            <a:ahLst/>
            <a:rect l="l" t="t" r="r" b="b"/>
            <a:pathLst>
              <a:path w="498" h="445">
                <a:moveTo>
                  <a:pt x="80" y="151"/>
                </a:moveTo>
                <a:lnTo>
                  <a:pt x="80" y="151"/>
                </a:lnTo>
                <a:cubicBezTo>
                  <a:pt x="97" y="134"/>
                  <a:pt x="116" y="143"/>
                  <a:pt x="142" y="169"/>
                </a:cubicBezTo>
                <a:cubicBezTo>
                  <a:pt x="151" y="178"/>
                  <a:pt x="151" y="169"/>
                  <a:pt x="151" y="169"/>
                </a:cubicBezTo>
                <a:cubicBezTo>
                  <a:pt x="160" y="169"/>
                  <a:pt x="186" y="134"/>
                  <a:pt x="195" y="134"/>
                </a:cubicBezTo>
                <a:cubicBezTo>
                  <a:pt x="195" y="134"/>
                  <a:pt x="195" y="134"/>
                  <a:pt x="195" y="125"/>
                </a:cubicBezTo>
                <a:cubicBezTo>
                  <a:pt x="186" y="125"/>
                  <a:pt x="178" y="116"/>
                  <a:pt x="178" y="107"/>
                </a:cubicBezTo>
                <a:cubicBezTo>
                  <a:pt x="133" y="45"/>
                  <a:pt x="301" y="10"/>
                  <a:pt x="275" y="10"/>
                </a:cubicBezTo>
                <a:cubicBezTo>
                  <a:pt x="257" y="0"/>
                  <a:pt x="204" y="0"/>
                  <a:pt x="195" y="0"/>
                </a:cubicBezTo>
                <a:cubicBezTo>
                  <a:pt x="169" y="10"/>
                  <a:pt x="125" y="36"/>
                  <a:pt x="107" y="54"/>
                </a:cubicBezTo>
                <a:cubicBezTo>
                  <a:pt x="80" y="72"/>
                  <a:pt x="72" y="81"/>
                  <a:pt x="72" y="81"/>
                </a:cubicBezTo>
                <a:cubicBezTo>
                  <a:pt x="62" y="89"/>
                  <a:pt x="72" y="107"/>
                  <a:pt x="53" y="116"/>
                </a:cubicBezTo>
                <a:cubicBezTo>
                  <a:pt x="36" y="125"/>
                  <a:pt x="27" y="116"/>
                  <a:pt x="18" y="125"/>
                </a:cubicBezTo>
                <a:cubicBezTo>
                  <a:pt x="18" y="134"/>
                  <a:pt x="9" y="134"/>
                  <a:pt x="0" y="143"/>
                </a:cubicBezTo>
                <a:lnTo>
                  <a:pt x="0" y="151"/>
                </a:lnTo>
                <a:lnTo>
                  <a:pt x="36" y="187"/>
                </a:lnTo>
                <a:cubicBezTo>
                  <a:pt x="36" y="196"/>
                  <a:pt x="44" y="196"/>
                  <a:pt x="53" y="196"/>
                </a:cubicBezTo>
                <a:cubicBezTo>
                  <a:pt x="53" y="187"/>
                  <a:pt x="62" y="178"/>
                  <a:pt x="72" y="178"/>
                </a:cubicBezTo>
                <a:cubicBezTo>
                  <a:pt x="72" y="178"/>
                  <a:pt x="72" y="151"/>
                  <a:pt x="80" y="151"/>
                </a:cubicBezTo>
                <a:close/>
                <a:moveTo>
                  <a:pt x="222" y="160"/>
                </a:moveTo>
                <a:lnTo>
                  <a:pt x="222" y="160"/>
                </a:lnTo>
                <a:cubicBezTo>
                  <a:pt x="213" y="160"/>
                  <a:pt x="213" y="160"/>
                  <a:pt x="213" y="160"/>
                </a:cubicBezTo>
                <a:cubicBezTo>
                  <a:pt x="178" y="187"/>
                  <a:pt x="178" y="187"/>
                  <a:pt x="178" y="187"/>
                </a:cubicBezTo>
                <a:cubicBezTo>
                  <a:pt x="169" y="196"/>
                  <a:pt x="169" y="196"/>
                  <a:pt x="169" y="204"/>
                </a:cubicBezTo>
                <a:cubicBezTo>
                  <a:pt x="381" y="435"/>
                  <a:pt x="381" y="435"/>
                  <a:pt x="381" y="435"/>
                </a:cubicBezTo>
                <a:cubicBezTo>
                  <a:pt x="381" y="444"/>
                  <a:pt x="391" y="444"/>
                  <a:pt x="399" y="435"/>
                </a:cubicBezTo>
                <a:cubicBezTo>
                  <a:pt x="426" y="417"/>
                  <a:pt x="426" y="417"/>
                  <a:pt x="426" y="417"/>
                </a:cubicBezTo>
                <a:cubicBezTo>
                  <a:pt x="426" y="408"/>
                  <a:pt x="426" y="400"/>
                  <a:pt x="426" y="400"/>
                </a:cubicBezTo>
                <a:lnTo>
                  <a:pt x="222" y="160"/>
                </a:lnTo>
                <a:close/>
                <a:moveTo>
                  <a:pt x="497" y="63"/>
                </a:moveTo>
                <a:lnTo>
                  <a:pt x="497" y="63"/>
                </a:lnTo>
                <a:cubicBezTo>
                  <a:pt x="488" y="45"/>
                  <a:pt x="488" y="54"/>
                  <a:pt x="479" y="54"/>
                </a:cubicBezTo>
                <a:cubicBezTo>
                  <a:pt x="479" y="63"/>
                  <a:pt x="461" y="81"/>
                  <a:pt x="461" y="89"/>
                </a:cubicBezTo>
                <a:cubicBezTo>
                  <a:pt x="452" y="107"/>
                  <a:pt x="435" y="125"/>
                  <a:pt x="408" y="107"/>
                </a:cubicBezTo>
                <a:cubicBezTo>
                  <a:pt x="381" y="81"/>
                  <a:pt x="391" y="72"/>
                  <a:pt x="399" y="63"/>
                </a:cubicBezTo>
                <a:cubicBezTo>
                  <a:pt x="399" y="54"/>
                  <a:pt x="417" y="28"/>
                  <a:pt x="417" y="19"/>
                </a:cubicBezTo>
                <a:cubicBezTo>
                  <a:pt x="426" y="19"/>
                  <a:pt x="417" y="10"/>
                  <a:pt x="408" y="10"/>
                </a:cubicBezTo>
                <a:cubicBezTo>
                  <a:pt x="399" y="19"/>
                  <a:pt x="346" y="36"/>
                  <a:pt x="337" y="72"/>
                </a:cubicBezTo>
                <a:cubicBezTo>
                  <a:pt x="328" y="98"/>
                  <a:pt x="346" y="125"/>
                  <a:pt x="319" y="151"/>
                </a:cubicBezTo>
                <a:cubicBezTo>
                  <a:pt x="284" y="187"/>
                  <a:pt x="284" y="187"/>
                  <a:pt x="284" y="187"/>
                </a:cubicBezTo>
                <a:cubicBezTo>
                  <a:pt x="319" y="231"/>
                  <a:pt x="319" y="231"/>
                  <a:pt x="319" y="231"/>
                </a:cubicBezTo>
                <a:cubicBezTo>
                  <a:pt x="364" y="187"/>
                  <a:pt x="364" y="187"/>
                  <a:pt x="364" y="187"/>
                </a:cubicBezTo>
                <a:cubicBezTo>
                  <a:pt x="372" y="178"/>
                  <a:pt x="391" y="169"/>
                  <a:pt x="408" y="178"/>
                </a:cubicBezTo>
                <a:cubicBezTo>
                  <a:pt x="452" y="187"/>
                  <a:pt x="470" y="169"/>
                  <a:pt x="488" y="143"/>
                </a:cubicBezTo>
                <a:cubicBezTo>
                  <a:pt x="497" y="116"/>
                  <a:pt x="497" y="72"/>
                  <a:pt x="497" y="63"/>
                </a:cubicBezTo>
                <a:close/>
                <a:moveTo>
                  <a:pt x="72" y="400"/>
                </a:moveTo>
                <a:lnTo>
                  <a:pt x="72" y="400"/>
                </a:lnTo>
                <a:cubicBezTo>
                  <a:pt x="62" y="408"/>
                  <a:pt x="62" y="417"/>
                  <a:pt x="72" y="417"/>
                </a:cubicBezTo>
                <a:cubicBezTo>
                  <a:pt x="89" y="444"/>
                  <a:pt x="89" y="444"/>
                  <a:pt x="89" y="444"/>
                </a:cubicBezTo>
                <a:cubicBezTo>
                  <a:pt x="97" y="444"/>
                  <a:pt x="107" y="444"/>
                  <a:pt x="107" y="435"/>
                </a:cubicBezTo>
                <a:cubicBezTo>
                  <a:pt x="231" y="320"/>
                  <a:pt x="231" y="320"/>
                  <a:pt x="231" y="320"/>
                </a:cubicBezTo>
                <a:cubicBezTo>
                  <a:pt x="195" y="275"/>
                  <a:pt x="195" y="275"/>
                  <a:pt x="195" y="275"/>
                </a:cubicBezTo>
                <a:lnTo>
                  <a:pt x="72" y="4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 Placeholder 3"/>
          <p:cNvSpPr/>
          <p:nvPr/>
        </p:nvSpPr>
        <p:spPr>
          <a:xfrm>
            <a:off x="547992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TextBox 31"/>
          <p:cNvSpPr/>
          <p:nvPr/>
        </p:nvSpPr>
        <p:spPr>
          <a:xfrm>
            <a:off x="7405560" y="3019320"/>
            <a:ext cx="175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售会员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Rounded Rectangle 87"/>
          <p:cNvSpPr/>
          <p:nvPr/>
        </p:nvSpPr>
        <p:spPr>
          <a:xfrm>
            <a:off x="752616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Text Placeholder 3"/>
          <p:cNvSpPr/>
          <p:nvPr/>
        </p:nvSpPr>
        <p:spPr>
          <a:xfrm>
            <a:off x="7608960" y="3579840"/>
            <a:ext cx="132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31"/>
          <p:cNvSpPr/>
          <p:nvPr/>
        </p:nvSpPr>
        <p:spPr>
          <a:xfrm>
            <a:off x="9807480" y="3019320"/>
            <a:ext cx="175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站加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Rounded Rectangle 87"/>
          <p:cNvSpPr/>
          <p:nvPr/>
        </p:nvSpPr>
        <p:spPr>
          <a:xfrm>
            <a:off x="9926640" y="3360600"/>
            <a:ext cx="1522440" cy="44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-23040" bIns="-2304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Text Placeholder 3"/>
          <p:cNvSpPr/>
          <p:nvPr/>
        </p:nvSpPr>
        <p:spPr>
          <a:xfrm>
            <a:off x="10009080" y="3579840"/>
            <a:ext cx="132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9" name="图片 1" descr=""/>
          <p:cNvPicPr/>
          <p:nvPr/>
        </p:nvPicPr>
        <p:blipFill>
          <a:blip r:embed="rId1"/>
          <a:srcRect l="6760" t="5218" r="7261" b="0"/>
          <a:stretch/>
        </p:blipFill>
        <p:spPr>
          <a:xfrm>
            <a:off x="316080" y="2185920"/>
            <a:ext cx="4886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4" name="图片占位符 5" descr=""/>
          <p:cNvPicPr/>
          <p:nvPr/>
        </p:nvPicPr>
        <p:blipFill>
          <a:blip r:embed="rId1"/>
          <a:stretch/>
        </p:blipFill>
        <p:spPr>
          <a:xfrm>
            <a:off x="2066760" y="2249640"/>
            <a:ext cx="3462480" cy="3462120"/>
          </a:xfrm>
          <a:prstGeom prst="rect">
            <a:avLst/>
          </a:prstGeom>
          <a:ln w="0">
            <a:noFill/>
          </a:ln>
        </p:spPr>
      </p:pic>
      <p:sp>
        <p:nvSpPr>
          <p:cNvPr id="1235" name="Oval 87"/>
          <p:cNvSpPr/>
          <p:nvPr/>
        </p:nvSpPr>
        <p:spPr>
          <a:xfrm>
            <a:off x="3406680" y="1900080"/>
            <a:ext cx="785880" cy="785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Oval 98"/>
          <p:cNvSpPr/>
          <p:nvPr/>
        </p:nvSpPr>
        <p:spPr>
          <a:xfrm>
            <a:off x="4869000" y="4430880"/>
            <a:ext cx="78552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Oval 99"/>
          <p:cNvSpPr/>
          <p:nvPr/>
        </p:nvSpPr>
        <p:spPr>
          <a:xfrm>
            <a:off x="4869000" y="2743200"/>
            <a:ext cx="78552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Oval 100"/>
          <p:cNvSpPr/>
          <p:nvPr/>
        </p:nvSpPr>
        <p:spPr>
          <a:xfrm>
            <a:off x="1946160" y="4430880"/>
            <a:ext cx="784440" cy="784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Oval 101"/>
          <p:cNvSpPr/>
          <p:nvPr/>
        </p:nvSpPr>
        <p:spPr>
          <a:xfrm>
            <a:off x="1946160" y="2743200"/>
            <a:ext cx="784440" cy="78588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Oval 103"/>
          <p:cNvSpPr/>
          <p:nvPr/>
        </p:nvSpPr>
        <p:spPr>
          <a:xfrm>
            <a:off x="7083360" y="2392200"/>
            <a:ext cx="585720" cy="58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Oval 106"/>
          <p:cNvSpPr/>
          <p:nvPr/>
        </p:nvSpPr>
        <p:spPr>
          <a:xfrm>
            <a:off x="7083360" y="358308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Oval 109"/>
          <p:cNvSpPr/>
          <p:nvPr/>
        </p:nvSpPr>
        <p:spPr>
          <a:xfrm>
            <a:off x="7083360" y="4695840"/>
            <a:ext cx="585720" cy="585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AutoShape 37"/>
          <p:cNvSpPr/>
          <p:nvPr/>
        </p:nvSpPr>
        <p:spPr>
          <a:xfrm>
            <a:off x="3603600" y="20908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2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4"/>
                  <a:pt x="20201" y="5277"/>
                  <a:pt x="20761" y="6590"/>
                </a:cubicBezTo>
                <a:cubicBezTo>
                  <a:pt x="21317" y="7900"/>
                  <a:pt x="21600" y="9306"/>
                  <a:pt x="21600" y="10800"/>
                </a:cubicBezTo>
                <a:cubicBezTo>
                  <a:pt x="21600" y="12294"/>
                  <a:pt x="21317" y="13700"/>
                  <a:pt x="20761" y="15010"/>
                </a:cubicBezTo>
                <a:cubicBezTo>
                  <a:pt x="20201" y="16320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3"/>
                </a:cubicBezTo>
                <a:cubicBezTo>
                  <a:pt x="13706" y="21318"/>
                  <a:pt x="12302" y="21600"/>
                  <a:pt x="10807" y="21600"/>
                </a:cubicBezTo>
                <a:cubicBezTo>
                  <a:pt x="9310" y="21600"/>
                  <a:pt x="7905" y="21318"/>
                  <a:pt x="6594" y="20753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0"/>
                  <a:pt x="848" y="15010"/>
                </a:cubicBezTo>
                <a:cubicBezTo>
                  <a:pt x="283" y="13700"/>
                  <a:pt x="0" y="12294"/>
                  <a:pt x="0" y="10800"/>
                </a:cubicBezTo>
                <a:cubicBezTo>
                  <a:pt x="0" y="9306"/>
                  <a:pt x="283" y="7900"/>
                  <a:pt x="848" y="6590"/>
                </a:cubicBezTo>
                <a:cubicBezTo>
                  <a:pt x="1410" y="5277"/>
                  <a:pt x="2181" y="4134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8164" y="8812"/>
                </a:moveTo>
                <a:cubicBezTo>
                  <a:pt x="18289" y="8688"/>
                  <a:pt x="18354" y="8533"/>
                  <a:pt x="18359" y="8355"/>
                </a:cubicBezTo>
                <a:cubicBezTo>
                  <a:pt x="18362" y="8171"/>
                  <a:pt x="18300" y="8022"/>
                  <a:pt x="18164" y="7895"/>
                </a:cubicBezTo>
                <a:lnTo>
                  <a:pt x="16757" y="6449"/>
                </a:lnTo>
                <a:cubicBezTo>
                  <a:pt x="16613" y="6322"/>
                  <a:pt x="16455" y="6260"/>
                  <a:pt x="16277" y="6260"/>
                </a:cubicBezTo>
                <a:cubicBezTo>
                  <a:pt x="16099" y="6260"/>
                  <a:pt x="15946" y="6322"/>
                  <a:pt x="15811" y="6449"/>
                </a:cubicBezTo>
                <a:lnTo>
                  <a:pt x="9697" y="12570"/>
                </a:lnTo>
                <a:cubicBezTo>
                  <a:pt x="9570" y="12697"/>
                  <a:pt x="9417" y="12760"/>
                  <a:pt x="9245" y="12760"/>
                </a:cubicBezTo>
                <a:cubicBezTo>
                  <a:pt x="9069" y="12760"/>
                  <a:pt x="8914" y="12697"/>
                  <a:pt x="8778" y="12570"/>
                </a:cubicBezTo>
                <a:lnTo>
                  <a:pt x="5786" y="9583"/>
                </a:lnTo>
                <a:cubicBezTo>
                  <a:pt x="5659" y="9459"/>
                  <a:pt x="5507" y="9394"/>
                  <a:pt x="5334" y="9394"/>
                </a:cubicBezTo>
                <a:cubicBezTo>
                  <a:pt x="5156" y="9394"/>
                  <a:pt x="4995" y="9459"/>
                  <a:pt x="4840" y="9583"/>
                </a:cubicBezTo>
                <a:lnTo>
                  <a:pt x="3433" y="11015"/>
                </a:lnTo>
                <a:cubicBezTo>
                  <a:pt x="3306" y="11142"/>
                  <a:pt x="3246" y="11297"/>
                  <a:pt x="3246" y="11475"/>
                </a:cubicBezTo>
                <a:cubicBezTo>
                  <a:pt x="3246" y="11656"/>
                  <a:pt x="3306" y="11811"/>
                  <a:pt x="3433" y="11935"/>
                </a:cubicBezTo>
                <a:lnTo>
                  <a:pt x="7747" y="16249"/>
                </a:lnTo>
                <a:cubicBezTo>
                  <a:pt x="7874" y="16374"/>
                  <a:pt x="8044" y="16484"/>
                  <a:pt x="8261" y="16580"/>
                </a:cubicBezTo>
                <a:cubicBezTo>
                  <a:pt x="8479" y="16673"/>
                  <a:pt x="8677" y="16721"/>
                  <a:pt x="8858" y="16721"/>
                </a:cubicBezTo>
                <a:lnTo>
                  <a:pt x="9618" y="16721"/>
                </a:lnTo>
                <a:cubicBezTo>
                  <a:pt x="9796" y="16721"/>
                  <a:pt x="9993" y="16676"/>
                  <a:pt x="10205" y="16585"/>
                </a:cubicBezTo>
                <a:cubicBezTo>
                  <a:pt x="10417" y="16495"/>
                  <a:pt x="10592" y="16382"/>
                  <a:pt x="10728" y="16249"/>
                </a:cubicBezTo>
                <a:lnTo>
                  <a:pt x="18164" y="8812"/>
                </a:lnTo>
                <a:close/>
                <a:moveTo>
                  <a:pt x="18164" y="8812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AutoShape 38"/>
          <p:cNvSpPr/>
          <p:nvPr/>
        </p:nvSpPr>
        <p:spPr>
          <a:xfrm>
            <a:off x="507672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055" y="7482"/>
                </a:moveTo>
                <a:lnTo>
                  <a:pt x="5879" y="19673"/>
                </a:lnTo>
                <a:lnTo>
                  <a:pt x="0" y="21600"/>
                </a:lnTo>
                <a:lnTo>
                  <a:pt x="1929" y="15722"/>
                </a:lnTo>
                <a:lnTo>
                  <a:pt x="14117" y="3543"/>
                </a:lnTo>
                <a:lnTo>
                  <a:pt x="18055" y="7482"/>
                </a:lnTo>
                <a:close/>
                <a:moveTo>
                  <a:pt x="14484" y="6483"/>
                </a:moveTo>
                <a:cubicBezTo>
                  <a:pt x="14672" y="6295"/>
                  <a:pt x="14672" y="6093"/>
                  <a:pt x="14484" y="5878"/>
                </a:cubicBezTo>
                <a:cubicBezTo>
                  <a:pt x="14393" y="5784"/>
                  <a:pt x="14287" y="5737"/>
                  <a:pt x="14170" y="5737"/>
                </a:cubicBezTo>
                <a:cubicBezTo>
                  <a:pt x="14052" y="5737"/>
                  <a:pt x="13958" y="5784"/>
                  <a:pt x="13882" y="5878"/>
                </a:cubicBezTo>
                <a:lnTo>
                  <a:pt x="4179" y="15555"/>
                </a:lnTo>
                <a:cubicBezTo>
                  <a:pt x="4085" y="15649"/>
                  <a:pt x="4035" y="15751"/>
                  <a:pt x="4035" y="15869"/>
                </a:cubicBezTo>
                <a:cubicBezTo>
                  <a:pt x="4035" y="15986"/>
                  <a:pt x="4085" y="16092"/>
                  <a:pt x="4179" y="16186"/>
                </a:cubicBezTo>
                <a:cubicBezTo>
                  <a:pt x="4252" y="16262"/>
                  <a:pt x="4358" y="16298"/>
                  <a:pt x="4487" y="16298"/>
                </a:cubicBezTo>
                <a:cubicBezTo>
                  <a:pt x="4599" y="16298"/>
                  <a:pt x="4696" y="16262"/>
                  <a:pt x="4784" y="16186"/>
                </a:cubicBezTo>
                <a:lnTo>
                  <a:pt x="14484" y="6483"/>
                </a:lnTo>
                <a:close/>
                <a:moveTo>
                  <a:pt x="21107" y="2068"/>
                </a:moveTo>
                <a:cubicBezTo>
                  <a:pt x="21436" y="2394"/>
                  <a:pt x="21600" y="2791"/>
                  <a:pt x="21600" y="3255"/>
                </a:cubicBezTo>
                <a:cubicBezTo>
                  <a:pt x="21600" y="3722"/>
                  <a:pt x="21436" y="4110"/>
                  <a:pt x="21107" y="4430"/>
                </a:cubicBezTo>
                <a:lnTo>
                  <a:pt x="19436" y="6101"/>
                </a:lnTo>
                <a:lnTo>
                  <a:pt x="15497" y="2165"/>
                </a:lnTo>
                <a:lnTo>
                  <a:pt x="17171" y="491"/>
                </a:lnTo>
                <a:cubicBezTo>
                  <a:pt x="17494" y="165"/>
                  <a:pt x="17891" y="0"/>
                  <a:pt x="18349" y="0"/>
                </a:cubicBezTo>
                <a:cubicBezTo>
                  <a:pt x="18807" y="0"/>
                  <a:pt x="19204" y="165"/>
                  <a:pt x="19530" y="491"/>
                </a:cubicBezTo>
                <a:lnTo>
                  <a:pt x="20331" y="1266"/>
                </a:lnTo>
                <a:lnTo>
                  <a:pt x="21107" y="2068"/>
                </a:lnTo>
                <a:close/>
                <a:moveTo>
                  <a:pt x="21107" y="20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AutoShape 39"/>
          <p:cNvSpPr/>
          <p:nvPr/>
        </p:nvSpPr>
        <p:spPr>
          <a:xfrm>
            <a:off x="507672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63" y="0"/>
                </a:moveTo>
                <a:cubicBezTo>
                  <a:pt x="20631" y="0"/>
                  <a:pt x="20946" y="159"/>
                  <a:pt x="21208" y="479"/>
                </a:cubicBezTo>
                <a:cubicBezTo>
                  <a:pt x="21470" y="799"/>
                  <a:pt x="21600" y="1178"/>
                  <a:pt x="21600" y="1616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4"/>
                </a:cubicBezTo>
                <a:cubicBezTo>
                  <a:pt x="20949" y="21441"/>
                  <a:pt x="20633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41"/>
                  <a:pt x="397" y="21124"/>
                </a:cubicBezTo>
                <a:cubicBezTo>
                  <a:pt x="132" y="20804"/>
                  <a:pt x="0" y="20422"/>
                  <a:pt x="0" y="19984"/>
                </a:cubicBezTo>
                <a:lnTo>
                  <a:pt x="0" y="1616"/>
                </a:lnTo>
                <a:cubicBezTo>
                  <a:pt x="0" y="1178"/>
                  <a:pt x="132" y="799"/>
                  <a:pt x="397" y="479"/>
                </a:cubicBezTo>
                <a:cubicBezTo>
                  <a:pt x="661" y="159"/>
                  <a:pt x="979" y="0"/>
                  <a:pt x="1346" y="0"/>
                </a:cubicBezTo>
                <a:lnTo>
                  <a:pt x="20263" y="0"/>
                </a:lnTo>
                <a:close/>
                <a:moveTo>
                  <a:pt x="19805" y="2171"/>
                </a:moveTo>
                <a:lnTo>
                  <a:pt x="1802" y="2171"/>
                </a:lnTo>
                <a:lnTo>
                  <a:pt x="1802" y="19441"/>
                </a:lnTo>
                <a:lnTo>
                  <a:pt x="19805" y="19441"/>
                </a:lnTo>
                <a:lnTo>
                  <a:pt x="19805" y="2171"/>
                </a:lnTo>
                <a:close/>
                <a:moveTo>
                  <a:pt x="5425" y="8663"/>
                </a:moveTo>
                <a:cubicBezTo>
                  <a:pt x="4911" y="8663"/>
                  <a:pt x="4475" y="8454"/>
                  <a:pt x="4125" y="8034"/>
                </a:cubicBezTo>
                <a:cubicBezTo>
                  <a:pt x="3770" y="7611"/>
                  <a:pt x="3599" y="7103"/>
                  <a:pt x="3599" y="6513"/>
                </a:cubicBezTo>
                <a:cubicBezTo>
                  <a:pt x="3599" y="5896"/>
                  <a:pt x="3770" y="5373"/>
                  <a:pt x="4125" y="4953"/>
                </a:cubicBezTo>
                <a:cubicBezTo>
                  <a:pt x="4478" y="4527"/>
                  <a:pt x="4911" y="4321"/>
                  <a:pt x="5425" y="4321"/>
                </a:cubicBezTo>
                <a:cubicBezTo>
                  <a:pt x="5915" y="4321"/>
                  <a:pt x="6341" y="4530"/>
                  <a:pt x="6693" y="4953"/>
                </a:cubicBezTo>
                <a:cubicBezTo>
                  <a:pt x="7046" y="5373"/>
                  <a:pt x="7220" y="5896"/>
                  <a:pt x="7220" y="6513"/>
                </a:cubicBezTo>
                <a:cubicBezTo>
                  <a:pt x="7220" y="7103"/>
                  <a:pt x="7046" y="7611"/>
                  <a:pt x="6693" y="8034"/>
                </a:cubicBezTo>
                <a:cubicBezTo>
                  <a:pt x="6341" y="8454"/>
                  <a:pt x="5915" y="8663"/>
                  <a:pt x="5425" y="8663"/>
                </a:cubicBezTo>
                <a:moveTo>
                  <a:pt x="18001" y="17288"/>
                </a:moveTo>
                <a:lnTo>
                  <a:pt x="3599" y="17288"/>
                </a:lnTo>
                <a:lnTo>
                  <a:pt x="3599" y="15810"/>
                </a:lnTo>
                <a:lnTo>
                  <a:pt x="6845" y="10746"/>
                </a:lnTo>
                <a:lnTo>
                  <a:pt x="9046" y="12943"/>
                </a:lnTo>
                <a:lnTo>
                  <a:pt x="13193" y="5388"/>
                </a:lnTo>
                <a:lnTo>
                  <a:pt x="17999" y="11351"/>
                </a:lnTo>
                <a:lnTo>
                  <a:pt x="17999" y="17288"/>
                </a:lnTo>
                <a:lnTo>
                  <a:pt x="18001" y="17288"/>
                </a:lnTo>
                <a:close/>
                <a:moveTo>
                  <a:pt x="18001" y="1728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AutoShape 41"/>
          <p:cNvSpPr/>
          <p:nvPr/>
        </p:nvSpPr>
        <p:spPr>
          <a:xfrm>
            <a:off x="2144880" y="463248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78" y="8468"/>
                </a:moveTo>
                <a:cubicBezTo>
                  <a:pt x="20642" y="8468"/>
                  <a:pt x="20954" y="8597"/>
                  <a:pt x="21212" y="8853"/>
                </a:cubicBezTo>
                <a:cubicBezTo>
                  <a:pt x="21471" y="9111"/>
                  <a:pt x="21600" y="9423"/>
                  <a:pt x="21600" y="9787"/>
                </a:cubicBezTo>
                <a:lnTo>
                  <a:pt x="21600" y="11813"/>
                </a:lnTo>
                <a:cubicBezTo>
                  <a:pt x="21600" y="12181"/>
                  <a:pt x="21471" y="12489"/>
                  <a:pt x="21212" y="12747"/>
                </a:cubicBezTo>
                <a:cubicBezTo>
                  <a:pt x="20954" y="13006"/>
                  <a:pt x="20642" y="13135"/>
                  <a:pt x="20278" y="13135"/>
                </a:cubicBezTo>
                <a:lnTo>
                  <a:pt x="13134" y="13135"/>
                </a:lnTo>
                <a:lnTo>
                  <a:pt x="13134" y="20252"/>
                </a:lnTo>
                <a:cubicBezTo>
                  <a:pt x="13134" y="20637"/>
                  <a:pt x="13005" y="20957"/>
                  <a:pt x="12746" y="21212"/>
                </a:cubicBezTo>
                <a:cubicBezTo>
                  <a:pt x="12488" y="21471"/>
                  <a:pt x="12176" y="21600"/>
                  <a:pt x="11812" y="21600"/>
                </a:cubicBezTo>
                <a:lnTo>
                  <a:pt x="9788" y="21600"/>
                </a:lnTo>
                <a:cubicBezTo>
                  <a:pt x="9424" y="21600"/>
                  <a:pt x="9112" y="21471"/>
                  <a:pt x="8854" y="21212"/>
                </a:cubicBezTo>
                <a:cubicBezTo>
                  <a:pt x="8592" y="20957"/>
                  <a:pt x="8466" y="20645"/>
                  <a:pt x="8466" y="20278"/>
                </a:cubicBezTo>
                <a:lnTo>
                  <a:pt x="8466" y="13135"/>
                </a:lnTo>
                <a:lnTo>
                  <a:pt x="1351" y="13135"/>
                </a:lnTo>
                <a:cubicBezTo>
                  <a:pt x="966" y="13135"/>
                  <a:pt x="646" y="13012"/>
                  <a:pt x="388" y="12762"/>
                </a:cubicBezTo>
                <a:cubicBezTo>
                  <a:pt x="129" y="12515"/>
                  <a:pt x="0" y="12198"/>
                  <a:pt x="0" y="11813"/>
                </a:cubicBezTo>
                <a:lnTo>
                  <a:pt x="0" y="9787"/>
                </a:lnTo>
                <a:cubicBezTo>
                  <a:pt x="0" y="9422"/>
                  <a:pt x="129" y="9114"/>
                  <a:pt x="388" y="8853"/>
                </a:cubicBezTo>
                <a:cubicBezTo>
                  <a:pt x="646" y="8597"/>
                  <a:pt x="955" y="8468"/>
                  <a:pt x="1322" y="8468"/>
                </a:cubicBezTo>
                <a:lnTo>
                  <a:pt x="8466" y="8468"/>
                </a:lnTo>
                <a:lnTo>
                  <a:pt x="8466" y="1351"/>
                </a:lnTo>
                <a:cubicBezTo>
                  <a:pt x="8466" y="966"/>
                  <a:pt x="8589" y="646"/>
                  <a:pt x="8839" y="388"/>
                </a:cubicBezTo>
                <a:cubicBezTo>
                  <a:pt x="9089" y="132"/>
                  <a:pt x="9403" y="0"/>
                  <a:pt x="9788" y="0"/>
                </a:cubicBezTo>
                <a:lnTo>
                  <a:pt x="11812" y="0"/>
                </a:lnTo>
                <a:cubicBezTo>
                  <a:pt x="12176" y="0"/>
                  <a:pt x="12488" y="132"/>
                  <a:pt x="12746" y="388"/>
                </a:cubicBezTo>
                <a:cubicBezTo>
                  <a:pt x="13005" y="646"/>
                  <a:pt x="13134" y="957"/>
                  <a:pt x="13134" y="1322"/>
                </a:cubicBezTo>
                <a:lnTo>
                  <a:pt x="13134" y="8468"/>
                </a:lnTo>
                <a:lnTo>
                  <a:pt x="20278" y="8468"/>
                </a:lnTo>
                <a:close/>
                <a:moveTo>
                  <a:pt x="20278" y="8468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AutoShape 42"/>
          <p:cNvSpPr/>
          <p:nvPr/>
        </p:nvSpPr>
        <p:spPr>
          <a:xfrm>
            <a:off x="2144880" y="2943360"/>
            <a:ext cx="387360" cy="38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7" y="0"/>
                </a:moveTo>
                <a:cubicBezTo>
                  <a:pt x="12302" y="0"/>
                  <a:pt x="13706" y="280"/>
                  <a:pt x="15011" y="847"/>
                </a:cubicBezTo>
                <a:cubicBezTo>
                  <a:pt x="16319" y="1409"/>
                  <a:pt x="17464" y="2177"/>
                  <a:pt x="18450" y="3157"/>
                </a:cubicBezTo>
                <a:cubicBezTo>
                  <a:pt x="19433" y="4136"/>
                  <a:pt x="20201" y="5280"/>
                  <a:pt x="20761" y="6590"/>
                </a:cubicBezTo>
                <a:cubicBezTo>
                  <a:pt x="21317" y="7903"/>
                  <a:pt x="21600" y="9306"/>
                  <a:pt x="21600" y="10800"/>
                </a:cubicBezTo>
                <a:cubicBezTo>
                  <a:pt x="21600" y="12296"/>
                  <a:pt x="21317" y="13700"/>
                  <a:pt x="20761" y="15010"/>
                </a:cubicBezTo>
                <a:cubicBezTo>
                  <a:pt x="20201" y="16323"/>
                  <a:pt x="19430" y="17466"/>
                  <a:pt x="18450" y="18443"/>
                </a:cubicBezTo>
                <a:cubicBezTo>
                  <a:pt x="17464" y="19423"/>
                  <a:pt x="16319" y="20191"/>
                  <a:pt x="15011" y="20756"/>
                </a:cubicBezTo>
                <a:cubicBezTo>
                  <a:pt x="13706" y="21320"/>
                  <a:pt x="12302" y="21600"/>
                  <a:pt x="10807" y="21600"/>
                </a:cubicBezTo>
                <a:cubicBezTo>
                  <a:pt x="9310" y="21600"/>
                  <a:pt x="7905" y="21320"/>
                  <a:pt x="6594" y="20756"/>
                </a:cubicBezTo>
                <a:cubicBezTo>
                  <a:pt x="5281" y="20191"/>
                  <a:pt x="4136" y="19423"/>
                  <a:pt x="3159" y="18443"/>
                </a:cubicBezTo>
                <a:cubicBezTo>
                  <a:pt x="2178" y="17466"/>
                  <a:pt x="1410" y="16323"/>
                  <a:pt x="848" y="15010"/>
                </a:cubicBezTo>
                <a:cubicBezTo>
                  <a:pt x="283" y="13700"/>
                  <a:pt x="0" y="12296"/>
                  <a:pt x="0" y="10800"/>
                </a:cubicBezTo>
                <a:cubicBezTo>
                  <a:pt x="0" y="9306"/>
                  <a:pt x="283" y="7903"/>
                  <a:pt x="848" y="6590"/>
                </a:cubicBezTo>
                <a:cubicBezTo>
                  <a:pt x="1410" y="5280"/>
                  <a:pt x="2181" y="4136"/>
                  <a:pt x="3159" y="3157"/>
                </a:cubicBezTo>
                <a:cubicBezTo>
                  <a:pt x="4136" y="2177"/>
                  <a:pt x="5281" y="1409"/>
                  <a:pt x="6594" y="847"/>
                </a:cubicBezTo>
                <a:cubicBezTo>
                  <a:pt x="7903" y="282"/>
                  <a:pt x="9307" y="0"/>
                  <a:pt x="10807" y="0"/>
                </a:cubicBezTo>
                <a:moveTo>
                  <a:pt x="17043" y="9750"/>
                </a:moveTo>
                <a:cubicBezTo>
                  <a:pt x="17043" y="9623"/>
                  <a:pt x="16995" y="9518"/>
                  <a:pt x="16899" y="9433"/>
                </a:cubicBezTo>
                <a:cubicBezTo>
                  <a:pt x="16805" y="9346"/>
                  <a:pt x="16704" y="9304"/>
                  <a:pt x="16596" y="9304"/>
                </a:cubicBezTo>
                <a:lnTo>
                  <a:pt x="12350" y="9304"/>
                </a:lnTo>
                <a:lnTo>
                  <a:pt x="12350" y="4628"/>
                </a:lnTo>
                <a:cubicBezTo>
                  <a:pt x="12350" y="4329"/>
                  <a:pt x="12203" y="4184"/>
                  <a:pt x="11917" y="4193"/>
                </a:cubicBezTo>
                <a:lnTo>
                  <a:pt x="9700" y="4193"/>
                </a:lnTo>
                <a:cubicBezTo>
                  <a:pt x="9403" y="4193"/>
                  <a:pt x="9253" y="4337"/>
                  <a:pt x="9253" y="4628"/>
                </a:cubicBezTo>
                <a:lnTo>
                  <a:pt x="9253" y="9304"/>
                </a:lnTo>
                <a:lnTo>
                  <a:pt x="5021" y="9304"/>
                </a:lnTo>
                <a:cubicBezTo>
                  <a:pt x="4724" y="9304"/>
                  <a:pt x="4574" y="9453"/>
                  <a:pt x="4574" y="9750"/>
                </a:cubicBezTo>
                <a:lnTo>
                  <a:pt x="4574" y="11884"/>
                </a:lnTo>
                <a:cubicBezTo>
                  <a:pt x="4574" y="12181"/>
                  <a:pt x="4724" y="12330"/>
                  <a:pt x="5021" y="12330"/>
                </a:cubicBezTo>
                <a:lnTo>
                  <a:pt x="9253" y="12330"/>
                </a:lnTo>
                <a:lnTo>
                  <a:pt x="9253" y="16981"/>
                </a:lnTo>
                <a:cubicBezTo>
                  <a:pt x="9253" y="17277"/>
                  <a:pt x="9403" y="17424"/>
                  <a:pt x="9700" y="17413"/>
                </a:cubicBezTo>
                <a:lnTo>
                  <a:pt x="11917" y="17413"/>
                </a:lnTo>
                <a:cubicBezTo>
                  <a:pt x="12214" y="17413"/>
                  <a:pt x="12358" y="17269"/>
                  <a:pt x="12350" y="16981"/>
                </a:cubicBezTo>
                <a:lnTo>
                  <a:pt x="12350" y="12330"/>
                </a:lnTo>
                <a:lnTo>
                  <a:pt x="16596" y="12330"/>
                </a:lnTo>
                <a:cubicBezTo>
                  <a:pt x="16704" y="12330"/>
                  <a:pt x="16805" y="12288"/>
                  <a:pt x="16899" y="12201"/>
                </a:cubicBezTo>
                <a:cubicBezTo>
                  <a:pt x="16995" y="12119"/>
                  <a:pt x="17043" y="12011"/>
                  <a:pt x="17043" y="11884"/>
                </a:cubicBezTo>
                <a:lnTo>
                  <a:pt x="17043" y="9750"/>
                </a:lnTo>
                <a:close/>
                <a:moveTo>
                  <a:pt x="17043" y="975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TextBox 15"/>
          <p:cNvSpPr/>
          <p:nvPr/>
        </p:nvSpPr>
        <p:spPr>
          <a:xfrm>
            <a:off x="7157880" y="25131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TextBox 15"/>
          <p:cNvSpPr/>
          <p:nvPr/>
        </p:nvSpPr>
        <p:spPr>
          <a:xfrm>
            <a:off x="7157880" y="3708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TextBox 15"/>
          <p:cNvSpPr/>
          <p:nvPr/>
        </p:nvSpPr>
        <p:spPr>
          <a:xfrm>
            <a:off x="7157880" y="482436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13"/>
          <p:cNvSpPr/>
          <p:nvPr/>
        </p:nvSpPr>
        <p:spPr>
          <a:xfrm>
            <a:off x="7889760" y="236376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返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TextBox 13"/>
          <p:cNvSpPr/>
          <p:nvPr/>
        </p:nvSpPr>
        <p:spPr>
          <a:xfrm>
            <a:off x="7894800" y="26859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TextBox 13"/>
          <p:cNvSpPr/>
          <p:nvPr/>
        </p:nvSpPr>
        <p:spPr>
          <a:xfrm>
            <a:off x="7889760" y="352908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商品直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TextBox 13"/>
          <p:cNvSpPr/>
          <p:nvPr/>
        </p:nvSpPr>
        <p:spPr>
          <a:xfrm>
            <a:off x="7894800" y="3849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TextBox 13"/>
          <p:cNvSpPr/>
          <p:nvPr/>
        </p:nvSpPr>
        <p:spPr>
          <a:xfrm>
            <a:off x="7889760" y="4692600"/>
            <a:ext cx="129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广告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TextBox 13"/>
          <p:cNvSpPr/>
          <p:nvPr/>
        </p:nvSpPr>
        <p:spPr>
          <a:xfrm>
            <a:off x="7894800" y="50148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7" name="组合 28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58" name="椭圆 2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等腰三角形 3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策略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Freeform 3"/>
          <p:cNvSpPr/>
          <p:nvPr/>
        </p:nvSpPr>
        <p:spPr>
          <a:xfrm rot="19397400">
            <a:off x="4830840" y="2296800"/>
            <a:ext cx="173016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Freeform 3"/>
          <p:cNvSpPr/>
          <p:nvPr/>
        </p:nvSpPr>
        <p:spPr>
          <a:xfrm rot="3201600">
            <a:off x="6051240" y="270504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Freeform 3"/>
          <p:cNvSpPr/>
          <p:nvPr/>
        </p:nvSpPr>
        <p:spPr>
          <a:xfrm rot="8578800">
            <a:off x="5638320" y="3928680"/>
            <a:ext cx="1730520" cy="175572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007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Freeform 3"/>
          <p:cNvSpPr/>
          <p:nvPr/>
        </p:nvSpPr>
        <p:spPr>
          <a:xfrm rot="13978200">
            <a:off x="4418280" y="3529080"/>
            <a:ext cx="1730520" cy="1754280"/>
          </a:xfrm>
          <a:custGeom>
            <a:avLst/>
            <a:gdLst/>
            <a:ahLst/>
            <a:rect l="l" t="t" r="r" b="b"/>
            <a:pathLst>
              <a:path w="10688" h="10844">
                <a:moveTo>
                  <a:pt x="3563" y="7062"/>
                </a:moveTo>
                <a:lnTo>
                  <a:pt x="3563" y="7062"/>
                </a:lnTo>
                <a:cubicBezTo>
                  <a:pt x="4375" y="8187"/>
                  <a:pt x="4688" y="9500"/>
                  <a:pt x="4563" y="10749"/>
                </a:cubicBezTo>
                <a:cubicBezTo>
                  <a:pt x="5718" y="10843"/>
                  <a:pt x="6906" y="10562"/>
                  <a:pt x="7937" y="9812"/>
                </a:cubicBezTo>
                <a:cubicBezTo>
                  <a:pt x="10187" y="8187"/>
                  <a:pt x="10687" y="5032"/>
                  <a:pt x="9062" y="2782"/>
                </a:cubicBezTo>
                <a:cubicBezTo>
                  <a:pt x="7437" y="500"/>
                  <a:pt x="4282" y="0"/>
                  <a:pt x="2032" y="1626"/>
                </a:cubicBezTo>
                <a:cubicBezTo>
                  <a:pt x="907" y="2438"/>
                  <a:pt x="219" y="3657"/>
                  <a:pt x="0" y="4907"/>
                </a:cubicBezTo>
                <a:cubicBezTo>
                  <a:pt x="1375" y="5126"/>
                  <a:pt x="2688" y="5843"/>
                  <a:pt x="3563" y="7062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TextBox 19"/>
          <p:cNvSpPr/>
          <p:nvPr/>
        </p:nvSpPr>
        <p:spPr>
          <a:xfrm>
            <a:off x="5160960" y="26384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TextBox 20"/>
          <p:cNvSpPr/>
          <p:nvPr/>
        </p:nvSpPr>
        <p:spPr>
          <a:xfrm>
            <a:off x="6427800" y="314784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5400" spc="-1" strike="noStrike">
                <a:solidFill>
                  <a:srgbClr val="ffffff"/>
                </a:solidFill>
                <a:latin typeface="Arial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TextBox 21"/>
          <p:cNvSpPr/>
          <p:nvPr/>
        </p:nvSpPr>
        <p:spPr>
          <a:xfrm>
            <a:off x="5946840" y="448776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TextBox 22"/>
          <p:cNvSpPr/>
          <p:nvPr/>
        </p:nvSpPr>
        <p:spPr>
          <a:xfrm>
            <a:off x="4657680" y="3932280"/>
            <a:ext cx="1093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2" name="Group 37" descr=""/>
          <p:cNvPicPr/>
          <p:nvPr/>
        </p:nvPicPr>
        <p:blipFill>
          <a:blip r:embed="rId1"/>
          <a:stretch/>
        </p:blipFill>
        <p:spPr>
          <a:xfrm>
            <a:off x="8058240" y="2457360"/>
            <a:ext cx="476280" cy="1333440"/>
          </a:xfrm>
          <a:prstGeom prst="rect">
            <a:avLst/>
          </a:prstGeom>
          <a:ln w="0">
            <a:noFill/>
          </a:ln>
        </p:spPr>
      </p:pic>
      <p:pic>
        <p:nvPicPr>
          <p:cNvPr id="1273" name="Group 36" descr=""/>
          <p:cNvPicPr/>
          <p:nvPr/>
        </p:nvPicPr>
        <p:blipFill>
          <a:blip r:embed="rId2"/>
          <a:stretch/>
        </p:blipFill>
        <p:spPr>
          <a:xfrm>
            <a:off x="3713040" y="2352600"/>
            <a:ext cx="749520" cy="1335240"/>
          </a:xfrm>
          <a:prstGeom prst="rect">
            <a:avLst/>
          </a:prstGeom>
          <a:ln w="0">
            <a:noFill/>
          </a:ln>
        </p:spPr>
      </p:pic>
      <p:pic>
        <p:nvPicPr>
          <p:cNvPr id="1274" name="Group 41" descr=""/>
          <p:cNvPicPr/>
          <p:nvPr/>
        </p:nvPicPr>
        <p:blipFill>
          <a:blip r:embed="rId3"/>
          <a:stretch/>
        </p:blipFill>
        <p:spPr>
          <a:xfrm>
            <a:off x="3529080" y="4095720"/>
            <a:ext cx="652320" cy="1317600"/>
          </a:xfrm>
          <a:prstGeom prst="rect">
            <a:avLst/>
          </a:prstGeom>
          <a:ln w="0">
            <a:noFill/>
          </a:ln>
        </p:spPr>
      </p:pic>
      <p:pic>
        <p:nvPicPr>
          <p:cNvPr id="1275" name="Group 39" descr=""/>
          <p:cNvPicPr/>
          <p:nvPr/>
        </p:nvPicPr>
        <p:blipFill>
          <a:blip r:embed="rId4"/>
          <a:stretch/>
        </p:blipFill>
        <p:spPr>
          <a:xfrm>
            <a:off x="7723080" y="4133880"/>
            <a:ext cx="792360" cy="15238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3"/>
          <p:cNvSpPr/>
          <p:nvPr/>
        </p:nvSpPr>
        <p:spPr>
          <a:xfrm>
            <a:off x="8771040" y="26049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机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TextBox 13"/>
          <p:cNvSpPr/>
          <p:nvPr/>
        </p:nvSpPr>
        <p:spPr>
          <a:xfrm>
            <a:off x="877104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TextBox 13"/>
          <p:cNvSpPr/>
          <p:nvPr/>
        </p:nvSpPr>
        <p:spPr>
          <a:xfrm>
            <a:off x="2176560" y="26049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优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TextBox 13"/>
          <p:cNvSpPr/>
          <p:nvPr/>
        </p:nvSpPr>
        <p:spPr>
          <a:xfrm>
            <a:off x="1461960" y="29275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TextBox 13"/>
          <p:cNvSpPr/>
          <p:nvPr/>
        </p:nvSpPr>
        <p:spPr>
          <a:xfrm>
            <a:off x="8771040" y="46386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TextBox 13"/>
          <p:cNvSpPr/>
          <p:nvPr/>
        </p:nvSpPr>
        <p:spPr>
          <a:xfrm>
            <a:off x="877104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TextBox 13"/>
          <p:cNvSpPr/>
          <p:nvPr/>
        </p:nvSpPr>
        <p:spPr>
          <a:xfrm>
            <a:off x="2176560" y="46386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弱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TextBox 13"/>
          <p:cNvSpPr/>
          <p:nvPr/>
        </p:nvSpPr>
        <p:spPr>
          <a:xfrm>
            <a:off x="1461960" y="4959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4" name="组合 40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285" name="椭圆 41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等腰三角形 42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风险管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1" name="组合 43"/>
          <p:cNvGrpSpPr/>
          <p:nvPr/>
        </p:nvGrpSpPr>
        <p:grpSpPr>
          <a:xfrm>
            <a:off x="6953400" y="1932120"/>
            <a:ext cx="733320" cy="520560"/>
            <a:chOff x="6953400" y="1932120"/>
            <a:chExt cx="733320" cy="520560"/>
          </a:xfrm>
        </p:grpSpPr>
        <p:grpSp>
          <p:nvGrpSpPr>
            <p:cNvPr id="1292" name="组合 44"/>
            <p:cNvGrpSpPr/>
            <p:nvPr/>
          </p:nvGrpSpPr>
          <p:grpSpPr>
            <a:xfrm>
              <a:off x="6953400" y="1962720"/>
              <a:ext cx="619200" cy="472320"/>
              <a:chOff x="6953400" y="1962720"/>
              <a:chExt cx="619200" cy="472320"/>
            </a:xfrm>
          </p:grpSpPr>
          <p:sp>
            <p:nvSpPr>
              <p:cNvPr id="1293" name="平行四边形 46"/>
              <p:cNvSpPr/>
              <p:nvPr/>
            </p:nvSpPr>
            <p:spPr>
              <a:xfrm>
                <a:off x="697536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4" name="平行四边形 47"/>
              <p:cNvSpPr/>
              <p:nvPr/>
            </p:nvSpPr>
            <p:spPr>
              <a:xfrm>
                <a:off x="695340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95" name="文本框 45"/>
            <p:cNvSpPr/>
            <p:nvPr/>
          </p:nvSpPr>
          <p:spPr>
            <a:xfrm>
              <a:off x="705564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6" name="组合 48"/>
          <p:cNvGrpSpPr/>
          <p:nvPr/>
        </p:nvGrpSpPr>
        <p:grpSpPr>
          <a:xfrm>
            <a:off x="6953400" y="2693880"/>
            <a:ext cx="733320" cy="520560"/>
            <a:chOff x="6953400" y="2693880"/>
            <a:chExt cx="733320" cy="520560"/>
          </a:xfrm>
        </p:grpSpPr>
        <p:grpSp>
          <p:nvGrpSpPr>
            <p:cNvPr id="1297" name="组合 49"/>
            <p:cNvGrpSpPr/>
            <p:nvPr/>
          </p:nvGrpSpPr>
          <p:grpSpPr>
            <a:xfrm>
              <a:off x="6953400" y="2724480"/>
              <a:ext cx="619200" cy="472680"/>
              <a:chOff x="6953400" y="2724480"/>
              <a:chExt cx="619200" cy="472680"/>
            </a:xfrm>
          </p:grpSpPr>
          <p:sp>
            <p:nvSpPr>
              <p:cNvPr id="1298" name="平行四边形 51"/>
              <p:cNvSpPr/>
              <p:nvPr/>
            </p:nvSpPr>
            <p:spPr>
              <a:xfrm>
                <a:off x="697536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平行四边形 52"/>
              <p:cNvSpPr/>
              <p:nvPr/>
            </p:nvSpPr>
            <p:spPr>
              <a:xfrm>
                <a:off x="695340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0" name="文本框 50"/>
            <p:cNvSpPr/>
            <p:nvPr/>
          </p:nvSpPr>
          <p:spPr>
            <a:xfrm>
              <a:off x="705564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1" name="组合 53"/>
          <p:cNvGrpSpPr/>
          <p:nvPr/>
        </p:nvGrpSpPr>
        <p:grpSpPr>
          <a:xfrm>
            <a:off x="6953400" y="3456000"/>
            <a:ext cx="733320" cy="520560"/>
            <a:chOff x="6953400" y="3456000"/>
            <a:chExt cx="733320" cy="520560"/>
          </a:xfrm>
        </p:grpSpPr>
        <p:grpSp>
          <p:nvGrpSpPr>
            <p:cNvPr id="1302" name="组合 54"/>
            <p:cNvGrpSpPr/>
            <p:nvPr/>
          </p:nvGrpSpPr>
          <p:grpSpPr>
            <a:xfrm>
              <a:off x="6953400" y="3486600"/>
              <a:ext cx="619200" cy="472320"/>
              <a:chOff x="6953400" y="3486600"/>
              <a:chExt cx="619200" cy="472320"/>
            </a:xfrm>
          </p:grpSpPr>
          <p:sp>
            <p:nvSpPr>
              <p:cNvPr id="1303" name="平行四边形 56"/>
              <p:cNvSpPr/>
              <p:nvPr/>
            </p:nvSpPr>
            <p:spPr>
              <a:xfrm>
                <a:off x="697536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平行四边形 57"/>
              <p:cNvSpPr/>
              <p:nvPr/>
            </p:nvSpPr>
            <p:spPr>
              <a:xfrm>
                <a:off x="695340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05" name="文本框 55"/>
            <p:cNvSpPr/>
            <p:nvPr/>
          </p:nvSpPr>
          <p:spPr>
            <a:xfrm>
              <a:off x="705564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58"/>
          <p:cNvGrpSpPr/>
          <p:nvPr/>
        </p:nvGrpSpPr>
        <p:grpSpPr>
          <a:xfrm>
            <a:off x="6953400" y="4218120"/>
            <a:ext cx="733320" cy="520560"/>
            <a:chOff x="6953400" y="4218120"/>
            <a:chExt cx="733320" cy="520560"/>
          </a:xfrm>
        </p:grpSpPr>
        <p:grpSp>
          <p:nvGrpSpPr>
            <p:cNvPr id="1307" name="组合 59"/>
            <p:cNvGrpSpPr/>
            <p:nvPr/>
          </p:nvGrpSpPr>
          <p:grpSpPr>
            <a:xfrm>
              <a:off x="6953400" y="4248720"/>
              <a:ext cx="619200" cy="472320"/>
              <a:chOff x="6953400" y="4248720"/>
              <a:chExt cx="619200" cy="472320"/>
            </a:xfrm>
          </p:grpSpPr>
          <p:sp>
            <p:nvSpPr>
              <p:cNvPr id="1308" name="平行四边形 61"/>
              <p:cNvSpPr/>
              <p:nvPr/>
            </p:nvSpPr>
            <p:spPr>
              <a:xfrm>
                <a:off x="697536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平行四边形 62"/>
              <p:cNvSpPr/>
              <p:nvPr/>
            </p:nvSpPr>
            <p:spPr>
              <a:xfrm>
                <a:off x="695340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0" name="文本框 60"/>
            <p:cNvSpPr/>
            <p:nvPr/>
          </p:nvSpPr>
          <p:spPr>
            <a:xfrm>
              <a:off x="705564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1" name="组合 63"/>
          <p:cNvGrpSpPr/>
          <p:nvPr/>
        </p:nvGrpSpPr>
        <p:grpSpPr>
          <a:xfrm>
            <a:off x="6953400" y="4979880"/>
            <a:ext cx="733320" cy="520560"/>
            <a:chOff x="6953400" y="4979880"/>
            <a:chExt cx="733320" cy="520560"/>
          </a:xfrm>
        </p:grpSpPr>
        <p:grpSp>
          <p:nvGrpSpPr>
            <p:cNvPr id="1312" name="组合 64"/>
            <p:cNvGrpSpPr/>
            <p:nvPr/>
          </p:nvGrpSpPr>
          <p:grpSpPr>
            <a:xfrm>
              <a:off x="6953400" y="5010480"/>
              <a:ext cx="619200" cy="472680"/>
              <a:chOff x="6953400" y="5010480"/>
              <a:chExt cx="619200" cy="472680"/>
            </a:xfrm>
          </p:grpSpPr>
          <p:sp>
            <p:nvSpPr>
              <p:cNvPr id="1313" name="平行四边形 66"/>
              <p:cNvSpPr/>
              <p:nvPr/>
            </p:nvSpPr>
            <p:spPr>
              <a:xfrm>
                <a:off x="697536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平行四边形 67"/>
              <p:cNvSpPr/>
              <p:nvPr/>
            </p:nvSpPr>
            <p:spPr>
              <a:xfrm>
                <a:off x="695340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5" name="文本框 65"/>
            <p:cNvSpPr/>
            <p:nvPr/>
          </p:nvSpPr>
          <p:spPr>
            <a:xfrm>
              <a:off x="705564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6" name="平行四边形 68"/>
          <p:cNvSpPr/>
          <p:nvPr/>
        </p:nvSpPr>
        <p:spPr>
          <a:xfrm>
            <a:off x="7597800" y="2033640"/>
            <a:ext cx="2425680" cy="388800"/>
          </a:xfrm>
          <a:prstGeom prst="parallelogram">
            <a:avLst>
              <a:gd name="adj" fmla="val 3798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Rectangle 6"/>
          <p:cNvSpPr/>
          <p:nvPr/>
        </p:nvSpPr>
        <p:spPr>
          <a:xfrm>
            <a:off x="800424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投资融资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平行四边形 70"/>
          <p:cNvSpPr/>
          <p:nvPr/>
        </p:nvSpPr>
        <p:spPr>
          <a:xfrm>
            <a:off x="7597800" y="2735280"/>
            <a:ext cx="2403360" cy="434880"/>
          </a:xfrm>
          <a:prstGeom prst="parallelogram">
            <a:avLst>
              <a:gd name="adj" fmla="val 37969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Rectangle 6"/>
          <p:cNvSpPr/>
          <p:nvPr/>
        </p:nvSpPr>
        <p:spPr>
          <a:xfrm>
            <a:off x="800424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股权分配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平行四边形 72"/>
          <p:cNvSpPr/>
          <p:nvPr/>
        </p:nvSpPr>
        <p:spPr>
          <a:xfrm>
            <a:off x="7597800" y="3552840"/>
            <a:ext cx="2403360" cy="368280"/>
          </a:xfrm>
          <a:prstGeom prst="parallelogram">
            <a:avLst>
              <a:gd name="adj" fmla="val 37977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800424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市场风险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平行四边形 74"/>
          <p:cNvSpPr/>
          <p:nvPr/>
        </p:nvSpPr>
        <p:spPr>
          <a:xfrm>
            <a:off x="7597800" y="4276800"/>
            <a:ext cx="2403360" cy="415800"/>
          </a:xfrm>
          <a:prstGeom prst="parallelogram">
            <a:avLst>
              <a:gd name="adj" fmla="val 37972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Rectangle 6"/>
          <p:cNvSpPr/>
          <p:nvPr/>
        </p:nvSpPr>
        <p:spPr>
          <a:xfrm>
            <a:off x="800424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风险管理控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平行四边形 76"/>
          <p:cNvSpPr/>
          <p:nvPr/>
        </p:nvSpPr>
        <p:spPr>
          <a:xfrm>
            <a:off x="7597800" y="5035680"/>
            <a:ext cx="2403360" cy="41256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Rectangle 6"/>
          <p:cNvSpPr/>
          <p:nvPr/>
        </p:nvSpPr>
        <p:spPr>
          <a:xfrm>
            <a:off x="800424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盈利能力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投资融资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Diamond 4"/>
          <p:cNvSpPr/>
          <p:nvPr/>
        </p:nvSpPr>
        <p:spPr>
          <a:xfrm>
            <a:off x="3751200" y="1666800"/>
            <a:ext cx="4665600" cy="4664160"/>
          </a:xfrm>
          <a:prstGeom prst="diamond">
            <a:avLst/>
          </a:prstGeom>
          <a:solidFill>
            <a:srgbClr val="4454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Rounded Rectangle 15"/>
          <p:cNvSpPr/>
          <p:nvPr/>
        </p:nvSpPr>
        <p:spPr>
          <a:xfrm>
            <a:off x="4195800" y="2109960"/>
            <a:ext cx="1817640" cy="181908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ounded Rectangle 13"/>
          <p:cNvSpPr/>
          <p:nvPr/>
        </p:nvSpPr>
        <p:spPr>
          <a:xfrm>
            <a:off x="6154560" y="2109960"/>
            <a:ext cx="1818000" cy="181908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080"/>
              <a:gd name="textAreaBottom" fmla="*/ 1730520 h 181908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Rounded Rectangle 11"/>
          <p:cNvSpPr/>
          <p:nvPr/>
        </p:nvSpPr>
        <p:spPr>
          <a:xfrm>
            <a:off x="4195800" y="4068720"/>
            <a:ext cx="1817640" cy="1819440"/>
          </a:xfrm>
          <a:custGeom>
            <a:avLst/>
            <a:gdLst>
              <a:gd name="textAreaLeft" fmla="*/ 88560 w 1817640"/>
              <a:gd name="textAreaRight" fmla="*/ 1729080 w 181764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21">
                <a:moveTo>
                  <a:pt x="3600" y="0"/>
                </a:moveTo>
                <a:arcTo wR="3600" hR="3600" stAng="16200000" swAng="-5400000"/>
                <a:lnTo>
                  <a:pt x="0" y="18021"/>
                </a:lnTo>
                <a:arcTo wR="3600" hR="3600" stAng="10800000" swAng="-5400000"/>
                <a:lnTo>
                  <a:pt x="18000" y="216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ounded Rectangle 9"/>
          <p:cNvSpPr/>
          <p:nvPr/>
        </p:nvSpPr>
        <p:spPr>
          <a:xfrm>
            <a:off x="6154560" y="4068720"/>
            <a:ext cx="1818000" cy="1819440"/>
          </a:xfrm>
          <a:custGeom>
            <a:avLst/>
            <a:gdLst>
              <a:gd name="textAreaLeft" fmla="*/ 88560 w 1818000"/>
              <a:gd name="textAreaRight" fmla="*/ 1729440 w 1818000"/>
              <a:gd name="textAreaTop" fmla="*/ 88560 h 1819440"/>
              <a:gd name="textAreaBottom" fmla="*/ 1730880 h 1819440"/>
            </a:gdLst>
            <a:ahLst/>
            <a:rect l="textAreaLeft" t="textAreaTop" r="textAreaRight" b="textAreaBottom"/>
            <a:pathLst>
              <a:path w="21600" h="21617">
                <a:moveTo>
                  <a:pt x="3600" y="0"/>
                </a:moveTo>
                <a:arcTo wR="3600" hR="3600" stAng="16200000" swAng="-5400000"/>
                <a:lnTo>
                  <a:pt x="0" y="18017"/>
                </a:lnTo>
                <a:arcTo wR="3600" hR="3600" stAng="10800000" swAng="-5400000"/>
                <a:lnTo>
                  <a:pt x="18000" y="216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5" name="Group 49" descr=""/>
          <p:cNvPicPr/>
          <p:nvPr/>
        </p:nvPicPr>
        <p:blipFill>
          <a:blip r:embed="rId1"/>
          <a:stretch/>
        </p:blipFill>
        <p:spPr>
          <a:xfrm>
            <a:off x="4797360" y="4535640"/>
            <a:ext cx="676440" cy="500040"/>
          </a:xfrm>
          <a:prstGeom prst="rect">
            <a:avLst/>
          </a:prstGeom>
          <a:ln w="0">
            <a:noFill/>
          </a:ln>
        </p:spPr>
      </p:pic>
      <p:pic>
        <p:nvPicPr>
          <p:cNvPr id="1336" name="Group 70" descr=""/>
          <p:cNvPicPr/>
          <p:nvPr/>
        </p:nvPicPr>
        <p:blipFill>
          <a:blip r:embed="rId2"/>
          <a:stretch/>
        </p:blipFill>
        <p:spPr>
          <a:xfrm>
            <a:off x="6748560" y="4475160"/>
            <a:ext cx="566640" cy="560520"/>
          </a:xfrm>
          <a:prstGeom prst="rect">
            <a:avLst/>
          </a:prstGeom>
          <a:ln w="0">
            <a:noFill/>
          </a:ln>
        </p:spPr>
      </p:pic>
      <p:sp>
        <p:nvSpPr>
          <p:cNvPr id="1337" name="TextBox 13"/>
          <p:cNvSpPr/>
          <p:nvPr/>
        </p:nvSpPr>
        <p:spPr>
          <a:xfrm>
            <a:off x="183024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融资目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13"/>
          <p:cNvSpPr/>
          <p:nvPr/>
        </p:nvSpPr>
        <p:spPr>
          <a:xfrm>
            <a:off x="144936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13"/>
          <p:cNvSpPr/>
          <p:nvPr/>
        </p:nvSpPr>
        <p:spPr>
          <a:xfrm>
            <a:off x="183024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使用计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3"/>
          <p:cNvSpPr/>
          <p:nvPr/>
        </p:nvSpPr>
        <p:spPr>
          <a:xfrm>
            <a:off x="144936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13"/>
          <p:cNvSpPr/>
          <p:nvPr/>
        </p:nvSpPr>
        <p:spPr>
          <a:xfrm>
            <a:off x="8385120" y="2617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金用途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13"/>
          <p:cNvSpPr/>
          <p:nvPr/>
        </p:nvSpPr>
        <p:spPr>
          <a:xfrm>
            <a:off x="8385120" y="2903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13"/>
          <p:cNvSpPr/>
          <p:nvPr/>
        </p:nvSpPr>
        <p:spPr>
          <a:xfrm>
            <a:off x="8385120" y="4572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效益分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13"/>
          <p:cNvSpPr/>
          <p:nvPr/>
        </p:nvSpPr>
        <p:spPr>
          <a:xfrm>
            <a:off x="8385120" y="48578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13"/>
          <p:cNvSpPr/>
          <p:nvPr/>
        </p:nvSpPr>
        <p:spPr>
          <a:xfrm>
            <a:off x="448956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13"/>
          <p:cNvSpPr/>
          <p:nvPr/>
        </p:nvSpPr>
        <p:spPr>
          <a:xfrm>
            <a:off x="6429240" y="333684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13"/>
          <p:cNvSpPr/>
          <p:nvPr/>
        </p:nvSpPr>
        <p:spPr>
          <a:xfrm>
            <a:off x="4489560" y="5292720"/>
            <a:ext cx="122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TextBox 13"/>
          <p:cNvSpPr/>
          <p:nvPr/>
        </p:nvSpPr>
        <p:spPr>
          <a:xfrm>
            <a:off x="6432480" y="5256360"/>
            <a:ext cx="122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9" name="组合 5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50" name="椭圆 5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等腰三角形 5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2" name="组合 60" descr=""/>
          <p:cNvPicPr/>
          <p:nvPr/>
        </p:nvPicPr>
        <p:blipFill>
          <a:blip r:embed="rId3"/>
          <a:stretch/>
        </p:blipFill>
        <p:spPr>
          <a:xfrm>
            <a:off x="4791240" y="242568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353" name="组合 68" descr=""/>
          <p:cNvPicPr/>
          <p:nvPr/>
        </p:nvPicPr>
        <p:blipFill>
          <a:blip r:embed="rId4"/>
          <a:stretch/>
        </p:blipFill>
        <p:spPr>
          <a:xfrm>
            <a:off x="6724800" y="2627280"/>
            <a:ext cx="603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" descr=""/>
          <p:cNvPicPr/>
          <p:nvPr/>
        </p:nvPicPr>
        <p:blipFill>
          <a:blip r:embed="rId1"/>
          <a:srcRect l="23678" t="0" r="24274" b="0"/>
          <a:stretch/>
        </p:blipFill>
        <p:spPr>
          <a:xfrm>
            <a:off x="6829560" y="1671480"/>
            <a:ext cx="3328920" cy="4158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1355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权分配方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圆角矩形 7"/>
          <p:cNvSpPr/>
          <p:nvPr/>
        </p:nvSpPr>
        <p:spPr>
          <a:xfrm>
            <a:off x="876240" y="202896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矩形 8"/>
          <p:cNvSpPr/>
          <p:nvPr/>
        </p:nvSpPr>
        <p:spPr>
          <a:xfrm>
            <a:off x="1209600" y="235728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圆角矩形 9"/>
          <p:cNvSpPr/>
          <p:nvPr/>
        </p:nvSpPr>
        <p:spPr>
          <a:xfrm>
            <a:off x="876240" y="4238640"/>
            <a:ext cx="4591080" cy="1476360"/>
          </a:xfrm>
          <a:prstGeom prst="roundRect">
            <a:avLst>
              <a:gd name="adj" fmla="val 9083"/>
            </a:avLst>
          </a:prstGeom>
          <a:noFill/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矩形 10"/>
          <p:cNvSpPr/>
          <p:nvPr/>
        </p:nvSpPr>
        <p:spPr>
          <a:xfrm>
            <a:off x="1209600" y="4567320"/>
            <a:ext cx="3924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圆角矩形 11"/>
          <p:cNvSpPr/>
          <p:nvPr/>
        </p:nvSpPr>
        <p:spPr>
          <a:xfrm>
            <a:off x="1531800" y="179532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12"/>
          <p:cNvSpPr/>
          <p:nvPr/>
        </p:nvSpPr>
        <p:spPr>
          <a:xfrm>
            <a:off x="1763640" y="184464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资金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圆角矩形 13"/>
          <p:cNvSpPr/>
          <p:nvPr/>
        </p:nvSpPr>
        <p:spPr>
          <a:xfrm>
            <a:off x="1531800" y="4046400"/>
            <a:ext cx="3279960" cy="4622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文本框 15"/>
          <p:cNvSpPr/>
          <p:nvPr/>
        </p:nvSpPr>
        <p:spPr>
          <a:xfrm>
            <a:off x="1744560" y="4098960"/>
            <a:ext cx="279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经营股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7" name="组合 14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68" name="椭圆 16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等腰三角形 17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风险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Rectangle 6"/>
          <p:cNvSpPr/>
          <p:nvPr/>
        </p:nvSpPr>
        <p:spPr>
          <a:xfrm>
            <a:off x="3903840" y="4024440"/>
            <a:ext cx="192708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5" name="Shape 21"/>
          <p:cNvCxnSpPr>
            <a:stCxn id="1374" idx="2"/>
          </p:cNvCxnSpPr>
          <p:nvPr/>
        </p:nvCxnSpPr>
        <p:spPr>
          <a:xfrm rot="5400000">
            <a:off x="3725280" y="4708440"/>
            <a:ext cx="4071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6" name="Rectangle 4"/>
          <p:cNvSpPr/>
          <p:nvPr/>
        </p:nvSpPr>
        <p:spPr>
          <a:xfrm>
            <a:off x="3903840" y="2503440"/>
            <a:ext cx="192708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7" name="Shape 11"/>
          <p:cNvCxnSpPr>
            <a:stCxn id="1376" idx="0"/>
          </p:cNvCxnSpPr>
          <p:nvPr/>
        </p:nvCxnSpPr>
        <p:spPr>
          <a:xfrm flipV="1" rot="16200000">
            <a:off x="3726360" y="1362240"/>
            <a:ext cx="405360" cy="187704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78" name="Rectangle 5"/>
          <p:cNvSpPr/>
          <p:nvPr/>
        </p:nvSpPr>
        <p:spPr>
          <a:xfrm>
            <a:off x="5932440" y="2503440"/>
            <a:ext cx="1925640" cy="1419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9" name="Shape 16"/>
          <p:cNvCxnSpPr>
            <a:stCxn id="1378" idx="0"/>
          </p:cNvCxnSpPr>
          <p:nvPr/>
        </p:nvCxnSpPr>
        <p:spPr>
          <a:xfrm flipH="1" flipV="1" rot="5400000">
            <a:off x="7681680" y="1312560"/>
            <a:ext cx="4053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0" name="Rectangle 7"/>
          <p:cNvSpPr/>
          <p:nvPr/>
        </p:nvSpPr>
        <p:spPr>
          <a:xfrm>
            <a:off x="5932440" y="4024440"/>
            <a:ext cx="1925640" cy="1419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1" name="Shape 19"/>
          <p:cNvCxnSpPr>
            <a:stCxn id="1380" idx="2"/>
          </p:cNvCxnSpPr>
          <p:nvPr/>
        </p:nvCxnSpPr>
        <p:spPr>
          <a:xfrm flipH="1" rot="16200000">
            <a:off x="7680960" y="4658040"/>
            <a:ext cx="407160" cy="1977120"/>
          </a:xfrm>
          <a:prstGeom prst="bentConnector2">
            <a:avLst/>
          </a:prstGeom>
          <a:ln w="9360">
            <a:solidFill>
              <a:srgbClr val="adbaca"/>
            </a:solidFill>
            <a:miter/>
            <a:tailEnd len="med" type="oval" w="med"/>
          </a:ln>
        </p:spPr>
      </p:cxnSp>
      <p:sp>
        <p:nvSpPr>
          <p:cNvPr id="1382" name="TextBox 13"/>
          <p:cNvSpPr/>
          <p:nvPr/>
        </p:nvSpPr>
        <p:spPr>
          <a:xfrm>
            <a:off x="8332920" y="239724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13"/>
          <p:cNvSpPr/>
          <p:nvPr/>
        </p:nvSpPr>
        <p:spPr>
          <a:xfrm>
            <a:off x="8332920" y="271944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13"/>
          <p:cNvSpPr/>
          <p:nvPr/>
        </p:nvSpPr>
        <p:spPr>
          <a:xfrm>
            <a:off x="2195640" y="239724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不确定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13"/>
          <p:cNvSpPr/>
          <p:nvPr/>
        </p:nvSpPr>
        <p:spPr>
          <a:xfrm>
            <a:off x="855720" y="27194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TextBox 13"/>
          <p:cNvSpPr/>
          <p:nvPr/>
        </p:nvSpPr>
        <p:spPr>
          <a:xfrm>
            <a:off x="8332920" y="49752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政策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TextBox 13"/>
          <p:cNvSpPr/>
          <p:nvPr/>
        </p:nvSpPr>
        <p:spPr>
          <a:xfrm>
            <a:off x="8332920" y="5297400"/>
            <a:ext cx="27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3"/>
          <p:cNvSpPr/>
          <p:nvPr/>
        </p:nvSpPr>
        <p:spPr>
          <a:xfrm>
            <a:off x="2195640" y="497520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管理风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13"/>
          <p:cNvSpPr/>
          <p:nvPr/>
        </p:nvSpPr>
        <p:spPr>
          <a:xfrm>
            <a:off x="855720" y="529740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0" name="组合 47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391" name="椭圆 48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等腰三角形 49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3" name="Freeform 6"/>
          <p:cNvSpPr/>
          <p:nvPr/>
        </p:nvSpPr>
        <p:spPr>
          <a:xfrm>
            <a:off x="4503600" y="2913120"/>
            <a:ext cx="727200" cy="712800"/>
          </a:xfrm>
          <a:custGeom>
            <a:avLst/>
            <a:gdLst/>
            <a:ahLst/>
            <a:rect l="l" t="t" r="r" b="b"/>
            <a:pathLst>
              <a:path w="643" h="630">
                <a:moveTo>
                  <a:pt x="389" y="0"/>
                </a:moveTo>
                <a:lnTo>
                  <a:pt x="256" y="0"/>
                </a:lnTo>
                <a:lnTo>
                  <a:pt x="201" y="104"/>
                </a:lnTo>
                <a:lnTo>
                  <a:pt x="143" y="71"/>
                </a:lnTo>
                <a:lnTo>
                  <a:pt x="143" y="273"/>
                </a:lnTo>
                <a:lnTo>
                  <a:pt x="331" y="188"/>
                </a:lnTo>
                <a:lnTo>
                  <a:pt x="279" y="152"/>
                </a:lnTo>
                <a:lnTo>
                  <a:pt x="321" y="74"/>
                </a:lnTo>
                <a:lnTo>
                  <a:pt x="389" y="191"/>
                </a:lnTo>
                <a:lnTo>
                  <a:pt x="464" y="143"/>
                </a:lnTo>
                <a:lnTo>
                  <a:pt x="389" y="0"/>
                </a:lnTo>
                <a:close/>
                <a:moveTo>
                  <a:pt x="195" y="481"/>
                </a:moveTo>
                <a:lnTo>
                  <a:pt x="91" y="481"/>
                </a:lnTo>
                <a:lnTo>
                  <a:pt x="175" y="334"/>
                </a:lnTo>
                <a:lnTo>
                  <a:pt x="97" y="286"/>
                </a:lnTo>
                <a:lnTo>
                  <a:pt x="0" y="461"/>
                </a:lnTo>
                <a:lnTo>
                  <a:pt x="48" y="559"/>
                </a:lnTo>
                <a:lnTo>
                  <a:pt x="195" y="559"/>
                </a:lnTo>
                <a:lnTo>
                  <a:pt x="195" y="630"/>
                </a:lnTo>
                <a:lnTo>
                  <a:pt x="370" y="523"/>
                </a:lnTo>
                <a:lnTo>
                  <a:pt x="195" y="412"/>
                </a:lnTo>
                <a:lnTo>
                  <a:pt x="195" y="481"/>
                </a:lnTo>
                <a:close/>
                <a:moveTo>
                  <a:pt x="568" y="325"/>
                </a:moveTo>
                <a:lnTo>
                  <a:pt x="623" y="289"/>
                </a:lnTo>
                <a:lnTo>
                  <a:pt x="441" y="201"/>
                </a:lnTo>
                <a:lnTo>
                  <a:pt x="438" y="403"/>
                </a:lnTo>
                <a:lnTo>
                  <a:pt x="490" y="370"/>
                </a:lnTo>
                <a:lnTo>
                  <a:pt x="552" y="481"/>
                </a:lnTo>
                <a:lnTo>
                  <a:pt x="402" y="481"/>
                </a:lnTo>
                <a:lnTo>
                  <a:pt x="402" y="559"/>
                </a:lnTo>
                <a:lnTo>
                  <a:pt x="594" y="559"/>
                </a:lnTo>
                <a:lnTo>
                  <a:pt x="643" y="458"/>
                </a:lnTo>
                <a:lnTo>
                  <a:pt x="568" y="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Freeform 18"/>
          <p:cNvSpPr/>
          <p:nvPr/>
        </p:nvSpPr>
        <p:spPr>
          <a:xfrm>
            <a:off x="6580080" y="4578480"/>
            <a:ext cx="630360" cy="460080"/>
          </a:xfrm>
          <a:custGeom>
            <a:avLst/>
            <a:gdLst/>
            <a:ahLst/>
            <a:rect l="l" t="t" r="r" b="b"/>
            <a:pathLst>
              <a:path w="1005" h="731">
                <a:moveTo>
                  <a:pt x="549" y="545"/>
                </a:moveTo>
                <a:cubicBezTo>
                  <a:pt x="549" y="553"/>
                  <a:pt x="543" y="560"/>
                  <a:pt x="535" y="560"/>
                </a:cubicBezTo>
                <a:lnTo>
                  <a:pt x="217" y="560"/>
                </a:lnTo>
                <a:cubicBezTo>
                  <a:pt x="209" y="560"/>
                  <a:pt x="203" y="553"/>
                  <a:pt x="203" y="545"/>
                </a:cubicBezTo>
                <a:cubicBezTo>
                  <a:pt x="203" y="537"/>
                  <a:pt x="209" y="531"/>
                  <a:pt x="217" y="531"/>
                </a:cubicBezTo>
                <a:lnTo>
                  <a:pt x="535" y="531"/>
                </a:lnTo>
                <a:cubicBezTo>
                  <a:pt x="543" y="531"/>
                  <a:pt x="549" y="537"/>
                  <a:pt x="549" y="545"/>
                </a:cubicBezTo>
                <a:close/>
                <a:moveTo>
                  <a:pt x="549" y="440"/>
                </a:moveTo>
                <a:cubicBezTo>
                  <a:pt x="549" y="448"/>
                  <a:pt x="543" y="454"/>
                  <a:pt x="535" y="454"/>
                </a:cubicBezTo>
                <a:lnTo>
                  <a:pt x="217" y="454"/>
                </a:lnTo>
                <a:cubicBezTo>
                  <a:pt x="209" y="454"/>
                  <a:pt x="203" y="448"/>
                  <a:pt x="203" y="440"/>
                </a:cubicBezTo>
                <a:cubicBezTo>
                  <a:pt x="203" y="432"/>
                  <a:pt x="209" y="425"/>
                  <a:pt x="217" y="425"/>
                </a:cubicBezTo>
                <a:lnTo>
                  <a:pt x="535" y="425"/>
                </a:lnTo>
                <a:cubicBezTo>
                  <a:pt x="543" y="425"/>
                  <a:pt x="549" y="432"/>
                  <a:pt x="549" y="440"/>
                </a:cubicBezTo>
                <a:close/>
                <a:moveTo>
                  <a:pt x="750" y="274"/>
                </a:moveTo>
                <a:lnTo>
                  <a:pt x="194" y="274"/>
                </a:lnTo>
                <a:cubicBezTo>
                  <a:pt x="186" y="274"/>
                  <a:pt x="179" y="268"/>
                  <a:pt x="179" y="260"/>
                </a:cubicBezTo>
                <a:cubicBezTo>
                  <a:pt x="179" y="252"/>
                  <a:pt x="186" y="245"/>
                  <a:pt x="194" y="245"/>
                </a:cubicBezTo>
                <a:lnTo>
                  <a:pt x="750" y="245"/>
                </a:lnTo>
                <a:cubicBezTo>
                  <a:pt x="758" y="245"/>
                  <a:pt x="765" y="252"/>
                  <a:pt x="765" y="260"/>
                </a:cubicBezTo>
                <a:cubicBezTo>
                  <a:pt x="765" y="268"/>
                  <a:pt x="758" y="274"/>
                  <a:pt x="750" y="274"/>
                </a:cubicBezTo>
                <a:close/>
                <a:moveTo>
                  <a:pt x="112" y="152"/>
                </a:moveTo>
                <a:cubicBezTo>
                  <a:pt x="112" y="144"/>
                  <a:pt x="118" y="138"/>
                  <a:pt x="126" y="138"/>
                </a:cubicBezTo>
                <a:lnTo>
                  <a:pt x="857" y="138"/>
                </a:lnTo>
                <a:cubicBezTo>
                  <a:pt x="865" y="138"/>
                  <a:pt x="872" y="144"/>
                  <a:pt x="872" y="152"/>
                </a:cubicBezTo>
                <a:cubicBezTo>
                  <a:pt x="872" y="160"/>
                  <a:pt x="865" y="166"/>
                  <a:pt x="857" y="166"/>
                </a:cubicBezTo>
                <a:lnTo>
                  <a:pt x="126" y="166"/>
                </a:lnTo>
                <a:cubicBezTo>
                  <a:pt x="118" y="166"/>
                  <a:pt x="112" y="160"/>
                  <a:pt x="112" y="152"/>
                </a:cubicBezTo>
                <a:close/>
                <a:moveTo>
                  <a:pt x="866" y="431"/>
                </a:moveTo>
                <a:cubicBezTo>
                  <a:pt x="866" y="465"/>
                  <a:pt x="847" y="493"/>
                  <a:pt x="820" y="509"/>
                </a:cubicBezTo>
                <a:cubicBezTo>
                  <a:pt x="820" y="510"/>
                  <a:pt x="820" y="510"/>
                  <a:pt x="820" y="510"/>
                </a:cubicBezTo>
                <a:cubicBezTo>
                  <a:pt x="820" y="510"/>
                  <a:pt x="820" y="648"/>
                  <a:pt x="820" y="648"/>
                </a:cubicBezTo>
                <a:lnTo>
                  <a:pt x="775" y="588"/>
                </a:lnTo>
                <a:lnTo>
                  <a:pt x="731" y="648"/>
                </a:lnTo>
                <a:lnTo>
                  <a:pt x="731" y="510"/>
                </a:lnTo>
                <a:cubicBezTo>
                  <a:pt x="731" y="510"/>
                  <a:pt x="731" y="510"/>
                  <a:pt x="731" y="509"/>
                </a:cubicBezTo>
                <a:cubicBezTo>
                  <a:pt x="703" y="493"/>
                  <a:pt x="685" y="465"/>
                  <a:pt x="685" y="431"/>
                </a:cubicBezTo>
                <a:cubicBezTo>
                  <a:pt x="685" y="381"/>
                  <a:pt x="725" y="341"/>
                  <a:pt x="775" y="341"/>
                </a:cubicBezTo>
                <a:cubicBezTo>
                  <a:pt x="825" y="341"/>
                  <a:pt x="866" y="381"/>
                  <a:pt x="866" y="431"/>
                </a:cubicBezTo>
                <a:close/>
                <a:moveTo>
                  <a:pt x="963" y="690"/>
                </a:moveTo>
                <a:lnTo>
                  <a:pt x="41" y="690"/>
                </a:lnTo>
                <a:lnTo>
                  <a:pt x="41" y="41"/>
                </a:lnTo>
                <a:lnTo>
                  <a:pt x="963" y="41"/>
                </a:lnTo>
                <a:lnTo>
                  <a:pt x="963" y="690"/>
                </a:lnTo>
                <a:close/>
                <a:moveTo>
                  <a:pt x="0" y="731"/>
                </a:moveTo>
                <a:lnTo>
                  <a:pt x="1005" y="731"/>
                </a:lnTo>
                <a:lnTo>
                  <a:pt x="1005" y="0"/>
                </a:lnTo>
                <a:lnTo>
                  <a:pt x="0" y="0"/>
                </a:lnTo>
                <a:lnTo>
                  <a:pt x="0" y="731"/>
                </a:lnTo>
                <a:close/>
                <a:moveTo>
                  <a:pt x="0" y="0"/>
                </a:moveTo>
                <a:lnTo>
                  <a:pt x="0" y="7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Freeform 101"/>
          <p:cNvSpPr/>
          <p:nvPr/>
        </p:nvSpPr>
        <p:spPr>
          <a:xfrm>
            <a:off x="4503600" y="4503600"/>
            <a:ext cx="57816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Freeform 34"/>
          <p:cNvSpPr/>
          <p:nvPr/>
        </p:nvSpPr>
        <p:spPr>
          <a:xfrm>
            <a:off x="6556320" y="2948040"/>
            <a:ext cx="677880" cy="642960"/>
          </a:xfrm>
          <a:custGeom>
            <a:avLst/>
            <a:gdLst/>
            <a:ahLst/>
            <a:rect l="l" t="t" r="r" b="b"/>
            <a:pathLst>
              <a:path w="1131" h="1073">
                <a:moveTo>
                  <a:pt x="1124" y="217"/>
                </a:moveTo>
                <a:cubicBezTo>
                  <a:pt x="1116" y="195"/>
                  <a:pt x="1093" y="183"/>
                  <a:pt x="1071" y="191"/>
                </a:cubicBezTo>
                <a:lnTo>
                  <a:pt x="916" y="243"/>
                </a:lnTo>
                <a:lnTo>
                  <a:pt x="821" y="233"/>
                </a:lnTo>
                <a:cubicBezTo>
                  <a:pt x="835" y="262"/>
                  <a:pt x="827" y="287"/>
                  <a:pt x="821" y="299"/>
                </a:cubicBezTo>
                <a:cubicBezTo>
                  <a:pt x="820" y="301"/>
                  <a:pt x="819" y="302"/>
                  <a:pt x="818" y="304"/>
                </a:cubicBezTo>
                <a:lnTo>
                  <a:pt x="809" y="316"/>
                </a:lnTo>
                <a:lnTo>
                  <a:pt x="916" y="327"/>
                </a:lnTo>
                <a:cubicBezTo>
                  <a:pt x="918" y="327"/>
                  <a:pt x="919" y="327"/>
                  <a:pt x="921" y="327"/>
                </a:cubicBezTo>
                <a:cubicBezTo>
                  <a:pt x="925" y="327"/>
                  <a:pt x="930" y="327"/>
                  <a:pt x="934" y="325"/>
                </a:cubicBezTo>
                <a:lnTo>
                  <a:pt x="1098" y="270"/>
                </a:lnTo>
                <a:cubicBezTo>
                  <a:pt x="1119" y="263"/>
                  <a:pt x="1131" y="239"/>
                  <a:pt x="1124" y="217"/>
                </a:cubicBezTo>
                <a:close/>
                <a:moveTo>
                  <a:pt x="275" y="301"/>
                </a:moveTo>
                <a:lnTo>
                  <a:pt x="262" y="315"/>
                </a:lnTo>
                <a:lnTo>
                  <a:pt x="199" y="262"/>
                </a:lnTo>
                <a:lnTo>
                  <a:pt x="212" y="247"/>
                </a:lnTo>
                <a:cubicBezTo>
                  <a:pt x="215" y="243"/>
                  <a:pt x="220" y="241"/>
                  <a:pt x="225" y="243"/>
                </a:cubicBezTo>
                <a:cubicBezTo>
                  <a:pt x="225" y="249"/>
                  <a:pt x="227" y="254"/>
                  <a:pt x="229" y="260"/>
                </a:cubicBezTo>
                <a:cubicBezTo>
                  <a:pt x="237" y="274"/>
                  <a:pt x="251" y="283"/>
                  <a:pt x="267" y="283"/>
                </a:cubicBezTo>
                <a:cubicBezTo>
                  <a:pt x="269" y="283"/>
                  <a:pt x="271" y="282"/>
                  <a:pt x="273" y="282"/>
                </a:cubicBezTo>
                <a:lnTo>
                  <a:pt x="274" y="283"/>
                </a:lnTo>
                <a:cubicBezTo>
                  <a:pt x="276" y="285"/>
                  <a:pt x="278" y="288"/>
                  <a:pt x="278" y="291"/>
                </a:cubicBezTo>
                <a:cubicBezTo>
                  <a:pt x="278" y="295"/>
                  <a:pt x="277" y="298"/>
                  <a:pt x="275" y="301"/>
                </a:cubicBezTo>
                <a:close/>
                <a:moveTo>
                  <a:pt x="178" y="394"/>
                </a:moveTo>
                <a:lnTo>
                  <a:pt x="135" y="358"/>
                </a:lnTo>
                <a:lnTo>
                  <a:pt x="166" y="322"/>
                </a:lnTo>
                <a:lnTo>
                  <a:pt x="208" y="358"/>
                </a:lnTo>
                <a:lnTo>
                  <a:pt x="178" y="394"/>
                </a:lnTo>
                <a:close/>
                <a:moveTo>
                  <a:pt x="816" y="577"/>
                </a:moveTo>
                <a:lnTo>
                  <a:pt x="621" y="507"/>
                </a:lnTo>
                <a:lnTo>
                  <a:pt x="613" y="504"/>
                </a:lnTo>
                <a:lnTo>
                  <a:pt x="590" y="496"/>
                </a:lnTo>
                <a:cubicBezTo>
                  <a:pt x="579" y="491"/>
                  <a:pt x="573" y="479"/>
                  <a:pt x="577" y="467"/>
                </a:cubicBezTo>
                <a:cubicBezTo>
                  <a:pt x="582" y="454"/>
                  <a:pt x="595" y="447"/>
                  <a:pt x="608" y="452"/>
                </a:cubicBezTo>
                <a:lnTo>
                  <a:pt x="649" y="466"/>
                </a:lnTo>
                <a:lnTo>
                  <a:pt x="772" y="287"/>
                </a:lnTo>
                <a:lnTo>
                  <a:pt x="746" y="275"/>
                </a:lnTo>
                <a:lnTo>
                  <a:pt x="682" y="313"/>
                </a:lnTo>
                <a:lnTo>
                  <a:pt x="693" y="193"/>
                </a:lnTo>
                <a:cubicBezTo>
                  <a:pt x="672" y="182"/>
                  <a:pt x="641" y="166"/>
                  <a:pt x="616" y="161"/>
                </a:cubicBezTo>
                <a:lnTo>
                  <a:pt x="464" y="110"/>
                </a:lnTo>
                <a:cubicBezTo>
                  <a:pt x="454" y="106"/>
                  <a:pt x="442" y="107"/>
                  <a:pt x="432" y="112"/>
                </a:cubicBezTo>
                <a:lnTo>
                  <a:pt x="248" y="203"/>
                </a:lnTo>
                <a:cubicBezTo>
                  <a:pt x="245" y="205"/>
                  <a:pt x="242" y="207"/>
                  <a:pt x="239" y="210"/>
                </a:cubicBezTo>
                <a:cubicBezTo>
                  <a:pt x="220" y="203"/>
                  <a:pt x="198" y="207"/>
                  <a:pt x="184" y="223"/>
                </a:cubicBezTo>
                <a:lnTo>
                  <a:pt x="172" y="238"/>
                </a:lnTo>
                <a:lnTo>
                  <a:pt x="154" y="224"/>
                </a:lnTo>
                <a:lnTo>
                  <a:pt x="145" y="216"/>
                </a:lnTo>
                <a:cubicBezTo>
                  <a:pt x="131" y="204"/>
                  <a:pt x="111" y="206"/>
                  <a:pt x="99" y="219"/>
                </a:cubicBezTo>
                <a:lnTo>
                  <a:pt x="12" y="322"/>
                </a:lnTo>
                <a:cubicBezTo>
                  <a:pt x="0" y="336"/>
                  <a:pt x="2" y="356"/>
                  <a:pt x="16" y="368"/>
                </a:cubicBezTo>
                <a:lnTo>
                  <a:pt x="25" y="376"/>
                </a:lnTo>
                <a:lnTo>
                  <a:pt x="178" y="506"/>
                </a:lnTo>
                <a:lnTo>
                  <a:pt x="187" y="513"/>
                </a:lnTo>
                <a:cubicBezTo>
                  <a:pt x="200" y="525"/>
                  <a:pt x="221" y="523"/>
                  <a:pt x="232" y="510"/>
                </a:cubicBezTo>
                <a:lnTo>
                  <a:pt x="320" y="407"/>
                </a:lnTo>
                <a:cubicBezTo>
                  <a:pt x="331" y="393"/>
                  <a:pt x="330" y="373"/>
                  <a:pt x="316" y="361"/>
                </a:cubicBezTo>
                <a:lnTo>
                  <a:pt x="307" y="354"/>
                </a:lnTo>
                <a:lnTo>
                  <a:pt x="290" y="339"/>
                </a:lnTo>
                <a:lnTo>
                  <a:pt x="302" y="324"/>
                </a:lnTo>
                <a:cubicBezTo>
                  <a:pt x="311" y="314"/>
                  <a:pt x="315" y="301"/>
                  <a:pt x="314" y="289"/>
                </a:cubicBezTo>
                <a:cubicBezTo>
                  <a:pt x="313" y="281"/>
                  <a:pt x="311" y="274"/>
                  <a:pt x="307" y="268"/>
                </a:cubicBezTo>
                <a:lnTo>
                  <a:pt x="454" y="195"/>
                </a:lnTo>
                <a:lnTo>
                  <a:pt x="553" y="228"/>
                </a:lnTo>
                <a:lnTo>
                  <a:pt x="454" y="473"/>
                </a:lnTo>
                <a:cubicBezTo>
                  <a:pt x="445" y="494"/>
                  <a:pt x="439" y="513"/>
                  <a:pt x="444" y="531"/>
                </a:cubicBezTo>
                <a:cubicBezTo>
                  <a:pt x="448" y="549"/>
                  <a:pt x="460" y="564"/>
                  <a:pt x="479" y="571"/>
                </a:cubicBezTo>
                <a:lnTo>
                  <a:pt x="712" y="654"/>
                </a:lnTo>
                <a:lnTo>
                  <a:pt x="574" y="845"/>
                </a:lnTo>
                <a:cubicBezTo>
                  <a:pt x="557" y="869"/>
                  <a:pt x="562" y="903"/>
                  <a:pt x="586" y="920"/>
                </a:cubicBezTo>
                <a:cubicBezTo>
                  <a:pt x="596" y="927"/>
                  <a:pt x="607" y="931"/>
                  <a:pt x="618" y="931"/>
                </a:cubicBezTo>
                <a:cubicBezTo>
                  <a:pt x="635" y="931"/>
                  <a:pt x="651" y="923"/>
                  <a:pt x="662" y="908"/>
                </a:cubicBezTo>
                <a:lnTo>
                  <a:pt x="842" y="659"/>
                </a:lnTo>
                <a:cubicBezTo>
                  <a:pt x="851" y="645"/>
                  <a:pt x="854" y="628"/>
                  <a:pt x="849" y="611"/>
                </a:cubicBezTo>
                <a:cubicBezTo>
                  <a:pt x="844" y="595"/>
                  <a:pt x="832" y="582"/>
                  <a:pt x="816" y="577"/>
                </a:cubicBezTo>
                <a:close/>
                <a:moveTo>
                  <a:pt x="416" y="578"/>
                </a:moveTo>
                <a:lnTo>
                  <a:pt x="343" y="758"/>
                </a:lnTo>
                <a:lnTo>
                  <a:pt x="108" y="980"/>
                </a:lnTo>
                <a:cubicBezTo>
                  <a:pt x="87" y="1001"/>
                  <a:pt x="86" y="1035"/>
                  <a:pt x="106" y="1056"/>
                </a:cubicBezTo>
                <a:cubicBezTo>
                  <a:pt x="117" y="1067"/>
                  <a:pt x="131" y="1073"/>
                  <a:pt x="146" y="1073"/>
                </a:cubicBezTo>
                <a:cubicBezTo>
                  <a:pt x="159" y="1073"/>
                  <a:pt x="172" y="1068"/>
                  <a:pt x="183" y="1058"/>
                </a:cubicBezTo>
                <a:lnTo>
                  <a:pt x="425" y="828"/>
                </a:lnTo>
                <a:cubicBezTo>
                  <a:pt x="431" y="823"/>
                  <a:pt x="435" y="816"/>
                  <a:pt x="438" y="809"/>
                </a:cubicBezTo>
                <a:lnTo>
                  <a:pt x="513" y="624"/>
                </a:lnTo>
                <a:cubicBezTo>
                  <a:pt x="493" y="623"/>
                  <a:pt x="476" y="620"/>
                  <a:pt x="464" y="614"/>
                </a:cubicBezTo>
                <a:cubicBezTo>
                  <a:pt x="442" y="604"/>
                  <a:pt x="426" y="591"/>
                  <a:pt x="416" y="578"/>
                </a:cubicBezTo>
                <a:close/>
                <a:moveTo>
                  <a:pt x="741" y="195"/>
                </a:moveTo>
                <a:cubicBezTo>
                  <a:pt x="789" y="220"/>
                  <a:pt x="847" y="201"/>
                  <a:pt x="871" y="154"/>
                </a:cubicBezTo>
                <a:cubicBezTo>
                  <a:pt x="895" y="107"/>
                  <a:pt x="877" y="49"/>
                  <a:pt x="830" y="24"/>
                </a:cubicBezTo>
                <a:cubicBezTo>
                  <a:pt x="782" y="0"/>
                  <a:pt x="724" y="19"/>
                  <a:pt x="700" y="66"/>
                </a:cubicBezTo>
                <a:cubicBezTo>
                  <a:pt x="676" y="113"/>
                  <a:pt x="694" y="171"/>
                  <a:pt x="741" y="1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险管理控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Rectangle 20"/>
          <p:cNvSpPr/>
          <p:nvPr/>
        </p:nvSpPr>
        <p:spPr>
          <a:xfrm>
            <a:off x="3754440" y="148896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Rectangle 21"/>
          <p:cNvSpPr/>
          <p:nvPr/>
        </p:nvSpPr>
        <p:spPr>
          <a:xfrm>
            <a:off x="3767040" y="38988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Rectangle 22"/>
          <p:cNvSpPr/>
          <p:nvPr/>
        </p:nvSpPr>
        <p:spPr>
          <a:xfrm>
            <a:off x="8528040" y="1479600"/>
            <a:ext cx="2316240" cy="23097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Rectangle 23"/>
          <p:cNvSpPr/>
          <p:nvPr/>
        </p:nvSpPr>
        <p:spPr>
          <a:xfrm>
            <a:off x="8542440" y="3890880"/>
            <a:ext cx="2316240" cy="2309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5" name="图片 11" descr=""/>
          <p:cNvPicPr/>
          <p:nvPr/>
        </p:nvPicPr>
        <p:blipFill>
          <a:blip r:embed="rId1"/>
          <a:stretch/>
        </p:blipFill>
        <p:spPr>
          <a:xfrm>
            <a:off x="1360440" y="1494000"/>
            <a:ext cx="2328840" cy="230472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2" descr=""/>
          <p:cNvPicPr/>
          <p:nvPr/>
        </p:nvPicPr>
        <p:blipFill>
          <a:blip r:embed="rId2"/>
          <a:stretch/>
        </p:blipFill>
        <p:spPr>
          <a:xfrm>
            <a:off x="1373040" y="3909960"/>
            <a:ext cx="2328840" cy="229860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3" descr=""/>
          <p:cNvPicPr/>
          <p:nvPr/>
        </p:nvPicPr>
        <p:blipFill>
          <a:blip r:embed="rId3"/>
          <a:stretch/>
        </p:blipFill>
        <p:spPr>
          <a:xfrm>
            <a:off x="6148440" y="3895560"/>
            <a:ext cx="2328840" cy="229896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4" descr=""/>
          <p:cNvPicPr/>
          <p:nvPr/>
        </p:nvPicPr>
        <p:blipFill>
          <a:blip r:embed="rId4"/>
          <a:stretch/>
        </p:blipFill>
        <p:spPr>
          <a:xfrm>
            <a:off x="6135840" y="1482840"/>
            <a:ext cx="2328840" cy="2305080"/>
          </a:xfrm>
          <a:prstGeom prst="rect">
            <a:avLst/>
          </a:prstGeom>
          <a:ln w="0">
            <a:noFill/>
          </a:ln>
        </p:spPr>
      </p:pic>
      <p:sp>
        <p:nvSpPr>
          <p:cNvPr id="1409" name="矩形 15"/>
          <p:cNvSpPr/>
          <p:nvPr/>
        </p:nvSpPr>
        <p:spPr>
          <a:xfrm>
            <a:off x="4181400" y="173988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矩形 16"/>
          <p:cNvSpPr/>
          <p:nvPr/>
        </p:nvSpPr>
        <p:spPr>
          <a:xfrm>
            <a:off x="8962920" y="173988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矩形 17"/>
          <p:cNvSpPr/>
          <p:nvPr/>
        </p:nvSpPr>
        <p:spPr>
          <a:xfrm>
            <a:off x="4181400" y="4178160"/>
            <a:ext cx="14493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8962920" y="4178160"/>
            <a:ext cx="1447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3" name="组合 19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14" name="椭圆 20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等腰三角形 21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矩形 6"/>
          <p:cNvSpPr/>
          <p:nvPr/>
        </p:nvSpPr>
        <p:spPr>
          <a:xfrm>
            <a:off x="817560" y="42372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盈利能力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Flowchart: Manual Input 11"/>
          <p:cNvSpPr/>
          <p:nvPr/>
        </p:nvSpPr>
        <p:spPr>
          <a:xfrm>
            <a:off x="1104840" y="2424240"/>
            <a:ext cx="24544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Flowchart: Manual Input 15"/>
          <p:cNvSpPr/>
          <p:nvPr/>
        </p:nvSpPr>
        <p:spPr>
          <a:xfrm flipH="1">
            <a:off x="36205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Flowchart: Manual Input 21"/>
          <p:cNvSpPr/>
          <p:nvPr/>
        </p:nvSpPr>
        <p:spPr>
          <a:xfrm>
            <a:off x="6135840" y="2424240"/>
            <a:ext cx="2452680" cy="1527120"/>
          </a:xfrm>
          <a:prstGeom prst="flowChartManualInpu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Flowchart: Manual Input 29"/>
          <p:cNvSpPr/>
          <p:nvPr/>
        </p:nvSpPr>
        <p:spPr>
          <a:xfrm flipH="1">
            <a:off x="8649720" y="2424240"/>
            <a:ext cx="2452680" cy="1525320"/>
          </a:xfrm>
          <a:prstGeom prst="flowChartManualInpu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TextBox 13"/>
          <p:cNvSpPr/>
          <p:nvPr/>
        </p:nvSpPr>
        <p:spPr>
          <a:xfrm>
            <a:off x="1163520" y="4378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销售毛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TextBox 13"/>
          <p:cNvSpPr/>
          <p:nvPr/>
        </p:nvSpPr>
        <p:spPr>
          <a:xfrm>
            <a:off x="1512720" y="4673520"/>
            <a:ext cx="1675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TextBox 13"/>
          <p:cNvSpPr/>
          <p:nvPr/>
        </p:nvSpPr>
        <p:spPr>
          <a:xfrm>
            <a:off x="36781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销售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TextBox 13"/>
          <p:cNvSpPr/>
          <p:nvPr/>
        </p:nvSpPr>
        <p:spPr>
          <a:xfrm>
            <a:off x="40291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TextBox 13"/>
          <p:cNvSpPr/>
          <p:nvPr/>
        </p:nvSpPr>
        <p:spPr>
          <a:xfrm>
            <a:off x="61927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资产净利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TextBox 13"/>
          <p:cNvSpPr/>
          <p:nvPr/>
        </p:nvSpPr>
        <p:spPr>
          <a:xfrm>
            <a:off x="65437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TextBox 13"/>
          <p:cNvSpPr/>
          <p:nvPr/>
        </p:nvSpPr>
        <p:spPr>
          <a:xfrm>
            <a:off x="8707320" y="4378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净值报酬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TextBox 13"/>
          <p:cNvSpPr/>
          <p:nvPr/>
        </p:nvSpPr>
        <p:spPr>
          <a:xfrm>
            <a:off x="9058320" y="46735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TextBox 13"/>
          <p:cNvSpPr/>
          <p:nvPr/>
        </p:nvSpPr>
        <p:spPr>
          <a:xfrm>
            <a:off x="132552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TextBox 13"/>
          <p:cNvSpPr/>
          <p:nvPr/>
        </p:nvSpPr>
        <p:spPr>
          <a:xfrm>
            <a:off x="38577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Box 13"/>
          <p:cNvSpPr/>
          <p:nvPr/>
        </p:nvSpPr>
        <p:spPr>
          <a:xfrm>
            <a:off x="634536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TextBox 13"/>
          <p:cNvSpPr/>
          <p:nvPr/>
        </p:nvSpPr>
        <p:spPr>
          <a:xfrm>
            <a:off x="8879040" y="3281400"/>
            <a:ext cx="201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6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1437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等腰三角形 4"/>
          <p:cNvSpPr/>
          <p:nvPr/>
        </p:nvSpPr>
        <p:spPr>
          <a:xfrm>
            <a:off x="3267000" y="4229280"/>
            <a:ext cx="3219480" cy="2628720"/>
          </a:xfrm>
          <a:custGeom>
            <a:avLst/>
            <a:gdLst/>
            <a:ahLst/>
            <a:rect l="l" t="t" r="r" b="b"/>
            <a:pathLst>
              <a:path w="3219450" h="2628900">
                <a:moveTo>
                  <a:pt x="0" y="2628900"/>
                </a:moveTo>
                <a:lnTo>
                  <a:pt x="1381125" y="0"/>
                </a:lnTo>
                <a:lnTo>
                  <a:pt x="3219450" y="2628900"/>
                </a:lnTo>
                <a:lnTo>
                  <a:pt x="0" y="26289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平行四边形 3"/>
          <p:cNvSpPr/>
          <p:nvPr/>
        </p:nvSpPr>
        <p:spPr>
          <a:xfrm>
            <a:off x="-952560" y="0"/>
            <a:ext cx="7943760" cy="6858000"/>
          </a:xfrm>
          <a:prstGeom prst="parallelogram">
            <a:avLst>
              <a:gd name="adj" fmla="val -504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文本框 5"/>
          <p:cNvSpPr/>
          <p:nvPr/>
        </p:nvSpPr>
        <p:spPr>
          <a:xfrm>
            <a:off x="2290680" y="2433600"/>
            <a:ext cx="165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6"/>
          <p:cNvSpPr/>
          <p:nvPr/>
        </p:nvSpPr>
        <p:spPr>
          <a:xfrm>
            <a:off x="1278000" y="307980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情况概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12"/>
          <p:cNvGrpSpPr/>
          <p:nvPr/>
        </p:nvGrpSpPr>
        <p:grpSpPr>
          <a:xfrm>
            <a:off x="7112160" y="1932120"/>
            <a:ext cx="733320" cy="520560"/>
            <a:chOff x="7112160" y="1932120"/>
            <a:chExt cx="733320" cy="520560"/>
          </a:xfrm>
        </p:grpSpPr>
        <p:grpSp>
          <p:nvGrpSpPr>
            <p:cNvPr id="627" name="组合 10"/>
            <p:cNvGrpSpPr/>
            <p:nvPr/>
          </p:nvGrpSpPr>
          <p:grpSpPr>
            <a:xfrm>
              <a:off x="7112160" y="1962720"/>
              <a:ext cx="619200" cy="472320"/>
              <a:chOff x="7112160" y="1962720"/>
              <a:chExt cx="619200" cy="472320"/>
            </a:xfrm>
          </p:grpSpPr>
          <p:sp>
            <p:nvSpPr>
              <p:cNvPr id="628" name="平行四边形 9"/>
              <p:cNvSpPr/>
              <p:nvPr/>
            </p:nvSpPr>
            <p:spPr>
              <a:xfrm>
                <a:off x="7134120" y="2016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平行四边形 8"/>
              <p:cNvSpPr/>
              <p:nvPr/>
            </p:nvSpPr>
            <p:spPr>
              <a:xfrm>
                <a:off x="7112160" y="1962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文本框 11"/>
            <p:cNvSpPr/>
            <p:nvPr/>
          </p:nvSpPr>
          <p:spPr>
            <a:xfrm>
              <a:off x="7214400" y="1932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1" name="组合 13"/>
          <p:cNvGrpSpPr/>
          <p:nvPr/>
        </p:nvGrpSpPr>
        <p:grpSpPr>
          <a:xfrm>
            <a:off x="7112160" y="2693880"/>
            <a:ext cx="733320" cy="520560"/>
            <a:chOff x="7112160" y="2693880"/>
            <a:chExt cx="733320" cy="520560"/>
          </a:xfrm>
        </p:grpSpPr>
        <p:grpSp>
          <p:nvGrpSpPr>
            <p:cNvPr id="632" name="组合 14"/>
            <p:cNvGrpSpPr/>
            <p:nvPr/>
          </p:nvGrpSpPr>
          <p:grpSpPr>
            <a:xfrm>
              <a:off x="7112160" y="2724480"/>
              <a:ext cx="619200" cy="472680"/>
              <a:chOff x="7112160" y="2724480"/>
              <a:chExt cx="619200" cy="472680"/>
            </a:xfrm>
          </p:grpSpPr>
          <p:sp>
            <p:nvSpPr>
              <p:cNvPr id="633" name="平行四边形 16"/>
              <p:cNvSpPr/>
              <p:nvPr/>
            </p:nvSpPr>
            <p:spPr>
              <a:xfrm>
                <a:off x="7134120" y="2778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平行四边形 17"/>
              <p:cNvSpPr/>
              <p:nvPr/>
            </p:nvSpPr>
            <p:spPr>
              <a:xfrm>
                <a:off x="7112160" y="2724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文本框 15"/>
            <p:cNvSpPr/>
            <p:nvPr/>
          </p:nvSpPr>
          <p:spPr>
            <a:xfrm>
              <a:off x="7214400" y="2693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组合 18"/>
          <p:cNvGrpSpPr/>
          <p:nvPr/>
        </p:nvGrpSpPr>
        <p:grpSpPr>
          <a:xfrm>
            <a:off x="7112160" y="3456000"/>
            <a:ext cx="733320" cy="520560"/>
            <a:chOff x="7112160" y="3456000"/>
            <a:chExt cx="733320" cy="520560"/>
          </a:xfrm>
        </p:grpSpPr>
        <p:grpSp>
          <p:nvGrpSpPr>
            <p:cNvPr id="637" name="组合 19"/>
            <p:cNvGrpSpPr/>
            <p:nvPr/>
          </p:nvGrpSpPr>
          <p:grpSpPr>
            <a:xfrm>
              <a:off x="7112160" y="3486600"/>
              <a:ext cx="619200" cy="472320"/>
              <a:chOff x="7112160" y="3486600"/>
              <a:chExt cx="619200" cy="472320"/>
            </a:xfrm>
          </p:grpSpPr>
          <p:sp>
            <p:nvSpPr>
              <p:cNvPr id="638" name="平行四边形 21"/>
              <p:cNvSpPr/>
              <p:nvPr/>
            </p:nvSpPr>
            <p:spPr>
              <a:xfrm>
                <a:off x="7134120" y="354024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平行四边形 22"/>
              <p:cNvSpPr/>
              <p:nvPr/>
            </p:nvSpPr>
            <p:spPr>
              <a:xfrm>
                <a:off x="7112160" y="348660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0" name="文本框 20"/>
            <p:cNvSpPr/>
            <p:nvPr/>
          </p:nvSpPr>
          <p:spPr>
            <a:xfrm>
              <a:off x="7214400" y="345600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组合 23"/>
          <p:cNvGrpSpPr/>
          <p:nvPr/>
        </p:nvGrpSpPr>
        <p:grpSpPr>
          <a:xfrm>
            <a:off x="7112160" y="4218120"/>
            <a:ext cx="733320" cy="520560"/>
            <a:chOff x="7112160" y="4218120"/>
            <a:chExt cx="733320" cy="520560"/>
          </a:xfrm>
        </p:grpSpPr>
        <p:grpSp>
          <p:nvGrpSpPr>
            <p:cNvPr id="642" name="组合 24"/>
            <p:cNvGrpSpPr/>
            <p:nvPr/>
          </p:nvGrpSpPr>
          <p:grpSpPr>
            <a:xfrm>
              <a:off x="7112160" y="4248720"/>
              <a:ext cx="619200" cy="472320"/>
              <a:chOff x="7112160" y="4248720"/>
              <a:chExt cx="619200" cy="472320"/>
            </a:xfrm>
          </p:grpSpPr>
          <p:sp>
            <p:nvSpPr>
              <p:cNvPr id="643" name="平行四边形 26"/>
              <p:cNvSpPr/>
              <p:nvPr/>
            </p:nvSpPr>
            <p:spPr>
              <a:xfrm>
                <a:off x="7134120" y="430236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平行四边形 27"/>
              <p:cNvSpPr/>
              <p:nvPr/>
            </p:nvSpPr>
            <p:spPr>
              <a:xfrm>
                <a:off x="7112160" y="4248720"/>
                <a:ext cx="597240" cy="418680"/>
              </a:xfrm>
              <a:prstGeom prst="parallelogram">
                <a:avLst>
                  <a:gd name="adj" fmla="val 3995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5" name="文本框 25"/>
            <p:cNvSpPr/>
            <p:nvPr/>
          </p:nvSpPr>
          <p:spPr>
            <a:xfrm>
              <a:off x="7214400" y="421812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28"/>
          <p:cNvGrpSpPr/>
          <p:nvPr/>
        </p:nvGrpSpPr>
        <p:grpSpPr>
          <a:xfrm>
            <a:off x="7112160" y="4979880"/>
            <a:ext cx="733320" cy="520560"/>
            <a:chOff x="7112160" y="4979880"/>
            <a:chExt cx="733320" cy="520560"/>
          </a:xfrm>
        </p:grpSpPr>
        <p:grpSp>
          <p:nvGrpSpPr>
            <p:cNvPr id="647" name="组合 29"/>
            <p:cNvGrpSpPr/>
            <p:nvPr/>
          </p:nvGrpSpPr>
          <p:grpSpPr>
            <a:xfrm>
              <a:off x="7112160" y="5010480"/>
              <a:ext cx="619200" cy="472680"/>
              <a:chOff x="7112160" y="5010480"/>
              <a:chExt cx="619200" cy="472680"/>
            </a:xfrm>
          </p:grpSpPr>
          <p:sp>
            <p:nvSpPr>
              <p:cNvPr id="648" name="平行四边形 31"/>
              <p:cNvSpPr/>
              <p:nvPr/>
            </p:nvSpPr>
            <p:spPr>
              <a:xfrm>
                <a:off x="7134120" y="506412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平行四边形 32"/>
              <p:cNvSpPr/>
              <p:nvPr/>
            </p:nvSpPr>
            <p:spPr>
              <a:xfrm>
                <a:off x="7112160" y="5010480"/>
                <a:ext cx="597240" cy="419040"/>
              </a:xfrm>
              <a:prstGeom prst="parallelogram">
                <a:avLst>
                  <a:gd name="adj" fmla="val 399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0" name="文本框 30"/>
            <p:cNvSpPr/>
            <p:nvPr/>
          </p:nvSpPr>
          <p:spPr>
            <a:xfrm>
              <a:off x="7214400" y="4979880"/>
              <a:ext cx="63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平行四边形 33"/>
          <p:cNvSpPr/>
          <p:nvPr/>
        </p:nvSpPr>
        <p:spPr>
          <a:xfrm>
            <a:off x="7756560" y="20304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8163000" y="20336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项目摘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平行四边形 35"/>
          <p:cNvSpPr/>
          <p:nvPr/>
        </p:nvSpPr>
        <p:spPr>
          <a:xfrm>
            <a:off x="7756560" y="277812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8163000" y="27813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平行四边形 37"/>
          <p:cNvSpPr/>
          <p:nvPr/>
        </p:nvSpPr>
        <p:spPr>
          <a:xfrm>
            <a:off x="7756560" y="352908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8163000" y="35337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核心优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平行四边形 39"/>
          <p:cNvSpPr/>
          <p:nvPr/>
        </p:nvSpPr>
        <p:spPr>
          <a:xfrm>
            <a:off x="7756560" y="430056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8163000" y="4303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战略目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平行四边形 41"/>
          <p:cNvSpPr/>
          <p:nvPr/>
        </p:nvSpPr>
        <p:spPr>
          <a:xfrm>
            <a:off x="7756560" y="5056200"/>
            <a:ext cx="2165400" cy="392040"/>
          </a:xfrm>
          <a:prstGeom prst="parallelogram">
            <a:avLst>
              <a:gd name="adj" fmla="val 37973"/>
            </a:avLst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8163000" y="505944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营销计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等腰三角形 4"/>
          <p:cNvSpPr/>
          <p:nvPr/>
        </p:nvSpPr>
        <p:spPr>
          <a:xfrm>
            <a:off x="3174840" y="0"/>
            <a:ext cx="3540240" cy="6858000"/>
          </a:xfrm>
          <a:custGeom>
            <a:avLst/>
            <a:gdLst/>
            <a:ahLst/>
            <a:rect l="l" t="t" r="r" b="b"/>
            <a:pathLst>
              <a:path w="3540538" h="6858000">
                <a:moveTo>
                  <a:pt x="819108" y="6858000"/>
                </a:moveTo>
                <a:cubicBezTo>
                  <a:pt x="-910511" y="4789714"/>
                  <a:pt x="146615" y="2503714"/>
                  <a:pt x="3540538" y="0"/>
                </a:cubicBezTo>
                <a:cubicBezTo>
                  <a:pt x="-859709" y="3490687"/>
                  <a:pt x="386102" y="5515430"/>
                  <a:pt x="1689967" y="6858000"/>
                </a:cubicBezTo>
                <a:lnTo>
                  <a:pt x="819108" y="685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文本框 5"/>
          <p:cNvSpPr/>
          <p:nvPr/>
        </p:nvSpPr>
        <p:spPr>
          <a:xfrm>
            <a:off x="9878040" y="1920960"/>
            <a:ext cx="204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20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文本框 6"/>
          <p:cNvSpPr/>
          <p:nvPr/>
        </p:nvSpPr>
        <p:spPr>
          <a:xfrm>
            <a:off x="5986800" y="27687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参与指导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8"/>
          <p:cNvSpPr/>
          <p:nvPr/>
        </p:nvSpPr>
        <p:spPr>
          <a:xfrm>
            <a:off x="9769320" y="393372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 演示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3" name="图片 8" descr=""/>
          <p:cNvPicPr/>
          <p:nvPr/>
        </p:nvPicPr>
        <p:blipFill>
          <a:blip r:embed="rId1"/>
          <a:stretch/>
        </p:blipFill>
        <p:spPr>
          <a:xfrm>
            <a:off x="255600" y="249120"/>
            <a:ext cx="150012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组合 3" descr=""/>
          <p:cNvPicPr/>
          <p:nvPr/>
        </p:nvPicPr>
        <p:blipFill>
          <a:blip r:embed="rId1"/>
          <a:stretch/>
        </p:blipFill>
        <p:spPr>
          <a:xfrm>
            <a:off x="6784920" y="34686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445" name="Freeform 7"/>
          <p:cNvSpPr/>
          <p:nvPr/>
        </p:nvSpPr>
        <p:spPr>
          <a:xfrm>
            <a:off x="5683320" y="1849320"/>
            <a:ext cx="274680" cy="189000"/>
          </a:xfrm>
          <a:custGeom>
            <a:avLst/>
            <a:gdLst/>
            <a:ahLst/>
            <a:rect l="l" t="t" r="r" b="b"/>
            <a:pathLst>
              <a:path w="288" h="197">
                <a:moveTo>
                  <a:pt x="255" y="143"/>
                </a:moveTo>
                <a:cubicBezTo>
                  <a:pt x="255" y="143"/>
                  <a:pt x="255" y="143"/>
                  <a:pt x="255" y="143"/>
                </a:cubicBezTo>
                <a:cubicBezTo>
                  <a:pt x="255" y="64"/>
                  <a:pt x="191" y="0"/>
                  <a:pt x="113" y="0"/>
                </a:cubicBezTo>
                <a:cubicBezTo>
                  <a:pt x="67" y="0"/>
                  <a:pt x="26" y="22"/>
                  <a:pt x="0" y="56"/>
                </a:cubicBezTo>
                <a:cubicBezTo>
                  <a:pt x="12" y="68"/>
                  <a:pt x="12" y="68"/>
                  <a:pt x="12" y="68"/>
                </a:cubicBezTo>
                <a:cubicBezTo>
                  <a:pt x="29" y="84"/>
                  <a:pt x="29" y="84"/>
                  <a:pt x="29" y="84"/>
                </a:cubicBezTo>
                <a:cubicBezTo>
                  <a:pt x="47" y="57"/>
                  <a:pt x="78" y="40"/>
                  <a:pt x="113" y="40"/>
                </a:cubicBezTo>
                <a:cubicBezTo>
                  <a:pt x="169" y="40"/>
                  <a:pt x="215" y="86"/>
                  <a:pt x="215" y="143"/>
                </a:cubicBezTo>
                <a:cubicBezTo>
                  <a:pt x="215" y="143"/>
                  <a:pt x="215" y="143"/>
                  <a:pt x="215" y="143"/>
                </a:cubicBezTo>
                <a:cubicBezTo>
                  <a:pt x="182" y="143"/>
                  <a:pt x="182" y="143"/>
                  <a:pt x="182" y="143"/>
                </a:cubicBezTo>
                <a:cubicBezTo>
                  <a:pt x="235" y="197"/>
                  <a:pt x="235" y="197"/>
                  <a:pt x="235" y="197"/>
                </a:cubicBezTo>
                <a:cubicBezTo>
                  <a:pt x="288" y="143"/>
                  <a:pt x="288" y="143"/>
                  <a:pt x="288" y="143"/>
                </a:cubicBezTo>
                <a:lnTo>
                  <a:pt x="255" y="14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Freeform 8"/>
          <p:cNvSpPr/>
          <p:nvPr/>
        </p:nvSpPr>
        <p:spPr>
          <a:xfrm>
            <a:off x="6234120" y="1822320"/>
            <a:ext cx="276120" cy="244440"/>
          </a:xfrm>
          <a:custGeom>
            <a:avLst/>
            <a:gdLst/>
            <a:ahLst/>
            <a:rect l="l" t="t" r="r" b="b"/>
            <a:pathLst>
              <a:path w="288" h="256">
                <a:moveTo>
                  <a:pt x="288" y="256"/>
                </a:moveTo>
                <a:cubicBezTo>
                  <a:pt x="288" y="256"/>
                  <a:pt x="288" y="256"/>
                  <a:pt x="288" y="255"/>
                </a:cubicBezTo>
                <a:cubicBezTo>
                  <a:pt x="288" y="140"/>
                  <a:pt x="194" y="47"/>
                  <a:pt x="79" y="47"/>
                </a:cubicBezTo>
                <a:cubicBezTo>
                  <a:pt x="79" y="47"/>
                  <a:pt x="78" y="47"/>
                  <a:pt x="78" y="47"/>
                </a:cubicBezTo>
                <a:cubicBezTo>
                  <a:pt x="78" y="0"/>
                  <a:pt x="78" y="0"/>
                  <a:pt x="78" y="0"/>
                </a:cubicBezTo>
                <a:cubicBezTo>
                  <a:pt x="0" y="78"/>
                  <a:pt x="0" y="78"/>
                  <a:pt x="0" y="78"/>
                </a:cubicBezTo>
                <a:cubicBezTo>
                  <a:pt x="78" y="156"/>
                  <a:pt x="78" y="156"/>
                  <a:pt x="78" y="156"/>
                </a:cubicBezTo>
                <a:cubicBezTo>
                  <a:pt x="78" y="155"/>
                  <a:pt x="78" y="155"/>
                  <a:pt x="78" y="155"/>
                </a:cubicBezTo>
                <a:cubicBezTo>
                  <a:pt x="78" y="105"/>
                  <a:pt x="78" y="105"/>
                  <a:pt x="78" y="105"/>
                </a:cubicBezTo>
                <a:cubicBezTo>
                  <a:pt x="78" y="105"/>
                  <a:pt x="79" y="105"/>
                  <a:pt x="79" y="105"/>
                </a:cubicBezTo>
                <a:cubicBezTo>
                  <a:pt x="162" y="105"/>
                  <a:pt x="230" y="172"/>
                  <a:pt x="230" y="255"/>
                </a:cubicBezTo>
                <a:cubicBezTo>
                  <a:pt x="230" y="256"/>
                  <a:pt x="230" y="256"/>
                  <a:pt x="230" y="256"/>
                </a:cubicBezTo>
                <a:lnTo>
                  <a:pt x="288" y="2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Freeform 9"/>
          <p:cNvSpPr/>
          <p:nvPr/>
        </p:nvSpPr>
        <p:spPr>
          <a:xfrm>
            <a:off x="10644120" y="5116680"/>
            <a:ext cx="276120" cy="2743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64" y="82"/>
                </a:moveTo>
                <a:cubicBezTo>
                  <a:pt x="224" y="82"/>
                  <a:pt x="224" y="82"/>
                  <a:pt x="224" y="82"/>
                </a:cubicBezTo>
                <a:cubicBezTo>
                  <a:pt x="225" y="82"/>
                  <a:pt x="226" y="83"/>
                  <a:pt x="227" y="83"/>
                </a:cubicBezTo>
                <a:cubicBezTo>
                  <a:pt x="168" y="134"/>
                  <a:pt x="168" y="134"/>
                  <a:pt x="168" y="134"/>
                </a:cubicBezTo>
                <a:cubicBezTo>
                  <a:pt x="160" y="140"/>
                  <a:pt x="160" y="140"/>
                  <a:pt x="160" y="140"/>
                </a:cubicBezTo>
                <a:cubicBezTo>
                  <a:pt x="144" y="153"/>
                  <a:pt x="144" y="153"/>
                  <a:pt x="144" y="153"/>
                </a:cubicBezTo>
                <a:cubicBezTo>
                  <a:pt x="129" y="140"/>
                  <a:pt x="129" y="140"/>
                  <a:pt x="129" y="140"/>
                </a:cubicBezTo>
                <a:cubicBezTo>
                  <a:pt x="121" y="134"/>
                  <a:pt x="121" y="134"/>
                  <a:pt x="121" y="134"/>
                </a:cubicBezTo>
                <a:cubicBezTo>
                  <a:pt x="61" y="83"/>
                  <a:pt x="61" y="83"/>
                  <a:pt x="61" y="83"/>
                </a:cubicBezTo>
                <a:cubicBezTo>
                  <a:pt x="62" y="83"/>
                  <a:pt x="63" y="82"/>
                  <a:pt x="64" y="82"/>
                </a:cubicBezTo>
                <a:close/>
                <a:moveTo>
                  <a:pt x="54" y="194"/>
                </a:moveTo>
                <a:cubicBezTo>
                  <a:pt x="54" y="93"/>
                  <a:pt x="54" y="93"/>
                  <a:pt x="54" y="93"/>
                </a:cubicBezTo>
                <a:cubicBezTo>
                  <a:pt x="54" y="92"/>
                  <a:pt x="54" y="91"/>
                  <a:pt x="54" y="90"/>
                </a:cubicBezTo>
                <a:cubicBezTo>
                  <a:pt x="113" y="141"/>
                  <a:pt x="113" y="141"/>
                  <a:pt x="113" y="141"/>
                </a:cubicBezTo>
                <a:cubicBezTo>
                  <a:pt x="54" y="197"/>
                  <a:pt x="54" y="197"/>
                  <a:pt x="54" y="197"/>
                </a:cubicBezTo>
                <a:cubicBezTo>
                  <a:pt x="54" y="196"/>
                  <a:pt x="54" y="195"/>
                  <a:pt x="54" y="194"/>
                </a:cubicBezTo>
                <a:close/>
                <a:moveTo>
                  <a:pt x="224" y="205"/>
                </a:moveTo>
                <a:cubicBezTo>
                  <a:pt x="64" y="205"/>
                  <a:pt x="64" y="205"/>
                  <a:pt x="64" y="205"/>
                </a:cubicBezTo>
                <a:cubicBezTo>
                  <a:pt x="63" y="205"/>
                  <a:pt x="62" y="205"/>
                  <a:pt x="61" y="204"/>
                </a:cubicBezTo>
                <a:cubicBezTo>
                  <a:pt x="121" y="147"/>
                  <a:pt x="121" y="147"/>
                  <a:pt x="121" y="147"/>
                </a:cubicBezTo>
                <a:cubicBezTo>
                  <a:pt x="144" y="166"/>
                  <a:pt x="144" y="166"/>
                  <a:pt x="144" y="166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227" y="204"/>
                  <a:pt x="227" y="204"/>
                  <a:pt x="227" y="204"/>
                </a:cubicBezTo>
                <a:cubicBezTo>
                  <a:pt x="226" y="205"/>
                  <a:pt x="225" y="205"/>
                  <a:pt x="224" y="205"/>
                </a:cubicBezTo>
                <a:close/>
                <a:moveTo>
                  <a:pt x="235" y="194"/>
                </a:moveTo>
                <a:cubicBezTo>
                  <a:pt x="235" y="195"/>
                  <a:pt x="234" y="196"/>
                  <a:pt x="234" y="197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91"/>
                  <a:pt x="235" y="92"/>
                  <a:pt x="235" y="93"/>
                </a:cubicBezTo>
                <a:lnTo>
                  <a:pt x="235" y="19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8" name="组合 9" descr=""/>
          <p:cNvPicPr/>
          <p:nvPr/>
        </p:nvPicPr>
        <p:blipFill>
          <a:blip r:embed="rId2"/>
          <a:stretch/>
        </p:blipFill>
        <p:spPr>
          <a:xfrm>
            <a:off x="1274760" y="180504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449" name="组合 12" descr=""/>
          <p:cNvPicPr/>
          <p:nvPr/>
        </p:nvPicPr>
        <p:blipFill>
          <a:blip r:embed="rId3"/>
          <a:stretch/>
        </p:blipFill>
        <p:spPr>
          <a:xfrm>
            <a:off x="1822320" y="62676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0" name="组合 19" descr=""/>
          <p:cNvPicPr/>
          <p:nvPr/>
        </p:nvPicPr>
        <p:blipFill>
          <a:blip r:embed="rId4"/>
          <a:stretch/>
        </p:blipFill>
        <p:spPr>
          <a:xfrm>
            <a:off x="4632480" y="4011480"/>
            <a:ext cx="171360" cy="274680"/>
          </a:xfrm>
          <a:prstGeom prst="rect">
            <a:avLst/>
          </a:prstGeom>
          <a:ln w="0">
            <a:noFill/>
          </a:ln>
        </p:spPr>
      </p:pic>
      <p:pic>
        <p:nvPicPr>
          <p:cNvPr id="1451" name="组合 24" descr=""/>
          <p:cNvPicPr/>
          <p:nvPr/>
        </p:nvPicPr>
        <p:blipFill>
          <a:blip r:embed="rId5"/>
          <a:stretch/>
        </p:blipFill>
        <p:spPr>
          <a:xfrm>
            <a:off x="5681520" y="240840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452" name="组合 32" descr=""/>
          <p:cNvPicPr/>
          <p:nvPr/>
        </p:nvPicPr>
        <p:blipFill>
          <a:blip r:embed="rId6"/>
          <a:stretch/>
        </p:blipFill>
        <p:spPr>
          <a:xfrm>
            <a:off x="5681520" y="4035600"/>
            <a:ext cx="274680" cy="225360"/>
          </a:xfrm>
          <a:prstGeom prst="rect">
            <a:avLst/>
          </a:prstGeom>
          <a:ln w="0">
            <a:noFill/>
          </a:ln>
        </p:spPr>
      </p:pic>
      <p:pic>
        <p:nvPicPr>
          <p:cNvPr id="1453" name="组合 37" descr=""/>
          <p:cNvPicPr/>
          <p:nvPr/>
        </p:nvPicPr>
        <p:blipFill>
          <a:blip r:embed="rId7"/>
          <a:stretch/>
        </p:blipFill>
        <p:spPr>
          <a:xfrm>
            <a:off x="8991720" y="566244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454" name="Freeform 36"/>
          <p:cNvSpPr/>
          <p:nvPr/>
        </p:nvSpPr>
        <p:spPr>
          <a:xfrm>
            <a:off x="8989920" y="2400480"/>
            <a:ext cx="276480" cy="18396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244" y="0"/>
                </a:moveTo>
                <a:cubicBezTo>
                  <a:pt x="44" y="0"/>
                  <a:pt x="44" y="0"/>
                  <a:pt x="44" y="0"/>
                </a:cubicBezTo>
                <a:cubicBezTo>
                  <a:pt x="18" y="0"/>
                  <a:pt x="0" y="18"/>
                  <a:pt x="0" y="44"/>
                </a:cubicBezTo>
                <a:cubicBezTo>
                  <a:pt x="0" y="148"/>
                  <a:pt x="0" y="148"/>
                  <a:pt x="0" y="148"/>
                </a:cubicBezTo>
                <a:cubicBezTo>
                  <a:pt x="0" y="175"/>
                  <a:pt x="18" y="192"/>
                  <a:pt x="44" y="192"/>
                </a:cubicBezTo>
                <a:cubicBezTo>
                  <a:pt x="244" y="192"/>
                  <a:pt x="244" y="192"/>
                  <a:pt x="244" y="192"/>
                </a:cubicBezTo>
                <a:cubicBezTo>
                  <a:pt x="271" y="192"/>
                  <a:pt x="288" y="175"/>
                  <a:pt x="288" y="148"/>
                </a:cubicBezTo>
                <a:cubicBezTo>
                  <a:pt x="288" y="44"/>
                  <a:pt x="288" y="44"/>
                  <a:pt x="288" y="44"/>
                </a:cubicBezTo>
                <a:cubicBezTo>
                  <a:pt x="288" y="18"/>
                  <a:pt x="271" y="0"/>
                  <a:pt x="244" y="0"/>
                </a:cubicBezTo>
                <a:close/>
                <a:moveTo>
                  <a:pt x="100" y="149"/>
                </a:moveTo>
                <a:cubicBezTo>
                  <a:pt x="100" y="43"/>
                  <a:pt x="100" y="43"/>
                  <a:pt x="100" y="43"/>
                </a:cubicBezTo>
                <a:cubicBezTo>
                  <a:pt x="206" y="96"/>
                  <a:pt x="206" y="96"/>
                  <a:pt x="206" y="96"/>
                </a:cubicBezTo>
                <a:lnTo>
                  <a:pt x="100" y="1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组合 42" descr=""/>
          <p:cNvPicPr/>
          <p:nvPr/>
        </p:nvPicPr>
        <p:blipFill>
          <a:blip r:embed="rId8"/>
          <a:stretch/>
        </p:blipFill>
        <p:spPr>
          <a:xfrm>
            <a:off x="1822320" y="3481560"/>
            <a:ext cx="274680" cy="231480"/>
          </a:xfrm>
          <a:prstGeom prst="rect">
            <a:avLst/>
          </a:prstGeom>
          <a:ln w="0">
            <a:noFill/>
          </a:ln>
        </p:spPr>
      </p:pic>
      <p:sp>
        <p:nvSpPr>
          <p:cNvPr id="1456" name="Freeform 44"/>
          <p:cNvSpPr/>
          <p:nvPr/>
        </p:nvSpPr>
        <p:spPr>
          <a:xfrm>
            <a:off x="10091880" y="2355840"/>
            <a:ext cx="277560" cy="277920"/>
          </a:xfrm>
          <a:custGeom>
            <a:avLst/>
            <a:gdLst/>
            <a:ahLst/>
            <a:rect l="l" t="t" r="r" b="b"/>
            <a:pathLst>
              <a:path w="175" h="175">
                <a:moveTo>
                  <a:pt x="0" y="93"/>
                </a:moveTo>
                <a:lnTo>
                  <a:pt x="82" y="93"/>
                </a:lnTo>
                <a:lnTo>
                  <a:pt x="82" y="175"/>
                </a:lnTo>
                <a:lnTo>
                  <a:pt x="175" y="0"/>
                </a:lnTo>
                <a:lnTo>
                  <a:pt x="0" y="9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7" name="组合 51" descr=""/>
          <p:cNvPicPr/>
          <p:nvPr/>
        </p:nvPicPr>
        <p:blipFill>
          <a:blip r:embed="rId9"/>
          <a:stretch/>
        </p:blipFill>
        <p:spPr>
          <a:xfrm>
            <a:off x="9558360" y="3456000"/>
            <a:ext cx="244440" cy="280800"/>
          </a:xfrm>
          <a:prstGeom prst="rect">
            <a:avLst/>
          </a:prstGeom>
          <a:ln w="0">
            <a:noFill/>
          </a:ln>
        </p:spPr>
      </p:pic>
      <p:sp>
        <p:nvSpPr>
          <p:cNvPr id="1458" name="Freeform 50"/>
          <p:cNvSpPr/>
          <p:nvPr/>
        </p:nvSpPr>
        <p:spPr>
          <a:xfrm>
            <a:off x="10093320" y="3535200"/>
            <a:ext cx="276120" cy="127080"/>
          </a:xfrm>
          <a:custGeom>
            <a:avLst/>
            <a:gdLst/>
            <a:ahLst/>
            <a:rect l="l" t="t" r="r" b="b"/>
            <a:pathLst>
              <a:path w="288" h="132">
                <a:moveTo>
                  <a:pt x="222" y="0"/>
                </a:moveTo>
                <a:cubicBezTo>
                  <a:pt x="186" y="0"/>
                  <a:pt x="156" y="30"/>
                  <a:pt x="156" y="66"/>
                </a:cubicBezTo>
                <a:cubicBezTo>
                  <a:pt x="156" y="80"/>
                  <a:pt x="161" y="93"/>
                  <a:pt x="168" y="104"/>
                </a:cubicBezTo>
                <a:cubicBezTo>
                  <a:pt x="119" y="104"/>
                  <a:pt x="119" y="104"/>
                  <a:pt x="119" y="104"/>
                </a:cubicBezTo>
                <a:cubicBezTo>
                  <a:pt x="127" y="93"/>
                  <a:pt x="131" y="80"/>
                  <a:pt x="131" y="66"/>
                </a:cubicBezTo>
                <a:cubicBezTo>
                  <a:pt x="131" y="30"/>
                  <a:pt x="102" y="0"/>
                  <a:pt x="66" y="0"/>
                </a:cubicBezTo>
                <a:cubicBezTo>
                  <a:pt x="29" y="0"/>
                  <a:pt x="0" y="30"/>
                  <a:pt x="0" y="66"/>
                </a:cubicBezTo>
                <a:cubicBezTo>
                  <a:pt x="0" y="102"/>
                  <a:pt x="29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66" y="132"/>
                  <a:pt x="66" y="132"/>
                  <a:pt x="66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22" y="132"/>
                  <a:pt x="222" y="132"/>
                  <a:pt x="222" y="132"/>
                </a:cubicBezTo>
                <a:cubicBezTo>
                  <a:pt x="258" y="132"/>
                  <a:pt x="288" y="102"/>
                  <a:pt x="288" y="66"/>
                </a:cubicBezTo>
                <a:cubicBezTo>
                  <a:pt x="288" y="30"/>
                  <a:pt x="258" y="0"/>
                  <a:pt x="222" y="0"/>
                </a:cubicBezTo>
                <a:close/>
                <a:moveTo>
                  <a:pt x="184" y="66"/>
                </a:moveTo>
                <a:cubicBezTo>
                  <a:pt x="184" y="45"/>
                  <a:pt x="201" y="28"/>
                  <a:pt x="222" y="28"/>
                </a:cubicBezTo>
                <a:cubicBezTo>
                  <a:pt x="243" y="28"/>
                  <a:pt x="260" y="45"/>
                  <a:pt x="260" y="66"/>
                </a:cubicBezTo>
                <a:cubicBezTo>
                  <a:pt x="260" y="87"/>
                  <a:pt x="243" y="104"/>
                  <a:pt x="222" y="104"/>
                </a:cubicBezTo>
                <a:cubicBezTo>
                  <a:pt x="201" y="104"/>
                  <a:pt x="184" y="87"/>
                  <a:pt x="184" y="66"/>
                </a:cubicBezTo>
                <a:close/>
                <a:moveTo>
                  <a:pt x="66" y="28"/>
                </a:moveTo>
                <a:cubicBezTo>
                  <a:pt x="86" y="28"/>
                  <a:pt x="103" y="45"/>
                  <a:pt x="103" y="66"/>
                </a:cubicBezTo>
                <a:cubicBezTo>
                  <a:pt x="103" y="87"/>
                  <a:pt x="86" y="104"/>
                  <a:pt x="66" y="104"/>
                </a:cubicBezTo>
                <a:cubicBezTo>
                  <a:pt x="45" y="104"/>
                  <a:pt x="28" y="87"/>
                  <a:pt x="28" y="66"/>
                </a:cubicBezTo>
                <a:cubicBezTo>
                  <a:pt x="28" y="45"/>
                  <a:pt x="45" y="28"/>
                  <a:pt x="66" y="2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Freeform 51"/>
          <p:cNvSpPr/>
          <p:nvPr/>
        </p:nvSpPr>
        <p:spPr>
          <a:xfrm>
            <a:off x="6784920" y="62164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0" y="0"/>
                </a:moveTo>
                <a:lnTo>
                  <a:pt x="0" y="174"/>
                </a:lnTo>
                <a:lnTo>
                  <a:pt x="174" y="174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7" y="87"/>
                </a:moveTo>
                <a:lnTo>
                  <a:pt x="87" y="87"/>
                </a:lnTo>
                <a:lnTo>
                  <a:pt x="87" y="17"/>
                </a:lnTo>
                <a:lnTo>
                  <a:pt x="157" y="17"/>
                </a:lnTo>
                <a:lnTo>
                  <a:pt x="157" y="87"/>
                </a:lnTo>
                <a:lnTo>
                  <a:pt x="87" y="87"/>
                </a:lnTo>
                <a:lnTo>
                  <a:pt x="87" y="157"/>
                </a:lnTo>
                <a:lnTo>
                  <a:pt x="17" y="157"/>
                </a:lnTo>
                <a:lnTo>
                  <a:pt x="17" y="8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0" name="组合 59" descr=""/>
          <p:cNvPicPr/>
          <p:nvPr/>
        </p:nvPicPr>
        <p:blipFill>
          <a:blip r:embed="rId10"/>
          <a:stretch/>
        </p:blipFill>
        <p:spPr>
          <a:xfrm>
            <a:off x="10644120" y="34560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461" name="组合 69" descr=""/>
          <p:cNvPicPr/>
          <p:nvPr/>
        </p:nvPicPr>
        <p:blipFill>
          <a:blip r:embed="rId11"/>
          <a:stretch/>
        </p:blipFill>
        <p:spPr>
          <a:xfrm>
            <a:off x="9564840" y="5662440"/>
            <a:ext cx="225360" cy="281160"/>
          </a:xfrm>
          <a:prstGeom prst="rect">
            <a:avLst/>
          </a:prstGeom>
          <a:ln w="0">
            <a:noFill/>
          </a:ln>
        </p:spPr>
      </p:pic>
      <p:sp>
        <p:nvSpPr>
          <p:cNvPr id="1462" name="Freeform 63"/>
          <p:cNvSpPr/>
          <p:nvPr/>
        </p:nvSpPr>
        <p:spPr>
          <a:xfrm>
            <a:off x="7327800" y="4572000"/>
            <a:ext cx="298440" cy="250920"/>
          </a:xfrm>
          <a:custGeom>
            <a:avLst/>
            <a:gdLst/>
            <a:ahLst/>
            <a:rect l="l" t="t" r="r" b="b"/>
            <a:pathLst>
              <a:path w="311" h="263">
                <a:moveTo>
                  <a:pt x="288" y="86"/>
                </a:moveTo>
                <a:cubicBezTo>
                  <a:pt x="266" y="26"/>
                  <a:pt x="186" y="0"/>
                  <a:pt x="109" y="29"/>
                </a:cubicBezTo>
                <a:cubicBezTo>
                  <a:pt x="32" y="57"/>
                  <a:pt x="0" y="120"/>
                  <a:pt x="11" y="171"/>
                </a:cubicBezTo>
                <a:cubicBezTo>
                  <a:pt x="15" y="187"/>
                  <a:pt x="17" y="202"/>
                  <a:pt x="32" y="224"/>
                </a:cubicBezTo>
                <a:cubicBezTo>
                  <a:pt x="34" y="228"/>
                  <a:pt x="52" y="248"/>
                  <a:pt x="71" y="252"/>
                </a:cubicBezTo>
                <a:cubicBezTo>
                  <a:pt x="118" y="263"/>
                  <a:pt x="158" y="155"/>
                  <a:pt x="181" y="167"/>
                </a:cubicBezTo>
                <a:cubicBezTo>
                  <a:pt x="203" y="179"/>
                  <a:pt x="154" y="241"/>
                  <a:pt x="181" y="241"/>
                </a:cubicBezTo>
                <a:cubicBezTo>
                  <a:pt x="193" y="241"/>
                  <a:pt x="204" y="236"/>
                  <a:pt x="216" y="231"/>
                </a:cubicBezTo>
                <a:cubicBezTo>
                  <a:pt x="293" y="203"/>
                  <a:pt x="311" y="146"/>
                  <a:pt x="288" y="86"/>
                </a:cubicBezTo>
                <a:close/>
                <a:moveTo>
                  <a:pt x="49" y="110"/>
                </a:moveTo>
                <a:cubicBezTo>
                  <a:pt x="49" y="110"/>
                  <a:pt x="57" y="101"/>
                  <a:pt x="75" y="109"/>
                </a:cubicBezTo>
                <a:cubicBezTo>
                  <a:pt x="92" y="117"/>
                  <a:pt x="84" y="116"/>
                  <a:pt x="86" y="121"/>
                </a:cubicBezTo>
                <a:cubicBezTo>
                  <a:pt x="87" y="126"/>
                  <a:pt x="71" y="137"/>
                  <a:pt x="61" y="131"/>
                </a:cubicBezTo>
                <a:cubicBezTo>
                  <a:pt x="51" y="126"/>
                  <a:pt x="49" y="125"/>
                  <a:pt x="42" y="125"/>
                </a:cubicBezTo>
                <a:cubicBezTo>
                  <a:pt x="35" y="125"/>
                  <a:pt x="43" y="111"/>
                  <a:pt x="49" y="110"/>
                </a:cubicBezTo>
                <a:close/>
                <a:moveTo>
                  <a:pt x="88" y="196"/>
                </a:moveTo>
                <a:cubicBezTo>
                  <a:pt x="82" y="198"/>
                  <a:pt x="82" y="198"/>
                  <a:pt x="81" y="201"/>
                </a:cubicBezTo>
                <a:cubicBezTo>
                  <a:pt x="80" y="205"/>
                  <a:pt x="74" y="209"/>
                  <a:pt x="69" y="205"/>
                </a:cubicBezTo>
                <a:cubicBezTo>
                  <a:pt x="65" y="201"/>
                  <a:pt x="52" y="209"/>
                  <a:pt x="52" y="199"/>
                </a:cubicBezTo>
                <a:cubicBezTo>
                  <a:pt x="51" y="190"/>
                  <a:pt x="45" y="185"/>
                  <a:pt x="50" y="182"/>
                </a:cubicBezTo>
                <a:cubicBezTo>
                  <a:pt x="54" y="178"/>
                  <a:pt x="56" y="177"/>
                  <a:pt x="58" y="175"/>
                </a:cubicBezTo>
                <a:cubicBezTo>
                  <a:pt x="62" y="171"/>
                  <a:pt x="65" y="163"/>
                  <a:pt x="79" y="169"/>
                </a:cubicBezTo>
                <a:cubicBezTo>
                  <a:pt x="92" y="176"/>
                  <a:pt x="93" y="178"/>
                  <a:pt x="94" y="182"/>
                </a:cubicBezTo>
                <a:cubicBezTo>
                  <a:pt x="96" y="186"/>
                  <a:pt x="93" y="194"/>
                  <a:pt x="88" y="196"/>
                </a:cubicBezTo>
                <a:close/>
                <a:moveTo>
                  <a:pt x="129" y="74"/>
                </a:moveTo>
                <a:cubicBezTo>
                  <a:pt x="129" y="81"/>
                  <a:pt x="107" y="92"/>
                  <a:pt x="102" y="81"/>
                </a:cubicBezTo>
                <a:cubicBezTo>
                  <a:pt x="97" y="70"/>
                  <a:pt x="105" y="72"/>
                  <a:pt x="106" y="56"/>
                </a:cubicBezTo>
                <a:cubicBezTo>
                  <a:pt x="106" y="52"/>
                  <a:pt x="113" y="57"/>
                  <a:pt x="121" y="57"/>
                </a:cubicBezTo>
                <a:cubicBezTo>
                  <a:pt x="128" y="56"/>
                  <a:pt x="130" y="68"/>
                  <a:pt x="129" y="74"/>
                </a:cubicBezTo>
                <a:close/>
                <a:moveTo>
                  <a:pt x="210" y="68"/>
                </a:moveTo>
                <a:cubicBezTo>
                  <a:pt x="210" y="76"/>
                  <a:pt x="180" y="80"/>
                  <a:pt x="171" y="68"/>
                </a:cubicBezTo>
                <a:cubicBezTo>
                  <a:pt x="161" y="55"/>
                  <a:pt x="181" y="49"/>
                  <a:pt x="183" y="43"/>
                </a:cubicBezTo>
                <a:cubicBezTo>
                  <a:pt x="183" y="41"/>
                  <a:pt x="194" y="37"/>
                  <a:pt x="196" y="44"/>
                </a:cubicBezTo>
                <a:cubicBezTo>
                  <a:pt x="199" y="51"/>
                  <a:pt x="200" y="44"/>
                  <a:pt x="208" y="47"/>
                </a:cubicBezTo>
                <a:cubicBezTo>
                  <a:pt x="215" y="50"/>
                  <a:pt x="206" y="55"/>
                  <a:pt x="201" y="61"/>
                </a:cubicBezTo>
                <a:cubicBezTo>
                  <a:pt x="196" y="66"/>
                  <a:pt x="210" y="60"/>
                  <a:pt x="210" y="68"/>
                </a:cubicBezTo>
                <a:close/>
                <a:moveTo>
                  <a:pt x="241" y="197"/>
                </a:moveTo>
                <a:cubicBezTo>
                  <a:pt x="237" y="202"/>
                  <a:pt x="219" y="199"/>
                  <a:pt x="215" y="194"/>
                </a:cubicBezTo>
                <a:cubicBezTo>
                  <a:pt x="211" y="188"/>
                  <a:pt x="216" y="185"/>
                  <a:pt x="220" y="177"/>
                </a:cubicBezTo>
                <a:cubicBezTo>
                  <a:pt x="225" y="169"/>
                  <a:pt x="238" y="180"/>
                  <a:pt x="238" y="180"/>
                </a:cubicBezTo>
                <a:cubicBezTo>
                  <a:pt x="245" y="174"/>
                  <a:pt x="245" y="191"/>
                  <a:pt x="241" y="197"/>
                </a:cubicBezTo>
                <a:close/>
                <a:moveTo>
                  <a:pt x="254" y="124"/>
                </a:moveTo>
                <a:cubicBezTo>
                  <a:pt x="242" y="132"/>
                  <a:pt x="228" y="121"/>
                  <a:pt x="229" y="104"/>
                </a:cubicBezTo>
                <a:cubicBezTo>
                  <a:pt x="230" y="87"/>
                  <a:pt x="236" y="97"/>
                  <a:pt x="251" y="87"/>
                </a:cubicBezTo>
                <a:cubicBezTo>
                  <a:pt x="266" y="77"/>
                  <a:pt x="267" y="90"/>
                  <a:pt x="270" y="91"/>
                </a:cubicBezTo>
                <a:cubicBezTo>
                  <a:pt x="281" y="93"/>
                  <a:pt x="266" y="116"/>
                  <a:pt x="254" y="12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Freeform 64"/>
          <p:cNvSpPr/>
          <p:nvPr/>
        </p:nvSpPr>
        <p:spPr>
          <a:xfrm>
            <a:off x="1873080" y="5665680"/>
            <a:ext cx="177840" cy="274680"/>
          </a:xfrm>
          <a:custGeom>
            <a:avLst/>
            <a:gdLst/>
            <a:ahLst/>
            <a:rect l="l" t="t" r="r" b="b"/>
            <a:pathLst>
              <a:path w="112" h="173">
                <a:moveTo>
                  <a:pt x="112" y="12"/>
                </a:moveTo>
                <a:lnTo>
                  <a:pt x="112" y="0"/>
                </a:lnTo>
                <a:lnTo>
                  <a:pt x="70" y="0"/>
                </a:lnTo>
                <a:lnTo>
                  <a:pt x="65" y="34"/>
                </a:lnTo>
                <a:lnTo>
                  <a:pt x="0" y="34"/>
                </a:lnTo>
                <a:lnTo>
                  <a:pt x="21" y="173"/>
                </a:lnTo>
                <a:lnTo>
                  <a:pt x="90" y="173"/>
                </a:lnTo>
                <a:lnTo>
                  <a:pt x="112" y="34"/>
                </a:lnTo>
                <a:lnTo>
                  <a:pt x="78" y="34"/>
                </a:lnTo>
                <a:lnTo>
                  <a:pt x="81" y="12"/>
                </a:lnTo>
                <a:lnTo>
                  <a:pt x="112" y="12"/>
                </a:lnTo>
                <a:close/>
                <a:moveTo>
                  <a:pt x="64" y="46"/>
                </a:moveTo>
                <a:lnTo>
                  <a:pt x="55" y="113"/>
                </a:lnTo>
                <a:lnTo>
                  <a:pt x="25" y="113"/>
                </a:lnTo>
                <a:lnTo>
                  <a:pt x="15" y="46"/>
                </a:lnTo>
                <a:lnTo>
                  <a:pt x="64" y="46"/>
                </a:lnTo>
                <a:close/>
                <a:moveTo>
                  <a:pt x="97" y="46"/>
                </a:moveTo>
                <a:lnTo>
                  <a:pt x="87" y="113"/>
                </a:lnTo>
                <a:lnTo>
                  <a:pt x="67" y="113"/>
                </a:lnTo>
                <a:lnTo>
                  <a:pt x="76" y="46"/>
                </a:lnTo>
                <a:lnTo>
                  <a:pt x="97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4" name="组合 74" descr=""/>
          <p:cNvPicPr/>
          <p:nvPr/>
        </p:nvPicPr>
        <p:blipFill>
          <a:blip r:embed="rId12"/>
          <a:stretch/>
        </p:blipFill>
        <p:spPr>
          <a:xfrm>
            <a:off x="2414520" y="5662440"/>
            <a:ext cx="200160" cy="281160"/>
          </a:xfrm>
          <a:prstGeom prst="rect">
            <a:avLst/>
          </a:prstGeom>
          <a:ln w="0">
            <a:noFill/>
          </a:ln>
        </p:spPr>
      </p:pic>
      <p:sp>
        <p:nvSpPr>
          <p:cNvPr id="1465" name="Freeform 67"/>
          <p:cNvSpPr/>
          <p:nvPr/>
        </p:nvSpPr>
        <p:spPr>
          <a:xfrm>
            <a:off x="6772320" y="5180040"/>
            <a:ext cx="290520" cy="146160"/>
          </a:xfrm>
          <a:custGeom>
            <a:avLst/>
            <a:gdLst/>
            <a:ahLst/>
            <a:rect l="l" t="t" r="r" b="b"/>
            <a:pathLst>
              <a:path w="303" h="154">
                <a:moveTo>
                  <a:pt x="230" y="119"/>
                </a:moveTo>
                <a:cubicBezTo>
                  <a:pt x="263" y="118"/>
                  <a:pt x="288" y="109"/>
                  <a:pt x="300" y="103"/>
                </a:cubicBezTo>
                <a:cubicBezTo>
                  <a:pt x="303" y="73"/>
                  <a:pt x="296" y="26"/>
                  <a:pt x="259" y="19"/>
                </a:cubicBezTo>
                <a:cubicBezTo>
                  <a:pt x="245" y="16"/>
                  <a:pt x="128" y="0"/>
                  <a:pt x="132" y="86"/>
                </a:cubicBezTo>
                <a:cubicBezTo>
                  <a:pt x="132" y="86"/>
                  <a:pt x="90" y="124"/>
                  <a:pt x="76" y="68"/>
                </a:cubicBezTo>
                <a:cubicBezTo>
                  <a:pt x="76" y="68"/>
                  <a:pt x="96" y="35"/>
                  <a:pt x="96" y="17"/>
                </a:cubicBezTo>
                <a:cubicBezTo>
                  <a:pt x="96" y="17"/>
                  <a:pt x="52" y="3"/>
                  <a:pt x="52" y="54"/>
                </a:cubicBezTo>
                <a:cubicBezTo>
                  <a:pt x="52" y="55"/>
                  <a:pt x="52" y="55"/>
                  <a:pt x="52" y="55"/>
                </a:cubicBezTo>
                <a:cubicBezTo>
                  <a:pt x="0" y="55"/>
                  <a:pt x="15" y="98"/>
                  <a:pt x="15" y="98"/>
                </a:cubicBezTo>
                <a:cubicBezTo>
                  <a:pt x="28" y="98"/>
                  <a:pt x="57" y="82"/>
                  <a:pt x="57" y="82"/>
                </a:cubicBezTo>
                <a:cubicBezTo>
                  <a:pt x="57" y="82"/>
                  <a:pt x="70" y="123"/>
                  <a:pt x="110" y="139"/>
                </a:cubicBezTo>
                <a:cubicBezTo>
                  <a:pt x="150" y="154"/>
                  <a:pt x="272" y="143"/>
                  <a:pt x="291" y="128"/>
                </a:cubicBezTo>
                <a:cubicBezTo>
                  <a:pt x="293" y="126"/>
                  <a:pt x="296" y="121"/>
                  <a:pt x="297" y="115"/>
                </a:cubicBezTo>
                <a:cubicBezTo>
                  <a:pt x="261" y="131"/>
                  <a:pt x="190" y="119"/>
                  <a:pt x="230" y="119"/>
                </a:cubicBezTo>
                <a:close/>
                <a:moveTo>
                  <a:pt x="230" y="92"/>
                </a:moveTo>
                <a:cubicBezTo>
                  <a:pt x="237" y="92"/>
                  <a:pt x="241" y="94"/>
                  <a:pt x="241" y="98"/>
                </a:cubicBezTo>
                <a:cubicBezTo>
                  <a:pt x="242" y="102"/>
                  <a:pt x="241" y="100"/>
                  <a:pt x="230" y="101"/>
                </a:cubicBezTo>
                <a:cubicBezTo>
                  <a:pt x="220" y="103"/>
                  <a:pt x="220" y="105"/>
                  <a:pt x="219" y="101"/>
                </a:cubicBezTo>
                <a:cubicBezTo>
                  <a:pt x="219" y="97"/>
                  <a:pt x="222" y="93"/>
                  <a:pt x="230" y="9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6" name="组合 78" descr=""/>
          <p:cNvPicPr/>
          <p:nvPr/>
        </p:nvPicPr>
        <p:blipFill>
          <a:blip r:embed="rId13"/>
          <a:stretch/>
        </p:blipFill>
        <p:spPr>
          <a:xfrm>
            <a:off x="7334280" y="5114880"/>
            <a:ext cx="279360" cy="274680"/>
          </a:xfrm>
          <a:prstGeom prst="rect">
            <a:avLst/>
          </a:prstGeom>
          <a:ln w="0">
            <a:noFill/>
          </a:ln>
        </p:spPr>
      </p:pic>
      <p:sp>
        <p:nvSpPr>
          <p:cNvPr id="1467" name="Freeform 70"/>
          <p:cNvSpPr/>
          <p:nvPr/>
        </p:nvSpPr>
        <p:spPr>
          <a:xfrm>
            <a:off x="4029120" y="4011480"/>
            <a:ext cx="27468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2" y="179"/>
                </a:moveTo>
                <a:cubicBezTo>
                  <a:pt x="272" y="179"/>
                  <a:pt x="288" y="163"/>
                  <a:pt x="288" y="143"/>
                </a:cubicBezTo>
                <a:cubicBezTo>
                  <a:pt x="288" y="124"/>
                  <a:pt x="272" y="107"/>
                  <a:pt x="252" y="107"/>
                </a:cubicBezTo>
                <a:cubicBezTo>
                  <a:pt x="236" y="107"/>
                  <a:pt x="222" y="118"/>
                  <a:pt x="218" y="133"/>
                </a:cubicBezTo>
                <a:cubicBezTo>
                  <a:pt x="128" y="133"/>
                  <a:pt x="128" y="133"/>
                  <a:pt x="128" y="133"/>
                </a:cubicBezTo>
                <a:cubicBezTo>
                  <a:pt x="178" y="46"/>
                  <a:pt x="178" y="46"/>
                  <a:pt x="178" y="46"/>
                </a:cubicBezTo>
                <a:cubicBezTo>
                  <a:pt x="218" y="46"/>
                  <a:pt x="218" y="46"/>
                  <a:pt x="218" y="46"/>
                </a:cubicBezTo>
                <a:cubicBezTo>
                  <a:pt x="222" y="61"/>
                  <a:pt x="236" y="72"/>
                  <a:pt x="252" y="72"/>
                </a:cubicBezTo>
                <a:cubicBezTo>
                  <a:pt x="272" y="72"/>
                  <a:pt x="288" y="56"/>
                  <a:pt x="288" y="36"/>
                </a:cubicBezTo>
                <a:cubicBezTo>
                  <a:pt x="288" y="16"/>
                  <a:pt x="272" y="0"/>
                  <a:pt x="252" y="0"/>
                </a:cubicBezTo>
                <a:cubicBezTo>
                  <a:pt x="236" y="0"/>
                  <a:pt x="222" y="11"/>
                  <a:pt x="218" y="26"/>
                </a:cubicBezTo>
                <a:cubicBezTo>
                  <a:pt x="166" y="26"/>
                  <a:pt x="166" y="26"/>
                  <a:pt x="166" y="26"/>
                </a:cubicBezTo>
                <a:cubicBezTo>
                  <a:pt x="104" y="133"/>
                  <a:pt x="104" y="133"/>
                  <a:pt x="104" y="133"/>
                </a:cubicBezTo>
                <a:cubicBezTo>
                  <a:pt x="71" y="133"/>
                  <a:pt x="71" y="133"/>
                  <a:pt x="71" y="133"/>
                </a:cubicBezTo>
                <a:cubicBezTo>
                  <a:pt x="66" y="118"/>
                  <a:pt x="53" y="107"/>
                  <a:pt x="36" y="107"/>
                </a:cubicBezTo>
                <a:cubicBezTo>
                  <a:pt x="16" y="107"/>
                  <a:pt x="0" y="124"/>
                  <a:pt x="0" y="143"/>
                </a:cubicBezTo>
                <a:cubicBezTo>
                  <a:pt x="0" y="163"/>
                  <a:pt x="16" y="179"/>
                  <a:pt x="36" y="179"/>
                </a:cubicBezTo>
                <a:cubicBezTo>
                  <a:pt x="53" y="179"/>
                  <a:pt x="66" y="168"/>
                  <a:pt x="71" y="153"/>
                </a:cubicBezTo>
                <a:cubicBezTo>
                  <a:pt x="104" y="153"/>
                  <a:pt x="104" y="153"/>
                  <a:pt x="104" y="153"/>
                </a:cubicBezTo>
                <a:cubicBezTo>
                  <a:pt x="166" y="261"/>
                  <a:pt x="166" y="261"/>
                  <a:pt x="166" y="261"/>
                </a:cubicBezTo>
                <a:cubicBezTo>
                  <a:pt x="218" y="261"/>
                  <a:pt x="218" y="261"/>
                  <a:pt x="218" y="261"/>
                </a:cubicBezTo>
                <a:cubicBezTo>
                  <a:pt x="222" y="277"/>
                  <a:pt x="236" y="287"/>
                  <a:pt x="252" y="287"/>
                </a:cubicBezTo>
                <a:cubicBezTo>
                  <a:pt x="272" y="287"/>
                  <a:pt x="288" y="271"/>
                  <a:pt x="288" y="251"/>
                </a:cubicBezTo>
                <a:cubicBezTo>
                  <a:pt x="288" y="232"/>
                  <a:pt x="272" y="215"/>
                  <a:pt x="252" y="215"/>
                </a:cubicBezTo>
                <a:cubicBezTo>
                  <a:pt x="236" y="215"/>
                  <a:pt x="222" y="226"/>
                  <a:pt x="218" y="241"/>
                </a:cubicBezTo>
                <a:cubicBezTo>
                  <a:pt x="178" y="241"/>
                  <a:pt x="178" y="241"/>
                  <a:pt x="178" y="241"/>
                </a:cubicBezTo>
                <a:cubicBezTo>
                  <a:pt x="128" y="153"/>
                  <a:pt x="128" y="153"/>
                  <a:pt x="128" y="153"/>
                </a:cubicBezTo>
                <a:cubicBezTo>
                  <a:pt x="218" y="153"/>
                  <a:pt x="218" y="153"/>
                  <a:pt x="218" y="153"/>
                </a:cubicBezTo>
                <a:cubicBezTo>
                  <a:pt x="222" y="168"/>
                  <a:pt x="236" y="179"/>
                  <a:pt x="252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8" name="组合 82" descr=""/>
          <p:cNvPicPr/>
          <p:nvPr/>
        </p:nvPicPr>
        <p:blipFill>
          <a:blip r:embed="rId14"/>
          <a:stretch/>
        </p:blipFill>
        <p:spPr>
          <a:xfrm>
            <a:off x="623556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69" name="组合 91" descr=""/>
          <p:cNvPicPr/>
          <p:nvPr/>
        </p:nvPicPr>
        <p:blipFill>
          <a:blip r:embed="rId15"/>
          <a:stretch/>
        </p:blipFill>
        <p:spPr>
          <a:xfrm>
            <a:off x="6784920" y="23526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70" name="组合 101" descr=""/>
          <p:cNvPicPr/>
          <p:nvPr/>
        </p:nvPicPr>
        <p:blipFill>
          <a:blip r:embed="rId16"/>
          <a:stretch/>
        </p:blipFill>
        <p:spPr>
          <a:xfrm>
            <a:off x="7334280" y="235260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1471" name="Freeform 97"/>
          <p:cNvSpPr/>
          <p:nvPr/>
        </p:nvSpPr>
        <p:spPr>
          <a:xfrm>
            <a:off x="7893000" y="4618080"/>
            <a:ext cx="268200" cy="164880"/>
          </a:xfrm>
          <a:custGeom>
            <a:avLst/>
            <a:gdLst/>
            <a:ahLst/>
            <a:rect l="l" t="t" r="r" b="b"/>
            <a:pathLst>
              <a:path w="280" h="172">
                <a:moveTo>
                  <a:pt x="280" y="49"/>
                </a:moveTo>
                <a:cubicBezTo>
                  <a:pt x="280" y="15"/>
                  <a:pt x="280" y="15"/>
                  <a:pt x="280" y="15"/>
                </a:cubicBezTo>
                <a:cubicBezTo>
                  <a:pt x="246" y="15"/>
                  <a:pt x="246" y="15"/>
                  <a:pt x="246" y="15"/>
                </a:cubicBezTo>
                <a:cubicBezTo>
                  <a:pt x="246" y="25"/>
                  <a:pt x="246" y="25"/>
                  <a:pt x="246" y="25"/>
                </a:cubicBezTo>
                <a:cubicBezTo>
                  <a:pt x="172" y="25"/>
                  <a:pt x="172" y="25"/>
                  <a:pt x="172" y="25"/>
                </a:cubicBezTo>
                <a:cubicBezTo>
                  <a:pt x="172" y="0"/>
                  <a:pt x="172" y="0"/>
                  <a:pt x="172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15"/>
                  <a:pt x="34" y="15"/>
                  <a:pt x="3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49"/>
                  <a:pt x="0" y="49"/>
                  <a:pt x="0" y="49"/>
                </a:cubicBezTo>
                <a:cubicBezTo>
                  <a:pt x="34" y="49"/>
                  <a:pt x="34" y="49"/>
                  <a:pt x="34" y="49"/>
                </a:cubicBezTo>
                <a:cubicBezTo>
                  <a:pt x="34" y="39"/>
                  <a:pt x="34" y="39"/>
                  <a:pt x="34" y="39"/>
                </a:cubicBezTo>
                <a:cubicBezTo>
                  <a:pt x="81" y="39"/>
                  <a:pt x="81" y="39"/>
                  <a:pt x="81" y="39"/>
                </a:cubicBezTo>
                <a:cubicBezTo>
                  <a:pt x="42" y="61"/>
                  <a:pt x="28" y="105"/>
                  <a:pt x="25" y="138"/>
                </a:cubicBezTo>
                <a:cubicBezTo>
                  <a:pt x="14" y="138"/>
                  <a:pt x="14" y="138"/>
                  <a:pt x="14" y="138"/>
                </a:cubicBezTo>
                <a:cubicBezTo>
                  <a:pt x="14" y="172"/>
                  <a:pt x="14" y="172"/>
                  <a:pt x="14" y="172"/>
                </a:cubicBezTo>
                <a:cubicBezTo>
                  <a:pt x="48" y="172"/>
                  <a:pt x="48" y="172"/>
                  <a:pt x="48" y="172"/>
                </a:cubicBezTo>
                <a:cubicBezTo>
                  <a:pt x="48" y="138"/>
                  <a:pt x="48" y="138"/>
                  <a:pt x="48" y="138"/>
                </a:cubicBezTo>
                <a:cubicBezTo>
                  <a:pt x="39" y="138"/>
                  <a:pt x="39" y="138"/>
                  <a:pt x="39" y="138"/>
                </a:cubicBezTo>
                <a:cubicBezTo>
                  <a:pt x="42" y="103"/>
                  <a:pt x="60" y="58"/>
                  <a:pt x="108" y="4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72" y="64"/>
                  <a:pt x="172" y="64"/>
                  <a:pt x="172" y="64"/>
                </a:cubicBezTo>
                <a:cubicBezTo>
                  <a:pt x="172" y="43"/>
                  <a:pt x="172" y="43"/>
                  <a:pt x="172" y="43"/>
                </a:cubicBezTo>
                <a:cubicBezTo>
                  <a:pt x="220" y="58"/>
                  <a:pt x="238" y="103"/>
                  <a:pt x="241" y="138"/>
                </a:cubicBezTo>
                <a:cubicBezTo>
                  <a:pt x="232" y="138"/>
                  <a:pt x="232" y="138"/>
                  <a:pt x="232" y="138"/>
                </a:cubicBezTo>
                <a:cubicBezTo>
                  <a:pt x="232" y="172"/>
                  <a:pt x="232" y="172"/>
                  <a:pt x="232" y="172"/>
                </a:cubicBezTo>
                <a:cubicBezTo>
                  <a:pt x="266" y="172"/>
                  <a:pt x="266" y="172"/>
                  <a:pt x="266" y="172"/>
                </a:cubicBezTo>
                <a:cubicBezTo>
                  <a:pt x="266" y="138"/>
                  <a:pt x="266" y="138"/>
                  <a:pt x="266" y="138"/>
                </a:cubicBezTo>
                <a:cubicBezTo>
                  <a:pt x="256" y="138"/>
                  <a:pt x="256" y="138"/>
                  <a:pt x="256" y="138"/>
                </a:cubicBezTo>
                <a:cubicBezTo>
                  <a:pt x="253" y="105"/>
                  <a:pt x="238" y="61"/>
                  <a:pt x="200" y="39"/>
                </a:cubicBezTo>
                <a:cubicBezTo>
                  <a:pt x="246" y="39"/>
                  <a:pt x="246" y="39"/>
                  <a:pt x="246" y="39"/>
                </a:cubicBezTo>
                <a:cubicBezTo>
                  <a:pt x="246" y="49"/>
                  <a:pt x="246" y="49"/>
                  <a:pt x="246" y="49"/>
                </a:cubicBezTo>
                <a:lnTo>
                  <a:pt x="280" y="4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组合 112" descr=""/>
          <p:cNvPicPr/>
          <p:nvPr/>
        </p:nvPicPr>
        <p:blipFill>
          <a:blip r:embed="rId17"/>
          <a:stretch/>
        </p:blipFill>
        <p:spPr>
          <a:xfrm>
            <a:off x="8448840" y="4559400"/>
            <a:ext cx="257040" cy="280800"/>
          </a:xfrm>
          <a:prstGeom prst="rect">
            <a:avLst/>
          </a:prstGeom>
          <a:ln w="0">
            <a:noFill/>
          </a:ln>
        </p:spPr>
      </p:pic>
      <p:sp>
        <p:nvSpPr>
          <p:cNvPr id="1473" name="Freeform 102"/>
          <p:cNvSpPr/>
          <p:nvPr/>
        </p:nvSpPr>
        <p:spPr>
          <a:xfrm>
            <a:off x="8991720" y="4621320"/>
            <a:ext cx="274680" cy="158760"/>
          </a:xfrm>
          <a:custGeom>
            <a:avLst/>
            <a:gdLst/>
            <a:ahLst/>
            <a:rect l="l" t="t" r="r" b="b"/>
            <a:pathLst>
              <a:path w="287" h="166">
                <a:moveTo>
                  <a:pt x="263" y="55"/>
                </a:moveTo>
                <a:cubicBezTo>
                  <a:pt x="255" y="55"/>
                  <a:pt x="255" y="55"/>
                  <a:pt x="255" y="55"/>
                </a:cubicBezTo>
                <a:cubicBezTo>
                  <a:pt x="250" y="55"/>
                  <a:pt x="244" y="57"/>
                  <a:pt x="238" y="59"/>
                </a:cubicBezTo>
                <a:cubicBezTo>
                  <a:pt x="238" y="17"/>
                  <a:pt x="238" y="17"/>
                  <a:pt x="238" y="17"/>
                </a:cubicBezTo>
                <a:cubicBezTo>
                  <a:pt x="238" y="8"/>
                  <a:pt x="230" y="0"/>
                  <a:pt x="220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8" y="6"/>
                  <a:pt x="171" y="15"/>
                  <a:pt x="171" y="21"/>
                </a:cubicBezTo>
                <a:cubicBezTo>
                  <a:pt x="171" y="29"/>
                  <a:pt x="171" y="29"/>
                  <a:pt x="171" y="29"/>
                </a:cubicBezTo>
                <a:cubicBezTo>
                  <a:pt x="171" y="42"/>
                  <a:pt x="160" y="53"/>
                  <a:pt x="147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26" y="53"/>
                  <a:pt x="115" y="42"/>
                  <a:pt x="115" y="29"/>
                </a:cubicBezTo>
                <a:cubicBezTo>
                  <a:pt x="115" y="21"/>
                  <a:pt x="115" y="21"/>
                  <a:pt x="115" y="21"/>
                </a:cubicBezTo>
                <a:cubicBezTo>
                  <a:pt x="115" y="15"/>
                  <a:pt x="118" y="6"/>
                  <a:pt x="120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56" y="0"/>
                  <a:pt x="48" y="8"/>
                  <a:pt x="48" y="17"/>
                </a:cubicBezTo>
                <a:cubicBezTo>
                  <a:pt x="48" y="59"/>
                  <a:pt x="48" y="59"/>
                  <a:pt x="48" y="59"/>
                </a:cubicBezTo>
                <a:cubicBezTo>
                  <a:pt x="43" y="57"/>
                  <a:pt x="36" y="55"/>
                  <a:pt x="31" y="55"/>
                </a:cubicBezTo>
                <a:cubicBezTo>
                  <a:pt x="23" y="55"/>
                  <a:pt x="23" y="55"/>
                  <a:pt x="23" y="55"/>
                </a:cubicBezTo>
                <a:cubicBezTo>
                  <a:pt x="10" y="55"/>
                  <a:pt x="0" y="66"/>
                  <a:pt x="0" y="79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100"/>
                  <a:pt x="10" y="111"/>
                  <a:pt x="23" y="111"/>
                </a:cubicBezTo>
                <a:cubicBezTo>
                  <a:pt x="31" y="111"/>
                  <a:pt x="31" y="111"/>
                  <a:pt x="31" y="111"/>
                </a:cubicBezTo>
                <a:cubicBezTo>
                  <a:pt x="36" y="111"/>
                  <a:pt x="43" y="109"/>
                  <a:pt x="48" y="107"/>
                </a:cubicBezTo>
                <a:cubicBezTo>
                  <a:pt x="48" y="149"/>
                  <a:pt x="48" y="149"/>
                  <a:pt x="48" y="149"/>
                </a:cubicBezTo>
                <a:cubicBezTo>
                  <a:pt x="48" y="158"/>
                  <a:pt x="56" y="166"/>
                  <a:pt x="66" y="166"/>
                </a:cubicBezTo>
                <a:cubicBezTo>
                  <a:pt x="120" y="166"/>
                  <a:pt x="120" y="166"/>
                  <a:pt x="120" y="166"/>
                </a:cubicBezTo>
                <a:cubicBezTo>
                  <a:pt x="118" y="160"/>
                  <a:pt x="115" y="151"/>
                  <a:pt x="115" y="145"/>
                </a:cubicBezTo>
                <a:cubicBezTo>
                  <a:pt x="115" y="137"/>
                  <a:pt x="115" y="137"/>
                  <a:pt x="115" y="137"/>
                </a:cubicBezTo>
                <a:cubicBezTo>
                  <a:pt x="115" y="123"/>
                  <a:pt x="126" y="113"/>
                  <a:pt x="139" y="113"/>
                </a:cubicBezTo>
                <a:cubicBezTo>
                  <a:pt x="147" y="113"/>
                  <a:pt x="147" y="113"/>
                  <a:pt x="147" y="113"/>
                </a:cubicBezTo>
                <a:cubicBezTo>
                  <a:pt x="160" y="113"/>
                  <a:pt x="171" y="123"/>
                  <a:pt x="171" y="137"/>
                </a:cubicBezTo>
                <a:cubicBezTo>
                  <a:pt x="171" y="145"/>
                  <a:pt x="171" y="145"/>
                  <a:pt x="171" y="145"/>
                </a:cubicBezTo>
                <a:cubicBezTo>
                  <a:pt x="171" y="151"/>
                  <a:pt x="169" y="160"/>
                  <a:pt x="166" y="166"/>
                </a:cubicBezTo>
                <a:cubicBezTo>
                  <a:pt x="220" y="166"/>
                  <a:pt x="220" y="166"/>
                  <a:pt x="220" y="166"/>
                </a:cubicBezTo>
                <a:cubicBezTo>
                  <a:pt x="230" y="166"/>
                  <a:pt x="238" y="158"/>
                  <a:pt x="238" y="149"/>
                </a:cubicBezTo>
                <a:cubicBezTo>
                  <a:pt x="238" y="107"/>
                  <a:pt x="238" y="107"/>
                  <a:pt x="238" y="107"/>
                </a:cubicBezTo>
                <a:cubicBezTo>
                  <a:pt x="244" y="109"/>
                  <a:pt x="250" y="111"/>
                  <a:pt x="255" y="111"/>
                </a:cubicBezTo>
                <a:cubicBezTo>
                  <a:pt x="263" y="111"/>
                  <a:pt x="263" y="111"/>
                  <a:pt x="263" y="111"/>
                </a:cubicBezTo>
                <a:cubicBezTo>
                  <a:pt x="276" y="111"/>
                  <a:pt x="287" y="100"/>
                  <a:pt x="287" y="87"/>
                </a:cubicBezTo>
                <a:cubicBezTo>
                  <a:pt x="287" y="79"/>
                  <a:pt x="287" y="79"/>
                  <a:pt x="287" y="79"/>
                </a:cubicBezTo>
                <a:cubicBezTo>
                  <a:pt x="287" y="66"/>
                  <a:pt x="276" y="55"/>
                  <a:pt x="263" y="5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4" name="组合 118" descr=""/>
          <p:cNvPicPr/>
          <p:nvPr/>
        </p:nvPicPr>
        <p:blipFill>
          <a:blip r:embed="rId18"/>
          <a:stretch/>
        </p:blipFill>
        <p:spPr>
          <a:xfrm>
            <a:off x="6784920" y="4584600"/>
            <a:ext cx="281160" cy="236520"/>
          </a:xfrm>
          <a:prstGeom prst="rect">
            <a:avLst/>
          </a:prstGeom>
          <a:ln w="0">
            <a:noFill/>
          </a:ln>
        </p:spPr>
      </p:pic>
      <p:pic>
        <p:nvPicPr>
          <p:cNvPr id="1475" name="组合 122" descr=""/>
          <p:cNvPicPr/>
          <p:nvPr/>
        </p:nvPicPr>
        <p:blipFill>
          <a:blip r:embed="rId19"/>
          <a:stretch/>
        </p:blipFill>
        <p:spPr>
          <a:xfrm>
            <a:off x="1009476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76" name="组合 125" descr=""/>
          <p:cNvPicPr/>
          <p:nvPr/>
        </p:nvPicPr>
        <p:blipFill>
          <a:blip r:embed="rId20"/>
          <a:stretch/>
        </p:blipFill>
        <p:spPr>
          <a:xfrm>
            <a:off x="10644120" y="1805040"/>
            <a:ext cx="273240" cy="272880"/>
          </a:xfrm>
          <a:prstGeom prst="rect">
            <a:avLst/>
          </a:prstGeom>
          <a:ln w="0">
            <a:noFill/>
          </a:ln>
        </p:spPr>
      </p:pic>
      <p:sp>
        <p:nvSpPr>
          <p:cNvPr id="1477" name="Freeform 110"/>
          <p:cNvSpPr/>
          <p:nvPr/>
        </p:nvSpPr>
        <p:spPr>
          <a:xfrm>
            <a:off x="2400480" y="4562640"/>
            <a:ext cx="22212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09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264"/>
                  <a:pt x="0" y="264"/>
                  <a:pt x="0" y="264"/>
                </a:cubicBezTo>
                <a:cubicBezTo>
                  <a:pt x="0" y="277"/>
                  <a:pt x="11" y="288"/>
                  <a:pt x="24" y="288"/>
                </a:cubicBezTo>
                <a:cubicBezTo>
                  <a:pt x="209" y="288"/>
                  <a:pt x="209" y="288"/>
                  <a:pt x="209" y="288"/>
                </a:cubicBezTo>
                <a:cubicBezTo>
                  <a:pt x="223" y="288"/>
                  <a:pt x="233" y="277"/>
                  <a:pt x="233" y="264"/>
                </a:cubicBezTo>
                <a:cubicBezTo>
                  <a:pt x="233" y="24"/>
                  <a:pt x="233" y="24"/>
                  <a:pt x="233" y="24"/>
                </a:cubicBezTo>
                <a:cubicBezTo>
                  <a:pt x="233" y="11"/>
                  <a:pt x="223" y="0"/>
                  <a:pt x="209" y="0"/>
                </a:cubicBezTo>
                <a:close/>
                <a:moveTo>
                  <a:pt x="26" y="37"/>
                </a:moveTo>
                <a:cubicBezTo>
                  <a:pt x="26" y="31"/>
                  <a:pt x="32" y="26"/>
                  <a:pt x="39" y="26"/>
                </a:cubicBezTo>
                <a:cubicBezTo>
                  <a:pt x="194" y="26"/>
                  <a:pt x="194" y="26"/>
                  <a:pt x="194" y="26"/>
                </a:cubicBezTo>
                <a:cubicBezTo>
                  <a:pt x="201" y="26"/>
                  <a:pt x="207" y="31"/>
                  <a:pt x="207" y="37"/>
                </a:cubicBezTo>
                <a:cubicBezTo>
                  <a:pt x="207" y="82"/>
                  <a:pt x="207" y="82"/>
                  <a:pt x="207" y="82"/>
                </a:cubicBezTo>
                <a:cubicBezTo>
                  <a:pt x="207" y="88"/>
                  <a:pt x="201" y="93"/>
                  <a:pt x="194" y="93"/>
                </a:cubicBezTo>
                <a:cubicBezTo>
                  <a:pt x="39" y="93"/>
                  <a:pt x="39" y="93"/>
                  <a:pt x="39" y="93"/>
                </a:cubicBezTo>
                <a:cubicBezTo>
                  <a:pt x="32" y="93"/>
                  <a:pt x="26" y="88"/>
                  <a:pt x="26" y="82"/>
                </a:cubicBezTo>
                <a:lnTo>
                  <a:pt x="26" y="37"/>
                </a:lnTo>
                <a:close/>
                <a:moveTo>
                  <a:pt x="47" y="257"/>
                </a:moveTo>
                <a:cubicBezTo>
                  <a:pt x="37" y="257"/>
                  <a:pt x="37" y="257"/>
                  <a:pt x="37" y="257"/>
                </a:cubicBezTo>
                <a:cubicBezTo>
                  <a:pt x="31" y="257"/>
                  <a:pt x="26" y="251"/>
                  <a:pt x="26" y="243"/>
                </a:cubicBezTo>
                <a:cubicBezTo>
                  <a:pt x="26" y="235"/>
                  <a:pt x="31" y="229"/>
                  <a:pt x="37" y="229"/>
                </a:cubicBezTo>
                <a:cubicBezTo>
                  <a:pt x="47" y="229"/>
                  <a:pt x="47" y="229"/>
                  <a:pt x="47" y="229"/>
                </a:cubicBezTo>
                <a:cubicBezTo>
                  <a:pt x="53" y="229"/>
                  <a:pt x="58" y="235"/>
                  <a:pt x="58" y="243"/>
                </a:cubicBezTo>
                <a:cubicBezTo>
                  <a:pt x="58" y="251"/>
                  <a:pt x="53" y="257"/>
                  <a:pt x="47" y="257"/>
                </a:cubicBezTo>
                <a:close/>
                <a:moveTo>
                  <a:pt x="47" y="204"/>
                </a:moveTo>
                <a:cubicBezTo>
                  <a:pt x="37" y="204"/>
                  <a:pt x="37" y="204"/>
                  <a:pt x="37" y="204"/>
                </a:cubicBezTo>
                <a:cubicBezTo>
                  <a:pt x="31" y="204"/>
                  <a:pt x="26" y="198"/>
                  <a:pt x="26" y="190"/>
                </a:cubicBezTo>
                <a:cubicBezTo>
                  <a:pt x="26" y="182"/>
                  <a:pt x="31" y="175"/>
                  <a:pt x="37" y="175"/>
                </a:cubicBezTo>
                <a:cubicBezTo>
                  <a:pt x="47" y="175"/>
                  <a:pt x="47" y="175"/>
                  <a:pt x="47" y="175"/>
                </a:cubicBezTo>
                <a:cubicBezTo>
                  <a:pt x="53" y="175"/>
                  <a:pt x="58" y="182"/>
                  <a:pt x="58" y="190"/>
                </a:cubicBezTo>
                <a:cubicBezTo>
                  <a:pt x="58" y="198"/>
                  <a:pt x="53" y="204"/>
                  <a:pt x="47" y="204"/>
                </a:cubicBezTo>
                <a:close/>
                <a:moveTo>
                  <a:pt x="47" y="151"/>
                </a:moveTo>
                <a:cubicBezTo>
                  <a:pt x="37" y="151"/>
                  <a:pt x="37" y="151"/>
                  <a:pt x="37" y="151"/>
                </a:cubicBezTo>
                <a:cubicBezTo>
                  <a:pt x="31" y="151"/>
                  <a:pt x="26" y="145"/>
                  <a:pt x="26" y="137"/>
                </a:cubicBezTo>
                <a:cubicBezTo>
                  <a:pt x="26" y="129"/>
                  <a:pt x="31" y="122"/>
                  <a:pt x="37" y="122"/>
                </a:cubicBezTo>
                <a:cubicBezTo>
                  <a:pt x="47" y="122"/>
                  <a:pt x="47" y="122"/>
                  <a:pt x="47" y="122"/>
                </a:cubicBezTo>
                <a:cubicBezTo>
                  <a:pt x="53" y="122"/>
                  <a:pt x="58" y="129"/>
                  <a:pt x="58" y="137"/>
                </a:cubicBezTo>
                <a:cubicBezTo>
                  <a:pt x="58" y="145"/>
                  <a:pt x="53" y="151"/>
                  <a:pt x="47" y="151"/>
                </a:cubicBezTo>
                <a:close/>
                <a:moveTo>
                  <a:pt x="96" y="257"/>
                </a:moveTo>
                <a:cubicBezTo>
                  <a:pt x="86" y="257"/>
                  <a:pt x="86" y="257"/>
                  <a:pt x="86" y="257"/>
                </a:cubicBezTo>
                <a:cubicBezTo>
                  <a:pt x="80" y="257"/>
                  <a:pt x="75" y="251"/>
                  <a:pt x="75" y="243"/>
                </a:cubicBezTo>
                <a:cubicBezTo>
                  <a:pt x="75" y="235"/>
                  <a:pt x="80" y="229"/>
                  <a:pt x="86" y="229"/>
                </a:cubicBezTo>
                <a:cubicBezTo>
                  <a:pt x="96" y="229"/>
                  <a:pt x="96" y="229"/>
                  <a:pt x="96" y="229"/>
                </a:cubicBezTo>
                <a:cubicBezTo>
                  <a:pt x="102" y="229"/>
                  <a:pt x="107" y="235"/>
                  <a:pt x="107" y="243"/>
                </a:cubicBezTo>
                <a:cubicBezTo>
                  <a:pt x="107" y="251"/>
                  <a:pt x="102" y="257"/>
                  <a:pt x="96" y="257"/>
                </a:cubicBezTo>
                <a:close/>
                <a:moveTo>
                  <a:pt x="96" y="204"/>
                </a:moveTo>
                <a:cubicBezTo>
                  <a:pt x="86" y="204"/>
                  <a:pt x="86" y="204"/>
                  <a:pt x="86" y="204"/>
                </a:cubicBezTo>
                <a:cubicBezTo>
                  <a:pt x="80" y="204"/>
                  <a:pt x="75" y="198"/>
                  <a:pt x="75" y="190"/>
                </a:cubicBezTo>
                <a:cubicBezTo>
                  <a:pt x="75" y="182"/>
                  <a:pt x="80" y="175"/>
                  <a:pt x="86" y="175"/>
                </a:cubicBezTo>
                <a:cubicBezTo>
                  <a:pt x="96" y="175"/>
                  <a:pt x="96" y="175"/>
                  <a:pt x="96" y="175"/>
                </a:cubicBezTo>
                <a:cubicBezTo>
                  <a:pt x="102" y="175"/>
                  <a:pt x="107" y="182"/>
                  <a:pt x="107" y="190"/>
                </a:cubicBezTo>
                <a:cubicBezTo>
                  <a:pt x="107" y="198"/>
                  <a:pt x="102" y="204"/>
                  <a:pt x="96" y="204"/>
                </a:cubicBezTo>
                <a:close/>
                <a:moveTo>
                  <a:pt x="96" y="151"/>
                </a:moveTo>
                <a:cubicBezTo>
                  <a:pt x="86" y="151"/>
                  <a:pt x="86" y="151"/>
                  <a:pt x="86" y="151"/>
                </a:cubicBezTo>
                <a:cubicBezTo>
                  <a:pt x="80" y="151"/>
                  <a:pt x="75" y="145"/>
                  <a:pt x="75" y="137"/>
                </a:cubicBezTo>
                <a:cubicBezTo>
                  <a:pt x="75" y="129"/>
                  <a:pt x="80" y="122"/>
                  <a:pt x="86" y="122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102" y="122"/>
                  <a:pt x="107" y="129"/>
                  <a:pt x="107" y="137"/>
                </a:cubicBezTo>
                <a:cubicBezTo>
                  <a:pt x="107" y="145"/>
                  <a:pt x="102" y="151"/>
                  <a:pt x="96" y="151"/>
                </a:cubicBezTo>
                <a:close/>
                <a:moveTo>
                  <a:pt x="145" y="257"/>
                </a:moveTo>
                <a:cubicBezTo>
                  <a:pt x="135" y="257"/>
                  <a:pt x="135" y="257"/>
                  <a:pt x="135" y="257"/>
                </a:cubicBezTo>
                <a:cubicBezTo>
                  <a:pt x="129" y="257"/>
                  <a:pt x="123" y="251"/>
                  <a:pt x="123" y="243"/>
                </a:cubicBezTo>
                <a:cubicBezTo>
                  <a:pt x="123" y="235"/>
                  <a:pt x="129" y="229"/>
                  <a:pt x="135" y="229"/>
                </a:cubicBezTo>
                <a:cubicBezTo>
                  <a:pt x="145" y="229"/>
                  <a:pt x="145" y="229"/>
                  <a:pt x="145" y="229"/>
                </a:cubicBezTo>
                <a:cubicBezTo>
                  <a:pt x="151" y="229"/>
                  <a:pt x="156" y="235"/>
                  <a:pt x="156" y="243"/>
                </a:cubicBezTo>
                <a:cubicBezTo>
                  <a:pt x="156" y="251"/>
                  <a:pt x="151" y="257"/>
                  <a:pt x="145" y="257"/>
                </a:cubicBezTo>
                <a:close/>
                <a:moveTo>
                  <a:pt x="145" y="204"/>
                </a:moveTo>
                <a:cubicBezTo>
                  <a:pt x="135" y="204"/>
                  <a:pt x="135" y="204"/>
                  <a:pt x="135" y="204"/>
                </a:cubicBezTo>
                <a:cubicBezTo>
                  <a:pt x="129" y="204"/>
                  <a:pt x="123" y="198"/>
                  <a:pt x="123" y="190"/>
                </a:cubicBezTo>
                <a:cubicBezTo>
                  <a:pt x="123" y="182"/>
                  <a:pt x="129" y="175"/>
                  <a:pt x="135" y="175"/>
                </a:cubicBezTo>
                <a:cubicBezTo>
                  <a:pt x="145" y="175"/>
                  <a:pt x="145" y="175"/>
                  <a:pt x="145" y="175"/>
                </a:cubicBezTo>
                <a:cubicBezTo>
                  <a:pt x="151" y="175"/>
                  <a:pt x="156" y="182"/>
                  <a:pt x="156" y="190"/>
                </a:cubicBezTo>
                <a:cubicBezTo>
                  <a:pt x="156" y="198"/>
                  <a:pt x="151" y="204"/>
                  <a:pt x="145" y="204"/>
                </a:cubicBezTo>
                <a:close/>
                <a:moveTo>
                  <a:pt x="145" y="151"/>
                </a:moveTo>
                <a:cubicBezTo>
                  <a:pt x="135" y="151"/>
                  <a:pt x="135" y="151"/>
                  <a:pt x="135" y="151"/>
                </a:cubicBezTo>
                <a:cubicBezTo>
                  <a:pt x="129" y="151"/>
                  <a:pt x="123" y="145"/>
                  <a:pt x="123" y="137"/>
                </a:cubicBezTo>
                <a:cubicBezTo>
                  <a:pt x="123" y="129"/>
                  <a:pt x="129" y="122"/>
                  <a:pt x="135" y="122"/>
                </a:cubicBezTo>
                <a:cubicBezTo>
                  <a:pt x="145" y="122"/>
                  <a:pt x="145" y="122"/>
                  <a:pt x="145" y="122"/>
                </a:cubicBezTo>
                <a:cubicBezTo>
                  <a:pt x="151" y="122"/>
                  <a:pt x="156" y="129"/>
                  <a:pt x="156" y="137"/>
                </a:cubicBezTo>
                <a:cubicBezTo>
                  <a:pt x="156" y="145"/>
                  <a:pt x="151" y="151"/>
                  <a:pt x="145" y="151"/>
                </a:cubicBezTo>
                <a:close/>
                <a:moveTo>
                  <a:pt x="207" y="247"/>
                </a:moveTo>
                <a:cubicBezTo>
                  <a:pt x="207" y="253"/>
                  <a:pt x="200" y="257"/>
                  <a:pt x="197" y="257"/>
                </a:cubicBezTo>
                <a:cubicBezTo>
                  <a:pt x="185" y="257"/>
                  <a:pt x="185" y="257"/>
                  <a:pt x="185" y="257"/>
                </a:cubicBezTo>
                <a:cubicBezTo>
                  <a:pt x="182" y="257"/>
                  <a:pt x="175" y="253"/>
                  <a:pt x="175" y="247"/>
                </a:cubicBezTo>
                <a:cubicBezTo>
                  <a:pt x="175" y="185"/>
                  <a:pt x="175" y="185"/>
                  <a:pt x="175" y="185"/>
                </a:cubicBezTo>
                <a:cubicBezTo>
                  <a:pt x="175" y="180"/>
                  <a:pt x="182" y="175"/>
                  <a:pt x="185" y="175"/>
                </a:cubicBezTo>
                <a:cubicBezTo>
                  <a:pt x="197" y="175"/>
                  <a:pt x="197" y="175"/>
                  <a:pt x="197" y="175"/>
                </a:cubicBezTo>
                <a:cubicBezTo>
                  <a:pt x="200" y="175"/>
                  <a:pt x="207" y="180"/>
                  <a:pt x="207" y="185"/>
                </a:cubicBezTo>
                <a:lnTo>
                  <a:pt x="207" y="247"/>
                </a:lnTo>
                <a:close/>
                <a:moveTo>
                  <a:pt x="196" y="151"/>
                </a:moveTo>
                <a:cubicBezTo>
                  <a:pt x="186" y="151"/>
                  <a:pt x="186" y="151"/>
                  <a:pt x="186" y="151"/>
                </a:cubicBezTo>
                <a:cubicBezTo>
                  <a:pt x="180" y="151"/>
                  <a:pt x="175" y="145"/>
                  <a:pt x="175" y="137"/>
                </a:cubicBezTo>
                <a:cubicBezTo>
                  <a:pt x="175" y="129"/>
                  <a:pt x="180" y="123"/>
                  <a:pt x="186" y="123"/>
                </a:cubicBezTo>
                <a:cubicBezTo>
                  <a:pt x="196" y="123"/>
                  <a:pt x="196" y="123"/>
                  <a:pt x="196" y="123"/>
                </a:cubicBezTo>
                <a:cubicBezTo>
                  <a:pt x="202" y="123"/>
                  <a:pt x="207" y="129"/>
                  <a:pt x="207" y="137"/>
                </a:cubicBezTo>
                <a:cubicBezTo>
                  <a:pt x="207" y="145"/>
                  <a:pt x="202" y="151"/>
                  <a:pt x="196" y="15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Freeform 111"/>
          <p:cNvSpPr/>
          <p:nvPr/>
        </p:nvSpPr>
        <p:spPr>
          <a:xfrm>
            <a:off x="2951280" y="4562640"/>
            <a:ext cx="223560" cy="276120"/>
          </a:xfrm>
          <a:custGeom>
            <a:avLst/>
            <a:gdLst/>
            <a:ahLst/>
            <a:rect l="l" t="t" r="r" b="b"/>
            <a:pathLst>
              <a:path w="233" h="288">
                <a:moveTo>
                  <a:pt x="213" y="0"/>
                </a:moveTo>
                <a:cubicBezTo>
                  <a:pt x="20" y="0"/>
                  <a:pt x="20" y="0"/>
                  <a:pt x="20" y="0"/>
                </a:cubicBezTo>
                <a:cubicBezTo>
                  <a:pt x="7" y="0"/>
                  <a:pt x="0" y="7"/>
                  <a:pt x="0" y="20"/>
                </a:cubicBezTo>
                <a:cubicBezTo>
                  <a:pt x="0" y="268"/>
                  <a:pt x="0" y="268"/>
                  <a:pt x="0" y="268"/>
                </a:cubicBezTo>
                <a:cubicBezTo>
                  <a:pt x="0" y="281"/>
                  <a:pt x="7" y="288"/>
                  <a:pt x="20" y="288"/>
                </a:cubicBezTo>
                <a:cubicBezTo>
                  <a:pt x="213" y="288"/>
                  <a:pt x="213" y="288"/>
                  <a:pt x="213" y="288"/>
                </a:cubicBezTo>
                <a:cubicBezTo>
                  <a:pt x="226" y="288"/>
                  <a:pt x="233" y="281"/>
                  <a:pt x="233" y="268"/>
                </a:cubicBezTo>
                <a:cubicBezTo>
                  <a:pt x="233" y="20"/>
                  <a:pt x="233" y="20"/>
                  <a:pt x="233" y="20"/>
                </a:cubicBezTo>
                <a:cubicBezTo>
                  <a:pt x="233" y="7"/>
                  <a:pt x="226" y="0"/>
                  <a:pt x="213" y="0"/>
                </a:cubicBezTo>
                <a:close/>
                <a:moveTo>
                  <a:pt x="75" y="238"/>
                </a:moveTo>
                <a:cubicBezTo>
                  <a:pt x="75" y="246"/>
                  <a:pt x="68" y="253"/>
                  <a:pt x="60" y="253"/>
                </a:cubicBezTo>
                <a:cubicBezTo>
                  <a:pt x="45" y="253"/>
                  <a:pt x="45" y="253"/>
                  <a:pt x="45" y="253"/>
                </a:cubicBezTo>
                <a:cubicBezTo>
                  <a:pt x="36" y="253"/>
                  <a:pt x="30" y="246"/>
                  <a:pt x="30" y="238"/>
                </a:cubicBezTo>
                <a:cubicBezTo>
                  <a:pt x="30" y="227"/>
                  <a:pt x="30" y="227"/>
                  <a:pt x="30" y="227"/>
                </a:cubicBezTo>
                <a:cubicBezTo>
                  <a:pt x="30" y="219"/>
                  <a:pt x="36" y="212"/>
                  <a:pt x="45" y="212"/>
                </a:cubicBezTo>
                <a:cubicBezTo>
                  <a:pt x="60" y="212"/>
                  <a:pt x="60" y="212"/>
                  <a:pt x="60" y="212"/>
                </a:cubicBezTo>
                <a:cubicBezTo>
                  <a:pt x="68" y="212"/>
                  <a:pt x="75" y="219"/>
                  <a:pt x="75" y="227"/>
                </a:cubicBezTo>
                <a:lnTo>
                  <a:pt x="75" y="238"/>
                </a:lnTo>
                <a:close/>
                <a:moveTo>
                  <a:pt x="75" y="171"/>
                </a:moveTo>
                <a:cubicBezTo>
                  <a:pt x="75" y="179"/>
                  <a:pt x="68" y="186"/>
                  <a:pt x="60" y="186"/>
                </a:cubicBezTo>
                <a:cubicBezTo>
                  <a:pt x="45" y="186"/>
                  <a:pt x="45" y="186"/>
                  <a:pt x="45" y="186"/>
                </a:cubicBezTo>
                <a:cubicBezTo>
                  <a:pt x="36" y="186"/>
                  <a:pt x="30" y="179"/>
                  <a:pt x="30" y="171"/>
                </a:cubicBezTo>
                <a:cubicBezTo>
                  <a:pt x="30" y="160"/>
                  <a:pt x="30" y="160"/>
                  <a:pt x="30" y="160"/>
                </a:cubicBezTo>
                <a:cubicBezTo>
                  <a:pt x="30" y="152"/>
                  <a:pt x="36" y="145"/>
                  <a:pt x="45" y="145"/>
                </a:cubicBezTo>
                <a:cubicBezTo>
                  <a:pt x="60" y="145"/>
                  <a:pt x="60" y="145"/>
                  <a:pt x="60" y="145"/>
                </a:cubicBezTo>
                <a:cubicBezTo>
                  <a:pt x="68" y="145"/>
                  <a:pt x="75" y="152"/>
                  <a:pt x="75" y="160"/>
                </a:cubicBezTo>
                <a:lnTo>
                  <a:pt x="75" y="171"/>
                </a:lnTo>
                <a:close/>
                <a:moveTo>
                  <a:pt x="139" y="238"/>
                </a:moveTo>
                <a:cubicBezTo>
                  <a:pt x="139" y="246"/>
                  <a:pt x="132" y="253"/>
                  <a:pt x="124" y="253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00" y="253"/>
                  <a:pt x="94" y="246"/>
                  <a:pt x="94" y="238"/>
                </a:cubicBezTo>
                <a:cubicBezTo>
                  <a:pt x="94" y="227"/>
                  <a:pt x="94" y="227"/>
                  <a:pt x="94" y="227"/>
                </a:cubicBezTo>
                <a:cubicBezTo>
                  <a:pt x="94" y="219"/>
                  <a:pt x="100" y="212"/>
                  <a:pt x="109" y="212"/>
                </a:cubicBezTo>
                <a:cubicBezTo>
                  <a:pt x="124" y="212"/>
                  <a:pt x="124" y="212"/>
                  <a:pt x="124" y="212"/>
                </a:cubicBezTo>
                <a:cubicBezTo>
                  <a:pt x="132" y="212"/>
                  <a:pt x="139" y="219"/>
                  <a:pt x="139" y="227"/>
                </a:cubicBezTo>
                <a:lnTo>
                  <a:pt x="139" y="238"/>
                </a:lnTo>
                <a:close/>
                <a:moveTo>
                  <a:pt x="139" y="171"/>
                </a:moveTo>
                <a:cubicBezTo>
                  <a:pt x="139" y="179"/>
                  <a:pt x="132" y="186"/>
                  <a:pt x="124" y="186"/>
                </a:cubicBezTo>
                <a:cubicBezTo>
                  <a:pt x="109" y="186"/>
                  <a:pt x="109" y="186"/>
                  <a:pt x="109" y="186"/>
                </a:cubicBezTo>
                <a:cubicBezTo>
                  <a:pt x="100" y="186"/>
                  <a:pt x="94" y="179"/>
                  <a:pt x="94" y="171"/>
                </a:cubicBezTo>
                <a:cubicBezTo>
                  <a:pt x="94" y="160"/>
                  <a:pt x="94" y="160"/>
                  <a:pt x="94" y="160"/>
                </a:cubicBezTo>
                <a:cubicBezTo>
                  <a:pt x="94" y="152"/>
                  <a:pt x="100" y="145"/>
                  <a:pt x="109" y="145"/>
                </a:cubicBezTo>
                <a:cubicBezTo>
                  <a:pt x="124" y="145"/>
                  <a:pt x="124" y="145"/>
                  <a:pt x="124" y="145"/>
                </a:cubicBezTo>
                <a:cubicBezTo>
                  <a:pt x="132" y="145"/>
                  <a:pt x="139" y="152"/>
                  <a:pt x="139" y="160"/>
                </a:cubicBezTo>
                <a:lnTo>
                  <a:pt x="139" y="171"/>
                </a:lnTo>
                <a:close/>
                <a:moveTo>
                  <a:pt x="203" y="238"/>
                </a:moveTo>
                <a:cubicBezTo>
                  <a:pt x="203" y="246"/>
                  <a:pt x="196" y="253"/>
                  <a:pt x="188" y="253"/>
                </a:cubicBezTo>
                <a:cubicBezTo>
                  <a:pt x="173" y="253"/>
                  <a:pt x="173" y="253"/>
                  <a:pt x="173" y="253"/>
                </a:cubicBezTo>
                <a:cubicBezTo>
                  <a:pt x="164" y="253"/>
                  <a:pt x="158" y="246"/>
                  <a:pt x="158" y="238"/>
                </a:cubicBezTo>
                <a:cubicBezTo>
                  <a:pt x="158" y="227"/>
                  <a:pt x="158" y="227"/>
                  <a:pt x="158" y="227"/>
                </a:cubicBezTo>
                <a:cubicBezTo>
                  <a:pt x="158" y="219"/>
                  <a:pt x="164" y="212"/>
                  <a:pt x="173" y="212"/>
                </a:cubicBezTo>
                <a:cubicBezTo>
                  <a:pt x="188" y="212"/>
                  <a:pt x="188" y="212"/>
                  <a:pt x="188" y="212"/>
                </a:cubicBezTo>
                <a:cubicBezTo>
                  <a:pt x="196" y="212"/>
                  <a:pt x="203" y="219"/>
                  <a:pt x="203" y="227"/>
                </a:cubicBezTo>
                <a:lnTo>
                  <a:pt x="203" y="238"/>
                </a:lnTo>
                <a:close/>
                <a:moveTo>
                  <a:pt x="203" y="171"/>
                </a:moveTo>
                <a:cubicBezTo>
                  <a:pt x="203" y="179"/>
                  <a:pt x="196" y="186"/>
                  <a:pt x="188" y="186"/>
                </a:cubicBezTo>
                <a:cubicBezTo>
                  <a:pt x="173" y="186"/>
                  <a:pt x="173" y="186"/>
                  <a:pt x="173" y="186"/>
                </a:cubicBezTo>
                <a:cubicBezTo>
                  <a:pt x="164" y="186"/>
                  <a:pt x="158" y="179"/>
                  <a:pt x="158" y="171"/>
                </a:cubicBezTo>
                <a:cubicBezTo>
                  <a:pt x="158" y="160"/>
                  <a:pt x="158" y="160"/>
                  <a:pt x="158" y="160"/>
                </a:cubicBezTo>
                <a:cubicBezTo>
                  <a:pt x="158" y="152"/>
                  <a:pt x="164" y="145"/>
                  <a:pt x="173" y="145"/>
                </a:cubicBezTo>
                <a:cubicBezTo>
                  <a:pt x="188" y="145"/>
                  <a:pt x="188" y="145"/>
                  <a:pt x="188" y="145"/>
                </a:cubicBezTo>
                <a:cubicBezTo>
                  <a:pt x="196" y="145"/>
                  <a:pt x="203" y="152"/>
                  <a:pt x="203" y="160"/>
                </a:cubicBezTo>
                <a:lnTo>
                  <a:pt x="203" y="171"/>
                </a:lnTo>
                <a:close/>
                <a:moveTo>
                  <a:pt x="203" y="106"/>
                </a:moveTo>
                <a:cubicBezTo>
                  <a:pt x="203" y="112"/>
                  <a:pt x="197" y="117"/>
                  <a:pt x="190" y="117"/>
                </a:cubicBezTo>
                <a:cubicBezTo>
                  <a:pt x="43" y="117"/>
                  <a:pt x="43" y="117"/>
                  <a:pt x="43" y="117"/>
                </a:cubicBezTo>
                <a:cubicBezTo>
                  <a:pt x="36" y="117"/>
                  <a:pt x="30" y="112"/>
                  <a:pt x="30" y="106"/>
                </a:cubicBezTo>
                <a:cubicBezTo>
                  <a:pt x="30" y="41"/>
                  <a:pt x="30" y="41"/>
                  <a:pt x="30" y="41"/>
                </a:cubicBezTo>
                <a:cubicBezTo>
                  <a:pt x="30" y="35"/>
                  <a:pt x="36" y="30"/>
                  <a:pt x="43" y="30"/>
                </a:cubicBezTo>
                <a:cubicBezTo>
                  <a:pt x="190" y="30"/>
                  <a:pt x="190" y="30"/>
                  <a:pt x="190" y="30"/>
                </a:cubicBezTo>
                <a:cubicBezTo>
                  <a:pt x="197" y="30"/>
                  <a:pt x="203" y="35"/>
                  <a:pt x="203" y="41"/>
                </a:cubicBezTo>
                <a:lnTo>
                  <a:pt x="203" y="10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9" name="组合 130" descr=""/>
          <p:cNvPicPr/>
          <p:nvPr/>
        </p:nvPicPr>
        <p:blipFill>
          <a:blip r:embed="rId21"/>
          <a:stretch/>
        </p:blipFill>
        <p:spPr>
          <a:xfrm>
            <a:off x="127476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0" name="组合 134" descr=""/>
          <p:cNvPicPr/>
          <p:nvPr/>
        </p:nvPicPr>
        <p:blipFill>
          <a:blip r:embed="rId22"/>
          <a:stretch/>
        </p:blipFill>
        <p:spPr>
          <a:xfrm>
            <a:off x="4071960" y="5114880"/>
            <a:ext cx="189000" cy="274680"/>
          </a:xfrm>
          <a:prstGeom prst="rect">
            <a:avLst/>
          </a:prstGeom>
          <a:ln w="0">
            <a:noFill/>
          </a:ln>
        </p:spPr>
      </p:pic>
      <p:sp>
        <p:nvSpPr>
          <p:cNvPr id="1481" name="Freeform 120"/>
          <p:cNvSpPr/>
          <p:nvPr/>
        </p:nvSpPr>
        <p:spPr>
          <a:xfrm>
            <a:off x="1271520" y="2948040"/>
            <a:ext cx="276120" cy="195120"/>
          </a:xfrm>
          <a:custGeom>
            <a:avLst/>
            <a:gdLst/>
            <a:ahLst/>
            <a:rect l="l" t="t" r="r" b="b"/>
            <a:pathLst>
              <a:path w="288" h="204">
                <a:moveTo>
                  <a:pt x="280" y="0"/>
                </a:moveTo>
                <a:cubicBezTo>
                  <a:pt x="8" y="0"/>
                  <a:pt x="8" y="0"/>
                  <a:pt x="8" y="0"/>
                </a:cubicBezTo>
                <a:cubicBezTo>
                  <a:pt x="4" y="0"/>
                  <a:pt x="0" y="4"/>
                  <a:pt x="0" y="8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200"/>
                  <a:pt x="4" y="204"/>
                  <a:pt x="8" y="204"/>
                </a:cubicBezTo>
                <a:cubicBezTo>
                  <a:pt x="280" y="204"/>
                  <a:pt x="280" y="204"/>
                  <a:pt x="280" y="204"/>
                </a:cubicBezTo>
                <a:cubicBezTo>
                  <a:pt x="284" y="204"/>
                  <a:pt x="288" y="200"/>
                  <a:pt x="288" y="196"/>
                </a:cubicBezTo>
                <a:cubicBezTo>
                  <a:pt x="288" y="8"/>
                  <a:pt x="288" y="8"/>
                  <a:pt x="288" y="8"/>
                </a:cubicBezTo>
                <a:cubicBezTo>
                  <a:pt x="288" y="4"/>
                  <a:pt x="284" y="0"/>
                  <a:pt x="280" y="0"/>
                </a:cubicBezTo>
                <a:close/>
                <a:moveTo>
                  <a:pt x="43" y="176"/>
                </a:moveTo>
                <a:cubicBezTo>
                  <a:pt x="43" y="178"/>
                  <a:pt x="42" y="180"/>
                  <a:pt x="39" y="180"/>
                </a:cubicBezTo>
                <a:cubicBezTo>
                  <a:pt x="21" y="180"/>
                  <a:pt x="21" y="180"/>
                  <a:pt x="21" y="180"/>
                </a:cubicBezTo>
                <a:cubicBezTo>
                  <a:pt x="19" y="180"/>
                  <a:pt x="17" y="178"/>
                  <a:pt x="17" y="176"/>
                </a:cubicBezTo>
                <a:cubicBezTo>
                  <a:pt x="17" y="158"/>
                  <a:pt x="17" y="158"/>
                  <a:pt x="17" y="158"/>
                </a:cubicBezTo>
                <a:cubicBezTo>
                  <a:pt x="17" y="156"/>
                  <a:pt x="19" y="154"/>
                  <a:pt x="21" y="154"/>
                </a:cubicBezTo>
                <a:cubicBezTo>
                  <a:pt x="39" y="154"/>
                  <a:pt x="39" y="154"/>
                  <a:pt x="39" y="154"/>
                </a:cubicBezTo>
                <a:cubicBezTo>
                  <a:pt x="42" y="154"/>
                  <a:pt x="43" y="156"/>
                  <a:pt x="43" y="158"/>
                </a:cubicBezTo>
                <a:lnTo>
                  <a:pt x="43" y="176"/>
                </a:lnTo>
                <a:close/>
                <a:moveTo>
                  <a:pt x="43" y="132"/>
                </a:moveTo>
                <a:cubicBezTo>
                  <a:pt x="43" y="134"/>
                  <a:pt x="42" y="136"/>
                  <a:pt x="39" y="136"/>
                </a:cubicBezTo>
                <a:cubicBezTo>
                  <a:pt x="21" y="136"/>
                  <a:pt x="21" y="136"/>
                  <a:pt x="21" y="136"/>
                </a:cubicBezTo>
                <a:cubicBezTo>
                  <a:pt x="19" y="136"/>
                  <a:pt x="17" y="134"/>
                  <a:pt x="17" y="132"/>
                </a:cubicBezTo>
                <a:cubicBezTo>
                  <a:pt x="17" y="114"/>
                  <a:pt x="17" y="114"/>
                  <a:pt x="17" y="114"/>
                </a:cubicBezTo>
                <a:cubicBezTo>
                  <a:pt x="17" y="112"/>
                  <a:pt x="19" y="110"/>
                  <a:pt x="21" y="110"/>
                </a:cubicBezTo>
                <a:cubicBezTo>
                  <a:pt x="39" y="110"/>
                  <a:pt x="39" y="110"/>
                  <a:pt x="39" y="110"/>
                </a:cubicBezTo>
                <a:cubicBezTo>
                  <a:pt x="42" y="110"/>
                  <a:pt x="43" y="112"/>
                  <a:pt x="43" y="114"/>
                </a:cubicBezTo>
                <a:lnTo>
                  <a:pt x="43" y="132"/>
                </a:lnTo>
                <a:close/>
                <a:moveTo>
                  <a:pt x="43" y="90"/>
                </a:moveTo>
                <a:cubicBezTo>
                  <a:pt x="43" y="92"/>
                  <a:pt x="42" y="94"/>
                  <a:pt x="39" y="94"/>
                </a:cubicBezTo>
                <a:cubicBezTo>
                  <a:pt x="21" y="94"/>
                  <a:pt x="21" y="94"/>
                  <a:pt x="21" y="94"/>
                </a:cubicBezTo>
                <a:cubicBezTo>
                  <a:pt x="19" y="94"/>
                  <a:pt x="17" y="92"/>
                  <a:pt x="17" y="9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0"/>
                  <a:pt x="19" y="68"/>
                  <a:pt x="21" y="68"/>
                </a:cubicBezTo>
                <a:cubicBezTo>
                  <a:pt x="39" y="68"/>
                  <a:pt x="39" y="68"/>
                  <a:pt x="39" y="68"/>
                </a:cubicBezTo>
                <a:cubicBezTo>
                  <a:pt x="42" y="68"/>
                  <a:pt x="43" y="70"/>
                  <a:pt x="43" y="72"/>
                </a:cubicBezTo>
                <a:lnTo>
                  <a:pt x="43" y="90"/>
                </a:lnTo>
                <a:close/>
                <a:moveTo>
                  <a:pt x="43" y="46"/>
                </a:moveTo>
                <a:cubicBezTo>
                  <a:pt x="43" y="48"/>
                  <a:pt x="42" y="50"/>
                  <a:pt x="39" y="50"/>
                </a:cubicBezTo>
                <a:cubicBezTo>
                  <a:pt x="21" y="50"/>
                  <a:pt x="21" y="50"/>
                  <a:pt x="21" y="50"/>
                </a:cubicBezTo>
                <a:cubicBezTo>
                  <a:pt x="19" y="50"/>
                  <a:pt x="17" y="48"/>
                  <a:pt x="17" y="46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9" y="24"/>
                  <a:pt x="21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2" y="24"/>
                  <a:pt x="43" y="26"/>
                  <a:pt x="43" y="28"/>
                </a:cubicBezTo>
                <a:lnTo>
                  <a:pt x="43" y="46"/>
                </a:lnTo>
                <a:close/>
                <a:moveTo>
                  <a:pt x="226" y="177"/>
                </a:moveTo>
                <a:cubicBezTo>
                  <a:pt x="226" y="182"/>
                  <a:pt x="222" y="185"/>
                  <a:pt x="218" y="185"/>
                </a:cubicBezTo>
                <a:cubicBezTo>
                  <a:pt x="70" y="185"/>
                  <a:pt x="70" y="185"/>
                  <a:pt x="70" y="185"/>
                </a:cubicBezTo>
                <a:cubicBezTo>
                  <a:pt x="66" y="185"/>
                  <a:pt x="62" y="182"/>
                  <a:pt x="62" y="177"/>
                </a:cubicBezTo>
                <a:cubicBezTo>
                  <a:pt x="62" y="26"/>
                  <a:pt x="62" y="26"/>
                  <a:pt x="62" y="26"/>
                </a:cubicBezTo>
                <a:cubicBezTo>
                  <a:pt x="62" y="22"/>
                  <a:pt x="66" y="18"/>
                  <a:pt x="70" y="18"/>
                </a:cubicBezTo>
                <a:cubicBezTo>
                  <a:pt x="218" y="18"/>
                  <a:pt x="218" y="18"/>
                  <a:pt x="218" y="18"/>
                </a:cubicBezTo>
                <a:cubicBezTo>
                  <a:pt x="222" y="18"/>
                  <a:pt x="226" y="22"/>
                  <a:pt x="226" y="26"/>
                </a:cubicBezTo>
                <a:lnTo>
                  <a:pt x="226" y="177"/>
                </a:lnTo>
                <a:close/>
                <a:moveTo>
                  <a:pt x="271" y="176"/>
                </a:moveTo>
                <a:cubicBezTo>
                  <a:pt x="271" y="178"/>
                  <a:pt x="269" y="180"/>
                  <a:pt x="267" y="180"/>
                </a:cubicBezTo>
                <a:cubicBezTo>
                  <a:pt x="249" y="180"/>
                  <a:pt x="249" y="180"/>
                  <a:pt x="249" y="180"/>
                </a:cubicBezTo>
                <a:cubicBezTo>
                  <a:pt x="247" y="180"/>
                  <a:pt x="245" y="178"/>
                  <a:pt x="245" y="176"/>
                </a:cubicBezTo>
                <a:cubicBezTo>
                  <a:pt x="245" y="158"/>
                  <a:pt x="245" y="158"/>
                  <a:pt x="245" y="158"/>
                </a:cubicBezTo>
                <a:cubicBezTo>
                  <a:pt x="245" y="156"/>
                  <a:pt x="247" y="154"/>
                  <a:pt x="249" y="154"/>
                </a:cubicBezTo>
                <a:cubicBezTo>
                  <a:pt x="267" y="154"/>
                  <a:pt x="267" y="154"/>
                  <a:pt x="267" y="154"/>
                </a:cubicBezTo>
                <a:cubicBezTo>
                  <a:pt x="269" y="154"/>
                  <a:pt x="271" y="156"/>
                  <a:pt x="271" y="158"/>
                </a:cubicBezTo>
                <a:lnTo>
                  <a:pt x="271" y="176"/>
                </a:lnTo>
                <a:close/>
                <a:moveTo>
                  <a:pt x="271" y="132"/>
                </a:moveTo>
                <a:cubicBezTo>
                  <a:pt x="271" y="134"/>
                  <a:pt x="269" y="136"/>
                  <a:pt x="267" y="136"/>
                </a:cubicBezTo>
                <a:cubicBezTo>
                  <a:pt x="249" y="136"/>
                  <a:pt x="249" y="136"/>
                  <a:pt x="249" y="136"/>
                </a:cubicBezTo>
                <a:cubicBezTo>
                  <a:pt x="247" y="136"/>
                  <a:pt x="245" y="134"/>
                  <a:pt x="245" y="132"/>
                </a:cubicBezTo>
                <a:cubicBezTo>
                  <a:pt x="245" y="114"/>
                  <a:pt x="245" y="114"/>
                  <a:pt x="245" y="114"/>
                </a:cubicBezTo>
                <a:cubicBezTo>
                  <a:pt x="245" y="112"/>
                  <a:pt x="247" y="110"/>
                  <a:pt x="249" y="110"/>
                </a:cubicBezTo>
                <a:cubicBezTo>
                  <a:pt x="267" y="110"/>
                  <a:pt x="267" y="110"/>
                  <a:pt x="267" y="110"/>
                </a:cubicBezTo>
                <a:cubicBezTo>
                  <a:pt x="269" y="110"/>
                  <a:pt x="271" y="112"/>
                  <a:pt x="271" y="114"/>
                </a:cubicBezTo>
                <a:lnTo>
                  <a:pt x="271" y="132"/>
                </a:lnTo>
                <a:close/>
                <a:moveTo>
                  <a:pt x="271" y="90"/>
                </a:moveTo>
                <a:cubicBezTo>
                  <a:pt x="271" y="92"/>
                  <a:pt x="269" y="94"/>
                  <a:pt x="267" y="94"/>
                </a:cubicBezTo>
                <a:cubicBezTo>
                  <a:pt x="249" y="94"/>
                  <a:pt x="249" y="94"/>
                  <a:pt x="249" y="94"/>
                </a:cubicBezTo>
                <a:cubicBezTo>
                  <a:pt x="247" y="94"/>
                  <a:pt x="245" y="92"/>
                  <a:pt x="245" y="90"/>
                </a:cubicBezTo>
                <a:cubicBezTo>
                  <a:pt x="245" y="72"/>
                  <a:pt x="245" y="72"/>
                  <a:pt x="245" y="72"/>
                </a:cubicBezTo>
                <a:cubicBezTo>
                  <a:pt x="245" y="70"/>
                  <a:pt x="247" y="68"/>
                  <a:pt x="249" y="68"/>
                </a:cubicBezTo>
                <a:cubicBezTo>
                  <a:pt x="267" y="68"/>
                  <a:pt x="267" y="68"/>
                  <a:pt x="267" y="68"/>
                </a:cubicBezTo>
                <a:cubicBezTo>
                  <a:pt x="269" y="68"/>
                  <a:pt x="271" y="70"/>
                  <a:pt x="271" y="72"/>
                </a:cubicBezTo>
                <a:lnTo>
                  <a:pt x="271" y="90"/>
                </a:lnTo>
                <a:close/>
                <a:moveTo>
                  <a:pt x="271" y="46"/>
                </a:moveTo>
                <a:cubicBezTo>
                  <a:pt x="271" y="48"/>
                  <a:pt x="269" y="50"/>
                  <a:pt x="267" y="50"/>
                </a:cubicBezTo>
                <a:cubicBezTo>
                  <a:pt x="249" y="50"/>
                  <a:pt x="249" y="50"/>
                  <a:pt x="249" y="50"/>
                </a:cubicBezTo>
                <a:cubicBezTo>
                  <a:pt x="247" y="50"/>
                  <a:pt x="245" y="48"/>
                  <a:pt x="245" y="46"/>
                </a:cubicBezTo>
                <a:cubicBezTo>
                  <a:pt x="245" y="28"/>
                  <a:pt x="245" y="28"/>
                  <a:pt x="245" y="28"/>
                </a:cubicBezTo>
                <a:cubicBezTo>
                  <a:pt x="245" y="26"/>
                  <a:pt x="247" y="24"/>
                  <a:pt x="249" y="24"/>
                </a:cubicBezTo>
                <a:cubicBezTo>
                  <a:pt x="267" y="24"/>
                  <a:pt x="267" y="24"/>
                  <a:pt x="267" y="24"/>
                </a:cubicBezTo>
                <a:cubicBezTo>
                  <a:pt x="269" y="24"/>
                  <a:pt x="271" y="26"/>
                  <a:pt x="271" y="28"/>
                </a:cubicBezTo>
                <a:lnTo>
                  <a:pt x="271" y="4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2" name="组合 141" descr=""/>
          <p:cNvPicPr/>
          <p:nvPr/>
        </p:nvPicPr>
        <p:blipFill>
          <a:blip r:embed="rId23"/>
          <a:stretch/>
        </p:blipFill>
        <p:spPr>
          <a:xfrm>
            <a:off x="1822320" y="2951280"/>
            <a:ext cx="274680" cy="193680"/>
          </a:xfrm>
          <a:prstGeom prst="rect">
            <a:avLst/>
          </a:prstGeom>
          <a:ln w="0">
            <a:noFill/>
          </a:ln>
        </p:spPr>
      </p:pic>
      <p:sp>
        <p:nvSpPr>
          <p:cNvPr id="1483" name="Freeform 123"/>
          <p:cNvSpPr/>
          <p:nvPr/>
        </p:nvSpPr>
        <p:spPr>
          <a:xfrm>
            <a:off x="5130720" y="4564080"/>
            <a:ext cx="276480" cy="274680"/>
          </a:xfrm>
          <a:custGeom>
            <a:avLst/>
            <a:gdLst/>
            <a:ahLst/>
            <a:rect l="l" t="t" r="r" b="b"/>
            <a:pathLst>
              <a:path w="174" h="173">
                <a:moveTo>
                  <a:pt x="87" y="49"/>
                </a:moveTo>
                <a:lnTo>
                  <a:pt x="93" y="72"/>
                </a:lnTo>
                <a:lnTo>
                  <a:pt x="96" y="82"/>
                </a:lnTo>
                <a:lnTo>
                  <a:pt x="106" y="82"/>
                </a:lnTo>
                <a:lnTo>
                  <a:pt x="130" y="82"/>
                </a:lnTo>
                <a:lnTo>
                  <a:pt x="112" y="94"/>
                </a:lnTo>
                <a:lnTo>
                  <a:pt x="103" y="99"/>
                </a:lnTo>
                <a:lnTo>
                  <a:pt x="106" y="109"/>
                </a:lnTo>
                <a:lnTo>
                  <a:pt x="115" y="134"/>
                </a:lnTo>
                <a:lnTo>
                  <a:pt x="95" y="118"/>
                </a:lnTo>
                <a:lnTo>
                  <a:pt x="87" y="111"/>
                </a:lnTo>
                <a:lnTo>
                  <a:pt x="79" y="118"/>
                </a:lnTo>
                <a:lnTo>
                  <a:pt x="60" y="134"/>
                </a:lnTo>
                <a:lnTo>
                  <a:pt x="68" y="109"/>
                </a:lnTo>
                <a:lnTo>
                  <a:pt x="71" y="99"/>
                </a:lnTo>
                <a:lnTo>
                  <a:pt x="62" y="94"/>
                </a:lnTo>
                <a:lnTo>
                  <a:pt x="44" y="82"/>
                </a:lnTo>
                <a:lnTo>
                  <a:pt x="68" y="82"/>
                </a:lnTo>
                <a:lnTo>
                  <a:pt x="78" y="82"/>
                </a:lnTo>
                <a:lnTo>
                  <a:pt x="80" y="72"/>
                </a:lnTo>
                <a:lnTo>
                  <a:pt x="87" y="49"/>
                </a:lnTo>
                <a:close/>
                <a:moveTo>
                  <a:pt x="87" y="0"/>
                </a:moveTo>
                <a:lnTo>
                  <a:pt x="68" y="68"/>
                </a:lnTo>
                <a:lnTo>
                  <a:pt x="0" y="68"/>
                </a:lnTo>
                <a:lnTo>
                  <a:pt x="55" y="105"/>
                </a:lnTo>
                <a:lnTo>
                  <a:pt x="34" y="173"/>
                </a:lnTo>
                <a:lnTo>
                  <a:pt x="87" y="128"/>
                </a:lnTo>
                <a:lnTo>
                  <a:pt x="143" y="173"/>
                </a:lnTo>
                <a:lnTo>
                  <a:pt x="119" y="105"/>
                </a:lnTo>
                <a:lnTo>
                  <a:pt x="174" y="68"/>
                </a:lnTo>
                <a:lnTo>
                  <a:pt x="106" y="68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4" name="组合 145" descr=""/>
          <p:cNvPicPr/>
          <p:nvPr/>
        </p:nvPicPr>
        <p:blipFill>
          <a:blip r:embed="rId24"/>
          <a:stretch/>
        </p:blipFill>
        <p:spPr>
          <a:xfrm>
            <a:off x="7924680" y="2908440"/>
            <a:ext cx="201600" cy="272880"/>
          </a:xfrm>
          <a:prstGeom prst="rect">
            <a:avLst/>
          </a:prstGeom>
          <a:ln w="0">
            <a:noFill/>
          </a:ln>
        </p:spPr>
      </p:pic>
      <p:pic>
        <p:nvPicPr>
          <p:cNvPr id="1485" name="组合 149" descr=""/>
          <p:cNvPicPr/>
          <p:nvPr/>
        </p:nvPicPr>
        <p:blipFill>
          <a:blip r:embed="rId25"/>
          <a:stretch/>
        </p:blipFill>
        <p:spPr>
          <a:xfrm>
            <a:off x="4029120" y="62182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1486" name="组合 152" descr=""/>
          <p:cNvPicPr/>
          <p:nvPr/>
        </p:nvPicPr>
        <p:blipFill>
          <a:blip r:embed="rId26"/>
          <a:stretch/>
        </p:blipFill>
        <p:spPr>
          <a:xfrm>
            <a:off x="461484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7" name="组合 155" descr=""/>
          <p:cNvPicPr/>
          <p:nvPr/>
        </p:nvPicPr>
        <p:blipFill>
          <a:blip r:embed="rId27"/>
          <a:stretch/>
        </p:blipFill>
        <p:spPr>
          <a:xfrm>
            <a:off x="5168880" y="2352600"/>
            <a:ext cx="201600" cy="281160"/>
          </a:xfrm>
          <a:prstGeom prst="rect">
            <a:avLst/>
          </a:prstGeom>
          <a:ln w="0">
            <a:noFill/>
          </a:ln>
        </p:spPr>
      </p:pic>
      <p:pic>
        <p:nvPicPr>
          <p:cNvPr id="1488" name="组合 158" descr=""/>
          <p:cNvPicPr/>
          <p:nvPr/>
        </p:nvPicPr>
        <p:blipFill>
          <a:blip r:embed="rId28"/>
          <a:stretch/>
        </p:blipFill>
        <p:spPr>
          <a:xfrm>
            <a:off x="4029120" y="29084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489" name="组合 164" descr=""/>
          <p:cNvPicPr/>
          <p:nvPr/>
        </p:nvPicPr>
        <p:blipFill>
          <a:blip r:embed="rId29"/>
          <a:stretch/>
        </p:blipFill>
        <p:spPr>
          <a:xfrm>
            <a:off x="8991720" y="621180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490" name="组合 168" descr=""/>
          <p:cNvPicPr/>
          <p:nvPr/>
        </p:nvPicPr>
        <p:blipFill>
          <a:blip r:embed="rId30"/>
          <a:stretch/>
        </p:blipFill>
        <p:spPr>
          <a:xfrm>
            <a:off x="4584600" y="5662440"/>
            <a:ext cx="273240" cy="281160"/>
          </a:xfrm>
          <a:prstGeom prst="rect">
            <a:avLst/>
          </a:prstGeom>
          <a:ln w="0">
            <a:noFill/>
          </a:ln>
        </p:spPr>
      </p:pic>
      <p:sp>
        <p:nvSpPr>
          <p:cNvPr id="1491" name="Freeform 144"/>
          <p:cNvSpPr/>
          <p:nvPr/>
        </p:nvSpPr>
        <p:spPr>
          <a:xfrm>
            <a:off x="8439120" y="6234120"/>
            <a:ext cx="276120" cy="241200"/>
          </a:xfrm>
          <a:custGeom>
            <a:avLst/>
            <a:gdLst/>
            <a:ahLst/>
            <a:rect l="l" t="t" r="r" b="b"/>
            <a:pathLst>
              <a:path w="288" h="253">
                <a:moveTo>
                  <a:pt x="288" y="63"/>
                </a:moveTo>
                <a:cubicBezTo>
                  <a:pt x="288" y="40"/>
                  <a:pt x="288" y="40"/>
                  <a:pt x="288" y="40"/>
                </a:cubicBezTo>
                <a:cubicBezTo>
                  <a:pt x="288" y="34"/>
                  <a:pt x="277" y="26"/>
                  <a:pt x="259" y="19"/>
                </a:cubicBezTo>
                <a:cubicBezTo>
                  <a:pt x="233" y="9"/>
                  <a:pt x="192" y="0"/>
                  <a:pt x="145" y="0"/>
                </a:cubicBezTo>
                <a:cubicBezTo>
                  <a:pt x="145" y="0"/>
                  <a:pt x="144" y="0"/>
                  <a:pt x="144" y="0"/>
                </a:cubicBezTo>
                <a:cubicBezTo>
                  <a:pt x="97" y="0"/>
                  <a:pt x="55" y="9"/>
                  <a:pt x="29" y="19"/>
                </a:cubicBezTo>
                <a:cubicBezTo>
                  <a:pt x="12" y="26"/>
                  <a:pt x="1" y="34"/>
                  <a:pt x="0" y="40"/>
                </a:cubicBezTo>
                <a:cubicBezTo>
                  <a:pt x="0" y="40"/>
                  <a:pt x="0" y="40"/>
                  <a:pt x="0" y="41"/>
                </a:cubicBezTo>
                <a:cubicBezTo>
                  <a:pt x="0" y="213"/>
                  <a:pt x="0" y="213"/>
                  <a:pt x="0" y="213"/>
                </a:cubicBezTo>
                <a:cubicBezTo>
                  <a:pt x="0" y="228"/>
                  <a:pt x="64" y="253"/>
                  <a:pt x="143" y="253"/>
                </a:cubicBezTo>
                <a:cubicBezTo>
                  <a:pt x="143" y="253"/>
                  <a:pt x="144" y="253"/>
                  <a:pt x="144" y="253"/>
                </a:cubicBezTo>
                <a:cubicBezTo>
                  <a:pt x="224" y="253"/>
                  <a:pt x="288" y="228"/>
                  <a:pt x="288" y="212"/>
                </a:cubicBezTo>
                <a:lnTo>
                  <a:pt x="288" y="63"/>
                </a:lnTo>
                <a:close/>
                <a:moveTo>
                  <a:pt x="144" y="29"/>
                </a:moveTo>
                <a:cubicBezTo>
                  <a:pt x="145" y="29"/>
                  <a:pt x="145" y="29"/>
                  <a:pt x="145" y="29"/>
                </a:cubicBezTo>
                <a:cubicBezTo>
                  <a:pt x="201" y="29"/>
                  <a:pt x="244" y="43"/>
                  <a:pt x="259" y="51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44" y="60"/>
                  <a:pt x="201" y="73"/>
                  <a:pt x="144" y="73"/>
                </a:cubicBezTo>
                <a:cubicBezTo>
                  <a:pt x="143" y="73"/>
                  <a:pt x="143" y="73"/>
                  <a:pt x="143" y="73"/>
                </a:cubicBezTo>
                <a:cubicBezTo>
                  <a:pt x="87" y="73"/>
                  <a:pt x="44" y="60"/>
                  <a:pt x="29" y="52"/>
                </a:cubicBezTo>
                <a:cubicBezTo>
                  <a:pt x="29" y="51"/>
                  <a:pt x="29" y="51"/>
                  <a:pt x="29" y="51"/>
                </a:cubicBezTo>
                <a:cubicBezTo>
                  <a:pt x="44" y="43"/>
                  <a:pt x="87" y="29"/>
                  <a:pt x="144" y="29"/>
                </a:cubicBezTo>
                <a:close/>
                <a:moveTo>
                  <a:pt x="144" y="162"/>
                </a:moveTo>
                <a:cubicBezTo>
                  <a:pt x="143" y="162"/>
                  <a:pt x="143" y="162"/>
                  <a:pt x="143" y="162"/>
                </a:cubicBezTo>
                <a:cubicBezTo>
                  <a:pt x="87" y="162"/>
                  <a:pt x="44" y="148"/>
                  <a:pt x="29" y="140"/>
                </a:cubicBezTo>
                <a:cubicBezTo>
                  <a:pt x="29" y="83"/>
                  <a:pt x="29" y="83"/>
                  <a:pt x="29" y="83"/>
                </a:cubicBezTo>
                <a:cubicBezTo>
                  <a:pt x="55" y="94"/>
                  <a:pt x="96" y="102"/>
                  <a:pt x="143" y="102"/>
                </a:cubicBezTo>
                <a:cubicBezTo>
                  <a:pt x="143" y="102"/>
                  <a:pt x="144" y="102"/>
                  <a:pt x="144" y="102"/>
                </a:cubicBezTo>
                <a:cubicBezTo>
                  <a:pt x="191" y="102"/>
                  <a:pt x="233" y="94"/>
                  <a:pt x="259" y="83"/>
                </a:cubicBezTo>
                <a:cubicBezTo>
                  <a:pt x="259" y="140"/>
                  <a:pt x="259" y="140"/>
                  <a:pt x="259" y="140"/>
                </a:cubicBezTo>
                <a:cubicBezTo>
                  <a:pt x="244" y="148"/>
                  <a:pt x="201" y="161"/>
                  <a:pt x="144" y="16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2" name="组合 172" descr=""/>
          <p:cNvPicPr/>
          <p:nvPr/>
        </p:nvPicPr>
        <p:blipFill>
          <a:blip r:embed="rId31"/>
          <a:stretch/>
        </p:blipFill>
        <p:spPr>
          <a:xfrm>
            <a:off x="2378160" y="345600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493" name="组合 180" descr=""/>
          <p:cNvPicPr/>
          <p:nvPr/>
        </p:nvPicPr>
        <p:blipFill>
          <a:blip r:embed="rId32"/>
          <a:stretch/>
        </p:blipFill>
        <p:spPr>
          <a:xfrm>
            <a:off x="3475080" y="3511440"/>
            <a:ext cx="279360" cy="169920"/>
          </a:xfrm>
          <a:prstGeom prst="rect">
            <a:avLst/>
          </a:prstGeom>
          <a:ln w="0">
            <a:noFill/>
          </a:ln>
        </p:spPr>
      </p:pic>
      <p:pic>
        <p:nvPicPr>
          <p:cNvPr id="1494" name="组合 187" descr=""/>
          <p:cNvPicPr/>
          <p:nvPr/>
        </p:nvPicPr>
        <p:blipFill>
          <a:blip r:embed="rId33"/>
          <a:stretch/>
        </p:blipFill>
        <p:spPr>
          <a:xfrm>
            <a:off x="4029120" y="3498840"/>
            <a:ext cx="274680" cy="195120"/>
          </a:xfrm>
          <a:prstGeom prst="rect">
            <a:avLst/>
          </a:prstGeom>
          <a:ln w="0">
            <a:noFill/>
          </a:ln>
        </p:spPr>
      </p:pic>
      <p:pic>
        <p:nvPicPr>
          <p:cNvPr id="1495" name="组合 196" descr=""/>
          <p:cNvPicPr/>
          <p:nvPr/>
        </p:nvPicPr>
        <p:blipFill>
          <a:blip r:embed="rId34"/>
          <a:stretch/>
        </p:blipFill>
        <p:spPr>
          <a:xfrm>
            <a:off x="6235560" y="624204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496" name="Freeform 169"/>
          <p:cNvSpPr/>
          <p:nvPr/>
        </p:nvSpPr>
        <p:spPr>
          <a:xfrm>
            <a:off x="10644120" y="6216480"/>
            <a:ext cx="276120" cy="2764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48"/>
                </a:moveTo>
                <a:cubicBezTo>
                  <a:pt x="288" y="216"/>
                  <a:pt x="288" y="216"/>
                  <a:pt x="288" y="216"/>
                </a:cubicBezTo>
                <a:cubicBezTo>
                  <a:pt x="202" y="216"/>
                  <a:pt x="202" y="216"/>
                  <a:pt x="202" y="216"/>
                </a:cubicBezTo>
                <a:cubicBezTo>
                  <a:pt x="145" y="288"/>
                  <a:pt x="145" y="288"/>
                  <a:pt x="145" y="288"/>
                </a:cubicBezTo>
                <a:cubicBezTo>
                  <a:pt x="88" y="216"/>
                  <a:pt x="88" y="216"/>
                  <a:pt x="88" y="216"/>
                </a:cubicBezTo>
                <a:cubicBezTo>
                  <a:pt x="0" y="216"/>
                  <a:pt x="0" y="216"/>
                  <a:pt x="0" y="216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2"/>
                  <a:pt x="22" y="0"/>
                  <a:pt x="48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67" y="0"/>
                  <a:pt x="288" y="22"/>
                  <a:pt x="288" y="4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Freeform 170"/>
          <p:cNvSpPr/>
          <p:nvPr/>
        </p:nvSpPr>
        <p:spPr>
          <a:xfrm>
            <a:off x="1822320" y="2395440"/>
            <a:ext cx="276480" cy="200160"/>
          </a:xfrm>
          <a:custGeom>
            <a:avLst/>
            <a:gdLst/>
            <a:ahLst/>
            <a:rect l="l" t="t" r="r" b="b"/>
            <a:pathLst>
              <a:path w="288" h="209">
                <a:moveTo>
                  <a:pt x="288" y="78"/>
                </a:moveTo>
                <a:cubicBezTo>
                  <a:pt x="288" y="35"/>
                  <a:pt x="253" y="0"/>
                  <a:pt x="210" y="0"/>
                </a:cubicBezTo>
                <a:cubicBezTo>
                  <a:pt x="79" y="0"/>
                  <a:pt x="79" y="0"/>
                  <a:pt x="79" y="0"/>
                </a:cubicBezTo>
                <a:cubicBezTo>
                  <a:pt x="35" y="0"/>
                  <a:pt x="0" y="35"/>
                  <a:pt x="0" y="78"/>
                </a:cubicBezTo>
                <a:cubicBezTo>
                  <a:pt x="0" y="79"/>
                  <a:pt x="0" y="79"/>
                  <a:pt x="0" y="80"/>
                </a:cubicBezTo>
                <a:cubicBezTo>
                  <a:pt x="0" y="80"/>
                  <a:pt x="0" y="81"/>
                  <a:pt x="0" y="81"/>
                </a:cubicBezTo>
                <a:cubicBezTo>
                  <a:pt x="0" y="125"/>
                  <a:pt x="35" y="160"/>
                  <a:pt x="79" y="160"/>
                </a:cubicBezTo>
                <a:cubicBezTo>
                  <a:pt x="88" y="160"/>
                  <a:pt x="88" y="160"/>
                  <a:pt x="88" y="160"/>
                </a:cubicBezTo>
                <a:cubicBezTo>
                  <a:pt x="88" y="121"/>
                  <a:pt x="88" y="121"/>
                  <a:pt x="88" y="121"/>
                </a:cubicBezTo>
                <a:cubicBezTo>
                  <a:pt x="79" y="121"/>
                  <a:pt x="79" y="121"/>
                  <a:pt x="79" y="121"/>
                </a:cubicBezTo>
                <a:cubicBezTo>
                  <a:pt x="57" y="121"/>
                  <a:pt x="39" y="103"/>
                  <a:pt x="39" y="81"/>
                </a:cubicBezTo>
                <a:cubicBezTo>
                  <a:pt x="39" y="81"/>
                  <a:pt x="39" y="79"/>
                  <a:pt x="39" y="79"/>
                </a:cubicBezTo>
                <a:cubicBezTo>
                  <a:pt x="39" y="79"/>
                  <a:pt x="39" y="79"/>
                  <a:pt x="39" y="78"/>
                </a:cubicBezTo>
                <a:cubicBezTo>
                  <a:pt x="39" y="57"/>
                  <a:pt x="57" y="39"/>
                  <a:pt x="79" y="39"/>
                </a:cubicBezTo>
                <a:cubicBezTo>
                  <a:pt x="210" y="39"/>
                  <a:pt x="210" y="39"/>
                  <a:pt x="210" y="39"/>
                </a:cubicBezTo>
                <a:cubicBezTo>
                  <a:pt x="231" y="39"/>
                  <a:pt x="249" y="57"/>
                  <a:pt x="249" y="78"/>
                </a:cubicBezTo>
                <a:cubicBezTo>
                  <a:pt x="249" y="79"/>
                  <a:pt x="249" y="80"/>
                  <a:pt x="249" y="80"/>
                </a:cubicBezTo>
                <a:cubicBezTo>
                  <a:pt x="249" y="80"/>
                  <a:pt x="249" y="81"/>
                  <a:pt x="249" y="81"/>
                </a:cubicBezTo>
                <a:cubicBezTo>
                  <a:pt x="249" y="103"/>
                  <a:pt x="231" y="121"/>
                  <a:pt x="210" y="121"/>
                </a:cubicBezTo>
                <a:cubicBezTo>
                  <a:pt x="183" y="121"/>
                  <a:pt x="183" y="121"/>
                  <a:pt x="183" y="121"/>
                </a:cubicBezTo>
                <a:cubicBezTo>
                  <a:pt x="183" y="71"/>
                  <a:pt x="183" y="71"/>
                  <a:pt x="183" y="71"/>
                </a:cubicBezTo>
                <a:cubicBezTo>
                  <a:pt x="114" y="140"/>
                  <a:pt x="114" y="140"/>
                  <a:pt x="114" y="140"/>
                </a:cubicBezTo>
                <a:cubicBezTo>
                  <a:pt x="183" y="209"/>
                  <a:pt x="183" y="209"/>
                  <a:pt x="183" y="209"/>
                </a:cubicBezTo>
                <a:cubicBezTo>
                  <a:pt x="183" y="160"/>
                  <a:pt x="183" y="160"/>
                  <a:pt x="183" y="160"/>
                </a:cubicBezTo>
                <a:cubicBezTo>
                  <a:pt x="210" y="160"/>
                  <a:pt x="210" y="160"/>
                  <a:pt x="210" y="160"/>
                </a:cubicBezTo>
                <a:cubicBezTo>
                  <a:pt x="253" y="160"/>
                  <a:pt x="288" y="125"/>
                  <a:pt x="288" y="81"/>
                </a:cubicBezTo>
                <a:cubicBezTo>
                  <a:pt x="288" y="81"/>
                  <a:pt x="288" y="80"/>
                  <a:pt x="288" y="80"/>
                </a:cubicBezTo>
                <a:cubicBezTo>
                  <a:pt x="288" y="79"/>
                  <a:pt x="288" y="79"/>
                  <a:pt x="288" y="78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Freeform 171"/>
          <p:cNvSpPr/>
          <p:nvPr/>
        </p:nvSpPr>
        <p:spPr>
          <a:xfrm>
            <a:off x="2378160" y="2908440"/>
            <a:ext cx="269640" cy="276120"/>
          </a:xfrm>
          <a:custGeom>
            <a:avLst/>
            <a:gdLst/>
            <a:ahLst/>
            <a:rect l="l" t="t" r="r" b="b"/>
            <a:pathLst>
              <a:path w="170" h="174">
                <a:moveTo>
                  <a:pt x="163" y="72"/>
                </a:moveTo>
                <a:lnTo>
                  <a:pt x="163" y="63"/>
                </a:lnTo>
                <a:lnTo>
                  <a:pt x="156" y="63"/>
                </a:lnTo>
                <a:lnTo>
                  <a:pt x="156" y="45"/>
                </a:lnTo>
                <a:lnTo>
                  <a:pt x="148" y="45"/>
                </a:lnTo>
                <a:lnTo>
                  <a:pt x="148" y="25"/>
                </a:lnTo>
                <a:lnTo>
                  <a:pt x="141" y="25"/>
                </a:lnTo>
                <a:lnTo>
                  <a:pt x="141" y="16"/>
                </a:lnTo>
                <a:lnTo>
                  <a:pt x="135" y="16"/>
                </a:lnTo>
                <a:lnTo>
                  <a:pt x="135" y="43"/>
                </a:lnTo>
                <a:lnTo>
                  <a:pt x="127" y="43"/>
                </a:lnTo>
                <a:lnTo>
                  <a:pt x="127" y="20"/>
                </a:lnTo>
                <a:lnTo>
                  <a:pt x="120" y="20"/>
                </a:lnTo>
                <a:lnTo>
                  <a:pt x="120" y="40"/>
                </a:lnTo>
                <a:lnTo>
                  <a:pt x="113" y="40"/>
                </a:lnTo>
                <a:lnTo>
                  <a:pt x="113" y="24"/>
                </a:lnTo>
                <a:lnTo>
                  <a:pt x="106" y="24"/>
                </a:lnTo>
                <a:lnTo>
                  <a:pt x="106" y="55"/>
                </a:lnTo>
                <a:lnTo>
                  <a:pt x="99" y="55"/>
                </a:lnTo>
                <a:lnTo>
                  <a:pt x="99" y="65"/>
                </a:lnTo>
                <a:lnTo>
                  <a:pt x="92" y="65"/>
                </a:lnTo>
                <a:lnTo>
                  <a:pt x="92" y="56"/>
                </a:lnTo>
                <a:lnTo>
                  <a:pt x="85" y="56"/>
                </a:lnTo>
                <a:lnTo>
                  <a:pt x="85" y="40"/>
                </a:lnTo>
                <a:lnTo>
                  <a:pt x="78" y="40"/>
                </a:lnTo>
                <a:lnTo>
                  <a:pt x="78" y="19"/>
                </a:lnTo>
                <a:lnTo>
                  <a:pt x="71" y="19"/>
                </a:lnTo>
                <a:lnTo>
                  <a:pt x="71" y="34"/>
                </a:lnTo>
                <a:lnTo>
                  <a:pt x="63" y="34"/>
                </a:lnTo>
                <a:lnTo>
                  <a:pt x="63" y="24"/>
                </a:lnTo>
                <a:lnTo>
                  <a:pt x="57" y="24"/>
                </a:lnTo>
                <a:lnTo>
                  <a:pt x="57" y="0"/>
                </a:lnTo>
                <a:lnTo>
                  <a:pt x="50" y="0"/>
                </a:lnTo>
                <a:lnTo>
                  <a:pt x="50" y="49"/>
                </a:lnTo>
                <a:lnTo>
                  <a:pt x="42" y="49"/>
                </a:lnTo>
                <a:lnTo>
                  <a:pt x="42" y="34"/>
                </a:lnTo>
                <a:lnTo>
                  <a:pt x="36" y="34"/>
                </a:lnTo>
                <a:lnTo>
                  <a:pt x="36" y="12"/>
                </a:lnTo>
                <a:lnTo>
                  <a:pt x="28" y="12"/>
                </a:lnTo>
                <a:lnTo>
                  <a:pt x="28" y="48"/>
                </a:lnTo>
                <a:lnTo>
                  <a:pt x="21" y="48"/>
                </a:lnTo>
                <a:lnTo>
                  <a:pt x="21" y="61"/>
                </a:lnTo>
                <a:lnTo>
                  <a:pt x="14" y="61"/>
                </a:lnTo>
                <a:lnTo>
                  <a:pt x="14" y="53"/>
                </a:lnTo>
                <a:lnTo>
                  <a:pt x="7" y="53"/>
                </a:lnTo>
                <a:lnTo>
                  <a:pt x="7" y="75"/>
                </a:lnTo>
                <a:lnTo>
                  <a:pt x="0" y="75"/>
                </a:lnTo>
                <a:lnTo>
                  <a:pt x="0" y="98"/>
                </a:lnTo>
                <a:lnTo>
                  <a:pt x="7" y="98"/>
                </a:lnTo>
                <a:lnTo>
                  <a:pt x="7" y="121"/>
                </a:lnTo>
                <a:lnTo>
                  <a:pt x="14" y="121"/>
                </a:lnTo>
                <a:lnTo>
                  <a:pt x="14" y="113"/>
                </a:lnTo>
                <a:lnTo>
                  <a:pt x="21" y="113"/>
                </a:lnTo>
                <a:lnTo>
                  <a:pt x="21" y="125"/>
                </a:lnTo>
                <a:lnTo>
                  <a:pt x="28" y="125"/>
                </a:lnTo>
                <a:lnTo>
                  <a:pt x="28" y="162"/>
                </a:lnTo>
                <a:lnTo>
                  <a:pt x="36" y="162"/>
                </a:lnTo>
                <a:lnTo>
                  <a:pt x="36" y="140"/>
                </a:lnTo>
                <a:lnTo>
                  <a:pt x="42" y="140"/>
                </a:lnTo>
                <a:lnTo>
                  <a:pt x="42" y="125"/>
                </a:lnTo>
                <a:lnTo>
                  <a:pt x="50" y="125"/>
                </a:lnTo>
                <a:lnTo>
                  <a:pt x="50" y="174"/>
                </a:lnTo>
                <a:lnTo>
                  <a:pt x="57" y="174"/>
                </a:lnTo>
                <a:lnTo>
                  <a:pt x="57" y="149"/>
                </a:lnTo>
                <a:lnTo>
                  <a:pt x="63" y="149"/>
                </a:lnTo>
                <a:lnTo>
                  <a:pt x="63" y="140"/>
                </a:lnTo>
                <a:lnTo>
                  <a:pt x="71" y="140"/>
                </a:lnTo>
                <a:lnTo>
                  <a:pt x="71" y="156"/>
                </a:lnTo>
                <a:lnTo>
                  <a:pt x="78" y="156"/>
                </a:lnTo>
                <a:lnTo>
                  <a:pt x="78" y="134"/>
                </a:lnTo>
                <a:lnTo>
                  <a:pt x="85" y="134"/>
                </a:lnTo>
                <a:lnTo>
                  <a:pt x="85" y="119"/>
                </a:lnTo>
                <a:lnTo>
                  <a:pt x="92" y="119"/>
                </a:lnTo>
                <a:lnTo>
                  <a:pt x="92" y="108"/>
                </a:lnTo>
                <a:lnTo>
                  <a:pt x="99" y="108"/>
                </a:lnTo>
                <a:lnTo>
                  <a:pt x="99" y="119"/>
                </a:lnTo>
                <a:lnTo>
                  <a:pt x="106" y="119"/>
                </a:lnTo>
                <a:lnTo>
                  <a:pt x="106" y="149"/>
                </a:lnTo>
                <a:lnTo>
                  <a:pt x="113" y="149"/>
                </a:lnTo>
                <a:lnTo>
                  <a:pt x="113" y="134"/>
                </a:lnTo>
                <a:lnTo>
                  <a:pt x="120" y="134"/>
                </a:lnTo>
                <a:lnTo>
                  <a:pt x="120" y="154"/>
                </a:lnTo>
                <a:lnTo>
                  <a:pt x="127" y="154"/>
                </a:lnTo>
                <a:lnTo>
                  <a:pt x="127" y="132"/>
                </a:lnTo>
                <a:lnTo>
                  <a:pt x="135" y="132"/>
                </a:lnTo>
                <a:lnTo>
                  <a:pt x="135" y="157"/>
                </a:lnTo>
                <a:lnTo>
                  <a:pt x="141" y="157"/>
                </a:lnTo>
                <a:lnTo>
                  <a:pt x="141" y="150"/>
                </a:lnTo>
                <a:lnTo>
                  <a:pt x="148" y="150"/>
                </a:lnTo>
                <a:lnTo>
                  <a:pt x="148" y="130"/>
                </a:lnTo>
                <a:lnTo>
                  <a:pt x="156" y="130"/>
                </a:lnTo>
                <a:lnTo>
                  <a:pt x="156" y="110"/>
                </a:lnTo>
                <a:lnTo>
                  <a:pt x="163" y="110"/>
                </a:lnTo>
                <a:lnTo>
                  <a:pt x="163" y="102"/>
                </a:lnTo>
                <a:lnTo>
                  <a:pt x="170" y="102"/>
                </a:lnTo>
                <a:lnTo>
                  <a:pt x="170" y="72"/>
                </a:lnTo>
                <a:lnTo>
                  <a:pt x="163" y="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Freeform 172"/>
          <p:cNvSpPr/>
          <p:nvPr/>
        </p:nvSpPr>
        <p:spPr>
          <a:xfrm>
            <a:off x="2955960" y="2908440"/>
            <a:ext cx="216000" cy="276120"/>
          </a:xfrm>
          <a:custGeom>
            <a:avLst/>
            <a:gdLst/>
            <a:ahLst/>
            <a:rect l="l" t="t" r="r" b="b"/>
            <a:pathLst>
              <a:path w="136" h="174">
                <a:moveTo>
                  <a:pt x="136" y="165"/>
                </a:moveTo>
                <a:lnTo>
                  <a:pt x="136" y="0"/>
                </a:lnTo>
                <a:lnTo>
                  <a:pt x="39" y="0"/>
                </a:lnTo>
                <a:lnTo>
                  <a:pt x="0" y="40"/>
                </a:lnTo>
                <a:lnTo>
                  <a:pt x="0" y="165"/>
                </a:lnTo>
                <a:lnTo>
                  <a:pt x="16" y="165"/>
                </a:lnTo>
                <a:lnTo>
                  <a:pt x="29" y="149"/>
                </a:lnTo>
                <a:lnTo>
                  <a:pt x="49" y="174"/>
                </a:lnTo>
                <a:lnTo>
                  <a:pt x="68" y="150"/>
                </a:lnTo>
                <a:lnTo>
                  <a:pt x="87" y="174"/>
                </a:lnTo>
                <a:lnTo>
                  <a:pt x="107" y="149"/>
                </a:lnTo>
                <a:lnTo>
                  <a:pt x="120" y="165"/>
                </a:lnTo>
                <a:lnTo>
                  <a:pt x="136" y="165"/>
                </a:lnTo>
                <a:close/>
                <a:moveTo>
                  <a:pt x="107" y="125"/>
                </a:moveTo>
                <a:lnTo>
                  <a:pt x="87" y="149"/>
                </a:lnTo>
                <a:lnTo>
                  <a:pt x="68" y="125"/>
                </a:lnTo>
                <a:lnTo>
                  <a:pt x="49" y="149"/>
                </a:lnTo>
                <a:lnTo>
                  <a:pt x="29" y="125"/>
                </a:lnTo>
                <a:lnTo>
                  <a:pt x="15" y="141"/>
                </a:lnTo>
                <a:lnTo>
                  <a:pt x="15" y="55"/>
                </a:lnTo>
                <a:lnTo>
                  <a:pt x="55" y="55"/>
                </a:lnTo>
                <a:lnTo>
                  <a:pt x="55" y="16"/>
                </a:lnTo>
                <a:lnTo>
                  <a:pt x="120" y="16"/>
                </a:lnTo>
                <a:lnTo>
                  <a:pt x="120" y="142"/>
                </a:lnTo>
                <a:lnTo>
                  <a:pt x="107" y="12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0" name="组合 204" descr=""/>
          <p:cNvPicPr/>
          <p:nvPr/>
        </p:nvPicPr>
        <p:blipFill>
          <a:blip r:embed="rId35"/>
          <a:stretch/>
        </p:blipFill>
        <p:spPr>
          <a:xfrm>
            <a:off x="3492360" y="2908440"/>
            <a:ext cx="244440" cy="272880"/>
          </a:xfrm>
          <a:prstGeom prst="rect">
            <a:avLst/>
          </a:prstGeom>
          <a:ln w="0">
            <a:noFill/>
          </a:ln>
        </p:spPr>
      </p:pic>
      <p:sp>
        <p:nvSpPr>
          <p:cNvPr id="1501" name="Freeform 177"/>
          <p:cNvSpPr/>
          <p:nvPr/>
        </p:nvSpPr>
        <p:spPr>
          <a:xfrm>
            <a:off x="5130720" y="6237360"/>
            <a:ext cx="276480" cy="236520"/>
          </a:xfrm>
          <a:custGeom>
            <a:avLst/>
            <a:gdLst/>
            <a:ahLst/>
            <a:rect l="l" t="t" r="r" b="b"/>
            <a:pathLst>
              <a:path w="288" h="247">
                <a:moveTo>
                  <a:pt x="246" y="26"/>
                </a:moveTo>
                <a:cubicBezTo>
                  <a:pt x="219" y="12"/>
                  <a:pt x="212" y="0"/>
                  <a:pt x="144" y="0"/>
                </a:cubicBezTo>
                <a:cubicBezTo>
                  <a:pt x="76" y="0"/>
                  <a:pt x="68" y="12"/>
                  <a:pt x="41" y="26"/>
                </a:cubicBezTo>
                <a:cubicBezTo>
                  <a:pt x="11" y="43"/>
                  <a:pt x="0" y="75"/>
                  <a:pt x="0" y="98"/>
                </a:cubicBezTo>
                <a:cubicBezTo>
                  <a:pt x="0" y="110"/>
                  <a:pt x="144" y="247"/>
                  <a:pt x="144" y="247"/>
                </a:cubicBezTo>
                <a:cubicBezTo>
                  <a:pt x="144" y="247"/>
                  <a:pt x="288" y="110"/>
                  <a:pt x="288" y="98"/>
                </a:cubicBezTo>
                <a:cubicBezTo>
                  <a:pt x="288" y="76"/>
                  <a:pt x="277" y="43"/>
                  <a:pt x="246" y="26"/>
                </a:cubicBezTo>
                <a:close/>
                <a:moveTo>
                  <a:pt x="245" y="115"/>
                </a:moveTo>
                <a:cubicBezTo>
                  <a:pt x="201" y="71"/>
                  <a:pt x="201" y="71"/>
                  <a:pt x="201" y="71"/>
                </a:cubicBezTo>
                <a:cubicBezTo>
                  <a:pt x="221" y="64"/>
                  <a:pt x="233" y="53"/>
                  <a:pt x="234" y="41"/>
                </a:cubicBezTo>
                <a:lnTo>
                  <a:pt x="245" y="115"/>
                </a:lnTo>
                <a:close/>
                <a:moveTo>
                  <a:pt x="227" y="40"/>
                </a:moveTo>
                <a:cubicBezTo>
                  <a:pt x="227" y="55"/>
                  <a:pt x="193" y="72"/>
                  <a:pt x="143" y="72"/>
                </a:cubicBezTo>
                <a:cubicBezTo>
                  <a:pt x="93" y="72"/>
                  <a:pt x="59" y="55"/>
                  <a:pt x="59" y="40"/>
                </a:cubicBezTo>
                <a:cubicBezTo>
                  <a:pt x="59" y="37"/>
                  <a:pt x="60" y="34"/>
                  <a:pt x="62" y="32"/>
                </a:cubicBezTo>
                <a:cubicBezTo>
                  <a:pt x="79" y="21"/>
                  <a:pt x="92" y="15"/>
                  <a:pt x="144" y="15"/>
                </a:cubicBezTo>
                <a:cubicBezTo>
                  <a:pt x="193" y="15"/>
                  <a:pt x="207" y="21"/>
                  <a:pt x="223" y="30"/>
                </a:cubicBezTo>
                <a:cubicBezTo>
                  <a:pt x="225" y="33"/>
                  <a:pt x="227" y="36"/>
                  <a:pt x="227" y="40"/>
                </a:cubicBezTo>
                <a:close/>
                <a:moveTo>
                  <a:pt x="183" y="76"/>
                </a:moveTo>
                <a:cubicBezTo>
                  <a:pt x="144" y="143"/>
                  <a:pt x="144" y="143"/>
                  <a:pt x="144" y="143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17" y="78"/>
                  <a:pt x="129" y="80"/>
                  <a:pt x="143" y="80"/>
                </a:cubicBezTo>
                <a:cubicBezTo>
                  <a:pt x="158" y="80"/>
                  <a:pt x="171" y="78"/>
                  <a:pt x="183" y="76"/>
                </a:cubicBezTo>
                <a:close/>
                <a:moveTo>
                  <a:pt x="52" y="43"/>
                </a:moveTo>
                <a:cubicBezTo>
                  <a:pt x="54" y="55"/>
                  <a:pt x="68" y="65"/>
                  <a:pt x="89" y="72"/>
                </a:cubicBezTo>
                <a:cubicBezTo>
                  <a:pt x="44" y="117"/>
                  <a:pt x="44" y="117"/>
                  <a:pt x="44" y="117"/>
                </a:cubicBezTo>
                <a:lnTo>
                  <a:pt x="52" y="43"/>
                </a:lnTo>
                <a:close/>
                <a:moveTo>
                  <a:pt x="96" y="76"/>
                </a:moveTo>
                <a:cubicBezTo>
                  <a:pt x="136" y="145"/>
                  <a:pt x="136" y="145"/>
                  <a:pt x="136" y="145"/>
                </a:cubicBezTo>
                <a:cubicBezTo>
                  <a:pt x="97" y="144"/>
                  <a:pt x="69" y="134"/>
                  <a:pt x="49" y="122"/>
                </a:cubicBezTo>
                <a:lnTo>
                  <a:pt x="96" y="76"/>
                </a:lnTo>
                <a:close/>
                <a:moveTo>
                  <a:pt x="144" y="153"/>
                </a:moveTo>
                <a:cubicBezTo>
                  <a:pt x="160" y="153"/>
                  <a:pt x="174" y="152"/>
                  <a:pt x="187" y="149"/>
                </a:cubicBezTo>
                <a:cubicBezTo>
                  <a:pt x="144" y="224"/>
                  <a:pt x="144" y="224"/>
                  <a:pt x="144" y="224"/>
                </a:cubicBezTo>
                <a:cubicBezTo>
                  <a:pt x="101" y="149"/>
                  <a:pt x="101" y="149"/>
                  <a:pt x="101" y="149"/>
                </a:cubicBezTo>
                <a:cubicBezTo>
                  <a:pt x="114" y="152"/>
                  <a:pt x="128" y="153"/>
                  <a:pt x="144" y="153"/>
                </a:cubicBezTo>
                <a:close/>
                <a:moveTo>
                  <a:pt x="151" y="145"/>
                </a:moveTo>
                <a:cubicBezTo>
                  <a:pt x="193" y="73"/>
                  <a:pt x="193" y="73"/>
                  <a:pt x="193" y="73"/>
                </a:cubicBezTo>
                <a:cubicBezTo>
                  <a:pt x="241" y="121"/>
                  <a:pt x="241" y="121"/>
                  <a:pt x="241" y="121"/>
                </a:cubicBezTo>
                <a:cubicBezTo>
                  <a:pt x="221" y="133"/>
                  <a:pt x="192" y="144"/>
                  <a:pt x="151" y="145"/>
                </a:cubicBezTo>
                <a:close/>
                <a:moveTo>
                  <a:pt x="273" y="94"/>
                </a:moveTo>
                <a:cubicBezTo>
                  <a:pt x="269" y="98"/>
                  <a:pt x="262" y="105"/>
                  <a:pt x="253" y="113"/>
                </a:cubicBezTo>
                <a:cubicBezTo>
                  <a:pt x="242" y="41"/>
                  <a:pt x="242" y="41"/>
                  <a:pt x="242" y="41"/>
                </a:cubicBezTo>
                <a:cubicBezTo>
                  <a:pt x="264" y="55"/>
                  <a:pt x="271" y="78"/>
                  <a:pt x="273" y="94"/>
                </a:cubicBezTo>
                <a:close/>
                <a:moveTo>
                  <a:pt x="44" y="42"/>
                </a:moveTo>
                <a:cubicBezTo>
                  <a:pt x="36" y="114"/>
                  <a:pt x="36" y="114"/>
                  <a:pt x="36" y="114"/>
                </a:cubicBezTo>
                <a:cubicBezTo>
                  <a:pt x="26" y="106"/>
                  <a:pt x="19" y="98"/>
                  <a:pt x="15" y="93"/>
                </a:cubicBezTo>
                <a:cubicBezTo>
                  <a:pt x="16" y="76"/>
                  <a:pt x="26" y="55"/>
                  <a:pt x="44" y="42"/>
                </a:cubicBezTo>
                <a:close/>
                <a:moveTo>
                  <a:pt x="47" y="130"/>
                </a:moveTo>
                <a:cubicBezTo>
                  <a:pt x="59" y="137"/>
                  <a:pt x="73" y="143"/>
                  <a:pt x="91" y="147"/>
                </a:cubicBezTo>
                <a:cubicBezTo>
                  <a:pt x="127" y="209"/>
                  <a:pt x="127" y="209"/>
                  <a:pt x="127" y="209"/>
                </a:cubicBezTo>
                <a:cubicBezTo>
                  <a:pt x="97" y="180"/>
                  <a:pt x="68" y="152"/>
                  <a:pt x="47" y="130"/>
                </a:cubicBezTo>
                <a:close/>
                <a:moveTo>
                  <a:pt x="161" y="209"/>
                </a:moveTo>
                <a:cubicBezTo>
                  <a:pt x="197" y="147"/>
                  <a:pt x="197" y="147"/>
                  <a:pt x="197" y="147"/>
                </a:cubicBezTo>
                <a:cubicBezTo>
                  <a:pt x="215" y="143"/>
                  <a:pt x="230" y="137"/>
                  <a:pt x="241" y="130"/>
                </a:cubicBezTo>
                <a:cubicBezTo>
                  <a:pt x="220" y="152"/>
                  <a:pt x="191" y="180"/>
                  <a:pt x="161" y="20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2" name="组合 210" descr=""/>
          <p:cNvPicPr/>
          <p:nvPr/>
        </p:nvPicPr>
        <p:blipFill>
          <a:blip r:embed="rId36"/>
          <a:stretch/>
        </p:blipFill>
        <p:spPr>
          <a:xfrm>
            <a:off x="5132520" y="5181480"/>
            <a:ext cx="274680" cy="139680"/>
          </a:xfrm>
          <a:prstGeom prst="rect">
            <a:avLst/>
          </a:prstGeom>
          <a:ln w="0">
            <a:noFill/>
          </a:ln>
        </p:spPr>
      </p:pic>
      <p:pic>
        <p:nvPicPr>
          <p:cNvPr id="1503" name="组合 213" descr=""/>
          <p:cNvPicPr/>
          <p:nvPr/>
        </p:nvPicPr>
        <p:blipFill>
          <a:blip r:embed="rId37"/>
          <a:stretch/>
        </p:blipFill>
        <p:spPr>
          <a:xfrm>
            <a:off x="5681520" y="5162400"/>
            <a:ext cx="274680" cy="177840"/>
          </a:xfrm>
          <a:prstGeom prst="rect">
            <a:avLst/>
          </a:prstGeom>
          <a:ln w="0">
            <a:noFill/>
          </a:ln>
        </p:spPr>
      </p:pic>
      <p:pic>
        <p:nvPicPr>
          <p:cNvPr id="1504" name="组合 216" descr=""/>
          <p:cNvPicPr/>
          <p:nvPr/>
        </p:nvPicPr>
        <p:blipFill>
          <a:blip r:embed="rId38"/>
          <a:stretch/>
        </p:blipFill>
        <p:spPr>
          <a:xfrm>
            <a:off x="5132520" y="571176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05" name="组合 219" descr=""/>
          <p:cNvPicPr/>
          <p:nvPr/>
        </p:nvPicPr>
        <p:blipFill>
          <a:blip r:embed="rId39"/>
          <a:stretch/>
        </p:blipFill>
        <p:spPr>
          <a:xfrm>
            <a:off x="6235560" y="5735520"/>
            <a:ext cx="274680" cy="135000"/>
          </a:xfrm>
          <a:prstGeom prst="rect">
            <a:avLst/>
          </a:prstGeom>
          <a:ln w="0">
            <a:noFill/>
          </a:ln>
        </p:spPr>
      </p:pic>
      <p:pic>
        <p:nvPicPr>
          <p:cNvPr id="1506" name="组合 223" descr=""/>
          <p:cNvPicPr/>
          <p:nvPr/>
        </p:nvPicPr>
        <p:blipFill>
          <a:blip r:embed="rId40"/>
          <a:stretch/>
        </p:blipFill>
        <p:spPr>
          <a:xfrm>
            <a:off x="5681520" y="5718240"/>
            <a:ext cx="274680" cy="176040"/>
          </a:xfrm>
          <a:prstGeom prst="rect">
            <a:avLst/>
          </a:prstGeom>
          <a:ln w="0">
            <a:noFill/>
          </a:ln>
        </p:spPr>
      </p:pic>
      <p:pic>
        <p:nvPicPr>
          <p:cNvPr id="1507" name="组合 226" descr=""/>
          <p:cNvPicPr/>
          <p:nvPr/>
        </p:nvPicPr>
        <p:blipFill>
          <a:blip r:embed="rId41"/>
          <a:stretch/>
        </p:blipFill>
        <p:spPr>
          <a:xfrm>
            <a:off x="1274760" y="5114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1508" name="组合 236" descr=""/>
          <p:cNvPicPr/>
          <p:nvPr/>
        </p:nvPicPr>
        <p:blipFill>
          <a:blip r:embed="rId42"/>
          <a:stretch/>
        </p:blipFill>
        <p:spPr>
          <a:xfrm>
            <a:off x="2925720" y="5145120"/>
            <a:ext cx="274680" cy="212760"/>
          </a:xfrm>
          <a:prstGeom prst="rect">
            <a:avLst/>
          </a:prstGeom>
          <a:ln w="0">
            <a:noFill/>
          </a:ln>
        </p:spPr>
      </p:pic>
      <p:sp>
        <p:nvSpPr>
          <p:cNvPr id="1509" name="Freeform 207"/>
          <p:cNvSpPr/>
          <p:nvPr/>
        </p:nvSpPr>
        <p:spPr>
          <a:xfrm>
            <a:off x="3476520" y="5178600"/>
            <a:ext cx="276480" cy="145800"/>
          </a:xfrm>
          <a:custGeom>
            <a:avLst/>
            <a:gdLst/>
            <a:ahLst/>
            <a:rect l="l" t="t" r="r" b="b"/>
            <a:pathLst>
              <a:path w="288" h="153">
                <a:moveTo>
                  <a:pt x="267" y="86"/>
                </a:moveTo>
                <a:cubicBezTo>
                  <a:pt x="267" y="84"/>
                  <a:pt x="267" y="83"/>
                  <a:pt x="267" y="82"/>
                </a:cubicBezTo>
                <a:cubicBezTo>
                  <a:pt x="267" y="53"/>
                  <a:pt x="243" y="29"/>
                  <a:pt x="214" y="29"/>
                </a:cubicBezTo>
                <a:cubicBezTo>
                  <a:pt x="204" y="29"/>
                  <a:pt x="195" y="32"/>
                  <a:pt x="188" y="37"/>
                </a:cubicBezTo>
                <a:cubicBezTo>
                  <a:pt x="177" y="15"/>
                  <a:pt x="155" y="0"/>
                  <a:pt x="129" y="0"/>
                </a:cubicBezTo>
                <a:cubicBezTo>
                  <a:pt x="103" y="0"/>
                  <a:pt x="80" y="15"/>
                  <a:pt x="70" y="37"/>
                </a:cubicBezTo>
                <a:cubicBezTo>
                  <a:pt x="64" y="33"/>
                  <a:pt x="58" y="31"/>
                  <a:pt x="51" y="31"/>
                </a:cubicBezTo>
                <a:cubicBezTo>
                  <a:pt x="34" y="31"/>
                  <a:pt x="21" y="44"/>
                  <a:pt x="21" y="61"/>
                </a:cubicBezTo>
                <a:cubicBezTo>
                  <a:pt x="21" y="64"/>
                  <a:pt x="21" y="67"/>
                  <a:pt x="22" y="70"/>
                </a:cubicBezTo>
                <a:cubicBezTo>
                  <a:pt x="9" y="78"/>
                  <a:pt x="0" y="92"/>
                  <a:pt x="0" y="108"/>
                </a:cubicBezTo>
                <a:cubicBezTo>
                  <a:pt x="0" y="133"/>
                  <a:pt x="20" y="152"/>
                  <a:pt x="44" y="153"/>
                </a:cubicBezTo>
                <a:cubicBezTo>
                  <a:pt x="44" y="153"/>
                  <a:pt x="44" y="153"/>
                  <a:pt x="44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45" y="153"/>
                  <a:pt x="45" y="153"/>
                  <a:pt x="45" y="153"/>
                </a:cubicBezTo>
                <a:cubicBezTo>
                  <a:pt x="251" y="153"/>
                  <a:pt x="251" y="153"/>
                  <a:pt x="251" y="153"/>
                </a:cubicBezTo>
                <a:cubicBezTo>
                  <a:pt x="252" y="153"/>
                  <a:pt x="253" y="153"/>
                  <a:pt x="253" y="153"/>
                </a:cubicBezTo>
                <a:cubicBezTo>
                  <a:pt x="273" y="153"/>
                  <a:pt x="288" y="137"/>
                  <a:pt x="288" y="118"/>
                </a:cubicBezTo>
                <a:cubicBezTo>
                  <a:pt x="288" y="103"/>
                  <a:pt x="279" y="91"/>
                  <a:pt x="267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0" name="组合 246" descr=""/>
          <p:cNvPicPr/>
          <p:nvPr/>
        </p:nvPicPr>
        <p:blipFill>
          <a:blip r:embed="rId43"/>
          <a:stretch/>
        </p:blipFill>
        <p:spPr>
          <a:xfrm>
            <a:off x="1822320" y="5121360"/>
            <a:ext cx="274680" cy="261720"/>
          </a:xfrm>
          <a:prstGeom prst="rect">
            <a:avLst/>
          </a:prstGeom>
          <a:ln w="0">
            <a:noFill/>
          </a:ln>
        </p:spPr>
      </p:pic>
      <p:pic>
        <p:nvPicPr>
          <p:cNvPr id="1511" name="组合 253" descr=""/>
          <p:cNvPicPr/>
          <p:nvPr/>
        </p:nvPicPr>
        <p:blipFill>
          <a:blip r:embed="rId44"/>
          <a:stretch/>
        </p:blipFill>
        <p:spPr>
          <a:xfrm>
            <a:off x="2389320" y="5114880"/>
            <a:ext cx="244440" cy="274680"/>
          </a:xfrm>
          <a:prstGeom prst="rect">
            <a:avLst/>
          </a:prstGeom>
          <a:ln w="0">
            <a:noFill/>
          </a:ln>
        </p:spPr>
      </p:pic>
      <p:sp>
        <p:nvSpPr>
          <p:cNvPr id="1512" name="Freeform 217"/>
          <p:cNvSpPr/>
          <p:nvPr/>
        </p:nvSpPr>
        <p:spPr>
          <a:xfrm>
            <a:off x="9042480" y="5114880"/>
            <a:ext cx="172800" cy="274680"/>
          </a:xfrm>
          <a:custGeom>
            <a:avLst/>
            <a:gdLst/>
            <a:ahLst/>
            <a:rect l="l" t="t" r="r" b="b"/>
            <a:pathLst>
              <a:path w="180" h="287">
                <a:moveTo>
                  <a:pt x="92" y="1"/>
                </a:moveTo>
                <a:cubicBezTo>
                  <a:pt x="92" y="0"/>
                  <a:pt x="91" y="0"/>
                  <a:pt x="90" y="0"/>
                </a:cubicBezTo>
                <a:cubicBezTo>
                  <a:pt x="89" y="0"/>
                  <a:pt x="88" y="0"/>
                  <a:pt x="87" y="1"/>
                </a:cubicBezTo>
                <a:cubicBezTo>
                  <a:pt x="84" y="6"/>
                  <a:pt x="0" y="122"/>
                  <a:pt x="0" y="181"/>
                </a:cubicBezTo>
                <a:cubicBezTo>
                  <a:pt x="0" y="282"/>
                  <a:pt x="75" y="287"/>
                  <a:pt x="90" y="287"/>
                </a:cubicBezTo>
                <a:cubicBezTo>
                  <a:pt x="105" y="287"/>
                  <a:pt x="180" y="282"/>
                  <a:pt x="180" y="181"/>
                </a:cubicBezTo>
                <a:cubicBezTo>
                  <a:pt x="180" y="123"/>
                  <a:pt x="96" y="6"/>
                  <a:pt x="92" y="1"/>
                </a:cubicBezTo>
                <a:close/>
                <a:moveTo>
                  <a:pt x="59" y="179"/>
                </a:moveTo>
                <a:cubicBezTo>
                  <a:pt x="62" y="191"/>
                  <a:pt x="65" y="197"/>
                  <a:pt x="69" y="202"/>
                </a:cubicBezTo>
                <a:cubicBezTo>
                  <a:pt x="71" y="207"/>
                  <a:pt x="74" y="211"/>
                  <a:pt x="76" y="219"/>
                </a:cubicBezTo>
                <a:cubicBezTo>
                  <a:pt x="77" y="225"/>
                  <a:pt x="76" y="231"/>
                  <a:pt x="72" y="236"/>
                </a:cubicBezTo>
                <a:cubicBezTo>
                  <a:pt x="69" y="240"/>
                  <a:pt x="64" y="243"/>
                  <a:pt x="58" y="243"/>
                </a:cubicBezTo>
                <a:cubicBezTo>
                  <a:pt x="55" y="243"/>
                  <a:pt x="51" y="241"/>
                  <a:pt x="48" y="239"/>
                </a:cubicBezTo>
                <a:cubicBezTo>
                  <a:pt x="34" y="231"/>
                  <a:pt x="25" y="202"/>
                  <a:pt x="29" y="174"/>
                </a:cubicBezTo>
                <a:cubicBezTo>
                  <a:pt x="32" y="147"/>
                  <a:pt x="56" y="99"/>
                  <a:pt x="57" y="97"/>
                </a:cubicBezTo>
                <a:cubicBezTo>
                  <a:pt x="58" y="95"/>
                  <a:pt x="60" y="95"/>
                  <a:pt x="61" y="95"/>
                </a:cubicBezTo>
                <a:cubicBezTo>
                  <a:pt x="63" y="96"/>
                  <a:pt x="64" y="98"/>
                  <a:pt x="63" y="99"/>
                </a:cubicBezTo>
                <a:cubicBezTo>
                  <a:pt x="51" y="135"/>
                  <a:pt x="55" y="161"/>
                  <a:pt x="59" y="17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Freeform 218"/>
          <p:cNvSpPr/>
          <p:nvPr/>
        </p:nvSpPr>
        <p:spPr>
          <a:xfrm>
            <a:off x="9566280" y="5114880"/>
            <a:ext cx="214200" cy="274680"/>
          </a:xfrm>
          <a:custGeom>
            <a:avLst/>
            <a:gdLst/>
            <a:ahLst/>
            <a:rect l="l" t="t" r="r" b="b"/>
            <a:pathLst>
              <a:path w="224" h="287">
                <a:moveTo>
                  <a:pt x="224" y="119"/>
                </a:moveTo>
                <a:cubicBezTo>
                  <a:pt x="224" y="6"/>
                  <a:pt x="131" y="0"/>
                  <a:pt x="112" y="0"/>
                </a:cubicBezTo>
                <a:cubicBezTo>
                  <a:pt x="93" y="0"/>
                  <a:pt x="0" y="6"/>
                  <a:pt x="0" y="119"/>
                </a:cubicBezTo>
                <a:cubicBezTo>
                  <a:pt x="0" y="201"/>
                  <a:pt x="76" y="247"/>
                  <a:pt x="98" y="258"/>
                </a:cubicBezTo>
                <a:cubicBezTo>
                  <a:pt x="85" y="282"/>
                  <a:pt x="85" y="282"/>
                  <a:pt x="85" y="282"/>
                </a:cubicBezTo>
                <a:cubicBezTo>
                  <a:pt x="84" y="283"/>
                  <a:pt x="84" y="284"/>
                  <a:pt x="85" y="285"/>
                </a:cubicBezTo>
                <a:cubicBezTo>
                  <a:pt x="86" y="287"/>
                  <a:pt x="87" y="287"/>
                  <a:pt x="88" y="287"/>
                </a:cubicBezTo>
                <a:cubicBezTo>
                  <a:pt x="136" y="287"/>
                  <a:pt x="136" y="287"/>
                  <a:pt x="136" y="287"/>
                </a:cubicBezTo>
                <a:cubicBezTo>
                  <a:pt x="138" y="287"/>
                  <a:pt x="139" y="287"/>
                  <a:pt x="140" y="285"/>
                </a:cubicBezTo>
                <a:cubicBezTo>
                  <a:pt x="140" y="284"/>
                  <a:pt x="140" y="283"/>
                  <a:pt x="140" y="282"/>
                </a:cubicBezTo>
                <a:cubicBezTo>
                  <a:pt x="127" y="258"/>
                  <a:pt x="127" y="258"/>
                  <a:pt x="127" y="258"/>
                </a:cubicBezTo>
                <a:cubicBezTo>
                  <a:pt x="149" y="247"/>
                  <a:pt x="224" y="202"/>
                  <a:pt x="224" y="119"/>
                </a:cubicBezTo>
                <a:close/>
                <a:moveTo>
                  <a:pt x="37" y="130"/>
                </a:moveTo>
                <a:cubicBezTo>
                  <a:pt x="36" y="130"/>
                  <a:pt x="36" y="129"/>
                  <a:pt x="36" y="128"/>
                </a:cubicBezTo>
                <a:cubicBezTo>
                  <a:pt x="35" y="126"/>
                  <a:pt x="28" y="84"/>
                  <a:pt x="49" y="60"/>
                </a:cubicBezTo>
                <a:cubicBezTo>
                  <a:pt x="56" y="52"/>
                  <a:pt x="66" y="52"/>
                  <a:pt x="79" y="59"/>
                </a:cubicBezTo>
                <a:cubicBezTo>
                  <a:pt x="80" y="60"/>
                  <a:pt x="81" y="62"/>
                  <a:pt x="82" y="63"/>
                </a:cubicBezTo>
                <a:cubicBezTo>
                  <a:pt x="82" y="68"/>
                  <a:pt x="79" y="73"/>
                  <a:pt x="74" y="80"/>
                </a:cubicBezTo>
                <a:cubicBezTo>
                  <a:pt x="72" y="83"/>
                  <a:pt x="70" y="86"/>
                  <a:pt x="69" y="88"/>
                </a:cubicBezTo>
                <a:cubicBezTo>
                  <a:pt x="64" y="99"/>
                  <a:pt x="62" y="110"/>
                  <a:pt x="61" y="118"/>
                </a:cubicBezTo>
                <a:cubicBezTo>
                  <a:pt x="59" y="127"/>
                  <a:pt x="58" y="132"/>
                  <a:pt x="54" y="133"/>
                </a:cubicBezTo>
                <a:cubicBezTo>
                  <a:pt x="52" y="133"/>
                  <a:pt x="51" y="134"/>
                  <a:pt x="49" y="134"/>
                </a:cubicBezTo>
                <a:cubicBezTo>
                  <a:pt x="45" y="134"/>
                  <a:pt x="39" y="133"/>
                  <a:pt x="37" y="1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Freeform 219"/>
          <p:cNvSpPr/>
          <p:nvPr/>
        </p:nvSpPr>
        <p:spPr>
          <a:xfrm>
            <a:off x="7370640" y="2901960"/>
            <a:ext cx="201600" cy="28260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205" y="64"/>
                </a:moveTo>
                <a:cubicBezTo>
                  <a:pt x="61" y="11"/>
                  <a:pt x="61" y="11"/>
                  <a:pt x="61" y="11"/>
                </a:cubicBezTo>
                <a:cubicBezTo>
                  <a:pt x="58" y="10"/>
                  <a:pt x="32" y="0"/>
                  <a:pt x="11" y="19"/>
                </a:cubicBezTo>
                <a:cubicBezTo>
                  <a:pt x="4" y="26"/>
                  <a:pt x="0" y="35"/>
                  <a:pt x="0" y="45"/>
                </a:cubicBezTo>
                <a:cubicBezTo>
                  <a:pt x="0" y="47"/>
                  <a:pt x="1" y="48"/>
                  <a:pt x="1" y="50"/>
                </a:cubicBezTo>
                <a:cubicBezTo>
                  <a:pt x="1" y="228"/>
                  <a:pt x="1" y="228"/>
                  <a:pt x="1" y="228"/>
                </a:cubicBezTo>
                <a:cubicBezTo>
                  <a:pt x="1" y="232"/>
                  <a:pt x="3" y="236"/>
                  <a:pt x="7" y="237"/>
                </a:cubicBezTo>
                <a:cubicBezTo>
                  <a:pt x="153" y="295"/>
                  <a:pt x="153" y="295"/>
                  <a:pt x="153" y="295"/>
                </a:cubicBezTo>
                <a:cubicBezTo>
                  <a:pt x="154" y="295"/>
                  <a:pt x="156" y="295"/>
                  <a:pt x="157" y="295"/>
                </a:cubicBezTo>
                <a:cubicBezTo>
                  <a:pt x="159" y="295"/>
                  <a:pt x="161" y="295"/>
                  <a:pt x="162" y="294"/>
                </a:cubicBezTo>
                <a:cubicBezTo>
                  <a:pt x="165" y="292"/>
                  <a:pt x="166" y="289"/>
                  <a:pt x="166" y="286"/>
                </a:cubicBezTo>
                <a:cubicBezTo>
                  <a:pt x="166" y="276"/>
                  <a:pt x="166" y="276"/>
                  <a:pt x="166" y="276"/>
                </a:cubicBezTo>
                <a:cubicBezTo>
                  <a:pt x="193" y="251"/>
                  <a:pt x="193" y="251"/>
                  <a:pt x="193" y="251"/>
                </a:cubicBezTo>
                <a:cubicBezTo>
                  <a:pt x="195" y="254"/>
                  <a:pt x="198" y="256"/>
                  <a:pt x="201" y="256"/>
                </a:cubicBezTo>
                <a:cubicBezTo>
                  <a:pt x="207" y="256"/>
                  <a:pt x="211" y="251"/>
                  <a:pt x="211" y="246"/>
                </a:cubicBezTo>
                <a:cubicBezTo>
                  <a:pt x="211" y="73"/>
                  <a:pt x="211" y="73"/>
                  <a:pt x="211" y="73"/>
                </a:cubicBezTo>
                <a:cubicBezTo>
                  <a:pt x="211" y="69"/>
                  <a:pt x="208" y="66"/>
                  <a:pt x="205" y="64"/>
                </a:cubicBezTo>
                <a:close/>
                <a:moveTo>
                  <a:pt x="21" y="49"/>
                </a:moveTo>
                <a:cubicBezTo>
                  <a:pt x="20" y="48"/>
                  <a:pt x="19" y="46"/>
                  <a:pt x="19" y="44"/>
                </a:cubicBezTo>
                <a:cubicBezTo>
                  <a:pt x="19" y="40"/>
                  <a:pt x="21" y="36"/>
                  <a:pt x="24" y="33"/>
                </a:cubicBezTo>
                <a:cubicBezTo>
                  <a:pt x="36" y="22"/>
                  <a:pt x="54" y="28"/>
                  <a:pt x="54" y="28"/>
                </a:cubicBezTo>
                <a:cubicBezTo>
                  <a:pt x="54" y="28"/>
                  <a:pt x="54" y="29"/>
                  <a:pt x="55" y="29"/>
                </a:cubicBezTo>
                <a:cubicBezTo>
                  <a:pt x="190" y="79"/>
                  <a:pt x="190" y="79"/>
                  <a:pt x="190" y="79"/>
                </a:cubicBezTo>
                <a:cubicBezTo>
                  <a:pt x="161" y="106"/>
                  <a:pt x="161" y="106"/>
                  <a:pt x="161" y="106"/>
                </a:cubicBezTo>
                <a:cubicBezTo>
                  <a:pt x="161" y="106"/>
                  <a:pt x="161" y="106"/>
                  <a:pt x="160" y="106"/>
                </a:cubicBezTo>
                <a:lnTo>
                  <a:pt x="21" y="49"/>
                </a:lnTo>
                <a:close/>
                <a:moveTo>
                  <a:pt x="166" y="111"/>
                </a:moveTo>
                <a:cubicBezTo>
                  <a:pt x="192" y="86"/>
                  <a:pt x="192" y="86"/>
                  <a:pt x="192" y="86"/>
                </a:cubicBezTo>
                <a:cubicBezTo>
                  <a:pt x="192" y="244"/>
                  <a:pt x="192" y="244"/>
                  <a:pt x="192" y="244"/>
                </a:cubicBezTo>
                <a:cubicBezTo>
                  <a:pt x="166" y="268"/>
                  <a:pt x="166" y="268"/>
                  <a:pt x="166" y="268"/>
                </a:cubicBezTo>
                <a:cubicBezTo>
                  <a:pt x="166" y="115"/>
                  <a:pt x="166" y="115"/>
                  <a:pt x="166" y="115"/>
                </a:cubicBezTo>
                <a:cubicBezTo>
                  <a:pt x="166" y="114"/>
                  <a:pt x="166" y="112"/>
                  <a:pt x="166" y="11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Freeform 220"/>
          <p:cNvSpPr/>
          <p:nvPr/>
        </p:nvSpPr>
        <p:spPr>
          <a:xfrm>
            <a:off x="1271520" y="4044960"/>
            <a:ext cx="276120" cy="206280"/>
          </a:xfrm>
          <a:custGeom>
            <a:avLst/>
            <a:gdLst/>
            <a:ahLst/>
            <a:rect l="l" t="t" r="r" b="b"/>
            <a:pathLst>
              <a:path w="174" h="130">
                <a:moveTo>
                  <a:pt x="159" y="117"/>
                </a:moveTo>
                <a:lnTo>
                  <a:pt x="159" y="0"/>
                </a:lnTo>
                <a:lnTo>
                  <a:pt x="124" y="0"/>
                </a:lnTo>
                <a:lnTo>
                  <a:pt x="124" y="117"/>
                </a:lnTo>
                <a:lnTo>
                  <a:pt x="104" y="117"/>
                </a:lnTo>
                <a:lnTo>
                  <a:pt x="104" y="72"/>
                </a:lnTo>
                <a:lnTo>
                  <a:pt x="69" y="72"/>
                </a:lnTo>
                <a:lnTo>
                  <a:pt x="69" y="117"/>
                </a:lnTo>
                <a:lnTo>
                  <a:pt x="50" y="117"/>
                </a:lnTo>
                <a:lnTo>
                  <a:pt x="50" y="32"/>
                </a:lnTo>
                <a:lnTo>
                  <a:pt x="15" y="32"/>
                </a:lnTo>
                <a:lnTo>
                  <a:pt x="15" y="117"/>
                </a:lnTo>
                <a:lnTo>
                  <a:pt x="0" y="117"/>
                </a:lnTo>
                <a:lnTo>
                  <a:pt x="0" y="130"/>
                </a:lnTo>
                <a:lnTo>
                  <a:pt x="174" y="130"/>
                </a:lnTo>
                <a:lnTo>
                  <a:pt x="174" y="117"/>
                </a:lnTo>
                <a:lnTo>
                  <a:pt x="159" y="11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Freeform 221"/>
          <p:cNvSpPr/>
          <p:nvPr/>
        </p:nvSpPr>
        <p:spPr>
          <a:xfrm>
            <a:off x="4579920" y="4562640"/>
            <a:ext cx="276120" cy="27612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87" y="40"/>
                </a:moveTo>
                <a:lnTo>
                  <a:pt x="93" y="60"/>
                </a:lnTo>
                <a:lnTo>
                  <a:pt x="134" y="41"/>
                </a:lnTo>
                <a:lnTo>
                  <a:pt x="114" y="80"/>
                </a:lnTo>
                <a:lnTo>
                  <a:pt x="134" y="87"/>
                </a:lnTo>
                <a:lnTo>
                  <a:pt x="114" y="94"/>
                </a:lnTo>
                <a:lnTo>
                  <a:pt x="134" y="135"/>
                </a:lnTo>
                <a:lnTo>
                  <a:pt x="93" y="115"/>
                </a:lnTo>
                <a:lnTo>
                  <a:pt x="87" y="135"/>
                </a:lnTo>
                <a:lnTo>
                  <a:pt x="80" y="115"/>
                </a:lnTo>
                <a:lnTo>
                  <a:pt x="39" y="135"/>
                </a:lnTo>
                <a:lnTo>
                  <a:pt x="60" y="94"/>
                </a:lnTo>
                <a:lnTo>
                  <a:pt x="39" y="87"/>
                </a:lnTo>
                <a:lnTo>
                  <a:pt x="60" y="80"/>
                </a:lnTo>
                <a:lnTo>
                  <a:pt x="39" y="40"/>
                </a:lnTo>
                <a:lnTo>
                  <a:pt x="80" y="60"/>
                </a:lnTo>
                <a:lnTo>
                  <a:pt x="87" y="40"/>
                </a:lnTo>
                <a:close/>
                <a:moveTo>
                  <a:pt x="87" y="0"/>
                </a:moveTo>
                <a:lnTo>
                  <a:pt x="73" y="43"/>
                </a:lnTo>
                <a:lnTo>
                  <a:pt x="11" y="12"/>
                </a:lnTo>
                <a:lnTo>
                  <a:pt x="42" y="73"/>
                </a:lnTo>
                <a:lnTo>
                  <a:pt x="0" y="87"/>
                </a:lnTo>
                <a:lnTo>
                  <a:pt x="42" y="101"/>
                </a:lnTo>
                <a:lnTo>
                  <a:pt x="11" y="162"/>
                </a:lnTo>
                <a:lnTo>
                  <a:pt x="73" y="132"/>
                </a:lnTo>
                <a:lnTo>
                  <a:pt x="87" y="174"/>
                </a:lnTo>
                <a:lnTo>
                  <a:pt x="101" y="132"/>
                </a:lnTo>
                <a:lnTo>
                  <a:pt x="162" y="163"/>
                </a:lnTo>
                <a:lnTo>
                  <a:pt x="131" y="101"/>
                </a:lnTo>
                <a:lnTo>
                  <a:pt x="174" y="87"/>
                </a:lnTo>
                <a:lnTo>
                  <a:pt x="131" y="73"/>
                </a:lnTo>
                <a:lnTo>
                  <a:pt x="162" y="13"/>
                </a:lnTo>
                <a:lnTo>
                  <a:pt x="101" y="43"/>
                </a:lnTo>
                <a:lnTo>
                  <a:pt x="8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7" name="组合 262" descr=""/>
          <p:cNvPicPr/>
          <p:nvPr/>
        </p:nvPicPr>
        <p:blipFill>
          <a:blip r:embed="rId45"/>
          <a:stretch/>
        </p:blipFill>
        <p:spPr>
          <a:xfrm>
            <a:off x="4578480" y="29084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18" name="组合 269" descr=""/>
          <p:cNvPicPr/>
          <p:nvPr/>
        </p:nvPicPr>
        <p:blipFill>
          <a:blip r:embed="rId46"/>
          <a:stretch/>
        </p:blipFill>
        <p:spPr>
          <a:xfrm>
            <a:off x="5724360" y="2908440"/>
            <a:ext cx="195480" cy="272880"/>
          </a:xfrm>
          <a:prstGeom prst="rect">
            <a:avLst/>
          </a:prstGeom>
          <a:ln w="0">
            <a:noFill/>
          </a:ln>
        </p:spPr>
      </p:pic>
      <p:pic>
        <p:nvPicPr>
          <p:cNvPr id="1519" name="组合 277" descr=""/>
          <p:cNvPicPr/>
          <p:nvPr/>
        </p:nvPicPr>
        <p:blipFill>
          <a:blip r:embed="rId47"/>
          <a:stretch/>
        </p:blipFill>
        <p:spPr>
          <a:xfrm>
            <a:off x="5157720" y="2908440"/>
            <a:ext cx="225360" cy="272880"/>
          </a:xfrm>
          <a:prstGeom prst="rect">
            <a:avLst/>
          </a:prstGeom>
          <a:ln w="0">
            <a:noFill/>
          </a:ln>
        </p:spPr>
      </p:pic>
      <p:sp>
        <p:nvSpPr>
          <p:cNvPr id="1520" name="Freeform 243"/>
          <p:cNvSpPr/>
          <p:nvPr/>
        </p:nvSpPr>
        <p:spPr>
          <a:xfrm>
            <a:off x="788688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64" y="144"/>
                </a:moveTo>
                <a:cubicBezTo>
                  <a:pt x="264" y="210"/>
                  <a:pt x="211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64" y="144"/>
                  <a:pt x="264" y="144"/>
                  <a:pt x="26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Freeform 244"/>
          <p:cNvSpPr/>
          <p:nvPr/>
        </p:nvSpPr>
        <p:spPr>
          <a:xfrm>
            <a:off x="7335720" y="34592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4" y="0"/>
                  <a:pt x="0" y="65"/>
                  <a:pt x="0" y="144"/>
                </a:cubicBezTo>
                <a:cubicBezTo>
                  <a:pt x="0" y="224"/>
                  <a:pt x="64" y="288"/>
                  <a:pt x="144" y="288"/>
                </a:cubicBezTo>
                <a:cubicBezTo>
                  <a:pt x="223" y="288"/>
                  <a:pt x="288" y="224"/>
                  <a:pt x="288" y="144"/>
                </a:cubicBezTo>
                <a:cubicBezTo>
                  <a:pt x="288" y="65"/>
                  <a:pt x="223" y="0"/>
                  <a:pt x="144" y="0"/>
                </a:cubicBezTo>
                <a:close/>
                <a:moveTo>
                  <a:pt x="144" y="264"/>
                </a:moveTo>
                <a:cubicBezTo>
                  <a:pt x="78" y="264"/>
                  <a:pt x="24" y="210"/>
                  <a:pt x="24" y="144"/>
                </a:cubicBezTo>
                <a:cubicBezTo>
                  <a:pt x="24" y="78"/>
                  <a:pt x="78" y="24"/>
                  <a:pt x="144" y="24"/>
                </a:cubicBezTo>
                <a:cubicBezTo>
                  <a:pt x="144" y="144"/>
                  <a:pt x="144" y="144"/>
                  <a:pt x="144" y="144"/>
                </a:cubicBezTo>
                <a:cubicBezTo>
                  <a:pt x="229" y="60"/>
                  <a:pt x="229" y="60"/>
                  <a:pt x="229" y="60"/>
                </a:cubicBezTo>
                <a:cubicBezTo>
                  <a:pt x="251" y="82"/>
                  <a:pt x="264" y="111"/>
                  <a:pt x="264" y="144"/>
                </a:cubicBezTo>
                <a:cubicBezTo>
                  <a:pt x="264" y="210"/>
                  <a:pt x="210" y="264"/>
                  <a:pt x="144" y="26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2" name="组合 287" descr=""/>
          <p:cNvPicPr/>
          <p:nvPr/>
        </p:nvPicPr>
        <p:blipFill>
          <a:blip r:embed="rId48"/>
          <a:stretch/>
        </p:blipFill>
        <p:spPr>
          <a:xfrm>
            <a:off x="9540720" y="4559400"/>
            <a:ext cx="279720" cy="280800"/>
          </a:xfrm>
          <a:prstGeom prst="rect">
            <a:avLst/>
          </a:prstGeom>
          <a:ln w="0">
            <a:noFill/>
          </a:ln>
        </p:spPr>
      </p:pic>
      <p:sp>
        <p:nvSpPr>
          <p:cNvPr id="1523" name="Freeform 247"/>
          <p:cNvSpPr/>
          <p:nvPr/>
        </p:nvSpPr>
        <p:spPr>
          <a:xfrm>
            <a:off x="10091880" y="4597560"/>
            <a:ext cx="242640" cy="24120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45" y="125"/>
                </a:moveTo>
                <a:lnTo>
                  <a:pt x="38" y="118"/>
                </a:lnTo>
                <a:lnTo>
                  <a:pt x="139" y="17"/>
                </a:lnTo>
                <a:lnTo>
                  <a:pt x="136" y="14"/>
                </a:lnTo>
                <a:lnTo>
                  <a:pt x="35" y="114"/>
                </a:lnTo>
                <a:lnTo>
                  <a:pt x="28" y="108"/>
                </a:lnTo>
                <a:lnTo>
                  <a:pt x="128" y="6"/>
                </a:lnTo>
                <a:lnTo>
                  <a:pt x="122" y="0"/>
                </a:lnTo>
                <a:lnTo>
                  <a:pt x="16" y="106"/>
                </a:lnTo>
                <a:lnTo>
                  <a:pt x="0" y="152"/>
                </a:lnTo>
                <a:lnTo>
                  <a:pt x="47" y="137"/>
                </a:lnTo>
                <a:lnTo>
                  <a:pt x="153" y="31"/>
                </a:lnTo>
                <a:lnTo>
                  <a:pt x="146" y="24"/>
                </a:lnTo>
                <a:lnTo>
                  <a:pt x="45" y="125"/>
                </a:lnTo>
                <a:close/>
                <a:moveTo>
                  <a:pt x="22" y="119"/>
                </a:moveTo>
                <a:lnTo>
                  <a:pt x="34" y="131"/>
                </a:lnTo>
                <a:lnTo>
                  <a:pt x="16" y="137"/>
                </a:lnTo>
                <a:lnTo>
                  <a:pt x="22" y="11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Freeform 248"/>
          <p:cNvSpPr/>
          <p:nvPr/>
        </p:nvSpPr>
        <p:spPr>
          <a:xfrm>
            <a:off x="10301400" y="4562640"/>
            <a:ext cx="85680" cy="68040"/>
          </a:xfrm>
          <a:custGeom>
            <a:avLst/>
            <a:gdLst/>
            <a:ahLst/>
            <a:rect l="l" t="t" r="r" b="b"/>
            <a:pathLst>
              <a:path w="89" h="71">
                <a:moveTo>
                  <a:pt x="52" y="71"/>
                </a:moveTo>
                <a:cubicBezTo>
                  <a:pt x="55" y="68"/>
                  <a:pt x="55" y="68"/>
                  <a:pt x="55" y="68"/>
                </a:cubicBezTo>
                <a:cubicBezTo>
                  <a:pt x="55" y="68"/>
                  <a:pt x="89" y="42"/>
                  <a:pt x="59" y="12"/>
                </a:cubicBezTo>
                <a:cubicBezTo>
                  <a:pt x="49" y="3"/>
                  <a:pt x="41" y="0"/>
                  <a:pt x="33" y="0"/>
                </a:cubicBezTo>
                <a:cubicBezTo>
                  <a:pt x="15" y="0"/>
                  <a:pt x="3" y="16"/>
                  <a:pt x="3" y="16"/>
                </a:cubicBezTo>
                <a:cubicBezTo>
                  <a:pt x="0" y="19"/>
                  <a:pt x="0" y="19"/>
                  <a:pt x="0" y="19"/>
                </a:cubicBezTo>
                <a:lnTo>
                  <a:pt x="52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5" name="组合 292" descr=""/>
          <p:cNvPicPr/>
          <p:nvPr/>
        </p:nvPicPr>
        <p:blipFill>
          <a:blip r:embed="rId49"/>
          <a:stretch/>
        </p:blipFill>
        <p:spPr>
          <a:xfrm>
            <a:off x="2378160" y="6261120"/>
            <a:ext cx="272880" cy="189000"/>
          </a:xfrm>
          <a:prstGeom prst="rect">
            <a:avLst/>
          </a:prstGeom>
          <a:ln w="0">
            <a:noFill/>
          </a:ln>
        </p:spPr>
      </p:pic>
      <p:pic>
        <p:nvPicPr>
          <p:cNvPr id="1526" name="组合 303" descr=""/>
          <p:cNvPicPr/>
          <p:nvPr/>
        </p:nvPicPr>
        <p:blipFill>
          <a:blip r:embed="rId50"/>
          <a:stretch/>
        </p:blipFill>
        <p:spPr>
          <a:xfrm>
            <a:off x="2925720" y="6267600"/>
            <a:ext cx="274680" cy="182520"/>
          </a:xfrm>
          <a:prstGeom prst="rect">
            <a:avLst/>
          </a:prstGeom>
          <a:ln w="0">
            <a:noFill/>
          </a:ln>
        </p:spPr>
      </p:pic>
      <p:pic>
        <p:nvPicPr>
          <p:cNvPr id="1527" name="组合 306" descr=""/>
          <p:cNvPicPr/>
          <p:nvPr/>
        </p:nvPicPr>
        <p:blipFill>
          <a:blip r:embed="rId51"/>
          <a:stretch/>
        </p:blipFill>
        <p:spPr>
          <a:xfrm>
            <a:off x="3475080" y="6211800"/>
            <a:ext cx="279360" cy="281160"/>
          </a:xfrm>
          <a:prstGeom prst="rect">
            <a:avLst/>
          </a:prstGeom>
          <a:ln w="0">
            <a:noFill/>
          </a:ln>
        </p:spPr>
      </p:pic>
      <p:pic>
        <p:nvPicPr>
          <p:cNvPr id="1528" name="组合 324" descr=""/>
          <p:cNvPicPr/>
          <p:nvPr/>
        </p:nvPicPr>
        <p:blipFill>
          <a:blip r:embed="rId52"/>
          <a:stretch/>
        </p:blipFill>
        <p:spPr>
          <a:xfrm>
            <a:off x="6235560" y="5114880"/>
            <a:ext cx="274680" cy="279360"/>
          </a:xfrm>
          <a:prstGeom prst="rect">
            <a:avLst/>
          </a:prstGeom>
          <a:ln w="0">
            <a:noFill/>
          </a:ln>
        </p:spPr>
      </p:pic>
      <p:pic>
        <p:nvPicPr>
          <p:cNvPr id="1529" name="组合 328" descr=""/>
          <p:cNvPicPr/>
          <p:nvPr/>
        </p:nvPicPr>
        <p:blipFill>
          <a:blip r:embed="rId53"/>
          <a:stretch/>
        </p:blipFill>
        <p:spPr>
          <a:xfrm>
            <a:off x="6242040" y="2908440"/>
            <a:ext cx="255600" cy="272880"/>
          </a:xfrm>
          <a:prstGeom prst="rect">
            <a:avLst/>
          </a:prstGeom>
          <a:ln w="0">
            <a:noFill/>
          </a:ln>
        </p:spPr>
      </p:pic>
      <p:pic>
        <p:nvPicPr>
          <p:cNvPr id="1530" name="组合 331" descr=""/>
          <p:cNvPicPr/>
          <p:nvPr/>
        </p:nvPicPr>
        <p:blipFill>
          <a:blip r:embed="rId54"/>
          <a:stretch/>
        </p:blipFill>
        <p:spPr>
          <a:xfrm>
            <a:off x="1822320" y="4591080"/>
            <a:ext cx="274680" cy="225360"/>
          </a:xfrm>
          <a:prstGeom prst="rect">
            <a:avLst/>
          </a:prstGeom>
          <a:ln w="0">
            <a:noFill/>
          </a:ln>
        </p:spPr>
      </p:pic>
      <p:sp>
        <p:nvSpPr>
          <p:cNvPr id="1531" name="Freeform 286"/>
          <p:cNvSpPr/>
          <p:nvPr/>
        </p:nvSpPr>
        <p:spPr>
          <a:xfrm>
            <a:off x="1273320" y="2355840"/>
            <a:ext cx="272880" cy="276120"/>
          </a:xfrm>
          <a:custGeom>
            <a:avLst/>
            <a:gdLst/>
            <a:ahLst/>
            <a:rect l="l" t="t" r="r" b="b"/>
            <a:pathLst>
              <a:path w="285" h="288">
                <a:moveTo>
                  <a:pt x="144" y="288"/>
                </a:moveTo>
                <a:cubicBezTo>
                  <a:pt x="64" y="288"/>
                  <a:pt x="0" y="223"/>
                  <a:pt x="0" y="144"/>
                </a:cubicBezTo>
                <a:cubicBezTo>
                  <a:pt x="0" y="65"/>
                  <a:pt x="64" y="0"/>
                  <a:pt x="144" y="0"/>
                </a:cubicBezTo>
                <a:cubicBezTo>
                  <a:pt x="211" y="0"/>
                  <a:pt x="270" y="48"/>
                  <a:pt x="284" y="114"/>
                </a:cubicBezTo>
                <a:cubicBezTo>
                  <a:pt x="285" y="115"/>
                  <a:pt x="285" y="116"/>
                  <a:pt x="285" y="118"/>
                </a:cubicBezTo>
                <a:cubicBezTo>
                  <a:pt x="285" y="124"/>
                  <a:pt x="280" y="129"/>
                  <a:pt x="273" y="129"/>
                </a:cubicBezTo>
                <a:cubicBezTo>
                  <a:pt x="273" y="129"/>
                  <a:pt x="273" y="129"/>
                  <a:pt x="273" y="129"/>
                </a:cubicBezTo>
                <a:cubicBezTo>
                  <a:pt x="173" y="129"/>
                  <a:pt x="173" y="129"/>
                  <a:pt x="173" y="129"/>
                </a:cubicBezTo>
                <a:cubicBezTo>
                  <a:pt x="167" y="129"/>
                  <a:pt x="162" y="124"/>
                  <a:pt x="162" y="118"/>
                </a:cubicBezTo>
                <a:cubicBezTo>
                  <a:pt x="162" y="93"/>
                  <a:pt x="162" y="93"/>
                  <a:pt x="162" y="93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70"/>
                  <a:pt x="162" y="170"/>
                  <a:pt x="162" y="170"/>
                </a:cubicBezTo>
                <a:cubicBezTo>
                  <a:pt x="162" y="164"/>
                  <a:pt x="167" y="159"/>
                  <a:pt x="173" y="159"/>
                </a:cubicBezTo>
                <a:cubicBezTo>
                  <a:pt x="273" y="159"/>
                  <a:pt x="273" y="159"/>
                  <a:pt x="273" y="159"/>
                </a:cubicBezTo>
                <a:cubicBezTo>
                  <a:pt x="277" y="159"/>
                  <a:pt x="280" y="160"/>
                  <a:pt x="282" y="163"/>
                </a:cubicBezTo>
                <a:cubicBezTo>
                  <a:pt x="284" y="166"/>
                  <a:pt x="285" y="169"/>
                  <a:pt x="284" y="173"/>
                </a:cubicBezTo>
                <a:cubicBezTo>
                  <a:pt x="271" y="239"/>
                  <a:pt x="212" y="288"/>
                  <a:pt x="144" y="288"/>
                </a:cubicBezTo>
                <a:close/>
                <a:moveTo>
                  <a:pt x="144" y="23"/>
                </a:moveTo>
                <a:cubicBezTo>
                  <a:pt x="77" y="23"/>
                  <a:pt x="23" y="77"/>
                  <a:pt x="23" y="144"/>
                </a:cubicBezTo>
                <a:cubicBezTo>
                  <a:pt x="23" y="211"/>
                  <a:pt x="77" y="265"/>
                  <a:pt x="144" y="265"/>
                </a:cubicBezTo>
                <a:cubicBezTo>
                  <a:pt x="196" y="265"/>
                  <a:pt x="242" y="231"/>
                  <a:pt x="258" y="182"/>
                </a:cubicBezTo>
                <a:cubicBezTo>
                  <a:pt x="185" y="182"/>
                  <a:pt x="185" y="182"/>
                  <a:pt x="185" y="182"/>
                </a:cubicBezTo>
                <a:cubicBezTo>
                  <a:pt x="185" y="220"/>
                  <a:pt x="185" y="220"/>
                  <a:pt x="185" y="220"/>
                </a:cubicBezTo>
                <a:cubicBezTo>
                  <a:pt x="185" y="224"/>
                  <a:pt x="182" y="228"/>
                  <a:pt x="178" y="230"/>
                </a:cubicBezTo>
                <a:cubicBezTo>
                  <a:pt x="174" y="232"/>
                  <a:pt x="169" y="232"/>
                  <a:pt x="166" y="229"/>
                </a:cubicBezTo>
                <a:cubicBezTo>
                  <a:pt x="78" y="153"/>
                  <a:pt x="78" y="153"/>
                  <a:pt x="78" y="153"/>
                </a:cubicBezTo>
                <a:cubicBezTo>
                  <a:pt x="75" y="150"/>
                  <a:pt x="74" y="147"/>
                  <a:pt x="74" y="144"/>
                </a:cubicBezTo>
                <a:cubicBezTo>
                  <a:pt x="74" y="141"/>
                  <a:pt x="75" y="138"/>
                  <a:pt x="78" y="135"/>
                </a:cubicBezTo>
                <a:cubicBezTo>
                  <a:pt x="166" y="59"/>
                  <a:pt x="166" y="59"/>
                  <a:pt x="166" y="59"/>
                </a:cubicBezTo>
                <a:cubicBezTo>
                  <a:pt x="169" y="56"/>
                  <a:pt x="174" y="56"/>
                  <a:pt x="178" y="58"/>
                </a:cubicBezTo>
                <a:cubicBezTo>
                  <a:pt x="182" y="60"/>
                  <a:pt x="185" y="64"/>
                  <a:pt x="185" y="68"/>
                </a:cubicBezTo>
                <a:cubicBezTo>
                  <a:pt x="185" y="106"/>
                  <a:pt x="185" y="106"/>
                  <a:pt x="185" y="106"/>
                </a:cubicBezTo>
                <a:cubicBezTo>
                  <a:pt x="258" y="106"/>
                  <a:pt x="258" y="106"/>
                  <a:pt x="258" y="106"/>
                </a:cubicBezTo>
                <a:cubicBezTo>
                  <a:pt x="242" y="57"/>
                  <a:pt x="196" y="23"/>
                  <a:pt x="144" y="2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2" name="组合 336" descr=""/>
          <p:cNvPicPr/>
          <p:nvPr/>
        </p:nvPicPr>
        <p:blipFill>
          <a:blip r:embed="rId55"/>
          <a:stretch/>
        </p:blipFill>
        <p:spPr>
          <a:xfrm>
            <a:off x="7888320" y="2352600"/>
            <a:ext cx="274680" cy="281160"/>
          </a:xfrm>
          <a:prstGeom prst="rect">
            <a:avLst/>
          </a:prstGeom>
          <a:ln w="0">
            <a:noFill/>
          </a:ln>
        </p:spPr>
      </p:pic>
      <p:sp>
        <p:nvSpPr>
          <p:cNvPr id="1533" name="Freeform 289"/>
          <p:cNvSpPr/>
          <p:nvPr/>
        </p:nvSpPr>
        <p:spPr>
          <a:xfrm>
            <a:off x="7891560" y="6216480"/>
            <a:ext cx="271440" cy="276480"/>
          </a:xfrm>
          <a:custGeom>
            <a:avLst/>
            <a:gdLst/>
            <a:ahLst/>
            <a:rect l="l" t="t" r="r" b="b"/>
            <a:pathLst>
              <a:path w="284" h="288">
                <a:moveTo>
                  <a:pt x="211" y="18"/>
                </a:moveTo>
                <a:cubicBezTo>
                  <a:pt x="177" y="1"/>
                  <a:pt x="144" y="0"/>
                  <a:pt x="14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7"/>
                  <a:pt x="0" y="67"/>
                  <a:pt x="0" y="67"/>
                </a:cubicBezTo>
                <a:cubicBezTo>
                  <a:pt x="140" y="67"/>
                  <a:pt x="140" y="67"/>
                  <a:pt x="140" y="67"/>
                </a:cubicBezTo>
                <a:cubicBezTo>
                  <a:pt x="141" y="67"/>
                  <a:pt x="161" y="68"/>
                  <a:pt x="180" y="78"/>
                </a:cubicBezTo>
                <a:cubicBezTo>
                  <a:pt x="205" y="91"/>
                  <a:pt x="217" y="112"/>
                  <a:pt x="217" y="145"/>
                </a:cubicBezTo>
                <a:cubicBezTo>
                  <a:pt x="217" y="177"/>
                  <a:pt x="206" y="198"/>
                  <a:pt x="182" y="210"/>
                </a:cubicBezTo>
                <a:cubicBezTo>
                  <a:pt x="162" y="221"/>
                  <a:pt x="140" y="221"/>
                  <a:pt x="140" y="221"/>
                </a:cubicBezTo>
                <a:cubicBezTo>
                  <a:pt x="0" y="221"/>
                  <a:pt x="0" y="221"/>
                  <a:pt x="0" y="221"/>
                </a:cubicBezTo>
                <a:cubicBezTo>
                  <a:pt x="0" y="288"/>
                  <a:pt x="0" y="288"/>
                  <a:pt x="0" y="288"/>
                </a:cubicBezTo>
                <a:cubicBezTo>
                  <a:pt x="140" y="288"/>
                  <a:pt x="140" y="288"/>
                  <a:pt x="140" y="288"/>
                </a:cubicBezTo>
                <a:cubicBezTo>
                  <a:pt x="144" y="288"/>
                  <a:pt x="177" y="288"/>
                  <a:pt x="210" y="271"/>
                </a:cubicBezTo>
                <a:cubicBezTo>
                  <a:pt x="258" y="247"/>
                  <a:pt x="284" y="203"/>
                  <a:pt x="284" y="145"/>
                </a:cubicBezTo>
                <a:cubicBezTo>
                  <a:pt x="284" y="87"/>
                  <a:pt x="258" y="42"/>
                  <a:pt x="211" y="18"/>
                </a:cubicBezTo>
                <a:close/>
                <a:moveTo>
                  <a:pt x="52" y="50"/>
                </a:moveTo>
                <a:cubicBezTo>
                  <a:pt x="19" y="50"/>
                  <a:pt x="19" y="50"/>
                  <a:pt x="19" y="50"/>
                </a:cubicBezTo>
                <a:cubicBezTo>
                  <a:pt x="19" y="17"/>
                  <a:pt x="19" y="17"/>
                  <a:pt x="19" y="17"/>
                </a:cubicBezTo>
                <a:cubicBezTo>
                  <a:pt x="52" y="17"/>
                  <a:pt x="52" y="17"/>
                  <a:pt x="52" y="17"/>
                </a:cubicBezTo>
                <a:lnTo>
                  <a:pt x="52" y="50"/>
                </a:lnTo>
                <a:close/>
                <a:moveTo>
                  <a:pt x="52" y="272"/>
                </a:moveTo>
                <a:cubicBezTo>
                  <a:pt x="19" y="272"/>
                  <a:pt x="19" y="272"/>
                  <a:pt x="19" y="272"/>
                </a:cubicBezTo>
                <a:cubicBezTo>
                  <a:pt x="19" y="238"/>
                  <a:pt x="19" y="238"/>
                  <a:pt x="19" y="238"/>
                </a:cubicBezTo>
                <a:cubicBezTo>
                  <a:pt x="52" y="238"/>
                  <a:pt x="52" y="238"/>
                  <a:pt x="52" y="238"/>
                </a:cubicBezTo>
                <a:lnTo>
                  <a:pt x="52" y="27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4" name="组合 340" descr=""/>
          <p:cNvPicPr/>
          <p:nvPr/>
        </p:nvPicPr>
        <p:blipFill>
          <a:blip r:embed="rId56"/>
          <a:stretch/>
        </p:blipFill>
        <p:spPr>
          <a:xfrm>
            <a:off x="7334280" y="6254640"/>
            <a:ext cx="279360" cy="201600"/>
          </a:xfrm>
          <a:prstGeom prst="rect">
            <a:avLst/>
          </a:prstGeom>
          <a:ln w="0">
            <a:noFill/>
          </a:ln>
        </p:spPr>
      </p:pic>
      <p:pic>
        <p:nvPicPr>
          <p:cNvPr id="1535" name="组合 349" descr=""/>
          <p:cNvPicPr/>
          <p:nvPr/>
        </p:nvPicPr>
        <p:blipFill>
          <a:blip r:embed="rId57"/>
          <a:stretch/>
        </p:blipFill>
        <p:spPr>
          <a:xfrm>
            <a:off x="4578480" y="3486240"/>
            <a:ext cx="279360" cy="226800"/>
          </a:xfrm>
          <a:prstGeom prst="rect">
            <a:avLst/>
          </a:prstGeom>
          <a:ln w="0">
            <a:noFill/>
          </a:ln>
        </p:spPr>
      </p:pic>
      <p:pic>
        <p:nvPicPr>
          <p:cNvPr id="1536" name="组合 354" descr=""/>
          <p:cNvPicPr/>
          <p:nvPr/>
        </p:nvPicPr>
        <p:blipFill>
          <a:blip r:embed="rId58"/>
          <a:stretch/>
        </p:blipFill>
        <p:spPr>
          <a:xfrm>
            <a:off x="5681520" y="3486240"/>
            <a:ext cx="274680" cy="226800"/>
          </a:xfrm>
          <a:prstGeom prst="rect">
            <a:avLst/>
          </a:prstGeom>
          <a:ln w="0">
            <a:noFill/>
          </a:ln>
        </p:spPr>
      </p:pic>
      <p:pic>
        <p:nvPicPr>
          <p:cNvPr id="1537" name="组合 359" descr=""/>
          <p:cNvPicPr/>
          <p:nvPr/>
        </p:nvPicPr>
        <p:blipFill>
          <a:blip r:embed="rId59"/>
          <a:stretch/>
        </p:blipFill>
        <p:spPr>
          <a:xfrm>
            <a:off x="5132520" y="3486240"/>
            <a:ext cx="274680" cy="22680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314"/>
          <p:cNvSpPr/>
          <p:nvPr/>
        </p:nvSpPr>
        <p:spPr>
          <a:xfrm>
            <a:off x="6234120" y="3487680"/>
            <a:ext cx="254160" cy="166680"/>
          </a:xfrm>
          <a:custGeom>
            <a:avLst/>
            <a:gdLst/>
            <a:ahLst/>
            <a:rect l="l" t="t" r="r" b="b"/>
            <a:pathLst>
              <a:path w="265" h="174">
                <a:moveTo>
                  <a:pt x="255" y="153"/>
                </a:moveTo>
                <a:cubicBezTo>
                  <a:pt x="113" y="153"/>
                  <a:pt x="113" y="153"/>
                  <a:pt x="113" y="153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3"/>
                  <a:pt x="58" y="0"/>
                  <a:pt x="54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16"/>
                  <a:pt x="5" y="21"/>
                  <a:pt x="10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95" y="167"/>
                  <a:pt x="95" y="167"/>
                  <a:pt x="95" y="167"/>
                </a:cubicBezTo>
                <a:cubicBezTo>
                  <a:pt x="97" y="171"/>
                  <a:pt x="101" y="174"/>
                  <a:pt x="105" y="174"/>
                </a:cubicBezTo>
                <a:cubicBezTo>
                  <a:pt x="255" y="174"/>
                  <a:pt x="255" y="174"/>
                  <a:pt x="255" y="174"/>
                </a:cubicBezTo>
                <a:cubicBezTo>
                  <a:pt x="261" y="174"/>
                  <a:pt x="265" y="169"/>
                  <a:pt x="265" y="164"/>
                </a:cubicBezTo>
                <a:cubicBezTo>
                  <a:pt x="265" y="158"/>
                  <a:pt x="261" y="153"/>
                  <a:pt x="255" y="15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9" name="组合 367" descr=""/>
          <p:cNvPicPr/>
          <p:nvPr/>
        </p:nvPicPr>
        <p:blipFill>
          <a:blip r:embed="rId60"/>
          <a:stretch/>
        </p:blipFill>
        <p:spPr>
          <a:xfrm>
            <a:off x="6321600" y="3511440"/>
            <a:ext cx="188640" cy="201600"/>
          </a:xfrm>
          <a:prstGeom prst="rect">
            <a:avLst/>
          </a:prstGeom>
          <a:ln w="0">
            <a:noFill/>
          </a:ln>
        </p:spPr>
      </p:pic>
      <p:pic>
        <p:nvPicPr>
          <p:cNvPr id="1540" name="组合 371" descr=""/>
          <p:cNvPicPr/>
          <p:nvPr/>
        </p:nvPicPr>
        <p:blipFill>
          <a:blip r:embed="rId61"/>
          <a:stretch/>
        </p:blipFill>
        <p:spPr>
          <a:xfrm>
            <a:off x="1274760" y="4591080"/>
            <a:ext cx="272880" cy="225360"/>
          </a:xfrm>
          <a:prstGeom prst="rect">
            <a:avLst/>
          </a:prstGeom>
          <a:ln w="0">
            <a:noFill/>
          </a:ln>
        </p:spPr>
      </p:pic>
      <p:pic>
        <p:nvPicPr>
          <p:cNvPr id="1541" name="组合 374" descr=""/>
          <p:cNvPicPr/>
          <p:nvPr/>
        </p:nvPicPr>
        <p:blipFill>
          <a:blip r:embed="rId62"/>
          <a:stretch/>
        </p:blipFill>
        <p:spPr>
          <a:xfrm>
            <a:off x="6821640" y="2908440"/>
            <a:ext cx="201600" cy="272880"/>
          </a:xfrm>
          <a:prstGeom prst="rect">
            <a:avLst/>
          </a:prstGeom>
          <a:ln w="0">
            <a:noFill/>
          </a:ln>
        </p:spPr>
      </p:pic>
      <p:sp>
        <p:nvSpPr>
          <p:cNvPr id="1542" name="Freeform 321"/>
          <p:cNvSpPr/>
          <p:nvPr/>
        </p:nvSpPr>
        <p:spPr>
          <a:xfrm>
            <a:off x="8439120" y="3459240"/>
            <a:ext cx="27612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24" y="144"/>
                </a:moveTo>
                <a:cubicBezTo>
                  <a:pt x="24" y="78"/>
                  <a:pt x="78" y="24"/>
                  <a:pt x="144" y="24"/>
                </a:cubicBezTo>
                <a:cubicBezTo>
                  <a:pt x="144" y="264"/>
                  <a:pt x="144" y="264"/>
                  <a:pt x="144" y="264"/>
                </a:cubicBezTo>
                <a:cubicBezTo>
                  <a:pt x="78" y="264"/>
                  <a:pt x="24" y="210"/>
                  <a:pt x="24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Freeform 322"/>
          <p:cNvSpPr/>
          <p:nvPr/>
        </p:nvSpPr>
        <p:spPr>
          <a:xfrm>
            <a:off x="6234120" y="4011480"/>
            <a:ext cx="276120" cy="274680"/>
          </a:xfrm>
          <a:custGeom>
            <a:avLst/>
            <a:gdLst/>
            <a:ahLst/>
            <a:rect l="l" t="t" r="r" b="b"/>
            <a:pathLst>
              <a:path w="287" h="287">
                <a:moveTo>
                  <a:pt x="249" y="220"/>
                </a:moveTo>
                <a:cubicBezTo>
                  <a:pt x="230" y="212"/>
                  <a:pt x="208" y="196"/>
                  <a:pt x="168" y="191"/>
                </a:cubicBezTo>
                <a:cubicBezTo>
                  <a:pt x="180" y="181"/>
                  <a:pt x="186" y="162"/>
                  <a:pt x="196" y="136"/>
                </a:cubicBezTo>
                <a:cubicBezTo>
                  <a:pt x="196" y="136"/>
                  <a:pt x="196" y="135"/>
                  <a:pt x="196" y="135"/>
                </a:cubicBezTo>
                <a:cubicBezTo>
                  <a:pt x="199" y="135"/>
                  <a:pt x="201" y="135"/>
                  <a:pt x="203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5" y="96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4" y="54"/>
                </a:cubicBezTo>
                <a:cubicBezTo>
                  <a:pt x="200" y="39"/>
                  <a:pt x="194" y="26"/>
                  <a:pt x="183" y="22"/>
                </a:cubicBezTo>
                <a:cubicBezTo>
                  <a:pt x="169" y="16"/>
                  <a:pt x="149" y="0"/>
                  <a:pt x="143" y="0"/>
                </a:cubicBezTo>
                <a:cubicBezTo>
                  <a:pt x="135" y="0"/>
                  <a:pt x="115" y="16"/>
                  <a:pt x="103" y="22"/>
                </a:cubicBezTo>
                <a:cubicBezTo>
                  <a:pt x="93" y="27"/>
                  <a:pt x="86" y="39"/>
                  <a:pt x="82" y="54"/>
                </a:cubicBezTo>
                <a:cubicBezTo>
                  <a:pt x="79" y="64"/>
                  <a:pt x="81" y="82"/>
                  <a:pt x="81" y="93"/>
                </a:cubicBezTo>
                <a:cubicBezTo>
                  <a:pt x="81" y="94"/>
                  <a:pt x="81" y="95"/>
                  <a:pt x="81" y="96"/>
                </a:cubicBezTo>
                <a:cubicBezTo>
                  <a:pt x="81" y="96"/>
                  <a:pt x="81" y="96"/>
                  <a:pt x="81" y="96"/>
                </a:cubicBezTo>
                <a:cubicBezTo>
                  <a:pt x="81" y="96"/>
                  <a:pt x="75" y="95"/>
                  <a:pt x="75" y="107"/>
                </a:cubicBezTo>
                <a:cubicBezTo>
                  <a:pt x="75" y="115"/>
                  <a:pt x="78" y="131"/>
                  <a:pt x="83" y="134"/>
                </a:cubicBezTo>
                <a:cubicBezTo>
                  <a:pt x="85" y="135"/>
                  <a:pt x="87" y="135"/>
                  <a:pt x="89" y="135"/>
                </a:cubicBezTo>
                <a:cubicBezTo>
                  <a:pt x="89" y="135"/>
                  <a:pt x="90" y="136"/>
                  <a:pt x="90" y="136"/>
                </a:cubicBezTo>
                <a:cubicBezTo>
                  <a:pt x="100" y="163"/>
                  <a:pt x="105" y="182"/>
                  <a:pt x="118" y="191"/>
                </a:cubicBezTo>
                <a:cubicBezTo>
                  <a:pt x="78" y="196"/>
                  <a:pt x="56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7" y="287"/>
                  <a:pt x="287" y="287"/>
                  <a:pt x="287" y="287"/>
                </a:cubicBezTo>
                <a:cubicBezTo>
                  <a:pt x="287" y="256"/>
                  <a:pt x="287" y="256"/>
                  <a:pt x="287" y="256"/>
                </a:cubicBezTo>
                <a:cubicBezTo>
                  <a:pt x="287" y="256"/>
                  <a:pt x="287" y="237"/>
                  <a:pt x="249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Freeform 323"/>
          <p:cNvSpPr/>
          <p:nvPr/>
        </p:nvSpPr>
        <p:spPr>
          <a:xfrm>
            <a:off x="6783480" y="4011480"/>
            <a:ext cx="276120" cy="274680"/>
          </a:xfrm>
          <a:custGeom>
            <a:avLst/>
            <a:gdLst/>
            <a:ahLst/>
            <a:rect l="l" t="t" r="r" b="b"/>
            <a:pathLst>
              <a:path w="288" h="287">
                <a:moveTo>
                  <a:pt x="250" y="220"/>
                </a:moveTo>
                <a:cubicBezTo>
                  <a:pt x="231" y="212"/>
                  <a:pt x="209" y="196"/>
                  <a:pt x="169" y="191"/>
                </a:cubicBezTo>
                <a:cubicBezTo>
                  <a:pt x="181" y="181"/>
                  <a:pt x="186" y="162"/>
                  <a:pt x="197" y="136"/>
                </a:cubicBezTo>
                <a:cubicBezTo>
                  <a:pt x="197" y="136"/>
                  <a:pt x="197" y="135"/>
                  <a:pt x="197" y="135"/>
                </a:cubicBezTo>
                <a:cubicBezTo>
                  <a:pt x="200" y="135"/>
                  <a:pt x="202" y="135"/>
                  <a:pt x="204" y="134"/>
                </a:cubicBezTo>
                <a:cubicBezTo>
                  <a:pt x="208" y="131"/>
                  <a:pt x="211" y="115"/>
                  <a:pt x="211" y="107"/>
                </a:cubicBezTo>
                <a:cubicBezTo>
                  <a:pt x="211" y="95"/>
                  <a:pt x="206" y="96"/>
                  <a:pt x="206" y="96"/>
                </a:cubicBezTo>
                <a:cubicBezTo>
                  <a:pt x="206" y="96"/>
                  <a:pt x="205" y="96"/>
                  <a:pt x="205" y="96"/>
                </a:cubicBezTo>
                <a:cubicBezTo>
                  <a:pt x="205" y="95"/>
                  <a:pt x="205" y="94"/>
                  <a:pt x="205" y="93"/>
                </a:cubicBezTo>
                <a:cubicBezTo>
                  <a:pt x="205" y="83"/>
                  <a:pt x="207" y="64"/>
                  <a:pt x="205" y="54"/>
                </a:cubicBezTo>
                <a:cubicBezTo>
                  <a:pt x="200" y="39"/>
                  <a:pt x="201" y="33"/>
                  <a:pt x="193" y="25"/>
                </a:cubicBezTo>
                <a:cubicBezTo>
                  <a:pt x="182" y="13"/>
                  <a:pt x="166" y="8"/>
                  <a:pt x="160" y="8"/>
                </a:cubicBezTo>
                <a:cubicBezTo>
                  <a:pt x="155" y="8"/>
                  <a:pt x="133" y="0"/>
                  <a:pt x="120" y="4"/>
                </a:cubicBezTo>
                <a:cubicBezTo>
                  <a:pt x="107" y="9"/>
                  <a:pt x="114" y="22"/>
                  <a:pt x="103" y="22"/>
                </a:cubicBezTo>
                <a:cubicBezTo>
                  <a:pt x="92" y="22"/>
                  <a:pt x="87" y="39"/>
                  <a:pt x="83" y="54"/>
                </a:cubicBezTo>
                <a:cubicBezTo>
                  <a:pt x="80" y="64"/>
                  <a:pt x="82" y="82"/>
                  <a:pt x="82" y="93"/>
                </a:cubicBezTo>
                <a:cubicBezTo>
                  <a:pt x="82" y="94"/>
                  <a:pt x="82" y="95"/>
                  <a:pt x="82" y="96"/>
                </a:cubicBezTo>
                <a:cubicBezTo>
                  <a:pt x="82" y="96"/>
                  <a:pt x="82" y="96"/>
                  <a:pt x="82" y="96"/>
                </a:cubicBezTo>
                <a:cubicBezTo>
                  <a:pt x="82" y="96"/>
                  <a:pt x="76" y="95"/>
                  <a:pt x="76" y="107"/>
                </a:cubicBezTo>
                <a:cubicBezTo>
                  <a:pt x="76" y="115"/>
                  <a:pt x="79" y="131"/>
                  <a:pt x="83" y="134"/>
                </a:cubicBezTo>
                <a:cubicBezTo>
                  <a:pt x="85" y="135"/>
                  <a:pt x="88" y="135"/>
                  <a:pt x="90" y="135"/>
                </a:cubicBezTo>
                <a:cubicBezTo>
                  <a:pt x="90" y="135"/>
                  <a:pt x="90" y="136"/>
                  <a:pt x="90" y="136"/>
                </a:cubicBezTo>
                <a:cubicBezTo>
                  <a:pt x="101" y="163"/>
                  <a:pt x="106" y="182"/>
                  <a:pt x="118" y="191"/>
                </a:cubicBezTo>
                <a:cubicBezTo>
                  <a:pt x="79" y="196"/>
                  <a:pt x="57" y="212"/>
                  <a:pt x="38" y="220"/>
                </a:cubicBezTo>
                <a:cubicBezTo>
                  <a:pt x="0" y="237"/>
                  <a:pt x="0" y="256"/>
                  <a:pt x="0" y="256"/>
                </a:cubicBezTo>
                <a:cubicBezTo>
                  <a:pt x="0" y="287"/>
                  <a:pt x="0" y="287"/>
                  <a:pt x="0" y="287"/>
                </a:cubicBezTo>
                <a:cubicBezTo>
                  <a:pt x="288" y="287"/>
                  <a:pt x="288" y="287"/>
                  <a:pt x="288" y="287"/>
                </a:cubicBezTo>
                <a:cubicBezTo>
                  <a:pt x="288" y="256"/>
                  <a:pt x="288" y="256"/>
                  <a:pt x="288" y="256"/>
                </a:cubicBezTo>
                <a:cubicBezTo>
                  <a:pt x="288" y="256"/>
                  <a:pt x="287" y="237"/>
                  <a:pt x="250" y="22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Freeform 324"/>
          <p:cNvSpPr/>
          <p:nvPr/>
        </p:nvSpPr>
        <p:spPr>
          <a:xfrm>
            <a:off x="8432640" y="4011480"/>
            <a:ext cx="287640" cy="274680"/>
          </a:xfrm>
          <a:custGeom>
            <a:avLst/>
            <a:gdLst/>
            <a:ahLst/>
            <a:rect l="l" t="t" r="r" b="b"/>
            <a:pathLst>
              <a:path w="301" h="288">
                <a:moveTo>
                  <a:pt x="283" y="199"/>
                </a:moveTo>
                <a:cubicBezTo>
                  <a:pt x="279" y="208"/>
                  <a:pt x="260" y="212"/>
                  <a:pt x="241" y="213"/>
                </a:cubicBezTo>
                <a:cubicBezTo>
                  <a:pt x="226" y="204"/>
                  <a:pt x="208" y="191"/>
                  <a:pt x="180" y="185"/>
                </a:cubicBezTo>
                <a:cubicBezTo>
                  <a:pt x="186" y="176"/>
                  <a:pt x="190" y="162"/>
                  <a:pt x="197" y="145"/>
                </a:cubicBezTo>
                <a:cubicBezTo>
                  <a:pt x="197" y="145"/>
                  <a:pt x="197" y="145"/>
                  <a:pt x="197" y="144"/>
                </a:cubicBezTo>
                <a:cubicBezTo>
                  <a:pt x="199" y="145"/>
                  <a:pt x="201" y="145"/>
                  <a:pt x="203" y="144"/>
                </a:cubicBezTo>
                <a:cubicBezTo>
                  <a:pt x="207" y="141"/>
                  <a:pt x="210" y="126"/>
                  <a:pt x="210" y="119"/>
                </a:cubicBezTo>
                <a:cubicBezTo>
                  <a:pt x="210" y="108"/>
                  <a:pt x="205" y="109"/>
                  <a:pt x="205" y="109"/>
                </a:cubicBezTo>
                <a:cubicBezTo>
                  <a:pt x="205" y="109"/>
                  <a:pt x="205" y="109"/>
                  <a:pt x="204" y="109"/>
                </a:cubicBezTo>
                <a:cubicBezTo>
                  <a:pt x="204" y="108"/>
                  <a:pt x="205" y="107"/>
                  <a:pt x="205" y="106"/>
                </a:cubicBezTo>
                <a:cubicBezTo>
                  <a:pt x="205" y="96"/>
                  <a:pt x="207" y="80"/>
                  <a:pt x="204" y="70"/>
                </a:cubicBezTo>
                <a:cubicBezTo>
                  <a:pt x="200" y="56"/>
                  <a:pt x="194" y="45"/>
                  <a:pt x="185" y="41"/>
                </a:cubicBezTo>
                <a:cubicBezTo>
                  <a:pt x="180" y="39"/>
                  <a:pt x="175" y="36"/>
                  <a:pt x="170" y="33"/>
                </a:cubicBezTo>
                <a:cubicBezTo>
                  <a:pt x="171" y="31"/>
                  <a:pt x="171" y="28"/>
                  <a:pt x="171" y="26"/>
                </a:cubicBezTo>
                <a:cubicBezTo>
                  <a:pt x="171" y="12"/>
                  <a:pt x="161" y="0"/>
                  <a:pt x="148" y="0"/>
                </a:cubicBezTo>
                <a:cubicBezTo>
                  <a:pt x="136" y="0"/>
                  <a:pt x="126" y="12"/>
                  <a:pt x="126" y="26"/>
                </a:cubicBezTo>
                <a:cubicBezTo>
                  <a:pt x="126" y="28"/>
                  <a:pt x="126" y="30"/>
                  <a:pt x="126" y="32"/>
                </a:cubicBezTo>
                <a:cubicBezTo>
                  <a:pt x="121" y="35"/>
                  <a:pt x="116" y="39"/>
                  <a:pt x="111" y="41"/>
                </a:cubicBezTo>
                <a:cubicBezTo>
                  <a:pt x="102" y="46"/>
                  <a:pt x="96" y="56"/>
                  <a:pt x="92" y="70"/>
                </a:cubicBezTo>
                <a:cubicBezTo>
                  <a:pt x="90" y="79"/>
                  <a:pt x="92" y="96"/>
                  <a:pt x="92" y="106"/>
                </a:cubicBezTo>
                <a:cubicBezTo>
                  <a:pt x="92" y="107"/>
                  <a:pt x="92" y="108"/>
                  <a:pt x="92" y="109"/>
                </a:cubicBezTo>
                <a:cubicBezTo>
                  <a:pt x="91" y="109"/>
                  <a:pt x="91" y="109"/>
                  <a:pt x="91" y="109"/>
                </a:cubicBezTo>
                <a:cubicBezTo>
                  <a:pt x="91" y="109"/>
                  <a:pt x="86" y="108"/>
                  <a:pt x="86" y="119"/>
                </a:cubicBezTo>
                <a:cubicBezTo>
                  <a:pt x="86" y="126"/>
                  <a:pt x="89" y="141"/>
                  <a:pt x="93" y="144"/>
                </a:cubicBezTo>
                <a:cubicBezTo>
                  <a:pt x="95" y="145"/>
                  <a:pt x="97" y="145"/>
                  <a:pt x="99" y="144"/>
                </a:cubicBezTo>
                <a:cubicBezTo>
                  <a:pt x="99" y="145"/>
                  <a:pt x="99" y="145"/>
                  <a:pt x="99" y="146"/>
                </a:cubicBezTo>
                <a:cubicBezTo>
                  <a:pt x="106" y="163"/>
                  <a:pt x="111" y="177"/>
                  <a:pt x="117" y="186"/>
                </a:cubicBezTo>
                <a:cubicBezTo>
                  <a:pt x="91" y="193"/>
                  <a:pt x="74" y="205"/>
                  <a:pt x="60" y="213"/>
                </a:cubicBezTo>
                <a:cubicBezTo>
                  <a:pt x="41" y="212"/>
                  <a:pt x="22" y="208"/>
                  <a:pt x="19" y="199"/>
                </a:cubicBezTo>
                <a:cubicBezTo>
                  <a:pt x="11" y="183"/>
                  <a:pt x="0" y="243"/>
                  <a:pt x="12" y="276"/>
                </a:cubicBezTo>
                <a:cubicBezTo>
                  <a:pt x="12" y="288"/>
                  <a:pt x="12" y="288"/>
                  <a:pt x="12" y="288"/>
                </a:cubicBezTo>
                <a:cubicBezTo>
                  <a:pt x="19" y="288"/>
                  <a:pt x="19" y="288"/>
                  <a:pt x="19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83" y="288"/>
                  <a:pt x="283" y="288"/>
                  <a:pt x="283" y="288"/>
                </a:cubicBezTo>
                <a:cubicBezTo>
                  <a:pt x="290" y="288"/>
                  <a:pt x="290" y="288"/>
                  <a:pt x="290" y="288"/>
                </a:cubicBezTo>
                <a:cubicBezTo>
                  <a:pt x="290" y="276"/>
                  <a:pt x="290" y="276"/>
                  <a:pt x="290" y="276"/>
                </a:cubicBezTo>
                <a:cubicBezTo>
                  <a:pt x="301" y="243"/>
                  <a:pt x="290" y="183"/>
                  <a:pt x="283" y="1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Freeform 325"/>
          <p:cNvSpPr/>
          <p:nvPr/>
        </p:nvSpPr>
        <p:spPr>
          <a:xfrm>
            <a:off x="7888320" y="4022640"/>
            <a:ext cx="274680" cy="265320"/>
          </a:xfrm>
          <a:custGeom>
            <a:avLst/>
            <a:gdLst/>
            <a:ahLst/>
            <a:rect l="l" t="t" r="r" b="b"/>
            <a:pathLst>
              <a:path w="287" h="277">
                <a:moveTo>
                  <a:pt x="249" y="222"/>
                </a:moveTo>
                <a:cubicBezTo>
                  <a:pt x="233" y="214"/>
                  <a:pt x="214" y="211"/>
                  <a:pt x="182" y="206"/>
                </a:cubicBezTo>
                <a:cubicBezTo>
                  <a:pt x="180" y="203"/>
                  <a:pt x="176" y="190"/>
                  <a:pt x="172" y="176"/>
                </a:cubicBezTo>
                <a:cubicBezTo>
                  <a:pt x="173" y="176"/>
                  <a:pt x="178" y="180"/>
                  <a:pt x="179" y="180"/>
                </a:cubicBezTo>
                <a:cubicBezTo>
                  <a:pt x="181" y="180"/>
                  <a:pt x="183" y="180"/>
                  <a:pt x="185" y="180"/>
                </a:cubicBezTo>
                <a:cubicBezTo>
                  <a:pt x="186" y="180"/>
                  <a:pt x="201" y="177"/>
                  <a:pt x="207" y="177"/>
                </a:cubicBezTo>
                <a:cubicBezTo>
                  <a:pt x="209" y="177"/>
                  <a:pt x="210" y="177"/>
                  <a:pt x="211" y="178"/>
                </a:cubicBezTo>
                <a:cubicBezTo>
                  <a:pt x="211" y="178"/>
                  <a:pt x="213" y="179"/>
                  <a:pt x="215" y="179"/>
                </a:cubicBezTo>
                <a:cubicBezTo>
                  <a:pt x="214" y="178"/>
                  <a:pt x="214" y="176"/>
                  <a:pt x="214" y="175"/>
                </a:cubicBezTo>
                <a:cubicBezTo>
                  <a:pt x="208" y="160"/>
                  <a:pt x="208" y="160"/>
                  <a:pt x="208" y="160"/>
                </a:cubicBezTo>
                <a:cubicBezTo>
                  <a:pt x="208" y="160"/>
                  <a:pt x="214" y="152"/>
                  <a:pt x="218" y="154"/>
                </a:cubicBezTo>
                <a:cubicBezTo>
                  <a:pt x="222" y="156"/>
                  <a:pt x="228" y="152"/>
                  <a:pt x="228" y="152"/>
                </a:cubicBezTo>
                <a:cubicBezTo>
                  <a:pt x="233" y="116"/>
                  <a:pt x="238" y="42"/>
                  <a:pt x="200" y="13"/>
                </a:cubicBezTo>
                <a:cubicBezTo>
                  <a:pt x="187" y="4"/>
                  <a:pt x="175" y="0"/>
                  <a:pt x="166" y="0"/>
                </a:cubicBezTo>
                <a:cubicBezTo>
                  <a:pt x="156" y="0"/>
                  <a:pt x="149" y="4"/>
                  <a:pt x="143" y="8"/>
                </a:cubicBezTo>
                <a:cubicBezTo>
                  <a:pt x="138" y="4"/>
                  <a:pt x="130" y="0"/>
                  <a:pt x="121" y="0"/>
                </a:cubicBezTo>
                <a:cubicBezTo>
                  <a:pt x="111" y="0"/>
                  <a:pt x="100" y="4"/>
                  <a:pt x="87" y="13"/>
                </a:cubicBezTo>
                <a:cubicBezTo>
                  <a:pt x="50" y="41"/>
                  <a:pt x="52" y="114"/>
                  <a:pt x="55" y="151"/>
                </a:cubicBezTo>
                <a:cubicBezTo>
                  <a:pt x="55" y="151"/>
                  <a:pt x="58" y="149"/>
                  <a:pt x="63" y="154"/>
                </a:cubicBezTo>
                <a:cubicBezTo>
                  <a:pt x="68" y="159"/>
                  <a:pt x="77" y="160"/>
                  <a:pt x="77" y="160"/>
                </a:cubicBezTo>
                <a:cubicBezTo>
                  <a:pt x="72" y="178"/>
                  <a:pt x="72" y="178"/>
                  <a:pt x="72" y="178"/>
                </a:cubicBezTo>
                <a:cubicBezTo>
                  <a:pt x="72" y="179"/>
                  <a:pt x="72" y="179"/>
                  <a:pt x="72" y="179"/>
                </a:cubicBezTo>
                <a:cubicBezTo>
                  <a:pt x="74" y="179"/>
                  <a:pt x="76" y="178"/>
                  <a:pt x="78" y="177"/>
                </a:cubicBezTo>
                <a:cubicBezTo>
                  <a:pt x="79" y="177"/>
                  <a:pt x="79" y="177"/>
                  <a:pt x="80" y="177"/>
                </a:cubicBezTo>
                <a:cubicBezTo>
                  <a:pt x="86" y="177"/>
                  <a:pt x="92" y="180"/>
                  <a:pt x="94" y="180"/>
                </a:cubicBezTo>
                <a:cubicBezTo>
                  <a:pt x="96" y="180"/>
                  <a:pt x="98" y="180"/>
                  <a:pt x="100" y="180"/>
                </a:cubicBezTo>
                <a:cubicBezTo>
                  <a:pt x="103" y="180"/>
                  <a:pt x="113" y="176"/>
                  <a:pt x="115" y="176"/>
                </a:cubicBezTo>
                <a:cubicBezTo>
                  <a:pt x="112" y="184"/>
                  <a:pt x="108" y="200"/>
                  <a:pt x="104" y="206"/>
                </a:cubicBezTo>
                <a:cubicBezTo>
                  <a:pt x="73" y="211"/>
                  <a:pt x="54" y="214"/>
                  <a:pt x="38" y="222"/>
                </a:cubicBezTo>
                <a:cubicBezTo>
                  <a:pt x="0" y="239"/>
                  <a:pt x="0" y="257"/>
                  <a:pt x="0" y="257"/>
                </a:cubicBezTo>
                <a:cubicBezTo>
                  <a:pt x="0" y="277"/>
                  <a:pt x="0" y="277"/>
                  <a:pt x="0" y="277"/>
                </a:cubicBezTo>
                <a:cubicBezTo>
                  <a:pt x="287" y="277"/>
                  <a:pt x="287" y="277"/>
                  <a:pt x="287" y="277"/>
                </a:cubicBezTo>
                <a:cubicBezTo>
                  <a:pt x="287" y="257"/>
                  <a:pt x="287" y="257"/>
                  <a:pt x="287" y="257"/>
                </a:cubicBezTo>
                <a:cubicBezTo>
                  <a:pt x="287" y="257"/>
                  <a:pt x="287" y="239"/>
                  <a:pt x="249" y="222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7" name="组合 383" descr=""/>
          <p:cNvPicPr/>
          <p:nvPr/>
        </p:nvPicPr>
        <p:blipFill>
          <a:blip r:embed="rId63"/>
          <a:stretch/>
        </p:blipFill>
        <p:spPr>
          <a:xfrm>
            <a:off x="9540720" y="4065480"/>
            <a:ext cx="273240" cy="171720"/>
          </a:xfrm>
          <a:prstGeom prst="rect">
            <a:avLst/>
          </a:prstGeom>
          <a:ln w="0">
            <a:noFill/>
          </a:ln>
        </p:spPr>
      </p:pic>
      <p:pic>
        <p:nvPicPr>
          <p:cNvPr id="1548" name="组合 386" descr=""/>
          <p:cNvPicPr/>
          <p:nvPr/>
        </p:nvPicPr>
        <p:blipFill>
          <a:blip r:embed="rId64"/>
          <a:stretch/>
        </p:blipFill>
        <p:spPr>
          <a:xfrm>
            <a:off x="10094760" y="4065480"/>
            <a:ext cx="274680" cy="171720"/>
          </a:xfrm>
          <a:prstGeom prst="rect">
            <a:avLst/>
          </a:prstGeom>
          <a:ln w="0">
            <a:noFill/>
          </a:ln>
        </p:spPr>
      </p:pic>
      <p:sp>
        <p:nvSpPr>
          <p:cNvPr id="1549" name="Freeform 330"/>
          <p:cNvSpPr/>
          <p:nvPr/>
        </p:nvSpPr>
        <p:spPr>
          <a:xfrm>
            <a:off x="7335720" y="4013280"/>
            <a:ext cx="276480" cy="272880"/>
          </a:xfrm>
          <a:custGeom>
            <a:avLst/>
            <a:gdLst/>
            <a:ahLst/>
            <a:rect l="l" t="t" r="r" b="b"/>
            <a:pathLst>
              <a:path w="289" h="286">
                <a:moveTo>
                  <a:pt x="250" y="231"/>
                </a:moveTo>
                <a:cubicBezTo>
                  <a:pt x="240" y="229"/>
                  <a:pt x="229" y="225"/>
                  <a:pt x="215" y="221"/>
                </a:cubicBezTo>
                <a:cubicBezTo>
                  <a:pt x="217" y="211"/>
                  <a:pt x="218" y="201"/>
                  <a:pt x="219" y="190"/>
                </a:cubicBezTo>
                <a:cubicBezTo>
                  <a:pt x="223" y="181"/>
                  <a:pt x="225" y="167"/>
                  <a:pt x="224" y="151"/>
                </a:cubicBezTo>
                <a:cubicBezTo>
                  <a:pt x="224" y="150"/>
                  <a:pt x="224" y="149"/>
                  <a:pt x="224" y="147"/>
                </a:cubicBezTo>
                <a:cubicBezTo>
                  <a:pt x="228" y="141"/>
                  <a:pt x="230" y="133"/>
                  <a:pt x="230" y="123"/>
                </a:cubicBezTo>
                <a:cubicBezTo>
                  <a:pt x="230" y="112"/>
                  <a:pt x="228" y="103"/>
                  <a:pt x="223" y="97"/>
                </a:cubicBezTo>
                <a:cubicBezTo>
                  <a:pt x="223" y="96"/>
                  <a:pt x="223" y="94"/>
                  <a:pt x="223" y="93"/>
                </a:cubicBezTo>
                <a:cubicBezTo>
                  <a:pt x="224" y="90"/>
                  <a:pt x="225" y="86"/>
                  <a:pt x="225" y="82"/>
                </a:cubicBezTo>
                <a:cubicBezTo>
                  <a:pt x="225" y="75"/>
                  <a:pt x="223" y="69"/>
                  <a:pt x="219" y="64"/>
                </a:cubicBezTo>
                <a:cubicBezTo>
                  <a:pt x="219" y="63"/>
                  <a:pt x="219" y="62"/>
                  <a:pt x="219" y="61"/>
                </a:cubicBezTo>
                <a:cubicBezTo>
                  <a:pt x="219" y="59"/>
                  <a:pt x="220" y="56"/>
                  <a:pt x="219" y="53"/>
                </a:cubicBezTo>
                <a:cubicBezTo>
                  <a:pt x="219" y="42"/>
                  <a:pt x="214" y="33"/>
                  <a:pt x="208" y="30"/>
                </a:cubicBezTo>
                <a:cubicBezTo>
                  <a:pt x="207" y="27"/>
                  <a:pt x="205" y="25"/>
                  <a:pt x="204" y="23"/>
                </a:cubicBezTo>
                <a:cubicBezTo>
                  <a:pt x="197" y="13"/>
                  <a:pt x="188" y="8"/>
                  <a:pt x="180" y="9"/>
                </a:cubicBezTo>
                <a:cubicBezTo>
                  <a:pt x="179" y="8"/>
                  <a:pt x="178" y="8"/>
                  <a:pt x="177" y="8"/>
                </a:cubicBezTo>
                <a:cubicBezTo>
                  <a:pt x="166" y="1"/>
                  <a:pt x="154" y="1"/>
                  <a:pt x="149" y="8"/>
                </a:cubicBezTo>
                <a:cubicBezTo>
                  <a:pt x="148" y="8"/>
                  <a:pt x="147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44" y="9"/>
                  <a:pt x="144" y="9"/>
                  <a:pt x="143" y="9"/>
                </a:cubicBezTo>
                <a:cubicBezTo>
                  <a:pt x="143" y="9"/>
                  <a:pt x="142" y="9"/>
                  <a:pt x="142" y="8"/>
                </a:cubicBezTo>
                <a:cubicBezTo>
                  <a:pt x="142" y="8"/>
                  <a:pt x="142" y="8"/>
                  <a:pt x="141" y="8"/>
                </a:cubicBezTo>
                <a:cubicBezTo>
                  <a:pt x="136" y="1"/>
                  <a:pt x="125" y="0"/>
                  <a:pt x="114" y="7"/>
                </a:cubicBezTo>
                <a:cubicBezTo>
                  <a:pt x="112" y="7"/>
                  <a:pt x="111" y="8"/>
                  <a:pt x="109" y="9"/>
                </a:cubicBezTo>
                <a:cubicBezTo>
                  <a:pt x="101" y="8"/>
                  <a:pt x="91" y="13"/>
                  <a:pt x="84" y="23"/>
                </a:cubicBezTo>
                <a:cubicBezTo>
                  <a:pt x="83" y="25"/>
                  <a:pt x="81" y="27"/>
                  <a:pt x="80" y="30"/>
                </a:cubicBezTo>
                <a:cubicBezTo>
                  <a:pt x="74" y="33"/>
                  <a:pt x="69" y="42"/>
                  <a:pt x="69" y="53"/>
                </a:cubicBezTo>
                <a:cubicBezTo>
                  <a:pt x="68" y="56"/>
                  <a:pt x="69" y="60"/>
                  <a:pt x="70" y="63"/>
                </a:cubicBezTo>
                <a:cubicBezTo>
                  <a:pt x="70" y="63"/>
                  <a:pt x="70" y="63"/>
                  <a:pt x="69" y="63"/>
                </a:cubicBezTo>
                <a:cubicBezTo>
                  <a:pt x="66" y="68"/>
                  <a:pt x="63" y="75"/>
                  <a:pt x="63" y="82"/>
                </a:cubicBezTo>
                <a:cubicBezTo>
                  <a:pt x="63" y="86"/>
                  <a:pt x="64" y="90"/>
                  <a:pt x="65" y="94"/>
                </a:cubicBezTo>
                <a:cubicBezTo>
                  <a:pt x="65" y="95"/>
                  <a:pt x="65" y="96"/>
                  <a:pt x="65" y="97"/>
                </a:cubicBezTo>
                <a:cubicBezTo>
                  <a:pt x="60" y="102"/>
                  <a:pt x="58" y="112"/>
                  <a:pt x="58" y="123"/>
                </a:cubicBezTo>
                <a:cubicBezTo>
                  <a:pt x="58" y="131"/>
                  <a:pt x="59" y="139"/>
                  <a:pt x="62" y="144"/>
                </a:cubicBezTo>
                <a:cubicBezTo>
                  <a:pt x="62" y="147"/>
                  <a:pt x="62" y="150"/>
                  <a:pt x="62" y="153"/>
                </a:cubicBezTo>
                <a:cubicBezTo>
                  <a:pt x="61" y="170"/>
                  <a:pt x="63" y="184"/>
                  <a:pt x="67" y="193"/>
                </a:cubicBezTo>
                <a:cubicBezTo>
                  <a:pt x="68" y="203"/>
                  <a:pt x="70" y="213"/>
                  <a:pt x="71" y="222"/>
                </a:cubicBezTo>
                <a:cubicBezTo>
                  <a:pt x="59" y="226"/>
                  <a:pt x="49" y="229"/>
                  <a:pt x="39" y="231"/>
                </a:cubicBezTo>
                <a:cubicBezTo>
                  <a:pt x="0" y="239"/>
                  <a:pt x="1" y="263"/>
                  <a:pt x="1" y="263"/>
                </a:cubicBezTo>
                <a:cubicBezTo>
                  <a:pt x="1" y="286"/>
                  <a:pt x="1" y="286"/>
                  <a:pt x="1" y="286"/>
                </a:cubicBezTo>
                <a:cubicBezTo>
                  <a:pt x="289" y="286"/>
                  <a:pt x="289" y="286"/>
                  <a:pt x="289" y="286"/>
                </a:cubicBezTo>
                <a:cubicBezTo>
                  <a:pt x="289" y="263"/>
                  <a:pt x="289" y="263"/>
                  <a:pt x="289" y="263"/>
                </a:cubicBezTo>
                <a:cubicBezTo>
                  <a:pt x="289" y="263"/>
                  <a:pt x="289" y="239"/>
                  <a:pt x="250" y="231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Freeform 331"/>
          <p:cNvSpPr/>
          <p:nvPr/>
        </p:nvSpPr>
        <p:spPr>
          <a:xfrm>
            <a:off x="1822320" y="4048200"/>
            <a:ext cx="276480" cy="201600"/>
          </a:xfrm>
          <a:custGeom>
            <a:avLst/>
            <a:gdLst/>
            <a:ahLst/>
            <a:rect l="l" t="t" r="r" b="b"/>
            <a:pathLst>
              <a:path w="288" h="210">
                <a:moveTo>
                  <a:pt x="260" y="0"/>
                </a:moveTo>
                <a:cubicBezTo>
                  <a:pt x="245" y="0"/>
                  <a:pt x="232" y="12"/>
                  <a:pt x="232" y="28"/>
                </a:cubicBezTo>
                <a:cubicBezTo>
                  <a:pt x="232" y="34"/>
                  <a:pt x="235" y="41"/>
                  <a:pt x="239" y="46"/>
                </a:cubicBezTo>
                <a:cubicBezTo>
                  <a:pt x="191" y="117"/>
                  <a:pt x="191" y="117"/>
                  <a:pt x="191" y="117"/>
                </a:cubicBezTo>
                <a:cubicBezTo>
                  <a:pt x="188" y="116"/>
                  <a:pt x="186" y="116"/>
                  <a:pt x="183" y="116"/>
                </a:cubicBezTo>
                <a:cubicBezTo>
                  <a:pt x="178" y="116"/>
                  <a:pt x="174" y="117"/>
                  <a:pt x="170" y="119"/>
                </a:cubicBezTo>
                <a:cubicBezTo>
                  <a:pt x="130" y="79"/>
                  <a:pt x="130" y="79"/>
                  <a:pt x="130" y="79"/>
                </a:cubicBezTo>
                <a:cubicBezTo>
                  <a:pt x="132" y="76"/>
                  <a:pt x="133" y="71"/>
                  <a:pt x="133" y="67"/>
                </a:cubicBezTo>
                <a:cubicBezTo>
                  <a:pt x="133" y="51"/>
                  <a:pt x="121" y="39"/>
                  <a:pt x="105" y="39"/>
                </a:cubicBezTo>
                <a:cubicBezTo>
                  <a:pt x="90" y="39"/>
                  <a:pt x="78" y="51"/>
                  <a:pt x="78" y="67"/>
                </a:cubicBezTo>
                <a:cubicBezTo>
                  <a:pt x="78" y="73"/>
                  <a:pt x="80" y="79"/>
                  <a:pt x="84" y="84"/>
                </a:cubicBezTo>
                <a:cubicBezTo>
                  <a:pt x="36" y="156"/>
                  <a:pt x="36" y="156"/>
                  <a:pt x="36" y="156"/>
                </a:cubicBezTo>
                <a:cubicBezTo>
                  <a:pt x="34" y="155"/>
                  <a:pt x="31" y="155"/>
                  <a:pt x="28" y="155"/>
                </a:cubicBezTo>
                <a:cubicBezTo>
                  <a:pt x="13" y="155"/>
                  <a:pt x="0" y="167"/>
                  <a:pt x="0" y="183"/>
                </a:cubicBezTo>
                <a:cubicBezTo>
                  <a:pt x="0" y="198"/>
                  <a:pt x="13" y="210"/>
                  <a:pt x="28" y="210"/>
                </a:cubicBezTo>
                <a:cubicBezTo>
                  <a:pt x="43" y="210"/>
                  <a:pt x="56" y="198"/>
                  <a:pt x="56" y="183"/>
                </a:cubicBezTo>
                <a:cubicBezTo>
                  <a:pt x="56" y="176"/>
                  <a:pt x="54" y="170"/>
                  <a:pt x="50" y="166"/>
                </a:cubicBezTo>
                <a:cubicBezTo>
                  <a:pt x="98" y="94"/>
                  <a:pt x="98" y="94"/>
                  <a:pt x="98" y="94"/>
                </a:cubicBezTo>
                <a:cubicBezTo>
                  <a:pt x="100" y="94"/>
                  <a:pt x="103" y="95"/>
                  <a:pt x="105" y="95"/>
                </a:cubicBezTo>
                <a:cubicBezTo>
                  <a:pt x="110" y="95"/>
                  <a:pt x="114" y="93"/>
                  <a:pt x="118" y="92"/>
                </a:cubicBezTo>
                <a:cubicBezTo>
                  <a:pt x="158" y="132"/>
                  <a:pt x="158" y="132"/>
                  <a:pt x="158" y="132"/>
                </a:cubicBezTo>
                <a:cubicBezTo>
                  <a:pt x="156" y="135"/>
                  <a:pt x="155" y="140"/>
                  <a:pt x="155" y="144"/>
                </a:cubicBezTo>
                <a:cubicBezTo>
                  <a:pt x="155" y="159"/>
                  <a:pt x="167" y="172"/>
                  <a:pt x="183" y="172"/>
                </a:cubicBezTo>
                <a:cubicBezTo>
                  <a:pt x="198" y="172"/>
                  <a:pt x="211" y="159"/>
                  <a:pt x="211" y="144"/>
                </a:cubicBezTo>
                <a:cubicBezTo>
                  <a:pt x="211" y="138"/>
                  <a:pt x="209" y="132"/>
                  <a:pt x="205" y="127"/>
                </a:cubicBezTo>
                <a:cubicBezTo>
                  <a:pt x="253" y="55"/>
                  <a:pt x="253" y="55"/>
                  <a:pt x="253" y="55"/>
                </a:cubicBezTo>
                <a:cubicBezTo>
                  <a:pt x="255" y="55"/>
                  <a:pt x="258" y="56"/>
                  <a:pt x="260" y="56"/>
                </a:cubicBezTo>
                <a:cubicBezTo>
                  <a:pt x="276" y="56"/>
                  <a:pt x="288" y="43"/>
                  <a:pt x="288" y="28"/>
                </a:cubicBezTo>
                <a:cubicBezTo>
                  <a:pt x="288" y="12"/>
                  <a:pt x="276" y="0"/>
                  <a:pt x="260" y="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1" name="组合 391" descr=""/>
          <p:cNvPicPr/>
          <p:nvPr/>
        </p:nvPicPr>
        <p:blipFill>
          <a:blip r:embed="rId65"/>
          <a:stretch/>
        </p:blipFill>
        <p:spPr>
          <a:xfrm>
            <a:off x="3486240" y="4011480"/>
            <a:ext cx="257040" cy="274680"/>
          </a:xfrm>
          <a:prstGeom prst="rect">
            <a:avLst/>
          </a:prstGeom>
          <a:ln w="0">
            <a:noFill/>
          </a:ln>
        </p:spPr>
      </p:pic>
      <p:pic>
        <p:nvPicPr>
          <p:cNvPr id="1552" name="组合 401" descr=""/>
          <p:cNvPicPr/>
          <p:nvPr/>
        </p:nvPicPr>
        <p:blipFill>
          <a:blip r:embed="rId66"/>
          <a:stretch/>
        </p:blipFill>
        <p:spPr>
          <a:xfrm>
            <a:off x="9040680" y="3456000"/>
            <a:ext cx="176400" cy="280800"/>
          </a:xfrm>
          <a:prstGeom prst="rect">
            <a:avLst/>
          </a:prstGeom>
          <a:ln w="0">
            <a:noFill/>
          </a:ln>
        </p:spPr>
      </p:pic>
      <p:pic>
        <p:nvPicPr>
          <p:cNvPr id="1553" name="组合 404" descr=""/>
          <p:cNvPicPr/>
          <p:nvPr/>
        </p:nvPicPr>
        <p:blipFill>
          <a:blip r:embed="rId67"/>
          <a:stretch/>
        </p:blipFill>
        <p:spPr>
          <a:xfrm>
            <a:off x="5132520" y="4084560"/>
            <a:ext cx="274680" cy="133560"/>
          </a:xfrm>
          <a:prstGeom prst="rect">
            <a:avLst/>
          </a:prstGeom>
          <a:ln w="0">
            <a:noFill/>
          </a:ln>
        </p:spPr>
      </p:pic>
      <p:pic>
        <p:nvPicPr>
          <p:cNvPr id="1554" name="组合 411" descr=""/>
          <p:cNvPicPr/>
          <p:nvPr/>
        </p:nvPicPr>
        <p:blipFill>
          <a:blip r:embed="rId68"/>
          <a:stretch/>
        </p:blipFill>
        <p:spPr>
          <a:xfrm>
            <a:off x="9540720" y="2908440"/>
            <a:ext cx="279720" cy="272880"/>
          </a:xfrm>
          <a:prstGeom prst="rect">
            <a:avLst/>
          </a:prstGeom>
          <a:ln w="0">
            <a:noFill/>
          </a:ln>
        </p:spPr>
      </p:pic>
      <p:pic>
        <p:nvPicPr>
          <p:cNvPr id="1555" name="组合 417" descr=""/>
          <p:cNvPicPr/>
          <p:nvPr/>
        </p:nvPicPr>
        <p:blipFill>
          <a:blip r:embed="rId69"/>
          <a:stretch/>
        </p:blipFill>
        <p:spPr>
          <a:xfrm>
            <a:off x="10094760" y="2919240"/>
            <a:ext cx="274680" cy="250920"/>
          </a:xfrm>
          <a:prstGeom prst="rect">
            <a:avLst/>
          </a:prstGeom>
          <a:ln w="0">
            <a:noFill/>
          </a:ln>
        </p:spPr>
      </p:pic>
      <p:pic>
        <p:nvPicPr>
          <p:cNvPr id="1556" name="组合 426" descr=""/>
          <p:cNvPicPr/>
          <p:nvPr/>
        </p:nvPicPr>
        <p:blipFill>
          <a:blip r:embed="rId70"/>
          <a:stretch/>
        </p:blipFill>
        <p:spPr>
          <a:xfrm>
            <a:off x="10644120" y="2938320"/>
            <a:ext cx="273240" cy="219240"/>
          </a:xfrm>
          <a:prstGeom prst="rect">
            <a:avLst/>
          </a:prstGeom>
          <a:ln w="0">
            <a:noFill/>
          </a:ln>
        </p:spPr>
      </p:pic>
      <p:pic>
        <p:nvPicPr>
          <p:cNvPr id="1557" name="组合 433" descr=""/>
          <p:cNvPicPr/>
          <p:nvPr/>
        </p:nvPicPr>
        <p:blipFill>
          <a:blip r:embed="rId71"/>
          <a:stretch/>
        </p:blipFill>
        <p:spPr>
          <a:xfrm>
            <a:off x="8991720" y="2925720"/>
            <a:ext cx="274680" cy="244440"/>
          </a:xfrm>
          <a:prstGeom prst="rect">
            <a:avLst/>
          </a:prstGeom>
          <a:ln w="0">
            <a:noFill/>
          </a:ln>
        </p:spPr>
      </p:pic>
      <p:sp>
        <p:nvSpPr>
          <p:cNvPr id="1558" name="Freeform 372"/>
          <p:cNvSpPr/>
          <p:nvPr/>
        </p:nvSpPr>
        <p:spPr>
          <a:xfrm>
            <a:off x="2925720" y="2400480"/>
            <a:ext cx="276120" cy="185400"/>
          </a:xfrm>
          <a:custGeom>
            <a:avLst/>
            <a:gdLst/>
            <a:ahLst/>
            <a:rect l="l" t="t" r="r" b="b"/>
            <a:pathLst>
              <a:path w="174" h="117">
                <a:moveTo>
                  <a:pt x="156" y="71"/>
                </a:moveTo>
                <a:lnTo>
                  <a:pt x="174" y="0"/>
                </a:lnTo>
                <a:lnTo>
                  <a:pt x="103" y="18"/>
                </a:lnTo>
                <a:lnTo>
                  <a:pt x="121" y="35"/>
                </a:lnTo>
                <a:lnTo>
                  <a:pt x="90" y="66"/>
                </a:lnTo>
                <a:lnTo>
                  <a:pt x="62" y="37"/>
                </a:lnTo>
                <a:lnTo>
                  <a:pt x="0" y="99"/>
                </a:lnTo>
                <a:lnTo>
                  <a:pt x="19" y="117"/>
                </a:lnTo>
                <a:lnTo>
                  <a:pt x="62" y="74"/>
                </a:lnTo>
                <a:lnTo>
                  <a:pt x="90" y="103"/>
                </a:lnTo>
                <a:lnTo>
                  <a:pt x="140" y="55"/>
                </a:lnTo>
                <a:lnTo>
                  <a:pt x="156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9" name="组合 439" descr=""/>
          <p:cNvPicPr/>
          <p:nvPr/>
        </p:nvPicPr>
        <p:blipFill>
          <a:blip r:embed="rId72"/>
          <a:stretch/>
        </p:blipFill>
        <p:spPr>
          <a:xfrm>
            <a:off x="2389320" y="2352600"/>
            <a:ext cx="244440" cy="281160"/>
          </a:xfrm>
          <a:prstGeom prst="rect">
            <a:avLst/>
          </a:prstGeom>
          <a:ln w="0">
            <a:noFill/>
          </a:ln>
        </p:spPr>
      </p:pic>
      <p:pic>
        <p:nvPicPr>
          <p:cNvPr id="1560" name="组合 442" descr=""/>
          <p:cNvPicPr/>
          <p:nvPr/>
        </p:nvPicPr>
        <p:blipFill>
          <a:blip r:embed="rId73"/>
          <a:stretch/>
        </p:blipFill>
        <p:spPr>
          <a:xfrm>
            <a:off x="1274760" y="3456000"/>
            <a:ext cx="272880" cy="280800"/>
          </a:xfrm>
          <a:prstGeom prst="rect">
            <a:avLst/>
          </a:prstGeom>
          <a:ln w="0">
            <a:noFill/>
          </a:ln>
        </p:spPr>
      </p:pic>
      <p:pic>
        <p:nvPicPr>
          <p:cNvPr id="1561" name="组合 447" descr=""/>
          <p:cNvPicPr/>
          <p:nvPr/>
        </p:nvPicPr>
        <p:blipFill>
          <a:blip r:embed="rId74"/>
          <a:stretch/>
        </p:blipFill>
        <p:spPr>
          <a:xfrm>
            <a:off x="3475080" y="2365200"/>
            <a:ext cx="279360" cy="262080"/>
          </a:xfrm>
          <a:prstGeom prst="rect">
            <a:avLst/>
          </a:prstGeom>
          <a:ln w="0">
            <a:noFill/>
          </a:ln>
        </p:spPr>
      </p:pic>
      <p:pic>
        <p:nvPicPr>
          <p:cNvPr id="1562" name="组合 452" descr=""/>
          <p:cNvPicPr/>
          <p:nvPr/>
        </p:nvPicPr>
        <p:blipFill>
          <a:blip r:embed="rId75"/>
          <a:stretch/>
        </p:blipFill>
        <p:spPr>
          <a:xfrm>
            <a:off x="4029120" y="2365200"/>
            <a:ext cx="274680" cy="255600"/>
          </a:xfrm>
          <a:prstGeom prst="rect">
            <a:avLst/>
          </a:prstGeom>
          <a:ln w="0">
            <a:noFill/>
          </a:ln>
        </p:spPr>
      </p:pic>
      <p:sp>
        <p:nvSpPr>
          <p:cNvPr id="1563" name="Freeform 385"/>
          <p:cNvSpPr/>
          <p:nvPr/>
        </p:nvSpPr>
        <p:spPr>
          <a:xfrm>
            <a:off x="4029120" y="1817640"/>
            <a:ext cx="274680" cy="250920"/>
          </a:xfrm>
          <a:custGeom>
            <a:avLst/>
            <a:gdLst/>
            <a:ahLst/>
            <a:rect l="l" t="t" r="r" b="b"/>
            <a:pathLst>
              <a:path w="288" h="262">
                <a:moveTo>
                  <a:pt x="167" y="129"/>
                </a:moveTo>
                <a:cubicBezTo>
                  <a:pt x="135" y="129"/>
                  <a:pt x="47" y="122"/>
                  <a:pt x="47" y="77"/>
                </a:cubicBezTo>
                <a:cubicBezTo>
                  <a:pt x="47" y="29"/>
                  <a:pt x="139" y="14"/>
                  <a:pt x="167" y="14"/>
                </a:cubicBezTo>
                <a:cubicBezTo>
                  <a:pt x="167" y="0"/>
                  <a:pt x="167" y="0"/>
                  <a:pt x="167" y="0"/>
                </a:cubicBezTo>
                <a:cubicBezTo>
                  <a:pt x="106" y="0"/>
                  <a:pt x="0" y="13"/>
                  <a:pt x="0" y="86"/>
                </a:cubicBezTo>
                <a:cubicBezTo>
                  <a:pt x="0" y="162"/>
                  <a:pt x="115" y="204"/>
                  <a:pt x="167" y="205"/>
                </a:cubicBezTo>
                <a:cubicBezTo>
                  <a:pt x="167" y="262"/>
                  <a:pt x="167" y="262"/>
                  <a:pt x="167" y="262"/>
                </a:cubicBezTo>
                <a:cubicBezTo>
                  <a:pt x="288" y="165"/>
                  <a:pt x="288" y="165"/>
                  <a:pt x="288" y="165"/>
                </a:cubicBezTo>
                <a:cubicBezTo>
                  <a:pt x="167" y="68"/>
                  <a:pt x="167" y="68"/>
                  <a:pt x="167" y="68"/>
                </a:cubicBezTo>
                <a:lnTo>
                  <a:pt x="167" y="12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4" name="组合 456" descr=""/>
          <p:cNvPicPr/>
          <p:nvPr/>
        </p:nvPicPr>
        <p:blipFill>
          <a:blip r:embed="rId76"/>
          <a:stretch/>
        </p:blipFill>
        <p:spPr>
          <a:xfrm>
            <a:off x="2925720" y="3511440"/>
            <a:ext cx="274680" cy="176400"/>
          </a:xfrm>
          <a:prstGeom prst="rect">
            <a:avLst/>
          </a:prstGeom>
          <a:ln w="0">
            <a:noFill/>
          </a:ln>
        </p:spPr>
      </p:pic>
      <p:pic>
        <p:nvPicPr>
          <p:cNvPr id="1565" name="组合 465" descr=""/>
          <p:cNvPicPr/>
          <p:nvPr/>
        </p:nvPicPr>
        <p:blipFill>
          <a:blip r:embed="rId77"/>
          <a:stretch/>
        </p:blipFill>
        <p:spPr>
          <a:xfrm>
            <a:off x="9540720" y="6224760"/>
            <a:ext cx="279720" cy="268200"/>
          </a:xfrm>
          <a:prstGeom prst="rect">
            <a:avLst/>
          </a:prstGeom>
          <a:ln w="0">
            <a:noFill/>
          </a:ln>
        </p:spPr>
      </p:pic>
      <p:sp>
        <p:nvSpPr>
          <p:cNvPr id="1566" name="Freeform 402"/>
          <p:cNvSpPr/>
          <p:nvPr/>
        </p:nvSpPr>
        <p:spPr>
          <a:xfrm>
            <a:off x="5130720" y="1863720"/>
            <a:ext cx="276480" cy="162000"/>
          </a:xfrm>
          <a:custGeom>
            <a:avLst/>
            <a:gdLst/>
            <a:ahLst/>
            <a:rect l="l" t="t" r="r" b="b"/>
            <a:pathLst>
              <a:path w="289" h="169">
                <a:moveTo>
                  <a:pt x="288" y="63"/>
                </a:moveTo>
                <a:cubicBezTo>
                  <a:pt x="287" y="67"/>
                  <a:pt x="287" y="70"/>
                  <a:pt x="286" y="74"/>
                </a:cubicBezTo>
                <a:cubicBezTo>
                  <a:pt x="284" y="87"/>
                  <a:pt x="273" y="101"/>
                  <a:pt x="263" y="107"/>
                </a:cubicBezTo>
                <a:cubicBezTo>
                  <a:pt x="248" y="117"/>
                  <a:pt x="231" y="123"/>
                  <a:pt x="213" y="127"/>
                </a:cubicBezTo>
                <a:cubicBezTo>
                  <a:pt x="213" y="80"/>
                  <a:pt x="213" y="80"/>
                  <a:pt x="213" y="80"/>
                </a:cubicBezTo>
                <a:cubicBezTo>
                  <a:pt x="221" y="77"/>
                  <a:pt x="227" y="74"/>
                  <a:pt x="234" y="69"/>
                </a:cubicBezTo>
                <a:cubicBezTo>
                  <a:pt x="237" y="67"/>
                  <a:pt x="241" y="63"/>
                  <a:pt x="243" y="59"/>
                </a:cubicBezTo>
                <a:cubicBezTo>
                  <a:pt x="245" y="56"/>
                  <a:pt x="242" y="51"/>
                  <a:pt x="240" y="48"/>
                </a:cubicBezTo>
                <a:cubicBezTo>
                  <a:pt x="234" y="42"/>
                  <a:pt x="227" y="37"/>
                  <a:pt x="219" y="33"/>
                </a:cubicBezTo>
                <a:cubicBezTo>
                  <a:pt x="206" y="27"/>
                  <a:pt x="192" y="24"/>
                  <a:pt x="177" y="22"/>
                </a:cubicBezTo>
                <a:cubicBezTo>
                  <a:pt x="155" y="18"/>
                  <a:pt x="133" y="18"/>
                  <a:pt x="111" y="21"/>
                </a:cubicBezTo>
                <a:cubicBezTo>
                  <a:pt x="92" y="24"/>
                  <a:pt x="71" y="29"/>
                  <a:pt x="56" y="41"/>
                </a:cubicBezTo>
                <a:cubicBezTo>
                  <a:pt x="52" y="44"/>
                  <a:pt x="48" y="47"/>
                  <a:pt x="46" y="51"/>
                </a:cubicBezTo>
                <a:cubicBezTo>
                  <a:pt x="45" y="52"/>
                  <a:pt x="45" y="53"/>
                  <a:pt x="45" y="55"/>
                </a:cubicBezTo>
                <a:cubicBezTo>
                  <a:pt x="44" y="57"/>
                  <a:pt x="46" y="60"/>
                  <a:pt x="48" y="62"/>
                </a:cubicBezTo>
                <a:cubicBezTo>
                  <a:pt x="54" y="69"/>
                  <a:pt x="63" y="74"/>
                  <a:pt x="72" y="78"/>
                </a:cubicBezTo>
                <a:cubicBezTo>
                  <a:pt x="83" y="82"/>
                  <a:pt x="94" y="85"/>
                  <a:pt x="105" y="87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05" y="42"/>
                  <a:pt x="105" y="42"/>
                  <a:pt x="105" y="42"/>
                </a:cubicBezTo>
                <a:cubicBezTo>
                  <a:pt x="184" y="105"/>
                  <a:pt x="184" y="105"/>
                  <a:pt x="184" y="105"/>
                </a:cubicBezTo>
                <a:cubicBezTo>
                  <a:pt x="105" y="169"/>
                  <a:pt x="105" y="169"/>
                  <a:pt x="105" y="169"/>
                </a:cubicBezTo>
                <a:cubicBezTo>
                  <a:pt x="105" y="132"/>
                  <a:pt x="105" y="132"/>
                  <a:pt x="105" y="132"/>
                </a:cubicBezTo>
                <a:cubicBezTo>
                  <a:pt x="84" y="129"/>
                  <a:pt x="63" y="124"/>
                  <a:pt x="43" y="116"/>
                </a:cubicBezTo>
                <a:cubicBezTo>
                  <a:pt x="28" y="109"/>
                  <a:pt x="9" y="94"/>
                  <a:pt x="3" y="77"/>
                </a:cubicBezTo>
                <a:cubicBezTo>
                  <a:pt x="1" y="72"/>
                  <a:pt x="1" y="66"/>
                  <a:pt x="0" y="61"/>
                </a:cubicBezTo>
                <a:cubicBezTo>
                  <a:pt x="0" y="56"/>
                  <a:pt x="1" y="52"/>
                  <a:pt x="2" y="48"/>
                </a:cubicBezTo>
                <a:cubicBezTo>
                  <a:pt x="6" y="38"/>
                  <a:pt x="15" y="32"/>
                  <a:pt x="23" y="26"/>
                </a:cubicBezTo>
                <a:cubicBezTo>
                  <a:pt x="42" y="15"/>
                  <a:pt x="64" y="9"/>
                  <a:pt x="86" y="5"/>
                </a:cubicBezTo>
                <a:cubicBezTo>
                  <a:pt x="109" y="1"/>
                  <a:pt x="133" y="0"/>
                  <a:pt x="157" y="1"/>
                </a:cubicBezTo>
                <a:cubicBezTo>
                  <a:pt x="181" y="2"/>
                  <a:pt x="205" y="5"/>
                  <a:pt x="227" y="12"/>
                </a:cubicBezTo>
                <a:cubicBezTo>
                  <a:pt x="246" y="17"/>
                  <a:pt x="268" y="25"/>
                  <a:pt x="281" y="41"/>
                </a:cubicBezTo>
                <a:cubicBezTo>
                  <a:pt x="281" y="41"/>
                  <a:pt x="281" y="41"/>
                  <a:pt x="281" y="41"/>
                </a:cubicBezTo>
                <a:cubicBezTo>
                  <a:pt x="281" y="42"/>
                  <a:pt x="282" y="42"/>
                  <a:pt x="282" y="42"/>
                </a:cubicBezTo>
                <a:cubicBezTo>
                  <a:pt x="286" y="48"/>
                  <a:pt x="289" y="55"/>
                  <a:pt x="288" y="6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Freeform 403"/>
          <p:cNvSpPr/>
          <p:nvPr/>
        </p:nvSpPr>
        <p:spPr>
          <a:xfrm>
            <a:off x="4579920" y="1860480"/>
            <a:ext cx="276120" cy="163440"/>
          </a:xfrm>
          <a:custGeom>
            <a:avLst/>
            <a:gdLst/>
            <a:ahLst/>
            <a:rect l="l" t="t" r="r" b="b"/>
            <a:pathLst>
              <a:path w="289" h="171">
                <a:moveTo>
                  <a:pt x="288" y="99"/>
                </a:moveTo>
                <a:cubicBezTo>
                  <a:pt x="287" y="103"/>
                  <a:pt x="287" y="106"/>
                  <a:pt x="286" y="110"/>
                </a:cubicBezTo>
                <a:cubicBezTo>
                  <a:pt x="284" y="123"/>
                  <a:pt x="273" y="137"/>
                  <a:pt x="263" y="143"/>
                </a:cubicBezTo>
                <a:cubicBezTo>
                  <a:pt x="233" y="162"/>
                  <a:pt x="194" y="168"/>
                  <a:pt x="159" y="170"/>
                </a:cubicBezTo>
                <a:cubicBezTo>
                  <a:pt x="120" y="171"/>
                  <a:pt x="79" y="167"/>
                  <a:pt x="43" y="152"/>
                </a:cubicBezTo>
                <a:cubicBezTo>
                  <a:pt x="28" y="145"/>
                  <a:pt x="9" y="130"/>
                  <a:pt x="3" y="113"/>
                </a:cubicBezTo>
                <a:cubicBezTo>
                  <a:pt x="1" y="108"/>
                  <a:pt x="1" y="102"/>
                  <a:pt x="0" y="97"/>
                </a:cubicBezTo>
                <a:cubicBezTo>
                  <a:pt x="0" y="92"/>
                  <a:pt x="0" y="88"/>
                  <a:pt x="2" y="84"/>
                </a:cubicBezTo>
                <a:cubicBezTo>
                  <a:pt x="6" y="74"/>
                  <a:pt x="15" y="68"/>
                  <a:pt x="23" y="62"/>
                </a:cubicBezTo>
                <a:cubicBezTo>
                  <a:pt x="42" y="51"/>
                  <a:pt x="64" y="45"/>
                  <a:pt x="86" y="41"/>
                </a:cubicBezTo>
                <a:cubicBezTo>
                  <a:pt x="88" y="41"/>
                  <a:pt x="91" y="40"/>
                  <a:pt x="93" y="40"/>
                </a:cubicBezTo>
                <a:cubicBezTo>
                  <a:pt x="93" y="61"/>
                  <a:pt x="93" y="61"/>
                  <a:pt x="93" y="61"/>
                </a:cubicBezTo>
                <a:cubicBezTo>
                  <a:pt x="80" y="64"/>
                  <a:pt x="66" y="68"/>
                  <a:pt x="56" y="77"/>
                </a:cubicBezTo>
                <a:cubicBezTo>
                  <a:pt x="52" y="80"/>
                  <a:pt x="48" y="83"/>
                  <a:pt x="46" y="87"/>
                </a:cubicBezTo>
                <a:cubicBezTo>
                  <a:pt x="45" y="88"/>
                  <a:pt x="45" y="89"/>
                  <a:pt x="45" y="91"/>
                </a:cubicBezTo>
                <a:cubicBezTo>
                  <a:pt x="44" y="93"/>
                  <a:pt x="46" y="96"/>
                  <a:pt x="48" y="98"/>
                </a:cubicBezTo>
                <a:cubicBezTo>
                  <a:pt x="54" y="105"/>
                  <a:pt x="63" y="110"/>
                  <a:pt x="72" y="114"/>
                </a:cubicBezTo>
                <a:cubicBezTo>
                  <a:pt x="83" y="118"/>
                  <a:pt x="94" y="121"/>
                  <a:pt x="105" y="123"/>
                </a:cubicBezTo>
                <a:cubicBezTo>
                  <a:pt x="127" y="126"/>
                  <a:pt x="151" y="127"/>
                  <a:pt x="173" y="124"/>
                </a:cubicBezTo>
                <a:cubicBezTo>
                  <a:pt x="194" y="122"/>
                  <a:pt x="217" y="118"/>
                  <a:pt x="234" y="105"/>
                </a:cubicBezTo>
                <a:cubicBezTo>
                  <a:pt x="237" y="103"/>
                  <a:pt x="241" y="99"/>
                  <a:pt x="243" y="95"/>
                </a:cubicBezTo>
                <a:cubicBezTo>
                  <a:pt x="245" y="92"/>
                  <a:pt x="242" y="87"/>
                  <a:pt x="240" y="85"/>
                </a:cubicBezTo>
                <a:cubicBezTo>
                  <a:pt x="234" y="78"/>
                  <a:pt x="227" y="73"/>
                  <a:pt x="219" y="69"/>
                </a:cubicBezTo>
                <a:cubicBezTo>
                  <a:pt x="211" y="66"/>
                  <a:pt x="202" y="63"/>
                  <a:pt x="193" y="61"/>
                </a:cubicBezTo>
                <a:cubicBezTo>
                  <a:pt x="193" y="98"/>
                  <a:pt x="193" y="98"/>
                  <a:pt x="193" y="98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93" y="0"/>
                  <a:pt x="193" y="0"/>
                  <a:pt x="193" y="0"/>
                </a:cubicBezTo>
                <a:cubicBezTo>
                  <a:pt x="193" y="40"/>
                  <a:pt x="193" y="40"/>
                  <a:pt x="193" y="40"/>
                </a:cubicBezTo>
                <a:cubicBezTo>
                  <a:pt x="205" y="42"/>
                  <a:pt x="216" y="44"/>
                  <a:pt x="227" y="48"/>
                </a:cubicBezTo>
                <a:cubicBezTo>
                  <a:pt x="246" y="53"/>
                  <a:pt x="268" y="61"/>
                  <a:pt x="281" y="77"/>
                </a:cubicBezTo>
                <a:cubicBezTo>
                  <a:pt x="281" y="77"/>
                  <a:pt x="282" y="78"/>
                  <a:pt x="282" y="78"/>
                </a:cubicBezTo>
                <a:cubicBezTo>
                  <a:pt x="286" y="84"/>
                  <a:pt x="289" y="92"/>
                  <a:pt x="288" y="99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8" name="组合 476" descr=""/>
          <p:cNvPicPr/>
          <p:nvPr/>
        </p:nvPicPr>
        <p:blipFill>
          <a:blip r:embed="rId78"/>
          <a:stretch/>
        </p:blipFill>
        <p:spPr>
          <a:xfrm>
            <a:off x="10088640" y="5151600"/>
            <a:ext cx="287280" cy="201600"/>
          </a:xfrm>
          <a:prstGeom prst="rect">
            <a:avLst/>
          </a:prstGeom>
          <a:ln w="0">
            <a:noFill/>
          </a:ln>
        </p:spPr>
      </p:pic>
      <p:pic>
        <p:nvPicPr>
          <p:cNvPr id="1569" name="组合 479" descr=""/>
          <p:cNvPicPr/>
          <p:nvPr/>
        </p:nvPicPr>
        <p:blipFill>
          <a:blip r:embed="rId79"/>
          <a:stretch/>
        </p:blipFill>
        <p:spPr>
          <a:xfrm>
            <a:off x="1292400" y="5662440"/>
            <a:ext cx="237960" cy="281160"/>
          </a:xfrm>
          <a:prstGeom prst="rect">
            <a:avLst/>
          </a:prstGeom>
          <a:ln w="0">
            <a:noFill/>
          </a:ln>
        </p:spPr>
      </p:pic>
      <p:sp>
        <p:nvSpPr>
          <p:cNvPr id="1570" name="Freeform 409"/>
          <p:cNvSpPr/>
          <p:nvPr/>
        </p:nvSpPr>
        <p:spPr>
          <a:xfrm>
            <a:off x="10663200" y="4011480"/>
            <a:ext cx="239760" cy="274680"/>
          </a:xfrm>
          <a:custGeom>
            <a:avLst/>
            <a:gdLst/>
            <a:ahLst/>
            <a:rect l="l" t="t" r="r" b="b"/>
            <a:pathLst>
              <a:path w="250" h="288">
                <a:moveTo>
                  <a:pt x="217" y="230"/>
                </a:moveTo>
                <a:cubicBezTo>
                  <a:pt x="201" y="223"/>
                  <a:pt x="183" y="212"/>
                  <a:pt x="150" y="208"/>
                </a:cubicBezTo>
                <a:cubicBezTo>
                  <a:pt x="159" y="199"/>
                  <a:pt x="163" y="184"/>
                  <a:pt x="171" y="164"/>
                </a:cubicBezTo>
                <a:cubicBezTo>
                  <a:pt x="171" y="164"/>
                  <a:pt x="171" y="163"/>
                  <a:pt x="172" y="163"/>
                </a:cubicBezTo>
                <a:cubicBezTo>
                  <a:pt x="174" y="163"/>
                  <a:pt x="176" y="163"/>
                  <a:pt x="177" y="162"/>
                </a:cubicBezTo>
                <a:cubicBezTo>
                  <a:pt x="179" y="161"/>
                  <a:pt x="181" y="157"/>
                  <a:pt x="182" y="152"/>
                </a:cubicBezTo>
                <a:cubicBezTo>
                  <a:pt x="188" y="147"/>
                  <a:pt x="193" y="142"/>
                  <a:pt x="198" y="136"/>
                </a:cubicBezTo>
                <a:cubicBezTo>
                  <a:pt x="202" y="134"/>
                  <a:pt x="206" y="128"/>
                  <a:pt x="210" y="121"/>
                </a:cubicBezTo>
                <a:cubicBezTo>
                  <a:pt x="213" y="114"/>
                  <a:pt x="214" y="106"/>
                  <a:pt x="213" y="102"/>
                </a:cubicBezTo>
                <a:cubicBezTo>
                  <a:pt x="214" y="97"/>
                  <a:pt x="215" y="92"/>
                  <a:pt x="215" y="87"/>
                </a:cubicBezTo>
                <a:cubicBezTo>
                  <a:pt x="215" y="82"/>
                  <a:pt x="214" y="78"/>
                  <a:pt x="214" y="74"/>
                </a:cubicBezTo>
                <a:cubicBezTo>
                  <a:pt x="215" y="67"/>
                  <a:pt x="214" y="59"/>
                  <a:pt x="210" y="51"/>
                </a:cubicBezTo>
                <a:cubicBezTo>
                  <a:pt x="206" y="41"/>
                  <a:pt x="199" y="34"/>
                  <a:pt x="192" y="30"/>
                </a:cubicBezTo>
                <a:cubicBezTo>
                  <a:pt x="192" y="30"/>
                  <a:pt x="192" y="30"/>
                  <a:pt x="192" y="30"/>
                </a:cubicBezTo>
                <a:cubicBezTo>
                  <a:pt x="190" y="26"/>
                  <a:pt x="186" y="22"/>
                  <a:pt x="182" y="19"/>
                </a:cubicBezTo>
                <a:cubicBezTo>
                  <a:pt x="180" y="18"/>
                  <a:pt x="177" y="17"/>
                  <a:pt x="175" y="16"/>
                </a:cubicBezTo>
                <a:cubicBezTo>
                  <a:pt x="171" y="12"/>
                  <a:pt x="166" y="10"/>
                  <a:pt x="161" y="9"/>
                </a:cubicBezTo>
                <a:cubicBezTo>
                  <a:pt x="151" y="5"/>
                  <a:pt x="140" y="3"/>
                  <a:pt x="128" y="2"/>
                </a:cubicBezTo>
                <a:cubicBezTo>
                  <a:pt x="124" y="0"/>
                  <a:pt x="117" y="0"/>
                  <a:pt x="110" y="1"/>
                </a:cubicBezTo>
                <a:cubicBezTo>
                  <a:pt x="102" y="2"/>
                  <a:pt x="96" y="5"/>
                  <a:pt x="93" y="8"/>
                </a:cubicBezTo>
                <a:cubicBezTo>
                  <a:pt x="90" y="9"/>
                  <a:pt x="88" y="10"/>
                  <a:pt x="85" y="11"/>
                </a:cubicBezTo>
                <a:cubicBezTo>
                  <a:pt x="81" y="11"/>
                  <a:pt x="74" y="13"/>
                  <a:pt x="67" y="18"/>
                </a:cubicBezTo>
                <a:cubicBezTo>
                  <a:pt x="62" y="22"/>
                  <a:pt x="58" y="26"/>
                  <a:pt x="56" y="30"/>
                </a:cubicBezTo>
                <a:cubicBezTo>
                  <a:pt x="48" y="37"/>
                  <a:pt x="44" y="45"/>
                  <a:pt x="43" y="52"/>
                </a:cubicBezTo>
                <a:cubicBezTo>
                  <a:pt x="40" y="54"/>
                  <a:pt x="37" y="58"/>
                  <a:pt x="36" y="63"/>
                </a:cubicBezTo>
                <a:cubicBezTo>
                  <a:pt x="34" y="69"/>
                  <a:pt x="34" y="75"/>
                  <a:pt x="35" y="80"/>
                </a:cubicBezTo>
                <a:cubicBezTo>
                  <a:pt x="35" y="82"/>
                  <a:pt x="35" y="84"/>
                  <a:pt x="35" y="87"/>
                </a:cubicBezTo>
                <a:cubicBezTo>
                  <a:pt x="35" y="90"/>
                  <a:pt x="35" y="93"/>
                  <a:pt x="36" y="96"/>
                </a:cubicBezTo>
                <a:cubicBezTo>
                  <a:pt x="36" y="96"/>
                  <a:pt x="35" y="97"/>
                  <a:pt x="35" y="97"/>
                </a:cubicBezTo>
                <a:cubicBezTo>
                  <a:pt x="34" y="106"/>
                  <a:pt x="36" y="113"/>
                  <a:pt x="40" y="118"/>
                </a:cubicBezTo>
                <a:cubicBezTo>
                  <a:pt x="41" y="121"/>
                  <a:pt x="43" y="126"/>
                  <a:pt x="47" y="130"/>
                </a:cubicBezTo>
                <a:cubicBezTo>
                  <a:pt x="49" y="133"/>
                  <a:pt x="51" y="135"/>
                  <a:pt x="53" y="137"/>
                </a:cubicBezTo>
                <a:cubicBezTo>
                  <a:pt x="57" y="143"/>
                  <a:pt x="62" y="148"/>
                  <a:pt x="68" y="152"/>
                </a:cubicBezTo>
                <a:cubicBezTo>
                  <a:pt x="69" y="157"/>
                  <a:pt x="71" y="161"/>
                  <a:pt x="73" y="162"/>
                </a:cubicBezTo>
                <a:cubicBezTo>
                  <a:pt x="74" y="163"/>
                  <a:pt x="76" y="163"/>
                  <a:pt x="78" y="163"/>
                </a:cubicBezTo>
                <a:cubicBezTo>
                  <a:pt x="79" y="163"/>
                  <a:pt x="79" y="164"/>
                  <a:pt x="79" y="164"/>
                </a:cubicBezTo>
                <a:cubicBezTo>
                  <a:pt x="87" y="184"/>
                  <a:pt x="91" y="199"/>
                  <a:pt x="99" y="208"/>
                </a:cubicBezTo>
                <a:cubicBezTo>
                  <a:pt x="67" y="212"/>
                  <a:pt x="49" y="223"/>
                  <a:pt x="33" y="230"/>
                </a:cubicBezTo>
                <a:cubicBezTo>
                  <a:pt x="1" y="245"/>
                  <a:pt x="0" y="261"/>
                  <a:pt x="0" y="261"/>
                </a:cubicBezTo>
                <a:cubicBezTo>
                  <a:pt x="0" y="288"/>
                  <a:pt x="0" y="288"/>
                  <a:pt x="0" y="288"/>
                </a:cubicBezTo>
                <a:cubicBezTo>
                  <a:pt x="250" y="288"/>
                  <a:pt x="250" y="288"/>
                  <a:pt x="250" y="288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45"/>
                  <a:pt x="217" y="230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1" name="组合 483" descr=""/>
          <p:cNvPicPr/>
          <p:nvPr/>
        </p:nvPicPr>
        <p:blipFill>
          <a:blip r:embed="rId80"/>
          <a:stretch/>
        </p:blipFill>
        <p:spPr>
          <a:xfrm>
            <a:off x="3475080" y="4595760"/>
            <a:ext cx="279360" cy="208080"/>
          </a:xfrm>
          <a:prstGeom prst="rect">
            <a:avLst/>
          </a:prstGeom>
          <a:ln w="0">
            <a:noFill/>
          </a:ln>
        </p:spPr>
      </p:pic>
      <p:pic>
        <p:nvPicPr>
          <p:cNvPr id="1572" name="组合 486" descr=""/>
          <p:cNvPicPr/>
          <p:nvPr/>
        </p:nvPicPr>
        <p:blipFill>
          <a:blip r:embed="rId81"/>
          <a:stretch/>
        </p:blipFill>
        <p:spPr>
          <a:xfrm>
            <a:off x="5681520" y="6235560"/>
            <a:ext cx="274680" cy="244440"/>
          </a:xfrm>
          <a:prstGeom prst="rect">
            <a:avLst/>
          </a:prstGeom>
          <a:ln w="0">
            <a:noFill/>
          </a:ln>
        </p:spPr>
      </p:pic>
      <p:pic>
        <p:nvPicPr>
          <p:cNvPr id="1573" name="组合 490" descr=""/>
          <p:cNvPicPr/>
          <p:nvPr/>
        </p:nvPicPr>
        <p:blipFill>
          <a:blip r:embed="rId82"/>
          <a:stretch/>
        </p:blipFill>
        <p:spPr>
          <a:xfrm>
            <a:off x="2378160" y="4059360"/>
            <a:ext cx="272880" cy="177840"/>
          </a:xfrm>
          <a:prstGeom prst="rect">
            <a:avLst/>
          </a:prstGeom>
          <a:ln w="0">
            <a:noFill/>
          </a:ln>
        </p:spPr>
      </p:pic>
      <p:sp>
        <p:nvSpPr>
          <p:cNvPr id="1574" name="Freeform 421"/>
          <p:cNvSpPr/>
          <p:nvPr/>
        </p:nvSpPr>
        <p:spPr>
          <a:xfrm>
            <a:off x="5683320" y="4564080"/>
            <a:ext cx="274680" cy="27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144"/>
                </a:moveTo>
                <a:cubicBezTo>
                  <a:pt x="288" y="136"/>
                  <a:pt x="272" y="129"/>
                  <a:pt x="246" y="124"/>
                </a:cubicBezTo>
                <a:cubicBezTo>
                  <a:pt x="268" y="109"/>
                  <a:pt x="280" y="96"/>
                  <a:pt x="277" y="89"/>
                </a:cubicBezTo>
                <a:cubicBezTo>
                  <a:pt x="274" y="81"/>
                  <a:pt x="257" y="81"/>
                  <a:pt x="231" y="86"/>
                </a:cubicBezTo>
                <a:cubicBezTo>
                  <a:pt x="245" y="64"/>
                  <a:pt x="252" y="48"/>
                  <a:pt x="246" y="42"/>
                </a:cubicBezTo>
                <a:cubicBezTo>
                  <a:pt x="240" y="36"/>
                  <a:pt x="224" y="43"/>
                  <a:pt x="202" y="57"/>
                </a:cubicBezTo>
                <a:cubicBezTo>
                  <a:pt x="207" y="31"/>
                  <a:pt x="206" y="14"/>
                  <a:pt x="199" y="11"/>
                </a:cubicBezTo>
                <a:cubicBezTo>
                  <a:pt x="192" y="8"/>
                  <a:pt x="179" y="20"/>
                  <a:pt x="164" y="42"/>
                </a:cubicBezTo>
                <a:cubicBezTo>
                  <a:pt x="159" y="16"/>
                  <a:pt x="152" y="0"/>
                  <a:pt x="144" y="0"/>
                </a:cubicBezTo>
                <a:cubicBezTo>
                  <a:pt x="136" y="0"/>
                  <a:pt x="129" y="16"/>
                  <a:pt x="124" y="42"/>
                </a:cubicBezTo>
                <a:cubicBezTo>
                  <a:pt x="109" y="20"/>
                  <a:pt x="96" y="8"/>
                  <a:pt x="89" y="11"/>
                </a:cubicBezTo>
                <a:cubicBezTo>
                  <a:pt x="81" y="14"/>
                  <a:pt x="81" y="31"/>
                  <a:pt x="86" y="57"/>
                </a:cubicBezTo>
                <a:cubicBezTo>
                  <a:pt x="64" y="43"/>
                  <a:pt x="48" y="36"/>
                  <a:pt x="42" y="42"/>
                </a:cubicBezTo>
                <a:cubicBezTo>
                  <a:pt x="36" y="48"/>
                  <a:pt x="43" y="64"/>
                  <a:pt x="57" y="86"/>
                </a:cubicBezTo>
                <a:cubicBezTo>
                  <a:pt x="31" y="81"/>
                  <a:pt x="14" y="81"/>
                  <a:pt x="11" y="89"/>
                </a:cubicBezTo>
                <a:cubicBezTo>
                  <a:pt x="8" y="96"/>
                  <a:pt x="20" y="109"/>
                  <a:pt x="42" y="124"/>
                </a:cubicBezTo>
                <a:cubicBezTo>
                  <a:pt x="16" y="129"/>
                  <a:pt x="0" y="136"/>
                  <a:pt x="0" y="144"/>
                </a:cubicBezTo>
                <a:cubicBezTo>
                  <a:pt x="0" y="152"/>
                  <a:pt x="16" y="159"/>
                  <a:pt x="42" y="164"/>
                </a:cubicBezTo>
                <a:cubicBezTo>
                  <a:pt x="20" y="179"/>
                  <a:pt x="8" y="192"/>
                  <a:pt x="11" y="199"/>
                </a:cubicBezTo>
                <a:cubicBezTo>
                  <a:pt x="14" y="206"/>
                  <a:pt x="31" y="207"/>
                  <a:pt x="57" y="202"/>
                </a:cubicBezTo>
                <a:cubicBezTo>
                  <a:pt x="43" y="224"/>
                  <a:pt x="36" y="240"/>
                  <a:pt x="42" y="246"/>
                </a:cubicBezTo>
                <a:cubicBezTo>
                  <a:pt x="48" y="252"/>
                  <a:pt x="64" y="245"/>
                  <a:pt x="86" y="231"/>
                </a:cubicBezTo>
                <a:cubicBezTo>
                  <a:pt x="81" y="257"/>
                  <a:pt x="81" y="274"/>
                  <a:pt x="89" y="277"/>
                </a:cubicBezTo>
                <a:cubicBezTo>
                  <a:pt x="96" y="280"/>
                  <a:pt x="109" y="268"/>
                  <a:pt x="124" y="246"/>
                </a:cubicBezTo>
                <a:cubicBezTo>
                  <a:pt x="129" y="272"/>
                  <a:pt x="136" y="288"/>
                  <a:pt x="144" y="288"/>
                </a:cubicBezTo>
                <a:cubicBezTo>
                  <a:pt x="152" y="288"/>
                  <a:pt x="159" y="272"/>
                  <a:pt x="164" y="246"/>
                </a:cubicBezTo>
                <a:cubicBezTo>
                  <a:pt x="179" y="268"/>
                  <a:pt x="192" y="280"/>
                  <a:pt x="199" y="277"/>
                </a:cubicBezTo>
                <a:cubicBezTo>
                  <a:pt x="206" y="274"/>
                  <a:pt x="207" y="257"/>
                  <a:pt x="202" y="231"/>
                </a:cubicBezTo>
                <a:cubicBezTo>
                  <a:pt x="224" y="245"/>
                  <a:pt x="240" y="252"/>
                  <a:pt x="246" y="246"/>
                </a:cubicBezTo>
                <a:cubicBezTo>
                  <a:pt x="252" y="240"/>
                  <a:pt x="245" y="224"/>
                  <a:pt x="231" y="202"/>
                </a:cubicBezTo>
                <a:cubicBezTo>
                  <a:pt x="257" y="207"/>
                  <a:pt x="274" y="206"/>
                  <a:pt x="277" y="199"/>
                </a:cubicBezTo>
                <a:cubicBezTo>
                  <a:pt x="280" y="192"/>
                  <a:pt x="268" y="179"/>
                  <a:pt x="246" y="164"/>
                </a:cubicBezTo>
                <a:cubicBezTo>
                  <a:pt x="272" y="159"/>
                  <a:pt x="288" y="152"/>
                  <a:pt x="288" y="14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5" name="组合 498" descr=""/>
          <p:cNvPicPr/>
          <p:nvPr/>
        </p:nvPicPr>
        <p:blipFill>
          <a:blip r:embed="rId83"/>
          <a:stretch/>
        </p:blipFill>
        <p:spPr>
          <a:xfrm>
            <a:off x="6235560" y="4559400"/>
            <a:ext cx="274680" cy="280800"/>
          </a:xfrm>
          <a:prstGeom prst="rect">
            <a:avLst/>
          </a:prstGeom>
          <a:ln w="0">
            <a:noFill/>
          </a:ln>
        </p:spPr>
      </p:pic>
      <p:pic>
        <p:nvPicPr>
          <p:cNvPr id="1576" name="组合 502" descr=""/>
          <p:cNvPicPr/>
          <p:nvPr/>
        </p:nvPicPr>
        <p:blipFill>
          <a:blip r:embed="rId84"/>
          <a:stretch/>
        </p:blipFill>
        <p:spPr>
          <a:xfrm>
            <a:off x="2925720" y="4091040"/>
            <a:ext cx="274680" cy="115920"/>
          </a:xfrm>
          <a:prstGeom prst="rect">
            <a:avLst/>
          </a:prstGeom>
          <a:ln w="0">
            <a:noFill/>
          </a:ln>
        </p:spPr>
      </p:pic>
      <p:pic>
        <p:nvPicPr>
          <p:cNvPr id="1577" name="组合 507" descr=""/>
          <p:cNvPicPr/>
          <p:nvPr/>
        </p:nvPicPr>
        <p:blipFill>
          <a:blip r:embed="rId85"/>
          <a:stretch/>
        </p:blipFill>
        <p:spPr>
          <a:xfrm>
            <a:off x="18223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78" name="组合 511" descr=""/>
          <p:cNvPicPr/>
          <p:nvPr/>
        </p:nvPicPr>
        <p:blipFill>
          <a:blip r:embed="rId86"/>
          <a:stretch/>
        </p:blipFill>
        <p:spPr>
          <a:xfrm>
            <a:off x="2378160" y="1805040"/>
            <a:ext cx="272880" cy="272880"/>
          </a:xfrm>
          <a:prstGeom prst="rect">
            <a:avLst/>
          </a:prstGeom>
          <a:ln w="0">
            <a:noFill/>
          </a:ln>
        </p:spPr>
      </p:pic>
      <p:sp>
        <p:nvSpPr>
          <p:cNvPr id="1579" name="Freeform 434"/>
          <p:cNvSpPr/>
          <p:nvPr/>
        </p:nvSpPr>
        <p:spPr>
          <a:xfrm>
            <a:off x="7888320" y="1833480"/>
            <a:ext cx="274680" cy="217440"/>
          </a:xfrm>
          <a:custGeom>
            <a:avLst/>
            <a:gdLst/>
            <a:ahLst/>
            <a:rect l="l" t="t" r="r" b="b"/>
            <a:pathLst>
              <a:path w="173" h="137">
                <a:moveTo>
                  <a:pt x="173" y="40"/>
                </a:moveTo>
                <a:lnTo>
                  <a:pt x="87" y="0"/>
                </a:lnTo>
                <a:lnTo>
                  <a:pt x="0" y="40"/>
                </a:lnTo>
                <a:lnTo>
                  <a:pt x="2" y="56"/>
                </a:lnTo>
                <a:lnTo>
                  <a:pt x="59" y="56"/>
                </a:lnTo>
                <a:lnTo>
                  <a:pt x="48" y="118"/>
                </a:lnTo>
                <a:lnTo>
                  <a:pt x="49" y="137"/>
                </a:lnTo>
                <a:lnTo>
                  <a:pt x="124" y="137"/>
                </a:lnTo>
                <a:lnTo>
                  <a:pt x="125" y="118"/>
                </a:lnTo>
                <a:lnTo>
                  <a:pt x="114" y="56"/>
                </a:lnTo>
                <a:lnTo>
                  <a:pt x="172" y="56"/>
                </a:lnTo>
                <a:lnTo>
                  <a:pt x="173" y="4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Freeform 435"/>
          <p:cNvSpPr/>
          <p:nvPr/>
        </p:nvSpPr>
        <p:spPr>
          <a:xfrm>
            <a:off x="8989920" y="1835280"/>
            <a:ext cx="276480" cy="217440"/>
          </a:xfrm>
          <a:custGeom>
            <a:avLst/>
            <a:gdLst/>
            <a:ahLst/>
            <a:rect l="l" t="t" r="r" b="b"/>
            <a:pathLst>
              <a:path w="174" h="137">
                <a:moveTo>
                  <a:pt x="174" y="39"/>
                </a:moveTo>
                <a:lnTo>
                  <a:pt x="87" y="0"/>
                </a:lnTo>
                <a:lnTo>
                  <a:pt x="0" y="39"/>
                </a:lnTo>
                <a:lnTo>
                  <a:pt x="2" y="55"/>
                </a:lnTo>
                <a:lnTo>
                  <a:pt x="59" y="55"/>
                </a:lnTo>
                <a:lnTo>
                  <a:pt x="49" y="118"/>
                </a:lnTo>
                <a:lnTo>
                  <a:pt x="50" y="137"/>
                </a:lnTo>
                <a:lnTo>
                  <a:pt x="125" y="137"/>
                </a:lnTo>
                <a:lnTo>
                  <a:pt x="126" y="118"/>
                </a:lnTo>
                <a:lnTo>
                  <a:pt x="115" y="55"/>
                </a:lnTo>
                <a:lnTo>
                  <a:pt x="172" y="55"/>
                </a:lnTo>
                <a:lnTo>
                  <a:pt x="174" y="39"/>
                </a:lnTo>
                <a:close/>
                <a:moveTo>
                  <a:pt x="54" y="113"/>
                </a:moveTo>
                <a:lnTo>
                  <a:pt x="67" y="34"/>
                </a:lnTo>
                <a:lnTo>
                  <a:pt x="23" y="34"/>
                </a:lnTo>
                <a:lnTo>
                  <a:pt x="87" y="5"/>
                </a:lnTo>
                <a:lnTo>
                  <a:pt x="152" y="34"/>
                </a:lnTo>
                <a:lnTo>
                  <a:pt x="107" y="34"/>
                </a:lnTo>
                <a:lnTo>
                  <a:pt x="120" y="113"/>
                </a:lnTo>
                <a:lnTo>
                  <a:pt x="54" y="113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Freeform 436"/>
          <p:cNvSpPr/>
          <p:nvPr/>
        </p:nvSpPr>
        <p:spPr>
          <a:xfrm>
            <a:off x="8439120" y="1825560"/>
            <a:ext cx="276120" cy="230400"/>
          </a:xfrm>
          <a:custGeom>
            <a:avLst/>
            <a:gdLst/>
            <a:ahLst/>
            <a:rect l="l" t="t" r="r" b="b"/>
            <a:pathLst>
              <a:path w="174" h="145">
                <a:moveTo>
                  <a:pt x="112" y="61"/>
                </a:moveTo>
                <a:lnTo>
                  <a:pt x="107" y="0"/>
                </a:lnTo>
                <a:lnTo>
                  <a:pt x="67" y="0"/>
                </a:lnTo>
                <a:lnTo>
                  <a:pt x="62" y="61"/>
                </a:lnTo>
                <a:lnTo>
                  <a:pt x="0" y="61"/>
                </a:lnTo>
                <a:lnTo>
                  <a:pt x="1" y="77"/>
                </a:lnTo>
                <a:lnTo>
                  <a:pt x="87" y="145"/>
                </a:lnTo>
                <a:lnTo>
                  <a:pt x="172" y="77"/>
                </a:lnTo>
                <a:lnTo>
                  <a:pt x="174" y="61"/>
                </a:lnTo>
                <a:lnTo>
                  <a:pt x="112" y="6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Freeform 437"/>
          <p:cNvSpPr/>
          <p:nvPr/>
        </p:nvSpPr>
        <p:spPr>
          <a:xfrm>
            <a:off x="9542520" y="1828800"/>
            <a:ext cx="274680" cy="228600"/>
          </a:xfrm>
          <a:custGeom>
            <a:avLst/>
            <a:gdLst/>
            <a:ahLst/>
            <a:rect l="l" t="t" r="r" b="b"/>
            <a:pathLst>
              <a:path w="173" h="144">
                <a:moveTo>
                  <a:pt x="111" y="60"/>
                </a:moveTo>
                <a:lnTo>
                  <a:pt x="106" y="0"/>
                </a:lnTo>
                <a:lnTo>
                  <a:pt x="67" y="0"/>
                </a:lnTo>
                <a:lnTo>
                  <a:pt x="61" y="60"/>
                </a:lnTo>
                <a:lnTo>
                  <a:pt x="0" y="60"/>
                </a:lnTo>
                <a:lnTo>
                  <a:pt x="2" y="76"/>
                </a:lnTo>
                <a:lnTo>
                  <a:pt x="87" y="144"/>
                </a:lnTo>
                <a:lnTo>
                  <a:pt x="171" y="76"/>
                </a:lnTo>
                <a:lnTo>
                  <a:pt x="173" y="60"/>
                </a:lnTo>
                <a:lnTo>
                  <a:pt x="111" y="60"/>
                </a:lnTo>
                <a:close/>
                <a:moveTo>
                  <a:pt x="65" y="65"/>
                </a:moveTo>
                <a:lnTo>
                  <a:pt x="71" y="4"/>
                </a:lnTo>
                <a:lnTo>
                  <a:pt x="102" y="4"/>
                </a:lnTo>
                <a:lnTo>
                  <a:pt x="107" y="65"/>
                </a:lnTo>
                <a:lnTo>
                  <a:pt x="158" y="65"/>
                </a:lnTo>
                <a:lnTo>
                  <a:pt x="87" y="118"/>
                </a:lnTo>
                <a:lnTo>
                  <a:pt x="14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3" name="组合 518" descr=""/>
          <p:cNvPicPr/>
          <p:nvPr/>
        </p:nvPicPr>
        <p:blipFill>
          <a:blip r:embed="rId87"/>
          <a:stretch/>
        </p:blipFill>
        <p:spPr>
          <a:xfrm>
            <a:off x="10644120" y="4559400"/>
            <a:ext cx="279360" cy="280800"/>
          </a:xfrm>
          <a:prstGeom prst="rect">
            <a:avLst/>
          </a:prstGeom>
          <a:ln w="0">
            <a:noFill/>
          </a:ln>
        </p:spPr>
      </p:pic>
      <p:pic>
        <p:nvPicPr>
          <p:cNvPr id="1584" name="组合 553" descr=""/>
          <p:cNvPicPr/>
          <p:nvPr/>
        </p:nvPicPr>
        <p:blipFill>
          <a:blip r:embed="rId88"/>
          <a:stretch/>
        </p:blipFill>
        <p:spPr>
          <a:xfrm>
            <a:off x="10648800" y="2352600"/>
            <a:ext cx="263520" cy="281160"/>
          </a:xfrm>
          <a:prstGeom prst="rect">
            <a:avLst/>
          </a:prstGeom>
          <a:ln w="0">
            <a:noFill/>
          </a:ln>
        </p:spPr>
      </p:pic>
      <p:sp>
        <p:nvSpPr>
          <p:cNvPr id="1585" name="Freeform 475"/>
          <p:cNvSpPr/>
          <p:nvPr/>
        </p:nvSpPr>
        <p:spPr>
          <a:xfrm>
            <a:off x="4089240" y="4826160"/>
            <a:ext cx="154080" cy="12600"/>
          </a:xfrm>
          <a:custGeom>
            <a:avLst/>
            <a:gdLst/>
            <a:ahLst/>
            <a:rect l="l" t="t" r="r" b="b"/>
            <a:pathLst>
              <a:path w="162" h="14">
                <a:moveTo>
                  <a:pt x="16" y="2"/>
                </a:moveTo>
                <a:cubicBezTo>
                  <a:pt x="9" y="2"/>
                  <a:pt x="4" y="1"/>
                  <a:pt x="0" y="0"/>
                </a:cubicBezTo>
                <a:cubicBezTo>
                  <a:pt x="0" y="9"/>
                  <a:pt x="1" y="14"/>
                  <a:pt x="16" y="14"/>
                </a:cubicBezTo>
                <a:cubicBezTo>
                  <a:pt x="146" y="14"/>
                  <a:pt x="146" y="14"/>
                  <a:pt x="146" y="14"/>
                </a:cubicBezTo>
                <a:cubicBezTo>
                  <a:pt x="162" y="14"/>
                  <a:pt x="162" y="9"/>
                  <a:pt x="162" y="0"/>
                </a:cubicBezTo>
                <a:cubicBezTo>
                  <a:pt x="159" y="1"/>
                  <a:pt x="153" y="2"/>
                  <a:pt x="146" y="2"/>
                </a:cubicBezTo>
                <a:lnTo>
                  <a:pt x="16" y="2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Freeform 476"/>
          <p:cNvSpPr/>
          <p:nvPr/>
        </p:nvSpPr>
        <p:spPr>
          <a:xfrm>
            <a:off x="4089240" y="4562640"/>
            <a:ext cx="154080" cy="255600"/>
          </a:xfrm>
          <a:custGeom>
            <a:avLst/>
            <a:gdLst/>
            <a:ahLst/>
            <a:rect l="l" t="t" r="r" b="b"/>
            <a:pathLst>
              <a:path w="162" h="266">
                <a:moveTo>
                  <a:pt x="146" y="0"/>
                </a:moveTo>
                <a:cubicBezTo>
                  <a:pt x="16" y="0"/>
                  <a:pt x="16" y="0"/>
                  <a:pt x="16" y="0"/>
                </a:cubicBezTo>
                <a:cubicBezTo>
                  <a:pt x="0" y="0"/>
                  <a:pt x="0" y="5"/>
                  <a:pt x="0" y="16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250"/>
                  <a:pt x="0" y="250"/>
                  <a:pt x="0" y="250"/>
                </a:cubicBezTo>
                <a:cubicBezTo>
                  <a:pt x="0" y="261"/>
                  <a:pt x="0" y="266"/>
                  <a:pt x="16" y="266"/>
                </a:cubicBezTo>
                <a:cubicBezTo>
                  <a:pt x="146" y="266"/>
                  <a:pt x="146" y="266"/>
                  <a:pt x="146" y="266"/>
                </a:cubicBezTo>
                <a:cubicBezTo>
                  <a:pt x="162" y="266"/>
                  <a:pt x="162" y="261"/>
                  <a:pt x="162" y="250"/>
                </a:cubicBezTo>
                <a:cubicBezTo>
                  <a:pt x="162" y="38"/>
                  <a:pt x="162" y="38"/>
                  <a:pt x="162" y="38"/>
                </a:cubicBezTo>
                <a:cubicBezTo>
                  <a:pt x="162" y="16"/>
                  <a:pt x="162" y="16"/>
                  <a:pt x="162" y="16"/>
                </a:cubicBezTo>
                <a:cubicBezTo>
                  <a:pt x="162" y="5"/>
                  <a:pt x="162" y="0"/>
                  <a:pt x="146" y="0"/>
                </a:cubicBezTo>
                <a:close/>
                <a:moveTo>
                  <a:pt x="140" y="237"/>
                </a:moveTo>
                <a:cubicBezTo>
                  <a:pt x="22" y="237"/>
                  <a:pt x="22" y="237"/>
                  <a:pt x="22" y="237"/>
                </a:cubicBezTo>
                <a:cubicBezTo>
                  <a:pt x="22" y="33"/>
                  <a:pt x="22" y="33"/>
                  <a:pt x="22" y="33"/>
                </a:cubicBezTo>
                <a:cubicBezTo>
                  <a:pt x="140" y="33"/>
                  <a:pt x="140" y="33"/>
                  <a:pt x="140" y="33"/>
                </a:cubicBezTo>
                <a:lnTo>
                  <a:pt x="140" y="237"/>
                </a:lnTo>
                <a:close/>
                <a:moveTo>
                  <a:pt x="57" y="13"/>
                </a:moveTo>
                <a:cubicBezTo>
                  <a:pt x="106" y="13"/>
                  <a:pt x="106" y="13"/>
                  <a:pt x="106" y="13"/>
                </a:cubicBezTo>
                <a:cubicBezTo>
                  <a:pt x="108" y="13"/>
                  <a:pt x="110" y="15"/>
                  <a:pt x="110" y="17"/>
                </a:cubicBezTo>
                <a:cubicBezTo>
                  <a:pt x="110" y="19"/>
                  <a:pt x="108" y="20"/>
                  <a:pt x="106" y="20"/>
                </a:cubicBezTo>
                <a:cubicBezTo>
                  <a:pt x="57" y="20"/>
                  <a:pt x="57" y="20"/>
                  <a:pt x="57" y="20"/>
                </a:cubicBezTo>
                <a:cubicBezTo>
                  <a:pt x="55" y="20"/>
                  <a:pt x="53" y="19"/>
                  <a:pt x="53" y="17"/>
                </a:cubicBezTo>
                <a:cubicBezTo>
                  <a:pt x="53" y="15"/>
                  <a:pt x="55" y="13"/>
                  <a:pt x="57" y="1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Freeform 477"/>
          <p:cNvSpPr/>
          <p:nvPr/>
        </p:nvSpPr>
        <p:spPr>
          <a:xfrm>
            <a:off x="10644120" y="5665680"/>
            <a:ext cx="276120" cy="276480"/>
          </a:xfrm>
          <a:custGeom>
            <a:avLst/>
            <a:gdLst/>
            <a:ahLst/>
            <a:rect l="l" t="t" r="r" b="b"/>
            <a:pathLst>
              <a:path w="174" h="174">
                <a:moveTo>
                  <a:pt x="163" y="65"/>
                </a:moveTo>
                <a:lnTo>
                  <a:pt x="163" y="0"/>
                </a:lnTo>
                <a:lnTo>
                  <a:pt x="136" y="0"/>
                </a:lnTo>
                <a:lnTo>
                  <a:pt x="136" y="65"/>
                </a:lnTo>
                <a:lnTo>
                  <a:pt x="119" y="65"/>
                </a:lnTo>
                <a:lnTo>
                  <a:pt x="119" y="36"/>
                </a:lnTo>
                <a:lnTo>
                  <a:pt x="82" y="64"/>
                </a:lnTo>
                <a:lnTo>
                  <a:pt x="82" y="36"/>
                </a:lnTo>
                <a:lnTo>
                  <a:pt x="46" y="64"/>
                </a:lnTo>
                <a:lnTo>
                  <a:pt x="46" y="36"/>
                </a:lnTo>
                <a:lnTo>
                  <a:pt x="9" y="65"/>
                </a:lnTo>
                <a:lnTo>
                  <a:pt x="0" y="65"/>
                </a:lnTo>
                <a:lnTo>
                  <a:pt x="0" y="174"/>
                </a:lnTo>
                <a:lnTo>
                  <a:pt x="174" y="174"/>
                </a:lnTo>
                <a:lnTo>
                  <a:pt x="174" y="65"/>
                </a:lnTo>
                <a:lnTo>
                  <a:pt x="163" y="65"/>
                </a:lnTo>
                <a:close/>
                <a:moveTo>
                  <a:pt x="54" y="154"/>
                </a:moveTo>
                <a:lnTo>
                  <a:pt x="28" y="154"/>
                </a:lnTo>
                <a:lnTo>
                  <a:pt x="28" y="128"/>
                </a:lnTo>
                <a:lnTo>
                  <a:pt x="54" y="128"/>
                </a:lnTo>
                <a:lnTo>
                  <a:pt x="54" y="154"/>
                </a:lnTo>
                <a:close/>
                <a:moveTo>
                  <a:pt x="54" y="111"/>
                </a:moveTo>
                <a:lnTo>
                  <a:pt x="28" y="111"/>
                </a:lnTo>
                <a:lnTo>
                  <a:pt x="28" y="85"/>
                </a:lnTo>
                <a:lnTo>
                  <a:pt x="54" y="85"/>
                </a:lnTo>
                <a:lnTo>
                  <a:pt x="54" y="111"/>
                </a:lnTo>
                <a:close/>
                <a:moveTo>
                  <a:pt x="100" y="154"/>
                </a:moveTo>
                <a:lnTo>
                  <a:pt x="75" y="154"/>
                </a:lnTo>
                <a:lnTo>
                  <a:pt x="75" y="128"/>
                </a:lnTo>
                <a:lnTo>
                  <a:pt x="100" y="128"/>
                </a:lnTo>
                <a:lnTo>
                  <a:pt x="100" y="154"/>
                </a:lnTo>
                <a:close/>
                <a:moveTo>
                  <a:pt x="100" y="111"/>
                </a:moveTo>
                <a:lnTo>
                  <a:pt x="75" y="111"/>
                </a:lnTo>
                <a:lnTo>
                  <a:pt x="75" y="85"/>
                </a:lnTo>
                <a:lnTo>
                  <a:pt x="100" y="85"/>
                </a:lnTo>
                <a:lnTo>
                  <a:pt x="100" y="111"/>
                </a:lnTo>
                <a:close/>
                <a:moveTo>
                  <a:pt x="147" y="154"/>
                </a:moveTo>
                <a:lnTo>
                  <a:pt x="121" y="154"/>
                </a:lnTo>
                <a:lnTo>
                  <a:pt x="121" y="128"/>
                </a:lnTo>
                <a:lnTo>
                  <a:pt x="147" y="128"/>
                </a:lnTo>
                <a:lnTo>
                  <a:pt x="147" y="154"/>
                </a:lnTo>
                <a:close/>
                <a:moveTo>
                  <a:pt x="147" y="111"/>
                </a:moveTo>
                <a:lnTo>
                  <a:pt x="121" y="111"/>
                </a:lnTo>
                <a:lnTo>
                  <a:pt x="121" y="85"/>
                </a:lnTo>
                <a:lnTo>
                  <a:pt x="147" y="85"/>
                </a:lnTo>
                <a:lnTo>
                  <a:pt x="147" y="11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8" name="组合 560" descr=""/>
          <p:cNvPicPr/>
          <p:nvPr/>
        </p:nvPicPr>
        <p:blipFill>
          <a:blip r:embed="rId89"/>
          <a:stretch/>
        </p:blipFill>
        <p:spPr>
          <a:xfrm>
            <a:off x="4029120" y="5662440"/>
            <a:ext cx="274680" cy="281160"/>
          </a:xfrm>
          <a:prstGeom prst="rect">
            <a:avLst/>
          </a:prstGeom>
          <a:ln w="0">
            <a:noFill/>
          </a:ln>
        </p:spPr>
      </p:pic>
      <p:pic>
        <p:nvPicPr>
          <p:cNvPr id="1589" name="组合 565" descr=""/>
          <p:cNvPicPr/>
          <p:nvPr/>
        </p:nvPicPr>
        <p:blipFill>
          <a:blip r:embed="rId90"/>
          <a:stretch/>
        </p:blipFill>
        <p:spPr>
          <a:xfrm>
            <a:off x="6784920" y="5724360"/>
            <a:ext cx="274680" cy="152640"/>
          </a:xfrm>
          <a:prstGeom prst="rect">
            <a:avLst/>
          </a:prstGeom>
          <a:ln w="0">
            <a:noFill/>
          </a:ln>
        </p:spPr>
      </p:pic>
      <p:pic>
        <p:nvPicPr>
          <p:cNvPr id="1590" name="组合 569" descr=""/>
          <p:cNvPicPr/>
          <p:nvPr/>
        </p:nvPicPr>
        <p:blipFill>
          <a:blip r:embed="rId91"/>
          <a:stretch/>
        </p:blipFill>
        <p:spPr>
          <a:xfrm>
            <a:off x="7334280" y="5735520"/>
            <a:ext cx="279360" cy="135000"/>
          </a:xfrm>
          <a:prstGeom prst="rect">
            <a:avLst/>
          </a:prstGeom>
          <a:ln w="0">
            <a:noFill/>
          </a:ln>
        </p:spPr>
      </p:pic>
      <p:sp>
        <p:nvSpPr>
          <p:cNvPr id="1591" name="Freeform 487"/>
          <p:cNvSpPr/>
          <p:nvPr/>
        </p:nvSpPr>
        <p:spPr>
          <a:xfrm>
            <a:off x="7904160" y="5665680"/>
            <a:ext cx="243000" cy="274680"/>
          </a:xfrm>
          <a:custGeom>
            <a:avLst/>
            <a:gdLst/>
            <a:ahLst/>
            <a:rect l="l" t="t" r="r" b="b"/>
            <a:pathLst>
              <a:path w="253" h="287">
                <a:moveTo>
                  <a:pt x="185" y="37"/>
                </a:moveTo>
                <a:cubicBezTo>
                  <a:pt x="156" y="32"/>
                  <a:pt x="129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2"/>
                  <a:pt x="69" y="37"/>
                </a:cubicBezTo>
                <a:cubicBezTo>
                  <a:pt x="40" y="42"/>
                  <a:pt x="2" y="29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9"/>
                  <a:pt x="3" y="141"/>
                  <a:pt x="14" y="170"/>
                </a:cubicBezTo>
                <a:cubicBezTo>
                  <a:pt x="24" y="199"/>
                  <a:pt x="44" y="223"/>
                  <a:pt x="49" y="229"/>
                </a:cubicBezTo>
                <a:cubicBezTo>
                  <a:pt x="53" y="233"/>
                  <a:pt x="81" y="263"/>
                  <a:pt x="122" y="284"/>
                </a:cubicBezTo>
                <a:cubicBezTo>
                  <a:pt x="127" y="287"/>
                  <a:pt x="127" y="287"/>
                  <a:pt x="127" y="287"/>
                </a:cubicBezTo>
                <a:cubicBezTo>
                  <a:pt x="132" y="284"/>
                  <a:pt x="132" y="284"/>
                  <a:pt x="132" y="284"/>
                </a:cubicBezTo>
                <a:cubicBezTo>
                  <a:pt x="173" y="263"/>
                  <a:pt x="201" y="233"/>
                  <a:pt x="204" y="229"/>
                </a:cubicBezTo>
                <a:cubicBezTo>
                  <a:pt x="210" y="223"/>
                  <a:pt x="230" y="199"/>
                  <a:pt x="240" y="170"/>
                </a:cubicBezTo>
                <a:cubicBezTo>
                  <a:pt x="250" y="141"/>
                  <a:pt x="253" y="99"/>
                  <a:pt x="253" y="98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3" y="30"/>
                  <a:pt x="253" y="30"/>
                  <a:pt x="253" y="30"/>
                </a:cubicBezTo>
                <a:cubicBezTo>
                  <a:pt x="252" y="29"/>
                  <a:pt x="214" y="42"/>
                  <a:pt x="185" y="37"/>
                </a:cubicBezTo>
                <a:close/>
                <a:moveTo>
                  <a:pt x="219" y="101"/>
                </a:moveTo>
                <a:cubicBezTo>
                  <a:pt x="219" y="105"/>
                  <a:pt x="216" y="137"/>
                  <a:pt x="208" y="159"/>
                </a:cubicBezTo>
                <a:cubicBezTo>
                  <a:pt x="200" y="183"/>
                  <a:pt x="183" y="202"/>
                  <a:pt x="182" y="204"/>
                </a:cubicBezTo>
                <a:cubicBezTo>
                  <a:pt x="180" y="205"/>
                  <a:pt x="180" y="205"/>
                  <a:pt x="180" y="205"/>
                </a:cubicBezTo>
                <a:cubicBezTo>
                  <a:pt x="180" y="205"/>
                  <a:pt x="158" y="230"/>
                  <a:pt x="127" y="249"/>
                </a:cubicBezTo>
                <a:cubicBezTo>
                  <a:pt x="95" y="230"/>
                  <a:pt x="73" y="205"/>
                  <a:pt x="73" y="205"/>
                </a:cubicBezTo>
                <a:cubicBezTo>
                  <a:pt x="72" y="204"/>
                  <a:pt x="72" y="204"/>
                  <a:pt x="72" y="204"/>
                </a:cubicBezTo>
                <a:cubicBezTo>
                  <a:pt x="70" y="202"/>
                  <a:pt x="53" y="183"/>
                  <a:pt x="45" y="159"/>
                </a:cubicBezTo>
                <a:cubicBezTo>
                  <a:pt x="37" y="137"/>
                  <a:pt x="35" y="105"/>
                  <a:pt x="34" y="101"/>
                </a:cubicBezTo>
                <a:cubicBezTo>
                  <a:pt x="34" y="75"/>
                  <a:pt x="34" y="75"/>
                  <a:pt x="34" y="75"/>
                </a:cubicBezTo>
                <a:cubicBezTo>
                  <a:pt x="44" y="73"/>
                  <a:pt x="62" y="76"/>
                  <a:pt x="79" y="73"/>
                </a:cubicBezTo>
                <a:cubicBezTo>
                  <a:pt x="101" y="69"/>
                  <a:pt x="124" y="48"/>
                  <a:pt x="126" y="48"/>
                </a:cubicBezTo>
                <a:cubicBezTo>
                  <a:pt x="129" y="48"/>
                  <a:pt x="151" y="69"/>
                  <a:pt x="174" y="73"/>
                </a:cubicBezTo>
                <a:cubicBezTo>
                  <a:pt x="191" y="76"/>
                  <a:pt x="209" y="73"/>
                  <a:pt x="219" y="75"/>
                </a:cubicBezTo>
                <a:lnTo>
                  <a:pt x="219" y="10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Freeform 488"/>
          <p:cNvSpPr/>
          <p:nvPr/>
        </p:nvSpPr>
        <p:spPr>
          <a:xfrm>
            <a:off x="8454960" y="5665680"/>
            <a:ext cx="243000" cy="276480"/>
          </a:xfrm>
          <a:custGeom>
            <a:avLst/>
            <a:gdLst/>
            <a:ahLst/>
            <a:rect l="l" t="t" r="r" b="b"/>
            <a:pathLst>
              <a:path w="253" h="288">
                <a:moveTo>
                  <a:pt x="253" y="30"/>
                </a:moveTo>
                <a:cubicBezTo>
                  <a:pt x="252" y="30"/>
                  <a:pt x="214" y="43"/>
                  <a:pt x="185" y="38"/>
                </a:cubicBezTo>
                <a:cubicBezTo>
                  <a:pt x="156" y="33"/>
                  <a:pt x="128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0"/>
                  <a:pt x="98" y="33"/>
                  <a:pt x="69" y="38"/>
                </a:cubicBezTo>
                <a:cubicBezTo>
                  <a:pt x="39" y="43"/>
                  <a:pt x="1" y="30"/>
                  <a:pt x="0" y="30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00"/>
                  <a:pt x="3" y="141"/>
                  <a:pt x="14" y="171"/>
                </a:cubicBezTo>
                <a:cubicBezTo>
                  <a:pt x="24" y="200"/>
                  <a:pt x="44" y="224"/>
                  <a:pt x="49" y="230"/>
                </a:cubicBezTo>
                <a:cubicBezTo>
                  <a:pt x="53" y="233"/>
                  <a:pt x="81" y="263"/>
                  <a:pt x="121" y="285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27" y="288"/>
                  <a:pt x="127" y="288"/>
                  <a:pt x="127" y="288"/>
                </a:cubicBezTo>
                <a:cubicBezTo>
                  <a:pt x="132" y="285"/>
                  <a:pt x="132" y="285"/>
                  <a:pt x="132" y="285"/>
                </a:cubicBezTo>
                <a:cubicBezTo>
                  <a:pt x="172" y="263"/>
                  <a:pt x="201" y="233"/>
                  <a:pt x="204" y="230"/>
                </a:cubicBezTo>
                <a:cubicBezTo>
                  <a:pt x="210" y="224"/>
                  <a:pt x="230" y="200"/>
                  <a:pt x="240" y="171"/>
                </a:cubicBezTo>
                <a:cubicBezTo>
                  <a:pt x="250" y="141"/>
                  <a:pt x="253" y="100"/>
                  <a:pt x="253" y="98"/>
                </a:cubicBezTo>
                <a:cubicBezTo>
                  <a:pt x="253" y="31"/>
                  <a:pt x="253" y="31"/>
                  <a:pt x="253" y="31"/>
                </a:cubicBezTo>
                <a:lnTo>
                  <a:pt x="253" y="3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Freeform 489"/>
          <p:cNvSpPr/>
          <p:nvPr/>
        </p:nvSpPr>
        <p:spPr>
          <a:xfrm>
            <a:off x="4641840" y="5083200"/>
            <a:ext cx="152280" cy="306360"/>
          </a:xfrm>
          <a:custGeom>
            <a:avLst/>
            <a:gdLst/>
            <a:ahLst/>
            <a:rect l="l" t="t" r="r" b="b"/>
            <a:pathLst>
              <a:path w="159" h="320">
                <a:moveTo>
                  <a:pt x="159" y="245"/>
                </a:moveTo>
                <a:cubicBezTo>
                  <a:pt x="159" y="163"/>
                  <a:pt x="90" y="81"/>
                  <a:pt x="80" y="39"/>
                </a:cubicBezTo>
                <a:cubicBezTo>
                  <a:pt x="69" y="0"/>
                  <a:pt x="89" y="127"/>
                  <a:pt x="80" y="151"/>
                </a:cubicBezTo>
                <a:cubicBezTo>
                  <a:pt x="67" y="183"/>
                  <a:pt x="58" y="91"/>
                  <a:pt x="54" y="107"/>
                </a:cubicBezTo>
                <a:cubicBezTo>
                  <a:pt x="51" y="119"/>
                  <a:pt x="0" y="179"/>
                  <a:pt x="0" y="244"/>
                </a:cubicBezTo>
                <a:cubicBezTo>
                  <a:pt x="0" y="290"/>
                  <a:pt x="25" y="311"/>
                  <a:pt x="47" y="320"/>
                </a:cubicBezTo>
                <a:cubicBezTo>
                  <a:pt x="42" y="312"/>
                  <a:pt x="37" y="300"/>
                  <a:pt x="37" y="284"/>
                </a:cubicBezTo>
                <a:cubicBezTo>
                  <a:pt x="37" y="269"/>
                  <a:pt x="37" y="252"/>
                  <a:pt x="62" y="228"/>
                </a:cubicBezTo>
                <a:cubicBezTo>
                  <a:pt x="62" y="228"/>
                  <a:pt x="47" y="290"/>
                  <a:pt x="76" y="288"/>
                </a:cubicBezTo>
                <a:cubicBezTo>
                  <a:pt x="105" y="287"/>
                  <a:pt x="82" y="188"/>
                  <a:pt x="92" y="205"/>
                </a:cubicBezTo>
                <a:cubicBezTo>
                  <a:pt x="105" y="227"/>
                  <a:pt x="129" y="280"/>
                  <a:pt x="121" y="315"/>
                </a:cubicBezTo>
                <a:cubicBezTo>
                  <a:pt x="121" y="315"/>
                  <a:pt x="121" y="315"/>
                  <a:pt x="121" y="315"/>
                </a:cubicBezTo>
                <a:cubicBezTo>
                  <a:pt x="140" y="305"/>
                  <a:pt x="159" y="284"/>
                  <a:pt x="159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Freeform 490"/>
          <p:cNvSpPr/>
          <p:nvPr/>
        </p:nvSpPr>
        <p:spPr>
          <a:xfrm>
            <a:off x="4581360" y="6210360"/>
            <a:ext cx="281160" cy="280800"/>
          </a:xfrm>
          <a:custGeom>
            <a:avLst/>
            <a:gdLst/>
            <a:ahLst/>
            <a:rect l="l" t="t" r="r" b="b"/>
            <a:pathLst>
              <a:path w="294" h="294">
                <a:moveTo>
                  <a:pt x="237" y="58"/>
                </a:moveTo>
                <a:cubicBezTo>
                  <a:pt x="197" y="17"/>
                  <a:pt x="163" y="0"/>
                  <a:pt x="153" y="10"/>
                </a:cubicBezTo>
                <a:cubicBezTo>
                  <a:pt x="147" y="16"/>
                  <a:pt x="150" y="29"/>
                  <a:pt x="160" y="46"/>
                </a:cubicBezTo>
                <a:cubicBezTo>
                  <a:pt x="82" y="123"/>
                  <a:pt x="82" y="123"/>
                  <a:pt x="82" y="123"/>
                </a:cubicBezTo>
                <a:cubicBezTo>
                  <a:pt x="57" y="106"/>
                  <a:pt x="38" y="101"/>
                  <a:pt x="30" y="108"/>
                </a:cubicBezTo>
                <a:cubicBezTo>
                  <a:pt x="19" y="120"/>
                  <a:pt x="35" y="154"/>
                  <a:pt x="74" y="196"/>
                </a:cubicBezTo>
                <a:cubicBezTo>
                  <a:pt x="0" y="286"/>
                  <a:pt x="0" y="286"/>
                  <a:pt x="0" y="286"/>
                </a:cubicBezTo>
                <a:cubicBezTo>
                  <a:pt x="8" y="294"/>
                  <a:pt x="8" y="294"/>
                  <a:pt x="8" y="294"/>
                </a:cubicBezTo>
                <a:cubicBezTo>
                  <a:pt x="98" y="220"/>
                  <a:pt x="98" y="220"/>
                  <a:pt x="98" y="220"/>
                </a:cubicBezTo>
                <a:cubicBezTo>
                  <a:pt x="141" y="260"/>
                  <a:pt x="175" y="276"/>
                  <a:pt x="186" y="264"/>
                </a:cubicBezTo>
                <a:cubicBezTo>
                  <a:pt x="194" y="257"/>
                  <a:pt x="189" y="238"/>
                  <a:pt x="171" y="213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66" y="145"/>
                  <a:pt x="278" y="148"/>
                  <a:pt x="284" y="142"/>
                </a:cubicBezTo>
                <a:cubicBezTo>
                  <a:pt x="294" y="132"/>
                  <a:pt x="277" y="98"/>
                  <a:pt x="237" y="58"/>
                </a:cubicBezTo>
                <a:close/>
                <a:moveTo>
                  <a:pt x="174" y="85"/>
                </a:moveTo>
                <a:cubicBezTo>
                  <a:pt x="116" y="144"/>
                  <a:pt x="116" y="144"/>
                  <a:pt x="116" y="144"/>
                </a:cubicBezTo>
                <a:cubicBezTo>
                  <a:pt x="112" y="147"/>
                  <a:pt x="107" y="147"/>
                  <a:pt x="103" y="144"/>
                </a:cubicBezTo>
                <a:cubicBezTo>
                  <a:pt x="99" y="140"/>
                  <a:pt x="99" y="134"/>
                  <a:pt x="103" y="131"/>
                </a:cubicBezTo>
                <a:cubicBezTo>
                  <a:pt x="162" y="72"/>
                  <a:pt x="162" y="72"/>
                  <a:pt x="162" y="72"/>
                </a:cubicBezTo>
                <a:cubicBezTo>
                  <a:pt x="165" y="69"/>
                  <a:pt x="171" y="69"/>
                  <a:pt x="174" y="72"/>
                </a:cubicBezTo>
                <a:cubicBezTo>
                  <a:pt x="178" y="76"/>
                  <a:pt x="178" y="82"/>
                  <a:pt x="174" y="8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5" name="组合 576" descr=""/>
          <p:cNvPicPr/>
          <p:nvPr/>
        </p:nvPicPr>
        <p:blipFill>
          <a:blip r:embed="rId92"/>
          <a:stretch/>
        </p:blipFill>
        <p:spPr>
          <a:xfrm>
            <a:off x="8437680" y="2932200"/>
            <a:ext cx="279360" cy="231840"/>
          </a:xfrm>
          <a:prstGeom prst="rect">
            <a:avLst/>
          </a:prstGeom>
          <a:ln w="0">
            <a:noFill/>
          </a:ln>
        </p:spPr>
      </p:pic>
      <p:sp>
        <p:nvSpPr>
          <p:cNvPr id="1596" name="Freeform 493"/>
          <p:cNvSpPr/>
          <p:nvPr/>
        </p:nvSpPr>
        <p:spPr>
          <a:xfrm>
            <a:off x="7893000" y="5114880"/>
            <a:ext cx="263520" cy="274680"/>
          </a:xfrm>
          <a:custGeom>
            <a:avLst/>
            <a:gdLst/>
            <a:ahLst/>
            <a:rect l="l" t="t" r="r" b="b"/>
            <a:pathLst>
              <a:path w="275" h="287">
                <a:moveTo>
                  <a:pt x="69" y="169"/>
                </a:moveTo>
                <a:cubicBezTo>
                  <a:pt x="103" y="135"/>
                  <a:pt x="103" y="135"/>
                  <a:pt x="103" y="135"/>
                </a:cubicBezTo>
                <a:cubicBezTo>
                  <a:pt x="124" y="156"/>
                  <a:pt x="124" y="156"/>
                  <a:pt x="124" y="156"/>
                </a:cubicBezTo>
                <a:cubicBezTo>
                  <a:pt x="124" y="224"/>
                  <a:pt x="124" y="224"/>
                  <a:pt x="124" y="224"/>
                </a:cubicBezTo>
                <a:cubicBezTo>
                  <a:pt x="124" y="225"/>
                  <a:pt x="124" y="225"/>
                  <a:pt x="124" y="225"/>
                </a:cubicBezTo>
                <a:cubicBezTo>
                  <a:pt x="125" y="231"/>
                  <a:pt x="124" y="247"/>
                  <a:pt x="117" y="256"/>
                </a:cubicBezTo>
                <a:cubicBezTo>
                  <a:pt x="115" y="258"/>
                  <a:pt x="111" y="261"/>
                  <a:pt x="103" y="261"/>
                </a:cubicBezTo>
                <a:cubicBezTo>
                  <a:pt x="96" y="261"/>
                  <a:pt x="91" y="259"/>
                  <a:pt x="87" y="255"/>
                </a:cubicBezTo>
                <a:cubicBezTo>
                  <a:pt x="82" y="250"/>
                  <a:pt x="82" y="240"/>
                  <a:pt x="82" y="237"/>
                </a:cubicBezTo>
                <a:cubicBezTo>
                  <a:pt x="83" y="230"/>
                  <a:pt x="78" y="223"/>
                  <a:pt x="71" y="222"/>
                </a:cubicBezTo>
                <a:cubicBezTo>
                  <a:pt x="63" y="222"/>
                  <a:pt x="57" y="227"/>
                  <a:pt x="56" y="234"/>
                </a:cubicBezTo>
                <a:cubicBezTo>
                  <a:pt x="56" y="237"/>
                  <a:pt x="54" y="258"/>
                  <a:pt x="67" y="273"/>
                </a:cubicBezTo>
                <a:cubicBezTo>
                  <a:pt x="73" y="279"/>
                  <a:pt x="84" y="287"/>
                  <a:pt x="103" y="287"/>
                </a:cubicBezTo>
                <a:cubicBezTo>
                  <a:pt x="117" y="287"/>
                  <a:pt x="128" y="283"/>
                  <a:pt x="136" y="274"/>
                </a:cubicBezTo>
                <a:cubicBezTo>
                  <a:pt x="152" y="256"/>
                  <a:pt x="151" y="229"/>
                  <a:pt x="151" y="224"/>
                </a:cubicBezTo>
                <a:cubicBezTo>
                  <a:pt x="151" y="156"/>
                  <a:pt x="151" y="156"/>
                  <a:pt x="151" y="156"/>
                </a:cubicBezTo>
                <a:cubicBezTo>
                  <a:pt x="172" y="135"/>
                  <a:pt x="172" y="135"/>
                  <a:pt x="172" y="135"/>
                </a:cubicBezTo>
                <a:cubicBezTo>
                  <a:pt x="206" y="169"/>
                  <a:pt x="206" y="169"/>
                  <a:pt x="206" y="169"/>
                </a:cubicBezTo>
                <a:cubicBezTo>
                  <a:pt x="241" y="135"/>
                  <a:pt x="241" y="135"/>
                  <a:pt x="241" y="135"/>
                </a:cubicBezTo>
                <a:cubicBezTo>
                  <a:pt x="273" y="167"/>
                  <a:pt x="273" y="167"/>
                  <a:pt x="273" y="167"/>
                </a:cubicBezTo>
                <a:cubicBezTo>
                  <a:pt x="274" y="159"/>
                  <a:pt x="275" y="151"/>
                  <a:pt x="275" y="142"/>
                </a:cubicBezTo>
                <a:cubicBezTo>
                  <a:pt x="275" y="109"/>
                  <a:pt x="243" y="29"/>
                  <a:pt x="147" y="24"/>
                </a:cubicBezTo>
                <a:cubicBezTo>
                  <a:pt x="147" y="9"/>
                  <a:pt x="147" y="9"/>
                  <a:pt x="147" y="9"/>
                </a:cubicBezTo>
                <a:cubicBezTo>
                  <a:pt x="147" y="4"/>
                  <a:pt x="143" y="0"/>
                  <a:pt x="138" y="0"/>
                </a:cubicBezTo>
                <a:cubicBezTo>
                  <a:pt x="133" y="0"/>
                  <a:pt x="128" y="4"/>
                  <a:pt x="128" y="9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33" y="29"/>
                  <a:pt x="0" y="109"/>
                  <a:pt x="0" y="142"/>
                </a:cubicBezTo>
                <a:cubicBezTo>
                  <a:pt x="0" y="150"/>
                  <a:pt x="1" y="159"/>
                  <a:pt x="3" y="167"/>
                </a:cubicBezTo>
                <a:cubicBezTo>
                  <a:pt x="35" y="135"/>
                  <a:pt x="35" y="135"/>
                  <a:pt x="35" y="135"/>
                </a:cubicBezTo>
                <a:lnTo>
                  <a:pt x="69" y="169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7" name="组合 580" descr=""/>
          <p:cNvPicPr/>
          <p:nvPr/>
        </p:nvPicPr>
        <p:blipFill>
          <a:blip r:embed="rId93"/>
          <a:stretch/>
        </p:blipFill>
        <p:spPr>
          <a:xfrm>
            <a:off x="2925720" y="1805040"/>
            <a:ext cx="274680" cy="272880"/>
          </a:xfrm>
          <a:prstGeom prst="rect">
            <a:avLst/>
          </a:prstGeom>
          <a:ln w="0">
            <a:noFill/>
          </a:ln>
        </p:spPr>
      </p:pic>
      <p:pic>
        <p:nvPicPr>
          <p:cNvPr id="1598" name="组合 585" descr=""/>
          <p:cNvPicPr/>
          <p:nvPr/>
        </p:nvPicPr>
        <p:blipFill>
          <a:blip r:embed="rId94"/>
          <a:stretch/>
        </p:blipFill>
        <p:spPr>
          <a:xfrm>
            <a:off x="3475080" y="1805040"/>
            <a:ext cx="279360" cy="272880"/>
          </a:xfrm>
          <a:prstGeom prst="rect">
            <a:avLst/>
          </a:prstGeom>
          <a:ln w="0">
            <a:noFill/>
          </a:ln>
        </p:spPr>
      </p:pic>
      <p:pic>
        <p:nvPicPr>
          <p:cNvPr id="1599" name="组合 588" descr=""/>
          <p:cNvPicPr/>
          <p:nvPr/>
        </p:nvPicPr>
        <p:blipFill>
          <a:blip r:embed="rId95"/>
          <a:stretch/>
        </p:blipFill>
        <p:spPr>
          <a:xfrm>
            <a:off x="9540720" y="2382840"/>
            <a:ext cx="273240" cy="227160"/>
          </a:xfrm>
          <a:prstGeom prst="rect">
            <a:avLst/>
          </a:prstGeom>
          <a:ln w="0">
            <a:noFill/>
          </a:ln>
        </p:spPr>
      </p:pic>
      <p:pic>
        <p:nvPicPr>
          <p:cNvPr id="1600" name="组合 592" descr=""/>
          <p:cNvPicPr/>
          <p:nvPr/>
        </p:nvPicPr>
        <p:blipFill>
          <a:blip r:embed="rId96"/>
          <a:stretch/>
        </p:blipFill>
        <p:spPr>
          <a:xfrm>
            <a:off x="8474040" y="2359080"/>
            <a:ext cx="206280" cy="274680"/>
          </a:xfrm>
          <a:prstGeom prst="rect">
            <a:avLst/>
          </a:prstGeom>
          <a:ln w="0">
            <a:noFill/>
          </a:ln>
        </p:spPr>
      </p:pic>
      <p:pic>
        <p:nvPicPr>
          <p:cNvPr id="1601" name="组合 595" descr=""/>
          <p:cNvPicPr/>
          <p:nvPr/>
        </p:nvPicPr>
        <p:blipFill>
          <a:blip r:embed="rId97"/>
          <a:stretch/>
        </p:blipFill>
        <p:spPr>
          <a:xfrm>
            <a:off x="3475080" y="5705640"/>
            <a:ext cx="279360" cy="195120"/>
          </a:xfrm>
          <a:prstGeom prst="rect">
            <a:avLst/>
          </a:prstGeom>
          <a:ln w="0">
            <a:noFill/>
          </a:ln>
        </p:spPr>
      </p:pic>
      <p:pic>
        <p:nvPicPr>
          <p:cNvPr id="1602" name="组合 599" descr=""/>
          <p:cNvPicPr/>
          <p:nvPr/>
        </p:nvPicPr>
        <p:blipFill>
          <a:blip r:embed="rId98"/>
          <a:stretch/>
        </p:blipFill>
        <p:spPr>
          <a:xfrm>
            <a:off x="2925720" y="5730840"/>
            <a:ext cx="274680" cy="146160"/>
          </a:xfrm>
          <a:prstGeom prst="rect">
            <a:avLst/>
          </a:prstGeom>
          <a:ln w="0">
            <a:noFill/>
          </a:ln>
        </p:spPr>
      </p:pic>
      <p:pic>
        <p:nvPicPr>
          <p:cNvPr id="1603" name="组合 604" descr=""/>
          <p:cNvPicPr/>
          <p:nvPr/>
        </p:nvPicPr>
        <p:blipFill>
          <a:blip r:embed="rId99"/>
          <a:stretch/>
        </p:blipFill>
        <p:spPr>
          <a:xfrm>
            <a:off x="6784920" y="1847880"/>
            <a:ext cx="281160" cy="189000"/>
          </a:xfrm>
          <a:prstGeom prst="rect">
            <a:avLst/>
          </a:prstGeom>
          <a:ln w="0">
            <a:noFill/>
          </a:ln>
        </p:spPr>
      </p:pic>
      <p:sp>
        <p:nvSpPr>
          <p:cNvPr id="1604" name="Freeform 515"/>
          <p:cNvSpPr/>
          <p:nvPr/>
        </p:nvSpPr>
        <p:spPr>
          <a:xfrm>
            <a:off x="7335720" y="1805040"/>
            <a:ext cx="276480" cy="2761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18" y="61"/>
                </a:moveTo>
                <a:cubicBezTo>
                  <a:pt x="118" y="55"/>
                  <a:pt x="124" y="49"/>
                  <a:pt x="130" y="49"/>
                </a:cubicBezTo>
                <a:cubicBezTo>
                  <a:pt x="159" y="49"/>
                  <a:pt x="159" y="49"/>
                  <a:pt x="159" y="49"/>
                </a:cubicBezTo>
                <a:cubicBezTo>
                  <a:pt x="165" y="49"/>
                  <a:pt x="170" y="55"/>
                  <a:pt x="170" y="61"/>
                </a:cubicBezTo>
                <a:cubicBezTo>
                  <a:pt x="170" y="75"/>
                  <a:pt x="170" y="75"/>
                  <a:pt x="170" y="75"/>
                </a:cubicBezTo>
                <a:cubicBezTo>
                  <a:pt x="118" y="75"/>
                  <a:pt x="118" y="75"/>
                  <a:pt x="118" y="75"/>
                </a:cubicBezTo>
                <a:lnTo>
                  <a:pt x="118" y="61"/>
                </a:lnTo>
                <a:close/>
                <a:moveTo>
                  <a:pt x="118" y="95"/>
                </a:moveTo>
                <a:cubicBezTo>
                  <a:pt x="170" y="95"/>
                  <a:pt x="170" y="95"/>
                  <a:pt x="170" y="95"/>
                </a:cubicBezTo>
                <a:cubicBezTo>
                  <a:pt x="170" y="117"/>
                  <a:pt x="170" y="117"/>
                  <a:pt x="170" y="117"/>
                </a:cubicBezTo>
                <a:cubicBezTo>
                  <a:pt x="118" y="117"/>
                  <a:pt x="118" y="117"/>
                  <a:pt x="118" y="117"/>
                </a:cubicBezTo>
                <a:lnTo>
                  <a:pt x="118" y="95"/>
                </a:lnTo>
                <a:close/>
                <a:moveTo>
                  <a:pt x="206" y="176"/>
                </a:moveTo>
                <a:cubicBezTo>
                  <a:pt x="152" y="241"/>
                  <a:pt x="152" y="241"/>
                  <a:pt x="152" y="241"/>
                </a:cubicBezTo>
                <a:cubicBezTo>
                  <a:pt x="148" y="246"/>
                  <a:pt x="141" y="246"/>
                  <a:pt x="137" y="241"/>
                </a:cubicBezTo>
                <a:cubicBezTo>
                  <a:pt x="82" y="176"/>
                  <a:pt x="82" y="176"/>
                  <a:pt x="82" y="176"/>
                </a:cubicBezTo>
                <a:cubicBezTo>
                  <a:pt x="78" y="171"/>
                  <a:pt x="80" y="167"/>
                  <a:pt x="86" y="167"/>
                </a:cubicBezTo>
                <a:cubicBezTo>
                  <a:pt x="86" y="167"/>
                  <a:pt x="114" y="167"/>
                  <a:pt x="118" y="167"/>
                </a:cubicBezTo>
                <a:cubicBezTo>
                  <a:pt x="118" y="137"/>
                  <a:pt x="118" y="137"/>
                  <a:pt x="118" y="137"/>
                </a:cubicBezTo>
                <a:cubicBezTo>
                  <a:pt x="170" y="137"/>
                  <a:pt x="170" y="137"/>
                  <a:pt x="170" y="137"/>
                </a:cubicBezTo>
                <a:cubicBezTo>
                  <a:pt x="170" y="167"/>
                  <a:pt x="170" y="167"/>
                  <a:pt x="170" y="167"/>
                </a:cubicBezTo>
                <a:cubicBezTo>
                  <a:pt x="174" y="167"/>
                  <a:pt x="202" y="167"/>
                  <a:pt x="202" y="167"/>
                </a:cubicBezTo>
                <a:cubicBezTo>
                  <a:pt x="209" y="167"/>
                  <a:pt x="211" y="171"/>
                  <a:pt x="206" y="17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Freeform 516"/>
          <p:cNvSpPr/>
          <p:nvPr/>
        </p:nvSpPr>
        <p:spPr>
          <a:xfrm>
            <a:off x="10132920" y="5665680"/>
            <a:ext cx="198360" cy="276480"/>
          </a:xfrm>
          <a:custGeom>
            <a:avLst/>
            <a:gdLst/>
            <a:ahLst/>
            <a:rect l="l" t="t" r="r" b="b"/>
            <a:pathLst>
              <a:path w="207" h="288">
                <a:moveTo>
                  <a:pt x="207" y="165"/>
                </a:moveTo>
                <a:cubicBezTo>
                  <a:pt x="207" y="165"/>
                  <a:pt x="187" y="130"/>
                  <a:pt x="187" y="130"/>
                </a:cubicBezTo>
                <a:cubicBezTo>
                  <a:pt x="187" y="12"/>
                  <a:pt x="187" y="12"/>
                  <a:pt x="187" y="12"/>
                </a:cubicBezTo>
                <a:cubicBezTo>
                  <a:pt x="187" y="5"/>
                  <a:pt x="182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5" y="0"/>
                  <a:pt x="20" y="5"/>
                  <a:pt x="20" y="12"/>
                </a:cubicBezTo>
                <a:cubicBezTo>
                  <a:pt x="20" y="129"/>
                  <a:pt x="20" y="129"/>
                  <a:pt x="20" y="129"/>
                </a:cubicBezTo>
                <a:cubicBezTo>
                  <a:pt x="20" y="129"/>
                  <a:pt x="0" y="165"/>
                  <a:pt x="0" y="165"/>
                </a:cubicBezTo>
                <a:cubicBezTo>
                  <a:pt x="0" y="165"/>
                  <a:pt x="0" y="165"/>
                  <a:pt x="0" y="165"/>
                </a:cubicBezTo>
                <a:cubicBezTo>
                  <a:pt x="0" y="288"/>
                  <a:pt x="0" y="288"/>
                  <a:pt x="0" y="288"/>
                </a:cubicBezTo>
                <a:cubicBezTo>
                  <a:pt x="28" y="288"/>
                  <a:pt x="28" y="288"/>
                  <a:pt x="28" y="288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28" y="197"/>
                  <a:pt x="33" y="191"/>
                  <a:pt x="40" y="191"/>
                </a:cubicBezTo>
                <a:cubicBezTo>
                  <a:pt x="167" y="191"/>
                  <a:pt x="167" y="191"/>
                  <a:pt x="167" y="191"/>
                </a:cubicBezTo>
                <a:cubicBezTo>
                  <a:pt x="174" y="191"/>
                  <a:pt x="179" y="197"/>
                  <a:pt x="179" y="203"/>
                </a:cubicBezTo>
                <a:cubicBezTo>
                  <a:pt x="179" y="288"/>
                  <a:pt x="179" y="288"/>
                  <a:pt x="179" y="288"/>
                </a:cubicBezTo>
                <a:cubicBezTo>
                  <a:pt x="207" y="288"/>
                  <a:pt x="207" y="288"/>
                  <a:pt x="207" y="288"/>
                </a:cubicBezTo>
                <a:cubicBezTo>
                  <a:pt x="207" y="165"/>
                  <a:pt x="207" y="165"/>
                  <a:pt x="207" y="165"/>
                </a:cubicBezTo>
                <a:close/>
                <a:moveTo>
                  <a:pt x="48" y="71"/>
                </a:moveTo>
                <a:cubicBezTo>
                  <a:pt x="48" y="64"/>
                  <a:pt x="53" y="59"/>
                  <a:pt x="60" y="59"/>
                </a:cubicBezTo>
                <a:cubicBezTo>
                  <a:pt x="147" y="59"/>
                  <a:pt x="147" y="59"/>
                  <a:pt x="147" y="59"/>
                </a:cubicBezTo>
                <a:cubicBezTo>
                  <a:pt x="154" y="59"/>
                  <a:pt x="159" y="64"/>
                  <a:pt x="159" y="71"/>
                </a:cubicBezTo>
                <a:cubicBezTo>
                  <a:pt x="159" y="91"/>
                  <a:pt x="159" y="91"/>
                  <a:pt x="159" y="91"/>
                </a:cubicBezTo>
                <a:cubicBezTo>
                  <a:pt x="159" y="98"/>
                  <a:pt x="154" y="103"/>
                  <a:pt x="147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53" y="103"/>
                  <a:pt x="48" y="98"/>
                  <a:pt x="48" y="91"/>
                </a:cubicBezTo>
                <a:lnTo>
                  <a:pt x="48" y="7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Freeform 517"/>
          <p:cNvSpPr/>
          <p:nvPr/>
        </p:nvSpPr>
        <p:spPr>
          <a:xfrm>
            <a:off x="8440560" y="5133960"/>
            <a:ext cx="277920" cy="233280"/>
          </a:xfrm>
          <a:custGeom>
            <a:avLst/>
            <a:gdLst/>
            <a:ahLst/>
            <a:rect l="l" t="t" r="r" b="b"/>
            <a:pathLst>
              <a:path w="291" h="244">
                <a:moveTo>
                  <a:pt x="273" y="152"/>
                </a:moveTo>
                <a:cubicBezTo>
                  <a:pt x="273" y="142"/>
                  <a:pt x="276" y="132"/>
                  <a:pt x="279" y="123"/>
                </a:cubicBezTo>
                <a:cubicBezTo>
                  <a:pt x="285" y="107"/>
                  <a:pt x="291" y="88"/>
                  <a:pt x="276" y="70"/>
                </a:cubicBezTo>
                <a:cubicBezTo>
                  <a:pt x="267" y="59"/>
                  <a:pt x="254" y="54"/>
                  <a:pt x="241" y="51"/>
                </a:cubicBezTo>
                <a:cubicBezTo>
                  <a:pt x="241" y="43"/>
                  <a:pt x="241" y="43"/>
                  <a:pt x="241" y="43"/>
                </a:cubicBezTo>
                <a:cubicBezTo>
                  <a:pt x="241" y="43"/>
                  <a:pt x="230" y="40"/>
                  <a:pt x="223" y="38"/>
                </a:cubicBezTo>
                <a:cubicBezTo>
                  <a:pt x="216" y="37"/>
                  <a:pt x="207" y="35"/>
                  <a:pt x="200" y="35"/>
                </a:cubicBezTo>
                <a:cubicBezTo>
                  <a:pt x="193" y="35"/>
                  <a:pt x="180" y="35"/>
                  <a:pt x="180" y="35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98" y="49"/>
                  <a:pt x="198" y="49"/>
                  <a:pt x="198" y="49"/>
                </a:cubicBezTo>
                <a:cubicBezTo>
                  <a:pt x="198" y="49"/>
                  <a:pt x="196" y="83"/>
                  <a:pt x="223" y="83"/>
                </a:cubicBezTo>
                <a:cubicBezTo>
                  <a:pt x="234" y="83"/>
                  <a:pt x="241" y="83"/>
                  <a:pt x="241" y="83"/>
                </a:cubicBezTo>
                <a:cubicBezTo>
                  <a:pt x="241" y="72"/>
                  <a:pt x="241" y="72"/>
                  <a:pt x="241" y="72"/>
                </a:cubicBezTo>
                <a:cubicBezTo>
                  <a:pt x="249" y="74"/>
                  <a:pt x="256" y="78"/>
                  <a:pt x="260" y="83"/>
                </a:cubicBezTo>
                <a:cubicBezTo>
                  <a:pt x="268" y="92"/>
                  <a:pt x="266" y="100"/>
                  <a:pt x="260" y="116"/>
                </a:cubicBezTo>
                <a:cubicBezTo>
                  <a:pt x="257" y="126"/>
                  <a:pt x="252" y="138"/>
                  <a:pt x="252" y="152"/>
                </a:cubicBezTo>
                <a:cubicBezTo>
                  <a:pt x="252" y="155"/>
                  <a:pt x="253" y="158"/>
                  <a:pt x="255" y="163"/>
                </a:cubicBezTo>
                <a:cubicBezTo>
                  <a:pt x="258" y="176"/>
                  <a:pt x="266" y="206"/>
                  <a:pt x="256" y="218"/>
                </a:cubicBezTo>
                <a:cubicBezTo>
                  <a:pt x="255" y="219"/>
                  <a:pt x="252" y="224"/>
                  <a:pt x="240" y="224"/>
                </a:cubicBezTo>
                <a:cubicBezTo>
                  <a:pt x="220" y="224"/>
                  <a:pt x="216" y="208"/>
                  <a:pt x="213" y="171"/>
                </a:cubicBezTo>
                <a:cubicBezTo>
                  <a:pt x="212" y="151"/>
                  <a:pt x="210" y="133"/>
                  <a:pt x="196" y="128"/>
                </a:cubicBezTo>
                <a:cubicBezTo>
                  <a:pt x="188" y="125"/>
                  <a:pt x="179" y="125"/>
                  <a:pt x="172" y="125"/>
                </a:cubicBezTo>
                <a:cubicBezTo>
                  <a:pt x="172" y="0"/>
                  <a:pt x="172" y="0"/>
                  <a:pt x="172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231"/>
                  <a:pt x="20" y="231"/>
                  <a:pt x="20" y="231"/>
                </a:cubicBezTo>
                <a:cubicBezTo>
                  <a:pt x="0" y="231"/>
                  <a:pt x="0" y="231"/>
                  <a:pt x="0" y="231"/>
                </a:cubicBezTo>
                <a:cubicBezTo>
                  <a:pt x="0" y="244"/>
                  <a:pt x="0" y="244"/>
                  <a:pt x="0" y="244"/>
                </a:cubicBezTo>
                <a:cubicBezTo>
                  <a:pt x="20" y="244"/>
                  <a:pt x="20" y="244"/>
                  <a:pt x="20" y="244"/>
                </a:cubicBezTo>
                <a:cubicBezTo>
                  <a:pt x="172" y="244"/>
                  <a:pt x="172" y="244"/>
                  <a:pt x="172" y="244"/>
                </a:cubicBezTo>
                <a:cubicBezTo>
                  <a:pt x="193" y="244"/>
                  <a:pt x="193" y="244"/>
                  <a:pt x="193" y="244"/>
                </a:cubicBezTo>
                <a:cubicBezTo>
                  <a:pt x="193" y="231"/>
                  <a:pt x="193" y="231"/>
                  <a:pt x="193" y="231"/>
                </a:cubicBezTo>
                <a:cubicBezTo>
                  <a:pt x="172" y="231"/>
                  <a:pt x="172" y="231"/>
                  <a:pt x="172" y="231"/>
                </a:cubicBezTo>
                <a:cubicBezTo>
                  <a:pt x="172" y="146"/>
                  <a:pt x="172" y="146"/>
                  <a:pt x="172" y="146"/>
                </a:cubicBezTo>
                <a:cubicBezTo>
                  <a:pt x="177" y="145"/>
                  <a:pt x="184" y="145"/>
                  <a:pt x="189" y="147"/>
                </a:cubicBezTo>
                <a:cubicBezTo>
                  <a:pt x="191" y="150"/>
                  <a:pt x="192" y="164"/>
                  <a:pt x="193" y="173"/>
                </a:cubicBezTo>
                <a:cubicBezTo>
                  <a:pt x="195" y="201"/>
                  <a:pt x="198" y="244"/>
                  <a:pt x="240" y="244"/>
                </a:cubicBezTo>
                <a:cubicBezTo>
                  <a:pt x="254" y="244"/>
                  <a:pt x="265" y="239"/>
                  <a:pt x="272" y="230"/>
                </a:cubicBezTo>
                <a:cubicBezTo>
                  <a:pt x="288" y="210"/>
                  <a:pt x="279" y="176"/>
                  <a:pt x="274" y="158"/>
                </a:cubicBezTo>
                <a:cubicBezTo>
                  <a:pt x="274" y="156"/>
                  <a:pt x="273" y="153"/>
                  <a:pt x="273" y="152"/>
                </a:cubicBezTo>
                <a:close/>
                <a:moveTo>
                  <a:pt x="225" y="75"/>
                </a:moveTo>
                <a:cubicBezTo>
                  <a:pt x="208" y="77"/>
                  <a:pt x="207" y="55"/>
                  <a:pt x="207" y="55"/>
                </a:cubicBezTo>
                <a:cubicBezTo>
                  <a:pt x="225" y="59"/>
                  <a:pt x="225" y="59"/>
                  <a:pt x="225" y="59"/>
                </a:cubicBezTo>
                <a:lnTo>
                  <a:pt x="225" y="75"/>
                </a:lnTo>
                <a:close/>
                <a:moveTo>
                  <a:pt x="47" y="27"/>
                </a:moveTo>
                <a:cubicBezTo>
                  <a:pt x="145" y="27"/>
                  <a:pt x="145" y="27"/>
                  <a:pt x="145" y="27"/>
                </a:cubicBezTo>
                <a:cubicBezTo>
                  <a:pt x="145" y="105"/>
                  <a:pt x="145" y="105"/>
                  <a:pt x="145" y="105"/>
                </a:cubicBezTo>
                <a:cubicBezTo>
                  <a:pt x="47" y="105"/>
                  <a:pt x="47" y="105"/>
                  <a:pt x="47" y="105"/>
                </a:cubicBezTo>
                <a:lnTo>
                  <a:pt x="47" y="27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Freeform 518"/>
          <p:cNvSpPr/>
          <p:nvPr/>
        </p:nvSpPr>
        <p:spPr>
          <a:xfrm>
            <a:off x="8989920" y="4030560"/>
            <a:ext cx="276480" cy="235080"/>
          </a:xfrm>
          <a:custGeom>
            <a:avLst/>
            <a:gdLst/>
            <a:ahLst/>
            <a:rect l="l" t="t" r="r" b="b"/>
            <a:pathLst>
              <a:path w="289" h="245">
                <a:moveTo>
                  <a:pt x="243" y="183"/>
                </a:moveTo>
                <a:cubicBezTo>
                  <a:pt x="229" y="177"/>
                  <a:pt x="213" y="167"/>
                  <a:pt x="189" y="160"/>
                </a:cubicBezTo>
                <a:cubicBezTo>
                  <a:pt x="188" y="157"/>
                  <a:pt x="186" y="153"/>
                  <a:pt x="185" y="148"/>
                </a:cubicBezTo>
                <a:cubicBezTo>
                  <a:pt x="207" y="144"/>
                  <a:pt x="228" y="138"/>
                  <a:pt x="228" y="133"/>
                </a:cubicBezTo>
                <a:cubicBezTo>
                  <a:pt x="228" y="124"/>
                  <a:pt x="197" y="62"/>
                  <a:pt x="197" y="50"/>
                </a:cubicBezTo>
                <a:cubicBezTo>
                  <a:pt x="197" y="50"/>
                  <a:pt x="197" y="50"/>
                  <a:pt x="197" y="50"/>
                </a:cubicBezTo>
                <a:cubicBezTo>
                  <a:pt x="197" y="49"/>
                  <a:pt x="197" y="47"/>
                  <a:pt x="197" y="46"/>
                </a:cubicBezTo>
                <a:cubicBezTo>
                  <a:pt x="197" y="15"/>
                  <a:pt x="175" y="0"/>
                  <a:pt x="145" y="0"/>
                </a:cubicBezTo>
                <a:cubicBezTo>
                  <a:pt x="114" y="0"/>
                  <a:pt x="92" y="15"/>
                  <a:pt x="92" y="46"/>
                </a:cubicBezTo>
                <a:cubicBezTo>
                  <a:pt x="92" y="47"/>
                  <a:pt x="92" y="48"/>
                  <a:pt x="92" y="49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62"/>
                  <a:pt x="61" y="124"/>
                  <a:pt x="61" y="133"/>
                </a:cubicBezTo>
                <a:cubicBezTo>
                  <a:pt x="61" y="138"/>
                  <a:pt x="82" y="144"/>
                  <a:pt x="104" y="148"/>
                </a:cubicBezTo>
                <a:cubicBezTo>
                  <a:pt x="102" y="153"/>
                  <a:pt x="100" y="157"/>
                  <a:pt x="99" y="161"/>
                </a:cubicBezTo>
                <a:cubicBezTo>
                  <a:pt x="75" y="167"/>
                  <a:pt x="60" y="177"/>
                  <a:pt x="47" y="183"/>
                </a:cubicBezTo>
                <a:cubicBezTo>
                  <a:pt x="12" y="199"/>
                  <a:pt x="0" y="224"/>
                  <a:pt x="0" y="224"/>
                </a:cubicBezTo>
                <a:cubicBezTo>
                  <a:pt x="0" y="245"/>
                  <a:pt x="0" y="245"/>
                  <a:pt x="0" y="245"/>
                </a:cubicBezTo>
                <a:cubicBezTo>
                  <a:pt x="289" y="245"/>
                  <a:pt x="289" y="245"/>
                  <a:pt x="289" y="245"/>
                </a:cubicBezTo>
                <a:cubicBezTo>
                  <a:pt x="289" y="224"/>
                  <a:pt x="289" y="224"/>
                  <a:pt x="289" y="224"/>
                </a:cubicBezTo>
                <a:cubicBezTo>
                  <a:pt x="289" y="224"/>
                  <a:pt x="278" y="199"/>
                  <a:pt x="243" y="183"/>
                </a:cubicBezTo>
                <a:close/>
                <a:moveTo>
                  <a:pt x="96" y="71"/>
                </a:moveTo>
                <a:cubicBezTo>
                  <a:pt x="86" y="86"/>
                  <a:pt x="71" y="127"/>
                  <a:pt x="71" y="130"/>
                </a:cubicBezTo>
                <a:cubicBezTo>
                  <a:pt x="72" y="131"/>
                  <a:pt x="71" y="132"/>
                  <a:pt x="70" y="132"/>
                </a:cubicBezTo>
                <a:cubicBezTo>
                  <a:pt x="70" y="132"/>
                  <a:pt x="70" y="132"/>
                  <a:pt x="70" y="132"/>
                </a:cubicBezTo>
                <a:cubicBezTo>
                  <a:pt x="69" y="132"/>
                  <a:pt x="69" y="131"/>
                  <a:pt x="69" y="131"/>
                </a:cubicBezTo>
                <a:cubicBezTo>
                  <a:pt x="68" y="126"/>
                  <a:pt x="85" y="83"/>
                  <a:pt x="93" y="70"/>
                </a:cubicBezTo>
                <a:cubicBezTo>
                  <a:pt x="100" y="59"/>
                  <a:pt x="109" y="54"/>
                  <a:pt x="121" y="53"/>
                </a:cubicBezTo>
                <a:cubicBezTo>
                  <a:pt x="126" y="52"/>
                  <a:pt x="132" y="54"/>
                  <a:pt x="136" y="55"/>
                </a:cubicBezTo>
                <a:cubicBezTo>
                  <a:pt x="137" y="55"/>
                  <a:pt x="138" y="55"/>
                  <a:pt x="138" y="55"/>
                </a:cubicBezTo>
                <a:cubicBezTo>
                  <a:pt x="139" y="55"/>
                  <a:pt x="141" y="55"/>
                  <a:pt x="142" y="55"/>
                </a:cubicBezTo>
                <a:cubicBezTo>
                  <a:pt x="144" y="55"/>
                  <a:pt x="144" y="55"/>
                  <a:pt x="144" y="55"/>
                </a:cubicBezTo>
                <a:cubicBezTo>
                  <a:pt x="147" y="55"/>
                  <a:pt x="151" y="54"/>
                  <a:pt x="154" y="53"/>
                </a:cubicBezTo>
                <a:cubicBezTo>
                  <a:pt x="160" y="52"/>
                  <a:pt x="166" y="51"/>
                  <a:pt x="169" y="51"/>
                </a:cubicBezTo>
                <a:cubicBezTo>
                  <a:pt x="182" y="52"/>
                  <a:pt x="191" y="58"/>
                  <a:pt x="198" y="69"/>
                </a:cubicBezTo>
                <a:cubicBezTo>
                  <a:pt x="205" y="82"/>
                  <a:pt x="223" y="125"/>
                  <a:pt x="222" y="131"/>
                </a:cubicBezTo>
                <a:cubicBezTo>
                  <a:pt x="222" y="132"/>
                  <a:pt x="221" y="133"/>
                  <a:pt x="219" y="133"/>
                </a:cubicBezTo>
                <a:cubicBezTo>
                  <a:pt x="219" y="133"/>
                  <a:pt x="219" y="133"/>
                  <a:pt x="219" y="133"/>
                </a:cubicBezTo>
                <a:cubicBezTo>
                  <a:pt x="218" y="133"/>
                  <a:pt x="218" y="133"/>
                  <a:pt x="217" y="132"/>
                </a:cubicBezTo>
                <a:cubicBezTo>
                  <a:pt x="217" y="132"/>
                  <a:pt x="217" y="131"/>
                  <a:pt x="217" y="130"/>
                </a:cubicBezTo>
                <a:cubicBezTo>
                  <a:pt x="217" y="127"/>
                  <a:pt x="201" y="86"/>
                  <a:pt x="193" y="72"/>
                </a:cubicBezTo>
                <a:cubicBezTo>
                  <a:pt x="184" y="58"/>
                  <a:pt x="172" y="57"/>
                  <a:pt x="169" y="57"/>
                </a:cubicBezTo>
                <a:cubicBezTo>
                  <a:pt x="168" y="57"/>
                  <a:pt x="167" y="57"/>
                  <a:pt x="167" y="57"/>
                </a:cubicBezTo>
                <a:cubicBezTo>
                  <a:pt x="164" y="57"/>
                  <a:pt x="158" y="57"/>
                  <a:pt x="146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44" y="58"/>
                  <a:pt x="144" y="58"/>
                  <a:pt x="144" y="58"/>
                </a:cubicBezTo>
                <a:cubicBezTo>
                  <a:pt x="138" y="58"/>
                  <a:pt x="138" y="58"/>
                  <a:pt x="138" y="58"/>
                </a:cubicBezTo>
                <a:cubicBezTo>
                  <a:pt x="137" y="58"/>
                  <a:pt x="127" y="55"/>
                  <a:pt x="121" y="55"/>
                </a:cubicBezTo>
                <a:cubicBezTo>
                  <a:pt x="117" y="56"/>
                  <a:pt x="104" y="57"/>
                  <a:pt x="96" y="71"/>
                </a:cubicBezTo>
                <a:close/>
                <a:moveTo>
                  <a:pt x="151" y="107"/>
                </a:moveTo>
                <a:cubicBezTo>
                  <a:pt x="151" y="107"/>
                  <a:pt x="151" y="107"/>
                  <a:pt x="151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8" y="100"/>
                  <a:pt x="138" y="100"/>
                  <a:pt x="138" y="100"/>
                </a:cubicBezTo>
                <a:cubicBezTo>
                  <a:pt x="138" y="97"/>
                  <a:pt x="141" y="94"/>
                  <a:pt x="144" y="94"/>
                </a:cubicBezTo>
                <a:cubicBezTo>
                  <a:pt x="148" y="94"/>
                  <a:pt x="151" y="97"/>
                  <a:pt x="151" y="100"/>
                </a:cubicBezTo>
                <a:lnTo>
                  <a:pt x="151" y="107"/>
                </a:lnTo>
                <a:close/>
                <a:moveTo>
                  <a:pt x="107" y="86"/>
                </a:moveTo>
                <a:cubicBezTo>
                  <a:pt x="107" y="86"/>
                  <a:pt x="107" y="86"/>
                  <a:pt x="107" y="86"/>
                </a:cubicBezTo>
                <a:cubicBezTo>
                  <a:pt x="105" y="80"/>
                  <a:pt x="107" y="74"/>
                  <a:pt x="110" y="69"/>
                </a:cubicBezTo>
                <a:cubicBezTo>
                  <a:pt x="114" y="65"/>
                  <a:pt x="119" y="61"/>
                  <a:pt x="123" y="61"/>
                </a:cubicBezTo>
                <a:cubicBezTo>
                  <a:pt x="124" y="61"/>
                  <a:pt x="124" y="61"/>
                  <a:pt x="124" y="61"/>
                </a:cubicBezTo>
                <a:cubicBezTo>
                  <a:pt x="131" y="61"/>
                  <a:pt x="140" y="68"/>
                  <a:pt x="140" y="68"/>
                </a:cubicBezTo>
                <a:cubicBezTo>
                  <a:pt x="141" y="68"/>
                  <a:pt x="141" y="68"/>
                  <a:pt x="141" y="68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0" y="85"/>
                  <a:pt x="140" y="85"/>
                  <a:pt x="140" y="85"/>
                </a:cubicBezTo>
                <a:cubicBezTo>
                  <a:pt x="140" y="86"/>
                  <a:pt x="136" y="89"/>
                  <a:pt x="126" y="89"/>
                </a:cubicBezTo>
                <a:cubicBezTo>
                  <a:pt x="110" y="89"/>
                  <a:pt x="107" y="86"/>
                  <a:pt x="107" y="86"/>
                </a:cubicBezTo>
                <a:close/>
                <a:moveTo>
                  <a:pt x="119" y="140"/>
                </a:moveTo>
                <a:cubicBezTo>
                  <a:pt x="117" y="140"/>
                  <a:pt x="115" y="138"/>
                  <a:pt x="115" y="136"/>
                </a:cubicBezTo>
                <a:cubicBezTo>
                  <a:pt x="115" y="134"/>
                  <a:pt x="117" y="132"/>
                  <a:pt x="119" y="132"/>
                </a:cubicBezTo>
                <a:cubicBezTo>
                  <a:pt x="121" y="132"/>
                  <a:pt x="123" y="134"/>
                  <a:pt x="123" y="136"/>
                </a:cubicBezTo>
                <a:cubicBezTo>
                  <a:pt x="123" y="138"/>
                  <a:pt x="121" y="140"/>
                  <a:pt x="119" y="140"/>
                </a:cubicBezTo>
                <a:close/>
                <a:moveTo>
                  <a:pt x="127" y="133"/>
                </a:moveTo>
                <a:cubicBezTo>
                  <a:pt x="122" y="133"/>
                  <a:pt x="122" y="133"/>
                  <a:pt x="122" y="133"/>
                </a:cubicBezTo>
                <a:cubicBezTo>
                  <a:pt x="127" y="125"/>
                  <a:pt x="127" y="125"/>
                  <a:pt x="127" y="125"/>
                </a:cubicBezTo>
                <a:lnTo>
                  <a:pt x="127" y="133"/>
                </a:lnTo>
                <a:close/>
                <a:moveTo>
                  <a:pt x="135" y="133"/>
                </a:moveTo>
                <a:cubicBezTo>
                  <a:pt x="130" y="133"/>
                  <a:pt x="130" y="133"/>
                  <a:pt x="130" y="133"/>
                </a:cubicBezTo>
                <a:cubicBezTo>
                  <a:pt x="130" y="120"/>
                  <a:pt x="130" y="120"/>
                  <a:pt x="130" y="120"/>
                </a:cubicBezTo>
                <a:cubicBezTo>
                  <a:pt x="135" y="112"/>
                  <a:pt x="135" y="112"/>
                  <a:pt x="135" y="112"/>
                </a:cubicBezTo>
                <a:lnTo>
                  <a:pt x="135" y="133"/>
                </a:lnTo>
                <a:close/>
                <a:moveTo>
                  <a:pt x="143" y="133"/>
                </a:moveTo>
                <a:cubicBezTo>
                  <a:pt x="138" y="133"/>
                  <a:pt x="138" y="133"/>
                  <a:pt x="138" y="133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43" y="111"/>
                  <a:pt x="143" y="111"/>
                  <a:pt x="143" y="111"/>
                </a:cubicBezTo>
                <a:lnTo>
                  <a:pt x="143" y="133"/>
                </a:lnTo>
                <a:close/>
                <a:moveTo>
                  <a:pt x="151" y="133"/>
                </a:moveTo>
                <a:cubicBezTo>
                  <a:pt x="146" y="133"/>
                  <a:pt x="146" y="133"/>
                  <a:pt x="146" y="133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51" y="111"/>
                  <a:pt x="151" y="111"/>
                  <a:pt x="151" y="111"/>
                </a:cubicBezTo>
                <a:lnTo>
                  <a:pt x="151" y="133"/>
                </a:lnTo>
                <a:close/>
                <a:moveTo>
                  <a:pt x="158" y="133"/>
                </a:moveTo>
                <a:cubicBezTo>
                  <a:pt x="154" y="133"/>
                  <a:pt x="154" y="133"/>
                  <a:pt x="154" y="133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8" y="120"/>
                  <a:pt x="158" y="120"/>
                  <a:pt x="158" y="120"/>
                </a:cubicBezTo>
                <a:lnTo>
                  <a:pt x="158" y="133"/>
                </a:lnTo>
                <a:close/>
                <a:moveTo>
                  <a:pt x="161" y="133"/>
                </a:moveTo>
                <a:cubicBezTo>
                  <a:pt x="161" y="125"/>
                  <a:pt x="161" y="125"/>
                  <a:pt x="161" y="125"/>
                </a:cubicBezTo>
                <a:cubicBezTo>
                  <a:pt x="167" y="133"/>
                  <a:pt x="167" y="133"/>
                  <a:pt x="167" y="133"/>
                </a:cubicBezTo>
                <a:lnTo>
                  <a:pt x="161" y="133"/>
                </a:lnTo>
                <a:close/>
                <a:moveTo>
                  <a:pt x="171" y="140"/>
                </a:moveTo>
                <a:cubicBezTo>
                  <a:pt x="168" y="140"/>
                  <a:pt x="167" y="138"/>
                  <a:pt x="167" y="136"/>
                </a:cubicBezTo>
                <a:cubicBezTo>
                  <a:pt x="167" y="134"/>
                  <a:pt x="168" y="132"/>
                  <a:pt x="171" y="132"/>
                </a:cubicBezTo>
                <a:cubicBezTo>
                  <a:pt x="173" y="132"/>
                  <a:pt x="174" y="134"/>
                  <a:pt x="174" y="136"/>
                </a:cubicBezTo>
                <a:cubicBezTo>
                  <a:pt x="174" y="138"/>
                  <a:pt x="173" y="140"/>
                  <a:pt x="171" y="140"/>
                </a:cubicBezTo>
                <a:close/>
                <a:moveTo>
                  <a:pt x="183" y="86"/>
                </a:moveTo>
                <a:cubicBezTo>
                  <a:pt x="183" y="86"/>
                  <a:pt x="183" y="86"/>
                  <a:pt x="183" y="86"/>
                </a:cubicBezTo>
                <a:cubicBezTo>
                  <a:pt x="182" y="86"/>
                  <a:pt x="180" y="89"/>
                  <a:pt x="163" y="89"/>
                </a:cubicBezTo>
                <a:cubicBezTo>
                  <a:pt x="154" y="89"/>
                  <a:pt x="149" y="86"/>
                  <a:pt x="149" y="85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49" y="68"/>
                  <a:pt x="149" y="68"/>
                  <a:pt x="149" y="68"/>
                </a:cubicBezTo>
                <a:cubicBezTo>
                  <a:pt x="150" y="68"/>
                  <a:pt x="159" y="61"/>
                  <a:pt x="166" y="61"/>
                </a:cubicBezTo>
                <a:cubicBezTo>
                  <a:pt x="166" y="61"/>
                  <a:pt x="166" y="61"/>
                  <a:pt x="166" y="61"/>
                </a:cubicBezTo>
                <a:cubicBezTo>
                  <a:pt x="170" y="61"/>
                  <a:pt x="176" y="65"/>
                  <a:pt x="179" y="69"/>
                </a:cubicBezTo>
                <a:cubicBezTo>
                  <a:pt x="183" y="74"/>
                  <a:pt x="184" y="80"/>
                  <a:pt x="183" y="86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矩形 61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文本框 613"/>
          <p:cNvSpPr/>
          <p:nvPr/>
        </p:nvSpPr>
        <p:spPr>
          <a:xfrm>
            <a:off x="1135080" y="222120"/>
            <a:ext cx="35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附赠图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文本框 615"/>
          <p:cNvSpPr/>
          <p:nvPr/>
        </p:nvSpPr>
        <p:spPr>
          <a:xfrm>
            <a:off x="4932360" y="414360"/>
            <a:ext cx="61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图标可选，任意改色、拖动不失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加生动、细致、专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Freeform 388"/>
          <p:cNvSpPr/>
          <p:nvPr/>
        </p:nvSpPr>
        <p:spPr>
          <a:xfrm>
            <a:off x="10102680" y="6272280"/>
            <a:ext cx="241560" cy="241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4"/>
                  <a:pt x="0" y="144"/>
                </a:cubicBezTo>
                <a:cubicBezTo>
                  <a:pt x="0" y="223"/>
                  <a:pt x="65" y="288"/>
                  <a:pt x="144" y="288"/>
                </a:cubicBezTo>
                <a:cubicBezTo>
                  <a:pt x="224" y="288"/>
                  <a:pt x="288" y="223"/>
                  <a:pt x="288" y="144"/>
                </a:cubicBezTo>
                <a:cubicBezTo>
                  <a:pt x="288" y="64"/>
                  <a:pt x="224" y="0"/>
                  <a:pt x="144" y="0"/>
                </a:cubicBezTo>
                <a:close/>
                <a:moveTo>
                  <a:pt x="264" y="143"/>
                </a:moveTo>
                <a:cubicBezTo>
                  <a:pt x="245" y="139"/>
                  <a:pt x="228" y="137"/>
                  <a:pt x="212" y="137"/>
                </a:cubicBezTo>
                <a:cubicBezTo>
                  <a:pt x="199" y="137"/>
                  <a:pt x="187" y="138"/>
                  <a:pt x="176" y="141"/>
                </a:cubicBezTo>
                <a:cubicBezTo>
                  <a:pt x="173" y="132"/>
                  <a:pt x="169" y="124"/>
                  <a:pt x="166" y="116"/>
                </a:cubicBezTo>
                <a:cubicBezTo>
                  <a:pt x="191" y="105"/>
                  <a:pt x="216" y="90"/>
                  <a:pt x="235" y="66"/>
                </a:cubicBezTo>
                <a:cubicBezTo>
                  <a:pt x="253" y="87"/>
                  <a:pt x="263" y="114"/>
                  <a:pt x="264" y="143"/>
                </a:cubicBezTo>
                <a:close/>
                <a:moveTo>
                  <a:pt x="222" y="53"/>
                </a:moveTo>
                <a:cubicBezTo>
                  <a:pt x="205" y="75"/>
                  <a:pt x="182" y="89"/>
                  <a:pt x="158" y="99"/>
                </a:cubicBezTo>
                <a:cubicBezTo>
                  <a:pt x="140" y="64"/>
                  <a:pt x="123" y="41"/>
                  <a:pt x="113" y="29"/>
                </a:cubicBezTo>
                <a:cubicBezTo>
                  <a:pt x="123" y="26"/>
                  <a:pt x="133" y="24"/>
                  <a:pt x="144" y="24"/>
                </a:cubicBezTo>
                <a:cubicBezTo>
                  <a:pt x="174" y="24"/>
                  <a:pt x="201" y="35"/>
                  <a:pt x="222" y="53"/>
                </a:cubicBezTo>
                <a:close/>
                <a:moveTo>
                  <a:pt x="94" y="35"/>
                </a:moveTo>
                <a:cubicBezTo>
                  <a:pt x="102" y="44"/>
                  <a:pt x="120" y="67"/>
                  <a:pt x="140" y="106"/>
                </a:cubicBezTo>
                <a:cubicBezTo>
                  <a:pt x="102" y="118"/>
                  <a:pt x="64" y="120"/>
                  <a:pt x="41" y="120"/>
                </a:cubicBezTo>
                <a:cubicBezTo>
                  <a:pt x="35" y="120"/>
                  <a:pt x="30" y="120"/>
                  <a:pt x="27" y="120"/>
                </a:cubicBezTo>
                <a:cubicBezTo>
                  <a:pt x="35" y="82"/>
                  <a:pt x="60" y="51"/>
                  <a:pt x="94" y="35"/>
                </a:cubicBezTo>
                <a:close/>
                <a:moveTo>
                  <a:pt x="25" y="144"/>
                </a:moveTo>
                <a:cubicBezTo>
                  <a:pt x="25" y="142"/>
                  <a:pt x="25" y="140"/>
                  <a:pt x="25" y="138"/>
                </a:cubicBezTo>
                <a:cubicBezTo>
                  <a:pt x="28" y="138"/>
                  <a:pt x="34" y="138"/>
                  <a:pt x="41" y="138"/>
                </a:cubicBezTo>
                <a:cubicBezTo>
                  <a:pt x="65" y="138"/>
                  <a:pt x="107" y="136"/>
                  <a:pt x="148" y="122"/>
                </a:cubicBezTo>
                <a:cubicBezTo>
                  <a:pt x="152" y="130"/>
                  <a:pt x="155" y="137"/>
                  <a:pt x="158" y="145"/>
                </a:cubicBezTo>
                <a:cubicBezTo>
                  <a:pt x="129" y="154"/>
                  <a:pt x="107" y="169"/>
                  <a:pt x="91" y="184"/>
                </a:cubicBezTo>
                <a:cubicBezTo>
                  <a:pt x="73" y="200"/>
                  <a:pt x="62" y="216"/>
                  <a:pt x="57" y="225"/>
                </a:cubicBezTo>
                <a:cubicBezTo>
                  <a:pt x="37" y="203"/>
                  <a:pt x="25" y="175"/>
                  <a:pt x="25" y="144"/>
                </a:cubicBezTo>
                <a:close/>
                <a:moveTo>
                  <a:pt x="70" y="237"/>
                </a:moveTo>
                <a:cubicBezTo>
                  <a:pt x="71" y="237"/>
                  <a:pt x="71" y="237"/>
                  <a:pt x="71" y="236"/>
                </a:cubicBezTo>
                <a:cubicBezTo>
                  <a:pt x="79" y="223"/>
                  <a:pt x="108" y="179"/>
                  <a:pt x="165" y="162"/>
                </a:cubicBezTo>
                <a:cubicBezTo>
                  <a:pt x="175" y="189"/>
                  <a:pt x="183" y="219"/>
                  <a:pt x="190" y="254"/>
                </a:cubicBezTo>
                <a:cubicBezTo>
                  <a:pt x="176" y="260"/>
                  <a:pt x="160" y="263"/>
                  <a:pt x="144" y="263"/>
                </a:cubicBezTo>
                <a:cubicBezTo>
                  <a:pt x="116" y="263"/>
                  <a:pt x="91" y="254"/>
                  <a:pt x="70" y="237"/>
                </a:cubicBezTo>
                <a:close/>
                <a:moveTo>
                  <a:pt x="207" y="245"/>
                </a:moveTo>
                <a:cubicBezTo>
                  <a:pt x="200" y="213"/>
                  <a:pt x="192" y="183"/>
                  <a:pt x="183" y="158"/>
                </a:cubicBezTo>
                <a:cubicBezTo>
                  <a:pt x="192" y="156"/>
                  <a:pt x="202" y="155"/>
                  <a:pt x="212" y="155"/>
                </a:cubicBezTo>
                <a:cubicBezTo>
                  <a:pt x="227" y="155"/>
                  <a:pt x="244" y="157"/>
                  <a:pt x="262" y="162"/>
                </a:cubicBezTo>
                <a:cubicBezTo>
                  <a:pt x="257" y="197"/>
                  <a:pt x="236" y="227"/>
                  <a:pt x="207" y="2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直接连接符 620"/>
          <p:cNvSpPr/>
          <p:nvPr/>
        </p:nvSpPr>
        <p:spPr>
          <a:xfrm>
            <a:off x="4836960" y="395280"/>
            <a:ext cx="0" cy="83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平行四边形 6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平行四边形 7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8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摘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11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666" name="椭圆 9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等腰三角形 10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8" name="任意多边形 12"/>
          <p:cNvSpPr/>
          <p:nvPr/>
        </p:nvSpPr>
        <p:spPr>
          <a:xfrm>
            <a:off x="435600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任意多边形 13"/>
          <p:cNvSpPr/>
          <p:nvPr/>
        </p:nvSpPr>
        <p:spPr>
          <a:xfrm>
            <a:off x="6054840" y="219060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546480" bIns="70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任意多边形 14"/>
          <p:cNvSpPr/>
          <p:nvPr/>
        </p:nvSpPr>
        <p:spPr>
          <a:xfrm>
            <a:off x="605484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920" rIns="54648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15"/>
          <p:cNvSpPr/>
          <p:nvPr/>
        </p:nvSpPr>
        <p:spPr>
          <a:xfrm>
            <a:off x="4356000" y="389088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6480" rIns="70920" tIns="70920" bIns="54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环形箭头 16"/>
          <p:cNvSpPr/>
          <p:nvPr/>
        </p:nvSpPr>
        <p:spPr>
          <a:xfrm>
            <a:off x="5737320" y="3514680"/>
            <a:ext cx="560160" cy="487440"/>
          </a:xfrm>
          <a:custGeom>
            <a:avLst/>
            <a:gdLst/>
            <a:ahLst/>
            <a:rect l="l" t="t" r="r" b="b"/>
            <a:pathLst>
              <a:path w="560388" h="487363">
                <a:moveTo>
                  <a:pt x="30460" y="243682"/>
                </a:moveTo>
                <a:cubicBezTo>
                  <a:pt x="30460" y="136057"/>
                  <a:pt x="124402" y="45305"/>
                  <a:pt x="249501" y="32077"/>
                </a:cubicBezTo>
                <a:cubicBezTo>
                  <a:pt x="366390" y="19718"/>
                  <a:pt x="477503" y="78768"/>
                  <a:pt x="516122" y="173769"/>
                </a:cubicBezTo>
                <a:lnTo>
                  <a:pt x="543710" y="173769"/>
                </a:lnTo>
                <a:lnTo>
                  <a:pt x="499468" y="243681"/>
                </a:lnTo>
                <a:lnTo>
                  <a:pt x="421870" y="173769"/>
                </a:lnTo>
                <a:lnTo>
                  <a:pt x="447939" y="173769"/>
                </a:lnTo>
                <a:cubicBezTo>
                  <a:pt x="410479" y="115289"/>
                  <a:pt x="330680" y="82839"/>
                  <a:pt x="250116" y="93325"/>
                </a:cubicBezTo>
                <a:cubicBezTo>
                  <a:pt x="158631" y="105233"/>
                  <a:pt x="91382" y="168933"/>
                  <a:pt x="91382" y="243681"/>
                </a:cubicBezTo>
                <a:lnTo>
                  <a:pt x="30460" y="24368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环形箭头 17"/>
          <p:cNvSpPr/>
          <p:nvPr/>
        </p:nvSpPr>
        <p:spPr>
          <a:xfrm rot="10800000">
            <a:off x="5737320" y="3701520"/>
            <a:ext cx="560160" cy="489240"/>
          </a:xfrm>
          <a:custGeom>
            <a:avLst/>
            <a:gdLst/>
            <a:ahLst/>
            <a:rect l="l" t="t" r="r" b="b"/>
            <a:pathLst>
              <a:path w="560388" h="488950">
                <a:moveTo>
                  <a:pt x="30559" y="244475"/>
                </a:moveTo>
                <a:cubicBezTo>
                  <a:pt x="30559" y="136532"/>
                  <a:pt x="124407" y="45501"/>
                  <a:pt x="249413" y="32191"/>
                </a:cubicBezTo>
                <a:cubicBezTo>
                  <a:pt x="366402" y="19735"/>
                  <a:pt x="477613" y="79107"/>
                  <a:pt x="516129" y="174583"/>
                </a:cubicBezTo>
                <a:lnTo>
                  <a:pt x="543848" y="174584"/>
                </a:lnTo>
                <a:lnTo>
                  <a:pt x="499269" y="244475"/>
                </a:lnTo>
                <a:lnTo>
                  <a:pt x="421611" y="174584"/>
                </a:lnTo>
                <a:lnTo>
                  <a:pt x="447832" y="174584"/>
                </a:lnTo>
                <a:cubicBezTo>
                  <a:pt x="410479" y="115726"/>
                  <a:pt x="330619" y="83053"/>
                  <a:pt x="250011" y="93649"/>
                </a:cubicBezTo>
                <a:cubicBezTo>
                  <a:pt x="158739" y="105648"/>
                  <a:pt x="91677" y="169530"/>
                  <a:pt x="91677" y="244475"/>
                </a:cubicBezTo>
                <a:lnTo>
                  <a:pt x="30559" y="244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Freeform 206"/>
          <p:cNvSpPr/>
          <p:nvPr/>
        </p:nvSpPr>
        <p:spPr>
          <a:xfrm rot="18000000">
            <a:off x="4307400" y="269136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Freeform 206"/>
          <p:cNvSpPr/>
          <p:nvPr/>
        </p:nvSpPr>
        <p:spPr>
          <a:xfrm flipH="1" rot="3600000">
            <a:off x="7349760" y="269208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206"/>
          <p:cNvSpPr/>
          <p:nvPr/>
        </p:nvSpPr>
        <p:spPr>
          <a:xfrm rot="13500000">
            <a:off x="4518360" y="492516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206"/>
          <p:cNvSpPr/>
          <p:nvPr/>
        </p:nvSpPr>
        <p:spPr>
          <a:xfrm flipH="1" rot="8100000">
            <a:off x="7460280" y="482436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22"/>
          <p:cNvGrpSpPr/>
          <p:nvPr/>
        </p:nvGrpSpPr>
        <p:grpSpPr>
          <a:xfrm>
            <a:off x="6551640" y="2830680"/>
            <a:ext cx="488880" cy="487080"/>
            <a:chOff x="6551640" y="2830680"/>
            <a:chExt cx="488880" cy="487080"/>
          </a:xfrm>
        </p:grpSpPr>
        <p:sp>
          <p:nvSpPr>
            <p:cNvPr id="679" name="AutoShape 81"/>
            <p:cNvSpPr/>
            <p:nvPr/>
          </p:nvSpPr>
          <p:spPr>
            <a:xfrm>
              <a:off x="6551640" y="2830680"/>
              <a:ext cx="488880" cy="48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235" y="9811"/>
                  </a:moveTo>
                  <a:cubicBezTo>
                    <a:pt x="20220" y="10144"/>
                    <a:pt x="20081" y="10800"/>
                    <a:pt x="18899" y="10800"/>
                  </a:cubicBezTo>
                  <a:lnTo>
                    <a:pt x="17549" y="10800"/>
                  </a:lnTo>
                  <a:cubicBezTo>
                    <a:pt x="17363" y="10800"/>
                    <a:pt x="17212" y="10950"/>
                    <a:pt x="17212" y="11137"/>
                  </a:cubicBezTo>
                  <a:cubicBezTo>
                    <a:pt x="17212" y="11324"/>
                    <a:pt x="17363" y="11475"/>
                    <a:pt x="17549" y="11475"/>
                  </a:cubicBezTo>
                  <a:lnTo>
                    <a:pt x="18858" y="11475"/>
                  </a:lnTo>
                  <a:cubicBezTo>
                    <a:pt x="19870" y="11475"/>
                    <a:pt x="20003" y="12314"/>
                    <a:pt x="19938" y="12719"/>
                  </a:cubicBezTo>
                  <a:cubicBezTo>
                    <a:pt x="19855" y="13223"/>
                    <a:pt x="19618" y="14175"/>
                    <a:pt x="18478" y="14175"/>
                  </a:cubicBezTo>
                  <a:lnTo>
                    <a:pt x="16874" y="14175"/>
                  </a:lnTo>
                  <a:cubicBezTo>
                    <a:pt x="16688" y="14175"/>
                    <a:pt x="16537" y="14325"/>
                    <a:pt x="16537" y="14512"/>
                  </a:cubicBezTo>
                  <a:cubicBezTo>
                    <a:pt x="16537" y="14699"/>
                    <a:pt x="16688" y="14850"/>
                    <a:pt x="16874" y="14850"/>
                  </a:cubicBezTo>
                  <a:lnTo>
                    <a:pt x="18203" y="14850"/>
                  </a:lnTo>
                  <a:cubicBezTo>
                    <a:pt x="19343" y="14850"/>
                    <a:pt x="19243" y="15718"/>
                    <a:pt x="19079" y="16237"/>
                  </a:cubicBezTo>
                  <a:cubicBezTo>
                    <a:pt x="18864" y="16918"/>
                    <a:pt x="18732" y="17549"/>
                    <a:pt x="17297" y="17549"/>
                  </a:cubicBezTo>
                  <a:lnTo>
                    <a:pt x="16196" y="17549"/>
                  </a:lnTo>
                  <a:cubicBezTo>
                    <a:pt x="16009" y="17549"/>
                    <a:pt x="15859" y="17700"/>
                    <a:pt x="15859" y="17887"/>
                  </a:cubicBezTo>
                  <a:cubicBezTo>
                    <a:pt x="15859" y="18073"/>
                    <a:pt x="16009" y="18225"/>
                    <a:pt x="16196" y="18225"/>
                  </a:cubicBezTo>
                  <a:lnTo>
                    <a:pt x="17255" y="18225"/>
                  </a:lnTo>
                  <a:cubicBezTo>
                    <a:pt x="17993" y="18225"/>
                    <a:pt x="18027" y="18923"/>
                    <a:pt x="17950" y="19174"/>
                  </a:cubicBezTo>
                  <a:cubicBezTo>
                    <a:pt x="17866" y="19448"/>
                    <a:pt x="17767" y="19651"/>
                    <a:pt x="17762" y="19660"/>
                  </a:cubicBezTo>
                  <a:cubicBezTo>
                    <a:pt x="17558" y="20028"/>
                    <a:pt x="17229" y="20249"/>
                    <a:pt x="16534" y="20249"/>
                  </a:cubicBezTo>
                  <a:lnTo>
                    <a:pt x="12844" y="20249"/>
                  </a:lnTo>
                  <a:cubicBezTo>
                    <a:pt x="10990" y="20249"/>
                    <a:pt x="9151" y="19829"/>
                    <a:pt x="9104" y="19818"/>
                  </a:cubicBezTo>
                  <a:cubicBezTo>
                    <a:pt x="6299" y="19172"/>
                    <a:pt x="6152" y="19122"/>
                    <a:pt x="5976" y="19072"/>
                  </a:cubicBezTo>
                  <a:cubicBezTo>
                    <a:pt x="5976" y="19072"/>
                    <a:pt x="5405" y="18976"/>
                    <a:pt x="5405" y="18478"/>
                  </a:cubicBezTo>
                  <a:lnTo>
                    <a:pt x="5399" y="9155"/>
                  </a:lnTo>
                  <a:cubicBezTo>
                    <a:pt x="5399" y="8839"/>
                    <a:pt x="5601" y="8552"/>
                    <a:pt x="5935" y="8452"/>
                  </a:cubicBezTo>
                  <a:cubicBezTo>
                    <a:pt x="5977" y="8435"/>
                    <a:pt x="6034" y="8419"/>
                    <a:pt x="6074" y="8401"/>
                  </a:cubicBezTo>
                  <a:cubicBezTo>
                    <a:pt x="9158" y="7125"/>
                    <a:pt x="10097" y="4324"/>
                    <a:pt x="10124" y="2025"/>
                  </a:cubicBezTo>
                  <a:cubicBezTo>
                    <a:pt x="10128" y="1702"/>
                    <a:pt x="10378" y="1350"/>
                    <a:pt x="10800" y="1350"/>
                  </a:cubicBezTo>
                  <a:cubicBezTo>
                    <a:pt x="11514" y="1350"/>
                    <a:pt x="12774" y="2782"/>
                    <a:pt x="12774" y="4554"/>
                  </a:cubicBezTo>
                  <a:cubicBezTo>
                    <a:pt x="12774" y="6155"/>
                    <a:pt x="12711" y="6432"/>
                    <a:pt x="12149" y="8100"/>
                  </a:cubicBezTo>
                  <a:cubicBezTo>
                    <a:pt x="18899" y="8100"/>
                    <a:pt x="18852" y="8196"/>
                    <a:pt x="19448" y="8353"/>
                  </a:cubicBezTo>
                  <a:cubicBezTo>
                    <a:pt x="20187" y="8564"/>
                    <a:pt x="20249" y="9175"/>
                    <a:pt x="20249" y="9386"/>
                  </a:cubicBezTo>
                  <a:cubicBezTo>
                    <a:pt x="20249" y="9618"/>
                    <a:pt x="20243" y="9584"/>
                    <a:pt x="20235" y="9811"/>
                  </a:cubicBezTo>
                  <a:moveTo>
                    <a:pt x="4724" y="19575"/>
                  </a:moveTo>
                  <a:cubicBezTo>
                    <a:pt x="4724" y="19948"/>
                    <a:pt x="4423" y="20249"/>
                    <a:pt x="4049" y="20249"/>
                  </a:cubicBezTo>
                  <a:lnTo>
                    <a:pt x="2024" y="20249"/>
                  </a:lnTo>
                  <a:cubicBezTo>
                    <a:pt x="1652" y="20249"/>
                    <a:pt x="1349" y="19948"/>
                    <a:pt x="1349" y="19575"/>
                  </a:cubicBezTo>
                  <a:lnTo>
                    <a:pt x="1349" y="8774"/>
                  </a:lnTo>
                  <a:cubicBezTo>
                    <a:pt x="1349" y="8401"/>
                    <a:pt x="1652" y="8100"/>
                    <a:pt x="2024" y="8100"/>
                  </a:cubicBezTo>
                  <a:lnTo>
                    <a:pt x="4049" y="8100"/>
                  </a:lnTo>
                  <a:cubicBezTo>
                    <a:pt x="4423" y="8100"/>
                    <a:pt x="4724" y="8401"/>
                    <a:pt x="4724" y="8774"/>
                  </a:cubicBezTo>
                  <a:cubicBezTo>
                    <a:pt x="4724" y="8774"/>
                    <a:pt x="4724" y="19575"/>
                    <a:pt x="4724" y="19575"/>
                  </a:cubicBezTo>
                  <a:close/>
                  <a:moveTo>
                    <a:pt x="19686" y="7069"/>
                  </a:moveTo>
                  <a:cubicBezTo>
                    <a:pt x="18842" y="6846"/>
                    <a:pt x="16858" y="6849"/>
                    <a:pt x="13956" y="6773"/>
                  </a:cubicBezTo>
                  <a:cubicBezTo>
                    <a:pt x="14093" y="6139"/>
                    <a:pt x="14124" y="5568"/>
                    <a:pt x="14124" y="4554"/>
                  </a:cubicBezTo>
                  <a:cubicBezTo>
                    <a:pt x="14124" y="2133"/>
                    <a:pt x="12361" y="0"/>
                    <a:pt x="10800" y="0"/>
                  </a:cubicBezTo>
                  <a:cubicBezTo>
                    <a:pt x="9698" y="0"/>
                    <a:pt x="8789" y="901"/>
                    <a:pt x="8774" y="2009"/>
                  </a:cubicBezTo>
                  <a:cubicBezTo>
                    <a:pt x="8760" y="3368"/>
                    <a:pt x="8340" y="5716"/>
                    <a:pt x="6074" y="6906"/>
                  </a:cubicBezTo>
                  <a:cubicBezTo>
                    <a:pt x="5908" y="6994"/>
                    <a:pt x="5433" y="7228"/>
                    <a:pt x="5364" y="7259"/>
                  </a:cubicBezTo>
                  <a:lnTo>
                    <a:pt x="5399" y="7289"/>
                  </a:lnTo>
                  <a:cubicBezTo>
                    <a:pt x="5045" y="6984"/>
                    <a:pt x="4554" y="6750"/>
                    <a:pt x="4049" y="6750"/>
                  </a:cubicBezTo>
                  <a:lnTo>
                    <a:pt x="2024" y="6750"/>
                  </a:lnTo>
                  <a:cubicBezTo>
                    <a:pt x="908" y="6750"/>
                    <a:pt x="0" y="7658"/>
                    <a:pt x="0" y="8774"/>
                  </a:cubicBezTo>
                  <a:lnTo>
                    <a:pt x="0" y="19575"/>
                  </a:lnTo>
                  <a:cubicBezTo>
                    <a:pt x="0" y="20691"/>
                    <a:pt x="908" y="21599"/>
                    <a:pt x="2024" y="21599"/>
                  </a:cubicBezTo>
                  <a:lnTo>
                    <a:pt x="4049" y="21599"/>
                  </a:lnTo>
                  <a:cubicBezTo>
                    <a:pt x="4853" y="21599"/>
                    <a:pt x="5525" y="21114"/>
                    <a:pt x="5850" y="20434"/>
                  </a:cubicBezTo>
                  <a:cubicBezTo>
                    <a:pt x="5859" y="20437"/>
                    <a:pt x="5873" y="20441"/>
                    <a:pt x="5882" y="20442"/>
                  </a:cubicBezTo>
                  <a:cubicBezTo>
                    <a:pt x="5927" y="20454"/>
                    <a:pt x="5979" y="20467"/>
                    <a:pt x="6044" y="20485"/>
                  </a:cubicBezTo>
                  <a:cubicBezTo>
                    <a:pt x="6056" y="20487"/>
                    <a:pt x="6062" y="20488"/>
                    <a:pt x="6074" y="20492"/>
                  </a:cubicBezTo>
                  <a:cubicBezTo>
                    <a:pt x="6464" y="20588"/>
                    <a:pt x="7212" y="20768"/>
                    <a:pt x="8812" y="21135"/>
                  </a:cubicBezTo>
                  <a:cubicBezTo>
                    <a:pt x="9155" y="21213"/>
                    <a:pt x="10966" y="21599"/>
                    <a:pt x="12844" y="21599"/>
                  </a:cubicBezTo>
                  <a:lnTo>
                    <a:pt x="16534" y="21599"/>
                  </a:lnTo>
                  <a:cubicBezTo>
                    <a:pt x="17659" y="21599"/>
                    <a:pt x="18469" y="21167"/>
                    <a:pt x="18952" y="20298"/>
                  </a:cubicBezTo>
                  <a:cubicBezTo>
                    <a:pt x="18958" y="20285"/>
                    <a:pt x="19114" y="19982"/>
                    <a:pt x="19240" y="19572"/>
                  </a:cubicBezTo>
                  <a:cubicBezTo>
                    <a:pt x="19336" y="19263"/>
                    <a:pt x="19371" y="18827"/>
                    <a:pt x="19256" y="18384"/>
                  </a:cubicBezTo>
                  <a:cubicBezTo>
                    <a:pt x="19981" y="17886"/>
                    <a:pt x="20214" y="17133"/>
                    <a:pt x="20366" y="16643"/>
                  </a:cubicBezTo>
                  <a:cubicBezTo>
                    <a:pt x="20620" y="15838"/>
                    <a:pt x="20544" y="15235"/>
                    <a:pt x="20367" y="14803"/>
                  </a:cubicBezTo>
                  <a:cubicBezTo>
                    <a:pt x="20775" y="14418"/>
                    <a:pt x="21122" y="13831"/>
                    <a:pt x="21269" y="12935"/>
                  </a:cubicBezTo>
                  <a:cubicBezTo>
                    <a:pt x="21361" y="12380"/>
                    <a:pt x="21263" y="11809"/>
                    <a:pt x="21007" y="11334"/>
                  </a:cubicBezTo>
                  <a:cubicBezTo>
                    <a:pt x="21389" y="10905"/>
                    <a:pt x="21564" y="10365"/>
                    <a:pt x="21583" y="9865"/>
                  </a:cubicBezTo>
                  <a:lnTo>
                    <a:pt x="21591" y="9724"/>
                  </a:lnTo>
                  <a:cubicBezTo>
                    <a:pt x="21596" y="9635"/>
                    <a:pt x="21600" y="9581"/>
                    <a:pt x="21600" y="9386"/>
                  </a:cubicBezTo>
                  <a:cubicBezTo>
                    <a:pt x="21600" y="8533"/>
                    <a:pt x="21010" y="7446"/>
                    <a:pt x="19686" y="70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50400" bIns="50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AutoShape 82"/>
            <p:cNvSpPr/>
            <p:nvPr/>
          </p:nvSpPr>
          <p:spPr>
            <a:xfrm>
              <a:off x="6597360" y="3225960"/>
              <a:ext cx="4572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14400"/>
                  </a:moveTo>
                  <a:cubicBezTo>
                    <a:pt x="8820" y="14400"/>
                    <a:pt x="7200" y="12782"/>
                    <a:pt x="7200" y="10800"/>
                  </a:cubicBezTo>
                  <a:cubicBezTo>
                    <a:pt x="7200" y="8817"/>
                    <a:pt x="8820" y="7200"/>
                    <a:pt x="10800" y="7200"/>
                  </a:cubicBezTo>
                  <a:cubicBezTo>
                    <a:pt x="12779" y="7200"/>
                    <a:pt x="14400" y="8817"/>
                    <a:pt x="14400" y="10800"/>
                  </a:cubicBezTo>
                  <a:cubicBezTo>
                    <a:pt x="14400" y="12782"/>
                    <a:pt x="12779" y="14400"/>
                    <a:pt x="10800" y="14400"/>
                  </a:cubicBezTo>
                  <a:moveTo>
                    <a:pt x="10800" y="0"/>
                  </a:moveTo>
                  <a:cubicBezTo>
                    <a:pt x="4837" y="0"/>
                    <a:pt x="0" y="4837"/>
                    <a:pt x="0" y="10800"/>
                  </a:cubicBezTo>
                  <a:cubicBezTo>
                    <a:pt x="0" y="16762"/>
                    <a:pt x="4837" y="21599"/>
                    <a:pt x="10800" y="21599"/>
                  </a:cubicBezTo>
                  <a:cubicBezTo>
                    <a:pt x="16762" y="21599"/>
                    <a:pt x="21600" y="16762"/>
                    <a:pt x="21600" y="10800"/>
                  </a:cubicBezTo>
                  <a:cubicBezTo>
                    <a:pt x="21600" y="4837"/>
                    <a:pt x="16762" y="0"/>
                    <a:pt x="1080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0" rIns="504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1" name="TextBox 13"/>
          <p:cNvSpPr/>
          <p:nvPr/>
        </p:nvSpPr>
        <p:spPr>
          <a:xfrm>
            <a:off x="3349800" y="2535120"/>
            <a:ext cx="1277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公司简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2162160" y="2857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13"/>
          <p:cNvSpPr/>
          <p:nvPr/>
        </p:nvSpPr>
        <p:spPr>
          <a:xfrm>
            <a:off x="7859880" y="2535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产品服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13"/>
          <p:cNvSpPr/>
          <p:nvPr/>
        </p:nvSpPr>
        <p:spPr>
          <a:xfrm>
            <a:off x="7859880" y="2857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13"/>
          <p:cNvSpPr/>
          <p:nvPr/>
        </p:nvSpPr>
        <p:spPr>
          <a:xfrm>
            <a:off x="3335400" y="4821120"/>
            <a:ext cx="127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目标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13"/>
          <p:cNvSpPr/>
          <p:nvPr/>
        </p:nvSpPr>
        <p:spPr>
          <a:xfrm>
            <a:off x="2162160" y="514368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TextBox 13"/>
          <p:cNvSpPr/>
          <p:nvPr/>
        </p:nvSpPr>
        <p:spPr>
          <a:xfrm>
            <a:off x="7859880" y="482112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投资回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TextBox 13"/>
          <p:cNvSpPr/>
          <p:nvPr/>
        </p:nvSpPr>
        <p:spPr>
          <a:xfrm>
            <a:off x="7859880" y="514368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reeform 153"/>
          <p:cNvSpPr/>
          <p:nvPr/>
        </p:nvSpPr>
        <p:spPr>
          <a:xfrm>
            <a:off x="5167440" y="2857680"/>
            <a:ext cx="323640" cy="368280"/>
          </a:xfrm>
          <a:custGeom>
            <a:avLst/>
            <a:gdLst/>
            <a:ahLst/>
            <a:rect l="l" t="t" r="r" b="b"/>
            <a:pathLst>
              <a:path w="143" h="163">
                <a:moveTo>
                  <a:pt x="0" y="0"/>
                </a:moveTo>
                <a:lnTo>
                  <a:pt x="0" y="163"/>
                </a:lnTo>
                <a:lnTo>
                  <a:pt x="143" y="163"/>
                </a:lnTo>
                <a:lnTo>
                  <a:pt x="143" y="0"/>
                </a:lnTo>
                <a:lnTo>
                  <a:pt x="0" y="0"/>
                </a:lnTo>
                <a:close/>
                <a:moveTo>
                  <a:pt x="22" y="151"/>
                </a:moveTo>
                <a:lnTo>
                  <a:pt x="8" y="151"/>
                </a:lnTo>
                <a:lnTo>
                  <a:pt x="8" y="137"/>
                </a:lnTo>
                <a:lnTo>
                  <a:pt x="22" y="137"/>
                </a:lnTo>
                <a:lnTo>
                  <a:pt x="22" y="151"/>
                </a:lnTo>
                <a:close/>
                <a:moveTo>
                  <a:pt x="22" y="126"/>
                </a:moveTo>
                <a:lnTo>
                  <a:pt x="8" y="126"/>
                </a:lnTo>
                <a:lnTo>
                  <a:pt x="8" y="112"/>
                </a:lnTo>
                <a:lnTo>
                  <a:pt x="22" y="112"/>
                </a:lnTo>
                <a:lnTo>
                  <a:pt x="22" y="126"/>
                </a:lnTo>
                <a:close/>
                <a:moveTo>
                  <a:pt x="22" y="101"/>
                </a:moveTo>
                <a:lnTo>
                  <a:pt x="8" y="101"/>
                </a:lnTo>
                <a:lnTo>
                  <a:pt x="8" y="87"/>
                </a:lnTo>
                <a:lnTo>
                  <a:pt x="22" y="87"/>
                </a:lnTo>
                <a:lnTo>
                  <a:pt x="22" y="101"/>
                </a:lnTo>
                <a:close/>
                <a:moveTo>
                  <a:pt x="22" y="77"/>
                </a:moveTo>
                <a:lnTo>
                  <a:pt x="8" y="77"/>
                </a:lnTo>
                <a:lnTo>
                  <a:pt x="8" y="62"/>
                </a:lnTo>
                <a:lnTo>
                  <a:pt x="22" y="62"/>
                </a:lnTo>
                <a:lnTo>
                  <a:pt x="22" y="77"/>
                </a:lnTo>
                <a:close/>
                <a:moveTo>
                  <a:pt x="22" y="52"/>
                </a:moveTo>
                <a:lnTo>
                  <a:pt x="8" y="52"/>
                </a:lnTo>
                <a:lnTo>
                  <a:pt x="8" y="37"/>
                </a:lnTo>
                <a:lnTo>
                  <a:pt x="22" y="37"/>
                </a:lnTo>
                <a:lnTo>
                  <a:pt x="22" y="52"/>
                </a:lnTo>
                <a:close/>
                <a:moveTo>
                  <a:pt x="22" y="27"/>
                </a:moveTo>
                <a:lnTo>
                  <a:pt x="8" y="27"/>
                </a:lnTo>
                <a:lnTo>
                  <a:pt x="8" y="12"/>
                </a:lnTo>
                <a:lnTo>
                  <a:pt x="22" y="12"/>
                </a:lnTo>
                <a:lnTo>
                  <a:pt x="22" y="27"/>
                </a:lnTo>
                <a:close/>
                <a:moveTo>
                  <a:pt x="112" y="143"/>
                </a:moveTo>
                <a:lnTo>
                  <a:pt x="30" y="143"/>
                </a:lnTo>
                <a:lnTo>
                  <a:pt x="30" y="91"/>
                </a:lnTo>
                <a:lnTo>
                  <a:pt x="112" y="91"/>
                </a:lnTo>
                <a:lnTo>
                  <a:pt x="112" y="143"/>
                </a:lnTo>
                <a:close/>
                <a:moveTo>
                  <a:pt x="112" y="71"/>
                </a:moveTo>
                <a:lnTo>
                  <a:pt x="30" y="71"/>
                </a:lnTo>
                <a:lnTo>
                  <a:pt x="30" y="20"/>
                </a:lnTo>
                <a:lnTo>
                  <a:pt x="112" y="20"/>
                </a:lnTo>
                <a:lnTo>
                  <a:pt x="112" y="71"/>
                </a:lnTo>
                <a:close/>
                <a:moveTo>
                  <a:pt x="135" y="151"/>
                </a:moveTo>
                <a:lnTo>
                  <a:pt x="121" y="151"/>
                </a:lnTo>
                <a:lnTo>
                  <a:pt x="121" y="137"/>
                </a:lnTo>
                <a:lnTo>
                  <a:pt x="135" y="137"/>
                </a:lnTo>
                <a:lnTo>
                  <a:pt x="135" y="151"/>
                </a:lnTo>
                <a:close/>
                <a:moveTo>
                  <a:pt x="135" y="126"/>
                </a:moveTo>
                <a:lnTo>
                  <a:pt x="121" y="126"/>
                </a:lnTo>
                <a:lnTo>
                  <a:pt x="121" y="112"/>
                </a:lnTo>
                <a:lnTo>
                  <a:pt x="135" y="112"/>
                </a:lnTo>
                <a:lnTo>
                  <a:pt x="135" y="126"/>
                </a:lnTo>
                <a:close/>
                <a:moveTo>
                  <a:pt x="135" y="101"/>
                </a:moveTo>
                <a:lnTo>
                  <a:pt x="121" y="101"/>
                </a:lnTo>
                <a:lnTo>
                  <a:pt x="121" y="87"/>
                </a:lnTo>
                <a:lnTo>
                  <a:pt x="135" y="87"/>
                </a:lnTo>
                <a:lnTo>
                  <a:pt x="135" y="101"/>
                </a:lnTo>
                <a:close/>
                <a:moveTo>
                  <a:pt x="135" y="77"/>
                </a:moveTo>
                <a:lnTo>
                  <a:pt x="121" y="77"/>
                </a:lnTo>
                <a:lnTo>
                  <a:pt x="121" y="62"/>
                </a:lnTo>
                <a:lnTo>
                  <a:pt x="135" y="62"/>
                </a:lnTo>
                <a:lnTo>
                  <a:pt x="135" y="77"/>
                </a:lnTo>
                <a:close/>
                <a:moveTo>
                  <a:pt x="135" y="52"/>
                </a:moveTo>
                <a:lnTo>
                  <a:pt x="121" y="52"/>
                </a:lnTo>
                <a:lnTo>
                  <a:pt x="121" y="37"/>
                </a:lnTo>
                <a:lnTo>
                  <a:pt x="135" y="37"/>
                </a:lnTo>
                <a:lnTo>
                  <a:pt x="135" y="52"/>
                </a:lnTo>
                <a:close/>
                <a:moveTo>
                  <a:pt x="135" y="27"/>
                </a:moveTo>
                <a:lnTo>
                  <a:pt x="121" y="27"/>
                </a:lnTo>
                <a:lnTo>
                  <a:pt x="121" y="12"/>
                </a:lnTo>
                <a:lnTo>
                  <a:pt x="135" y="12"/>
                </a:lnTo>
                <a:lnTo>
                  <a:pt x="1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组合 53" descr=""/>
          <p:cNvPicPr/>
          <p:nvPr/>
        </p:nvPicPr>
        <p:blipFill>
          <a:blip r:embed="rId1"/>
          <a:stretch/>
        </p:blipFill>
        <p:spPr>
          <a:xfrm>
            <a:off x="6620040" y="43768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91" name="组合 58" descr=""/>
          <p:cNvPicPr/>
          <p:nvPr/>
        </p:nvPicPr>
        <p:blipFill>
          <a:blip r:embed="rId2"/>
          <a:stretch/>
        </p:blipFill>
        <p:spPr>
          <a:xfrm>
            <a:off x="5168880" y="4359240"/>
            <a:ext cx="39672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itle 20"/>
          <p:cNvSpPr/>
          <p:nvPr/>
        </p:nvSpPr>
        <p:spPr>
          <a:xfrm>
            <a:off x="1568520" y="4695840"/>
            <a:ext cx="86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Arial"/>
                <a:ea typeface="微软雅黑"/>
              </a:rPr>
              <a:t>01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2"/>
          <p:cNvSpPr/>
          <p:nvPr/>
        </p:nvSpPr>
        <p:spPr>
          <a:xfrm>
            <a:off x="2081160" y="2382840"/>
            <a:ext cx="2181240" cy="21812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3"/>
          <p:cNvSpPr/>
          <p:nvPr/>
        </p:nvSpPr>
        <p:spPr>
          <a:xfrm>
            <a:off x="1735200" y="2262240"/>
            <a:ext cx="9079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Oval 41"/>
          <p:cNvSpPr/>
          <p:nvPr/>
        </p:nvSpPr>
        <p:spPr>
          <a:xfrm>
            <a:off x="5100480" y="2382840"/>
            <a:ext cx="2181240" cy="2181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val 50"/>
          <p:cNvSpPr/>
          <p:nvPr/>
        </p:nvSpPr>
        <p:spPr>
          <a:xfrm>
            <a:off x="4756320" y="2262240"/>
            <a:ext cx="90612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Oval 52"/>
          <p:cNvSpPr/>
          <p:nvPr/>
        </p:nvSpPr>
        <p:spPr>
          <a:xfrm>
            <a:off x="8074080" y="2382840"/>
            <a:ext cx="2181240" cy="21812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Oval 53"/>
          <p:cNvSpPr/>
          <p:nvPr/>
        </p:nvSpPr>
        <p:spPr>
          <a:xfrm>
            <a:off x="7729560" y="2262240"/>
            <a:ext cx="906480" cy="9064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itle 20"/>
          <p:cNvSpPr/>
          <p:nvPr/>
        </p:nvSpPr>
        <p:spPr>
          <a:xfrm>
            <a:off x="4640400" y="4686840"/>
            <a:ext cx="868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b0f0"/>
                </a:solidFill>
                <a:latin typeface="Arial"/>
                <a:ea typeface="微软雅黑"/>
              </a:rPr>
              <a:t>02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itle 20"/>
          <p:cNvSpPr/>
          <p:nvPr/>
        </p:nvSpPr>
        <p:spPr>
          <a:xfrm>
            <a:off x="7711920" y="4695840"/>
            <a:ext cx="8686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Arial"/>
                <a:ea typeface="微软雅黑"/>
              </a:rPr>
              <a:t>03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Freeform 300"/>
          <p:cNvSpPr/>
          <p:nvPr/>
        </p:nvSpPr>
        <p:spPr>
          <a:xfrm>
            <a:off x="1962000" y="2465280"/>
            <a:ext cx="43848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reeform 300"/>
          <p:cNvSpPr/>
          <p:nvPr/>
        </p:nvSpPr>
        <p:spPr>
          <a:xfrm>
            <a:off x="4973760" y="2465280"/>
            <a:ext cx="439560" cy="44136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Freeform 300"/>
          <p:cNvSpPr/>
          <p:nvPr/>
        </p:nvSpPr>
        <p:spPr>
          <a:xfrm>
            <a:off x="7950240" y="2452680"/>
            <a:ext cx="438120" cy="439920"/>
          </a:xfrm>
          <a:custGeom>
            <a:avLst/>
            <a:gdLst/>
            <a:ahLst/>
            <a:rect l="l" t="t" r="r" b="b"/>
            <a:pathLst>
              <a:path w="1472" h="1481">
                <a:moveTo>
                  <a:pt x="1011" y="0"/>
                </a:moveTo>
                <a:cubicBezTo>
                  <a:pt x="752" y="0"/>
                  <a:pt x="543" y="209"/>
                  <a:pt x="543" y="468"/>
                </a:cubicBezTo>
                <a:cubicBezTo>
                  <a:pt x="543" y="518"/>
                  <a:pt x="560" y="577"/>
                  <a:pt x="577" y="635"/>
                </a:cubicBezTo>
                <a:cubicBezTo>
                  <a:pt x="0" y="1204"/>
                  <a:pt x="0" y="1204"/>
                  <a:pt x="0" y="1204"/>
                </a:cubicBezTo>
                <a:cubicBezTo>
                  <a:pt x="0" y="1480"/>
                  <a:pt x="0" y="1480"/>
                  <a:pt x="0" y="1480"/>
                </a:cubicBezTo>
                <a:cubicBezTo>
                  <a:pt x="276" y="1480"/>
                  <a:pt x="276" y="1480"/>
                  <a:pt x="276" y="1480"/>
                </a:cubicBezTo>
                <a:cubicBezTo>
                  <a:pt x="276" y="1313"/>
                  <a:pt x="276" y="1313"/>
                  <a:pt x="276" y="1313"/>
                </a:cubicBezTo>
                <a:cubicBezTo>
                  <a:pt x="435" y="1313"/>
                  <a:pt x="435" y="1313"/>
                  <a:pt x="435" y="1313"/>
                </a:cubicBezTo>
                <a:cubicBezTo>
                  <a:pt x="435" y="1154"/>
                  <a:pt x="435" y="1154"/>
                  <a:pt x="435" y="1154"/>
                </a:cubicBezTo>
                <a:cubicBezTo>
                  <a:pt x="602" y="1154"/>
                  <a:pt x="602" y="1154"/>
                  <a:pt x="602" y="1154"/>
                </a:cubicBezTo>
                <a:cubicBezTo>
                  <a:pt x="844" y="903"/>
                  <a:pt x="844" y="903"/>
                  <a:pt x="844" y="903"/>
                </a:cubicBezTo>
                <a:cubicBezTo>
                  <a:pt x="895" y="920"/>
                  <a:pt x="953" y="928"/>
                  <a:pt x="1011" y="928"/>
                </a:cubicBezTo>
                <a:cubicBezTo>
                  <a:pt x="1271" y="928"/>
                  <a:pt x="1471" y="727"/>
                  <a:pt x="1471" y="468"/>
                </a:cubicBezTo>
                <a:cubicBezTo>
                  <a:pt x="1471" y="209"/>
                  <a:pt x="1271" y="0"/>
                  <a:pt x="1011" y="0"/>
                </a:cubicBezTo>
                <a:close/>
                <a:moveTo>
                  <a:pt x="1145" y="493"/>
                </a:moveTo>
                <a:cubicBezTo>
                  <a:pt x="1053" y="493"/>
                  <a:pt x="986" y="426"/>
                  <a:pt x="986" y="334"/>
                </a:cubicBezTo>
                <a:cubicBezTo>
                  <a:pt x="986" y="234"/>
                  <a:pt x="1053" y="167"/>
                  <a:pt x="1145" y="167"/>
                </a:cubicBezTo>
                <a:cubicBezTo>
                  <a:pt x="1237" y="167"/>
                  <a:pt x="1312" y="234"/>
                  <a:pt x="1312" y="334"/>
                </a:cubicBezTo>
                <a:cubicBezTo>
                  <a:pt x="1312" y="426"/>
                  <a:pt x="1237" y="493"/>
                  <a:pt x="1145" y="493"/>
                </a:cubicBezTo>
                <a:close/>
                <a:moveTo>
                  <a:pt x="1145" y="493"/>
                </a:moveTo>
                <a:lnTo>
                  <a:pt x="1145" y="4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13"/>
          <p:cNvSpPr/>
          <p:nvPr/>
        </p:nvSpPr>
        <p:spPr>
          <a:xfrm>
            <a:off x="234000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行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3"/>
          <p:cNvSpPr/>
          <p:nvPr/>
        </p:nvSpPr>
        <p:spPr>
          <a:xfrm>
            <a:off x="234000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3"/>
          <p:cNvSpPr/>
          <p:nvPr/>
        </p:nvSpPr>
        <p:spPr>
          <a:xfrm>
            <a:off x="541332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13"/>
          <p:cNvSpPr/>
          <p:nvPr/>
        </p:nvSpPr>
        <p:spPr>
          <a:xfrm>
            <a:off x="541332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13"/>
          <p:cNvSpPr/>
          <p:nvPr/>
        </p:nvSpPr>
        <p:spPr>
          <a:xfrm>
            <a:off x="8467560" y="481500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竞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3"/>
          <p:cNvSpPr/>
          <p:nvPr/>
        </p:nvSpPr>
        <p:spPr>
          <a:xfrm>
            <a:off x="8467560" y="5135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组合 40" descr=""/>
          <p:cNvPicPr/>
          <p:nvPr/>
        </p:nvPicPr>
        <p:blipFill>
          <a:blip r:embed="rId1"/>
          <a:stretch/>
        </p:blipFill>
        <p:spPr>
          <a:xfrm>
            <a:off x="2706840" y="3054240"/>
            <a:ext cx="914400" cy="908280"/>
          </a:xfrm>
          <a:prstGeom prst="rect">
            <a:avLst/>
          </a:prstGeom>
          <a:ln w="0">
            <a:noFill/>
          </a:ln>
        </p:spPr>
      </p:pic>
      <p:pic>
        <p:nvPicPr>
          <p:cNvPr id="715" name="组合 60" descr=""/>
          <p:cNvPicPr/>
          <p:nvPr/>
        </p:nvPicPr>
        <p:blipFill>
          <a:blip r:embed="rId2"/>
          <a:stretch/>
        </p:blipFill>
        <p:spPr>
          <a:xfrm>
            <a:off x="5784840" y="2876400"/>
            <a:ext cx="860400" cy="1062360"/>
          </a:xfrm>
          <a:prstGeom prst="rect">
            <a:avLst/>
          </a:prstGeom>
          <a:ln w="0">
            <a:noFill/>
          </a:ln>
        </p:spPr>
      </p:pic>
      <p:pic>
        <p:nvPicPr>
          <p:cNvPr id="716" name="Gruppieren 180" descr=""/>
          <p:cNvPicPr/>
          <p:nvPr/>
        </p:nvPicPr>
        <p:blipFill>
          <a:blip r:embed="rId3"/>
          <a:stretch/>
        </p:blipFill>
        <p:spPr>
          <a:xfrm>
            <a:off x="8826480" y="2992320"/>
            <a:ext cx="774720" cy="866880"/>
          </a:xfrm>
          <a:prstGeom prst="rect">
            <a:avLst/>
          </a:prstGeom>
          <a:ln w="0">
            <a:noFill/>
          </a:ln>
        </p:spPr>
      </p:pic>
      <p:grpSp>
        <p:nvGrpSpPr>
          <p:cNvPr id="717" name="组合 7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18" name="椭圆 7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等腰三角形 7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优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 形 11"/>
          <p:cNvSpPr/>
          <p:nvPr/>
        </p:nvSpPr>
        <p:spPr>
          <a:xfrm rot="5400000">
            <a:off x="1986840" y="3810600"/>
            <a:ext cx="1265040" cy="210528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等腰三角形 12"/>
          <p:cNvSpPr/>
          <p:nvPr/>
        </p:nvSpPr>
        <p:spPr>
          <a:xfrm>
            <a:off x="3317760" y="365616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L 形 13"/>
          <p:cNvSpPr/>
          <p:nvPr/>
        </p:nvSpPr>
        <p:spPr>
          <a:xfrm rot="5400000">
            <a:off x="4313520" y="3236040"/>
            <a:ext cx="1265040" cy="2104920"/>
          </a:xfrm>
          <a:custGeom>
            <a:avLst/>
            <a:gdLst/>
            <a:ahLst/>
            <a:rect l="l" t="t" r="r" b="b"/>
            <a:pathLst>
              <a:path w="1265237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7" y="1901069"/>
                </a:lnTo>
                <a:lnTo>
                  <a:pt x="1265237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等腰三角形 14"/>
          <p:cNvSpPr/>
          <p:nvPr/>
        </p:nvSpPr>
        <p:spPr>
          <a:xfrm>
            <a:off x="5645160" y="3079800"/>
            <a:ext cx="358920" cy="358560"/>
          </a:xfrm>
          <a:prstGeom prst="triangle">
            <a:avLst>
              <a:gd name="adj" fmla="val 10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 形 15"/>
          <p:cNvSpPr/>
          <p:nvPr/>
        </p:nvSpPr>
        <p:spPr>
          <a:xfrm rot="5400000">
            <a:off x="6640920" y="2659680"/>
            <a:ext cx="1265040" cy="2104920"/>
          </a:xfrm>
          <a:custGeom>
            <a:avLst/>
            <a:gdLst/>
            <a:ahLst/>
            <a:rect l="l" t="t" r="r" b="b"/>
            <a:pathLst>
              <a:path w="1265238" h="2105025">
                <a:moveTo>
                  <a:pt x="0" y="0"/>
                </a:moveTo>
                <a:lnTo>
                  <a:pt x="203830" y="0"/>
                </a:lnTo>
                <a:lnTo>
                  <a:pt x="203830" y="1901069"/>
                </a:lnTo>
                <a:lnTo>
                  <a:pt x="1265238" y="1901069"/>
                </a:lnTo>
                <a:lnTo>
                  <a:pt x="1265238" y="2105025"/>
                </a:lnTo>
                <a:lnTo>
                  <a:pt x="0" y="2105025"/>
                </a:lnTo>
                <a:lnTo>
                  <a:pt x="0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等腰三角形 16"/>
          <p:cNvSpPr/>
          <p:nvPr/>
        </p:nvSpPr>
        <p:spPr>
          <a:xfrm>
            <a:off x="7972560" y="2503440"/>
            <a:ext cx="358560" cy="358920"/>
          </a:xfrm>
          <a:prstGeom prst="triangle">
            <a:avLst>
              <a:gd name="adj" fmla="val 100000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L 形 17"/>
          <p:cNvSpPr/>
          <p:nvPr/>
        </p:nvSpPr>
        <p:spPr>
          <a:xfrm rot="5400000">
            <a:off x="8967600" y="2082600"/>
            <a:ext cx="1265400" cy="2106720"/>
          </a:xfrm>
          <a:custGeom>
            <a:avLst/>
            <a:gdLst/>
            <a:ahLst/>
            <a:rect l="l" t="t" r="r" b="b"/>
            <a:pathLst>
              <a:path w="1265237" h="2106613">
                <a:moveTo>
                  <a:pt x="0" y="0"/>
                </a:moveTo>
                <a:lnTo>
                  <a:pt x="203830" y="0"/>
                </a:lnTo>
                <a:lnTo>
                  <a:pt x="203830" y="1902657"/>
                </a:lnTo>
                <a:lnTo>
                  <a:pt x="1265237" y="1902657"/>
                </a:lnTo>
                <a:lnTo>
                  <a:pt x="1265237" y="2106613"/>
                </a:lnTo>
                <a:lnTo>
                  <a:pt x="0" y="2106613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Freeform 205"/>
          <p:cNvSpPr/>
          <p:nvPr/>
        </p:nvSpPr>
        <p:spPr>
          <a:xfrm>
            <a:off x="9474120" y="2063880"/>
            <a:ext cx="165240" cy="160200"/>
          </a:xfrm>
          <a:custGeom>
            <a:avLst/>
            <a:gdLst/>
            <a:ahLst/>
            <a:rect l="l" t="t" r="r" b="b"/>
            <a:pathLst>
              <a:path w="71" h="69">
                <a:moveTo>
                  <a:pt x="12" y="69"/>
                </a:moveTo>
                <a:lnTo>
                  <a:pt x="12" y="67"/>
                </a:lnTo>
                <a:lnTo>
                  <a:pt x="64" y="67"/>
                </a:lnTo>
                <a:lnTo>
                  <a:pt x="64" y="69"/>
                </a:lnTo>
                <a:lnTo>
                  <a:pt x="71" y="69"/>
                </a:lnTo>
                <a:lnTo>
                  <a:pt x="71" y="10"/>
                </a:lnTo>
                <a:lnTo>
                  <a:pt x="59" y="0"/>
                </a:lnTo>
                <a:lnTo>
                  <a:pt x="0" y="0"/>
                </a:lnTo>
                <a:lnTo>
                  <a:pt x="0" y="69"/>
                </a:lnTo>
                <a:lnTo>
                  <a:pt x="12" y="69"/>
                </a:lnTo>
                <a:close/>
                <a:moveTo>
                  <a:pt x="59" y="3"/>
                </a:moveTo>
                <a:lnTo>
                  <a:pt x="69" y="12"/>
                </a:lnTo>
                <a:lnTo>
                  <a:pt x="59" y="12"/>
                </a:lnTo>
                <a:lnTo>
                  <a:pt x="59" y="3"/>
                </a:lnTo>
                <a:close/>
                <a:moveTo>
                  <a:pt x="12" y="17"/>
                </a:moveTo>
                <a:lnTo>
                  <a:pt x="64" y="17"/>
                </a:lnTo>
                <a:lnTo>
                  <a:pt x="64" y="22"/>
                </a:lnTo>
                <a:lnTo>
                  <a:pt x="12" y="22"/>
                </a:lnTo>
                <a:lnTo>
                  <a:pt x="12" y="17"/>
                </a:lnTo>
                <a:close/>
                <a:moveTo>
                  <a:pt x="12" y="29"/>
                </a:moveTo>
                <a:lnTo>
                  <a:pt x="64" y="29"/>
                </a:lnTo>
                <a:lnTo>
                  <a:pt x="64" y="33"/>
                </a:lnTo>
                <a:lnTo>
                  <a:pt x="12" y="33"/>
                </a:lnTo>
                <a:lnTo>
                  <a:pt x="12" y="29"/>
                </a:lnTo>
                <a:close/>
                <a:moveTo>
                  <a:pt x="12" y="41"/>
                </a:moveTo>
                <a:lnTo>
                  <a:pt x="64" y="41"/>
                </a:lnTo>
                <a:lnTo>
                  <a:pt x="64" y="48"/>
                </a:lnTo>
                <a:lnTo>
                  <a:pt x="12" y="48"/>
                </a:lnTo>
                <a:lnTo>
                  <a:pt x="12" y="41"/>
                </a:lnTo>
                <a:close/>
                <a:moveTo>
                  <a:pt x="12" y="52"/>
                </a:moveTo>
                <a:lnTo>
                  <a:pt x="64" y="52"/>
                </a:lnTo>
                <a:lnTo>
                  <a:pt x="64" y="59"/>
                </a:lnTo>
                <a:lnTo>
                  <a:pt x="12" y="59"/>
                </a:lnTo>
                <a:lnTo>
                  <a:pt x="12" y="52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206"/>
          <p:cNvSpPr/>
          <p:nvPr/>
        </p:nvSpPr>
        <p:spPr>
          <a:xfrm>
            <a:off x="9469440" y="2360520"/>
            <a:ext cx="284040" cy="52560"/>
          </a:xfrm>
          <a:custGeom>
            <a:avLst/>
            <a:gdLst/>
            <a:ahLst/>
            <a:rect l="l" t="t" r="r" b="b"/>
            <a:pathLst>
              <a:path w="52" h="10">
                <a:moveTo>
                  <a:pt x="47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2"/>
                  <a:pt x="0" y="5"/>
                </a:cubicBezTo>
                <a:cubicBezTo>
                  <a:pt x="0" y="8"/>
                  <a:pt x="2" y="10"/>
                  <a:pt x="5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9" y="10"/>
                  <a:pt x="52" y="8"/>
                  <a:pt x="52" y="5"/>
                </a:cubicBezTo>
                <a:cubicBezTo>
                  <a:pt x="52" y="2"/>
                  <a:pt x="49" y="0"/>
                  <a:pt x="47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207"/>
          <p:cNvSpPr/>
          <p:nvPr/>
        </p:nvSpPr>
        <p:spPr>
          <a:xfrm>
            <a:off x="9423360" y="2216160"/>
            <a:ext cx="355680" cy="165240"/>
          </a:xfrm>
          <a:custGeom>
            <a:avLst/>
            <a:gdLst/>
            <a:ahLst/>
            <a:rect l="l" t="t" r="r" b="b"/>
            <a:pathLst>
              <a:path w="65" h="30">
                <a:moveTo>
                  <a:pt x="60" y="0"/>
                </a:moveTo>
                <a:cubicBezTo>
                  <a:pt x="43" y="0"/>
                  <a:pt x="43" y="0"/>
                  <a:pt x="43" y="0"/>
                </a:cubicBezTo>
                <a:cubicBezTo>
                  <a:pt x="43" y="6"/>
                  <a:pt x="43" y="6"/>
                  <a:pt x="43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2" y="29"/>
                  <a:pt x="5" y="30"/>
                </a:cubicBezTo>
                <a:cubicBezTo>
                  <a:pt x="5" y="29"/>
                  <a:pt x="5" y="29"/>
                  <a:pt x="5" y="28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6" y="23"/>
                  <a:pt x="9" y="21"/>
                  <a:pt x="12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8" y="21"/>
                  <a:pt x="61" y="24"/>
                  <a:pt x="61" y="28"/>
                </a:cubicBezTo>
                <a:cubicBezTo>
                  <a:pt x="61" y="29"/>
                  <a:pt x="61" y="29"/>
                  <a:pt x="61" y="30"/>
                </a:cubicBezTo>
                <a:cubicBezTo>
                  <a:pt x="63" y="29"/>
                  <a:pt x="65" y="27"/>
                  <a:pt x="65" y="24"/>
                </a:cubicBezTo>
                <a:cubicBezTo>
                  <a:pt x="65" y="6"/>
                  <a:pt x="65" y="6"/>
                  <a:pt x="65" y="6"/>
                </a:cubicBezTo>
                <a:cubicBezTo>
                  <a:pt x="65" y="3"/>
                  <a:pt x="63" y="0"/>
                  <a:pt x="60" y="0"/>
                </a:cubicBezTo>
                <a:close/>
                <a:moveTo>
                  <a:pt x="56" y="12"/>
                </a:moveTo>
                <a:cubicBezTo>
                  <a:pt x="54" y="12"/>
                  <a:pt x="52" y="10"/>
                  <a:pt x="52" y="8"/>
                </a:cubicBezTo>
                <a:cubicBezTo>
                  <a:pt x="52" y="6"/>
                  <a:pt x="54" y="4"/>
                  <a:pt x="56" y="4"/>
                </a:cubicBezTo>
                <a:cubicBezTo>
                  <a:pt x="58" y="4"/>
                  <a:pt x="60" y="6"/>
                  <a:pt x="60" y="8"/>
                </a:cubicBezTo>
                <a:cubicBezTo>
                  <a:pt x="60" y="10"/>
                  <a:pt x="58" y="12"/>
                  <a:pt x="56" y="12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233"/>
          <p:cNvSpPr/>
          <p:nvPr/>
        </p:nvSpPr>
        <p:spPr>
          <a:xfrm>
            <a:off x="7066080" y="2554200"/>
            <a:ext cx="414360" cy="384120"/>
          </a:xfrm>
          <a:custGeom>
            <a:avLst/>
            <a:gdLst/>
            <a:ahLst/>
            <a:rect l="l" t="t" r="r" b="b"/>
            <a:pathLst>
              <a:path w="67" h="62">
                <a:moveTo>
                  <a:pt x="42" y="22"/>
                </a:moveTo>
                <a:cubicBezTo>
                  <a:pt x="33" y="22"/>
                  <a:pt x="27" y="29"/>
                  <a:pt x="27" y="37"/>
                </a:cubicBezTo>
                <a:cubicBezTo>
                  <a:pt x="27" y="45"/>
                  <a:pt x="33" y="52"/>
                  <a:pt x="42" y="52"/>
                </a:cubicBezTo>
                <a:cubicBezTo>
                  <a:pt x="50" y="52"/>
                  <a:pt x="56" y="45"/>
                  <a:pt x="56" y="37"/>
                </a:cubicBezTo>
                <a:cubicBezTo>
                  <a:pt x="56" y="29"/>
                  <a:pt x="50" y="22"/>
                  <a:pt x="42" y="22"/>
                </a:cubicBezTo>
                <a:close/>
                <a:moveTo>
                  <a:pt x="42" y="47"/>
                </a:moveTo>
                <a:cubicBezTo>
                  <a:pt x="36" y="47"/>
                  <a:pt x="31" y="43"/>
                  <a:pt x="31" y="37"/>
                </a:cubicBezTo>
                <a:cubicBezTo>
                  <a:pt x="31" y="31"/>
                  <a:pt x="36" y="26"/>
                  <a:pt x="42" y="26"/>
                </a:cubicBezTo>
                <a:cubicBezTo>
                  <a:pt x="47" y="26"/>
                  <a:pt x="52" y="31"/>
                  <a:pt x="52" y="37"/>
                </a:cubicBezTo>
                <a:cubicBezTo>
                  <a:pt x="52" y="43"/>
                  <a:pt x="47" y="47"/>
                  <a:pt x="42" y="47"/>
                </a:cubicBezTo>
                <a:close/>
                <a:moveTo>
                  <a:pt x="57" y="12"/>
                </a:moveTo>
                <a:cubicBezTo>
                  <a:pt x="10" y="12"/>
                  <a:pt x="10" y="12"/>
                  <a:pt x="10" y="12"/>
                </a:cubicBezTo>
                <a:cubicBezTo>
                  <a:pt x="4" y="12"/>
                  <a:pt x="0" y="17"/>
                  <a:pt x="0" y="23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7"/>
                  <a:pt x="4" y="62"/>
                  <a:pt x="10" y="62"/>
                </a:cubicBezTo>
                <a:cubicBezTo>
                  <a:pt x="57" y="62"/>
                  <a:pt x="57" y="62"/>
                  <a:pt x="57" y="62"/>
                </a:cubicBezTo>
                <a:cubicBezTo>
                  <a:pt x="62" y="62"/>
                  <a:pt x="67" y="57"/>
                  <a:pt x="67" y="52"/>
                </a:cubicBezTo>
                <a:cubicBezTo>
                  <a:pt x="67" y="23"/>
                  <a:pt x="67" y="23"/>
                  <a:pt x="67" y="23"/>
                </a:cubicBezTo>
                <a:cubicBezTo>
                  <a:pt x="67" y="17"/>
                  <a:pt x="62" y="12"/>
                  <a:pt x="57" y="12"/>
                </a:cubicBezTo>
                <a:close/>
                <a:moveTo>
                  <a:pt x="23" y="22"/>
                </a:moveTo>
                <a:cubicBezTo>
                  <a:pt x="9" y="22"/>
                  <a:pt x="9" y="22"/>
                  <a:pt x="9" y="22"/>
                </a:cubicBezTo>
                <a:cubicBezTo>
                  <a:pt x="9" y="18"/>
                  <a:pt x="9" y="18"/>
                  <a:pt x="9" y="18"/>
                </a:cubicBezTo>
                <a:cubicBezTo>
                  <a:pt x="23" y="18"/>
                  <a:pt x="23" y="18"/>
                  <a:pt x="23" y="18"/>
                </a:cubicBezTo>
                <a:lnTo>
                  <a:pt x="23" y="22"/>
                </a:lnTo>
                <a:close/>
                <a:moveTo>
                  <a:pt x="42" y="55"/>
                </a:moveTo>
                <a:cubicBezTo>
                  <a:pt x="31" y="55"/>
                  <a:pt x="23" y="47"/>
                  <a:pt x="23" y="37"/>
                </a:cubicBezTo>
                <a:cubicBezTo>
                  <a:pt x="23" y="27"/>
                  <a:pt x="31" y="18"/>
                  <a:pt x="42" y="18"/>
                </a:cubicBezTo>
                <a:cubicBezTo>
                  <a:pt x="52" y="18"/>
                  <a:pt x="60" y="27"/>
                  <a:pt x="60" y="37"/>
                </a:cubicBezTo>
                <a:cubicBezTo>
                  <a:pt x="60" y="47"/>
                  <a:pt x="52" y="55"/>
                  <a:pt x="42" y="55"/>
                </a:cubicBezTo>
                <a:close/>
                <a:moveTo>
                  <a:pt x="43" y="0"/>
                </a:moveTo>
                <a:cubicBezTo>
                  <a:pt x="23" y="0"/>
                  <a:pt x="23" y="0"/>
                  <a:pt x="23" y="0"/>
                </a:cubicBezTo>
                <a:cubicBezTo>
                  <a:pt x="23" y="10"/>
                  <a:pt x="23" y="10"/>
                  <a:pt x="23" y="10"/>
                </a:cubicBezTo>
                <a:cubicBezTo>
                  <a:pt x="43" y="10"/>
                  <a:pt x="43" y="10"/>
                  <a:pt x="43" y="10"/>
                </a:cubicBezTo>
                <a:lnTo>
                  <a:pt x="43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920" rIns="106920" tIns="53280" bIns="53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3"/>
          <p:cNvSpPr/>
          <p:nvPr/>
        </p:nvSpPr>
        <p:spPr>
          <a:xfrm>
            <a:off x="1444680" y="4592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客户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Box 13"/>
          <p:cNvSpPr/>
          <p:nvPr/>
        </p:nvSpPr>
        <p:spPr>
          <a:xfrm>
            <a:off x="1995480" y="49417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3"/>
          <p:cNvSpPr/>
          <p:nvPr/>
        </p:nvSpPr>
        <p:spPr>
          <a:xfrm>
            <a:off x="3828960" y="410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额外价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3"/>
          <p:cNvSpPr/>
          <p:nvPr/>
        </p:nvSpPr>
        <p:spPr>
          <a:xfrm>
            <a:off x="4378320" y="444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3"/>
          <p:cNvSpPr/>
          <p:nvPr/>
        </p:nvSpPr>
        <p:spPr>
          <a:xfrm>
            <a:off x="6107040" y="3470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技术创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13"/>
          <p:cNvSpPr/>
          <p:nvPr/>
        </p:nvSpPr>
        <p:spPr>
          <a:xfrm>
            <a:off x="6656400" y="381960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13"/>
          <p:cNvSpPr/>
          <p:nvPr/>
        </p:nvSpPr>
        <p:spPr>
          <a:xfrm>
            <a:off x="8431200" y="2884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生产能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3"/>
          <p:cNvSpPr/>
          <p:nvPr/>
        </p:nvSpPr>
        <p:spPr>
          <a:xfrm>
            <a:off x="8982000" y="3235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36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44" name="椭圆 37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等腰三角形 38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6" name="组合 39" descr=""/>
          <p:cNvPicPr/>
          <p:nvPr/>
        </p:nvPicPr>
        <p:blipFill>
          <a:blip r:embed="rId1"/>
          <a:stretch/>
        </p:blipFill>
        <p:spPr>
          <a:xfrm>
            <a:off x="2378160" y="3608280"/>
            <a:ext cx="420480" cy="439920"/>
          </a:xfrm>
          <a:prstGeom prst="rect">
            <a:avLst/>
          </a:prstGeom>
          <a:ln w="0">
            <a:noFill/>
          </a:ln>
        </p:spPr>
      </p:pic>
      <p:pic>
        <p:nvPicPr>
          <p:cNvPr id="747" name="组合 47" descr=""/>
          <p:cNvPicPr/>
          <p:nvPr/>
        </p:nvPicPr>
        <p:blipFill>
          <a:blip r:embed="rId2"/>
          <a:stretch/>
        </p:blipFill>
        <p:spPr>
          <a:xfrm>
            <a:off x="4724280" y="3133800"/>
            <a:ext cx="53028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目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25"/>
          <p:cNvSpPr/>
          <p:nvPr/>
        </p:nvSpPr>
        <p:spPr>
          <a:xfrm>
            <a:off x="0" y="2457360"/>
            <a:ext cx="609588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33"/>
          <p:cNvSpPr/>
          <p:nvPr/>
        </p:nvSpPr>
        <p:spPr>
          <a:xfrm flipH="1">
            <a:off x="6095880" y="2457360"/>
            <a:ext cx="6096240" cy="29368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lnTo>
                  <a:pt x="0" y="0"/>
                </a:lnTo>
                <a:lnTo>
                  <a:pt x="10000" y="2000"/>
                </a:lnTo>
                <a:lnTo>
                  <a:pt x="10000" y="8000"/>
                </a:lnTo>
                <a:lnTo>
                  <a:pt x="0" y="100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Oval 34"/>
          <p:cNvSpPr/>
          <p:nvPr/>
        </p:nvSpPr>
        <p:spPr>
          <a:xfrm>
            <a:off x="5105520" y="2935440"/>
            <a:ext cx="1981080" cy="19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Chord 2"/>
          <p:cNvSpPr/>
          <p:nvPr/>
        </p:nvSpPr>
        <p:spPr>
          <a:xfrm flipH="1"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Chord 17"/>
          <p:cNvSpPr/>
          <p:nvPr/>
        </p:nvSpPr>
        <p:spPr>
          <a:xfrm>
            <a:off x="5192640" y="3025800"/>
            <a:ext cx="1806480" cy="1805040"/>
          </a:xfrm>
          <a:custGeom>
            <a:avLst/>
            <a:gdLst/>
            <a:ahLst/>
            <a:rect l="l" t="t" r="r" b="b"/>
            <a:pathLst>
              <a:path w="1806575" h="1804988">
                <a:moveTo>
                  <a:pt x="907811" y="1804977"/>
                </a:moveTo>
                <a:cubicBezTo>
                  <a:pt x="584687" y="1806594"/>
                  <a:pt x="285310" y="1635637"/>
                  <a:pt x="122705" y="1356649"/>
                </a:cubicBezTo>
                <a:cubicBezTo>
                  <a:pt x="-40087" y="1077341"/>
                  <a:pt x="-40952" y="732377"/>
                  <a:pt x="120435" y="452257"/>
                </a:cubicBezTo>
                <a:cubicBezTo>
                  <a:pt x="281639" y="172456"/>
                  <a:pt x="580157" y="1"/>
                  <a:pt x="903288" y="1"/>
                </a:cubicBezTo>
                <a:cubicBezTo>
                  <a:pt x="904796" y="601660"/>
                  <a:pt x="906303" y="1203318"/>
                  <a:pt x="907811" y="1804977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组合 64"/>
          <p:cNvGrpSpPr/>
          <p:nvPr/>
        </p:nvGrpSpPr>
        <p:grpSpPr>
          <a:xfrm>
            <a:off x="1311120" y="3538440"/>
            <a:ext cx="2619360" cy="748440"/>
            <a:chOff x="1311120" y="3538440"/>
            <a:chExt cx="2619360" cy="748440"/>
          </a:xfrm>
        </p:grpSpPr>
        <p:sp>
          <p:nvSpPr>
            <p:cNvPr id="758" name="TextBox 13"/>
            <p:cNvSpPr/>
            <p:nvPr/>
          </p:nvSpPr>
          <p:spPr>
            <a:xfrm>
              <a:off x="2476800" y="3538440"/>
              <a:ext cx="145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目标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TextBox 13"/>
            <p:cNvSpPr/>
            <p:nvPr/>
          </p:nvSpPr>
          <p:spPr>
            <a:xfrm>
              <a:off x="1311120" y="3860280"/>
              <a:ext cx="2619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0" name="组合 67"/>
          <p:cNvGrpSpPr/>
          <p:nvPr/>
        </p:nvGrpSpPr>
        <p:grpSpPr>
          <a:xfrm>
            <a:off x="8099280" y="3549600"/>
            <a:ext cx="2773440" cy="535320"/>
            <a:chOff x="8099280" y="3549600"/>
            <a:chExt cx="2773440" cy="535320"/>
          </a:xfrm>
        </p:grpSpPr>
        <p:sp>
          <p:nvSpPr>
            <p:cNvPr id="761" name="TextBox 13"/>
            <p:cNvSpPr/>
            <p:nvPr/>
          </p:nvSpPr>
          <p:spPr>
            <a:xfrm>
              <a:off x="8099280" y="3549600"/>
              <a:ext cx="153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市场开拓规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TextBox 13"/>
            <p:cNvSpPr/>
            <p:nvPr/>
          </p:nvSpPr>
          <p:spPr>
            <a:xfrm>
              <a:off x="8103960" y="3871440"/>
              <a:ext cx="276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可编辑内容，根据您的需要自由拉伸文本框大小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3" name="组合 2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64" name="椭圆 2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等腰三角形 2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6" name="组合 29" descr=""/>
          <p:cNvPicPr/>
          <p:nvPr/>
        </p:nvPicPr>
        <p:blipFill>
          <a:blip r:embed="rId1"/>
          <a:stretch/>
        </p:blipFill>
        <p:spPr>
          <a:xfrm>
            <a:off x="5383080" y="3651120"/>
            <a:ext cx="554040" cy="56052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36" descr=""/>
          <p:cNvPicPr/>
          <p:nvPr/>
        </p:nvPicPr>
        <p:blipFill>
          <a:blip r:embed="rId2"/>
          <a:stretch/>
        </p:blipFill>
        <p:spPr>
          <a:xfrm>
            <a:off x="6254640" y="3693960"/>
            <a:ext cx="45108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Oval 13"/>
          <p:cNvSpPr/>
          <p:nvPr/>
        </p:nvSpPr>
        <p:spPr>
          <a:xfrm>
            <a:off x="4286160" y="4510080"/>
            <a:ext cx="182556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Oval 6"/>
          <p:cNvSpPr/>
          <p:nvPr/>
        </p:nvSpPr>
        <p:spPr>
          <a:xfrm>
            <a:off x="5178600" y="1536840"/>
            <a:ext cx="1825560" cy="182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Oval 15"/>
          <p:cNvSpPr/>
          <p:nvPr/>
        </p:nvSpPr>
        <p:spPr>
          <a:xfrm>
            <a:off x="65232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Oval 16"/>
          <p:cNvSpPr/>
          <p:nvPr/>
        </p:nvSpPr>
        <p:spPr>
          <a:xfrm>
            <a:off x="6111720" y="4510080"/>
            <a:ext cx="1824120" cy="18255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3819600" y="2752560"/>
            <a:ext cx="1825560" cy="18259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gular Pentagon 8"/>
          <p:cNvSpPr/>
          <p:nvPr/>
        </p:nvSpPr>
        <p:spPr>
          <a:xfrm>
            <a:off x="4732200" y="2658960"/>
            <a:ext cx="2703600" cy="255456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462640" y="182088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Oval 24"/>
          <p:cNvSpPr/>
          <p:nvPr/>
        </p:nvSpPr>
        <p:spPr>
          <a:xfrm>
            <a:off x="4103640" y="303696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Oval 25"/>
          <p:cNvSpPr/>
          <p:nvPr/>
        </p:nvSpPr>
        <p:spPr>
          <a:xfrm>
            <a:off x="6807240" y="303696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26"/>
          <p:cNvSpPr/>
          <p:nvPr/>
        </p:nvSpPr>
        <p:spPr>
          <a:xfrm>
            <a:off x="6394320" y="479412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27"/>
          <p:cNvSpPr/>
          <p:nvPr/>
        </p:nvSpPr>
        <p:spPr>
          <a:xfrm>
            <a:off x="4570560" y="479412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101"/>
          <p:cNvSpPr/>
          <p:nvPr/>
        </p:nvSpPr>
        <p:spPr>
          <a:xfrm>
            <a:off x="6775560" y="5121360"/>
            <a:ext cx="577800" cy="534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132"/>
          <p:cNvSpPr/>
          <p:nvPr/>
        </p:nvSpPr>
        <p:spPr>
          <a:xfrm>
            <a:off x="5605560" y="3570120"/>
            <a:ext cx="984240" cy="94140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3646440" y="1735200"/>
            <a:ext cx="132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体战略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978280" y="205596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13"/>
          <p:cNvSpPr/>
          <p:nvPr/>
        </p:nvSpPr>
        <p:spPr>
          <a:xfrm>
            <a:off x="8435880" y="3333600"/>
            <a:ext cx="170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营销型网站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13"/>
          <p:cNvSpPr/>
          <p:nvPr/>
        </p:nvSpPr>
        <p:spPr>
          <a:xfrm>
            <a:off x="8610480" y="36003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3"/>
          <p:cNvSpPr/>
          <p:nvPr/>
        </p:nvSpPr>
        <p:spPr>
          <a:xfrm>
            <a:off x="2297160" y="3281400"/>
            <a:ext cx="141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数据监控运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3"/>
          <p:cNvSpPr/>
          <p:nvPr/>
        </p:nvSpPr>
        <p:spPr>
          <a:xfrm>
            <a:off x="1655640" y="360036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Box 13"/>
          <p:cNvSpPr/>
          <p:nvPr/>
        </p:nvSpPr>
        <p:spPr>
          <a:xfrm>
            <a:off x="2859120" y="5249880"/>
            <a:ext cx="128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整合传播推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Box 13"/>
          <p:cNvSpPr/>
          <p:nvPr/>
        </p:nvSpPr>
        <p:spPr>
          <a:xfrm>
            <a:off x="2147760" y="557064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13"/>
          <p:cNvSpPr/>
          <p:nvPr/>
        </p:nvSpPr>
        <p:spPr>
          <a:xfrm>
            <a:off x="8159760" y="5249880"/>
            <a:ext cx="12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传播内容规划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Box 13"/>
          <p:cNvSpPr/>
          <p:nvPr/>
        </p:nvSpPr>
        <p:spPr>
          <a:xfrm>
            <a:off x="8159760" y="5518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组合 52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796" name="椭圆 53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等腰三角形 54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8" name="组合 55" descr=""/>
          <p:cNvPicPr/>
          <p:nvPr/>
        </p:nvPicPr>
        <p:blipFill>
          <a:blip r:embed="rId1"/>
          <a:stretch/>
        </p:blipFill>
        <p:spPr>
          <a:xfrm>
            <a:off x="5827680" y="2146320"/>
            <a:ext cx="450720" cy="444600"/>
          </a:xfrm>
          <a:prstGeom prst="rect">
            <a:avLst/>
          </a:prstGeom>
          <a:ln w="0">
            <a:noFill/>
          </a:ln>
        </p:spPr>
      </p:pic>
      <p:sp>
        <p:nvSpPr>
          <p:cNvPr id="799" name="Freeform 151"/>
          <p:cNvSpPr/>
          <p:nvPr/>
        </p:nvSpPr>
        <p:spPr>
          <a:xfrm>
            <a:off x="4376880" y="3355920"/>
            <a:ext cx="599760" cy="542880"/>
          </a:xfrm>
          <a:custGeom>
            <a:avLst/>
            <a:gdLst/>
            <a:ahLst/>
            <a:rect l="l" t="t" r="r" b="b"/>
            <a:pathLst>
              <a:path w="155" h="140">
                <a:moveTo>
                  <a:pt x="154" y="110"/>
                </a:moveTo>
                <a:cubicBezTo>
                  <a:pt x="152" y="108"/>
                  <a:pt x="118" y="79"/>
                  <a:pt x="118" y="79"/>
                </a:cubicBezTo>
                <a:cubicBezTo>
                  <a:pt x="117" y="78"/>
                  <a:pt x="116" y="78"/>
                  <a:pt x="115" y="79"/>
                </a:cubicBezTo>
                <a:cubicBezTo>
                  <a:pt x="114" y="80"/>
                  <a:pt x="113" y="81"/>
                  <a:pt x="111" y="83"/>
                </a:cubicBezTo>
                <a:cubicBezTo>
                  <a:pt x="107" y="80"/>
                  <a:pt x="104" y="78"/>
                  <a:pt x="103" y="77"/>
                </a:cubicBezTo>
                <a:cubicBezTo>
                  <a:pt x="106" y="70"/>
                  <a:pt x="108" y="62"/>
                  <a:pt x="108" y="54"/>
                </a:cubicBezTo>
                <a:cubicBezTo>
                  <a:pt x="108" y="24"/>
                  <a:pt x="84" y="0"/>
                  <a:pt x="54" y="0"/>
                </a:cubicBez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8"/>
                  <a:pt x="54" y="108"/>
                </a:cubicBezTo>
                <a:cubicBezTo>
                  <a:pt x="68" y="108"/>
                  <a:pt x="80" y="103"/>
                  <a:pt x="90" y="95"/>
                </a:cubicBezTo>
                <a:cubicBezTo>
                  <a:pt x="91" y="96"/>
                  <a:pt x="93" y="98"/>
                  <a:pt x="96" y="100"/>
                </a:cubicBezTo>
                <a:cubicBezTo>
                  <a:pt x="95" y="102"/>
                  <a:pt x="92" y="105"/>
                  <a:pt x="92" y="105"/>
                </a:cubicBezTo>
                <a:cubicBezTo>
                  <a:pt x="91" y="106"/>
                  <a:pt x="91" y="107"/>
                  <a:pt x="92" y="108"/>
                </a:cubicBezTo>
                <a:cubicBezTo>
                  <a:pt x="93" y="108"/>
                  <a:pt x="126" y="137"/>
                  <a:pt x="128" y="139"/>
                </a:cubicBezTo>
                <a:cubicBezTo>
                  <a:pt x="129" y="139"/>
                  <a:pt x="130" y="140"/>
                  <a:pt x="131" y="139"/>
                </a:cubicBezTo>
                <a:cubicBezTo>
                  <a:pt x="131" y="138"/>
                  <a:pt x="153" y="114"/>
                  <a:pt x="154" y="112"/>
                </a:cubicBezTo>
                <a:cubicBezTo>
                  <a:pt x="155" y="111"/>
                  <a:pt x="154" y="110"/>
                  <a:pt x="154" y="110"/>
                </a:cubicBezTo>
                <a:close/>
                <a:moveTo>
                  <a:pt x="54" y="93"/>
                </a:moveTo>
                <a:cubicBezTo>
                  <a:pt x="32" y="93"/>
                  <a:pt x="15" y="75"/>
                  <a:pt x="15" y="54"/>
                </a:cubicBezTo>
                <a:cubicBezTo>
                  <a:pt x="15" y="32"/>
                  <a:pt x="32" y="15"/>
                  <a:pt x="54" y="15"/>
                </a:cubicBezTo>
                <a:cubicBezTo>
                  <a:pt x="75" y="15"/>
                  <a:pt x="93" y="32"/>
                  <a:pt x="93" y="54"/>
                </a:cubicBezTo>
                <a:cubicBezTo>
                  <a:pt x="93" y="75"/>
                  <a:pt x="75" y="93"/>
                  <a:pt x="54" y="93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组合 76" descr=""/>
          <p:cNvPicPr/>
          <p:nvPr/>
        </p:nvPicPr>
        <p:blipFill>
          <a:blip r:embed="rId2"/>
          <a:stretch/>
        </p:blipFill>
        <p:spPr>
          <a:xfrm>
            <a:off x="4968720" y="5230800"/>
            <a:ext cx="438480" cy="450720"/>
          </a:xfrm>
          <a:prstGeom prst="rect">
            <a:avLst/>
          </a:prstGeom>
          <a:ln w="0">
            <a:noFill/>
          </a:ln>
        </p:spPr>
      </p:pic>
      <p:pic>
        <p:nvPicPr>
          <p:cNvPr id="801" name="组合 83" descr=""/>
          <p:cNvPicPr/>
          <p:nvPr/>
        </p:nvPicPr>
        <p:blipFill>
          <a:blip r:embed="rId3"/>
          <a:stretch/>
        </p:blipFill>
        <p:spPr>
          <a:xfrm>
            <a:off x="7302600" y="3524400"/>
            <a:ext cx="446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平行四边形 3"/>
          <p:cNvSpPr/>
          <p:nvPr/>
        </p:nvSpPr>
        <p:spPr>
          <a:xfrm>
            <a:off x="603360" y="363600"/>
            <a:ext cx="11588760" cy="550800"/>
          </a:xfrm>
          <a:prstGeom prst="parallelogram">
            <a:avLst>
              <a:gd name="adj" fmla="val -13868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平行四边形 4"/>
          <p:cNvSpPr/>
          <p:nvPr/>
        </p:nvSpPr>
        <p:spPr>
          <a:xfrm>
            <a:off x="6480" y="363600"/>
            <a:ext cx="752400" cy="550800"/>
          </a:xfrm>
          <a:prstGeom prst="parallelogram">
            <a:avLst>
              <a:gd name="adj" fmla="val 4151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5"/>
          <p:cNvSpPr/>
          <p:nvPr/>
        </p:nvSpPr>
        <p:spPr>
          <a:xfrm>
            <a:off x="185760" y="40644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6"/>
          <p:cNvSpPr/>
          <p:nvPr/>
        </p:nvSpPr>
        <p:spPr>
          <a:xfrm>
            <a:off x="1069200" y="423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计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65"/>
          <p:cNvSpPr/>
          <p:nvPr/>
        </p:nvSpPr>
        <p:spPr>
          <a:xfrm rot="14727600">
            <a:off x="8147520" y="163692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65"/>
          <p:cNvSpPr/>
          <p:nvPr/>
        </p:nvSpPr>
        <p:spPr>
          <a:xfrm rot="16268400">
            <a:off x="6973920" y="2592000"/>
            <a:ext cx="103176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65"/>
          <p:cNvSpPr/>
          <p:nvPr/>
        </p:nvSpPr>
        <p:spPr>
          <a:xfrm rot="17854800">
            <a:off x="5502600" y="293580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65"/>
          <p:cNvSpPr/>
          <p:nvPr/>
        </p:nvSpPr>
        <p:spPr>
          <a:xfrm rot="19453800">
            <a:off x="4044960" y="2577600"/>
            <a:ext cx="1030320" cy="164808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65"/>
          <p:cNvSpPr/>
          <p:nvPr/>
        </p:nvSpPr>
        <p:spPr>
          <a:xfrm rot="21007200">
            <a:off x="2868480" y="1614240"/>
            <a:ext cx="1030320" cy="1647720"/>
          </a:xfrm>
          <a:custGeom>
            <a:avLst/>
            <a:gdLst/>
            <a:ahLst/>
            <a:rect l="l" t="t" r="r" b="b"/>
            <a:pathLst>
              <a:path w="502" h="804">
                <a:moveTo>
                  <a:pt x="480" y="784"/>
                </a:moveTo>
                <a:cubicBezTo>
                  <a:pt x="501" y="764"/>
                  <a:pt x="502" y="731"/>
                  <a:pt x="482" y="710"/>
                </a:cubicBezTo>
                <a:cubicBezTo>
                  <a:pt x="467" y="695"/>
                  <a:pt x="446" y="690"/>
                  <a:pt x="428" y="697"/>
                </a:cubicBezTo>
                <a:cubicBezTo>
                  <a:pt x="292" y="546"/>
                  <a:pt x="194" y="368"/>
                  <a:pt x="139" y="175"/>
                </a:cubicBezTo>
                <a:cubicBezTo>
                  <a:pt x="173" y="157"/>
                  <a:pt x="192" y="118"/>
                  <a:pt x="184" y="78"/>
                </a:cubicBezTo>
                <a:cubicBezTo>
                  <a:pt x="173" y="30"/>
                  <a:pt x="126" y="0"/>
                  <a:pt x="78" y="10"/>
                </a:cubicBezTo>
                <a:cubicBezTo>
                  <a:pt x="30" y="21"/>
                  <a:pt x="0" y="68"/>
                  <a:pt x="10" y="116"/>
                </a:cubicBezTo>
                <a:cubicBezTo>
                  <a:pt x="19" y="157"/>
                  <a:pt x="56" y="186"/>
                  <a:pt x="97" y="186"/>
                </a:cubicBezTo>
                <a:cubicBezTo>
                  <a:pt x="153" y="386"/>
                  <a:pt x="255" y="571"/>
                  <a:pt x="395" y="726"/>
                </a:cubicBezTo>
                <a:cubicBezTo>
                  <a:pt x="388" y="745"/>
                  <a:pt x="391" y="767"/>
                  <a:pt x="406" y="783"/>
                </a:cubicBezTo>
                <a:cubicBezTo>
                  <a:pt x="426" y="804"/>
                  <a:pt x="460" y="804"/>
                  <a:pt x="480" y="78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1" name="Elbow Connector 25"/>
          <p:cNvCxnSpPr/>
          <p:nvPr/>
        </p:nvCxnSpPr>
        <p:spPr>
          <a:xfrm flipH="1" rot="16200000">
            <a:off x="4039920" y="4007880"/>
            <a:ext cx="834120" cy="14832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2" name="Straight Connector 31"/>
          <p:cNvSpPr/>
          <p:nvPr/>
        </p:nvSpPr>
        <p:spPr>
          <a:xfrm>
            <a:off x="314784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93"/>
          <p:cNvSpPr/>
          <p:nvPr/>
        </p:nvSpPr>
        <p:spPr>
          <a:xfrm>
            <a:off x="8826480" y="28051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94"/>
          <p:cNvSpPr/>
          <p:nvPr/>
        </p:nvSpPr>
        <p:spPr>
          <a:xfrm>
            <a:off x="6018120" y="4149720"/>
            <a:ext cx="0" cy="61740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5" name="Elbow Connector 108"/>
          <p:cNvCxnSpPr/>
          <p:nvPr/>
        </p:nvCxnSpPr>
        <p:spPr>
          <a:xfrm rot="5400000">
            <a:off x="7175880" y="4001040"/>
            <a:ext cx="834120" cy="14688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oval" w="med"/>
          </a:ln>
        </p:spPr>
      </p:cxnSp>
      <p:sp>
        <p:nvSpPr>
          <p:cNvPr id="816" name="Oval 38"/>
          <p:cNvSpPr/>
          <p:nvPr/>
        </p:nvSpPr>
        <p:spPr>
          <a:xfrm>
            <a:off x="273528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13"/>
          <p:cNvSpPr/>
          <p:nvPr/>
        </p:nvSpPr>
        <p:spPr>
          <a:xfrm>
            <a:off x="2948040" y="3933720"/>
            <a:ext cx="401760" cy="30348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8" y="0"/>
                </a:lnTo>
                <a:lnTo>
                  <a:pt x="8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147" y="98"/>
                </a:moveTo>
                <a:lnTo>
                  <a:pt x="19" y="98"/>
                </a:lnTo>
                <a:lnTo>
                  <a:pt x="19" y="54"/>
                </a:lnTo>
                <a:lnTo>
                  <a:pt x="54" y="9"/>
                </a:lnTo>
                <a:lnTo>
                  <a:pt x="97" y="54"/>
                </a:lnTo>
                <a:lnTo>
                  <a:pt x="127" y="28"/>
                </a:lnTo>
                <a:lnTo>
                  <a:pt x="147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102"/>
          <p:cNvSpPr/>
          <p:nvPr/>
        </p:nvSpPr>
        <p:spPr>
          <a:xfrm>
            <a:off x="4121280" y="4691160"/>
            <a:ext cx="8269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5"/>
          <p:cNvSpPr/>
          <p:nvPr/>
        </p:nvSpPr>
        <p:spPr>
          <a:xfrm>
            <a:off x="4341960" y="4959360"/>
            <a:ext cx="387360" cy="290520"/>
          </a:xfrm>
          <a:custGeom>
            <a:avLst/>
            <a:gdLst/>
            <a:ahLst/>
            <a:rect l="l" t="t" r="r" b="b"/>
            <a:pathLst>
              <a:path w="168" h="126">
                <a:moveTo>
                  <a:pt x="168" y="126"/>
                </a:moveTo>
                <a:lnTo>
                  <a:pt x="0" y="126"/>
                </a:lnTo>
                <a:lnTo>
                  <a:pt x="0" y="0"/>
                </a:lnTo>
                <a:lnTo>
                  <a:pt x="10" y="0"/>
                </a:lnTo>
                <a:lnTo>
                  <a:pt x="10" y="115"/>
                </a:lnTo>
                <a:lnTo>
                  <a:pt x="168" y="115"/>
                </a:lnTo>
                <a:lnTo>
                  <a:pt x="168" y="126"/>
                </a:lnTo>
                <a:close/>
                <a:moveTo>
                  <a:pt x="54" y="104"/>
                </a:moveTo>
                <a:lnTo>
                  <a:pt x="32" y="104"/>
                </a:lnTo>
                <a:lnTo>
                  <a:pt x="32" y="63"/>
                </a:lnTo>
                <a:lnTo>
                  <a:pt x="54" y="63"/>
                </a:lnTo>
                <a:lnTo>
                  <a:pt x="54" y="104"/>
                </a:lnTo>
                <a:close/>
                <a:moveTo>
                  <a:pt x="84" y="104"/>
                </a:moveTo>
                <a:lnTo>
                  <a:pt x="64" y="104"/>
                </a:lnTo>
                <a:lnTo>
                  <a:pt x="64" y="19"/>
                </a:lnTo>
                <a:lnTo>
                  <a:pt x="84" y="19"/>
                </a:lnTo>
                <a:lnTo>
                  <a:pt x="84" y="104"/>
                </a:lnTo>
                <a:close/>
                <a:moveTo>
                  <a:pt x="116" y="104"/>
                </a:moveTo>
                <a:lnTo>
                  <a:pt x="95" y="104"/>
                </a:lnTo>
                <a:lnTo>
                  <a:pt x="95" y="41"/>
                </a:lnTo>
                <a:lnTo>
                  <a:pt x="116" y="41"/>
                </a:lnTo>
                <a:lnTo>
                  <a:pt x="116" y="104"/>
                </a:lnTo>
                <a:close/>
                <a:moveTo>
                  <a:pt x="147" y="104"/>
                </a:moveTo>
                <a:lnTo>
                  <a:pt x="127" y="104"/>
                </a:lnTo>
                <a:lnTo>
                  <a:pt x="127" y="9"/>
                </a:lnTo>
                <a:lnTo>
                  <a:pt x="147" y="9"/>
                </a:lnTo>
                <a:lnTo>
                  <a:pt x="14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103"/>
          <p:cNvSpPr/>
          <p:nvPr/>
        </p:nvSpPr>
        <p:spPr>
          <a:xfrm>
            <a:off x="5605560" y="4948200"/>
            <a:ext cx="826920" cy="8272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69"/>
          <p:cNvSpPr/>
          <p:nvPr/>
        </p:nvSpPr>
        <p:spPr>
          <a:xfrm>
            <a:off x="5843520" y="5184720"/>
            <a:ext cx="349200" cy="35244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101"/>
          <p:cNvSpPr/>
          <p:nvPr/>
        </p:nvSpPr>
        <p:spPr>
          <a:xfrm>
            <a:off x="7128000" y="4691160"/>
            <a:ext cx="828720" cy="826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217"/>
          <p:cNvSpPr/>
          <p:nvPr/>
        </p:nvSpPr>
        <p:spPr>
          <a:xfrm>
            <a:off x="7348680" y="4959360"/>
            <a:ext cx="387360" cy="29052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0"/>
          <p:cNvSpPr/>
          <p:nvPr/>
        </p:nvSpPr>
        <p:spPr>
          <a:xfrm>
            <a:off x="8413920" y="3670200"/>
            <a:ext cx="826920" cy="828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64"/>
          <p:cNvSpPr/>
          <p:nvPr/>
        </p:nvSpPr>
        <p:spPr>
          <a:xfrm>
            <a:off x="8613720" y="3906720"/>
            <a:ext cx="426960" cy="355680"/>
          </a:xfrm>
          <a:custGeom>
            <a:avLst/>
            <a:gdLst/>
            <a:ahLst/>
            <a:rect l="l" t="t" r="r" b="b"/>
            <a:pathLst>
              <a:path w="77" h="64">
                <a:moveTo>
                  <a:pt x="77" y="51"/>
                </a:moveTo>
                <a:cubicBezTo>
                  <a:pt x="77" y="53"/>
                  <a:pt x="76" y="55"/>
                  <a:pt x="75" y="55"/>
                </a:cubicBezTo>
                <a:cubicBezTo>
                  <a:pt x="59" y="63"/>
                  <a:pt x="59" y="63"/>
                  <a:pt x="59" y="63"/>
                </a:cubicBezTo>
                <a:cubicBezTo>
                  <a:pt x="58" y="64"/>
                  <a:pt x="58" y="64"/>
                  <a:pt x="57" y="64"/>
                </a:cubicBezTo>
                <a:cubicBezTo>
                  <a:pt x="56" y="64"/>
                  <a:pt x="55" y="64"/>
                  <a:pt x="55" y="63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9" y="55"/>
                  <a:pt x="39" y="55"/>
                </a:cubicBezTo>
                <a:cubicBezTo>
                  <a:pt x="39" y="55"/>
                  <a:pt x="38" y="55"/>
                  <a:pt x="38" y="55"/>
                </a:cubicBezTo>
                <a:cubicBezTo>
                  <a:pt x="22" y="63"/>
                  <a:pt x="22" y="63"/>
                  <a:pt x="22" y="63"/>
                </a:cubicBezTo>
                <a:cubicBezTo>
                  <a:pt x="22" y="64"/>
                  <a:pt x="21" y="64"/>
                  <a:pt x="20" y="64"/>
                </a:cubicBezTo>
                <a:cubicBezTo>
                  <a:pt x="20" y="64"/>
                  <a:pt x="19" y="64"/>
                  <a:pt x="18" y="63"/>
                </a:cubicBezTo>
                <a:cubicBezTo>
                  <a:pt x="2" y="55"/>
                  <a:pt x="2" y="55"/>
                  <a:pt x="2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5"/>
                  <a:pt x="1" y="33"/>
                  <a:pt x="3" y="32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11"/>
                  <a:pt x="18" y="11"/>
                  <a:pt x="18" y="11"/>
                </a:cubicBezTo>
                <a:cubicBezTo>
                  <a:pt x="18" y="10"/>
                  <a:pt x="19" y="8"/>
                  <a:pt x="21" y="7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0"/>
                  <a:pt x="40" y="0"/>
                  <a:pt x="40" y="0"/>
                </a:cubicBezTo>
                <a:cubicBezTo>
                  <a:pt x="56" y="7"/>
                  <a:pt x="56" y="7"/>
                  <a:pt x="56" y="7"/>
                </a:cubicBezTo>
                <a:cubicBezTo>
                  <a:pt x="58" y="8"/>
                  <a:pt x="59" y="10"/>
                  <a:pt x="59" y="11"/>
                </a:cubicBezTo>
                <a:cubicBezTo>
                  <a:pt x="59" y="26"/>
                  <a:pt x="59" y="26"/>
                  <a:pt x="59" y="26"/>
                </a:cubicBezTo>
                <a:cubicBezTo>
                  <a:pt x="75" y="32"/>
                  <a:pt x="75" y="32"/>
                  <a:pt x="75" y="32"/>
                </a:cubicBezTo>
                <a:cubicBezTo>
                  <a:pt x="76" y="33"/>
                  <a:pt x="77" y="35"/>
                  <a:pt x="77" y="37"/>
                </a:cubicBezTo>
                <a:lnTo>
                  <a:pt x="77" y="51"/>
                </a:lnTo>
                <a:close/>
                <a:moveTo>
                  <a:pt x="35" y="36"/>
                </a:moveTo>
                <a:cubicBezTo>
                  <a:pt x="20" y="30"/>
                  <a:pt x="20" y="30"/>
                  <a:pt x="20" y="30"/>
                </a:cubicBezTo>
                <a:cubicBezTo>
                  <a:pt x="6" y="36"/>
                  <a:pt x="6" y="36"/>
                  <a:pt x="6" y="36"/>
                </a:cubicBezTo>
                <a:cubicBezTo>
                  <a:pt x="20" y="42"/>
                  <a:pt x="20" y="42"/>
                  <a:pt x="20" y="42"/>
                </a:cubicBezTo>
                <a:lnTo>
                  <a:pt x="35" y="36"/>
                </a:lnTo>
                <a:close/>
                <a:moveTo>
                  <a:pt x="36" y="51"/>
                </a:moveTo>
                <a:cubicBezTo>
                  <a:pt x="36" y="40"/>
                  <a:pt x="36" y="40"/>
                  <a:pt x="36" y="40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58"/>
                  <a:pt x="23" y="58"/>
                  <a:pt x="23" y="58"/>
                </a:cubicBezTo>
                <a:lnTo>
                  <a:pt x="36" y="51"/>
                </a:lnTo>
                <a:close/>
                <a:moveTo>
                  <a:pt x="54" y="11"/>
                </a:moveTo>
                <a:cubicBezTo>
                  <a:pt x="39" y="5"/>
                  <a:pt x="39" y="5"/>
                  <a:pt x="39" y="5"/>
                </a:cubicBezTo>
                <a:cubicBezTo>
                  <a:pt x="23" y="11"/>
                  <a:pt x="23" y="11"/>
                  <a:pt x="23" y="11"/>
                </a:cubicBezTo>
                <a:cubicBezTo>
                  <a:pt x="39" y="18"/>
                  <a:pt x="39" y="18"/>
                  <a:pt x="39" y="18"/>
                </a:cubicBezTo>
                <a:lnTo>
                  <a:pt x="54" y="11"/>
                </a:lnTo>
                <a:close/>
                <a:moveTo>
                  <a:pt x="55" y="26"/>
                </a:moveTo>
                <a:cubicBezTo>
                  <a:pt x="55" y="16"/>
                  <a:pt x="55" y="16"/>
                  <a:pt x="55" y="16"/>
                </a:cubicBezTo>
                <a:cubicBezTo>
                  <a:pt x="41" y="22"/>
                  <a:pt x="41" y="22"/>
                  <a:pt x="41" y="22"/>
                </a:cubicBezTo>
                <a:cubicBezTo>
                  <a:pt x="41" y="32"/>
                  <a:pt x="41" y="32"/>
                  <a:pt x="41" y="32"/>
                </a:cubicBezTo>
                <a:lnTo>
                  <a:pt x="55" y="26"/>
                </a:lnTo>
                <a:close/>
                <a:moveTo>
                  <a:pt x="71" y="36"/>
                </a:moveTo>
                <a:cubicBezTo>
                  <a:pt x="57" y="30"/>
                  <a:pt x="57" y="30"/>
                  <a:pt x="57" y="30"/>
                </a:cubicBezTo>
                <a:cubicBezTo>
                  <a:pt x="42" y="36"/>
                  <a:pt x="42" y="36"/>
                  <a:pt x="42" y="36"/>
                </a:cubicBezTo>
                <a:cubicBezTo>
                  <a:pt x="57" y="42"/>
                  <a:pt x="57" y="42"/>
                  <a:pt x="57" y="42"/>
                </a:cubicBezTo>
                <a:lnTo>
                  <a:pt x="71" y="36"/>
                </a:lnTo>
                <a:close/>
                <a:moveTo>
                  <a:pt x="73" y="51"/>
                </a:moveTo>
                <a:cubicBezTo>
                  <a:pt x="73" y="40"/>
                  <a:pt x="73" y="40"/>
                  <a:pt x="73" y="40"/>
                </a:cubicBezTo>
                <a:cubicBezTo>
                  <a:pt x="59" y="46"/>
                  <a:pt x="59" y="46"/>
                  <a:pt x="59" y="46"/>
                </a:cubicBezTo>
                <a:cubicBezTo>
                  <a:pt x="59" y="58"/>
                  <a:pt x="59" y="58"/>
                  <a:pt x="59" y="58"/>
                </a:cubicBezTo>
                <a:lnTo>
                  <a:pt x="73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30"/>
          <p:cNvSpPr/>
          <p:nvPr/>
        </p:nvSpPr>
        <p:spPr>
          <a:xfrm>
            <a:off x="4968720" y="1128600"/>
            <a:ext cx="2092320" cy="2014560"/>
          </a:xfrm>
          <a:custGeom>
            <a:avLst/>
            <a:gdLst/>
            <a:ahLst/>
            <a:rect l="l" t="t" r="r" b="b"/>
            <a:pathLst>
              <a:path w="746" h="719">
                <a:moveTo>
                  <a:pt x="713" y="218"/>
                </a:moveTo>
                <a:cubicBezTo>
                  <a:pt x="709" y="210"/>
                  <a:pt x="709" y="210"/>
                  <a:pt x="709" y="210"/>
                </a:cubicBezTo>
                <a:cubicBezTo>
                  <a:pt x="711" y="213"/>
                  <a:pt x="712" y="216"/>
                  <a:pt x="713" y="218"/>
                </a:cubicBezTo>
                <a:cubicBezTo>
                  <a:pt x="713" y="218"/>
                  <a:pt x="713" y="218"/>
                  <a:pt x="713" y="218"/>
                </a:cubicBezTo>
                <a:moveTo>
                  <a:pt x="709" y="210"/>
                </a:moveTo>
                <a:cubicBezTo>
                  <a:pt x="706" y="203"/>
                  <a:pt x="701" y="194"/>
                  <a:pt x="697" y="187"/>
                </a:cubicBezTo>
                <a:cubicBezTo>
                  <a:pt x="697" y="186"/>
                  <a:pt x="697" y="186"/>
                  <a:pt x="697" y="186"/>
                </a:cubicBezTo>
                <a:cubicBezTo>
                  <a:pt x="702" y="195"/>
                  <a:pt x="704" y="199"/>
                  <a:pt x="709" y="210"/>
                </a:cubicBezTo>
                <a:cubicBezTo>
                  <a:pt x="709" y="210"/>
                  <a:pt x="709" y="210"/>
                  <a:pt x="709" y="210"/>
                </a:cubicBezTo>
                <a:moveTo>
                  <a:pt x="696" y="186"/>
                </a:moveTo>
                <a:cubicBezTo>
                  <a:pt x="697" y="186"/>
                  <a:pt x="697" y="186"/>
                  <a:pt x="697" y="186"/>
                </a:cubicBezTo>
                <a:cubicBezTo>
                  <a:pt x="697" y="187"/>
                  <a:pt x="697" y="187"/>
                  <a:pt x="697" y="187"/>
                </a:cubicBezTo>
                <a:cubicBezTo>
                  <a:pt x="697" y="186"/>
                  <a:pt x="697" y="186"/>
                  <a:pt x="696" y="186"/>
                </a:cubicBezTo>
                <a:moveTo>
                  <a:pt x="746" y="352"/>
                </a:moveTo>
                <a:cubicBezTo>
                  <a:pt x="745" y="351"/>
                  <a:pt x="745" y="350"/>
                  <a:pt x="745" y="348"/>
                </a:cubicBezTo>
                <a:cubicBezTo>
                  <a:pt x="745" y="350"/>
                  <a:pt x="745" y="351"/>
                  <a:pt x="746" y="352"/>
                </a:cubicBezTo>
                <a:cubicBezTo>
                  <a:pt x="746" y="352"/>
                  <a:pt x="746" y="352"/>
                  <a:pt x="746" y="352"/>
                </a:cubicBezTo>
                <a:moveTo>
                  <a:pt x="745" y="347"/>
                </a:moveTo>
                <a:cubicBezTo>
                  <a:pt x="745" y="346"/>
                  <a:pt x="745" y="344"/>
                  <a:pt x="745" y="343"/>
                </a:cubicBezTo>
                <a:cubicBezTo>
                  <a:pt x="745" y="345"/>
                  <a:pt x="745" y="347"/>
                  <a:pt x="745" y="348"/>
                </a:cubicBezTo>
                <a:cubicBezTo>
                  <a:pt x="745" y="348"/>
                  <a:pt x="745" y="348"/>
                  <a:pt x="745" y="347"/>
                </a:cubicBezTo>
                <a:moveTo>
                  <a:pt x="743" y="327"/>
                </a:moveTo>
                <a:cubicBezTo>
                  <a:pt x="743" y="321"/>
                  <a:pt x="743" y="321"/>
                  <a:pt x="743" y="321"/>
                </a:cubicBezTo>
                <a:cubicBezTo>
                  <a:pt x="743" y="324"/>
                  <a:pt x="743" y="326"/>
                  <a:pt x="743" y="329"/>
                </a:cubicBezTo>
                <a:cubicBezTo>
                  <a:pt x="743" y="328"/>
                  <a:pt x="743" y="327"/>
                  <a:pt x="743" y="327"/>
                </a:cubicBezTo>
                <a:moveTo>
                  <a:pt x="309" y="4"/>
                </a:moveTo>
                <a:cubicBezTo>
                  <a:pt x="309" y="5"/>
                  <a:pt x="309" y="5"/>
                  <a:pt x="309" y="5"/>
                </a:cubicBezTo>
                <a:cubicBezTo>
                  <a:pt x="313" y="4"/>
                  <a:pt x="313" y="4"/>
                  <a:pt x="313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12" y="4"/>
                  <a:pt x="311" y="4"/>
                  <a:pt x="309" y="4"/>
                </a:cubicBezTo>
                <a:moveTo>
                  <a:pt x="307" y="5"/>
                </a:moveTo>
                <a:cubicBezTo>
                  <a:pt x="304" y="5"/>
                  <a:pt x="304" y="5"/>
                  <a:pt x="304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6" y="5"/>
                  <a:pt x="306" y="5"/>
                  <a:pt x="307" y="5"/>
                </a:cubicBezTo>
                <a:moveTo>
                  <a:pt x="259" y="17"/>
                </a:moveTo>
                <a:cubicBezTo>
                  <a:pt x="259" y="17"/>
                  <a:pt x="258" y="17"/>
                  <a:pt x="258" y="17"/>
                </a:cubicBezTo>
                <a:cubicBezTo>
                  <a:pt x="258" y="17"/>
                  <a:pt x="259" y="17"/>
                  <a:pt x="259" y="17"/>
                </a:cubicBezTo>
                <a:moveTo>
                  <a:pt x="266" y="15"/>
                </a:moveTo>
                <a:cubicBezTo>
                  <a:pt x="267" y="14"/>
                  <a:pt x="267" y="14"/>
                  <a:pt x="268" y="14"/>
                </a:cubicBezTo>
                <a:cubicBezTo>
                  <a:pt x="268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6" y="15"/>
                </a:cubicBezTo>
                <a:moveTo>
                  <a:pt x="269" y="14"/>
                </a:move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67" y="14"/>
                  <a:pt x="267" y="14"/>
                  <a:pt x="266" y="15"/>
                </a:cubicBezTo>
                <a:cubicBezTo>
                  <a:pt x="269" y="14"/>
                  <a:pt x="269" y="14"/>
                  <a:pt x="269" y="14"/>
                </a:cubicBezTo>
                <a:moveTo>
                  <a:pt x="267" y="14"/>
                </a:moveTo>
                <a:cubicBezTo>
                  <a:pt x="268" y="14"/>
                  <a:pt x="268" y="14"/>
                  <a:pt x="268" y="14"/>
                </a:cubicBezTo>
                <a:cubicBezTo>
                  <a:pt x="269" y="14"/>
                  <a:pt x="269" y="14"/>
                  <a:pt x="270" y="13"/>
                </a:cubicBezTo>
                <a:cubicBezTo>
                  <a:pt x="269" y="14"/>
                  <a:pt x="268" y="14"/>
                  <a:pt x="268" y="14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7" y="14"/>
                  <a:pt x="267" y="14"/>
                  <a:pt x="267" y="14"/>
                </a:cubicBezTo>
                <a:moveTo>
                  <a:pt x="270" y="13"/>
                </a:moveTo>
                <a:cubicBezTo>
                  <a:pt x="274" y="12"/>
                  <a:pt x="274" y="12"/>
                  <a:pt x="274" y="12"/>
                </a:cubicBezTo>
                <a:cubicBezTo>
                  <a:pt x="274" y="12"/>
                  <a:pt x="274" y="12"/>
                  <a:pt x="274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5" y="12"/>
                  <a:pt x="275" y="12"/>
                  <a:pt x="275" y="12"/>
                </a:cubicBezTo>
                <a:cubicBezTo>
                  <a:pt x="273" y="13"/>
                  <a:pt x="272" y="13"/>
                  <a:pt x="270" y="13"/>
                </a:cubicBezTo>
                <a:cubicBezTo>
                  <a:pt x="269" y="14"/>
                  <a:pt x="269" y="14"/>
                  <a:pt x="268" y="14"/>
                </a:cubicBezTo>
                <a:cubicBezTo>
                  <a:pt x="270" y="13"/>
                  <a:pt x="270" y="13"/>
                  <a:pt x="270" y="13"/>
                </a:cubicBezTo>
                <a:moveTo>
                  <a:pt x="279" y="11"/>
                </a:moveTo>
                <a:cubicBezTo>
                  <a:pt x="279" y="11"/>
                  <a:pt x="279" y="11"/>
                  <a:pt x="279" y="11"/>
                </a:cubicBezTo>
                <a:cubicBezTo>
                  <a:pt x="280" y="11"/>
                  <a:pt x="281" y="11"/>
                  <a:pt x="281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3" y="10"/>
                  <a:pt x="283" y="10"/>
                  <a:pt x="283" y="10"/>
                </a:cubicBezTo>
                <a:cubicBezTo>
                  <a:pt x="282" y="10"/>
                  <a:pt x="281" y="10"/>
                  <a:pt x="280" y="11"/>
                </a:cubicBezTo>
                <a:cubicBezTo>
                  <a:pt x="280" y="11"/>
                  <a:pt x="280" y="11"/>
                  <a:pt x="280" y="11"/>
                </a:cubicBezTo>
                <a:cubicBezTo>
                  <a:pt x="279" y="11"/>
                  <a:pt x="279" y="11"/>
                  <a:pt x="279" y="11"/>
                </a:cubicBezTo>
                <a:moveTo>
                  <a:pt x="286" y="9"/>
                </a:moveTo>
                <a:cubicBezTo>
                  <a:pt x="287" y="9"/>
                  <a:pt x="287" y="9"/>
                  <a:pt x="287" y="9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moveTo>
                  <a:pt x="293" y="8"/>
                </a:moveTo>
                <a:cubicBezTo>
                  <a:pt x="294" y="7"/>
                  <a:pt x="294" y="7"/>
                  <a:pt x="294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2" y="8"/>
                  <a:pt x="292" y="8"/>
                </a:cubicBezTo>
                <a:cubicBezTo>
                  <a:pt x="292" y="8"/>
                  <a:pt x="291" y="8"/>
                  <a:pt x="291" y="8"/>
                </a:cubicBezTo>
                <a:cubicBezTo>
                  <a:pt x="293" y="8"/>
                  <a:pt x="293" y="8"/>
                  <a:pt x="293" y="8"/>
                </a:cubicBezTo>
                <a:moveTo>
                  <a:pt x="298" y="7"/>
                </a:move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298" y="7"/>
                  <a:pt x="298" y="7"/>
                  <a:pt x="298" y="7"/>
                </a:cubicBezTo>
                <a:moveTo>
                  <a:pt x="309" y="5"/>
                </a:moveTo>
                <a:cubicBezTo>
                  <a:pt x="314" y="4"/>
                  <a:pt x="314" y="4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4" y="4"/>
                  <a:pt x="313" y="4"/>
                  <a:pt x="312" y="4"/>
                </a:cubicBezTo>
                <a:cubicBezTo>
                  <a:pt x="311" y="4"/>
                  <a:pt x="311" y="4"/>
                  <a:pt x="311" y="4"/>
                </a:cubicBezTo>
                <a:cubicBezTo>
                  <a:pt x="308" y="5"/>
                  <a:pt x="308" y="5"/>
                  <a:pt x="308" y="5"/>
                </a:cubicBezTo>
                <a:cubicBezTo>
                  <a:pt x="309" y="5"/>
                  <a:pt x="309" y="5"/>
                  <a:pt x="309" y="5"/>
                </a:cubicBezTo>
                <a:moveTo>
                  <a:pt x="315" y="4"/>
                </a:move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4"/>
                  <a:pt x="315" y="4"/>
                  <a:pt x="315" y="4"/>
                </a:cubicBezTo>
                <a:moveTo>
                  <a:pt x="295" y="7"/>
                </a:moveTo>
                <a:cubicBezTo>
                  <a:pt x="295" y="7"/>
                  <a:pt x="295" y="7"/>
                  <a:pt x="295" y="7"/>
                </a:cubicBezTo>
                <a:cubicBezTo>
                  <a:pt x="295" y="7"/>
                  <a:pt x="295" y="7"/>
                  <a:pt x="294" y="8"/>
                </a:cubicBezTo>
                <a:cubicBezTo>
                  <a:pt x="295" y="7"/>
                  <a:pt x="295" y="7"/>
                  <a:pt x="295" y="7"/>
                </a:cubicBezTo>
                <a:moveTo>
                  <a:pt x="295" y="7"/>
                </a:moveTo>
                <a:cubicBezTo>
                  <a:pt x="296" y="7"/>
                  <a:pt x="296" y="7"/>
                  <a:pt x="296" y="7"/>
                </a:cubicBezTo>
                <a:cubicBezTo>
                  <a:pt x="298" y="7"/>
                  <a:pt x="298" y="7"/>
                  <a:pt x="298" y="7"/>
                </a:cubicBezTo>
                <a:cubicBezTo>
                  <a:pt x="301" y="6"/>
                  <a:pt x="301" y="6"/>
                  <a:pt x="301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2" y="6"/>
                  <a:pt x="300" y="6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5" y="7"/>
                  <a:pt x="295" y="7"/>
                  <a:pt x="295" y="7"/>
                </a:cubicBezTo>
                <a:moveTo>
                  <a:pt x="2" y="405"/>
                </a:moveTo>
                <a:cubicBezTo>
                  <a:pt x="2" y="405"/>
                  <a:pt x="2" y="405"/>
                  <a:pt x="2" y="405"/>
                </a:cubicBezTo>
                <a:cubicBezTo>
                  <a:pt x="2" y="406"/>
                  <a:pt x="2" y="406"/>
                  <a:pt x="2" y="406"/>
                </a:cubicBezTo>
                <a:cubicBezTo>
                  <a:pt x="2" y="405"/>
                  <a:pt x="2" y="405"/>
                  <a:pt x="2" y="405"/>
                </a:cubicBezTo>
                <a:moveTo>
                  <a:pt x="2" y="404"/>
                </a:moveTo>
                <a:cubicBezTo>
                  <a:pt x="2" y="403"/>
                  <a:pt x="2" y="402"/>
                  <a:pt x="1" y="401"/>
                </a:cubicBezTo>
                <a:cubicBezTo>
                  <a:pt x="2" y="401"/>
                  <a:pt x="2" y="401"/>
                  <a:pt x="2" y="402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4"/>
                  <a:pt x="2" y="404"/>
                  <a:pt x="2" y="404"/>
                </a:cubicBezTo>
                <a:moveTo>
                  <a:pt x="1" y="383"/>
                </a:moveTo>
                <a:cubicBezTo>
                  <a:pt x="1" y="385"/>
                  <a:pt x="1" y="386"/>
                  <a:pt x="1" y="388"/>
                </a:cubicBezTo>
                <a:cubicBezTo>
                  <a:pt x="1" y="392"/>
                  <a:pt x="1" y="395"/>
                  <a:pt x="1" y="398"/>
                </a:cubicBezTo>
                <a:cubicBezTo>
                  <a:pt x="1" y="399"/>
                  <a:pt x="1" y="399"/>
                  <a:pt x="1" y="399"/>
                </a:cubicBezTo>
                <a:cubicBezTo>
                  <a:pt x="1" y="394"/>
                  <a:pt x="1" y="388"/>
                  <a:pt x="1" y="383"/>
                </a:cubicBezTo>
                <a:moveTo>
                  <a:pt x="23" y="243"/>
                </a:moveTo>
                <a:cubicBezTo>
                  <a:pt x="24" y="240"/>
                  <a:pt x="26" y="236"/>
                  <a:pt x="27" y="232"/>
                </a:cubicBezTo>
                <a:cubicBezTo>
                  <a:pt x="26" y="235"/>
                  <a:pt x="25" y="237"/>
                  <a:pt x="25" y="239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23" y="243"/>
                  <a:pt x="23" y="243"/>
                  <a:pt x="23" y="243"/>
                </a:cubicBezTo>
                <a:moveTo>
                  <a:pt x="33" y="217"/>
                </a:moveTo>
                <a:cubicBezTo>
                  <a:pt x="33" y="218"/>
                  <a:pt x="33" y="218"/>
                  <a:pt x="33" y="219"/>
                </a:cubicBezTo>
                <a:cubicBezTo>
                  <a:pt x="31" y="224"/>
                  <a:pt x="29" y="228"/>
                  <a:pt x="27" y="232"/>
                </a:cubicBezTo>
                <a:cubicBezTo>
                  <a:pt x="26" y="236"/>
                  <a:pt x="24" y="240"/>
                  <a:pt x="23" y="243"/>
                </a:cubicBezTo>
                <a:cubicBezTo>
                  <a:pt x="27" y="232"/>
                  <a:pt x="29" y="227"/>
                  <a:pt x="33" y="217"/>
                </a:cubicBezTo>
                <a:moveTo>
                  <a:pt x="33" y="217"/>
                </a:moveTo>
                <a:cubicBezTo>
                  <a:pt x="33" y="217"/>
                  <a:pt x="33" y="217"/>
                  <a:pt x="33" y="217"/>
                </a:cubicBezTo>
                <a:cubicBezTo>
                  <a:pt x="33" y="218"/>
                  <a:pt x="33" y="218"/>
                  <a:pt x="33" y="218"/>
                </a:cubicBezTo>
                <a:cubicBezTo>
                  <a:pt x="33" y="219"/>
                  <a:pt x="33" y="219"/>
                  <a:pt x="33" y="219"/>
                </a:cubicBezTo>
                <a:cubicBezTo>
                  <a:pt x="33" y="218"/>
                  <a:pt x="33" y="218"/>
                  <a:pt x="33" y="217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8" y="189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47" y="190"/>
                </a:moveTo>
                <a:cubicBezTo>
                  <a:pt x="47" y="190"/>
                  <a:pt x="48" y="189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52" y="181"/>
                  <a:pt x="55" y="177"/>
                  <a:pt x="59" y="170"/>
                </a:cubicBezTo>
                <a:cubicBezTo>
                  <a:pt x="55" y="176"/>
                  <a:pt x="52" y="182"/>
                  <a:pt x="48" y="188"/>
                </a:cubicBezTo>
                <a:cubicBezTo>
                  <a:pt x="48" y="189"/>
                  <a:pt x="47" y="190"/>
                  <a:pt x="47" y="190"/>
                </a:cubicBezTo>
                <a:cubicBezTo>
                  <a:pt x="47" y="190"/>
                  <a:pt x="47" y="190"/>
                  <a:pt x="47" y="190"/>
                </a:cubicBezTo>
                <a:moveTo>
                  <a:pt x="135" y="87"/>
                </a:moveTo>
                <a:cubicBezTo>
                  <a:pt x="136" y="86"/>
                  <a:pt x="136" y="85"/>
                  <a:pt x="137" y="85"/>
                </a:cubicBezTo>
                <a:cubicBezTo>
                  <a:pt x="138" y="84"/>
                  <a:pt x="139" y="83"/>
                  <a:pt x="140" y="82"/>
                </a:cubicBezTo>
                <a:cubicBezTo>
                  <a:pt x="140" y="82"/>
                  <a:pt x="140" y="82"/>
                  <a:pt x="140" y="82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5" y="87"/>
                  <a:pt x="135" y="87"/>
                  <a:pt x="135" y="87"/>
                </a:cubicBezTo>
                <a:moveTo>
                  <a:pt x="140" y="81"/>
                </a:moveTo>
                <a:cubicBezTo>
                  <a:pt x="141" y="81"/>
                  <a:pt x="141" y="81"/>
                  <a:pt x="141" y="81"/>
                </a:cubicBezTo>
                <a:cubicBezTo>
                  <a:pt x="143" y="79"/>
                  <a:pt x="143" y="79"/>
                  <a:pt x="143" y="79"/>
                </a:cubicBezTo>
                <a:cubicBezTo>
                  <a:pt x="140" y="81"/>
                  <a:pt x="137" y="83"/>
                  <a:pt x="137" y="84"/>
                </a:cubicBezTo>
                <a:cubicBezTo>
                  <a:pt x="137" y="84"/>
                  <a:pt x="139" y="82"/>
                  <a:pt x="140" y="81"/>
                </a:cubicBezTo>
                <a:moveTo>
                  <a:pt x="231" y="28"/>
                </a:moveTo>
                <a:cubicBezTo>
                  <a:pt x="233" y="28"/>
                  <a:pt x="233" y="28"/>
                  <a:pt x="233" y="28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7" y="26"/>
                  <a:pt x="237" y="26"/>
                  <a:pt x="237" y="26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8"/>
                  <a:pt x="231" y="28"/>
                  <a:pt x="231" y="28"/>
                </a:cubicBezTo>
                <a:cubicBezTo>
                  <a:pt x="228" y="29"/>
                  <a:pt x="228" y="29"/>
                  <a:pt x="228" y="29"/>
                </a:cubicBezTo>
                <a:cubicBezTo>
                  <a:pt x="228" y="30"/>
                  <a:pt x="228" y="30"/>
                  <a:pt x="228" y="30"/>
                </a:cubicBezTo>
                <a:cubicBezTo>
                  <a:pt x="231" y="28"/>
                  <a:pt x="231" y="28"/>
                  <a:pt x="231" y="28"/>
                </a:cubicBezTo>
                <a:moveTo>
                  <a:pt x="695" y="448"/>
                </a:moveTo>
                <a:cubicBezTo>
                  <a:pt x="695" y="447"/>
                  <a:pt x="695" y="446"/>
                  <a:pt x="695" y="445"/>
                </a:cubicBezTo>
                <a:cubicBezTo>
                  <a:pt x="695" y="445"/>
                  <a:pt x="695" y="444"/>
                  <a:pt x="695" y="444"/>
                </a:cubicBezTo>
                <a:cubicBezTo>
                  <a:pt x="695" y="443"/>
                  <a:pt x="696" y="443"/>
                  <a:pt x="696" y="443"/>
                </a:cubicBezTo>
                <a:cubicBezTo>
                  <a:pt x="696" y="443"/>
                  <a:pt x="696" y="440"/>
                  <a:pt x="694" y="436"/>
                </a:cubicBezTo>
                <a:cubicBezTo>
                  <a:pt x="694" y="436"/>
                  <a:pt x="694" y="436"/>
                  <a:pt x="694" y="433"/>
                </a:cubicBezTo>
                <a:cubicBezTo>
                  <a:pt x="694" y="432"/>
                  <a:pt x="694" y="432"/>
                  <a:pt x="694" y="432"/>
                </a:cubicBezTo>
                <a:cubicBezTo>
                  <a:pt x="693" y="433"/>
                  <a:pt x="693" y="433"/>
                  <a:pt x="693" y="433"/>
                </a:cubicBezTo>
                <a:cubicBezTo>
                  <a:pt x="692" y="435"/>
                  <a:pt x="692" y="435"/>
                  <a:pt x="692" y="435"/>
                </a:cubicBezTo>
                <a:cubicBezTo>
                  <a:pt x="692" y="435"/>
                  <a:pt x="692" y="437"/>
                  <a:pt x="692" y="438"/>
                </a:cubicBezTo>
                <a:cubicBezTo>
                  <a:pt x="692" y="438"/>
                  <a:pt x="692" y="438"/>
                  <a:pt x="692" y="439"/>
                </a:cubicBezTo>
                <a:cubicBezTo>
                  <a:pt x="692" y="439"/>
                  <a:pt x="692" y="439"/>
                  <a:pt x="692" y="439"/>
                </a:cubicBezTo>
                <a:cubicBezTo>
                  <a:pt x="692" y="440"/>
                  <a:pt x="692" y="441"/>
                  <a:pt x="692" y="441"/>
                </a:cubicBezTo>
                <a:cubicBezTo>
                  <a:pt x="691" y="444"/>
                  <a:pt x="691" y="444"/>
                  <a:pt x="691" y="444"/>
                </a:cubicBezTo>
                <a:cubicBezTo>
                  <a:pt x="690" y="447"/>
                  <a:pt x="690" y="449"/>
                  <a:pt x="690" y="450"/>
                </a:cubicBezTo>
                <a:cubicBezTo>
                  <a:pt x="690" y="451"/>
                  <a:pt x="691" y="453"/>
                  <a:pt x="691" y="453"/>
                </a:cubicBezTo>
                <a:cubicBezTo>
                  <a:pt x="692" y="453"/>
                  <a:pt x="692" y="453"/>
                  <a:pt x="694" y="453"/>
                </a:cubicBezTo>
                <a:cubicBezTo>
                  <a:pt x="694" y="451"/>
                  <a:pt x="695" y="449"/>
                  <a:pt x="695" y="448"/>
                </a:cubicBezTo>
                <a:moveTo>
                  <a:pt x="711" y="529"/>
                </a:moveTo>
                <a:cubicBezTo>
                  <a:pt x="714" y="522"/>
                  <a:pt x="714" y="522"/>
                  <a:pt x="714" y="522"/>
                </a:cubicBezTo>
                <a:cubicBezTo>
                  <a:pt x="714" y="522"/>
                  <a:pt x="715" y="520"/>
                  <a:pt x="715" y="520"/>
                </a:cubicBezTo>
                <a:cubicBezTo>
                  <a:pt x="714" y="521"/>
                  <a:pt x="713" y="521"/>
                  <a:pt x="712" y="522"/>
                </a:cubicBezTo>
                <a:cubicBezTo>
                  <a:pt x="712" y="522"/>
                  <a:pt x="712" y="522"/>
                  <a:pt x="711" y="523"/>
                </a:cubicBezTo>
                <a:cubicBezTo>
                  <a:pt x="712" y="523"/>
                  <a:pt x="712" y="523"/>
                  <a:pt x="712" y="523"/>
                </a:cubicBezTo>
                <a:cubicBezTo>
                  <a:pt x="711" y="524"/>
                  <a:pt x="711" y="525"/>
                  <a:pt x="711" y="525"/>
                </a:cubicBezTo>
                <a:cubicBezTo>
                  <a:pt x="711" y="525"/>
                  <a:pt x="711" y="525"/>
                  <a:pt x="711" y="525"/>
                </a:cubicBezTo>
                <a:cubicBezTo>
                  <a:pt x="711" y="526"/>
                  <a:pt x="711" y="526"/>
                  <a:pt x="710" y="527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0" y="528"/>
                  <a:pt x="710" y="528"/>
                </a:cubicBezTo>
                <a:cubicBezTo>
                  <a:pt x="710" y="528"/>
                  <a:pt x="711" y="527"/>
                  <a:pt x="711" y="527"/>
                </a:cubicBezTo>
                <a:cubicBezTo>
                  <a:pt x="711" y="527"/>
                  <a:pt x="711" y="526"/>
                  <a:pt x="712" y="527"/>
                </a:cubicBezTo>
                <a:cubicBezTo>
                  <a:pt x="711" y="527"/>
                  <a:pt x="711" y="528"/>
                  <a:pt x="711" y="529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8"/>
                  <a:pt x="711" y="528"/>
                  <a:pt x="711" y="528"/>
                </a:cubicBezTo>
                <a:cubicBezTo>
                  <a:pt x="711" y="529"/>
                  <a:pt x="710" y="530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1"/>
                  <a:pt x="710" y="531"/>
                  <a:pt x="710" y="531"/>
                </a:cubicBezTo>
                <a:cubicBezTo>
                  <a:pt x="710" y="530"/>
                  <a:pt x="710" y="530"/>
                  <a:pt x="711" y="529"/>
                </a:cubicBezTo>
                <a:moveTo>
                  <a:pt x="712" y="517"/>
                </a:moveTo>
                <a:cubicBezTo>
                  <a:pt x="712" y="517"/>
                  <a:pt x="712" y="516"/>
                  <a:pt x="712" y="516"/>
                </a:cubicBezTo>
                <a:cubicBezTo>
                  <a:pt x="712" y="515"/>
                  <a:pt x="712" y="515"/>
                  <a:pt x="712" y="515"/>
                </a:cubicBezTo>
                <a:cubicBezTo>
                  <a:pt x="713" y="515"/>
                  <a:pt x="713" y="514"/>
                  <a:pt x="713" y="514"/>
                </a:cubicBezTo>
                <a:cubicBezTo>
                  <a:pt x="713" y="514"/>
                  <a:pt x="713" y="515"/>
                  <a:pt x="712" y="515"/>
                </a:cubicBezTo>
                <a:cubicBezTo>
                  <a:pt x="712" y="515"/>
                  <a:pt x="712" y="516"/>
                  <a:pt x="712" y="516"/>
                </a:cubicBezTo>
                <a:cubicBezTo>
                  <a:pt x="712" y="517"/>
                  <a:pt x="712" y="517"/>
                  <a:pt x="712" y="517"/>
                </a:cubicBezTo>
                <a:moveTo>
                  <a:pt x="728" y="487"/>
                </a:moveTo>
                <a:cubicBezTo>
                  <a:pt x="734" y="465"/>
                  <a:pt x="734" y="465"/>
                  <a:pt x="734" y="465"/>
                </a:cubicBezTo>
                <a:cubicBezTo>
                  <a:pt x="733" y="469"/>
                  <a:pt x="733" y="469"/>
                  <a:pt x="733" y="469"/>
                </a:cubicBezTo>
                <a:cubicBezTo>
                  <a:pt x="732" y="471"/>
                  <a:pt x="732" y="473"/>
                  <a:pt x="731" y="475"/>
                </a:cubicBezTo>
                <a:cubicBezTo>
                  <a:pt x="731" y="476"/>
                  <a:pt x="731" y="476"/>
                  <a:pt x="731" y="476"/>
                </a:cubicBezTo>
                <a:cubicBezTo>
                  <a:pt x="731" y="475"/>
                  <a:pt x="731" y="475"/>
                  <a:pt x="731" y="474"/>
                </a:cubicBezTo>
                <a:cubicBezTo>
                  <a:pt x="731" y="473"/>
                  <a:pt x="731" y="473"/>
                  <a:pt x="731" y="473"/>
                </a:cubicBezTo>
                <a:cubicBezTo>
                  <a:pt x="731" y="474"/>
                  <a:pt x="731" y="474"/>
                  <a:pt x="731" y="474"/>
                </a:cubicBezTo>
                <a:cubicBezTo>
                  <a:pt x="728" y="480"/>
                  <a:pt x="727" y="486"/>
                  <a:pt x="725" y="493"/>
                </a:cubicBezTo>
                <a:cubicBezTo>
                  <a:pt x="725" y="493"/>
                  <a:pt x="725" y="493"/>
                  <a:pt x="725" y="493"/>
                </a:cubicBezTo>
                <a:cubicBezTo>
                  <a:pt x="725" y="494"/>
                  <a:pt x="725" y="494"/>
                  <a:pt x="725" y="494"/>
                </a:cubicBezTo>
                <a:cubicBezTo>
                  <a:pt x="723" y="498"/>
                  <a:pt x="723" y="498"/>
                  <a:pt x="722" y="501"/>
                </a:cubicBezTo>
                <a:cubicBezTo>
                  <a:pt x="722" y="504"/>
                  <a:pt x="721" y="504"/>
                  <a:pt x="721" y="504"/>
                </a:cubicBezTo>
                <a:cubicBezTo>
                  <a:pt x="722" y="504"/>
                  <a:pt x="722" y="504"/>
                  <a:pt x="722" y="504"/>
                </a:cubicBezTo>
                <a:cubicBezTo>
                  <a:pt x="728" y="487"/>
                  <a:pt x="728" y="487"/>
                  <a:pt x="728" y="487"/>
                </a:cubicBezTo>
                <a:moveTo>
                  <a:pt x="714" y="506"/>
                </a:moveTo>
                <a:cubicBezTo>
                  <a:pt x="715" y="505"/>
                  <a:pt x="715" y="503"/>
                  <a:pt x="716" y="502"/>
                </a:cubicBezTo>
                <a:cubicBezTo>
                  <a:pt x="716" y="501"/>
                  <a:pt x="716" y="501"/>
                  <a:pt x="716" y="501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500"/>
                  <a:pt x="716" y="500"/>
                </a:cubicBezTo>
                <a:cubicBezTo>
                  <a:pt x="716" y="500"/>
                  <a:pt x="716" y="499"/>
                  <a:pt x="716" y="496"/>
                </a:cubicBezTo>
                <a:cubicBezTo>
                  <a:pt x="718" y="491"/>
                  <a:pt x="718" y="491"/>
                  <a:pt x="718" y="491"/>
                </a:cubicBezTo>
                <a:cubicBezTo>
                  <a:pt x="715" y="496"/>
                  <a:pt x="715" y="502"/>
                  <a:pt x="715" y="503"/>
                </a:cubicBezTo>
                <a:cubicBezTo>
                  <a:pt x="715" y="503"/>
                  <a:pt x="715" y="503"/>
                  <a:pt x="715" y="504"/>
                </a:cubicBezTo>
                <a:cubicBezTo>
                  <a:pt x="714" y="505"/>
                  <a:pt x="714" y="506"/>
                  <a:pt x="714" y="506"/>
                </a:cubicBezTo>
                <a:cubicBezTo>
                  <a:pt x="714" y="506"/>
                  <a:pt x="714" y="506"/>
                  <a:pt x="714" y="506"/>
                </a:cubicBezTo>
                <a:moveTo>
                  <a:pt x="719" y="481"/>
                </a:moveTo>
                <a:cubicBezTo>
                  <a:pt x="719" y="480"/>
                  <a:pt x="719" y="480"/>
                  <a:pt x="719" y="480"/>
                </a:cubicBezTo>
                <a:cubicBezTo>
                  <a:pt x="719" y="480"/>
                  <a:pt x="719" y="480"/>
                  <a:pt x="719" y="481"/>
                </a:cubicBezTo>
                <a:cubicBezTo>
                  <a:pt x="719" y="481"/>
                  <a:pt x="719" y="481"/>
                  <a:pt x="719" y="481"/>
                </a:cubicBezTo>
                <a:moveTo>
                  <a:pt x="719" y="485"/>
                </a:moveTo>
                <a:cubicBezTo>
                  <a:pt x="719" y="484"/>
                  <a:pt x="719" y="484"/>
                  <a:pt x="719" y="484"/>
                </a:cubicBezTo>
                <a:cubicBezTo>
                  <a:pt x="719" y="483"/>
                  <a:pt x="719" y="482"/>
                  <a:pt x="719" y="482"/>
                </a:cubicBezTo>
                <a:cubicBezTo>
                  <a:pt x="720" y="479"/>
                  <a:pt x="720" y="479"/>
                  <a:pt x="720" y="479"/>
                </a:cubicBezTo>
                <a:cubicBezTo>
                  <a:pt x="719" y="478"/>
                  <a:pt x="719" y="478"/>
                  <a:pt x="719" y="478"/>
                </a:cubicBezTo>
                <a:cubicBezTo>
                  <a:pt x="719" y="479"/>
                  <a:pt x="719" y="479"/>
                  <a:pt x="719" y="479"/>
                </a:cubicBezTo>
                <a:cubicBezTo>
                  <a:pt x="719" y="480"/>
                  <a:pt x="719" y="480"/>
                  <a:pt x="719" y="482"/>
                </a:cubicBezTo>
                <a:cubicBezTo>
                  <a:pt x="719" y="485"/>
                  <a:pt x="719" y="485"/>
                  <a:pt x="718" y="486"/>
                </a:cubicBezTo>
                <a:cubicBezTo>
                  <a:pt x="719" y="485"/>
                  <a:pt x="719" y="485"/>
                  <a:pt x="719" y="485"/>
                </a:cubicBezTo>
                <a:moveTo>
                  <a:pt x="720" y="475"/>
                </a:moveTo>
                <a:cubicBezTo>
                  <a:pt x="720" y="475"/>
                  <a:pt x="720" y="474"/>
                  <a:pt x="720" y="474"/>
                </a:cubicBezTo>
                <a:cubicBezTo>
                  <a:pt x="720" y="473"/>
                  <a:pt x="720" y="473"/>
                  <a:pt x="720" y="473"/>
                </a:cubicBezTo>
                <a:cubicBezTo>
                  <a:pt x="720" y="472"/>
                  <a:pt x="720" y="471"/>
                  <a:pt x="720" y="471"/>
                </a:cubicBezTo>
                <a:cubicBezTo>
                  <a:pt x="720" y="470"/>
                  <a:pt x="720" y="470"/>
                  <a:pt x="720" y="470"/>
                </a:cubicBezTo>
                <a:cubicBezTo>
                  <a:pt x="720" y="470"/>
                  <a:pt x="720" y="471"/>
                  <a:pt x="720" y="471"/>
                </a:cubicBezTo>
                <a:cubicBezTo>
                  <a:pt x="720" y="472"/>
                  <a:pt x="720" y="472"/>
                  <a:pt x="719" y="473"/>
                </a:cubicBezTo>
                <a:cubicBezTo>
                  <a:pt x="719" y="474"/>
                  <a:pt x="719" y="474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19" y="475"/>
                  <a:pt x="719" y="475"/>
                  <a:pt x="719" y="475"/>
                </a:cubicBezTo>
                <a:cubicBezTo>
                  <a:pt x="720" y="475"/>
                  <a:pt x="720" y="475"/>
                  <a:pt x="720" y="475"/>
                </a:cubicBezTo>
                <a:moveTo>
                  <a:pt x="721" y="502"/>
                </a:moveTo>
                <a:cubicBezTo>
                  <a:pt x="721" y="502"/>
                  <a:pt x="723" y="495"/>
                  <a:pt x="723" y="494"/>
                </a:cubicBezTo>
                <a:cubicBezTo>
                  <a:pt x="722" y="495"/>
                  <a:pt x="722" y="495"/>
                  <a:pt x="721" y="497"/>
                </a:cubicBezTo>
                <a:cubicBezTo>
                  <a:pt x="721" y="497"/>
                  <a:pt x="721" y="497"/>
                  <a:pt x="721" y="497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3" y="492"/>
                  <a:pt x="723" y="492"/>
                  <a:pt x="723" y="492"/>
                </a:cubicBezTo>
                <a:cubicBezTo>
                  <a:pt x="722" y="491"/>
                  <a:pt x="722" y="491"/>
                  <a:pt x="722" y="491"/>
                </a:cubicBezTo>
                <a:cubicBezTo>
                  <a:pt x="723" y="490"/>
                  <a:pt x="723" y="489"/>
                  <a:pt x="723" y="488"/>
                </a:cubicBezTo>
                <a:cubicBezTo>
                  <a:pt x="724" y="486"/>
                  <a:pt x="724" y="484"/>
                  <a:pt x="725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2"/>
                  <a:pt x="724" y="482"/>
                  <a:pt x="724" y="482"/>
                </a:cubicBezTo>
                <a:cubicBezTo>
                  <a:pt x="724" y="480"/>
                  <a:pt x="725" y="477"/>
                  <a:pt x="726" y="474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5" y="475"/>
                  <a:pt x="725" y="475"/>
                </a:cubicBezTo>
                <a:cubicBezTo>
                  <a:pt x="725" y="475"/>
                  <a:pt x="724" y="474"/>
                  <a:pt x="725" y="473"/>
                </a:cubicBezTo>
                <a:cubicBezTo>
                  <a:pt x="725" y="472"/>
                  <a:pt x="725" y="472"/>
                  <a:pt x="725" y="472"/>
                </a:cubicBezTo>
                <a:cubicBezTo>
                  <a:pt x="725" y="471"/>
                  <a:pt x="725" y="464"/>
                  <a:pt x="725" y="461"/>
                </a:cubicBezTo>
                <a:cubicBezTo>
                  <a:pt x="725" y="461"/>
                  <a:pt x="725" y="461"/>
                  <a:pt x="725" y="457"/>
                </a:cubicBezTo>
                <a:cubicBezTo>
                  <a:pt x="725" y="457"/>
                  <a:pt x="724" y="458"/>
                  <a:pt x="724" y="458"/>
                </a:cubicBezTo>
                <a:cubicBezTo>
                  <a:pt x="724" y="458"/>
                  <a:pt x="723" y="456"/>
                  <a:pt x="723" y="455"/>
                </a:cubicBezTo>
                <a:cubicBezTo>
                  <a:pt x="722" y="455"/>
                  <a:pt x="722" y="456"/>
                  <a:pt x="722" y="458"/>
                </a:cubicBezTo>
                <a:cubicBezTo>
                  <a:pt x="722" y="461"/>
                  <a:pt x="722" y="461"/>
                  <a:pt x="722" y="465"/>
                </a:cubicBezTo>
                <a:cubicBezTo>
                  <a:pt x="723" y="468"/>
                  <a:pt x="721" y="470"/>
                  <a:pt x="721" y="473"/>
                </a:cubicBezTo>
                <a:cubicBezTo>
                  <a:pt x="721" y="473"/>
                  <a:pt x="721" y="473"/>
                  <a:pt x="721" y="473"/>
                </a:cubicBezTo>
                <a:cubicBezTo>
                  <a:pt x="722" y="474"/>
                  <a:pt x="722" y="474"/>
                  <a:pt x="722" y="474"/>
                </a:cubicBezTo>
                <a:cubicBezTo>
                  <a:pt x="722" y="475"/>
                  <a:pt x="721" y="478"/>
                  <a:pt x="721" y="481"/>
                </a:cubicBezTo>
                <a:cubicBezTo>
                  <a:pt x="721" y="481"/>
                  <a:pt x="720" y="481"/>
                  <a:pt x="720" y="482"/>
                </a:cubicBezTo>
                <a:cubicBezTo>
                  <a:pt x="720" y="485"/>
                  <a:pt x="720" y="488"/>
                  <a:pt x="719" y="491"/>
                </a:cubicBezTo>
                <a:cubicBezTo>
                  <a:pt x="719" y="494"/>
                  <a:pt x="718" y="497"/>
                  <a:pt x="717" y="500"/>
                </a:cubicBezTo>
                <a:cubicBezTo>
                  <a:pt x="716" y="506"/>
                  <a:pt x="715" y="512"/>
                  <a:pt x="713" y="517"/>
                </a:cubicBezTo>
                <a:cubicBezTo>
                  <a:pt x="714" y="516"/>
                  <a:pt x="715" y="515"/>
                  <a:pt x="715" y="514"/>
                </a:cubicBezTo>
                <a:cubicBezTo>
                  <a:pt x="715" y="514"/>
                  <a:pt x="716" y="513"/>
                  <a:pt x="716" y="513"/>
                </a:cubicBezTo>
                <a:cubicBezTo>
                  <a:pt x="716" y="513"/>
                  <a:pt x="718" y="508"/>
                  <a:pt x="719" y="506"/>
                </a:cubicBezTo>
                <a:cubicBezTo>
                  <a:pt x="719" y="506"/>
                  <a:pt x="719" y="506"/>
                  <a:pt x="719" y="505"/>
                </a:cubicBezTo>
                <a:cubicBezTo>
                  <a:pt x="720" y="503"/>
                  <a:pt x="720" y="503"/>
                  <a:pt x="720" y="503"/>
                </a:cubicBezTo>
                <a:cubicBezTo>
                  <a:pt x="720" y="504"/>
                  <a:pt x="720" y="504"/>
                  <a:pt x="720" y="504"/>
                </a:cubicBezTo>
                <a:cubicBezTo>
                  <a:pt x="720" y="503"/>
                  <a:pt x="720" y="503"/>
                  <a:pt x="721" y="502"/>
                </a:cubicBezTo>
                <a:moveTo>
                  <a:pt x="482" y="16"/>
                </a:moveTo>
                <a:cubicBezTo>
                  <a:pt x="480" y="15"/>
                  <a:pt x="479" y="15"/>
                  <a:pt x="479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80" y="15"/>
                  <a:pt x="480" y="15"/>
                  <a:pt x="481" y="15"/>
                </a:cubicBezTo>
                <a:cubicBezTo>
                  <a:pt x="481" y="15"/>
                  <a:pt x="481" y="15"/>
                  <a:pt x="481" y="15"/>
                </a:cubicBezTo>
                <a:cubicBezTo>
                  <a:pt x="481" y="16"/>
                  <a:pt x="482" y="16"/>
                  <a:pt x="482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3" y="16"/>
                  <a:pt x="483" y="16"/>
                </a:cubicBezTo>
                <a:cubicBezTo>
                  <a:pt x="483" y="16"/>
                  <a:pt x="482" y="16"/>
                  <a:pt x="482" y="16"/>
                </a:cubicBezTo>
                <a:moveTo>
                  <a:pt x="492" y="21"/>
                </a:moveTo>
                <a:cubicBezTo>
                  <a:pt x="492" y="20"/>
                  <a:pt x="488" y="19"/>
                  <a:pt x="488" y="19"/>
                </a:cubicBezTo>
                <a:cubicBezTo>
                  <a:pt x="488" y="19"/>
                  <a:pt x="488" y="19"/>
                  <a:pt x="488" y="19"/>
                </a:cubicBezTo>
                <a:cubicBezTo>
                  <a:pt x="489" y="20"/>
                  <a:pt x="490" y="20"/>
                  <a:pt x="490" y="20"/>
                </a:cubicBezTo>
                <a:cubicBezTo>
                  <a:pt x="491" y="20"/>
                  <a:pt x="491" y="20"/>
                  <a:pt x="491" y="21"/>
                </a:cubicBezTo>
                <a:cubicBezTo>
                  <a:pt x="491" y="20"/>
                  <a:pt x="491" y="20"/>
                  <a:pt x="491" y="20"/>
                </a:cubicBezTo>
                <a:cubicBezTo>
                  <a:pt x="491" y="20"/>
                  <a:pt x="492" y="21"/>
                  <a:pt x="492" y="21"/>
                </a:cubicBezTo>
                <a:cubicBezTo>
                  <a:pt x="492" y="21"/>
                  <a:pt x="492" y="21"/>
                  <a:pt x="492" y="21"/>
                </a:cubicBezTo>
                <a:moveTo>
                  <a:pt x="476" y="14"/>
                </a:moveTo>
                <a:cubicBezTo>
                  <a:pt x="475" y="14"/>
                  <a:pt x="475" y="14"/>
                  <a:pt x="474" y="14"/>
                </a:cubicBezTo>
                <a:cubicBezTo>
                  <a:pt x="474" y="13"/>
                  <a:pt x="473" y="13"/>
                  <a:pt x="473" y="13"/>
                </a:cubicBezTo>
                <a:cubicBezTo>
                  <a:pt x="473" y="13"/>
                  <a:pt x="473" y="13"/>
                  <a:pt x="473" y="13"/>
                </a:cubicBezTo>
                <a:cubicBezTo>
                  <a:pt x="469" y="12"/>
                  <a:pt x="468" y="12"/>
                  <a:pt x="467" y="12"/>
                </a:cubicBezTo>
                <a:cubicBezTo>
                  <a:pt x="468" y="12"/>
                  <a:pt x="469" y="12"/>
                  <a:pt x="469" y="12"/>
                </a:cubicBezTo>
                <a:cubicBezTo>
                  <a:pt x="469" y="12"/>
                  <a:pt x="469" y="12"/>
                  <a:pt x="469" y="12"/>
                </a:cubicBezTo>
                <a:cubicBezTo>
                  <a:pt x="467" y="12"/>
                  <a:pt x="465" y="11"/>
                  <a:pt x="463" y="11"/>
                </a:cubicBezTo>
                <a:cubicBezTo>
                  <a:pt x="463" y="11"/>
                  <a:pt x="463" y="11"/>
                  <a:pt x="463" y="11"/>
                </a:cubicBezTo>
                <a:cubicBezTo>
                  <a:pt x="465" y="12"/>
                  <a:pt x="468" y="12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82" y="17"/>
                  <a:pt x="482" y="17"/>
                  <a:pt x="483" y="17"/>
                </a:cubicBezTo>
                <a:cubicBezTo>
                  <a:pt x="482" y="16"/>
                  <a:pt x="480" y="16"/>
                  <a:pt x="479" y="15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80" y="16"/>
                  <a:pt x="480" y="16"/>
                  <a:pt x="480" y="16"/>
                </a:cubicBezTo>
                <a:cubicBezTo>
                  <a:pt x="479" y="15"/>
                  <a:pt x="479" y="15"/>
                  <a:pt x="478" y="15"/>
                </a:cubicBezTo>
                <a:cubicBezTo>
                  <a:pt x="479" y="15"/>
                  <a:pt x="479" y="15"/>
                  <a:pt x="479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8" y="15"/>
                  <a:pt x="478" y="15"/>
                </a:cubicBezTo>
                <a:cubicBezTo>
                  <a:pt x="478" y="15"/>
                  <a:pt x="477" y="14"/>
                  <a:pt x="476" y="14"/>
                </a:cubicBezTo>
                <a:moveTo>
                  <a:pt x="460" y="10"/>
                </a:moveTo>
                <a:cubicBezTo>
                  <a:pt x="455" y="9"/>
                  <a:pt x="455" y="9"/>
                  <a:pt x="455" y="9"/>
                </a:cubicBezTo>
                <a:cubicBezTo>
                  <a:pt x="455" y="9"/>
                  <a:pt x="456" y="9"/>
                  <a:pt x="457" y="10"/>
                </a:cubicBezTo>
                <a:cubicBezTo>
                  <a:pt x="457" y="10"/>
                  <a:pt x="457" y="10"/>
                  <a:pt x="455" y="9"/>
                </a:cubicBezTo>
                <a:cubicBezTo>
                  <a:pt x="454" y="9"/>
                  <a:pt x="454" y="9"/>
                  <a:pt x="453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9"/>
                  <a:pt x="455" y="9"/>
                  <a:pt x="456" y="10"/>
                </a:cubicBezTo>
                <a:cubicBezTo>
                  <a:pt x="455" y="10"/>
                  <a:pt x="455" y="10"/>
                  <a:pt x="455" y="10"/>
                </a:cubicBezTo>
                <a:cubicBezTo>
                  <a:pt x="456" y="10"/>
                  <a:pt x="457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1" y="11"/>
                  <a:pt x="461" y="11"/>
                  <a:pt x="461" y="11"/>
                </a:cubicBezTo>
                <a:cubicBezTo>
                  <a:pt x="462" y="11"/>
                  <a:pt x="462" y="11"/>
                  <a:pt x="466" y="13"/>
                </a:cubicBezTo>
                <a:cubicBezTo>
                  <a:pt x="467" y="13"/>
                  <a:pt x="467" y="13"/>
                  <a:pt x="467" y="13"/>
                </a:cubicBezTo>
                <a:cubicBezTo>
                  <a:pt x="468" y="13"/>
                  <a:pt x="469" y="13"/>
                  <a:pt x="470" y="13"/>
                </a:cubicBezTo>
                <a:cubicBezTo>
                  <a:pt x="470" y="13"/>
                  <a:pt x="470" y="13"/>
                  <a:pt x="470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1" y="13"/>
                  <a:pt x="471" y="13"/>
                  <a:pt x="471" y="13"/>
                </a:cubicBezTo>
                <a:cubicBezTo>
                  <a:pt x="470" y="13"/>
                  <a:pt x="470" y="13"/>
                  <a:pt x="469" y="13"/>
                </a:cubicBezTo>
                <a:cubicBezTo>
                  <a:pt x="468" y="12"/>
                  <a:pt x="467" y="12"/>
                  <a:pt x="466" y="12"/>
                </a:cubicBezTo>
                <a:cubicBezTo>
                  <a:pt x="464" y="12"/>
                  <a:pt x="462" y="11"/>
                  <a:pt x="460" y="10"/>
                </a:cubicBezTo>
                <a:moveTo>
                  <a:pt x="445" y="7"/>
                </a:moveTo>
                <a:cubicBezTo>
                  <a:pt x="444" y="7"/>
                  <a:pt x="444" y="7"/>
                  <a:pt x="444" y="7"/>
                </a:cubicBezTo>
                <a:cubicBezTo>
                  <a:pt x="444" y="7"/>
                  <a:pt x="444" y="7"/>
                  <a:pt x="444" y="7"/>
                </a:cubicBezTo>
                <a:cubicBezTo>
                  <a:pt x="443" y="7"/>
                  <a:pt x="443" y="7"/>
                  <a:pt x="443" y="7"/>
                </a:cubicBezTo>
                <a:cubicBezTo>
                  <a:pt x="440" y="6"/>
                  <a:pt x="439" y="6"/>
                  <a:pt x="438" y="6"/>
                </a:cubicBezTo>
                <a:cubicBezTo>
                  <a:pt x="440" y="6"/>
                  <a:pt x="441" y="6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4" y="7"/>
                  <a:pt x="445" y="7"/>
                  <a:pt x="447" y="8"/>
                </a:cubicBezTo>
                <a:cubicBezTo>
                  <a:pt x="447" y="8"/>
                  <a:pt x="447" y="8"/>
                  <a:pt x="447" y="8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0" y="9"/>
                  <a:pt x="450" y="9"/>
                  <a:pt x="450" y="9"/>
                </a:cubicBezTo>
                <a:cubicBezTo>
                  <a:pt x="451" y="9"/>
                  <a:pt x="452" y="9"/>
                  <a:pt x="452" y="9"/>
                </a:cubicBezTo>
                <a:cubicBezTo>
                  <a:pt x="454" y="9"/>
                  <a:pt x="454" y="9"/>
                  <a:pt x="454" y="9"/>
                </a:cubicBezTo>
                <a:cubicBezTo>
                  <a:pt x="454" y="9"/>
                  <a:pt x="453" y="9"/>
                  <a:pt x="452" y="9"/>
                </a:cubicBezTo>
                <a:cubicBezTo>
                  <a:pt x="453" y="9"/>
                  <a:pt x="453" y="9"/>
                  <a:pt x="453" y="9"/>
                </a:cubicBezTo>
                <a:cubicBezTo>
                  <a:pt x="452" y="9"/>
                  <a:pt x="452" y="9"/>
                  <a:pt x="451" y="9"/>
                </a:cubicBezTo>
                <a:cubicBezTo>
                  <a:pt x="451" y="8"/>
                  <a:pt x="451" y="8"/>
                  <a:pt x="451" y="8"/>
                </a:cubicBezTo>
                <a:cubicBezTo>
                  <a:pt x="451" y="8"/>
                  <a:pt x="451" y="8"/>
                  <a:pt x="449" y="8"/>
                </a:cubicBezTo>
                <a:cubicBezTo>
                  <a:pt x="448" y="8"/>
                  <a:pt x="447" y="7"/>
                  <a:pt x="446" y="7"/>
                </a:cubicBezTo>
                <a:cubicBezTo>
                  <a:pt x="446" y="7"/>
                  <a:pt x="446" y="7"/>
                  <a:pt x="446" y="7"/>
                </a:cubicBezTo>
                <a:cubicBezTo>
                  <a:pt x="446" y="7"/>
                  <a:pt x="445" y="7"/>
                  <a:pt x="445" y="7"/>
                </a:cubicBezTo>
                <a:moveTo>
                  <a:pt x="459" y="11"/>
                </a:moveTo>
                <a:cubicBezTo>
                  <a:pt x="458" y="10"/>
                  <a:pt x="458" y="10"/>
                  <a:pt x="458" y="10"/>
                </a:cubicBezTo>
                <a:cubicBezTo>
                  <a:pt x="457" y="10"/>
                  <a:pt x="457" y="10"/>
                  <a:pt x="457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6" y="10"/>
                  <a:pt x="456" y="10"/>
                  <a:pt x="456" y="10"/>
                </a:cubicBezTo>
                <a:cubicBezTo>
                  <a:pt x="455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3" y="9"/>
                  <a:pt x="453" y="9"/>
                  <a:pt x="453" y="9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4" y="10"/>
                  <a:pt x="454" y="10"/>
                  <a:pt x="454" y="10"/>
                </a:cubicBezTo>
                <a:cubicBezTo>
                  <a:pt x="457" y="10"/>
                  <a:pt x="457" y="10"/>
                  <a:pt x="458" y="11"/>
                </a:cubicBezTo>
                <a:cubicBezTo>
                  <a:pt x="458" y="11"/>
                  <a:pt x="458" y="11"/>
                  <a:pt x="458" y="11"/>
                </a:cubicBezTo>
                <a:cubicBezTo>
                  <a:pt x="458" y="11"/>
                  <a:pt x="459" y="11"/>
                  <a:pt x="460" y="11"/>
                </a:cubicBezTo>
                <a:cubicBezTo>
                  <a:pt x="460" y="11"/>
                  <a:pt x="460" y="11"/>
                  <a:pt x="460" y="11"/>
                </a:cubicBezTo>
                <a:cubicBezTo>
                  <a:pt x="460" y="11"/>
                  <a:pt x="459" y="11"/>
                  <a:pt x="459" y="11"/>
                </a:cubicBezTo>
                <a:moveTo>
                  <a:pt x="440" y="6"/>
                </a:moveTo>
                <a:cubicBezTo>
                  <a:pt x="440" y="6"/>
                  <a:pt x="437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7" y="6"/>
                  <a:pt x="436" y="6"/>
                  <a:pt x="436" y="6"/>
                </a:cubicBezTo>
                <a:cubicBezTo>
                  <a:pt x="437" y="6"/>
                  <a:pt x="437" y="6"/>
                  <a:pt x="437" y="6"/>
                </a:cubicBezTo>
                <a:cubicBezTo>
                  <a:pt x="438" y="6"/>
                  <a:pt x="439" y="6"/>
                  <a:pt x="440" y="6"/>
                </a:cubicBezTo>
                <a:cubicBezTo>
                  <a:pt x="440" y="7"/>
                  <a:pt x="441" y="7"/>
                  <a:pt x="442" y="7"/>
                </a:cubicBezTo>
                <a:cubicBezTo>
                  <a:pt x="442" y="7"/>
                  <a:pt x="442" y="7"/>
                  <a:pt x="442" y="7"/>
                </a:cubicBezTo>
                <a:cubicBezTo>
                  <a:pt x="441" y="7"/>
                  <a:pt x="441" y="7"/>
                  <a:pt x="440" y="6"/>
                </a:cubicBezTo>
                <a:moveTo>
                  <a:pt x="487" y="60"/>
                </a:moveTo>
                <a:cubicBezTo>
                  <a:pt x="487" y="59"/>
                  <a:pt x="487" y="59"/>
                  <a:pt x="486" y="59"/>
                </a:cubicBezTo>
                <a:cubicBezTo>
                  <a:pt x="485" y="59"/>
                  <a:pt x="485" y="59"/>
                  <a:pt x="485" y="59"/>
                </a:cubicBezTo>
                <a:cubicBezTo>
                  <a:pt x="484" y="58"/>
                  <a:pt x="484" y="58"/>
                  <a:pt x="484" y="58"/>
                </a:cubicBezTo>
                <a:cubicBezTo>
                  <a:pt x="483" y="58"/>
                  <a:pt x="482" y="58"/>
                  <a:pt x="480" y="58"/>
                </a:cubicBezTo>
                <a:cubicBezTo>
                  <a:pt x="481" y="58"/>
                  <a:pt x="481" y="58"/>
                  <a:pt x="481" y="58"/>
                </a:cubicBezTo>
                <a:cubicBezTo>
                  <a:pt x="482" y="59"/>
                  <a:pt x="482" y="59"/>
                  <a:pt x="482" y="59"/>
                </a:cubicBezTo>
                <a:cubicBezTo>
                  <a:pt x="483" y="60"/>
                  <a:pt x="483" y="61"/>
                  <a:pt x="484" y="62"/>
                </a:cubicBezTo>
                <a:cubicBezTo>
                  <a:pt x="485" y="62"/>
                  <a:pt x="485" y="62"/>
                  <a:pt x="486" y="62"/>
                </a:cubicBezTo>
                <a:cubicBezTo>
                  <a:pt x="487" y="62"/>
                  <a:pt x="486" y="62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6" y="61"/>
                  <a:pt x="486" y="61"/>
                  <a:pt x="486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1"/>
                  <a:pt x="487" y="61"/>
                  <a:pt x="487" y="61"/>
                </a:cubicBezTo>
                <a:cubicBezTo>
                  <a:pt x="487" y="60"/>
                  <a:pt x="487" y="60"/>
                  <a:pt x="487" y="60"/>
                </a:cubicBezTo>
                <a:moveTo>
                  <a:pt x="473" y="23"/>
                </a:moveTo>
                <a:cubicBezTo>
                  <a:pt x="471" y="22"/>
                  <a:pt x="471" y="22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8" y="21"/>
                </a:cubicBezTo>
                <a:cubicBezTo>
                  <a:pt x="468" y="21"/>
                  <a:pt x="468" y="21"/>
                  <a:pt x="467" y="21"/>
                </a:cubicBezTo>
                <a:cubicBezTo>
                  <a:pt x="468" y="22"/>
                  <a:pt x="469" y="22"/>
                  <a:pt x="470" y="23"/>
                </a:cubicBezTo>
                <a:cubicBezTo>
                  <a:pt x="470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3"/>
                  <a:pt x="470" y="23"/>
                  <a:pt x="470" y="23"/>
                </a:cubicBezTo>
                <a:cubicBezTo>
                  <a:pt x="469" y="23"/>
                  <a:pt x="469" y="23"/>
                  <a:pt x="469" y="23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8" y="24"/>
                  <a:pt x="468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7" y="24"/>
                  <a:pt x="467" y="24"/>
                  <a:pt x="467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4"/>
                  <a:pt x="466" y="24"/>
                  <a:pt x="466" y="24"/>
                </a:cubicBezTo>
                <a:cubicBezTo>
                  <a:pt x="466" y="25"/>
                  <a:pt x="466" y="25"/>
                  <a:pt x="468" y="26"/>
                </a:cubicBezTo>
                <a:cubicBezTo>
                  <a:pt x="467" y="26"/>
                  <a:pt x="466" y="26"/>
                  <a:pt x="466" y="26"/>
                </a:cubicBezTo>
                <a:cubicBezTo>
                  <a:pt x="466" y="26"/>
                  <a:pt x="466" y="26"/>
                  <a:pt x="467" y="27"/>
                </a:cubicBezTo>
                <a:cubicBezTo>
                  <a:pt x="467" y="27"/>
                  <a:pt x="467" y="27"/>
                  <a:pt x="467" y="27"/>
                </a:cubicBezTo>
                <a:cubicBezTo>
                  <a:pt x="467" y="27"/>
                  <a:pt x="467" y="27"/>
                  <a:pt x="466" y="28"/>
                </a:cubicBezTo>
                <a:cubicBezTo>
                  <a:pt x="466" y="28"/>
                  <a:pt x="466" y="28"/>
                  <a:pt x="469" y="30"/>
                </a:cubicBezTo>
                <a:cubicBezTo>
                  <a:pt x="468" y="30"/>
                  <a:pt x="467" y="29"/>
                  <a:pt x="467" y="30"/>
                </a:cubicBezTo>
                <a:cubicBezTo>
                  <a:pt x="468" y="30"/>
                  <a:pt x="469" y="31"/>
                  <a:pt x="470" y="32"/>
                </a:cubicBezTo>
                <a:cubicBezTo>
                  <a:pt x="470" y="33"/>
                  <a:pt x="470" y="33"/>
                  <a:pt x="470" y="33"/>
                </a:cubicBezTo>
                <a:cubicBezTo>
                  <a:pt x="471" y="33"/>
                  <a:pt x="471" y="33"/>
                  <a:pt x="472" y="34"/>
                </a:cubicBezTo>
                <a:cubicBezTo>
                  <a:pt x="471" y="34"/>
                  <a:pt x="471" y="33"/>
                  <a:pt x="470" y="34"/>
                </a:cubicBezTo>
                <a:cubicBezTo>
                  <a:pt x="470" y="34"/>
                  <a:pt x="470" y="34"/>
                  <a:pt x="470" y="35"/>
                </a:cubicBezTo>
                <a:cubicBezTo>
                  <a:pt x="470" y="35"/>
                  <a:pt x="472" y="37"/>
                  <a:pt x="472" y="36"/>
                </a:cubicBezTo>
                <a:cubicBezTo>
                  <a:pt x="472" y="36"/>
                  <a:pt x="472" y="36"/>
                  <a:pt x="474" y="37"/>
                </a:cubicBezTo>
                <a:cubicBezTo>
                  <a:pt x="474" y="37"/>
                  <a:pt x="474" y="37"/>
                  <a:pt x="474" y="37"/>
                </a:cubicBezTo>
                <a:cubicBezTo>
                  <a:pt x="475" y="37"/>
                  <a:pt x="475" y="37"/>
                  <a:pt x="475" y="37"/>
                </a:cubicBezTo>
                <a:cubicBezTo>
                  <a:pt x="474" y="38"/>
                  <a:pt x="473" y="37"/>
                  <a:pt x="473" y="38"/>
                </a:cubicBezTo>
                <a:cubicBezTo>
                  <a:pt x="473" y="38"/>
                  <a:pt x="474" y="39"/>
                  <a:pt x="475" y="39"/>
                </a:cubicBezTo>
                <a:cubicBezTo>
                  <a:pt x="474" y="39"/>
                  <a:pt x="473" y="39"/>
                  <a:pt x="473" y="40"/>
                </a:cubicBezTo>
                <a:cubicBezTo>
                  <a:pt x="474" y="41"/>
                  <a:pt x="475" y="41"/>
                  <a:pt x="475" y="42"/>
                </a:cubicBezTo>
                <a:cubicBezTo>
                  <a:pt x="475" y="42"/>
                  <a:pt x="475" y="42"/>
                  <a:pt x="476" y="43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5" y="43"/>
                  <a:pt x="475" y="43"/>
                  <a:pt x="476" y="44"/>
                </a:cubicBezTo>
                <a:cubicBezTo>
                  <a:pt x="476" y="44"/>
                  <a:pt x="476" y="44"/>
                  <a:pt x="476" y="44"/>
                </a:cubicBezTo>
                <a:cubicBezTo>
                  <a:pt x="477" y="46"/>
                  <a:pt x="478" y="46"/>
                  <a:pt x="479" y="47"/>
                </a:cubicBezTo>
                <a:cubicBezTo>
                  <a:pt x="479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0" y="47"/>
                  <a:pt x="480" y="47"/>
                  <a:pt x="480" y="47"/>
                </a:cubicBezTo>
                <a:cubicBezTo>
                  <a:pt x="481" y="47"/>
                  <a:pt x="481" y="47"/>
                  <a:pt x="482" y="48"/>
                </a:cubicBezTo>
                <a:cubicBezTo>
                  <a:pt x="482" y="47"/>
                  <a:pt x="482" y="47"/>
                  <a:pt x="481" y="47"/>
                </a:cubicBezTo>
                <a:cubicBezTo>
                  <a:pt x="484" y="48"/>
                  <a:pt x="485" y="48"/>
                  <a:pt x="486" y="49"/>
                </a:cubicBezTo>
                <a:cubicBezTo>
                  <a:pt x="486" y="50"/>
                  <a:pt x="486" y="50"/>
                  <a:pt x="486" y="50"/>
                </a:cubicBezTo>
                <a:cubicBezTo>
                  <a:pt x="487" y="51"/>
                  <a:pt x="487" y="51"/>
                  <a:pt x="487" y="51"/>
                </a:cubicBezTo>
                <a:cubicBezTo>
                  <a:pt x="488" y="51"/>
                  <a:pt x="488" y="51"/>
                  <a:pt x="488" y="51"/>
                </a:cubicBezTo>
                <a:cubicBezTo>
                  <a:pt x="488" y="51"/>
                  <a:pt x="489" y="51"/>
                  <a:pt x="490" y="51"/>
                </a:cubicBezTo>
                <a:cubicBezTo>
                  <a:pt x="492" y="51"/>
                  <a:pt x="494" y="52"/>
                  <a:pt x="495" y="52"/>
                </a:cubicBezTo>
                <a:cubicBezTo>
                  <a:pt x="495" y="52"/>
                  <a:pt x="496" y="52"/>
                  <a:pt x="496" y="52"/>
                </a:cubicBezTo>
                <a:cubicBezTo>
                  <a:pt x="496" y="52"/>
                  <a:pt x="496" y="52"/>
                  <a:pt x="497" y="52"/>
                </a:cubicBezTo>
                <a:cubicBezTo>
                  <a:pt x="496" y="52"/>
                  <a:pt x="496" y="51"/>
                  <a:pt x="495" y="51"/>
                </a:cubicBezTo>
                <a:cubicBezTo>
                  <a:pt x="495" y="51"/>
                  <a:pt x="495" y="51"/>
                  <a:pt x="487" y="46"/>
                </a:cubicBezTo>
                <a:cubicBezTo>
                  <a:pt x="486" y="45"/>
                  <a:pt x="484" y="44"/>
                  <a:pt x="483" y="43"/>
                </a:cubicBezTo>
                <a:cubicBezTo>
                  <a:pt x="483" y="43"/>
                  <a:pt x="483" y="43"/>
                  <a:pt x="483" y="43"/>
                </a:cubicBezTo>
                <a:cubicBezTo>
                  <a:pt x="483" y="42"/>
                  <a:pt x="483" y="42"/>
                  <a:pt x="481" y="41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40"/>
                  <a:pt x="480" y="40"/>
                  <a:pt x="480" y="40"/>
                </a:cubicBezTo>
                <a:cubicBezTo>
                  <a:pt x="480" y="39"/>
                  <a:pt x="480" y="39"/>
                  <a:pt x="479" y="39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8"/>
                  <a:pt x="479" y="38"/>
                  <a:pt x="479" y="38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9" y="37"/>
                </a:cubicBezTo>
                <a:cubicBezTo>
                  <a:pt x="479" y="37"/>
                  <a:pt x="479" y="37"/>
                  <a:pt x="478" y="36"/>
                </a:cubicBezTo>
                <a:cubicBezTo>
                  <a:pt x="478" y="35"/>
                  <a:pt x="477" y="35"/>
                  <a:pt x="477" y="35"/>
                </a:cubicBezTo>
                <a:cubicBezTo>
                  <a:pt x="477" y="35"/>
                  <a:pt x="477" y="35"/>
                  <a:pt x="477" y="35"/>
                </a:cubicBezTo>
                <a:cubicBezTo>
                  <a:pt x="477" y="34"/>
                  <a:pt x="475" y="33"/>
                  <a:pt x="474" y="32"/>
                </a:cubicBezTo>
                <a:cubicBezTo>
                  <a:pt x="475" y="32"/>
                  <a:pt x="475" y="32"/>
                  <a:pt x="476" y="32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6" y="31"/>
                  <a:pt x="476" y="31"/>
                  <a:pt x="476" y="31"/>
                </a:cubicBezTo>
                <a:cubicBezTo>
                  <a:pt x="475" y="31"/>
                  <a:pt x="475" y="31"/>
                  <a:pt x="475" y="31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5" y="29"/>
                  <a:pt x="473" y="29"/>
                  <a:pt x="472" y="28"/>
                </a:cubicBezTo>
                <a:cubicBezTo>
                  <a:pt x="473" y="27"/>
                  <a:pt x="473" y="28"/>
                  <a:pt x="474" y="28"/>
                </a:cubicBezTo>
                <a:cubicBezTo>
                  <a:pt x="474" y="27"/>
                  <a:pt x="473" y="27"/>
                  <a:pt x="473" y="27"/>
                </a:cubicBezTo>
                <a:cubicBezTo>
                  <a:pt x="473" y="27"/>
                  <a:pt x="473" y="27"/>
                  <a:pt x="473" y="27"/>
                </a:cubicBezTo>
                <a:cubicBezTo>
                  <a:pt x="473" y="26"/>
                  <a:pt x="473" y="26"/>
                  <a:pt x="473" y="26"/>
                </a:cubicBezTo>
                <a:cubicBezTo>
                  <a:pt x="474" y="26"/>
                  <a:pt x="474" y="26"/>
                  <a:pt x="475" y="26"/>
                </a:cubicBezTo>
                <a:cubicBezTo>
                  <a:pt x="475" y="26"/>
                  <a:pt x="474" y="26"/>
                  <a:pt x="474" y="26"/>
                </a:cubicBezTo>
                <a:cubicBezTo>
                  <a:pt x="475" y="25"/>
                  <a:pt x="475" y="25"/>
                  <a:pt x="475" y="25"/>
                </a:cubicBezTo>
                <a:cubicBezTo>
                  <a:pt x="474" y="25"/>
                  <a:pt x="474" y="25"/>
                  <a:pt x="474" y="25"/>
                </a:cubicBezTo>
                <a:cubicBezTo>
                  <a:pt x="475" y="25"/>
                  <a:pt x="475" y="25"/>
                  <a:pt x="476" y="25"/>
                </a:cubicBezTo>
                <a:cubicBezTo>
                  <a:pt x="475" y="24"/>
                  <a:pt x="475" y="24"/>
                  <a:pt x="473" y="23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4" y="23"/>
                  <a:pt x="474" y="23"/>
                  <a:pt x="474" y="23"/>
                </a:cubicBezTo>
                <a:cubicBezTo>
                  <a:pt x="474" y="23"/>
                  <a:pt x="473" y="23"/>
                  <a:pt x="473" y="23"/>
                </a:cubicBezTo>
                <a:moveTo>
                  <a:pt x="504" y="38"/>
                </a:moveTo>
                <a:cubicBezTo>
                  <a:pt x="503" y="37"/>
                  <a:pt x="501" y="36"/>
                  <a:pt x="501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0" y="36"/>
                  <a:pt x="500" y="36"/>
                  <a:pt x="500" y="36"/>
                </a:cubicBezTo>
                <a:cubicBezTo>
                  <a:pt x="501" y="37"/>
                  <a:pt x="501" y="37"/>
                  <a:pt x="501" y="37"/>
                </a:cubicBezTo>
                <a:cubicBezTo>
                  <a:pt x="502" y="38"/>
                  <a:pt x="502" y="38"/>
                  <a:pt x="502" y="38"/>
                </a:cubicBezTo>
                <a:cubicBezTo>
                  <a:pt x="503" y="39"/>
                  <a:pt x="503" y="39"/>
                  <a:pt x="503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9"/>
                  <a:pt x="504" y="39"/>
                  <a:pt x="504" y="39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4" y="38"/>
                  <a:pt x="504" y="38"/>
                  <a:pt x="504" y="38"/>
                </a:cubicBezTo>
                <a:cubicBezTo>
                  <a:pt x="505" y="38"/>
                  <a:pt x="505" y="38"/>
                  <a:pt x="505" y="38"/>
                </a:cubicBezTo>
                <a:cubicBezTo>
                  <a:pt x="505" y="38"/>
                  <a:pt x="504" y="38"/>
                  <a:pt x="504" y="38"/>
                </a:cubicBezTo>
                <a:moveTo>
                  <a:pt x="428" y="7"/>
                </a:moveTo>
                <a:cubicBezTo>
                  <a:pt x="428" y="7"/>
                  <a:pt x="428" y="7"/>
                  <a:pt x="428" y="7"/>
                </a:cubicBezTo>
                <a:cubicBezTo>
                  <a:pt x="428" y="7"/>
                  <a:pt x="427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6" y="6"/>
                  <a:pt x="426" y="6"/>
                  <a:pt x="426" y="6"/>
                </a:cubicBezTo>
                <a:cubicBezTo>
                  <a:pt x="427" y="7"/>
                  <a:pt x="427" y="7"/>
                  <a:pt x="427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6" y="7"/>
                  <a:pt x="427" y="7"/>
                  <a:pt x="427" y="7"/>
                </a:cubicBezTo>
                <a:cubicBezTo>
                  <a:pt x="427" y="7"/>
                  <a:pt x="427" y="7"/>
                  <a:pt x="427" y="7"/>
                </a:cubicBezTo>
                <a:cubicBezTo>
                  <a:pt x="427" y="7"/>
                  <a:pt x="431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cubicBezTo>
                  <a:pt x="431" y="8"/>
                  <a:pt x="431" y="8"/>
                  <a:pt x="429" y="7"/>
                </a:cubicBezTo>
                <a:cubicBezTo>
                  <a:pt x="429" y="7"/>
                  <a:pt x="429" y="7"/>
                  <a:pt x="429" y="7"/>
                </a:cubicBezTo>
                <a:cubicBezTo>
                  <a:pt x="428" y="7"/>
                  <a:pt x="428" y="7"/>
                  <a:pt x="428" y="7"/>
                </a:cubicBezTo>
                <a:moveTo>
                  <a:pt x="431" y="8"/>
                </a:move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8" y="8"/>
                </a:cubicBezTo>
                <a:cubicBezTo>
                  <a:pt x="427" y="7"/>
                  <a:pt x="426" y="7"/>
                  <a:pt x="425" y="7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6"/>
                </a:cubicBezTo>
                <a:cubicBezTo>
                  <a:pt x="424" y="6"/>
                  <a:pt x="424" y="6"/>
                  <a:pt x="424" y="7"/>
                </a:cubicBezTo>
                <a:cubicBezTo>
                  <a:pt x="425" y="7"/>
                  <a:pt x="425" y="7"/>
                  <a:pt x="426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6" y="7"/>
                  <a:pt x="426" y="7"/>
                </a:cubicBezTo>
                <a:cubicBezTo>
                  <a:pt x="426" y="7"/>
                  <a:pt x="426" y="7"/>
                  <a:pt x="426" y="7"/>
                </a:cubicBezTo>
                <a:cubicBezTo>
                  <a:pt x="427" y="8"/>
                  <a:pt x="427" y="8"/>
                  <a:pt x="428" y="8"/>
                </a:cubicBezTo>
                <a:cubicBezTo>
                  <a:pt x="428" y="8"/>
                  <a:pt x="429" y="8"/>
                  <a:pt x="430" y="9"/>
                </a:cubicBezTo>
                <a:cubicBezTo>
                  <a:pt x="430" y="8"/>
                  <a:pt x="430" y="8"/>
                  <a:pt x="430" y="8"/>
                </a:cubicBezTo>
                <a:cubicBezTo>
                  <a:pt x="429" y="8"/>
                  <a:pt x="429" y="8"/>
                  <a:pt x="429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31" y="8"/>
                </a:cubicBezTo>
                <a:cubicBezTo>
                  <a:pt x="431" y="8"/>
                  <a:pt x="431" y="8"/>
                  <a:pt x="431" y="8"/>
                </a:cubicBezTo>
                <a:moveTo>
                  <a:pt x="433" y="10"/>
                </a:moveTo>
                <a:cubicBezTo>
                  <a:pt x="433" y="10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9"/>
                  <a:pt x="432" y="9"/>
                  <a:pt x="432" y="9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4" y="10"/>
                  <a:pt x="434" y="10"/>
                  <a:pt x="434" y="10"/>
                </a:cubicBezTo>
                <a:cubicBezTo>
                  <a:pt x="433" y="10"/>
                  <a:pt x="433" y="10"/>
                  <a:pt x="433" y="10"/>
                </a:cubicBezTo>
                <a:cubicBezTo>
                  <a:pt x="433" y="10"/>
                  <a:pt x="433" y="10"/>
                  <a:pt x="433" y="10"/>
                </a:cubicBezTo>
                <a:moveTo>
                  <a:pt x="430" y="9"/>
                </a:moveTo>
                <a:cubicBezTo>
                  <a:pt x="429" y="9"/>
                  <a:pt x="429" y="9"/>
                  <a:pt x="429" y="9"/>
                </a:cubicBezTo>
                <a:cubicBezTo>
                  <a:pt x="428" y="8"/>
                  <a:pt x="428" y="8"/>
                  <a:pt x="428" y="8"/>
                </a:cubicBezTo>
                <a:cubicBezTo>
                  <a:pt x="428" y="8"/>
                  <a:pt x="428" y="8"/>
                  <a:pt x="427" y="8"/>
                </a:cubicBezTo>
                <a:cubicBezTo>
                  <a:pt x="427" y="8"/>
                  <a:pt x="427" y="8"/>
                  <a:pt x="427" y="8"/>
                </a:cubicBezTo>
                <a:cubicBezTo>
                  <a:pt x="428" y="9"/>
                  <a:pt x="428" y="9"/>
                  <a:pt x="428" y="9"/>
                </a:cubicBezTo>
                <a:cubicBezTo>
                  <a:pt x="428" y="9"/>
                  <a:pt x="428" y="9"/>
                  <a:pt x="428" y="9"/>
                </a:cubicBezTo>
                <a:cubicBezTo>
                  <a:pt x="429" y="9"/>
                  <a:pt x="429" y="10"/>
                  <a:pt x="430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0" y="9"/>
                  <a:pt x="429" y="9"/>
                  <a:pt x="429" y="9"/>
                </a:cubicBezTo>
                <a:cubicBezTo>
                  <a:pt x="430" y="10"/>
                  <a:pt x="431" y="10"/>
                  <a:pt x="432" y="10"/>
                </a:cubicBezTo>
                <a:cubicBezTo>
                  <a:pt x="431" y="10"/>
                  <a:pt x="431" y="10"/>
                  <a:pt x="431" y="10"/>
                </a:cubicBezTo>
                <a:cubicBezTo>
                  <a:pt x="432" y="10"/>
                  <a:pt x="432" y="10"/>
                  <a:pt x="432" y="10"/>
                </a:cubicBezTo>
                <a:cubicBezTo>
                  <a:pt x="431" y="10"/>
                  <a:pt x="430" y="9"/>
                  <a:pt x="429" y="9"/>
                </a:cubicBezTo>
                <a:cubicBezTo>
                  <a:pt x="430" y="9"/>
                  <a:pt x="430" y="9"/>
                  <a:pt x="430" y="9"/>
                </a:cubicBezTo>
                <a:moveTo>
                  <a:pt x="425" y="7"/>
                </a:moveTo>
                <a:cubicBezTo>
                  <a:pt x="424" y="7"/>
                  <a:pt x="424" y="7"/>
                  <a:pt x="424" y="7"/>
                </a:cubicBezTo>
                <a:cubicBezTo>
                  <a:pt x="423" y="7"/>
                  <a:pt x="423" y="7"/>
                  <a:pt x="423" y="6"/>
                </a:cubicBezTo>
                <a:cubicBezTo>
                  <a:pt x="422" y="6"/>
                  <a:pt x="422" y="6"/>
                  <a:pt x="422" y="6"/>
                </a:cubicBezTo>
                <a:cubicBezTo>
                  <a:pt x="422" y="7"/>
                  <a:pt x="422" y="7"/>
                  <a:pt x="422" y="7"/>
                </a:cubicBezTo>
                <a:cubicBezTo>
                  <a:pt x="422" y="7"/>
                  <a:pt x="422" y="7"/>
                  <a:pt x="419" y="6"/>
                </a:cubicBezTo>
                <a:cubicBezTo>
                  <a:pt x="419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5"/>
                  <a:pt x="418" y="5"/>
                  <a:pt x="418" y="5"/>
                </a:cubicBezTo>
                <a:cubicBezTo>
                  <a:pt x="418" y="6"/>
                  <a:pt x="418" y="6"/>
                  <a:pt x="418" y="6"/>
                </a:cubicBezTo>
                <a:cubicBezTo>
                  <a:pt x="419" y="6"/>
                  <a:pt x="420" y="6"/>
                  <a:pt x="421" y="7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6"/>
                  <a:pt x="420" y="6"/>
                  <a:pt x="420" y="6"/>
                </a:cubicBezTo>
                <a:cubicBezTo>
                  <a:pt x="420" y="7"/>
                  <a:pt x="421" y="7"/>
                  <a:pt x="421" y="7"/>
                </a:cubicBezTo>
                <a:cubicBezTo>
                  <a:pt x="421" y="7"/>
                  <a:pt x="421" y="7"/>
                  <a:pt x="421" y="7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8"/>
                  <a:pt x="424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3" y="8"/>
                </a:cubicBezTo>
                <a:cubicBezTo>
                  <a:pt x="423" y="8"/>
                  <a:pt x="423" y="8"/>
                  <a:pt x="424" y="9"/>
                </a:cubicBezTo>
                <a:cubicBezTo>
                  <a:pt x="424" y="9"/>
                  <a:pt x="424" y="9"/>
                  <a:pt x="424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5" y="9"/>
                  <a:pt x="425" y="9"/>
                </a:cubicBezTo>
                <a:cubicBezTo>
                  <a:pt x="425" y="9"/>
                  <a:pt x="424" y="9"/>
                  <a:pt x="423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4" y="8"/>
                </a:cubicBezTo>
                <a:cubicBezTo>
                  <a:pt x="424" y="8"/>
                  <a:pt x="424" y="8"/>
                  <a:pt x="423" y="8"/>
                </a:cubicBezTo>
                <a:cubicBezTo>
                  <a:pt x="423" y="7"/>
                  <a:pt x="423" y="7"/>
                  <a:pt x="423" y="7"/>
                </a:cubicBezTo>
                <a:cubicBezTo>
                  <a:pt x="424" y="8"/>
                  <a:pt x="424" y="8"/>
                  <a:pt x="425" y="8"/>
                </a:cubicBezTo>
                <a:cubicBezTo>
                  <a:pt x="425" y="8"/>
                  <a:pt x="425" y="8"/>
                  <a:pt x="425" y="8"/>
                </a:cubicBezTo>
                <a:cubicBezTo>
                  <a:pt x="422" y="7"/>
                  <a:pt x="422" y="7"/>
                  <a:pt x="422" y="7"/>
                </a:cubicBezTo>
                <a:cubicBezTo>
                  <a:pt x="423" y="7"/>
                  <a:pt x="423" y="7"/>
                  <a:pt x="423" y="7"/>
                </a:cubicBezTo>
                <a:cubicBezTo>
                  <a:pt x="425" y="7"/>
                  <a:pt x="425" y="7"/>
                  <a:pt x="425" y="7"/>
                </a:cubicBezTo>
                <a:cubicBezTo>
                  <a:pt x="425" y="7"/>
                  <a:pt x="425" y="7"/>
                  <a:pt x="425" y="7"/>
                </a:cubicBezTo>
                <a:moveTo>
                  <a:pt x="421" y="8"/>
                </a:moveTo>
                <a:cubicBezTo>
                  <a:pt x="420" y="8"/>
                  <a:pt x="420" y="8"/>
                  <a:pt x="419" y="7"/>
                </a:cubicBezTo>
                <a:cubicBezTo>
                  <a:pt x="419" y="7"/>
                  <a:pt x="419" y="7"/>
                  <a:pt x="419" y="7"/>
                </a:cubicBezTo>
                <a:cubicBezTo>
                  <a:pt x="418" y="7"/>
                  <a:pt x="417" y="7"/>
                  <a:pt x="417" y="7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6"/>
                  <a:pt x="416" y="6"/>
                  <a:pt x="416" y="6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7" y="7"/>
                  <a:pt x="417" y="7"/>
                </a:cubicBezTo>
                <a:cubicBezTo>
                  <a:pt x="417" y="7"/>
                  <a:pt x="417" y="7"/>
                  <a:pt x="416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7" y="7"/>
                  <a:pt x="417" y="7"/>
                  <a:pt x="417" y="7"/>
                </a:cubicBezTo>
                <a:cubicBezTo>
                  <a:pt x="416" y="7"/>
                  <a:pt x="416" y="7"/>
                  <a:pt x="416" y="7"/>
                </a:cubicBezTo>
                <a:cubicBezTo>
                  <a:pt x="416" y="7"/>
                  <a:pt x="416" y="7"/>
                  <a:pt x="415" y="7"/>
                </a:cubicBezTo>
                <a:cubicBezTo>
                  <a:pt x="416" y="8"/>
                  <a:pt x="416" y="8"/>
                  <a:pt x="416" y="8"/>
                </a:cubicBezTo>
                <a:cubicBezTo>
                  <a:pt x="416" y="8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416" y="8"/>
                  <a:pt x="417" y="9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7" y="8"/>
                  <a:pt x="417" y="8"/>
                </a:cubicBezTo>
                <a:cubicBezTo>
                  <a:pt x="417" y="8"/>
                  <a:pt x="418" y="8"/>
                  <a:pt x="418" y="8"/>
                </a:cubicBezTo>
                <a:cubicBezTo>
                  <a:pt x="418" y="8"/>
                  <a:pt x="418" y="8"/>
                  <a:pt x="418" y="8"/>
                </a:cubicBezTo>
                <a:cubicBezTo>
                  <a:pt x="419" y="8"/>
                  <a:pt x="419" y="8"/>
                  <a:pt x="420" y="9"/>
                </a:cubicBezTo>
                <a:cubicBezTo>
                  <a:pt x="419" y="9"/>
                  <a:pt x="419" y="9"/>
                  <a:pt x="419" y="9"/>
                </a:cubicBezTo>
                <a:cubicBezTo>
                  <a:pt x="420" y="9"/>
                  <a:pt x="420" y="9"/>
                  <a:pt x="420" y="9"/>
                </a:cubicBezTo>
                <a:cubicBezTo>
                  <a:pt x="421" y="9"/>
                  <a:pt x="421" y="10"/>
                  <a:pt x="422" y="10"/>
                </a:cubicBezTo>
                <a:cubicBezTo>
                  <a:pt x="424" y="10"/>
                  <a:pt x="424" y="10"/>
                  <a:pt x="424" y="10"/>
                </a:cubicBezTo>
                <a:cubicBezTo>
                  <a:pt x="424" y="10"/>
                  <a:pt x="423" y="9"/>
                  <a:pt x="421" y="9"/>
                </a:cubicBezTo>
                <a:cubicBezTo>
                  <a:pt x="421" y="9"/>
                  <a:pt x="421" y="9"/>
                  <a:pt x="421" y="9"/>
                </a:cubicBezTo>
                <a:cubicBezTo>
                  <a:pt x="421" y="9"/>
                  <a:pt x="421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9"/>
                  <a:pt x="422" y="9"/>
                  <a:pt x="422" y="9"/>
                </a:cubicBezTo>
                <a:cubicBezTo>
                  <a:pt x="422" y="8"/>
                  <a:pt x="421" y="8"/>
                  <a:pt x="421" y="8"/>
                </a:cubicBezTo>
                <a:moveTo>
                  <a:pt x="399" y="10"/>
                </a:moveTo>
                <a:cubicBezTo>
                  <a:pt x="399" y="9"/>
                  <a:pt x="399" y="9"/>
                  <a:pt x="399" y="9"/>
                </a:cubicBezTo>
                <a:cubicBezTo>
                  <a:pt x="398" y="9"/>
                  <a:pt x="398" y="9"/>
                  <a:pt x="398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7" y="9"/>
                  <a:pt x="397" y="9"/>
                  <a:pt x="397" y="9"/>
                </a:cubicBezTo>
                <a:cubicBezTo>
                  <a:pt x="396" y="8"/>
                  <a:pt x="395" y="8"/>
                  <a:pt x="395" y="8"/>
                </a:cubicBezTo>
                <a:cubicBezTo>
                  <a:pt x="395" y="9"/>
                  <a:pt x="395" y="9"/>
                  <a:pt x="394" y="9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8"/>
                  <a:pt x="393" y="8"/>
                  <a:pt x="393" y="8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3" y="9"/>
                  <a:pt x="393" y="9"/>
                </a:cubicBezTo>
                <a:cubicBezTo>
                  <a:pt x="393" y="9"/>
                  <a:pt x="392" y="8"/>
                  <a:pt x="392" y="8"/>
                </a:cubicBezTo>
                <a:cubicBezTo>
                  <a:pt x="392" y="8"/>
                  <a:pt x="390" y="8"/>
                  <a:pt x="389" y="8"/>
                </a:cubicBezTo>
                <a:cubicBezTo>
                  <a:pt x="389" y="8"/>
                  <a:pt x="388" y="9"/>
                  <a:pt x="390" y="9"/>
                </a:cubicBezTo>
                <a:cubicBezTo>
                  <a:pt x="390" y="9"/>
                  <a:pt x="390" y="9"/>
                  <a:pt x="390" y="9"/>
                </a:cubicBezTo>
                <a:cubicBezTo>
                  <a:pt x="391" y="9"/>
                  <a:pt x="391" y="9"/>
                  <a:pt x="391" y="9"/>
                </a:cubicBezTo>
                <a:cubicBezTo>
                  <a:pt x="391" y="9"/>
                  <a:pt x="391" y="9"/>
                  <a:pt x="392" y="9"/>
                </a:cubicBezTo>
                <a:cubicBezTo>
                  <a:pt x="392" y="9"/>
                  <a:pt x="392" y="10"/>
                  <a:pt x="393" y="10"/>
                </a:cubicBezTo>
                <a:cubicBezTo>
                  <a:pt x="392" y="10"/>
                  <a:pt x="391" y="10"/>
                  <a:pt x="391" y="10"/>
                </a:cubicBezTo>
                <a:cubicBezTo>
                  <a:pt x="391" y="10"/>
                  <a:pt x="391" y="10"/>
                  <a:pt x="391" y="10"/>
                </a:cubicBezTo>
                <a:cubicBezTo>
                  <a:pt x="391" y="11"/>
                  <a:pt x="392" y="11"/>
                  <a:pt x="392" y="11"/>
                </a:cubicBezTo>
                <a:cubicBezTo>
                  <a:pt x="393" y="11"/>
                  <a:pt x="393" y="11"/>
                  <a:pt x="394" y="11"/>
                </a:cubicBezTo>
                <a:cubicBezTo>
                  <a:pt x="394" y="11"/>
                  <a:pt x="394" y="11"/>
                  <a:pt x="394" y="11"/>
                </a:cubicBezTo>
                <a:cubicBezTo>
                  <a:pt x="395" y="11"/>
                  <a:pt x="395" y="11"/>
                  <a:pt x="395" y="11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7" y="12"/>
                  <a:pt x="397" y="11"/>
                  <a:pt x="397" y="11"/>
                </a:cubicBezTo>
                <a:cubicBezTo>
                  <a:pt x="398" y="11"/>
                  <a:pt x="398" y="11"/>
                  <a:pt x="399" y="11"/>
                </a:cubicBezTo>
                <a:cubicBezTo>
                  <a:pt x="398" y="11"/>
                  <a:pt x="398" y="11"/>
                  <a:pt x="398" y="11"/>
                </a:cubicBezTo>
                <a:cubicBezTo>
                  <a:pt x="398" y="10"/>
                  <a:pt x="398" y="10"/>
                  <a:pt x="398" y="10"/>
                </a:cubicBezTo>
                <a:cubicBezTo>
                  <a:pt x="398" y="10"/>
                  <a:pt x="399" y="10"/>
                  <a:pt x="399" y="10"/>
                </a:cubicBezTo>
                <a:moveTo>
                  <a:pt x="390" y="11"/>
                </a:move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0" y="11"/>
                </a:cubicBezTo>
                <a:moveTo>
                  <a:pt x="401" y="18"/>
                </a:moveTo>
                <a:cubicBezTo>
                  <a:pt x="401" y="17"/>
                  <a:pt x="401" y="17"/>
                  <a:pt x="401" y="17"/>
                </a:cubicBezTo>
                <a:cubicBezTo>
                  <a:pt x="401" y="17"/>
                  <a:pt x="401" y="17"/>
                  <a:pt x="399" y="17"/>
                </a:cubicBezTo>
                <a:cubicBezTo>
                  <a:pt x="398" y="16"/>
                  <a:pt x="398" y="16"/>
                  <a:pt x="398" y="16"/>
                </a:cubicBezTo>
                <a:cubicBezTo>
                  <a:pt x="398" y="15"/>
                  <a:pt x="397" y="15"/>
                  <a:pt x="396" y="15"/>
                </a:cubicBezTo>
                <a:cubicBezTo>
                  <a:pt x="396" y="15"/>
                  <a:pt x="396" y="14"/>
                  <a:pt x="395" y="14"/>
                </a:cubicBezTo>
                <a:cubicBezTo>
                  <a:pt x="395" y="14"/>
                  <a:pt x="395" y="14"/>
                  <a:pt x="394" y="13"/>
                </a:cubicBezTo>
                <a:cubicBezTo>
                  <a:pt x="394" y="13"/>
                  <a:pt x="394" y="13"/>
                  <a:pt x="393" y="13"/>
                </a:cubicBezTo>
                <a:cubicBezTo>
                  <a:pt x="393" y="13"/>
                  <a:pt x="393" y="12"/>
                  <a:pt x="392" y="12"/>
                </a:cubicBezTo>
                <a:cubicBezTo>
                  <a:pt x="392" y="12"/>
                  <a:pt x="392" y="12"/>
                  <a:pt x="392" y="12"/>
                </a:cubicBezTo>
                <a:cubicBezTo>
                  <a:pt x="392" y="12"/>
                  <a:pt x="392" y="12"/>
                  <a:pt x="391" y="12"/>
                </a:cubicBezTo>
                <a:cubicBezTo>
                  <a:pt x="390" y="12"/>
                  <a:pt x="390" y="12"/>
                  <a:pt x="390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89" y="11"/>
                  <a:pt x="389" y="11"/>
                  <a:pt x="389" y="11"/>
                </a:cubicBezTo>
                <a:cubicBezTo>
                  <a:pt x="389" y="10"/>
                  <a:pt x="389" y="10"/>
                  <a:pt x="389" y="10"/>
                </a:cubicBezTo>
                <a:cubicBezTo>
                  <a:pt x="388" y="10"/>
                  <a:pt x="387" y="9"/>
                  <a:pt x="387" y="9"/>
                </a:cubicBezTo>
                <a:cubicBezTo>
                  <a:pt x="387" y="9"/>
                  <a:pt x="387" y="9"/>
                  <a:pt x="387" y="9"/>
                </a:cubicBezTo>
                <a:cubicBezTo>
                  <a:pt x="386" y="9"/>
                  <a:pt x="386" y="9"/>
                  <a:pt x="386" y="10"/>
                </a:cubicBezTo>
                <a:cubicBezTo>
                  <a:pt x="386" y="10"/>
                  <a:pt x="386" y="10"/>
                  <a:pt x="386" y="10"/>
                </a:cubicBezTo>
                <a:cubicBezTo>
                  <a:pt x="386" y="11"/>
                  <a:pt x="387" y="11"/>
                  <a:pt x="387" y="11"/>
                </a:cubicBezTo>
                <a:cubicBezTo>
                  <a:pt x="386" y="12"/>
                  <a:pt x="386" y="12"/>
                  <a:pt x="386" y="12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1"/>
                  <a:pt x="385" y="11"/>
                  <a:pt x="385" y="11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10"/>
                  <a:pt x="385" y="10"/>
                  <a:pt x="385" y="10"/>
                </a:cubicBezTo>
                <a:cubicBezTo>
                  <a:pt x="385" y="9"/>
                  <a:pt x="385" y="9"/>
                  <a:pt x="385" y="9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10"/>
                  <a:pt x="383" y="10"/>
                  <a:pt x="383" y="10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3" y="9"/>
                </a:cubicBezTo>
                <a:cubicBezTo>
                  <a:pt x="383" y="9"/>
                  <a:pt x="383" y="9"/>
                  <a:pt x="382" y="10"/>
                </a:cubicBezTo>
                <a:cubicBezTo>
                  <a:pt x="382" y="10"/>
                  <a:pt x="381" y="10"/>
                  <a:pt x="381" y="10"/>
                </a:cubicBezTo>
                <a:cubicBezTo>
                  <a:pt x="378" y="10"/>
                  <a:pt x="380" y="11"/>
                  <a:pt x="380" y="11"/>
                </a:cubicBezTo>
                <a:cubicBezTo>
                  <a:pt x="380" y="11"/>
                  <a:pt x="381" y="11"/>
                  <a:pt x="381" y="11"/>
                </a:cubicBezTo>
                <a:cubicBezTo>
                  <a:pt x="381" y="11"/>
                  <a:pt x="381" y="12"/>
                  <a:pt x="381" y="12"/>
                </a:cubicBezTo>
                <a:cubicBezTo>
                  <a:pt x="380" y="13"/>
                  <a:pt x="381" y="13"/>
                  <a:pt x="381" y="14"/>
                </a:cubicBezTo>
                <a:cubicBezTo>
                  <a:pt x="380" y="14"/>
                  <a:pt x="380" y="12"/>
                  <a:pt x="379" y="12"/>
                </a:cubicBezTo>
                <a:cubicBezTo>
                  <a:pt x="379" y="13"/>
                  <a:pt x="379" y="13"/>
                  <a:pt x="379" y="14"/>
                </a:cubicBezTo>
                <a:cubicBezTo>
                  <a:pt x="380" y="15"/>
                  <a:pt x="381" y="15"/>
                  <a:pt x="381" y="15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1" y="14"/>
                  <a:pt x="381" y="14"/>
                  <a:pt x="381" y="14"/>
                </a:cubicBezTo>
                <a:cubicBezTo>
                  <a:pt x="382" y="15"/>
                  <a:pt x="382" y="15"/>
                  <a:pt x="382" y="15"/>
                </a:cubicBezTo>
                <a:cubicBezTo>
                  <a:pt x="382" y="15"/>
                  <a:pt x="382" y="15"/>
                  <a:pt x="383" y="15"/>
                </a:cubicBezTo>
                <a:cubicBezTo>
                  <a:pt x="383" y="15"/>
                  <a:pt x="383" y="15"/>
                  <a:pt x="383" y="15"/>
                </a:cubicBezTo>
                <a:cubicBezTo>
                  <a:pt x="384" y="15"/>
                  <a:pt x="384" y="14"/>
                  <a:pt x="384" y="14"/>
                </a:cubicBezTo>
                <a:cubicBezTo>
                  <a:pt x="384" y="14"/>
                  <a:pt x="384" y="14"/>
                  <a:pt x="385" y="14"/>
                </a:cubicBezTo>
                <a:cubicBezTo>
                  <a:pt x="385" y="14"/>
                  <a:pt x="385" y="14"/>
                  <a:pt x="385" y="14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3"/>
                </a:cubicBezTo>
                <a:cubicBezTo>
                  <a:pt x="385" y="13"/>
                  <a:pt x="385" y="13"/>
                  <a:pt x="385" y="14"/>
                </a:cubicBezTo>
                <a:cubicBezTo>
                  <a:pt x="386" y="14"/>
                  <a:pt x="386" y="14"/>
                  <a:pt x="387" y="14"/>
                </a:cubicBezTo>
                <a:cubicBezTo>
                  <a:pt x="387" y="14"/>
                  <a:pt x="387" y="14"/>
                  <a:pt x="387" y="14"/>
                </a:cubicBezTo>
                <a:cubicBezTo>
                  <a:pt x="388" y="14"/>
                  <a:pt x="388" y="14"/>
                  <a:pt x="388" y="14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8" y="15"/>
                </a:cubicBezTo>
                <a:cubicBezTo>
                  <a:pt x="388" y="15"/>
                  <a:pt x="388" y="15"/>
                  <a:pt x="387" y="15"/>
                </a:cubicBezTo>
                <a:cubicBezTo>
                  <a:pt x="387" y="15"/>
                  <a:pt x="387" y="15"/>
                  <a:pt x="387" y="15"/>
                </a:cubicBezTo>
                <a:cubicBezTo>
                  <a:pt x="387" y="15"/>
                  <a:pt x="383" y="15"/>
                  <a:pt x="383" y="16"/>
                </a:cubicBezTo>
                <a:cubicBezTo>
                  <a:pt x="383" y="17"/>
                  <a:pt x="383" y="17"/>
                  <a:pt x="383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4" y="17"/>
                  <a:pt x="384" y="17"/>
                  <a:pt x="384" y="17"/>
                </a:cubicBezTo>
                <a:cubicBezTo>
                  <a:pt x="385" y="17"/>
                  <a:pt x="385" y="17"/>
                  <a:pt x="386" y="17"/>
                </a:cubicBezTo>
                <a:cubicBezTo>
                  <a:pt x="386" y="17"/>
                  <a:pt x="387" y="16"/>
                  <a:pt x="387" y="16"/>
                </a:cubicBezTo>
                <a:cubicBezTo>
                  <a:pt x="387" y="16"/>
                  <a:pt x="387" y="16"/>
                  <a:pt x="387" y="16"/>
                </a:cubicBezTo>
                <a:cubicBezTo>
                  <a:pt x="387" y="16"/>
                  <a:pt x="387" y="16"/>
                  <a:pt x="388" y="16"/>
                </a:cubicBezTo>
                <a:cubicBezTo>
                  <a:pt x="387" y="17"/>
                  <a:pt x="387" y="17"/>
                  <a:pt x="387" y="17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6" y="18"/>
                  <a:pt x="386" y="18"/>
                  <a:pt x="386" y="18"/>
                </a:cubicBezTo>
                <a:cubicBezTo>
                  <a:pt x="383" y="17"/>
                  <a:pt x="383" y="18"/>
                  <a:pt x="384" y="19"/>
                </a:cubicBezTo>
                <a:cubicBezTo>
                  <a:pt x="384" y="19"/>
                  <a:pt x="384" y="19"/>
                  <a:pt x="385" y="19"/>
                </a:cubicBezTo>
                <a:cubicBezTo>
                  <a:pt x="386" y="19"/>
                  <a:pt x="386" y="19"/>
                  <a:pt x="388" y="22"/>
                </a:cubicBezTo>
                <a:cubicBezTo>
                  <a:pt x="388" y="22"/>
                  <a:pt x="388" y="22"/>
                  <a:pt x="388" y="22"/>
                </a:cubicBezTo>
                <a:cubicBezTo>
                  <a:pt x="388" y="21"/>
                  <a:pt x="388" y="21"/>
                  <a:pt x="388" y="21"/>
                </a:cubicBezTo>
                <a:cubicBezTo>
                  <a:pt x="388" y="21"/>
                  <a:pt x="389" y="21"/>
                  <a:pt x="389" y="20"/>
                </a:cubicBezTo>
                <a:cubicBezTo>
                  <a:pt x="389" y="19"/>
                  <a:pt x="389" y="19"/>
                  <a:pt x="389" y="18"/>
                </a:cubicBezTo>
                <a:cubicBezTo>
                  <a:pt x="390" y="18"/>
                  <a:pt x="390" y="18"/>
                  <a:pt x="390" y="18"/>
                </a:cubicBezTo>
                <a:cubicBezTo>
                  <a:pt x="390" y="17"/>
                  <a:pt x="390" y="17"/>
                  <a:pt x="390" y="16"/>
                </a:cubicBezTo>
                <a:cubicBezTo>
                  <a:pt x="391" y="16"/>
                  <a:pt x="391" y="16"/>
                  <a:pt x="391" y="16"/>
                </a:cubicBezTo>
                <a:cubicBezTo>
                  <a:pt x="391" y="15"/>
                  <a:pt x="391" y="14"/>
                  <a:pt x="391" y="14"/>
                </a:cubicBezTo>
                <a:cubicBezTo>
                  <a:pt x="391" y="14"/>
                  <a:pt x="392" y="14"/>
                  <a:pt x="393" y="14"/>
                </a:cubicBezTo>
                <a:cubicBezTo>
                  <a:pt x="393" y="14"/>
                  <a:pt x="393" y="14"/>
                  <a:pt x="393" y="14"/>
                </a:cubicBezTo>
                <a:cubicBezTo>
                  <a:pt x="393" y="14"/>
                  <a:pt x="393" y="15"/>
                  <a:pt x="393" y="15"/>
                </a:cubicBezTo>
                <a:cubicBezTo>
                  <a:pt x="395" y="15"/>
                  <a:pt x="395" y="17"/>
                  <a:pt x="395" y="17"/>
                </a:cubicBezTo>
                <a:cubicBezTo>
                  <a:pt x="394" y="17"/>
                  <a:pt x="394" y="18"/>
                  <a:pt x="395" y="18"/>
                </a:cubicBezTo>
                <a:cubicBezTo>
                  <a:pt x="395" y="18"/>
                  <a:pt x="395" y="18"/>
                  <a:pt x="395" y="18"/>
                </a:cubicBezTo>
                <a:cubicBezTo>
                  <a:pt x="396" y="18"/>
                  <a:pt x="396" y="17"/>
                  <a:pt x="397" y="17"/>
                </a:cubicBezTo>
                <a:cubicBezTo>
                  <a:pt x="397" y="18"/>
                  <a:pt x="397" y="18"/>
                  <a:pt x="398" y="19"/>
                </a:cubicBezTo>
                <a:cubicBezTo>
                  <a:pt x="398" y="19"/>
                  <a:pt x="398" y="19"/>
                  <a:pt x="399" y="19"/>
                </a:cubicBezTo>
                <a:cubicBezTo>
                  <a:pt x="399" y="19"/>
                  <a:pt x="399" y="19"/>
                  <a:pt x="399" y="19"/>
                </a:cubicBezTo>
                <a:cubicBezTo>
                  <a:pt x="399" y="18"/>
                  <a:pt x="399" y="18"/>
                  <a:pt x="399" y="18"/>
                </a:cubicBezTo>
                <a:cubicBezTo>
                  <a:pt x="400" y="18"/>
                  <a:pt x="400" y="18"/>
                  <a:pt x="401" y="18"/>
                </a:cubicBezTo>
                <a:cubicBezTo>
                  <a:pt x="401" y="18"/>
                  <a:pt x="401" y="18"/>
                  <a:pt x="401" y="18"/>
                </a:cubicBezTo>
                <a:moveTo>
                  <a:pt x="609" y="325"/>
                </a:moveTo>
                <a:cubicBezTo>
                  <a:pt x="608" y="313"/>
                  <a:pt x="607" y="300"/>
                  <a:pt x="605" y="288"/>
                </a:cubicBezTo>
                <a:cubicBezTo>
                  <a:pt x="590" y="288"/>
                  <a:pt x="575" y="288"/>
                  <a:pt x="558" y="288"/>
                </a:cubicBezTo>
                <a:cubicBezTo>
                  <a:pt x="537" y="287"/>
                  <a:pt x="514" y="287"/>
                  <a:pt x="492" y="287"/>
                </a:cubicBezTo>
                <a:cubicBezTo>
                  <a:pt x="492" y="287"/>
                  <a:pt x="490" y="292"/>
                  <a:pt x="489" y="294"/>
                </a:cubicBezTo>
                <a:cubicBezTo>
                  <a:pt x="488" y="294"/>
                  <a:pt x="488" y="294"/>
                  <a:pt x="488" y="294"/>
                </a:cubicBezTo>
                <a:cubicBezTo>
                  <a:pt x="488" y="295"/>
                  <a:pt x="488" y="295"/>
                  <a:pt x="488" y="295"/>
                </a:cubicBezTo>
                <a:cubicBezTo>
                  <a:pt x="487" y="295"/>
                  <a:pt x="487" y="295"/>
                  <a:pt x="487" y="295"/>
                </a:cubicBezTo>
                <a:cubicBezTo>
                  <a:pt x="486" y="295"/>
                  <a:pt x="486" y="295"/>
                  <a:pt x="484" y="295"/>
                </a:cubicBezTo>
                <a:cubicBezTo>
                  <a:pt x="484" y="295"/>
                  <a:pt x="484" y="295"/>
                  <a:pt x="484" y="295"/>
                </a:cubicBezTo>
                <a:cubicBezTo>
                  <a:pt x="483" y="295"/>
                  <a:pt x="483" y="295"/>
                  <a:pt x="483" y="295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2" y="296"/>
                  <a:pt x="482" y="296"/>
                  <a:pt x="482" y="296"/>
                </a:cubicBezTo>
                <a:cubicBezTo>
                  <a:pt x="481" y="296"/>
                  <a:pt x="481" y="296"/>
                  <a:pt x="480" y="296"/>
                </a:cubicBezTo>
                <a:cubicBezTo>
                  <a:pt x="480" y="295"/>
                  <a:pt x="479" y="295"/>
                  <a:pt x="479" y="295"/>
                </a:cubicBezTo>
                <a:cubicBezTo>
                  <a:pt x="479" y="295"/>
                  <a:pt x="478" y="294"/>
                  <a:pt x="478" y="294"/>
                </a:cubicBezTo>
                <a:cubicBezTo>
                  <a:pt x="478" y="294"/>
                  <a:pt x="475" y="294"/>
                  <a:pt x="473" y="294"/>
                </a:cubicBezTo>
                <a:cubicBezTo>
                  <a:pt x="473" y="294"/>
                  <a:pt x="473" y="294"/>
                  <a:pt x="473" y="294"/>
                </a:cubicBezTo>
                <a:cubicBezTo>
                  <a:pt x="472" y="294"/>
                  <a:pt x="472" y="294"/>
                  <a:pt x="472" y="294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473" y="295"/>
                  <a:pt x="474" y="295"/>
                  <a:pt x="477" y="296"/>
                </a:cubicBezTo>
                <a:cubicBezTo>
                  <a:pt x="478" y="296"/>
                  <a:pt x="478" y="297"/>
                  <a:pt x="478" y="297"/>
                </a:cubicBezTo>
                <a:cubicBezTo>
                  <a:pt x="478" y="298"/>
                  <a:pt x="478" y="298"/>
                  <a:pt x="478" y="298"/>
                </a:cubicBezTo>
                <a:cubicBezTo>
                  <a:pt x="478" y="299"/>
                  <a:pt x="478" y="299"/>
                  <a:pt x="479" y="300"/>
                </a:cubicBezTo>
                <a:cubicBezTo>
                  <a:pt x="479" y="300"/>
                  <a:pt x="479" y="301"/>
                  <a:pt x="479" y="301"/>
                </a:cubicBezTo>
                <a:cubicBezTo>
                  <a:pt x="479" y="302"/>
                  <a:pt x="479" y="302"/>
                  <a:pt x="479" y="302"/>
                </a:cubicBezTo>
                <a:cubicBezTo>
                  <a:pt x="479" y="303"/>
                  <a:pt x="479" y="303"/>
                  <a:pt x="479" y="303"/>
                </a:cubicBezTo>
                <a:cubicBezTo>
                  <a:pt x="479" y="306"/>
                  <a:pt x="482" y="308"/>
                  <a:pt x="483" y="311"/>
                </a:cubicBezTo>
                <a:cubicBezTo>
                  <a:pt x="485" y="314"/>
                  <a:pt x="486" y="314"/>
                  <a:pt x="487" y="315"/>
                </a:cubicBezTo>
                <a:cubicBezTo>
                  <a:pt x="488" y="315"/>
                  <a:pt x="488" y="315"/>
                  <a:pt x="489" y="315"/>
                </a:cubicBezTo>
                <a:cubicBezTo>
                  <a:pt x="491" y="316"/>
                  <a:pt x="491" y="313"/>
                  <a:pt x="492" y="312"/>
                </a:cubicBezTo>
                <a:cubicBezTo>
                  <a:pt x="492" y="313"/>
                  <a:pt x="493" y="313"/>
                  <a:pt x="493" y="313"/>
                </a:cubicBezTo>
                <a:cubicBezTo>
                  <a:pt x="495" y="316"/>
                  <a:pt x="498" y="318"/>
                  <a:pt x="499" y="321"/>
                </a:cubicBezTo>
                <a:cubicBezTo>
                  <a:pt x="505" y="332"/>
                  <a:pt x="505" y="332"/>
                  <a:pt x="505" y="332"/>
                </a:cubicBezTo>
                <a:cubicBezTo>
                  <a:pt x="505" y="333"/>
                  <a:pt x="505" y="333"/>
                  <a:pt x="505" y="333"/>
                </a:cubicBezTo>
                <a:cubicBezTo>
                  <a:pt x="504" y="335"/>
                  <a:pt x="504" y="337"/>
                  <a:pt x="505" y="339"/>
                </a:cubicBezTo>
                <a:cubicBezTo>
                  <a:pt x="506" y="341"/>
                  <a:pt x="509" y="340"/>
                  <a:pt x="510" y="341"/>
                </a:cubicBezTo>
                <a:cubicBezTo>
                  <a:pt x="511" y="342"/>
                  <a:pt x="516" y="352"/>
                  <a:pt x="516" y="352"/>
                </a:cubicBezTo>
                <a:cubicBezTo>
                  <a:pt x="518" y="356"/>
                  <a:pt x="514" y="362"/>
                  <a:pt x="519" y="364"/>
                </a:cubicBezTo>
                <a:cubicBezTo>
                  <a:pt x="519" y="364"/>
                  <a:pt x="525" y="368"/>
                  <a:pt x="527" y="373"/>
                </a:cubicBezTo>
                <a:cubicBezTo>
                  <a:pt x="527" y="376"/>
                  <a:pt x="528" y="376"/>
                  <a:pt x="529" y="377"/>
                </a:cubicBezTo>
                <a:cubicBezTo>
                  <a:pt x="531" y="379"/>
                  <a:pt x="531" y="379"/>
                  <a:pt x="538" y="397"/>
                </a:cubicBezTo>
                <a:cubicBezTo>
                  <a:pt x="538" y="401"/>
                  <a:pt x="538" y="404"/>
                  <a:pt x="538" y="408"/>
                </a:cubicBezTo>
                <a:cubicBezTo>
                  <a:pt x="539" y="414"/>
                  <a:pt x="547" y="415"/>
                  <a:pt x="549" y="412"/>
                </a:cubicBezTo>
                <a:cubicBezTo>
                  <a:pt x="553" y="408"/>
                  <a:pt x="553" y="408"/>
                  <a:pt x="555" y="407"/>
                </a:cubicBezTo>
                <a:cubicBezTo>
                  <a:pt x="557" y="407"/>
                  <a:pt x="559" y="407"/>
                  <a:pt x="561" y="407"/>
                </a:cubicBezTo>
                <a:cubicBezTo>
                  <a:pt x="561" y="407"/>
                  <a:pt x="561" y="407"/>
                  <a:pt x="561" y="407"/>
                </a:cubicBezTo>
                <a:cubicBezTo>
                  <a:pt x="562" y="408"/>
                  <a:pt x="562" y="408"/>
                  <a:pt x="563" y="408"/>
                </a:cubicBezTo>
                <a:cubicBezTo>
                  <a:pt x="563" y="408"/>
                  <a:pt x="563" y="408"/>
                  <a:pt x="563" y="408"/>
                </a:cubicBezTo>
                <a:cubicBezTo>
                  <a:pt x="564" y="408"/>
                  <a:pt x="564" y="407"/>
                  <a:pt x="565" y="406"/>
                </a:cubicBezTo>
                <a:cubicBezTo>
                  <a:pt x="569" y="400"/>
                  <a:pt x="577" y="402"/>
                  <a:pt x="582" y="397"/>
                </a:cubicBezTo>
                <a:cubicBezTo>
                  <a:pt x="583" y="396"/>
                  <a:pt x="583" y="396"/>
                  <a:pt x="586" y="396"/>
                </a:cubicBezTo>
                <a:cubicBezTo>
                  <a:pt x="587" y="395"/>
                  <a:pt x="587" y="395"/>
                  <a:pt x="587" y="395"/>
                </a:cubicBezTo>
                <a:cubicBezTo>
                  <a:pt x="587" y="392"/>
                  <a:pt x="587" y="392"/>
                  <a:pt x="588" y="391"/>
                </a:cubicBezTo>
                <a:cubicBezTo>
                  <a:pt x="589" y="391"/>
                  <a:pt x="589" y="391"/>
                  <a:pt x="591" y="390"/>
                </a:cubicBezTo>
                <a:cubicBezTo>
                  <a:pt x="593" y="389"/>
                  <a:pt x="593" y="389"/>
                  <a:pt x="601" y="389"/>
                </a:cubicBezTo>
                <a:cubicBezTo>
                  <a:pt x="601" y="389"/>
                  <a:pt x="601" y="385"/>
                  <a:pt x="603" y="382"/>
                </a:cubicBezTo>
                <a:cubicBezTo>
                  <a:pt x="605" y="382"/>
                  <a:pt x="606" y="382"/>
                  <a:pt x="608" y="382"/>
                </a:cubicBezTo>
                <a:cubicBezTo>
                  <a:pt x="609" y="379"/>
                  <a:pt x="610" y="376"/>
                  <a:pt x="610" y="376"/>
                </a:cubicBezTo>
                <a:cubicBezTo>
                  <a:pt x="611" y="365"/>
                  <a:pt x="610" y="354"/>
                  <a:pt x="610" y="342"/>
                </a:cubicBezTo>
                <a:cubicBezTo>
                  <a:pt x="609" y="343"/>
                  <a:pt x="609" y="343"/>
                  <a:pt x="609" y="343"/>
                </a:cubicBezTo>
                <a:cubicBezTo>
                  <a:pt x="608" y="342"/>
                  <a:pt x="609" y="340"/>
                  <a:pt x="608" y="339"/>
                </a:cubicBezTo>
                <a:cubicBezTo>
                  <a:pt x="607" y="339"/>
                  <a:pt x="607" y="339"/>
                  <a:pt x="607" y="338"/>
                </a:cubicBezTo>
                <a:cubicBezTo>
                  <a:pt x="607" y="335"/>
                  <a:pt x="606" y="333"/>
                  <a:pt x="606" y="331"/>
                </a:cubicBezTo>
                <a:cubicBezTo>
                  <a:pt x="606" y="330"/>
                  <a:pt x="606" y="330"/>
                  <a:pt x="605" y="329"/>
                </a:cubicBezTo>
                <a:cubicBezTo>
                  <a:pt x="602" y="331"/>
                  <a:pt x="602" y="331"/>
                  <a:pt x="601" y="340"/>
                </a:cubicBezTo>
                <a:cubicBezTo>
                  <a:pt x="600" y="340"/>
                  <a:pt x="599" y="340"/>
                  <a:pt x="597" y="340"/>
                </a:cubicBezTo>
                <a:cubicBezTo>
                  <a:pt x="596" y="340"/>
                  <a:pt x="596" y="340"/>
                  <a:pt x="596" y="340"/>
                </a:cubicBezTo>
                <a:cubicBezTo>
                  <a:pt x="595" y="340"/>
                  <a:pt x="594" y="339"/>
                  <a:pt x="593" y="339"/>
                </a:cubicBezTo>
                <a:cubicBezTo>
                  <a:pt x="592" y="339"/>
                  <a:pt x="592" y="339"/>
                  <a:pt x="592" y="339"/>
                </a:cubicBezTo>
                <a:cubicBezTo>
                  <a:pt x="589" y="341"/>
                  <a:pt x="589" y="341"/>
                  <a:pt x="588" y="343"/>
                </a:cubicBezTo>
                <a:cubicBezTo>
                  <a:pt x="588" y="343"/>
                  <a:pt x="584" y="342"/>
                  <a:pt x="584" y="337"/>
                </a:cubicBezTo>
                <a:cubicBezTo>
                  <a:pt x="584" y="337"/>
                  <a:pt x="584" y="336"/>
                  <a:pt x="585" y="336"/>
                </a:cubicBezTo>
                <a:cubicBezTo>
                  <a:pt x="586" y="335"/>
                  <a:pt x="586" y="335"/>
                  <a:pt x="587" y="335"/>
                </a:cubicBezTo>
                <a:cubicBezTo>
                  <a:pt x="587" y="335"/>
                  <a:pt x="588" y="335"/>
                  <a:pt x="588" y="335"/>
                </a:cubicBezTo>
                <a:cubicBezTo>
                  <a:pt x="594" y="338"/>
                  <a:pt x="594" y="334"/>
                  <a:pt x="594" y="334"/>
                </a:cubicBezTo>
                <a:cubicBezTo>
                  <a:pt x="593" y="334"/>
                  <a:pt x="593" y="334"/>
                  <a:pt x="593" y="334"/>
                </a:cubicBezTo>
                <a:cubicBezTo>
                  <a:pt x="592" y="333"/>
                  <a:pt x="592" y="333"/>
                  <a:pt x="591" y="333"/>
                </a:cubicBezTo>
                <a:cubicBezTo>
                  <a:pt x="591" y="333"/>
                  <a:pt x="590" y="333"/>
                  <a:pt x="590" y="334"/>
                </a:cubicBezTo>
                <a:cubicBezTo>
                  <a:pt x="589" y="334"/>
                  <a:pt x="589" y="334"/>
                  <a:pt x="588" y="334"/>
                </a:cubicBezTo>
                <a:cubicBezTo>
                  <a:pt x="585" y="333"/>
                  <a:pt x="582" y="333"/>
                  <a:pt x="580" y="332"/>
                </a:cubicBezTo>
                <a:cubicBezTo>
                  <a:pt x="579" y="332"/>
                  <a:pt x="578" y="332"/>
                  <a:pt x="578" y="332"/>
                </a:cubicBezTo>
                <a:cubicBezTo>
                  <a:pt x="578" y="330"/>
                  <a:pt x="578" y="327"/>
                  <a:pt x="577" y="325"/>
                </a:cubicBezTo>
                <a:cubicBezTo>
                  <a:pt x="576" y="324"/>
                  <a:pt x="576" y="324"/>
                  <a:pt x="570" y="321"/>
                </a:cubicBezTo>
                <a:cubicBezTo>
                  <a:pt x="568" y="316"/>
                  <a:pt x="565" y="311"/>
                  <a:pt x="565" y="305"/>
                </a:cubicBezTo>
                <a:cubicBezTo>
                  <a:pt x="566" y="301"/>
                  <a:pt x="571" y="303"/>
                  <a:pt x="572" y="303"/>
                </a:cubicBezTo>
                <a:cubicBezTo>
                  <a:pt x="572" y="304"/>
                  <a:pt x="572" y="304"/>
                  <a:pt x="576" y="308"/>
                </a:cubicBezTo>
                <a:cubicBezTo>
                  <a:pt x="578" y="310"/>
                  <a:pt x="578" y="310"/>
                  <a:pt x="580" y="314"/>
                </a:cubicBezTo>
                <a:cubicBezTo>
                  <a:pt x="581" y="317"/>
                  <a:pt x="584" y="317"/>
                  <a:pt x="586" y="319"/>
                </a:cubicBezTo>
                <a:cubicBezTo>
                  <a:pt x="589" y="323"/>
                  <a:pt x="590" y="323"/>
                  <a:pt x="598" y="324"/>
                </a:cubicBezTo>
                <a:cubicBezTo>
                  <a:pt x="599" y="324"/>
                  <a:pt x="599" y="324"/>
                  <a:pt x="599" y="324"/>
                </a:cubicBezTo>
                <a:cubicBezTo>
                  <a:pt x="599" y="324"/>
                  <a:pt x="600" y="324"/>
                  <a:pt x="600" y="324"/>
                </a:cubicBezTo>
                <a:cubicBezTo>
                  <a:pt x="601" y="324"/>
                  <a:pt x="602" y="324"/>
                  <a:pt x="604" y="323"/>
                </a:cubicBezTo>
                <a:cubicBezTo>
                  <a:pt x="604" y="323"/>
                  <a:pt x="605" y="323"/>
                  <a:pt x="605" y="323"/>
                </a:cubicBezTo>
                <a:cubicBezTo>
                  <a:pt x="607" y="323"/>
                  <a:pt x="607" y="323"/>
                  <a:pt x="609" y="325"/>
                </a:cubicBezTo>
                <a:cubicBezTo>
                  <a:pt x="609" y="325"/>
                  <a:pt x="609" y="325"/>
                  <a:pt x="609" y="325"/>
                </a:cubicBezTo>
                <a:moveTo>
                  <a:pt x="680" y="160"/>
                </a:moveTo>
                <a:cubicBezTo>
                  <a:pt x="671" y="147"/>
                  <a:pt x="657" y="130"/>
                  <a:pt x="646" y="118"/>
                </a:cubicBezTo>
                <a:cubicBezTo>
                  <a:pt x="649" y="120"/>
                  <a:pt x="614" y="121"/>
                  <a:pt x="550" y="121"/>
                </a:cubicBezTo>
                <a:cubicBezTo>
                  <a:pt x="577" y="168"/>
                  <a:pt x="596" y="225"/>
                  <a:pt x="605" y="288"/>
                </a:cubicBezTo>
                <a:cubicBezTo>
                  <a:pt x="690" y="289"/>
                  <a:pt x="736" y="287"/>
                  <a:pt x="736" y="284"/>
                </a:cubicBezTo>
                <a:cubicBezTo>
                  <a:pt x="730" y="264"/>
                  <a:pt x="730" y="264"/>
                  <a:pt x="730" y="264"/>
                </a:cubicBezTo>
                <a:cubicBezTo>
                  <a:pt x="718" y="228"/>
                  <a:pt x="718" y="227"/>
                  <a:pt x="709" y="210"/>
                </a:cubicBezTo>
                <a:cubicBezTo>
                  <a:pt x="693" y="178"/>
                  <a:pt x="690" y="173"/>
                  <a:pt x="680" y="160"/>
                </a:cubicBezTo>
                <a:moveTo>
                  <a:pt x="415" y="119"/>
                </a:moveTo>
                <a:cubicBezTo>
                  <a:pt x="416" y="119"/>
                  <a:pt x="418" y="119"/>
                  <a:pt x="420" y="119"/>
                </a:cubicBezTo>
                <a:cubicBezTo>
                  <a:pt x="419" y="119"/>
                  <a:pt x="419" y="119"/>
                  <a:pt x="419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8" y="119"/>
                </a:cubicBezTo>
                <a:cubicBezTo>
                  <a:pt x="418" y="119"/>
                  <a:pt x="418" y="119"/>
                  <a:pt x="417" y="118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7" y="117"/>
                  <a:pt x="417" y="117"/>
                  <a:pt x="417" y="117"/>
                </a:cubicBezTo>
                <a:cubicBezTo>
                  <a:pt x="416" y="117"/>
                  <a:pt x="416" y="117"/>
                  <a:pt x="415" y="117"/>
                </a:cubicBezTo>
                <a:cubicBezTo>
                  <a:pt x="415" y="117"/>
                  <a:pt x="415" y="117"/>
                  <a:pt x="415" y="117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4" y="118"/>
                  <a:pt x="414" y="118"/>
                  <a:pt x="414" y="118"/>
                </a:cubicBezTo>
                <a:cubicBezTo>
                  <a:pt x="415" y="119"/>
                  <a:pt x="415" y="119"/>
                  <a:pt x="415" y="119"/>
                </a:cubicBezTo>
                <a:moveTo>
                  <a:pt x="416" y="52"/>
                </a:moveTo>
                <a:cubicBezTo>
                  <a:pt x="416" y="51"/>
                  <a:pt x="416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5" y="50"/>
                  <a:pt x="415" y="50"/>
                  <a:pt x="415" y="50"/>
                </a:cubicBezTo>
                <a:cubicBezTo>
                  <a:pt x="414" y="50"/>
                  <a:pt x="414" y="50"/>
                  <a:pt x="413" y="50"/>
                </a:cubicBezTo>
                <a:cubicBezTo>
                  <a:pt x="414" y="50"/>
                  <a:pt x="414" y="50"/>
                  <a:pt x="414" y="50"/>
                </a:cubicBezTo>
                <a:cubicBezTo>
                  <a:pt x="414" y="51"/>
                  <a:pt x="414" y="51"/>
                  <a:pt x="414" y="51"/>
                </a:cubicBezTo>
                <a:cubicBezTo>
                  <a:pt x="414" y="51"/>
                  <a:pt x="414" y="52"/>
                  <a:pt x="414" y="52"/>
                </a:cubicBezTo>
                <a:cubicBezTo>
                  <a:pt x="415" y="52"/>
                  <a:pt x="415" y="52"/>
                  <a:pt x="416" y="52"/>
                </a:cubicBezTo>
                <a:moveTo>
                  <a:pt x="550" y="121"/>
                </a:moveTo>
                <a:cubicBezTo>
                  <a:pt x="537" y="99"/>
                  <a:pt x="522" y="79"/>
                  <a:pt x="507" y="62"/>
                </a:cubicBezTo>
                <a:cubicBezTo>
                  <a:pt x="507" y="63"/>
                  <a:pt x="507" y="63"/>
                  <a:pt x="507" y="63"/>
                </a:cubicBezTo>
                <a:cubicBezTo>
                  <a:pt x="506" y="64"/>
                  <a:pt x="506" y="64"/>
                  <a:pt x="506" y="64"/>
                </a:cubicBezTo>
                <a:cubicBezTo>
                  <a:pt x="505" y="63"/>
                  <a:pt x="504" y="63"/>
                  <a:pt x="504" y="63"/>
                </a:cubicBezTo>
                <a:cubicBezTo>
                  <a:pt x="504" y="63"/>
                  <a:pt x="504" y="63"/>
                  <a:pt x="503" y="63"/>
                </a:cubicBezTo>
                <a:cubicBezTo>
                  <a:pt x="503" y="64"/>
                  <a:pt x="504" y="65"/>
                  <a:pt x="504" y="65"/>
                </a:cubicBezTo>
                <a:cubicBezTo>
                  <a:pt x="504" y="65"/>
                  <a:pt x="503" y="65"/>
                  <a:pt x="503" y="65"/>
                </a:cubicBezTo>
                <a:cubicBezTo>
                  <a:pt x="501" y="64"/>
                  <a:pt x="501" y="64"/>
                  <a:pt x="498" y="61"/>
                </a:cubicBezTo>
                <a:cubicBezTo>
                  <a:pt x="497" y="62"/>
                  <a:pt x="497" y="62"/>
                  <a:pt x="497" y="62"/>
                </a:cubicBezTo>
                <a:cubicBezTo>
                  <a:pt x="497" y="62"/>
                  <a:pt x="497" y="62"/>
                  <a:pt x="496" y="62"/>
                </a:cubicBezTo>
                <a:cubicBezTo>
                  <a:pt x="496" y="63"/>
                  <a:pt x="496" y="63"/>
                  <a:pt x="496" y="63"/>
                </a:cubicBezTo>
                <a:cubicBezTo>
                  <a:pt x="495" y="63"/>
                  <a:pt x="495" y="63"/>
                  <a:pt x="495" y="63"/>
                </a:cubicBezTo>
                <a:cubicBezTo>
                  <a:pt x="494" y="63"/>
                  <a:pt x="494" y="63"/>
                  <a:pt x="494" y="63"/>
                </a:cubicBezTo>
                <a:cubicBezTo>
                  <a:pt x="494" y="64"/>
                  <a:pt x="493" y="64"/>
                  <a:pt x="493" y="64"/>
                </a:cubicBezTo>
                <a:cubicBezTo>
                  <a:pt x="492" y="65"/>
                  <a:pt x="492" y="65"/>
                  <a:pt x="492" y="65"/>
                </a:cubicBezTo>
                <a:cubicBezTo>
                  <a:pt x="490" y="65"/>
                  <a:pt x="490" y="65"/>
                  <a:pt x="490" y="67"/>
                </a:cubicBezTo>
                <a:cubicBezTo>
                  <a:pt x="489" y="67"/>
                  <a:pt x="489" y="67"/>
                  <a:pt x="488" y="67"/>
                </a:cubicBezTo>
                <a:cubicBezTo>
                  <a:pt x="487" y="68"/>
                  <a:pt x="487" y="68"/>
                  <a:pt x="487" y="68"/>
                </a:cubicBezTo>
                <a:cubicBezTo>
                  <a:pt x="490" y="70"/>
                  <a:pt x="490" y="70"/>
                  <a:pt x="490" y="70"/>
                </a:cubicBezTo>
                <a:cubicBezTo>
                  <a:pt x="489" y="72"/>
                  <a:pt x="489" y="72"/>
                  <a:pt x="486" y="73"/>
                </a:cubicBezTo>
                <a:cubicBezTo>
                  <a:pt x="486" y="73"/>
                  <a:pt x="486" y="73"/>
                  <a:pt x="486" y="73"/>
                </a:cubicBezTo>
                <a:cubicBezTo>
                  <a:pt x="480" y="69"/>
                  <a:pt x="480" y="69"/>
                  <a:pt x="480" y="68"/>
                </a:cubicBezTo>
                <a:cubicBezTo>
                  <a:pt x="481" y="68"/>
                  <a:pt x="482" y="68"/>
                  <a:pt x="483" y="68"/>
                </a:cubicBezTo>
                <a:cubicBezTo>
                  <a:pt x="483" y="67"/>
                  <a:pt x="482" y="66"/>
                  <a:pt x="482" y="65"/>
                </a:cubicBezTo>
                <a:cubicBezTo>
                  <a:pt x="481" y="65"/>
                  <a:pt x="481" y="65"/>
                  <a:pt x="480" y="65"/>
                </a:cubicBezTo>
                <a:cubicBezTo>
                  <a:pt x="479" y="64"/>
                  <a:pt x="479" y="64"/>
                  <a:pt x="477" y="63"/>
                </a:cubicBezTo>
                <a:cubicBezTo>
                  <a:pt x="477" y="63"/>
                  <a:pt x="477" y="63"/>
                  <a:pt x="476" y="63"/>
                </a:cubicBezTo>
                <a:cubicBezTo>
                  <a:pt x="476" y="63"/>
                  <a:pt x="476" y="63"/>
                  <a:pt x="476" y="63"/>
                </a:cubicBezTo>
                <a:cubicBezTo>
                  <a:pt x="475" y="62"/>
                  <a:pt x="475" y="62"/>
                  <a:pt x="473" y="62"/>
                </a:cubicBezTo>
                <a:cubicBezTo>
                  <a:pt x="472" y="62"/>
                  <a:pt x="472" y="62"/>
                  <a:pt x="472" y="62"/>
                </a:cubicBezTo>
                <a:cubicBezTo>
                  <a:pt x="471" y="63"/>
                  <a:pt x="471" y="63"/>
                  <a:pt x="472" y="63"/>
                </a:cubicBezTo>
                <a:cubicBezTo>
                  <a:pt x="472" y="64"/>
                  <a:pt x="472" y="64"/>
                  <a:pt x="473" y="64"/>
                </a:cubicBezTo>
                <a:cubicBezTo>
                  <a:pt x="475" y="65"/>
                  <a:pt x="476" y="67"/>
                  <a:pt x="476" y="68"/>
                </a:cubicBezTo>
                <a:cubicBezTo>
                  <a:pt x="476" y="69"/>
                  <a:pt x="476" y="70"/>
                  <a:pt x="478" y="71"/>
                </a:cubicBezTo>
                <a:cubicBezTo>
                  <a:pt x="479" y="71"/>
                  <a:pt x="479" y="71"/>
                  <a:pt x="481" y="73"/>
                </a:cubicBezTo>
                <a:cubicBezTo>
                  <a:pt x="481" y="73"/>
                  <a:pt x="481" y="73"/>
                  <a:pt x="481" y="73"/>
                </a:cubicBezTo>
                <a:cubicBezTo>
                  <a:pt x="481" y="75"/>
                  <a:pt x="482" y="76"/>
                  <a:pt x="483" y="77"/>
                </a:cubicBezTo>
                <a:cubicBezTo>
                  <a:pt x="480" y="77"/>
                  <a:pt x="480" y="77"/>
                  <a:pt x="480" y="76"/>
                </a:cubicBezTo>
                <a:cubicBezTo>
                  <a:pt x="479" y="75"/>
                  <a:pt x="479" y="75"/>
                  <a:pt x="479" y="75"/>
                </a:cubicBezTo>
                <a:cubicBezTo>
                  <a:pt x="479" y="75"/>
                  <a:pt x="479" y="75"/>
                  <a:pt x="474" y="75"/>
                </a:cubicBezTo>
                <a:cubicBezTo>
                  <a:pt x="474" y="76"/>
                  <a:pt x="474" y="77"/>
                  <a:pt x="474" y="77"/>
                </a:cubicBezTo>
                <a:cubicBezTo>
                  <a:pt x="471" y="78"/>
                  <a:pt x="471" y="78"/>
                  <a:pt x="471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0" y="80"/>
                  <a:pt x="470" y="80"/>
                  <a:pt x="470" y="80"/>
                </a:cubicBezTo>
                <a:cubicBezTo>
                  <a:pt x="471" y="82"/>
                  <a:pt x="474" y="83"/>
                  <a:pt x="475" y="85"/>
                </a:cubicBezTo>
                <a:cubicBezTo>
                  <a:pt x="474" y="85"/>
                  <a:pt x="474" y="85"/>
                  <a:pt x="474" y="85"/>
                </a:cubicBezTo>
                <a:cubicBezTo>
                  <a:pt x="471" y="85"/>
                  <a:pt x="471" y="85"/>
                  <a:pt x="470" y="85"/>
                </a:cubicBezTo>
                <a:cubicBezTo>
                  <a:pt x="470" y="85"/>
                  <a:pt x="470" y="85"/>
                  <a:pt x="469" y="85"/>
                </a:cubicBezTo>
                <a:cubicBezTo>
                  <a:pt x="464" y="84"/>
                  <a:pt x="462" y="82"/>
                  <a:pt x="462" y="81"/>
                </a:cubicBezTo>
                <a:cubicBezTo>
                  <a:pt x="461" y="82"/>
                  <a:pt x="461" y="82"/>
                  <a:pt x="460" y="83"/>
                </a:cubicBezTo>
                <a:cubicBezTo>
                  <a:pt x="460" y="84"/>
                  <a:pt x="460" y="85"/>
                  <a:pt x="463" y="85"/>
                </a:cubicBezTo>
                <a:cubicBezTo>
                  <a:pt x="463" y="86"/>
                  <a:pt x="463" y="86"/>
                  <a:pt x="463" y="86"/>
                </a:cubicBezTo>
                <a:cubicBezTo>
                  <a:pt x="464" y="87"/>
                  <a:pt x="464" y="87"/>
                  <a:pt x="464" y="87"/>
                </a:cubicBezTo>
                <a:cubicBezTo>
                  <a:pt x="466" y="87"/>
                  <a:pt x="467" y="87"/>
                  <a:pt x="468" y="88"/>
                </a:cubicBezTo>
                <a:cubicBezTo>
                  <a:pt x="468" y="89"/>
                  <a:pt x="468" y="89"/>
                  <a:pt x="468" y="89"/>
                </a:cubicBezTo>
                <a:cubicBezTo>
                  <a:pt x="467" y="89"/>
                  <a:pt x="466" y="89"/>
                  <a:pt x="465" y="89"/>
                </a:cubicBezTo>
                <a:cubicBezTo>
                  <a:pt x="464" y="90"/>
                  <a:pt x="464" y="90"/>
                  <a:pt x="464" y="90"/>
                </a:cubicBezTo>
                <a:cubicBezTo>
                  <a:pt x="455" y="83"/>
                  <a:pt x="455" y="83"/>
                  <a:pt x="455" y="83"/>
                </a:cubicBezTo>
                <a:cubicBezTo>
                  <a:pt x="454" y="83"/>
                  <a:pt x="453" y="83"/>
                  <a:pt x="453" y="83"/>
                </a:cubicBezTo>
                <a:cubicBezTo>
                  <a:pt x="452" y="80"/>
                  <a:pt x="452" y="80"/>
                  <a:pt x="452" y="80"/>
                </a:cubicBezTo>
                <a:cubicBezTo>
                  <a:pt x="450" y="75"/>
                  <a:pt x="443" y="75"/>
                  <a:pt x="441" y="70"/>
                </a:cubicBezTo>
                <a:cubicBezTo>
                  <a:pt x="443" y="71"/>
                  <a:pt x="452" y="74"/>
                  <a:pt x="452" y="74"/>
                </a:cubicBezTo>
                <a:cubicBezTo>
                  <a:pt x="454" y="74"/>
                  <a:pt x="455" y="75"/>
                  <a:pt x="457" y="75"/>
                </a:cubicBezTo>
                <a:cubicBezTo>
                  <a:pt x="459" y="75"/>
                  <a:pt x="460" y="76"/>
                  <a:pt x="462" y="76"/>
                </a:cubicBezTo>
                <a:cubicBezTo>
                  <a:pt x="463" y="76"/>
                  <a:pt x="463" y="76"/>
                  <a:pt x="464" y="76"/>
                </a:cubicBezTo>
                <a:cubicBezTo>
                  <a:pt x="464" y="76"/>
                  <a:pt x="464" y="76"/>
                  <a:pt x="464" y="76"/>
                </a:cubicBezTo>
                <a:cubicBezTo>
                  <a:pt x="477" y="72"/>
                  <a:pt x="464" y="66"/>
                  <a:pt x="464" y="66"/>
                </a:cubicBezTo>
                <a:cubicBezTo>
                  <a:pt x="454" y="62"/>
                  <a:pt x="454" y="62"/>
                  <a:pt x="454" y="62"/>
                </a:cubicBezTo>
                <a:cubicBezTo>
                  <a:pt x="453" y="61"/>
                  <a:pt x="452" y="61"/>
                  <a:pt x="451" y="61"/>
                </a:cubicBezTo>
                <a:cubicBezTo>
                  <a:pt x="450" y="60"/>
                  <a:pt x="450" y="60"/>
                  <a:pt x="447" y="60"/>
                </a:cubicBezTo>
                <a:cubicBezTo>
                  <a:pt x="446" y="60"/>
                  <a:pt x="446" y="60"/>
                  <a:pt x="446" y="60"/>
                </a:cubicBezTo>
                <a:cubicBezTo>
                  <a:pt x="445" y="60"/>
                  <a:pt x="444" y="59"/>
                  <a:pt x="443" y="58"/>
                </a:cubicBezTo>
                <a:cubicBezTo>
                  <a:pt x="442" y="58"/>
                  <a:pt x="441" y="58"/>
                  <a:pt x="441" y="58"/>
                </a:cubicBezTo>
                <a:cubicBezTo>
                  <a:pt x="441" y="59"/>
                  <a:pt x="441" y="59"/>
                  <a:pt x="441" y="59"/>
                </a:cubicBezTo>
                <a:cubicBezTo>
                  <a:pt x="440" y="60"/>
                  <a:pt x="440" y="60"/>
                  <a:pt x="440" y="60"/>
                </a:cubicBezTo>
                <a:cubicBezTo>
                  <a:pt x="439" y="59"/>
                  <a:pt x="439" y="59"/>
                  <a:pt x="439" y="59"/>
                </a:cubicBezTo>
                <a:cubicBezTo>
                  <a:pt x="439" y="59"/>
                  <a:pt x="439" y="58"/>
                  <a:pt x="439" y="58"/>
                </a:cubicBezTo>
                <a:cubicBezTo>
                  <a:pt x="439" y="57"/>
                  <a:pt x="439" y="57"/>
                  <a:pt x="439" y="57"/>
                </a:cubicBezTo>
                <a:cubicBezTo>
                  <a:pt x="438" y="57"/>
                  <a:pt x="437" y="57"/>
                  <a:pt x="436" y="55"/>
                </a:cubicBezTo>
                <a:cubicBezTo>
                  <a:pt x="436" y="55"/>
                  <a:pt x="435" y="55"/>
                  <a:pt x="435" y="55"/>
                </a:cubicBezTo>
                <a:cubicBezTo>
                  <a:pt x="434" y="56"/>
                  <a:pt x="434" y="56"/>
                  <a:pt x="434" y="56"/>
                </a:cubicBezTo>
                <a:cubicBezTo>
                  <a:pt x="432" y="56"/>
                  <a:pt x="431" y="55"/>
                  <a:pt x="429" y="54"/>
                </a:cubicBezTo>
                <a:cubicBezTo>
                  <a:pt x="428" y="54"/>
                  <a:pt x="428" y="54"/>
                  <a:pt x="428" y="54"/>
                </a:cubicBezTo>
                <a:cubicBezTo>
                  <a:pt x="428" y="54"/>
                  <a:pt x="429" y="54"/>
                  <a:pt x="429" y="54"/>
                </a:cubicBezTo>
                <a:cubicBezTo>
                  <a:pt x="429" y="53"/>
                  <a:pt x="429" y="53"/>
                  <a:pt x="430" y="52"/>
                </a:cubicBezTo>
                <a:cubicBezTo>
                  <a:pt x="429" y="52"/>
                  <a:pt x="427" y="50"/>
                  <a:pt x="423" y="50"/>
                </a:cubicBezTo>
                <a:cubicBezTo>
                  <a:pt x="423" y="50"/>
                  <a:pt x="423" y="51"/>
                  <a:pt x="423" y="51"/>
                </a:cubicBezTo>
                <a:cubicBezTo>
                  <a:pt x="423" y="51"/>
                  <a:pt x="423" y="51"/>
                  <a:pt x="422" y="51"/>
                </a:cubicBezTo>
                <a:cubicBezTo>
                  <a:pt x="422" y="51"/>
                  <a:pt x="421" y="51"/>
                  <a:pt x="421" y="50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22" y="49"/>
                  <a:pt x="422" y="49"/>
                  <a:pt x="422" y="49"/>
                </a:cubicBezTo>
                <a:cubicBezTo>
                  <a:pt x="418" y="48"/>
                  <a:pt x="418" y="48"/>
                  <a:pt x="418" y="48"/>
                </a:cubicBezTo>
                <a:cubicBezTo>
                  <a:pt x="418" y="49"/>
                  <a:pt x="418" y="50"/>
                  <a:pt x="418" y="50"/>
                </a:cubicBezTo>
                <a:cubicBezTo>
                  <a:pt x="418" y="51"/>
                  <a:pt x="418" y="51"/>
                  <a:pt x="418" y="52"/>
                </a:cubicBezTo>
                <a:cubicBezTo>
                  <a:pt x="418" y="52"/>
                  <a:pt x="418" y="52"/>
                  <a:pt x="418" y="52"/>
                </a:cubicBezTo>
                <a:cubicBezTo>
                  <a:pt x="418" y="50"/>
                  <a:pt x="418" y="50"/>
                  <a:pt x="417" y="49"/>
                </a:cubicBezTo>
                <a:cubicBezTo>
                  <a:pt x="416" y="49"/>
                  <a:pt x="416" y="49"/>
                  <a:pt x="415" y="49"/>
                </a:cubicBezTo>
                <a:cubicBezTo>
                  <a:pt x="415" y="48"/>
                  <a:pt x="415" y="48"/>
                  <a:pt x="415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4" y="48"/>
                  <a:pt x="414" y="48"/>
                  <a:pt x="414" y="48"/>
                </a:cubicBezTo>
                <a:cubicBezTo>
                  <a:pt x="413" y="48"/>
                  <a:pt x="412" y="49"/>
                  <a:pt x="411" y="49"/>
                </a:cubicBezTo>
                <a:cubicBezTo>
                  <a:pt x="411" y="50"/>
                  <a:pt x="411" y="50"/>
                  <a:pt x="410" y="51"/>
                </a:cubicBezTo>
                <a:cubicBezTo>
                  <a:pt x="410" y="51"/>
                  <a:pt x="410" y="51"/>
                  <a:pt x="410" y="51"/>
                </a:cubicBezTo>
                <a:cubicBezTo>
                  <a:pt x="409" y="50"/>
                  <a:pt x="409" y="50"/>
                  <a:pt x="409" y="50"/>
                </a:cubicBezTo>
                <a:cubicBezTo>
                  <a:pt x="409" y="50"/>
                  <a:pt x="409" y="50"/>
                  <a:pt x="409" y="49"/>
                </a:cubicBezTo>
                <a:cubicBezTo>
                  <a:pt x="409" y="49"/>
                  <a:pt x="408" y="49"/>
                  <a:pt x="407" y="49"/>
                </a:cubicBezTo>
                <a:cubicBezTo>
                  <a:pt x="406" y="49"/>
                  <a:pt x="405" y="49"/>
                  <a:pt x="404" y="50"/>
                </a:cubicBezTo>
                <a:cubicBezTo>
                  <a:pt x="405" y="52"/>
                  <a:pt x="405" y="52"/>
                  <a:pt x="407" y="52"/>
                </a:cubicBezTo>
                <a:cubicBezTo>
                  <a:pt x="408" y="53"/>
                  <a:pt x="408" y="53"/>
                  <a:pt x="408" y="54"/>
                </a:cubicBezTo>
                <a:cubicBezTo>
                  <a:pt x="408" y="54"/>
                  <a:pt x="407" y="54"/>
                  <a:pt x="407" y="54"/>
                </a:cubicBezTo>
                <a:cubicBezTo>
                  <a:pt x="406" y="53"/>
                  <a:pt x="406" y="53"/>
                  <a:pt x="404" y="53"/>
                </a:cubicBezTo>
                <a:cubicBezTo>
                  <a:pt x="402" y="53"/>
                  <a:pt x="402" y="53"/>
                  <a:pt x="402" y="53"/>
                </a:cubicBezTo>
                <a:cubicBezTo>
                  <a:pt x="402" y="55"/>
                  <a:pt x="402" y="55"/>
                  <a:pt x="402" y="56"/>
                </a:cubicBezTo>
                <a:cubicBezTo>
                  <a:pt x="401" y="55"/>
                  <a:pt x="401" y="54"/>
                  <a:pt x="401" y="54"/>
                </a:cubicBezTo>
                <a:cubicBezTo>
                  <a:pt x="399" y="54"/>
                  <a:pt x="398" y="52"/>
                  <a:pt x="396" y="52"/>
                </a:cubicBezTo>
                <a:cubicBezTo>
                  <a:pt x="396" y="52"/>
                  <a:pt x="396" y="53"/>
                  <a:pt x="396" y="53"/>
                </a:cubicBezTo>
                <a:cubicBezTo>
                  <a:pt x="397" y="56"/>
                  <a:pt x="395" y="57"/>
                  <a:pt x="394" y="57"/>
                </a:cubicBezTo>
                <a:cubicBezTo>
                  <a:pt x="394" y="57"/>
                  <a:pt x="393" y="56"/>
                  <a:pt x="393" y="55"/>
                </a:cubicBezTo>
                <a:cubicBezTo>
                  <a:pt x="393" y="56"/>
                  <a:pt x="393" y="56"/>
                  <a:pt x="393" y="56"/>
                </a:cubicBezTo>
                <a:cubicBezTo>
                  <a:pt x="392" y="56"/>
                  <a:pt x="392" y="56"/>
                  <a:pt x="391" y="56"/>
                </a:cubicBezTo>
                <a:cubicBezTo>
                  <a:pt x="391" y="57"/>
                  <a:pt x="391" y="57"/>
                  <a:pt x="391" y="57"/>
                </a:cubicBezTo>
                <a:cubicBezTo>
                  <a:pt x="391" y="58"/>
                  <a:pt x="392" y="58"/>
                  <a:pt x="392" y="59"/>
                </a:cubicBezTo>
                <a:cubicBezTo>
                  <a:pt x="392" y="59"/>
                  <a:pt x="392" y="60"/>
                  <a:pt x="392" y="60"/>
                </a:cubicBezTo>
                <a:cubicBezTo>
                  <a:pt x="391" y="60"/>
                  <a:pt x="391" y="60"/>
                  <a:pt x="391" y="60"/>
                </a:cubicBezTo>
                <a:cubicBezTo>
                  <a:pt x="391" y="60"/>
                  <a:pt x="391" y="60"/>
                  <a:pt x="388" y="59"/>
                </a:cubicBezTo>
                <a:cubicBezTo>
                  <a:pt x="389" y="59"/>
                  <a:pt x="389" y="58"/>
                  <a:pt x="389" y="57"/>
                </a:cubicBezTo>
                <a:cubicBezTo>
                  <a:pt x="388" y="57"/>
                  <a:pt x="388" y="57"/>
                  <a:pt x="388" y="57"/>
                </a:cubicBezTo>
                <a:cubicBezTo>
                  <a:pt x="388" y="58"/>
                  <a:pt x="388" y="58"/>
                  <a:pt x="388" y="59"/>
                </a:cubicBezTo>
                <a:cubicBezTo>
                  <a:pt x="385" y="59"/>
                  <a:pt x="385" y="59"/>
                  <a:pt x="384" y="59"/>
                </a:cubicBezTo>
                <a:cubicBezTo>
                  <a:pt x="385" y="60"/>
                  <a:pt x="385" y="60"/>
                  <a:pt x="385" y="60"/>
                </a:cubicBezTo>
                <a:cubicBezTo>
                  <a:pt x="384" y="61"/>
                  <a:pt x="384" y="61"/>
                  <a:pt x="384" y="61"/>
                </a:cubicBezTo>
                <a:cubicBezTo>
                  <a:pt x="382" y="61"/>
                  <a:pt x="382" y="61"/>
                  <a:pt x="381" y="62"/>
                </a:cubicBezTo>
                <a:cubicBezTo>
                  <a:pt x="380" y="62"/>
                  <a:pt x="380" y="62"/>
                  <a:pt x="380" y="62"/>
                </a:cubicBezTo>
                <a:cubicBezTo>
                  <a:pt x="380" y="64"/>
                  <a:pt x="380" y="64"/>
                  <a:pt x="380" y="64"/>
                </a:cubicBezTo>
                <a:cubicBezTo>
                  <a:pt x="379" y="64"/>
                  <a:pt x="379" y="64"/>
                  <a:pt x="379" y="64"/>
                </a:cubicBezTo>
                <a:cubicBezTo>
                  <a:pt x="378" y="65"/>
                  <a:pt x="378" y="65"/>
                  <a:pt x="378" y="65"/>
                </a:cubicBezTo>
                <a:cubicBezTo>
                  <a:pt x="379" y="65"/>
                  <a:pt x="379" y="65"/>
                  <a:pt x="379" y="65"/>
                </a:cubicBezTo>
                <a:cubicBezTo>
                  <a:pt x="382" y="63"/>
                  <a:pt x="382" y="63"/>
                  <a:pt x="383" y="63"/>
                </a:cubicBezTo>
                <a:cubicBezTo>
                  <a:pt x="386" y="61"/>
                  <a:pt x="388" y="62"/>
                  <a:pt x="390" y="62"/>
                </a:cubicBezTo>
                <a:cubicBezTo>
                  <a:pt x="390" y="62"/>
                  <a:pt x="390" y="63"/>
                  <a:pt x="390" y="63"/>
                </a:cubicBezTo>
                <a:cubicBezTo>
                  <a:pt x="389" y="63"/>
                  <a:pt x="389" y="63"/>
                  <a:pt x="386" y="64"/>
                </a:cubicBezTo>
                <a:cubicBezTo>
                  <a:pt x="386" y="65"/>
                  <a:pt x="385" y="66"/>
                  <a:pt x="385" y="68"/>
                </a:cubicBezTo>
                <a:cubicBezTo>
                  <a:pt x="384" y="68"/>
                  <a:pt x="383" y="69"/>
                  <a:pt x="383" y="69"/>
                </a:cubicBezTo>
                <a:cubicBezTo>
                  <a:pt x="382" y="71"/>
                  <a:pt x="379" y="72"/>
                  <a:pt x="379" y="72"/>
                </a:cubicBezTo>
                <a:cubicBezTo>
                  <a:pt x="378" y="74"/>
                  <a:pt x="377" y="76"/>
                  <a:pt x="377" y="78"/>
                </a:cubicBezTo>
                <a:cubicBezTo>
                  <a:pt x="376" y="78"/>
                  <a:pt x="376" y="78"/>
                  <a:pt x="376" y="78"/>
                </a:cubicBezTo>
                <a:cubicBezTo>
                  <a:pt x="376" y="78"/>
                  <a:pt x="375" y="79"/>
                  <a:pt x="371" y="81"/>
                </a:cubicBezTo>
                <a:cubicBezTo>
                  <a:pt x="370" y="82"/>
                  <a:pt x="370" y="82"/>
                  <a:pt x="370" y="82"/>
                </a:cubicBezTo>
                <a:cubicBezTo>
                  <a:pt x="371" y="82"/>
                  <a:pt x="371" y="82"/>
                  <a:pt x="371" y="82"/>
                </a:cubicBezTo>
                <a:cubicBezTo>
                  <a:pt x="372" y="82"/>
                  <a:pt x="373" y="82"/>
                  <a:pt x="373" y="82"/>
                </a:cubicBezTo>
                <a:cubicBezTo>
                  <a:pt x="372" y="86"/>
                  <a:pt x="367" y="86"/>
                  <a:pt x="365" y="89"/>
                </a:cubicBezTo>
                <a:cubicBezTo>
                  <a:pt x="364" y="89"/>
                  <a:pt x="363" y="89"/>
                  <a:pt x="363" y="88"/>
                </a:cubicBezTo>
                <a:cubicBezTo>
                  <a:pt x="362" y="88"/>
                  <a:pt x="361" y="88"/>
                  <a:pt x="361" y="88"/>
                </a:cubicBezTo>
                <a:cubicBezTo>
                  <a:pt x="361" y="90"/>
                  <a:pt x="361" y="90"/>
                  <a:pt x="361" y="90"/>
                </a:cubicBezTo>
                <a:cubicBezTo>
                  <a:pt x="361" y="90"/>
                  <a:pt x="361" y="91"/>
                  <a:pt x="361" y="91"/>
                </a:cubicBezTo>
                <a:cubicBezTo>
                  <a:pt x="360" y="91"/>
                  <a:pt x="360" y="92"/>
                  <a:pt x="359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8" y="92"/>
                  <a:pt x="358" y="92"/>
                  <a:pt x="358" y="92"/>
                </a:cubicBezTo>
                <a:cubicBezTo>
                  <a:pt x="356" y="92"/>
                  <a:pt x="355" y="93"/>
                  <a:pt x="353" y="94"/>
                </a:cubicBezTo>
                <a:cubicBezTo>
                  <a:pt x="352" y="97"/>
                  <a:pt x="349" y="97"/>
                  <a:pt x="347" y="98"/>
                </a:cubicBezTo>
                <a:cubicBezTo>
                  <a:pt x="347" y="99"/>
                  <a:pt x="347" y="100"/>
                  <a:pt x="347" y="100"/>
                </a:cubicBezTo>
                <a:cubicBezTo>
                  <a:pt x="347" y="100"/>
                  <a:pt x="347" y="100"/>
                  <a:pt x="346" y="105"/>
                </a:cubicBezTo>
                <a:cubicBezTo>
                  <a:pt x="345" y="105"/>
                  <a:pt x="345" y="105"/>
                  <a:pt x="345" y="105"/>
                </a:cubicBezTo>
                <a:cubicBezTo>
                  <a:pt x="344" y="106"/>
                  <a:pt x="344" y="107"/>
                  <a:pt x="344" y="108"/>
                </a:cubicBezTo>
                <a:cubicBezTo>
                  <a:pt x="345" y="108"/>
                  <a:pt x="346" y="108"/>
                  <a:pt x="346" y="108"/>
                </a:cubicBezTo>
                <a:cubicBezTo>
                  <a:pt x="347" y="108"/>
                  <a:pt x="347" y="108"/>
                  <a:pt x="347" y="108"/>
                </a:cubicBezTo>
                <a:cubicBezTo>
                  <a:pt x="348" y="108"/>
                  <a:pt x="348" y="108"/>
                  <a:pt x="348" y="108"/>
                </a:cubicBezTo>
                <a:cubicBezTo>
                  <a:pt x="348" y="109"/>
                  <a:pt x="347" y="110"/>
                  <a:pt x="347" y="110"/>
                </a:cubicBezTo>
                <a:cubicBezTo>
                  <a:pt x="346" y="112"/>
                  <a:pt x="346" y="112"/>
                  <a:pt x="345" y="112"/>
                </a:cubicBezTo>
                <a:cubicBezTo>
                  <a:pt x="345" y="113"/>
                  <a:pt x="345" y="113"/>
                  <a:pt x="345" y="114"/>
                </a:cubicBezTo>
                <a:cubicBezTo>
                  <a:pt x="346" y="114"/>
                  <a:pt x="346" y="114"/>
                  <a:pt x="348" y="114"/>
                </a:cubicBezTo>
                <a:cubicBezTo>
                  <a:pt x="348" y="116"/>
                  <a:pt x="348" y="116"/>
                  <a:pt x="347" y="117"/>
                </a:cubicBezTo>
                <a:cubicBezTo>
                  <a:pt x="352" y="117"/>
                  <a:pt x="357" y="117"/>
                  <a:pt x="362" y="117"/>
                </a:cubicBezTo>
                <a:cubicBezTo>
                  <a:pt x="363" y="116"/>
                  <a:pt x="363" y="116"/>
                  <a:pt x="366" y="115"/>
                </a:cubicBezTo>
                <a:cubicBezTo>
                  <a:pt x="366" y="114"/>
                  <a:pt x="366" y="114"/>
                  <a:pt x="366" y="113"/>
                </a:cubicBezTo>
                <a:cubicBezTo>
                  <a:pt x="368" y="113"/>
                  <a:pt x="368" y="115"/>
                  <a:pt x="369" y="116"/>
                </a:cubicBezTo>
                <a:cubicBezTo>
                  <a:pt x="369" y="116"/>
                  <a:pt x="369" y="117"/>
                  <a:pt x="369" y="117"/>
                </a:cubicBezTo>
                <a:cubicBezTo>
                  <a:pt x="378" y="118"/>
                  <a:pt x="387" y="118"/>
                  <a:pt x="395" y="118"/>
                </a:cubicBezTo>
                <a:cubicBezTo>
                  <a:pt x="396" y="118"/>
                  <a:pt x="397" y="118"/>
                  <a:pt x="398" y="117"/>
                </a:cubicBezTo>
                <a:cubicBezTo>
                  <a:pt x="398" y="116"/>
                  <a:pt x="399" y="115"/>
                  <a:pt x="401" y="114"/>
                </a:cubicBezTo>
                <a:cubicBezTo>
                  <a:pt x="401" y="113"/>
                  <a:pt x="401" y="112"/>
                  <a:pt x="401" y="112"/>
                </a:cubicBezTo>
                <a:cubicBezTo>
                  <a:pt x="401" y="112"/>
                  <a:pt x="400" y="111"/>
                  <a:pt x="400" y="111"/>
                </a:cubicBezTo>
                <a:cubicBezTo>
                  <a:pt x="399" y="111"/>
                  <a:pt x="398" y="111"/>
                  <a:pt x="396" y="111"/>
                </a:cubicBezTo>
                <a:cubicBezTo>
                  <a:pt x="396" y="109"/>
                  <a:pt x="396" y="109"/>
                  <a:pt x="396" y="107"/>
                </a:cubicBezTo>
                <a:cubicBezTo>
                  <a:pt x="395" y="107"/>
                  <a:pt x="394" y="107"/>
                  <a:pt x="394" y="107"/>
                </a:cubicBezTo>
                <a:cubicBezTo>
                  <a:pt x="394" y="104"/>
                  <a:pt x="394" y="101"/>
                  <a:pt x="393" y="99"/>
                </a:cubicBezTo>
                <a:cubicBezTo>
                  <a:pt x="394" y="99"/>
                  <a:pt x="394" y="99"/>
                  <a:pt x="397" y="94"/>
                </a:cubicBezTo>
                <a:cubicBezTo>
                  <a:pt x="402" y="93"/>
                  <a:pt x="405" y="88"/>
                  <a:pt x="405" y="88"/>
                </a:cubicBezTo>
                <a:cubicBezTo>
                  <a:pt x="406" y="87"/>
                  <a:pt x="406" y="87"/>
                  <a:pt x="408" y="87"/>
                </a:cubicBezTo>
                <a:cubicBezTo>
                  <a:pt x="409" y="86"/>
                  <a:pt x="409" y="86"/>
                  <a:pt x="409" y="86"/>
                </a:cubicBezTo>
                <a:cubicBezTo>
                  <a:pt x="408" y="83"/>
                  <a:pt x="410" y="80"/>
                  <a:pt x="410" y="77"/>
                </a:cubicBezTo>
                <a:cubicBezTo>
                  <a:pt x="411" y="77"/>
                  <a:pt x="411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3" y="77"/>
                  <a:pt x="413" y="77"/>
                  <a:pt x="413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4" y="77"/>
                  <a:pt x="414" y="77"/>
                  <a:pt x="414" y="77"/>
                </a:cubicBezTo>
                <a:cubicBezTo>
                  <a:pt x="415" y="79"/>
                  <a:pt x="415" y="79"/>
                  <a:pt x="416" y="79"/>
                </a:cubicBezTo>
                <a:cubicBezTo>
                  <a:pt x="417" y="78"/>
                  <a:pt x="417" y="78"/>
                  <a:pt x="417" y="78"/>
                </a:cubicBezTo>
                <a:cubicBezTo>
                  <a:pt x="419" y="79"/>
                  <a:pt x="419" y="79"/>
                  <a:pt x="420" y="80"/>
                </a:cubicBezTo>
                <a:cubicBezTo>
                  <a:pt x="420" y="82"/>
                  <a:pt x="420" y="82"/>
                  <a:pt x="420" y="83"/>
                </a:cubicBezTo>
                <a:cubicBezTo>
                  <a:pt x="420" y="83"/>
                  <a:pt x="419" y="83"/>
                  <a:pt x="418" y="83"/>
                </a:cubicBezTo>
                <a:cubicBezTo>
                  <a:pt x="419" y="86"/>
                  <a:pt x="419" y="86"/>
                  <a:pt x="409" y="95"/>
                </a:cubicBezTo>
                <a:cubicBezTo>
                  <a:pt x="409" y="97"/>
                  <a:pt x="408" y="100"/>
                  <a:pt x="409" y="103"/>
                </a:cubicBezTo>
                <a:cubicBezTo>
                  <a:pt x="409" y="104"/>
                  <a:pt x="409" y="104"/>
                  <a:pt x="409" y="104"/>
                </a:cubicBezTo>
                <a:cubicBezTo>
                  <a:pt x="409" y="105"/>
                  <a:pt x="410" y="106"/>
                  <a:pt x="410" y="106"/>
                </a:cubicBezTo>
                <a:cubicBezTo>
                  <a:pt x="411" y="108"/>
                  <a:pt x="419" y="112"/>
                  <a:pt x="419" y="112"/>
                </a:cubicBezTo>
                <a:cubicBezTo>
                  <a:pt x="420" y="112"/>
                  <a:pt x="420" y="112"/>
                  <a:pt x="420" y="112"/>
                </a:cubicBezTo>
                <a:cubicBezTo>
                  <a:pt x="423" y="111"/>
                  <a:pt x="426" y="111"/>
                  <a:pt x="429" y="110"/>
                </a:cubicBezTo>
                <a:cubicBezTo>
                  <a:pt x="429" y="109"/>
                  <a:pt x="429" y="109"/>
                  <a:pt x="429" y="109"/>
                </a:cubicBezTo>
                <a:cubicBezTo>
                  <a:pt x="432" y="109"/>
                  <a:pt x="434" y="109"/>
                  <a:pt x="436" y="109"/>
                </a:cubicBezTo>
                <a:cubicBezTo>
                  <a:pt x="436" y="109"/>
                  <a:pt x="437" y="108"/>
                  <a:pt x="438" y="108"/>
                </a:cubicBezTo>
                <a:cubicBezTo>
                  <a:pt x="438" y="108"/>
                  <a:pt x="438" y="108"/>
                  <a:pt x="438" y="108"/>
                </a:cubicBezTo>
                <a:cubicBezTo>
                  <a:pt x="439" y="109"/>
                  <a:pt x="439" y="109"/>
                  <a:pt x="440" y="110"/>
                </a:cubicBezTo>
                <a:cubicBezTo>
                  <a:pt x="442" y="111"/>
                  <a:pt x="443" y="111"/>
                  <a:pt x="445" y="111"/>
                </a:cubicBezTo>
                <a:cubicBezTo>
                  <a:pt x="445" y="111"/>
                  <a:pt x="445" y="111"/>
                  <a:pt x="445" y="111"/>
                </a:cubicBezTo>
                <a:cubicBezTo>
                  <a:pt x="445" y="112"/>
                  <a:pt x="445" y="112"/>
                  <a:pt x="445" y="112"/>
                </a:cubicBezTo>
                <a:cubicBezTo>
                  <a:pt x="439" y="112"/>
                  <a:pt x="438" y="112"/>
                  <a:pt x="437" y="116"/>
                </a:cubicBezTo>
                <a:cubicBezTo>
                  <a:pt x="432" y="118"/>
                  <a:pt x="428" y="114"/>
                  <a:pt x="424" y="116"/>
                </a:cubicBezTo>
                <a:cubicBezTo>
                  <a:pt x="422" y="116"/>
                  <a:pt x="422" y="116"/>
                  <a:pt x="421" y="116"/>
                </a:cubicBezTo>
                <a:cubicBezTo>
                  <a:pt x="421" y="117"/>
                  <a:pt x="420" y="118"/>
                  <a:pt x="420" y="118"/>
                </a:cubicBezTo>
                <a:cubicBezTo>
                  <a:pt x="453" y="120"/>
                  <a:pt x="485" y="121"/>
                  <a:pt x="515" y="121"/>
                </a:cubicBezTo>
                <a:cubicBezTo>
                  <a:pt x="528" y="121"/>
                  <a:pt x="539" y="121"/>
                  <a:pt x="550" y="121"/>
                </a:cubicBezTo>
                <a:moveTo>
                  <a:pt x="362" y="117"/>
                </a:moveTo>
                <a:cubicBezTo>
                  <a:pt x="357" y="117"/>
                  <a:pt x="352" y="117"/>
                  <a:pt x="347" y="117"/>
                </a:cubicBezTo>
                <a:cubicBezTo>
                  <a:pt x="347" y="117"/>
                  <a:pt x="347" y="117"/>
                  <a:pt x="347" y="117"/>
                </a:cubicBezTo>
                <a:cubicBezTo>
                  <a:pt x="346" y="118"/>
                  <a:pt x="346" y="118"/>
                  <a:pt x="346" y="118"/>
                </a:cubicBezTo>
                <a:cubicBezTo>
                  <a:pt x="346" y="118"/>
                  <a:pt x="346" y="118"/>
                  <a:pt x="346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9" y="119"/>
                  <a:pt x="349" y="119"/>
                  <a:pt x="349" y="119"/>
                </a:cubicBezTo>
                <a:cubicBezTo>
                  <a:pt x="349" y="120"/>
                  <a:pt x="349" y="120"/>
                  <a:pt x="349" y="120"/>
                </a:cubicBezTo>
                <a:cubicBezTo>
                  <a:pt x="349" y="120"/>
                  <a:pt x="349" y="120"/>
                  <a:pt x="350" y="121"/>
                </a:cubicBezTo>
                <a:cubicBezTo>
                  <a:pt x="351" y="121"/>
                  <a:pt x="352" y="121"/>
                  <a:pt x="352" y="121"/>
                </a:cubicBezTo>
                <a:cubicBezTo>
                  <a:pt x="353" y="121"/>
                  <a:pt x="353" y="121"/>
                  <a:pt x="354" y="122"/>
                </a:cubicBezTo>
                <a:cubicBezTo>
                  <a:pt x="354" y="122"/>
                  <a:pt x="354" y="122"/>
                  <a:pt x="355" y="122"/>
                </a:cubicBezTo>
                <a:cubicBezTo>
                  <a:pt x="355" y="122"/>
                  <a:pt x="356" y="121"/>
                  <a:pt x="357" y="121"/>
                </a:cubicBezTo>
                <a:cubicBezTo>
                  <a:pt x="357" y="120"/>
                  <a:pt x="357" y="120"/>
                  <a:pt x="357" y="120"/>
                </a:cubicBezTo>
                <a:cubicBezTo>
                  <a:pt x="359" y="120"/>
                  <a:pt x="359" y="120"/>
                  <a:pt x="359" y="120"/>
                </a:cubicBezTo>
                <a:cubicBezTo>
                  <a:pt x="359" y="120"/>
                  <a:pt x="360" y="119"/>
                  <a:pt x="360" y="119"/>
                </a:cubicBezTo>
                <a:cubicBezTo>
                  <a:pt x="360" y="118"/>
                  <a:pt x="360" y="118"/>
                  <a:pt x="360" y="118"/>
                </a:cubicBezTo>
                <a:cubicBezTo>
                  <a:pt x="361" y="118"/>
                  <a:pt x="361" y="118"/>
                  <a:pt x="362" y="117"/>
                </a:cubicBezTo>
                <a:moveTo>
                  <a:pt x="395" y="118"/>
                </a:moveTo>
                <a:cubicBezTo>
                  <a:pt x="387" y="118"/>
                  <a:pt x="378" y="118"/>
                  <a:pt x="369" y="118"/>
                </a:cubicBezTo>
                <a:cubicBezTo>
                  <a:pt x="369" y="119"/>
                  <a:pt x="371" y="119"/>
                  <a:pt x="371" y="121"/>
                </a:cubicBezTo>
                <a:cubicBezTo>
                  <a:pt x="371" y="121"/>
                  <a:pt x="371" y="121"/>
                  <a:pt x="371" y="121"/>
                </a:cubicBezTo>
                <a:cubicBezTo>
                  <a:pt x="371" y="122"/>
                  <a:pt x="370" y="122"/>
                  <a:pt x="370" y="122"/>
                </a:cubicBezTo>
                <a:cubicBezTo>
                  <a:pt x="370" y="122"/>
                  <a:pt x="370" y="124"/>
                  <a:pt x="371" y="125"/>
                </a:cubicBezTo>
                <a:cubicBezTo>
                  <a:pt x="372" y="125"/>
                  <a:pt x="372" y="125"/>
                  <a:pt x="372" y="125"/>
                </a:cubicBezTo>
                <a:cubicBezTo>
                  <a:pt x="372" y="125"/>
                  <a:pt x="373" y="126"/>
                  <a:pt x="373" y="127"/>
                </a:cubicBezTo>
                <a:cubicBezTo>
                  <a:pt x="373" y="127"/>
                  <a:pt x="373" y="128"/>
                  <a:pt x="373" y="128"/>
                </a:cubicBezTo>
                <a:cubicBezTo>
                  <a:pt x="373" y="129"/>
                  <a:pt x="373" y="129"/>
                  <a:pt x="373" y="129"/>
                </a:cubicBezTo>
                <a:cubicBezTo>
                  <a:pt x="373" y="131"/>
                  <a:pt x="374" y="131"/>
                  <a:pt x="375" y="132"/>
                </a:cubicBezTo>
                <a:cubicBezTo>
                  <a:pt x="376" y="133"/>
                  <a:pt x="376" y="133"/>
                  <a:pt x="376" y="134"/>
                </a:cubicBezTo>
                <a:cubicBezTo>
                  <a:pt x="376" y="135"/>
                  <a:pt x="375" y="135"/>
                  <a:pt x="375" y="136"/>
                </a:cubicBezTo>
                <a:cubicBezTo>
                  <a:pt x="375" y="137"/>
                  <a:pt x="375" y="137"/>
                  <a:pt x="375" y="137"/>
                </a:cubicBezTo>
                <a:cubicBezTo>
                  <a:pt x="375" y="137"/>
                  <a:pt x="376" y="138"/>
                  <a:pt x="376" y="138"/>
                </a:cubicBezTo>
                <a:cubicBezTo>
                  <a:pt x="378" y="139"/>
                  <a:pt x="380" y="139"/>
                  <a:pt x="382" y="139"/>
                </a:cubicBezTo>
                <a:cubicBezTo>
                  <a:pt x="382" y="136"/>
                  <a:pt x="383" y="134"/>
                  <a:pt x="385" y="135"/>
                </a:cubicBezTo>
                <a:cubicBezTo>
                  <a:pt x="385" y="135"/>
                  <a:pt x="386" y="135"/>
                  <a:pt x="386" y="135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8" y="136"/>
                  <a:pt x="388" y="135"/>
                  <a:pt x="389" y="134"/>
                </a:cubicBezTo>
                <a:cubicBezTo>
                  <a:pt x="389" y="134"/>
                  <a:pt x="390" y="134"/>
                  <a:pt x="391" y="134"/>
                </a:cubicBezTo>
                <a:cubicBezTo>
                  <a:pt x="391" y="133"/>
                  <a:pt x="391" y="132"/>
                  <a:pt x="391" y="131"/>
                </a:cubicBezTo>
                <a:cubicBezTo>
                  <a:pt x="392" y="131"/>
                  <a:pt x="394" y="131"/>
                  <a:pt x="395" y="131"/>
                </a:cubicBezTo>
                <a:cubicBezTo>
                  <a:pt x="395" y="130"/>
                  <a:pt x="395" y="130"/>
                  <a:pt x="395" y="129"/>
                </a:cubicBezTo>
                <a:cubicBezTo>
                  <a:pt x="394" y="129"/>
                  <a:pt x="394" y="129"/>
                  <a:pt x="393" y="129"/>
                </a:cubicBezTo>
                <a:cubicBezTo>
                  <a:pt x="391" y="129"/>
                  <a:pt x="391" y="129"/>
                  <a:pt x="391" y="129"/>
                </a:cubicBezTo>
                <a:cubicBezTo>
                  <a:pt x="391" y="128"/>
                  <a:pt x="391" y="128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92" y="125"/>
                  <a:pt x="392" y="125"/>
                  <a:pt x="392" y="123"/>
                </a:cubicBezTo>
                <a:cubicBezTo>
                  <a:pt x="393" y="120"/>
                  <a:pt x="393" y="120"/>
                  <a:pt x="393" y="120"/>
                </a:cubicBezTo>
                <a:cubicBezTo>
                  <a:pt x="394" y="119"/>
                  <a:pt x="395" y="119"/>
                  <a:pt x="395" y="118"/>
                </a:cubicBezTo>
                <a:moveTo>
                  <a:pt x="605" y="288"/>
                </a:moveTo>
                <a:cubicBezTo>
                  <a:pt x="596" y="225"/>
                  <a:pt x="577" y="168"/>
                  <a:pt x="550" y="121"/>
                </a:cubicBezTo>
                <a:cubicBezTo>
                  <a:pt x="539" y="121"/>
                  <a:pt x="528" y="121"/>
                  <a:pt x="515" y="121"/>
                </a:cubicBezTo>
                <a:cubicBezTo>
                  <a:pt x="485" y="121"/>
                  <a:pt x="453" y="120"/>
                  <a:pt x="420" y="119"/>
                </a:cubicBezTo>
                <a:cubicBezTo>
                  <a:pt x="418" y="119"/>
                  <a:pt x="416" y="119"/>
                  <a:pt x="415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6" y="119"/>
                  <a:pt x="416" y="119"/>
                  <a:pt x="416" y="119"/>
                </a:cubicBezTo>
                <a:cubicBezTo>
                  <a:pt x="415" y="120"/>
                  <a:pt x="414" y="120"/>
                  <a:pt x="412" y="121"/>
                </a:cubicBezTo>
                <a:cubicBezTo>
                  <a:pt x="412" y="121"/>
                  <a:pt x="412" y="122"/>
                  <a:pt x="413" y="123"/>
                </a:cubicBezTo>
                <a:cubicBezTo>
                  <a:pt x="415" y="124"/>
                  <a:pt x="415" y="124"/>
                  <a:pt x="418" y="124"/>
                </a:cubicBezTo>
                <a:cubicBezTo>
                  <a:pt x="418" y="123"/>
                  <a:pt x="420" y="122"/>
                  <a:pt x="420" y="121"/>
                </a:cubicBezTo>
                <a:cubicBezTo>
                  <a:pt x="423" y="122"/>
                  <a:pt x="424" y="125"/>
                  <a:pt x="426" y="126"/>
                </a:cubicBezTo>
                <a:cubicBezTo>
                  <a:pt x="426" y="126"/>
                  <a:pt x="426" y="127"/>
                  <a:pt x="426" y="127"/>
                </a:cubicBezTo>
                <a:cubicBezTo>
                  <a:pt x="425" y="128"/>
                  <a:pt x="424" y="129"/>
                  <a:pt x="423" y="130"/>
                </a:cubicBezTo>
                <a:cubicBezTo>
                  <a:pt x="423" y="131"/>
                  <a:pt x="422" y="131"/>
                  <a:pt x="421" y="131"/>
                </a:cubicBezTo>
                <a:cubicBezTo>
                  <a:pt x="421" y="131"/>
                  <a:pt x="420" y="131"/>
                  <a:pt x="420" y="131"/>
                </a:cubicBezTo>
                <a:cubicBezTo>
                  <a:pt x="419" y="130"/>
                  <a:pt x="419" y="129"/>
                  <a:pt x="419" y="129"/>
                </a:cubicBezTo>
                <a:cubicBezTo>
                  <a:pt x="418" y="128"/>
                  <a:pt x="417" y="128"/>
                  <a:pt x="417" y="128"/>
                </a:cubicBezTo>
                <a:cubicBezTo>
                  <a:pt x="417" y="127"/>
                  <a:pt x="417" y="126"/>
                  <a:pt x="417" y="126"/>
                </a:cubicBezTo>
                <a:cubicBezTo>
                  <a:pt x="416" y="126"/>
                  <a:pt x="416" y="126"/>
                  <a:pt x="415" y="126"/>
                </a:cubicBezTo>
                <a:cubicBezTo>
                  <a:pt x="415" y="127"/>
                  <a:pt x="414" y="128"/>
                  <a:pt x="413" y="128"/>
                </a:cubicBezTo>
                <a:cubicBezTo>
                  <a:pt x="412" y="133"/>
                  <a:pt x="410" y="141"/>
                  <a:pt x="410" y="141"/>
                </a:cubicBezTo>
                <a:cubicBezTo>
                  <a:pt x="411" y="141"/>
                  <a:pt x="411" y="141"/>
                  <a:pt x="412" y="142"/>
                </a:cubicBezTo>
                <a:cubicBezTo>
                  <a:pt x="411" y="143"/>
                  <a:pt x="411" y="143"/>
                  <a:pt x="411" y="143"/>
                </a:cubicBezTo>
                <a:cubicBezTo>
                  <a:pt x="404" y="141"/>
                  <a:pt x="404" y="141"/>
                  <a:pt x="402" y="143"/>
                </a:cubicBezTo>
                <a:cubicBezTo>
                  <a:pt x="403" y="144"/>
                  <a:pt x="404" y="145"/>
                  <a:pt x="404" y="146"/>
                </a:cubicBezTo>
                <a:cubicBezTo>
                  <a:pt x="404" y="147"/>
                  <a:pt x="404" y="147"/>
                  <a:pt x="404" y="147"/>
                </a:cubicBezTo>
                <a:cubicBezTo>
                  <a:pt x="403" y="147"/>
                  <a:pt x="403" y="147"/>
                  <a:pt x="403" y="147"/>
                </a:cubicBezTo>
                <a:cubicBezTo>
                  <a:pt x="401" y="145"/>
                  <a:pt x="399" y="144"/>
                  <a:pt x="397" y="142"/>
                </a:cubicBezTo>
                <a:cubicBezTo>
                  <a:pt x="383" y="149"/>
                  <a:pt x="379" y="151"/>
                  <a:pt x="379" y="144"/>
                </a:cubicBezTo>
                <a:cubicBezTo>
                  <a:pt x="377" y="144"/>
                  <a:pt x="377" y="144"/>
                  <a:pt x="377" y="144"/>
                </a:cubicBezTo>
                <a:cubicBezTo>
                  <a:pt x="376" y="145"/>
                  <a:pt x="375" y="145"/>
                  <a:pt x="374" y="145"/>
                </a:cubicBezTo>
                <a:cubicBezTo>
                  <a:pt x="373" y="145"/>
                  <a:pt x="372" y="145"/>
                  <a:pt x="372" y="145"/>
                </a:cubicBezTo>
                <a:cubicBezTo>
                  <a:pt x="371" y="145"/>
                  <a:pt x="370" y="145"/>
                  <a:pt x="370" y="145"/>
                </a:cubicBezTo>
                <a:cubicBezTo>
                  <a:pt x="370" y="145"/>
                  <a:pt x="370" y="146"/>
                  <a:pt x="370" y="147"/>
                </a:cubicBezTo>
                <a:cubicBezTo>
                  <a:pt x="369" y="148"/>
                  <a:pt x="368" y="148"/>
                  <a:pt x="368" y="148"/>
                </a:cubicBezTo>
                <a:cubicBezTo>
                  <a:pt x="367" y="148"/>
                  <a:pt x="367" y="147"/>
                  <a:pt x="366" y="147"/>
                </a:cubicBezTo>
                <a:cubicBezTo>
                  <a:pt x="366" y="146"/>
                  <a:pt x="365" y="145"/>
                  <a:pt x="364" y="145"/>
                </a:cubicBezTo>
                <a:cubicBezTo>
                  <a:pt x="363" y="145"/>
                  <a:pt x="363" y="145"/>
                  <a:pt x="362" y="145"/>
                </a:cubicBezTo>
                <a:cubicBezTo>
                  <a:pt x="362" y="144"/>
                  <a:pt x="362" y="144"/>
                  <a:pt x="362" y="143"/>
                </a:cubicBezTo>
                <a:cubicBezTo>
                  <a:pt x="362" y="143"/>
                  <a:pt x="363" y="142"/>
                  <a:pt x="363" y="141"/>
                </a:cubicBezTo>
                <a:cubicBezTo>
                  <a:pt x="364" y="141"/>
                  <a:pt x="365" y="141"/>
                  <a:pt x="366" y="141"/>
                </a:cubicBezTo>
                <a:cubicBezTo>
                  <a:pt x="368" y="142"/>
                  <a:pt x="370" y="143"/>
                  <a:pt x="372" y="143"/>
                </a:cubicBezTo>
                <a:cubicBezTo>
                  <a:pt x="372" y="142"/>
                  <a:pt x="374" y="140"/>
                  <a:pt x="374" y="135"/>
                </a:cubicBezTo>
                <a:cubicBezTo>
                  <a:pt x="373" y="134"/>
                  <a:pt x="373" y="134"/>
                  <a:pt x="372" y="134"/>
                </a:cubicBezTo>
                <a:cubicBezTo>
                  <a:pt x="369" y="135"/>
                  <a:pt x="369" y="135"/>
                  <a:pt x="368" y="136"/>
                </a:cubicBezTo>
                <a:cubicBezTo>
                  <a:pt x="367" y="137"/>
                  <a:pt x="367" y="137"/>
                  <a:pt x="367" y="137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6" y="136"/>
                  <a:pt x="366" y="136"/>
                  <a:pt x="366" y="135"/>
                </a:cubicBezTo>
                <a:cubicBezTo>
                  <a:pt x="366" y="135"/>
                  <a:pt x="367" y="134"/>
                  <a:pt x="367" y="134"/>
                </a:cubicBezTo>
                <a:cubicBezTo>
                  <a:pt x="367" y="132"/>
                  <a:pt x="367" y="132"/>
                  <a:pt x="367" y="131"/>
                </a:cubicBezTo>
                <a:cubicBezTo>
                  <a:pt x="367" y="132"/>
                  <a:pt x="366" y="132"/>
                  <a:pt x="366" y="132"/>
                </a:cubicBezTo>
                <a:cubicBezTo>
                  <a:pt x="365" y="125"/>
                  <a:pt x="365" y="125"/>
                  <a:pt x="364" y="124"/>
                </a:cubicBezTo>
                <a:cubicBezTo>
                  <a:pt x="360" y="128"/>
                  <a:pt x="360" y="128"/>
                  <a:pt x="359" y="128"/>
                </a:cubicBezTo>
                <a:cubicBezTo>
                  <a:pt x="358" y="129"/>
                  <a:pt x="358" y="129"/>
                  <a:pt x="358" y="130"/>
                </a:cubicBezTo>
                <a:cubicBezTo>
                  <a:pt x="358" y="131"/>
                  <a:pt x="358" y="131"/>
                  <a:pt x="358" y="131"/>
                </a:cubicBezTo>
                <a:cubicBezTo>
                  <a:pt x="357" y="132"/>
                  <a:pt x="356" y="132"/>
                  <a:pt x="355" y="133"/>
                </a:cubicBezTo>
                <a:cubicBezTo>
                  <a:pt x="353" y="136"/>
                  <a:pt x="357" y="138"/>
                  <a:pt x="356" y="141"/>
                </a:cubicBezTo>
                <a:cubicBezTo>
                  <a:pt x="356" y="142"/>
                  <a:pt x="356" y="142"/>
                  <a:pt x="356" y="142"/>
                </a:cubicBezTo>
                <a:cubicBezTo>
                  <a:pt x="355" y="144"/>
                  <a:pt x="355" y="144"/>
                  <a:pt x="355" y="144"/>
                </a:cubicBezTo>
                <a:cubicBezTo>
                  <a:pt x="356" y="145"/>
                  <a:pt x="356" y="147"/>
                  <a:pt x="356" y="148"/>
                </a:cubicBezTo>
                <a:cubicBezTo>
                  <a:pt x="356" y="149"/>
                  <a:pt x="356" y="150"/>
                  <a:pt x="356" y="150"/>
                </a:cubicBezTo>
                <a:cubicBezTo>
                  <a:pt x="356" y="150"/>
                  <a:pt x="355" y="150"/>
                  <a:pt x="355" y="150"/>
                </a:cubicBezTo>
                <a:cubicBezTo>
                  <a:pt x="354" y="150"/>
                  <a:pt x="354" y="150"/>
                  <a:pt x="353" y="150"/>
                </a:cubicBezTo>
                <a:cubicBezTo>
                  <a:pt x="351" y="151"/>
                  <a:pt x="351" y="151"/>
                  <a:pt x="350" y="150"/>
                </a:cubicBezTo>
                <a:cubicBezTo>
                  <a:pt x="346" y="150"/>
                  <a:pt x="346" y="150"/>
                  <a:pt x="337" y="156"/>
                </a:cubicBezTo>
                <a:cubicBezTo>
                  <a:pt x="336" y="155"/>
                  <a:pt x="336" y="155"/>
                  <a:pt x="335" y="155"/>
                </a:cubicBezTo>
                <a:cubicBezTo>
                  <a:pt x="335" y="155"/>
                  <a:pt x="335" y="155"/>
                  <a:pt x="334" y="155"/>
                </a:cubicBezTo>
                <a:cubicBezTo>
                  <a:pt x="334" y="155"/>
                  <a:pt x="333" y="155"/>
                  <a:pt x="333" y="155"/>
                </a:cubicBezTo>
                <a:cubicBezTo>
                  <a:pt x="332" y="155"/>
                  <a:pt x="332" y="156"/>
                  <a:pt x="332" y="157"/>
                </a:cubicBezTo>
                <a:cubicBezTo>
                  <a:pt x="334" y="158"/>
                  <a:pt x="334" y="158"/>
                  <a:pt x="334" y="158"/>
                </a:cubicBezTo>
                <a:cubicBezTo>
                  <a:pt x="334" y="159"/>
                  <a:pt x="334" y="160"/>
                  <a:pt x="333" y="161"/>
                </a:cubicBezTo>
                <a:cubicBezTo>
                  <a:pt x="330" y="161"/>
                  <a:pt x="330" y="161"/>
                  <a:pt x="325" y="165"/>
                </a:cubicBezTo>
                <a:cubicBezTo>
                  <a:pt x="324" y="165"/>
                  <a:pt x="324" y="165"/>
                  <a:pt x="324" y="165"/>
                </a:cubicBezTo>
                <a:cubicBezTo>
                  <a:pt x="323" y="165"/>
                  <a:pt x="322" y="165"/>
                  <a:pt x="322" y="165"/>
                </a:cubicBezTo>
                <a:cubicBezTo>
                  <a:pt x="320" y="167"/>
                  <a:pt x="320" y="169"/>
                  <a:pt x="319" y="171"/>
                </a:cubicBezTo>
                <a:cubicBezTo>
                  <a:pt x="317" y="171"/>
                  <a:pt x="316" y="171"/>
                  <a:pt x="314" y="172"/>
                </a:cubicBezTo>
                <a:cubicBezTo>
                  <a:pt x="314" y="173"/>
                  <a:pt x="313" y="174"/>
                  <a:pt x="313" y="175"/>
                </a:cubicBezTo>
                <a:cubicBezTo>
                  <a:pt x="312" y="175"/>
                  <a:pt x="311" y="175"/>
                  <a:pt x="310" y="175"/>
                </a:cubicBezTo>
                <a:cubicBezTo>
                  <a:pt x="309" y="174"/>
                  <a:pt x="309" y="174"/>
                  <a:pt x="309" y="174"/>
                </a:cubicBezTo>
                <a:cubicBezTo>
                  <a:pt x="308" y="174"/>
                  <a:pt x="307" y="174"/>
                  <a:pt x="307" y="174"/>
                </a:cubicBezTo>
                <a:cubicBezTo>
                  <a:pt x="306" y="173"/>
                  <a:pt x="306" y="173"/>
                  <a:pt x="306" y="173"/>
                </a:cubicBezTo>
                <a:cubicBezTo>
                  <a:pt x="305" y="172"/>
                  <a:pt x="305" y="172"/>
                  <a:pt x="304" y="172"/>
                </a:cubicBezTo>
                <a:cubicBezTo>
                  <a:pt x="303" y="173"/>
                  <a:pt x="303" y="174"/>
                  <a:pt x="303" y="175"/>
                </a:cubicBezTo>
                <a:cubicBezTo>
                  <a:pt x="303" y="175"/>
                  <a:pt x="304" y="176"/>
                  <a:pt x="304" y="176"/>
                </a:cubicBezTo>
                <a:cubicBezTo>
                  <a:pt x="304" y="176"/>
                  <a:pt x="303" y="177"/>
                  <a:pt x="303" y="178"/>
                </a:cubicBezTo>
                <a:cubicBezTo>
                  <a:pt x="303" y="179"/>
                  <a:pt x="303" y="179"/>
                  <a:pt x="303" y="179"/>
                </a:cubicBezTo>
                <a:cubicBezTo>
                  <a:pt x="303" y="179"/>
                  <a:pt x="303" y="180"/>
                  <a:pt x="303" y="180"/>
                </a:cubicBezTo>
                <a:cubicBezTo>
                  <a:pt x="301" y="180"/>
                  <a:pt x="298" y="180"/>
                  <a:pt x="296" y="180"/>
                </a:cubicBezTo>
                <a:cubicBezTo>
                  <a:pt x="295" y="179"/>
                  <a:pt x="295" y="179"/>
                  <a:pt x="295" y="178"/>
                </a:cubicBezTo>
                <a:cubicBezTo>
                  <a:pt x="289" y="179"/>
                  <a:pt x="289" y="179"/>
                  <a:pt x="288" y="180"/>
                </a:cubicBezTo>
                <a:cubicBezTo>
                  <a:pt x="288" y="182"/>
                  <a:pt x="289" y="182"/>
                  <a:pt x="289" y="182"/>
                </a:cubicBezTo>
                <a:cubicBezTo>
                  <a:pt x="290" y="183"/>
                  <a:pt x="291" y="184"/>
                  <a:pt x="292" y="184"/>
                </a:cubicBezTo>
                <a:cubicBezTo>
                  <a:pt x="294" y="184"/>
                  <a:pt x="294" y="184"/>
                  <a:pt x="295" y="184"/>
                </a:cubicBezTo>
                <a:cubicBezTo>
                  <a:pt x="298" y="187"/>
                  <a:pt x="298" y="187"/>
                  <a:pt x="298" y="188"/>
                </a:cubicBezTo>
                <a:cubicBezTo>
                  <a:pt x="299" y="191"/>
                  <a:pt x="299" y="193"/>
                  <a:pt x="299" y="195"/>
                </a:cubicBezTo>
                <a:cubicBezTo>
                  <a:pt x="300" y="196"/>
                  <a:pt x="301" y="197"/>
                  <a:pt x="302" y="199"/>
                </a:cubicBezTo>
                <a:cubicBezTo>
                  <a:pt x="302" y="201"/>
                  <a:pt x="302" y="201"/>
                  <a:pt x="297" y="213"/>
                </a:cubicBezTo>
                <a:cubicBezTo>
                  <a:pt x="296" y="214"/>
                  <a:pt x="294" y="215"/>
                  <a:pt x="293" y="215"/>
                </a:cubicBezTo>
                <a:cubicBezTo>
                  <a:pt x="292" y="215"/>
                  <a:pt x="292" y="215"/>
                  <a:pt x="292" y="215"/>
                </a:cubicBezTo>
                <a:cubicBezTo>
                  <a:pt x="289" y="214"/>
                  <a:pt x="286" y="214"/>
                  <a:pt x="283" y="212"/>
                </a:cubicBezTo>
                <a:cubicBezTo>
                  <a:pt x="279" y="211"/>
                  <a:pt x="276" y="211"/>
                  <a:pt x="273" y="211"/>
                </a:cubicBezTo>
                <a:cubicBezTo>
                  <a:pt x="269" y="210"/>
                  <a:pt x="269" y="210"/>
                  <a:pt x="268" y="209"/>
                </a:cubicBezTo>
                <a:cubicBezTo>
                  <a:pt x="268" y="209"/>
                  <a:pt x="268" y="209"/>
                  <a:pt x="268" y="209"/>
                </a:cubicBezTo>
                <a:cubicBezTo>
                  <a:pt x="267" y="210"/>
                  <a:pt x="267" y="210"/>
                  <a:pt x="266" y="210"/>
                </a:cubicBezTo>
                <a:cubicBezTo>
                  <a:pt x="264" y="212"/>
                  <a:pt x="262" y="212"/>
                  <a:pt x="260" y="212"/>
                </a:cubicBezTo>
                <a:cubicBezTo>
                  <a:pt x="260" y="213"/>
                  <a:pt x="260" y="213"/>
                  <a:pt x="260" y="213"/>
                </a:cubicBezTo>
                <a:cubicBezTo>
                  <a:pt x="262" y="217"/>
                  <a:pt x="258" y="221"/>
                  <a:pt x="260" y="225"/>
                </a:cubicBezTo>
                <a:cubicBezTo>
                  <a:pt x="259" y="227"/>
                  <a:pt x="259" y="229"/>
                  <a:pt x="259" y="232"/>
                </a:cubicBezTo>
                <a:cubicBezTo>
                  <a:pt x="254" y="239"/>
                  <a:pt x="254" y="239"/>
                  <a:pt x="255" y="241"/>
                </a:cubicBezTo>
                <a:cubicBezTo>
                  <a:pt x="256" y="243"/>
                  <a:pt x="256" y="244"/>
                  <a:pt x="256" y="244"/>
                </a:cubicBezTo>
                <a:cubicBezTo>
                  <a:pt x="255" y="245"/>
                  <a:pt x="255" y="245"/>
                  <a:pt x="255" y="245"/>
                </a:cubicBezTo>
                <a:cubicBezTo>
                  <a:pt x="254" y="247"/>
                  <a:pt x="254" y="247"/>
                  <a:pt x="254" y="251"/>
                </a:cubicBezTo>
                <a:cubicBezTo>
                  <a:pt x="255" y="251"/>
                  <a:pt x="256" y="251"/>
                  <a:pt x="257" y="251"/>
                </a:cubicBezTo>
                <a:cubicBezTo>
                  <a:pt x="259" y="251"/>
                  <a:pt x="260" y="250"/>
                  <a:pt x="262" y="253"/>
                </a:cubicBezTo>
                <a:cubicBezTo>
                  <a:pt x="263" y="253"/>
                  <a:pt x="264" y="252"/>
                  <a:pt x="265" y="252"/>
                </a:cubicBezTo>
                <a:cubicBezTo>
                  <a:pt x="266" y="252"/>
                  <a:pt x="266" y="252"/>
                  <a:pt x="269" y="254"/>
                </a:cubicBezTo>
                <a:cubicBezTo>
                  <a:pt x="270" y="255"/>
                  <a:pt x="270" y="257"/>
                  <a:pt x="271" y="258"/>
                </a:cubicBezTo>
                <a:cubicBezTo>
                  <a:pt x="271" y="258"/>
                  <a:pt x="272" y="258"/>
                  <a:pt x="272" y="258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81" y="254"/>
                  <a:pt x="289" y="246"/>
                  <a:pt x="301" y="246"/>
                </a:cubicBezTo>
                <a:cubicBezTo>
                  <a:pt x="303" y="244"/>
                  <a:pt x="303" y="243"/>
                  <a:pt x="303" y="242"/>
                </a:cubicBezTo>
                <a:cubicBezTo>
                  <a:pt x="302" y="241"/>
                  <a:pt x="301" y="240"/>
                  <a:pt x="301" y="239"/>
                </a:cubicBezTo>
                <a:cubicBezTo>
                  <a:pt x="301" y="238"/>
                  <a:pt x="301" y="238"/>
                  <a:pt x="304" y="232"/>
                </a:cubicBezTo>
                <a:cubicBezTo>
                  <a:pt x="306" y="229"/>
                  <a:pt x="320" y="226"/>
                  <a:pt x="320" y="226"/>
                </a:cubicBezTo>
                <a:cubicBezTo>
                  <a:pt x="322" y="224"/>
                  <a:pt x="322" y="223"/>
                  <a:pt x="322" y="222"/>
                </a:cubicBezTo>
                <a:cubicBezTo>
                  <a:pt x="322" y="222"/>
                  <a:pt x="322" y="222"/>
                  <a:pt x="322" y="221"/>
                </a:cubicBezTo>
                <a:cubicBezTo>
                  <a:pt x="322" y="216"/>
                  <a:pt x="322" y="212"/>
                  <a:pt x="329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0" y="214"/>
                  <a:pt x="330" y="214"/>
                  <a:pt x="330" y="214"/>
                </a:cubicBezTo>
                <a:cubicBezTo>
                  <a:pt x="331" y="214"/>
                  <a:pt x="331" y="214"/>
                  <a:pt x="331" y="214"/>
                </a:cubicBezTo>
                <a:cubicBezTo>
                  <a:pt x="334" y="216"/>
                  <a:pt x="334" y="216"/>
                  <a:pt x="336" y="216"/>
                </a:cubicBezTo>
                <a:cubicBezTo>
                  <a:pt x="337" y="216"/>
                  <a:pt x="337" y="216"/>
                  <a:pt x="338" y="216"/>
                </a:cubicBezTo>
                <a:cubicBezTo>
                  <a:pt x="338" y="216"/>
                  <a:pt x="339" y="216"/>
                  <a:pt x="340" y="216"/>
                </a:cubicBezTo>
                <a:cubicBezTo>
                  <a:pt x="340" y="214"/>
                  <a:pt x="340" y="214"/>
                  <a:pt x="342" y="212"/>
                </a:cubicBezTo>
                <a:cubicBezTo>
                  <a:pt x="344" y="212"/>
                  <a:pt x="344" y="212"/>
                  <a:pt x="345" y="212"/>
                </a:cubicBezTo>
                <a:cubicBezTo>
                  <a:pt x="346" y="212"/>
                  <a:pt x="348" y="212"/>
                  <a:pt x="351" y="208"/>
                </a:cubicBezTo>
                <a:cubicBezTo>
                  <a:pt x="358" y="209"/>
                  <a:pt x="357" y="217"/>
                  <a:pt x="362" y="220"/>
                </a:cubicBezTo>
                <a:cubicBezTo>
                  <a:pt x="363" y="220"/>
                  <a:pt x="364" y="221"/>
                  <a:pt x="364" y="223"/>
                </a:cubicBezTo>
                <a:cubicBezTo>
                  <a:pt x="380" y="233"/>
                  <a:pt x="388" y="241"/>
                  <a:pt x="387" y="246"/>
                </a:cubicBezTo>
                <a:cubicBezTo>
                  <a:pt x="385" y="247"/>
                  <a:pt x="373" y="249"/>
                  <a:pt x="369" y="249"/>
                </a:cubicBezTo>
                <a:cubicBezTo>
                  <a:pt x="369" y="249"/>
                  <a:pt x="368" y="250"/>
                  <a:pt x="368" y="250"/>
                </a:cubicBezTo>
                <a:cubicBezTo>
                  <a:pt x="371" y="252"/>
                  <a:pt x="373" y="255"/>
                  <a:pt x="377" y="256"/>
                </a:cubicBezTo>
                <a:cubicBezTo>
                  <a:pt x="379" y="256"/>
                  <a:pt x="382" y="256"/>
                  <a:pt x="384" y="256"/>
                </a:cubicBezTo>
                <a:cubicBezTo>
                  <a:pt x="384" y="255"/>
                  <a:pt x="384" y="253"/>
                  <a:pt x="384" y="252"/>
                </a:cubicBezTo>
                <a:cubicBezTo>
                  <a:pt x="389" y="250"/>
                  <a:pt x="392" y="245"/>
                  <a:pt x="396" y="242"/>
                </a:cubicBezTo>
                <a:cubicBezTo>
                  <a:pt x="396" y="240"/>
                  <a:pt x="396" y="240"/>
                  <a:pt x="396" y="239"/>
                </a:cubicBezTo>
                <a:cubicBezTo>
                  <a:pt x="393" y="239"/>
                  <a:pt x="393" y="239"/>
                  <a:pt x="392" y="239"/>
                </a:cubicBezTo>
                <a:cubicBezTo>
                  <a:pt x="391" y="239"/>
                  <a:pt x="391" y="238"/>
                  <a:pt x="391" y="238"/>
                </a:cubicBezTo>
                <a:cubicBezTo>
                  <a:pt x="393" y="236"/>
                  <a:pt x="394" y="236"/>
                  <a:pt x="395" y="236"/>
                </a:cubicBezTo>
                <a:cubicBezTo>
                  <a:pt x="398" y="237"/>
                  <a:pt x="398" y="237"/>
                  <a:pt x="400" y="239"/>
                </a:cubicBezTo>
                <a:cubicBezTo>
                  <a:pt x="400" y="239"/>
                  <a:pt x="400" y="239"/>
                  <a:pt x="400" y="234"/>
                </a:cubicBezTo>
                <a:cubicBezTo>
                  <a:pt x="396" y="231"/>
                  <a:pt x="391" y="230"/>
                  <a:pt x="389" y="226"/>
                </a:cubicBezTo>
                <a:cubicBezTo>
                  <a:pt x="388" y="226"/>
                  <a:pt x="385" y="226"/>
                  <a:pt x="380" y="221"/>
                </a:cubicBezTo>
                <a:cubicBezTo>
                  <a:pt x="381" y="219"/>
                  <a:pt x="381" y="219"/>
                  <a:pt x="375" y="215"/>
                </a:cubicBezTo>
                <a:cubicBezTo>
                  <a:pt x="375" y="214"/>
                  <a:pt x="374" y="214"/>
                  <a:pt x="374" y="214"/>
                </a:cubicBezTo>
                <a:cubicBezTo>
                  <a:pt x="374" y="213"/>
                  <a:pt x="373" y="212"/>
                  <a:pt x="373" y="211"/>
                </a:cubicBezTo>
                <a:cubicBezTo>
                  <a:pt x="372" y="210"/>
                  <a:pt x="370" y="210"/>
                  <a:pt x="369" y="210"/>
                </a:cubicBezTo>
                <a:cubicBezTo>
                  <a:pt x="369" y="209"/>
                  <a:pt x="369" y="209"/>
                  <a:pt x="369" y="208"/>
                </a:cubicBezTo>
                <a:cubicBezTo>
                  <a:pt x="370" y="207"/>
                  <a:pt x="370" y="207"/>
                  <a:pt x="370" y="207"/>
                </a:cubicBezTo>
                <a:cubicBezTo>
                  <a:pt x="371" y="206"/>
                  <a:pt x="371" y="205"/>
                  <a:pt x="371" y="205"/>
                </a:cubicBezTo>
                <a:cubicBezTo>
                  <a:pt x="371" y="204"/>
                  <a:pt x="371" y="203"/>
                  <a:pt x="371" y="202"/>
                </a:cubicBezTo>
                <a:cubicBezTo>
                  <a:pt x="374" y="201"/>
                  <a:pt x="375" y="202"/>
                  <a:pt x="376" y="205"/>
                </a:cubicBezTo>
                <a:cubicBezTo>
                  <a:pt x="384" y="206"/>
                  <a:pt x="386" y="216"/>
                  <a:pt x="394" y="217"/>
                </a:cubicBezTo>
                <a:cubicBezTo>
                  <a:pt x="394" y="218"/>
                  <a:pt x="394" y="218"/>
                  <a:pt x="395" y="218"/>
                </a:cubicBezTo>
                <a:cubicBezTo>
                  <a:pt x="398" y="222"/>
                  <a:pt x="404" y="223"/>
                  <a:pt x="406" y="228"/>
                </a:cubicBezTo>
                <a:cubicBezTo>
                  <a:pt x="404" y="234"/>
                  <a:pt x="404" y="234"/>
                  <a:pt x="406" y="236"/>
                </a:cubicBezTo>
                <a:cubicBezTo>
                  <a:pt x="407" y="239"/>
                  <a:pt x="407" y="242"/>
                  <a:pt x="411" y="242"/>
                </a:cubicBezTo>
                <a:cubicBezTo>
                  <a:pt x="413" y="244"/>
                  <a:pt x="413" y="246"/>
                  <a:pt x="413" y="247"/>
                </a:cubicBezTo>
                <a:cubicBezTo>
                  <a:pt x="412" y="247"/>
                  <a:pt x="411" y="247"/>
                  <a:pt x="410" y="247"/>
                </a:cubicBezTo>
                <a:cubicBezTo>
                  <a:pt x="410" y="247"/>
                  <a:pt x="409" y="246"/>
                  <a:pt x="409" y="246"/>
                </a:cubicBezTo>
                <a:cubicBezTo>
                  <a:pt x="409" y="246"/>
                  <a:pt x="408" y="247"/>
                  <a:pt x="408" y="247"/>
                </a:cubicBezTo>
                <a:cubicBezTo>
                  <a:pt x="411" y="251"/>
                  <a:pt x="411" y="251"/>
                  <a:pt x="414" y="252"/>
                </a:cubicBezTo>
                <a:cubicBezTo>
                  <a:pt x="414" y="252"/>
                  <a:pt x="414" y="251"/>
                  <a:pt x="414" y="251"/>
                </a:cubicBezTo>
                <a:cubicBezTo>
                  <a:pt x="416" y="252"/>
                  <a:pt x="417" y="252"/>
                  <a:pt x="419" y="254"/>
                </a:cubicBezTo>
                <a:cubicBezTo>
                  <a:pt x="418" y="256"/>
                  <a:pt x="418" y="257"/>
                  <a:pt x="419" y="258"/>
                </a:cubicBezTo>
                <a:cubicBezTo>
                  <a:pt x="421" y="259"/>
                  <a:pt x="421" y="259"/>
                  <a:pt x="422" y="259"/>
                </a:cubicBezTo>
                <a:cubicBezTo>
                  <a:pt x="423" y="259"/>
                  <a:pt x="424" y="259"/>
                  <a:pt x="424" y="259"/>
                </a:cubicBezTo>
                <a:cubicBezTo>
                  <a:pt x="425" y="258"/>
                  <a:pt x="426" y="257"/>
                  <a:pt x="426" y="256"/>
                </a:cubicBezTo>
                <a:cubicBezTo>
                  <a:pt x="426" y="255"/>
                  <a:pt x="426" y="255"/>
                  <a:pt x="426" y="254"/>
                </a:cubicBezTo>
                <a:cubicBezTo>
                  <a:pt x="426" y="254"/>
                  <a:pt x="426" y="253"/>
                  <a:pt x="426" y="253"/>
                </a:cubicBezTo>
                <a:cubicBezTo>
                  <a:pt x="426" y="252"/>
                  <a:pt x="427" y="252"/>
                  <a:pt x="427" y="251"/>
                </a:cubicBezTo>
                <a:cubicBezTo>
                  <a:pt x="428" y="252"/>
                  <a:pt x="430" y="252"/>
                  <a:pt x="430" y="253"/>
                </a:cubicBezTo>
                <a:cubicBezTo>
                  <a:pt x="431" y="253"/>
                  <a:pt x="432" y="253"/>
                  <a:pt x="432" y="253"/>
                </a:cubicBezTo>
                <a:cubicBezTo>
                  <a:pt x="432" y="253"/>
                  <a:pt x="433" y="252"/>
                  <a:pt x="433" y="252"/>
                </a:cubicBezTo>
                <a:cubicBezTo>
                  <a:pt x="433" y="251"/>
                  <a:pt x="433" y="249"/>
                  <a:pt x="433" y="248"/>
                </a:cubicBezTo>
                <a:cubicBezTo>
                  <a:pt x="435" y="248"/>
                  <a:pt x="436" y="248"/>
                  <a:pt x="437" y="248"/>
                </a:cubicBezTo>
                <a:cubicBezTo>
                  <a:pt x="436" y="246"/>
                  <a:pt x="435" y="246"/>
                  <a:pt x="433" y="245"/>
                </a:cubicBezTo>
                <a:cubicBezTo>
                  <a:pt x="433" y="246"/>
                  <a:pt x="432" y="247"/>
                  <a:pt x="432" y="248"/>
                </a:cubicBezTo>
                <a:cubicBezTo>
                  <a:pt x="429" y="248"/>
                  <a:pt x="429" y="247"/>
                  <a:pt x="427" y="241"/>
                </a:cubicBezTo>
                <a:cubicBezTo>
                  <a:pt x="424" y="240"/>
                  <a:pt x="424" y="240"/>
                  <a:pt x="422" y="238"/>
                </a:cubicBezTo>
                <a:cubicBezTo>
                  <a:pt x="422" y="237"/>
                  <a:pt x="422" y="237"/>
                  <a:pt x="422" y="236"/>
                </a:cubicBezTo>
                <a:cubicBezTo>
                  <a:pt x="424" y="236"/>
                  <a:pt x="424" y="236"/>
                  <a:pt x="424" y="236"/>
                </a:cubicBezTo>
                <a:cubicBezTo>
                  <a:pt x="425" y="236"/>
                  <a:pt x="426" y="237"/>
                  <a:pt x="427" y="237"/>
                </a:cubicBezTo>
                <a:cubicBezTo>
                  <a:pt x="429" y="237"/>
                  <a:pt x="429" y="237"/>
                  <a:pt x="430" y="237"/>
                </a:cubicBezTo>
                <a:cubicBezTo>
                  <a:pt x="430" y="237"/>
                  <a:pt x="430" y="238"/>
                  <a:pt x="431" y="238"/>
                </a:cubicBezTo>
                <a:cubicBezTo>
                  <a:pt x="431" y="237"/>
                  <a:pt x="431" y="235"/>
                  <a:pt x="431" y="234"/>
                </a:cubicBezTo>
                <a:cubicBezTo>
                  <a:pt x="433" y="232"/>
                  <a:pt x="433" y="232"/>
                  <a:pt x="442" y="236"/>
                </a:cubicBezTo>
                <a:cubicBezTo>
                  <a:pt x="442" y="236"/>
                  <a:pt x="443" y="237"/>
                  <a:pt x="443" y="238"/>
                </a:cubicBezTo>
                <a:cubicBezTo>
                  <a:pt x="443" y="238"/>
                  <a:pt x="443" y="238"/>
                  <a:pt x="444" y="238"/>
                </a:cubicBezTo>
                <a:cubicBezTo>
                  <a:pt x="445" y="240"/>
                  <a:pt x="445" y="240"/>
                  <a:pt x="445" y="240"/>
                </a:cubicBezTo>
                <a:cubicBezTo>
                  <a:pt x="444" y="240"/>
                  <a:pt x="443" y="241"/>
                  <a:pt x="443" y="241"/>
                </a:cubicBezTo>
                <a:cubicBezTo>
                  <a:pt x="443" y="244"/>
                  <a:pt x="448" y="245"/>
                  <a:pt x="447" y="249"/>
                </a:cubicBezTo>
                <a:cubicBezTo>
                  <a:pt x="447" y="250"/>
                  <a:pt x="447" y="251"/>
                  <a:pt x="447" y="251"/>
                </a:cubicBezTo>
                <a:cubicBezTo>
                  <a:pt x="447" y="252"/>
                  <a:pt x="447" y="252"/>
                  <a:pt x="447" y="253"/>
                </a:cubicBezTo>
                <a:cubicBezTo>
                  <a:pt x="447" y="254"/>
                  <a:pt x="448" y="255"/>
                  <a:pt x="449" y="256"/>
                </a:cubicBezTo>
                <a:cubicBezTo>
                  <a:pt x="449" y="256"/>
                  <a:pt x="449" y="256"/>
                  <a:pt x="449" y="256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0" y="257"/>
                  <a:pt x="450" y="257"/>
                  <a:pt x="450" y="257"/>
                </a:cubicBezTo>
                <a:cubicBezTo>
                  <a:pt x="451" y="258"/>
                  <a:pt x="451" y="258"/>
                  <a:pt x="451" y="258"/>
                </a:cubicBezTo>
                <a:cubicBezTo>
                  <a:pt x="452" y="258"/>
                  <a:pt x="452" y="258"/>
                  <a:pt x="452" y="258"/>
                </a:cubicBezTo>
                <a:cubicBezTo>
                  <a:pt x="452" y="259"/>
                  <a:pt x="452" y="259"/>
                  <a:pt x="452" y="260"/>
                </a:cubicBezTo>
                <a:cubicBezTo>
                  <a:pt x="452" y="261"/>
                  <a:pt x="452" y="261"/>
                  <a:pt x="452" y="261"/>
                </a:cubicBezTo>
                <a:cubicBezTo>
                  <a:pt x="451" y="261"/>
                  <a:pt x="451" y="261"/>
                  <a:pt x="451" y="261"/>
                </a:cubicBezTo>
                <a:cubicBezTo>
                  <a:pt x="451" y="262"/>
                  <a:pt x="451" y="262"/>
                  <a:pt x="451" y="262"/>
                </a:cubicBezTo>
                <a:cubicBezTo>
                  <a:pt x="451" y="263"/>
                  <a:pt x="451" y="264"/>
                  <a:pt x="452" y="265"/>
                </a:cubicBezTo>
                <a:cubicBezTo>
                  <a:pt x="452" y="266"/>
                  <a:pt x="452" y="266"/>
                  <a:pt x="452" y="266"/>
                </a:cubicBezTo>
                <a:cubicBezTo>
                  <a:pt x="453" y="266"/>
                  <a:pt x="453" y="266"/>
                  <a:pt x="453" y="266"/>
                </a:cubicBezTo>
                <a:cubicBezTo>
                  <a:pt x="454" y="265"/>
                  <a:pt x="454" y="265"/>
                  <a:pt x="454" y="265"/>
                </a:cubicBezTo>
                <a:cubicBezTo>
                  <a:pt x="454" y="263"/>
                  <a:pt x="454" y="263"/>
                  <a:pt x="454" y="263"/>
                </a:cubicBezTo>
                <a:cubicBezTo>
                  <a:pt x="454" y="262"/>
                  <a:pt x="454" y="261"/>
                  <a:pt x="454" y="261"/>
                </a:cubicBezTo>
                <a:cubicBezTo>
                  <a:pt x="455" y="259"/>
                  <a:pt x="455" y="259"/>
                  <a:pt x="455" y="259"/>
                </a:cubicBezTo>
                <a:cubicBezTo>
                  <a:pt x="456" y="259"/>
                  <a:pt x="456" y="259"/>
                  <a:pt x="456" y="259"/>
                </a:cubicBezTo>
                <a:cubicBezTo>
                  <a:pt x="456" y="260"/>
                  <a:pt x="456" y="260"/>
                  <a:pt x="456" y="260"/>
                </a:cubicBezTo>
                <a:cubicBezTo>
                  <a:pt x="457" y="260"/>
                  <a:pt x="457" y="260"/>
                  <a:pt x="457" y="260"/>
                </a:cubicBezTo>
                <a:cubicBezTo>
                  <a:pt x="457" y="261"/>
                  <a:pt x="457" y="261"/>
                  <a:pt x="457" y="261"/>
                </a:cubicBezTo>
                <a:cubicBezTo>
                  <a:pt x="458" y="261"/>
                  <a:pt x="459" y="262"/>
                  <a:pt x="459" y="262"/>
                </a:cubicBezTo>
                <a:cubicBezTo>
                  <a:pt x="460" y="263"/>
                  <a:pt x="460" y="263"/>
                  <a:pt x="460" y="263"/>
                </a:cubicBezTo>
                <a:cubicBezTo>
                  <a:pt x="460" y="264"/>
                  <a:pt x="460" y="264"/>
                  <a:pt x="460" y="264"/>
                </a:cubicBezTo>
                <a:cubicBezTo>
                  <a:pt x="461" y="264"/>
                  <a:pt x="461" y="264"/>
                  <a:pt x="461" y="264"/>
                </a:cubicBezTo>
                <a:cubicBezTo>
                  <a:pt x="462" y="264"/>
                  <a:pt x="462" y="264"/>
                  <a:pt x="462" y="264"/>
                </a:cubicBezTo>
                <a:cubicBezTo>
                  <a:pt x="462" y="264"/>
                  <a:pt x="464" y="264"/>
                  <a:pt x="464" y="265"/>
                </a:cubicBezTo>
                <a:cubicBezTo>
                  <a:pt x="466" y="265"/>
                  <a:pt x="466" y="265"/>
                  <a:pt x="466" y="265"/>
                </a:cubicBezTo>
                <a:cubicBezTo>
                  <a:pt x="467" y="265"/>
                  <a:pt x="467" y="265"/>
                  <a:pt x="467" y="265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4"/>
                  <a:pt x="467" y="264"/>
                  <a:pt x="467" y="264"/>
                </a:cubicBezTo>
                <a:cubicBezTo>
                  <a:pt x="467" y="263"/>
                  <a:pt x="467" y="263"/>
                  <a:pt x="467" y="263"/>
                </a:cubicBezTo>
                <a:cubicBezTo>
                  <a:pt x="467" y="262"/>
                  <a:pt x="467" y="261"/>
                  <a:pt x="468" y="260"/>
                </a:cubicBezTo>
                <a:cubicBezTo>
                  <a:pt x="468" y="259"/>
                  <a:pt x="468" y="259"/>
                  <a:pt x="468" y="259"/>
                </a:cubicBezTo>
                <a:cubicBezTo>
                  <a:pt x="469" y="259"/>
                  <a:pt x="469" y="259"/>
                  <a:pt x="469" y="259"/>
                </a:cubicBezTo>
                <a:cubicBezTo>
                  <a:pt x="470" y="259"/>
                  <a:pt x="471" y="259"/>
                  <a:pt x="472" y="260"/>
                </a:cubicBezTo>
                <a:cubicBezTo>
                  <a:pt x="474" y="261"/>
                  <a:pt x="474" y="261"/>
                  <a:pt x="474" y="261"/>
                </a:cubicBezTo>
                <a:cubicBezTo>
                  <a:pt x="476" y="263"/>
                  <a:pt x="476" y="263"/>
                  <a:pt x="476" y="263"/>
                </a:cubicBezTo>
                <a:cubicBezTo>
                  <a:pt x="477" y="263"/>
                  <a:pt x="477" y="263"/>
                  <a:pt x="477" y="263"/>
                </a:cubicBezTo>
                <a:cubicBezTo>
                  <a:pt x="477" y="264"/>
                  <a:pt x="477" y="264"/>
                  <a:pt x="477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78" y="264"/>
                  <a:pt x="478" y="264"/>
                  <a:pt x="478" y="264"/>
                </a:cubicBezTo>
                <a:cubicBezTo>
                  <a:pt x="481" y="264"/>
                  <a:pt x="484" y="264"/>
                  <a:pt x="486" y="265"/>
                </a:cubicBezTo>
                <a:cubicBezTo>
                  <a:pt x="486" y="264"/>
                  <a:pt x="486" y="263"/>
                  <a:pt x="486" y="263"/>
                </a:cubicBezTo>
                <a:cubicBezTo>
                  <a:pt x="486" y="262"/>
                  <a:pt x="486" y="262"/>
                  <a:pt x="486" y="262"/>
                </a:cubicBezTo>
                <a:cubicBezTo>
                  <a:pt x="486" y="261"/>
                  <a:pt x="486" y="261"/>
                  <a:pt x="486" y="260"/>
                </a:cubicBezTo>
                <a:cubicBezTo>
                  <a:pt x="486" y="260"/>
                  <a:pt x="487" y="260"/>
                  <a:pt x="487" y="260"/>
                </a:cubicBezTo>
                <a:cubicBezTo>
                  <a:pt x="488" y="259"/>
                  <a:pt x="488" y="259"/>
                  <a:pt x="488" y="259"/>
                </a:cubicBezTo>
                <a:cubicBezTo>
                  <a:pt x="489" y="259"/>
                  <a:pt x="489" y="259"/>
                  <a:pt x="489" y="259"/>
                </a:cubicBezTo>
                <a:cubicBezTo>
                  <a:pt x="490" y="260"/>
                  <a:pt x="491" y="261"/>
                  <a:pt x="492" y="261"/>
                </a:cubicBezTo>
                <a:cubicBezTo>
                  <a:pt x="493" y="262"/>
                  <a:pt x="494" y="262"/>
                  <a:pt x="494" y="262"/>
                </a:cubicBezTo>
                <a:cubicBezTo>
                  <a:pt x="494" y="261"/>
                  <a:pt x="494" y="261"/>
                  <a:pt x="494" y="261"/>
                </a:cubicBezTo>
                <a:cubicBezTo>
                  <a:pt x="495" y="261"/>
                  <a:pt x="495" y="261"/>
                  <a:pt x="495" y="261"/>
                </a:cubicBezTo>
                <a:cubicBezTo>
                  <a:pt x="495" y="260"/>
                  <a:pt x="495" y="260"/>
                  <a:pt x="495" y="260"/>
                </a:cubicBezTo>
                <a:cubicBezTo>
                  <a:pt x="496" y="260"/>
                  <a:pt x="496" y="260"/>
                  <a:pt x="496" y="260"/>
                </a:cubicBezTo>
                <a:cubicBezTo>
                  <a:pt x="497" y="262"/>
                  <a:pt x="497" y="262"/>
                  <a:pt x="497" y="262"/>
                </a:cubicBezTo>
                <a:cubicBezTo>
                  <a:pt x="497" y="263"/>
                  <a:pt x="497" y="263"/>
                  <a:pt x="497" y="263"/>
                </a:cubicBezTo>
                <a:cubicBezTo>
                  <a:pt x="497" y="264"/>
                  <a:pt x="497" y="265"/>
                  <a:pt x="497" y="266"/>
                </a:cubicBezTo>
                <a:cubicBezTo>
                  <a:pt x="496" y="268"/>
                  <a:pt x="496" y="270"/>
                  <a:pt x="497" y="273"/>
                </a:cubicBezTo>
                <a:cubicBezTo>
                  <a:pt x="497" y="273"/>
                  <a:pt x="497" y="273"/>
                  <a:pt x="497" y="273"/>
                </a:cubicBezTo>
                <a:cubicBezTo>
                  <a:pt x="497" y="274"/>
                  <a:pt x="498" y="274"/>
                  <a:pt x="498" y="275"/>
                </a:cubicBezTo>
                <a:cubicBezTo>
                  <a:pt x="498" y="275"/>
                  <a:pt x="497" y="276"/>
                  <a:pt x="497" y="277"/>
                </a:cubicBezTo>
                <a:cubicBezTo>
                  <a:pt x="497" y="277"/>
                  <a:pt x="497" y="277"/>
                  <a:pt x="497" y="277"/>
                </a:cubicBezTo>
                <a:cubicBezTo>
                  <a:pt x="497" y="278"/>
                  <a:pt x="497" y="278"/>
                  <a:pt x="497" y="278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6" y="280"/>
                  <a:pt x="496" y="280"/>
                  <a:pt x="496" y="280"/>
                </a:cubicBezTo>
                <a:cubicBezTo>
                  <a:pt x="494" y="284"/>
                  <a:pt x="494" y="284"/>
                  <a:pt x="493" y="284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5"/>
                  <a:pt x="492" y="285"/>
                  <a:pt x="492" y="285"/>
                </a:cubicBezTo>
                <a:cubicBezTo>
                  <a:pt x="492" y="286"/>
                  <a:pt x="492" y="286"/>
                  <a:pt x="492" y="286"/>
                </a:cubicBezTo>
                <a:cubicBezTo>
                  <a:pt x="514" y="287"/>
                  <a:pt x="537" y="287"/>
                  <a:pt x="558" y="288"/>
                </a:cubicBezTo>
                <a:cubicBezTo>
                  <a:pt x="575" y="288"/>
                  <a:pt x="590" y="288"/>
                  <a:pt x="605" y="288"/>
                </a:cubicBezTo>
                <a:moveTo>
                  <a:pt x="554" y="46"/>
                </a:moveTo>
                <a:cubicBezTo>
                  <a:pt x="531" y="34"/>
                  <a:pt x="531" y="34"/>
                  <a:pt x="531" y="34"/>
                </a:cubicBezTo>
                <a:cubicBezTo>
                  <a:pt x="531" y="34"/>
                  <a:pt x="531" y="34"/>
                  <a:pt x="531" y="34"/>
                </a:cubicBezTo>
                <a:cubicBezTo>
                  <a:pt x="532" y="34"/>
                  <a:pt x="532" y="34"/>
                  <a:pt x="532" y="34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2" y="35"/>
                  <a:pt x="532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4" y="35"/>
                  <a:pt x="534" y="35"/>
                  <a:pt x="534" y="35"/>
                </a:cubicBezTo>
                <a:cubicBezTo>
                  <a:pt x="533" y="35"/>
                  <a:pt x="533" y="35"/>
                  <a:pt x="533" y="35"/>
                </a:cubicBezTo>
                <a:cubicBezTo>
                  <a:pt x="532" y="35"/>
                  <a:pt x="530" y="34"/>
                  <a:pt x="529" y="33"/>
                </a:cubicBezTo>
                <a:cubicBezTo>
                  <a:pt x="530" y="33"/>
                  <a:pt x="530" y="34"/>
                  <a:pt x="531" y="34"/>
                </a:cubicBezTo>
                <a:cubicBezTo>
                  <a:pt x="531" y="34"/>
                  <a:pt x="530" y="34"/>
                  <a:pt x="529" y="33"/>
                </a:cubicBezTo>
                <a:cubicBezTo>
                  <a:pt x="528" y="33"/>
                  <a:pt x="528" y="33"/>
                  <a:pt x="525" y="31"/>
                </a:cubicBezTo>
                <a:cubicBezTo>
                  <a:pt x="524" y="31"/>
                  <a:pt x="524" y="31"/>
                  <a:pt x="524" y="31"/>
                </a:cubicBezTo>
                <a:cubicBezTo>
                  <a:pt x="523" y="31"/>
                  <a:pt x="523" y="31"/>
                  <a:pt x="523" y="31"/>
                </a:cubicBezTo>
                <a:cubicBezTo>
                  <a:pt x="525" y="32"/>
                  <a:pt x="527" y="32"/>
                  <a:pt x="529" y="33"/>
                </a:cubicBezTo>
                <a:cubicBezTo>
                  <a:pt x="529" y="33"/>
                  <a:pt x="529" y="33"/>
                  <a:pt x="529" y="33"/>
                </a:cubicBezTo>
                <a:cubicBezTo>
                  <a:pt x="529" y="34"/>
                  <a:pt x="529" y="34"/>
                  <a:pt x="529" y="34"/>
                </a:cubicBezTo>
                <a:cubicBezTo>
                  <a:pt x="530" y="34"/>
                  <a:pt x="531" y="34"/>
                  <a:pt x="532" y="35"/>
                </a:cubicBezTo>
                <a:cubicBezTo>
                  <a:pt x="532" y="35"/>
                  <a:pt x="532" y="35"/>
                  <a:pt x="533" y="35"/>
                </a:cubicBezTo>
                <a:cubicBezTo>
                  <a:pt x="533" y="35"/>
                  <a:pt x="534" y="36"/>
                  <a:pt x="534" y="36"/>
                </a:cubicBezTo>
                <a:cubicBezTo>
                  <a:pt x="534" y="36"/>
                  <a:pt x="534" y="36"/>
                  <a:pt x="534" y="36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6" y="37"/>
                  <a:pt x="536" y="37"/>
                  <a:pt x="536" y="37"/>
                </a:cubicBezTo>
                <a:cubicBezTo>
                  <a:pt x="535" y="37"/>
                  <a:pt x="535" y="37"/>
                  <a:pt x="535" y="37"/>
                </a:cubicBezTo>
                <a:cubicBezTo>
                  <a:pt x="535" y="37"/>
                  <a:pt x="529" y="34"/>
                  <a:pt x="526" y="32"/>
                </a:cubicBezTo>
                <a:cubicBezTo>
                  <a:pt x="526" y="32"/>
                  <a:pt x="526" y="32"/>
                  <a:pt x="526" y="32"/>
                </a:cubicBezTo>
                <a:cubicBezTo>
                  <a:pt x="525" y="32"/>
                  <a:pt x="524" y="31"/>
                  <a:pt x="524" y="31"/>
                </a:cubicBezTo>
                <a:cubicBezTo>
                  <a:pt x="523" y="31"/>
                  <a:pt x="523" y="31"/>
                  <a:pt x="522" y="30"/>
                </a:cubicBezTo>
                <a:cubicBezTo>
                  <a:pt x="522" y="30"/>
                  <a:pt x="522" y="30"/>
                  <a:pt x="522" y="30"/>
                </a:cubicBezTo>
                <a:cubicBezTo>
                  <a:pt x="521" y="30"/>
                  <a:pt x="521" y="30"/>
                  <a:pt x="517" y="28"/>
                </a:cubicBezTo>
                <a:cubicBezTo>
                  <a:pt x="517" y="28"/>
                  <a:pt x="517" y="28"/>
                  <a:pt x="517" y="28"/>
                </a:cubicBezTo>
                <a:cubicBezTo>
                  <a:pt x="516" y="27"/>
                  <a:pt x="514" y="27"/>
                  <a:pt x="513" y="26"/>
                </a:cubicBezTo>
                <a:cubicBezTo>
                  <a:pt x="513" y="26"/>
                  <a:pt x="513" y="26"/>
                  <a:pt x="513" y="26"/>
                </a:cubicBezTo>
                <a:cubicBezTo>
                  <a:pt x="511" y="25"/>
                  <a:pt x="509" y="25"/>
                  <a:pt x="507" y="24"/>
                </a:cubicBezTo>
                <a:cubicBezTo>
                  <a:pt x="507" y="24"/>
                  <a:pt x="507" y="24"/>
                  <a:pt x="507" y="24"/>
                </a:cubicBezTo>
                <a:cubicBezTo>
                  <a:pt x="504" y="23"/>
                  <a:pt x="502" y="22"/>
                  <a:pt x="499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8" y="21"/>
                  <a:pt x="498" y="21"/>
                </a:cubicBezTo>
                <a:cubicBezTo>
                  <a:pt x="498" y="21"/>
                  <a:pt x="499" y="21"/>
                  <a:pt x="499" y="21"/>
                </a:cubicBezTo>
                <a:cubicBezTo>
                  <a:pt x="499" y="21"/>
                  <a:pt x="498" y="21"/>
                  <a:pt x="497" y="21"/>
                </a:cubicBezTo>
                <a:cubicBezTo>
                  <a:pt x="498" y="21"/>
                  <a:pt x="499" y="21"/>
                  <a:pt x="500" y="22"/>
                </a:cubicBezTo>
                <a:cubicBezTo>
                  <a:pt x="500" y="22"/>
                  <a:pt x="500" y="22"/>
                  <a:pt x="500" y="22"/>
                </a:cubicBezTo>
                <a:cubicBezTo>
                  <a:pt x="499" y="22"/>
                  <a:pt x="499" y="22"/>
                  <a:pt x="499" y="22"/>
                </a:cubicBezTo>
                <a:cubicBezTo>
                  <a:pt x="499" y="21"/>
                  <a:pt x="498" y="21"/>
                  <a:pt x="498" y="21"/>
                </a:cubicBezTo>
                <a:cubicBezTo>
                  <a:pt x="497" y="21"/>
                  <a:pt x="496" y="20"/>
                  <a:pt x="494" y="20"/>
                </a:cubicBezTo>
                <a:cubicBezTo>
                  <a:pt x="494" y="20"/>
                  <a:pt x="494" y="20"/>
                  <a:pt x="494" y="20"/>
                </a:cubicBezTo>
                <a:cubicBezTo>
                  <a:pt x="494" y="20"/>
                  <a:pt x="493" y="20"/>
                  <a:pt x="489" y="18"/>
                </a:cubicBezTo>
                <a:cubicBezTo>
                  <a:pt x="489" y="18"/>
                  <a:pt x="488" y="18"/>
                  <a:pt x="487" y="17"/>
                </a:cubicBezTo>
                <a:cubicBezTo>
                  <a:pt x="486" y="18"/>
                  <a:pt x="486" y="18"/>
                  <a:pt x="486" y="18"/>
                </a:cubicBezTo>
                <a:cubicBezTo>
                  <a:pt x="497" y="21"/>
                  <a:pt x="497" y="21"/>
                  <a:pt x="499" y="22"/>
                </a:cubicBezTo>
                <a:cubicBezTo>
                  <a:pt x="498" y="22"/>
                  <a:pt x="498" y="22"/>
                  <a:pt x="498" y="22"/>
                </a:cubicBezTo>
                <a:cubicBezTo>
                  <a:pt x="498" y="22"/>
                  <a:pt x="499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0" y="23"/>
                  <a:pt x="500" y="23"/>
                  <a:pt x="500" y="23"/>
                </a:cubicBezTo>
                <a:cubicBezTo>
                  <a:pt x="501" y="24"/>
                  <a:pt x="501" y="24"/>
                  <a:pt x="502" y="24"/>
                </a:cubicBezTo>
                <a:cubicBezTo>
                  <a:pt x="502" y="24"/>
                  <a:pt x="503" y="24"/>
                  <a:pt x="503" y="25"/>
                </a:cubicBezTo>
                <a:cubicBezTo>
                  <a:pt x="503" y="24"/>
                  <a:pt x="503" y="24"/>
                  <a:pt x="500" y="24"/>
                </a:cubicBezTo>
                <a:cubicBezTo>
                  <a:pt x="499" y="24"/>
                  <a:pt x="499" y="24"/>
                  <a:pt x="499" y="24"/>
                </a:cubicBezTo>
                <a:cubicBezTo>
                  <a:pt x="498" y="23"/>
                  <a:pt x="498" y="23"/>
                  <a:pt x="498" y="23"/>
                </a:cubicBezTo>
                <a:cubicBezTo>
                  <a:pt x="500" y="24"/>
                  <a:pt x="501" y="25"/>
                  <a:pt x="502" y="25"/>
                </a:cubicBezTo>
                <a:cubicBezTo>
                  <a:pt x="502" y="25"/>
                  <a:pt x="502" y="25"/>
                  <a:pt x="502" y="25"/>
                </a:cubicBezTo>
                <a:cubicBezTo>
                  <a:pt x="503" y="26"/>
                  <a:pt x="504" y="26"/>
                  <a:pt x="504" y="27"/>
                </a:cubicBezTo>
                <a:cubicBezTo>
                  <a:pt x="504" y="27"/>
                  <a:pt x="504" y="27"/>
                  <a:pt x="504" y="27"/>
                </a:cubicBezTo>
                <a:cubicBezTo>
                  <a:pt x="506" y="29"/>
                  <a:pt x="506" y="29"/>
                  <a:pt x="515" y="34"/>
                </a:cubicBezTo>
                <a:cubicBezTo>
                  <a:pt x="516" y="34"/>
                  <a:pt x="516" y="34"/>
                  <a:pt x="517" y="34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7" y="35"/>
                  <a:pt x="517" y="35"/>
                  <a:pt x="517" y="35"/>
                </a:cubicBezTo>
                <a:cubicBezTo>
                  <a:pt x="516" y="35"/>
                  <a:pt x="516" y="35"/>
                  <a:pt x="515" y="35"/>
                </a:cubicBezTo>
                <a:cubicBezTo>
                  <a:pt x="515" y="36"/>
                  <a:pt x="515" y="36"/>
                  <a:pt x="514" y="36"/>
                </a:cubicBezTo>
                <a:cubicBezTo>
                  <a:pt x="515" y="36"/>
                  <a:pt x="515" y="36"/>
                  <a:pt x="515" y="36"/>
                </a:cubicBezTo>
                <a:cubicBezTo>
                  <a:pt x="515" y="37"/>
                  <a:pt x="515" y="37"/>
                  <a:pt x="515" y="37"/>
                </a:cubicBezTo>
                <a:cubicBezTo>
                  <a:pt x="515" y="37"/>
                  <a:pt x="515" y="37"/>
                  <a:pt x="514" y="37"/>
                </a:cubicBezTo>
                <a:cubicBezTo>
                  <a:pt x="515" y="37"/>
                  <a:pt x="524" y="42"/>
                  <a:pt x="525" y="43"/>
                </a:cubicBezTo>
                <a:cubicBezTo>
                  <a:pt x="526" y="43"/>
                  <a:pt x="526" y="43"/>
                  <a:pt x="526" y="43"/>
                </a:cubicBezTo>
                <a:cubicBezTo>
                  <a:pt x="526" y="43"/>
                  <a:pt x="527" y="43"/>
                  <a:pt x="530" y="44"/>
                </a:cubicBezTo>
                <a:cubicBezTo>
                  <a:pt x="530" y="45"/>
                  <a:pt x="531" y="45"/>
                  <a:pt x="531" y="45"/>
                </a:cubicBezTo>
                <a:cubicBezTo>
                  <a:pt x="532" y="46"/>
                  <a:pt x="532" y="46"/>
                  <a:pt x="532" y="46"/>
                </a:cubicBezTo>
                <a:cubicBezTo>
                  <a:pt x="531" y="46"/>
                  <a:pt x="531" y="46"/>
                  <a:pt x="524" y="43"/>
                </a:cubicBezTo>
                <a:cubicBezTo>
                  <a:pt x="524" y="43"/>
                  <a:pt x="523" y="43"/>
                  <a:pt x="523" y="43"/>
                </a:cubicBezTo>
                <a:cubicBezTo>
                  <a:pt x="522" y="43"/>
                  <a:pt x="521" y="42"/>
                  <a:pt x="520" y="42"/>
                </a:cubicBezTo>
                <a:cubicBezTo>
                  <a:pt x="519" y="41"/>
                  <a:pt x="519" y="41"/>
                  <a:pt x="519" y="41"/>
                </a:cubicBezTo>
                <a:cubicBezTo>
                  <a:pt x="519" y="42"/>
                  <a:pt x="519" y="42"/>
                  <a:pt x="519" y="42"/>
                </a:cubicBezTo>
                <a:cubicBezTo>
                  <a:pt x="520" y="43"/>
                  <a:pt x="520" y="43"/>
                  <a:pt x="520" y="43"/>
                </a:cubicBezTo>
                <a:cubicBezTo>
                  <a:pt x="522" y="43"/>
                  <a:pt x="522" y="43"/>
                  <a:pt x="524" y="45"/>
                </a:cubicBezTo>
                <a:cubicBezTo>
                  <a:pt x="524" y="45"/>
                  <a:pt x="524" y="45"/>
                  <a:pt x="522" y="44"/>
                </a:cubicBezTo>
                <a:cubicBezTo>
                  <a:pt x="521" y="44"/>
                  <a:pt x="521" y="44"/>
                  <a:pt x="521" y="44"/>
                </a:cubicBezTo>
                <a:cubicBezTo>
                  <a:pt x="523" y="46"/>
                  <a:pt x="525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6" y="47"/>
                  <a:pt x="526" y="47"/>
                  <a:pt x="526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27" y="47"/>
                  <a:pt x="527" y="47"/>
                  <a:pt x="527" y="47"/>
                </a:cubicBezTo>
                <a:cubicBezTo>
                  <a:pt x="530" y="48"/>
                  <a:pt x="533" y="50"/>
                  <a:pt x="533" y="50"/>
                </a:cubicBezTo>
                <a:cubicBezTo>
                  <a:pt x="530" y="48"/>
                  <a:pt x="526" y="48"/>
                  <a:pt x="523" y="46"/>
                </a:cubicBezTo>
                <a:cubicBezTo>
                  <a:pt x="522" y="46"/>
                  <a:pt x="521" y="45"/>
                  <a:pt x="521" y="45"/>
                </a:cubicBezTo>
                <a:cubicBezTo>
                  <a:pt x="515" y="41"/>
                  <a:pt x="515" y="41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2" y="40"/>
                  <a:pt x="512" y="40"/>
                  <a:pt x="512" y="40"/>
                </a:cubicBezTo>
                <a:cubicBezTo>
                  <a:pt x="517" y="43"/>
                  <a:pt x="517" y="43"/>
                  <a:pt x="517" y="43"/>
                </a:cubicBezTo>
                <a:cubicBezTo>
                  <a:pt x="518" y="44"/>
                  <a:pt x="518" y="44"/>
                  <a:pt x="519" y="44"/>
                </a:cubicBezTo>
                <a:cubicBezTo>
                  <a:pt x="518" y="44"/>
                  <a:pt x="518" y="44"/>
                  <a:pt x="518" y="44"/>
                </a:cubicBezTo>
                <a:cubicBezTo>
                  <a:pt x="519" y="46"/>
                  <a:pt x="521" y="47"/>
                  <a:pt x="521" y="47"/>
                </a:cubicBezTo>
                <a:cubicBezTo>
                  <a:pt x="521" y="48"/>
                  <a:pt x="521" y="48"/>
                  <a:pt x="521" y="48"/>
                </a:cubicBezTo>
                <a:cubicBezTo>
                  <a:pt x="530" y="53"/>
                  <a:pt x="530" y="53"/>
                  <a:pt x="532" y="54"/>
                </a:cubicBezTo>
                <a:cubicBezTo>
                  <a:pt x="532" y="55"/>
                  <a:pt x="532" y="55"/>
                  <a:pt x="532" y="55"/>
                </a:cubicBezTo>
                <a:cubicBezTo>
                  <a:pt x="534" y="56"/>
                  <a:pt x="537" y="58"/>
                  <a:pt x="539" y="60"/>
                </a:cubicBezTo>
                <a:cubicBezTo>
                  <a:pt x="540" y="60"/>
                  <a:pt x="541" y="60"/>
                  <a:pt x="541" y="60"/>
                </a:cubicBezTo>
                <a:cubicBezTo>
                  <a:pt x="541" y="59"/>
                  <a:pt x="540" y="59"/>
                  <a:pt x="540" y="58"/>
                </a:cubicBezTo>
                <a:cubicBezTo>
                  <a:pt x="540" y="58"/>
                  <a:pt x="540" y="58"/>
                  <a:pt x="540" y="58"/>
                </a:cubicBezTo>
                <a:cubicBezTo>
                  <a:pt x="546" y="60"/>
                  <a:pt x="550" y="65"/>
                  <a:pt x="556" y="67"/>
                </a:cubicBezTo>
                <a:cubicBezTo>
                  <a:pt x="557" y="68"/>
                  <a:pt x="558" y="68"/>
                  <a:pt x="559" y="69"/>
                </a:cubicBezTo>
                <a:cubicBezTo>
                  <a:pt x="558" y="70"/>
                  <a:pt x="558" y="70"/>
                  <a:pt x="558" y="70"/>
                </a:cubicBezTo>
                <a:cubicBezTo>
                  <a:pt x="555" y="68"/>
                  <a:pt x="555" y="68"/>
                  <a:pt x="553" y="67"/>
                </a:cubicBezTo>
                <a:cubicBezTo>
                  <a:pt x="553" y="66"/>
                  <a:pt x="553" y="66"/>
                  <a:pt x="552" y="66"/>
                </a:cubicBezTo>
                <a:cubicBezTo>
                  <a:pt x="552" y="66"/>
                  <a:pt x="546" y="61"/>
                  <a:pt x="544" y="62"/>
                </a:cubicBezTo>
                <a:cubicBezTo>
                  <a:pt x="543" y="62"/>
                  <a:pt x="543" y="62"/>
                  <a:pt x="543" y="62"/>
                </a:cubicBezTo>
                <a:cubicBezTo>
                  <a:pt x="544" y="64"/>
                  <a:pt x="554" y="73"/>
                  <a:pt x="554" y="73"/>
                </a:cubicBezTo>
                <a:cubicBezTo>
                  <a:pt x="553" y="73"/>
                  <a:pt x="553" y="73"/>
                  <a:pt x="553" y="73"/>
                </a:cubicBezTo>
                <a:cubicBezTo>
                  <a:pt x="553" y="73"/>
                  <a:pt x="553" y="74"/>
                  <a:pt x="553" y="75"/>
                </a:cubicBezTo>
                <a:cubicBezTo>
                  <a:pt x="553" y="75"/>
                  <a:pt x="554" y="76"/>
                  <a:pt x="554" y="76"/>
                </a:cubicBezTo>
                <a:cubicBezTo>
                  <a:pt x="554" y="76"/>
                  <a:pt x="554" y="76"/>
                  <a:pt x="554" y="76"/>
                </a:cubicBezTo>
                <a:cubicBezTo>
                  <a:pt x="553" y="76"/>
                  <a:pt x="553" y="76"/>
                  <a:pt x="551" y="76"/>
                </a:cubicBezTo>
                <a:cubicBezTo>
                  <a:pt x="550" y="75"/>
                  <a:pt x="549" y="75"/>
                  <a:pt x="548" y="75"/>
                </a:cubicBezTo>
                <a:cubicBezTo>
                  <a:pt x="547" y="75"/>
                  <a:pt x="547" y="75"/>
                  <a:pt x="547" y="75"/>
                </a:cubicBezTo>
                <a:cubicBezTo>
                  <a:pt x="547" y="74"/>
                  <a:pt x="546" y="74"/>
                  <a:pt x="546" y="73"/>
                </a:cubicBezTo>
                <a:cubicBezTo>
                  <a:pt x="547" y="73"/>
                  <a:pt x="548" y="74"/>
                  <a:pt x="550" y="74"/>
                </a:cubicBezTo>
                <a:cubicBezTo>
                  <a:pt x="550" y="73"/>
                  <a:pt x="550" y="72"/>
                  <a:pt x="547" y="68"/>
                </a:cubicBezTo>
                <a:cubicBezTo>
                  <a:pt x="547" y="68"/>
                  <a:pt x="547" y="68"/>
                  <a:pt x="533" y="57"/>
                </a:cubicBezTo>
                <a:cubicBezTo>
                  <a:pt x="532" y="56"/>
                  <a:pt x="532" y="56"/>
                  <a:pt x="531" y="56"/>
                </a:cubicBezTo>
                <a:cubicBezTo>
                  <a:pt x="527" y="52"/>
                  <a:pt x="527" y="52"/>
                  <a:pt x="520" y="48"/>
                </a:cubicBezTo>
                <a:cubicBezTo>
                  <a:pt x="518" y="47"/>
                  <a:pt x="516" y="45"/>
                  <a:pt x="515" y="44"/>
                </a:cubicBezTo>
                <a:cubicBezTo>
                  <a:pt x="515" y="44"/>
                  <a:pt x="515" y="44"/>
                  <a:pt x="516" y="44"/>
                </a:cubicBezTo>
                <a:cubicBezTo>
                  <a:pt x="510" y="41"/>
                  <a:pt x="510" y="41"/>
                  <a:pt x="510" y="41"/>
                </a:cubicBezTo>
                <a:cubicBezTo>
                  <a:pt x="509" y="41"/>
                  <a:pt x="508" y="40"/>
                  <a:pt x="507" y="40"/>
                </a:cubicBezTo>
                <a:cubicBezTo>
                  <a:pt x="506" y="40"/>
                  <a:pt x="506" y="40"/>
                  <a:pt x="506" y="40"/>
                </a:cubicBezTo>
                <a:cubicBezTo>
                  <a:pt x="505" y="40"/>
                  <a:pt x="505" y="40"/>
                  <a:pt x="505" y="40"/>
                </a:cubicBezTo>
                <a:cubicBezTo>
                  <a:pt x="506" y="41"/>
                  <a:pt x="506" y="41"/>
                  <a:pt x="506" y="41"/>
                </a:cubicBezTo>
                <a:cubicBezTo>
                  <a:pt x="505" y="41"/>
                  <a:pt x="505" y="41"/>
                  <a:pt x="505" y="41"/>
                </a:cubicBezTo>
                <a:cubicBezTo>
                  <a:pt x="506" y="43"/>
                  <a:pt x="513" y="48"/>
                  <a:pt x="513" y="48"/>
                </a:cubicBezTo>
                <a:cubicBezTo>
                  <a:pt x="512" y="48"/>
                  <a:pt x="512" y="48"/>
                  <a:pt x="512" y="48"/>
                </a:cubicBezTo>
                <a:cubicBezTo>
                  <a:pt x="512" y="49"/>
                  <a:pt x="512" y="49"/>
                  <a:pt x="512" y="49"/>
                </a:cubicBezTo>
                <a:cubicBezTo>
                  <a:pt x="513" y="50"/>
                  <a:pt x="513" y="50"/>
                  <a:pt x="513" y="50"/>
                </a:cubicBezTo>
                <a:cubicBezTo>
                  <a:pt x="514" y="50"/>
                  <a:pt x="514" y="50"/>
                  <a:pt x="514" y="50"/>
                </a:cubicBezTo>
                <a:cubicBezTo>
                  <a:pt x="514" y="51"/>
                  <a:pt x="515" y="51"/>
                  <a:pt x="515" y="51"/>
                </a:cubicBezTo>
                <a:cubicBezTo>
                  <a:pt x="516" y="51"/>
                  <a:pt x="519" y="53"/>
                  <a:pt x="520" y="54"/>
                </a:cubicBezTo>
                <a:cubicBezTo>
                  <a:pt x="521" y="56"/>
                  <a:pt x="523" y="57"/>
                  <a:pt x="530" y="60"/>
                </a:cubicBezTo>
                <a:cubicBezTo>
                  <a:pt x="532" y="62"/>
                  <a:pt x="532" y="62"/>
                  <a:pt x="535" y="65"/>
                </a:cubicBezTo>
                <a:cubicBezTo>
                  <a:pt x="535" y="65"/>
                  <a:pt x="534" y="65"/>
                  <a:pt x="534" y="65"/>
                </a:cubicBezTo>
                <a:cubicBezTo>
                  <a:pt x="533" y="65"/>
                  <a:pt x="533" y="65"/>
                  <a:pt x="516" y="57"/>
                </a:cubicBezTo>
                <a:cubicBezTo>
                  <a:pt x="515" y="57"/>
                  <a:pt x="515" y="57"/>
                  <a:pt x="514" y="57"/>
                </a:cubicBezTo>
                <a:cubicBezTo>
                  <a:pt x="513" y="57"/>
                  <a:pt x="512" y="56"/>
                  <a:pt x="511" y="56"/>
                </a:cubicBezTo>
                <a:cubicBezTo>
                  <a:pt x="510" y="56"/>
                  <a:pt x="510" y="56"/>
                  <a:pt x="509" y="56"/>
                </a:cubicBezTo>
                <a:cubicBezTo>
                  <a:pt x="507" y="55"/>
                  <a:pt x="505" y="54"/>
                  <a:pt x="503" y="53"/>
                </a:cubicBezTo>
                <a:cubicBezTo>
                  <a:pt x="502" y="53"/>
                  <a:pt x="502" y="52"/>
                  <a:pt x="501" y="52"/>
                </a:cubicBezTo>
                <a:cubicBezTo>
                  <a:pt x="500" y="52"/>
                  <a:pt x="500" y="52"/>
                  <a:pt x="500" y="52"/>
                </a:cubicBezTo>
                <a:cubicBezTo>
                  <a:pt x="500" y="53"/>
                  <a:pt x="500" y="53"/>
                  <a:pt x="500" y="53"/>
                </a:cubicBezTo>
                <a:cubicBezTo>
                  <a:pt x="504" y="57"/>
                  <a:pt x="511" y="56"/>
                  <a:pt x="514" y="62"/>
                </a:cubicBezTo>
                <a:cubicBezTo>
                  <a:pt x="514" y="62"/>
                  <a:pt x="514" y="62"/>
                  <a:pt x="514" y="62"/>
                </a:cubicBezTo>
                <a:cubicBezTo>
                  <a:pt x="514" y="63"/>
                  <a:pt x="514" y="64"/>
                  <a:pt x="514" y="65"/>
                </a:cubicBezTo>
                <a:cubicBezTo>
                  <a:pt x="514" y="65"/>
                  <a:pt x="514" y="65"/>
                  <a:pt x="514" y="65"/>
                </a:cubicBezTo>
                <a:cubicBezTo>
                  <a:pt x="510" y="61"/>
                  <a:pt x="510" y="61"/>
                  <a:pt x="510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1"/>
                  <a:pt x="509" y="61"/>
                  <a:pt x="509" y="61"/>
                </a:cubicBezTo>
                <a:cubicBezTo>
                  <a:pt x="509" y="62"/>
                  <a:pt x="509" y="62"/>
                  <a:pt x="509" y="62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8" y="63"/>
                  <a:pt x="508" y="63"/>
                  <a:pt x="508" y="63"/>
                </a:cubicBezTo>
                <a:cubicBezTo>
                  <a:pt x="507" y="62"/>
                  <a:pt x="507" y="62"/>
                  <a:pt x="507" y="62"/>
                </a:cubicBezTo>
                <a:cubicBezTo>
                  <a:pt x="522" y="79"/>
                  <a:pt x="537" y="99"/>
                  <a:pt x="550" y="121"/>
                </a:cubicBezTo>
                <a:cubicBezTo>
                  <a:pt x="614" y="121"/>
                  <a:pt x="649" y="120"/>
                  <a:pt x="646" y="118"/>
                </a:cubicBezTo>
                <a:cubicBezTo>
                  <a:pt x="644" y="116"/>
                  <a:pt x="644" y="116"/>
                  <a:pt x="644" y="116"/>
                </a:cubicBezTo>
                <a:cubicBezTo>
                  <a:pt x="617" y="89"/>
                  <a:pt x="617" y="89"/>
                  <a:pt x="602" y="77"/>
                </a:cubicBezTo>
                <a:cubicBezTo>
                  <a:pt x="573" y="57"/>
                  <a:pt x="569" y="54"/>
                  <a:pt x="554" y="46"/>
                </a:cubicBezTo>
                <a:moveTo>
                  <a:pt x="624" y="357"/>
                </a:moveTo>
                <a:cubicBezTo>
                  <a:pt x="624" y="357"/>
                  <a:pt x="624" y="357"/>
                  <a:pt x="624" y="357"/>
                </a:cubicBezTo>
                <a:cubicBezTo>
                  <a:pt x="624" y="356"/>
                  <a:pt x="624" y="354"/>
                  <a:pt x="623" y="354"/>
                </a:cubicBezTo>
                <a:cubicBezTo>
                  <a:pt x="623" y="353"/>
                  <a:pt x="622" y="353"/>
                  <a:pt x="621" y="353"/>
                </a:cubicBezTo>
                <a:cubicBezTo>
                  <a:pt x="620" y="352"/>
                  <a:pt x="620" y="352"/>
                  <a:pt x="620" y="352"/>
                </a:cubicBezTo>
                <a:cubicBezTo>
                  <a:pt x="619" y="351"/>
                  <a:pt x="620" y="349"/>
                  <a:pt x="619" y="348"/>
                </a:cubicBezTo>
                <a:cubicBezTo>
                  <a:pt x="618" y="346"/>
                  <a:pt x="616" y="345"/>
                  <a:pt x="615" y="345"/>
                </a:cubicBezTo>
                <a:cubicBezTo>
                  <a:pt x="613" y="345"/>
                  <a:pt x="615" y="341"/>
                  <a:pt x="614" y="340"/>
                </a:cubicBezTo>
                <a:cubicBezTo>
                  <a:pt x="612" y="338"/>
                  <a:pt x="612" y="338"/>
                  <a:pt x="612" y="338"/>
                </a:cubicBezTo>
                <a:cubicBezTo>
                  <a:pt x="612" y="338"/>
                  <a:pt x="611" y="338"/>
                  <a:pt x="610" y="338"/>
                </a:cubicBezTo>
                <a:cubicBezTo>
                  <a:pt x="611" y="341"/>
                  <a:pt x="611" y="341"/>
                  <a:pt x="610" y="342"/>
                </a:cubicBezTo>
                <a:cubicBezTo>
                  <a:pt x="610" y="354"/>
                  <a:pt x="611" y="365"/>
                  <a:pt x="610" y="376"/>
                </a:cubicBezTo>
                <a:cubicBezTo>
                  <a:pt x="611" y="376"/>
                  <a:pt x="611" y="376"/>
                  <a:pt x="611" y="376"/>
                </a:cubicBezTo>
                <a:cubicBezTo>
                  <a:pt x="612" y="376"/>
                  <a:pt x="612" y="376"/>
                  <a:pt x="612" y="376"/>
                </a:cubicBezTo>
                <a:cubicBezTo>
                  <a:pt x="613" y="376"/>
                  <a:pt x="613" y="376"/>
                  <a:pt x="613" y="376"/>
                </a:cubicBezTo>
                <a:cubicBezTo>
                  <a:pt x="614" y="375"/>
                  <a:pt x="614" y="374"/>
                  <a:pt x="614" y="374"/>
                </a:cubicBezTo>
                <a:cubicBezTo>
                  <a:pt x="614" y="373"/>
                  <a:pt x="614" y="373"/>
                  <a:pt x="614" y="372"/>
                </a:cubicBezTo>
                <a:cubicBezTo>
                  <a:pt x="614" y="372"/>
                  <a:pt x="614" y="372"/>
                  <a:pt x="614" y="372"/>
                </a:cubicBezTo>
                <a:cubicBezTo>
                  <a:pt x="614" y="370"/>
                  <a:pt x="616" y="368"/>
                  <a:pt x="617" y="368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68"/>
                  <a:pt x="618" y="369"/>
                  <a:pt x="619" y="369"/>
                </a:cubicBezTo>
                <a:cubicBezTo>
                  <a:pt x="620" y="366"/>
                  <a:pt x="619" y="362"/>
                  <a:pt x="620" y="359"/>
                </a:cubicBezTo>
                <a:cubicBezTo>
                  <a:pt x="620" y="358"/>
                  <a:pt x="620" y="358"/>
                  <a:pt x="622" y="358"/>
                </a:cubicBezTo>
                <a:cubicBezTo>
                  <a:pt x="622" y="358"/>
                  <a:pt x="623" y="358"/>
                  <a:pt x="624" y="357"/>
                </a:cubicBezTo>
                <a:moveTo>
                  <a:pt x="743" y="321"/>
                </a:moveTo>
                <a:cubicBezTo>
                  <a:pt x="741" y="310"/>
                  <a:pt x="738" y="295"/>
                  <a:pt x="736" y="284"/>
                </a:cubicBezTo>
                <a:cubicBezTo>
                  <a:pt x="736" y="287"/>
                  <a:pt x="690" y="289"/>
                  <a:pt x="605" y="288"/>
                </a:cubicBezTo>
                <a:cubicBezTo>
                  <a:pt x="607" y="300"/>
                  <a:pt x="608" y="313"/>
                  <a:pt x="609" y="325"/>
                </a:cubicBezTo>
                <a:cubicBezTo>
                  <a:pt x="610" y="327"/>
                  <a:pt x="610" y="330"/>
                  <a:pt x="612" y="331"/>
                </a:cubicBezTo>
                <a:cubicBezTo>
                  <a:pt x="614" y="331"/>
                  <a:pt x="616" y="331"/>
                  <a:pt x="618" y="331"/>
                </a:cubicBezTo>
                <a:cubicBezTo>
                  <a:pt x="621" y="330"/>
                  <a:pt x="621" y="334"/>
                  <a:pt x="623" y="334"/>
                </a:cubicBezTo>
                <a:cubicBezTo>
                  <a:pt x="625" y="334"/>
                  <a:pt x="627" y="334"/>
                  <a:pt x="628" y="334"/>
                </a:cubicBezTo>
                <a:cubicBezTo>
                  <a:pt x="629" y="335"/>
                  <a:pt x="629" y="335"/>
                  <a:pt x="630" y="335"/>
                </a:cubicBezTo>
                <a:cubicBezTo>
                  <a:pt x="637" y="335"/>
                  <a:pt x="637" y="335"/>
                  <a:pt x="637" y="335"/>
                </a:cubicBezTo>
                <a:cubicBezTo>
                  <a:pt x="643" y="334"/>
                  <a:pt x="643" y="334"/>
                  <a:pt x="643" y="334"/>
                </a:cubicBezTo>
                <a:cubicBezTo>
                  <a:pt x="644" y="334"/>
                  <a:pt x="646" y="334"/>
                  <a:pt x="647" y="334"/>
                </a:cubicBezTo>
                <a:cubicBezTo>
                  <a:pt x="648" y="334"/>
                  <a:pt x="655" y="341"/>
                  <a:pt x="656" y="346"/>
                </a:cubicBezTo>
                <a:cubicBezTo>
                  <a:pt x="656" y="346"/>
                  <a:pt x="656" y="346"/>
                  <a:pt x="657" y="346"/>
                </a:cubicBezTo>
                <a:cubicBezTo>
                  <a:pt x="657" y="347"/>
                  <a:pt x="657" y="347"/>
                  <a:pt x="658" y="349"/>
                </a:cubicBezTo>
                <a:cubicBezTo>
                  <a:pt x="659" y="349"/>
                  <a:pt x="659" y="349"/>
                  <a:pt x="660" y="349"/>
                </a:cubicBezTo>
                <a:cubicBezTo>
                  <a:pt x="661" y="349"/>
                  <a:pt x="661" y="349"/>
                  <a:pt x="664" y="351"/>
                </a:cubicBezTo>
                <a:cubicBezTo>
                  <a:pt x="657" y="352"/>
                  <a:pt x="661" y="356"/>
                  <a:pt x="661" y="356"/>
                </a:cubicBezTo>
                <a:cubicBezTo>
                  <a:pt x="664" y="358"/>
                  <a:pt x="663" y="363"/>
                  <a:pt x="668" y="363"/>
                </a:cubicBezTo>
                <a:cubicBezTo>
                  <a:pt x="670" y="360"/>
                  <a:pt x="670" y="360"/>
                  <a:pt x="671" y="360"/>
                </a:cubicBezTo>
                <a:cubicBezTo>
                  <a:pt x="671" y="359"/>
                  <a:pt x="671" y="358"/>
                  <a:pt x="672" y="358"/>
                </a:cubicBezTo>
                <a:cubicBezTo>
                  <a:pt x="672" y="358"/>
                  <a:pt x="672" y="357"/>
                  <a:pt x="673" y="357"/>
                </a:cubicBezTo>
                <a:cubicBezTo>
                  <a:pt x="676" y="360"/>
                  <a:pt x="676" y="371"/>
                  <a:pt x="676" y="372"/>
                </a:cubicBezTo>
                <a:cubicBezTo>
                  <a:pt x="676" y="373"/>
                  <a:pt x="676" y="374"/>
                  <a:pt x="676" y="375"/>
                </a:cubicBezTo>
                <a:cubicBezTo>
                  <a:pt x="674" y="389"/>
                  <a:pt x="682" y="401"/>
                  <a:pt x="681" y="415"/>
                </a:cubicBezTo>
                <a:cubicBezTo>
                  <a:pt x="681" y="416"/>
                  <a:pt x="681" y="416"/>
                  <a:pt x="681" y="416"/>
                </a:cubicBezTo>
                <a:cubicBezTo>
                  <a:pt x="680" y="424"/>
                  <a:pt x="683" y="431"/>
                  <a:pt x="683" y="439"/>
                </a:cubicBezTo>
                <a:cubicBezTo>
                  <a:pt x="684" y="439"/>
                  <a:pt x="684" y="440"/>
                  <a:pt x="684" y="441"/>
                </a:cubicBezTo>
                <a:cubicBezTo>
                  <a:pt x="684" y="441"/>
                  <a:pt x="685" y="441"/>
                  <a:pt x="685" y="441"/>
                </a:cubicBezTo>
                <a:cubicBezTo>
                  <a:pt x="690" y="437"/>
                  <a:pt x="690" y="437"/>
                  <a:pt x="696" y="409"/>
                </a:cubicBezTo>
                <a:cubicBezTo>
                  <a:pt x="696" y="407"/>
                  <a:pt x="697" y="405"/>
                  <a:pt x="697" y="402"/>
                </a:cubicBezTo>
                <a:cubicBezTo>
                  <a:pt x="697" y="395"/>
                  <a:pt x="697" y="395"/>
                  <a:pt x="698" y="394"/>
                </a:cubicBezTo>
                <a:cubicBezTo>
                  <a:pt x="705" y="394"/>
                  <a:pt x="710" y="372"/>
                  <a:pt x="710" y="371"/>
                </a:cubicBezTo>
                <a:cubicBezTo>
                  <a:pt x="710" y="371"/>
                  <a:pt x="710" y="371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3" y="367"/>
                  <a:pt x="713" y="367"/>
                  <a:pt x="713" y="367"/>
                </a:cubicBezTo>
                <a:cubicBezTo>
                  <a:pt x="714" y="367"/>
                  <a:pt x="714" y="367"/>
                  <a:pt x="714" y="367"/>
                </a:cubicBezTo>
                <a:cubicBezTo>
                  <a:pt x="715" y="366"/>
                  <a:pt x="715" y="366"/>
                  <a:pt x="715" y="358"/>
                </a:cubicBezTo>
                <a:cubicBezTo>
                  <a:pt x="716" y="357"/>
                  <a:pt x="716" y="357"/>
                  <a:pt x="717" y="357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8" y="358"/>
                  <a:pt x="718" y="358"/>
                  <a:pt x="718" y="358"/>
                </a:cubicBezTo>
                <a:cubicBezTo>
                  <a:pt x="719" y="357"/>
                  <a:pt x="720" y="355"/>
                  <a:pt x="721" y="354"/>
                </a:cubicBezTo>
                <a:cubicBezTo>
                  <a:pt x="721" y="353"/>
                  <a:pt x="722" y="353"/>
                  <a:pt x="723" y="353"/>
                </a:cubicBezTo>
                <a:cubicBezTo>
                  <a:pt x="723" y="352"/>
                  <a:pt x="723" y="351"/>
                  <a:pt x="723" y="350"/>
                </a:cubicBezTo>
                <a:cubicBezTo>
                  <a:pt x="724" y="350"/>
                  <a:pt x="724" y="350"/>
                  <a:pt x="724" y="350"/>
                </a:cubicBezTo>
                <a:cubicBezTo>
                  <a:pt x="725" y="353"/>
                  <a:pt x="726" y="358"/>
                  <a:pt x="727" y="365"/>
                </a:cubicBezTo>
                <a:cubicBezTo>
                  <a:pt x="728" y="369"/>
                  <a:pt x="728" y="369"/>
                  <a:pt x="728" y="370"/>
                </a:cubicBezTo>
                <a:cubicBezTo>
                  <a:pt x="728" y="371"/>
                  <a:pt x="728" y="371"/>
                  <a:pt x="728" y="372"/>
                </a:cubicBezTo>
                <a:cubicBezTo>
                  <a:pt x="728" y="373"/>
                  <a:pt x="728" y="373"/>
                  <a:pt x="728" y="375"/>
                </a:cubicBezTo>
                <a:cubicBezTo>
                  <a:pt x="728" y="376"/>
                  <a:pt x="728" y="376"/>
                  <a:pt x="728" y="376"/>
                </a:cubicBezTo>
                <a:cubicBezTo>
                  <a:pt x="729" y="376"/>
                  <a:pt x="729" y="376"/>
                  <a:pt x="729" y="376"/>
                </a:cubicBezTo>
                <a:cubicBezTo>
                  <a:pt x="732" y="381"/>
                  <a:pt x="727" y="387"/>
                  <a:pt x="730" y="392"/>
                </a:cubicBezTo>
                <a:cubicBezTo>
                  <a:pt x="731" y="392"/>
                  <a:pt x="731" y="392"/>
                  <a:pt x="731" y="392"/>
                </a:cubicBezTo>
                <a:cubicBezTo>
                  <a:pt x="731" y="391"/>
                  <a:pt x="732" y="391"/>
                  <a:pt x="733" y="389"/>
                </a:cubicBezTo>
                <a:cubicBezTo>
                  <a:pt x="733" y="389"/>
                  <a:pt x="733" y="388"/>
                  <a:pt x="733" y="388"/>
                </a:cubicBezTo>
                <a:cubicBezTo>
                  <a:pt x="733" y="387"/>
                  <a:pt x="733" y="387"/>
                  <a:pt x="733" y="387"/>
                </a:cubicBezTo>
                <a:cubicBezTo>
                  <a:pt x="733" y="386"/>
                  <a:pt x="733" y="386"/>
                  <a:pt x="733" y="385"/>
                </a:cubicBezTo>
                <a:cubicBezTo>
                  <a:pt x="737" y="389"/>
                  <a:pt x="735" y="403"/>
                  <a:pt x="731" y="428"/>
                </a:cubicBezTo>
                <a:cubicBezTo>
                  <a:pt x="731" y="429"/>
                  <a:pt x="731" y="430"/>
                  <a:pt x="731" y="430"/>
                </a:cubicBezTo>
                <a:cubicBezTo>
                  <a:pt x="730" y="436"/>
                  <a:pt x="731" y="442"/>
                  <a:pt x="730" y="448"/>
                </a:cubicBezTo>
                <a:cubicBezTo>
                  <a:pt x="730" y="449"/>
                  <a:pt x="730" y="449"/>
                  <a:pt x="730" y="449"/>
                </a:cubicBezTo>
                <a:cubicBezTo>
                  <a:pt x="729" y="453"/>
                  <a:pt x="729" y="456"/>
                  <a:pt x="729" y="459"/>
                </a:cubicBezTo>
                <a:cubicBezTo>
                  <a:pt x="728" y="462"/>
                  <a:pt x="728" y="464"/>
                  <a:pt x="727" y="467"/>
                </a:cubicBezTo>
                <a:cubicBezTo>
                  <a:pt x="726" y="470"/>
                  <a:pt x="725" y="476"/>
                  <a:pt x="726" y="480"/>
                </a:cubicBezTo>
                <a:cubicBezTo>
                  <a:pt x="726" y="480"/>
                  <a:pt x="726" y="480"/>
                  <a:pt x="726" y="480"/>
                </a:cubicBezTo>
                <a:cubicBezTo>
                  <a:pt x="727" y="478"/>
                  <a:pt x="727" y="476"/>
                  <a:pt x="727" y="476"/>
                </a:cubicBezTo>
                <a:cubicBezTo>
                  <a:pt x="728" y="473"/>
                  <a:pt x="731" y="459"/>
                  <a:pt x="731" y="459"/>
                </a:cubicBezTo>
                <a:cubicBezTo>
                  <a:pt x="731" y="458"/>
                  <a:pt x="731" y="458"/>
                  <a:pt x="731" y="458"/>
                </a:cubicBezTo>
                <a:cubicBezTo>
                  <a:pt x="731" y="457"/>
                  <a:pt x="731" y="457"/>
                  <a:pt x="732" y="457"/>
                </a:cubicBezTo>
                <a:cubicBezTo>
                  <a:pt x="732" y="456"/>
                  <a:pt x="732" y="456"/>
                  <a:pt x="732" y="455"/>
                </a:cubicBezTo>
                <a:cubicBezTo>
                  <a:pt x="732" y="455"/>
                  <a:pt x="732" y="454"/>
                  <a:pt x="732" y="454"/>
                </a:cubicBezTo>
                <a:cubicBezTo>
                  <a:pt x="732" y="453"/>
                  <a:pt x="733" y="452"/>
                  <a:pt x="733" y="451"/>
                </a:cubicBezTo>
                <a:cubicBezTo>
                  <a:pt x="732" y="450"/>
                  <a:pt x="732" y="438"/>
                  <a:pt x="733" y="434"/>
                </a:cubicBezTo>
                <a:cubicBezTo>
                  <a:pt x="733" y="433"/>
                  <a:pt x="733" y="433"/>
                  <a:pt x="733" y="432"/>
                </a:cubicBezTo>
                <a:cubicBezTo>
                  <a:pt x="733" y="431"/>
                  <a:pt x="733" y="431"/>
                  <a:pt x="733" y="430"/>
                </a:cubicBezTo>
                <a:cubicBezTo>
                  <a:pt x="733" y="428"/>
                  <a:pt x="733" y="426"/>
                  <a:pt x="733" y="424"/>
                </a:cubicBezTo>
                <a:cubicBezTo>
                  <a:pt x="734" y="421"/>
                  <a:pt x="737" y="408"/>
                  <a:pt x="737" y="407"/>
                </a:cubicBezTo>
                <a:cubicBezTo>
                  <a:pt x="738" y="410"/>
                  <a:pt x="737" y="412"/>
                  <a:pt x="737" y="414"/>
                </a:cubicBezTo>
                <a:cubicBezTo>
                  <a:pt x="738" y="414"/>
                  <a:pt x="738" y="414"/>
                  <a:pt x="738" y="414"/>
                </a:cubicBezTo>
                <a:cubicBezTo>
                  <a:pt x="738" y="413"/>
                  <a:pt x="738" y="413"/>
                  <a:pt x="738" y="413"/>
                </a:cubicBezTo>
                <a:cubicBezTo>
                  <a:pt x="739" y="417"/>
                  <a:pt x="739" y="417"/>
                  <a:pt x="737" y="440"/>
                </a:cubicBezTo>
                <a:cubicBezTo>
                  <a:pt x="742" y="419"/>
                  <a:pt x="742" y="419"/>
                  <a:pt x="743" y="409"/>
                </a:cubicBezTo>
                <a:cubicBezTo>
                  <a:pt x="743" y="407"/>
                  <a:pt x="744" y="406"/>
                  <a:pt x="744" y="404"/>
                </a:cubicBezTo>
                <a:cubicBezTo>
                  <a:pt x="745" y="395"/>
                  <a:pt x="745" y="395"/>
                  <a:pt x="744" y="385"/>
                </a:cubicBezTo>
                <a:cubicBezTo>
                  <a:pt x="743" y="379"/>
                  <a:pt x="743" y="364"/>
                  <a:pt x="744" y="355"/>
                </a:cubicBezTo>
                <a:cubicBezTo>
                  <a:pt x="745" y="355"/>
                  <a:pt x="745" y="356"/>
                  <a:pt x="745" y="356"/>
                </a:cubicBezTo>
                <a:cubicBezTo>
                  <a:pt x="745" y="357"/>
                  <a:pt x="745" y="357"/>
                  <a:pt x="745" y="357"/>
                </a:cubicBezTo>
                <a:cubicBezTo>
                  <a:pt x="745" y="360"/>
                  <a:pt x="745" y="362"/>
                  <a:pt x="745" y="364"/>
                </a:cubicBezTo>
                <a:cubicBezTo>
                  <a:pt x="745" y="368"/>
                  <a:pt x="745" y="371"/>
                  <a:pt x="745" y="374"/>
                </a:cubicBezTo>
                <a:cubicBezTo>
                  <a:pt x="745" y="375"/>
                  <a:pt x="745" y="375"/>
                  <a:pt x="746" y="375"/>
                </a:cubicBezTo>
                <a:cubicBezTo>
                  <a:pt x="746" y="365"/>
                  <a:pt x="746" y="365"/>
                  <a:pt x="745" y="364"/>
                </a:cubicBezTo>
                <a:cubicBezTo>
                  <a:pt x="745" y="361"/>
                  <a:pt x="745" y="359"/>
                  <a:pt x="745" y="356"/>
                </a:cubicBezTo>
                <a:cubicBezTo>
                  <a:pt x="745" y="356"/>
                  <a:pt x="745" y="356"/>
                  <a:pt x="745" y="356"/>
                </a:cubicBezTo>
                <a:cubicBezTo>
                  <a:pt x="745" y="355"/>
                  <a:pt x="745" y="354"/>
                  <a:pt x="745" y="353"/>
                </a:cubicBezTo>
                <a:cubicBezTo>
                  <a:pt x="745" y="352"/>
                  <a:pt x="745" y="352"/>
                  <a:pt x="745" y="352"/>
                </a:cubicBezTo>
                <a:cubicBezTo>
                  <a:pt x="745" y="343"/>
                  <a:pt x="744" y="330"/>
                  <a:pt x="743" y="321"/>
                </a:cubicBezTo>
                <a:moveTo>
                  <a:pt x="299" y="117"/>
                </a:moveTo>
                <a:cubicBezTo>
                  <a:pt x="299" y="117"/>
                  <a:pt x="299" y="117"/>
                  <a:pt x="299" y="117"/>
                </a:cubicBezTo>
                <a:cubicBezTo>
                  <a:pt x="297" y="117"/>
                  <a:pt x="297" y="117"/>
                  <a:pt x="297" y="117"/>
                </a:cubicBezTo>
                <a:cubicBezTo>
                  <a:pt x="297" y="118"/>
                  <a:pt x="296" y="118"/>
                  <a:pt x="296" y="118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5" y="119"/>
                  <a:pt x="295" y="119"/>
                  <a:pt x="295" y="119"/>
                </a:cubicBezTo>
                <a:cubicBezTo>
                  <a:pt x="294" y="119"/>
                  <a:pt x="294" y="119"/>
                  <a:pt x="294" y="119"/>
                </a:cubicBezTo>
                <a:cubicBezTo>
                  <a:pt x="293" y="120"/>
                  <a:pt x="293" y="120"/>
                  <a:pt x="292" y="121"/>
                </a:cubicBezTo>
                <a:cubicBezTo>
                  <a:pt x="292" y="121"/>
                  <a:pt x="292" y="122"/>
                  <a:pt x="292" y="122"/>
                </a:cubicBezTo>
                <a:cubicBezTo>
                  <a:pt x="292" y="123"/>
                  <a:pt x="292" y="123"/>
                  <a:pt x="292" y="123"/>
                </a:cubicBezTo>
                <a:cubicBezTo>
                  <a:pt x="294" y="122"/>
                  <a:pt x="294" y="122"/>
                  <a:pt x="294" y="122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5" y="120"/>
                  <a:pt x="295" y="120"/>
                  <a:pt x="295" y="120"/>
                </a:cubicBezTo>
                <a:cubicBezTo>
                  <a:pt x="296" y="121"/>
                  <a:pt x="297" y="120"/>
                  <a:pt x="297" y="120"/>
                </a:cubicBezTo>
                <a:cubicBezTo>
                  <a:pt x="297" y="119"/>
                  <a:pt x="297" y="119"/>
                  <a:pt x="297" y="119"/>
                </a:cubicBezTo>
                <a:cubicBezTo>
                  <a:pt x="297" y="119"/>
                  <a:pt x="298" y="119"/>
                  <a:pt x="298" y="118"/>
                </a:cubicBezTo>
                <a:cubicBezTo>
                  <a:pt x="298" y="118"/>
                  <a:pt x="298" y="118"/>
                  <a:pt x="298" y="118"/>
                </a:cubicBezTo>
                <a:cubicBezTo>
                  <a:pt x="298" y="118"/>
                  <a:pt x="299" y="117"/>
                  <a:pt x="299" y="117"/>
                </a:cubicBezTo>
                <a:moveTo>
                  <a:pt x="324" y="158"/>
                </a:moveTo>
                <a:cubicBezTo>
                  <a:pt x="324" y="157"/>
                  <a:pt x="324" y="156"/>
                  <a:pt x="324" y="156"/>
                </a:cubicBezTo>
                <a:cubicBezTo>
                  <a:pt x="323" y="155"/>
                  <a:pt x="323" y="153"/>
                  <a:pt x="323" y="153"/>
                </a:cubicBezTo>
                <a:cubicBezTo>
                  <a:pt x="323" y="152"/>
                  <a:pt x="322" y="152"/>
                  <a:pt x="322" y="151"/>
                </a:cubicBezTo>
                <a:cubicBezTo>
                  <a:pt x="321" y="152"/>
                  <a:pt x="321" y="152"/>
                  <a:pt x="321" y="152"/>
                </a:cubicBezTo>
                <a:cubicBezTo>
                  <a:pt x="321" y="152"/>
                  <a:pt x="321" y="153"/>
                  <a:pt x="319" y="154"/>
                </a:cubicBezTo>
                <a:cubicBezTo>
                  <a:pt x="318" y="155"/>
                  <a:pt x="318" y="155"/>
                  <a:pt x="318" y="149"/>
                </a:cubicBezTo>
                <a:cubicBezTo>
                  <a:pt x="317" y="149"/>
                  <a:pt x="316" y="149"/>
                  <a:pt x="315" y="149"/>
                </a:cubicBezTo>
                <a:cubicBezTo>
                  <a:pt x="316" y="145"/>
                  <a:pt x="317" y="144"/>
                  <a:pt x="314" y="143"/>
                </a:cubicBezTo>
                <a:cubicBezTo>
                  <a:pt x="314" y="143"/>
                  <a:pt x="314" y="143"/>
                  <a:pt x="314" y="142"/>
                </a:cubicBezTo>
                <a:cubicBezTo>
                  <a:pt x="313" y="142"/>
                  <a:pt x="313" y="142"/>
                  <a:pt x="313" y="142"/>
                </a:cubicBezTo>
                <a:cubicBezTo>
                  <a:pt x="313" y="141"/>
                  <a:pt x="313" y="140"/>
                  <a:pt x="312" y="139"/>
                </a:cubicBezTo>
                <a:cubicBezTo>
                  <a:pt x="312" y="139"/>
                  <a:pt x="312" y="139"/>
                  <a:pt x="312" y="139"/>
                </a:cubicBezTo>
                <a:cubicBezTo>
                  <a:pt x="312" y="138"/>
                  <a:pt x="311" y="135"/>
                  <a:pt x="310" y="135"/>
                </a:cubicBezTo>
                <a:cubicBezTo>
                  <a:pt x="306" y="135"/>
                  <a:pt x="306" y="135"/>
                  <a:pt x="306" y="134"/>
                </a:cubicBezTo>
                <a:cubicBezTo>
                  <a:pt x="307" y="131"/>
                  <a:pt x="307" y="131"/>
                  <a:pt x="310" y="131"/>
                </a:cubicBezTo>
                <a:cubicBezTo>
                  <a:pt x="310" y="131"/>
                  <a:pt x="310" y="130"/>
                  <a:pt x="310" y="130"/>
                </a:cubicBezTo>
                <a:cubicBezTo>
                  <a:pt x="310" y="128"/>
                  <a:pt x="312" y="128"/>
                  <a:pt x="313" y="127"/>
                </a:cubicBezTo>
                <a:cubicBezTo>
                  <a:pt x="313" y="126"/>
                  <a:pt x="313" y="125"/>
                  <a:pt x="314" y="123"/>
                </a:cubicBezTo>
                <a:cubicBezTo>
                  <a:pt x="311" y="123"/>
                  <a:pt x="308" y="123"/>
                  <a:pt x="305" y="123"/>
                </a:cubicBezTo>
                <a:cubicBezTo>
                  <a:pt x="307" y="120"/>
                  <a:pt x="307" y="120"/>
                  <a:pt x="307" y="120"/>
                </a:cubicBezTo>
                <a:cubicBezTo>
                  <a:pt x="308" y="119"/>
                  <a:pt x="310" y="119"/>
                  <a:pt x="310" y="118"/>
                </a:cubicBezTo>
                <a:cubicBezTo>
                  <a:pt x="310" y="117"/>
                  <a:pt x="310" y="117"/>
                  <a:pt x="309" y="117"/>
                </a:cubicBezTo>
                <a:cubicBezTo>
                  <a:pt x="309" y="117"/>
                  <a:pt x="309" y="117"/>
                  <a:pt x="309" y="117"/>
                </a:cubicBezTo>
                <a:cubicBezTo>
                  <a:pt x="308" y="117"/>
                  <a:pt x="308" y="117"/>
                  <a:pt x="307" y="117"/>
                </a:cubicBezTo>
                <a:cubicBezTo>
                  <a:pt x="306" y="117"/>
                  <a:pt x="304" y="116"/>
                  <a:pt x="303" y="117"/>
                </a:cubicBezTo>
                <a:cubicBezTo>
                  <a:pt x="303" y="118"/>
                  <a:pt x="302" y="119"/>
                  <a:pt x="301" y="120"/>
                </a:cubicBezTo>
                <a:cubicBezTo>
                  <a:pt x="301" y="121"/>
                  <a:pt x="301" y="122"/>
                  <a:pt x="300" y="123"/>
                </a:cubicBezTo>
                <a:cubicBezTo>
                  <a:pt x="298" y="124"/>
                  <a:pt x="298" y="124"/>
                  <a:pt x="298" y="124"/>
                </a:cubicBezTo>
                <a:cubicBezTo>
                  <a:pt x="297" y="123"/>
                  <a:pt x="297" y="123"/>
                  <a:pt x="297" y="122"/>
                </a:cubicBezTo>
                <a:cubicBezTo>
                  <a:pt x="296" y="123"/>
                  <a:pt x="296" y="123"/>
                  <a:pt x="296" y="123"/>
                </a:cubicBezTo>
                <a:cubicBezTo>
                  <a:pt x="294" y="123"/>
                  <a:pt x="294" y="126"/>
                  <a:pt x="294" y="126"/>
                </a:cubicBezTo>
                <a:cubicBezTo>
                  <a:pt x="295" y="127"/>
                  <a:pt x="296" y="126"/>
                  <a:pt x="297" y="127"/>
                </a:cubicBezTo>
                <a:cubicBezTo>
                  <a:pt x="296" y="128"/>
                  <a:pt x="296" y="128"/>
                  <a:pt x="296" y="128"/>
                </a:cubicBezTo>
                <a:cubicBezTo>
                  <a:pt x="296" y="128"/>
                  <a:pt x="296" y="128"/>
                  <a:pt x="296" y="129"/>
                </a:cubicBezTo>
                <a:cubicBezTo>
                  <a:pt x="295" y="130"/>
                  <a:pt x="296" y="131"/>
                  <a:pt x="294" y="131"/>
                </a:cubicBezTo>
                <a:cubicBezTo>
                  <a:pt x="292" y="132"/>
                  <a:pt x="292" y="133"/>
                  <a:pt x="292" y="133"/>
                </a:cubicBezTo>
                <a:cubicBezTo>
                  <a:pt x="292" y="134"/>
                  <a:pt x="292" y="134"/>
                  <a:pt x="292" y="134"/>
                </a:cubicBezTo>
                <a:cubicBezTo>
                  <a:pt x="292" y="134"/>
                  <a:pt x="293" y="134"/>
                  <a:pt x="294" y="134"/>
                </a:cubicBezTo>
                <a:cubicBezTo>
                  <a:pt x="294" y="134"/>
                  <a:pt x="294" y="133"/>
                  <a:pt x="295" y="134"/>
                </a:cubicBezTo>
                <a:cubicBezTo>
                  <a:pt x="295" y="135"/>
                  <a:pt x="295" y="135"/>
                  <a:pt x="296" y="135"/>
                </a:cubicBezTo>
                <a:cubicBezTo>
                  <a:pt x="296" y="136"/>
                  <a:pt x="297" y="136"/>
                  <a:pt x="297" y="135"/>
                </a:cubicBezTo>
                <a:cubicBezTo>
                  <a:pt x="297" y="135"/>
                  <a:pt x="297" y="135"/>
                  <a:pt x="298" y="134"/>
                </a:cubicBezTo>
                <a:cubicBezTo>
                  <a:pt x="299" y="135"/>
                  <a:pt x="299" y="135"/>
                  <a:pt x="299" y="135"/>
                </a:cubicBezTo>
                <a:cubicBezTo>
                  <a:pt x="298" y="136"/>
                  <a:pt x="299" y="137"/>
                  <a:pt x="299" y="138"/>
                </a:cubicBezTo>
                <a:cubicBezTo>
                  <a:pt x="298" y="139"/>
                  <a:pt x="297" y="138"/>
                  <a:pt x="296" y="139"/>
                </a:cubicBezTo>
                <a:cubicBezTo>
                  <a:pt x="296" y="140"/>
                  <a:pt x="296" y="140"/>
                  <a:pt x="296" y="141"/>
                </a:cubicBezTo>
                <a:cubicBezTo>
                  <a:pt x="298" y="141"/>
                  <a:pt x="299" y="141"/>
                  <a:pt x="301" y="141"/>
                </a:cubicBezTo>
                <a:cubicBezTo>
                  <a:pt x="302" y="140"/>
                  <a:pt x="302" y="140"/>
                  <a:pt x="302" y="140"/>
                </a:cubicBezTo>
                <a:cubicBezTo>
                  <a:pt x="304" y="142"/>
                  <a:pt x="301" y="145"/>
                  <a:pt x="304" y="146"/>
                </a:cubicBezTo>
                <a:cubicBezTo>
                  <a:pt x="304" y="146"/>
                  <a:pt x="304" y="146"/>
                  <a:pt x="304" y="146"/>
                </a:cubicBezTo>
                <a:cubicBezTo>
                  <a:pt x="304" y="147"/>
                  <a:pt x="303" y="148"/>
                  <a:pt x="303" y="149"/>
                </a:cubicBezTo>
                <a:cubicBezTo>
                  <a:pt x="304" y="150"/>
                  <a:pt x="303" y="151"/>
                  <a:pt x="302" y="151"/>
                </a:cubicBezTo>
                <a:cubicBezTo>
                  <a:pt x="300" y="152"/>
                  <a:pt x="299" y="150"/>
                  <a:pt x="297" y="150"/>
                </a:cubicBezTo>
                <a:cubicBezTo>
                  <a:pt x="297" y="150"/>
                  <a:pt x="297" y="150"/>
                  <a:pt x="297" y="150"/>
                </a:cubicBezTo>
                <a:cubicBezTo>
                  <a:pt x="296" y="150"/>
                  <a:pt x="296" y="150"/>
                  <a:pt x="295" y="151"/>
                </a:cubicBezTo>
                <a:cubicBezTo>
                  <a:pt x="295" y="152"/>
                  <a:pt x="295" y="152"/>
                  <a:pt x="295" y="152"/>
                </a:cubicBezTo>
                <a:cubicBezTo>
                  <a:pt x="294" y="152"/>
                  <a:pt x="294" y="152"/>
                  <a:pt x="293" y="152"/>
                </a:cubicBezTo>
                <a:cubicBezTo>
                  <a:pt x="292" y="153"/>
                  <a:pt x="292" y="153"/>
                  <a:pt x="292" y="153"/>
                </a:cubicBezTo>
                <a:cubicBezTo>
                  <a:pt x="294" y="154"/>
                  <a:pt x="295" y="153"/>
                  <a:pt x="297" y="154"/>
                </a:cubicBezTo>
                <a:cubicBezTo>
                  <a:pt x="297" y="154"/>
                  <a:pt x="297" y="155"/>
                  <a:pt x="296" y="156"/>
                </a:cubicBezTo>
                <a:cubicBezTo>
                  <a:pt x="296" y="156"/>
                  <a:pt x="296" y="156"/>
                  <a:pt x="295" y="156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2" y="157"/>
                  <a:pt x="292" y="157"/>
                  <a:pt x="292" y="157"/>
                </a:cubicBezTo>
                <a:cubicBezTo>
                  <a:pt x="291" y="159"/>
                  <a:pt x="291" y="159"/>
                  <a:pt x="291" y="160"/>
                </a:cubicBezTo>
                <a:cubicBezTo>
                  <a:pt x="293" y="161"/>
                  <a:pt x="295" y="159"/>
                  <a:pt x="296" y="160"/>
                </a:cubicBezTo>
                <a:cubicBezTo>
                  <a:pt x="298" y="161"/>
                  <a:pt x="299" y="160"/>
                  <a:pt x="301" y="161"/>
                </a:cubicBezTo>
                <a:cubicBezTo>
                  <a:pt x="301" y="162"/>
                  <a:pt x="301" y="162"/>
                  <a:pt x="300" y="163"/>
                </a:cubicBezTo>
                <a:cubicBezTo>
                  <a:pt x="300" y="163"/>
                  <a:pt x="299" y="163"/>
                  <a:pt x="296" y="163"/>
                </a:cubicBezTo>
                <a:cubicBezTo>
                  <a:pt x="295" y="163"/>
                  <a:pt x="295" y="164"/>
                  <a:pt x="294" y="165"/>
                </a:cubicBezTo>
                <a:cubicBezTo>
                  <a:pt x="293" y="165"/>
                  <a:pt x="292" y="165"/>
                  <a:pt x="291" y="165"/>
                </a:cubicBezTo>
                <a:cubicBezTo>
                  <a:pt x="291" y="168"/>
                  <a:pt x="291" y="168"/>
                  <a:pt x="287" y="169"/>
                </a:cubicBezTo>
                <a:cubicBezTo>
                  <a:pt x="288" y="170"/>
                  <a:pt x="288" y="170"/>
                  <a:pt x="291" y="169"/>
                </a:cubicBezTo>
                <a:cubicBezTo>
                  <a:pt x="292" y="169"/>
                  <a:pt x="292" y="169"/>
                  <a:pt x="293" y="168"/>
                </a:cubicBezTo>
                <a:cubicBezTo>
                  <a:pt x="293" y="168"/>
                  <a:pt x="293" y="168"/>
                  <a:pt x="295" y="169"/>
                </a:cubicBezTo>
                <a:cubicBezTo>
                  <a:pt x="296" y="169"/>
                  <a:pt x="296" y="169"/>
                  <a:pt x="297" y="169"/>
                </a:cubicBezTo>
                <a:cubicBezTo>
                  <a:pt x="298" y="167"/>
                  <a:pt x="298" y="167"/>
                  <a:pt x="298" y="166"/>
                </a:cubicBezTo>
                <a:cubicBezTo>
                  <a:pt x="300" y="167"/>
                  <a:pt x="302" y="166"/>
                  <a:pt x="304" y="167"/>
                </a:cubicBezTo>
                <a:cubicBezTo>
                  <a:pt x="306" y="167"/>
                  <a:pt x="306" y="165"/>
                  <a:pt x="307" y="165"/>
                </a:cubicBezTo>
                <a:cubicBezTo>
                  <a:pt x="309" y="165"/>
                  <a:pt x="309" y="167"/>
                  <a:pt x="310" y="167"/>
                </a:cubicBezTo>
                <a:cubicBezTo>
                  <a:pt x="311" y="167"/>
                  <a:pt x="311" y="167"/>
                  <a:pt x="311" y="167"/>
                </a:cubicBezTo>
                <a:cubicBezTo>
                  <a:pt x="312" y="167"/>
                  <a:pt x="314" y="167"/>
                  <a:pt x="316" y="166"/>
                </a:cubicBezTo>
                <a:cubicBezTo>
                  <a:pt x="317" y="165"/>
                  <a:pt x="317" y="165"/>
                  <a:pt x="317" y="165"/>
                </a:cubicBezTo>
                <a:cubicBezTo>
                  <a:pt x="319" y="165"/>
                  <a:pt x="319" y="165"/>
                  <a:pt x="320" y="165"/>
                </a:cubicBezTo>
                <a:cubicBezTo>
                  <a:pt x="320" y="164"/>
                  <a:pt x="320" y="164"/>
                  <a:pt x="320" y="164"/>
                </a:cubicBezTo>
                <a:cubicBezTo>
                  <a:pt x="320" y="163"/>
                  <a:pt x="319" y="162"/>
                  <a:pt x="319" y="161"/>
                </a:cubicBezTo>
                <a:cubicBezTo>
                  <a:pt x="319" y="161"/>
                  <a:pt x="319" y="161"/>
                  <a:pt x="319" y="161"/>
                </a:cubicBezTo>
                <a:cubicBezTo>
                  <a:pt x="319" y="160"/>
                  <a:pt x="319" y="159"/>
                  <a:pt x="321" y="160"/>
                </a:cubicBezTo>
                <a:cubicBezTo>
                  <a:pt x="321" y="160"/>
                  <a:pt x="321" y="160"/>
                  <a:pt x="322" y="158"/>
                </a:cubicBezTo>
                <a:cubicBezTo>
                  <a:pt x="323" y="158"/>
                  <a:pt x="323" y="158"/>
                  <a:pt x="324" y="158"/>
                </a:cubicBezTo>
                <a:moveTo>
                  <a:pt x="281" y="142"/>
                </a:move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cubicBezTo>
                  <a:pt x="281" y="142"/>
                  <a:pt x="281" y="142"/>
                  <a:pt x="281" y="142"/>
                </a:cubicBezTo>
                <a:moveTo>
                  <a:pt x="293" y="143"/>
                </a:moveTo>
                <a:cubicBezTo>
                  <a:pt x="293" y="143"/>
                  <a:pt x="294" y="142"/>
                  <a:pt x="293" y="141"/>
                </a:cubicBezTo>
                <a:cubicBezTo>
                  <a:pt x="292" y="140"/>
                  <a:pt x="293" y="139"/>
                  <a:pt x="293" y="139"/>
                </a:cubicBezTo>
                <a:cubicBezTo>
                  <a:pt x="293" y="139"/>
                  <a:pt x="293" y="138"/>
                  <a:pt x="292" y="138"/>
                </a:cubicBezTo>
                <a:cubicBezTo>
                  <a:pt x="292" y="138"/>
                  <a:pt x="291" y="138"/>
                  <a:pt x="291" y="138"/>
                </a:cubicBezTo>
                <a:cubicBezTo>
                  <a:pt x="291" y="137"/>
                  <a:pt x="291" y="137"/>
                  <a:pt x="291" y="137"/>
                </a:cubicBezTo>
                <a:cubicBezTo>
                  <a:pt x="290" y="137"/>
                  <a:pt x="290" y="137"/>
                  <a:pt x="290" y="137"/>
                </a:cubicBezTo>
                <a:cubicBezTo>
                  <a:pt x="289" y="137"/>
                  <a:pt x="288" y="138"/>
                  <a:pt x="288" y="138"/>
                </a:cubicBezTo>
                <a:cubicBezTo>
                  <a:pt x="287" y="138"/>
                  <a:pt x="287" y="138"/>
                  <a:pt x="287" y="139"/>
                </a:cubicBezTo>
                <a:cubicBezTo>
                  <a:pt x="287" y="139"/>
                  <a:pt x="286" y="139"/>
                  <a:pt x="286" y="139"/>
                </a:cubicBezTo>
                <a:cubicBezTo>
                  <a:pt x="285" y="139"/>
                  <a:pt x="285" y="139"/>
                  <a:pt x="285" y="139"/>
                </a:cubicBezTo>
                <a:cubicBezTo>
                  <a:pt x="285" y="138"/>
                  <a:pt x="285" y="138"/>
                  <a:pt x="285" y="137"/>
                </a:cubicBezTo>
                <a:cubicBezTo>
                  <a:pt x="284" y="137"/>
                  <a:pt x="284" y="137"/>
                  <a:pt x="282" y="137"/>
                </a:cubicBezTo>
                <a:cubicBezTo>
                  <a:pt x="282" y="139"/>
                  <a:pt x="281" y="140"/>
                  <a:pt x="281" y="142"/>
                </a:cubicBezTo>
                <a:cubicBezTo>
                  <a:pt x="280" y="142"/>
                  <a:pt x="280" y="143"/>
                  <a:pt x="279" y="142"/>
                </a:cubicBezTo>
                <a:cubicBezTo>
                  <a:pt x="278" y="142"/>
                  <a:pt x="278" y="143"/>
                  <a:pt x="277" y="143"/>
                </a:cubicBezTo>
                <a:cubicBezTo>
                  <a:pt x="277" y="143"/>
                  <a:pt x="277" y="143"/>
                  <a:pt x="276" y="142"/>
                </a:cubicBezTo>
                <a:cubicBezTo>
                  <a:pt x="275" y="142"/>
                  <a:pt x="275" y="142"/>
                  <a:pt x="275" y="142"/>
                </a:cubicBezTo>
                <a:cubicBezTo>
                  <a:pt x="274" y="145"/>
                  <a:pt x="273" y="147"/>
                  <a:pt x="273" y="149"/>
                </a:cubicBezTo>
                <a:cubicBezTo>
                  <a:pt x="274" y="149"/>
                  <a:pt x="274" y="149"/>
                  <a:pt x="276" y="149"/>
                </a:cubicBezTo>
                <a:cubicBezTo>
                  <a:pt x="275" y="150"/>
                  <a:pt x="275" y="151"/>
                  <a:pt x="275" y="152"/>
                </a:cubicBezTo>
                <a:cubicBezTo>
                  <a:pt x="272" y="153"/>
                  <a:pt x="272" y="153"/>
                  <a:pt x="271" y="154"/>
                </a:cubicBezTo>
                <a:cubicBezTo>
                  <a:pt x="271" y="154"/>
                  <a:pt x="271" y="154"/>
                  <a:pt x="271" y="154"/>
                </a:cubicBezTo>
                <a:cubicBezTo>
                  <a:pt x="271" y="155"/>
                  <a:pt x="271" y="156"/>
                  <a:pt x="270" y="156"/>
                </a:cubicBezTo>
                <a:cubicBezTo>
                  <a:pt x="270" y="157"/>
                  <a:pt x="269" y="157"/>
                  <a:pt x="269" y="157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9" y="158"/>
                  <a:pt x="268" y="159"/>
                  <a:pt x="269" y="159"/>
                </a:cubicBezTo>
                <a:cubicBezTo>
                  <a:pt x="270" y="160"/>
                  <a:pt x="271" y="160"/>
                  <a:pt x="271" y="160"/>
                </a:cubicBezTo>
                <a:cubicBezTo>
                  <a:pt x="273" y="159"/>
                  <a:pt x="274" y="160"/>
                  <a:pt x="274" y="160"/>
                </a:cubicBezTo>
                <a:cubicBezTo>
                  <a:pt x="275" y="160"/>
                  <a:pt x="277" y="159"/>
                  <a:pt x="277" y="159"/>
                </a:cubicBezTo>
                <a:cubicBezTo>
                  <a:pt x="277" y="159"/>
                  <a:pt x="277" y="159"/>
                  <a:pt x="277" y="158"/>
                </a:cubicBezTo>
                <a:cubicBezTo>
                  <a:pt x="278" y="157"/>
                  <a:pt x="278" y="157"/>
                  <a:pt x="278" y="157"/>
                </a:cubicBezTo>
                <a:cubicBezTo>
                  <a:pt x="281" y="157"/>
                  <a:pt x="284" y="157"/>
                  <a:pt x="286" y="157"/>
                </a:cubicBezTo>
                <a:cubicBezTo>
                  <a:pt x="286" y="157"/>
                  <a:pt x="287" y="156"/>
                  <a:pt x="287" y="156"/>
                </a:cubicBezTo>
                <a:cubicBezTo>
                  <a:pt x="287" y="155"/>
                  <a:pt x="286" y="155"/>
                  <a:pt x="286" y="154"/>
                </a:cubicBezTo>
                <a:cubicBezTo>
                  <a:pt x="287" y="153"/>
                  <a:pt x="287" y="154"/>
                  <a:pt x="288" y="153"/>
                </a:cubicBezTo>
                <a:cubicBezTo>
                  <a:pt x="288" y="152"/>
                  <a:pt x="288" y="152"/>
                  <a:pt x="289" y="150"/>
                </a:cubicBezTo>
                <a:cubicBezTo>
                  <a:pt x="289" y="149"/>
                  <a:pt x="290" y="148"/>
                  <a:pt x="290" y="147"/>
                </a:cubicBezTo>
                <a:cubicBezTo>
                  <a:pt x="290" y="146"/>
                  <a:pt x="290" y="145"/>
                  <a:pt x="290" y="145"/>
                </a:cubicBezTo>
                <a:cubicBezTo>
                  <a:pt x="292" y="145"/>
                  <a:pt x="293" y="144"/>
                  <a:pt x="293" y="143"/>
                </a:cubicBezTo>
                <a:moveTo>
                  <a:pt x="544" y="571"/>
                </a:moveTo>
                <a:cubicBezTo>
                  <a:pt x="544" y="571"/>
                  <a:pt x="544" y="570"/>
                  <a:pt x="545" y="570"/>
                </a:cubicBezTo>
                <a:cubicBezTo>
                  <a:pt x="548" y="559"/>
                  <a:pt x="548" y="559"/>
                  <a:pt x="548" y="559"/>
                </a:cubicBezTo>
                <a:cubicBezTo>
                  <a:pt x="547" y="558"/>
                  <a:pt x="547" y="556"/>
                  <a:pt x="543" y="555"/>
                </a:cubicBezTo>
                <a:cubicBezTo>
                  <a:pt x="542" y="559"/>
                  <a:pt x="542" y="559"/>
                  <a:pt x="542" y="559"/>
                </a:cubicBezTo>
                <a:cubicBezTo>
                  <a:pt x="541" y="560"/>
                  <a:pt x="541" y="560"/>
                  <a:pt x="535" y="564"/>
                </a:cubicBezTo>
                <a:cubicBezTo>
                  <a:pt x="535" y="564"/>
                  <a:pt x="533" y="567"/>
                  <a:pt x="533" y="567"/>
                </a:cubicBezTo>
                <a:cubicBezTo>
                  <a:pt x="533" y="568"/>
                  <a:pt x="533" y="568"/>
                  <a:pt x="533" y="568"/>
                </a:cubicBezTo>
                <a:cubicBezTo>
                  <a:pt x="532" y="569"/>
                  <a:pt x="531" y="568"/>
                  <a:pt x="531" y="569"/>
                </a:cubicBezTo>
                <a:cubicBezTo>
                  <a:pt x="530" y="570"/>
                  <a:pt x="530" y="571"/>
                  <a:pt x="528" y="572"/>
                </a:cubicBezTo>
                <a:cubicBezTo>
                  <a:pt x="525" y="575"/>
                  <a:pt x="522" y="572"/>
                  <a:pt x="518" y="573"/>
                </a:cubicBezTo>
                <a:cubicBezTo>
                  <a:pt x="517" y="574"/>
                  <a:pt x="516" y="574"/>
                  <a:pt x="516" y="575"/>
                </a:cubicBezTo>
                <a:cubicBezTo>
                  <a:pt x="515" y="576"/>
                  <a:pt x="515" y="577"/>
                  <a:pt x="514" y="579"/>
                </a:cubicBezTo>
                <a:cubicBezTo>
                  <a:pt x="513" y="580"/>
                  <a:pt x="512" y="581"/>
                  <a:pt x="511" y="582"/>
                </a:cubicBezTo>
                <a:cubicBezTo>
                  <a:pt x="511" y="582"/>
                  <a:pt x="509" y="588"/>
                  <a:pt x="510" y="589"/>
                </a:cubicBezTo>
                <a:cubicBezTo>
                  <a:pt x="510" y="590"/>
                  <a:pt x="510" y="590"/>
                  <a:pt x="510" y="591"/>
                </a:cubicBezTo>
                <a:cubicBezTo>
                  <a:pt x="510" y="591"/>
                  <a:pt x="509" y="594"/>
                  <a:pt x="509" y="594"/>
                </a:cubicBezTo>
                <a:cubicBezTo>
                  <a:pt x="509" y="595"/>
                  <a:pt x="508" y="595"/>
                  <a:pt x="508" y="594"/>
                </a:cubicBezTo>
                <a:cubicBezTo>
                  <a:pt x="507" y="594"/>
                  <a:pt x="507" y="594"/>
                  <a:pt x="504" y="597"/>
                </a:cubicBezTo>
                <a:cubicBezTo>
                  <a:pt x="503" y="599"/>
                  <a:pt x="503" y="601"/>
                  <a:pt x="501" y="603"/>
                </a:cubicBezTo>
                <a:cubicBezTo>
                  <a:pt x="501" y="603"/>
                  <a:pt x="501" y="603"/>
                  <a:pt x="500" y="604"/>
                </a:cubicBezTo>
                <a:cubicBezTo>
                  <a:pt x="500" y="604"/>
                  <a:pt x="500" y="604"/>
                  <a:pt x="500" y="605"/>
                </a:cubicBezTo>
                <a:cubicBezTo>
                  <a:pt x="500" y="606"/>
                  <a:pt x="500" y="608"/>
                  <a:pt x="500" y="609"/>
                </a:cubicBezTo>
                <a:cubicBezTo>
                  <a:pt x="499" y="610"/>
                  <a:pt x="499" y="610"/>
                  <a:pt x="499" y="611"/>
                </a:cubicBezTo>
                <a:cubicBezTo>
                  <a:pt x="498" y="614"/>
                  <a:pt x="498" y="614"/>
                  <a:pt x="497" y="616"/>
                </a:cubicBezTo>
                <a:cubicBezTo>
                  <a:pt x="499" y="617"/>
                  <a:pt x="501" y="616"/>
                  <a:pt x="503" y="616"/>
                </a:cubicBezTo>
                <a:cubicBezTo>
                  <a:pt x="503" y="617"/>
                  <a:pt x="503" y="617"/>
                  <a:pt x="503" y="618"/>
                </a:cubicBezTo>
                <a:cubicBezTo>
                  <a:pt x="505" y="619"/>
                  <a:pt x="510" y="620"/>
                  <a:pt x="515" y="615"/>
                </a:cubicBezTo>
                <a:cubicBezTo>
                  <a:pt x="517" y="612"/>
                  <a:pt x="517" y="609"/>
                  <a:pt x="519" y="606"/>
                </a:cubicBezTo>
                <a:cubicBezTo>
                  <a:pt x="521" y="604"/>
                  <a:pt x="523" y="603"/>
                  <a:pt x="524" y="601"/>
                </a:cubicBezTo>
                <a:cubicBezTo>
                  <a:pt x="526" y="599"/>
                  <a:pt x="526" y="596"/>
                  <a:pt x="528" y="593"/>
                </a:cubicBezTo>
                <a:cubicBezTo>
                  <a:pt x="529" y="592"/>
                  <a:pt x="531" y="592"/>
                  <a:pt x="532" y="591"/>
                </a:cubicBezTo>
                <a:cubicBezTo>
                  <a:pt x="533" y="590"/>
                  <a:pt x="534" y="591"/>
                  <a:pt x="535" y="590"/>
                </a:cubicBezTo>
                <a:cubicBezTo>
                  <a:pt x="536" y="588"/>
                  <a:pt x="535" y="585"/>
                  <a:pt x="536" y="583"/>
                </a:cubicBezTo>
                <a:cubicBezTo>
                  <a:pt x="537" y="582"/>
                  <a:pt x="539" y="581"/>
                  <a:pt x="539" y="579"/>
                </a:cubicBezTo>
                <a:cubicBezTo>
                  <a:pt x="539" y="579"/>
                  <a:pt x="540" y="578"/>
                  <a:pt x="540" y="577"/>
                </a:cubicBezTo>
                <a:cubicBezTo>
                  <a:pt x="540" y="577"/>
                  <a:pt x="540" y="576"/>
                  <a:pt x="540" y="575"/>
                </a:cubicBezTo>
                <a:cubicBezTo>
                  <a:pt x="540" y="575"/>
                  <a:pt x="541" y="575"/>
                  <a:pt x="541" y="574"/>
                </a:cubicBezTo>
                <a:cubicBezTo>
                  <a:pt x="541" y="573"/>
                  <a:pt x="543" y="572"/>
                  <a:pt x="544" y="571"/>
                </a:cubicBezTo>
                <a:moveTo>
                  <a:pt x="577" y="426"/>
                </a:moveTo>
                <a:cubicBezTo>
                  <a:pt x="577" y="425"/>
                  <a:pt x="577" y="423"/>
                  <a:pt x="575" y="421"/>
                </a:cubicBezTo>
                <a:cubicBezTo>
                  <a:pt x="568" y="420"/>
                  <a:pt x="563" y="428"/>
                  <a:pt x="556" y="426"/>
                </a:cubicBezTo>
                <a:cubicBezTo>
                  <a:pt x="555" y="426"/>
                  <a:pt x="554" y="426"/>
                  <a:pt x="552" y="426"/>
                </a:cubicBezTo>
                <a:cubicBezTo>
                  <a:pt x="546" y="427"/>
                  <a:pt x="544" y="426"/>
                  <a:pt x="541" y="425"/>
                </a:cubicBezTo>
                <a:cubicBezTo>
                  <a:pt x="539" y="419"/>
                  <a:pt x="539" y="419"/>
                  <a:pt x="539" y="417"/>
                </a:cubicBezTo>
                <a:cubicBezTo>
                  <a:pt x="538" y="417"/>
                  <a:pt x="537" y="416"/>
                  <a:pt x="537" y="416"/>
                </a:cubicBezTo>
                <a:cubicBezTo>
                  <a:pt x="536" y="414"/>
                  <a:pt x="536" y="412"/>
                  <a:pt x="536" y="411"/>
                </a:cubicBezTo>
                <a:cubicBezTo>
                  <a:pt x="519" y="396"/>
                  <a:pt x="504" y="384"/>
                  <a:pt x="507" y="371"/>
                </a:cubicBezTo>
                <a:cubicBezTo>
                  <a:pt x="507" y="371"/>
                  <a:pt x="507" y="370"/>
                  <a:pt x="507" y="367"/>
                </a:cubicBezTo>
                <a:cubicBezTo>
                  <a:pt x="507" y="365"/>
                  <a:pt x="507" y="364"/>
                  <a:pt x="506" y="362"/>
                </a:cubicBezTo>
                <a:cubicBezTo>
                  <a:pt x="506" y="362"/>
                  <a:pt x="477" y="309"/>
                  <a:pt x="477" y="300"/>
                </a:cubicBezTo>
                <a:cubicBezTo>
                  <a:pt x="474" y="297"/>
                  <a:pt x="470" y="297"/>
                  <a:pt x="468" y="295"/>
                </a:cubicBezTo>
                <a:cubicBezTo>
                  <a:pt x="467" y="295"/>
                  <a:pt x="467" y="295"/>
                  <a:pt x="465" y="295"/>
                </a:cubicBezTo>
                <a:cubicBezTo>
                  <a:pt x="464" y="295"/>
                  <a:pt x="462" y="296"/>
                  <a:pt x="461" y="297"/>
                </a:cubicBezTo>
                <a:cubicBezTo>
                  <a:pt x="460" y="297"/>
                  <a:pt x="460" y="297"/>
                  <a:pt x="460" y="297"/>
                </a:cubicBezTo>
                <a:cubicBezTo>
                  <a:pt x="443" y="293"/>
                  <a:pt x="427" y="284"/>
                  <a:pt x="410" y="284"/>
                </a:cubicBezTo>
                <a:cubicBezTo>
                  <a:pt x="409" y="297"/>
                  <a:pt x="409" y="297"/>
                  <a:pt x="408" y="299"/>
                </a:cubicBezTo>
                <a:cubicBezTo>
                  <a:pt x="408" y="299"/>
                  <a:pt x="407" y="299"/>
                  <a:pt x="406" y="299"/>
                </a:cubicBezTo>
                <a:cubicBezTo>
                  <a:pt x="405" y="299"/>
                  <a:pt x="405" y="299"/>
                  <a:pt x="403" y="299"/>
                </a:cubicBezTo>
                <a:cubicBezTo>
                  <a:pt x="399" y="298"/>
                  <a:pt x="397" y="294"/>
                  <a:pt x="394" y="293"/>
                </a:cubicBezTo>
                <a:cubicBezTo>
                  <a:pt x="390" y="293"/>
                  <a:pt x="386" y="293"/>
                  <a:pt x="381" y="291"/>
                </a:cubicBezTo>
                <a:cubicBezTo>
                  <a:pt x="379" y="283"/>
                  <a:pt x="367" y="283"/>
                  <a:pt x="367" y="283"/>
                </a:cubicBezTo>
                <a:cubicBezTo>
                  <a:pt x="361" y="283"/>
                  <a:pt x="361" y="283"/>
                  <a:pt x="354" y="261"/>
                </a:cubicBezTo>
                <a:cubicBezTo>
                  <a:pt x="355" y="260"/>
                  <a:pt x="355" y="260"/>
                  <a:pt x="360" y="258"/>
                </a:cubicBezTo>
                <a:cubicBezTo>
                  <a:pt x="360" y="258"/>
                  <a:pt x="359" y="257"/>
                  <a:pt x="359" y="256"/>
                </a:cubicBezTo>
                <a:cubicBezTo>
                  <a:pt x="357" y="255"/>
                  <a:pt x="355" y="254"/>
                  <a:pt x="353" y="254"/>
                </a:cubicBezTo>
                <a:cubicBezTo>
                  <a:pt x="337" y="254"/>
                  <a:pt x="337" y="254"/>
                  <a:pt x="329" y="258"/>
                </a:cubicBezTo>
                <a:cubicBezTo>
                  <a:pt x="325" y="255"/>
                  <a:pt x="318" y="249"/>
                  <a:pt x="310" y="257"/>
                </a:cubicBezTo>
                <a:cubicBezTo>
                  <a:pt x="306" y="257"/>
                  <a:pt x="303" y="257"/>
                  <a:pt x="299" y="257"/>
                </a:cubicBezTo>
                <a:cubicBezTo>
                  <a:pt x="299" y="258"/>
                  <a:pt x="299" y="258"/>
                  <a:pt x="285" y="264"/>
                </a:cubicBezTo>
                <a:cubicBezTo>
                  <a:pt x="285" y="264"/>
                  <a:pt x="285" y="264"/>
                  <a:pt x="284" y="264"/>
                </a:cubicBezTo>
                <a:cubicBezTo>
                  <a:pt x="279" y="263"/>
                  <a:pt x="274" y="265"/>
                  <a:pt x="270" y="261"/>
                </a:cubicBezTo>
                <a:cubicBezTo>
                  <a:pt x="270" y="261"/>
                  <a:pt x="268" y="260"/>
                  <a:pt x="268" y="260"/>
                </a:cubicBezTo>
                <a:cubicBezTo>
                  <a:pt x="266" y="263"/>
                  <a:pt x="265" y="269"/>
                  <a:pt x="265" y="269"/>
                </a:cubicBezTo>
                <a:cubicBezTo>
                  <a:pt x="263" y="270"/>
                  <a:pt x="262" y="271"/>
                  <a:pt x="257" y="270"/>
                </a:cubicBezTo>
                <a:cubicBezTo>
                  <a:pt x="256" y="273"/>
                  <a:pt x="256" y="276"/>
                  <a:pt x="255" y="280"/>
                </a:cubicBezTo>
                <a:cubicBezTo>
                  <a:pt x="253" y="280"/>
                  <a:pt x="250" y="279"/>
                  <a:pt x="247" y="281"/>
                </a:cubicBezTo>
                <a:cubicBezTo>
                  <a:pt x="246" y="286"/>
                  <a:pt x="244" y="291"/>
                  <a:pt x="243" y="297"/>
                </a:cubicBezTo>
                <a:cubicBezTo>
                  <a:pt x="243" y="298"/>
                  <a:pt x="243" y="299"/>
                  <a:pt x="243" y="301"/>
                </a:cubicBezTo>
                <a:cubicBezTo>
                  <a:pt x="240" y="301"/>
                  <a:pt x="238" y="301"/>
                  <a:pt x="236" y="301"/>
                </a:cubicBezTo>
                <a:cubicBezTo>
                  <a:pt x="235" y="307"/>
                  <a:pt x="227" y="311"/>
                  <a:pt x="224" y="311"/>
                </a:cubicBezTo>
                <a:cubicBezTo>
                  <a:pt x="220" y="319"/>
                  <a:pt x="213" y="326"/>
                  <a:pt x="211" y="334"/>
                </a:cubicBezTo>
                <a:cubicBezTo>
                  <a:pt x="210" y="334"/>
                  <a:pt x="210" y="334"/>
                  <a:pt x="209" y="334"/>
                </a:cubicBezTo>
                <a:cubicBezTo>
                  <a:pt x="209" y="334"/>
                  <a:pt x="209" y="334"/>
                  <a:pt x="207" y="335"/>
                </a:cubicBezTo>
                <a:cubicBezTo>
                  <a:pt x="207" y="335"/>
                  <a:pt x="206" y="335"/>
                  <a:pt x="205" y="335"/>
                </a:cubicBezTo>
                <a:cubicBezTo>
                  <a:pt x="204" y="348"/>
                  <a:pt x="204" y="349"/>
                  <a:pt x="198" y="351"/>
                </a:cubicBezTo>
                <a:cubicBezTo>
                  <a:pt x="198" y="351"/>
                  <a:pt x="198" y="352"/>
                  <a:pt x="197" y="353"/>
                </a:cubicBezTo>
                <a:cubicBezTo>
                  <a:pt x="197" y="354"/>
                  <a:pt x="197" y="356"/>
                  <a:pt x="198" y="357"/>
                </a:cubicBezTo>
                <a:cubicBezTo>
                  <a:pt x="206" y="359"/>
                  <a:pt x="206" y="359"/>
                  <a:pt x="207" y="361"/>
                </a:cubicBezTo>
                <a:cubicBezTo>
                  <a:pt x="204" y="366"/>
                  <a:pt x="204" y="366"/>
                  <a:pt x="204" y="381"/>
                </a:cubicBezTo>
                <a:cubicBezTo>
                  <a:pt x="204" y="382"/>
                  <a:pt x="204" y="383"/>
                  <a:pt x="204" y="386"/>
                </a:cubicBezTo>
                <a:cubicBezTo>
                  <a:pt x="204" y="386"/>
                  <a:pt x="204" y="386"/>
                  <a:pt x="200" y="390"/>
                </a:cubicBezTo>
                <a:cubicBezTo>
                  <a:pt x="200" y="393"/>
                  <a:pt x="201" y="396"/>
                  <a:pt x="202" y="399"/>
                </a:cubicBezTo>
                <a:cubicBezTo>
                  <a:pt x="202" y="402"/>
                  <a:pt x="202" y="402"/>
                  <a:pt x="202" y="402"/>
                </a:cubicBezTo>
                <a:cubicBezTo>
                  <a:pt x="202" y="413"/>
                  <a:pt x="220" y="423"/>
                  <a:pt x="220" y="424"/>
                </a:cubicBezTo>
                <a:cubicBezTo>
                  <a:pt x="220" y="430"/>
                  <a:pt x="220" y="435"/>
                  <a:pt x="234" y="438"/>
                </a:cubicBezTo>
                <a:cubicBezTo>
                  <a:pt x="235" y="441"/>
                  <a:pt x="235" y="441"/>
                  <a:pt x="235" y="445"/>
                </a:cubicBezTo>
                <a:cubicBezTo>
                  <a:pt x="247" y="456"/>
                  <a:pt x="255" y="455"/>
                  <a:pt x="255" y="455"/>
                </a:cubicBezTo>
                <a:cubicBezTo>
                  <a:pt x="255" y="454"/>
                  <a:pt x="256" y="452"/>
                  <a:pt x="257" y="451"/>
                </a:cubicBezTo>
                <a:cubicBezTo>
                  <a:pt x="260" y="450"/>
                  <a:pt x="262" y="451"/>
                  <a:pt x="265" y="451"/>
                </a:cubicBezTo>
                <a:cubicBezTo>
                  <a:pt x="266" y="451"/>
                  <a:pt x="266" y="451"/>
                  <a:pt x="268" y="451"/>
                </a:cubicBezTo>
                <a:cubicBezTo>
                  <a:pt x="270" y="451"/>
                  <a:pt x="273" y="451"/>
                  <a:pt x="275" y="451"/>
                </a:cubicBezTo>
                <a:cubicBezTo>
                  <a:pt x="277" y="456"/>
                  <a:pt x="281" y="455"/>
                  <a:pt x="290" y="453"/>
                </a:cubicBezTo>
                <a:cubicBezTo>
                  <a:pt x="293" y="447"/>
                  <a:pt x="295" y="447"/>
                  <a:pt x="305" y="449"/>
                </a:cubicBezTo>
                <a:cubicBezTo>
                  <a:pt x="305" y="449"/>
                  <a:pt x="306" y="449"/>
                  <a:pt x="306" y="449"/>
                </a:cubicBezTo>
                <a:cubicBezTo>
                  <a:pt x="312" y="443"/>
                  <a:pt x="317" y="446"/>
                  <a:pt x="319" y="446"/>
                </a:cubicBezTo>
                <a:cubicBezTo>
                  <a:pt x="321" y="456"/>
                  <a:pt x="323" y="457"/>
                  <a:pt x="327" y="458"/>
                </a:cubicBezTo>
                <a:cubicBezTo>
                  <a:pt x="334" y="458"/>
                  <a:pt x="341" y="458"/>
                  <a:pt x="347" y="459"/>
                </a:cubicBezTo>
                <a:cubicBezTo>
                  <a:pt x="347" y="461"/>
                  <a:pt x="347" y="463"/>
                  <a:pt x="347" y="467"/>
                </a:cubicBezTo>
                <a:cubicBezTo>
                  <a:pt x="347" y="467"/>
                  <a:pt x="345" y="485"/>
                  <a:pt x="343" y="489"/>
                </a:cubicBezTo>
                <a:cubicBezTo>
                  <a:pt x="342" y="489"/>
                  <a:pt x="341" y="489"/>
                  <a:pt x="341" y="489"/>
                </a:cubicBezTo>
                <a:cubicBezTo>
                  <a:pt x="340" y="490"/>
                  <a:pt x="340" y="491"/>
                  <a:pt x="340" y="491"/>
                </a:cubicBezTo>
                <a:cubicBezTo>
                  <a:pt x="355" y="500"/>
                  <a:pt x="356" y="518"/>
                  <a:pt x="365" y="531"/>
                </a:cubicBezTo>
                <a:cubicBezTo>
                  <a:pt x="364" y="532"/>
                  <a:pt x="364" y="533"/>
                  <a:pt x="364" y="533"/>
                </a:cubicBezTo>
                <a:cubicBezTo>
                  <a:pt x="364" y="534"/>
                  <a:pt x="364" y="535"/>
                  <a:pt x="364" y="536"/>
                </a:cubicBezTo>
                <a:cubicBezTo>
                  <a:pt x="364" y="540"/>
                  <a:pt x="365" y="540"/>
                  <a:pt x="367" y="541"/>
                </a:cubicBezTo>
                <a:cubicBezTo>
                  <a:pt x="367" y="553"/>
                  <a:pt x="357" y="562"/>
                  <a:pt x="356" y="574"/>
                </a:cubicBezTo>
                <a:cubicBezTo>
                  <a:pt x="356" y="580"/>
                  <a:pt x="357" y="580"/>
                  <a:pt x="361" y="583"/>
                </a:cubicBezTo>
                <a:cubicBezTo>
                  <a:pt x="361" y="589"/>
                  <a:pt x="361" y="591"/>
                  <a:pt x="366" y="594"/>
                </a:cubicBezTo>
                <a:cubicBezTo>
                  <a:pt x="368" y="603"/>
                  <a:pt x="368" y="603"/>
                  <a:pt x="370" y="604"/>
                </a:cubicBezTo>
                <a:cubicBezTo>
                  <a:pt x="370" y="607"/>
                  <a:pt x="369" y="610"/>
                  <a:pt x="369" y="613"/>
                </a:cubicBezTo>
                <a:cubicBezTo>
                  <a:pt x="369" y="614"/>
                  <a:pt x="375" y="632"/>
                  <a:pt x="382" y="639"/>
                </a:cubicBezTo>
                <a:cubicBezTo>
                  <a:pt x="381" y="642"/>
                  <a:pt x="381" y="642"/>
                  <a:pt x="383" y="645"/>
                </a:cubicBezTo>
                <a:cubicBezTo>
                  <a:pt x="383" y="646"/>
                  <a:pt x="383" y="646"/>
                  <a:pt x="383" y="647"/>
                </a:cubicBezTo>
                <a:cubicBezTo>
                  <a:pt x="382" y="648"/>
                  <a:pt x="380" y="649"/>
                  <a:pt x="380" y="650"/>
                </a:cubicBezTo>
                <a:cubicBezTo>
                  <a:pt x="380" y="650"/>
                  <a:pt x="381" y="651"/>
                  <a:pt x="381" y="651"/>
                </a:cubicBezTo>
                <a:cubicBezTo>
                  <a:pt x="382" y="651"/>
                  <a:pt x="383" y="651"/>
                  <a:pt x="383" y="651"/>
                </a:cubicBezTo>
                <a:cubicBezTo>
                  <a:pt x="383" y="654"/>
                  <a:pt x="383" y="654"/>
                  <a:pt x="386" y="656"/>
                </a:cubicBezTo>
                <a:cubicBezTo>
                  <a:pt x="389" y="656"/>
                  <a:pt x="391" y="656"/>
                  <a:pt x="394" y="656"/>
                </a:cubicBezTo>
                <a:cubicBezTo>
                  <a:pt x="398" y="655"/>
                  <a:pt x="398" y="655"/>
                  <a:pt x="401" y="654"/>
                </a:cubicBezTo>
                <a:cubicBezTo>
                  <a:pt x="404" y="654"/>
                  <a:pt x="408" y="654"/>
                  <a:pt x="412" y="653"/>
                </a:cubicBezTo>
                <a:cubicBezTo>
                  <a:pt x="413" y="653"/>
                  <a:pt x="413" y="652"/>
                  <a:pt x="413" y="651"/>
                </a:cubicBezTo>
                <a:cubicBezTo>
                  <a:pt x="422" y="650"/>
                  <a:pt x="422" y="650"/>
                  <a:pt x="424" y="647"/>
                </a:cubicBezTo>
                <a:cubicBezTo>
                  <a:pt x="424" y="647"/>
                  <a:pt x="451" y="634"/>
                  <a:pt x="448" y="620"/>
                </a:cubicBezTo>
                <a:cubicBezTo>
                  <a:pt x="448" y="619"/>
                  <a:pt x="460" y="612"/>
                  <a:pt x="465" y="610"/>
                </a:cubicBezTo>
                <a:cubicBezTo>
                  <a:pt x="466" y="606"/>
                  <a:pt x="466" y="606"/>
                  <a:pt x="464" y="592"/>
                </a:cubicBezTo>
                <a:cubicBezTo>
                  <a:pt x="476" y="582"/>
                  <a:pt x="492" y="578"/>
                  <a:pt x="500" y="564"/>
                </a:cubicBezTo>
                <a:cubicBezTo>
                  <a:pt x="500" y="563"/>
                  <a:pt x="501" y="562"/>
                  <a:pt x="501" y="560"/>
                </a:cubicBezTo>
                <a:cubicBezTo>
                  <a:pt x="502" y="558"/>
                  <a:pt x="502" y="557"/>
                  <a:pt x="501" y="555"/>
                </a:cubicBezTo>
                <a:cubicBezTo>
                  <a:pt x="502" y="551"/>
                  <a:pt x="503" y="547"/>
                  <a:pt x="503" y="542"/>
                </a:cubicBezTo>
                <a:cubicBezTo>
                  <a:pt x="499" y="535"/>
                  <a:pt x="505" y="528"/>
                  <a:pt x="502" y="521"/>
                </a:cubicBezTo>
                <a:cubicBezTo>
                  <a:pt x="502" y="519"/>
                  <a:pt x="502" y="519"/>
                  <a:pt x="502" y="519"/>
                </a:cubicBezTo>
                <a:cubicBezTo>
                  <a:pt x="515" y="479"/>
                  <a:pt x="568" y="470"/>
                  <a:pt x="577" y="426"/>
                </a:cubicBezTo>
                <a:moveTo>
                  <a:pt x="133" y="516"/>
                </a:moveTo>
                <a:cubicBezTo>
                  <a:pt x="132" y="514"/>
                  <a:pt x="129" y="503"/>
                  <a:pt x="124" y="501"/>
                </a:cubicBezTo>
                <a:cubicBezTo>
                  <a:pt x="123" y="501"/>
                  <a:pt x="122" y="501"/>
                  <a:pt x="120" y="501"/>
                </a:cubicBezTo>
                <a:cubicBezTo>
                  <a:pt x="114" y="498"/>
                  <a:pt x="113" y="486"/>
                  <a:pt x="105" y="490"/>
                </a:cubicBezTo>
                <a:cubicBezTo>
                  <a:pt x="103" y="490"/>
                  <a:pt x="101" y="490"/>
                  <a:pt x="99" y="489"/>
                </a:cubicBezTo>
                <a:cubicBezTo>
                  <a:pt x="96" y="486"/>
                  <a:pt x="96" y="486"/>
                  <a:pt x="93" y="486"/>
                </a:cubicBezTo>
                <a:cubicBezTo>
                  <a:pt x="93" y="487"/>
                  <a:pt x="93" y="489"/>
                  <a:pt x="93" y="490"/>
                </a:cubicBezTo>
                <a:cubicBezTo>
                  <a:pt x="89" y="489"/>
                  <a:pt x="89" y="488"/>
                  <a:pt x="89" y="486"/>
                </a:cubicBezTo>
                <a:cubicBezTo>
                  <a:pt x="89" y="486"/>
                  <a:pt x="90" y="485"/>
                  <a:pt x="90" y="485"/>
                </a:cubicBezTo>
                <a:cubicBezTo>
                  <a:pt x="83" y="478"/>
                  <a:pt x="82" y="478"/>
                  <a:pt x="80" y="478"/>
                </a:cubicBezTo>
                <a:cubicBezTo>
                  <a:pt x="80" y="478"/>
                  <a:pt x="80" y="478"/>
                  <a:pt x="79" y="477"/>
                </a:cubicBezTo>
                <a:cubicBezTo>
                  <a:pt x="77" y="475"/>
                  <a:pt x="77" y="475"/>
                  <a:pt x="74" y="476"/>
                </a:cubicBezTo>
                <a:cubicBezTo>
                  <a:pt x="75" y="477"/>
                  <a:pt x="75" y="479"/>
                  <a:pt x="76" y="481"/>
                </a:cubicBezTo>
                <a:cubicBezTo>
                  <a:pt x="75" y="481"/>
                  <a:pt x="74" y="481"/>
                  <a:pt x="73" y="481"/>
                </a:cubicBezTo>
                <a:cubicBezTo>
                  <a:pt x="73" y="480"/>
                  <a:pt x="73" y="479"/>
                  <a:pt x="72" y="478"/>
                </a:cubicBezTo>
                <a:cubicBezTo>
                  <a:pt x="72" y="477"/>
                  <a:pt x="73" y="476"/>
                  <a:pt x="73" y="475"/>
                </a:cubicBezTo>
                <a:cubicBezTo>
                  <a:pt x="73" y="475"/>
                  <a:pt x="73" y="474"/>
                  <a:pt x="73" y="474"/>
                </a:cubicBezTo>
                <a:cubicBezTo>
                  <a:pt x="73" y="472"/>
                  <a:pt x="73" y="472"/>
                  <a:pt x="68" y="470"/>
                </a:cubicBezTo>
                <a:cubicBezTo>
                  <a:pt x="68" y="470"/>
                  <a:pt x="68" y="470"/>
                  <a:pt x="68" y="470"/>
                </a:cubicBezTo>
                <a:cubicBezTo>
                  <a:pt x="68" y="470"/>
                  <a:pt x="67" y="470"/>
                  <a:pt x="66" y="470"/>
                </a:cubicBezTo>
                <a:cubicBezTo>
                  <a:pt x="67" y="474"/>
                  <a:pt x="67" y="474"/>
                  <a:pt x="67" y="475"/>
                </a:cubicBezTo>
                <a:cubicBezTo>
                  <a:pt x="66" y="475"/>
                  <a:pt x="65" y="475"/>
                  <a:pt x="65" y="475"/>
                </a:cubicBezTo>
                <a:cubicBezTo>
                  <a:pt x="65" y="474"/>
                  <a:pt x="64" y="473"/>
                  <a:pt x="64" y="472"/>
                </a:cubicBezTo>
                <a:cubicBezTo>
                  <a:pt x="65" y="471"/>
                  <a:pt x="66" y="470"/>
                  <a:pt x="66" y="469"/>
                </a:cubicBezTo>
                <a:cubicBezTo>
                  <a:pt x="65" y="461"/>
                  <a:pt x="65" y="461"/>
                  <a:pt x="64" y="459"/>
                </a:cubicBezTo>
                <a:cubicBezTo>
                  <a:pt x="64" y="459"/>
                  <a:pt x="63" y="459"/>
                  <a:pt x="62" y="459"/>
                </a:cubicBezTo>
                <a:cubicBezTo>
                  <a:pt x="62" y="457"/>
                  <a:pt x="62" y="454"/>
                  <a:pt x="61" y="451"/>
                </a:cubicBezTo>
                <a:cubicBezTo>
                  <a:pt x="59" y="446"/>
                  <a:pt x="55" y="442"/>
                  <a:pt x="52" y="437"/>
                </a:cubicBezTo>
                <a:cubicBezTo>
                  <a:pt x="51" y="437"/>
                  <a:pt x="50" y="436"/>
                  <a:pt x="49" y="436"/>
                </a:cubicBezTo>
                <a:cubicBezTo>
                  <a:pt x="49" y="435"/>
                  <a:pt x="48" y="435"/>
                  <a:pt x="48" y="434"/>
                </a:cubicBezTo>
                <a:cubicBezTo>
                  <a:pt x="47" y="435"/>
                  <a:pt x="45" y="435"/>
                  <a:pt x="45" y="435"/>
                </a:cubicBezTo>
                <a:cubicBezTo>
                  <a:pt x="44" y="435"/>
                  <a:pt x="44" y="435"/>
                  <a:pt x="44" y="435"/>
                </a:cubicBezTo>
                <a:cubicBezTo>
                  <a:pt x="44" y="435"/>
                  <a:pt x="34" y="422"/>
                  <a:pt x="32" y="419"/>
                </a:cubicBezTo>
                <a:cubicBezTo>
                  <a:pt x="32" y="419"/>
                  <a:pt x="32" y="418"/>
                  <a:pt x="31" y="417"/>
                </a:cubicBezTo>
                <a:cubicBezTo>
                  <a:pt x="30" y="415"/>
                  <a:pt x="30" y="415"/>
                  <a:pt x="30" y="412"/>
                </a:cubicBezTo>
                <a:cubicBezTo>
                  <a:pt x="30" y="412"/>
                  <a:pt x="30" y="412"/>
                  <a:pt x="29" y="412"/>
                </a:cubicBezTo>
                <a:cubicBezTo>
                  <a:pt x="29" y="412"/>
                  <a:pt x="28" y="413"/>
                  <a:pt x="28" y="413"/>
                </a:cubicBezTo>
                <a:cubicBezTo>
                  <a:pt x="27" y="412"/>
                  <a:pt x="27" y="412"/>
                  <a:pt x="26" y="408"/>
                </a:cubicBezTo>
                <a:cubicBezTo>
                  <a:pt x="26" y="408"/>
                  <a:pt x="27" y="407"/>
                  <a:pt x="27" y="407"/>
                </a:cubicBezTo>
                <a:cubicBezTo>
                  <a:pt x="26" y="406"/>
                  <a:pt x="26" y="405"/>
                  <a:pt x="25" y="404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4" y="406"/>
                  <a:pt x="24" y="406"/>
                  <a:pt x="24" y="406"/>
                </a:cubicBezTo>
                <a:cubicBezTo>
                  <a:pt x="23" y="405"/>
                  <a:pt x="22" y="405"/>
                  <a:pt x="22" y="405"/>
                </a:cubicBezTo>
                <a:cubicBezTo>
                  <a:pt x="22" y="406"/>
                  <a:pt x="22" y="407"/>
                  <a:pt x="22" y="409"/>
                </a:cubicBezTo>
                <a:cubicBezTo>
                  <a:pt x="21" y="409"/>
                  <a:pt x="21" y="409"/>
                  <a:pt x="21" y="410"/>
                </a:cubicBezTo>
                <a:cubicBezTo>
                  <a:pt x="20" y="406"/>
                  <a:pt x="20" y="406"/>
                  <a:pt x="18" y="405"/>
                </a:cubicBezTo>
                <a:cubicBezTo>
                  <a:pt x="18" y="405"/>
                  <a:pt x="17" y="405"/>
                  <a:pt x="16" y="405"/>
                </a:cubicBezTo>
                <a:cubicBezTo>
                  <a:pt x="16" y="404"/>
                  <a:pt x="15" y="404"/>
                  <a:pt x="15" y="403"/>
                </a:cubicBezTo>
                <a:cubicBezTo>
                  <a:pt x="15" y="402"/>
                  <a:pt x="15" y="401"/>
                  <a:pt x="14" y="399"/>
                </a:cubicBezTo>
                <a:cubicBezTo>
                  <a:pt x="13" y="398"/>
                  <a:pt x="12" y="397"/>
                  <a:pt x="12" y="396"/>
                </a:cubicBezTo>
                <a:cubicBezTo>
                  <a:pt x="12" y="396"/>
                  <a:pt x="12" y="409"/>
                  <a:pt x="11" y="413"/>
                </a:cubicBezTo>
                <a:cubicBezTo>
                  <a:pt x="9" y="402"/>
                  <a:pt x="10" y="396"/>
                  <a:pt x="10" y="393"/>
                </a:cubicBezTo>
                <a:cubicBezTo>
                  <a:pt x="10" y="392"/>
                  <a:pt x="10" y="392"/>
                  <a:pt x="10" y="392"/>
                </a:cubicBezTo>
                <a:cubicBezTo>
                  <a:pt x="10" y="392"/>
                  <a:pt x="10" y="392"/>
                  <a:pt x="9" y="392"/>
                </a:cubicBezTo>
                <a:cubicBezTo>
                  <a:pt x="9" y="394"/>
                  <a:pt x="9" y="394"/>
                  <a:pt x="9" y="397"/>
                </a:cubicBezTo>
                <a:cubicBezTo>
                  <a:pt x="8" y="397"/>
                  <a:pt x="8" y="397"/>
                  <a:pt x="7" y="398"/>
                </a:cubicBezTo>
                <a:cubicBezTo>
                  <a:pt x="7" y="399"/>
                  <a:pt x="6" y="401"/>
                  <a:pt x="6" y="401"/>
                </a:cubicBezTo>
                <a:cubicBezTo>
                  <a:pt x="6" y="404"/>
                  <a:pt x="6" y="406"/>
                  <a:pt x="6" y="410"/>
                </a:cubicBezTo>
                <a:cubicBezTo>
                  <a:pt x="2" y="424"/>
                  <a:pt x="12" y="436"/>
                  <a:pt x="10" y="449"/>
                </a:cubicBezTo>
                <a:cubicBezTo>
                  <a:pt x="11" y="454"/>
                  <a:pt x="11" y="454"/>
                  <a:pt x="11" y="456"/>
                </a:cubicBezTo>
                <a:cubicBezTo>
                  <a:pt x="12" y="461"/>
                  <a:pt x="12" y="461"/>
                  <a:pt x="13" y="465"/>
                </a:cubicBezTo>
                <a:cubicBezTo>
                  <a:pt x="13" y="465"/>
                  <a:pt x="13" y="465"/>
                  <a:pt x="13" y="466"/>
                </a:cubicBezTo>
                <a:cubicBezTo>
                  <a:pt x="16" y="475"/>
                  <a:pt x="16" y="475"/>
                  <a:pt x="16" y="476"/>
                </a:cubicBezTo>
                <a:cubicBezTo>
                  <a:pt x="17" y="477"/>
                  <a:pt x="17" y="478"/>
                  <a:pt x="17" y="479"/>
                </a:cubicBezTo>
                <a:cubicBezTo>
                  <a:pt x="17" y="479"/>
                  <a:pt x="18" y="484"/>
                  <a:pt x="21" y="492"/>
                </a:cubicBezTo>
                <a:cubicBezTo>
                  <a:pt x="21" y="493"/>
                  <a:pt x="21" y="493"/>
                  <a:pt x="22" y="494"/>
                </a:cubicBezTo>
                <a:cubicBezTo>
                  <a:pt x="25" y="502"/>
                  <a:pt x="28" y="509"/>
                  <a:pt x="32" y="517"/>
                </a:cubicBezTo>
                <a:cubicBezTo>
                  <a:pt x="32" y="518"/>
                  <a:pt x="32" y="519"/>
                  <a:pt x="33" y="520"/>
                </a:cubicBezTo>
                <a:cubicBezTo>
                  <a:pt x="38" y="531"/>
                  <a:pt x="50" y="555"/>
                  <a:pt x="61" y="564"/>
                </a:cubicBezTo>
                <a:cubicBezTo>
                  <a:pt x="64" y="567"/>
                  <a:pt x="66" y="571"/>
                  <a:pt x="68" y="575"/>
                </a:cubicBezTo>
                <a:cubicBezTo>
                  <a:pt x="69" y="576"/>
                  <a:pt x="70" y="577"/>
                  <a:pt x="70" y="578"/>
                </a:cubicBezTo>
                <a:cubicBezTo>
                  <a:pt x="70" y="579"/>
                  <a:pt x="70" y="579"/>
                  <a:pt x="70" y="579"/>
                </a:cubicBezTo>
                <a:cubicBezTo>
                  <a:pt x="71" y="579"/>
                  <a:pt x="71" y="579"/>
                  <a:pt x="72" y="580"/>
                </a:cubicBezTo>
                <a:cubicBezTo>
                  <a:pt x="72" y="581"/>
                  <a:pt x="72" y="581"/>
                  <a:pt x="73" y="582"/>
                </a:cubicBezTo>
                <a:cubicBezTo>
                  <a:pt x="73" y="582"/>
                  <a:pt x="73" y="582"/>
                  <a:pt x="73" y="583"/>
                </a:cubicBezTo>
                <a:cubicBezTo>
                  <a:pt x="75" y="586"/>
                  <a:pt x="75" y="586"/>
                  <a:pt x="76" y="587"/>
                </a:cubicBezTo>
                <a:cubicBezTo>
                  <a:pt x="76" y="587"/>
                  <a:pt x="76" y="587"/>
                  <a:pt x="76" y="587"/>
                </a:cubicBezTo>
                <a:cubicBezTo>
                  <a:pt x="77" y="588"/>
                  <a:pt x="77" y="588"/>
                  <a:pt x="78" y="590"/>
                </a:cubicBezTo>
                <a:cubicBezTo>
                  <a:pt x="78" y="590"/>
                  <a:pt x="79" y="591"/>
                  <a:pt x="79" y="591"/>
                </a:cubicBezTo>
                <a:cubicBezTo>
                  <a:pt x="79" y="592"/>
                  <a:pt x="79" y="592"/>
                  <a:pt x="79" y="592"/>
                </a:cubicBezTo>
                <a:cubicBezTo>
                  <a:pt x="79" y="592"/>
                  <a:pt x="80" y="592"/>
                  <a:pt x="80" y="592"/>
                </a:cubicBezTo>
                <a:cubicBezTo>
                  <a:pt x="81" y="594"/>
                  <a:pt x="81" y="595"/>
                  <a:pt x="83" y="597"/>
                </a:cubicBezTo>
                <a:cubicBezTo>
                  <a:pt x="83" y="597"/>
                  <a:pt x="84" y="598"/>
                  <a:pt x="84" y="598"/>
                </a:cubicBezTo>
                <a:cubicBezTo>
                  <a:pt x="84" y="598"/>
                  <a:pt x="84" y="599"/>
                  <a:pt x="85" y="599"/>
                </a:cubicBezTo>
                <a:cubicBezTo>
                  <a:pt x="87" y="602"/>
                  <a:pt x="89" y="606"/>
                  <a:pt x="92" y="609"/>
                </a:cubicBezTo>
                <a:cubicBezTo>
                  <a:pt x="92" y="609"/>
                  <a:pt x="100" y="619"/>
                  <a:pt x="102" y="622"/>
                </a:cubicBezTo>
                <a:cubicBezTo>
                  <a:pt x="103" y="622"/>
                  <a:pt x="103" y="623"/>
                  <a:pt x="103" y="623"/>
                </a:cubicBezTo>
                <a:cubicBezTo>
                  <a:pt x="110" y="630"/>
                  <a:pt x="117" y="637"/>
                  <a:pt x="123" y="644"/>
                </a:cubicBezTo>
                <a:cubicBezTo>
                  <a:pt x="124" y="645"/>
                  <a:pt x="124" y="645"/>
                  <a:pt x="126" y="647"/>
                </a:cubicBezTo>
                <a:cubicBezTo>
                  <a:pt x="126" y="647"/>
                  <a:pt x="127" y="648"/>
                  <a:pt x="127" y="648"/>
                </a:cubicBezTo>
                <a:cubicBezTo>
                  <a:pt x="148" y="666"/>
                  <a:pt x="148" y="666"/>
                  <a:pt x="152" y="669"/>
                </a:cubicBezTo>
                <a:cubicBezTo>
                  <a:pt x="156" y="672"/>
                  <a:pt x="160" y="675"/>
                  <a:pt x="165" y="678"/>
                </a:cubicBezTo>
                <a:cubicBezTo>
                  <a:pt x="165" y="678"/>
                  <a:pt x="165" y="678"/>
                  <a:pt x="165" y="678"/>
                </a:cubicBezTo>
                <a:cubicBezTo>
                  <a:pt x="156" y="672"/>
                  <a:pt x="156" y="672"/>
                  <a:pt x="156" y="672"/>
                </a:cubicBezTo>
                <a:cubicBezTo>
                  <a:pt x="157" y="672"/>
                  <a:pt x="157" y="672"/>
                  <a:pt x="157" y="672"/>
                </a:cubicBezTo>
                <a:cubicBezTo>
                  <a:pt x="158" y="673"/>
                  <a:pt x="159" y="674"/>
                  <a:pt x="161" y="675"/>
                </a:cubicBezTo>
                <a:cubicBezTo>
                  <a:pt x="161" y="675"/>
                  <a:pt x="161" y="676"/>
                  <a:pt x="162" y="676"/>
                </a:cubicBezTo>
                <a:cubicBezTo>
                  <a:pt x="163" y="677"/>
                  <a:pt x="165" y="678"/>
                  <a:pt x="167" y="680"/>
                </a:cubicBezTo>
                <a:cubicBezTo>
                  <a:pt x="169" y="681"/>
                  <a:pt x="169" y="681"/>
                  <a:pt x="178" y="687"/>
                </a:cubicBezTo>
                <a:cubicBezTo>
                  <a:pt x="177" y="686"/>
                  <a:pt x="175" y="685"/>
                  <a:pt x="174" y="685"/>
                </a:cubicBezTo>
                <a:cubicBezTo>
                  <a:pt x="174" y="684"/>
                  <a:pt x="174" y="684"/>
                  <a:pt x="173" y="684"/>
                </a:cubicBezTo>
                <a:cubicBezTo>
                  <a:pt x="172" y="683"/>
                  <a:pt x="172" y="683"/>
                  <a:pt x="171" y="683"/>
                </a:cubicBezTo>
                <a:cubicBezTo>
                  <a:pt x="172" y="683"/>
                  <a:pt x="172" y="683"/>
                  <a:pt x="172" y="683"/>
                </a:cubicBezTo>
                <a:cubicBezTo>
                  <a:pt x="173" y="684"/>
                  <a:pt x="174" y="684"/>
                  <a:pt x="175" y="685"/>
                </a:cubicBezTo>
                <a:cubicBezTo>
                  <a:pt x="177" y="686"/>
                  <a:pt x="180" y="688"/>
                  <a:pt x="182" y="689"/>
                </a:cubicBezTo>
                <a:cubicBezTo>
                  <a:pt x="181" y="689"/>
                  <a:pt x="179" y="688"/>
                  <a:pt x="178" y="687"/>
                </a:cubicBezTo>
                <a:cubicBezTo>
                  <a:pt x="179" y="688"/>
                  <a:pt x="180" y="688"/>
                  <a:pt x="181" y="689"/>
                </a:cubicBezTo>
                <a:cubicBezTo>
                  <a:pt x="186" y="692"/>
                  <a:pt x="191" y="695"/>
                  <a:pt x="196" y="698"/>
                </a:cubicBezTo>
                <a:cubicBezTo>
                  <a:pt x="197" y="698"/>
                  <a:pt x="197" y="698"/>
                  <a:pt x="198" y="699"/>
                </a:cubicBezTo>
                <a:cubicBezTo>
                  <a:pt x="199" y="700"/>
                  <a:pt x="201" y="700"/>
                  <a:pt x="202" y="701"/>
                </a:cubicBezTo>
                <a:cubicBezTo>
                  <a:pt x="203" y="701"/>
                  <a:pt x="203" y="701"/>
                  <a:pt x="203" y="702"/>
                </a:cubicBezTo>
                <a:cubicBezTo>
                  <a:pt x="207" y="703"/>
                  <a:pt x="210" y="705"/>
                  <a:pt x="213" y="706"/>
                </a:cubicBezTo>
                <a:cubicBezTo>
                  <a:pt x="214" y="707"/>
                  <a:pt x="214" y="707"/>
                  <a:pt x="214" y="707"/>
                </a:cubicBezTo>
                <a:cubicBezTo>
                  <a:pt x="215" y="707"/>
                  <a:pt x="215" y="707"/>
                  <a:pt x="215" y="707"/>
                </a:cubicBezTo>
                <a:cubicBezTo>
                  <a:pt x="215" y="708"/>
                  <a:pt x="215" y="708"/>
                  <a:pt x="215" y="708"/>
                </a:cubicBezTo>
                <a:cubicBezTo>
                  <a:pt x="219" y="709"/>
                  <a:pt x="219" y="709"/>
                  <a:pt x="220" y="710"/>
                </a:cubicBezTo>
                <a:cubicBezTo>
                  <a:pt x="221" y="710"/>
                  <a:pt x="221" y="710"/>
                  <a:pt x="221" y="710"/>
                </a:cubicBezTo>
                <a:cubicBezTo>
                  <a:pt x="228" y="713"/>
                  <a:pt x="237" y="717"/>
                  <a:pt x="237" y="717"/>
                </a:cubicBezTo>
                <a:cubicBezTo>
                  <a:pt x="237" y="717"/>
                  <a:pt x="238" y="717"/>
                  <a:pt x="238" y="717"/>
                </a:cubicBezTo>
                <a:cubicBezTo>
                  <a:pt x="240" y="718"/>
                  <a:pt x="240" y="718"/>
                  <a:pt x="243" y="719"/>
                </a:cubicBezTo>
                <a:cubicBezTo>
                  <a:pt x="243" y="719"/>
                  <a:pt x="243" y="719"/>
                  <a:pt x="245" y="719"/>
                </a:cubicBezTo>
                <a:cubicBezTo>
                  <a:pt x="245" y="719"/>
                  <a:pt x="245" y="719"/>
                  <a:pt x="245" y="719"/>
                </a:cubicBezTo>
                <a:cubicBezTo>
                  <a:pt x="241" y="717"/>
                  <a:pt x="241" y="717"/>
                  <a:pt x="239" y="717"/>
                </a:cubicBezTo>
                <a:cubicBezTo>
                  <a:pt x="238" y="717"/>
                  <a:pt x="238" y="716"/>
                  <a:pt x="236" y="716"/>
                </a:cubicBezTo>
                <a:cubicBezTo>
                  <a:pt x="236" y="716"/>
                  <a:pt x="230" y="713"/>
                  <a:pt x="227" y="712"/>
                </a:cubicBezTo>
                <a:cubicBezTo>
                  <a:pt x="226" y="712"/>
                  <a:pt x="226" y="712"/>
                  <a:pt x="225" y="711"/>
                </a:cubicBezTo>
                <a:cubicBezTo>
                  <a:pt x="218" y="708"/>
                  <a:pt x="218" y="708"/>
                  <a:pt x="217" y="707"/>
                </a:cubicBezTo>
                <a:cubicBezTo>
                  <a:pt x="217" y="707"/>
                  <a:pt x="216" y="707"/>
                  <a:pt x="215" y="706"/>
                </a:cubicBezTo>
                <a:cubicBezTo>
                  <a:pt x="214" y="706"/>
                  <a:pt x="212" y="705"/>
                  <a:pt x="210" y="704"/>
                </a:cubicBezTo>
                <a:cubicBezTo>
                  <a:pt x="210" y="704"/>
                  <a:pt x="209" y="704"/>
                  <a:pt x="209" y="703"/>
                </a:cubicBezTo>
                <a:cubicBezTo>
                  <a:pt x="209" y="703"/>
                  <a:pt x="209" y="704"/>
                  <a:pt x="208" y="703"/>
                </a:cubicBezTo>
                <a:cubicBezTo>
                  <a:pt x="203" y="700"/>
                  <a:pt x="196" y="695"/>
                  <a:pt x="196" y="695"/>
                </a:cubicBezTo>
                <a:cubicBezTo>
                  <a:pt x="195" y="695"/>
                  <a:pt x="194" y="694"/>
                  <a:pt x="194" y="694"/>
                </a:cubicBezTo>
                <a:cubicBezTo>
                  <a:pt x="193" y="694"/>
                  <a:pt x="193" y="694"/>
                  <a:pt x="192" y="693"/>
                </a:cubicBezTo>
                <a:cubicBezTo>
                  <a:pt x="190" y="692"/>
                  <a:pt x="187" y="691"/>
                  <a:pt x="184" y="689"/>
                </a:cubicBezTo>
                <a:cubicBezTo>
                  <a:pt x="184" y="689"/>
                  <a:pt x="184" y="689"/>
                  <a:pt x="183" y="688"/>
                </a:cubicBezTo>
                <a:cubicBezTo>
                  <a:pt x="182" y="688"/>
                  <a:pt x="181" y="687"/>
                  <a:pt x="180" y="686"/>
                </a:cubicBezTo>
                <a:cubicBezTo>
                  <a:pt x="181" y="686"/>
                  <a:pt x="181" y="686"/>
                  <a:pt x="182" y="686"/>
                </a:cubicBezTo>
                <a:cubicBezTo>
                  <a:pt x="180" y="685"/>
                  <a:pt x="178" y="684"/>
                  <a:pt x="176" y="682"/>
                </a:cubicBezTo>
                <a:cubicBezTo>
                  <a:pt x="173" y="680"/>
                  <a:pt x="171" y="678"/>
                  <a:pt x="168" y="676"/>
                </a:cubicBezTo>
                <a:cubicBezTo>
                  <a:pt x="168" y="675"/>
                  <a:pt x="168" y="675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6" y="674"/>
                </a:cubicBezTo>
                <a:cubicBezTo>
                  <a:pt x="166" y="674"/>
                  <a:pt x="166" y="674"/>
                  <a:pt x="167" y="675"/>
                </a:cubicBezTo>
                <a:cubicBezTo>
                  <a:pt x="165" y="675"/>
                  <a:pt x="165" y="675"/>
                  <a:pt x="161" y="671"/>
                </a:cubicBezTo>
                <a:cubicBezTo>
                  <a:pt x="160" y="671"/>
                  <a:pt x="159" y="670"/>
                  <a:pt x="158" y="669"/>
                </a:cubicBezTo>
                <a:cubicBezTo>
                  <a:pt x="158" y="669"/>
                  <a:pt x="158" y="669"/>
                  <a:pt x="160" y="670"/>
                </a:cubicBezTo>
                <a:cubicBezTo>
                  <a:pt x="161" y="670"/>
                  <a:pt x="161" y="671"/>
                  <a:pt x="162" y="671"/>
                </a:cubicBezTo>
                <a:cubicBezTo>
                  <a:pt x="162" y="671"/>
                  <a:pt x="163" y="671"/>
                  <a:pt x="163" y="671"/>
                </a:cubicBezTo>
                <a:cubicBezTo>
                  <a:pt x="162" y="670"/>
                  <a:pt x="162" y="670"/>
                  <a:pt x="161" y="670"/>
                </a:cubicBezTo>
                <a:cubicBezTo>
                  <a:pt x="161" y="669"/>
                  <a:pt x="161" y="669"/>
                  <a:pt x="159" y="668"/>
                </a:cubicBezTo>
                <a:cubicBezTo>
                  <a:pt x="158" y="667"/>
                  <a:pt x="158" y="667"/>
                  <a:pt x="154" y="663"/>
                </a:cubicBezTo>
                <a:cubicBezTo>
                  <a:pt x="153" y="663"/>
                  <a:pt x="153" y="662"/>
                  <a:pt x="152" y="662"/>
                </a:cubicBezTo>
                <a:cubicBezTo>
                  <a:pt x="152" y="662"/>
                  <a:pt x="153" y="662"/>
                  <a:pt x="153" y="662"/>
                </a:cubicBezTo>
                <a:cubicBezTo>
                  <a:pt x="154" y="662"/>
                  <a:pt x="154" y="662"/>
                  <a:pt x="154" y="661"/>
                </a:cubicBezTo>
                <a:cubicBezTo>
                  <a:pt x="155" y="661"/>
                  <a:pt x="155" y="661"/>
                  <a:pt x="157" y="662"/>
                </a:cubicBezTo>
                <a:cubicBezTo>
                  <a:pt x="155" y="660"/>
                  <a:pt x="153" y="657"/>
                  <a:pt x="152" y="655"/>
                </a:cubicBezTo>
                <a:cubicBezTo>
                  <a:pt x="151" y="653"/>
                  <a:pt x="151" y="653"/>
                  <a:pt x="151" y="653"/>
                </a:cubicBezTo>
                <a:cubicBezTo>
                  <a:pt x="150" y="653"/>
                  <a:pt x="149" y="652"/>
                  <a:pt x="148" y="651"/>
                </a:cubicBezTo>
                <a:cubicBezTo>
                  <a:pt x="148" y="651"/>
                  <a:pt x="148" y="651"/>
                  <a:pt x="147" y="651"/>
                </a:cubicBezTo>
                <a:cubicBezTo>
                  <a:pt x="147" y="650"/>
                  <a:pt x="146" y="650"/>
                  <a:pt x="145" y="648"/>
                </a:cubicBezTo>
                <a:cubicBezTo>
                  <a:pt x="142" y="646"/>
                  <a:pt x="139" y="645"/>
                  <a:pt x="137" y="643"/>
                </a:cubicBezTo>
                <a:cubicBezTo>
                  <a:pt x="138" y="643"/>
                  <a:pt x="138" y="643"/>
                  <a:pt x="139" y="643"/>
                </a:cubicBezTo>
                <a:cubicBezTo>
                  <a:pt x="145" y="646"/>
                  <a:pt x="145" y="646"/>
                  <a:pt x="146" y="644"/>
                </a:cubicBezTo>
                <a:cubicBezTo>
                  <a:pt x="137" y="630"/>
                  <a:pt x="137" y="628"/>
                  <a:pt x="137" y="627"/>
                </a:cubicBezTo>
                <a:cubicBezTo>
                  <a:pt x="138" y="628"/>
                  <a:pt x="139" y="630"/>
                  <a:pt x="140" y="631"/>
                </a:cubicBezTo>
                <a:cubicBezTo>
                  <a:pt x="137" y="619"/>
                  <a:pt x="125" y="611"/>
                  <a:pt x="127" y="597"/>
                </a:cubicBezTo>
                <a:cubicBezTo>
                  <a:pt x="128" y="597"/>
                  <a:pt x="129" y="597"/>
                  <a:pt x="130" y="597"/>
                </a:cubicBezTo>
                <a:cubicBezTo>
                  <a:pt x="130" y="596"/>
                  <a:pt x="131" y="594"/>
                  <a:pt x="131" y="593"/>
                </a:cubicBezTo>
                <a:cubicBezTo>
                  <a:pt x="133" y="594"/>
                  <a:pt x="136" y="594"/>
                  <a:pt x="138" y="594"/>
                </a:cubicBezTo>
                <a:cubicBezTo>
                  <a:pt x="138" y="593"/>
                  <a:pt x="138" y="592"/>
                  <a:pt x="137" y="591"/>
                </a:cubicBezTo>
                <a:cubicBezTo>
                  <a:pt x="138" y="590"/>
                  <a:pt x="138" y="590"/>
                  <a:pt x="138" y="590"/>
                </a:cubicBezTo>
                <a:cubicBezTo>
                  <a:pt x="137" y="585"/>
                  <a:pt x="137" y="585"/>
                  <a:pt x="137" y="584"/>
                </a:cubicBezTo>
                <a:cubicBezTo>
                  <a:pt x="137" y="583"/>
                  <a:pt x="138" y="583"/>
                  <a:pt x="138" y="583"/>
                </a:cubicBezTo>
                <a:cubicBezTo>
                  <a:pt x="136" y="579"/>
                  <a:pt x="136" y="578"/>
                  <a:pt x="136" y="575"/>
                </a:cubicBezTo>
                <a:cubicBezTo>
                  <a:pt x="136" y="575"/>
                  <a:pt x="136" y="575"/>
                  <a:pt x="136" y="575"/>
                </a:cubicBezTo>
                <a:cubicBezTo>
                  <a:pt x="136" y="572"/>
                  <a:pt x="134" y="569"/>
                  <a:pt x="133" y="566"/>
                </a:cubicBezTo>
                <a:cubicBezTo>
                  <a:pt x="133" y="566"/>
                  <a:pt x="133" y="566"/>
                  <a:pt x="133" y="564"/>
                </a:cubicBezTo>
                <a:cubicBezTo>
                  <a:pt x="133" y="561"/>
                  <a:pt x="132" y="559"/>
                  <a:pt x="131" y="557"/>
                </a:cubicBezTo>
                <a:cubicBezTo>
                  <a:pt x="131" y="557"/>
                  <a:pt x="131" y="556"/>
                  <a:pt x="130" y="555"/>
                </a:cubicBezTo>
                <a:cubicBezTo>
                  <a:pt x="130" y="554"/>
                  <a:pt x="130" y="554"/>
                  <a:pt x="129" y="553"/>
                </a:cubicBezTo>
                <a:cubicBezTo>
                  <a:pt x="129" y="552"/>
                  <a:pt x="129" y="552"/>
                  <a:pt x="128" y="550"/>
                </a:cubicBezTo>
                <a:cubicBezTo>
                  <a:pt x="127" y="548"/>
                  <a:pt x="126" y="545"/>
                  <a:pt x="126" y="543"/>
                </a:cubicBezTo>
                <a:cubicBezTo>
                  <a:pt x="126" y="543"/>
                  <a:pt x="126" y="543"/>
                  <a:pt x="129" y="535"/>
                </a:cubicBezTo>
                <a:cubicBezTo>
                  <a:pt x="129" y="534"/>
                  <a:pt x="130" y="534"/>
                  <a:pt x="130" y="534"/>
                </a:cubicBezTo>
                <a:cubicBezTo>
                  <a:pt x="130" y="533"/>
                  <a:pt x="131" y="533"/>
                  <a:pt x="131" y="532"/>
                </a:cubicBezTo>
                <a:cubicBezTo>
                  <a:pt x="131" y="532"/>
                  <a:pt x="132" y="525"/>
                  <a:pt x="133" y="522"/>
                </a:cubicBezTo>
                <a:cubicBezTo>
                  <a:pt x="134" y="519"/>
                  <a:pt x="134" y="519"/>
                  <a:pt x="133" y="516"/>
                </a:cubicBezTo>
                <a:moveTo>
                  <a:pt x="19" y="357"/>
                </a:moveTo>
                <a:cubicBezTo>
                  <a:pt x="20" y="357"/>
                  <a:pt x="20" y="357"/>
                  <a:pt x="20" y="357"/>
                </a:cubicBezTo>
                <a:cubicBezTo>
                  <a:pt x="19" y="357"/>
                  <a:pt x="19" y="356"/>
                  <a:pt x="19" y="356"/>
                </a:cubicBezTo>
                <a:cubicBezTo>
                  <a:pt x="19" y="355"/>
                  <a:pt x="19" y="353"/>
                  <a:pt x="19" y="352"/>
                </a:cubicBezTo>
                <a:cubicBezTo>
                  <a:pt x="17" y="353"/>
                  <a:pt x="17" y="353"/>
                  <a:pt x="17" y="353"/>
                </a:cubicBezTo>
                <a:cubicBezTo>
                  <a:pt x="16" y="353"/>
                  <a:pt x="16" y="353"/>
                  <a:pt x="16" y="353"/>
                </a:cubicBezTo>
                <a:cubicBezTo>
                  <a:pt x="16" y="352"/>
                  <a:pt x="16" y="352"/>
                  <a:pt x="15" y="351"/>
                </a:cubicBezTo>
                <a:cubicBezTo>
                  <a:pt x="15" y="351"/>
                  <a:pt x="15" y="351"/>
                  <a:pt x="15" y="351"/>
                </a:cubicBezTo>
                <a:cubicBezTo>
                  <a:pt x="14" y="352"/>
                  <a:pt x="14" y="353"/>
                  <a:pt x="14" y="353"/>
                </a:cubicBezTo>
                <a:cubicBezTo>
                  <a:pt x="13" y="353"/>
                  <a:pt x="13" y="353"/>
                  <a:pt x="13" y="353"/>
                </a:cubicBezTo>
                <a:cubicBezTo>
                  <a:pt x="13" y="353"/>
                  <a:pt x="13" y="353"/>
                  <a:pt x="12" y="352"/>
                </a:cubicBezTo>
                <a:cubicBezTo>
                  <a:pt x="12" y="351"/>
                  <a:pt x="12" y="351"/>
                  <a:pt x="12" y="351"/>
                </a:cubicBezTo>
                <a:cubicBezTo>
                  <a:pt x="12" y="350"/>
                  <a:pt x="12" y="350"/>
                  <a:pt x="11" y="349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1" y="348"/>
                  <a:pt x="11" y="348"/>
                  <a:pt x="11" y="348"/>
                </a:cubicBezTo>
                <a:cubicBezTo>
                  <a:pt x="10" y="348"/>
                  <a:pt x="10" y="348"/>
                  <a:pt x="10" y="348"/>
                </a:cubicBezTo>
                <a:cubicBezTo>
                  <a:pt x="10" y="348"/>
                  <a:pt x="10" y="347"/>
                  <a:pt x="9" y="347"/>
                </a:cubicBezTo>
                <a:cubicBezTo>
                  <a:pt x="9" y="347"/>
                  <a:pt x="9" y="347"/>
                  <a:pt x="8" y="348"/>
                </a:cubicBezTo>
                <a:cubicBezTo>
                  <a:pt x="8" y="350"/>
                  <a:pt x="8" y="353"/>
                  <a:pt x="8" y="355"/>
                </a:cubicBezTo>
                <a:cubicBezTo>
                  <a:pt x="8" y="359"/>
                  <a:pt x="8" y="360"/>
                  <a:pt x="8" y="360"/>
                </a:cubicBezTo>
                <a:cubicBezTo>
                  <a:pt x="9" y="360"/>
                  <a:pt x="9" y="360"/>
                  <a:pt x="9" y="360"/>
                </a:cubicBezTo>
                <a:cubicBezTo>
                  <a:pt x="9" y="360"/>
                  <a:pt x="9" y="360"/>
                  <a:pt x="10" y="358"/>
                </a:cubicBezTo>
                <a:cubicBezTo>
                  <a:pt x="10" y="357"/>
                  <a:pt x="11" y="357"/>
                  <a:pt x="11" y="357"/>
                </a:cubicBezTo>
                <a:cubicBezTo>
                  <a:pt x="11" y="357"/>
                  <a:pt x="11" y="357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8"/>
                  <a:pt x="12" y="358"/>
                  <a:pt x="12" y="358"/>
                </a:cubicBezTo>
                <a:cubicBezTo>
                  <a:pt x="12" y="357"/>
                  <a:pt x="12" y="357"/>
                  <a:pt x="13" y="358"/>
                </a:cubicBezTo>
                <a:cubicBezTo>
                  <a:pt x="14" y="358"/>
                  <a:pt x="15" y="357"/>
                  <a:pt x="15" y="357"/>
                </a:cubicBezTo>
                <a:cubicBezTo>
                  <a:pt x="16" y="357"/>
                  <a:pt x="16" y="357"/>
                  <a:pt x="16" y="357"/>
                </a:cubicBezTo>
                <a:cubicBezTo>
                  <a:pt x="17" y="358"/>
                  <a:pt x="18" y="358"/>
                  <a:pt x="18" y="358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9" y="358"/>
                  <a:pt x="19" y="358"/>
                  <a:pt x="19" y="357"/>
                </a:cubicBezTo>
                <a:moveTo>
                  <a:pt x="4" y="358"/>
                </a:moveTo>
                <a:cubicBezTo>
                  <a:pt x="4" y="357"/>
                  <a:pt x="4" y="355"/>
                  <a:pt x="4" y="355"/>
                </a:cubicBezTo>
                <a:cubicBezTo>
                  <a:pt x="4" y="354"/>
                  <a:pt x="4" y="354"/>
                  <a:pt x="4" y="354"/>
                </a:cubicBezTo>
                <a:cubicBezTo>
                  <a:pt x="4" y="354"/>
                  <a:pt x="4" y="353"/>
                  <a:pt x="4" y="353"/>
                </a:cubicBezTo>
                <a:cubicBezTo>
                  <a:pt x="4" y="353"/>
                  <a:pt x="4" y="353"/>
                  <a:pt x="4" y="353"/>
                </a:cubicBezTo>
                <a:cubicBezTo>
                  <a:pt x="3" y="353"/>
                  <a:pt x="3" y="352"/>
                  <a:pt x="3" y="352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3" y="356"/>
                  <a:pt x="3" y="356"/>
                </a:cubicBezTo>
                <a:cubicBezTo>
                  <a:pt x="3" y="356"/>
                  <a:pt x="4" y="357"/>
                  <a:pt x="4" y="357"/>
                </a:cubicBezTo>
                <a:cubicBezTo>
                  <a:pt x="4" y="358"/>
                  <a:pt x="4" y="359"/>
                  <a:pt x="4" y="360"/>
                </a:cubicBezTo>
                <a:cubicBezTo>
                  <a:pt x="4" y="360"/>
                  <a:pt x="4" y="360"/>
                  <a:pt x="4" y="360"/>
                </a:cubicBezTo>
                <a:cubicBezTo>
                  <a:pt x="4" y="360"/>
                  <a:pt x="4" y="360"/>
                  <a:pt x="4" y="358"/>
                </a:cubicBezTo>
                <a:moveTo>
                  <a:pt x="4" y="343"/>
                </a:moveTo>
                <a:cubicBezTo>
                  <a:pt x="5" y="343"/>
                  <a:pt x="6" y="343"/>
                  <a:pt x="7" y="343"/>
                </a:cubicBezTo>
                <a:cubicBezTo>
                  <a:pt x="7" y="342"/>
                  <a:pt x="7" y="336"/>
                  <a:pt x="6" y="335"/>
                </a:cubicBezTo>
                <a:cubicBezTo>
                  <a:pt x="6" y="335"/>
                  <a:pt x="6" y="335"/>
                  <a:pt x="6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5" y="335"/>
                </a:cubicBezTo>
                <a:cubicBezTo>
                  <a:pt x="5" y="335"/>
                  <a:pt x="5" y="335"/>
                  <a:pt x="4" y="327"/>
                </a:cubicBezTo>
                <a:cubicBezTo>
                  <a:pt x="4" y="325"/>
                  <a:pt x="4" y="325"/>
                  <a:pt x="4" y="324"/>
                </a:cubicBezTo>
                <a:cubicBezTo>
                  <a:pt x="5" y="323"/>
                  <a:pt x="5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4"/>
                </a:cubicBezTo>
                <a:cubicBezTo>
                  <a:pt x="4" y="323"/>
                  <a:pt x="4" y="323"/>
                  <a:pt x="4" y="323"/>
                </a:cubicBezTo>
                <a:cubicBezTo>
                  <a:pt x="4" y="323"/>
                  <a:pt x="4" y="323"/>
                  <a:pt x="4" y="323"/>
                </a:cubicBezTo>
                <a:cubicBezTo>
                  <a:pt x="3" y="323"/>
                  <a:pt x="3" y="323"/>
                  <a:pt x="3" y="323"/>
                </a:cubicBezTo>
                <a:cubicBezTo>
                  <a:pt x="3" y="323"/>
                  <a:pt x="2" y="331"/>
                  <a:pt x="3" y="332"/>
                </a:cubicBezTo>
                <a:cubicBezTo>
                  <a:pt x="3" y="331"/>
                  <a:pt x="3" y="330"/>
                  <a:pt x="3" y="329"/>
                </a:cubicBezTo>
                <a:cubicBezTo>
                  <a:pt x="4" y="329"/>
                  <a:pt x="3" y="332"/>
                  <a:pt x="3" y="334"/>
                </a:cubicBezTo>
                <a:cubicBezTo>
                  <a:pt x="3" y="335"/>
                  <a:pt x="3" y="337"/>
                  <a:pt x="4" y="337"/>
                </a:cubicBezTo>
                <a:cubicBezTo>
                  <a:pt x="4" y="337"/>
                  <a:pt x="4" y="337"/>
                  <a:pt x="4" y="337"/>
                </a:cubicBezTo>
                <a:cubicBezTo>
                  <a:pt x="4" y="337"/>
                  <a:pt x="4" y="337"/>
                  <a:pt x="4" y="339"/>
                </a:cubicBezTo>
                <a:cubicBezTo>
                  <a:pt x="4" y="339"/>
                  <a:pt x="4" y="342"/>
                  <a:pt x="4" y="343"/>
                </a:cubicBezTo>
                <a:moveTo>
                  <a:pt x="287" y="80"/>
                </a:moveTo>
                <a:cubicBezTo>
                  <a:pt x="287" y="79"/>
                  <a:pt x="288" y="78"/>
                  <a:pt x="289" y="77"/>
                </a:cubicBezTo>
                <a:cubicBezTo>
                  <a:pt x="289" y="76"/>
                  <a:pt x="289" y="76"/>
                  <a:pt x="289" y="75"/>
                </a:cubicBezTo>
                <a:cubicBezTo>
                  <a:pt x="288" y="75"/>
                  <a:pt x="288" y="75"/>
                  <a:pt x="287" y="74"/>
                </a:cubicBezTo>
                <a:cubicBezTo>
                  <a:pt x="289" y="71"/>
                  <a:pt x="289" y="71"/>
                  <a:pt x="290" y="70"/>
                </a:cubicBezTo>
                <a:cubicBezTo>
                  <a:pt x="289" y="70"/>
                  <a:pt x="288" y="70"/>
                  <a:pt x="287" y="70"/>
                </a:cubicBezTo>
                <a:cubicBezTo>
                  <a:pt x="286" y="70"/>
                  <a:pt x="286" y="70"/>
                  <a:pt x="286" y="70"/>
                </a:cubicBezTo>
                <a:cubicBezTo>
                  <a:pt x="284" y="70"/>
                  <a:pt x="282" y="72"/>
                  <a:pt x="280" y="72"/>
                </a:cubicBezTo>
                <a:cubicBezTo>
                  <a:pt x="279" y="72"/>
                  <a:pt x="279" y="72"/>
                  <a:pt x="278" y="72"/>
                </a:cubicBezTo>
                <a:cubicBezTo>
                  <a:pt x="278" y="71"/>
                  <a:pt x="277" y="71"/>
                  <a:pt x="276" y="71"/>
                </a:cubicBezTo>
                <a:cubicBezTo>
                  <a:pt x="274" y="71"/>
                  <a:pt x="272" y="73"/>
                  <a:pt x="270" y="73"/>
                </a:cubicBezTo>
                <a:cubicBezTo>
                  <a:pt x="270" y="73"/>
                  <a:pt x="269" y="73"/>
                  <a:pt x="268" y="73"/>
                </a:cubicBezTo>
                <a:cubicBezTo>
                  <a:pt x="268" y="72"/>
                  <a:pt x="269" y="72"/>
                  <a:pt x="269" y="71"/>
                </a:cubicBezTo>
                <a:cubicBezTo>
                  <a:pt x="269" y="71"/>
                  <a:pt x="270" y="70"/>
                  <a:pt x="270" y="70"/>
                </a:cubicBezTo>
                <a:cubicBezTo>
                  <a:pt x="270" y="69"/>
                  <a:pt x="270" y="69"/>
                  <a:pt x="270" y="68"/>
                </a:cubicBezTo>
                <a:cubicBezTo>
                  <a:pt x="269" y="69"/>
                  <a:pt x="269" y="69"/>
                  <a:pt x="269" y="69"/>
                </a:cubicBezTo>
                <a:cubicBezTo>
                  <a:pt x="268" y="69"/>
                  <a:pt x="268" y="70"/>
                  <a:pt x="268" y="70"/>
                </a:cubicBezTo>
                <a:cubicBezTo>
                  <a:pt x="268" y="70"/>
                  <a:pt x="262" y="67"/>
                  <a:pt x="258" y="73"/>
                </a:cubicBezTo>
                <a:cubicBezTo>
                  <a:pt x="259" y="73"/>
                  <a:pt x="260" y="73"/>
                  <a:pt x="261" y="73"/>
                </a:cubicBezTo>
                <a:cubicBezTo>
                  <a:pt x="263" y="73"/>
                  <a:pt x="263" y="73"/>
                  <a:pt x="263" y="73"/>
                </a:cubicBezTo>
                <a:cubicBezTo>
                  <a:pt x="263" y="75"/>
                  <a:pt x="263" y="75"/>
                  <a:pt x="263" y="75"/>
                </a:cubicBezTo>
                <a:cubicBezTo>
                  <a:pt x="264" y="76"/>
                  <a:pt x="262" y="76"/>
                  <a:pt x="262" y="77"/>
                </a:cubicBezTo>
                <a:cubicBezTo>
                  <a:pt x="260" y="76"/>
                  <a:pt x="257" y="76"/>
                  <a:pt x="256" y="76"/>
                </a:cubicBezTo>
                <a:cubicBezTo>
                  <a:pt x="255" y="77"/>
                  <a:pt x="255" y="78"/>
                  <a:pt x="254" y="79"/>
                </a:cubicBezTo>
                <a:cubicBezTo>
                  <a:pt x="255" y="78"/>
                  <a:pt x="255" y="78"/>
                  <a:pt x="256" y="78"/>
                </a:cubicBezTo>
                <a:cubicBezTo>
                  <a:pt x="257" y="78"/>
                  <a:pt x="258" y="78"/>
                  <a:pt x="258" y="78"/>
                </a:cubicBezTo>
                <a:cubicBezTo>
                  <a:pt x="259" y="79"/>
                  <a:pt x="259" y="79"/>
                  <a:pt x="259" y="79"/>
                </a:cubicBezTo>
                <a:cubicBezTo>
                  <a:pt x="258" y="80"/>
                  <a:pt x="257" y="81"/>
                  <a:pt x="256" y="82"/>
                </a:cubicBezTo>
                <a:cubicBezTo>
                  <a:pt x="256" y="83"/>
                  <a:pt x="256" y="83"/>
                  <a:pt x="256" y="83"/>
                </a:cubicBezTo>
                <a:cubicBezTo>
                  <a:pt x="256" y="83"/>
                  <a:pt x="257" y="83"/>
                  <a:pt x="257" y="83"/>
                </a:cubicBezTo>
                <a:cubicBezTo>
                  <a:pt x="259" y="83"/>
                  <a:pt x="260" y="83"/>
                  <a:pt x="261" y="83"/>
                </a:cubicBezTo>
                <a:cubicBezTo>
                  <a:pt x="262" y="83"/>
                  <a:pt x="262" y="83"/>
                  <a:pt x="263" y="83"/>
                </a:cubicBezTo>
                <a:cubicBezTo>
                  <a:pt x="264" y="83"/>
                  <a:pt x="264" y="83"/>
                  <a:pt x="264" y="84"/>
                </a:cubicBezTo>
                <a:cubicBezTo>
                  <a:pt x="264" y="84"/>
                  <a:pt x="264" y="86"/>
                  <a:pt x="266" y="86"/>
                </a:cubicBezTo>
                <a:cubicBezTo>
                  <a:pt x="267" y="86"/>
                  <a:pt x="268" y="86"/>
                  <a:pt x="269" y="86"/>
                </a:cubicBezTo>
                <a:cubicBezTo>
                  <a:pt x="270" y="85"/>
                  <a:pt x="270" y="85"/>
                  <a:pt x="272" y="83"/>
                </a:cubicBezTo>
                <a:cubicBezTo>
                  <a:pt x="273" y="83"/>
                  <a:pt x="275" y="82"/>
                  <a:pt x="275" y="82"/>
                </a:cubicBezTo>
                <a:cubicBezTo>
                  <a:pt x="276" y="82"/>
                  <a:pt x="277" y="82"/>
                  <a:pt x="277" y="81"/>
                </a:cubicBezTo>
                <a:cubicBezTo>
                  <a:pt x="278" y="80"/>
                  <a:pt x="279" y="80"/>
                  <a:pt x="281" y="80"/>
                </a:cubicBezTo>
                <a:cubicBezTo>
                  <a:pt x="282" y="79"/>
                  <a:pt x="282" y="79"/>
                  <a:pt x="287" y="80"/>
                </a:cubicBezTo>
                <a:moveTo>
                  <a:pt x="103" y="171"/>
                </a:moveTo>
                <a:cubicBezTo>
                  <a:pt x="104" y="170"/>
                  <a:pt x="104" y="170"/>
                  <a:pt x="104" y="170"/>
                </a:cubicBezTo>
                <a:cubicBezTo>
                  <a:pt x="104" y="169"/>
                  <a:pt x="104" y="169"/>
                  <a:pt x="104" y="168"/>
                </a:cubicBezTo>
                <a:cubicBezTo>
                  <a:pt x="104" y="168"/>
                  <a:pt x="104" y="168"/>
                  <a:pt x="104" y="168"/>
                </a:cubicBezTo>
                <a:cubicBezTo>
                  <a:pt x="103" y="168"/>
                  <a:pt x="103" y="164"/>
                  <a:pt x="103" y="164"/>
                </a:cubicBezTo>
                <a:cubicBezTo>
                  <a:pt x="103" y="163"/>
                  <a:pt x="103" y="163"/>
                  <a:pt x="101" y="162"/>
                </a:cubicBezTo>
                <a:cubicBezTo>
                  <a:pt x="101" y="162"/>
                  <a:pt x="101" y="162"/>
                  <a:pt x="101" y="161"/>
                </a:cubicBezTo>
                <a:cubicBezTo>
                  <a:pt x="104" y="158"/>
                  <a:pt x="104" y="158"/>
                  <a:pt x="104" y="158"/>
                </a:cubicBezTo>
                <a:cubicBezTo>
                  <a:pt x="105" y="157"/>
                  <a:pt x="106" y="157"/>
                  <a:pt x="106" y="157"/>
                </a:cubicBezTo>
                <a:cubicBezTo>
                  <a:pt x="108" y="155"/>
                  <a:pt x="108" y="154"/>
                  <a:pt x="108" y="153"/>
                </a:cubicBezTo>
                <a:cubicBezTo>
                  <a:pt x="108" y="152"/>
                  <a:pt x="108" y="152"/>
                  <a:pt x="108" y="152"/>
                </a:cubicBezTo>
                <a:cubicBezTo>
                  <a:pt x="108" y="152"/>
                  <a:pt x="106" y="153"/>
                  <a:pt x="106" y="153"/>
                </a:cubicBezTo>
                <a:cubicBezTo>
                  <a:pt x="104" y="155"/>
                  <a:pt x="104" y="157"/>
                  <a:pt x="102" y="158"/>
                </a:cubicBezTo>
                <a:cubicBezTo>
                  <a:pt x="99" y="162"/>
                  <a:pt x="95" y="165"/>
                  <a:pt x="92" y="168"/>
                </a:cubicBezTo>
                <a:cubicBezTo>
                  <a:pt x="90" y="170"/>
                  <a:pt x="90" y="170"/>
                  <a:pt x="88" y="174"/>
                </a:cubicBezTo>
                <a:cubicBezTo>
                  <a:pt x="90" y="175"/>
                  <a:pt x="92" y="175"/>
                  <a:pt x="94" y="175"/>
                </a:cubicBezTo>
                <a:cubicBezTo>
                  <a:pt x="95" y="175"/>
                  <a:pt x="95" y="175"/>
                  <a:pt x="95" y="177"/>
                </a:cubicBezTo>
                <a:cubicBezTo>
                  <a:pt x="94" y="180"/>
                  <a:pt x="95" y="181"/>
                  <a:pt x="95" y="182"/>
                </a:cubicBezTo>
                <a:cubicBezTo>
                  <a:pt x="96" y="181"/>
                  <a:pt x="96" y="181"/>
                  <a:pt x="96" y="181"/>
                </a:cubicBezTo>
                <a:cubicBezTo>
                  <a:pt x="97" y="181"/>
                  <a:pt x="97" y="180"/>
                  <a:pt x="99" y="176"/>
                </a:cubicBezTo>
                <a:cubicBezTo>
                  <a:pt x="101" y="173"/>
                  <a:pt x="101" y="173"/>
                  <a:pt x="103" y="171"/>
                </a:cubicBezTo>
                <a:moveTo>
                  <a:pt x="89" y="162"/>
                </a:moveTo>
                <a:cubicBezTo>
                  <a:pt x="89" y="162"/>
                  <a:pt x="89" y="162"/>
                  <a:pt x="89" y="162"/>
                </a:cubicBezTo>
                <a:cubicBezTo>
                  <a:pt x="89" y="162"/>
                  <a:pt x="89" y="161"/>
                  <a:pt x="88" y="161"/>
                </a:cubicBezTo>
                <a:cubicBezTo>
                  <a:pt x="88" y="161"/>
                  <a:pt x="88" y="161"/>
                  <a:pt x="88" y="161"/>
                </a:cubicBezTo>
                <a:cubicBezTo>
                  <a:pt x="88" y="160"/>
                  <a:pt x="88" y="160"/>
                  <a:pt x="88" y="159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8" y="158"/>
                  <a:pt x="88" y="158"/>
                  <a:pt x="88" y="158"/>
                </a:cubicBezTo>
                <a:cubicBezTo>
                  <a:pt x="87" y="158"/>
                  <a:pt x="87" y="159"/>
                  <a:pt x="86" y="159"/>
                </a:cubicBezTo>
                <a:cubicBezTo>
                  <a:pt x="86" y="159"/>
                  <a:pt x="86" y="160"/>
                  <a:pt x="86" y="160"/>
                </a:cubicBezTo>
                <a:cubicBezTo>
                  <a:pt x="86" y="161"/>
                  <a:pt x="86" y="161"/>
                  <a:pt x="86" y="162"/>
                </a:cubicBezTo>
                <a:cubicBezTo>
                  <a:pt x="85" y="165"/>
                  <a:pt x="85" y="165"/>
                  <a:pt x="85" y="165"/>
                </a:cubicBezTo>
                <a:cubicBezTo>
                  <a:pt x="85" y="166"/>
                  <a:pt x="85" y="166"/>
                  <a:pt x="89" y="162"/>
                </a:cubicBezTo>
                <a:moveTo>
                  <a:pt x="363" y="4"/>
                </a:moveTo>
                <a:cubicBezTo>
                  <a:pt x="363" y="3"/>
                  <a:pt x="363" y="3"/>
                  <a:pt x="363" y="3"/>
                </a:cubicBezTo>
                <a:cubicBezTo>
                  <a:pt x="363" y="3"/>
                  <a:pt x="363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2" y="3"/>
                </a:cubicBezTo>
                <a:cubicBezTo>
                  <a:pt x="362" y="3"/>
                  <a:pt x="362" y="3"/>
                  <a:pt x="361" y="3"/>
                </a:cubicBezTo>
                <a:cubicBezTo>
                  <a:pt x="361" y="3"/>
                  <a:pt x="356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4" y="4"/>
                </a:cubicBezTo>
                <a:cubicBezTo>
                  <a:pt x="354" y="4"/>
                  <a:pt x="354" y="4"/>
                  <a:pt x="353" y="4"/>
                </a:cubicBezTo>
                <a:cubicBezTo>
                  <a:pt x="351" y="5"/>
                  <a:pt x="349" y="5"/>
                  <a:pt x="348" y="6"/>
                </a:cubicBezTo>
                <a:cubicBezTo>
                  <a:pt x="350" y="5"/>
                  <a:pt x="352" y="5"/>
                  <a:pt x="354" y="4"/>
                </a:cubicBezTo>
                <a:cubicBezTo>
                  <a:pt x="354" y="4"/>
                  <a:pt x="355" y="4"/>
                  <a:pt x="355" y="4"/>
                </a:cubicBezTo>
                <a:cubicBezTo>
                  <a:pt x="358" y="3"/>
                  <a:pt x="358" y="3"/>
                  <a:pt x="360" y="3"/>
                </a:cubicBezTo>
                <a:cubicBezTo>
                  <a:pt x="359" y="3"/>
                  <a:pt x="359" y="3"/>
                  <a:pt x="359" y="3"/>
                </a:cubicBezTo>
                <a:cubicBezTo>
                  <a:pt x="357" y="3"/>
                  <a:pt x="354" y="3"/>
                  <a:pt x="352" y="4"/>
                </a:cubicBezTo>
                <a:cubicBezTo>
                  <a:pt x="354" y="3"/>
                  <a:pt x="354" y="3"/>
                  <a:pt x="355" y="3"/>
                </a:cubicBezTo>
                <a:cubicBezTo>
                  <a:pt x="355" y="3"/>
                  <a:pt x="355" y="3"/>
                  <a:pt x="356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7" y="3"/>
                  <a:pt x="357" y="3"/>
                </a:cubicBezTo>
                <a:cubicBezTo>
                  <a:pt x="357" y="3"/>
                  <a:pt x="356" y="3"/>
                  <a:pt x="356" y="3"/>
                </a:cubicBezTo>
                <a:cubicBezTo>
                  <a:pt x="355" y="3"/>
                  <a:pt x="355" y="3"/>
                  <a:pt x="354" y="3"/>
                </a:cubicBezTo>
                <a:cubicBezTo>
                  <a:pt x="354" y="3"/>
                  <a:pt x="353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2" y="3"/>
                </a:cubicBezTo>
                <a:cubicBezTo>
                  <a:pt x="352" y="3"/>
                  <a:pt x="352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1" y="3"/>
                  <a:pt x="351" y="3"/>
                </a:cubicBezTo>
                <a:cubicBezTo>
                  <a:pt x="351" y="3"/>
                  <a:pt x="350" y="3"/>
                  <a:pt x="350" y="3"/>
                </a:cubicBezTo>
                <a:cubicBezTo>
                  <a:pt x="351" y="3"/>
                  <a:pt x="353" y="2"/>
                  <a:pt x="355" y="2"/>
                </a:cubicBezTo>
                <a:cubicBezTo>
                  <a:pt x="356" y="2"/>
                  <a:pt x="356" y="2"/>
                  <a:pt x="358" y="2"/>
                </a:cubicBezTo>
                <a:cubicBezTo>
                  <a:pt x="359" y="2"/>
                  <a:pt x="359" y="2"/>
                  <a:pt x="359" y="2"/>
                </a:cubicBezTo>
                <a:cubicBezTo>
                  <a:pt x="359" y="2"/>
                  <a:pt x="360" y="2"/>
                  <a:pt x="361" y="2"/>
                </a:cubicBezTo>
                <a:cubicBezTo>
                  <a:pt x="362" y="2"/>
                  <a:pt x="362" y="2"/>
                  <a:pt x="364" y="2"/>
                </a:cubicBezTo>
                <a:cubicBezTo>
                  <a:pt x="364" y="2"/>
                  <a:pt x="365" y="2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6" y="1"/>
                  <a:pt x="365" y="1"/>
                  <a:pt x="366" y="1"/>
                </a:cubicBezTo>
                <a:cubicBezTo>
                  <a:pt x="366" y="1"/>
                  <a:pt x="366" y="1"/>
                  <a:pt x="366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5" y="1"/>
                  <a:pt x="365" y="1"/>
                  <a:pt x="365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3" y="1"/>
                  <a:pt x="363" y="1"/>
                  <a:pt x="363" y="1"/>
                </a:cubicBezTo>
                <a:cubicBezTo>
                  <a:pt x="364" y="1"/>
                  <a:pt x="364" y="1"/>
                  <a:pt x="364" y="1"/>
                </a:cubicBezTo>
                <a:cubicBezTo>
                  <a:pt x="364" y="1"/>
                  <a:pt x="364" y="1"/>
                  <a:pt x="365" y="1"/>
                </a:cubicBezTo>
                <a:cubicBezTo>
                  <a:pt x="365" y="1"/>
                  <a:pt x="366" y="1"/>
                  <a:pt x="366" y="1"/>
                </a:cubicBezTo>
                <a:cubicBezTo>
                  <a:pt x="367" y="1"/>
                  <a:pt x="367" y="1"/>
                  <a:pt x="368" y="1"/>
                </a:cubicBezTo>
                <a:cubicBezTo>
                  <a:pt x="369" y="1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0"/>
                  <a:pt x="370" y="0"/>
                  <a:pt x="369" y="0"/>
                </a:cubicBezTo>
                <a:cubicBezTo>
                  <a:pt x="369" y="0"/>
                  <a:pt x="368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7" y="0"/>
                  <a:pt x="367" y="0"/>
                  <a:pt x="367" y="0"/>
                </a:cubicBezTo>
                <a:cubicBezTo>
                  <a:pt x="365" y="0"/>
                  <a:pt x="363" y="1"/>
                  <a:pt x="362" y="1"/>
                </a:cubicBezTo>
                <a:cubicBezTo>
                  <a:pt x="361" y="1"/>
                  <a:pt x="361" y="1"/>
                  <a:pt x="362" y="0"/>
                </a:cubicBezTo>
                <a:cubicBezTo>
                  <a:pt x="362" y="0"/>
                  <a:pt x="363" y="0"/>
                  <a:pt x="363" y="0"/>
                </a:cubicBezTo>
                <a:cubicBezTo>
                  <a:pt x="363" y="0"/>
                  <a:pt x="362" y="0"/>
                  <a:pt x="361" y="0"/>
                </a:cubicBezTo>
                <a:cubicBezTo>
                  <a:pt x="361" y="0"/>
                  <a:pt x="361" y="0"/>
                  <a:pt x="361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60" y="0"/>
                  <a:pt x="360" y="0"/>
                  <a:pt x="360" y="0"/>
                </a:cubicBezTo>
                <a:cubicBezTo>
                  <a:pt x="359" y="0"/>
                  <a:pt x="359" y="1"/>
                  <a:pt x="358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7" y="1"/>
                  <a:pt x="357" y="1"/>
                  <a:pt x="357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6" y="1"/>
                  <a:pt x="356" y="1"/>
                  <a:pt x="356" y="1"/>
                </a:cubicBezTo>
                <a:cubicBezTo>
                  <a:pt x="355" y="1"/>
                  <a:pt x="354" y="1"/>
                  <a:pt x="353" y="1"/>
                </a:cubicBezTo>
                <a:cubicBezTo>
                  <a:pt x="353" y="1"/>
                  <a:pt x="353" y="1"/>
                  <a:pt x="353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5" y="1"/>
                  <a:pt x="355" y="1"/>
                  <a:pt x="355" y="1"/>
                </a:cubicBezTo>
                <a:cubicBezTo>
                  <a:pt x="354" y="1"/>
                  <a:pt x="354" y="1"/>
                  <a:pt x="354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2" y="1"/>
                  <a:pt x="352" y="1"/>
                  <a:pt x="352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50" y="2"/>
                  <a:pt x="350" y="2"/>
                  <a:pt x="350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7" y="2"/>
                  <a:pt x="347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49" y="2"/>
                  <a:pt x="349" y="2"/>
                  <a:pt x="349" y="2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0" y="1"/>
                  <a:pt x="350" y="1"/>
                  <a:pt x="350" y="1"/>
                </a:cubicBezTo>
                <a:cubicBezTo>
                  <a:pt x="351" y="1"/>
                  <a:pt x="351" y="1"/>
                  <a:pt x="351" y="1"/>
                </a:cubicBezTo>
                <a:cubicBezTo>
                  <a:pt x="351" y="1"/>
                  <a:pt x="350" y="1"/>
                  <a:pt x="350" y="1"/>
                </a:cubicBezTo>
                <a:cubicBezTo>
                  <a:pt x="349" y="1"/>
                  <a:pt x="348" y="1"/>
                  <a:pt x="348" y="2"/>
                </a:cubicBezTo>
                <a:cubicBezTo>
                  <a:pt x="348" y="2"/>
                  <a:pt x="348" y="2"/>
                  <a:pt x="348" y="2"/>
                </a:cubicBezTo>
                <a:cubicBezTo>
                  <a:pt x="347" y="2"/>
                  <a:pt x="347" y="2"/>
                  <a:pt x="347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4" y="2"/>
                  <a:pt x="344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2" y="2"/>
                  <a:pt x="341" y="2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3"/>
                  <a:pt x="341" y="3"/>
                  <a:pt x="341" y="3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8" y="1"/>
                  <a:pt x="348" y="1"/>
                  <a:pt x="346" y="1"/>
                </a:cubicBezTo>
                <a:cubicBezTo>
                  <a:pt x="345" y="2"/>
                  <a:pt x="344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39" y="2"/>
                  <a:pt x="338" y="3"/>
                </a:cubicBezTo>
                <a:cubicBezTo>
                  <a:pt x="338" y="3"/>
                  <a:pt x="338" y="3"/>
                  <a:pt x="338" y="3"/>
                </a:cubicBezTo>
                <a:cubicBezTo>
                  <a:pt x="337" y="3"/>
                  <a:pt x="337" y="3"/>
                  <a:pt x="337" y="3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40" y="2"/>
                  <a:pt x="340" y="2"/>
                </a:cubicBezTo>
                <a:cubicBezTo>
                  <a:pt x="341" y="2"/>
                  <a:pt x="341" y="2"/>
                  <a:pt x="342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3" y="2"/>
                  <a:pt x="343" y="2"/>
                  <a:pt x="343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4" y="2"/>
                  <a:pt x="344" y="2"/>
                  <a:pt x="344" y="2"/>
                </a:cubicBezTo>
                <a:cubicBezTo>
                  <a:pt x="345" y="2"/>
                  <a:pt x="345" y="2"/>
                  <a:pt x="345" y="2"/>
                </a:cubicBezTo>
                <a:cubicBezTo>
                  <a:pt x="346" y="2"/>
                  <a:pt x="346" y="2"/>
                  <a:pt x="346" y="2"/>
                </a:cubicBezTo>
                <a:cubicBezTo>
                  <a:pt x="346" y="1"/>
                  <a:pt x="346" y="1"/>
                  <a:pt x="346" y="1"/>
                </a:cubicBezTo>
                <a:cubicBezTo>
                  <a:pt x="347" y="1"/>
                  <a:pt x="347" y="1"/>
                  <a:pt x="348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9" y="1"/>
                  <a:pt x="349" y="1"/>
                  <a:pt x="349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6" y="1"/>
                  <a:pt x="346" y="1"/>
                  <a:pt x="346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5" y="1"/>
                  <a:pt x="345" y="1"/>
                  <a:pt x="345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4" y="1"/>
                  <a:pt x="344" y="1"/>
                  <a:pt x="344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1"/>
                  <a:pt x="343" y="1"/>
                  <a:pt x="343" y="1"/>
                </a:cubicBezTo>
                <a:cubicBezTo>
                  <a:pt x="343" y="2"/>
                  <a:pt x="343" y="2"/>
                  <a:pt x="343" y="2"/>
                </a:cubicBezTo>
                <a:cubicBezTo>
                  <a:pt x="342" y="2"/>
                  <a:pt x="342" y="2"/>
                  <a:pt x="342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5" y="3"/>
                  <a:pt x="335" y="3"/>
                  <a:pt x="335" y="3"/>
                </a:cubicBezTo>
                <a:cubicBezTo>
                  <a:pt x="336" y="3"/>
                  <a:pt x="336" y="3"/>
                  <a:pt x="336" y="3"/>
                </a:cubicBezTo>
                <a:cubicBezTo>
                  <a:pt x="336" y="2"/>
                  <a:pt x="336" y="2"/>
                  <a:pt x="336" y="2"/>
                </a:cubicBezTo>
                <a:cubicBezTo>
                  <a:pt x="336" y="2"/>
                  <a:pt x="336" y="2"/>
                  <a:pt x="336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1" y="2"/>
                  <a:pt x="341" y="2"/>
                  <a:pt x="341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40" y="2"/>
                  <a:pt x="340" y="2"/>
                  <a:pt x="340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9" y="2"/>
                  <a:pt x="339" y="2"/>
                  <a:pt x="339" y="2"/>
                </a:cubicBezTo>
                <a:cubicBezTo>
                  <a:pt x="338" y="2"/>
                  <a:pt x="338" y="2"/>
                  <a:pt x="338" y="2"/>
                </a:cubicBezTo>
                <a:cubicBezTo>
                  <a:pt x="337" y="2"/>
                  <a:pt x="336" y="2"/>
                  <a:pt x="336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4" y="2"/>
                  <a:pt x="334" y="2"/>
                  <a:pt x="334" y="2"/>
                </a:cubicBezTo>
                <a:cubicBezTo>
                  <a:pt x="332" y="3"/>
                  <a:pt x="331" y="3"/>
                  <a:pt x="329" y="3"/>
                </a:cubicBezTo>
                <a:cubicBezTo>
                  <a:pt x="329" y="3"/>
                  <a:pt x="329" y="3"/>
                  <a:pt x="329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30" y="3"/>
                  <a:pt x="330" y="3"/>
                </a:cubicBezTo>
                <a:cubicBezTo>
                  <a:pt x="330" y="3"/>
                  <a:pt x="329" y="3"/>
                  <a:pt x="328" y="3"/>
                </a:cubicBezTo>
                <a:cubicBezTo>
                  <a:pt x="327" y="3"/>
                  <a:pt x="326" y="3"/>
                  <a:pt x="325" y="3"/>
                </a:cubicBezTo>
                <a:cubicBezTo>
                  <a:pt x="325" y="3"/>
                  <a:pt x="324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3" y="4"/>
                  <a:pt x="323" y="4"/>
                  <a:pt x="323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2" y="4"/>
                  <a:pt x="322" y="4"/>
                  <a:pt x="322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1" y="4"/>
                  <a:pt x="321" y="4"/>
                  <a:pt x="321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19" y="4"/>
                  <a:pt x="319" y="4"/>
                  <a:pt x="319" y="4"/>
                </a:cubicBezTo>
                <a:cubicBezTo>
                  <a:pt x="319" y="4"/>
                  <a:pt x="318" y="4"/>
                  <a:pt x="317" y="5"/>
                </a:cubicBezTo>
                <a:cubicBezTo>
                  <a:pt x="317" y="5"/>
                  <a:pt x="317" y="5"/>
                  <a:pt x="317" y="5"/>
                </a:cubicBezTo>
                <a:cubicBezTo>
                  <a:pt x="316" y="5"/>
                  <a:pt x="315" y="5"/>
                  <a:pt x="315" y="5"/>
                </a:cubicBezTo>
                <a:cubicBezTo>
                  <a:pt x="315" y="5"/>
                  <a:pt x="315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3" y="5"/>
                  <a:pt x="313" y="5"/>
                  <a:pt x="313" y="5"/>
                </a:cubicBezTo>
                <a:cubicBezTo>
                  <a:pt x="313" y="5"/>
                  <a:pt x="313" y="5"/>
                  <a:pt x="314" y="5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4" y="5"/>
                  <a:pt x="313" y="6"/>
                  <a:pt x="312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1" y="6"/>
                  <a:pt x="311" y="6"/>
                  <a:pt x="311" y="6"/>
                </a:cubicBezTo>
                <a:cubicBezTo>
                  <a:pt x="310" y="6"/>
                  <a:pt x="310" y="6"/>
                  <a:pt x="310" y="6"/>
                </a:cubicBezTo>
                <a:cubicBezTo>
                  <a:pt x="309" y="6"/>
                  <a:pt x="308" y="6"/>
                  <a:pt x="307" y="7"/>
                </a:cubicBezTo>
                <a:cubicBezTo>
                  <a:pt x="306" y="7"/>
                  <a:pt x="305" y="7"/>
                  <a:pt x="305" y="7"/>
                </a:cubicBezTo>
                <a:cubicBezTo>
                  <a:pt x="304" y="7"/>
                  <a:pt x="304" y="7"/>
                  <a:pt x="304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3" y="7"/>
                  <a:pt x="303" y="7"/>
                  <a:pt x="303" y="7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8"/>
                  <a:pt x="302" y="8"/>
                  <a:pt x="302" y="8"/>
                </a:cubicBezTo>
                <a:cubicBezTo>
                  <a:pt x="302" y="7"/>
                  <a:pt x="302" y="7"/>
                  <a:pt x="302" y="7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8"/>
                  <a:pt x="301" y="8"/>
                  <a:pt x="301" y="8"/>
                </a:cubicBezTo>
                <a:cubicBezTo>
                  <a:pt x="300" y="8"/>
                  <a:pt x="300" y="8"/>
                  <a:pt x="300" y="8"/>
                </a:cubicBezTo>
                <a:cubicBezTo>
                  <a:pt x="300" y="8"/>
                  <a:pt x="300" y="8"/>
                  <a:pt x="299" y="8"/>
                </a:cubicBezTo>
                <a:cubicBezTo>
                  <a:pt x="299" y="8"/>
                  <a:pt x="298" y="8"/>
                  <a:pt x="298" y="8"/>
                </a:cubicBezTo>
                <a:cubicBezTo>
                  <a:pt x="298" y="8"/>
                  <a:pt x="298" y="8"/>
                  <a:pt x="298" y="8"/>
                </a:cubicBezTo>
                <a:cubicBezTo>
                  <a:pt x="298" y="8"/>
                  <a:pt x="298" y="8"/>
                  <a:pt x="297" y="8"/>
                </a:cubicBezTo>
                <a:cubicBezTo>
                  <a:pt x="296" y="8"/>
                  <a:pt x="296" y="8"/>
                  <a:pt x="296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8"/>
                  <a:pt x="295" y="8"/>
                  <a:pt x="295" y="8"/>
                </a:cubicBezTo>
                <a:cubicBezTo>
                  <a:pt x="295" y="9"/>
                  <a:pt x="295" y="9"/>
                  <a:pt x="295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4" y="9"/>
                  <a:pt x="294" y="9"/>
                  <a:pt x="294" y="9"/>
                </a:cubicBezTo>
                <a:cubicBezTo>
                  <a:pt x="293" y="9"/>
                  <a:pt x="293" y="9"/>
                  <a:pt x="293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92" y="9"/>
                  <a:pt x="292" y="9"/>
                  <a:pt x="292" y="9"/>
                </a:cubicBezTo>
                <a:cubicBezTo>
                  <a:pt x="289" y="10"/>
                  <a:pt x="287" y="11"/>
                  <a:pt x="284" y="11"/>
                </a:cubicBezTo>
                <a:cubicBezTo>
                  <a:pt x="284" y="11"/>
                  <a:pt x="284" y="11"/>
                  <a:pt x="284" y="11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2" y="12"/>
                  <a:pt x="282" y="12"/>
                  <a:pt x="282" y="12"/>
                </a:cubicBezTo>
                <a:cubicBezTo>
                  <a:pt x="283" y="12"/>
                  <a:pt x="283" y="12"/>
                  <a:pt x="283" y="12"/>
                </a:cubicBezTo>
                <a:cubicBezTo>
                  <a:pt x="284" y="12"/>
                  <a:pt x="284" y="12"/>
                  <a:pt x="284" y="12"/>
                </a:cubicBezTo>
                <a:cubicBezTo>
                  <a:pt x="284" y="12"/>
                  <a:pt x="284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5" y="12"/>
                  <a:pt x="285" y="12"/>
                  <a:pt x="285" y="12"/>
                </a:cubicBezTo>
                <a:cubicBezTo>
                  <a:pt x="284" y="12"/>
                  <a:pt x="283" y="12"/>
                  <a:pt x="282" y="13"/>
                </a:cubicBezTo>
                <a:cubicBezTo>
                  <a:pt x="282" y="13"/>
                  <a:pt x="282" y="13"/>
                  <a:pt x="281" y="13"/>
                </a:cubicBezTo>
                <a:cubicBezTo>
                  <a:pt x="281" y="13"/>
                  <a:pt x="281" y="13"/>
                  <a:pt x="281" y="13"/>
                </a:cubicBezTo>
                <a:cubicBezTo>
                  <a:pt x="280" y="13"/>
                  <a:pt x="280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80" y="13"/>
                  <a:pt x="280" y="13"/>
                  <a:pt x="280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8" y="13"/>
                  <a:pt x="278" y="13"/>
                  <a:pt x="278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9" y="13"/>
                  <a:pt x="279" y="13"/>
                  <a:pt x="279" y="13"/>
                </a:cubicBezTo>
                <a:cubicBezTo>
                  <a:pt x="278" y="13"/>
                  <a:pt x="278" y="13"/>
                  <a:pt x="277" y="13"/>
                </a:cubicBezTo>
                <a:cubicBezTo>
                  <a:pt x="277" y="13"/>
                  <a:pt x="277" y="13"/>
                  <a:pt x="277" y="13"/>
                </a:cubicBezTo>
                <a:cubicBezTo>
                  <a:pt x="276" y="14"/>
                  <a:pt x="275" y="14"/>
                  <a:pt x="274" y="14"/>
                </a:cubicBezTo>
                <a:cubicBezTo>
                  <a:pt x="274" y="14"/>
                  <a:pt x="274" y="14"/>
                  <a:pt x="274" y="14"/>
                </a:cubicBezTo>
                <a:cubicBezTo>
                  <a:pt x="273" y="15"/>
                  <a:pt x="273" y="15"/>
                  <a:pt x="271" y="15"/>
                </a:cubicBezTo>
                <a:cubicBezTo>
                  <a:pt x="271" y="16"/>
                  <a:pt x="271" y="16"/>
                  <a:pt x="271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70" y="16"/>
                  <a:pt x="270" y="16"/>
                  <a:pt x="270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9" y="16"/>
                  <a:pt x="269" y="16"/>
                  <a:pt x="269" y="16"/>
                </a:cubicBezTo>
                <a:cubicBezTo>
                  <a:pt x="268" y="16"/>
                  <a:pt x="268" y="16"/>
                  <a:pt x="268" y="16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7" y="17"/>
                  <a:pt x="267" y="17"/>
                  <a:pt x="267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6" y="17"/>
                  <a:pt x="266" y="17"/>
                  <a:pt x="266" y="17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5" y="18"/>
                  <a:pt x="265" y="18"/>
                  <a:pt x="265" y="18"/>
                </a:cubicBezTo>
                <a:cubicBezTo>
                  <a:pt x="266" y="18"/>
                  <a:pt x="266" y="18"/>
                  <a:pt x="266" y="18"/>
                </a:cubicBezTo>
                <a:cubicBezTo>
                  <a:pt x="266" y="17"/>
                  <a:pt x="267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8" y="17"/>
                </a:cubicBezTo>
                <a:cubicBezTo>
                  <a:pt x="268" y="17"/>
                  <a:pt x="268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69" y="17"/>
                  <a:pt x="269" y="17"/>
                  <a:pt x="269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0" y="17"/>
                  <a:pt x="270" y="17"/>
                  <a:pt x="270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2" y="16"/>
                  <a:pt x="272" y="16"/>
                  <a:pt x="272" y="16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7"/>
                  <a:pt x="271" y="17"/>
                  <a:pt x="271" y="17"/>
                </a:cubicBezTo>
                <a:cubicBezTo>
                  <a:pt x="271" y="18"/>
                  <a:pt x="271" y="18"/>
                  <a:pt x="271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70" y="18"/>
                  <a:pt x="270" y="18"/>
                  <a:pt x="270" y="18"/>
                </a:cubicBezTo>
                <a:cubicBezTo>
                  <a:pt x="269" y="19"/>
                  <a:pt x="269" y="19"/>
                  <a:pt x="269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70" y="19"/>
                  <a:pt x="270" y="19"/>
                  <a:pt x="270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19"/>
                  <a:pt x="268" y="19"/>
                  <a:pt x="268" y="19"/>
                </a:cubicBezTo>
                <a:cubicBezTo>
                  <a:pt x="268" y="20"/>
                  <a:pt x="268" y="20"/>
                  <a:pt x="268" y="20"/>
                </a:cubicBezTo>
                <a:cubicBezTo>
                  <a:pt x="267" y="20"/>
                  <a:pt x="267" y="20"/>
                  <a:pt x="267" y="20"/>
                </a:cubicBezTo>
                <a:cubicBezTo>
                  <a:pt x="266" y="21"/>
                  <a:pt x="264" y="21"/>
                  <a:pt x="263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2" y="22"/>
                  <a:pt x="262" y="22"/>
                  <a:pt x="262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2"/>
                  <a:pt x="261" y="22"/>
                  <a:pt x="261" y="22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1" y="23"/>
                  <a:pt x="261" y="23"/>
                  <a:pt x="261" y="23"/>
                </a:cubicBezTo>
                <a:cubicBezTo>
                  <a:pt x="260" y="23"/>
                  <a:pt x="260" y="23"/>
                  <a:pt x="259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59" y="24"/>
                  <a:pt x="258" y="24"/>
                  <a:pt x="258" y="24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7" y="25"/>
                  <a:pt x="257" y="25"/>
                  <a:pt x="257" y="25"/>
                </a:cubicBezTo>
                <a:cubicBezTo>
                  <a:pt x="256" y="25"/>
                  <a:pt x="256" y="25"/>
                  <a:pt x="256" y="25"/>
                </a:cubicBezTo>
                <a:cubicBezTo>
                  <a:pt x="256" y="26"/>
                  <a:pt x="255" y="26"/>
                  <a:pt x="254" y="26"/>
                </a:cubicBezTo>
                <a:cubicBezTo>
                  <a:pt x="254" y="27"/>
                  <a:pt x="253" y="27"/>
                  <a:pt x="252" y="27"/>
                </a:cubicBezTo>
                <a:cubicBezTo>
                  <a:pt x="252" y="28"/>
                  <a:pt x="252" y="28"/>
                  <a:pt x="252" y="28"/>
                </a:cubicBezTo>
                <a:cubicBezTo>
                  <a:pt x="251" y="28"/>
                  <a:pt x="251" y="28"/>
                  <a:pt x="251" y="28"/>
                </a:cubicBezTo>
                <a:cubicBezTo>
                  <a:pt x="251" y="28"/>
                  <a:pt x="251" y="28"/>
                  <a:pt x="250" y="29"/>
                </a:cubicBezTo>
                <a:cubicBezTo>
                  <a:pt x="249" y="29"/>
                  <a:pt x="249" y="29"/>
                  <a:pt x="247" y="30"/>
                </a:cubicBezTo>
                <a:cubicBezTo>
                  <a:pt x="246" y="31"/>
                  <a:pt x="245" y="31"/>
                  <a:pt x="244" y="32"/>
                </a:cubicBezTo>
                <a:cubicBezTo>
                  <a:pt x="243" y="32"/>
                  <a:pt x="242" y="32"/>
                  <a:pt x="242" y="33"/>
                </a:cubicBezTo>
                <a:cubicBezTo>
                  <a:pt x="242" y="33"/>
                  <a:pt x="242" y="33"/>
                  <a:pt x="242" y="33"/>
                </a:cubicBezTo>
                <a:cubicBezTo>
                  <a:pt x="242" y="33"/>
                  <a:pt x="241" y="33"/>
                  <a:pt x="240" y="34"/>
                </a:cubicBezTo>
                <a:cubicBezTo>
                  <a:pt x="239" y="34"/>
                  <a:pt x="239" y="34"/>
                  <a:pt x="239" y="34"/>
                </a:cubicBezTo>
                <a:cubicBezTo>
                  <a:pt x="238" y="35"/>
                  <a:pt x="237" y="35"/>
                  <a:pt x="235" y="36"/>
                </a:cubicBezTo>
                <a:cubicBezTo>
                  <a:pt x="235" y="36"/>
                  <a:pt x="235" y="36"/>
                  <a:pt x="235" y="36"/>
                </a:cubicBezTo>
                <a:cubicBezTo>
                  <a:pt x="234" y="36"/>
                  <a:pt x="233" y="37"/>
                  <a:pt x="233" y="37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2" y="38"/>
                  <a:pt x="232" y="38"/>
                  <a:pt x="232" y="38"/>
                </a:cubicBezTo>
                <a:cubicBezTo>
                  <a:pt x="233" y="38"/>
                  <a:pt x="233" y="38"/>
                  <a:pt x="234" y="38"/>
                </a:cubicBezTo>
                <a:cubicBezTo>
                  <a:pt x="235" y="37"/>
                  <a:pt x="235" y="37"/>
                  <a:pt x="237" y="38"/>
                </a:cubicBezTo>
                <a:cubicBezTo>
                  <a:pt x="234" y="39"/>
                  <a:pt x="234" y="39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3" y="40"/>
                  <a:pt x="233" y="40"/>
                  <a:pt x="233" y="40"/>
                </a:cubicBezTo>
                <a:cubicBezTo>
                  <a:pt x="232" y="42"/>
                  <a:pt x="232" y="42"/>
                  <a:pt x="231" y="43"/>
                </a:cubicBezTo>
                <a:cubicBezTo>
                  <a:pt x="230" y="43"/>
                  <a:pt x="230" y="43"/>
                  <a:pt x="230" y="43"/>
                </a:cubicBezTo>
                <a:cubicBezTo>
                  <a:pt x="230" y="43"/>
                  <a:pt x="230" y="43"/>
                  <a:pt x="229" y="43"/>
                </a:cubicBezTo>
                <a:cubicBezTo>
                  <a:pt x="229" y="43"/>
                  <a:pt x="229" y="43"/>
                  <a:pt x="229" y="43"/>
                </a:cubicBezTo>
                <a:cubicBezTo>
                  <a:pt x="229" y="43"/>
                  <a:pt x="229" y="43"/>
                  <a:pt x="228" y="42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19" y="46"/>
                  <a:pt x="219" y="46"/>
                  <a:pt x="219" y="46"/>
                </a:cubicBezTo>
                <a:cubicBezTo>
                  <a:pt x="219" y="47"/>
                  <a:pt x="219" y="47"/>
                  <a:pt x="217" y="49"/>
                </a:cubicBezTo>
                <a:cubicBezTo>
                  <a:pt x="220" y="48"/>
                  <a:pt x="220" y="48"/>
                  <a:pt x="221" y="48"/>
                </a:cubicBezTo>
                <a:cubicBezTo>
                  <a:pt x="222" y="47"/>
                  <a:pt x="223" y="46"/>
                  <a:pt x="224" y="46"/>
                </a:cubicBezTo>
                <a:cubicBezTo>
                  <a:pt x="224" y="45"/>
                  <a:pt x="224" y="45"/>
                  <a:pt x="224" y="45"/>
                </a:cubicBezTo>
                <a:cubicBezTo>
                  <a:pt x="225" y="44"/>
                  <a:pt x="225" y="44"/>
                  <a:pt x="225" y="44"/>
                </a:cubicBezTo>
                <a:cubicBezTo>
                  <a:pt x="225" y="44"/>
                  <a:pt x="225" y="44"/>
                  <a:pt x="226" y="44"/>
                </a:cubicBezTo>
                <a:cubicBezTo>
                  <a:pt x="226" y="45"/>
                  <a:pt x="226" y="45"/>
                  <a:pt x="226" y="45"/>
                </a:cubicBezTo>
                <a:cubicBezTo>
                  <a:pt x="226" y="45"/>
                  <a:pt x="226" y="45"/>
                  <a:pt x="227" y="46"/>
                </a:cubicBezTo>
                <a:cubicBezTo>
                  <a:pt x="226" y="46"/>
                  <a:pt x="226" y="46"/>
                  <a:pt x="226" y="46"/>
                </a:cubicBezTo>
                <a:cubicBezTo>
                  <a:pt x="226" y="46"/>
                  <a:pt x="225" y="47"/>
                  <a:pt x="225" y="47"/>
                </a:cubicBezTo>
                <a:cubicBezTo>
                  <a:pt x="224" y="47"/>
                  <a:pt x="223" y="48"/>
                  <a:pt x="222" y="48"/>
                </a:cubicBezTo>
                <a:cubicBezTo>
                  <a:pt x="222" y="48"/>
                  <a:pt x="222" y="48"/>
                  <a:pt x="221" y="49"/>
                </a:cubicBezTo>
                <a:cubicBezTo>
                  <a:pt x="221" y="49"/>
                  <a:pt x="220" y="50"/>
                  <a:pt x="220" y="50"/>
                </a:cubicBezTo>
                <a:cubicBezTo>
                  <a:pt x="219" y="51"/>
                  <a:pt x="218" y="52"/>
                  <a:pt x="217" y="52"/>
                </a:cubicBezTo>
                <a:cubicBezTo>
                  <a:pt x="217" y="52"/>
                  <a:pt x="216" y="52"/>
                  <a:pt x="215" y="52"/>
                </a:cubicBezTo>
                <a:cubicBezTo>
                  <a:pt x="215" y="52"/>
                  <a:pt x="214" y="53"/>
                  <a:pt x="213" y="53"/>
                </a:cubicBezTo>
                <a:cubicBezTo>
                  <a:pt x="213" y="53"/>
                  <a:pt x="213" y="53"/>
                  <a:pt x="213" y="53"/>
                </a:cubicBezTo>
                <a:cubicBezTo>
                  <a:pt x="213" y="53"/>
                  <a:pt x="213" y="53"/>
                  <a:pt x="212" y="53"/>
                </a:cubicBezTo>
                <a:cubicBezTo>
                  <a:pt x="211" y="54"/>
                  <a:pt x="209" y="55"/>
                  <a:pt x="208" y="55"/>
                </a:cubicBezTo>
                <a:cubicBezTo>
                  <a:pt x="206" y="56"/>
                  <a:pt x="204" y="56"/>
                  <a:pt x="203" y="58"/>
                </a:cubicBezTo>
                <a:cubicBezTo>
                  <a:pt x="203" y="58"/>
                  <a:pt x="203" y="58"/>
                  <a:pt x="202" y="59"/>
                </a:cubicBezTo>
                <a:cubicBezTo>
                  <a:pt x="193" y="66"/>
                  <a:pt x="193" y="66"/>
                  <a:pt x="193" y="67"/>
                </a:cubicBezTo>
                <a:cubicBezTo>
                  <a:pt x="194" y="67"/>
                  <a:pt x="194" y="67"/>
                  <a:pt x="195" y="67"/>
                </a:cubicBezTo>
                <a:cubicBezTo>
                  <a:pt x="195" y="67"/>
                  <a:pt x="195" y="67"/>
                  <a:pt x="195" y="67"/>
                </a:cubicBezTo>
                <a:cubicBezTo>
                  <a:pt x="195" y="68"/>
                  <a:pt x="194" y="68"/>
                  <a:pt x="194" y="69"/>
                </a:cubicBezTo>
                <a:cubicBezTo>
                  <a:pt x="193" y="69"/>
                  <a:pt x="193" y="68"/>
                  <a:pt x="193" y="69"/>
                </a:cubicBezTo>
                <a:cubicBezTo>
                  <a:pt x="187" y="73"/>
                  <a:pt x="187" y="73"/>
                  <a:pt x="186" y="74"/>
                </a:cubicBezTo>
                <a:cubicBezTo>
                  <a:pt x="188" y="74"/>
                  <a:pt x="189" y="72"/>
                  <a:pt x="191" y="73"/>
                </a:cubicBezTo>
                <a:cubicBezTo>
                  <a:pt x="190" y="73"/>
                  <a:pt x="189" y="74"/>
                  <a:pt x="187" y="76"/>
                </a:cubicBezTo>
                <a:cubicBezTo>
                  <a:pt x="182" y="79"/>
                  <a:pt x="178" y="81"/>
                  <a:pt x="173" y="94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3" y="95"/>
                  <a:pt x="173" y="96"/>
                  <a:pt x="173" y="97"/>
                </a:cubicBezTo>
                <a:cubicBezTo>
                  <a:pt x="174" y="97"/>
                  <a:pt x="174" y="97"/>
                  <a:pt x="175" y="96"/>
                </a:cubicBezTo>
                <a:cubicBezTo>
                  <a:pt x="175" y="96"/>
                  <a:pt x="175" y="96"/>
                  <a:pt x="176" y="96"/>
                </a:cubicBezTo>
                <a:cubicBezTo>
                  <a:pt x="176" y="96"/>
                  <a:pt x="176" y="96"/>
                  <a:pt x="177" y="97"/>
                </a:cubicBezTo>
                <a:cubicBezTo>
                  <a:pt x="176" y="97"/>
                  <a:pt x="176" y="98"/>
                  <a:pt x="175" y="99"/>
                </a:cubicBezTo>
                <a:cubicBezTo>
                  <a:pt x="176" y="99"/>
                  <a:pt x="176" y="100"/>
                  <a:pt x="177" y="100"/>
                </a:cubicBezTo>
                <a:cubicBezTo>
                  <a:pt x="176" y="101"/>
                  <a:pt x="176" y="102"/>
                  <a:pt x="176" y="102"/>
                </a:cubicBezTo>
                <a:cubicBezTo>
                  <a:pt x="177" y="102"/>
                  <a:pt x="180" y="102"/>
                  <a:pt x="182" y="100"/>
                </a:cubicBezTo>
                <a:cubicBezTo>
                  <a:pt x="182" y="100"/>
                  <a:pt x="182" y="99"/>
                  <a:pt x="183" y="99"/>
                </a:cubicBezTo>
                <a:cubicBezTo>
                  <a:pt x="194" y="85"/>
                  <a:pt x="196" y="85"/>
                  <a:pt x="197" y="85"/>
                </a:cubicBezTo>
                <a:cubicBezTo>
                  <a:pt x="197" y="85"/>
                  <a:pt x="198" y="85"/>
                  <a:pt x="198" y="85"/>
                </a:cubicBezTo>
                <a:cubicBezTo>
                  <a:pt x="201" y="85"/>
                  <a:pt x="203" y="82"/>
                  <a:pt x="205" y="81"/>
                </a:cubicBezTo>
                <a:cubicBezTo>
                  <a:pt x="206" y="80"/>
                  <a:pt x="208" y="79"/>
                  <a:pt x="209" y="77"/>
                </a:cubicBezTo>
                <a:cubicBezTo>
                  <a:pt x="211" y="76"/>
                  <a:pt x="211" y="76"/>
                  <a:pt x="220" y="70"/>
                </a:cubicBezTo>
                <a:cubicBezTo>
                  <a:pt x="221" y="70"/>
                  <a:pt x="222" y="70"/>
                  <a:pt x="223" y="70"/>
                </a:cubicBezTo>
                <a:cubicBezTo>
                  <a:pt x="224" y="68"/>
                  <a:pt x="224" y="68"/>
                  <a:pt x="225" y="67"/>
                </a:cubicBezTo>
                <a:cubicBezTo>
                  <a:pt x="226" y="67"/>
                  <a:pt x="226" y="67"/>
                  <a:pt x="227" y="68"/>
                </a:cubicBezTo>
                <a:cubicBezTo>
                  <a:pt x="225" y="69"/>
                  <a:pt x="225" y="69"/>
                  <a:pt x="225" y="70"/>
                </a:cubicBezTo>
                <a:cubicBezTo>
                  <a:pt x="228" y="71"/>
                  <a:pt x="229" y="68"/>
                  <a:pt x="232" y="67"/>
                </a:cubicBezTo>
                <a:cubicBezTo>
                  <a:pt x="232" y="67"/>
                  <a:pt x="232" y="67"/>
                  <a:pt x="233" y="67"/>
                </a:cubicBezTo>
                <a:cubicBezTo>
                  <a:pt x="234" y="67"/>
                  <a:pt x="234" y="67"/>
                  <a:pt x="235" y="66"/>
                </a:cubicBezTo>
                <a:cubicBezTo>
                  <a:pt x="237" y="65"/>
                  <a:pt x="239" y="64"/>
                  <a:pt x="241" y="63"/>
                </a:cubicBezTo>
                <a:cubicBezTo>
                  <a:pt x="242" y="63"/>
                  <a:pt x="242" y="63"/>
                  <a:pt x="245" y="61"/>
                </a:cubicBezTo>
                <a:cubicBezTo>
                  <a:pt x="247" y="61"/>
                  <a:pt x="247" y="61"/>
                  <a:pt x="247" y="61"/>
                </a:cubicBezTo>
                <a:cubicBezTo>
                  <a:pt x="247" y="60"/>
                  <a:pt x="247" y="60"/>
                  <a:pt x="248" y="60"/>
                </a:cubicBezTo>
                <a:cubicBezTo>
                  <a:pt x="251" y="58"/>
                  <a:pt x="251" y="58"/>
                  <a:pt x="252" y="57"/>
                </a:cubicBezTo>
                <a:cubicBezTo>
                  <a:pt x="252" y="56"/>
                  <a:pt x="252" y="56"/>
                  <a:pt x="252" y="56"/>
                </a:cubicBezTo>
                <a:cubicBezTo>
                  <a:pt x="252" y="56"/>
                  <a:pt x="252" y="56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7"/>
                  <a:pt x="253" y="57"/>
                  <a:pt x="253" y="57"/>
                </a:cubicBezTo>
                <a:cubicBezTo>
                  <a:pt x="253" y="58"/>
                  <a:pt x="254" y="58"/>
                  <a:pt x="255" y="58"/>
                </a:cubicBezTo>
                <a:cubicBezTo>
                  <a:pt x="255" y="59"/>
                  <a:pt x="255" y="59"/>
                  <a:pt x="255" y="59"/>
                </a:cubicBezTo>
                <a:cubicBezTo>
                  <a:pt x="263" y="59"/>
                  <a:pt x="269" y="53"/>
                  <a:pt x="276" y="51"/>
                </a:cubicBezTo>
                <a:cubicBezTo>
                  <a:pt x="277" y="51"/>
                  <a:pt x="278" y="51"/>
                  <a:pt x="280" y="51"/>
                </a:cubicBezTo>
                <a:cubicBezTo>
                  <a:pt x="283" y="50"/>
                  <a:pt x="283" y="50"/>
                  <a:pt x="284" y="49"/>
                </a:cubicBezTo>
                <a:cubicBezTo>
                  <a:pt x="283" y="49"/>
                  <a:pt x="283" y="49"/>
                  <a:pt x="283" y="49"/>
                </a:cubicBezTo>
                <a:cubicBezTo>
                  <a:pt x="283" y="49"/>
                  <a:pt x="282" y="49"/>
                  <a:pt x="281" y="50"/>
                </a:cubicBezTo>
                <a:cubicBezTo>
                  <a:pt x="280" y="50"/>
                  <a:pt x="280" y="50"/>
                  <a:pt x="280" y="50"/>
                </a:cubicBezTo>
                <a:cubicBezTo>
                  <a:pt x="280" y="50"/>
                  <a:pt x="280" y="50"/>
                  <a:pt x="279" y="50"/>
                </a:cubicBezTo>
                <a:cubicBezTo>
                  <a:pt x="279" y="49"/>
                  <a:pt x="279" y="49"/>
                  <a:pt x="279" y="49"/>
                </a:cubicBezTo>
                <a:cubicBezTo>
                  <a:pt x="279" y="49"/>
                  <a:pt x="278" y="49"/>
                  <a:pt x="278" y="49"/>
                </a:cubicBezTo>
                <a:cubicBezTo>
                  <a:pt x="277" y="48"/>
                  <a:pt x="277" y="48"/>
                  <a:pt x="276" y="48"/>
                </a:cubicBezTo>
                <a:cubicBezTo>
                  <a:pt x="276" y="47"/>
                  <a:pt x="276" y="47"/>
                  <a:pt x="276" y="47"/>
                </a:cubicBezTo>
                <a:cubicBezTo>
                  <a:pt x="277" y="46"/>
                  <a:pt x="277" y="46"/>
                  <a:pt x="277" y="46"/>
                </a:cubicBezTo>
                <a:cubicBezTo>
                  <a:pt x="277" y="46"/>
                  <a:pt x="278" y="46"/>
                  <a:pt x="279" y="45"/>
                </a:cubicBezTo>
                <a:cubicBezTo>
                  <a:pt x="280" y="45"/>
                  <a:pt x="280" y="45"/>
                  <a:pt x="280" y="45"/>
                </a:cubicBezTo>
                <a:cubicBezTo>
                  <a:pt x="281" y="45"/>
                  <a:pt x="283" y="44"/>
                  <a:pt x="285" y="44"/>
                </a:cubicBezTo>
                <a:cubicBezTo>
                  <a:pt x="283" y="46"/>
                  <a:pt x="283" y="46"/>
                  <a:pt x="283" y="47"/>
                </a:cubicBezTo>
                <a:cubicBezTo>
                  <a:pt x="283" y="48"/>
                  <a:pt x="283" y="48"/>
                  <a:pt x="283" y="48"/>
                </a:cubicBezTo>
                <a:cubicBezTo>
                  <a:pt x="284" y="47"/>
                  <a:pt x="284" y="47"/>
                  <a:pt x="284" y="47"/>
                </a:cubicBezTo>
                <a:cubicBezTo>
                  <a:pt x="286" y="45"/>
                  <a:pt x="293" y="46"/>
                  <a:pt x="291" y="42"/>
                </a:cubicBezTo>
                <a:cubicBezTo>
                  <a:pt x="293" y="38"/>
                  <a:pt x="293" y="38"/>
                  <a:pt x="293" y="37"/>
                </a:cubicBezTo>
                <a:cubicBezTo>
                  <a:pt x="294" y="37"/>
                  <a:pt x="294" y="37"/>
                  <a:pt x="294" y="37"/>
                </a:cubicBezTo>
                <a:cubicBezTo>
                  <a:pt x="294" y="38"/>
                  <a:pt x="294" y="38"/>
                  <a:pt x="294" y="38"/>
                </a:cubicBezTo>
                <a:cubicBezTo>
                  <a:pt x="295" y="38"/>
                  <a:pt x="295" y="38"/>
                  <a:pt x="296" y="38"/>
                </a:cubicBezTo>
                <a:cubicBezTo>
                  <a:pt x="297" y="38"/>
                  <a:pt x="297" y="38"/>
                  <a:pt x="298" y="36"/>
                </a:cubicBezTo>
                <a:cubicBezTo>
                  <a:pt x="299" y="36"/>
                  <a:pt x="299" y="36"/>
                  <a:pt x="299" y="35"/>
                </a:cubicBezTo>
                <a:cubicBezTo>
                  <a:pt x="300" y="35"/>
                  <a:pt x="301" y="34"/>
                  <a:pt x="301" y="34"/>
                </a:cubicBezTo>
                <a:cubicBezTo>
                  <a:pt x="300" y="34"/>
                  <a:pt x="300" y="34"/>
                  <a:pt x="298" y="34"/>
                </a:cubicBezTo>
                <a:cubicBezTo>
                  <a:pt x="297" y="34"/>
                  <a:pt x="297" y="34"/>
                  <a:pt x="296" y="34"/>
                </a:cubicBezTo>
                <a:cubicBezTo>
                  <a:pt x="297" y="34"/>
                  <a:pt x="297" y="34"/>
                  <a:pt x="299" y="33"/>
                </a:cubicBezTo>
                <a:cubicBezTo>
                  <a:pt x="299" y="33"/>
                  <a:pt x="299" y="32"/>
                  <a:pt x="299" y="32"/>
                </a:cubicBezTo>
                <a:cubicBezTo>
                  <a:pt x="300" y="32"/>
                  <a:pt x="300" y="32"/>
                  <a:pt x="300" y="32"/>
                </a:cubicBezTo>
                <a:cubicBezTo>
                  <a:pt x="301" y="32"/>
                  <a:pt x="301" y="32"/>
                  <a:pt x="302" y="32"/>
                </a:cubicBezTo>
                <a:cubicBezTo>
                  <a:pt x="301" y="32"/>
                  <a:pt x="301" y="33"/>
                  <a:pt x="300" y="33"/>
                </a:cubicBezTo>
                <a:cubicBezTo>
                  <a:pt x="300" y="33"/>
                  <a:pt x="301" y="33"/>
                  <a:pt x="302" y="33"/>
                </a:cubicBezTo>
                <a:cubicBezTo>
                  <a:pt x="303" y="33"/>
                  <a:pt x="303" y="32"/>
                  <a:pt x="304" y="32"/>
                </a:cubicBezTo>
                <a:cubicBezTo>
                  <a:pt x="304" y="32"/>
                  <a:pt x="304" y="32"/>
                  <a:pt x="305" y="33"/>
                </a:cubicBezTo>
                <a:cubicBezTo>
                  <a:pt x="308" y="32"/>
                  <a:pt x="309" y="31"/>
                  <a:pt x="309" y="30"/>
                </a:cubicBezTo>
                <a:cubicBezTo>
                  <a:pt x="308" y="30"/>
                  <a:pt x="307" y="30"/>
                  <a:pt x="307" y="30"/>
                </a:cubicBezTo>
                <a:cubicBezTo>
                  <a:pt x="307" y="30"/>
                  <a:pt x="307" y="30"/>
                  <a:pt x="311" y="29"/>
                </a:cubicBezTo>
                <a:cubicBezTo>
                  <a:pt x="311" y="29"/>
                  <a:pt x="312" y="29"/>
                  <a:pt x="313" y="29"/>
                </a:cubicBezTo>
                <a:cubicBezTo>
                  <a:pt x="313" y="29"/>
                  <a:pt x="313" y="29"/>
                  <a:pt x="313" y="29"/>
                </a:cubicBezTo>
                <a:cubicBezTo>
                  <a:pt x="314" y="29"/>
                  <a:pt x="315" y="28"/>
                  <a:pt x="315" y="28"/>
                </a:cubicBezTo>
                <a:cubicBezTo>
                  <a:pt x="315" y="27"/>
                  <a:pt x="315" y="27"/>
                  <a:pt x="315" y="27"/>
                </a:cubicBezTo>
                <a:cubicBezTo>
                  <a:pt x="316" y="26"/>
                  <a:pt x="316" y="26"/>
                  <a:pt x="318" y="24"/>
                </a:cubicBezTo>
                <a:cubicBezTo>
                  <a:pt x="318" y="24"/>
                  <a:pt x="319" y="24"/>
                  <a:pt x="320" y="24"/>
                </a:cubicBezTo>
                <a:cubicBezTo>
                  <a:pt x="320" y="24"/>
                  <a:pt x="321" y="23"/>
                  <a:pt x="322" y="22"/>
                </a:cubicBezTo>
                <a:cubicBezTo>
                  <a:pt x="322" y="22"/>
                  <a:pt x="323" y="21"/>
                  <a:pt x="324" y="20"/>
                </a:cubicBezTo>
                <a:cubicBezTo>
                  <a:pt x="323" y="20"/>
                  <a:pt x="323" y="20"/>
                  <a:pt x="322" y="20"/>
                </a:cubicBezTo>
                <a:cubicBezTo>
                  <a:pt x="323" y="20"/>
                  <a:pt x="323" y="20"/>
                  <a:pt x="323" y="19"/>
                </a:cubicBezTo>
                <a:cubicBezTo>
                  <a:pt x="323" y="19"/>
                  <a:pt x="323" y="19"/>
                  <a:pt x="323" y="19"/>
                </a:cubicBezTo>
                <a:cubicBezTo>
                  <a:pt x="324" y="19"/>
                  <a:pt x="324" y="19"/>
                  <a:pt x="324" y="19"/>
                </a:cubicBezTo>
                <a:cubicBezTo>
                  <a:pt x="325" y="18"/>
                  <a:pt x="325" y="18"/>
                  <a:pt x="327" y="18"/>
                </a:cubicBezTo>
                <a:cubicBezTo>
                  <a:pt x="327" y="18"/>
                  <a:pt x="327" y="18"/>
                  <a:pt x="328" y="19"/>
                </a:cubicBezTo>
                <a:cubicBezTo>
                  <a:pt x="327" y="19"/>
                  <a:pt x="327" y="19"/>
                  <a:pt x="327" y="19"/>
                </a:cubicBezTo>
                <a:cubicBezTo>
                  <a:pt x="325" y="20"/>
                  <a:pt x="325" y="20"/>
                  <a:pt x="324" y="21"/>
                </a:cubicBezTo>
                <a:cubicBezTo>
                  <a:pt x="324" y="21"/>
                  <a:pt x="324" y="21"/>
                  <a:pt x="324" y="21"/>
                </a:cubicBezTo>
                <a:cubicBezTo>
                  <a:pt x="326" y="20"/>
                  <a:pt x="327" y="19"/>
                  <a:pt x="330" y="18"/>
                </a:cubicBezTo>
                <a:cubicBezTo>
                  <a:pt x="330" y="18"/>
                  <a:pt x="330" y="17"/>
                  <a:pt x="331" y="17"/>
                </a:cubicBezTo>
                <a:cubicBezTo>
                  <a:pt x="331" y="17"/>
                  <a:pt x="331" y="17"/>
                  <a:pt x="331" y="16"/>
                </a:cubicBezTo>
                <a:cubicBezTo>
                  <a:pt x="331" y="16"/>
                  <a:pt x="330" y="16"/>
                  <a:pt x="330" y="16"/>
                </a:cubicBezTo>
                <a:cubicBezTo>
                  <a:pt x="330" y="16"/>
                  <a:pt x="330" y="16"/>
                  <a:pt x="329" y="16"/>
                </a:cubicBezTo>
                <a:cubicBezTo>
                  <a:pt x="330" y="16"/>
                  <a:pt x="330" y="16"/>
                  <a:pt x="331" y="15"/>
                </a:cubicBezTo>
                <a:cubicBezTo>
                  <a:pt x="332" y="15"/>
                  <a:pt x="332" y="15"/>
                  <a:pt x="332" y="15"/>
                </a:cubicBezTo>
                <a:cubicBezTo>
                  <a:pt x="333" y="15"/>
                  <a:pt x="333" y="15"/>
                  <a:pt x="334" y="14"/>
                </a:cubicBezTo>
                <a:cubicBezTo>
                  <a:pt x="333" y="14"/>
                  <a:pt x="333" y="14"/>
                  <a:pt x="330" y="15"/>
                </a:cubicBezTo>
                <a:cubicBezTo>
                  <a:pt x="331" y="14"/>
                  <a:pt x="332" y="14"/>
                  <a:pt x="333" y="13"/>
                </a:cubicBezTo>
                <a:cubicBezTo>
                  <a:pt x="333" y="13"/>
                  <a:pt x="333" y="13"/>
                  <a:pt x="338" y="11"/>
                </a:cubicBezTo>
                <a:cubicBezTo>
                  <a:pt x="339" y="11"/>
                  <a:pt x="339" y="11"/>
                  <a:pt x="339" y="11"/>
                </a:cubicBezTo>
                <a:cubicBezTo>
                  <a:pt x="340" y="10"/>
                  <a:pt x="340" y="10"/>
                  <a:pt x="342" y="10"/>
                </a:cubicBezTo>
                <a:cubicBezTo>
                  <a:pt x="342" y="10"/>
                  <a:pt x="342" y="10"/>
                  <a:pt x="343" y="10"/>
                </a:cubicBezTo>
                <a:cubicBezTo>
                  <a:pt x="343" y="10"/>
                  <a:pt x="346" y="8"/>
                  <a:pt x="353" y="6"/>
                </a:cubicBezTo>
                <a:cubicBezTo>
                  <a:pt x="354" y="6"/>
                  <a:pt x="354" y="6"/>
                  <a:pt x="354" y="6"/>
                </a:cubicBezTo>
                <a:cubicBezTo>
                  <a:pt x="354" y="6"/>
                  <a:pt x="353" y="6"/>
                  <a:pt x="352" y="6"/>
                </a:cubicBezTo>
                <a:cubicBezTo>
                  <a:pt x="352" y="6"/>
                  <a:pt x="352" y="6"/>
                  <a:pt x="352" y="6"/>
                </a:cubicBezTo>
                <a:cubicBezTo>
                  <a:pt x="353" y="6"/>
                  <a:pt x="354" y="6"/>
                  <a:pt x="354" y="6"/>
                </a:cubicBezTo>
                <a:cubicBezTo>
                  <a:pt x="355" y="6"/>
                  <a:pt x="355" y="6"/>
                  <a:pt x="355" y="6"/>
                </a:cubicBezTo>
                <a:cubicBezTo>
                  <a:pt x="356" y="5"/>
                  <a:pt x="358" y="5"/>
                  <a:pt x="359" y="5"/>
                </a:cubicBezTo>
                <a:cubicBezTo>
                  <a:pt x="359" y="5"/>
                  <a:pt x="359" y="5"/>
                  <a:pt x="360" y="5"/>
                </a:cubicBezTo>
                <a:cubicBezTo>
                  <a:pt x="361" y="5"/>
                  <a:pt x="361" y="5"/>
                  <a:pt x="363" y="4"/>
                </a:cubicBezTo>
                <a:moveTo>
                  <a:pt x="346" y="1"/>
                </a:moveTo>
                <a:cubicBezTo>
                  <a:pt x="347" y="1"/>
                  <a:pt x="348" y="1"/>
                  <a:pt x="349" y="1"/>
                </a:cubicBezTo>
                <a:cubicBezTo>
                  <a:pt x="347" y="1"/>
                  <a:pt x="347" y="1"/>
                  <a:pt x="347" y="1"/>
                </a:cubicBezTo>
                <a:cubicBezTo>
                  <a:pt x="348" y="1"/>
                  <a:pt x="348" y="1"/>
                  <a:pt x="348" y="1"/>
                </a:cubicBezTo>
                <a:cubicBezTo>
                  <a:pt x="351" y="0"/>
                  <a:pt x="351" y="0"/>
                  <a:pt x="351" y="0"/>
                </a:cubicBezTo>
                <a:cubicBezTo>
                  <a:pt x="354" y="0"/>
                  <a:pt x="354" y="0"/>
                  <a:pt x="354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353" y="0"/>
                  <a:pt x="354" y="0"/>
                  <a:pt x="355" y="0"/>
                </a:cubicBezTo>
                <a:cubicBezTo>
                  <a:pt x="355" y="0"/>
                  <a:pt x="356" y="0"/>
                  <a:pt x="356" y="0"/>
                </a:cubicBezTo>
                <a:cubicBezTo>
                  <a:pt x="355" y="0"/>
                  <a:pt x="353" y="0"/>
                  <a:pt x="352" y="0"/>
                </a:cubicBezTo>
                <a:cubicBezTo>
                  <a:pt x="353" y="0"/>
                  <a:pt x="353" y="0"/>
                  <a:pt x="354" y="0"/>
                </a:cubicBezTo>
                <a:cubicBezTo>
                  <a:pt x="353" y="0"/>
                  <a:pt x="352" y="0"/>
                  <a:pt x="351" y="0"/>
                </a:cubicBezTo>
                <a:cubicBezTo>
                  <a:pt x="352" y="0"/>
                  <a:pt x="353" y="0"/>
                  <a:pt x="355" y="0"/>
                </a:cubicBezTo>
                <a:cubicBezTo>
                  <a:pt x="355" y="0"/>
                  <a:pt x="355" y="0"/>
                  <a:pt x="355" y="0"/>
                </a:cubicBezTo>
                <a:cubicBezTo>
                  <a:pt x="354" y="0"/>
                  <a:pt x="352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1" y="0"/>
                  <a:pt x="352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49" y="0"/>
                  <a:pt x="349" y="0"/>
                  <a:pt x="349" y="0"/>
                </a:cubicBezTo>
                <a:cubicBezTo>
                  <a:pt x="350" y="0"/>
                  <a:pt x="350" y="0"/>
                  <a:pt x="350" y="0"/>
                </a:cubicBezTo>
                <a:cubicBezTo>
                  <a:pt x="349" y="0"/>
                  <a:pt x="348" y="0"/>
                  <a:pt x="347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1" y="1"/>
                  <a:pt x="339" y="1"/>
                  <a:pt x="336" y="1"/>
                </a:cubicBezTo>
                <a:cubicBezTo>
                  <a:pt x="337" y="1"/>
                  <a:pt x="339" y="1"/>
                  <a:pt x="340" y="1"/>
                </a:cubicBezTo>
                <a:cubicBezTo>
                  <a:pt x="340" y="1"/>
                  <a:pt x="340" y="1"/>
                  <a:pt x="340" y="1"/>
                </a:cubicBezTo>
                <a:cubicBezTo>
                  <a:pt x="341" y="1"/>
                  <a:pt x="343" y="1"/>
                  <a:pt x="345" y="0"/>
                </a:cubicBezTo>
                <a:cubicBezTo>
                  <a:pt x="344" y="0"/>
                  <a:pt x="344" y="0"/>
                  <a:pt x="344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6" y="0"/>
                  <a:pt x="346" y="0"/>
                  <a:pt x="346" y="0"/>
                </a:cubicBezTo>
                <a:cubicBezTo>
                  <a:pt x="343" y="0"/>
                  <a:pt x="341" y="1"/>
                  <a:pt x="339" y="1"/>
                </a:cubicBezTo>
                <a:cubicBezTo>
                  <a:pt x="339" y="1"/>
                  <a:pt x="339" y="1"/>
                  <a:pt x="339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41" y="1"/>
                </a:cubicBezTo>
                <a:cubicBezTo>
                  <a:pt x="341" y="1"/>
                  <a:pt x="341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7" y="1"/>
                  <a:pt x="337" y="1"/>
                  <a:pt x="337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5" y="1"/>
                  <a:pt x="335" y="1"/>
                  <a:pt x="335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2" y="1"/>
                  <a:pt x="332" y="1"/>
                  <a:pt x="332" y="1"/>
                </a:cubicBezTo>
                <a:cubicBezTo>
                  <a:pt x="331" y="2"/>
                  <a:pt x="331" y="2"/>
                  <a:pt x="331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1" y="3"/>
                  <a:pt x="321" y="3"/>
                  <a:pt x="320" y="3"/>
                </a:cubicBezTo>
                <a:cubicBezTo>
                  <a:pt x="324" y="2"/>
                  <a:pt x="324" y="2"/>
                  <a:pt x="324" y="2"/>
                </a:cubicBezTo>
                <a:cubicBezTo>
                  <a:pt x="326" y="2"/>
                  <a:pt x="326" y="2"/>
                  <a:pt x="326" y="2"/>
                </a:cubicBezTo>
                <a:cubicBezTo>
                  <a:pt x="327" y="2"/>
                  <a:pt x="327" y="2"/>
                  <a:pt x="327" y="2"/>
                </a:cubicBezTo>
                <a:cubicBezTo>
                  <a:pt x="324" y="2"/>
                  <a:pt x="324" y="2"/>
                  <a:pt x="324" y="2"/>
                </a:cubicBezTo>
                <a:cubicBezTo>
                  <a:pt x="320" y="3"/>
                  <a:pt x="320" y="3"/>
                  <a:pt x="320" y="3"/>
                </a:cubicBezTo>
                <a:cubicBezTo>
                  <a:pt x="316" y="4"/>
                  <a:pt x="316" y="4"/>
                  <a:pt x="316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8" y="3"/>
                  <a:pt x="319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6" y="2"/>
                  <a:pt x="326" y="2"/>
                  <a:pt x="326" y="2"/>
                </a:cubicBezTo>
                <a:cubicBezTo>
                  <a:pt x="328" y="2"/>
                  <a:pt x="329" y="2"/>
                  <a:pt x="331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30" y="2"/>
                  <a:pt x="330" y="2"/>
                  <a:pt x="330" y="2"/>
                </a:cubicBezTo>
                <a:cubicBezTo>
                  <a:pt x="328" y="2"/>
                  <a:pt x="326" y="3"/>
                  <a:pt x="324" y="3"/>
                </a:cubicBezTo>
                <a:cubicBezTo>
                  <a:pt x="324" y="3"/>
                  <a:pt x="324" y="3"/>
                  <a:pt x="324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3" y="3"/>
                  <a:pt x="323" y="3"/>
                  <a:pt x="323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1" y="3"/>
                  <a:pt x="321" y="3"/>
                  <a:pt x="321" y="3"/>
                </a:cubicBezTo>
                <a:cubicBezTo>
                  <a:pt x="320" y="3"/>
                  <a:pt x="320" y="3"/>
                  <a:pt x="320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8" y="3"/>
                  <a:pt x="317" y="4"/>
                  <a:pt x="317" y="4"/>
                </a:cubicBezTo>
                <a:cubicBezTo>
                  <a:pt x="317" y="4"/>
                  <a:pt x="317" y="4"/>
                  <a:pt x="317" y="4"/>
                </a:cubicBezTo>
                <a:cubicBezTo>
                  <a:pt x="316" y="4"/>
                  <a:pt x="316" y="4"/>
                  <a:pt x="316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10" y="5"/>
                  <a:pt x="310" y="5"/>
                  <a:pt x="310" y="5"/>
                </a:cubicBezTo>
                <a:cubicBezTo>
                  <a:pt x="307" y="5"/>
                  <a:pt x="307" y="5"/>
                  <a:pt x="307" y="5"/>
                </a:cubicBezTo>
                <a:cubicBezTo>
                  <a:pt x="306" y="5"/>
                  <a:pt x="306" y="5"/>
                  <a:pt x="306" y="5"/>
                </a:cubicBezTo>
                <a:cubicBezTo>
                  <a:pt x="306" y="6"/>
                  <a:pt x="306" y="6"/>
                  <a:pt x="306" y="6"/>
                </a:cubicBezTo>
                <a:cubicBezTo>
                  <a:pt x="308" y="4"/>
                  <a:pt x="311" y="5"/>
                  <a:pt x="314" y="4"/>
                </a:cubicBezTo>
                <a:cubicBezTo>
                  <a:pt x="315" y="4"/>
                  <a:pt x="315" y="4"/>
                  <a:pt x="315" y="4"/>
                </a:cubicBezTo>
                <a:cubicBezTo>
                  <a:pt x="312" y="4"/>
                  <a:pt x="312" y="4"/>
                  <a:pt x="312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5" y="5"/>
                  <a:pt x="305" y="5"/>
                  <a:pt x="305" y="5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7" y="7"/>
                  <a:pt x="296" y="7"/>
                  <a:pt x="294" y="8"/>
                </a:cubicBezTo>
                <a:cubicBezTo>
                  <a:pt x="293" y="8"/>
                  <a:pt x="292" y="8"/>
                  <a:pt x="291" y="9"/>
                </a:cubicBezTo>
                <a:cubicBezTo>
                  <a:pt x="296" y="7"/>
                  <a:pt x="296" y="7"/>
                  <a:pt x="296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6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3" y="8"/>
                  <a:pt x="293" y="8"/>
                  <a:pt x="293" y="8"/>
                </a:cubicBezTo>
                <a:cubicBezTo>
                  <a:pt x="292" y="8"/>
                  <a:pt x="291" y="8"/>
                  <a:pt x="290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6" y="9"/>
                  <a:pt x="286" y="9"/>
                  <a:pt x="286" y="9"/>
                </a:cubicBezTo>
                <a:cubicBezTo>
                  <a:pt x="287" y="9"/>
                  <a:pt x="287" y="9"/>
                  <a:pt x="287" y="9"/>
                </a:cubicBezTo>
                <a:cubicBezTo>
                  <a:pt x="284" y="10"/>
                  <a:pt x="284" y="10"/>
                  <a:pt x="284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2" y="11"/>
                  <a:pt x="284" y="10"/>
                  <a:pt x="285" y="10"/>
                </a:cubicBezTo>
                <a:cubicBezTo>
                  <a:pt x="282" y="11"/>
                  <a:pt x="282" y="11"/>
                  <a:pt x="282" y="11"/>
                </a:cubicBezTo>
                <a:cubicBezTo>
                  <a:pt x="278" y="11"/>
                  <a:pt x="278" y="11"/>
                  <a:pt x="278" y="11"/>
                </a:cubicBezTo>
                <a:cubicBezTo>
                  <a:pt x="278" y="12"/>
                  <a:pt x="278" y="12"/>
                  <a:pt x="278" y="12"/>
                </a:cubicBezTo>
                <a:cubicBezTo>
                  <a:pt x="280" y="11"/>
                  <a:pt x="282" y="11"/>
                  <a:pt x="283" y="10"/>
                </a:cubicBezTo>
                <a:cubicBezTo>
                  <a:pt x="280" y="11"/>
                  <a:pt x="277" y="12"/>
                  <a:pt x="274" y="12"/>
                </a:cubicBezTo>
                <a:cubicBezTo>
                  <a:pt x="271" y="13"/>
                  <a:pt x="271" y="13"/>
                  <a:pt x="271" y="13"/>
                </a:cubicBezTo>
                <a:cubicBezTo>
                  <a:pt x="267" y="14"/>
                  <a:pt x="267" y="14"/>
                  <a:pt x="267" y="14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5" y="15"/>
                  <a:pt x="266" y="15"/>
                  <a:pt x="267" y="15"/>
                </a:cubicBezTo>
                <a:cubicBezTo>
                  <a:pt x="266" y="15"/>
                  <a:pt x="265" y="15"/>
                  <a:pt x="265" y="15"/>
                </a:cubicBezTo>
                <a:cubicBezTo>
                  <a:pt x="266" y="15"/>
                  <a:pt x="267" y="15"/>
                  <a:pt x="267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66" y="15"/>
                  <a:pt x="266" y="15"/>
                  <a:pt x="267" y="15"/>
                </a:cubicBezTo>
                <a:cubicBezTo>
                  <a:pt x="267" y="15"/>
                  <a:pt x="267" y="15"/>
                  <a:pt x="267" y="15"/>
                </a:cubicBezTo>
                <a:cubicBezTo>
                  <a:pt x="264" y="16"/>
                  <a:pt x="264" y="16"/>
                  <a:pt x="263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4" y="16"/>
                  <a:pt x="264" y="16"/>
                  <a:pt x="264" y="16"/>
                </a:cubicBezTo>
                <a:cubicBezTo>
                  <a:pt x="268" y="15"/>
                  <a:pt x="268" y="15"/>
                  <a:pt x="271" y="14"/>
                </a:cubicBezTo>
                <a:cubicBezTo>
                  <a:pt x="274" y="13"/>
                  <a:pt x="274" y="13"/>
                  <a:pt x="274" y="13"/>
                </a:cubicBezTo>
                <a:cubicBezTo>
                  <a:pt x="272" y="14"/>
                  <a:pt x="272" y="14"/>
                  <a:pt x="272" y="14"/>
                </a:cubicBezTo>
                <a:cubicBezTo>
                  <a:pt x="276" y="12"/>
                  <a:pt x="276" y="12"/>
                  <a:pt x="276" y="12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5" y="10"/>
                  <a:pt x="285" y="10"/>
                  <a:pt x="285" y="10"/>
                </a:cubicBezTo>
                <a:cubicBezTo>
                  <a:pt x="288" y="10"/>
                  <a:pt x="291" y="9"/>
                  <a:pt x="293" y="8"/>
                </a:cubicBezTo>
                <a:cubicBezTo>
                  <a:pt x="294" y="8"/>
                  <a:pt x="294" y="8"/>
                  <a:pt x="294" y="8"/>
                </a:cubicBezTo>
                <a:cubicBezTo>
                  <a:pt x="294" y="8"/>
                  <a:pt x="299" y="7"/>
                  <a:pt x="300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8"/>
                  <a:pt x="296" y="8"/>
                  <a:pt x="296" y="8"/>
                </a:cubicBezTo>
                <a:cubicBezTo>
                  <a:pt x="299" y="7"/>
                  <a:pt x="299" y="7"/>
                  <a:pt x="299" y="7"/>
                </a:cubicBezTo>
                <a:cubicBezTo>
                  <a:pt x="300" y="7"/>
                  <a:pt x="302" y="6"/>
                  <a:pt x="304" y="6"/>
                </a:cubicBezTo>
                <a:cubicBezTo>
                  <a:pt x="304" y="6"/>
                  <a:pt x="304" y="6"/>
                  <a:pt x="304" y="6"/>
                </a:cubicBezTo>
                <a:cubicBezTo>
                  <a:pt x="302" y="7"/>
                  <a:pt x="302" y="7"/>
                  <a:pt x="302" y="7"/>
                </a:cubicBezTo>
                <a:cubicBezTo>
                  <a:pt x="301" y="7"/>
                  <a:pt x="301" y="7"/>
                  <a:pt x="301" y="7"/>
                </a:cubicBezTo>
                <a:cubicBezTo>
                  <a:pt x="302" y="7"/>
                  <a:pt x="304" y="6"/>
                  <a:pt x="305" y="6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7" y="6"/>
                  <a:pt x="307" y="6"/>
                  <a:pt x="307" y="6"/>
                </a:cubicBezTo>
                <a:cubicBezTo>
                  <a:pt x="307" y="6"/>
                  <a:pt x="307" y="6"/>
                  <a:pt x="307" y="6"/>
                </a:cubicBezTo>
                <a:cubicBezTo>
                  <a:pt x="309" y="6"/>
                  <a:pt x="309" y="6"/>
                  <a:pt x="309" y="6"/>
                </a:cubicBezTo>
                <a:cubicBezTo>
                  <a:pt x="314" y="5"/>
                  <a:pt x="314" y="5"/>
                  <a:pt x="314" y="5"/>
                </a:cubicBezTo>
                <a:cubicBezTo>
                  <a:pt x="315" y="4"/>
                  <a:pt x="315" y="4"/>
                  <a:pt x="315" y="4"/>
                </a:cubicBezTo>
                <a:cubicBezTo>
                  <a:pt x="315" y="5"/>
                  <a:pt x="315" y="5"/>
                  <a:pt x="315" y="5"/>
                </a:cubicBezTo>
                <a:cubicBezTo>
                  <a:pt x="315" y="5"/>
                  <a:pt x="315" y="5"/>
                  <a:pt x="315" y="5"/>
                </a:cubicBezTo>
                <a:cubicBezTo>
                  <a:pt x="318" y="4"/>
                  <a:pt x="318" y="4"/>
                  <a:pt x="318" y="4"/>
                </a:cubicBezTo>
                <a:cubicBezTo>
                  <a:pt x="320" y="4"/>
                  <a:pt x="320" y="4"/>
                  <a:pt x="320" y="4"/>
                </a:cubicBezTo>
                <a:cubicBezTo>
                  <a:pt x="323" y="3"/>
                  <a:pt x="327" y="3"/>
                  <a:pt x="330" y="3"/>
                </a:cubicBezTo>
                <a:cubicBezTo>
                  <a:pt x="331" y="3"/>
                  <a:pt x="331" y="3"/>
                  <a:pt x="331" y="3"/>
                </a:cubicBezTo>
                <a:cubicBezTo>
                  <a:pt x="332" y="2"/>
                  <a:pt x="332" y="2"/>
                  <a:pt x="332" y="2"/>
                </a:cubicBezTo>
                <a:cubicBezTo>
                  <a:pt x="333" y="2"/>
                  <a:pt x="334" y="2"/>
                  <a:pt x="335" y="2"/>
                </a:cubicBezTo>
                <a:cubicBezTo>
                  <a:pt x="333" y="2"/>
                  <a:pt x="333" y="2"/>
                  <a:pt x="332" y="2"/>
                </a:cubicBezTo>
                <a:cubicBezTo>
                  <a:pt x="333" y="2"/>
                  <a:pt x="333" y="2"/>
                  <a:pt x="333" y="2"/>
                </a:cubicBezTo>
                <a:cubicBezTo>
                  <a:pt x="332" y="2"/>
                  <a:pt x="332" y="2"/>
                  <a:pt x="332" y="2"/>
                </a:cubicBezTo>
                <a:cubicBezTo>
                  <a:pt x="335" y="2"/>
                  <a:pt x="335" y="2"/>
                  <a:pt x="335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7" y="2"/>
                  <a:pt x="337" y="2"/>
                  <a:pt x="337" y="2"/>
                </a:cubicBezTo>
                <a:cubicBezTo>
                  <a:pt x="338" y="2"/>
                  <a:pt x="340" y="2"/>
                  <a:pt x="341" y="1"/>
                </a:cubicBezTo>
                <a:cubicBezTo>
                  <a:pt x="342" y="1"/>
                  <a:pt x="342" y="1"/>
                  <a:pt x="346" y="1"/>
                </a:cubicBezTo>
                <a:moveTo>
                  <a:pt x="300" y="6"/>
                </a:moveTo>
                <a:cubicBezTo>
                  <a:pt x="301" y="6"/>
                  <a:pt x="303" y="6"/>
                  <a:pt x="304" y="6"/>
                </a:cubicBezTo>
                <a:cubicBezTo>
                  <a:pt x="305" y="5"/>
                  <a:pt x="306" y="5"/>
                  <a:pt x="308" y="5"/>
                </a:cubicBezTo>
                <a:cubicBezTo>
                  <a:pt x="311" y="4"/>
                  <a:pt x="311" y="4"/>
                  <a:pt x="311" y="4"/>
                </a:cubicBezTo>
                <a:cubicBezTo>
                  <a:pt x="311" y="4"/>
                  <a:pt x="312" y="4"/>
                  <a:pt x="313" y="4"/>
                </a:cubicBezTo>
                <a:cubicBezTo>
                  <a:pt x="314" y="4"/>
                  <a:pt x="315" y="4"/>
                  <a:pt x="315" y="4"/>
                </a:cubicBezTo>
                <a:cubicBezTo>
                  <a:pt x="315" y="4"/>
                  <a:pt x="314" y="4"/>
                  <a:pt x="313" y="4"/>
                </a:cubicBezTo>
                <a:cubicBezTo>
                  <a:pt x="313" y="4"/>
                  <a:pt x="319" y="3"/>
                  <a:pt x="324" y="2"/>
                </a:cubicBezTo>
                <a:cubicBezTo>
                  <a:pt x="326" y="2"/>
                  <a:pt x="328" y="2"/>
                  <a:pt x="331" y="2"/>
                </a:cubicBezTo>
                <a:cubicBezTo>
                  <a:pt x="330" y="2"/>
                  <a:pt x="329" y="2"/>
                  <a:pt x="328" y="2"/>
                </a:cubicBezTo>
                <a:cubicBezTo>
                  <a:pt x="328" y="2"/>
                  <a:pt x="328" y="2"/>
                  <a:pt x="328" y="2"/>
                </a:cubicBezTo>
                <a:cubicBezTo>
                  <a:pt x="327" y="2"/>
                  <a:pt x="326" y="2"/>
                  <a:pt x="325" y="2"/>
                </a:cubicBezTo>
                <a:cubicBezTo>
                  <a:pt x="325" y="2"/>
                  <a:pt x="325" y="2"/>
                  <a:pt x="325" y="2"/>
                </a:cubicBezTo>
                <a:cubicBezTo>
                  <a:pt x="323" y="2"/>
                  <a:pt x="321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9" y="3"/>
                  <a:pt x="319" y="3"/>
                  <a:pt x="319" y="3"/>
                </a:cubicBezTo>
                <a:cubicBezTo>
                  <a:pt x="315" y="4"/>
                  <a:pt x="315" y="4"/>
                  <a:pt x="315" y="4"/>
                </a:cubicBezTo>
                <a:cubicBezTo>
                  <a:pt x="313" y="4"/>
                  <a:pt x="313" y="4"/>
                  <a:pt x="313" y="4"/>
                </a:cubicBezTo>
                <a:cubicBezTo>
                  <a:pt x="309" y="5"/>
                  <a:pt x="309" y="5"/>
                  <a:pt x="309" y="5"/>
                </a:cubicBezTo>
                <a:cubicBezTo>
                  <a:pt x="309" y="5"/>
                  <a:pt x="309" y="5"/>
                  <a:pt x="309" y="5"/>
                </a:cubicBezTo>
                <a:cubicBezTo>
                  <a:pt x="308" y="5"/>
                  <a:pt x="308" y="5"/>
                  <a:pt x="307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3" y="6"/>
                  <a:pt x="303" y="6"/>
                </a:cubicBezTo>
                <a:cubicBezTo>
                  <a:pt x="303" y="6"/>
                  <a:pt x="303" y="6"/>
                  <a:pt x="303" y="6"/>
                </a:cubicBezTo>
                <a:cubicBezTo>
                  <a:pt x="304" y="5"/>
                  <a:pt x="304" y="5"/>
                  <a:pt x="304" y="5"/>
                </a:cubicBezTo>
                <a:cubicBezTo>
                  <a:pt x="304" y="5"/>
                  <a:pt x="304" y="5"/>
                  <a:pt x="304" y="5"/>
                </a:cubicBezTo>
                <a:cubicBezTo>
                  <a:pt x="303" y="6"/>
                  <a:pt x="301" y="6"/>
                  <a:pt x="300" y="6"/>
                </a:cubicBezTo>
                <a:cubicBezTo>
                  <a:pt x="300" y="6"/>
                  <a:pt x="300" y="6"/>
                  <a:pt x="300" y="6"/>
                </a:cubicBezTo>
                <a:cubicBezTo>
                  <a:pt x="298" y="7"/>
                  <a:pt x="298" y="7"/>
                  <a:pt x="298" y="7"/>
                </a:cubicBezTo>
                <a:cubicBezTo>
                  <a:pt x="295" y="7"/>
                  <a:pt x="295" y="7"/>
                  <a:pt x="295" y="7"/>
                </a:cubicBezTo>
                <a:cubicBezTo>
                  <a:pt x="291" y="8"/>
                  <a:pt x="291" y="8"/>
                  <a:pt x="291" y="8"/>
                </a:cubicBezTo>
                <a:cubicBezTo>
                  <a:pt x="289" y="9"/>
                  <a:pt x="289" y="9"/>
                  <a:pt x="289" y="9"/>
                </a:cubicBezTo>
                <a:cubicBezTo>
                  <a:pt x="290" y="8"/>
                  <a:pt x="290" y="8"/>
                  <a:pt x="290" y="8"/>
                </a:cubicBezTo>
                <a:cubicBezTo>
                  <a:pt x="288" y="9"/>
                  <a:pt x="288" y="9"/>
                  <a:pt x="288" y="9"/>
                </a:cubicBezTo>
                <a:cubicBezTo>
                  <a:pt x="291" y="8"/>
                  <a:pt x="291" y="8"/>
                  <a:pt x="291" y="8"/>
                </a:cubicBezTo>
                <a:cubicBezTo>
                  <a:pt x="291" y="8"/>
                  <a:pt x="291" y="8"/>
                  <a:pt x="291" y="8"/>
                </a:cubicBezTo>
                <a:cubicBezTo>
                  <a:pt x="292" y="8"/>
                  <a:pt x="293" y="8"/>
                  <a:pt x="294" y="8"/>
                </a:cubicBezTo>
                <a:cubicBezTo>
                  <a:pt x="297" y="7"/>
                  <a:pt x="297" y="7"/>
                  <a:pt x="297" y="7"/>
                </a:cubicBezTo>
                <a:cubicBezTo>
                  <a:pt x="296" y="7"/>
                  <a:pt x="296" y="7"/>
                  <a:pt x="295" y="7"/>
                </a:cubicBezTo>
                <a:cubicBezTo>
                  <a:pt x="296" y="7"/>
                  <a:pt x="297" y="7"/>
                  <a:pt x="298" y="7"/>
                </a:cubicBezTo>
                <a:cubicBezTo>
                  <a:pt x="297" y="7"/>
                  <a:pt x="297" y="7"/>
                  <a:pt x="297" y="7"/>
                </a:cubicBezTo>
                <a:cubicBezTo>
                  <a:pt x="298" y="7"/>
                  <a:pt x="299" y="7"/>
                  <a:pt x="300" y="6"/>
                </a:cubicBezTo>
                <a:moveTo>
                  <a:pt x="275" y="12"/>
                </a:moveTo>
                <a:cubicBezTo>
                  <a:pt x="277" y="11"/>
                  <a:pt x="280" y="11"/>
                  <a:pt x="282" y="10"/>
                </a:cubicBezTo>
                <a:cubicBezTo>
                  <a:pt x="281" y="11"/>
                  <a:pt x="281" y="11"/>
                  <a:pt x="281" y="11"/>
                </a:cubicBezTo>
                <a:cubicBezTo>
                  <a:pt x="277" y="12"/>
                  <a:pt x="277" y="12"/>
                  <a:pt x="277" y="12"/>
                </a:cubicBezTo>
                <a:cubicBezTo>
                  <a:pt x="275" y="12"/>
                  <a:pt x="275" y="12"/>
                  <a:pt x="275" y="12"/>
                </a:cubicBezTo>
                <a:moveTo>
                  <a:pt x="251" y="20"/>
                </a:moveTo>
                <a:cubicBezTo>
                  <a:pt x="251" y="20"/>
                  <a:pt x="251" y="20"/>
                  <a:pt x="251" y="20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8" y="18"/>
                  <a:pt x="258" y="18"/>
                  <a:pt x="258" y="18"/>
                </a:cubicBezTo>
                <a:cubicBezTo>
                  <a:pt x="259" y="17"/>
                  <a:pt x="259" y="17"/>
                  <a:pt x="259" y="17"/>
                </a:cubicBezTo>
                <a:cubicBezTo>
                  <a:pt x="257" y="18"/>
                  <a:pt x="257" y="18"/>
                  <a:pt x="257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5" y="18"/>
                  <a:pt x="255" y="18"/>
                  <a:pt x="255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56" y="18"/>
                  <a:pt x="256" y="18"/>
                  <a:pt x="256" y="18"/>
                </a:cubicBezTo>
                <a:cubicBezTo>
                  <a:pt x="260" y="16"/>
                  <a:pt x="260" y="16"/>
                  <a:pt x="260" y="16"/>
                </a:cubicBezTo>
                <a:cubicBezTo>
                  <a:pt x="265" y="15"/>
                  <a:pt x="265" y="15"/>
                  <a:pt x="265" y="15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9" y="14"/>
                  <a:pt x="269" y="14"/>
                  <a:pt x="269" y="14"/>
                </a:cubicBezTo>
                <a:cubicBezTo>
                  <a:pt x="266" y="15"/>
                  <a:pt x="266" y="15"/>
                  <a:pt x="266" y="15"/>
                </a:cubicBezTo>
                <a:cubicBezTo>
                  <a:pt x="245" y="21"/>
                  <a:pt x="245" y="21"/>
                  <a:pt x="245" y="21"/>
                </a:cubicBezTo>
                <a:cubicBezTo>
                  <a:pt x="246" y="21"/>
                  <a:pt x="246" y="21"/>
                  <a:pt x="246" y="21"/>
                </a:cubicBezTo>
                <a:cubicBezTo>
                  <a:pt x="246" y="21"/>
                  <a:pt x="247" y="21"/>
                  <a:pt x="248" y="21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4" y="22"/>
                  <a:pt x="244" y="22"/>
                  <a:pt x="244" y="22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1"/>
                  <a:pt x="247" y="21"/>
                  <a:pt x="247" y="21"/>
                </a:cubicBezTo>
                <a:cubicBezTo>
                  <a:pt x="245" y="22"/>
                  <a:pt x="245" y="22"/>
                  <a:pt x="245" y="22"/>
                </a:cubicBezTo>
                <a:cubicBezTo>
                  <a:pt x="247" y="22"/>
                  <a:pt x="249" y="21"/>
                  <a:pt x="251" y="20"/>
                </a:cubicBezTo>
                <a:moveTo>
                  <a:pt x="179" y="56"/>
                </a:moveTo>
                <a:cubicBezTo>
                  <a:pt x="182" y="54"/>
                  <a:pt x="182" y="54"/>
                  <a:pt x="182" y="54"/>
                </a:cubicBezTo>
                <a:cubicBezTo>
                  <a:pt x="186" y="52"/>
                  <a:pt x="186" y="52"/>
                  <a:pt x="186" y="52"/>
                </a:cubicBezTo>
                <a:cubicBezTo>
                  <a:pt x="185" y="52"/>
                  <a:pt x="185" y="52"/>
                  <a:pt x="180" y="54"/>
                </a:cubicBezTo>
                <a:cubicBezTo>
                  <a:pt x="177" y="56"/>
                  <a:pt x="177" y="56"/>
                  <a:pt x="177" y="56"/>
                </a:cubicBezTo>
                <a:cubicBezTo>
                  <a:pt x="177" y="57"/>
                  <a:pt x="177" y="57"/>
                  <a:pt x="177" y="57"/>
                </a:cubicBezTo>
                <a:cubicBezTo>
                  <a:pt x="179" y="56"/>
                  <a:pt x="179" y="56"/>
                  <a:pt x="179" y="56"/>
                </a:cubicBezTo>
                <a:moveTo>
                  <a:pt x="156" y="69"/>
                </a:moveTo>
                <a:cubicBezTo>
                  <a:pt x="154" y="70"/>
                  <a:pt x="154" y="70"/>
                  <a:pt x="154" y="70"/>
                </a:cubicBezTo>
                <a:cubicBezTo>
                  <a:pt x="153" y="71"/>
                  <a:pt x="153" y="71"/>
                  <a:pt x="153" y="71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59" y="66"/>
                  <a:pt x="159" y="66"/>
                  <a:pt x="159" y="66"/>
                </a:cubicBezTo>
                <a:cubicBezTo>
                  <a:pt x="156" y="69"/>
                  <a:pt x="156" y="69"/>
                  <a:pt x="156" y="69"/>
                </a:cubicBezTo>
                <a:close/>
                <a:moveTo>
                  <a:pt x="6" y="417"/>
                </a:moveTo>
                <a:cubicBezTo>
                  <a:pt x="5" y="413"/>
                  <a:pt x="5" y="413"/>
                  <a:pt x="5" y="413"/>
                </a:cubicBezTo>
                <a:cubicBezTo>
                  <a:pt x="5" y="409"/>
                  <a:pt x="5" y="409"/>
                  <a:pt x="5" y="409"/>
                </a:cubicBezTo>
                <a:cubicBezTo>
                  <a:pt x="4" y="409"/>
                  <a:pt x="4" y="409"/>
                  <a:pt x="4" y="409"/>
                </a:cubicBezTo>
                <a:cubicBezTo>
                  <a:pt x="3" y="408"/>
                  <a:pt x="3" y="408"/>
                  <a:pt x="3" y="408"/>
                </a:cubicBezTo>
                <a:cubicBezTo>
                  <a:pt x="2" y="407"/>
                  <a:pt x="2" y="407"/>
                  <a:pt x="2" y="407"/>
                </a:cubicBezTo>
                <a:cubicBezTo>
                  <a:pt x="2" y="405"/>
                  <a:pt x="2" y="405"/>
                  <a:pt x="2" y="405"/>
                </a:cubicBezTo>
                <a:cubicBezTo>
                  <a:pt x="1" y="398"/>
                  <a:pt x="1" y="398"/>
                  <a:pt x="1" y="398"/>
                </a:cubicBezTo>
                <a:cubicBezTo>
                  <a:pt x="1" y="394"/>
                  <a:pt x="1" y="394"/>
                  <a:pt x="1" y="394"/>
                </a:cubicBezTo>
                <a:cubicBezTo>
                  <a:pt x="1" y="392"/>
                  <a:pt x="1" y="389"/>
                  <a:pt x="1" y="387"/>
                </a:cubicBezTo>
                <a:cubicBezTo>
                  <a:pt x="1" y="379"/>
                  <a:pt x="1" y="379"/>
                  <a:pt x="1" y="379"/>
                </a:cubicBezTo>
                <a:cubicBezTo>
                  <a:pt x="1" y="378"/>
                  <a:pt x="1" y="376"/>
                  <a:pt x="1" y="374"/>
                </a:cubicBezTo>
                <a:cubicBezTo>
                  <a:pt x="0" y="370"/>
                  <a:pt x="0" y="370"/>
                  <a:pt x="0" y="370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67"/>
                  <a:pt x="0" y="367"/>
                  <a:pt x="0" y="367"/>
                </a:cubicBezTo>
                <a:cubicBezTo>
                  <a:pt x="0" y="376"/>
                  <a:pt x="1" y="389"/>
                  <a:pt x="1" y="399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5"/>
                  <a:pt x="2" y="405"/>
                  <a:pt x="2" y="405"/>
                </a:cubicBezTo>
                <a:cubicBezTo>
                  <a:pt x="2" y="407"/>
                  <a:pt x="2" y="407"/>
                  <a:pt x="2" y="407"/>
                </a:cubicBezTo>
                <a:cubicBezTo>
                  <a:pt x="3" y="414"/>
                  <a:pt x="3" y="414"/>
                  <a:pt x="3" y="414"/>
                </a:cubicBezTo>
                <a:cubicBezTo>
                  <a:pt x="3" y="414"/>
                  <a:pt x="3" y="414"/>
                  <a:pt x="3" y="414"/>
                </a:cubicBezTo>
                <a:cubicBezTo>
                  <a:pt x="4" y="419"/>
                  <a:pt x="4" y="419"/>
                  <a:pt x="4" y="419"/>
                </a:cubicBezTo>
                <a:cubicBezTo>
                  <a:pt x="5" y="421"/>
                  <a:pt x="5" y="421"/>
                  <a:pt x="5" y="421"/>
                </a:cubicBezTo>
                <a:cubicBezTo>
                  <a:pt x="4" y="416"/>
                  <a:pt x="4" y="416"/>
                  <a:pt x="4" y="416"/>
                </a:cubicBezTo>
                <a:cubicBezTo>
                  <a:pt x="4" y="413"/>
                  <a:pt x="4" y="413"/>
                  <a:pt x="4" y="413"/>
                </a:cubicBezTo>
                <a:cubicBezTo>
                  <a:pt x="5" y="414"/>
                  <a:pt x="5" y="414"/>
                  <a:pt x="5" y="414"/>
                </a:cubicBezTo>
                <a:cubicBezTo>
                  <a:pt x="5" y="417"/>
                  <a:pt x="5" y="417"/>
                  <a:pt x="5" y="417"/>
                </a:cubicBezTo>
                <a:cubicBezTo>
                  <a:pt x="6" y="417"/>
                  <a:pt x="6" y="417"/>
                  <a:pt x="6" y="417"/>
                </a:cubicBezTo>
                <a:moveTo>
                  <a:pt x="182" y="64"/>
                </a:moveTo>
                <a:cubicBezTo>
                  <a:pt x="185" y="62"/>
                  <a:pt x="185" y="62"/>
                  <a:pt x="185" y="62"/>
                </a:cubicBezTo>
                <a:cubicBezTo>
                  <a:pt x="189" y="60"/>
                  <a:pt x="189" y="60"/>
                  <a:pt x="189" y="60"/>
                </a:cubicBezTo>
                <a:cubicBezTo>
                  <a:pt x="188" y="60"/>
                  <a:pt x="187" y="60"/>
                  <a:pt x="187" y="60"/>
                </a:cubicBezTo>
                <a:cubicBezTo>
                  <a:pt x="187" y="59"/>
                  <a:pt x="188" y="59"/>
                  <a:pt x="189" y="58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92" y="54"/>
                  <a:pt x="192" y="54"/>
                  <a:pt x="192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3" y="52"/>
                  <a:pt x="193" y="52"/>
                  <a:pt x="193" y="52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4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6" y="50"/>
                  <a:pt x="197" y="49"/>
                  <a:pt x="199" y="48"/>
                </a:cubicBezTo>
                <a:cubicBezTo>
                  <a:pt x="199" y="48"/>
                  <a:pt x="199" y="48"/>
                  <a:pt x="199" y="48"/>
                </a:cubicBezTo>
                <a:cubicBezTo>
                  <a:pt x="202" y="47"/>
                  <a:pt x="202" y="47"/>
                  <a:pt x="202" y="47"/>
                </a:cubicBezTo>
                <a:cubicBezTo>
                  <a:pt x="202" y="46"/>
                  <a:pt x="202" y="46"/>
                  <a:pt x="202" y="46"/>
                </a:cubicBezTo>
                <a:cubicBezTo>
                  <a:pt x="204" y="45"/>
                  <a:pt x="204" y="45"/>
                  <a:pt x="204" y="45"/>
                </a:cubicBezTo>
                <a:cubicBezTo>
                  <a:pt x="205" y="45"/>
                  <a:pt x="205" y="45"/>
                  <a:pt x="205" y="45"/>
                </a:cubicBezTo>
                <a:cubicBezTo>
                  <a:pt x="208" y="43"/>
                  <a:pt x="208" y="43"/>
                  <a:pt x="208" y="43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39"/>
                  <a:pt x="213" y="39"/>
                  <a:pt x="213" y="39"/>
                </a:cubicBezTo>
                <a:cubicBezTo>
                  <a:pt x="212" y="39"/>
                  <a:pt x="212" y="39"/>
                  <a:pt x="212" y="39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4" y="38"/>
                  <a:pt x="214" y="38"/>
                  <a:pt x="214" y="38"/>
                </a:cubicBezTo>
                <a:cubicBezTo>
                  <a:pt x="217" y="37"/>
                  <a:pt x="217" y="37"/>
                  <a:pt x="217" y="37"/>
                </a:cubicBezTo>
                <a:cubicBezTo>
                  <a:pt x="218" y="36"/>
                  <a:pt x="218" y="36"/>
                  <a:pt x="218" y="36"/>
                </a:cubicBezTo>
                <a:cubicBezTo>
                  <a:pt x="216" y="36"/>
                  <a:pt x="216" y="36"/>
                  <a:pt x="216" y="36"/>
                </a:cubicBezTo>
                <a:cubicBezTo>
                  <a:pt x="220" y="34"/>
                  <a:pt x="220" y="34"/>
                  <a:pt x="220" y="34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2" y="33"/>
                  <a:pt x="222" y="33"/>
                  <a:pt x="222" y="33"/>
                </a:cubicBezTo>
                <a:cubicBezTo>
                  <a:pt x="225" y="31"/>
                  <a:pt x="225" y="31"/>
                  <a:pt x="225" y="31"/>
                </a:cubicBezTo>
                <a:cubicBezTo>
                  <a:pt x="227" y="30"/>
                  <a:pt x="227" y="30"/>
                  <a:pt x="227" y="30"/>
                </a:cubicBezTo>
                <a:cubicBezTo>
                  <a:pt x="226" y="30"/>
                  <a:pt x="226" y="30"/>
                  <a:pt x="226" y="30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3" y="31"/>
                  <a:pt x="223" y="31"/>
                  <a:pt x="223" y="31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0" y="32"/>
                  <a:pt x="220" y="32"/>
                  <a:pt x="220" y="32"/>
                </a:cubicBezTo>
                <a:cubicBezTo>
                  <a:pt x="224" y="31"/>
                  <a:pt x="224" y="31"/>
                  <a:pt x="224" y="31"/>
                </a:cubicBezTo>
                <a:cubicBezTo>
                  <a:pt x="227" y="29"/>
                  <a:pt x="227" y="29"/>
                  <a:pt x="227" y="29"/>
                </a:cubicBezTo>
                <a:cubicBezTo>
                  <a:pt x="232" y="27"/>
                  <a:pt x="232" y="27"/>
                  <a:pt x="232" y="27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6" y="29"/>
                  <a:pt x="226" y="29"/>
                  <a:pt x="226" y="29"/>
                </a:cubicBezTo>
                <a:cubicBezTo>
                  <a:pt x="221" y="31"/>
                  <a:pt x="221" y="31"/>
                  <a:pt x="221" y="31"/>
                </a:cubicBezTo>
                <a:cubicBezTo>
                  <a:pt x="218" y="33"/>
                  <a:pt x="218" y="33"/>
                  <a:pt x="218" y="33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17" y="33"/>
                  <a:pt x="217" y="33"/>
                  <a:pt x="217" y="33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28" y="28"/>
                  <a:pt x="228" y="28"/>
                  <a:pt x="228" y="28"/>
                </a:cubicBezTo>
                <a:cubicBezTo>
                  <a:pt x="233" y="26"/>
                  <a:pt x="233" y="26"/>
                  <a:pt x="233" y="26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7" y="25"/>
                  <a:pt x="237" y="25"/>
                  <a:pt x="237" y="25"/>
                </a:cubicBezTo>
                <a:cubicBezTo>
                  <a:pt x="236" y="25"/>
                  <a:pt x="236" y="25"/>
                  <a:pt x="236" y="25"/>
                </a:cubicBezTo>
                <a:cubicBezTo>
                  <a:pt x="231" y="27"/>
                  <a:pt x="231" y="27"/>
                  <a:pt x="231" y="27"/>
                </a:cubicBezTo>
                <a:cubicBezTo>
                  <a:pt x="224" y="30"/>
                  <a:pt x="224" y="30"/>
                  <a:pt x="224" y="30"/>
                </a:cubicBezTo>
                <a:cubicBezTo>
                  <a:pt x="213" y="35"/>
                  <a:pt x="213" y="35"/>
                  <a:pt x="213" y="35"/>
                </a:cubicBezTo>
                <a:cubicBezTo>
                  <a:pt x="212" y="35"/>
                  <a:pt x="212" y="35"/>
                  <a:pt x="212" y="35"/>
                </a:cubicBezTo>
                <a:cubicBezTo>
                  <a:pt x="212" y="36"/>
                  <a:pt x="212" y="36"/>
                  <a:pt x="212" y="36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9" y="37"/>
                  <a:pt x="209" y="37"/>
                  <a:pt x="209" y="37"/>
                </a:cubicBezTo>
                <a:cubicBezTo>
                  <a:pt x="208" y="37"/>
                  <a:pt x="208" y="37"/>
                  <a:pt x="208" y="37"/>
                </a:cubicBezTo>
                <a:cubicBezTo>
                  <a:pt x="206" y="38"/>
                  <a:pt x="206" y="38"/>
                  <a:pt x="206" y="38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3" y="40"/>
                  <a:pt x="203" y="40"/>
                  <a:pt x="203" y="40"/>
                </a:cubicBezTo>
                <a:cubicBezTo>
                  <a:pt x="204" y="39"/>
                  <a:pt x="204" y="39"/>
                  <a:pt x="204" y="39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79" y="53"/>
                  <a:pt x="179" y="53"/>
                  <a:pt x="179" y="53"/>
                </a:cubicBezTo>
                <a:cubicBezTo>
                  <a:pt x="176" y="55"/>
                  <a:pt x="176" y="55"/>
                  <a:pt x="176" y="55"/>
                </a:cubicBezTo>
                <a:cubicBezTo>
                  <a:pt x="177" y="54"/>
                  <a:pt x="177" y="54"/>
                  <a:pt x="177" y="54"/>
                </a:cubicBezTo>
                <a:cubicBezTo>
                  <a:pt x="183" y="51"/>
                  <a:pt x="183" y="51"/>
                  <a:pt x="183" y="51"/>
                </a:cubicBezTo>
                <a:cubicBezTo>
                  <a:pt x="187" y="49"/>
                  <a:pt x="187" y="49"/>
                  <a:pt x="187" y="49"/>
                </a:cubicBezTo>
                <a:cubicBezTo>
                  <a:pt x="191" y="46"/>
                  <a:pt x="191" y="46"/>
                  <a:pt x="191" y="46"/>
                </a:cubicBezTo>
                <a:cubicBezTo>
                  <a:pt x="182" y="51"/>
                  <a:pt x="171" y="59"/>
                  <a:pt x="162" y="64"/>
                </a:cubicBezTo>
                <a:cubicBezTo>
                  <a:pt x="162" y="64"/>
                  <a:pt x="162" y="64"/>
                  <a:pt x="162" y="64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4" y="63"/>
                  <a:pt x="164" y="63"/>
                  <a:pt x="164" y="63"/>
                </a:cubicBezTo>
                <a:cubicBezTo>
                  <a:pt x="159" y="67"/>
                  <a:pt x="159" y="67"/>
                  <a:pt x="159" y="67"/>
                </a:cubicBezTo>
                <a:cubicBezTo>
                  <a:pt x="156" y="68"/>
                  <a:pt x="154" y="70"/>
                  <a:pt x="152" y="71"/>
                </a:cubicBezTo>
                <a:cubicBezTo>
                  <a:pt x="151" y="72"/>
                  <a:pt x="151" y="72"/>
                  <a:pt x="151" y="72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5"/>
                  <a:pt x="147" y="75"/>
                  <a:pt x="147" y="75"/>
                </a:cubicBezTo>
                <a:cubicBezTo>
                  <a:pt x="147" y="76"/>
                  <a:pt x="146" y="76"/>
                  <a:pt x="145" y="77"/>
                </a:cubicBezTo>
                <a:cubicBezTo>
                  <a:pt x="145" y="77"/>
                  <a:pt x="145" y="77"/>
                  <a:pt x="145" y="77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9" y="74"/>
                  <a:pt x="149" y="74"/>
                  <a:pt x="149" y="74"/>
                </a:cubicBezTo>
                <a:cubicBezTo>
                  <a:pt x="148" y="75"/>
                  <a:pt x="148" y="75"/>
                  <a:pt x="148" y="75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47" y="76"/>
                  <a:pt x="147" y="76"/>
                  <a:pt x="147" y="76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1" y="73"/>
                  <a:pt x="151" y="73"/>
                  <a:pt x="151" y="73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56" y="69"/>
                  <a:pt x="156" y="69"/>
                  <a:pt x="156" y="69"/>
                </a:cubicBezTo>
                <a:cubicBezTo>
                  <a:pt x="160" y="66"/>
                  <a:pt x="160" y="66"/>
                  <a:pt x="160" y="66"/>
                </a:cubicBezTo>
                <a:cubicBezTo>
                  <a:pt x="161" y="65"/>
                  <a:pt x="161" y="65"/>
                  <a:pt x="161" y="65"/>
                </a:cubicBezTo>
                <a:cubicBezTo>
                  <a:pt x="162" y="65"/>
                  <a:pt x="163" y="64"/>
                  <a:pt x="164" y="63"/>
                </a:cubicBezTo>
                <a:cubicBezTo>
                  <a:pt x="163" y="64"/>
                  <a:pt x="163" y="64"/>
                  <a:pt x="163" y="64"/>
                </a:cubicBezTo>
                <a:cubicBezTo>
                  <a:pt x="165" y="63"/>
                  <a:pt x="165" y="63"/>
                  <a:pt x="165" y="63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67" y="61"/>
                  <a:pt x="167" y="61"/>
                  <a:pt x="167" y="61"/>
                </a:cubicBezTo>
                <a:cubicBezTo>
                  <a:pt x="170" y="59"/>
                  <a:pt x="170" y="59"/>
                  <a:pt x="170" y="59"/>
                </a:cubicBezTo>
                <a:cubicBezTo>
                  <a:pt x="174" y="57"/>
                  <a:pt x="174" y="57"/>
                  <a:pt x="174" y="57"/>
                </a:cubicBezTo>
                <a:cubicBezTo>
                  <a:pt x="177" y="55"/>
                  <a:pt x="177" y="55"/>
                  <a:pt x="177" y="55"/>
                </a:cubicBezTo>
                <a:cubicBezTo>
                  <a:pt x="180" y="54"/>
                  <a:pt x="180" y="54"/>
                  <a:pt x="180" y="54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6" y="50"/>
                  <a:pt x="186" y="50"/>
                  <a:pt x="186" y="50"/>
                </a:cubicBezTo>
                <a:cubicBezTo>
                  <a:pt x="190" y="48"/>
                  <a:pt x="190" y="48"/>
                  <a:pt x="190" y="48"/>
                </a:cubicBezTo>
                <a:cubicBezTo>
                  <a:pt x="194" y="45"/>
                  <a:pt x="194" y="45"/>
                  <a:pt x="194" y="45"/>
                </a:cubicBezTo>
                <a:cubicBezTo>
                  <a:pt x="196" y="44"/>
                  <a:pt x="196" y="44"/>
                  <a:pt x="196" y="44"/>
                </a:cubicBezTo>
                <a:cubicBezTo>
                  <a:pt x="199" y="42"/>
                  <a:pt x="199" y="42"/>
                  <a:pt x="199" y="42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1" y="41"/>
                  <a:pt x="201" y="41"/>
                  <a:pt x="201" y="41"/>
                </a:cubicBezTo>
                <a:cubicBezTo>
                  <a:pt x="201" y="42"/>
                  <a:pt x="201" y="42"/>
                  <a:pt x="201" y="42"/>
                </a:cubicBezTo>
                <a:cubicBezTo>
                  <a:pt x="198" y="43"/>
                  <a:pt x="198" y="43"/>
                  <a:pt x="198" y="43"/>
                </a:cubicBezTo>
                <a:cubicBezTo>
                  <a:pt x="199" y="43"/>
                  <a:pt x="199" y="43"/>
                  <a:pt x="199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204" y="40"/>
                  <a:pt x="204" y="40"/>
                  <a:pt x="204" y="40"/>
                </a:cubicBezTo>
                <a:cubicBezTo>
                  <a:pt x="205" y="40"/>
                  <a:pt x="205" y="40"/>
                  <a:pt x="205" y="40"/>
                </a:cubicBezTo>
                <a:cubicBezTo>
                  <a:pt x="201" y="43"/>
                  <a:pt x="201" y="43"/>
                  <a:pt x="201" y="43"/>
                </a:cubicBezTo>
                <a:cubicBezTo>
                  <a:pt x="200" y="43"/>
                  <a:pt x="200" y="43"/>
                  <a:pt x="200" y="43"/>
                </a:cubicBezTo>
                <a:cubicBezTo>
                  <a:pt x="196" y="45"/>
                  <a:pt x="196" y="45"/>
                  <a:pt x="196" y="45"/>
                </a:cubicBezTo>
                <a:cubicBezTo>
                  <a:pt x="196" y="46"/>
                  <a:pt x="196" y="46"/>
                  <a:pt x="196" y="46"/>
                </a:cubicBezTo>
                <a:cubicBezTo>
                  <a:pt x="193" y="48"/>
                  <a:pt x="193" y="48"/>
                  <a:pt x="193" y="48"/>
                </a:cubicBezTo>
                <a:cubicBezTo>
                  <a:pt x="192" y="49"/>
                  <a:pt x="192" y="49"/>
                  <a:pt x="192" y="49"/>
                </a:cubicBezTo>
                <a:cubicBezTo>
                  <a:pt x="188" y="51"/>
                  <a:pt x="188" y="51"/>
                  <a:pt x="188" y="51"/>
                </a:cubicBezTo>
                <a:cubicBezTo>
                  <a:pt x="187" y="52"/>
                  <a:pt x="187" y="52"/>
                  <a:pt x="187" y="52"/>
                </a:cubicBezTo>
                <a:cubicBezTo>
                  <a:pt x="184" y="54"/>
                  <a:pt x="184" y="54"/>
                  <a:pt x="184" y="54"/>
                </a:cubicBezTo>
                <a:cubicBezTo>
                  <a:pt x="179" y="57"/>
                  <a:pt x="179" y="57"/>
                  <a:pt x="179" y="57"/>
                </a:cubicBezTo>
                <a:cubicBezTo>
                  <a:pt x="174" y="60"/>
                  <a:pt x="174" y="60"/>
                  <a:pt x="174" y="60"/>
                </a:cubicBezTo>
                <a:cubicBezTo>
                  <a:pt x="169" y="63"/>
                  <a:pt x="169" y="63"/>
                  <a:pt x="169" y="63"/>
                </a:cubicBezTo>
                <a:cubicBezTo>
                  <a:pt x="165" y="66"/>
                  <a:pt x="165" y="66"/>
                  <a:pt x="165" y="66"/>
                </a:cubicBezTo>
                <a:cubicBezTo>
                  <a:pt x="163" y="67"/>
                  <a:pt x="163" y="67"/>
                  <a:pt x="163" y="67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63" y="66"/>
                  <a:pt x="163" y="66"/>
                  <a:pt x="163" y="66"/>
                </a:cubicBezTo>
                <a:cubicBezTo>
                  <a:pt x="159" y="68"/>
                  <a:pt x="159" y="68"/>
                  <a:pt x="159" y="68"/>
                </a:cubicBezTo>
                <a:cubicBezTo>
                  <a:pt x="157" y="69"/>
                  <a:pt x="156" y="70"/>
                  <a:pt x="155" y="71"/>
                </a:cubicBezTo>
                <a:cubicBezTo>
                  <a:pt x="154" y="72"/>
                  <a:pt x="154" y="72"/>
                  <a:pt x="154" y="72"/>
                </a:cubicBezTo>
                <a:cubicBezTo>
                  <a:pt x="155" y="72"/>
                  <a:pt x="155" y="72"/>
                  <a:pt x="155" y="72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9" y="70"/>
                  <a:pt x="159" y="70"/>
                  <a:pt x="159" y="70"/>
                </a:cubicBezTo>
                <a:cubicBezTo>
                  <a:pt x="158" y="72"/>
                  <a:pt x="158" y="72"/>
                  <a:pt x="158" y="72"/>
                </a:cubicBezTo>
                <a:cubicBezTo>
                  <a:pt x="153" y="76"/>
                  <a:pt x="153" y="76"/>
                  <a:pt x="153" y="76"/>
                </a:cubicBezTo>
                <a:cubicBezTo>
                  <a:pt x="151" y="78"/>
                  <a:pt x="151" y="78"/>
                  <a:pt x="151" y="78"/>
                </a:cubicBezTo>
                <a:cubicBezTo>
                  <a:pt x="148" y="81"/>
                  <a:pt x="148" y="81"/>
                  <a:pt x="148" y="81"/>
                </a:cubicBezTo>
                <a:cubicBezTo>
                  <a:pt x="148" y="81"/>
                  <a:pt x="149" y="81"/>
                  <a:pt x="149" y="81"/>
                </a:cubicBezTo>
                <a:cubicBezTo>
                  <a:pt x="145" y="85"/>
                  <a:pt x="145" y="85"/>
                  <a:pt x="145" y="85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6" y="87"/>
                  <a:pt x="146" y="87"/>
                  <a:pt x="146" y="87"/>
                </a:cubicBezTo>
                <a:cubicBezTo>
                  <a:pt x="149" y="85"/>
                  <a:pt x="149" y="85"/>
                  <a:pt x="149" y="85"/>
                </a:cubicBezTo>
                <a:cubicBezTo>
                  <a:pt x="153" y="80"/>
                  <a:pt x="153" y="80"/>
                  <a:pt x="153" y="80"/>
                </a:cubicBezTo>
                <a:cubicBezTo>
                  <a:pt x="154" y="78"/>
                  <a:pt x="154" y="78"/>
                  <a:pt x="154" y="78"/>
                </a:cubicBezTo>
                <a:cubicBezTo>
                  <a:pt x="157" y="76"/>
                  <a:pt x="157" y="76"/>
                  <a:pt x="157" y="76"/>
                </a:cubicBezTo>
                <a:cubicBezTo>
                  <a:pt x="155" y="78"/>
                  <a:pt x="155" y="78"/>
                  <a:pt x="155" y="78"/>
                </a:cubicBezTo>
                <a:cubicBezTo>
                  <a:pt x="153" y="82"/>
                  <a:pt x="153" y="82"/>
                  <a:pt x="153" y="82"/>
                </a:cubicBezTo>
                <a:cubicBezTo>
                  <a:pt x="152" y="84"/>
                  <a:pt x="152" y="84"/>
                  <a:pt x="152" y="84"/>
                </a:cubicBezTo>
                <a:cubicBezTo>
                  <a:pt x="153" y="83"/>
                  <a:pt x="155" y="82"/>
                  <a:pt x="156" y="80"/>
                </a:cubicBezTo>
                <a:cubicBezTo>
                  <a:pt x="160" y="78"/>
                  <a:pt x="160" y="78"/>
                  <a:pt x="160" y="78"/>
                </a:cubicBezTo>
                <a:cubicBezTo>
                  <a:pt x="161" y="76"/>
                  <a:pt x="161" y="76"/>
                  <a:pt x="161" y="76"/>
                </a:cubicBezTo>
                <a:cubicBezTo>
                  <a:pt x="167" y="71"/>
                  <a:pt x="167" y="71"/>
                  <a:pt x="167" y="71"/>
                </a:cubicBezTo>
                <a:cubicBezTo>
                  <a:pt x="168" y="69"/>
                  <a:pt x="168" y="69"/>
                  <a:pt x="168" y="69"/>
                </a:cubicBezTo>
                <a:cubicBezTo>
                  <a:pt x="174" y="64"/>
                  <a:pt x="174" y="64"/>
                  <a:pt x="174" y="64"/>
                </a:cubicBezTo>
                <a:cubicBezTo>
                  <a:pt x="176" y="62"/>
                  <a:pt x="176" y="62"/>
                  <a:pt x="176" y="62"/>
                </a:cubicBezTo>
                <a:cubicBezTo>
                  <a:pt x="179" y="61"/>
                  <a:pt x="179" y="61"/>
                  <a:pt x="179" y="61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170" y="70"/>
                  <a:pt x="170" y="70"/>
                  <a:pt x="170" y="70"/>
                </a:cubicBezTo>
                <a:cubicBezTo>
                  <a:pt x="171" y="70"/>
                  <a:pt x="171" y="70"/>
                  <a:pt x="171" y="70"/>
                </a:cubicBezTo>
                <a:cubicBezTo>
                  <a:pt x="176" y="67"/>
                  <a:pt x="176" y="67"/>
                  <a:pt x="176" y="67"/>
                </a:cubicBezTo>
                <a:cubicBezTo>
                  <a:pt x="179" y="65"/>
                  <a:pt x="179" y="65"/>
                  <a:pt x="179" y="65"/>
                </a:cubicBezTo>
                <a:cubicBezTo>
                  <a:pt x="182" y="64"/>
                  <a:pt x="182" y="64"/>
                  <a:pt x="182" y="64"/>
                </a:cubicBezTo>
                <a:cubicBezTo>
                  <a:pt x="182" y="64"/>
                  <a:pt x="182" y="64"/>
                  <a:pt x="182" y="64"/>
                </a:cubicBezTo>
                <a:moveTo>
                  <a:pt x="110" y="148"/>
                </a:moveTo>
                <a:cubicBezTo>
                  <a:pt x="112" y="146"/>
                  <a:pt x="112" y="146"/>
                  <a:pt x="112" y="146"/>
                </a:cubicBezTo>
                <a:cubicBezTo>
                  <a:pt x="113" y="144"/>
                  <a:pt x="113" y="144"/>
                  <a:pt x="113" y="144"/>
                </a:cubicBezTo>
                <a:cubicBezTo>
                  <a:pt x="115" y="143"/>
                  <a:pt x="115" y="143"/>
                  <a:pt x="115" y="143"/>
                </a:cubicBezTo>
                <a:cubicBezTo>
                  <a:pt x="118" y="139"/>
                  <a:pt x="118" y="139"/>
                  <a:pt x="118" y="139"/>
                </a:cubicBezTo>
                <a:cubicBezTo>
                  <a:pt x="116" y="138"/>
                  <a:pt x="116" y="138"/>
                  <a:pt x="116" y="138"/>
                </a:cubicBezTo>
                <a:cubicBezTo>
                  <a:pt x="117" y="135"/>
                  <a:pt x="117" y="135"/>
                  <a:pt x="117" y="135"/>
                </a:cubicBezTo>
                <a:cubicBezTo>
                  <a:pt x="116" y="135"/>
                  <a:pt x="115" y="135"/>
                  <a:pt x="115" y="135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08" y="139"/>
                  <a:pt x="108" y="139"/>
                  <a:pt x="108" y="139"/>
                </a:cubicBezTo>
                <a:cubicBezTo>
                  <a:pt x="108" y="138"/>
                  <a:pt x="108" y="138"/>
                  <a:pt x="108" y="138"/>
                </a:cubicBezTo>
                <a:cubicBezTo>
                  <a:pt x="111" y="135"/>
                  <a:pt x="111" y="135"/>
                  <a:pt x="111" y="135"/>
                </a:cubicBezTo>
                <a:cubicBezTo>
                  <a:pt x="114" y="134"/>
                  <a:pt x="114" y="134"/>
                  <a:pt x="114" y="134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21" y="131"/>
                  <a:pt x="121" y="131"/>
                  <a:pt x="121" y="131"/>
                </a:cubicBezTo>
                <a:cubicBezTo>
                  <a:pt x="119" y="130"/>
                  <a:pt x="119" y="130"/>
                  <a:pt x="119" y="130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18" y="127"/>
                  <a:pt x="118" y="127"/>
                  <a:pt x="118" y="127"/>
                </a:cubicBezTo>
                <a:cubicBezTo>
                  <a:pt x="119" y="124"/>
                  <a:pt x="119" y="124"/>
                  <a:pt x="119" y="124"/>
                </a:cubicBezTo>
                <a:cubicBezTo>
                  <a:pt x="120" y="121"/>
                  <a:pt x="120" y="121"/>
                  <a:pt x="120" y="121"/>
                </a:cubicBezTo>
                <a:cubicBezTo>
                  <a:pt x="122" y="119"/>
                  <a:pt x="122" y="119"/>
                  <a:pt x="122" y="119"/>
                </a:cubicBezTo>
                <a:cubicBezTo>
                  <a:pt x="123" y="118"/>
                  <a:pt x="123" y="118"/>
                  <a:pt x="123" y="118"/>
                </a:cubicBezTo>
                <a:cubicBezTo>
                  <a:pt x="125" y="116"/>
                  <a:pt x="125" y="116"/>
                  <a:pt x="125" y="116"/>
                </a:cubicBezTo>
                <a:cubicBezTo>
                  <a:pt x="127" y="112"/>
                  <a:pt x="127" y="112"/>
                  <a:pt x="127" y="112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6" y="100"/>
                  <a:pt x="136" y="100"/>
                  <a:pt x="136" y="100"/>
                </a:cubicBezTo>
                <a:cubicBezTo>
                  <a:pt x="139" y="96"/>
                  <a:pt x="139" y="96"/>
                  <a:pt x="139" y="96"/>
                </a:cubicBezTo>
                <a:cubicBezTo>
                  <a:pt x="133" y="101"/>
                  <a:pt x="133" y="101"/>
                  <a:pt x="133" y="101"/>
                </a:cubicBezTo>
                <a:cubicBezTo>
                  <a:pt x="132" y="102"/>
                  <a:pt x="130" y="103"/>
                  <a:pt x="129" y="104"/>
                </a:cubicBezTo>
                <a:cubicBezTo>
                  <a:pt x="126" y="106"/>
                  <a:pt x="126" y="106"/>
                  <a:pt x="126" y="106"/>
                </a:cubicBezTo>
                <a:cubicBezTo>
                  <a:pt x="123" y="108"/>
                  <a:pt x="123" y="108"/>
                  <a:pt x="123" y="108"/>
                </a:cubicBezTo>
                <a:cubicBezTo>
                  <a:pt x="122" y="108"/>
                  <a:pt x="122" y="108"/>
                  <a:pt x="122" y="108"/>
                </a:cubicBezTo>
                <a:cubicBezTo>
                  <a:pt x="124" y="105"/>
                  <a:pt x="124" y="105"/>
                  <a:pt x="124" y="105"/>
                </a:cubicBezTo>
                <a:cubicBezTo>
                  <a:pt x="125" y="103"/>
                  <a:pt x="125" y="103"/>
                  <a:pt x="125" y="103"/>
                </a:cubicBezTo>
                <a:cubicBezTo>
                  <a:pt x="123" y="104"/>
                  <a:pt x="123" y="104"/>
                  <a:pt x="123" y="104"/>
                </a:cubicBezTo>
                <a:cubicBezTo>
                  <a:pt x="128" y="100"/>
                  <a:pt x="128" y="100"/>
                  <a:pt x="128" y="100"/>
                </a:cubicBezTo>
                <a:cubicBezTo>
                  <a:pt x="130" y="98"/>
                  <a:pt x="132" y="96"/>
                  <a:pt x="134" y="94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7" y="91"/>
                  <a:pt x="137" y="91"/>
                  <a:pt x="137" y="91"/>
                </a:cubicBezTo>
                <a:cubicBezTo>
                  <a:pt x="138" y="89"/>
                  <a:pt x="138" y="89"/>
                  <a:pt x="138" y="89"/>
                </a:cubicBezTo>
                <a:cubicBezTo>
                  <a:pt x="141" y="85"/>
                  <a:pt x="141" y="85"/>
                  <a:pt x="141" y="85"/>
                </a:cubicBezTo>
                <a:cubicBezTo>
                  <a:pt x="144" y="82"/>
                  <a:pt x="144" y="82"/>
                  <a:pt x="144" y="82"/>
                </a:cubicBezTo>
                <a:cubicBezTo>
                  <a:pt x="142" y="83"/>
                  <a:pt x="142" y="83"/>
                  <a:pt x="142" y="83"/>
                </a:cubicBezTo>
                <a:cubicBezTo>
                  <a:pt x="141" y="83"/>
                  <a:pt x="141" y="83"/>
                  <a:pt x="141" y="83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42" y="82"/>
                  <a:pt x="142" y="82"/>
                  <a:pt x="142" y="82"/>
                </a:cubicBezTo>
                <a:cubicBezTo>
                  <a:pt x="139" y="84"/>
                  <a:pt x="139" y="84"/>
                  <a:pt x="139" y="84"/>
                </a:cubicBezTo>
                <a:cubicBezTo>
                  <a:pt x="135" y="87"/>
                  <a:pt x="135" y="87"/>
                  <a:pt x="135" y="87"/>
                </a:cubicBezTo>
                <a:cubicBezTo>
                  <a:pt x="131" y="91"/>
                  <a:pt x="131" y="91"/>
                  <a:pt x="131" y="91"/>
                </a:cubicBezTo>
                <a:cubicBezTo>
                  <a:pt x="127" y="94"/>
                  <a:pt x="127" y="94"/>
                  <a:pt x="127" y="94"/>
                </a:cubicBezTo>
                <a:cubicBezTo>
                  <a:pt x="123" y="98"/>
                  <a:pt x="123" y="98"/>
                  <a:pt x="123" y="98"/>
                </a:cubicBezTo>
                <a:cubicBezTo>
                  <a:pt x="123" y="97"/>
                  <a:pt x="123" y="97"/>
                  <a:pt x="123" y="97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03"/>
                  <a:pt x="117" y="103"/>
                  <a:pt x="117" y="103"/>
                </a:cubicBezTo>
                <a:cubicBezTo>
                  <a:pt x="115" y="105"/>
                  <a:pt x="115" y="105"/>
                  <a:pt x="115" y="105"/>
                </a:cubicBezTo>
                <a:cubicBezTo>
                  <a:pt x="113" y="108"/>
                  <a:pt x="113" y="108"/>
                  <a:pt x="113" y="108"/>
                </a:cubicBezTo>
                <a:cubicBezTo>
                  <a:pt x="109" y="113"/>
                  <a:pt x="109" y="113"/>
                  <a:pt x="109" y="113"/>
                </a:cubicBezTo>
                <a:cubicBezTo>
                  <a:pt x="107" y="115"/>
                  <a:pt x="105" y="116"/>
                  <a:pt x="103" y="118"/>
                </a:cubicBezTo>
                <a:cubicBezTo>
                  <a:pt x="99" y="122"/>
                  <a:pt x="99" y="122"/>
                  <a:pt x="99" y="122"/>
                </a:cubicBezTo>
                <a:cubicBezTo>
                  <a:pt x="96" y="125"/>
                  <a:pt x="96" y="125"/>
                  <a:pt x="96" y="125"/>
                </a:cubicBezTo>
                <a:cubicBezTo>
                  <a:pt x="95" y="126"/>
                  <a:pt x="95" y="126"/>
                  <a:pt x="95" y="126"/>
                </a:cubicBezTo>
                <a:cubicBezTo>
                  <a:pt x="91" y="131"/>
                  <a:pt x="91" y="131"/>
                  <a:pt x="91" y="131"/>
                </a:cubicBezTo>
                <a:cubicBezTo>
                  <a:pt x="89" y="133"/>
                  <a:pt x="87" y="135"/>
                  <a:pt x="85" y="137"/>
                </a:cubicBezTo>
                <a:cubicBezTo>
                  <a:pt x="83" y="141"/>
                  <a:pt x="83" y="141"/>
                  <a:pt x="83" y="141"/>
                </a:cubicBezTo>
                <a:cubicBezTo>
                  <a:pt x="80" y="144"/>
                  <a:pt x="80" y="144"/>
                  <a:pt x="80" y="144"/>
                </a:cubicBezTo>
                <a:cubicBezTo>
                  <a:pt x="77" y="148"/>
                  <a:pt x="77" y="148"/>
                  <a:pt x="77" y="148"/>
                </a:cubicBezTo>
                <a:cubicBezTo>
                  <a:pt x="76" y="148"/>
                  <a:pt x="76" y="148"/>
                  <a:pt x="76" y="148"/>
                </a:cubicBezTo>
                <a:cubicBezTo>
                  <a:pt x="80" y="143"/>
                  <a:pt x="80" y="143"/>
                  <a:pt x="80" y="143"/>
                </a:cubicBezTo>
                <a:cubicBezTo>
                  <a:pt x="83" y="138"/>
                  <a:pt x="83" y="138"/>
                  <a:pt x="83" y="138"/>
                </a:cubicBezTo>
                <a:cubicBezTo>
                  <a:pt x="84" y="137"/>
                  <a:pt x="85" y="135"/>
                  <a:pt x="86" y="134"/>
                </a:cubicBezTo>
                <a:cubicBezTo>
                  <a:pt x="91" y="128"/>
                  <a:pt x="91" y="128"/>
                  <a:pt x="91" y="128"/>
                </a:cubicBezTo>
                <a:cubicBezTo>
                  <a:pt x="95" y="124"/>
                  <a:pt x="95" y="124"/>
                  <a:pt x="95" y="124"/>
                </a:cubicBezTo>
                <a:cubicBezTo>
                  <a:pt x="96" y="123"/>
                  <a:pt x="96" y="123"/>
                  <a:pt x="96" y="123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9" y="119"/>
                  <a:pt x="99" y="119"/>
                  <a:pt x="99" y="119"/>
                </a:cubicBezTo>
                <a:cubicBezTo>
                  <a:pt x="92" y="126"/>
                  <a:pt x="85" y="135"/>
                  <a:pt x="79" y="142"/>
                </a:cubicBezTo>
                <a:cubicBezTo>
                  <a:pt x="67" y="158"/>
                  <a:pt x="67" y="158"/>
                  <a:pt x="47" y="190"/>
                </a:cubicBezTo>
                <a:cubicBezTo>
                  <a:pt x="37" y="208"/>
                  <a:pt x="37" y="208"/>
                  <a:pt x="23" y="243"/>
                </a:cubicBezTo>
                <a:cubicBezTo>
                  <a:pt x="19" y="253"/>
                  <a:pt x="15" y="267"/>
                  <a:pt x="12" y="277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1" y="280"/>
                  <a:pt x="11" y="280"/>
                  <a:pt x="11" y="280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2" y="277"/>
                  <a:pt x="12" y="277"/>
                  <a:pt x="12" y="277"/>
                </a:cubicBezTo>
                <a:cubicBezTo>
                  <a:pt x="11" y="281"/>
                  <a:pt x="11" y="281"/>
                  <a:pt x="11" y="281"/>
                </a:cubicBezTo>
                <a:cubicBezTo>
                  <a:pt x="10" y="286"/>
                  <a:pt x="10" y="286"/>
                  <a:pt x="10" y="286"/>
                </a:cubicBezTo>
                <a:cubicBezTo>
                  <a:pt x="10" y="288"/>
                  <a:pt x="10" y="289"/>
                  <a:pt x="9" y="291"/>
                </a:cubicBezTo>
                <a:cubicBezTo>
                  <a:pt x="9" y="294"/>
                  <a:pt x="9" y="294"/>
                  <a:pt x="9" y="294"/>
                </a:cubicBezTo>
                <a:cubicBezTo>
                  <a:pt x="8" y="297"/>
                  <a:pt x="8" y="297"/>
                  <a:pt x="8" y="297"/>
                </a:cubicBezTo>
                <a:cubicBezTo>
                  <a:pt x="8" y="300"/>
                  <a:pt x="8" y="300"/>
                  <a:pt x="8" y="300"/>
                </a:cubicBezTo>
                <a:cubicBezTo>
                  <a:pt x="7" y="304"/>
                  <a:pt x="7" y="304"/>
                  <a:pt x="7" y="304"/>
                </a:cubicBezTo>
                <a:cubicBezTo>
                  <a:pt x="7" y="306"/>
                  <a:pt x="7" y="306"/>
                  <a:pt x="7" y="306"/>
                </a:cubicBezTo>
                <a:cubicBezTo>
                  <a:pt x="6" y="310"/>
                  <a:pt x="6" y="310"/>
                  <a:pt x="6" y="310"/>
                </a:cubicBezTo>
                <a:cubicBezTo>
                  <a:pt x="6" y="311"/>
                  <a:pt x="6" y="311"/>
                  <a:pt x="6" y="311"/>
                </a:cubicBezTo>
                <a:cubicBezTo>
                  <a:pt x="7" y="308"/>
                  <a:pt x="7" y="308"/>
                  <a:pt x="7" y="308"/>
                </a:cubicBezTo>
                <a:cubicBezTo>
                  <a:pt x="8" y="304"/>
                  <a:pt x="8" y="304"/>
                  <a:pt x="8" y="304"/>
                </a:cubicBezTo>
                <a:cubicBezTo>
                  <a:pt x="9" y="298"/>
                  <a:pt x="9" y="298"/>
                  <a:pt x="9" y="298"/>
                </a:cubicBezTo>
                <a:cubicBezTo>
                  <a:pt x="10" y="291"/>
                  <a:pt x="10" y="291"/>
                  <a:pt x="10" y="291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12" y="280"/>
                  <a:pt x="13" y="277"/>
                  <a:pt x="14" y="274"/>
                </a:cubicBezTo>
                <a:cubicBezTo>
                  <a:pt x="15" y="272"/>
                  <a:pt x="15" y="270"/>
                  <a:pt x="16" y="268"/>
                </a:cubicBezTo>
                <a:cubicBezTo>
                  <a:pt x="18" y="262"/>
                  <a:pt x="18" y="262"/>
                  <a:pt x="18" y="262"/>
                </a:cubicBezTo>
                <a:cubicBezTo>
                  <a:pt x="19" y="260"/>
                  <a:pt x="19" y="260"/>
                  <a:pt x="19" y="260"/>
                </a:cubicBezTo>
                <a:cubicBezTo>
                  <a:pt x="21" y="255"/>
                  <a:pt x="21" y="255"/>
                  <a:pt x="21" y="255"/>
                </a:cubicBezTo>
                <a:cubicBezTo>
                  <a:pt x="23" y="252"/>
                  <a:pt x="23" y="252"/>
                  <a:pt x="23" y="252"/>
                </a:cubicBezTo>
                <a:cubicBezTo>
                  <a:pt x="24" y="250"/>
                  <a:pt x="24" y="250"/>
                  <a:pt x="24" y="250"/>
                </a:cubicBezTo>
                <a:cubicBezTo>
                  <a:pt x="26" y="246"/>
                  <a:pt x="26" y="246"/>
                  <a:pt x="26" y="246"/>
                </a:cubicBezTo>
                <a:cubicBezTo>
                  <a:pt x="27" y="244"/>
                  <a:pt x="27" y="244"/>
                  <a:pt x="27" y="244"/>
                </a:cubicBezTo>
                <a:cubicBezTo>
                  <a:pt x="29" y="237"/>
                  <a:pt x="29" y="237"/>
                  <a:pt x="29" y="237"/>
                </a:cubicBezTo>
                <a:cubicBezTo>
                  <a:pt x="30" y="235"/>
                  <a:pt x="30" y="235"/>
                  <a:pt x="30" y="235"/>
                </a:cubicBezTo>
                <a:cubicBezTo>
                  <a:pt x="31" y="231"/>
                  <a:pt x="31" y="231"/>
                  <a:pt x="31" y="231"/>
                </a:cubicBezTo>
                <a:cubicBezTo>
                  <a:pt x="32" y="228"/>
                  <a:pt x="32" y="228"/>
                  <a:pt x="32" y="228"/>
                </a:cubicBezTo>
                <a:cubicBezTo>
                  <a:pt x="34" y="226"/>
                  <a:pt x="34" y="226"/>
                  <a:pt x="34" y="226"/>
                </a:cubicBezTo>
                <a:cubicBezTo>
                  <a:pt x="32" y="231"/>
                  <a:pt x="32" y="231"/>
                  <a:pt x="32" y="231"/>
                </a:cubicBezTo>
                <a:cubicBezTo>
                  <a:pt x="35" y="226"/>
                  <a:pt x="35" y="226"/>
                  <a:pt x="35" y="226"/>
                </a:cubicBezTo>
                <a:cubicBezTo>
                  <a:pt x="37" y="223"/>
                  <a:pt x="37" y="223"/>
                  <a:pt x="37" y="223"/>
                </a:cubicBezTo>
                <a:cubicBezTo>
                  <a:pt x="38" y="220"/>
                  <a:pt x="38" y="220"/>
                  <a:pt x="38" y="220"/>
                </a:cubicBezTo>
                <a:cubicBezTo>
                  <a:pt x="42" y="212"/>
                  <a:pt x="42" y="212"/>
                  <a:pt x="42" y="212"/>
                </a:cubicBezTo>
                <a:cubicBezTo>
                  <a:pt x="43" y="212"/>
                  <a:pt x="43" y="212"/>
                  <a:pt x="44" y="212"/>
                </a:cubicBezTo>
                <a:cubicBezTo>
                  <a:pt x="46" y="210"/>
                  <a:pt x="46" y="210"/>
                  <a:pt x="46" y="210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06"/>
                  <a:pt x="49" y="206"/>
                  <a:pt x="49" y="206"/>
                </a:cubicBezTo>
                <a:cubicBezTo>
                  <a:pt x="52" y="199"/>
                  <a:pt x="52" y="199"/>
                  <a:pt x="52" y="199"/>
                </a:cubicBezTo>
                <a:cubicBezTo>
                  <a:pt x="56" y="194"/>
                  <a:pt x="56" y="194"/>
                  <a:pt x="56" y="194"/>
                </a:cubicBezTo>
                <a:cubicBezTo>
                  <a:pt x="56" y="194"/>
                  <a:pt x="57" y="194"/>
                  <a:pt x="57" y="194"/>
                </a:cubicBezTo>
                <a:cubicBezTo>
                  <a:pt x="59" y="192"/>
                  <a:pt x="59" y="192"/>
                  <a:pt x="59" y="192"/>
                </a:cubicBezTo>
                <a:cubicBezTo>
                  <a:pt x="60" y="192"/>
                  <a:pt x="60" y="192"/>
                  <a:pt x="60" y="192"/>
                </a:cubicBezTo>
                <a:cubicBezTo>
                  <a:pt x="63" y="189"/>
                  <a:pt x="63" y="189"/>
                  <a:pt x="63" y="189"/>
                </a:cubicBezTo>
                <a:cubicBezTo>
                  <a:pt x="66" y="186"/>
                  <a:pt x="66" y="186"/>
                  <a:pt x="66" y="186"/>
                </a:cubicBezTo>
                <a:cubicBezTo>
                  <a:pt x="68" y="186"/>
                  <a:pt x="69" y="186"/>
                  <a:pt x="70" y="187"/>
                </a:cubicBezTo>
                <a:cubicBezTo>
                  <a:pt x="70" y="188"/>
                  <a:pt x="69" y="188"/>
                  <a:pt x="69" y="189"/>
                </a:cubicBezTo>
                <a:cubicBezTo>
                  <a:pt x="68" y="189"/>
                  <a:pt x="67" y="189"/>
                  <a:pt x="66" y="189"/>
                </a:cubicBezTo>
                <a:cubicBezTo>
                  <a:pt x="63" y="192"/>
                  <a:pt x="63" y="192"/>
                  <a:pt x="61" y="196"/>
                </a:cubicBezTo>
                <a:cubicBezTo>
                  <a:pt x="61" y="197"/>
                  <a:pt x="61" y="197"/>
                  <a:pt x="61" y="197"/>
                </a:cubicBezTo>
                <a:cubicBezTo>
                  <a:pt x="64" y="195"/>
                  <a:pt x="64" y="195"/>
                  <a:pt x="64" y="195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8" y="192"/>
                  <a:pt x="68" y="192"/>
                  <a:pt x="68" y="192"/>
                </a:cubicBezTo>
                <a:cubicBezTo>
                  <a:pt x="71" y="190"/>
                  <a:pt x="71" y="190"/>
                  <a:pt x="71" y="190"/>
                </a:cubicBezTo>
                <a:cubicBezTo>
                  <a:pt x="73" y="189"/>
                  <a:pt x="73" y="189"/>
                  <a:pt x="73" y="189"/>
                </a:cubicBezTo>
                <a:cubicBezTo>
                  <a:pt x="77" y="185"/>
                  <a:pt x="77" y="185"/>
                  <a:pt x="77" y="185"/>
                </a:cubicBezTo>
                <a:cubicBezTo>
                  <a:pt x="80" y="182"/>
                  <a:pt x="80" y="182"/>
                  <a:pt x="80" y="182"/>
                </a:cubicBezTo>
                <a:cubicBezTo>
                  <a:pt x="83" y="178"/>
                  <a:pt x="83" y="178"/>
                  <a:pt x="83" y="178"/>
                </a:cubicBezTo>
                <a:cubicBezTo>
                  <a:pt x="80" y="179"/>
                  <a:pt x="80" y="179"/>
                  <a:pt x="80" y="179"/>
                </a:cubicBezTo>
                <a:cubicBezTo>
                  <a:pt x="75" y="184"/>
                  <a:pt x="75" y="184"/>
                  <a:pt x="75" y="184"/>
                </a:cubicBezTo>
                <a:cubicBezTo>
                  <a:pt x="73" y="184"/>
                  <a:pt x="73" y="184"/>
                  <a:pt x="73" y="184"/>
                </a:cubicBezTo>
                <a:cubicBezTo>
                  <a:pt x="73" y="182"/>
                  <a:pt x="73" y="182"/>
                  <a:pt x="73" y="182"/>
                </a:cubicBezTo>
                <a:cubicBezTo>
                  <a:pt x="73" y="178"/>
                  <a:pt x="73" y="178"/>
                  <a:pt x="73" y="178"/>
                </a:cubicBezTo>
                <a:cubicBezTo>
                  <a:pt x="76" y="171"/>
                  <a:pt x="76" y="171"/>
                  <a:pt x="76" y="171"/>
                </a:cubicBezTo>
                <a:cubicBezTo>
                  <a:pt x="80" y="168"/>
                  <a:pt x="80" y="168"/>
                  <a:pt x="80" y="168"/>
                </a:cubicBezTo>
                <a:cubicBezTo>
                  <a:pt x="83" y="163"/>
                  <a:pt x="83" y="163"/>
                  <a:pt x="83" y="163"/>
                </a:cubicBezTo>
                <a:cubicBezTo>
                  <a:pt x="81" y="162"/>
                  <a:pt x="81" y="162"/>
                  <a:pt x="81" y="162"/>
                </a:cubicBezTo>
                <a:cubicBezTo>
                  <a:pt x="78" y="164"/>
                  <a:pt x="78" y="164"/>
                  <a:pt x="78" y="164"/>
                </a:cubicBezTo>
                <a:cubicBezTo>
                  <a:pt x="73" y="168"/>
                  <a:pt x="73" y="168"/>
                  <a:pt x="73" y="168"/>
                </a:cubicBezTo>
                <a:cubicBezTo>
                  <a:pt x="67" y="174"/>
                  <a:pt x="67" y="174"/>
                  <a:pt x="67" y="174"/>
                </a:cubicBezTo>
                <a:cubicBezTo>
                  <a:pt x="63" y="178"/>
                  <a:pt x="63" y="178"/>
                  <a:pt x="63" y="178"/>
                </a:cubicBezTo>
                <a:cubicBezTo>
                  <a:pt x="66" y="175"/>
                  <a:pt x="66" y="175"/>
                  <a:pt x="66" y="175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71" y="169"/>
                  <a:pt x="71" y="169"/>
                  <a:pt x="71" y="169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1" y="167"/>
                  <a:pt x="72" y="167"/>
                  <a:pt x="72" y="167"/>
                </a:cubicBezTo>
                <a:cubicBezTo>
                  <a:pt x="75" y="164"/>
                  <a:pt x="75" y="164"/>
                  <a:pt x="75" y="164"/>
                </a:cubicBezTo>
                <a:cubicBezTo>
                  <a:pt x="78" y="161"/>
                  <a:pt x="78" y="161"/>
                  <a:pt x="78" y="161"/>
                </a:cubicBezTo>
                <a:cubicBezTo>
                  <a:pt x="80" y="161"/>
                  <a:pt x="80" y="161"/>
                  <a:pt x="80" y="161"/>
                </a:cubicBezTo>
                <a:cubicBezTo>
                  <a:pt x="83" y="157"/>
                  <a:pt x="83" y="157"/>
                  <a:pt x="83" y="15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7" y="156"/>
                  <a:pt x="87" y="156"/>
                </a:cubicBezTo>
                <a:cubicBezTo>
                  <a:pt x="92" y="156"/>
                  <a:pt x="92" y="156"/>
                  <a:pt x="92" y="156"/>
                </a:cubicBezTo>
                <a:cubicBezTo>
                  <a:pt x="93" y="157"/>
                  <a:pt x="93" y="157"/>
                  <a:pt x="93" y="157"/>
                </a:cubicBezTo>
                <a:cubicBezTo>
                  <a:pt x="95" y="157"/>
                  <a:pt x="95" y="157"/>
                  <a:pt x="95" y="157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104" y="150"/>
                  <a:pt x="104" y="150"/>
                  <a:pt x="104" y="150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10" y="148"/>
                  <a:pt x="110" y="148"/>
                  <a:pt x="110" y="148"/>
                </a:cubicBezTo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Box 13"/>
          <p:cNvSpPr/>
          <p:nvPr/>
        </p:nvSpPr>
        <p:spPr>
          <a:xfrm>
            <a:off x="8283600" y="4576680"/>
            <a:ext cx="1087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7050240" y="5572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Box 13"/>
          <p:cNvSpPr/>
          <p:nvPr/>
        </p:nvSpPr>
        <p:spPr>
          <a:xfrm>
            <a:off x="5472000" y="5853240"/>
            <a:ext cx="1086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Box 13"/>
          <p:cNvSpPr/>
          <p:nvPr/>
        </p:nvSpPr>
        <p:spPr>
          <a:xfrm>
            <a:off x="3987720" y="560376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13"/>
          <p:cNvSpPr/>
          <p:nvPr/>
        </p:nvSpPr>
        <p:spPr>
          <a:xfrm>
            <a:off x="2602080" y="4618080"/>
            <a:ext cx="1085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2" name="组合 33"/>
          <p:cNvGrpSpPr/>
          <p:nvPr/>
        </p:nvGrpSpPr>
        <p:grpSpPr>
          <a:xfrm>
            <a:off x="11480760" y="479520"/>
            <a:ext cx="333360" cy="333360"/>
            <a:chOff x="11480760" y="479520"/>
            <a:chExt cx="333360" cy="333360"/>
          </a:xfrm>
        </p:grpSpPr>
        <p:sp>
          <p:nvSpPr>
            <p:cNvPr id="833" name="椭圆 34"/>
            <p:cNvSpPr/>
            <p:nvPr/>
          </p:nvSpPr>
          <p:spPr>
            <a:xfrm>
              <a:off x="11480760" y="479520"/>
              <a:ext cx="333360" cy="33336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等腰三角形 35"/>
            <p:cNvSpPr/>
            <p:nvPr/>
          </p:nvSpPr>
          <p:spPr>
            <a:xfrm rot="5400000">
              <a:off x="11562120" y="561240"/>
              <a:ext cx="212760" cy="182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2:06:50Z</dcterms:created>
  <dc:creator>大侠素材铺</dc:creator>
  <dc:description>大侠素材铺
淘宝店：https://dxpu.taobao.com/</dc:description>
  <cp:keywords>大侠素材铺</cp:keywords>
  <dc:language>en-US</dc:language>
  <cp:lastModifiedBy>微软用户</cp:lastModifiedBy>
  <dcterms:modified xsi:type="dcterms:W3CDTF">2016-11-04T03:27:43Z</dcterms:modified>
  <cp:revision>124</cp:revision>
  <dc:subject>大侠素材铺</dc:subject>
  <dc:title>大侠素材铺</dc:title>
</cp:coreProperties>
</file>