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23F-7DAD-4DE9-AC9B-DA93ECA7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D77-EF2E-40AC-9FD4-6CDAB968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9E3-6E69-45DC-ABB9-5E1C07F8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FC1-5559-4488-A7FA-9C7A2419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60B-E810-4B1D-8E64-692FD293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53A-5F54-4F60-A6CB-F50A7C81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B81-1578-4B60-9CE0-F01ADE38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47E-8132-42D3-8524-6905D333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8E1-C71F-4084-9F24-F6DDE9B7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EAC-0181-4697-8B81-C6AC17A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24F-4BC1-4CF0-BFB1-242A9B9E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E00-257C-4D3E-9A53-DAEC9CE1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088F-4130-4CB3-95A1-BBA4BB7C20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22000" y="1357200"/>
            <a:ext cx="4546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222000" y="2428920"/>
            <a:ext cx="454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783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3997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497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42884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5690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997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712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7830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712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426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06900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855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0-30T09:46:43Z</dcterms:modified>
  <cp:revision>41</cp:revision>
  <dc:subject/>
  <dc:title>幻灯片 1</dc:title>
</cp:coreProperties>
</file>