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BBD-AAB6-48E8-B5DF-F89E2E20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5C8-0ACC-4143-92F4-D15935FD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6A1-22B0-4628-8A6F-5DC26CAC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91D-7C41-4AB4-9E7E-A1BDB3F7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6BD-7FDD-4341-8C2C-DCBF217B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6E9-79B5-46E2-8F6E-745B70EF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FC2-151A-4EDC-AE0C-FBFD8982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9ED-5870-4C85-A044-7CE41C47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13E-AF3F-43B5-B21C-31DA43F9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CAE-3612-4325-9314-E8FB1B26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654-063D-465E-BAE5-44172DA4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AB0-E7F7-4796-9E66-BCAC499C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4A17-8E32-4875-8002-2E76C794B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7920" y="1828800"/>
            <a:ext cx="9151920" cy="193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4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矩形 1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48" name="矩形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3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矩形 15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55" name="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-379440" y="-379440"/>
            <a:ext cx="13701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8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6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矩形 10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63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-379440" y="-379440"/>
            <a:ext cx="1141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6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6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矩形 8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71" name="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-379440" y="-379440"/>
            <a:ext cx="1141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7920" y="1828800"/>
            <a:ext cx="9151920" cy="1933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203508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 !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5:35:27Z</dcterms:created>
  <dc:creator>Administrator</dc:creator>
  <dc:description/>
  <dc:language>en-US</dc:language>
  <cp:lastModifiedBy>Administrator</cp:lastModifiedBy>
  <dcterms:modified xsi:type="dcterms:W3CDTF">2016-03-24T09:47:13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  <property fmtid="{D5CDD505-2E9C-101B-9397-08002B2CF9AE}" pid="3" name="Version">
    <vt:r8>1</vt:r8>
  </property>
</Properties>
</file>