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C46-B592-4FF0-A4FE-C83982E9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42D-78A2-4CA8-91A3-3B74878B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E7D-2DFF-4537-A355-A42C184A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27D-2B5A-41F4-8AE3-9A709915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238-7699-4888-9D63-DA5F39FC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A94-B23A-4B51-B76C-A9E98F0D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4C3-4814-4E59-A71F-63FDCB0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8BA-CA0B-416B-93D1-DC5C8A18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89C-4278-4505-B2F6-098B8FEC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846-B790-4F71-BEF0-6E92FF6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C19-4E2E-44F6-8A64-AD65B3E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F36-431F-43BF-967C-A559C507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246D-9C9B-429C-8138-1980C948B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4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矩形 1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48" name="矩形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3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矩形 15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55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-379440" y="-379440"/>
            <a:ext cx="13701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8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矩形 10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63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6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矩形 8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71" name="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 !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5:35:27Z</dcterms:created>
  <dc:creator>Administrator</dc:creator>
  <dc:description/>
  <dc:language>en-US</dc:language>
  <cp:lastModifiedBy>Administrator</cp:lastModifiedBy>
  <dcterms:modified xsi:type="dcterms:W3CDTF">2016-03-24T09:47:13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Version">
    <vt:r8>1</vt:r8>
  </property>
</Properties>
</file>