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CB670-D007-4E75-9271-5CDF99E1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9BCC2-A6B7-4262-8B12-8E9A36DF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5ACE2-E1A5-416B-A4CB-BDB1F6F8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BF29F-0A4A-421F-93AC-DECFB314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BAE1C-6130-4804-B1F6-8ACA07AF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F4EE9-063A-4728-9798-F860084F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26C96-F244-469E-8AEA-F672C01A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4A944-5F1B-4802-B0CB-0579A7D4A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32E81-1418-47BA-A78E-557466119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5C2B6-94DC-44C6-8DE8-11563B2B0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7874D-8A8A-48EC-9D10-96AF9211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0F19F1-8227-4A44-83EE-CFBFA479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3D7999-D3C9-47D4-B685-C07DD3AE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B4AD6B-65F7-4530-B8A7-CB3F6214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7DF8C5-743E-4F51-994E-E45CEA65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6A751-8365-4AFF-9494-CF1B3632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A91F8-4F38-457E-97F4-48131725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F62B9-CA81-43BF-8471-2653B346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293314-7B0B-4C2E-B890-F6E8ADF5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E4648-090B-4B5A-8C4C-AA3FE189D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00DEB6-F031-453B-9CFD-8E14D9F59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7BD5C2-0873-4835-9CCA-E582E05ED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BCB09-4B26-4728-8573-816D5B71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F1A408-734D-4B23-8B23-201E4400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6E2CF-9465-4C68-B976-58A3AFD4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F216B8-2953-4C81-93A9-B637BE90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75371-B465-45AA-8772-783DE77A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57982F-C943-4182-AEE5-826DE254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EBA669-2E58-4FAA-A055-76D9FFC9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F2B7B-9E87-4D13-80C7-7BEEB45D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9CE8-B15C-4C2A-A86C-C240FD36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F7833-94E8-4826-8C59-8BA2492F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16163B-7CF9-4423-B419-C67867EA1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10994C-DFA5-4EDC-B056-FAAED7631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13CEB-C11B-4B5F-8C6F-8F3C43020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66196-95C2-4A98-AC8E-C12F81B1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5755E-6248-43C6-8280-83D2848C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199F1B-40C0-4052-9A36-2959A450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11519-6792-45CB-9989-591553EE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8BEBD-20B7-4831-A4CA-85779D08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7DB69-F875-455D-BC55-1DD720BE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C583-8BE2-49E5-A2DC-659B9D53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810F0-E6DC-43EA-8DA0-F1406943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D0B90-E060-4CA0-BC86-BB3E74D5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51571-0059-468B-9E11-42930DAC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061F0B-A7D6-4C65-952B-21403683D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6792C-B0D2-49AF-9CD7-3A21BC5BD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C350-43ED-49B0-81CB-4E54444E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FDD1-67E8-43F6-A961-4D06EDAC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7F98-6963-465B-81F9-203E155B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E5FB-4FEA-45FB-85DA-ABCC6F13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4D72-0134-4BF0-9968-AEAC3544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2DB9-3B06-4E79-9A59-0B3B60A6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A412-0EF2-4176-91F0-8B54D807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38B1-80B7-4962-B450-D414E88D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68F2-8301-4BF4-889C-EA631982A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3D0D-1DB2-40D1-A1A2-E8ABF60EE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C3BB-F260-452B-BF01-630F50E35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56BD-1C8E-46FE-8D5D-F9BA9749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A59D-C45B-49B7-AACA-9EED008D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BE6A-C05C-480B-B98C-55103C1E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239C-040F-4F5A-AB8B-371B5D16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B456-6D74-401F-B7B6-9230DE6D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0A3B-E301-44BE-AD02-15ECCAE1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9095-D240-4019-A34C-9E8E7EB2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12A4-16FD-4119-9542-218F2AF4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7EED-DFBC-4532-88EB-FA792F40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D2F3-D1A6-4E11-AA5A-F81928B6D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7D4A-3788-41F5-A3C8-5C205AD4E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66A12-1A30-4444-BD3C-8A848517F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BE363-CB4F-48FC-BDA5-04156B9D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5A31E-7D27-4E2C-9E3A-9F7E6B36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1FC8A-8DA5-4E4C-8F65-C1504745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7A258-B49A-4EDF-AD58-D4C5F0E9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21E99-41D2-43D7-ACFF-94C5DB30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84320-E06B-40F0-9981-20F5F8DD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5FAC9-067D-41F8-8CE8-A1B77E8C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15B81-D554-49CD-BE4E-C2F8551C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90D0E-D100-4BBA-9D03-6ED3C939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CCE5F-2F1A-40B4-A9A9-61AFB6A3A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73745-723E-4790-9861-D32385173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82AD8-A874-40C8-A98B-2E84CCBD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D5EEE-2D27-4CF8-85AA-F41D29E2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A3143-C44B-4DCE-BF8B-E9F16E31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E6C88-2361-41F2-AE4D-4C234E4A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E6C01-AC06-45CD-A7ED-93E02092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4F493-AB19-4F23-856E-4C6C8820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29D96-2D43-4D1A-B6E7-FC6AF08D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CF972-6F43-43FF-B688-BFDE5CF1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B9CD3-0990-4328-B231-9302E827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A5287-356F-4CAE-AA8B-46490B97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944A4-FCE8-4777-848E-313607BC6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3E4F5-C479-446D-891A-E8275731E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2992A-6296-4450-B13B-230888F4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1FB54-2086-4A8D-B648-B3F7415F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D2503-4D7C-4AF4-B16F-04FFE92C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C4743-85C1-489A-B60C-DE869E95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E3D57-B352-45F3-A04E-9EF020B5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69F26-6BF9-4891-AAB8-CEE5EB45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19C66-A0EF-41D7-8AAA-AD62C08B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12E32-FAFC-4FA8-B2DC-40C008C8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B9669-3708-4E3C-A8D2-5FC9BAA9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B0FCB-5C53-4B13-BB29-BB9712C1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A00F9-A57D-4BF6-94BE-4F1FD3552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42DFD-84AF-458F-9CA3-9F898E974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62BAD-D7F1-467C-8D52-EA1502ECF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2B5EF-EBB7-44A8-9134-81E93879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B8DCD-5624-4700-904A-4816EC1F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8DC44-048F-492F-BBF5-9A854C3A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6F3B7-5982-4629-B8D2-182435C3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F5814-9DE8-433F-9C79-5F4FC712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BE07E-1641-4E3D-B12C-C9613A67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31080-CEB4-4BA2-BD4F-CD77B46B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801BE-E9D9-4D88-AF9D-3552E1A8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40F4C-3077-4B8C-8527-03E4DF1C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E5045-5357-40D7-858C-DB9B51E0B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64BC0-3D57-4B65-8002-BE7C0924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8A35A-B895-427F-9270-CBAD99C28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DE6C6-79F9-4907-A12C-FF295EED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1295D-8654-4E31-B533-ED093129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4A668-595E-4D35-9649-23220E56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82168-CF6B-4E5F-9EEA-BB0F672F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69A2E-4C1E-4CE1-BD95-16AA92D9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FB6DB-5D3C-46D1-A1BD-345F2474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2ACD6-2935-470A-A2DC-D7BBEA5B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0BAF2-4B55-4FF4-B1D1-44BB9BF7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E9E86-3330-4465-AF88-D40C7862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1C1BF-AC92-47CE-9E65-49DDB41C4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CD166-EB87-47FB-A597-8F521B2CB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37A66-B973-4862-A9CB-FCC76E79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95B21-4F66-420F-A8DE-7FEB9A1C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05843-5D4A-4BD2-8386-3A7944EE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" name="图片 5" descr="江西师大.png"/>
          <p:cNvPicPr/>
          <p:nvPr/>
        </p:nvPicPr>
        <p:blipFill>
          <a:blip r:embed="rId2"/>
          <a:stretch/>
        </p:blipFill>
        <p:spPr>
          <a:xfrm>
            <a:off x="500040" y="6383160"/>
            <a:ext cx="1144440" cy="397080"/>
          </a:xfrm>
          <a:prstGeom prst="rect">
            <a:avLst/>
          </a:prstGeom>
          <a:ln w="0">
            <a:noFill/>
          </a:ln>
        </p:spPr>
      </p:pic>
      <p:sp>
        <p:nvSpPr>
          <p:cNvPr id="4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微软雅黑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图片 5" descr="江西师大.png"/>
          <p:cNvPicPr/>
          <p:nvPr/>
        </p:nvPicPr>
        <p:blipFill>
          <a:blip r:embed="rId2"/>
          <a:stretch/>
        </p:blipFill>
        <p:spPr>
          <a:xfrm>
            <a:off x="500040" y="6383160"/>
            <a:ext cx="1144440" cy="397080"/>
          </a:xfrm>
          <a:prstGeom prst="rect">
            <a:avLst/>
          </a:prstGeom>
          <a:ln w="0">
            <a:noFill/>
          </a:ln>
        </p:spPr>
      </p:pic>
      <p:sp>
        <p:nvSpPr>
          <p:cNvPr id="407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微软雅黑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6D8C-73CC-40CA-BC10-B75C0E787AD2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1" name="图片 5" descr="江西师大.png"/>
          <p:cNvPicPr/>
          <p:nvPr/>
        </p:nvPicPr>
        <p:blipFill>
          <a:blip r:embed="rId2"/>
          <a:stretch/>
        </p:blipFill>
        <p:spPr>
          <a:xfrm>
            <a:off x="500040" y="6383160"/>
            <a:ext cx="1144440" cy="397080"/>
          </a:xfrm>
          <a:prstGeom prst="rect">
            <a:avLst/>
          </a:prstGeom>
          <a:ln w="0">
            <a:noFill/>
          </a:ln>
        </p:spPr>
      </p:pic>
      <p:sp>
        <p:nvSpPr>
          <p:cNvPr id="452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微软雅黑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7B90-D7B5-44FE-9719-DFDAC3711F80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6" name="图片 5" descr="江西师大.png"/>
          <p:cNvPicPr/>
          <p:nvPr/>
        </p:nvPicPr>
        <p:blipFill>
          <a:blip r:embed="rId2"/>
          <a:stretch/>
        </p:blipFill>
        <p:spPr>
          <a:xfrm>
            <a:off x="500040" y="6383160"/>
            <a:ext cx="1144440" cy="397080"/>
          </a:xfrm>
          <a:prstGeom prst="rect">
            <a:avLst/>
          </a:prstGeom>
          <a:ln w="0">
            <a:noFill/>
          </a:ln>
        </p:spPr>
      </p:pic>
      <p:sp>
        <p:nvSpPr>
          <p:cNvPr id="497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微软雅黑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C5CD-EF27-4B09-B08A-4569C7DA8A9A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" name="图片 5" descr="江西师大.png"/>
          <p:cNvPicPr/>
          <p:nvPr/>
        </p:nvPicPr>
        <p:blipFill>
          <a:blip r:embed="rId2"/>
          <a:stretch/>
        </p:blipFill>
        <p:spPr>
          <a:xfrm>
            <a:off x="500040" y="6383160"/>
            <a:ext cx="1144440" cy="397080"/>
          </a:xfrm>
          <a:prstGeom prst="rect">
            <a:avLst/>
          </a:prstGeom>
          <a:ln w="0">
            <a:noFill/>
          </a:ln>
        </p:spPr>
      </p:pic>
      <p:sp>
        <p:nvSpPr>
          <p:cNvPr id="46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微软雅黑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04F8-C87A-4AAA-9A1B-745BB50E7D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图片 5" descr="江西师大.png"/>
          <p:cNvPicPr/>
          <p:nvPr/>
        </p:nvPicPr>
        <p:blipFill>
          <a:blip r:embed="rId2"/>
          <a:stretch/>
        </p:blipFill>
        <p:spPr>
          <a:xfrm>
            <a:off x="500040" y="6383160"/>
            <a:ext cx="1144440" cy="397080"/>
          </a:xfrm>
          <a:prstGeom prst="rect">
            <a:avLst/>
          </a:prstGeom>
          <a:ln w="0">
            <a:noFill/>
          </a:ln>
        </p:spPr>
      </p:pic>
      <p:sp>
        <p:nvSpPr>
          <p:cNvPr id="92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微软雅黑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EABB-14AE-4B01-AE90-9195D4774E0F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图片 5" descr="江西师大.png"/>
          <p:cNvPicPr/>
          <p:nvPr/>
        </p:nvPicPr>
        <p:blipFill>
          <a:blip r:embed="rId2"/>
          <a:stretch/>
        </p:blipFill>
        <p:spPr>
          <a:xfrm>
            <a:off x="500040" y="6383160"/>
            <a:ext cx="1144440" cy="397080"/>
          </a:xfrm>
          <a:prstGeom prst="rect">
            <a:avLst/>
          </a:prstGeom>
          <a:ln w="0">
            <a:noFill/>
          </a:ln>
        </p:spPr>
      </p:pic>
      <p:sp>
        <p:nvSpPr>
          <p:cNvPr id="137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微软雅黑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63A3-143E-4E1D-8CA5-95C780270E77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图片 5" descr="江西师大.png"/>
          <p:cNvPicPr/>
          <p:nvPr/>
        </p:nvPicPr>
        <p:blipFill>
          <a:blip r:embed="rId2"/>
          <a:stretch/>
        </p:blipFill>
        <p:spPr>
          <a:xfrm>
            <a:off x="500040" y="6383160"/>
            <a:ext cx="1144440" cy="397080"/>
          </a:xfrm>
          <a:prstGeom prst="rect">
            <a:avLst/>
          </a:prstGeom>
          <a:ln w="0">
            <a:noFill/>
          </a:ln>
        </p:spPr>
      </p:pic>
      <p:sp>
        <p:nvSpPr>
          <p:cNvPr id="182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微软雅黑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70D3-023B-4AB8-B579-11E80E13709E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图片 5" descr="江西师大.png"/>
          <p:cNvPicPr/>
          <p:nvPr/>
        </p:nvPicPr>
        <p:blipFill>
          <a:blip r:embed="rId2"/>
          <a:stretch/>
        </p:blipFill>
        <p:spPr>
          <a:xfrm>
            <a:off x="500040" y="6383160"/>
            <a:ext cx="1144440" cy="397080"/>
          </a:xfrm>
          <a:prstGeom prst="rect">
            <a:avLst/>
          </a:prstGeom>
          <a:ln w="0">
            <a:noFill/>
          </a:ln>
        </p:spPr>
      </p:pic>
      <p:sp>
        <p:nvSpPr>
          <p:cNvPr id="227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微软雅黑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D758-584E-48DE-8350-713F15ABFF4C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图片 5" descr="江西师大.png"/>
          <p:cNvPicPr/>
          <p:nvPr/>
        </p:nvPicPr>
        <p:blipFill>
          <a:blip r:embed="rId2"/>
          <a:stretch/>
        </p:blipFill>
        <p:spPr>
          <a:xfrm>
            <a:off x="500040" y="6383160"/>
            <a:ext cx="1144440" cy="397080"/>
          </a:xfrm>
          <a:prstGeom prst="rect">
            <a:avLst/>
          </a:prstGeom>
          <a:ln w="0">
            <a:noFill/>
          </a:ln>
        </p:spPr>
      </p:pic>
      <p:sp>
        <p:nvSpPr>
          <p:cNvPr id="272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微软雅黑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565E-5CD3-43CF-84F4-D75E2821F82A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图片 5" descr="江西师大.png"/>
          <p:cNvPicPr/>
          <p:nvPr/>
        </p:nvPicPr>
        <p:blipFill>
          <a:blip r:embed="rId2"/>
          <a:stretch/>
        </p:blipFill>
        <p:spPr>
          <a:xfrm>
            <a:off x="500040" y="6383160"/>
            <a:ext cx="1144440" cy="397080"/>
          </a:xfrm>
          <a:prstGeom prst="rect">
            <a:avLst/>
          </a:prstGeom>
          <a:ln w="0">
            <a:noFill/>
          </a:ln>
        </p:spPr>
      </p:pic>
      <p:sp>
        <p:nvSpPr>
          <p:cNvPr id="317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微软雅黑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A097-DE9D-469F-B61F-ABBF291A46D9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1" name="图片 5" descr="江西师大.png"/>
          <p:cNvPicPr/>
          <p:nvPr/>
        </p:nvPicPr>
        <p:blipFill>
          <a:blip r:embed="rId2"/>
          <a:stretch/>
        </p:blipFill>
        <p:spPr>
          <a:xfrm>
            <a:off x="500040" y="6383160"/>
            <a:ext cx="1144440" cy="397080"/>
          </a:xfrm>
          <a:prstGeom prst="rect">
            <a:avLst/>
          </a:prstGeom>
          <a:ln w="0">
            <a:noFill/>
          </a:ln>
        </p:spPr>
      </p:pic>
      <p:sp>
        <p:nvSpPr>
          <p:cNvPr id="362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微软雅黑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6266-F04B-4327-B961-695A1357DC8D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image" Target="../media/image15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20.png"/><Relationship Id="rId4" Type="http://schemas.openxmlformats.org/officeDocument/2006/relationships/image" Target="../media/image1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25.png"/><Relationship Id="rId4" Type="http://schemas.openxmlformats.org/officeDocument/2006/relationships/image" Target="../media/image11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23.png"/><Relationship Id="rId4" Type="http://schemas.openxmlformats.org/officeDocument/2006/relationships/image" Target="../media/image11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31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7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矩形 5" descr=""/>
          <p:cNvPicPr/>
          <p:nvPr/>
        </p:nvPicPr>
        <p:blipFill>
          <a:blip r:embed="rId1"/>
          <a:stretch/>
        </p:blipFill>
        <p:spPr>
          <a:xfrm>
            <a:off x="0" y="4071960"/>
            <a:ext cx="9144000" cy="73080"/>
          </a:xfrm>
          <a:prstGeom prst="rect">
            <a:avLst/>
          </a:prstGeom>
          <a:ln w="0">
            <a:noFill/>
          </a:ln>
        </p:spPr>
      </p:pic>
      <p:pic>
        <p:nvPicPr>
          <p:cNvPr id="539" name="矩形 3" descr=""/>
          <p:cNvPicPr/>
          <p:nvPr/>
        </p:nvPicPr>
        <p:blipFill>
          <a:blip r:embed="rId2"/>
          <a:stretch/>
        </p:blipFill>
        <p:spPr>
          <a:xfrm>
            <a:off x="0" y="1646280"/>
            <a:ext cx="9144000" cy="2286000"/>
          </a:xfrm>
          <a:prstGeom prst="rect">
            <a:avLst/>
          </a:prstGeom>
          <a:ln w="0">
            <a:noFill/>
          </a:ln>
        </p:spPr>
      </p:pic>
      <p:pic>
        <p:nvPicPr>
          <p:cNvPr id="540" name="TextBox 8" descr=""/>
          <p:cNvPicPr/>
          <p:nvPr/>
        </p:nvPicPr>
        <p:blipFill>
          <a:blip r:embed="rId3"/>
          <a:stretch/>
        </p:blipFill>
        <p:spPr>
          <a:xfrm>
            <a:off x="444600" y="2408400"/>
            <a:ext cx="8424720" cy="134604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3600360" y="4857480"/>
            <a:ext cx="640080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答辩人：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导   师：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2" name="图片 6" descr="江西师大.png"/>
          <p:cNvPicPr/>
          <p:nvPr/>
        </p:nvPicPr>
        <p:blipFill>
          <a:blip r:embed="rId4"/>
          <a:stretch/>
        </p:blipFill>
        <p:spPr>
          <a:xfrm>
            <a:off x="142920" y="142920"/>
            <a:ext cx="2879640" cy="1000080"/>
          </a:xfrm>
          <a:prstGeom prst="rect">
            <a:avLst/>
          </a:prstGeom>
          <a:ln w="0">
            <a:noFill/>
          </a:ln>
        </p:spPr>
      </p:pic>
      <p:grpSp>
        <p:nvGrpSpPr>
          <p:cNvPr id="543" name="Group 2805"/>
          <p:cNvGrpSpPr/>
          <p:nvPr/>
        </p:nvGrpSpPr>
        <p:grpSpPr>
          <a:xfrm>
            <a:off x="571680" y="4143240"/>
            <a:ext cx="3642840" cy="500040"/>
            <a:chOff x="571680" y="4143240"/>
            <a:chExt cx="3642840" cy="500040"/>
          </a:xfrm>
        </p:grpSpPr>
        <p:sp>
          <p:nvSpPr>
            <p:cNvPr id="544" name="AutoShape 2788"/>
            <p:cNvSpPr/>
            <p:nvPr/>
          </p:nvSpPr>
          <p:spPr>
            <a:xfrm>
              <a:off x="571680" y="4143240"/>
              <a:ext cx="950400" cy="500040"/>
            </a:xfrm>
            <a:custGeom>
              <a:avLst/>
              <a:gdLst>
                <a:gd name="textAreaLeft" fmla="*/ 0 w 950400"/>
                <a:gd name="textAreaRight" fmla="*/ 950760 w 95040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7f7f7f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5" name="AutoShape 2792"/>
            <p:cNvSpPr/>
            <p:nvPr/>
          </p:nvSpPr>
          <p:spPr>
            <a:xfrm>
              <a:off x="1473120" y="4143240"/>
              <a:ext cx="946800" cy="500040"/>
            </a:xfrm>
            <a:custGeom>
              <a:avLst/>
              <a:gdLst>
                <a:gd name="textAreaLeft" fmla="*/ 0 w 946800"/>
                <a:gd name="textAreaRight" fmla="*/ 947160 w 94680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182" y="0"/>
                  </a:lnTo>
                  <a:lnTo>
                    <a:pt x="21600" y="10800"/>
                  </a:lnTo>
                  <a:lnTo>
                    <a:pt x="16182" y="21600"/>
                  </a:lnTo>
                  <a:lnTo>
                    <a:pt x="0" y="21600"/>
                  </a:lnTo>
                  <a:lnTo>
                    <a:pt x="5418" y="10800"/>
                  </a:lnTo>
                  <a:close/>
                </a:path>
              </a:pathLst>
            </a:custGeom>
            <a:solidFill>
              <a:srgbClr val="7f7f7f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6" name="AutoShape 2793"/>
            <p:cNvSpPr/>
            <p:nvPr/>
          </p:nvSpPr>
          <p:spPr>
            <a:xfrm>
              <a:off x="2353680" y="4143240"/>
              <a:ext cx="947160" cy="500040"/>
            </a:xfrm>
            <a:custGeom>
              <a:avLst/>
              <a:gdLst>
                <a:gd name="textAreaLeft" fmla="*/ 0 w 947160"/>
                <a:gd name="textAreaRight" fmla="*/ 947520 w 94716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182" y="0"/>
                  </a:lnTo>
                  <a:lnTo>
                    <a:pt x="21600" y="10800"/>
                  </a:lnTo>
                  <a:lnTo>
                    <a:pt x="16182" y="21600"/>
                  </a:lnTo>
                  <a:lnTo>
                    <a:pt x="0" y="21600"/>
                  </a:lnTo>
                  <a:lnTo>
                    <a:pt x="5418" y="10800"/>
                  </a:lnTo>
                  <a:close/>
                </a:path>
              </a:pathLst>
            </a:custGeom>
            <a:solidFill>
              <a:srgbClr val="7f7f7f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7" name="AutoShape 2794"/>
            <p:cNvSpPr/>
            <p:nvPr/>
          </p:nvSpPr>
          <p:spPr>
            <a:xfrm>
              <a:off x="3264480" y="4143240"/>
              <a:ext cx="950040" cy="500040"/>
            </a:xfrm>
            <a:custGeom>
              <a:avLst/>
              <a:gdLst>
                <a:gd name="textAreaLeft" fmla="*/ 0 w 950040"/>
                <a:gd name="textAreaRight" fmla="*/ 950400 w 95004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7f7f7f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721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2" name="圆角矩形 14" descr=""/>
          <p:cNvPicPr/>
          <p:nvPr/>
        </p:nvPicPr>
        <p:blipFill>
          <a:blip r:embed="rId2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723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724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25" name="同侧圆角矩形 19"/>
            <p:cNvGrpSpPr/>
            <p:nvPr/>
          </p:nvGrpSpPr>
          <p:grpSpPr>
            <a:xfrm>
              <a:off x="785880" y="1000440"/>
              <a:ext cx="1143360" cy="499320"/>
              <a:chOff x="785880" y="1000440"/>
              <a:chExt cx="1143360" cy="499320"/>
            </a:xfrm>
          </p:grpSpPr>
          <p:pic>
            <p:nvPicPr>
              <p:cNvPr id="726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046520"/>
                <a:ext cx="1072800" cy="453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7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88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28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29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30" name="组合 20"/>
          <p:cNvGrpSpPr/>
          <p:nvPr/>
        </p:nvGrpSpPr>
        <p:grpSpPr>
          <a:xfrm>
            <a:off x="971640" y="3357720"/>
            <a:ext cx="1758960" cy="2057400"/>
            <a:chOff x="971640" y="3357720"/>
            <a:chExt cx="1758960" cy="2057400"/>
          </a:xfrm>
        </p:grpSpPr>
        <p:sp>
          <p:nvSpPr>
            <p:cNvPr id="731" name="矩形标注 21"/>
            <p:cNvSpPr/>
            <p:nvPr/>
          </p:nvSpPr>
          <p:spPr>
            <a:xfrm>
              <a:off x="971640" y="3357720"/>
              <a:ext cx="1758960" cy="2057400"/>
            </a:xfrm>
            <a:prstGeom prst="wedgeRectCallout">
              <a:avLst>
                <a:gd name="adj1" fmla="val 8143"/>
                <a:gd name="adj2" fmla="val 60379"/>
              </a:avLst>
            </a:prstGeom>
            <a:solidFill>
              <a:srgbClr val="ffffff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2" name="矩形 23"/>
            <p:cNvSpPr/>
            <p:nvPr/>
          </p:nvSpPr>
          <p:spPr>
            <a:xfrm>
              <a:off x="1096920" y="4008600"/>
              <a:ext cx="1513080" cy="1287360"/>
            </a:xfrm>
            <a:prstGeom prst="rect">
              <a:avLst/>
            </a:prstGeom>
            <a:solidFill>
              <a:srgbClr val="c5f3ff"/>
            </a:solidFill>
            <a:ln w="25560">
              <a:solidFill>
                <a:srgbClr val="bfbfb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3" name="矩形 9"/>
            <p:cNvSpPr/>
            <p:nvPr/>
          </p:nvSpPr>
          <p:spPr>
            <a:xfrm>
              <a:off x="1073880" y="352044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d13b"/>
                  </a:solidFill>
                  <a:latin typeface="Constantia"/>
                  <a:ea typeface="微软雅黑"/>
                </a:rPr>
                <a:t>X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34" name="组合 21"/>
          <p:cNvGrpSpPr/>
          <p:nvPr/>
        </p:nvGrpSpPr>
        <p:grpSpPr>
          <a:xfrm>
            <a:off x="3738600" y="3357720"/>
            <a:ext cx="1760400" cy="2057400"/>
            <a:chOff x="3738600" y="3357720"/>
            <a:chExt cx="1760400" cy="2057400"/>
          </a:xfrm>
        </p:grpSpPr>
        <p:sp>
          <p:nvSpPr>
            <p:cNvPr id="735" name="矩形标注 29"/>
            <p:cNvSpPr/>
            <p:nvPr/>
          </p:nvSpPr>
          <p:spPr>
            <a:xfrm>
              <a:off x="3738600" y="3357720"/>
              <a:ext cx="1760400" cy="2057400"/>
            </a:xfrm>
            <a:prstGeom prst="wedgeRectCallout">
              <a:avLst>
                <a:gd name="adj1" fmla="val 8143"/>
                <a:gd name="adj2" fmla="val 60379"/>
              </a:avLst>
            </a:prstGeom>
            <a:solidFill>
              <a:srgbClr val="ffffff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6" name="矩形 30"/>
            <p:cNvSpPr/>
            <p:nvPr/>
          </p:nvSpPr>
          <p:spPr>
            <a:xfrm>
              <a:off x="3863880" y="4008600"/>
              <a:ext cx="1514520" cy="1287360"/>
            </a:xfrm>
            <a:prstGeom prst="rect">
              <a:avLst/>
            </a:prstGeom>
            <a:solidFill>
              <a:srgbClr val="c5f3ff"/>
            </a:solidFill>
            <a:ln w="25560">
              <a:solidFill>
                <a:srgbClr val="bfbfb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7" name="矩形 14"/>
            <p:cNvSpPr/>
            <p:nvPr/>
          </p:nvSpPr>
          <p:spPr>
            <a:xfrm>
              <a:off x="4139280" y="352044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d13b"/>
                  </a:solidFill>
                  <a:latin typeface="Constantia"/>
                  <a:ea typeface="微软雅黑"/>
                </a:rPr>
                <a:t>X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38" name="TextBox 33"/>
          <p:cNvSpPr/>
          <p:nvPr/>
        </p:nvSpPr>
        <p:spPr>
          <a:xfrm>
            <a:off x="2874960" y="397512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38ac8"/>
                </a:solidFill>
                <a:latin typeface="Verdana"/>
                <a:ea typeface="微软雅黑"/>
              </a:rPr>
              <a:t>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TextBox 34"/>
          <p:cNvSpPr/>
          <p:nvPr/>
        </p:nvSpPr>
        <p:spPr>
          <a:xfrm>
            <a:off x="5611680" y="398772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38ac8"/>
                </a:solidFill>
                <a:latin typeface="Verdana"/>
                <a:ea typeface="微软雅黑"/>
              </a:rPr>
              <a:t>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40" name="组合 22"/>
          <p:cNvGrpSpPr/>
          <p:nvPr/>
        </p:nvGrpSpPr>
        <p:grpSpPr>
          <a:xfrm>
            <a:off x="6475320" y="3357720"/>
            <a:ext cx="1758960" cy="2057400"/>
            <a:chOff x="6475320" y="3357720"/>
            <a:chExt cx="1758960" cy="2057400"/>
          </a:xfrm>
        </p:grpSpPr>
        <p:sp>
          <p:nvSpPr>
            <p:cNvPr id="741" name="矩形标注 37"/>
            <p:cNvSpPr/>
            <p:nvPr/>
          </p:nvSpPr>
          <p:spPr>
            <a:xfrm>
              <a:off x="6475320" y="3357720"/>
              <a:ext cx="1758960" cy="2057400"/>
            </a:xfrm>
            <a:prstGeom prst="wedgeRectCallout">
              <a:avLst>
                <a:gd name="adj1" fmla="val 8143"/>
                <a:gd name="adj2" fmla="val 60379"/>
              </a:avLst>
            </a:prstGeom>
            <a:solidFill>
              <a:srgbClr val="007eea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42" name="矩形 18"/>
            <p:cNvGrpSpPr/>
            <p:nvPr/>
          </p:nvGrpSpPr>
          <p:grpSpPr>
            <a:xfrm>
              <a:off x="6594840" y="4002120"/>
              <a:ext cx="1521720" cy="1297080"/>
              <a:chOff x="6594840" y="4002120"/>
              <a:chExt cx="1521720" cy="1297080"/>
            </a:xfrm>
          </p:grpSpPr>
          <p:pic>
            <p:nvPicPr>
              <p:cNvPr id="743" name="矩形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6594840" y="4002120"/>
                <a:ext cx="152172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4" name="Text Box 11"/>
              <p:cNvSpPr/>
              <p:nvPr/>
            </p:nvSpPr>
            <p:spPr>
              <a:xfrm>
                <a:off x="6601320" y="4007520"/>
                <a:ext cx="1512000" cy="128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nstantia"/>
                    <a:ea typeface="微软雅黑"/>
                  </a:rPr>
                  <a:t>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45" name="矩形 19"/>
            <p:cNvSpPr/>
            <p:nvPr/>
          </p:nvSpPr>
          <p:spPr>
            <a:xfrm>
              <a:off x="6571440" y="352044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X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747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8" name="圆角矩形 14" descr=""/>
          <p:cNvPicPr/>
          <p:nvPr/>
        </p:nvPicPr>
        <p:blipFill>
          <a:blip r:embed="rId2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749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750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51" name="同侧圆角矩形 19"/>
            <p:cNvGrpSpPr/>
            <p:nvPr/>
          </p:nvGrpSpPr>
          <p:grpSpPr>
            <a:xfrm>
              <a:off x="785880" y="1000440"/>
              <a:ext cx="1143360" cy="499320"/>
              <a:chOff x="785880" y="1000440"/>
              <a:chExt cx="1143360" cy="499320"/>
            </a:xfrm>
          </p:grpSpPr>
          <p:pic>
            <p:nvPicPr>
              <p:cNvPr id="752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046520"/>
                <a:ext cx="1072800" cy="453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3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88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54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55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6" name="图示 13" descr=""/>
          <p:cNvPicPr/>
          <p:nvPr/>
        </p:nvPicPr>
        <p:blipFill>
          <a:blip r:embed="rId5"/>
          <a:stretch/>
        </p:blipFill>
        <p:spPr>
          <a:xfrm>
            <a:off x="1932120" y="2786040"/>
            <a:ext cx="516384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8" name="圆角矩形 14" descr=""/>
          <p:cNvPicPr/>
          <p:nvPr/>
        </p:nvPicPr>
        <p:blipFill>
          <a:blip r:embed="rId1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759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760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61" name="同侧圆角矩形 19"/>
            <p:cNvGrpSpPr/>
            <p:nvPr/>
          </p:nvGrpSpPr>
          <p:grpSpPr>
            <a:xfrm>
              <a:off x="785880" y="1000440"/>
              <a:ext cx="1143360" cy="499320"/>
              <a:chOff x="785880" y="1000440"/>
              <a:chExt cx="1143360" cy="499320"/>
            </a:xfrm>
          </p:grpSpPr>
          <p:pic>
            <p:nvPicPr>
              <p:cNvPr id="762" name="同侧圆角矩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56440" y="1046520"/>
                <a:ext cx="1072800" cy="453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3" name="Text Box 5" descr=""/>
              <p:cNvPicPr/>
              <p:nvPr/>
            </p:nvPicPr>
            <p:blipFill>
              <a:blip r:embed="rId3"/>
              <a:stretch/>
            </p:blipFill>
            <p:spPr>
              <a:xfrm>
                <a:off x="785880" y="1000440"/>
                <a:ext cx="107388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64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65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6" name="Picture 12" descr="图片1"/>
          <p:cNvPicPr/>
          <p:nvPr/>
        </p:nvPicPr>
        <p:blipFill>
          <a:blip r:embed="rId4"/>
          <a:stretch/>
        </p:blipFill>
        <p:spPr>
          <a:xfrm>
            <a:off x="428760" y="2357280"/>
            <a:ext cx="8485200" cy="3515040"/>
          </a:xfrm>
          <a:prstGeom prst="rect">
            <a:avLst/>
          </a:prstGeom>
          <a:ln w="0">
            <a:noFill/>
          </a:ln>
        </p:spPr>
      </p:pic>
      <p:pic>
        <p:nvPicPr>
          <p:cNvPr id="767" name="TextBox 21" descr=""/>
          <p:cNvPicPr/>
          <p:nvPr/>
        </p:nvPicPr>
        <p:blipFill>
          <a:blip r:embed="rId5"/>
          <a:stretch/>
        </p:blipFill>
        <p:spPr>
          <a:xfrm>
            <a:off x="566640" y="4316400"/>
            <a:ext cx="2505240" cy="712800"/>
          </a:xfrm>
          <a:prstGeom prst="rect">
            <a:avLst/>
          </a:prstGeom>
          <a:ln w="0">
            <a:noFill/>
          </a:ln>
        </p:spPr>
      </p:pic>
      <p:grpSp>
        <p:nvGrpSpPr>
          <p:cNvPr id="768" name="组合 36"/>
          <p:cNvGrpSpPr/>
          <p:nvPr/>
        </p:nvGrpSpPr>
        <p:grpSpPr>
          <a:xfrm>
            <a:off x="1000080" y="3929040"/>
            <a:ext cx="2086200" cy="1589040"/>
            <a:chOff x="1000080" y="3929040"/>
            <a:chExt cx="2086200" cy="1589040"/>
          </a:xfrm>
        </p:grpSpPr>
        <p:grpSp>
          <p:nvGrpSpPr>
            <p:cNvPr id="769" name="组合 11"/>
            <p:cNvGrpSpPr/>
            <p:nvPr/>
          </p:nvGrpSpPr>
          <p:grpSpPr>
            <a:xfrm>
              <a:off x="1000080" y="3929040"/>
              <a:ext cx="2086200" cy="1589040"/>
              <a:chOff x="1000080" y="3929040"/>
              <a:chExt cx="2086200" cy="1589040"/>
            </a:xfrm>
          </p:grpSpPr>
          <p:sp>
            <p:nvSpPr>
              <p:cNvPr id="770" name="椭圆形标注 64"/>
              <p:cNvSpPr/>
              <p:nvPr/>
            </p:nvSpPr>
            <p:spPr>
              <a:xfrm>
                <a:off x="1000080" y="3929040"/>
                <a:ext cx="2086200" cy="158904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1" name="椭圆形标注 65"/>
              <p:cNvSpPr/>
              <p:nvPr/>
            </p:nvSpPr>
            <p:spPr>
              <a:xfrm>
                <a:off x="1064880" y="3981240"/>
                <a:ext cx="1930680" cy="147168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72" name="TextBox 63"/>
            <p:cNvSpPr/>
            <p:nvPr/>
          </p:nvSpPr>
          <p:spPr>
            <a:xfrm>
              <a:off x="1444680" y="4368600"/>
              <a:ext cx="155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erdana"/>
                  <a:ea typeface="微软雅黑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73" name="TextBox 66"/>
          <p:cNvSpPr/>
          <p:nvPr/>
        </p:nvSpPr>
        <p:spPr>
          <a:xfrm>
            <a:off x="-500040" y="2708280"/>
            <a:ext cx="692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XXXXXXXXXXXXXXXXXXXXXXXXXXX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74" name="组合 36"/>
          <p:cNvGrpSpPr/>
          <p:nvPr/>
        </p:nvGrpSpPr>
        <p:grpSpPr>
          <a:xfrm>
            <a:off x="3643200" y="3929040"/>
            <a:ext cx="2086200" cy="1589040"/>
            <a:chOff x="3643200" y="3929040"/>
            <a:chExt cx="2086200" cy="1589040"/>
          </a:xfrm>
        </p:grpSpPr>
        <p:grpSp>
          <p:nvGrpSpPr>
            <p:cNvPr id="775" name="组合 11"/>
            <p:cNvGrpSpPr/>
            <p:nvPr/>
          </p:nvGrpSpPr>
          <p:grpSpPr>
            <a:xfrm>
              <a:off x="3643200" y="3929040"/>
              <a:ext cx="2086200" cy="1589040"/>
              <a:chOff x="3643200" y="3929040"/>
              <a:chExt cx="2086200" cy="1589040"/>
            </a:xfrm>
          </p:grpSpPr>
          <p:sp>
            <p:nvSpPr>
              <p:cNvPr id="776" name="椭圆形标注 21"/>
              <p:cNvSpPr/>
              <p:nvPr/>
            </p:nvSpPr>
            <p:spPr>
              <a:xfrm>
                <a:off x="3643200" y="3929040"/>
                <a:ext cx="2086200" cy="158904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7" name="椭圆形标注 23"/>
              <p:cNvSpPr/>
              <p:nvPr/>
            </p:nvSpPr>
            <p:spPr>
              <a:xfrm>
                <a:off x="3708000" y="3981240"/>
                <a:ext cx="1930680" cy="147168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78" name="TextBox 20"/>
            <p:cNvSpPr/>
            <p:nvPr/>
          </p:nvSpPr>
          <p:spPr>
            <a:xfrm>
              <a:off x="3857400" y="4435200"/>
              <a:ext cx="171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erdana"/>
                  <a:ea typeface="微软雅黑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79" name="组合 36"/>
          <p:cNvGrpSpPr/>
          <p:nvPr/>
        </p:nvGrpSpPr>
        <p:grpSpPr>
          <a:xfrm>
            <a:off x="6072120" y="4000680"/>
            <a:ext cx="2143080" cy="1589040"/>
            <a:chOff x="6072120" y="4000680"/>
            <a:chExt cx="2143080" cy="1589040"/>
          </a:xfrm>
        </p:grpSpPr>
        <p:grpSp>
          <p:nvGrpSpPr>
            <p:cNvPr id="780" name="组合 11"/>
            <p:cNvGrpSpPr/>
            <p:nvPr/>
          </p:nvGrpSpPr>
          <p:grpSpPr>
            <a:xfrm>
              <a:off x="6129000" y="4000680"/>
              <a:ext cx="2086200" cy="1589040"/>
              <a:chOff x="6129000" y="4000680"/>
              <a:chExt cx="2086200" cy="1589040"/>
            </a:xfrm>
          </p:grpSpPr>
          <p:sp>
            <p:nvSpPr>
              <p:cNvPr id="781" name="椭圆形标注 30"/>
              <p:cNvSpPr/>
              <p:nvPr/>
            </p:nvSpPr>
            <p:spPr>
              <a:xfrm>
                <a:off x="6129000" y="4000680"/>
                <a:ext cx="2086200" cy="158904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2" name="椭圆形标注 31"/>
              <p:cNvSpPr/>
              <p:nvPr/>
            </p:nvSpPr>
            <p:spPr>
              <a:xfrm>
                <a:off x="6193800" y="4052880"/>
                <a:ext cx="1930680" cy="147168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83" name="TextBox 29"/>
            <p:cNvSpPr/>
            <p:nvPr/>
          </p:nvSpPr>
          <p:spPr>
            <a:xfrm>
              <a:off x="6072120" y="4506840"/>
              <a:ext cx="21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erdana"/>
                  <a:ea typeface="微软雅黑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785" name="TextBox 3"/>
          <p:cNvSpPr/>
          <p:nvPr/>
        </p:nvSpPr>
        <p:spPr>
          <a:xfrm>
            <a:off x="3094200" y="1333440"/>
            <a:ext cx="6192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7" name="圆角矩形 14" descr=""/>
          <p:cNvPicPr/>
          <p:nvPr/>
        </p:nvPicPr>
        <p:blipFill>
          <a:blip r:embed="rId2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788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789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90" name="同侧圆角矩形 19"/>
            <p:cNvGrpSpPr/>
            <p:nvPr/>
          </p:nvGrpSpPr>
          <p:grpSpPr>
            <a:xfrm>
              <a:off x="785880" y="1000440"/>
              <a:ext cx="1143360" cy="499320"/>
              <a:chOff x="785880" y="1000440"/>
              <a:chExt cx="1143360" cy="499320"/>
            </a:xfrm>
          </p:grpSpPr>
          <p:pic>
            <p:nvPicPr>
              <p:cNvPr id="791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046520"/>
                <a:ext cx="1072800" cy="453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2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88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93" name="TextBox 20"/>
            <p:cNvSpPr/>
            <p:nvPr/>
          </p:nvSpPr>
          <p:spPr>
            <a:xfrm>
              <a:off x="428760" y="157176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94" name="组合 25"/>
          <p:cNvGrpSpPr/>
          <p:nvPr/>
        </p:nvGrpSpPr>
        <p:grpSpPr>
          <a:xfrm>
            <a:off x="826920" y="2840040"/>
            <a:ext cx="3311640" cy="2664000"/>
            <a:chOff x="826920" y="2840040"/>
            <a:chExt cx="3311640" cy="2664000"/>
          </a:xfrm>
        </p:grpSpPr>
        <p:sp>
          <p:nvSpPr>
            <p:cNvPr id="795" name="圆角矩形 28"/>
            <p:cNvSpPr/>
            <p:nvPr/>
          </p:nvSpPr>
          <p:spPr>
            <a:xfrm>
              <a:off x="826920" y="2840040"/>
              <a:ext cx="3311640" cy="2664000"/>
            </a:xfrm>
            <a:prstGeom prst="roundRect">
              <a:avLst>
                <a:gd name="adj" fmla="val 7093"/>
              </a:avLst>
            </a:prstGeom>
            <a:solidFill>
              <a:srgbClr val="ffff99">
                <a:alpha val="83000"/>
              </a:srgbClr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4000" rIns="90000" tIns="2520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96" name="对角圆角矩形 29"/>
            <p:cNvGrpSpPr/>
            <p:nvPr/>
          </p:nvGrpSpPr>
          <p:grpSpPr>
            <a:xfrm>
              <a:off x="3334680" y="4297680"/>
              <a:ext cx="761760" cy="1182600"/>
              <a:chOff x="3334680" y="4297680"/>
              <a:chExt cx="761760" cy="1182600"/>
            </a:xfrm>
          </p:grpSpPr>
          <p:pic>
            <p:nvPicPr>
              <p:cNvPr id="797" name="对角圆角矩形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3334680" y="4297680"/>
                <a:ext cx="761760" cy="118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>
                <a:off x="3371040" y="4333320"/>
                <a:ext cx="687240" cy="11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2520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799" name="组合 6"/>
          <p:cNvGrpSpPr/>
          <p:nvPr/>
        </p:nvGrpSpPr>
        <p:grpSpPr>
          <a:xfrm>
            <a:off x="5173560" y="2840040"/>
            <a:ext cx="3311640" cy="2664000"/>
            <a:chOff x="5173560" y="2840040"/>
            <a:chExt cx="3311640" cy="2664000"/>
          </a:xfrm>
        </p:grpSpPr>
        <p:sp>
          <p:nvSpPr>
            <p:cNvPr id="800" name="圆角矩形 31"/>
            <p:cNvSpPr/>
            <p:nvPr/>
          </p:nvSpPr>
          <p:spPr>
            <a:xfrm>
              <a:off x="5173560" y="2840040"/>
              <a:ext cx="3311640" cy="2664000"/>
            </a:xfrm>
            <a:prstGeom prst="roundRect">
              <a:avLst>
                <a:gd name="adj" fmla="val 7093"/>
              </a:avLst>
            </a:prstGeom>
            <a:solidFill>
              <a:srgbClr val="ffff99">
                <a:alpha val="83000"/>
              </a:srgbClr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4000" rIns="90000" tIns="2520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01" name="对角圆角矩形 32"/>
            <p:cNvGrpSpPr/>
            <p:nvPr/>
          </p:nvGrpSpPr>
          <p:grpSpPr>
            <a:xfrm>
              <a:off x="7693200" y="4297680"/>
              <a:ext cx="761760" cy="1182600"/>
              <a:chOff x="7693200" y="4297680"/>
              <a:chExt cx="761760" cy="1182600"/>
            </a:xfrm>
          </p:grpSpPr>
          <p:pic>
            <p:nvPicPr>
              <p:cNvPr id="802" name="对角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7693200" y="4297680"/>
                <a:ext cx="761760" cy="118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3" name=""/>
              <p:cNvSpPr/>
              <p:nvPr/>
            </p:nvSpPr>
            <p:spPr>
              <a:xfrm>
                <a:off x="7731720" y="4333320"/>
                <a:ext cx="687240" cy="11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2520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804" name="矩形 33"/>
          <p:cNvSpPr/>
          <p:nvPr/>
        </p:nvSpPr>
        <p:spPr>
          <a:xfrm rot="19674000">
            <a:off x="6430680" y="4900320"/>
            <a:ext cx="2500200" cy="571320"/>
          </a:xfrm>
          <a:prstGeom prst="rect">
            <a:avLst/>
          </a:prstGeom>
          <a:solidFill>
            <a:srgbClr val="ffc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stral"/>
                <a:ea typeface="微软雅黑"/>
              </a:rPr>
              <a:t>XXXXXXXXXXXXX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矩形 34"/>
          <p:cNvSpPr/>
          <p:nvPr/>
        </p:nvSpPr>
        <p:spPr>
          <a:xfrm rot="19674000">
            <a:off x="2300040" y="4887720"/>
            <a:ext cx="2500200" cy="571320"/>
          </a:xfrm>
          <a:prstGeom prst="rect">
            <a:avLst/>
          </a:prstGeom>
          <a:solidFill>
            <a:srgbClr val="ffc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stral"/>
                <a:ea typeface="微软雅黑"/>
              </a:rPr>
              <a:t>XXXXXXXXXXX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7" name="圆角矩形 14" descr=""/>
          <p:cNvPicPr/>
          <p:nvPr/>
        </p:nvPicPr>
        <p:blipFill>
          <a:blip r:embed="rId1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808" name="组合 27"/>
          <p:cNvGrpSpPr/>
          <p:nvPr/>
        </p:nvGrpSpPr>
        <p:grpSpPr>
          <a:xfrm>
            <a:off x="554040" y="928800"/>
            <a:ext cx="1916280" cy="1349280"/>
            <a:chOff x="554040" y="928800"/>
            <a:chExt cx="1916280" cy="1349280"/>
          </a:xfrm>
        </p:grpSpPr>
        <p:sp>
          <p:nvSpPr>
            <p:cNvPr id="809" name="圆角矩形标注 22"/>
            <p:cNvSpPr/>
            <p:nvPr/>
          </p:nvSpPr>
          <p:spPr>
            <a:xfrm>
              <a:off x="554040" y="928800"/>
              <a:ext cx="159876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10" name="同侧圆角矩形 19"/>
            <p:cNvGrpSpPr/>
            <p:nvPr/>
          </p:nvGrpSpPr>
          <p:grpSpPr>
            <a:xfrm>
              <a:off x="785520" y="1000440"/>
              <a:ext cx="1142640" cy="499320"/>
              <a:chOff x="785520" y="1000440"/>
              <a:chExt cx="1142640" cy="499320"/>
            </a:xfrm>
          </p:grpSpPr>
          <p:pic>
            <p:nvPicPr>
              <p:cNvPr id="811" name="同侧圆角矩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55720" y="1046520"/>
                <a:ext cx="1072440" cy="453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2" name="Text Box 5" descr=""/>
              <p:cNvPicPr/>
              <p:nvPr/>
            </p:nvPicPr>
            <p:blipFill>
              <a:blip r:embed="rId3"/>
              <a:stretch/>
            </p:blipFill>
            <p:spPr>
              <a:xfrm>
                <a:off x="785520" y="1000440"/>
                <a:ext cx="107424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13" name="TextBox 20"/>
            <p:cNvSpPr/>
            <p:nvPr/>
          </p:nvSpPr>
          <p:spPr>
            <a:xfrm>
              <a:off x="755640" y="1732680"/>
              <a:ext cx="171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14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5" name="Picture 12" descr="图片1"/>
          <p:cNvPicPr/>
          <p:nvPr/>
        </p:nvPicPr>
        <p:blipFill>
          <a:blip r:embed="rId4"/>
          <a:stretch/>
        </p:blipFill>
        <p:spPr>
          <a:xfrm>
            <a:off x="428760" y="2357280"/>
            <a:ext cx="8485200" cy="3515040"/>
          </a:xfrm>
          <a:prstGeom prst="rect">
            <a:avLst/>
          </a:prstGeom>
          <a:ln w="0">
            <a:noFill/>
          </a:ln>
        </p:spPr>
      </p:pic>
      <p:pic>
        <p:nvPicPr>
          <p:cNvPr id="816" name="TextBox 21" descr=""/>
          <p:cNvPicPr/>
          <p:nvPr/>
        </p:nvPicPr>
        <p:blipFill>
          <a:blip r:embed="rId5"/>
          <a:stretch/>
        </p:blipFill>
        <p:spPr>
          <a:xfrm>
            <a:off x="566640" y="4743360"/>
            <a:ext cx="2505240" cy="712800"/>
          </a:xfrm>
          <a:prstGeom prst="rect">
            <a:avLst/>
          </a:prstGeom>
          <a:ln w="0">
            <a:noFill/>
          </a:ln>
        </p:spPr>
      </p:pic>
      <p:grpSp>
        <p:nvGrpSpPr>
          <p:cNvPr id="817" name="组合 26"/>
          <p:cNvGrpSpPr/>
          <p:nvPr/>
        </p:nvGrpSpPr>
        <p:grpSpPr>
          <a:xfrm>
            <a:off x="108000" y="2924280"/>
            <a:ext cx="9144000" cy="1439640"/>
            <a:chOff x="108000" y="2924280"/>
            <a:chExt cx="9144000" cy="1439640"/>
          </a:xfrm>
        </p:grpSpPr>
        <p:sp>
          <p:nvSpPr>
            <p:cNvPr id="818" name="椭圆 16"/>
            <p:cNvSpPr/>
            <p:nvPr/>
          </p:nvSpPr>
          <p:spPr>
            <a:xfrm>
              <a:off x="108000" y="4076640"/>
              <a:ext cx="9144000" cy="2872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77254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19" name="组合 7"/>
            <p:cNvGrpSpPr/>
            <p:nvPr/>
          </p:nvGrpSpPr>
          <p:grpSpPr>
            <a:xfrm>
              <a:off x="647280" y="2924280"/>
              <a:ext cx="8065080" cy="1224360"/>
              <a:chOff x="647280" y="2924280"/>
              <a:chExt cx="8065080" cy="1224360"/>
            </a:xfrm>
          </p:grpSpPr>
          <p:grpSp>
            <p:nvGrpSpPr>
              <p:cNvPr id="820" name="组合 8"/>
              <p:cNvGrpSpPr/>
              <p:nvPr/>
            </p:nvGrpSpPr>
            <p:grpSpPr>
              <a:xfrm>
                <a:off x="647280" y="2924280"/>
                <a:ext cx="8065080" cy="1224360"/>
                <a:chOff x="647280" y="2924280"/>
                <a:chExt cx="8065080" cy="1224360"/>
              </a:xfrm>
            </p:grpSpPr>
            <p:sp>
              <p:nvSpPr>
                <p:cNvPr id="821" name="圆角矩形 21"/>
                <p:cNvSpPr/>
                <p:nvPr/>
              </p:nvSpPr>
              <p:spPr>
                <a:xfrm>
                  <a:off x="647280" y="2924280"/>
                  <a:ext cx="8065080" cy="1224360"/>
                </a:xfrm>
                <a:prstGeom prst="roundRect">
                  <a:avLst>
                    <a:gd name="adj" fmla="val 7319"/>
                  </a:avLst>
                </a:prstGeom>
                <a:solidFill>
                  <a:srgbClr val="ffffff"/>
                </a:solidFill>
                <a:ln w="324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822" name="对角圆角矩形 23"/>
                <p:cNvGrpSpPr/>
                <p:nvPr/>
              </p:nvGrpSpPr>
              <p:grpSpPr>
                <a:xfrm>
                  <a:off x="7937280" y="3456720"/>
                  <a:ext cx="761760" cy="676800"/>
                  <a:chOff x="7937280" y="3456720"/>
                  <a:chExt cx="761760" cy="676800"/>
                </a:xfrm>
              </p:grpSpPr>
              <p:pic>
                <p:nvPicPr>
                  <p:cNvPr id="823" name="对角圆角矩形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37280" y="3456720"/>
                    <a:ext cx="761760" cy="6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4" name=""/>
                  <p:cNvSpPr/>
                  <p:nvPr/>
                </p:nvSpPr>
                <p:spPr>
                  <a:xfrm>
                    <a:off x="7957440" y="3478680"/>
                    <a:ext cx="721080" cy="630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825" name="TextBox 19"/>
              <p:cNvSpPr/>
              <p:nvPr/>
            </p:nvSpPr>
            <p:spPr>
              <a:xfrm>
                <a:off x="791640" y="2924280"/>
                <a:ext cx="2664000" cy="73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XXXX</a:t>
                </a:r>
                <a:r>
                  <a:rPr b="0" lang="zh-CN" sz="2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：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6" name="矩形 20"/>
              <p:cNvSpPr/>
              <p:nvPr/>
            </p:nvSpPr>
            <p:spPr>
              <a:xfrm>
                <a:off x="3213000" y="3011400"/>
                <a:ext cx="54723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XXXXXXXXXXXXXXXXXXXXXXXXX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XXXXXXXXXXXXXXXXXXXXXXXXX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827" name="组合 25"/>
          <p:cNvGrpSpPr/>
          <p:nvPr/>
        </p:nvGrpSpPr>
        <p:grpSpPr>
          <a:xfrm>
            <a:off x="108000" y="4292640"/>
            <a:ext cx="9144000" cy="1440000"/>
            <a:chOff x="108000" y="4292640"/>
            <a:chExt cx="9144000" cy="1440000"/>
          </a:xfrm>
        </p:grpSpPr>
        <p:sp>
          <p:nvSpPr>
            <p:cNvPr id="828" name="椭圆 28"/>
            <p:cNvSpPr/>
            <p:nvPr/>
          </p:nvSpPr>
          <p:spPr>
            <a:xfrm>
              <a:off x="108000" y="5445360"/>
              <a:ext cx="9144000" cy="2872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77254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29" name="组合 19"/>
            <p:cNvGrpSpPr/>
            <p:nvPr/>
          </p:nvGrpSpPr>
          <p:grpSpPr>
            <a:xfrm>
              <a:off x="647280" y="4292640"/>
              <a:ext cx="8065080" cy="1224360"/>
              <a:chOff x="647280" y="4292640"/>
              <a:chExt cx="8065080" cy="1224360"/>
            </a:xfrm>
          </p:grpSpPr>
          <p:grpSp>
            <p:nvGrpSpPr>
              <p:cNvPr id="830" name="组合 20"/>
              <p:cNvGrpSpPr/>
              <p:nvPr/>
            </p:nvGrpSpPr>
            <p:grpSpPr>
              <a:xfrm>
                <a:off x="647280" y="4292640"/>
                <a:ext cx="8065080" cy="1224360"/>
                <a:chOff x="647280" y="4292640"/>
                <a:chExt cx="8065080" cy="1224360"/>
              </a:xfrm>
            </p:grpSpPr>
            <p:sp>
              <p:nvSpPr>
                <p:cNvPr id="831" name="圆角矩形 33"/>
                <p:cNvSpPr/>
                <p:nvPr/>
              </p:nvSpPr>
              <p:spPr>
                <a:xfrm>
                  <a:off x="647280" y="4292640"/>
                  <a:ext cx="8065080" cy="1224360"/>
                </a:xfrm>
                <a:prstGeom prst="roundRect">
                  <a:avLst>
                    <a:gd name="adj" fmla="val 7319"/>
                  </a:avLst>
                </a:prstGeom>
                <a:solidFill>
                  <a:srgbClr val="ffffff"/>
                </a:solidFill>
                <a:ln w="324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832" name="对角圆角矩形 34"/>
                <p:cNvGrpSpPr/>
                <p:nvPr/>
              </p:nvGrpSpPr>
              <p:grpSpPr>
                <a:xfrm>
                  <a:off x="7937280" y="4828320"/>
                  <a:ext cx="761760" cy="670680"/>
                  <a:chOff x="7937280" y="4828320"/>
                  <a:chExt cx="761760" cy="670680"/>
                </a:xfrm>
              </p:grpSpPr>
              <p:pic>
                <p:nvPicPr>
                  <p:cNvPr id="833" name="对角圆角矩形 3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937280" y="4828320"/>
                    <a:ext cx="761760" cy="6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34" name=""/>
                  <p:cNvSpPr/>
                  <p:nvPr/>
                </p:nvSpPr>
                <p:spPr>
                  <a:xfrm>
                    <a:off x="7957440" y="4847040"/>
                    <a:ext cx="721080" cy="630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835" name="TextBox 31"/>
              <p:cNvSpPr/>
              <p:nvPr/>
            </p:nvSpPr>
            <p:spPr>
              <a:xfrm>
                <a:off x="791640" y="4292640"/>
                <a:ext cx="2664000" cy="73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XXXX</a:t>
                </a:r>
                <a:r>
                  <a:rPr b="0" lang="zh-CN" sz="2400" spc="-1" strike="noStrike">
                    <a:solidFill>
                      <a:srgbClr val="262626"/>
                    </a:solidFill>
                    <a:latin typeface="Mistral"/>
                    <a:ea typeface="微软雅黑"/>
                  </a:rPr>
                  <a:t>：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6" name="矩形 32"/>
              <p:cNvSpPr/>
              <p:nvPr/>
            </p:nvSpPr>
            <p:spPr>
              <a:xfrm>
                <a:off x="3213000" y="4379760"/>
                <a:ext cx="54723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XXXXXXXXXXXXXXXXXXXXXXXXX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XXXXXXXXXXXXXXXXXXXXXXXXX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8" name="圆角矩形 14" descr=""/>
          <p:cNvPicPr/>
          <p:nvPr/>
        </p:nvPicPr>
        <p:blipFill>
          <a:blip r:embed="rId1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839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840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41" name="同侧圆角矩形 19"/>
            <p:cNvGrpSpPr/>
            <p:nvPr/>
          </p:nvGrpSpPr>
          <p:grpSpPr>
            <a:xfrm>
              <a:off x="785880" y="1000440"/>
              <a:ext cx="1143360" cy="499320"/>
              <a:chOff x="785880" y="1000440"/>
              <a:chExt cx="1143360" cy="499320"/>
            </a:xfrm>
          </p:grpSpPr>
          <p:pic>
            <p:nvPicPr>
              <p:cNvPr id="842" name="同侧圆角矩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56440" y="1046520"/>
                <a:ext cx="1072800" cy="453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3" name="Text Box 5" descr=""/>
              <p:cNvPicPr/>
              <p:nvPr/>
            </p:nvPicPr>
            <p:blipFill>
              <a:blip r:embed="rId3"/>
              <a:stretch/>
            </p:blipFill>
            <p:spPr>
              <a:xfrm>
                <a:off x="785880" y="1000440"/>
                <a:ext cx="107388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44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45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6" name="Picture 12" descr="图片1"/>
          <p:cNvPicPr/>
          <p:nvPr/>
        </p:nvPicPr>
        <p:blipFill>
          <a:blip r:embed="rId4"/>
          <a:stretch/>
        </p:blipFill>
        <p:spPr>
          <a:xfrm>
            <a:off x="428760" y="2357280"/>
            <a:ext cx="8485200" cy="3515040"/>
          </a:xfrm>
          <a:prstGeom prst="rect">
            <a:avLst/>
          </a:prstGeom>
          <a:ln w="0">
            <a:noFill/>
          </a:ln>
        </p:spPr>
      </p:pic>
      <p:grpSp>
        <p:nvGrpSpPr>
          <p:cNvPr id="847" name="组合 13"/>
          <p:cNvGrpSpPr/>
          <p:nvPr/>
        </p:nvGrpSpPr>
        <p:grpSpPr>
          <a:xfrm>
            <a:off x="636480" y="2714760"/>
            <a:ext cx="8007120" cy="438840"/>
            <a:chOff x="636480" y="2714760"/>
            <a:chExt cx="8007120" cy="438840"/>
          </a:xfrm>
        </p:grpSpPr>
        <p:grpSp>
          <p:nvGrpSpPr>
            <p:cNvPr id="848" name="组合 64"/>
            <p:cNvGrpSpPr/>
            <p:nvPr/>
          </p:nvGrpSpPr>
          <p:grpSpPr>
            <a:xfrm>
              <a:off x="636480" y="2714760"/>
              <a:ext cx="2519640" cy="421920"/>
              <a:chOff x="636480" y="2714760"/>
              <a:chExt cx="2519640" cy="421920"/>
            </a:xfrm>
          </p:grpSpPr>
          <p:sp>
            <p:nvSpPr>
              <p:cNvPr id="849" name="同侧圆角矩形 23"/>
              <p:cNvSpPr/>
              <p:nvPr/>
            </p:nvSpPr>
            <p:spPr>
              <a:xfrm rot="16200000">
                <a:off x="1500480" y="1850760"/>
                <a:ext cx="421920" cy="2149920"/>
              </a:xfrm>
              <a:custGeom>
                <a:avLst/>
                <a:gdLst/>
                <a:ahLst/>
                <a:rect l="l" t="t" r="r" b="b"/>
                <a:pathLst>
                  <a:path w="793417" h="2149855">
                    <a:moveTo>
                      <a:pt x="132239" y="0"/>
                    </a:moveTo>
                    <a:lnTo>
                      <a:pt x="661178" y="0"/>
                    </a:lnTo>
                    <a:cubicBezTo>
                      <a:pt x="734212" y="0"/>
                      <a:pt x="793417" y="59205"/>
                      <a:pt x="793417" y="132239"/>
                    </a:cubicBezTo>
                    <a:lnTo>
                      <a:pt x="793417" y="2149855"/>
                    </a:lnTo>
                    <a:lnTo>
                      <a:pt x="793417" y="2149855"/>
                    </a:lnTo>
                    <a:lnTo>
                      <a:pt x="0" y="2149855"/>
                    </a:lnTo>
                    <a:lnTo>
                      <a:pt x="0" y="2149855"/>
                    </a:lnTo>
                    <a:lnTo>
                      <a:pt x="0" y="132239"/>
                    </a:lnTo>
                    <a:cubicBezTo>
                      <a:pt x="0" y="59205"/>
                      <a:pt x="59205" y="0"/>
                      <a:pt x="132239" y="0"/>
                    </a:cubicBezTo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50" name="TextBox 11"/>
              <p:cNvSpPr/>
              <p:nvPr/>
            </p:nvSpPr>
            <p:spPr>
              <a:xfrm>
                <a:off x="852120" y="2736720"/>
                <a:ext cx="230400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851" name="组合 69"/>
            <p:cNvGrpSpPr/>
            <p:nvPr/>
          </p:nvGrpSpPr>
          <p:grpSpPr>
            <a:xfrm>
              <a:off x="2714400" y="2718360"/>
              <a:ext cx="5929200" cy="435240"/>
              <a:chOff x="2714400" y="2718360"/>
              <a:chExt cx="5929200" cy="435240"/>
            </a:xfrm>
          </p:grpSpPr>
          <p:sp>
            <p:nvSpPr>
              <p:cNvPr id="852" name="同侧圆角矩形 17"/>
              <p:cNvSpPr/>
              <p:nvPr/>
            </p:nvSpPr>
            <p:spPr>
              <a:xfrm flipV="1" rot="16200000">
                <a:off x="5503680" y="0"/>
                <a:ext cx="421560" cy="5858280"/>
              </a:xfrm>
              <a:custGeom>
                <a:avLst/>
                <a:gdLst/>
                <a:ahLst/>
                <a:rect l="l" t="t" r="r" b="b"/>
                <a:pathLst>
                  <a:path w="790659" h="5858029">
                    <a:moveTo>
                      <a:pt x="131779" y="0"/>
                    </a:moveTo>
                    <a:lnTo>
                      <a:pt x="658880" y="0"/>
                    </a:lnTo>
                    <a:cubicBezTo>
                      <a:pt x="731660" y="0"/>
                      <a:pt x="790659" y="58999"/>
                      <a:pt x="790659" y="131779"/>
                    </a:cubicBezTo>
                    <a:lnTo>
                      <a:pt x="790659" y="5858029"/>
                    </a:lnTo>
                    <a:lnTo>
                      <a:pt x="790659" y="5858029"/>
                    </a:lnTo>
                    <a:lnTo>
                      <a:pt x="0" y="5858029"/>
                    </a:lnTo>
                    <a:lnTo>
                      <a:pt x="0" y="5858029"/>
                    </a:lnTo>
                    <a:lnTo>
                      <a:pt x="0" y="131779"/>
                    </a:lnTo>
                    <a:cubicBezTo>
                      <a:pt x="0" y="58999"/>
                      <a:pt x="58999" y="0"/>
                      <a:pt x="13177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fbfbf"/>
                  </a:gs>
                  <a:gs pos="100000">
                    <a:srgbClr val="f2f2f2"/>
                  </a:gs>
                </a:gsLst>
                <a:lin ang="189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53" name="对角圆角矩形 18"/>
              <p:cNvGrpSpPr/>
              <p:nvPr/>
            </p:nvGrpSpPr>
            <p:grpSpPr>
              <a:xfrm>
                <a:off x="7925040" y="2876760"/>
                <a:ext cx="670320" cy="268920"/>
                <a:chOff x="7925040" y="2876760"/>
                <a:chExt cx="670320" cy="268920"/>
              </a:xfrm>
            </p:grpSpPr>
            <p:pic>
              <p:nvPicPr>
                <p:cNvPr id="854" name="对角圆角矩形 18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925040" y="2876760"/>
                  <a:ext cx="670320" cy="26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5" name=""/>
                <p:cNvSpPr/>
                <p:nvPr/>
              </p:nvSpPr>
              <p:spPr>
                <a:xfrm>
                  <a:off x="7941600" y="2895840"/>
                  <a:ext cx="63756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56" name="TextBox 12"/>
              <p:cNvSpPr/>
              <p:nvPr/>
            </p:nvSpPr>
            <p:spPr>
              <a:xfrm>
                <a:off x="2714400" y="2785320"/>
                <a:ext cx="426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857" name="组合 28"/>
          <p:cNvGrpSpPr/>
          <p:nvPr/>
        </p:nvGrpSpPr>
        <p:grpSpPr>
          <a:xfrm>
            <a:off x="636480" y="3071880"/>
            <a:ext cx="8007480" cy="642960"/>
            <a:chOff x="636480" y="3071880"/>
            <a:chExt cx="8007480" cy="642960"/>
          </a:xfrm>
        </p:grpSpPr>
        <p:grpSp>
          <p:nvGrpSpPr>
            <p:cNvPr id="858" name="组合 64"/>
            <p:cNvGrpSpPr/>
            <p:nvPr/>
          </p:nvGrpSpPr>
          <p:grpSpPr>
            <a:xfrm>
              <a:off x="636480" y="3071880"/>
              <a:ext cx="2519640" cy="642960"/>
              <a:chOff x="636480" y="3071880"/>
              <a:chExt cx="2519640" cy="642960"/>
            </a:xfrm>
          </p:grpSpPr>
          <p:sp>
            <p:nvSpPr>
              <p:cNvPr id="859" name="同侧圆角矩形 34"/>
              <p:cNvSpPr/>
              <p:nvPr/>
            </p:nvSpPr>
            <p:spPr>
              <a:xfrm rot="16200000">
                <a:off x="1389960" y="2318400"/>
                <a:ext cx="642960" cy="2149920"/>
              </a:xfrm>
              <a:custGeom>
                <a:avLst/>
                <a:gdLst/>
                <a:ahLst/>
                <a:rect l="l" t="t" r="r" b="b"/>
                <a:pathLst>
                  <a:path w="1209545" h="2149855">
                    <a:moveTo>
                      <a:pt x="201595" y="0"/>
                    </a:moveTo>
                    <a:lnTo>
                      <a:pt x="1007950" y="0"/>
                    </a:lnTo>
                    <a:cubicBezTo>
                      <a:pt x="1119288" y="0"/>
                      <a:pt x="1209545" y="90257"/>
                      <a:pt x="1209545" y="201595"/>
                    </a:cubicBezTo>
                    <a:lnTo>
                      <a:pt x="1209545" y="2149855"/>
                    </a:lnTo>
                    <a:lnTo>
                      <a:pt x="1209545" y="2149855"/>
                    </a:lnTo>
                    <a:lnTo>
                      <a:pt x="0" y="2149855"/>
                    </a:lnTo>
                    <a:lnTo>
                      <a:pt x="0" y="2149855"/>
                    </a:lnTo>
                    <a:lnTo>
                      <a:pt x="0" y="201595"/>
                    </a:lnTo>
                    <a:cubicBezTo>
                      <a:pt x="0" y="90257"/>
                      <a:pt x="90257" y="0"/>
                      <a:pt x="201595" y="0"/>
                    </a:cubicBezTo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0" name="TextBox 11"/>
              <p:cNvSpPr/>
              <p:nvPr/>
            </p:nvSpPr>
            <p:spPr>
              <a:xfrm>
                <a:off x="852120" y="3181320"/>
                <a:ext cx="230400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861" name="组合 69"/>
            <p:cNvGrpSpPr/>
            <p:nvPr/>
          </p:nvGrpSpPr>
          <p:grpSpPr>
            <a:xfrm>
              <a:off x="2786040" y="3162960"/>
              <a:ext cx="5857920" cy="429120"/>
              <a:chOff x="2786040" y="3162960"/>
              <a:chExt cx="5857920" cy="429120"/>
            </a:xfrm>
          </p:grpSpPr>
          <p:sp>
            <p:nvSpPr>
              <p:cNvPr id="862" name="同侧圆角矩形 31"/>
              <p:cNvSpPr/>
              <p:nvPr/>
            </p:nvSpPr>
            <p:spPr>
              <a:xfrm flipV="1" rot="16200000">
                <a:off x="5503320" y="444960"/>
                <a:ext cx="423000" cy="5857920"/>
              </a:xfrm>
              <a:custGeom>
                <a:avLst/>
                <a:gdLst/>
                <a:ahLst/>
                <a:rect l="l" t="t" r="r" b="b"/>
                <a:pathLst>
                  <a:path w="791660" h="5858030">
                    <a:moveTo>
                      <a:pt x="131946" y="0"/>
                    </a:moveTo>
                    <a:lnTo>
                      <a:pt x="659714" y="0"/>
                    </a:lnTo>
                    <a:cubicBezTo>
                      <a:pt x="732586" y="0"/>
                      <a:pt x="791660" y="59074"/>
                      <a:pt x="791660" y="131946"/>
                    </a:cubicBezTo>
                    <a:lnTo>
                      <a:pt x="791660" y="5858030"/>
                    </a:lnTo>
                    <a:lnTo>
                      <a:pt x="791660" y="5858030"/>
                    </a:lnTo>
                    <a:lnTo>
                      <a:pt x="0" y="5858030"/>
                    </a:lnTo>
                    <a:lnTo>
                      <a:pt x="0" y="5858030"/>
                    </a:lnTo>
                    <a:lnTo>
                      <a:pt x="0" y="131946"/>
                    </a:lnTo>
                    <a:cubicBezTo>
                      <a:pt x="0" y="59074"/>
                      <a:pt x="59074" y="0"/>
                      <a:pt x="131946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fbfbf"/>
                  </a:gs>
                  <a:gs pos="100000">
                    <a:srgbClr val="f2f2f2"/>
                  </a:gs>
                </a:gsLst>
                <a:lin ang="189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63" name="对角圆角矩形 32"/>
              <p:cNvGrpSpPr/>
              <p:nvPr/>
            </p:nvGrpSpPr>
            <p:grpSpPr>
              <a:xfrm>
                <a:off x="7925040" y="3322440"/>
                <a:ext cx="670320" cy="269640"/>
                <a:chOff x="7925040" y="3322440"/>
                <a:chExt cx="670320" cy="269640"/>
              </a:xfrm>
            </p:grpSpPr>
            <p:pic>
              <p:nvPicPr>
                <p:cNvPr id="864" name="对角圆角矩形 3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925040" y="3322440"/>
                  <a:ext cx="670320" cy="269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5" name=""/>
                <p:cNvSpPr/>
                <p:nvPr/>
              </p:nvSpPr>
              <p:spPr>
                <a:xfrm>
                  <a:off x="7941600" y="3341160"/>
                  <a:ext cx="637560" cy="23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66" name="TextBox 12"/>
              <p:cNvSpPr/>
              <p:nvPr/>
            </p:nvSpPr>
            <p:spPr>
              <a:xfrm>
                <a:off x="3357360" y="3214080"/>
                <a:ext cx="426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Verdana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867" name="组合 36"/>
          <p:cNvGrpSpPr/>
          <p:nvPr/>
        </p:nvGrpSpPr>
        <p:grpSpPr>
          <a:xfrm>
            <a:off x="636480" y="3571920"/>
            <a:ext cx="8007480" cy="433440"/>
            <a:chOff x="636480" y="3571920"/>
            <a:chExt cx="8007480" cy="433440"/>
          </a:xfrm>
        </p:grpSpPr>
        <p:grpSp>
          <p:nvGrpSpPr>
            <p:cNvPr id="868" name="组合 64"/>
            <p:cNvGrpSpPr/>
            <p:nvPr/>
          </p:nvGrpSpPr>
          <p:grpSpPr>
            <a:xfrm>
              <a:off x="636480" y="3571920"/>
              <a:ext cx="2519640" cy="421920"/>
              <a:chOff x="636480" y="3571920"/>
              <a:chExt cx="2519640" cy="421920"/>
            </a:xfrm>
          </p:grpSpPr>
          <p:sp>
            <p:nvSpPr>
              <p:cNvPr id="869" name="同侧圆角矩形 43"/>
              <p:cNvSpPr/>
              <p:nvPr/>
            </p:nvSpPr>
            <p:spPr>
              <a:xfrm rot="16200000">
                <a:off x="1500480" y="2707920"/>
                <a:ext cx="421920" cy="2149920"/>
              </a:xfrm>
              <a:custGeom>
                <a:avLst/>
                <a:gdLst/>
                <a:ahLst/>
                <a:rect l="l" t="t" r="r" b="b"/>
                <a:pathLst>
                  <a:path w="793325" h="2149855">
                    <a:moveTo>
                      <a:pt x="132223" y="0"/>
                    </a:moveTo>
                    <a:lnTo>
                      <a:pt x="661102" y="0"/>
                    </a:lnTo>
                    <a:cubicBezTo>
                      <a:pt x="734127" y="0"/>
                      <a:pt x="793325" y="59198"/>
                      <a:pt x="793325" y="132223"/>
                    </a:cubicBezTo>
                    <a:lnTo>
                      <a:pt x="793325" y="2149855"/>
                    </a:lnTo>
                    <a:lnTo>
                      <a:pt x="793325" y="2149855"/>
                    </a:lnTo>
                    <a:lnTo>
                      <a:pt x="0" y="2149855"/>
                    </a:lnTo>
                    <a:lnTo>
                      <a:pt x="0" y="2149855"/>
                    </a:lnTo>
                    <a:lnTo>
                      <a:pt x="0" y="132223"/>
                    </a:lnTo>
                    <a:cubicBezTo>
                      <a:pt x="0" y="59198"/>
                      <a:pt x="59198" y="0"/>
                      <a:pt x="132223" y="0"/>
                    </a:cubicBezTo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0" name="TextBox 11"/>
              <p:cNvSpPr/>
              <p:nvPr/>
            </p:nvSpPr>
            <p:spPr>
              <a:xfrm>
                <a:off x="852120" y="3593880"/>
                <a:ext cx="230400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871" name="组合 69"/>
            <p:cNvGrpSpPr/>
            <p:nvPr/>
          </p:nvGrpSpPr>
          <p:grpSpPr>
            <a:xfrm>
              <a:off x="2786040" y="3575880"/>
              <a:ext cx="5857920" cy="429480"/>
              <a:chOff x="2786040" y="3575880"/>
              <a:chExt cx="5857920" cy="429480"/>
            </a:xfrm>
          </p:grpSpPr>
          <p:sp>
            <p:nvSpPr>
              <p:cNvPr id="872" name="同侧圆角矩形 40"/>
              <p:cNvSpPr/>
              <p:nvPr/>
            </p:nvSpPr>
            <p:spPr>
              <a:xfrm flipV="1" rot="16200000">
                <a:off x="5504040" y="857880"/>
                <a:ext cx="421920" cy="5857920"/>
              </a:xfrm>
              <a:custGeom>
                <a:avLst/>
                <a:gdLst/>
                <a:ahLst/>
                <a:rect l="l" t="t" r="r" b="b"/>
                <a:pathLst>
                  <a:path w="790569" h="5858029">
                    <a:moveTo>
                      <a:pt x="131764" y="0"/>
                    </a:moveTo>
                    <a:lnTo>
                      <a:pt x="658805" y="0"/>
                    </a:lnTo>
                    <a:cubicBezTo>
                      <a:pt x="731576" y="0"/>
                      <a:pt x="790569" y="58993"/>
                      <a:pt x="790569" y="131764"/>
                    </a:cubicBezTo>
                    <a:lnTo>
                      <a:pt x="790569" y="5858029"/>
                    </a:lnTo>
                    <a:lnTo>
                      <a:pt x="790569" y="5858029"/>
                    </a:lnTo>
                    <a:lnTo>
                      <a:pt x="0" y="5858029"/>
                    </a:lnTo>
                    <a:lnTo>
                      <a:pt x="0" y="5858029"/>
                    </a:lnTo>
                    <a:lnTo>
                      <a:pt x="0" y="131764"/>
                    </a:lnTo>
                    <a:cubicBezTo>
                      <a:pt x="0" y="58993"/>
                      <a:pt x="58993" y="0"/>
                      <a:pt x="13176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fbfbf"/>
                  </a:gs>
                  <a:gs pos="100000">
                    <a:srgbClr val="f2f2f2"/>
                  </a:gs>
                </a:gsLst>
                <a:lin ang="189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73" name="对角圆角矩形 41"/>
              <p:cNvGrpSpPr/>
              <p:nvPr/>
            </p:nvGrpSpPr>
            <p:grpSpPr>
              <a:xfrm>
                <a:off x="7925040" y="3736440"/>
                <a:ext cx="670320" cy="268920"/>
                <a:chOff x="7925040" y="3736440"/>
                <a:chExt cx="670320" cy="268920"/>
              </a:xfrm>
            </p:grpSpPr>
            <p:pic>
              <p:nvPicPr>
                <p:cNvPr id="874" name="对角圆角矩形 4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925040" y="3736440"/>
                  <a:ext cx="670320" cy="26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>
                  <a:off x="7941600" y="3753360"/>
                  <a:ext cx="63756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76" name="TextBox 12"/>
              <p:cNvSpPr/>
              <p:nvPr/>
            </p:nvSpPr>
            <p:spPr>
              <a:xfrm>
                <a:off x="3428640" y="3630960"/>
                <a:ext cx="519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877" name="TextBox 21" descr=""/>
          <p:cNvPicPr/>
          <p:nvPr/>
        </p:nvPicPr>
        <p:blipFill>
          <a:blip r:embed="rId8"/>
          <a:stretch/>
        </p:blipFill>
        <p:spPr>
          <a:xfrm>
            <a:off x="841320" y="2981160"/>
            <a:ext cx="1871640" cy="1030320"/>
          </a:xfrm>
          <a:prstGeom prst="rect">
            <a:avLst/>
          </a:prstGeom>
          <a:ln w="0">
            <a:noFill/>
          </a:ln>
        </p:spPr>
      </p:pic>
      <p:grpSp>
        <p:nvGrpSpPr>
          <p:cNvPr id="878" name="组合 69"/>
          <p:cNvGrpSpPr/>
          <p:nvPr/>
        </p:nvGrpSpPr>
        <p:grpSpPr>
          <a:xfrm>
            <a:off x="642960" y="4352760"/>
            <a:ext cx="8143920" cy="438840"/>
            <a:chOff x="642960" y="4352760"/>
            <a:chExt cx="8143920" cy="438840"/>
          </a:xfrm>
        </p:grpSpPr>
        <p:grpSp>
          <p:nvGrpSpPr>
            <p:cNvPr id="879" name="组合 64"/>
            <p:cNvGrpSpPr/>
            <p:nvPr/>
          </p:nvGrpSpPr>
          <p:grpSpPr>
            <a:xfrm>
              <a:off x="642960" y="4352760"/>
              <a:ext cx="2519640" cy="421920"/>
              <a:chOff x="642960" y="4352760"/>
              <a:chExt cx="2519640" cy="421920"/>
            </a:xfrm>
          </p:grpSpPr>
          <p:sp>
            <p:nvSpPr>
              <p:cNvPr id="880" name="同侧圆角矩形 75"/>
              <p:cNvSpPr/>
              <p:nvPr/>
            </p:nvSpPr>
            <p:spPr>
              <a:xfrm rot="16200000">
                <a:off x="1506960" y="3488760"/>
                <a:ext cx="421920" cy="2149920"/>
              </a:xfrm>
              <a:custGeom>
                <a:avLst/>
                <a:gdLst/>
                <a:ahLst/>
                <a:rect l="l" t="t" r="r" b="b"/>
                <a:pathLst>
                  <a:path w="793417" h="2149872">
                    <a:moveTo>
                      <a:pt x="132239" y="0"/>
                    </a:moveTo>
                    <a:lnTo>
                      <a:pt x="661178" y="0"/>
                    </a:lnTo>
                    <a:cubicBezTo>
                      <a:pt x="734212" y="0"/>
                      <a:pt x="793417" y="59205"/>
                      <a:pt x="793417" y="132239"/>
                    </a:cubicBezTo>
                    <a:lnTo>
                      <a:pt x="793417" y="2149872"/>
                    </a:lnTo>
                    <a:lnTo>
                      <a:pt x="793417" y="2149872"/>
                    </a:lnTo>
                    <a:lnTo>
                      <a:pt x="0" y="2149872"/>
                    </a:lnTo>
                    <a:lnTo>
                      <a:pt x="0" y="2149872"/>
                    </a:lnTo>
                    <a:lnTo>
                      <a:pt x="0" y="132239"/>
                    </a:lnTo>
                    <a:cubicBezTo>
                      <a:pt x="0" y="59205"/>
                      <a:pt x="59205" y="0"/>
                      <a:pt x="132239" y="0"/>
                    </a:cubicBezTo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1" name="TextBox 11"/>
              <p:cNvSpPr/>
              <p:nvPr/>
            </p:nvSpPr>
            <p:spPr>
              <a:xfrm>
                <a:off x="858600" y="4374720"/>
                <a:ext cx="230400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882" name="组合 69"/>
            <p:cNvGrpSpPr/>
            <p:nvPr/>
          </p:nvGrpSpPr>
          <p:grpSpPr>
            <a:xfrm>
              <a:off x="2649600" y="4356360"/>
              <a:ext cx="6137280" cy="435240"/>
              <a:chOff x="2649600" y="4356360"/>
              <a:chExt cx="6137280" cy="435240"/>
            </a:xfrm>
          </p:grpSpPr>
          <p:sp>
            <p:nvSpPr>
              <p:cNvPr id="883" name="同侧圆角矩形 72"/>
              <p:cNvSpPr/>
              <p:nvPr/>
            </p:nvSpPr>
            <p:spPr>
              <a:xfrm flipV="1" rot="16200000">
                <a:off x="5510160" y="1637640"/>
                <a:ext cx="421560" cy="5857920"/>
              </a:xfrm>
              <a:custGeom>
                <a:avLst/>
                <a:gdLst/>
                <a:ahLst/>
                <a:rect l="l" t="t" r="r" b="b"/>
                <a:pathLst>
                  <a:path w="790657" h="5858073">
                    <a:moveTo>
                      <a:pt x="131779" y="0"/>
                    </a:moveTo>
                    <a:lnTo>
                      <a:pt x="658878" y="0"/>
                    </a:lnTo>
                    <a:cubicBezTo>
                      <a:pt x="731658" y="0"/>
                      <a:pt x="790657" y="58999"/>
                      <a:pt x="790657" y="131779"/>
                    </a:cubicBezTo>
                    <a:lnTo>
                      <a:pt x="790657" y="5858073"/>
                    </a:lnTo>
                    <a:lnTo>
                      <a:pt x="790657" y="5858073"/>
                    </a:lnTo>
                    <a:lnTo>
                      <a:pt x="0" y="5858073"/>
                    </a:lnTo>
                    <a:lnTo>
                      <a:pt x="0" y="5858073"/>
                    </a:lnTo>
                    <a:lnTo>
                      <a:pt x="0" y="131779"/>
                    </a:lnTo>
                    <a:cubicBezTo>
                      <a:pt x="0" y="58999"/>
                      <a:pt x="58999" y="0"/>
                      <a:pt x="13177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fbfbf"/>
                  </a:gs>
                  <a:gs pos="100000">
                    <a:srgbClr val="f2f2f2"/>
                  </a:gs>
                </a:gsLst>
                <a:lin ang="189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84" name="对角圆角矩形 73"/>
              <p:cNvGrpSpPr/>
              <p:nvPr/>
            </p:nvGrpSpPr>
            <p:grpSpPr>
              <a:xfrm>
                <a:off x="7931160" y="4516560"/>
                <a:ext cx="670320" cy="268920"/>
                <a:chOff x="7931160" y="4516560"/>
                <a:chExt cx="670320" cy="268920"/>
              </a:xfrm>
            </p:grpSpPr>
            <p:pic>
              <p:nvPicPr>
                <p:cNvPr id="885" name="对角圆角矩形 7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931160" y="4516560"/>
                  <a:ext cx="670320" cy="26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6" name=""/>
                <p:cNvSpPr/>
                <p:nvPr/>
              </p:nvSpPr>
              <p:spPr>
                <a:xfrm>
                  <a:off x="7947720" y="4534200"/>
                  <a:ext cx="63756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87" name="TextBox 12"/>
              <p:cNvSpPr/>
              <p:nvPr/>
            </p:nvSpPr>
            <p:spPr>
              <a:xfrm>
                <a:off x="2649600" y="4423320"/>
                <a:ext cx="613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888" name="组合 77"/>
          <p:cNvGrpSpPr/>
          <p:nvPr/>
        </p:nvGrpSpPr>
        <p:grpSpPr>
          <a:xfrm>
            <a:off x="642960" y="4710240"/>
            <a:ext cx="8143920" cy="642960"/>
            <a:chOff x="642960" y="4710240"/>
            <a:chExt cx="8143920" cy="642960"/>
          </a:xfrm>
        </p:grpSpPr>
        <p:grpSp>
          <p:nvGrpSpPr>
            <p:cNvPr id="889" name="组合 64"/>
            <p:cNvGrpSpPr/>
            <p:nvPr/>
          </p:nvGrpSpPr>
          <p:grpSpPr>
            <a:xfrm>
              <a:off x="642960" y="4710240"/>
              <a:ext cx="2519640" cy="642960"/>
              <a:chOff x="642960" y="4710240"/>
              <a:chExt cx="2519640" cy="642960"/>
            </a:xfrm>
          </p:grpSpPr>
          <p:sp>
            <p:nvSpPr>
              <p:cNvPr id="890" name="同侧圆角矩形 83"/>
              <p:cNvSpPr/>
              <p:nvPr/>
            </p:nvSpPr>
            <p:spPr>
              <a:xfrm rot="16200000">
                <a:off x="1396440" y="3956760"/>
                <a:ext cx="642960" cy="2149920"/>
              </a:xfrm>
              <a:custGeom>
                <a:avLst/>
                <a:gdLst/>
                <a:ahLst/>
                <a:rect l="l" t="t" r="r" b="b"/>
                <a:pathLst>
                  <a:path w="1209545" h="2149872">
                    <a:moveTo>
                      <a:pt x="201595" y="0"/>
                    </a:moveTo>
                    <a:lnTo>
                      <a:pt x="1007950" y="0"/>
                    </a:lnTo>
                    <a:cubicBezTo>
                      <a:pt x="1119288" y="0"/>
                      <a:pt x="1209545" y="90257"/>
                      <a:pt x="1209545" y="201595"/>
                    </a:cubicBezTo>
                    <a:lnTo>
                      <a:pt x="1209545" y="2149872"/>
                    </a:lnTo>
                    <a:lnTo>
                      <a:pt x="1209545" y="2149872"/>
                    </a:lnTo>
                    <a:lnTo>
                      <a:pt x="0" y="2149872"/>
                    </a:lnTo>
                    <a:lnTo>
                      <a:pt x="0" y="2149872"/>
                    </a:lnTo>
                    <a:lnTo>
                      <a:pt x="0" y="201595"/>
                    </a:lnTo>
                    <a:cubicBezTo>
                      <a:pt x="0" y="90257"/>
                      <a:pt x="90257" y="0"/>
                      <a:pt x="201595" y="0"/>
                    </a:cubicBezTo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1" name="TextBox 11"/>
              <p:cNvSpPr/>
              <p:nvPr/>
            </p:nvSpPr>
            <p:spPr>
              <a:xfrm>
                <a:off x="858600" y="4819680"/>
                <a:ext cx="230400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892" name="组合 69"/>
            <p:cNvGrpSpPr/>
            <p:nvPr/>
          </p:nvGrpSpPr>
          <p:grpSpPr>
            <a:xfrm>
              <a:off x="2714400" y="4801320"/>
              <a:ext cx="6072480" cy="429120"/>
              <a:chOff x="2714400" y="4801320"/>
              <a:chExt cx="6072480" cy="429120"/>
            </a:xfrm>
          </p:grpSpPr>
          <p:sp>
            <p:nvSpPr>
              <p:cNvPr id="893" name="同侧圆角矩形 80"/>
              <p:cNvSpPr/>
              <p:nvPr/>
            </p:nvSpPr>
            <p:spPr>
              <a:xfrm flipV="1" rot="16200000">
                <a:off x="5510160" y="2082600"/>
                <a:ext cx="421560" cy="5858280"/>
              </a:xfrm>
              <a:custGeom>
                <a:avLst/>
                <a:gdLst/>
                <a:ahLst/>
                <a:rect l="l" t="t" r="r" b="b"/>
                <a:pathLst>
                  <a:path w="791660" h="5858072">
                    <a:moveTo>
                      <a:pt x="131946" y="0"/>
                    </a:moveTo>
                    <a:lnTo>
                      <a:pt x="659714" y="0"/>
                    </a:lnTo>
                    <a:cubicBezTo>
                      <a:pt x="732586" y="0"/>
                      <a:pt x="791660" y="59074"/>
                      <a:pt x="791660" y="131946"/>
                    </a:cubicBezTo>
                    <a:lnTo>
                      <a:pt x="791660" y="5858072"/>
                    </a:lnTo>
                    <a:lnTo>
                      <a:pt x="791660" y="5858072"/>
                    </a:lnTo>
                    <a:lnTo>
                      <a:pt x="0" y="5858072"/>
                    </a:lnTo>
                    <a:lnTo>
                      <a:pt x="0" y="5858072"/>
                    </a:lnTo>
                    <a:lnTo>
                      <a:pt x="0" y="131946"/>
                    </a:lnTo>
                    <a:cubicBezTo>
                      <a:pt x="0" y="59074"/>
                      <a:pt x="59074" y="0"/>
                      <a:pt x="131946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fbfbf"/>
                  </a:gs>
                  <a:gs pos="100000">
                    <a:srgbClr val="f2f2f2"/>
                  </a:gs>
                </a:gsLst>
                <a:lin ang="189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94" name="对角圆角矩形 81"/>
              <p:cNvGrpSpPr/>
              <p:nvPr/>
            </p:nvGrpSpPr>
            <p:grpSpPr>
              <a:xfrm>
                <a:off x="7931160" y="4961880"/>
                <a:ext cx="670320" cy="268560"/>
                <a:chOff x="7931160" y="4961880"/>
                <a:chExt cx="670320" cy="268560"/>
              </a:xfrm>
            </p:grpSpPr>
            <p:pic>
              <p:nvPicPr>
                <p:cNvPr id="895" name="对角圆角矩形 81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931160" y="4961880"/>
                  <a:ext cx="670320" cy="26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>
                  <a:off x="7947720" y="4978800"/>
                  <a:ext cx="637560" cy="23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97" name="TextBox 12"/>
              <p:cNvSpPr/>
              <p:nvPr/>
            </p:nvSpPr>
            <p:spPr>
              <a:xfrm>
                <a:off x="2714400" y="4852440"/>
                <a:ext cx="6072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Verdana"/>
                  </a:rPr>
                  <a:t>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898" name="组合 85"/>
          <p:cNvGrpSpPr/>
          <p:nvPr/>
        </p:nvGrpSpPr>
        <p:grpSpPr>
          <a:xfrm>
            <a:off x="642960" y="5210280"/>
            <a:ext cx="8137440" cy="433440"/>
            <a:chOff x="642960" y="5210280"/>
            <a:chExt cx="8137440" cy="433440"/>
          </a:xfrm>
        </p:grpSpPr>
        <p:grpSp>
          <p:nvGrpSpPr>
            <p:cNvPr id="899" name="组合 64"/>
            <p:cNvGrpSpPr/>
            <p:nvPr/>
          </p:nvGrpSpPr>
          <p:grpSpPr>
            <a:xfrm>
              <a:off x="642960" y="5210280"/>
              <a:ext cx="2519640" cy="421920"/>
              <a:chOff x="642960" y="5210280"/>
              <a:chExt cx="2519640" cy="421920"/>
            </a:xfrm>
          </p:grpSpPr>
          <p:sp>
            <p:nvSpPr>
              <p:cNvPr id="900" name="同侧圆角矩形 91"/>
              <p:cNvSpPr/>
              <p:nvPr/>
            </p:nvSpPr>
            <p:spPr>
              <a:xfrm rot="16200000">
                <a:off x="1506960" y="4346280"/>
                <a:ext cx="421920" cy="2149920"/>
              </a:xfrm>
              <a:custGeom>
                <a:avLst/>
                <a:gdLst/>
                <a:ahLst/>
                <a:rect l="l" t="t" r="r" b="b"/>
                <a:pathLst>
                  <a:path w="793325" h="2149886">
                    <a:moveTo>
                      <a:pt x="132223" y="0"/>
                    </a:moveTo>
                    <a:lnTo>
                      <a:pt x="661102" y="0"/>
                    </a:lnTo>
                    <a:cubicBezTo>
                      <a:pt x="734127" y="0"/>
                      <a:pt x="793325" y="59198"/>
                      <a:pt x="793325" y="132223"/>
                    </a:cubicBezTo>
                    <a:lnTo>
                      <a:pt x="793325" y="2149886"/>
                    </a:lnTo>
                    <a:lnTo>
                      <a:pt x="793325" y="2149886"/>
                    </a:lnTo>
                    <a:lnTo>
                      <a:pt x="0" y="2149886"/>
                    </a:lnTo>
                    <a:lnTo>
                      <a:pt x="0" y="2149886"/>
                    </a:lnTo>
                    <a:lnTo>
                      <a:pt x="0" y="132223"/>
                    </a:lnTo>
                    <a:cubicBezTo>
                      <a:pt x="0" y="59198"/>
                      <a:pt x="59198" y="0"/>
                      <a:pt x="132223" y="0"/>
                    </a:cubicBezTo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1" name="TextBox 11"/>
              <p:cNvSpPr/>
              <p:nvPr/>
            </p:nvSpPr>
            <p:spPr>
              <a:xfrm>
                <a:off x="858600" y="5232240"/>
                <a:ext cx="230400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02" name="组合 69"/>
            <p:cNvGrpSpPr/>
            <p:nvPr/>
          </p:nvGrpSpPr>
          <p:grpSpPr>
            <a:xfrm>
              <a:off x="2786040" y="5214240"/>
              <a:ext cx="5994360" cy="429480"/>
              <a:chOff x="2786040" y="5214240"/>
              <a:chExt cx="5994360" cy="429480"/>
            </a:xfrm>
          </p:grpSpPr>
          <p:sp>
            <p:nvSpPr>
              <p:cNvPr id="903" name="同侧圆角矩形 88"/>
              <p:cNvSpPr/>
              <p:nvPr/>
            </p:nvSpPr>
            <p:spPr>
              <a:xfrm flipV="1" rot="16200000">
                <a:off x="5510880" y="2495520"/>
                <a:ext cx="420480" cy="5857920"/>
              </a:xfrm>
              <a:custGeom>
                <a:avLst/>
                <a:gdLst/>
                <a:ahLst/>
                <a:rect l="l" t="t" r="r" b="b"/>
                <a:pathLst>
                  <a:path w="790569" h="5858114">
                    <a:moveTo>
                      <a:pt x="131764" y="0"/>
                    </a:moveTo>
                    <a:lnTo>
                      <a:pt x="658805" y="0"/>
                    </a:lnTo>
                    <a:cubicBezTo>
                      <a:pt x="731576" y="0"/>
                      <a:pt x="790569" y="58993"/>
                      <a:pt x="790569" y="131764"/>
                    </a:cubicBezTo>
                    <a:lnTo>
                      <a:pt x="790569" y="5858114"/>
                    </a:lnTo>
                    <a:lnTo>
                      <a:pt x="790569" y="5858114"/>
                    </a:lnTo>
                    <a:lnTo>
                      <a:pt x="0" y="5858114"/>
                    </a:lnTo>
                    <a:lnTo>
                      <a:pt x="0" y="5858114"/>
                    </a:lnTo>
                    <a:lnTo>
                      <a:pt x="0" y="131764"/>
                    </a:lnTo>
                    <a:cubicBezTo>
                      <a:pt x="0" y="58993"/>
                      <a:pt x="58993" y="0"/>
                      <a:pt x="13176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fbfbf"/>
                  </a:gs>
                  <a:gs pos="100000">
                    <a:srgbClr val="f2f2f2"/>
                  </a:gs>
                </a:gsLst>
                <a:lin ang="189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04" name="对角圆角矩形 89"/>
              <p:cNvGrpSpPr/>
              <p:nvPr/>
            </p:nvGrpSpPr>
            <p:grpSpPr>
              <a:xfrm>
                <a:off x="7930800" y="5375880"/>
                <a:ext cx="670320" cy="267840"/>
                <a:chOff x="7930800" y="5375880"/>
                <a:chExt cx="670320" cy="267840"/>
              </a:xfrm>
            </p:grpSpPr>
            <p:pic>
              <p:nvPicPr>
                <p:cNvPr id="905" name="对角圆角矩形 89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7930800" y="5375880"/>
                  <a:ext cx="670320" cy="267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7947360" y="5391360"/>
                  <a:ext cx="637560" cy="23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07" name="TextBox 12"/>
              <p:cNvSpPr/>
              <p:nvPr/>
            </p:nvSpPr>
            <p:spPr>
              <a:xfrm>
                <a:off x="2786040" y="5268960"/>
                <a:ext cx="599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908" name="TextBox 21" descr=""/>
          <p:cNvPicPr/>
          <p:nvPr/>
        </p:nvPicPr>
        <p:blipFill>
          <a:blip r:embed="rId12"/>
          <a:stretch/>
        </p:blipFill>
        <p:spPr>
          <a:xfrm>
            <a:off x="646200" y="4705200"/>
            <a:ext cx="242568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9" name="图片 2" descr="方形立体小人锐普PPT论坛-098.JPG"/>
          <p:cNvPicPr/>
          <p:nvPr/>
        </p:nvPicPr>
        <p:blipFill>
          <a:blip r:embed="rId1"/>
          <a:srcRect l="31305" t="31522" r="32176" b="21725"/>
          <a:stretch/>
        </p:blipFill>
        <p:spPr>
          <a:xfrm rot="2522400">
            <a:off x="5581440" y="3257640"/>
            <a:ext cx="3097080" cy="2286000"/>
          </a:xfrm>
          <a:prstGeom prst="rect">
            <a:avLst/>
          </a:prstGeom>
          <a:ln w="0">
            <a:noFill/>
          </a:ln>
        </p:spPr>
      </p:pic>
      <p:grpSp>
        <p:nvGrpSpPr>
          <p:cNvPr id="910" name="组合 19"/>
          <p:cNvGrpSpPr/>
          <p:nvPr/>
        </p:nvGrpSpPr>
        <p:grpSpPr>
          <a:xfrm>
            <a:off x="500040" y="1943280"/>
            <a:ext cx="5926320" cy="1008000"/>
            <a:chOff x="500040" y="1943280"/>
            <a:chExt cx="5926320" cy="1008000"/>
          </a:xfrm>
        </p:grpSpPr>
        <p:sp>
          <p:nvSpPr>
            <p:cNvPr id="911" name="矩形标注 4"/>
            <p:cNvSpPr/>
            <p:nvPr/>
          </p:nvSpPr>
          <p:spPr>
            <a:xfrm>
              <a:off x="500040" y="1943280"/>
              <a:ext cx="5926320" cy="1008000"/>
            </a:xfrm>
            <a:prstGeom prst="wedgeRectCallout">
              <a:avLst>
                <a:gd name="adj1" fmla="val 34037"/>
                <a:gd name="adj2" fmla="val 82365"/>
              </a:avLst>
            </a:prstGeom>
            <a:solidFill>
              <a:srgbClr val="ff3c37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12" name="矩形 24"/>
            <p:cNvGrpSpPr/>
            <p:nvPr/>
          </p:nvGrpSpPr>
          <p:grpSpPr>
            <a:xfrm>
              <a:off x="657360" y="2054520"/>
              <a:ext cx="5632920" cy="798480"/>
              <a:chOff x="657360" y="2054520"/>
              <a:chExt cx="5632920" cy="798480"/>
            </a:xfrm>
          </p:grpSpPr>
          <p:pic>
            <p:nvPicPr>
              <p:cNvPr id="913" name="矩形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657360" y="2054520"/>
                <a:ext cx="5632920" cy="79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4" name="Text Box 14"/>
              <p:cNvSpPr/>
              <p:nvPr/>
            </p:nvSpPr>
            <p:spPr>
              <a:xfrm>
                <a:off x="665280" y="2057400"/>
                <a:ext cx="561708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敬请各位专家领导批评指正！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矩形 52" descr=""/>
          <p:cNvPicPr/>
          <p:nvPr/>
        </p:nvPicPr>
        <p:blipFill>
          <a:blip r:embed="rId1"/>
          <a:stretch/>
        </p:blipFill>
        <p:spPr>
          <a:xfrm>
            <a:off x="1835280" y="768240"/>
            <a:ext cx="4505040" cy="1005120"/>
          </a:xfrm>
          <a:prstGeom prst="rect">
            <a:avLst/>
          </a:prstGeom>
          <a:ln w="0">
            <a:noFill/>
          </a:ln>
        </p:spPr>
      </p:pic>
      <p:sp>
        <p:nvSpPr>
          <p:cNvPr id="549" name="TextBox 53"/>
          <p:cNvSpPr/>
          <p:nvPr/>
        </p:nvSpPr>
        <p:spPr>
          <a:xfrm>
            <a:off x="3259440" y="949320"/>
            <a:ext cx="17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小贴士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50" name="组合 27"/>
          <p:cNvGrpSpPr/>
          <p:nvPr/>
        </p:nvGrpSpPr>
        <p:grpSpPr>
          <a:xfrm>
            <a:off x="770040" y="2181240"/>
            <a:ext cx="1724040" cy="1349280"/>
            <a:chOff x="770040" y="2181240"/>
            <a:chExt cx="1724040" cy="1349280"/>
          </a:xfrm>
        </p:grpSpPr>
        <p:sp>
          <p:nvSpPr>
            <p:cNvPr id="551" name="圆角矩形标注 40"/>
            <p:cNvSpPr/>
            <p:nvPr/>
          </p:nvSpPr>
          <p:spPr>
            <a:xfrm>
              <a:off x="895320" y="2181240"/>
              <a:ext cx="159876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52" name="同侧圆角矩形 19"/>
            <p:cNvGrpSpPr/>
            <p:nvPr/>
          </p:nvGrpSpPr>
          <p:grpSpPr>
            <a:xfrm>
              <a:off x="1126800" y="2252880"/>
              <a:ext cx="1141920" cy="499680"/>
              <a:chOff x="1126800" y="2252880"/>
              <a:chExt cx="1141920" cy="499680"/>
            </a:xfrm>
          </p:grpSpPr>
          <p:pic>
            <p:nvPicPr>
              <p:cNvPr id="553" name="同侧圆角矩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1197000" y="2296080"/>
                <a:ext cx="1071720" cy="45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4" name="Text Box 5" descr=""/>
              <p:cNvPicPr/>
              <p:nvPr/>
            </p:nvPicPr>
            <p:blipFill>
              <a:blip r:embed="rId3"/>
              <a:stretch/>
            </p:blipFill>
            <p:spPr>
              <a:xfrm>
                <a:off x="1126800" y="2252880"/>
                <a:ext cx="1073520" cy="4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55" name="TextBox 20"/>
            <p:cNvSpPr/>
            <p:nvPr/>
          </p:nvSpPr>
          <p:spPr>
            <a:xfrm>
              <a:off x="770040" y="2824200"/>
              <a:ext cx="171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56" name="组合 54"/>
          <p:cNvGrpSpPr/>
          <p:nvPr/>
        </p:nvGrpSpPr>
        <p:grpSpPr>
          <a:xfrm>
            <a:off x="954000" y="4076640"/>
            <a:ext cx="1560600" cy="1096920"/>
            <a:chOff x="954000" y="4076640"/>
            <a:chExt cx="1560600" cy="1096920"/>
          </a:xfrm>
        </p:grpSpPr>
        <p:sp>
          <p:nvSpPr>
            <p:cNvPr id="557" name="圆角矩形标注 57"/>
            <p:cNvSpPr/>
            <p:nvPr/>
          </p:nvSpPr>
          <p:spPr>
            <a:xfrm>
              <a:off x="954000" y="4076640"/>
              <a:ext cx="1560600" cy="95724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ffc0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558" name="Text Box 32" descr=""/>
            <p:cNvPicPr/>
            <p:nvPr/>
          </p:nvPicPr>
          <p:blipFill>
            <a:blip r:embed="rId4"/>
            <a:stretch/>
          </p:blipFill>
          <p:spPr>
            <a:xfrm>
              <a:off x="1096920" y="4386240"/>
              <a:ext cx="1140120" cy="78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9" name="圆角矩形标注 59"/>
          <p:cNvSpPr/>
          <p:nvPr/>
        </p:nvSpPr>
        <p:spPr>
          <a:xfrm>
            <a:off x="3276720" y="2824200"/>
            <a:ext cx="5182920" cy="16128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TextBox 1"/>
          <p:cNvSpPr/>
          <p:nvPr/>
        </p:nvSpPr>
        <p:spPr>
          <a:xfrm>
            <a:off x="3276720" y="3133800"/>
            <a:ext cx="5398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根据内容层级数选择左边的标题形式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层级较多的选择上边的，层级较少选择下边的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请自行替换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矩形 52" descr=""/>
          <p:cNvPicPr/>
          <p:nvPr/>
        </p:nvPicPr>
        <p:blipFill>
          <a:blip r:embed="rId1"/>
          <a:stretch/>
        </p:blipFill>
        <p:spPr>
          <a:xfrm>
            <a:off x="1835280" y="768240"/>
            <a:ext cx="4505040" cy="1005120"/>
          </a:xfrm>
          <a:prstGeom prst="rect">
            <a:avLst/>
          </a:prstGeom>
          <a:ln w="0">
            <a:noFill/>
          </a:ln>
        </p:spPr>
      </p:pic>
      <p:sp>
        <p:nvSpPr>
          <p:cNvPr id="562" name="TextBox 53"/>
          <p:cNvSpPr/>
          <p:nvPr/>
        </p:nvSpPr>
        <p:spPr>
          <a:xfrm>
            <a:off x="3259440" y="949320"/>
            <a:ext cx="17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小贴士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圆角矩形标注 59"/>
          <p:cNvSpPr/>
          <p:nvPr/>
        </p:nvSpPr>
        <p:spPr>
          <a:xfrm>
            <a:off x="1258920" y="2997360"/>
            <a:ext cx="6697800" cy="15318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TextBox 1"/>
          <p:cNvSpPr/>
          <p:nvPr/>
        </p:nvSpPr>
        <p:spPr>
          <a:xfrm>
            <a:off x="1352520" y="3300480"/>
            <a:ext cx="638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母版里请自行更换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LOGO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、校训等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矩形 52" descr=""/>
          <p:cNvPicPr/>
          <p:nvPr/>
        </p:nvPicPr>
        <p:blipFill>
          <a:blip r:embed="rId1"/>
          <a:stretch/>
        </p:blipFill>
        <p:spPr>
          <a:xfrm>
            <a:off x="1835280" y="768240"/>
            <a:ext cx="4505040" cy="1005120"/>
          </a:xfrm>
          <a:prstGeom prst="rect">
            <a:avLst/>
          </a:prstGeom>
          <a:ln w="0">
            <a:noFill/>
          </a:ln>
        </p:spPr>
      </p:pic>
      <p:sp>
        <p:nvSpPr>
          <p:cNvPr id="566" name="TextBox 53"/>
          <p:cNvSpPr/>
          <p:nvPr/>
        </p:nvSpPr>
        <p:spPr>
          <a:xfrm>
            <a:off x="3259440" y="949320"/>
            <a:ext cx="17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小贴士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圆角矩形标注 59"/>
          <p:cNvSpPr/>
          <p:nvPr/>
        </p:nvSpPr>
        <p:spPr>
          <a:xfrm>
            <a:off x="826920" y="2997360"/>
            <a:ext cx="7561440" cy="15318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TextBox 1"/>
          <p:cNvSpPr/>
          <p:nvPr/>
        </p:nvSpPr>
        <p:spPr>
          <a:xfrm>
            <a:off x="900000" y="3141720"/>
            <a:ext cx="7488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请根据自己的需求对内容进行增删与修改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 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秋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矩形 52" descr=""/>
          <p:cNvPicPr/>
          <p:nvPr/>
        </p:nvPicPr>
        <p:blipFill>
          <a:blip r:embed="rId1"/>
          <a:stretch/>
        </p:blipFill>
        <p:spPr>
          <a:xfrm>
            <a:off x="-85680" y="500040"/>
            <a:ext cx="9388440" cy="1000080"/>
          </a:xfrm>
          <a:prstGeom prst="rect">
            <a:avLst/>
          </a:prstGeom>
          <a:ln w="0">
            <a:noFill/>
          </a:ln>
        </p:spPr>
      </p:pic>
      <p:sp>
        <p:nvSpPr>
          <p:cNvPr id="570" name="TextBox 53"/>
          <p:cNvSpPr/>
          <p:nvPr/>
        </p:nvSpPr>
        <p:spPr>
          <a:xfrm>
            <a:off x="215640" y="773280"/>
            <a:ext cx="240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微软雅黑"/>
              </a:rPr>
              <a:t>☞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主要内容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1" name="组合 43"/>
          <p:cNvGrpSpPr/>
          <p:nvPr/>
        </p:nvGrpSpPr>
        <p:grpSpPr>
          <a:xfrm>
            <a:off x="357120" y="3071880"/>
            <a:ext cx="2214720" cy="1361880"/>
            <a:chOff x="357120" y="3071880"/>
            <a:chExt cx="2214720" cy="1361880"/>
          </a:xfrm>
        </p:grpSpPr>
        <p:sp>
          <p:nvSpPr>
            <p:cNvPr id="572" name="椭圆 44"/>
            <p:cNvSpPr/>
            <p:nvPr/>
          </p:nvSpPr>
          <p:spPr>
            <a:xfrm>
              <a:off x="357120" y="3071880"/>
              <a:ext cx="585720" cy="57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73" name="组合 7"/>
            <p:cNvGrpSpPr/>
            <p:nvPr/>
          </p:nvGrpSpPr>
          <p:grpSpPr>
            <a:xfrm>
              <a:off x="614160" y="3116520"/>
              <a:ext cx="1957680" cy="1317240"/>
              <a:chOff x="614160" y="3116520"/>
              <a:chExt cx="1957680" cy="1317240"/>
            </a:xfrm>
          </p:grpSpPr>
          <p:sp>
            <p:nvSpPr>
              <p:cNvPr id="574" name="圆角矩形 48"/>
              <p:cNvSpPr/>
              <p:nvPr/>
            </p:nvSpPr>
            <p:spPr>
              <a:xfrm>
                <a:off x="614160" y="3116520"/>
                <a:ext cx="1957680" cy="1312560"/>
              </a:xfrm>
              <a:prstGeom prst="roundRect">
                <a:avLst>
                  <a:gd name="adj" fmla="val 7319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XXXX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75" name="对角圆角矩形 53"/>
              <p:cNvGrpSpPr/>
              <p:nvPr/>
            </p:nvGrpSpPr>
            <p:grpSpPr>
              <a:xfrm>
                <a:off x="2214720" y="3486960"/>
                <a:ext cx="357120" cy="946800"/>
                <a:chOff x="2214720" y="3486960"/>
                <a:chExt cx="357120" cy="946800"/>
              </a:xfrm>
            </p:grpSpPr>
            <p:pic>
              <p:nvPicPr>
                <p:cNvPr id="576" name="对角圆角矩形 5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214720" y="3714480"/>
                  <a:ext cx="357120" cy="71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7" name="Text Box 16"/>
                <p:cNvSpPr/>
                <p:nvPr/>
              </p:nvSpPr>
              <p:spPr>
                <a:xfrm>
                  <a:off x="2230560" y="3486960"/>
                  <a:ext cx="341280" cy="94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578" name="椭圆 46"/>
            <p:cNvSpPr/>
            <p:nvPr/>
          </p:nvSpPr>
          <p:spPr>
            <a:xfrm>
              <a:off x="428400" y="3071880"/>
              <a:ext cx="500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9" name="椭圆 47"/>
            <p:cNvSpPr/>
            <p:nvPr/>
          </p:nvSpPr>
          <p:spPr>
            <a:xfrm>
              <a:off x="428400" y="3143160"/>
              <a:ext cx="500040" cy="500040"/>
            </a:xfrm>
            <a:prstGeom prst="ellipse">
              <a:avLst/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80" name="组合 15"/>
          <p:cNvGrpSpPr/>
          <p:nvPr/>
        </p:nvGrpSpPr>
        <p:grpSpPr>
          <a:xfrm>
            <a:off x="2428920" y="3071880"/>
            <a:ext cx="2214360" cy="1361880"/>
            <a:chOff x="2428920" y="3071880"/>
            <a:chExt cx="2214360" cy="1361880"/>
          </a:xfrm>
        </p:grpSpPr>
        <p:sp>
          <p:nvSpPr>
            <p:cNvPr id="581" name="椭圆 4"/>
            <p:cNvSpPr/>
            <p:nvPr/>
          </p:nvSpPr>
          <p:spPr>
            <a:xfrm>
              <a:off x="2428920" y="3071880"/>
              <a:ext cx="585720" cy="57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82" name="组合 7"/>
            <p:cNvGrpSpPr/>
            <p:nvPr/>
          </p:nvGrpSpPr>
          <p:grpSpPr>
            <a:xfrm>
              <a:off x="2685960" y="3116520"/>
              <a:ext cx="1957320" cy="1317240"/>
              <a:chOff x="2685960" y="3116520"/>
              <a:chExt cx="1957320" cy="1317240"/>
            </a:xfrm>
          </p:grpSpPr>
          <p:sp>
            <p:nvSpPr>
              <p:cNvPr id="583" name="圆角矩形 9"/>
              <p:cNvSpPr/>
              <p:nvPr/>
            </p:nvSpPr>
            <p:spPr>
              <a:xfrm>
                <a:off x="2685960" y="3116520"/>
                <a:ext cx="1957320" cy="1312560"/>
              </a:xfrm>
              <a:prstGeom prst="roundRect">
                <a:avLst>
                  <a:gd name="adj" fmla="val 7319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84" name="对角圆角矩形 53"/>
              <p:cNvGrpSpPr/>
              <p:nvPr/>
            </p:nvGrpSpPr>
            <p:grpSpPr>
              <a:xfrm>
                <a:off x="4286160" y="3486960"/>
                <a:ext cx="357120" cy="946800"/>
                <a:chOff x="4286160" y="3486960"/>
                <a:chExt cx="357120" cy="946800"/>
              </a:xfrm>
            </p:grpSpPr>
            <p:pic>
              <p:nvPicPr>
                <p:cNvPr id="585" name="对角圆角矩形 5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286160" y="3714480"/>
                  <a:ext cx="357120" cy="71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6" name="Text Box 16"/>
                <p:cNvSpPr/>
                <p:nvPr/>
              </p:nvSpPr>
              <p:spPr>
                <a:xfrm>
                  <a:off x="4302000" y="3486960"/>
                  <a:ext cx="341280" cy="94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587" name="椭圆 6"/>
            <p:cNvSpPr/>
            <p:nvPr/>
          </p:nvSpPr>
          <p:spPr>
            <a:xfrm>
              <a:off x="2500200" y="3071880"/>
              <a:ext cx="500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8" name="椭圆 7"/>
            <p:cNvSpPr/>
            <p:nvPr/>
          </p:nvSpPr>
          <p:spPr>
            <a:xfrm>
              <a:off x="2500200" y="3143160"/>
              <a:ext cx="500040" cy="500040"/>
            </a:xfrm>
            <a:prstGeom prst="ellipse">
              <a:avLst/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89" name="组合 16"/>
          <p:cNvGrpSpPr/>
          <p:nvPr/>
        </p:nvGrpSpPr>
        <p:grpSpPr>
          <a:xfrm>
            <a:off x="4500720" y="3071880"/>
            <a:ext cx="2214360" cy="1361880"/>
            <a:chOff x="4500720" y="3071880"/>
            <a:chExt cx="2214360" cy="1361880"/>
          </a:xfrm>
        </p:grpSpPr>
        <p:sp>
          <p:nvSpPr>
            <p:cNvPr id="590" name="椭圆 17"/>
            <p:cNvSpPr/>
            <p:nvPr/>
          </p:nvSpPr>
          <p:spPr>
            <a:xfrm>
              <a:off x="4500720" y="3071880"/>
              <a:ext cx="585720" cy="57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91" name="组合 7"/>
            <p:cNvGrpSpPr/>
            <p:nvPr/>
          </p:nvGrpSpPr>
          <p:grpSpPr>
            <a:xfrm>
              <a:off x="4757760" y="3116520"/>
              <a:ext cx="1957320" cy="1317240"/>
              <a:chOff x="4757760" y="3116520"/>
              <a:chExt cx="1957320" cy="1317240"/>
            </a:xfrm>
          </p:grpSpPr>
          <p:sp>
            <p:nvSpPr>
              <p:cNvPr id="592" name="圆角矩形 21"/>
              <p:cNvSpPr/>
              <p:nvPr/>
            </p:nvSpPr>
            <p:spPr>
              <a:xfrm>
                <a:off x="4757760" y="3116520"/>
                <a:ext cx="1957320" cy="1312560"/>
              </a:xfrm>
              <a:prstGeom prst="roundRect">
                <a:avLst>
                  <a:gd name="adj" fmla="val 7319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93" name="对角圆角矩形 53"/>
              <p:cNvGrpSpPr/>
              <p:nvPr/>
            </p:nvGrpSpPr>
            <p:grpSpPr>
              <a:xfrm>
                <a:off x="6357960" y="3486960"/>
                <a:ext cx="357120" cy="946800"/>
                <a:chOff x="6357960" y="3486960"/>
                <a:chExt cx="357120" cy="946800"/>
              </a:xfrm>
            </p:grpSpPr>
            <p:pic>
              <p:nvPicPr>
                <p:cNvPr id="594" name="对角圆角矩形 5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57960" y="3714480"/>
                  <a:ext cx="357120" cy="71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5" name="Text Box 16"/>
                <p:cNvSpPr/>
                <p:nvPr/>
              </p:nvSpPr>
              <p:spPr>
                <a:xfrm>
                  <a:off x="6373800" y="3486960"/>
                  <a:ext cx="341280" cy="94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596" name="椭圆 19"/>
            <p:cNvSpPr/>
            <p:nvPr/>
          </p:nvSpPr>
          <p:spPr>
            <a:xfrm>
              <a:off x="4572000" y="3071880"/>
              <a:ext cx="500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7" name="椭圆 20"/>
            <p:cNvSpPr/>
            <p:nvPr/>
          </p:nvSpPr>
          <p:spPr>
            <a:xfrm>
              <a:off x="4572000" y="3143160"/>
              <a:ext cx="500040" cy="500040"/>
            </a:xfrm>
            <a:prstGeom prst="ellipse">
              <a:avLst/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98" name="组合 25"/>
          <p:cNvGrpSpPr/>
          <p:nvPr/>
        </p:nvGrpSpPr>
        <p:grpSpPr>
          <a:xfrm>
            <a:off x="6572160" y="3071880"/>
            <a:ext cx="2214720" cy="1361880"/>
            <a:chOff x="6572160" y="3071880"/>
            <a:chExt cx="2214720" cy="1361880"/>
          </a:xfrm>
        </p:grpSpPr>
        <p:sp>
          <p:nvSpPr>
            <p:cNvPr id="599" name="椭圆 26"/>
            <p:cNvSpPr/>
            <p:nvPr/>
          </p:nvSpPr>
          <p:spPr>
            <a:xfrm>
              <a:off x="6572160" y="3071880"/>
              <a:ext cx="585720" cy="57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0" name="组合 7"/>
            <p:cNvGrpSpPr/>
            <p:nvPr/>
          </p:nvGrpSpPr>
          <p:grpSpPr>
            <a:xfrm>
              <a:off x="6829200" y="3116520"/>
              <a:ext cx="1957680" cy="1317240"/>
              <a:chOff x="6829200" y="3116520"/>
              <a:chExt cx="1957680" cy="1317240"/>
            </a:xfrm>
          </p:grpSpPr>
          <p:sp>
            <p:nvSpPr>
              <p:cNvPr id="601" name="圆角矩形 30"/>
              <p:cNvSpPr/>
              <p:nvPr/>
            </p:nvSpPr>
            <p:spPr>
              <a:xfrm>
                <a:off x="6829200" y="3116520"/>
                <a:ext cx="1957680" cy="1312560"/>
              </a:xfrm>
              <a:prstGeom prst="roundRect">
                <a:avLst>
                  <a:gd name="adj" fmla="val 7319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XXXX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02" name="对角圆角矩形 53"/>
              <p:cNvGrpSpPr/>
              <p:nvPr/>
            </p:nvGrpSpPr>
            <p:grpSpPr>
              <a:xfrm>
                <a:off x="8429760" y="3486960"/>
                <a:ext cx="357120" cy="946800"/>
                <a:chOff x="8429760" y="3486960"/>
                <a:chExt cx="357120" cy="946800"/>
              </a:xfrm>
            </p:grpSpPr>
            <p:pic>
              <p:nvPicPr>
                <p:cNvPr id="603" name="对角圆角矩形 5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429760" y="3714480"/>
                  <a:ext cx="357120" cy="71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4" name="Text Box 16"/>
                <p:cNvSpPr/>
                <p:nvPr/>
              </p:nvSpPr>
              <p:spPr>
                <a:xfrm>
                  <a:off x="8445600" y="3486960"/>
                  <a:ext cx="341280" cy="94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605" name="椭圆 28"/>
            <p:cNvSpPr/>
            <p:nvPr/>
          </p:nvSpPr>
          <p:spPr>
            <a:xfrm>
              <a:off x="6643440" y="3071880"/>
              <a:ext cx="500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6" name="椭圆 29"/>
            <p:cNvSpPr/>
            <p:nvPr/>
          </p:nvSpPr>
          <p:spPr>
            <a:xfrm>
              <a:off x="6643440" y="3143160"/>
              <a:ext cx="500040" cy="500040"/>
            </a:xfrm>
            <a:prstGeom prst="ellipse">
              <a:avLst/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608" name="TextBox 3"/>
          <p:cNvSpPr/>
          <p:nvPr/>
        </p:nvSpPr>
        <p:spPr>
          <a:xfrm>
            <a:off x="3094200" y="1333440"/>
            <a:ext cx="6192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0" name="圆角矩形 14" descr=""/>
          <p:cNvPicPr/>
          <p:nvPr/>
        </p:nvPicPr>
        <p:blipFill>
          <a:blip r:embed="rId2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611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612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13" name="同侧圆角矩形 19"/>
            <p:cNvGrpSpPr/>
            <p:nvPr/>
          </p:nvGrpSpPr>
          <p:grpSpPr>
            <a:xfrm>
              <a:off x="785880" y="1000440"/>
              <a:ext cx="1143360" cy="499320"/>
              <a:chOff x="785880" y="1000440"/>
              <a:chExt cx="1143360" cy="499320"/>
            </a:xfrm>
          </p:grpSpPr>
          <p:pic>
            <p:nvPicPr>
              <p:cNvPr id="614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046520"/>
                <a:ext cx="1072800" cy="453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5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88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16" name="TextBox 20"/>
            <p:cNvSpPr/>
            <p:nvPr/>
          </p:nvSpPr>
          <p:spPr>
            <a:xfrm>
              <a:off x="428760" y="157176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17" name="组合 4"/>
          <p:cNvGrpSpPr/>
          <p:nvPr/>
        </p:nvGrpSpPr>
        <p:grpSpPr>
          <a:xfrm>
            <a:off x="2340000" y="3286080"/>
            <a:ext cx="1919160" cy="1346400"/>
            <a:chOff x="2340000" y="3286080"/>
            <a:chExt cx="1919160" cy="1346400"/>
          </a:xfrm>
        </p:grpSpPr>
        <p:sp>
          <p:nvSpPr>
            <p:cNvPr id="618" name="椭圆 34"/>
            <p:cNvSpPr/>
            <p:nvPr/>
          </p:nvSpPr>
          <p:spPr>
            <a:xfrm>
              <a:off x="2340000" y="4137120"/>
              <a:ext cx="1919160" cy="495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9" name="椭圆形标注 35"/>
            <p:cNvSpPr/>
            <p:nvPr/>
          </p:nvSpPr>
          <p:spPr>
            <a:xfrm>
              <a:off x="2624040" y="3286080"/>
              <a:ext cx="1238400" cy="98928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0" name="椭圆 36"/>
            <p:cNvSpPr/>
            <p:nvPr/>
          </p:nvSpPr>
          <p:spPr>
            <a:xfrm>
              <a:off x="2714400" y="3325680"/>
              <a:ext cx="1052640" cy="8049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1" name="TextBox 8"/>
            <p:cNvSpPr/>
            <p:nvPr/>
          </p:nvSpPr>
          <p:spPr>
            <a:xfrm>
              <a:off x="2727720" y="3503520"/>
              <a:ext cx="105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22" name="组合 10"/>
          <p:cNvGrpSpPr/>
          <p:nvPr/>
        </p:nvGrpSpPr>
        <p:grpSpPr>
          <a:xfrm>
            <a:off x="3635280" y="2709720"/>
            <a:ext cx="2257560" cy="1584360"/>
            <a:chOff x="3635280" y="2709720"/>
            <a:chExt cx="2257560" cy="1584360"/>
          </a:xfrm>
        </p:grpSpPr>
        <p:sp>
          <p:nvSpPr>
            <p:cNvPr id="623" name="椭圆 39"/>
            <p:cNvSpPr/>
            <p:nvPr/>
          </p:nvSpPr>
          <p:spPr>
            <a:xfrm>
              <a:off x="3635280" y="3711600"/>
              <a:ext cx="2257560" cy="582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4" name="椭圆形标注 40"/>
            <p:cNvSpPr/>
            <p:nvPr/>
          </p:nvSpPr>
          <p:spPr>
            <a:xfrm>
              <a:off x="3968640" y="2709720"/>
              <a:ext cx="1457640" cy="116532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5" name="椭圆 41"/>
            <p:cNvSpPr/>
            <p:nvPr/>
          </p:nvSpPr>
          <p:spPr>
            <a:xfrm>
              <a:off x="4076640" y="2757240"/>
              <a:ext cx="1238400" cy="94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6" name="TextBox 14"/>
            <p:cNvSpPr/>
            <p:nvPr/>
          </p:nvSpPr>
          <p:spPr>
            <a:xfrm>
              <a:off x="4070880" y="2977200"/>
              <a:ext cx="123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27" name="组合 15"/>
          <p:cNvGrpSpPr/>
          <p:nvPr/>
        </p:nvGrpSpPr>
        <p:grpSpPr>
          <a:xfrm>
            <a:off x="1908000" y="4365720"/>
            <a:ext cx="2087640" cy="1492200"/>
            <a:chOff x="1908000" y="4365720"/>
            <a:chExt cx="2087640" cy="1492200"/>
          </a:xfrm>
        </p:grpSpPr>
        <p:sp>
          <p:nvSpPr>
            <p:cNvPr id="628" name="椭圆 44"/>
            <p:cNvSpPr/>
            <p:nvPr/>
          </p:nvSpPr>
          <p:spPr>
            <a:xfrm>
              <a:off x="1908000" y="5308560"/>
              <a:ext cx="2087640" cy="549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9" name="椭圆形标注 45"/>
            <p:cNvSpPr/>
            <p:nvPr/>
          </p:nvSpPr>
          <p:spPr>
            <a:xfrm>
              <a:off x="2217600" y="4365720"/>
              <a:ext cx="1346400" cy="109692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0" name="椭圆 46"/>
            <p:cNvSpPr/>
            <p:nvPr/>
          </p:nvSpPr>
          <p:spPr>
            <a:xfrm>
              <a:off x="2315880" y="4410000"/>
              <a:ext cx="1144800" cy="8906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1" name="TextBox 19"/>
            <p:cNvSpPr/>
            <p:nvPr/>
          </p:nvSpPr>
          <p:spPr>
            <a:xfrm>
              <a:off x="2299680" y="4606920"/>
              <a:ext cx="11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32" name="组合 35"/>
          <p:cNvGrpSpPr/>
          <p:nvPr/>
        </p:nvGrpSpPr>
        <p:grpSpPr>
          <a:xfrm>
            <a:off x="5219640" y="3429000"/>
            <a:ext cx="1919520" cy="1347840"/>
            <a:chOff x="5219640" y="3429000"/>
            <a:chExt cx="1919520" cy="1347840"/>
          </a:xfrm>
        </p:grpSpPr>
        <p:sp>
          <p:nvSpPr>
            <p:cNvPr id="633" name="椭圆 49"/>
            <p:cNvSpPr/>
            <p:nvPr/>
          </p:nvSpPr>
          <p:spPr>
            <a:xfrm>
              <a:off x="5219640" y="4281480"/>
              <a:ext cx="1919520" cy="495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4" name="椭圆形标注 50"/>
            <p:cNvSpPr/>
            <p:nvPr/>
          </p:nvSpPr>
          <p:spPr>
            <a:xfrm>
              <a:off x="5503680" y="3429000"/>
              <a:ext cx="1238400" cy="99072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5" name="椭圆 51"/>
            <p:cNvSpPr/>
            <p:nvPr/>
          </p:nvSpPr>
          <p:spPr>
            <a:xfrm>
              <a:off x="5594400" y="3468600"/>
              <a:ext cx="1052640" cy="8049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6" name="TextBox 39"/>
            <p:cNvSpPr/>
            <p:nvPr/>
          </p:nvSpPr>
          <p:spPr>
            <a:xfrm>
              <a:off x="5607720" y="3645000"/>
              <a:ext cx="105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37" name="组合 30"/>
          <p:cNvGrpSpPr/>
          <p:nvPr/>
        </p:nvGrpSpPr>
        <p:grpSpPr>
          <a:xfrm>
            <a:off x="3276720" y="4294080"/>
            <a:ext cx="2460600" cy="1727280"/>
            <a:chOff x="3276720" y="4294080"/>
            <a:chExt cx="2460600" cy="1727280"/>
          </a:xfrm>
        </p:grpSpPr>
        <p:sp>
          <p:nvSpPr>
            <p:cNvPr id="638" name="椭圆 54"/>
            <p:cNvSpPr/>
            <p:nvPr/>
          </p:nvSpPr>
          <p:spPr>
            <a:xfrm>
              <a:off x="3276720" y="5386320"/>
              <a:ext cx="2460600" cy="635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椭圆形标注 55"/>
            <p:cNvSpPr/>
            <p:nvPr/>
          </p:nvSpPr>
          <p:spPr>
            <a:xfrm>
              <a:off x="3639960" y="4294080"/>
              <a:ext cx="1587600" cy="127008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椭圆 56"/>
            <p:cNvSpPr/>
            <p:nvPr/>
          </p:nvSpPr>
          <p:spPr>
            <a:xfrm>
              <a:off x="3757680" y="4344840"/>
              <a:ext cx="1349280" cy="10321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TextBox 57"/>
            <p:cNvSpPr/>
            <p:nvPr/>
          </p:nvSpPr>
          <p:spPr>
            <a:xfrm>
              <a:off x="3719520" y="4770360"/>
              <a:ext cx="134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42" name="组合 20"/>
          <p:cNvGrpSpPr/>
          <p:nvPr/>
        </p:nvGrpSpPr>
        <p:grpSpPr>
          <a:xfrm>
            <a:off x="4964040" y="4470480"/>
            <a:ext cx="2428920" cy="1704960"/>
            <a:chOff x="4964040" y="4470480"/>
            <a:chExt cx="2428920" cy="1704960"/>
          </a:xfrm>
        </p:grpSpPr>
        <p:sp>
          <p:nvSpPr>
            <p:cNvPr id="643" name="椭圆 59"/>
            <p:cNvSpPr/>
            <p:nvPr/>
          </p:nvSpPr>
          <p:spPr>
            <a:xfrm>
              <a:off x="4964040" y="5548320"/>
              <a:ext cx="2428920" cy="627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椭圆形标注 60"/>
            <p:cNvSpPr/>
            <p:nvPr/>
          </p:nvSpPr>
          <p:spPr>
            <a:xfrm>
              <a:off x="5322600" y="4470480"/>
              <a:ext cx="1568520" cy="125424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1ab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椭圆 61"/>
            <p:cNvSpPr/>
            <p:nvPr/>
          </p:nvSpPr>
          <p:spPr>
            <a:xfrm>
              <a:off x="5438520" y="4521240"/>
              <a:ext cx="1332000" cy="1017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TextBox 24"/>
            <p:cNvSpPr/>
            <p:nvPr/>
          </p:nvSpPr>
          <p:spPr>
            <a:xfrm>
              <a:off x="5471280" y="4932000"/>
              <a:ext cx="13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648" name="TextBox 3"/>
          <p:cNvSpPr/>
          <p:nvPr/>
        </p:nvSpPr>
        <p:spPr>
          <a:xfrm>
            <a:off x="3094200" y="1333440"/>
            <a:ext cx="6192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0" name="圆角矩形 14" descr=""/>
          <p:cNvPicPr/>
          <p:nvPr/>
        </p:nvPicPr>
        <p:blipFill>
          <a:blip r:embed="rId2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651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652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3" name="同侧圆角矩形 19"/>
            <p:cNvGrpSpPr/>
            <p:nvPr/>
          </p:nvGrpSpPr>
          <p:grpSpPr>
            <a:xfrm>
              <a:off x="785880" y="1000440"/>
              <a:ext cx="1143360" cy="499320"/>
              <a:chOff x="785880" y="1000440"/>
              <a:chExt cx="1143360" cy="499320"/>
            </a:xfrm>
          </p:grpSpPr>
          <p:pic>
            <p:nvPicPr>
              <p:cNvPr id="654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046520"/>
                <a:ext cx="1072800" cy="453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5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88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6" name="TextBox 20"/>
            <p:cNvSpPr/>
            <p:nvPr/>
          </p:nvSpPr>
          <p:spPr>
            <a:xfrm>
              <a:off x="428760" y="157176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57" name="组合 71"/>
          <p:cNvGrpSpPr/>
          <p:nvPr/>
        </p:nvGrpSpPr>
        <p:grpSpPr>
          <a:xfrm>
            <a:off x="1042920" y="2944800"/>
            <a:ext cx="3060720" cy="2787840"/>
            <a:chOff x="1042920" y="2944800"/>
            <a:chExt cx="3060720" cy="2787840"/>
          </a:xfrm>
        </p:grpSpPr>
        <p:pic>
          <p:nvPicPr>
            <p:cNvPr id="658" name="Picture 9" descr=""/>
            <p:cNvPicPr/>
            <p:nvPr/>
          </p:nvPicPr>
          <p:blipFill>
            <a:blip r:embed="rId5"/>
            <a:stretch/>
          </p:blipFill>
          <p:spPr>
            <a:xfrm>
              <a:off x="1042920" y="4570560"/>
              <a:ext cx="1000080" cy="1162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9" name="组合 26"/>
            <p:cNvGrpSpPr/>
            <p:nvPr/>
          </p:nvGrpSpPr>
          <p:grpSpPr>
            <a:xfrm>
              <a:off x="1731960" y="3022560"/>
              <a:ext cx="2371680" cy="1625760"/>
              <a:chOff x="1731960" y="3022560"/>
              <a:chExt cx="2371680" cy="1625760"/>
            </a:xfrm>
          </p:grpSpPr>
          <p:sp>
            <p:nvSpPr>
              <p:cNvPr id="660" name="圆角矩形标注 75"/>
              <p:cNvSpPr/>
              <p:nvPr/>
            </p:nvSpPr>
            <p:spPr>
              <a:xfrm>
                <a:off x="1731960" y="3022560"/>
                <a:ext cx="2371680" cy="1625760"/>
              </a:xfrm>
              <a:prstGeom prst="wedgeRoundRectCallout">
                <a:avLst>
                  <a:gd name="adj1" fmla="val -20833"/>
                  <a:gd name="adj2" fmla="val 62500"/>
                  <a:gd name="adj3" fmla="val 16667"/>
                </a:avLst>
              </a:prstGeom>
              <a:noFill/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矩形 76"/>
              <p:cNvSpPr/>
              <p:nvPr/>
            </p:nvSpPr>
            <p:spPr>
              <a:xfrm>
                <a:off x="1957320" y="3514680"/>
                <a:ext cx="201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XXXX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2" name="椭圆 74"/>
            <p:cNvSpPr/>
            <p:nvPr/>
          </p:nvSpPr>
          <p:spPr>
            <a:xfrm>
              <a:off x="1674720" y="2944800"/>
              <a:ext cx="287280" cy="287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63" name="组合 77"/>
          <p:cNvGrpSpPr/>
          <p:nvPr/>
        </p:nvGrpSpPr>
        <p:grpSpPr>
          <a:xfrm>
            <a:off x="4960800" y="2874960"/>
            <a:ext cx="3214800" cy="2857680"/>
            <a:chOff x="4960800" y="2874960"/>
            <a:chExt cx="3214800" cy="2857680"/>
          </a:xfrm>
        </p:grpSpPr>
        <p:pic>
          <p:nvPicPr>
            <p:cNvPr id="664" name="Picture 9" descr=""/>
            <p:cNvPicPr/>
            <p:nvPr/>
          </p:nvPicPr>
          <p:blipFill>
            <a:blip r:embed="rId6"/>
            <a:stretch/>
          </p:blipFill>
          <p:spPr>
            <a:xfrm>
              <a:off x="4960800" y="4570560"/>
              <a:ext cx="1000080" cy="1162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5" name="组合 27"/>
            <p:cNvGrpSpPr/>
            <p:nvPr/>
          </p:nvGrpSpPr>
          <p:grpSpPr>
            <a:xfrm>
              <a:off x="5675040" y="2963520"/>
              <a:ext cx="2500560" cy="1625760"/>
              <a:chOff x="5675040" y="2963520"/>
              <a:chExt cx="2500560" cy="1625760"/>
            </a:xfrm>
          </p:grpSpPr>
          <p:sp>
            <p:nvSpPr>
              <p:cNvPr id="666" name="椭圆形标注 16"/>
              <p:cNvSpPr/>
              <p:nvPr/>
            </p:nvSpPr>
            <p:spPr>
              <a:xfrm>
                <a:off x="5675040" y="2963520"/>
                <a:ext cx="2372040" cy="1625760"/>
              </a:xfrm>
              <a:prstGeom prst="wedgeRoundRectCallout">
                <a:avLst>
                  <a:gd name="adj1" fmla="val -20833"/>
                  <a:gd name="adj2" fmla="val 62500"/>
                  <a:gd name="adj3" fmla="val 16667"/>
                </a:avLst>
              </a:prstGeom>
              <a:noFill/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7" name="矩形 17"/>
              <p:cNvSpPr/>
              <p:nvPr/>
            </p:nvSpPr>
            <p:spPr>
              <a:xfrm>
                <a:off x="5746320" y="3499920"/>
                <a:ext cx="2429280" cy="397080"/>
              </a:xfrm>
              <a:prstGeom prst="wedgeRoundRectCallout">
                <a:avLst>
                  <a:gd name="adj1" fmla="val -20842"/>
                  <a:gd name="adj2" fmla="val 65486"/>
                  <a:gd name="adj3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XXXXX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8" name="椭圆 80"/>
            <p:cNvSpPr/>
            <p:nvPr/>
          </p:nvSpPr>
          <p:spPr>
            <a:xfrm>
              <a:off x="5959440" y="2874960"/>
              <a:ext cx="287280" cy="287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9" name="椭圆 81"/>
            <p:cNvSpPr/>
            <p:nvPr/>
          </p:nvSpPr>
          <p:spPr>
            <a:xfrm>
              <a:off x="5601960" y="2874960"/>
              <a:ext cx="287280" cy="287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671" name="TextBox 3"/>
          <p:cNvSpPr/>
          <p:nvPr/>
        </p:nvSpPr>
        <p:spPr>
          <a:xfrm>
            <a:off x="3094200" y="1333440"/>
            <a:ext cx="6192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3" name="圆角矩形 14" descr=""/>
          <p:cNvPicPr/>
          <p:nvPr/>
        </p:nvPicPr>
        <p:blipFill>
          <a:blip r:embed="rId2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674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675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6" name="同侧圆角矩形 19"/>
            <p:cNvGrpSpPr/>
            <p:nvPr/>
          </p:nvGrpSpPr>
          <p:grpSpPr>
            <a:xfrm>
              <a:off x="785880" y="1000440"/>
              <a:ext cx="1143360" cy="499320"/>
              <a:chOff x="785880" y="1000440"/>
              <a:chExt cx="1143360" cy="499320"/>
            </a:xfrm>
          </p:grpSpPr>
          <p:pic>
            <p:nvPicPr>
              <p:cNvPr id="677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046520"/>
                <a:ext cx="1072800" cy="453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8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88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9" name="TextBox 20"/>
            <p:cNvSpPr/>
            <p:nvPr/>
          </p:nvSpPr>
          <p:spPr>
            <a:xfrm>
              <a:off x="428760" y="157176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80" name="组合 18"/>
          <p:cNvGrpSpPr/>
          <p:nvPr/>
        </p:nvGrpSpPr>
        <p:grpSpPr>
          <a:xfrm>
            <a:off x="1824120" y="2852640"/>
            <a:ext cx="1019160" cy="1433880"/>
            <a:chOff x="1824120" y="2852640"/>
            <a:chExt cx="1019160" cy="1433880"/>
          </a:xfrm>
        </p:grpSpPr>
        <p:pic>
          <p:nvPicPr>
            <p:cNvPr id="681" name="图片 6" descr="user.png"/>
            <p:cNvPicPr/>
            <p:nvPr/>
          </p:nvPicPr>
          <p:blipFill>
            <a:blip r:embed="rId5"/>
            <a:stretch/>
          </p:blipFill>
          <p:spPr>
            <a:xfrm>
              <a:off x="1824120" y="2852640"/>
              <a:ext cx="1019160" cy="106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TextBox 7"/>
            <p:cNvSpPr/>
            <p:nvPr/>
          </p:nvSpPr>
          <p:spPr>
            <a:xfrm>
              <a:off x="2011680" y="388764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83" name="TextBox 16"/>
          <p:cNvSpPr/>
          <p:nvPr/>
        </p:nvSpPr>
        <p:spPr>
          <a:xfrm>
            <a:off x="826920" y="4915080"/>
            <a:ext cx="38163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84" name="组合 21"/>
          <p:cNvGrpSpPr/>
          <p:nvPr/>
        </p:nvGrpSpPr>
        <p:grpSpPr>
          <a:xfrm>
            <a:off x="828720" y="4386240"/>
            <a:ext cx="3095640" cy="432000"/>
            <a:chOff x="828720" y="4386240"/>
            <a:chExt cx="3095640" cy="432000"/>
          </a:xfrm>
        </p:grpSpPr>
        <p:grpSp>
          <p:nvGrpSpPr>
            <p:cNvPr id="685" name="矩形 18"/>
            <p:cNvGrpSpPr/>
            <p:nvPr/>
          </p:nvGrpSpPr>
          <p:grpSpPr>
            <a:xfrm>
              <a:off x="828720" y="4386240"/>
              <a:ext cx="3095640" cy="432000"/>
              <a:chOff x="828720" y="4386240"/>
              <a:chExt cx="3095640" cy="432000"/>
            </a:xfrm>
          </p:grpSpPr>
          <p:pic>
            <p:nvPicPr>
              <p:cNvPr id="686" name="矩形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829080" y="4388760"/>
                <a:ext cx="3095280" cy="42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7" name=""/>
              <p:cNvSpPr/>
              <p:nvPr/>
            </p:nvSpPr>
            <p:spPr>
              <a:xfrm>
                <a:off x="828720" y="4386240"/>
                <a:ext cx="309420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8" name="矩形 13"/>
            <p:cNvGrpSpPr/>
            <p:nvPr/>
          </p:nvGrpSpPr>
          <p:grpSpPr>
            <a:xfrm>
              <a:off x="968760" y="4416840"/>
              <a:ext cx="1303920" cy="370440"/>
              <a:chOff x="968760" y="4416840"/>
              <a:chExt cx="1303920" cy="370440"/>
            </a:xfrm>
          </p:grpSpPr>
          <p:pic>
            <p:nvPicPr>
              <p:cNvPr id="689" name="矩形 13" descr=""/>
              <p:cNvPicPr/>
              <p:nvPr/>
            </p:nvPicPr>
            <p:blipFill>
              <a:blip r:embed="rId7"/>
              <a:stretch/>
            </p:blipFill>
            <p:spPr>
              <a:xfrm>
                <a:off x="971640" y="4418640"/>
                <a:ext cx="1301040" cy="36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0" name=""/>
              <p:cNvSpPr/>
              <p:nvPr/>
            </p:nvSpPr>
            <p:spPr>
              <a:xfrm>
                <a:off x="968760" y="4416840"/>
                <a:ext cx="1303200" cy="37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Verdana"/>
                    <a:ea typeface="微软雅黑"/>
                  </a:rPr>
                  <a:t>XXXXXX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Verdana"/>
                    <a:ea typeface="微软雅黑"/>
                  </a:rPr>
                  <a:t>：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91" name="TextBox 20"/>
          <p:cNvSpPr/>
          <p:nvPr/>
        </p:nvSpPr>
        <p:spPr>
          <a:xfrm>
            <a:off x="5364000" y="4915080"/>
            <a:ext cx="3240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92" name="组合 22"/>
          <p:cNvGrpSpPr/>
          <p:nvPr/>
        </p:nvGrpSpPr>
        <p:grpSpPr>
          <a:xfrm>
            <a:off x="5364000" y="4386240"/>
            <a:ext cx="3095640" cy="432000"/>
            <a:chOff x="5364000" y="4386240"/>
            <a:chExt cx="3095640" cy="432000"/>
          </a:xfrm>
        </p:grpSpPr>
        <p:grpSp>
          <p:nvGrpSpPr>
            <p:cNvPr id="693" name="矩形 23"/>
            <p:cNvGrpSpPr/>
            <p:nvPr/>
          </p:nvGrpSpPr>
          <p:grpSpPr>
            <a:xfrm>
              <a:off x="5364000" y="4386240"/>
              <a:ext cx="3095640" cy="432000"/>
              <a:chOff x="5364000" y="4386240"/>
              <a:chExt cx="3095640" cy="432000"/>
            </a:xfrm>
          </p:grpSpPr>
          <p:pic>
            <p:nvPicPr>
              <p:cNvPr id="694" name="矩形 23" descr=""/>
              <p:cNvPicPr/>
              <p:nvPr/>
            </p:nvPicPr>
            <p:blipFill>
              <a:blip r:embed="rId8"/>
              <a:stretch/>
            </p:blipFill>
            <p:spPr>
              <a:xfrm>
                <a:off x="5364000" y="4388760"/>
                <a:ext cx="3095640" cy="42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5" name=""/>
              <p:cNvSpPr/>
              <p:nvPr/>
            </p:nvSpPr>
            <p:spPr>
              <a:xfrm>
                <a:off x="5364000" y="4386240"/>
                <a:ext cx="309420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96" name="矩形 17"/>
            <p:cNvSpPr/>
            <p:nvPr/>
          </p:nvSpPr>
          <p:spPr>
            <a:xfrm>
              <a:off x="5473080" y="4415040"/>
              <a:ext cx="121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XXXXX</a:t>
              </a:r>
              <a:r>
                <a:rPr b="1" lang="zh-CN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97" name="直接连接符 29"/>
          <p:cNvSpPr/>
          <p:nvPr/>
        </p:nvSpPr>
        <p:spPr>
          <a:xfrm flipV="1">
            <a:off x="755640" y="4287600"/>
            <a:ext cx="7704000" cy="4680"/>
          </a:xfrm>
          <a:prstGeom prst="line">
            <a:avLst/>
          </a:prstGeom>
          <a:ln w="12600">
            <a:solidFill>
              <a:srgbClr val="007e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98" name="组合 18"/>
          <p:cNvGrpSpPr/>
          <p:nvPr/>
        </p:nvGrpSpPr>
        <p:grpSpPr>
          <a:xfrm>
            <a:off x="6288120" y="2892600"/>
            <a:ext cx="1019160" cy="1433880"/>
            <a:chOff x="6288120" y="2892600"/>
            <a:chExt cx="1019160" cy="1433880"/>
          </a:xfrm>
        </p:grpSpPr>
        <p:pic>
          <p:nvPicPr>
            <p:cNvPr id="699" name="图片 6" descr="user.png"/>
            <p:cNvPicPr/>
            <p:nvPr/>
          </p:nvPicPr>
          <p:blipFill>
            <a:blip r:embed="rId9"/>
            <a:stretch/>
          </p:blipFill>
          <p:spPr>
            <a:xfrm>
              <a:off x="6288120" y="2892600"/>
              <a:ext cx="1019160" cy="106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TextBox 7"/>
            <p:cNvSpPr/>
            <p:nvPr/>
          </p:nvSpPr>
          <p:spPr>
            <a:xfrm>
              <a:off x="6475680" y="392760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702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3" name="圆角矩形 14" descr=""/>
          <p:cNvPicPr/>
          <p:nvPr/>
        </p:nvPicPr>
        <p:blipFill>
          <a:blip r:embed="rId2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704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705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06" name="同侧圆角矩形 19"/>
            <p:cNvGrpSpPr/>
            <p:nvPr/>
          </p:nvGrpSpPr>
          <p:grpSpPr>
            <a:xfrm>
              <a:off x="785880" y="1000440"/>
              <a:ext cx="1143360" cy="499320"/>
              <a:chOff x="785880" y="1000440"/>
              <a:chExt cx="1143360" cy="499320"/>
            </a:xfrm>
          </p:grpSpPr>
          <p:pic>
            <p:nvPicPr>
              <p:cNvPr id="707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046520"/>
                <a:ext cx="1072800" cy="453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8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88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09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10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11" name="组合 20"/>
          <p:cNvGrpSpPr/>
          <p:nvPr/>
        </p:nvGrpSpPr>
        <p:grpSpPr>
          <a:xfrm>
            <a:off x="714240" y="3335400"/>
            <a:ext cx="2446560" cy="1950840"/>
            <a:chOff x="714240" y="3335400"/>
            <a:chExt cx="2446560" cy="1950840"/>
          </a:xfrm>
        </p:grpSpPr>
        <p:sp>
          <p:nvSpPr>
            <p:cNvPr id="712" name="矩形标注 35"/>
            <p:cNvSpPr/>
            <p:nvPr/>
          </p:nvSpPr>
          <p:spPr>
            <a:xfrm>
              <a:off x="714240" y="3335400"/>
              <a:ext cx="2446560" cy="1950840"/>
            </a:xfrm>
            <a:prstGeom prst="wedgeRectCallout">
              <a:avLst>
                <a:gd name="adj1" fmla="val 26148"/>
                <a:gd name="adj2" fmla="val -62296"/>
              </a:avLst>
            </a:prstGeom>
            <a:solidFill>
              <a:srgbClr val="0070c0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3" name="圆角矩形 12"/>
            <p:cNvSpPr/>
            <p:nvPr/>
          </p:nvSpPr>
          <p:spPr>
            <a:xfrm>
              <a:off x="836280" y="3998880"/>
              <a:ext cx="2194200" cy="1152360"/>
            </a:xfrm>
            <a:prstGeom prst="wedgeRectCallout">
              <a:avLst>
                <a:gd name="adj1" fmla="val -20833"/>
                <a:gd name="adj2" fmla="val 62500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14" name="组合 20"/>
          <p:cNvGrpSpPr/>
          <p:nvPr/>
        </p:nvGrpSpPr>
        <p:grpSpPr>
          <a:xfrm>
            <a:off x="3411360" y="3357720"/>
            <a:ext cx="2446560" cy="1950840"/>
            <a:chOff x="3411360" y="3357720"/>
            <a:chExt cx="2446560" cy="1950840"/>
          </a:xfrm>
        </p:grpSpPr>
        <p:sp>
          <p:nvSpPr>
            <p:cNvPr id="715" name="矩形标注 41"/>
            <p:cNvSpPr/>
            <p:nvPr/>
          </p:nvSpPr>
          <p:spPr>
            <a:xfrm>
              <a:off x="3411360" y="3357720"/>
              <a:ext cx="2446560" cy="1950840"/>
            </a:xfrm>
            <a:prstGeom prst="wedgeRectCallout">
              <a:avLst>
                <a:gd name="adj1" fmla="val -21754"/>
                <a:gd name="adj2" fmla="val -64416"/>
              </a:avLst>
            </a:prstGeom>
            <a:solidFill>
              <a:srgbClr val="c58d01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6" name="圆角矩形 42"/>
            <p:cNvSpPr/>
            <p:nvPr/>
          </p:nvSpPr>
          <p:spPr>
            <a:xfrm>
              <a:off x="3533400" y="4021200"/>
              <a:ext cx="2194200" cy="1152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17" name="组合 20"/>
          <p:cNvGrpSpPr/>
          <p:nvPr/>
        </p:nvGrpSpPr>
        <p:grpSpPr>
          <a:xfrm>
            <a:off x="6054840" y="3357720"/>
            <a:ext cx="2446200" cy="1950840"/>
            <a:chOff x="6054840" y="3357720"/>
            <a:chExt cx="2446200" cy="1950840"/>
          </a:xfrm>
        </p:grpSpPr>
        <p:sp>
          <p:nvSpPr>
            <p:cNvPr id="718" name="矩形标注 44"/>
            <p:cNvSpPr/>
            <p:nvPr/>
          </p:nvSpPr>
          <p:spPr>
            <a:xfrm>
              <a:off x="6054840" y="3357720"/>
              <a:ext cx="2446200" cy="1950840"/>
            </a:xfrm>
            <a:prstGeom prst="wedgeRectCallout">
              <a:avLst>
                <a:gd name="adj1" fmla="val -29078"/>
                <a:gd name="adj2" fmla="val -61564"/>
              </a:avLst>
            </a:prstGeom>
            <a:solidFill>
              <a:srgbClr val="b0105c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9" name="圆角矩形 45"/>
            <p:cNvSpPr/>
            <p:nvPr/>
          </p:nvSpPr>
          <p:spPr>
            <a:xfrm>
              <a:off x="6176880" y="4021200"/>
              <a:ext cx="2193840" cy="1152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05-29T11:27:07Z</dcterms:modified>
  <cp:revision>74</cp:revision>
  <dc:subject/>
  <dc:title>幻灯片 1</dc:title>
</cp:coreProperties>
</file>