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344-7624-444A-98F8-1A8BD088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8A3-95E4-40DA-B42B-39B47B2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824-F03F-476B-9A4C-AD3A9EF9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571-66FA-4919-AC81-027BDAC3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6A6-9883-4274-9E0B-181F099A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D34-7E60-4454-BEA4-4C2DB4B9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F28-0F25-4A8E-93B1-78D1017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7F6-B69C-4857-8C81-6F9534B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1CF-0E9D-4532-B4AC-89B8BA04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576-FFD5-4C20-BA2B-814E7EC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529-966F-429F-999A-401F301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5FD-1A1D-4F83-AA10-AAD3E9D2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5869-2ED5-4138-A1AC-CD4353292D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846-F216-4A4E-993D-5F052087F3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45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52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6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6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6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7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7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28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30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33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5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36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39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43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4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5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49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0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51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56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57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59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60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0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0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0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1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1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69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70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72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3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4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75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77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8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9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80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1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82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3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4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9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894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896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9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50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52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4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085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39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7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48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80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82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3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9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40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8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2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4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1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6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0" y="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6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56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57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58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7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4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5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0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75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0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1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16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18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1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6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7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7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33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65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7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69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1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73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4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06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07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0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13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16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8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19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0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2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23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26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28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0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34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37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1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admin</dc:creator>
  <dc:description/>
  <cp:keywords/>
  <dc:language>en-US</dc:language>
  <cp:lastModifiedBy>风轻无痕</cp:lastModifiedBy>
  <dcterms:modified xsi:type="dcterms:W3CDTF">2016-01-20T13:01:17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