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7B5-00A9-46A1-96FC-C2E4DAB2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F0C-4C93-44E4-9C7D-9062145D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9E8-36E3-48AB-914A-FF8B3FC0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E4E-6E0C-4A2B-A830-22194F1A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DFF-A60F-428D-9FB3-6DA3B2F5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4F9-8B36-40D5-90C2-87E30B47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C9F-6281-4C8F-9D15-E8E78A16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4B1-F85E-46F8-B5E7-80A7AF3C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BFA-2A9D-4282-949F-F9170673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065-C4F2-4D2B-9EB0-D0F59C8C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101-3F21-4CF7-9CB5-E9CA59F2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1E3-276B-4F29-9353-01166296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3949-BAED-4918-B6F5-04E6160C85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51320" y="121428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18800" y="3399120"/>
            <a:ext cx="911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226600" y="1071720"/>
            <a:ext cx="9104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4486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28880" y="5500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63550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28364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12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429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854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783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14720" y="4500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712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1497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340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85776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519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28608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569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569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569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377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2860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568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3057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8549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3854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854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14T06:03:35Z</dcterms:modified>
  <cp:revision>29</cp:revision>
  <dc:subject/>
  <dc:title>幻灯片 1</dc:title>
</cp:coreProperties>
</file>