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CBF-4643-459B-B099-388659D2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DC4-A3C1-4507-8EAB-3520C6B3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648-5B23-4814-B5D4-BC9C71E5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2A2A-AF19-48D8-961C-3267B0B8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23D-2A94-4E15-AD27-B32F1C18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0E4-0470-4D2F-A1B6-57C3234D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3C5-CEDD-4054-8B71-6D18F070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9BC-0504-4334-9E1D-6153CA3D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101C-F7DF-4C32-8809-401886F2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DAA-8AD5-44A6-ADB2-BD0194ED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008D-AFDA-43E5-88A8-18A5C421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D45-2F39-46A2-A801-F5B0ED74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72B6-418A-457E-AD63-14163B94DC2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7CAA-FCE8-4002-8DE0-FFC287370C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zh.wikipedia.org/wiki/File:Edward_Jenner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zh.wikipedia.org/wiki/&#231;&#150;&#171;&#232;&#139;&#151;&#230;&#142;&#165;&#231;&#168;&#174;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18690" r="0" b="5192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627280" y="2820960"/>
            <a:ext cx="651672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82920" y="3068640"/>
            <a:ext cx="66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生</a:t>
            </a:r>
            <a:r>
              <a:rPr b="1" lang="zh-CN" sz="80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物预防药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916360" y="4643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者：      玉碎琉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2627280" y="4581360"/>
            <a:ext cx="658188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40" name="矩形 2"/>
          <p:cNvSpPr/>
          <p:nvPr/>
        </p:nvSpPr>
        <p:spPr>
          <a:xfrm>
            <a:off x="324000" y="4365720"/>
            <a:ext cx="60656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存在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疫苗由于具有生命，可以恢复治病活性，仍然可以导致免疫功能低下的人（如艾滋病患者、感冒患者）患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疫苗虽然没有这方面的风险，但对于某些疾病，不能产生特定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反应，并可能无法正常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42" name="TextBox 1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4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5"/>
          <p:cNvSpPr/>
          <p:nvPr/>
        </p:nvSpPr>
        <p:spPr>
          <a:xfrm>
            <a:off x="4597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0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生物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1"/>
          <p:cNvSpPr/>
          <p:nvPr/>
        </p:nvSpPr>
        <p:spPr>
          <a:xfrm>
            <a:off x="4773600" y="23130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疹疫苗、鼠疫疫苗、卡介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少，副作用小，只需接种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点是不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304920" y="285444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左大括号 13"/>
          <p:cNvSpPr/>
          <p:nvPr/>
        </p:nvSpPr>
        <p:spPr>
          <a:xfrm>
            <a:off x="743040" y="2266920"/>
            <a:ext cx="385560" cy="1882800"/>
          </a:xfrm>
          <a:custGeom>
            <a:avLst/>
            <a:gdLst>
              <a:gd name="textAreaLeft" fmla="*/ 246240 w 385560"/>
              <a:gd name="textAreaRight" fmla="*/ 385920 w 38556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1128600" y="2421000"/>
            <a:ext cx="15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5"/>
          <p:cNvSpPr/>
          <p:nvPr/>
        </p:nvSpPr>
        <p:spPr>
          <a:xfrm>
            <a:off x="1356480" y="33591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灭活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>
            <a:off x="2671920" y="2421000"/>
            <a:ext cx="20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毒力弱的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"/>
          <p:cNvSpPr/>
          <p:nvPr/>
        </p:nvSpPr>
        <p:spPr>
          <a:xfrm>
            <a:off x="2671920" y="3249720"/>
            <a:ext cx="21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物理或化学方法杀死人工培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1"/>
          <p:cNvSpPr/>
          <p:nvPr/>
        </p:nvSpPr>
        <p:spPr>
          <a:xfrm>
            <a:off x="1128600" y="3208320"/>
            <a:ext cx="7620120" cy="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6"/>
          <p:cNvSpPr/>
          <p:nvPr/>
        </p:nvSpPr>
        <p:spPr>
          <a:xfrm>
            <a:off x="4773600" y="324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伤寒疫苗、霍乱疫苗、乙型脑炎疫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大，副作用大，一般少量多次接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优点是容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7"/>
          <p:cNvSpPr/>
          <p:nvPr/>
        </p:nvSpPr>
        <p:spPr>
          <a:xfrm>
            <a:off x="9345600" y="2266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种后，能在一定部位繁殖一段时期，但由于毒力弱，不会引起疾病，而能使人体或动物体产生免疫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2"/>
          <p:cNvSpPr/>
          <p:nvPr/>
        </p:nvSpPr>
        <p:spPr>
          <a:xfrm>
            <a:off x="6389640" y="487188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风险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33"/>
          <p:cNvSpPr/>
          <p:nvPr/>
        </p:nvSpPr>
        <p:spPr>
          <a:xfrm>
            <a:off x="6367320" y="5492880"/>
            <a:ext cx="21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诱发免疫反应能力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8D78-21DA-4626-93DC-E5C03F97B0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61" name="TextBox 8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9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10"/>
          <p:cNvSpPr/>
          <p:nvPr/>
        </p:nvSpPr>
        <p:spPr>
          <a:xfrm>
            <a:off x="5533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1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单位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2"/>
          <p:cNvSpPr/>
          <p:nvPr/>
        </p:nvSpPr>
        <p:spPr>
          <a:xfrm>
            <a:off x="695160" y="21286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微生物的天然成分及其产物，或者将免疫作用成分重组而产生的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4"/>
          <p:cNvSpPr/>
          <p:nvPr/>
        </p:nvSpPr>
        <p:spPr>
          <a:xfrm>
            <a:off x="3851280" y="2708280"/>
            <a:ext cx="1440" cy="39704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5"/>
          <p:cNvSpPr/>
          <p:nvPr/>
        </p:nvSpPr>
        <p:spPr>
          <a:xfrm>
            <a:off x="695160" y="2708280"/>
            <a:ext cx="30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类毒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变性或化学修饰而失去毒性的毒素，但仍保留其抗原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外毒素用甲醛等处理，得到脱毒的制品。毒性虽消失，但免疫原性不变，故仍然具有刺激人体产生抗毒素，以起到机体从此对某疾病具有自动免疫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体内吸收较慢，能较长时间刺激机体，使机体产生高滴度抗体，增强免疫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6"/>
          <p:cNvSpPr/>
          <p:nvPr/>
        </p:nvSpPr>
        <p:spPr>
          <a:xfrm>
            <a:off x="4095720" y="2708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亚基疫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百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含有病原体的一种或几种抗原，而不含有病原体的其他遗传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格劳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尔科技字典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整个病毒中剥离非感染性的免疫原性病毒蛋白，然后从其他不相关的组件纯化，组成疫苗。从而降低不良反应和残留的传染性病毒的风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用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肝炎病毒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乳头状瘤病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鼠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艾滋病毒（研究中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8993-BEB4-47AB-8E73-070EE0EBA7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3"/>
          <p:cNvGrpSpPr/>
          <p:nvPr/>
        </p:nvGrpSpPr>
        <p:grpSpPr>
          <a:xfrm>
            <a:off x="190440" y="1025640"/>
            <a:ext cx="8553600" cy="1099440"/>
            <a:chOff x="190440" y="1025640"/>
            <a:chExt cx="8553600" cy="1099440"/>
          </a:xfrm>
        </p:grpSpPr>
        <p:sp>
          <p:nvSpPr>
            <p:cNvPr id="272" name="TextBox 5"/>
            <p:cNvSpPr/>
            <p:nvPr/>
          </p:nvSpPr>
          <p:spPr>
            <a:xfrm>
              <a:off x="190440" y="102564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  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6"/>
            <p:cNvSpPr/>
            <p:nvPr/>
          </p:nvSpPr>
          <p:spPr>
            <a:xfrm>
              <a:off x="793080" y="189216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7"/>
          <p:cNvSpPr/>
          <p:nvPr/>
        </p:nvSpPr>
        <p:spPr>
          <a:xfrm>
            <a:off x="589680" y="83196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8"/>
          <p:cNvSpPr/>
          <p:nvPr/>
        </p:nvSpPr>
        <p:spPr>
          <a:xfrm>
            <a:off x="7086960" y="134316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"/>
          <p:cNvSpPr/>
          <p:nvPr/>
        </p:nvSpPr>
        <p:spPr>
          <a:xfrm>
            <a:off x="469800" y="2239920"/>
            <a:ext cx="82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称基因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将编码外源性抗原的基因插入到含真核表达系统的质粒上，然后将质粒直接导入人或动物体内，让其在宿主细胞中表达抗原蛋白，诱导机体产生免疫应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基因在一定时限内的持续表达，不断刺激机体免疫系统，使之达到防病的目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74560" y="4005360"/>
          <a:ext cx="7994880" cy="2019240"/>
        </p:xfrm>
        <a:graphic>
          <a:graphicData uri="http://schemas.openxmlformats.org/drawingml/2006/table">
            <a:tbl>
              <a:tblPr/>
              <a:tblGrid>
                <a:gridCol w="3584520"/>
                <a:gridCol w="441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接种没有感染的危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疫苗稳定，储存和运输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长期持久的免疫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确保在体内表达的蛋白质更接近于正常的生理的蛋白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只能限制于蛋白类的免疫原（而不是非蛋白抗原，如细菌的多糖免疫原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因的引入，在控制细胞生长方面存在风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79" name="椭圆 10"/>
          <p:cNvSpPr/>
          <p:nvPr/>
        </p:nvSpPr>
        <p:spPr>
          <a:xfrm>
            <a:off x="-1436760" y="-349200"/>
            <a:ext cx="5937480" cy="5937120"/>
          </a:xfrm>
          <a:prstGeom prst="ellipse">
            <a:avLst/>
          </a:prstGeom>
          <a:noFill/>
          <a:ln w="25560">
            <a:solidFill>
              <a:srgbClr val="ff550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357120" y="1601640"/>
            <a:ext cx="2035080" cy="2033640"/>
            <a:chOff x="357120" y="1601640"/>
            <a:chExt cx="2035080" cy="2033640"/>
          </a:xfrm>
        </p:grpSpPr>
        <p:sp>
          <p:nvSpPr>
            <p:cNvPr id="281" name="椭圆 3"/>
            <p:cNvSpPr/>
            <p:nvPr/>
          </p:nvSpPr>
          <p:spPr>
            <a:xfrm>
              <a:off x="357120" y="1601640"/>
              <a:ext cx="2035080" cy="203364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"/>
            <p:cNvSpPr/>
            <p:nvPr/>
          </p:nvSpPr>
          <p:spPr>
            <a:xfrm>
              <a:off x="857160" y="214164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疫苗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展趋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4211640" y="1268280"/>
            <a:ext cx="4932360" cy="505440"/>
            <a:chOff x="4211640" y="1268280"/>
            <a:chExt cx="4932360" cy="505440"/>
          </a:xfrm>
        </p:grpSpPr>
        <p:sp>
          <p:nvSpPr>
            <p:cNvPr id="284" name="矩形 6"/>
            <p:cNvSpPr/>
            <p:nvPr/>
          </p:nvSpPr>
          <p:spPr>
            <a:xfrm>
              <a:off x="4390560" y="1268280"/>
              <a:ext cx="4753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人群：青少年和成年人（之前：婴儿和儿童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9"/>
            <p:cNvSpPr/>
            <p:nvPr/>
          </p:nvSpPr>
          <p:spPr>
            <a:xfrm>
              <a:off x="4211640" y="1441440"/>
              <a:ext cx="18036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4334040" y="2941560"/>
            <a:ext cx="4644720" cy="505440"/>
            <a:chOff x="4334040" y="2941560"/>
            <a:chExt cx="4644720" cy="505440"/>
          </a:xfrm>
        </p:grpSpPr>
        <p:sp>
          <p:nvSpPr>
            <p:cNvPr id="287" name="矩形 8"/>
            <p:cNvSpPr/>
            <p:nvPr/>
          </p:nvSpPr>
          <p:spPr>
            <a:xfrm>
              <a:off x="4515120" y="2941560"/>
              <a:ext cx="446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药方式：皮肤贴剂，通过食用植物的基因工程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2"/>
            <p:cNvSpPr/>
            <p:nvPr/>
          </p:nvSpPr>
          <p:spPr>
            <a:xfrm>
              <a:off x="4334040" y="3118680"/>
              <a:ext cx="198720" cy="19836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3581280" y="4411800"/>
            <a:ext cx="5238720" cy="1328400"/>
            <a:chOff x="3581280" y="4411800"/>
            <a:chExt cx="5238720" cy="1328400"/>
          </a:xfrm>
        </p:grpSpPr>
        <p:sp>
          <p:nvSpPr>
            <p:cNvPr id="290" name="矩形 1"/>
            <p:cNvSpPr/>
            <p:nvPr/>
          </p:nvSpPr>
          <p:spPr>
            <a:xfrm>
              <a:off x="3780000" y="4411800"/>
              <a:ext cx="5040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疾病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1"/>
            <p:cNvSpPr/>
            <p:nvPr/>
          </p:nvSpPr>
          <p:spPr>
            <a:xfrm>
              <a:off x="3581280" y="4581720"/>
              <a:ext cx="19872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5"/>
            <p:cNvSpPr/>
            <p:nvPr/>
          </p:nvSpPr>
          <p:spPr>
            <a:xfrm>
              <a:off x="4932000" y="4411800"/>
              <a:ext cx="3888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慢性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生物恐怖袭击（如炭疽，鼠疫，天花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非感染性的人类疾病（如癌症、高血压和自身免疫性疾病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图片 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"/>
          <p:cNvSpPr/>
          <p:nvPr/>
        </p:nvSpPr>
        <p:spPr>
          <a:xfrm>
            <a:off x="1150920" y="2217600"/>
            <a:ext cx="68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50d"/>
                </a:solidFill>
                <a:latin typeface="Tahom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"/>
          <p:cNvSpPr/>
          <p:nvPr/>
        </p:nvSpPr>
        <p:spPr>
          <a:xfrm>
            <a:off x="1281240" y="3781440"/>
            <a:ext cx="658152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" descr=""/>
          <p:cNvPicPr/>
          <p:nvPr/>
        </p:nvPicPr>
        <p:blipFill>
          <a:blip r:embed="rId2"/>
          <a:stretch/>
        </p:blipFill>
        <p:spPr>
          <a:xfrm>
            <a:off x="-4600440" y="-1897200"/>
            <a:ext cx="18606960" cy="13451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0" y="37400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疾病的发生   流行病的扩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276720" y="3740040"/>
            <a:ext cx="586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50880" y="2876400"/>
            <a:ext cx="193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病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用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预防接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物制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370320" y="223524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泛指所有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杀死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9"/>
          <p:cNvSpPr/>
          <p:nvPr/>
        </p:nvSpPr>
        <p:spPr>
          <a:xfrm>
            <a:off x="291960" y="1917720"/>
            <a:ext cx="2652840" cy="4390920"/>
          </a:xfrm>
          <a:custGeom>
            <a:avLst/>
            <a:gdLst>
              <a:gd name="textAreaLeft" fmla="*/ 63000 w 2652840"/>
              <a:gd name="textAreaRight" fmla="*/ 2589840 w 2652840"/>
              <a:gd name="textAreaTop" fmla="*/ 63000 h 4390920"/>
              <a:gd name="textAreaBottom" fmla="*/ 4327920 h 4390920"/>
            </a:gdLst>
            <a:ahLst/>
            <a:rect l="textAreaLeft" t="textAreaTop" r="textAreaRight" b="textAreaBottom"/>
            <a:pathLst>
              <a:path w="21600" h="35750">
                <a:moveTo>
                  <a:pt x="1757" y="0"/>
                </a:moveTo>
                <a:arcTo wR="1757" hR="1757" stAng="16200000" swAng="-5400000"/>
                <a:lnTo>
                  <a:pt x="0" y="33993"/>
                </a:lnTo>
                <a:arcTo wR="1757" hR="1757" stAng="10800000" swAng="-5400000"/>
                <a:lnTo>
                  <a:pt x="19843" y="35750"/>
                </a:lnTo>
                <a:arcTo wR="1757" hR="1757" stAng="5400000" swAng="-5400000"/>
                <a:lnTo>
                  <a:pt x="21600" y="1757"/>
                </a:lnTo>
                <a:arcTo wR="1757" hR="1757" stAng="0" swAng="-5400000"/>
                <a:close/>
              </a:path>
            </a:pathLst>
          </a:cu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0"/>
          <p:cNvSpPr/>
          <p:nvPr/>
        </p:nvSpPr>
        <p:spPr>
          <a:xfrm>
            <a:off x="3276720" y="1917720"/>
            <a:ext cx="5472000" cy="4390920"/>
          </a:xfrm>
          <a:prstGeom prst="roundRect">
            <a:avLst>
              <a:gd name="adj" fmla="val 461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700360" y="3826440"/>
            <a:ext cx="799920" cy="703440"/>
          </a:xfrm>
          <a:prstGeom prst="rect">
            <a:avLst/>
          </a:prstGeom>
          <a:solidFill>
            <a:srgbClr val="ff5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疫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22400" y="1700280"/>
            <a:ext cx="95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749760" y="327672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3749760" y="429732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其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性物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3370320" y="517212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制成，用于预防接种的生物制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6397560" y="27892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菌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6877080" y="33210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6397560" y="429732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毒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7667640" y="3038400"/>
            <a:ext cx="9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9"/>
          <p:cNvSpPr/>
          <p:nvPr/>
        </p:nvSpPr>
        <p:spPr>
          <a:xfrm>
            <a:off x="7778160" y="43052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x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21"/>
          <p:cNvSpPr/>
          <p:nvPr/>
        </p:nvSpPr>
        <p:spPr>
          <a:xfrm>
            <a:off x="6197760" y="2178000"/>
            <a:ext cx="0" cy="3843360"/>
          </a:xfrm>
          <a:prstGeom prst="line">
            <a:avLst/>
          </a:prstGeom>
          <a:ln w="936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367160" y="1700280"/>
            <a:ext cx="92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6948360" y="1700280"/>
            <a:ext cx="93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左大括号 33"/>
          <p:cNvSpPr/>
          <p:nvPr/>
        </p:nvSpPr>
        <p:spPr>
          <a:xfrm>
            <a:off x="4802040" y="2836800"/>
            <a:ext cx="238320" cy="1149480"/>
          </a:xfrm>
          <a:custGeom>
            <a:avLst/>
            <a:gdLst>
              <a:gd name="textAreaLeft" fmla="*/ 152280 w 238320"/>
              <a:gd name="textAreaRight" fmla="*/ 238680 w 238320"/>
              <a:gd name="textAreaTop" fmla="*/ 360 h 1149480"/>
              <a:gd name="textAreaBottom" fmla="*/ 1149120 h 11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"/>
                  <a:pt x="10800" y="33"/>
                </a:cubicBezTo>
                <a:lnTo>
                  <a:pt x="10800" y="11824"/>
                </a:lnTo>
                <a:cubicBezTo>
                  <a:pt x="10800" y="11841"/>
                  <a:pt x="5400" y="11857"/>
                  <a:pt x="0" y="11857"/>
                </a:cubicBezTo>
                <a:cubicBezTo>
                  <a:pt x="5400" y="11857"/>
                  <a:pt x="10800" y="11874"/>
                  <a:pt x="10800" y="11890"/>
                </a:cubicBezTo>
                <a:lnTo>
                  <a:pt x="10800" y="21567"/>
                </a:lnTo>
                <a:cubicBezTo>
                  <a:pt x="10800" y="215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5054760" y="2811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克次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螺旋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大括号 37"/>
          <p:cNvSpPr/>
          <p:nvPr/>
        </p:nvSpPr>
        <p:spPr>
          <a:xfrm>
            <a:off x="6516720" y="3139920"/>
            <a:ext cx="258840" cy="846360"/>
          </a:xfrm>
          <a:custGeom>
            <a:avLst/>
            <a:gdLst>
              <a:gd name="textAreaLeft" fmla="*/ 0 w 258840"/>
              <a:gd name="textAreaRight" fmla="*/ 93600 w 25884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039"/>
                </a:lnTo>
                <a:cubicBezTo>
                  <a:pt x="10800" y="10039"/>
                  <a:pt x="16200" y="10039"/>
                  <a:pt x="21600" y="10039"/>
                </a:cubicBezTo>
                <a:cubicBezTo>
                  <a:pt x="16200" y="10039"/>
                  <a:pt x="10800" y="10039"/>
                  <a:pt x="10800" y="1003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506600" y="170172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源于拉丁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631800" y="1542960"/>
            <a:ext cx="1031760" cy="684720"/>
            <a:chOff x="631800" y="1542960"/>
            <a:chExt cx="1031760" cy="684720"/>
          </a:xfrm>
        </p:grpSpPr>
        <p:sp>
          <p:nvSpPr>
            <p:cNvPr id="74" name="TextBox 3"/>
            <p:cNvSpPr/>
            <p:nvPr/>
          </p:nvSpPr>
          <p:spPr>
            <a:xfrm>
              <a:off x="67176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4"/>
            <p:cNvSpPr/>
            <p:nvPr/>
          </p:nvSpPr>
          <p:spPr>
            <a:xfrm>
              <a:off x="631800" y="1859400"/>
              <a:ext cx="10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3179880" y="1542960"/>
            <a:ext cx="1031760" cy="959040"/>
            <a:chOff x="3179880" y="1542960"/>
            <a:chExt cx="1031760" cy="959040"/>
          </a:xfrm>
        </p:grpSpPr>
        <p:sp>
          <p:nvSpPr>
            <p:cNvPr id="77" name="TextBox 7"/>
            <p:cNvSpPr/>
            <p:nvPr/>
          </p:nvSpPr>
          <p:spPr>
            <a:xfrm>
              <a:off x="321984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牛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8"/>
            <p:cNvSpPr/>
            <p:nvPr/>
          </p:nvSpPr>
          <p:spPr>
            <a:xfrm>
              <a:off x="3179880" y="1859400"/>
              <a:ext cx="10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直接连接符 10"/>
          <p:cNvSpPr/>
          <p:nvPr/>
        </p:nvSpPr>
        <p:spPr>
          <a:xfrm>
            <a:off x="324000" y="2421000"/>
            <a:ext cx="6624360" cy="468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553080" y="1874880"/>
            <a:ext cx="122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d050"/>
                </a:solidFill>
                <a:latin typeface="微软雅黑"/>
                <a:ea typeface="微软雅黑"/>
              </a:rPr>
              <a:t>天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858000" y="3308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因角膜溃疡而导致眼盲，绝大部份亦会在皮肤上留下永久的瘢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6886440" y="503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因多数是因为内脏出血、感染其他并发症、或是多种器官衰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7667640" y="215424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a66"/>
                </a:solidFill>
                <a:latin typeface="Calibri"/>
              </a:rPr>
              <a:t>烈性传染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0"/>
          <p:cNvSpPr/>
          <p:nvPr/>
        </p:nvSpPr>
        <p:spPr>
          <a:xfrm>
            <a:off x="7667640" y="2100240"/>
            <a:ext cx="14763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6"/>
          <p:cNvGrpSpPr/>
          <p:nvPr/>
        </p:nvGrpSpPr>
        <p:grpSpPr>
          <a:xfrm>
            <a:off x="179280" y="2495520"/>
            <a:ext cx="8832960" cy="368280"/>
            <a:chOff x="179280" y="2495520"/>
            <a:chExt cx="8832960" cy="368280"/>
          </a:xfrm>
        </p:grpSpPr>
        <p:sp>
          <p:nvSpPr>
            <p:cNvPr id="86" name="TextBox 21"/>
            <p:cNvSpPr/>
            <p:nvPr/>
          </p:nvSpPr>
          <p:spPr>
            <a:xfrm>
              <a:off x="179280" y="2495520"/>
              <a:ext cx="291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染方式：空气中的液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2"/>
            <p:cNvSpPr/>
            <p:nvPr/>
          </p:nvSpPr>
          <p:spPr>
            <a:xfrm>
              <a:off x="2922120" y="2495520"/>
              <a:ext cx="292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然感染器官：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3"/>
            <p:cNvSpPr/>
            <p:nvPr/>
          </p:nvSpPr>
          <p:spPr>
            <a:xfrm>
              <a:off x="4935240" y="2495520"/>
              <a:ext cx="40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现症状：病毒血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+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疹 高烧 剧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0"/>
          <p:cNvGrpSpPr/>
          <p:nvPr/>
        </p:nvGrpSpPr>
        <p:grpSpPr>
          <a:xfrm>
            <a:off x="227160" y="3284640"/>
            <a:ext cx="1223640" cy="1224000"/>
            <a:chOff x="227160" y="3284640"/>
            <a:chExt cx="1223640" cy="1224000"/>
          </a:xfrm>
        </p:grpSpPr>
        <p:sp>
          <p:nvSpPr>
            <p:cNvPr id="90" name="椭圆 24"/>
            <p:cNvSpPr/>
            <p:nvPr/>
          </p:nvSpPr>
          <p:spPr>
            <a:xfrm>
              <a:off x="227160" y="328464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/>
            <p:cNvSpPr/>
            <p:nvPr/>
          </p:nvSpPr>
          <p:spPr>
            <a:xfrm>
              <a:off x="334800" y="357336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潜伏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227160" y="5006880"/>
            <a:ext cx="1223640" cy="1224000"/>
            <a:chOff x="227160" y="5006880"/>
            <a:chExt cx="1223640" cy="1224000"/>
          </a:xfrm>
        </p:grpSpPr>
        <p:sp>
          <p:nvSpPr>
            <p:cNvPr id="93" name="椭圆 28"/>
            <p:cNvSpPr/>
            <p:nvPr/>
          </p:nvSpPr>
          <p:spPr>
            <a:xfrm>
              <a:off x="227160" y="500688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9"/>
            <p:cNvSpPr/>
            <p:nvPr/>
          </p:nvSpPr>
          <p:spPr>
            <a:xfrm>
              <a:off x="334800" y="529560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期症状感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6"/>
          <p:cNvGrpSpPr/>
          <p:nvPr/>
        </p:nvGrpSpPr>
        <p:grpSpPr>
          <a:xfrm>
            <a:off x="2004840" y="5006880"/>
            <a:ext cx="1224000" cy="1224000"/>
            <a:chOff x="2004840" y="5006880"/>
            <a:chExt cx="1224000" cy="1224000"/>
          </a:xfrm>
        </p:grpSpPr>
        <p:sp>
          <p:nvSpPr>
            <p:cNvPr id="96" name="椭圆 33"/>
            <p:cNvSpPr/>
            <p:nvPr/>
          </p:nvSpPr>
          <p:spPr>
            <a:xfrm>
              <a:off x="2004840" y="500688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34"/>
            <p:cNvSpPr/>
            <p:nvPr/>
          </p:nvSpPr>
          <p:spPr>
            <a:xfrm>
              <a:off x="205884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-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出现皮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9"/>
          <p:cNvGrpSpPr/>
          <p:nvPr/>
        </p:nvGrpSpPr>
        <p:grpSpPr>
          <a:xfrm>
            <a:off x="2004840" y="3284640"/>
            <a:ext cx="1224000" cy="1224000"/>
            <a:chOff x="2004840" y="3284640"/>
            <a:chExt cx="1224000" cy="1224000"/>
          </a:xfrm>
        </p:grpSpPr>
        <p:sp>
          <p:nvSpPr>
            <p:cNvPr id="99" name="椭圆 36"/>
            <p:cNvSpPr/>
            <p:nvPr/>
          </p:nvSpPr>
          <p:spPr>
            <a:xfrm>
              <a:off x="200484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7"/>
            <p:cNvSpPr/>
            <p:nvPr/>
          </p:nvSpPr>
          <p:spPr>
            <a:xfrm>
              <a:off x="2058840" y="34347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5-16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皮疹转成脓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2"/>
          <p:cNvGrpSpPr/>
          <p:nvPr/>
        </p:nvGrpSpPr>
        <p:grpSpPr>
          <a:xfrm>
            <a:off x="3784680" y="3284640"/>
            <a:ext cx="1224000" cy="1224000"/>
            <a:chOff x="3784680" y="3284640"/>
            <a:chExt cx="1224000" cy="1224000"/>
          </a:xfrm>
        </p:grpSpPr>
        <p:sp>
          <p:nvSpPr>
            <p:cNvPr id="102" name="椭圆 39"/>
            <p:cNvSpPr/>
            <p:nvPr/>
          </p:nvSpPr>
          <p:spPr>
            <a:xfrm>
              <a:off x="378468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40"/>
            <p:cNvSpPr/>
            <p:nvPr/>
          </p:nvSpPr>
          <p:spPr>
            <a:xfrm>
              <a:off x="383868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脓包收缩转干脱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35"/>
          <p:cNvGrpSpPr/>
          <p:nvPr/>
        </p:nvGrpSpPr>
        <p:grpSpPr>
          <a:xfrm>
            <a:off x="5562720" y="3284640"/>
            <a:ext cx="1224000" cy="1224000"/>
            <a:chOff x="5562720" y="3284640"/>
            <a:chExt cx="1224000" cy="1224000"/>
          </a:xfrm>
        </p:grpSpPr>
        <p:sp>
          <p:nvSpPr>
            <p:cNvPr id="105" name="椭圆 42"/>
            <p:cNvSpPr/>
            <p:nvPr/>
          </p:nvSpPr>
          <p:spPr>
            <a:xfrm>
              <a:off x="556272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3"/>
            <p:cNvSpPr/>
            <p:nvPr/>
          </p:nvSpPr>
          <p:spPr>
            <a:xfrm>
              <a:off x="561672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左右痊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3784680" y="5006880"/>
            <a:ext cx="1224000" cy="1224000"/>
            <a:chOff x="3784680" y="5006880"/>
            <a:chExt cx="1224000" cy="1224000"/>
          </a:xfrm>
        </p:grpSpPr>
        <p:sp>
          <p:nvSpPr>
            <p:cNvPr id="108" name="椭圆 45"/>
            <p:cNvSpPr/>
            <p:nvPr/>
          </p:nvSpPr>
          <p:spPr>
            <a:xfrm>
              <a:off x="378468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46"/>
            <p:cNvSpPr/>
            <p:nvPr/>
          </p:nvSpPr>
          <p:spPr>
            <a:xfrm>
              <a:off x="383868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下出血皮肤变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41"/>
          <p:cNvGrpSpPr/>
          <p:nvPr/>
        </p:nvGrpSpPr>
        <p:grpSpPr>
          <a:xfrm>
            <a:off x="5562720" y="5006880"/>
            <a:ext cx="1224000" cy="1224000"/>
            <a:chOff x="5562720" y="5006880"/>
            <a:chExt cx="1224000" cy="1224000"/>
          </a:xfrm>
        </p:grpSpPr>
        <p:sp>
          <p:nvSpPr>
            <p:cNvPr id="111" name="椭圆 48"/>
            <p:cNvSpPr/>
            <p:nvPr/>
          </p:nvSpPr>
          <p:spPr>
            <a:xfrm>
              <a:off x="556272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49"/>
            <p:cNvSpPr/>
            <p:nvPr/>
          </p:nvSpPr>
          <p:spPr>
            <a:xfrm>
              <a:off x="561672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死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59"/>
          <p:cNvSpPr/>
          <p:nvPr/>
        </p:nvSpPr>
        <p:spPr>
          <a:xfrm rot="5400000">
            <a:off x="659520" y="445680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0"/>
          <p:cNvSpPr/>
          <p:nvPr/>
        </p:nvSpPr>
        <p:spPr>
          <a:xfrm>
            <a:off x="1506600" y="531648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1"/>
          <p:cNvSpPr/>
          <p:nvPr/>
        </p:nvSpPr>
        <p:spPr>
          <a:xfrm rot="16200000">
            <a:off x="2355480" y="442116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2"/>
          <p:cNvSpPr/>
          <p:nvPr/>
        </p:nvSpPr>
        <p:spPr>
          <a:xfrm>
            <a:off x="3279600" y="35672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3"/>
          <p:cNvSpPr/>
          <p:nvPr/>
        </p:nvSpPr>
        <p:spPr>
          <a:xfrm>
            <a:off x="5095800" y="356724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4"/>
          <p:cNvSpPr/>
          <p:nvPr/>
        </p:nvSpPr>
        <p:spPr>
          <a:xfrm rot="2490000">
            <a:off x="3066480" y="45709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5"/>
          <p:cNvSpPr/>
          <p:nvPr/>
        </p:nvSpPr>
        <p:spPr>
          <a:xfrm>
            <a:off x="5095800" y="529596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2"/>
          <a:stretch/>
        </p:blipFill>
        <p:spPr>
          <a:xfrm>
            <a:off x="-133200" y="1123920"/>
            <a:ext cx="9386640" cy="6410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3"/>
          <a:stretch/>
        </p:blipFill>
        <p:spPr>
          <a:xfrm>
            <a:off x="0" y="-25560"/>
            <a:ext cx="9144000" cy="11750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2616120" y="3718080"/>
            <a:ext cx="2532240" cy="1195920"/>
            <a:chOff x="2616120" y="3718080"/>
            <a:chExt cx="2532240" cy="1195920"/>
          </a:xfrm>
        </p:grpSpPr>
        <p:sp>
          <p:nvSpPr>
            <p:cNvPr id="124" name="TextBox 11"/>
            <p:cNvSpPr/>
            <p:nvPr/>
          </p:nvSpPr>
          <p:spPr>
            <a:xfrm>
              <a:off x="2616120" y="45151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埃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2"/>
            <p:cNvSpPr/>
            <p:nvPr/>
          </p:nvSpPr>
          <p:spPr>
            <a:xfrm>
              <a:off x="4932360" y="371808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347280" y="3825720"/>
              <a:ext cx="1800720" cy="889200"/>
              <a:chOff x="3347280" y="3825720"/>
              <a:chExt cx="1800720" cy="889200"/>
            </a:xfrm>
          </p:grpSpPr>
          <p:cxnSp>
            <p:nvCxnSpPr>
              <p:cNvPr id="127" name="肘形连接符 14"/>
              <p:cNvCxnSpPr/>
              <p:nvPr/>
            </p:nvCxnSpPr>
            <p:spPr>
              <a:xfrm flipH="1">
                <a:off x="3347280" y="3825720"/>
                <a:ext cx="1801080" cy="8895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28" name=""/>
              <p:cNvSpPr txBox="1"/>
              <p:nvPr/>
            </p:nvSpPr>
            <p:spPr>
              <a:xfrm>
                <a:off x="3347640" y="3825720"/>
                <a:ext cx="1800360" cy="88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9"/>
          <p:cNvGrpSpPr/>
          <p:nvPr/>
        </p:nvGrpSpPr>
        <p:grpSpPr>
          <a:xfrm>
            <a:off x="6219720" y="3789360"/>
            <a:ext cx="2465640" cy="1002240"/>
            <a:chOff x="6219720" y="3789360"/>
            <a:chExt cx="2465640" cy="1002240"/>
          </a:xfrm>
        </p:grpSpPr>
        <p:sp>
          <p:nvSpPr>
            <p:cNvPr id="130" name="TextBox 31"/>
            <p:cNvSpPr/>
            <p:nvPr/>
          </p:nvSpPr>
          <p:spPr>
            <a:xfrm>
              <a:off x="7785360" y="4392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印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32"/>
            <p:cNvSpPr/>
            <p:nvPr/>
          </p:nvSpPr>
          <p:spPr>
            <a:xfrm>
              <a:off x="6219720" y="3789360"/>
              <a:ext cx="216000" cy="21564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435720" y="3897000"/>
              <a:ext cx="1346760" cy="688680"/>
              <a:chOff x="6435720" y="3897000"/>
              <a:chExt cx="1346760" cy="688680"/>
            </a:xfrm>
          </p:grpSpPr>
          <p:cxnSp>
            <p:nvCxnSpPr>
              <p:cNvPr id="133" name="肘形连接符 33"/>
              <p:cNvCxnSpPr/>
              <p:nvPr/>
            </p:nvCxnSpPr>
            <p:spPr>
              <a:xfrm>
                <a:off x="6435720" y="3897000"/>
                <a:ext cx="1347120" cy="68904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34" name=""/>
              <p:cNvSpPr txBox="1"/>
              <p:nvPr/>
            </p:nvSpPr>
            <p:spPr>
              <a:xfrm>
                <a:off x="6435720" y="3897000"/>
                <a:ext cx="1346400" cy="68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13"/>
          <p:cNvGrpSpPr/>
          <p:nvPr/>
        </p:nvGrpSpPr>
        <p:grpSpPr>
          <a:xfrm>
            <a:off x="4757760" y="3290760"/>
            <a:ext cx="1808280" cy="995760"/>
            <a:chOff x="4757760" y="3290760"/>
            <a:chExt cx="1808280" cy="995760"/>
          </a:xfrm>
        </p:grpSpPr>
        <p:sp>
          <p:nvSpPr>
            <p:cNvPr id="136" name="TextBox 35"/>
            <p:cNvSpPr/>
            <p:nvPr/>
          </p:nvSpPr>
          <p:spPr>
            <a:xfrm>
              <a:off x="5666040" y="38876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希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6"/>
            <p:cNvSpPr/>
            <p:nvPr/>
          </p:nvSpPr>
          <p:spPr>
            <a:xfrm>
              <a:off x="4757760" y="3290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973400" y="3398760"/>
              <a:ext cx="724320" cy="689400"/>
              <a:chOff x="4973400" y="3398760"/>
              <a:chExt cx="724320" cy="689400"/>
            </a:xfrm>
          </p:grpSpPr>
          <p:cxnSp>
            <p:nvCxnSpPr>
              <p:cNvPr id="139" name="肘形连接符 37"/>
              <p:cNvCxnSpPr/>
              <p:nvPr/>
            </p:nvCxnSpPr>
            <p:spPr>
              <a:xfrm>
                <a:off x="4973400" y="339876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0" name=""/>
              <p:cNvSpPr txBox="1"/>
              <p:nvPr/>
            </p:nvSpPr>
            <p:spPr>
              <a:xfrm>
                <a:off x="4973400" y="339876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17"/>
          <p:cNvGrpSpPr/>
          <p:nvPr/>
        </p:nvGrpSpPr>
        <p:grpSpPr>
          <a:xfrm>
            <a:off x="6888240" y="3371760"/>
            <a:ext cx="1793880" cy="1041840"/>
            <a:chOff x="6888240" y="3371760"/>
            <a:chExt cx="1793880" cy="1041840"/>
          </a:xfrm>
        </p:grpSpPr>
        <p:sp>
          <p:nvSpPr>
            <p:cNvPr id="142" name="TextBox 39"/>
            <p:cNvSpPr/>
            <p:nvPr/>
          </p:nvSpPr>
          <p:spPr>
            <a:xfrm>
              <a:off x="7782120" y="4014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0"/>
            <p:cNvSpPr/>
            <p:nvPr/>
          </p:nvSpPr>
          <p:spPr>
            <a:xfrm>
              <a:off x="688824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103880" y="3479400"/>
              <a:ext cx="724320" cy="689040"/>
              <a:chOff x="7103880" y="3479400"/>
              <a:chExt cx="724320" cy="689040"/>
            </a:xfrm>
          </p:grpSpPr>
          <p:cxnSp>
            <p:nvCxnSpPr>
              <p:cNvPr id="145" name="肘形连接符 41"/>
              <p:cNvCxnSpPr/>
              <p:nvPr/>
            </p:nvCxnSpPr>
            <p:spPr>
              <a:xfrm>
                <a:off x="7103880" y="3479400"/>
                <a:ext cx="72468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6" name=""/>
              <p:cNvSpPr txBox="1"/>
              <p:nvPr/>
            </p:nvSpPr>
            <p:spPr>
              <a:xfrm>
                <a:off x="7103880" y="3479400"/>
                <a:ext cx="72396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21"/>
          <p:cNvGrpSpPr/>
          <p:nvPr/>
        </p:nvGrpSpPr>
        <p:grpSpPr>
          <a:xfrm>
            <a:off x="2050560" y="3244680"/>
            <a:ext cx="2435400" cy="995760"/>
            <a:chOff x="2050560" y="3244680"/>
            <a:chExt cx="2435400" cy="995760"/>
          </a:xfrm>
        </p:grpSpPr>
        <p:sp>
          <p:nvSpPr>
            <p:cNvPr id="148" name="TextBox 43"/>
            <p:cNvSpPr/>
            <p:nvPr/>
          </p:nvSpPr>
          <p:spPr>
            <a:xfrm flipH="1">
              <a:off x="2050200" y="384156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古罗马帝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44"/>
            <p:cNvSpPr/>
            <p:nvPr/>
          </p:nvSpPr>
          <p:spPr>
            <a:xfrm flipH="1">
              <a:off x="4272120" y="3244680"/>
              <a:ext cx="21348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57160" y="3352680"/>
              <a:ext cx="715680" cy="689400"/>
              <a:chOff x="3557160" y="3352680"/>
              <a:chExt cx="715680" cy="689400"/>
            </a:xfrm>
          </p:grpSpPr>
          <p:cxnSp>
            <p:nvCxnSpPr>
              <p:cNvPr id="151" name="肘形连接符 45"/>
              <p:cNvCxnSpPr/>
              <p:nvPr/>
            </p:nvCxnSpPr>
            <p:spPr>
              <a:xfrm flipH="1">
                <a:off x="3557160" y="3352680"/>
                <a:ext cx="71604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2" name=""/>
              <p:cNvSpPr txBox="1"/>
              <p:nvPr/>
            </p:nvSpPr>
            <p:spPr>
              <a:xfrm>
                <a:off x="3557520" y="3352680"/>
                <a:ext cx="71532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25"/>
          <p:cNvGrpSpPr/>
          <p:nvPr/>
        </p:nvGrpSpPr>
        <p:grpSpPr>
          <a:xfrm>
            <a:off x="7578720" y="3371760"/>
            <a:ext cx="1476360" cy="734400"/>
            <a:chOff x="7578720" y="3371760"/>
            <a:chExt cx="1476360" cy="734400"/>
          </a:xfrm>
        </p:grpSpPr>
        <p:sp>
          <p:nvSpPr>
            <p:cNvPr id="154" name="TextBox 47"/>
            <p:cNvSpPr/>
            <p:nvPr/>
          </p:nvSpPr>
          <p:spPr>
            <a:xfrm>
              <a:off x="8317080" y="3402360"/>
              <a:ext cx="73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朝鲜日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48"/>
            <p:cNvSpPr/>
            <p:nvPr/>
          </p:nvSpPr>
          <p:spPr>
            <a:xfrm>
              <a:off x="757872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794360" y="3479760"/>
              <a:ext cx="581040" cy="108360"/>
              <a:chOff x="7794360" y="3479760"/>
              <a:chExt cx="581040" cy="108360"/>
            </a:xfrm>
          </p:grpSpPr>
          <p:cxnSp>
            <p:nvCxnSpPr>
              <p:cNvPr id="157" name="肘形连接符 49"/>
              <p:cNvCxnSpPr/>
              <p:nvPr/>
            </p:nvCxnSpPr>
            <p:spPr>
              <a:xfrm>
                <a:off x="7794360" y="3479760"/>
                <a:ext cx="581400" cy="10872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8" name=""/>
              <p:cNvSpPr txBox="1"/>
              <p:nvPr/>
            </p:nvSpPr>
            <p:spPr>
              <a:xfrm>
                <a:off x="7794360" y="3479760"/>
                <a:ext cx="580680" cy="1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29"/>
          <p:cNvGrpSpPr/>
          <p:nvPr/>
        </p:nvGrpSpPr>
        <p:grpSpPr>
          <a:xfrm>
            <a:off x="5187960" y="2462040"/>
            <a:ext cx="1346040" cy="981360"/>
            <a:chOff x="5187960" y="2462040"/>
            <a:chExt cx="1346040" cy="981360"/>
          </a:xfrm>
        </p:grpSpPr>
        <p:sp>
          <p:nvSpPr>
            <p:cNvPr id="160" name="TextBox 52"/>
            <p:cNvSpPr/>
            <p:nvPr/>
          </p:nvSpPr>
          <p:spPr>
            <a:xfrm>
              <a:off x="5633640" y="3044520"/>
              <a:ext cx="9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欧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54"/>
            <p:cNvSpPr/>
            <p:nvPr/>
          </p:nvSpPr>
          <p:spPr>
            <a:xfrm>
              <a:off x="5187960" y="246204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肘形连接符 55"/>
            <p:cNvCxnSpPr>
              <a:stCxn id="161" idx="6"/>
              <a:endCxn id="160" idx="1"/>
            </p:cNvCxnSpPr>
            <p:nvPr/>
          </p:nvCxnSpPr>
          <p:spPr>
            <a:xfrm>
              <a:off x="5403960" y="2570040"/>
              <a:ext cx="230400" cy="675360"/>
            </a:xfrm>
            <a:prstGeom prst="bentConnector3">
              <a:avLst>
                <a:gd name="adj1" fmla="val 49921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63" name="Group 33"/>
          <p:cNvGrpSpPr/>
          <p:nvPr/>
        </p:nvGrpSpPr>
        <p:grpSpPr>
          <a:xfrm>
            <a:off x="1335240" y="2476440"/>
            <a:ext cx="1807920" cy="995760"/>
            <a:chOff x="1335240" y="2476440"/>
            <a:chExt cx="1807920" cy="995760"/>
          </a:xfrm>
        </p:grpSpPr>
        <p:sp>
          <p:nvSpPr>
            <p:cNvPr id="164" name="TextBox 58"/>
            <p:cNvSpPr/>
            <p:nvPr/>
          </p:nvSpPr>
          <p:spPr>
            <a:xfrm>
              <a:off x="2243520" y="3073320"/>
              <a:ext cx="8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59"/>
            <p:cNvSpPr/>
            <p:nvPr/>
          </p:nvSpPr>
          <p:spPr>
            <a:xfrm>
              <a:off x="1335240" y="2476440"/>
              <a:ext cx="21564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550880" y="2584080"/>
              <a:ext cx="723960" cy="689040"/>
              <a:chOff x="1550880" y="2584080"/>
              <a:chExt cx="723960" cy="689040"/>
            </a:xfrm>
          </p:grpSpPr>
          <p:cxnSp>
            <p:nvCxnSpPr>
              <p:cNvPr id="167" name="肘形连接符 60"/>
              <p:cNvCxnSpPr/>
              <p:nvPr/>
            </p:nvCxnSpPr>
            <p:spPr>
              <a:xfrm>
                <a:off x="1550880" y="2584080"/>
                <a:ext cx="72432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68" name=""/>
              <p:cNvSpPr txBox="1"/>
              <p:nvPr/>
            </p:nvSpPr>
            <p:spPr>
              <a:xfrm>
                <a:off x="1550880" y="2584080"/>
                <a:ext cx="72360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37"/>
          <p:cNvGrpSpPr/>
          <p:nvPr/>
        </p:nvGrpSpPr>
        <p:grpSpPr>
          <a:xfrm>
            <a:off x="7466040" y="4983120"/>
            <a:ext cx="1808280" cy="995760"/>
            <a:chOff x="7466040" y="4983120"/>
            <a:chExt cx="1808280" cy="995760"/>
          </a:xfrm>
        </p:grpSpPr>
        <p:sp>
          <p:nvSpPr>
            <p:cNvPr id="170" name="TextBox 62"/>
            <p:cNvSpPr/>
            <p:nvPr/>
          </p:nvSpPr>
          <p:spPr>
            <a:xfrm>
              <a:off x="8374320" y="558000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澳大利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63"/>
            <p:cNvSpPr/>
            <p:nvPr/>
          </p:nvSpPr>
          <p:spPr>
            <a:xfrm>
              <a:off x="7466040" y="498312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681680" y="5091120"/>
              <a:ext cx="724320" cy="689400"/>
              <a:chOff x="7681680" y="5091120"/>
              <a:chExt cx="724320" cy="689400"/>
            </a:xfrm>
          </p:grpSpPr>
          <p:cxnSp>
            <p:nvCxnSpPr>
              <p:cNvPr id="173" name="肘形连接符 64"/>
              <p:cNvCxnSpPr/>
              <p:nvPr/>
            </p:nvCxnSpPr>
            <p:spPr>
              <a:xfrm>
                <a:off x="7681680" y="509112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74" name=""/>
              <p:cNvSpPr txBox="1"/>
              <p:nvPr/>
            </p:nvSpPr>
            <p:spPr>
              <a:xfrm>
                <a:off x="7681680" y="509112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TextBox 79"/>
          <p:cNvSpPr/>
          <p:nvPr/>
        </p:nvSpPr>
        <p:spPr>
          <a:xfrm>
            <a:off x="3100320" y="1295280"/>
            <a:ext cx="29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微软雅黑"/>
                <a:ea typeface="微软雅黑"/>
              </a:rPr>
              <a:t>天花在全球肆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2"/>
          <p:cNvSpPr/>
          <p:nvPr/>
        </p:nvSpPr>
        <p:spPr>
          <a:xfrm>
            <a:off x="2117160" y="5192640"/>
            <a:ext cx="47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天下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aitianxia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250920" y="2039760"/>
            <a:ext cx="4105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古代：用丝瓜等食物制成的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隆庆时：将痘浆贯入鼻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康熙时：接种“人痘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"/>
          <p:cNvSpPr/>
          <p:nvPr/>
        </p:nvSpPr>
        <p:spPr>
          <a:xfrm>
            <a:off x="0" y="1530360"/>
            <a:ext cx="9144000" cy="0"/>
          </a:xfrm>
          <a:prstGeom prst="line">
            <a:avLst/>
          </a:prstGeom>
          <a:ln w="2844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539640" y="1268280"/>
            <a:ext cx="20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华文行楷"/>
                <a:ea typeface="华文行楷"/>
              </a:rPr>
              <a:t>天花的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471600" y="5506920"/>
            <a:ext cx="40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痘新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：“经余种者不下七、八千人，屈指记之，所莫救者，不过二、三十耳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1116000" y="3284640"/>
            <a:ext cx="3432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痘衣法，把天花患者穿的内衣给未出过天花的健康者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天花病患者身上的痘痂制浆（即脓），以小刀拭在受种者的皮肤之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466560" y="5181480"/>
            <a:ext cx="40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这种方法经由亚洲其他国家传入欧美各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534816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种者不是透过空气在肺部染病，因此多数只会出现轻微的天花症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7"/>
          <p:cNvSpPr/>
          <p:nvPr/>
        </p:nvSpPr>
        <p:spPr>
          <a:xfrm>
            <a:off x="5060880" y="2133720"/>
            <a:ext cx="3687840" cy="1282680"/>
          </a:xfrm>
          <a:prstGeom prst="roundRect">
            <a:avLst>
              <a:gd name="adj" fmla="val 998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6"/>
          <p:cNvSpPr/>
          <p:nvPr/>
        </p:nvSpPr>
        <p:spPr>
          <a:xfrm>
            <a:off x="5343480" y="1844640"/>
            <a:ext cx="102888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9"/>
          <p:cNvSpPr/>
          <p:nvPr/>
        </p:nvSpPr>
        <p:spPr>
          <a:xfrm>
            <a:off x="5392800" y="414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接种的人得了真正的天花，有很大机会死亡，危险性甚高。且受种者对天花完全产生抵抗力之前，会把天花传染给身边的家人，因此对天花未有抵抗力的家人必须被隔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20"/>
          <p:cNvSpPr/>
          <p:nvPr/>
        </p:nvSpPr>
        <p:spPr>
          <a:xfrm>
            <a:off x="5060880" y="3860640"/>
            <a:ext cx="3687840" cy="2392560"/>
          </a:xfrm>
          <a:prstGeom prst="roundRect">
            <a:avLst>
              <a:gd name="adj" fmla="val 5625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5388120" y="3573360"/>
            <a:ext cx="102852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>
            <a:hlinkClick r:id="rId2"/>
          </p:cNvPr>
          <p:cNvPicPr/>
          <p:nvPr/>
        </p:nvPicPr>
        <p:blipFill>
          <a:blip r:embed="rId3"/>
          <a:srcRect l="6448" t="0" r="17871" b="0"/>
          <a:stretch/>
        </p:blipFill>
        <p:spPr>
          <a:xfrm>
            <a:off x="-92160" y="1081080"/>
            <a:ext cx="2994120" cy="5904000"/>
          </a:xfrm>
          <a:prstGeom prst="rect">
            <a:avLst/>
          </a:prstGeom>
          <a:ln w="0">
            <a:noFill/>
          </a:ln>
        </p:spPr>
      </p:pic>
      <p:sp>
        <p:nvSpPr>
          <p:cNvPr id="192" name="矩形 4"/>
          <p:cNvSpPr/>
          <p:nvPr/>
        </p:nvSpPr>
        <p:spPr>
          <a:xfrm>
            <a:off x="2914560" y="6180120"/>
            <a:ext cx="59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世界卫生组织正式宣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球上的人类已免于天花疾病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天花已在地球上被灭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10128960" y="304956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0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 牛痘接种法经澳门葡商传入中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-92160" y="5734080"/>
            <a:ext cx="299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免疫学之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爱德华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詹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9280440" y="41846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这是免疫接种的首度成功案例。因此种痘也被引申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疫苗接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意思。之后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出版关于预防接种办法的书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牛痘预防接种的原因与后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首次在书中使用了病毒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viru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一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下箭头 6"/>
          <p:cNvSpPr/>
          <p:nvPr/>
        </p:nvSpPr>
        <p:spPr>
          <a:xfrm>
            <a:off x="5838840" y="216072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下箭头 8"/>
          <p:cNvSpPr/>
          <p:nvPr/>
        </p:nvSpPr>
        <p:spPr>
          <a:xfrm>
            <a:off x="5838840" y="29811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下箭头 9"/>
          <p:cNvSpPr/>
          <p:nvPr/>
        </p:nvSpPr>
        <p:spPr>
          <a:xfrm>
            <a:off x="5838840" y="38163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下箭头 10"/>
          <p:cNvSpPr/>
          <p:nvPr/>
        </p:nvSpPr>
        <p:spPr>
          <a:xfrm>
            <a:off x="5838840" y="437832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下箭头 11"/>
          <p:cNvSpPr/>
          <p:nvPr/>
        </p:nvSpPr>
        <p:spPr>
          <a:xfrm>
            <a:off x="5838840" y="493704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2"/>
          <p:cNvSpPr/>
          <p:nvPr/>
        </p:nvSpPr>
        <p:spPr>
          <a:xfrm>
            <a:off x="2916360" y="1700280"/>
            <a:ext cx="611640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5"/>
          <p:cNvSpPr/>
          <p:nvPr/>
        </p:nvSpPr>
        <p:spPr>
          <a:xfrm>
            <a:off x="2919240" y="6093000"/>
            <a:ext cx="61167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下箭头 16"/>
          <p:cNvSpPr/>
          <p:nvPr/>
        </p:nvSpPr>
        <p:spPr>
          <a:xfrm>
            <a:off x="5838840" y="547380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2779560" y="1273320"/>
            <a:ext cx="63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英国医生爱德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詹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3"/>
          <p:cNvSpPr/>
          <p:nvPr/>
        </p:nvSpPr>
        <p:spPr>
          <a:xfrm>
            <a:off x="2779560" y="17733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现病人当中挤牛奶的女工没有得天花的病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4"/>
          <p:cNvSpPr/>
          <p:nvPr/>
        </p:nvSpPr>
        <p:spPr>
          <a:xfrm>
            <a:off x="2779560" y="2324160"/>
            <a:ext cx="63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发现挤牛奶的女工透过挤压感染牛痘的牛的乳房，感染牛痘，痊愈后终生对牛痘免疫，同时也对天花终身免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7"/>
          <p:cNvSpPr/>
          <p:nvPr/>
        </p:nvSpPr>
        <p:spPr>
          <a:xfrm>
            <a:off x="2779560" y="315288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牛痘病毒与天花病毒有一定关系，把含有牛痘的溶液涂在健康的人身上，他们便会对天花产生免疫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8"/>
          <p:cNvSpPr/>
          <p:nvPr/>
        </p:nvSpPr>
        <p:spPr>
          <a:xfrm>
            <a:off x="2779560" y="39798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发牛痘疫苗接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2779560" y="45306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研发成功，接种在自己儿子身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0"/>
          <p:cNvSpPr/>
          <p:nvPr/>
        </p:nvSpPr>
        <p:spPr>
          <a:xfrm>
            <a:off x="2779560" y="50817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儿子接种后一直相安无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1"/>
          <p:cNvSpPr/>
          <p:nvPr/>
        </p:nvSpPr>
        <p:spPr>
          <a:xfrm>
            <a:off x="2779560" y="56325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疫苗研发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13" name="矩形 22"/>
          <p:cNvSpPr/>
          <p:nvPr/>
        </p:nvSpPr>
        <p:spPr>
          <a:xfrm>
            <a:off x="3203640" y="3933720"/>
            <a:ext cx="5940360" cy="215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5"/>
          <p:cNvSpPr/>
          <p:nvPr/>
        </p:nvSpPr>
        <p:spPr>
          <a:xfrm>
            <a:off x="3743280" y="41353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牛痘病毒具有与天花病毒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的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经感染牛痘病毒的人类，其免疫系统亦可制造针对天花病毒的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旦感染天花，免疫系统就可迅速制造针对天花病毒的抗体，阻止天花病毒进一步入侵身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预防天花的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"/>
          <p:cNvSpPr/>
          <p:nvPr/>
        </p:nvSpPr>
        <p:spPr>
          <a:xfrm>
            <a:off x="1550880" y="1746360"/>
            <a:ext cx="1800" cy="15872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324000" y="1700280"/>
            <a:ext cx="1311840" cy="1579320"/>
            <a:chOff x="324000" y="1700280"/>
            <a:chExt cx="1311840" cy="1579320"/>
          </a:xfrm>
        </p:grpSpPr>
        <p:sp>
          <p:nvSpPr>
            <p:cNvPr id="217" name="TextBox 1"/>
            <p:cNvSpPr/>
            <p:nvPr/>
          </p:nvSpPr>
          <p:spPr>
            <a:xfrm>
              <a:off x="324000" y="17481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6"/>
            <p:cNvSpPr/>
            <p:nvPr/>
          </p:nvSpPr>
          <p:spPr>
            <a:xfrm>
              <a:off x="555840" y="1700280"/>
              <a:ext cx="108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25a66"/>
                  </a:solidFill>
                  <a:latin typeface="华文行楷"/>
                  <a:ea typeface="华文行楷"/>
                </a:rPr>
                <a:t>d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4"/>
            <p:cNvSpPr/>
            <p:nvPr/>
          </p:nvSpPr>
          <p:spPr>
            <a:xfrm>
              <a:off x="406080" y="2210760"/>
              <a:ext cx="1054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作用原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8"/>
          <p:cNvSpPr/>
          <p:nvPr/>
        </p:nvSpPr>
        <p:spPr>
          <a:xfrm>
            <a:off x="1884240" y="17334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的免疫系统一般是借着识别病毒表膜的抗原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ge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针对病毒抗原的结构，制造“抗体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bod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”，“标记”病毒以及受感染的细胞，以诱导免疫机制对其进行攻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1"/>
          <p:cNvGrpSpPr/>
          <p:nvPr/>
        </p:nvGrpSpPr>
        <p:grpSpPr>
          <a:xfrm>
            <a:off x="578520" y="4038840"/>
            <a:ext cx="2985480" cy="1888560"/>
            <a:chOff x="578520" y="4038840"/>
            <a:chExt cx="2985480" cy="1888560"/>
          </a:xfrm>
        </p:grpSpPr>
        <p:grpSp>
          <p:nvGrpSpPr>
            <p:cNvPr id="222" name="Group 13"/>
            <p:cNvGrpSpPr/>
            <p:nvPr/>
          </p:nvGrpSpPr>
          <p:grpSpPr>
            <a:xfrm>
              <a:off x="1795320" y="4807080"/>
              <a:ext cx="1120680" cy="1120320"/>
              <a:chOff x="1795320" y="4807080"/>
              <a:chExt cx="1120680" cy="1120320"/>
            </a:xfrm>
          </p:grpSpPr>
          <p:sp>
            <p:nvSpPr>
              <p:cNvPr id="223" name="椭圆 12"/>
              <p:cNvSpPr/>
              <p:nvPr/>
            </p:nvSpPr>
            <p:spPr>
              <a:xfrm>
                <a:off x="17953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10"/>
              <p:cNvSpPr/>
              <p:nvPr/>
            </p:nvSpPr>
            <p:spPr>
              <a:xfrm>
                <a:off x="19929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牛痘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16"/>
            <p:cNvGrpSpPr/>
            <p:nvPr/>
          </p:nvGrpSpPr>
          <p:grpSpPr>
            <a:xfrm>
              <a:off x="578520" y="4807080"/>
              <a:ext cx="1120680" cy="1120320"/>
              <a:chOff x="578520" y="4807080"/>
              <a:chExt cx="1120680" cy="1120320"/>
            </a:xfrm>
          </p:grpSpPr>
          <p:sp>
            <p:nvSpPr>
              <p:cNvPr id="226" name="椭圆 15"/>
              <p:cNvSpPr/>
              <p:nvPr/>
            </p:nvSpPr>
            <p:spPr>
              <a:xfrm>
                <a:off x="5785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16"/>
              <p:cNvSpPr/>
              <p:nvPr/>
            </p:nvSpPr>
            <p:spPr>
              <a:xfrm>
                <a:off x="7761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天花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Box 20"/>
            <p:cNvSpPr/>
            <p:nvPr/>
          </p:nvSpPr>
          <p:spPr>
            <a:xfrm>
              <a:off x="1643040" y="4038840"/>
              <a:ext cx="192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痘科病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30" name="圆角矩形标注 8"/>
          <p:cNvSpPr/>
          <p:nvPr/>
        </p:nvSpPr>
        <p:spPr>
          <a:xfrm>
            <a:off x="2266920" y="5415120"/>
            <a:ext cx="3745080" cy="1279440"/>
          </a:xfrm>
          <a:prstGeom prst="wedgeRoundRectCallout">
            <a:avLst>
              <a:gd name="adj1" fmla="val 44907"/>
              <a:gd name="adj2" fmla="val -63814"/>
              <a:gd name="adj3" fmla="val 16667"/>
            </a:avLst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"/>
          <p:cNvSpPr/>
          <p:nvPr/>
        </p:nvSpPr>
        <p:spPr>
          <a:xfrm>
            <a:off x="733320" y="2825640"/>
            <a:ext cx="75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，日本发生多宗因种植牛痘而导致脑炎的病例，令患者大脑功能障碍，严重会导致死亡，受害者多为婴儿，称为“种痘后脑炎”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年间，日本“种痘后脑炎”的患者已经达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数目超过了期间证实感染天花的病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，情况不容忽视。最后，日本政府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夏季取消替日本民众接种牛痘的规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2357280" y="57006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减少疾病的风险，同时保留诱发有益的免疫反应的能力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250920" y="15224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尽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牛痘接种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扑灭天花作出了巨大贡献，但疫苗仍有很大的</a:t>
            </a:r>
            <a:r>
              <a:rPr b="0" lang="zh-CN" sz="3200" spc="-1" strike="noStrike" u="sng">
                <a:solidFill>
                  <a:srgbClr val="ff550d"/>
                </a:solidFill>
                <a:uFillTx/>
                <a:latin typeface="华文行楷"/>
                <a:ea typeface="华文行楷"/>
              </a:rPr>
              <a:t>副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5386320" y="4732200"/>
            <a:ext cx="29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92d050"/>
                </a:solidFill>
                <a:latin typeface="华文行楷"/>
                <a:ea typeface="华文行楷"/>
              </a:rPr>
              <a:t>研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还要更深入下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35280" y="2333160"/>
            <a:ext cx="1800" cy="359280"/>
            <a:chOff x="1835280" y="2333160"/>
            <a:chExt cx="1800" cy="359280"/>
          </a:xfrm>
        </p:grpSpPr>
        <p:cxnSp>
          <p:nvCxnSpPr>
            <p:cNvPr id="236" name="直接箭头连接符 6"/>
            <p:cNvCxnSpPr/>
            <p:nvPr/>
          </p:nvCxnSpPr>
          <p:spPr>
            <a:xfrm>
              <a:off x="1835280" y="2333160"/>
              <a:ext cx="2160" cy="359640"/>
            </a:xfrm>
            <a:prstGeom prst="straightConnector1">
              <a:avLst/>
            </a:prstGeom>
            <a:ln w="38160">
              <a:solidFill>
                <a:srgbClr val="ff550d"/>
              </a:solidFill>
              <a:miter/>
              <a:tailEnd len="med" type="arrow" w="med"/>
            </a:ln>
          </p:spPr>
        </p:cxnSp>
        <p:sp>
          <p:nvSpPr>
            <p:cNvPr id="237" name=""/>
            <p:cNvSpPr txBox="1"/>
            <p:nvPr/>
          </p:nvSpPr>
          <p:spPr>
            <a:xfrm>
              <a:off x="1835280" y="2333160"/>
              <a:ext cx="144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矩形 7"/>
          <p:cNvSpPr/>
          <p:nvPr/>
        </p:nvSpPr>
        <p:spPr>
          <a:xfrm>
            <a:off x="250920" y="2692440"/>
            <a:ext cx="8507160" cy="1744560"/>
          </a:xfrm>
          <a:prstGeom prst="rect">
            <a:avLst/>
          </a:prstGeom>
          <a:noFill/>
          <a:ln w="1908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4:07:00Z</dcterms:created>
  <dc:creator>微软用户</dc:creator>
  <dc:description/>
  <cp:keywords/>
  <dc:language>en-US</dc:language>
  <cp:lastModifiedBy>User</cp:lastModifiedBy>
  <cp:lastPrinted>1899-12-30T00:00:00Z</cp:lastPrinted>
  <dcterms:modified xsi:type="dcterms:W3CDTF">2012-08-26T12:44:33Z</dcterms:modified>
  <cp:revision>1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