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161-3D8A-4954-A014-EFD13D78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C09-1CFD-45A5-AE5C-1AF9CD62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C4C-85D6-41C9-8CFA-E5369E8B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914-FEB6-4585-B90D-77370B9C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67B0-40C5-4182-B896-5E67C6A1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917D-E051-40EE-A828-E827BC25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9692-8288-47C9-A880-0A506A21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DF9D-449F-479D-8FF6-1DC387D2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848B-80B1-4DE9-AD9F-F0461E87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F84-8DE2-4057-96A0-C7B85007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1853-5BFF-498B-A47A-8C179D16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C0F-2A56-44BE-9144-C1CE6D8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B3B-83A0-429C-877E-A993362D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40A4-2AB4-4720-AE90-1A0233BD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0795-F986-44F8-9BD1-D5A48225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2F5F-B27F-442F-892A-7B90AC05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283E-5AE2-43B1-A685-F620C166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94B-D075-437F-B9B2-54DF1387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25F-D9DD-4B1D-8968-E12DA421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70D-1539-411A-9D0F-A8E502F2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A3D-1D76-4402-A240-928047DE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725-2338-4322-AA96-CA27B9DE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A9B-D07E-439D-B77F-0B663746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351-0CF2-4A52-8C32-E9AE544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920-A019-4BC3-B5AE-7DC42E9F4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9DF0-1FAE-4FC6-AF0C-66BEA8114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666880" y="1657440"/>
            <a:ext cx="47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经典繁行书"/>
                <a:ea typeface="经典繁行书"/>
              </a:rPr>
              <a:t>竹之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椭圆 39"/>
          <p:cNvSpPr/>
          <p:nvPr/>
        </p:nvSpPr>
        <p:spPr>
          <a:xfrm>
            <a:off x="4124160" y="2211480"/>
            <a:ext cx="1003320" cy="1003320"/>
          </a:xfrm>
          <a:prstGeom prst="ellipse">
            <a:avLst/>
          </a:prstGeom>
          <a:noFill/>
          <a:ln w="255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燕尾形 38"/>
          <p:cNvSpPr/>
          <p:nvPr/>
        </p:nvSpPr>
        <p:spPr>
          <a:xfrm>
            <a:off x="2225520" y="1239840"/>
            <a:ext cx="4916520" cy="592200"/>
          </a:xfrm>
          <a:custGeom>
            <a:avLst/>
            <a:gdLst>
              <a:gd name="textAreaLeft" fmla="*/ 0 w 4916520"/>
              <a:gd name="textAreaRight" fmla="*/ 4916880 w 491652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1" y="0"/>
                </a:lnTo>
                <a:lnTo>
                  <a:pt x="21600" y="10800"/>
                </a:lnTo>
                <a:lnTo>
                  <a:pt x="20301" y="21600"/>
                </a:lnTo>
                <a:lnTo>
                  <a:pt x="0" y="21600"/>
                </a:lnTo>
                <a:lnTo>
                  <a:pt x="1299" y="108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40"/>
          <p:cNvSpPr/>
          <p:nvPr/>
        </p:nvSpPr>
        <p:spPr>
          <a:xfrm>
            <a:off x="3214800" y="1328760"/>
            <a:ext cx="0" cy="390600"/>
          </a:xfrm>
          <a:prstGeom prst="line">
            <a:avLst/>
          </a:prstGeom>
          <a:ln w="255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KSO_Shape"/>
          <p:cNvSpPr/>
          <p:nvPr/>
        </p:nvSpPr>
        <p:spPr>
          <a:xfrm>
            <a:off x="4286160" y="2619360"/>
            <a:ext cx="627120" cy="271440"/>
          </a:xfrm>
          <a:custGeom>
            <a:avLst/>
            <a:gdLst/>
            <a:ahLst/>
            <a:rect l="l" t="t" r="r" b="b"/>
            <a:pathLst>
              <a:path w="3667" h="1591">
                <a:moveTo>
                  <a:pt x="334" y="0"/>
                </a:moveTo>
                <a:cubicBezTo>
                  <a:pt x="334" y="438"/>
                  <a:pt x="334" y="438"/>
                  <a:pt x="334" y="438"/>
                </a:cubicBezTo>
                <a:cubicBezTo>
                  <a:pt x="205" y="438"/>
                  <a:pt x="205" y="438"/>
                  <a:pt x="205" y="438"/>
                </a:cubicBezTo>
                <a:cubicBezTo>
                  <a:pt x="92" y="438"/>
                  <a:pt x="0" y="530"/>
                  <a:pt x="0" y="643"/>
                </a:cubicBezTo>
                <a:cubicBezTo>
                  <a:pt x="0" y="947"/>
                  <a:pt x="0" y="947"/>
                  <a:pt x="0" y="947"/>
                </a:cubicBezTo>
                <a:cubicBezTo>
                  <a:pt x="0" y="1060"/>
                  <a:pt x="92" y="1152"/>
                  <a:pt x="205" y="1152"/>
                </a:cubicBezTo>
                <a:cubicBezTo>
                  <a:pt x="334" y="1152"/>
                  <a:pt x="334" y="1152"/>
                  <a:pt x="334" y="1152"/>
                </a:cubicBezTo>
                <a:cubicBezTo>
                  <a:pt x="334" y="1591"/>
                  <a:pt x="334" y="1591"/>
                  <a:pt x="334" y="1591"/>
                </a:cubicBezTo>
                <a:cubicBezTo>
                  <a:pt x="3667" y="1591"/>
                  <a:pt x="3667" y="1591"/>
                  <a:pt x="3667" y="1591"/>
                </a:cubicBezTo>
                <a:cubicBezTo>
                  <a:pt x="3667" y="0"/>
                  <a:pt x="3667" y="0"/>
                  <a:pt x="3667" y="0"/>
                </a:cubicBezTo>
                <a:cubicBezTo>
                  <a:pt x="334" y="0"/>
                  <a:pt x="334" y="0"/>
                  <a:pt x="334" y="0"/>
                </a:cubicBezTo>
                <a:close/>
                <a:moveTo>
                  <a:pt x="334" y="947"/>
                </a:moveTo>
                <a:cubicBezTo>
                  <a:pt x="205" y="947"/>
                  <a:pt x="205" y="947"/>
                  <a:pt x="205" y="947"/>
                </a:cubicBezTo>
                <a:cubicBezTo>
                  <a:pt x="205" y="643"/>
                  <a:pt x="205" y="643"/>
                  <a:pt x="205" y="643"/>
                </a:cubicBezTo>
                <a:cubicBezTo>
                  <a:pt x="334" y="643"/>
                  <a:pt x="334" y="643"/>
                  <a:pt x="334" y="643"/>
                </a:cubicBezTo>
                <a:cubicBezTo>
                  <a:pt x="334" y="947"/>
                  <a:pt x="334" y="947"/>
                  <a:pt x="334" y="947"/>
                </a:cubicBezTo>
                <a:close/>
                <a:moveTo>
                  <a:pt x="3456" y="741"/>
                </a:moveTo>
                <a:cubicBezTo>
                  <a:pt x="2799" y="1386"/>
                  <a:pt x="2799" y="1386"/>
                  <a:pt x="2799" y="1386"/>
                </a:cubicBezTo>
                <a:cubicBezTo>
                  <a:pt x="538" y="1385"/>
                  <a:pt x="538" y="1385"/>
                  <a:pt x="538" y="1385"/>
                </a:cubicBezTo>
                <a:cubicBezTo>
                  <a:pt x="539" y="200"/>
                  <a:pt x="539" y="200"/>
                  <a:pt x="539" y="200"/>
                </a:cubicBezTo>
                <a:cubicBezTo>
                  <a:pt x="3456" y="200"/>
                  <a:pt x="3456" y="200"/>
                  <a:pt x="3456" y="200"/>
                </a:cubicBezTo>
                <a:cubicBezTo>
                  <a:pt x="3456" y="741"/>
                  <a:pt x="3456" y="741"/>
                  <a:pt x="3456" y="74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3"/>
          <p:cNvSpPr/>
          <p:nvPr/>
        </p:nvSpPr>
        <p:spPr>
          <a:xfrm>
            <a:off x="1763640" y="3622680"/>
            <a:ext cx="6040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orem ipsum dolor sit amet, consectetur adipisicing elit.Lorem ipsum dolor sit amet, consectetur adipisicing elit.Lorem ipsum dolor sit amet, consectetur adipisicing elit.Lorem ipsum dolor sit amet, consecte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KSO_Shape"/>
          <p:cNvSpPr/>
          <p:nvPr/>
        </p:nvSpPr>
        <p:spPr>
          <a:xfrm>
            <a:off x="3305160" y="2276640"/>
            <a:ext cx="268200" cy="269640"/>
          </a:xfrm>
          <a:custGeom>
            <a:avLst/>
            <a:gdLst/>
            <a:ahLst/>
            <a:rect l="l" t="t" r="r" b="b"/>
            <a:pathLst>
              <a:path w="585904" h="585904">
                <a:moveTo>
                  <a:pt x="158628" y="130053"/>
                </a:moveTo>
                <a:lnTo>
                  <a:pt x="321527" y="292952"/>
                </a:lnTo>
                <a:lnTo>
                  <a:pt x="158628" y="455850"/>
                </a:lnTo>
                <a:lnTo>
                  <a:pt x="321527" y="455850"/>
                </a:lnTo>
                <a:lnTo>
                  <a:pt x="484425" y="292952"/>
                </a:lnTo>
                <a:lnTo>
                  <a:pt x="321527" y="130053"/>
                </a:lnTo>
                <a:close/>
                <a:moveTo>
                  <a:pt x="292952" y="0"/>
                </a:moveTo>
                <a:cubicBezTo>
                  <a:pt x="454745" y="0"/>
                  <a:pt x="585904" y="131159"/>
                  <a:pt x="585904" y="292952"/>
                </a:cubicBezTo>
                <a:cubicBezTo>
                  <a:pt x="585904" y="454745"/>
                  <a:pt x="454745" y="585904"/>
                  <a:pt x="292952" y="585904"/>
                </a:cubicBezTo>
                <a:cubicBezTo>
                  <a:pt x="131159" y="585904"/>
                  <a:pt x="0" y="454745"/>
                  <a:pt x="0" y="292952"/>
                </a:cubicBezTo>
                <a:cubicBezTo>
                  <a:pt x="0" y="131159"/>
                  <a:pt x="131159" y="0"/>
                  <a:pt x="292952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"/>
          <p:cNvSpPr/>
          <p:nvPr/>
        </p:nvSpPr>
        <p:spPr>
          <a:xfrm>
            <a:off x="1293840" y="1684440"/>
            <a:ext cx="1455840" cy="14540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"/>
          <p:cNvSpPr/>
          <p:nvPr/>
        </p:nvSpPr>
        <p:spPr>
          <a:xfrm>
            <a:off x="4129200" y="1046160"/>
            <a:ext cx="32940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</a:rPr>
              <a:t>Lorem ipsum dolor sit amet, consectetur adipisicing elit, sed do eiusmod tempor incididunt ut labore et dolore magna aliqua. Ut enim ad minim veniam, quis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pic>
        <p:nvPicPr>
          <p:cNvPr id="94" name="内容占位符 5" descr=""/>
          <p:cNvPicPr/>
          <p:nvPr/>
        </p:nvPicPr>
        <p:blipFill>
          <a:blip r:embed="rId1"/>
          <a:stretch/>
        </p:blipFill>
        <p:spPr>
          <a:xfrm>
            <a:off x="380880" y="2647800"/>
            <a:ext cx="42688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pic>
        <p:nvPicPr>
          <p:cNvPr id="96" name="内容占位符 3" descr=""/>
          <p:cNvPicPr/>
          <p:nvPr/>
        </p:nvPicPr>
        <p:blipFill>
          <a:blip r:embed="rId1"/>
          <a:stretch/>
        </p:blipFill>
        <p:spPr>
          <a:xfrm>
            <a:off x="5486400" y="1276200"/>
            <a:ext cx="22669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经典繁行书"/>
                <a:ea typeface="经典繁行书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07:40:03Z</dcterms:created>
  <dc:creator/>
  <dc:description/>
  <cp:keywords>PPT模板</cp:keywords>
  <dc:language>en-US</dc:language>
  <cp:lastModifiedBy>Administrator</cp:lastModifiedBy>
  <dcterms:modified xsi:type="dcterms:W3CDTF">2016-04-18T07:58:06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