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792-D0CE-4C36-B05E-66DF5B07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E19-4112-4406-99E2-B6C5309B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4B3-82D0-4964-82C2-A8D7B9ED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8B1-7FCE-4C42-B255-8CA73F66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EBD6-51BE-4315-BCDC-DFC43DFE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E8CB-2D0C-4164-81B4-52AC3448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6391-2510-4F70-A72B-CB97B0CB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95F4-8CFA-41AE-9CDD-46D143DE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6D5C-4A00-458E-B6C0-8C0388BA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5E7D-55E0-4EE4-80D9-5CDAF46F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FC67-5F41-4A2A-A31D-948C56CA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6A7-2C12-4B3E-9717-C3AC26EA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8A84-2482-441C-967E-FBCE6184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84BE-0311-4499-B4EA-260D2621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576E-4F68-4DCB-A183-51F7A504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EA88-1743-4868-AC56-3A925088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47A0-3A23-469D-A05B-87825618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F9D-1B5F-4432-8662-70285828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07D-347B-4FA6-B92F-1BE92172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0B4-CD12-483A-AE1C-8BB54095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E5B-5A7B-4631-981A-8FF0FE7C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B7C-E875-4FBC-B1CB-63C3C047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508-259C-4D89-916A-6F39E6C0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0F3-6268-444F-B764-41DC6D14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3B3B-9C39-400C-BD3E-0A13CC240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8BF0-3D2E-49EC-8B4E-98BC8E0DE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2666880" y="1657440"/>
            <a:ext cx="47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经典繁行书"/>
                <a:ea typeface="经典繁行书"/>
              </a:rPr>
              <a:t>竹之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874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椭圆 39"/>
          <p:cNvSpPr/>
          <p:nvPr/>
        </p:nvSpPr>
        <p:spPr>
          <a:xfrm>
            <a:off x="4124160" y="2211480"/>
            <a:ext cx="1003320" cy="1003320"/>
          </a:xfrm>
          <a:prstGeom prst="ellipse">
            <a:avLst/>
          </a:prstGeom>
          <a:noFill/>
          <a:ln w="255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燕尾形 38"/>
          <p:cNvSpPr/>
          <p:nvPr/>
        </p:nvSpPr>
        <p:spPr>
          <a:xfrm>
            <a:off x="2225520" y="1239840"/>
            <a:ext cx="4916520" cy="592200"/>
          </a:xfrm>
          <a:custGeom>
            <a:avLst/>
            <a:gdLst>
              <a:gd name="textAreaLeft" fmla="*/ 0 w 4916520"/>
              <a:gd name="textAreaRight" fmla="*/ 4916880 w 491652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1" y="0"/>
                </a:lnTo>
                <a:lnTo>
                  <a:pt x="21600" y="10800"/>
                </a:lnTo>
                <a:lnTo>
                  <a:pt x="20301" y="21600"/>
                </a:lnTo>
                <a:lnTo>
                  <a:pt x="0" y="21600"/>
                </a:lnTo>
                <a:lnTo>
                  <a:pt x="1299" y="108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40"/>
          <p:cNvSpPr/>
          <p:nvPr/>
        </p:nvSpPr>
        <p:spPr>
          <a:xfrm>
            <a:off x="3214800" y="1328760"/>
            <a:ext cx="0" cy="390600"/>
          </a:xfrm>
          <a:prstGeom prst="line">
            <a:avLst/>
          </a:prstGeom>
          <a:ln w="255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KSO_Shape"/>
          <p:cNvSpPr/>
          <p:nvPr/>
        </p:nvSpPr>
        <p:spPr>
          <a:xfrm>
            <a:off x="4286160" y="2619360"/>
            <a:ext cx="627120" cy="271440"/>
          </a:xfrm>
          <a:custGeom>
            <a:avLst/>
            <a:gdLst/>
            <a:ahLst/>
            <a:rect l="l" t="t" r="r" b="b"/>
            <a:pathLst>
              <a:path w="3667" h="1591">
                <a:moveTo>
                  <a:pt x="334" y="0"/>
                </a:moveTo>
                <a:cubicBezTo>
                  <a:pt x="334" y="438"/>
                  <a:pt x="334" y="438"/>
                  <a:pt x="334" y="438"/>
                </a:cubicBezTo>
                <a:cubicBezTo>
                  <a:pt x="205" y="438"/>
                  <a:pt x="205" y="438"/>
                  <a:pt x="205" y="438"/>
                </a:cubicBezTo>
                <a:cubicBezTo>
                  <a:pt x="92" y="438"/>
                  <a:pt x="0" y="530"/>
                  <a:pt x="0" y="643"/>
                </a:cubicBezTo>
                <a:cubicBezTo>
                  <a:pt x="0" y="947"/>
                  <a:pt x="0" y="947"/>
                  <a:pt x="0" y="947"/>
                </a:cubicBezTo>
                <a:cubicBezTo>
                  <a:pt x="0" y="1060"/>
                  <a:pt x="92" y="1152"/>
                  <a:pt x="205" y="1152"/>
                </a:cubicBezTo>
                <a:cubicBezTo>
                  <a:pt x="334" y="1152"/>
                  <a:pt x="334" y="1152"/>
                  <a:pt x="334" y="1152"/>
                </a:cubicBezTo>
                <a:cubicBezTo>
                  <a:pt x="334" y="1591"/>
                  <a:pt x="334" y="1591"/>
                  <a:pt x="334" y="1591"/>
                </a:cubicBezTo>
                <a:cubicBezTo>
                  <a:pt x="3667" y="1591"/>
                  <a:pt x="3667" y="1591"/>
                  <a:pt x="3667" y="1591"/>
                </a:cubicBezTo>
                <a:cubicBezTo>
                  <a:pt x="3667" y="0"/>
                  <a:pt x="3667" y="0"/>
                  <a:pt x="3667" y="0"/>
                </a:cubicBezTo>
                <a:cubicBezTo>
                  <a:pt x="334" y="0"/>
                  <a:pt x="334" y="0"/>
                  <a:pt x="334" y="0"/>
                </a:cubicBezTo>
                <a:close/>
                <a:moveTo>
                  <a:pt x="334" y="947"/>
                </a:moveTo>
                <a:cubicBezTo>
                  <a:pt x="205" y="947"/>
                  <a:pt x="205" y="947"/>
                  <a:pt x="205" y="947"/>
                </a:cubicBezTo>
                <a:cubicBezTo>
                  <a:pt x="205" y="643"/>
                  <a:pt x="205" y="643"/>
                  <a:pt x="205" y="643"/>
                </a:cubicBezTo>
                <a:cubicBezTo>
                  <a:pt x="334" y="643"/>
                  <a:pt x="334" y="643"/>
                  <a:pt x="334" y="643"/>
                </a:cubicBezTo>
                <a:cubicBezTo>
                  <a:pt x="334" y="947"/>
                  <a:pt x="334" y="947"/>
                  <a:pt x="334" y="947"/>
                </a:cubicBezTo>
                <a:close/>
                <a:moveTo>
                  <a:pt x="3456" y="741"/>
                </a:moveTo>
                <a:cubicBezTo>
                  <a:pt x="2799" y="1386"/>
                  <a:pt x="2799" y="1386"/>
                  <a:pt x="2799" y="1386"/>
                </a:cubicBezTo>
                <a:cubicBezTo>
                  <a:pt x="538" y="1385"/>
                  <a:pt x="538" y="1385"/>
                  <a:pt x="538" y="1385"/>
                </a:cubicBezTo>
                <a:cubicBezTo>
                  <a:pt x="539" y="200"/>
                  <a:pt x="539" y="200"/>
                  <a:pt x="539" y="200"/>
                </a:cubicBezTo>
                <a:cubicBezTo>
                  <a:pt x="3456" y="200"/>
                  <a:pt x="3456" y="200"/>
                  <a:pt x="3456" y="200"/>
                </a:cubicBezTo>
                <a:cubicBezTo>
                  <a:pt x="3456" y="741"/>
                  <a:pt x="3456" y="741"/>
                  <a:pt x="3456" y="74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3"/>
          <p:cNvSpPr/>
          <p:nvPr/>
        </p:nvSpPr>
        <p:spPr>
          <a:xfrm>
            <a:off x="1763640" y="3622680"/>
            <a:ext cx="6040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Lorem ipsum dolor sit amet, consectetur adipisicing elit.Lorem ipsum dolor sit amet, consectetur adipisicing elit.Lorem ipsum dolor sit amet, consectetur adipisicing elit.Lorem ipsum dolor sit amet, consecte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KSO_Shape"/>
          <p:cNvSpPr/>
          <p:nvPr/>
        </p:nvSpPr>
        <p:spPr>
          <a:xfrm>
            <a:off x="3305160" y="2276640"/>
            <a:ext cx="268200" cy="269640"/>
          </a:xfrm>
          <a:custGeom>
            <a:avLst/>
            <a:gdLst/>
            <a:ahLst/>
            <a:rect l="l" t="t" r="r" b="b"/>
            <a:pathLst>
              <a:path w="585904" h="585904">
                <a:moveTo>
                  <a:pt x="158628" y="130053"/>
                </a:moveTo>
                <a:lnTo>
                  <a:pt x="321527" y="292952"/>
                </a:lnTo>
                <a:lnTo>
                  <a:pt x="158628" y="455850"/>
                </a:lnTo>
                <a:lnTo>
                  <a:pt x="321527" y="455850"/>
                </a:lnTo>
                <a:lnTo>
                  <a:pt x="484425" y="292952"/>
                </a:lnTo>
                <a:lnTo>
                  <a:pt x="321527" y="130053"/>
                </a:lnTo>
                <a:close/>
                <a:moveTo>
                  <a:pt x="292952" y="0"/>
                </a:moveTo>
                <a:cubicBezTo>
                  <a:pt x="454745" y="0"/>
                  <a:pt x="585904" y="131159"/>
                  <a:pt x="585904" y="292952"/>
                </a:cubicBezTo>
                <a:cubicBezTo>
                  <a:pt x="585904" y="454745"/>
                  <a:pt x="454745" y="585904"/>
                  <a:pt x="292952" y="585904"/>
                </a:cubicBezTo>
                <a:cubicBezTo>
                  <a:pt x="131159" y="585904"/>
                  <a:pt x="0" y="454745"/>
                  <a:pt x="0" y="292952"/>
                </a:cubicBezTo>
                <a:cubicBezTo>
                  <a:pt x="0" y="131159"/>
                  <a:pt x="131159" y="0"/>
                  <a:pt x="292952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4"/>
          <p:cNvSpPr/>
          <p:nvPr/>
        </p:nvSpPr>
        <p:spPr>
          <a:xfrm>
            <a:off x="1293840" y="1684440"/>
            <a:ext cx="1455840" cy="145404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7"/>
          <p:cNvSpPr/>
          <p:nvPr/>
        </p:nvSpPr>
        <p:spPr>
          <a:xfrm>
            <a:off x="4129200" y="1046160"/>
            <a:ext cx="32940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</a:rPr>
              <a:t>Lorem ipsum dolor sit amet, consectetur adipisicing elit, sed do eiusmod tempor incididunt ut labore et dolore magna aliqua. Ut enim ad minim veniam, quis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pic>
        <p:nvPicPr>
          <p:cNvPr id="94" name="内容占位符 5" descr=""/>
          <p:cNvPicPr/>
          <p:nvPr/>
        </p:nvPicPr>
        <p:blipFill>
          <a:blip r:embed="rId1"/>
          <a:stretch/>
        </p:blipFill>
        <p:spPr>
          <a:xfrm>
            <a:off x="380880" y="2647800"/>
            <a:ext cx="42688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pic>
        <p:nvPicPr>
          <p:cNvPr id="96" name="内容占位符 3" descr=""/>
          <p:cNvPicPr/>
          <p:nvPr/>
        </p:nvPicPr>
        <p:blipFill>
          <a:blip r:embed="rId1"/>
          <a:stretch/>
        </p:blipFill>
        <p:spPr>
          <a:xfrm>
            <a:off x="5486400" y="1276200"/>
            <a:ext cx="22669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3198960" y="241920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经典繁行书"/>
                <a:ea typeface="经典繁行书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07:40:03Z</dcterms:created>
  <dc:creator/>
  <dc:description/>
  <cp:keywords>PPT模板</cp:keywords>
  <dc:language>en-US</dc:language>
  <cp:lastModifiedBy>Administrator</cp:lastModifiedBy>
  <dcterms:modified xsi:type="dcterms:W3CDTF">2016-04-18T07:58:06Z</dcterms:modified>
  <cp:revision>21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