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6D3-5E2F-4059-BFF9-E76A5A9B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2E9-4DB8-45A8-96A6-F1B4CEF5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131-8F47-4B35-8860-2994E3AC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FB7-BB87-449D-AFFB-F35802E1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08A-40CD-4E4A-A212-0440AFC1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7F4-E3F5-44F9-A715-AB0197E5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009-9526-4D21-8E00-6DF4D692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B35-31B4-40DC-A840-F75552F6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F2B-4BD3-4301-AD56-36423014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60D-C66D-4E11-ADAA-3A1E0A32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2D0-1A3D-4848-9374-572E804A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64F-9233-4572-A467-46F33A41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527F-5520-4644-B8C0-D0BC822E7E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组合 6" descr=""/>
          <p:cNvPicPr/>
          <p:nvPr/>
        </p:nvPicPr>
        <p:blipFill>
          <a:blip r:embed="rId2"/>
          <a:stretch/>
        </p:blipFill>
        <p:spPr>
          <a:xfrm>
            <a:off x="11336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13" descr=""/>
          <p:cNvPicPr/>
          <p:nvPr/>
        </p:nvPicPr>
        <p:blipFill>
          <a:blip r:embed="rId3"/>
          <a:stretch/>
        </p:blipFill>
        <p:spPr>
          <a:xfrm>
            <a:off x="368136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4" name="组合 23" descr=""/>
          <p:cNvPicPr/>
          <p:nvPr/>
        </p:nvPicPr>
        <p:blipFill>
          <a:blip r:embed="rId4"/>
          <a:stretch/>
        </p:blipFill>
        <p:spPr>
          <a:xfrm>
            <a:off x="62294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5" name="组合 30" descr=""/>
          <p:cNvPicPr/>
          <p:nvPr/>
        </p:nvPicPr>
        <p:blipFill>
          <a:blip r:embed="rId5"/>
          <a:stretch/>
        </p:blipFill>
        <p:spPr>
          <a:xfrm>
            <a:off x="8778960" y="1974960"/>
            <a:ext cx="2286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43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46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49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52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Rectangle 19"/>
          <p:cNvSpPr/>
          <p:nvPr/>
        </p:nvSpPr>
        <p:spPr>
          <a:xfrm>
            <a:off x="1230480" y="539748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5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80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2579040"/>
            <a:chOff x="1123920" y="2336760"/>
            <a:chExt cx="2049480" cy="257904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84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680"/>
              <a:ext cx="2049480" cy="1320120"/>
              <a:chOff x="1123920" y="3595680"/>
              <a:chExt cx="2049480" cy="132012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2601000"/>
            <a:chOff x="3770280" y="2314440"/>
            <a:chExt cx="2049480" cy="260100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1320120"/>
              <a:chOff x="3770280" y="3595320"/>
              <a:chExt cx="2049480" cy="132012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2563200"/>
            <a:chOff x="6416640" y="2352600"/>
            <a:chExt cx="2049480" cy="256320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680"/>
              <a:ext cx="2049480" cy="1320120"/>
              <a:chOff x="6416640" y="3595680"/>
              <a:chExt cx="2049480" cy="132012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2596680"/>
            <a:chOff x="9063000" y="2319480"/>
            <a:chExt cx="2048040" cy="2596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040"/>
              <a:ext cx="2048040" cy="1320120"/>
              <a:chOff x="9063000" y="3596040"/>
              <a:chExt cx="2048040" cy="132012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69720"/>
                <a:ext cx="2048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7960"/>
            <a:ext cx="2049480" cy="3530880"/>
            <a:chOff x="984240" y="1767960"/>
            <a:chExt cx="2049480" cy="353088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7960"/>
            <a:ext cx="2049480" cy="3530880"/>
            <a:chOff x="3719520" y="1767960"/>
            <a:chExt cx="2049480" cy="353088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3523680"/>
            <a:chOff x="6454800" y="1768320"/>
            <a:chExt cx="2049480" cy="3523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56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3546000"/>
            <a:chOff x="9113760" y="1752480"/>
            <a:chExt cx="2048040" cy="354600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5-09-18T13:15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